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13D-514D-48C8-A3A4-BD0A77E2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413-63F7-4DF9-8D6D-37E7A7B8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16E-41CE-496A-A5FC-39C80333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FC4-01CC-4064-9388-924FE254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139C-0D6F-4174-B7E2-01553685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DFD-57C1-482A-8F2E-A73AA734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737E-BB91-4EAB-BDD2-5764FC2D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9A4B-B21F-4DDA-A6D4-19C00BD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D6AB-CDDA-4CCC-8A73-2EC90558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9EF1-25F3-43CB-829D-A15FCDFB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C9D0-E4A9-4792-872B-2C35B5E3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F21-4DC9-482A-81D8-3D55546C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F001-B5D6-49D5-B657-DE4B840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A9C0-6584-40AA-B4D2-72D5E90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C044-6DF1-4600-86C2-B0A43693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8FE7-45F5-42D1-9C67-4645B777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0241-B6A2-4C4D-9A6C-B80A89E7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048-FCD1-4CE2-BCAE-50F1628D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2EB-6EAA-4605-BAD4-81AE76E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409-22A7-4773-A912-1E227D10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8A1-4E8B-475A-964E-5217164E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530-1126-47EB-93E7-60D5A45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B65-C0AD-409B-B471-3391F073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12D-A726-4FF3-9B83-59E91E2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6A5D-90AC-4FBE-AEAB-75991215B4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266B-F31E-40A7-8B16-6EB36E2A8AA9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牙体 发 育 异 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灯片编号占位符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7BEE-6AD7-4715-B7B3-7D6C6C0687FB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畸形中央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entral cusp deformity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恒前磨牙、磨牙的中央沟或颊尖舌侧嵴上的牙尖样突起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形态可为圆锥形，圆柱形或半球形，常对称发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畸形中央尖常在牙萌出后不久被咀嚼磨损或折断后，导致牙髓暴露感染、甚至坏死，影响牙根的发育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C6F1-0D33-4F12-A2D9-B34C9A25BF0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545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畸形舌侧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ngual cusp deformity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前牙牙面上轮廓清楚的副牙尖，又称鹰爪牙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牙髓组织可进入舌侧尖内，形成纤细的髓角，易致磨损而引起牙髓及根尖周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见于恒上侧切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438B-B527-4531-8031-D568B64793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-360" y="1928880"/>
            <a:ext cx="8955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牙内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畸形舌侧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ngual fossa deform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见上颌侧切牙，表现为牙舌侧窝呈囊状深陷，有的牙内陷在舌侧窝处形成一纵行沟裂，越过舌隆突向舌侧根部延伸。此窝容易滞留食物残渣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利细菌滋生，窝底常存在发育缺陷，引起牙髓感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牙中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牙内陷最严重的一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牙根牙内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CEB-9476-4952-823D-81C8C5BCDD0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牙结构异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釉质形成不全：因釉基质合成分泌障碍，出现釉质实质性缺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釉质矿化不全：因釉基质合成分泌正常而矿化成熟障碍，临床上无实质性缺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两者可单独发生，也可同时存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981A-9AE4-499B-9891-F15AFDEC16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氟牙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ntal fluorosis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又称氟斑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ttled enamel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含氟量过高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超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pm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般发生在恒牙，乳牙胎盘屏障受累少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镜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见釉质表层多孔状，釉柱间区发育不全或完全消失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BBC2-E926-4313-BF72-03590DB2E7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牙本质形成缺陷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（遗传性乳光牙本质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常染色体显性遗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S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MP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无意义突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线：牙冠球形，颈部缩窄，牙根细短，根管、髓腔封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乳牙、恒牙，琥珀样外观   半透明   灰棕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釉质易剥脱，磨耗严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4255-E5B5-4B37-8C7D-0D52E41D455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牙数目异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少牙和无牙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无牙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缺额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指根本未曾发生的牙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无牙症可个别或数个牙缺额或全部无牙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别牙缺额多见于恒牙列，最常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第三磨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缺额，其次为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上颌侧切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遗传有关）或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下颌第二双尖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缺额，且常对称出现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5D86-F4E6-4AB4-9593-E7B970E920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少牙和无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少牙可和其他颅颌面畸形及发育综合征有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唇腭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wn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综合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少汗性外胚叶发育不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39E9-F52B-4171-A157-DBACF74ED1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生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正常牙数之外多生的牙称多生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额外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副磨牙、远中磨牙也较常见，位于第三磨牙远中。此外，多生牙还可在前磨牙或上颌侧切牙区出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恒牙列多生牙发生率约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-3%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乳牙列少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EBBC-2528-4D1C-A022-B0A89E6A32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牙体积超过正常值范围与牙列中其它牙明显不对称，叫做巨牙或小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巨牙或小牙可以是个别牙，也可以多数牙甚至全口牙。个别牙过小多见于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上颌侧切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第三磨牙和多生牙，冠呈锥形，根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口牙过小见于外胚叶发育不良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综合征、垂体性侏儒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口牙过大见于垂体巨大症，松果体增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EC8D-DEF1-40C5-89C0-37EB1DA1D26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822240" y="4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2465280" y="-3132000"/>
            <a:ext cx="5857920" cy="5946480"/>
            <a:chOff x="2465280" y="-3132000"/>
            <a:chExt cx="5857920" cy="5946480"/>
          </a:xfrm>
        </p:grpSpPr>
        <p:sp>
          <p:nvSpPr>
            <p:cNvPr id="116" name="Rectangle 15"/>
            <p:cNvSpPr/>
            <p:nvPr/>
          </p:nvSpPr>
          <p:spPr>
            <a:xfrm>
              <a:off x="2465280" y="-3132000"/>
              <a:ext cx="5857920" cy="594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7" name="Group 14"/>
            <p:cNvGrpSpPr/>
            <p:nvPr/>
          </p:nvGrpSpPr>
          <p:grpSpPr>
            <a:xfrm>
              <a:off x="2465280" y="-3132000"/>
              <a:ext cx="5857920" cy="5946480"/>
              <a:chOff x="2465280" y="-3132000"/>
              <a:chExt cx="5857920" cy="5946480"/>
            </a:xfrm>
          </p:grpSpPr>
          <p:sp>
            <p:nvSpPr>
              <p:cNvPr id="118" name="Rectangle 3"/>
              <p:cNvSpPr/>
              <p:nvPr/>
            </p:nvSpPr>
            <p:spPr>
              <a:xfrm>
                <a:off x="2465280" y="-3132000"/>
                <a:ext cx="58579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9" name="Group 13"/>
              <p:cNvGrpSpPr/>
              <p:nvPr/>
            </p:nvGrpSpPr>
            <p:grpSpPr>
              <a:xfrm>
                <a:off x="2465280" y="-3132000"/>
                <a:ext cx="5857920" cy="5946480"/>
                <a:chOff x="2465280" y="-3132000"/>
                <a:chExt cx="5857920" cy="5946480"/>
              </a:xfrm>
            </p:grpSpPr>
            <p:sp>
              <p:nvSpPr>
                <p:cNvPr id="120" name="Rectangle 12"/>
                <p:cNvSpPr/>
                <p:nvPr/>
              </p:nvSpPr>
              <p:spPr>
                <a:xfrm>
                  <a:off x="2465280" y="-3132000"/>
                  <a:ext cx="5857920" cy="594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21" name="Group 11"/>
                <p:cNvGrpSpPr/>
                <p:nvPr/>
              </p:nvGrpSpPr>
              <p:grpSpPr>
                <a:xfrm>
                  <a:off x="2465280" y="-3132000"/>
                  <a:ext cx="5857920" cy="5946480"/>
                  <a:chOff x="2465280" y="-3132000"/>
                  <a:chExt cx="5857920" cy="5946480"/>
                </a:xfrm>
              </p:grpSpPr>
              <p:sp>
                <p:nvSpPr>
                  <p:cNvPr id="122" name="Rectangle 4"/>
                  <p:cNvSpPr/>
                  <p:nvPr/>
                </p:nvSpPr>
                <p:spPr>
                  <a:xfrm>
                    <a:off x="2465280" y="-3132000"/>
                    <a:ext cx="5857920" cy="5946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" name="Rectangle 5"/>
                  <p:cNvSpPr/>
                  <p:nvPr/>
                </p:nvSpPr>
                <p:spPr>
                  <a:xfrm>
                    <a:off x="2465280" y="-3132000"/>
                    <a:ext cx="58579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pic>
        <p:nvPicPr>
          <p:cNvPr id="124" name="Picture 8" descr="http://www.dzsmzb.com.cn/keshi/image/yatixingtai-2.jpg"/>
          <p:cNvPicPr/>
          <p:nvPr/>
        </p:nvPicPr>
        <p:blipFill>
          <a:blip r:embed="rId1"/>
          <a:stretch/>
        </p:blipFill>
        <p:spPr>
          <a:xfrm>
            <a:off x="4343400" y="3809880"/>
            <a:ext cx="41148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0"/>
          <p:cNvGrpSpPr/>
          <p:nvPr/>
        </p:nvGrpSpPr>
        <p:grpSpPr>
          <a:xfrm>
            <a:off x="822240" y="9974160"/>
            <a:ext cx="18288000" cy="360"/>
            <a:chOff x="822240" y="9974160"/>
            <a:chExt cx="18288000" cy="360"/>
          </a:xfrm>
        </p:grpSpPr>
        <p:sp>
          <p:nvSpPr>
            <p:cNvPr id="126" name="Rectangle 7"/>
            <p:cNvSpPr/>
            <p:nvPr/>
          </p:nvSpPr>
          <p:spPr>
            <a:xfrm>
              <a:off x="822240" y="997416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9966240" y="997416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" name="Rectangle 17"/>
          <p:cNvSpPr/>
          <p:nvPr/>
        </p:nvSpPr>
        <p:spPr>
          <a:xfrm>
            <a:off x="822240" y="4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21" descr="http://www.dzsmzb.com.cn/keshi/image/yatixingtai-1.jpg"/>
          <p:cNvPicPr/>
          <p:nvPr/>
        </p:nvPicPr>
        <p:blipFill>
          <a:blip r:embed="rId2"/>
          <a:stretch/>
        </p:blipFill>
        <p:spPr>
          <a:xfrm>
            <a:off x="762120" y="1828800"/>
            <a:ext cx="4114800" cy="2571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2"/>
          <p:cNvSpPr/>
          <p:nvPr/>
        </p:nvSpPr>
        <p:spPr>
          <a:xfrm>
            <a:off x="822240" y="9974160"/>
            <a:ext cx="9147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灯片编号占位符 2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B21D-2A93-4700-B97F-1D2625D6B7F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双生牙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eminated teeth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个牙胚不完全分开而形成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通常为完全或不完全分开的牙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有一个共同的牙根和根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般牙的数目正常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24EE-68D8-4C62-ADF3-C62C3AA861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融合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sed teeth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两牙胚融合在一起发育而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表现为完全融合或不完全融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引起融合的原因可能是压力所致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融合部的牙本质是相连的，这点可与结合牙鉴别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乳、恒牙均可发生融合，上颌乳前牙发生率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596E-664D-4599-AB21-AB9E86D6F26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结合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rescence of teeth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指两个发育完成后的牙借增生的牙骨质结合在一起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引起结合的原因可能是创伤或牙拥挤，以致牙间骨质吸收，使两邻牙靠拢，以后增生的牙骨质结合在一起，而牙本质是分开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见于上颌第二和第三磨牙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F43-D522-45A6-99FD-442718EE70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12T02:20:22Z</dcterms:created>
  <dc:creator/>
  <dc:description/>
  <dc:language>en-US</dc:language>
  <cp:lastModifiedBy>落叶飘飞</cp:lastModifiedBy>
  <dcterms:modified xsi:type="dcterms:W3CDTF">2021-07-12T02:31:1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