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1670-BC7B-4F48-A4F4-61FD6F31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C033-3B1E-4C50-A858-72BEFF5D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6235-D770-4452-84EC-CE74718F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2DF6-B593-41EC-BAE9-B96E1C57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828C-CFCE-49FD-9D03-E3308933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AE99-2551-4914-A055-748AD6EF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C880-8BB9-44D7-8F9F-71653682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D599-1240-45DF-8021-15CB7E75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C8C1-3DBB-41FA-8635-5F451ACD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3374-7DB2-42D2-97DE-8285ECE7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9413-4459-46F9-82B2-EAEBA226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8C2E-C9B4-4FCF-A5B9-CAF822BC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25B3-2FC5-4C5F-9083-5108B1E6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4812-CD1B-4757-92BF-74462AC4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A081-ADF3-4246-A31E-227B0B51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FA7A-116D-481D-B91B-FD028257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7E73-6AD5-454E-A533-9D5D6332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E109-AD30-4BE6-97C6-4D1A8BCC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DAC8-3EDB-4494-B080-2545C58A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7217-E717-444D-ADF8-970FA8B9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BC612-7D5C-45C8-8765-512B0B5C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B970-A6E2-4846-80B1-E1F57A42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B2DB-BD62-4EDC-A413-FE3F3355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6B17-0850-4756-A752-B68E38AC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8E3B-BB0C-4D4B-B777-F4BD6662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AA85-DF4C-4B28-9F84-1043AB21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F567-04C5-47C9-AFE3-056EA188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DBAB-C167-4C81-A715-13E55599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E7F14-2471-4256-9B98-A739ACA8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BCAB-FF07-417D-A26B-6F41EA68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8D13-2F57-492E-AD60-F2A6F7D6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911B-197B-4824-A546-CABFC6AB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7FEE-C4BF-4075-8AF3-CCA84B92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CA23-77D5-415B-8673-ACA73C15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CEBD-4BD8-4336-A35A-B85E27F0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B750-D677-409B-AFA4-D9DDBF1E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24B2-9E05-4327-A619-CA1507198E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未知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未知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未知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未知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未知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未知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未知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911A-3E1D-486C-8DD9-2167655B5E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未知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未知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62BF-0BDD-4E43-8AE7-6CF67EF58F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Garamond"/>
              </a:rPr>
              <a:t>牙髓腔解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髓腔形态是临床上进行牙髓治疗和牙体修复的重要解剖基础，熟知髓室的大小、位置，髓角的高低，根管口的分布，根管的粗细，根分叉状态，髓腔与牙体外形的关系，髓腔的生理病理变化特点等，才能准确地进入髓室和根管，保证牙髓和根管治疗的效果，也才能正确地指导牙体修复以及基牙预备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93AA-7597-4FE0-AF37-CF2BCFA3CB7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9298080" cy="22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切牙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近远中剖面   三角形，顶位于冠中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/3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唇舌剖面  梭形，最宽处在颈缘处，向切缘及根方逐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渐缩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横剖面    上颌圆三角形  下颌椭圆形（唇舌径大于近远中径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3" descr="Pict0126"/>
          <p:cNvPicPr/>
          <p:nvPr/>
        </p:nvPicPr>
        <p:blipFill>
          <a:blip r:embed="rId1"/>
          <a:stretch/>
        </p:blipFill>
        <p:spPr>
          <a:xfrm>
            <a:off x="0" y="2714760"/>
            <a:ext cx="2849400" cy="20206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3283920" y="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886e0"/>
                </a:solidFill>
                <a:latin typeface="Garamond"/>
                <a:ea typeface="黑体"/>
              </a:rPr>
              <a:t>恒牙髓腔形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Pict0129"/>
          <p:cNvPicPr/>
          <p:nvPr/>
        </p:nvPicPr>
        <p:blipFill>
          <a:blip r:embed="rId2"/>
          <a:stretch/>
        </p:blipFill>
        <p:spPr>
          <a:xfrm>
            <a:off x="6222960" y="2755800"/>
            <a:ext cx="2921040" cy="1979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3059280" y="3035160"/>
            <a:ext cx="16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上颌中切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500720" y="40435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上颌侧切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Pict0130"/>
          <p:cNvPicPr/>
          <p:nvPr/>
        </p:nvPicPr>
        <p:blipFill>
          <a:blip r:embed="rId3"/>
          <a:stretch/>
        </p:blipFill>
        <p:spPr>
          <a:xfrm>
            <a:off x="0" y="4745160"/>
            <a:ext cx="3240000" cy="2112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Pict0131"/>
          <p:cNvPicPr/>
          <p:nvPr/>
        </p:nvPicPr>
        <p:blipFill>
          <a:blip r:embed="rId4"/>
          <a:stretch/>
        </p:blipFill>
        <p:spPr>
          <a:xfrm>
            <a:off x="6172200" y="4719600"/>
            <a:ext cx="2971800" cy="2138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3260520" y="5013360"/>
            <a:ext cx="16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下颌中切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197240" y="6093000"/>
            <a:ext cx="16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下颌侧切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4582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尖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近远中剖面  髓腔较窄 两端尖形 髓角接近冠中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/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唇舌剖面    髓室顶窄而尖 最宽处在颈缘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横剖面    上 卵圆三角形 较粗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下 椭圆形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唇舌径大于近远中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Picture 3" descr="Pict0132"/>
          <p:cNvPicPr/>
          <p:nvPr/>
        </p:nvPicPr>
        <p:blipFill>
          <a:blip r:embed="rId1"/>
          <a:stretch/>
        </p:blipFill>
        <p:spPr>
          <a:xfrm>
            <a:off x="1600200" y="4038480"/>
            <a:ext cx="2743200" cy="22179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3107520" y="22860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886e0"/>
                </a:solidFill>
                <a:latin typeface="Garamond"/>
                <a:ea typeface="黑体"/>
              </a:rPr>
              <a:t>恒牙髓腔形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Pict0133"/>
          <p:cNvPicPr/>
          <p:nvPr/>
        </p:nvPicPr>
        <p:blipFill>
          <a:blip r:embed="rId2"/>
          <a:stretch/>
        </p:blipFill>
        <p:spPr>
          <a:xfrm>
            <a:off x="5257800" y="3960720"/>
            <a:ext cx="3125880" cy="2141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2057400" y="6400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颌尖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943600" y="6248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下颌尖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153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一）上颌前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特点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髓室较大，根管较粗且直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切牙髓室的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唇舌切面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颈部最宽，而切嵴及根尖逐渐变细；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近远中切面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近切嵴处最宽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尖牙髓室近牙尖及根尖处最细，唇舌径大于近远中径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般是单根管，根管横断面呈圆形或卵圆形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49B6-C009-439D-898E-B399E096F9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026" descr="E:\hj\20020323\023.jpg"/>
          <p:cNvPicPr/>
          <p:nvPr/>
        </p:nvPicPr>
        <p:blipFill>
          <a:blip r:embed="rId1"/>
          <a:stretch/>
        </p:blipFill>
        <p:spPr>
          <a:xfrm>
            <a:off x="1523880" y="609480"/>
            <a:ext cx="5867640" cy="5867640"/>
          </a:xfrm>
          <a:prstGeom prst="rect">
            <a:avLst/>
          </a:prstGeom>
          <a:ln w="0">
            <a:noFill/>
          </a:ln>
        </p:spPr>
      </p:pic>
      <p:sp>
        <p:nvSpPr>
          <p:cNvPr id="199" name="灯片编号占位符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56B6-ACB5-4A1C-B9FB-9A1F382FA9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09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）下颌前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9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特点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9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髓室和根管较细小，界限不明显，根管壁薄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9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多为单根管，</a:t>
            </a:r>
            <a:r>
              <a:rPr b="1" lang="zh-CN" sz="28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下颌中切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10%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唇舌二条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9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管，</a:t>
            </a:r>
            <a:r>
              <a:rPr b="1" lang="zh-CN" sz="28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下尖牙约</a:t>
            </a:r>
            <a:r>
              <a:rPr b="1" lang="en-US" sz="28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双根管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609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近远中剖面    狭长三角形，顶位于冠中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/3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609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唇舌剖面     梭形，最宽处在颈缘处，向切缘及根方逐        渐缩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609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横剖面       窄小  椭圆形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609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下颌侧切牙髓腔大于中切牙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609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下颌中切牙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0%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出现唇舌向双根管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9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下尖牙约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%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有双根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2434-B373-421C-90C0-0C1F5DB994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E:\hj\20020323\026.jpg"/>
          <p:cNvPicPr/>
          <p:nvPr/>
        </p:nvPicPr>
        <p:blipFill>
          <a:blip r:embed="rId1"/>
          <a:stretch/>
        </p:blipFill>
        <p:spPr>
          <a:xfrm>
            <a:off x="1676520" y="914400"/>
            <a:ext cx="5562360" cy="5029200"/>
          </a:xfrm>
          <a:prstGeom prst="rect">
            <a:avLst/>
          </a:prstGeom>
          <a:ln w="0">
            <a:noFill/>
          </a:ln>
        </p:spPr>
      </p:pic>
      <p:sp>
        <p:nvSpPr>
          <p:cNvPr id="203" name="灯片编号占位符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501A-95E1-45F0-8732-105507E83E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三）上颌前磨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颊舌面观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髓室宽，在牙尖相应位置下有髓角，即颊、舌髓角，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颊角较高接近牙冠的中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1/3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处，舌角较低，接近牙冠颈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1/3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处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髓室底，髓室底突向合面呈拱形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颌第一前磨牙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78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双根管，可分为双根双管型、单根双管型、单根单双管型及单根单管型。上颌第二前磨牙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46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双根管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近远中切面观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髓室和根管均较窄小，似尖牙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颈部横断面观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呈椭圆形，可见髓室颊舌径明显大于近远中径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。颊舌向中缩小呈肾形，根中横剖面若单根椭圆形，若双根颊舌两根管均圆形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灯片编号占位符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7FA0-C211-433F-A08F-EB3E973CF7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2800" spc="-1" strike="noStrike">
                <a:solidFill>
                  <a:srgbClr val="e5e5ff"/>
                </a:solidFill>
                <a:latin typeface="黑体"/>
                <a:ea typeface="黑体"/>
              </a:rPr>
              <a:t>上颌前磨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髓室     小立方体形  颊舌径大于近远中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顶中部凹向髓腔 最凹处与颈缘平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髓角位于冠中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/3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颊侧高于舌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髓室底突向髓腔较低  治疗时相对安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根管    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多为双根管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78%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多为单根管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54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3" descr="Pict0134"/>
          <p:cNvPicPr/>
          <p:nvPr/>
        </p:nvPicPr>
        <p:blipFill>
          <a:blip r:embed="rId1"/>
          <a:stretch/>
        </p:blipFill>
        <p:spPr>
          <a:xfrm>
            <a:off x="533520" y="4037040"/>
            <a:ext cx="4214520" cy="19605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3336120" y="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886e0"/>
                </a:solidFill>
                <a:latin typeface="Garamond"/>
                <a:ea typeface="黑体"/>
              </a:rPr>
              <a:t>恒牙髓腔形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Pict0135"/>
          <p:cNvPicPr/>
          <p:nvPr/>
        </p:nvPicPr>
        <p:blipFill>
          <a:blip r:embed="rId2"/>
          <a:stretch/>
        </p:blipFill>
        <p:spPr>
          <a:xfrm>
            <a:off x="5219640" y="4125960"/>
            <a:ext cx="3203640" cy="1990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129528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颌第一前磨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4100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颌第二前磨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Pict0136"/>
          <p:cNvPicPr/>
          <p:nvPr/>
        </p:nvPicPr>
        <p:blipFill>
          <a:blip r:embed="rId1"/>
          <a:stretch/>
        </p:blipFill>
        <p:spPr>
          <a:xfrm>
            <a:off x="539640" y="981000"/>
            <a:ext cx="8229600" cy="5329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E:\hj\20020323\034.jpg"/>
          <p:cNvPicPr/>
          <p:nvPr/>
        </p:nvPicPr>
        <p:blipFill>
          <a:blip r:embed="rId1"/>
          <a:stretch/>
        </p:blipFill>
        <p:spPr>
          <a:xfrm>
            <a:off x="1828800" y="1219320"/>
            <a:ext cx="556272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灯片编号占位符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A10A-FFEE-4B2A-BDDA-813672DF17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牙髓腔简称髓腔，位于牙体中心与牙体外形相似但显著缩小的腔隙，腔内充满牙髓组织。周壁除根尖孔外，其余绝大部分均被坚硬的牙本质所包围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9422-D96F-48F6-92BB-CF101B4636A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颌前磨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颊舌面观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髓室宽，颊舌径大于近远中径。下颌第一前磨牙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颊髓角很高，位于牙冠中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1/3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；舌髓角很低，接近牙冠颈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1/3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髓室顶自颊侧明显斜向舌侧。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80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单根管，根管在根中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/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始逐渐缩小成根尖孔。</a:t>
            </a:r>
            <a:r>
              <a:rPr b="1" lang="en-US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20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颊舌二管，但在根尖孔处又合成单根管。下颌第二前磨牙颊角高于舌角，二者均位于牙冠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/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处。髓室多在根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/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处以下明显缩小成管。如为三尖型，则有三个髓角，可有双根管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近远中切面观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髓室及根管均窄，似尖牙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颈部横切面观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颌第一前磨牙较圆，根中仍呈圆形，但明显缩小。下颌第二前磨牙呈椭圆形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灯片编号占位符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3B8A-CD82-424D-B794-DF58EF3D92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498040" y="45720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886e0"/>
                </a:solidFill>
                <a:latin typeface="Garamond"/>
                <a:ea typeface="黑体"/>
              </a:rPr>
              <a:t>恒牙髓腔形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5e5ff"/>
                </a:solidFill>
                <a:latin typeface="黑体"/>
                <a:ea typeface="黑体"/>
              </a:rPr>
              <a:t>下颌前磨牙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髓室   不清  多为单根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顶  最凹处与颈缘平齐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髓角 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颊髓角特高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过牙体长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根管  颊舌径大于近远中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多为单根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几乎为单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4" descr="Pict0137"/>
          <p:cNvPicPr/>
          <p:nvPr/>
        </p:nvPicPr>
        <p:blipFill>
          <a:blip r:embed="rId1"/>
          <a:stretch/>
        </p:blipFill>
        <p:spPr>
          <a:xfrm>
            <a:off x="5384880" y="1755720"/>
            <a:ext cx="2990880" cy="2070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Pict0138"/>
          <p:cNvPicPr/>
          <p:nvPr/>
        </p:nvPicPr>
        <p:blipFill>
          <a:blip r:embed="rId2"/>
          <a:stretch/>
        </p:blipFill>
        <p:spPr>
          <a:xfrm>
            <a:off x="5486400" y="4113360"/>
            <a:ext cx="2844720" cy="1989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E:\hj\20020323\037.jpg"/>
          <p:cNvPicPr/>
          <p:nvPr/>
        </p:nvPicPr>
        <p:blipFill>
          <a:blip r:embed="rId1"/>
          <a:stretch/>
        </p:blipFill>
        <p:spPr>
          <a:xfrm>
            <a:off x="1905120" y="685800"/>
            <a:ext cx="5562360" cy="5334120"/>
          </a:xfrm>
          <a:prstGeom prst="rect">
            <a:avLst/>
          </a:prstGeom>
          <a:ln w="0">
            <a:noFill/>
          </a:ln>
        </p:spPr>
      </p:pic>
      <p:sp>
        <p:nvSpPr>
          <p:cNvPr id="222" name="灯片编号占位符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1FA5-2476-4960-97B2-B7D9E616AE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1920" y="2356920"/>
            <a:ext cx="861084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颌磨牙</a:t>
            </a:r>
            <a:br>
              <a:rPr sz="6000"/>
            </a:b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特点：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髓室：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髓室呈立方形，颊舌径大于近远中径。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髓室顶中分凹下、可与颈缘齐平。髓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室底位于颈线下约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mm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可见有</a:t>
            </a:r>
            <a:r>
              <a:rPr b="1" lang="en-US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3-4</a:t>
            </a: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个</a:t>
            </a:r>
            <a:br>
              <a:rPr sz="3600"/>
            </a:b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   根管口。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髓室顶上一般有</a:t>
            </a:r>
            <a:r>
              <a:rPr b="1" lang="en-US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个髓角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近中颊髓角 </a:t>
            </a:r>
            <a:br>
              <a:rPr sz="3600"/>
            </a:br>
            <a:r>
              <a:rPr b="1" lang="zh-CN" sz="36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最高，近中舌髓角次之。 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灯片编号占位符 4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37C5-F266-4503-9C89-C62CF409C5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120" y="990720"/>
            <a:ext cx="81536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根管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一般每个牙根只有一条根管，舌侧根管直而较粗大，远中颊侧根管略圆，近中颊侧根管较扁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但上颌第一磨牙</a:t>
            </a: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近中颊根约</a:t>
            </a:r>
            <a:r>
              <a:rPr b="1" lang="en-US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63%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颊舌双根管，上颌第二磨牙</a:t>
            </a: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近中颊根约</a:t>
            </a:r>
            <a:r>
              <a:rPr b="1" lang="en-US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30%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有双根管。上颌第三磨牙髓腔变异大。</a:t>
            </a:r>
            <a:br>
              <a:rPr sz="24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灯片编号占位符 4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07EB-68B3-4A7C-B894-39CBF03592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  <a:ea typeface="黑体"/>
              </a:rPr>
              <a:t>上颌第一磨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髓室   矮立方体形  颊舌径较长于近远中径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顶： 凹向下，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最凹处与颈缘平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髓角：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，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近中颊髓角最高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远中舌髓角最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近颊 高于 近舌；近颊 高于 远颊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底：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位于颈缘龈方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2mm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8" name="Picture 3" descr="Pict0139"/>
          <p:cNvPicPr/>
          <p:nvPr/>
        </p:nvPicPr>
        <p:blipFill>
          <a:blip r:embed="rId1"/>
          <a:stretch/>
        </p:blipFill>
        <p:spPr>
          <a:xfrm>
            <a:off x="-96840" y="3071880"/>
            <a:ext cx="9240840" cy="37861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5"/>
          <p:cNvSpPr/>
          <p:nvPr/>
        </p:nvSpPr>
        <p:spPr>
          <a:xfrm>
            <a:off x="4067280" y="3716280"/>
            <a:ext cx="75960" cy="1131840"/>
          </a:xfrm>
          <a:custGeom>
            <a:avLst/>
            <a:gdLst>
              <a:gd name="textAreaLeft" fmla="*/ 22320 w 75960"/>
              <a:gd name="textAreaRight" fmla="*/ 76320 w 75960"/>
              <a:gd name="textAreaTop" fmla="*/ 47160 h 1131840"/>
              <a:gd name="textAreaBottom" fmla="*/ 1084680 h 113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根管口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黑体"/>
              </a:rPr>
              <a:t>~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 ，舌根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，颊根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黑体"/>
              </a:rPr>
              <a:t>~3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  <a:ea typeface="黑体"/>
              </a:rPr>
              <a:t>个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舌根管较圆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粗长且直单根管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近颊根管口较窄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60%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分颊舌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根管（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MB2);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远颊根管分支较少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)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近颊根管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6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63%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为双根管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MB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远颊根管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6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9%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根管  近颊根管：窄而扁  较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远颊根管：小而圆  较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舌侧根管：大而圆  长直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灯片编号占位符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6699-0E9E-45CF-B71C-C1B956DB6AC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Pict0139"/>
          <p:cNvPicPr/>
          <p:nvPr/>
        </p:nvPicPr>
        <p:blipFill>
          <a:blip r:embed="rId1"/>
          <a:stretch/>
        </p:blipFill>
        <p:spPr>
          <a:xfrm>
            <a:off x="0" y="3666960"/>
            <a:ext cx="77868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ict0140"/>
          <p:cNvPicPr/>
          <p:nvPr/>
        </p:nvPicPr>
        <p:blipFill>
          <a:blip r:embed="rId1"/>
          <a:stretch/>
        </p:blipFill>
        <p:spPr>
          <a:xfrm>
            <a:off x="4233960" y="4051440"/>
            <a:ext cx="4100400" cy="20667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0" y="0"/>
            <a:ext cx="914400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e5e5ff"/>
                </a:solidFill>
                <a:latin typeface="Times New Roman"/>
                <a:ea typeface="黑体"/>
              </a:rPr>
              <a:t>上颌第二磨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髓室   矮立方体形  颊舌径较长于近远中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顶：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最凹处与颈缘平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髓角：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近中颊髓角最高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远中舌髓角最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底： 位于颈缘龈方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m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管口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近颊根管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7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3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远颊根管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管  近颊根管：窄而扁  较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远颊根管：小而圆  较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舌侧根管：大而圆  长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A1B6-B143-4FA5-92C1-C3DFBE7398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Pict0140"/>
          <p:cNvPicPr/>
          <p:nvPr/>
        </p:nvPicPr>
        <p:blipFill>
          <a:blip r:embed="rId1"/>
          <a:stretch/>
        </p:blipFill>
        <p:spPr>
          <a:xfrm>
            <a:off x="3214800" y="3868560"/>
            <a:ext cx="59292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Pict0141"/>
          <p:cNvPicPr/>
          <p:nvPr/>
        </p:nvPicPr>
        <p:blipFill>
          <a:blip r:embed="rId1"/>
          <a:stretch/>
        </p:blipFill>
        <p:spPr>
          <a:xfrm>
            <a:off x="2133720" y="3657600"/>
            <a:ext cx="4572000" cy="2610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685800" y="685800"/>
            <a:ext cx="61722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上颌第三磨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变异较大，髓室及根管的外形和数目变化也较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一般：髓室大，髓角低而圆钝，根管粗，短小，大部分融合成一个根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4395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Garamond"/>
              </a:rPr>
              <a:t>一  髓腔各部名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35280" y="3212640"/>
            <a:ext cx="1828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髓室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c5"/>
          <p:cNvPicPr/>
          <p:nvPr/>
        </p:nvPicPr>
        <p:blipFill>
          <a:blip r:embed="rId1"/>
          <a:stretch/>
        </p:blipFill>
        <p:spPr>
          <a:xfrm>
            <a:off x="7365960" y="0"/>
            <a:ext cx="1778040" cy="2060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5583240" y="2565360"/>
            <a:ext cx="323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髓室顶与髓室底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髓室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髓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根管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 rot="16200000">
            <a:off x="3348000" y="2492280"/>
            <a:ext cx="2160720" cy="216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6480" y="1917"/>
                </a:lnTo>
                <a:lnTo>
                  <a:pt x="8987" y="1917"/>
                </a:lnTo>
                <a:lnTo>
                  <a:pt x="8987" y="12839"/>
                </a:lnTo>
                <a:lnTo>
                  <a:pt x="1342" y="12839"/>
                </a:lnTo>
                <a:lnTo>
                  <a:pt x="1342" y="9257"/>
                </a:lnTo>
                <a:lnTo>
                  <a:pt x="0" y="15429"/>
                </a:lnTo>
                <a:lnTo>
                  <a:pt x="1342" y="21600"/>
                </a:lnTo>
                <a:lnTo>
                  <a:pt x="1342" y="18019"/>
                </a:lnTo>
                <a:lnTo>
                  <a:pt x="20258" y="18019"/>
                </a:lnTo>
                <a:lnTo>
                  <a:pt x="20258" y="21600"/>
                </a:lnTo>
                <a:lnTo>
                  <a:pt x="21600" y="15429"/>
                </a:lnTo>
                <a:lnTo>
                  <a:pt x="20258" y="9257"/>
                </a:lnTo>
                <a:lnTo>
                  <a:pt x="20258" y="12839"/>
                </a:lnTo>
                <a:lnTo>
                  <a:pt x="12613" y="12839"/>
                </a:lnTo>
                <a:lnTo>
                  <a:pt x="12613" y="1917"/>
                </a:lnTo>
                <a:lnTo>
                  <a:pt x="15120" y="1917"/>
                </a:lnTo>
                <a:lnTo>
                  <a:pt x="10800" y="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0" y="1143000"/>
            <a:ext cx="230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髓室：髓腔朝向牙冠的一端扩大成室，位于牙冠及牙根颈部，其形状与牙冠的外形相似。前牙髓室与根管无明显界限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后牙髓室呈立方形，分顶、底及四壁，是髓腔中较宽阔的部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灯片编号占位符 7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F2A4-7D95-4431-AE84-01512D7C0EE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颌磨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特点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髓室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呈立方形，近远中径大于颊舌径，下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颌第一磨牙髓室顶最凹处与颈缘平齐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髓室底在颈缘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mm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故</a:t>
            </a: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髓室顶底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间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相距一般为</a:t>
            </a:r>
            <a:r>
              <a:rPr b="1" lang="en-US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1mm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左右。髓室底距根分叉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处约为</a:t>
            </a:r>
            <a:r>
              <a:rPr b="1" lang="en-US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2mm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大多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髓角，舌侧二个髓角高于颊侧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近中舌髓角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最高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灯片编号占位符 4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EDE3-74FA-4244-B384-993A457A9A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E:\hj\20020323\055.jpg"/>
          <p:cNvPicPr/>
          <p:nvPr/>
        </p:nvPicPr>
        <p:blipFill>
          <a:blip r:embed="rId1"/>
          <a:stretch/>
        </p:blipFill>
        <p:spPr>
          <a:xfrm>
            <a:off x="2362320" y="457200"/>
            <a:ext cx="5029200" cy="5943600"/>
          </a:xfrm>
          <a:prstGeom prst="rect">
            <a:avLst/>
          </a:prstGeom>
          <a:ln w="0">
            <a:noFill/>
          </a:ln>
        </p:spPr>
      </p:pic>
      <p:sp>
        <p:nvSpPr>
          <p:cNvPr id="243" name="灯片编号占位符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D3E0-6AAE-4119-8178-249E5B91B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08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根管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般有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-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根管口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下颌第一磨牙近中根约</a:t>
            </a:r>
            <a:r>
              <a:rPr b="1" lang="en-US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87%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双根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管，颊舌各一，远中根约</a:t>
            </a:r>
            <a:r>
              <a:rPr b="1" lang="en-US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40%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管，所以常有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根管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下颌第二磨牙近中根约</a:t>
            </a:r>
            <a:r>
              <a:rPr b="1" lang="en-US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64%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双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管，远中根多为单根管，约</a:t>
            </a:r>
            <a:r>
              <a:rPr b="1" lang="en-US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18%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双根管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下颌第三磨牙髓腔变异大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06A2-934A-458A-9619-7DB01C7F73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Garamond"/>
              </a:rPr>
              <a:t>乳牙髓腔形态</a:t>
            </a:r>
            <a:r>
              <a:rPr b="1" lang="zh-CN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62040" y="1905120"/>
            <a:ext cx="823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乳牙髓腔形态特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乳牙的髓腔形态虽与乳牙的外形相似，但按牙体比例而言，乳牙髓腔较恒牙者为大，表现为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ffc000"/>
                </a:solidFill>
                <a:latin typeface="Garamond"/>
              </a:rPr>
              <a:t>髓室大、髓角高、髓壁薄、根管粗、根管方向斜度较大，根尖孔亦大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142640" y="2500200"/>
            <a:ext cx="75438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c000"/>
                </a:solidFill>
                <a:latin typeface="Garamond"/>
              </a:rPr>
              <a:t>乳前牙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髓腔与其牙冠外形相似，根管多为单根管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偶见</a:t>
            </a:r>
            <a:r>
              <a:rPr b="1" lang="zh-CN" sz="3200" spc="-1" strike="noStrike">
                <a:solidFill>
                  <a:srgbClr val="ffc000"/>
                </a:solidFill>
                <a:latin typeface="Garamond"/>
              </a:rPr>
              <a:t>下颌乳切牙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根管分为唇、舌向二根管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C495-E399-4B9D-B9EE-21F1C479377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3611160" y="10717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Arial"/>
              </a:rPr>
              <a:t>乳前牙髓腔解剖形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Garamond"/>
              </a:rPr>
              <a:t>乳磨牙髓腔形态</a:t>
            </a:r>
            <a:r>
              <a:rPr b="1" lang="zh-CN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髓室较大，通常均有三个根管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Garamond"/>
              </a:rPr>
              <a:t>上颌乳磨牙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有两个颊侧根管，一个舌侧根管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Garamond"/>
              </a:rPr>
              <a:t>下颌乳磨牙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有两个近中根管，一个远中根管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下颌第二乳磨牙有时可出现四根管，其分布为近中两个根管，远中两个根管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P1010031"/>
          <p:cNvPicPr/>
          <p:nvPr/>
        </p:nvPicPr>
        <p:blipFill>
          <a:blip r:embed="rId1"/>
          <a:stretch/>
        </p:blipFill>
        <p:spPr>
          <a:xfrm>
            <a:off x="0" y="-84240"/>
            <a:ext cx="9144000" cy="6942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P1010032"/>
          <p:cNvPicPr/>
          <p:nvPr/>
        </p:nvPicPr>
        <p:blipFill>
          <a:blip r:embed="rId1"/>
          <a:stretch/>
        </p:blipFill>
        <p:spPr>
          <a:xfrm>
            <a:off x="0" y="-13176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0" y="981000"/>
            <a:ext cx="4284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</a:rPr>
              <a:t>髓室顶与髓室底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与合面或切嵴相对 应的髓室壁称髓室顶，与髓室顶相对应的髓室壁称髓室底，两者之间的距离称为髓室高度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</a:rPr>
              <a:t>髓室壁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与牙体轴面相对应的髓腔牙本质壁分别称</a:t>
            </a:r>
            <a:r>
              <a:rPr b="1" lang="zh-CN" sz="2400" spc="-1" strike="noStrike">
                <a:solidFill>
                  <a:srgbClr val="ffff00"/>
                </a:solidFill>
                <a:latin typeface="Garamond"/>
              </a:rPr>
              <a:t>近中髓壁、远中髓壁、颊侧髓壁和舌侧髓壁。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亦有将髓室顶和髓室底列入髓室壁者，则髓室共有六壁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Garamond"/>
              </a:rPr>
              <a:t>髓角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为髓室伸向牙尖突出成角形的部分，其形状、位置与牙尖的高度相似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</a:rPr>
              <a:t>根管口：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为髓室底上髓室与根管的移行处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P1010048"/>
          <p:cNvPicPr/>
          <p:nvPr/>
        </p:nvPicPr>
        <p:blipFill>
          <a:blip r:embed="rId1"/>
          <a:srcRect l="15792" t="3795" r="18662" b="5906"/>
          <a:stretch/>
        </p:blipFill>
        <p:spPr>
          <a:xfrm>
            <a:off x="4197240" y="1125360"/>
            <a:ext cx="4946760" cy="5112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835280" y="260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（一）髓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82A8-944A-4D64-AAF7-290FDE75829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1010047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468360" y="126828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Arial"/>
              </a:rPr>
              <a:t>前牙髓室与根管无明显界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DDC6-753B-4D12-9E6C-9ACBD74CBEB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P1010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灯片编号占位符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14B8-2A2B-4FDB-9428-CE4193BA781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P1010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灯片编号占位符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5AA1-BA82-4DDF-912F-ED4D8C8F6C0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P1010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灯片编号占位符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4608-07A6-4111-A208-B32B0938C1C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3520" y="2360160"/>
            <a:ext cx="785016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前牙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共同特点：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髓室和根管间无明显界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根管多为单根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根尖孔多位于根尖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507320" y="109044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886e0"/>
                </a:solidFill>
                <a:latin typeface="Garamond"/>
                <a:ea typeface="黑体"/>
              </a:rPr>
              <a:t>恒牙髓腔形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fm_ktb"/>
          <p:cNvPicPr/>
          <p:nvPr/>
        </p:nvPicPr>
        <p:blipFill>
          <a:blip r:embed="rId1"/>
          <a:stretch/>
        </p:blipFill>
        <p:spPr>
          <a:xfrm>
            <a:off x="7956720" y="333360"/>
            <a:ext cx="752400" cy="10476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7:50:23Z</dcterms:created>
  <dc:creator>121</dc:creator>
  <dc:description/>
  <dc:language>en-US</dc:language>
  <cp:lastModifiedBy>落叶飘飞</cp:lastModifiedBy>
  <dcterms:modified xsi:type="dcterms:W3CDTF">2021-07-12T02:19:19Z</dcterms:modified>
  <cp:revision>84</cp:revision>
  <dc:subject/>
  <dc:title>口腔解剖生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