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  <p:sldId id="277" r:id="rId51"/>
    <p:sldId id="278" r:id="rId52"/>
    <p:sldId id="279" r:id="rId53"/>
    <p:sldId id="280" r:id="rId54"/>
    <p:sldId id="281" r:id="rId55"/>
    <p:sldId id="282" r:id="rId56"/>
    <p:sldId id="283" r:id="rId57"/>
    <p:sldId id="284" r:id="rId58"/>
    <p:sldId id="285" r:id="rId59"/>
    <p:sldId id="286" r:id="rId60"/>
    <p:sldId id="287" r:id="rId61"/>
    <p:sldId id="288" r:id="rId62"/>
    <p:sldId id="289" r:id="rId63"/>
    <p:sldId id="290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slide" Target="slides/slide22.xml"/><Relationship Id="rId52" Type="http://schemas.openxmlformats.org/officeDocument/2006/relationships/slide" Target="slides/slide23.xml"/><Relationship Id="rId53" Type="http://schemas.openxmlformats.org/officeDocument/2006/relationships/slide" Target="slides/slide24.xml"/><Relationship Id="rId54" Type="http://schemas.openxmlformats.org/officeDocument/2006/relationships/slide" Target="slides/slide25.xml"/><Relationship Id="rId55" Type="http://schemas.openxmlformats.org/officeDocument/2006/relationships/slide" Target="slides/slide26.xml"/><Relationship Id="rId56" Type="http://schemas.openxmlformats.org/officeDocument/2006/relationships/slide" Target="slides/slide27.xml"/><Relationship Id="rId57" Type="http://schemas.openxmlformats.org/officeDocument/2006/relationships/slide" Target="slides/slide28.xml"/><Relationship Id="rId58" Type="http://schemas.openxmlformats.org/officeDocument/2006/relationships/slide" Target="slides/slide29.xml"/><Relationship Id="rId59" Type="http://schemas.openxmlformats.org/officeDocument/2006/relationships/slide" Target="slides/slide30.xml"/><Relationship Id="rId60" Type="http://schemas.openxmlformats.org/officeDocument/2006/relationships/slide" Target="slides/slide31.xml"/><Relationship Id="rId61" Type="http://schemas.openxmlformats.org/officeDocument/2006/relationships/slide" Target="slides/slide32.xml"/><Relationship Id="rId62" Type="http://schemas.openxmlformats.org/officeDocument/2006/relationships/slide" Target="slides/slide33.xml"/><Relationship Id="rId63" Type="http://schemas.openxmlformats.org/officeDocument/2006/relationships/slide" Target="slides/slide34.xml"/><Relationship Id="rId64" Type="http://schemas.openxmlformats.org/officeDocument/2006/relationships/slide" Target="slides/slide35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B64E-D36F-4D12-A54E-B2887D3E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289B-E599-4F58-8E12-188C71F8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B4D7-A523-4FC0-A2A1-2FDC303DB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BB4A-F688-4CBC-8002-D40F755B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8B36-E04A-4B7C-8773-2F7A928B6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F689-298D-4A47-85AA-62AAA553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EE66-9CD4-45CA-A8DB-220C074B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C02E-324E-4CBA-9263-8FD8C254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5C97-81EB-489F-9747-DDEA2439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7816-7FFD-48AA-870D-91C0EA11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6613-00C4-4E84-9901-831C475C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A727-AA84-4CF7-8C94-D57D7056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9335-E0AF-44AB-B671-0139107E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68D3-F5DA-4D2B-BDA1-018A0EF0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BA7F-0AF4-4840-9259-23D88A5B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F16F-836D-4B39-908D-968DF0D9E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551F-4A9D-4A18-BADC-4A7EB7C5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03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04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C7CC-A4F8-4607-A602-85C10551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59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60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98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99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9124-C432-45AB-A269-BCF6E3DD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3AED2-6221-4181-9172-2F67E425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9FAA-D864-4058-AA36-4F2A0CAA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E7C49-C143-4CA0-81DB-EB4A685F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039AB-73EF-4272-80CA-FD8C7470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2514F-D1D5-4B2C-821A-8ADD5BC7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5F274-074B-4431-81B6-46716495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5B6B5-07A1-4949-9A89-A1B7CC44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22429-C36E-4B3E-837F-C0DF2A5A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F7491-A243-4312-937B-9BA60EF3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69745-97E5-4399-97E1-E9F87266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F49C4-7BAA-4532-BAD5-2BEFDAFB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33A71-44ED-4C80-BEF4-49CECA9E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FD2B-ABB8-4A84-AAB4-B6A98505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E4D28-664E-493C-9DB5-95C3A468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79EFC-5CE3-493B-8745-3C0FADA29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979E4-BF51-489A-9ED1-0719B4D0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F5B8F-B3B7-47DD-B672-AA93972B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F33CA-94A5-4877-8AC9-565BF026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60F3D-CD01-4729-9876-42CB2889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EBF9D-2554-4E42-8D38-81A38F10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C0505-CE6A-4984-AC82-8885F3EC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24F49-3A1E-4EFD-BB64-4292908B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7D697-16D7-46A6-B91C-4AD0E6A5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6E39-E4DD-4D7E-BACE-A61BAABA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FB000-F2F2-41F5-BD29-D36F274B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6D3F9-DC98-4A4B-AA54-C561B0E4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6EBDB-7C3D-4056-AA88-3E1E0523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62FA-DC70-4517-8C12-46FD6C38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557B-F8E6-4ABE-AA21-DCB02648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Lucida Sans"/>
              </a:rPr>
              <a:t>Click to edit the title text format</a:t>
            </a:r>
            <a:endParaRPr b="1" lang="en-US" sz="2800" spc="-1" strike="noStrike">
              <a:solidFill>
                <a:srgbClr val="0d0d0d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773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黑体"/>
              </a:rPr>
              <a:t>Click to edit the outline text format</a:t>
            </a:r>
            <a:endParaRPr b="0" lang="en-US" sz="2600" spc="-1" strike="noStrike">
              <a:solidFill>
                <a:srgbClr val="0d0d0d"/>
              </a:solidFill>
              <a:latin typeface="黑体"/>
            </a:endParaRPr>
          </a:p>
          <a:p>
            <a:pPr lvl="1" marL="743040" indent="-285840">
              <a:spcBef>
                <a:spcPts val="649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黑体"/>
              </a:rPr>
              <a:t>Second Outline Level</a:t>
            </a:r>
            <a:endParaRPr b="0" lang="en-US" sz="2600" spc="-1" strike="noStrike">
              <a:solidFill>
                <a:srgbClr val="0d0d0d"/>
              </a:solidFill>
              <a:latin typeface="黑体"/>
            </a:endParaRPr>
          </a:p>
          <a:p>
            <a:pPr lvl="2" marL="1143000" indent="-228600">
              <a:spcBef>
                <a:spcPts val="64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黑体"/>
              </a:rPr>
              <a:t>Third Outline Level</a:t>
            </a:r>
            <a:endParaRPr b="0" lang="en-US" sz="2600" spc="-1" strike="noStrike">
              <a:solidFill>
                <a:srgbClr val="0d0d0d"/>
              </a:solidFill>
              <a:latin typeface="黑体"/>
            </a:endParaRPr>
          </a:p>
          <a:p>
            <a:pPr lvl="3" marL="1600200" indent="-228600">
              <a:spcBef>
                <a:spcPts val="649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黑体"/>
              </a:rPr>
              <a:t>Fourth Outline Level</a:t>
            </a:r>
            <a:endParaRPr b="0" lang="en-US" sz="2600" spc="-1" strike="noStrike">
              <a:solidFill>
                <a:srgbClr val="0d0d0d"/>
              </a:solidFill>
              <a:latin typeface="黑体"/>
            </a:endParaRPr>
          </a:p>
          <a:p>
            <a:pPr lvl="4" marL="2057400" indent="-228600">
              <a:spcBef>
                <a:spcPts val="649"/>
              </a:spcBef>
              <a:buClr>
                <a:srgbClr val="0d0d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黑体"/>
              </a:rPr>
              <a:t>Fifth Outline Level</a:t>
            </a:r>
            <a:endParaRPr b="0" lang="en-US" sz="2600" spc="-1" strike="noStrike">
              <a:solidFill>
                <a:srgbClr val="0d0d0d"/>
              </a:solidFill>
              <a:latin typeface="黑体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黑体"/>
              </a:rPr>
              <a:t>Sixth Outline Level</a:t>
            </a:r>
            <a:endParaRPr b="0" lang="en-US" sz="2600" spc="-1" strike="noStrike">
              <a:solidFill>
                <a:srgbClr val="0d0d0d"/>
              </a:solidFill>
              <a:latin typeface="黑体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黑体"/>
              </a:rPr>
              <a:t>Seventh Outline Level</a:t>
            </a:r>
            <a:endParaRPr b="0" lang="en-US" sz="26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19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4234-69FE-449E-9F61-92D91F76AE66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2-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2-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2-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2" descr="2-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2-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2-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2-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2" descr="2-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6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6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黑体"/>
              </a:rPr>
              <a:t>Click to edit the title text format</a:t>
            </a: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  <a:p>
            <a:pPr lvl="1" marL="735480" indent="-28296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  <a:p>
            <a:pPr lvl="2" marL="1131480" indent="-22608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  <a:p>
            <a:pPr lvl="3" marL="1584000" indent="-22608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  <a:p>
            <a:pPr lvl="4" marL="2036520" indent="-226080">
              <a:spcBef>
                <a:spcPts val="700"/>
              </a:spcBef>
              <a:buClr>
                <a:srgbClr val="0d0d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  <a:p>
            <a:pPr lvl="5" marL="2036520" indent="-226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  <a:p>
            <a:pPr lvl="6" marL="2036520" indent="-226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519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8FB0-AE29-429E-9075-B368C3928F6C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Picture 6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Picture 6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Picture 6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Picture 6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Picture 6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Picture 6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Picture 6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6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Picture 6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2-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Lucida Sans"/>
              </a:rPr>
              <a:t>Click to edit the title text format</a:t>
            </a:r>
            <a:endParaRPr b="1" lang="en-US" sz="2800" spc="-1" strike="noStrike">
              <a:solidFill>
                <a:srgbClr val="0d0d0d"/>
              </a:solidFill>
              <a:latin typeface="Lucida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68360" y="1773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黑体"/>
              </a:rPr>
              <a:t>Click to edit the outline text format</a:t>
            </a:r>
            <a:endParaRPr b="0" lang="en-US" sz="2600" spc="-1" strike="noStrike">
              <a:solidFill>
                <a:srgbClr val="0d0d0d"/>
              </a:solidFill>
              <a:latin typeface="黑体"/>
            </a:endParaRPr>
          </a:p>
          <a:p>
            <a:pPr lvl="1" marL="743040" indent="-285840">
              <a:spcBef>
                <a:spcPts val="649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黑体"/>
              </a:rPr>
              <a:t>Second Outline Level</a:t>
            </a:r>
            <a:endParaRPr b="0" lang="en-US" sz="2600" spc="-1" strike="noStrike">
              <a:solidFill>
                <a:srgbClr val="0d0d0d"/>
              </a:solidFill>
              <a:latin typeface="黑体"/>
            </a:endParaRPr>
          </a:p>
          <a:p>
            <a:pPr lvl="2" marL="1143000" indent="-228600">
              <a:spcBef>
                <a:spcPts val="64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黑体"/>
              </a:rPr>
              <a:t>Third Outline Level</a:t>
            </a:r>
            <a:endParaRPr b="0" lang="en-US" sz="2600" spc="-1" strike="noStrike">
              <a:solidFill>
                <a:srgbClr val="0d0d0d"/>
              </a:solidFill>
              <a:latin typeface="黑体"/>
            </a:endParaRPr>
          </a:p>
          <a:p>
            <a:pPr lvl="3" marL="1600200" indent="-228600">
              <a:spcBef>
                <a:spcPts val="649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黑体"/>
              </a:rPr>
              <a:t>Fourth Outline Level</a:t>
            </a:r>
            <a:endParaRPr b="0" lang="en-US" sz="2600" spc="-1" strike="noStrike">
              <a:solidFill>
                <a:srgbClr val="0d0d0d"/>
              </a:solidFill>
              <a:latin typeface="黑体"/>
            </a:endParaRPr>
          </a:p>
          <a:p>
            <a:pPr lvl="4" marL="2057400" indent="-228600">
              <a:spcBef>
                <a:spcPts val="649"/>
              </a:spcBef>
              <a:buClr>
                <a:srgbClr val="0d0d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黑体"/>
              </a:rPr>
              <a:t>Fifth Outline Level</a:t>
            </a:r>
            <a:endParaRPr b="0" lang="en-US" sz="2600" spc="-1" strike="noStrike">
              <a:solidFill>
                <a:srgbClr val="0d0d0d"/>
              </a:solidFill>
              <a:latin typeface="黑体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黑体"/>
              </a:rPr>
              <a:t>Sixth Outline Level</a:t>
            </a:r>
            <a:endParaRPr b="0" lang="en-US" sz="2600" spc="-1" strike="noStrike">
              <a:solidFill>
                <a:srgbClr val="0d0d0d"/>
              </a:solidFill>
              <a:latin typeface="黑体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黑体"/>
              </a:rPr>
              <a:t>Seventh Outline Level</a:t>
            </a:r>
            <a:endParaRPr b="0" lang="en-US" sz="26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468000" y="65066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0589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6587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ED6D-CF90-4F5B-A295-1A4793A2443C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Lucida Sans"/>
              </a:rPr>
              <a:t>Click to edit the title text format</a:t>
            </a:r>
            <a:endParaRPr b="1" lang="en-US" sz="2800" spc="-1" strike="noStrike">
              <a:solidFill>
                <a:srgbClr val="0d0d0d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68360" y="1773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黑体"/>
              </a:rPr>
              <a:t>Click to edit the outline text format</a:t>
            </a:r>
            <a:endParaRPr b="0" lang="en-US" sz="2600" spc="-1" strike="noStrike">
              <a:solidFill>
                <a:srgbClr val="0d0d0d"/>
              </a:solidFill>
              <a:latin typeface="黑体"/>
            </a:endParaRPr>
          </a:p>
          <a:p>
            <a:pPr lvl="1" marL="743040" indent="-285840">
              <a:spcBef>
                <a:spcPts val="649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黑体"/>
              </a:rPr>
              <a:t>Second Outline Level</a:t>
            </a:r>
            <a:endParaRPr b="0" lang="en-US" sz="2600" spc="-1" strike="noStrike">
              <a:solidFill>
                <a:srgbClr val="0d0d0d"/>
              </a:solidFill>
              <a:latin typeface="黑体"/>
            </a:endParaRPr>
          </a:p>
          <a:p>
            <a:pPr lvl="2" marL="1143000" indent="-228600">
              <a:spcBef>
                <a:spcPts val="64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黑体"/>
              </a:rPr>
              <a:t>Third Outline Level</a:t>
            </a:r>
            <a:endParaRPr b="0" lang="en-US" sz="2600" spc="-1" strike="noStrike">
              <a:solidFill>
                <a:srgbClr val="0d0d0d"/>
              </a:solidFill>
              <a:latin typeface="黑体"/>
            </a:endParaRPr>
          </a:p>
          <a:p>
            <a:pPr lvl="3" marL="1600200" indent="-228600">
              <a:spcBef>
                <a:spcPts val="649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黑体"/>
              </a:rPr>
              <a:t>Fourth Outline Level</a:t>
            </a:r>
            <a:endParaRPr b="0" lang="en-US" sz="2600" spc="-1" strike="noStrike">
              <a:solidFill>
                <a:srgbClr val="0d0d0d"/>
              </a:solidFill>
              <a:latin typeface="黑体"/>
            </a:endParaRPr>
          </a:p>
          <a:p>
            <a:pPr lvl="4" marL="2057400" indent="-228600">
              <a:spcBef>
                <a:spcPts val="649"/>
              </a:spcBef>
              <a:buClr>
                <a:srgbClr val="0d0d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黑体"/>
              </a:rPr>
              <a:t>Fifth Outline Level</a:t>
            </a:r>
            <a:endParaRPr b="0" lang="en-US" sz="2600" spc="-1" strike="noStrike">
              <a:solidFill>
                <a:srgbClr val="0d0d0d"/>
              </a:solidFill>
              <a:latin typeface="黑体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黑体"/>
              </a:rPr>
              <a:t>Sixth Outline Level</a:t>
            </a:r>
            <a:endParaRPr b="0" lang="en-US" sz="2600" spc="-1" strike="noStrike">
              <a:solidFill>
                <a:srgbClr val="0d0d0d"/>
              </a:solidFill>
              <a:latin typeface="黑体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黑体"/>
              </a:rPr>
              <a:t>Seventh Outline Level</a:t>
            </a:r>
            <a:endParaRPr b="0" lang="en-US" sz="26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0"/>
          </p:nvPr>
        </p:nvSpPr>
        <p:spPr>
          <a:xfrm>
            <a:off x="468000" y="6524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1"/>
          </p:nvPr>
        </p:nvSpPr>
        <p:spPr>
          <a:xfrm>
            <a:off x="3132000" y="6524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2"/>
          </p:nvPr>
        </p:nvSpPr>
        <p:spPr>
          <a:xfrm>
            <a:off x="655272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1292-6B1E-471C-BF12-1671472C4427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2-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2-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2-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331640" y="1125360"/>
            <a:ext cx="659124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2d050"/>
                </a:solidFill>
                <a:latin typeface="微软雅黑"/>
                <a:ea typeface="微软雅黑"/>
              </a:rPr>
              <a:t>幼儿园班级管理</a:t>
            </a:r>
            <a:endParaRPr b="1" lang="en-US" sz="4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101" name="矩形 1"/>
          <p:cNvSpPr/>
          <p:nvPr/>
        </p:nvSpPr>
        <p:spPr>
          <a:xfrm>
            <a:off x="5038200" y="2467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2d050"/>
                </a:solidFill>
                <a:latin typeface="黑体"/>
                <a:ea typeface="黑体"/>
              </a:rPr>
              <a:t>主编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Text Box 4"/>
          <p:cNvSpPr/>
          <p:nvPr/>
        </p:nvSpPr>
        <p:spPr>
          <a:xfrm>
            <a:off x="10693440" y="7677000"/>
            <a:ext cx="504720" cy="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969696"/>
                </a:solidFill>
                <a:latin typeface="Arial"/>
                <a:ea typeface="宋体"/>
              </a:rPr>
              <a:t>素材风暴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http://www.sucaifengbao.com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http://ppt.sucaifengbao.com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AE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  <a:ea typeface="宋体"/>
              </a:rPr>
              <a:t>视频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http://ae.sucaifengbao.com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PSD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http://www.sucaifengbao.com/html/psd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969696"/>
                </a:solidFill>
                <a:latin typeface="Arial"/>
                <a:ea typeface="宋体"/>
              </a:rPr>
              <a:t>矢量素材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http://www.sucaifengbao.com/html/vector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Flash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http://www.sucaifengbao.com/html/flash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969696"/>
                </a:solidFill>
                <a:latin typeface="Arial"/>
                <a:ea typeface="宋体"/>
              </a:rPr>
              <a:t>图片素材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http://www.sucaifengbao.com/html/photo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PS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  <a:ea typeface="宋体"/>
              </a:rPr>
              <a:t>插件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http://www.sucaifengbao.com/html/pschajian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矩形 1"/>
          <p:cNvSpPr/>
          <p:nvPr/>
        </p:nvSpPr>
        <p:spPr>
          <a:xfrm>
            <a:off x="1989720" y="11253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二、幼儿园生活教师基本职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矩形 1"/>
          <p:cNvSpPr/>
          <p:nvPr/>
        </p:nvSpPr>
        <p:spPr>
          <a:xfrm>
            <a:off x="539640" y="1536840"/>
            <a:ext cx="806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协助班主任开展德育工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严格执行生活指导教师的工作规程，熟悉指导和帮助幼儿一日生活起居，注重幼儿的个人卫生，培养幼儿的良好卫生习惯，逐步提高幼儿基本的生活自理能力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和班主任、任课教师团结协作，正确教育和帮助幼儿养成良好的行为习惯和学习习惯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认真做好幼儿的安全、保健工作，杜绝和避免传染性疾病的发生，做好幼儿园的预防工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加强对宿舍文化的建设，保证宿舍的卫生清洁，努力给学生创造出团结、和谐、轻松、愉快以利其健康成长的环境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矩形 1"/>
          <p:cNvSpPr/>
          <p:nvPr/>
        </p:nvSpPr>
        <p:spPr>
          <a:xfrm>
            <a:off x="1989720" y="11253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二、幼儿园生活教师基本职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矩形 1"/>
          <p:cNvSpPr/>
          <p:nvPr/>
        </p:nvSpPr>
        <p:spPr>
          <a:xfrm>
            <a:off x="539640" y="1536840"/>
            <a:ext cx="806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组织并指导幼儿文明就餐，对挑食、偏食的幼儿给予更细微的照顾，引导幼儿改正不良的进餐习惯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对幼儿和蔼可亲，严禁训斥、体罚幼儿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做好与班主任、任课教师的工作交接，并及时做好记录，做到全面了解每一个幼儿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按规定填写”保育员工作计划”，每周交一篇生活日志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积极完成幼儿园分配的各项工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矩形 1"/>
          <p:cNvSpPr/>
          <p:nvPr/>
        </p:nvSpPr>
        <p:spPr>
          <a:xfrm>
            <a:off x="1291320" y="112536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、</a:t>
            </a:r>
            <a:r>
              <a:rPr b="1" lang="zh-CN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幼儿园保教人员的基本要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7" name="图示 3" descr=""/>
          <p:cNvPicPr/>
          <p:nvPr/>
        </p:nvPicPr>
        <p:blipFill>
          <a:blip r:embed="rId1"/>
          <a:stretch/>
        </p:blipFill>
        <p:spPr>
          <a:xfrm>
            <a:off x="1316160" y="1627200"/>
            <a:ext cx="6937200" cy="46814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1"/>
          <p:cNvSpPr/>
          <p:nvPr/>
        </p:nvSpPr>
        <p:spPr>
          <a:xfrm>
            <a:off x="349200" y="2176560"/>
            <a:ext cx="83534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幼儿园教师专业标准（试行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为促进幼儿园教师专业发展，建设高素质幼儿园教师队伍，根据《中华人民共和国教师法》，特制定《幼儿园教师专业标准（试行）》（以下简称《专业标准》）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幼儿园教师是履行幼儿园教育教学工作职责的专业人员，需要经过严格的培养与培训，具有良好的职业道德，掌握系统的专业知识和专业技能。《专业标准》是国家对合格幼儿园教师专业素质的基本要求，是幼儿园教师实施保教行为的基本规范，是引领幼儿园教师专业发展的基本准则，是幼儿园教师培养、准入、培训、考核等工作的重要依据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一、基本理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一）师德为先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热爱学前教育事业，具有职业理想，践行社会主义核心价值体系，履行教师职业道德规范，依法执教。关爱幼儿，尊重幼儿人格，富有爱心、责任心、耐心和细心；为人师表，教书育人，自尊自律，做幼儿健康成长的启蒙者和引路人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二）幼儿为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尊重幼儿权益，以幼儿为主体，充分调动和发挥幼儿的主动性；遵循幼儿身心发展特点和保教活动规律，提供适合的教育，保障幼儿快乐健康成长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三）能力为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把学前教育理论与保教实践相结合，突出保教实践能力；研究幼儿，遵循幼儿成长规律，提升保教工作专业化水平；坚持实践、反思、再实践、再反思，不断提高专业能力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四）终身学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学习先进学前教育理论，了解国内外学前教育改革与发展的经验和做法；优化知识结构，提高文化素养；具有终身学习与持续发展的意识和能力，做终身学习的典范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9" name=""/>
          <p:cNvGraphicFramePr/>
          <p:nvPr/>
        </p:nvGraphicFramePr>
        <p:xfrm>
          <a:off x="528480" y="1266840"/>
          <a:ext cx="8224920" cy="5227560"/>
        </p:xfrm>
        <a:graphic>
          <a:graphicData uri="http://schemas.openxmlformats.org/drawingml/2006/table">
            <a:tbl>
              <a:tblPr/>
              <a:tblGrid>
                <a:gridCol w="360360"/>
                <a:gridCol w="2016360"/>
                <a:gridCol w="5848200"/>
              </a:tblGrid>
              <a:tr h="169920">
                <a:tc>
                  <a:txBody>
                    <a:bodyPr lIns="10080" rIns="10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维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领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基本要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</a:tr>
              <a:tr h="1143000">
                <a:tc rowSpan="4">
                  <a:txBody>
                    <a:bodyPr lIns="10080" rIns="10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专 业 理 念 与 师 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职业理解与认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贯彻党和国家教育方针政策，遵守教育法律法规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2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理解幼儿保教工作的意义，热爱学前教育事业，具有职业理想和敬业精神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3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认同幼儿园教师的专业性和独特性，注重自身专业发展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4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具有良好职业道德修养，为人师表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5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具有团队合作精神，积极开展协作与交流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</a:tr>
              <a:tr h="106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二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对幼儿的态度与行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  <a:tc>
                  <a:txBody>
                    <a:bodyPr lIns="10080" rIns="1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6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关爱幼儿，重视幼儿身心健康，将保护幼儿生命安全放在首位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7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尊重幼儿人格，维护幼儿合法权益，平等对待每一位幼儿。不讽刺、挖苦、歧视幼儿，不体罚或变相体罚幼儿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8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信任幼儿， 尊重个体差异，主动了解和满足有益于幼儿身心发展的不同需求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9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重视生活对幼儿健康成长的重要价值，积极创造条件，让幼儿拥有快乐的幼儿园生活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</a:tr>
              <a:tr h="1704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幼儿保育和教育的态度与行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  <a:tc>
                  <a:txBody>
                    <a:bodyPr lIns="10080" rIns="1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0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注重保教结合，培育幼儿良好的意志品质，帮助幼儿养成良好的行为习惯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1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注重保护幼儿的好奇心，培养幼儿的想像力，发掘幼儿的兴趣爱好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2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重视环境和游戏对幼儿发展的独特作用，创设富有教育意义的环境氛围，将游戏作为幼儿的主要活动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3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重视丰富幼儿多方面的直接经验，将探索、交往等实践活动作为幼儿最重要的学习方式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4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重视自身日常态度言行对幼儿发展的重要影响与作用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5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重视幼儿园、家庭和社区的合作，综合利用各种资源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</a:tr>
              <a:tr h="11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四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个人修养与行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6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富有爱心、责任心、耐心和细心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7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乐观向上、热情开朗，有亲和力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8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善于自我调节情绪，保持平和心态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9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勤于学习，不断进取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20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衣着整洁得体，语言规范健康，举止文明礼貌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</a:tr>
            </a:tbl>
          </a:graphicData>
        </a:graphic>
      </p:graphicFrame>
      <p:sp>
        <p:nvSpPr>
          <p:cNvPr id="1190" name="矩形 2"/>
          <p:cNvSpPr/>
          <p:nvPr/>
        </p:nvSpPr>
        <p:spPr>
          <a:xfrm>
            <a:off x="4505040" y="981000"/>
            <a:ext cx="2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二、基本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1" name=""/>
          <p:cNvGraphicFramePr/>
          <p:nvPr/>
        </p:nvGraphicFramePr>
        <p:xfrm>
          <a:off x="539640" y="981000"/>
          <a:ext cx="8224920" cy="5227560"/>
        </p:xfrm>
        <a:graphic>
          <a:graphicData uri="http://schemas.openxmlformats.org/drawingml/2006/table">
            <a:tbl>
              <a:tblPr/>
              <a:tblGrid>
                <a:gridCol w="360360"/>
                <a:gridCol w="2016360"/>
                <a:gridCol w="5848200"/>
              </a:tblGrid>
              <a:tr h="1142640">
                <a:tc rowSpan="3">
                  <a:txBody>
                    <a:bodyPr lIns="10080" rIns="10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专 业 知 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五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幼儿发展知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  <a:tc>
                  <a:txBody>
                    <a:bodyPr lIns="10080" rIns="1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21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了解关于幼儿生存、发展和保护的有关法律法规及政策规定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22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掌握不同年龄幼儿身心发展特点、规律和促进幼儿全面发展的策略与方法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23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了解幼儿在发展水平、速度与优势领域等方面的个体差异，掌握对应的策略与方法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24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了解幼儿发展中容易出现的问题与适宜的对策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25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了解有特殊需要幼儿的身心发展特点及教育策略与方法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</a:tr>
              <a:tr h="138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六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幼儿保育和教育知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26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熟悉幼儿园教育的目标、任务、内容、要求和基本原则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27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掌握幼儿园各领域教育的学科特点与基本知识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28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掌握幼儿园环境创设、一日生活安排、游戏与教育活动、保育和班级管理的知识与方法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29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熟知幼儿园的安全应急预案，掌握意外事故和危险情况下幼儿安全防护与救助的基本方法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30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掌握观察、谈话、记录等了解幼儿的基本方法和教育心理学的基本原理和方法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31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了解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0-3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岁婴幼儿保教和幼小衔接的有关知识与基本方法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</a:tr>
              <a:tr h="204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七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通识性知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32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具有一定的自然科学和人文社会科学知识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33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了解中国教育基本情况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34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具有相应的艺术欣赏与表现知识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35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具有一定的现代信息技术知识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</a:tr>
              <a:tr h="898920">
                <a:tc rowSpan="2">
                  <a:txBody>
                    <a:bodyPr lIns="10080" rIns="10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专 业 能 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八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环境的创设与利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36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建立良好的师幼关系，帮助幼儿建立良好的同伴关系，让幼儿感到温暖和愉悦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37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建立班级秩序与规则，营造良好的班级氛围，让幼儿感受到安全、舒适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38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创设有助于促进幼儿成长、学习、游戏的教育环境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39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合理利用资源，为幼儿提供和制作适合的玩教具和学习材料，引发和支持幼儿的主动活动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</a:tr>
              <a:tr h="89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一日生活的组织与保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40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合理安排和组织一日生活的各个环节，将教育灵活地渗透到一日生活中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41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科学照料幼儿日常生活，指导和协助保育员做好班级常规保育和卫生工作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42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充分利用各种教育契机，对幼儿进行随机教育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43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有效保护幼儿，及时处理幼儿的常见事故，危险情况优先救护幼儿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</a:tr>
            </a:tbl>
          </a:graphicData>
        </a:graphic>
      </p:graphicFrame>
    </p:spTree>
  </p:cSld>
  <p:transition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2" name=""/>
          <p:cNvGraphicFramePr/>
          <p:nvPr/>
        </p:nvGraphicFramePr>
        <p:xfrm>
          <a:off x="539640" y="1197000"/>
          <a:ext cx="8224920" cy="4922640"/>
        </p:xfrm>
        <a:graphic>
          <a:graphicData uri="http://schemas.openxmlformats.org/drawingml/2006/table">
            <a:tbl>
              <a:tblPr/>
              <a:tblGrid>
                <a:gridCol w="360360"/>
                <a:gridCol w="2016360"/>
                <a:gridCol w="5848200"/>
              </a:tblGrid>
              <a:tr h="1233360">
                <a:tc rowSpan="5">
                  <a:txBody>
                    <a:bodyPr lIns="10080" rIns="1008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专 业 能 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十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游戏活动的支持与引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44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提供符合幼儿兴趣需要、年龄特点和发展目标的游戏条件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45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充分利用与合理设计游戏活动空间，提供丰富、适宜的游戏材料，支持、引发和促进幼儿的游戏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46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鼓励幼儿自主选择游戏内容、伙伴和材料，支持幼儿主动地、创造性地开展游戏，充分体验游戏的快乐和满足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47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引导幼儿在游戏活动中获得身体、认知、语言和社会性等多方面的发展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</a:tr>
              <a:tr h="106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十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教育活动的计划与实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48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制定阶段性的教育活动计划和具体活动方案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49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在教育活动中观察幼儿，根据幼儿的表现和需要，调整活动，给予适宜的指导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50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在教育活动的设计和实施中体现趣味性、综合性和生活化，灵活运用各种组织形式和适宜的教育方式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51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提供更多的操作探索、交流合作、表达表现的机会，支持和促进幼儿主动学习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</a:tr>
              <a:tr h="82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十二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激励与评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  <a:tc>
                  <a:txBody>
                    <a:bodyPr lIns="10080" rIns="1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52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关注幼儿日常表现， 及时发现和赏识每个幼儿的点滴进步，注重激发和保护幼儿的积极性、自信心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53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有效运用观察、谈话、家园联系、作品分析等多种方法，客观地、全面地了解和评价幼儿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54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有效运用评价结果，指导下一步教育活动的开展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</a:tr>
              <a:tr h="11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十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沟通与合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55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使用符合幼儿年龄特点的语言进行保教工作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56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善于倾听，和蔼可亲，与幼儿进行有效沟通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57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与同事合作交流，分享经验和资源，共同发展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58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与家长进行有效沟通合作，共同促进幼儿发展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59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协助幼儿园与社区建立合作互助的良好关系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</a:tr>
              <a:tr h="65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十四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反思与发展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  <a:tc>
                  <a:txBody>
                    <a:bodyPr lIns="10080" rIns="1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60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主动收集分析相关信息，不断进行反思，改进保教工作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61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针对保教工作中的现实需要与问题，进行探索和研究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62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制定专业发展规划，积极参加专业培训，不断提高自身专业素质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</a:tr>
            </a:tbl>
          </a:graphicData>
        </a:graphic>
      </p:graphicFrame>
    </p:spTree>
  </p:cSld>
  <p:transition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3" name="圆角矩形 37"/>
          <p:cNvGrpSpPr/>
          <p:nvPr/>
        </p:nvGrpSpPr>
        <p:grpSpPr>
          <a:xfrm>
            <a:off x="2487600" y="2998800"/>
            <a:ext cx="4894200" cy="426960"/>
            <a:chOff x="2487600" y="2998800"/>
            <a:chExt cx="4894200" cy="426960"/>
          </a:xfrm>
        </p:grpSpPr>
        <p:pic>
          <p:nvPicPr>
            <p:cNvPr id="1194" name="圆角矩形 37" descr=""/>
            <p:cNvPicPr/>
            <p:nvPr/>
          </p:nvPicPr>
          <p:blipFill>
            <a:blip r:embed="rId1"/>
            <a:stretch/>
          </p:blipFill>
          <p:spPr>
            <a:xfrm>
              <a:off x="2487600" y="2998800"/>
              <a:ext cx="48942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5" name=""/>
            <p:cNvSpPr/>
            <p:nvPr/>
          </p:nvSpPr>
          <p:spPr>
            <a:xfrm>
              <a:off x="2557440" y="3068640"/>
              <a:ext cx="47512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d0d0d"/>
                  </a:solidFill>
                  <a:latin typeface="Calibri"/>
                  <a:ea typeface="宋体"/>
                </a:rPr>
                <a:t>      </a:t>
              </a:r>
              <a:r>
                <a:rPr b="1" lang="zh-CN" sz="1800" spc="-1" strike="noStrike">
                  <a:solidFill>
                    <a:srgbClr val="0d0d0d"/>
                  </a:solidFill>
                  <a:latin typeface="Calibri"/>
                  <a:ea typeface="宋体"/>
                </a:rPr>
                <a:t>第二节 幼儿园教师的素质要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6" name="Group 16"/>
          <p:cNvGrpSpPr/>
          <p:nvPr/>
        </p:nvGrpSpPr>
        <p:grpSpPr>
          <a:xfrm>
            <a:off x="2712960" y="3071880"/>
            <a:ext cx="243000" cy="250920"/>
            <a:chOff x="2712960" y="3071880"/>
            <a:chExt cx="243000" cy="250920"/>
          </a:xfrm>
        </p:grpSpPr>
        <p:pic>
          <p:nvPicPr>
            <p:cNvPr id="1197" name="椭圆 36" descr=""/>
            <p:cNvPicPr/>
            <p:nvPr/>
          </p:nvPicPr>
          <p:blipFill>
            <a:blip r:embed="rId2"/>
            <a:stretch/>
          </p:blipFill>
          <p:spPr>
            <a:xfrm>
              <a:off x="2712960" y="3071880"/>
              <a:ext cx="243000" cy="2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8" name="Text Box 18"/>
            <p:cNvSpPr/>
            <p:nvPr/>
          </p:nvSpPr>
          <p:spPr>
            <a:xfrm>
              <a:off x="2759040" y="3120840"/>
              <a:ext cx="1522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cover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矩形 1"/>
          <p:cNvSpPr/>
          <p:nvPr/>
        </p:nvSpPr>
        <p:spPr>
          <a:xfrm>
            <a:off x="963000" y="11253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崇高的职业道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0" name="图示 4" descr=""/>
          <p:cNvPicPr/>
          <p:nvPr/>
        </p:nvPicPr>
        <p:blipFill>
          <a:blip r:embed="rId1"/>
          <a:stretch/>
        </p:blipFill>
        <p:spPr>
          <a:xfrm>
            <a:off x="2273400" y="1700280"/>
            <a:ext cx="4597200" cy="37432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1" name="右箭头 2"/>
          <p:cNvGrpSpPr/>
          <p:nvPr/>
        </p:nvGrpSpPr>
        <p:grpSpPr>
          <a:xfrm>
            <a:off x="2097000" y="2567160"/>
            <a:ext cx="1109880" cy="2376360"/>
            <a:chOff x="2097000" y="2567160"/>
            <a:chExt cx="1109880" cy="2376360"/>
          </a:xfrm>
        </p:grpSpPr>
        <p:pic>
          <p:nvPicPr>
            <p:cNvPr id="1202" name="右箭头 2" descr=""/>
            <p:cNvPicPr/>
            <p:nvPr/>
          </p:nvPicPr>
          <p:blipFill>
            <a:blip r:embed="rId1"/>
            <a:stretch/>
          </p:blipFill>
          <p:spPr>
            <a:xfrm>
              <a:off x="2097000" y="2567160"/>
              <a:ext cx="110988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3" name=""/>
            <p:cNvSpPr/>
            <p:nvPr/>
          </p:nvSpPr>
          <p:spPr>
            <a:xfrm>
              <a:off x="2097000" y="3029040"/>
              <a:ext cx="76860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4" name="Group 4"/>
          <p:cNvGrpSpPr/>
          <p:nvPr/>
        </p:nvGrpSpPr>
        <p:grpSpPr>
          <a:xfrm>
            <a:off x="539640" y="1814400"/>
            <a:ext cx="1654200" cy="2184480"/>
            <a:chOff x="539640" y="1814400"/>
            <a:chExt cx="1654200" cy="2184480"/>
          </a:xfrm>
        </p:grpSpPr>
        <p:sp>
          <p:nvSpPr>
            <p:cNvPr id="1205" name="矩形 4"/>
            <p:cNvSpPr/>
            <p:nvPr/>
          </p:nvSpPr>
          <p:spPr>
            <a:xfrm>
              <a:off x="1267200" y="3018960"/>
              <a:ext cx="156960" cy="979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06" name="Group 6"/>
            <p:cNvGrpSpPr/>
            <p:nvPr/>
          </p:nvGrpSpPr>
          <p:grpSpPr>
            <a:xfrm>
              <a:off x="539640" y="1814400"/>
              <a:ext cx="1654200" cy="1585440"/>
              <a:chOff x="539640" y="1814400"/>
              <a:chExt cx="1654200" cy="1585440"/>
            </a:xfrm>
          </p:grpSpPr>
          <p:sp>
            <p:nvSpPr>
              <p:cNvPr id="1207" name="椭圆 11"/>
              <p:cNvSpPr/>
              <p:nvPr/>
            </p:nvSpPr>
            <p:spPr>
              <a:xfrm>
                <a:off x="539640" y="1814400"/>
                <a:ext cx="1654200" cy="1585440"/>
              </a:xfrm>
              <a:prstGeom prst="ellipse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8" name="椭圆 3"/>
              <p:cNvSpPr/>
              <p:nvPr/>
            </p:nvSpPr>
            <p:spPr>
              <a:xfrm>
                <a:off x="608400" y="1880280"/>
                <a:ext cx="1516320" cy="1453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9" name="椭圆 13"/>
              <p:cNvSpPr/>
              <p:nvPr/>
            </p:nvSpPr>
            <p:spPr>
              <a:xfrm>
                <a:off x="645120" y="1915560"/>
                <a:ext cx="1442880" cy="1382760"/>
              </a:xfrm>
              <a:prstGeom prst="ellipse">
                <a:avLst/>
              </a:prstGeom>
              <a:solidFill>
                <a:srgbClr val="44b093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例子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10" name="矩形 7"/>
            <p:cNvSpPr/>
            <p:nvPr/>
          </p:nvSpPr>
          <p:spPr>
            <a:xfrm flipV="1">
              <a:off x="1167840" y="3521880"/>
              <a:ext cx="355680" cy="1227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1" name="圆角矩形 14"/>
          <p:cNvSpPr/>
          <p:nvPr/>
        </p:nvSpPr>
        <p:spPr>
          <a:xfrm>
            <a:off x="3203640" y="2387520"/>
            <a:ext cx="5472000" cy="2737080"/>
          </a:xfrm>
          <a:prstGeom prst="roundRect">
            <a:avLst>
              <a:gd name="adj" fmla="val 9685"/>
            </a:avLst>
          </a:prstGeom>
          <a:noFill/>
          <a:ln w="76320">
            <a:solidFill>
              <a:srgbClr val="9ec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TextBox 58"/>
          <p:cNvSpPr/>
          <p:nvPr/>
        </p:nvSpPr>
        <p:spPr>
          <a:xfrm>
            <a:off x="3203640" y="2606760"/>
            <a:ext cx="54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华华的口语表达能力较差，一紧张就小脸涨得通红，让他回答一些简单的问题有时也会结结巴巴说不清楚，有时直接说“我不会”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赵老师为了帮华华改掉口齿不清、说话结结巴巴这一问题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平时注意与孩子多交谈，让他重复其他幼儿的回答，并时常找机会让华华在集体面前讲述。另外，请家长平时用普通话与孩子交谈，让孩子在家多听故事，多接触语言环境，在每次的外出活动中，陪伴在他身边，引导他描述周围的景色、人们的活动，让他复述别人的话，渐渐地孩子的语言有了较大的进步。一次，他回老家一星期没来，入园时他还将自己回老家的情景讲给大家听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3" name="Group 6" descr=""/>
          <p:cNvPicPr/>
          <p:nvPr/>
        </p:nvPicPr>
        <p:blipFill>
          <a:blip r:embed="rId2"/>
          <a:stretch/>
        </p:blipFill>
        <p:spPr>
          <a:xfrm>
            <a:off x="530280" y="4048200"/>
            <a:ext cx="165240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719964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d0d0d"/>
                </a:solidFill>
                <a:latin typeface="黑体"/>
              </a:rPr>
              <a:t>第七章 幼儿园保教人员的自我管理</a:t>
            </a:r>
            <a:endParaRPr b="1" lang="en-US" sz="24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104" name="圆角矩形 31"/>
          <p:cNvSpPr/>
          <p:nvPr/>
        </p:nvSpPr>
        <p:spPr>
          <a:xfrm>
            <a:off x="2496960" y="2060640"/>
            <a:ext cx="4965840" cy="431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9fd4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25560">
            <a:solidFill>
              <a:srgbClr val="4f9f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d"/>
                </a:solidFill>
                <a:latin typeface="Calibri"/>
                <a:ea typeface="宋体"/>
              </a:rPr>
              <a:t>     </a:t>
            </a:r>
            <a:r>
              <a:rPr b="1" lang="zh-CN" sz="1800" spc="-1" strike="noStrike">
                <a:solidFill>
                  <a:srgbClr val="0d0d0d"/>
                </a:solidFill>
                <a:latin typeface="Calibri"/>
                <a:ea typeface="宋体"/>
              </a:rPr>
              <a:t>第一节 幼儿园保教人员的基本职责和要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5" name="Group 8"/>
          <p:cNvGrpSpPr/>
          <p:nvPr/>
        </p:nvGrpSpPr>
        <p:grpSpPr>
          <a:xfrm>
            <a:off x="2700360" y="2146320"/>
            <a:ext cx="244440" cy="249120"/>
            <a:chOff x="2700360" y="2146320"/>
            <a:chExt cx="244440" cy="249120"/>
          </a:xfrm>
        </p:grpSpPr>
        <p:pic>
          <p:nvPicPr>
            <p:cNvPr id="1106" name="椭圆 30" descr=""/>
            <p:cNvPicPr/>
            <p:nvPr/>
          </p:nvPicPr>
          <p:blipFill>
            <a:blip r:embed="rId1"/>
            <a:stretch/>
          </p:blipFill>
          <p:spPr>
            <a:xfrm>
              <a:off x="2700360" y="2146320"/>
              <a:ext cx="244440" cy="24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7" name="Text Box 10"/>
            <p:cNvSpPr/>
            <p:nvPr/>
          </p:nvSpPr>
          <p:spPr>
            <a:xfrm>
              <a:off x="2746080" y="2194200"/>
              <a:ext cx="1530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8" name="圆角矩形 37"/>
          <p:cNvGrpSpPr/>
          <p:nvPr/>
        </p:nvGrpSpPr>
        <p:grpSpPr>
          <a:xfrm>
            <a:off x="2487600" y="2998800"/>
            <a:ext cx="4894200" cy="426960"/>
            <a:chOff x="2487600" y="2998800"/>
            <a:chExt cx="4894200" cy="426960"/>
          </a:xfrm>
        </p:grpSpPr>
        <p:pic>
          <p:nvPicPr>
            <p:cNvPr id="1109" name="圆角矩形 37" descr=""/>
            <p:cNvPicPr/>
            <p:nvPr/>
          </p:nvPicPr>
          <p:blipFill>
            <a:blip r:embed="rId2"/>
            <a:stretch/>
          </p:blipFill>
          <p:spPr>
            <a:xfrm>
              <a:off x="2487600" y="2998800"/>
              <a:ext cx="48942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0" name=""/>
            <p:cNvSpPr/>
            <p:nvPr/>
          </p:nvSpPr>
          <p:spPr>
            <a:xfrm>
              <a:off x="2557440" y="3068640"/>
              <a:ext cx="47512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d0d0d"/>
                  </a:solidFill>
                  <a:latin typeface="Calibri"/>
                  <a:ea typeface="宋体"/>
                </a:rPr>
                <a:t>      </a:t>
              </a:r>
              <a:r>
                <a:rPr b="1" lang="zh-CN" sz="1800" spc="-1" strike="noStrike">
                  <a:solidFill>
                    <a:srgbClr val="0d0d0d"/>
                  </a:solidFill>
                  <a:latin typeface="Calibri"/>
                  <a:ea typeface="宋体"/>
                </a:rPr>
                <a:t>第二节 幼儿园教师的素质要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1" name="Group 16"/>
          <p:cNvGrpSpPr/>
          <p:nvPr/>
        </p:nvGrpSpPr>
        <p:grpSpPr>
          <a:xfrm>
            <a:off x="2712960" y="3071880"/>
            <a:ext cx="243000" cy="250920"/>
            <a:chOff x="2712960" y="3071880"/>
            <a:chExt cx="243000" cy="250920"/>
          </a:xfrm>
        </p:grpSpPr>
        <p:pic>
          <p:nvPicPr>
            <p:cNvPr id="1112" name="椭圆 36" descr=""/>
            <p:cNvPicPr/>
            <p:nvPr/>
          </p:nvPicPr>
          <p:blipFill>
            <a:blip r:embed="rId3"/>
            <a:stretch/>
          </p:blipFill>
          <p:spPr>
            <a:xfrm>
              <a:off x="2712960" y="3071880"/>
              <a:ext cx="243000" cy="2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3" name="Text Box 18"/>
            <p:cNvSpPr/>
            <p:nvPr/>
          </p:nvSpPr>
          <p:spPr>
            <a:xfrm>
              <a:off x="2759040" y="3120840"/>
              <a:ext cx="1522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4" name="Group 21"/>
          <p:cNvGrpSpPr/>
          <p:nvPr/>
        </p:nvGrpSpPr>
        <p:grpSpPr>
          <a:xfrm>
            <a:off x="2484360" y="3933720"/>
            <a:ext cx="4896000" cy="432000"/>
            <a:chOff x="2484360" y="3933720"/>
            <a:chExt cx="4896000" cy="432000"/>
          </a:xfrm>
        </p:grpSpPr>
        <p:pic>
          <p:nvPicPr>
            <p:cNvPr id="1115" name="圆角矩形 43" descr=""/>
            <p:cNvPicPr/>
            <p:nvPr/>
          </p:nvPicPr>
          <p:blipFill>
            <a:blip r:embed="rId4"/>
            <a:stretch/>
          </p:blipFill>
          <p:spPr>
            <a:xfrm>
              <a:off x="2484360" y="3933720"/>
              <a:ext cx="489600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6" name="Text Box 23"/>
            <p:cNvSpPr/>
            <p:nvPr/>
          </p:nvSpPr>
          <p:spPr>
            <a:xfrm>
              <a:off x="2558160" y="4007520"/>
              <a:ext cx="47502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d0d0d"/>
                  </a:solidFill>
                  <a:latin typeface="Calibri"/>
                  <a:ea typeface="宋体"/>
                </a:rPr>
                <a:t>      </a:t>
              </a:r>
              <a:r>
                <a:rPr b="1" lang="zh-CN" sz="1800" spc="-1" strike="noStrike">
                  <a:solidFill>
                    <a:srgbClr val="0d0d0d"/>
                  </a:solidFill>
                  <a:latin typeface="Calibri"/>
                  <a:ea typeface="宋体"/>
                </a:rPr>
                <a:t>第三节 幼儿园教师的分工与职责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7" name="Group 26"/>
          <p:cNvGrpSpPr/>
          <p:nvPr/>
        </p:nvGrpSpPr>
        <p:grpSpPr>
          <a:xfrm>
            <a:off x="2712960" y="4011480"/>
            <a:ext cx="243000" cy="249480"/>
            <a:chOff x="2712960" y="4011480"/>
            <a:chExt cx="243000" cy="249480"/>
          </a:xfrm>
        </p:grpSpPr>
        <p:pic>
          <p:nvPicPr>
            <p:cNvPr id="1118" name="椭圆 42" descr=""/>
            <p:cNvPicPr/>
            <p:nvPr/>
          </p:nvPicPr>
          <p:blipFill>
            <a:blip r:embed="rId5"/>
            <a:stretch/>
          </p:blipFill>
          <p:spPr>
            <a:xfrm>
              <a:off x="2712960" y="4011480"/>
              <a:ext cx="243000" cy="2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9" name="Text Box 28"/>
            <p:cNvSpPr/>
            <p:nvPr/>
          </p:nvSpPr>
          <p:spPr>
            <a:xfrm>
              <a:off x="2759040" y="4061160"/>
              <a:ext cx="15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0" name="圆角矩形 49"/>
          <p:cNvGrpSpPr/>
          <p:nvPr/>
        </p:nvGrpSpPr>
        <p:grpSpPr>
          <a:xfrm>
            <a:off x="2487600" y="4863960"/>
            <a:ext cx="4894200" cy="433440"/>
            <a:chOff x="2487600" y="4863960"/>
            <a:chExt cx="4894200" cy="433440"/>
          </a:xfrm>
        </p:grpSpPr>
        <p:pic>
          <p:nvPicPr>
            <p:cNvPr id="1121" name="圆角矩形 49" descr=""/>
            <p:cNvPicPr/>
            <p:nvPr/>
          </p:nvPicPr>
          <p:blipFill>
            <a:blip r:embed="rId6"/>
            <a:stretch/>
          </p:blipFill>
          <p:spPr>
            <a:xfrm>
              <a:off x="2487600" y="4863960"/>
              <a:ext cx="489420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>
              <a:off x="2557440" y="4937040"/>
              <a:ext cx="47512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d0d0d"/>
                  </a:solidFill>
                  <a:latin typeface="Calibri"/>
                  <a:ea typeface="宋体"/>
                </a:rPr>
                <a:t>      </a:t>
              </a:r>
              <a:r>
                <a:rPr b="1" lang="zh-CN" sz="1800" spc="-1" strike="noStrike">
                  <a:solidFill>
                    <a:srgbClr val="0d0d0d"/>
                  </a:solidFill>
                  <a:latin typeface="Calibri"/>
                  <a:ea typeface="宋体"/>
                </a:rPr>
                <a:t>第四节 幼儿园教师人际关系管理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3" name="Group 34"/>
          <p:cNvGrpSpPr/>
          <p:nvPr/>
        </p:nvGrpSpPr>
        <p:grpSpPr>
          <a:xfrm>
            <a:off x="2712960" y="4956120"/>
            <a:ext cx="243000" cy="243000"/>
            <a:chOff x="2712960" y="4956120"/>
            <a:chExt cx="243000" cy="243000"/>
          </a:xfrm>
        </p:grpSpPr>
        <p:pic>
          <p:nvPicPr>
            <p:cNvPr id="1124" name="椭圆 48" descr=""/>
            <p:cNvPicPr/>
            <p:nvPr/>
          </p:nvPicPr>
          <p:blipFill>
            <a:blip r:embed="rId7"/>
            <a:stretch/>
          </p:blipFill>
          <p:spPr>
            <a:xfrm>
              <a:off x="2712960" y="4956120"/>
              <a:ext cx="24300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Text Box 36"/>
            <p:cNvSpPr/>
            <p:nvPr/>
          </p:nvSpPr>
          <p:spPr>
            <a:xfrm>
              <a:off x="2759040" y="500040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cover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矩形 1"/>
          <p:cNvSpPr/>
          <p:nvPr/>
        </p:nvSpPr>
        <p:spPr>
          <a:xfrm>
            <a:off x="2046240" y="11253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二、广博的科学文化知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矩形 2"/>
          <p:cNvSpPr/>
          <p:nvPr/>
        </p:nvSpPr>
        <p:spPr>
          <a:xfrm>
            <a:off x="826920" y="1628640"/>
            <a:ext cx="741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熟悉并掌握幼儿教育学、心理学专业理论，了解当前的各种幼儿教育模式，具有参与幼儿教育改革和教育科研活动的能力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熟练掌握幼儿智力训练的各种教育技能及各科教学法，能有效利用幼儿的身心发展特点及其兴趣和爱好，以创造性的教学方法开发幼儿的智力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具有较好的组织和管理才能，能管理和组织好班级活动，有效进行集体教育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掌握幼儿卫生保健理论，懂得营养学和常见病，传染病和外伤的简易处理知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6" name="图示 4" descr=""/>
          <p:cNvPicPr/>
          <p:nvPr/>
        </p:nvPicPr>
        <p:blipFill>
          <a:blip r:embed="rId1"/>
          <a:stretch/>
        </p:blipFill>
        <p:spPr>
          <a:xfrm>
            <a:off x="1620720" y="1762200"/>
            <a:ext cx="6048360" cy="4278240"/>
          </a:xfrm>
          <a:prstGeom prst="rect">
            <a:avLst/>
          </a:prstGeom>
          <a:ln w="0">
            <a:noFill/>
          </a:ln>
        </p:spPr>
      </p:pic>
      <p:sp>
        <p:nvSpPr>
          <p:cNvPr id="1217" name="矩形 2"/>
          <p:cNvSpPr/>
          <p:nvPr/>
        </p:nvSpPr>
        <p:spPr>
          <a:xfrm>
            <a:off x="611280" y="1197000"/>
            <a:ext cx="54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三、较好的艺体教学及组织幼儿艺体活动的能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矩形 4"/>
          <p:cNvSpPr/>
          <p:nvPr/>
        </p:nvSpPr>
        <p:spPr>
          <a:xfrm>
            <a:off x="566640" y="1700280"/>
            <a:ext cx="758376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健康的身体是搞好幼儿教育工作的重要保证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教师的心理素质影响幼儿的个性品质形成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具有优秀心理素质的教师，其工作方式倾向于民主型，心胸开朗，思维敏捷，情绪稳定，善于自制，对幼儿充满热情，工作主动，处事机智灵活，所任教班级幼儿大多守纪律，有礼貌，与人亲近，能友好相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幼儿教师必须加强身心修养，在幼儿面前，展现出自身的人格魅力，以获得幼儿的信赖和喜爱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矩形 1"/>
          <p:cNvSpPr/>
          <p:nvPr/>
        </p:nvSpPr>
        <p:spPr>
          <a:xfrm>
            <a:off x="1527840" y="11253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四、健康的身心素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矩形 1"/>
          <p:cNvSpPr/>
          <p:nvPr/>
        </p:nvSpPr>
        <p:spPr>
          <a:xfrm>
            <a:off x="1527840" y="11253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五、扎实的教育能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1" name="图示 3" descr=""/>
          <p:cNvPicPr/>
          <p:nvPr/>
        </p:nvPicPr>
        <p:blipFill>
          <a:blip r:embed="rId1"/>
          <a:stretch/>
        </p:blipFill>
        <p:spPr>
          <a:xfrm>
            <a:off x="817560" y="1773360"/>
            <a:ext cx="7508880" cy="40305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2" name="Group 21"/>
          <p:cNvGrpSpPr/>
          <p:nvPr/>
        </p:nvGrpSpPr>
        <p:grpSpPr>
          <a:xfrm>
            <a:off x="2471760" y="3357720"/>
            <a:ext cx="4621320" cy="431640"/>
            <a:chOff x="2471760" y="3357720"/>
            <a:chExt cx="4621320" cy="431640"/>
          </a:xfrm>
        </p:grpSpPr>
        <p:pic>
          <p:nvPicPr>
            <p:cNvPr id="1223" name="圆角矩形 43" descr=""/>
            <p:cNvPicPr/>
            <p:nvPr/>
          </p:nvPicPr>
          <p:blipFill>
            <a:blip r:embed="rId1"/>
            <a:stretch/>
          </p:blipFill>
          <p:spPr>
            <a:xfrm>
              <a:off x="2471760" y="3357720"/>
              <a:ext cx="46213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4" name="Text Box 23"/>
            <p:cNvSpPr/>
            <p:nvPr/>
          </p:nvSpPr>
          <p:spPr>
            <a:xfrm>
              <a:off x="2541240" y="3431520"/>
              <a:ext cx="4483440" cy="2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d0d0d"/>
                  </a:solidFill>
                  <a:latin typeface="Calibri"/>
                  <a:ea typeface="宋体"/>
                </a:rPr>
                <a:t>      </a:t>
              </a:r>
              <a:r>
                <a:rPr b="1" lang="zh-CN" sz="1800" spc="-1" strike="noStrike">
                  <a:solidFill>
                    <a:srgbClr val="0d0d0d"/>
                  </a:solidFill>
                  <a:latin typeface="Calibri"/>
                  <a:ea typeface="宋体"/>
                </a:rPr>
                <a:t>第三节 幼儿园教师的分工与职责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5" name="Group 26"/>
          <p:cNvGrpSpPr/>
          <p:nvPr/>
        </p:nvGrpSpPr>
        <p:grpSpPr>
          <a:xfrm>
            <a:off x="2700360" y="3435480"/>
            <a:ext cx="243000" cy="249120"/>
            <a:chOff x="2700360" y="3435480"/>
            <a:chExt cx="243000" cy="249120"/>
          </a:xfrm>
        </p:grpSpPr>
        <p:pic>
          <p:nvPicPr>
            <p:cNvPr id="1226" name="椭圆 42" descr=""/>
            <p:cNvPicPr/>
            <p:nvPr/>
          </p:nvPicPr>
          <p:blipFill>
            <a:blip r:embed="rId2"/>
            <a:stretch/>
          </p:blipFill>
          <p:spPr>
            <a:xfrm>
              <a:off x="2700360" y="3435480"/>
              <a:ext cx="243000" cy="24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7" name="Text Box 28"/>
            <p:cNvSpPr/>
            <p:nvPr/>
          </p:nvSpPr>
          <p:spPr>
            <a:xfrm>
              <a:off x="2746440" y="348516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cover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8" name="图示 7" descr=""/>
          <p:cNvPicPr/>
          <p:nvPr/>
        </p:nvPicPr>
        <p:blipFill>
          <a:blip r:embed="rId1"/>
          <a:stretch/>
        </p:blipFill>
        <p:spPr>
          <a:xfrm>
            <a:off x="1096920" y="1689120"/>
            <a:ext cx="7236000" cy="4559400"/>
          </a:xfrm>
          <a:prstGeom prst="rect">
            <a:avLst/>
          </a:prstGeom>
          <a:ln w="0">
            <a:noFill/>
          </a:ln>
        </p:spPr>
      </p:pic>
      <p:sp>
        <p:nvSpPr>
          <p:cNvPr id="1229" name="矩形 1"/>
          <p:cNvSpPr/>
          <p:nvPr/>
        </p:nvSpPr>
        <p:spPr>
          <a:xfrm>
            <a:off x="1197360" y="1125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一、幼儿园班级教师的基本配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矩形 1"/>
          <p:cNvSpPr/>
          <p:nvPr/>
        </p:nvSpPr>
        <p:spPr>
          <a:xfrm>
            <a:off x="2114280" y="11253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主班教师的选拔及工作职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1" name="图示 3" descr=""/>
          <p:cNvPicPr/>
          <p:nvPr/>
        </p:nvPicPr>
        <p:blipFill>
          <a:blip r:embed="rId1"/>
          <a:stretch/>
        </p:blipFill>
        <p:spPr>
          <a:xfrm>
            <a:off x="1316160" y="1884240"/>
            <a:ext cx="6937200" cy="4424400"/>
          </a:xfrm>
          <a:prstGeom prst="rect">
            <a:avLst/>
          </a:prstGeom>
          <a:ln w="0">
            <a:noFill/>
          </a:ln>
        </p:spPr>
      </p:pic>
      <p:sp>
        <p:nvSpPr>
          <p:cNvPr id="1232" name="矩形 1"/>
          <p:cNvSpPr/>
          <p:nvPr/>
        </p:nvSpPr>
        <p:spPr>
          <a:xfrm>
            <a:off x="1152000" y="17017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主班教师的选拔条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矩形 1"/>
          <p:cNvSpPr/>
          <p:nvPr/>
        </p:nvSpPr>
        <p:spPr>
          <a:xfrm>
            <a:off x="2114280" y="11253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主班教师的选拔及工作职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4" name="图示 3" descr=""/>
          <p:cNvPicPr/>
          <p:nvPr/>
        </p:nvPicPr>
        <p:blipFill>
          <a:blip r:embed="rId1"/>
          <a:stretch/>
        </p:blipFill>
        <p:spPr>
          <a:xfrm>
            <a:off x="1316160" y="1884240"/>
            <a:ext cx="6937200" cy="4424400"/>
          </a:xfrm>
          <a:prstGeom prst="rect">
            <a:avLst/>
          </a:prstGeom>
          <a:ln w="0">
            <a:noFill/>
          </a:ln>
        </p:spPr>
      </p:pic>
      <p:sp>
        <p:nvSpPr>
          <p:cNvPr id="1235" name="矩形 1"/>
          <p:cNvSpPr/>
          <p:nvPr/>
        </p:nvSpPr>
        <p:spPr>
          <a:xfrm>
            <a:off x="1152000" y="17017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主班教师的工作职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6" name="圆角矩形 49"/>
          <p:cNvGrpSpPr/>
          <p:nvPr/>
        </p:nvGrpSpPr>
        <p:grpSpPr>
          <a:xfrm>
            <a:off x="2487600" y="3571920"/>
            <a:ext cx="4546440" cy="426960"/>
            <a:chOff x="2487600" y="3571920"/>
            <a:chExt cx="4546440" cy="426960"/>
          </a:xfrm>
        </p:grpSpPr>
        <p:pic>
          <p:nvPicPr>
            <p:cNvPr id="1237" name="圆角矩形 49" descr=""/>
            <p:cNvPicPr/>
            <p:nvPr/>
          </p:nvPicPr>
          <p:blipFill>
            <a:blip r:embed="rId1"/>
            <a:stretch/>
          </p:blipFill>
          <p:spPr>
            <a:xfrm>
              <a:off x="2487600" y="3571920"/>
              <a:ext cx="45464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8" name=""/>
            <p:cNvSpPr/>
            <p:nvPr/>
          </p:nvSpPr>
          <p:spPr>
            <a:xfrm>
              <a:off x="2557440" y="3641760"/>
              <a:ext cx="44038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d0d0d"/>
                  </a:solidFill>
                  <a:latin typeface="Calibri"/>
                  <a:ea typeface="宋体"/>
                </a:rPr>
                <a:t>      </a:t>
              </a:r>
              <a:r>
                <a:rPr b="1" lang="zh-CN" sz="1800" spc="-1" strike="noStrike">
                  <a:solidFill>
                    <a:srgbClr val="0d0d0d"/>
                  </a:solidFill>
                  <a:latin typeface="Calibri"/>
                  <a:ea typeface="宋体"/>
                </a:rPr>
                <a:t>第四节 幼儿园教师人际关系管理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9" name="Group 34"/>
          <p:cNvGrpSpPr/>
          <p:nvPr/>
        </p:nvGrpSpPr>
        <p:grpSpPr>
          <a:xfrm>
            <a:off x="2700360" y="3645000"/>
            <a:ext cx="243000" cy="242640"/>
            <a:chOff x="2700360" y="3645000"/>
            <a:chExt cx="243000" cy="242640"/>
          </a:xfrm>
        </p:grpSpPr>
        <p:pic>
          <p:nvPicPr>
            <p:cNvPr id="1240" name="椭圆 48" descr=""/>
            <p:cNvPicPr/>
            <p:nvPr/>
          </p:nvPicPr>
          <p:blipFill>
            <a:blip r:embed="rId2"/>
            <a:stretch/>
          </p:blipFill>
          <p:spPr>
            <a:xfrm>
              <a:off x="2700360" y="3645000"/>
              <a:ext cx="243000" cy="2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1" name="Text Box 36"/>
            <p:cNvSpPr/>
            <p:nvPr/>
          </p:nvSpPr>
          <p:spPr>
            <a:xfrm>
              <a:off x="2746440" y="3689280"/>
              <a:ext cx="152280" cy="15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cover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矩形 1"/>
          <p:cNvSpPr/>
          <p:nvPr/>
        </p:nvSpPr>
        <p:spPr>
          <a:xfrm>
            <a:off x="1805760" y="112536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一、教师与教师之间的人际关系对幼儿身心成长具有重要影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Rectangle 1"/>
          <p:cNvSpPr/>
          <p:nvPr/>
        </p:nvSpPr>
        <p:spPr>
          <a:xfrm>
            <a:off x="633240" y="2867040"/>
            <a:ext cx="7991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5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首先，教师间的人际关系是幼儿同伴交往和发出社会行为的重要榜样。教师教给幼儿要互相关心、帮助、抚慰、进行合作等行为，如果教师自己也做到了，那幼儿就更容易产生这种行为方式并且长期稳定下来；反之，如果教师之间是漠不关心、人情冷，那么教师在怎么强调培养孩子的爱心、同情心，其效果势必也会大打折扣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其次，教师间的交往涉及到班级、幼儿园是否具有良好的心理气氛。教师间如果相互关心、相互帮助，这还会给班、园带来一种温情的气氛，容易激发出积极性的社会性行为。幼儿也会从中耳闻目染，不仅学会体察别人的情绪情感，也能学会正确、适宜的行为方式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Lucida Sans"/>
              </a:rPr>
              <a:t>学习目标</a:t>
            </a:r>
            <a:endParaRPr b="1" lang="en-US" sz="2800" spc="-1" strike="noStrike">
              <a:solidFill>
                <a:srgbClr val="0d0d0d"/>
              </a:solidFill>
              <a:latin typeface="Lucida Sans"/>
            </a:endParaRPr>
          </a:p>
        </p:txBody>
      </p:sp>
      <p:grpSp>
        <p:nvGrpSpPr>
          <p:cNvPr id="1127" name="Group 3"/>
          <p:cNvGrpSpPr/>
          <p:nvPr/>
        </p:nvGrpSpPr>
        <p:grpSpPr>
          <a:xfrm>
            <a:off x="844560" y="3475080"/>
            <a:ext cx="2770200" cy="1360440"/>
            <a:chOff x="844560" y="3475080"/>
            <a:chExt cx="2770200" cy="1360440"/>
          </a:xfrm>
        </p:grpSpPr>
        <p:sp>
          <p:nvSpPr>
            <p:cNvPr id="1128" name="矩形 3"/>
            <p:cNvSpPr/>
            <p:nvPr/>
          </p:nvSpPr>
          <p:spPr>
            <a:xfrm>
              <a:off x="844560" y="3475080"/>
              <a:ext cx="2770200" cy="1360440"/>
            </a:xfrm>
            <a:prstGeom prst="rect">
              <a:avLst/>
            </a:prstGeom>
            <a:solidFill>
              <a:srgbClr val="9eca06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矩形 5"/>
            <p:cNvSpPr/>
            <p:nvPr/>
          </p:nvSpPr>
          <p:spPr>
            <a:xfrm>
              <a:off x="943200" y="3565440"/>
              <a:ext cx="2572560" cy="108756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e1fb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1.</a:t>
              </a: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掌握幼儿园保教人员的基本职责和要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0" name="Group 9"/>
          <p:cNvGrpSpPr/>
          <p:nvPr/>
        </p:nvGrpSpPr>
        <p:grpSpPr>
          <a:xfrm>
            <a:off x="5487840" y="3417840"/>
            <a:ext cx="2770200" cy="1417680"/>
            <a:chOff x="5487840" y="3417840"/>
            <a:chExt cx="2770200" cy="1417680"/>
          </a:xfrm>
        </p:grpSpPr>
        <p:sp>
          <p:nvSpPr>
            <p:cNvPr id="1131" name="矩形 12"/>
            <p:cNvSpPr/>
            <p:nvPr/>
          </p:nvSpPr>
          <p:spPr>
            <a:xfrm>
              <a:off x="5487840" y="3417840"/>
              <a:ext cx="2770200" cy="1417680"/>
            </a:xfrm>
            <a:prstGeom prst="rect">
              <a:avLst/>
            </a:prstGeom>
            <a:solidFill>
              <a:srgbClr val="ffa902"/>
            </a:solidFill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矩形 14"/>
            <p:cNvSpPr/>
            <p:nvPr/>
          </p:nvSpPr>
          <p:spPr>
            <a:xfrm>
              <a:off x="5586480" y="3502080"/>
              <a:ext cx="2572560" cy="115092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ffd1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2.</a:t>
              </a: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掌握幼儿园教师的素质要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3" name="左右箭头 18"/>
          <p:cNvSpPr/>
          <p:nvPr/>
        </p:nvSpPr>
        <p:spPr>
          <a:xfrm>
            <a:off x="3774960" y="3125880"/>
            <a:ext cx="1582920" cy="1869840"/>
          </a:xfrm>
          <a:prstGeom prst="leftRightArrow">
            <a:avLst>
              <a:gd name="adj1" fmla="val 66056"/>
              <a:gd name="adj2" fmla="val 26644"/>
            </a:avLst>
          </a:prstGeom>
          <a:solidFill>
            <a:srgbClr val="9eca06"/>
          </a:solidFill>
          <a:ln w="25560">
            <a:solidFill>
              <a:srgbClr val="9ec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矩形 1"/>
          <p:cNvSpPr/>
          <p:nvPr/>
        </p:nvSpPr>
        <p:spPr>
          <a:xfrm>
            <a:off x="3489840" y="11253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幼儿园班级管理中教师间建立和谐的人际关系的必要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5" name="图示 3" descr=""/>
          <p:cNvPicPr/>
          <p:nvPr/>
        </p:nvPicPr>
        <p:blipFill>
          <a:blip r:embed="rId1"/>
          <a:stretch/>
        </p:blipFill>
        <p:spPr>
          <a:xfrm>
            <a:off x="890640" y="1700280"/>
            <a:ext cx="6937200" cy="44258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6" name="右箭头 2"/>
          <p:cNvGrpSpPr/>
          <p:nvPr/>
        </p:nvGrpSpPr>
        <p:grpSpPr>
          <a:xfrm>
            <a:off x="2097000" y="2567160"/>
            <a:ext cx="1109880" cy="2376360"/>
            <a:chOff x="2097000" y="2567160"/>
            <a:chExt cx="1109880" cy="2376360"/>
          </a:xfrm>
        </p:grpSpPr>
        <p:pic>
          <p:nvPicPr>
            <p:cNvPr id="1247" name="右箭头 2" descr=""/>
            <p:cNvPicPr/>
            <p:nvPr/>
          </p:nvPicPr>
          <p:blipFill>
            <a:blip r:embed="rId1"/>
            <a:stretch/>
          </p:blipFill>
          <p:spPr>
            <a:xfrm>
              <a:off x="2097000" y="2567160"/>
              <a:ext cx="110988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8" name=""/>
            <p:cNvSpPr/>
            <p:nvPr/>
          </p:nvSpPr>
          <p:spPr>
            <a:xfrm>
              <a:off x="2097000" y="3029040"/>
              <a:ext cx="76860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9" name="Group 4"/>
          <p:cNvGrpSpPr/>
          <p:nvPr/>
        </p:nvGrpSpPr>
        <p:grpSpPr>
          <a:xfrm>
            <a:off x="539640" y="1814400"/>
            <a:ext cx="1654200" cy="2184480"/>
            <a:chOff x="539640" y="1814400"/>
            <a:chExt cx="1654200" cy="2184480"/>
          </a:xfrm>
        </p:grpSpPr>
        <p:sp>
          <p:nvSpPr>
            <p:cNvPr id="1250" name="矩形 4"/>
            <p:cNvSpPr/>
            <p:nvPr/>
          </p:nvSpPr>
          <p:spPr>
            <a:xfrm>
              <a:off x="1267200" y="3018960"/>
              <a:ext cx="156960" cy="979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51" name="Group 6"/>
            <p:cNvGrpSpPr/>
            <p:nvPr/>
          </p:nvGrpSpPr>
          <p:grpSpPr>
            <a:xfrm>
              <a:off x="539640" y="1814400"/>
              <a:ext cx="1654200" cy="1585440"/>
              <a:chOff x="539640" y="1814400"/>
              <a:chExt cx="1654200" cy="1585440"/>
            </a:xfrm>
          </p:grpSpPr>
          <p:sp>
            <p:nvSpPr>
              <p:cNvPr id="1252" name="椭圆 11"/>
              <p:cNvSpPr/>
              <p:nvPr/>
            </p:nvSpPr>
            <p:spPr>
              <a:xfrm>
                <a:off x="539640" y="1814400"/>
                <a:ext cx="1654200" cy="1585440"/>
              </a:xfrm>
              <a:prstGeom prst="ellipse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3" name="椭圆 3"/>
              <p:cNvSpPr/>
              <p:nvPr/>
            </p:nvSpPr>
            <p:spPr>
              <a:xfrm>
                <a:off x="608400" y="1880280"/>
                <a:ext cx="1516320" cy="1453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4" name="椭圆 13"/>
              <p:cNvSpPr/>
              <p:nvPr/>
            </p:nvSpPr>
            <p:spPr>
              <a:xfrm>
                <a:off x="645120" y="1915560"/>
                <a:ext cx="1442880" cy="1382760"/>
              </a:xfrm>
              <a:prstGeom prst="ellipse">
                <a:avLst/>
              </a:prstGeom>
              <a:solidFill>
                <a:srgbClr val="44b093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例子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55" name="矩形 7"/>
            <p:cNvSpPr/>
            <p:nvPr/>
          </p:nvSpPr>
          <p:spPr>
            <a:xfrm flipV="1">
              <a:off x="1167840" y="3521880"/>
              <a:ext cx="355680" cy="1227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6" name="圆角矩形 14"/>
          <p:cNvSpPr/>
          <p:nvPr/>
        </p:nvSpPr>
        <p:spPr>
          <a:xfrm>
            <a:off x="3203640" y="1916280"/>
            <a:ext cx="5472000" cy="3612960"/>
          </a:xfrm>
          <a:prstGeom prst="roundRect">
            <a:avLst>
              <a:gd name="adj" fmla="val 9685"/>
            </a:avLst>
          </a:prstGeom>
          <a:noFill/>
          <a:ln w="76320">
            <a:solidFill>
              <a:srgbClr val="9ec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TextBox 58"/>
          <p:cNvSpPr/>
          <p:nvPr/>
        </p:nvSpPr>
        <p:spPr>
          <a:xfrm>
            <a:off x="3276720" y="2449440"/>
            <a:ext cx="547200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弄清自己的角色。不同的角色有不同的职责，决定了你的立场和处事方式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相互尊重。要想赢得别人的尊重，首先要学会尊重别人，包括尊重对方的隐私和劳动成果，等等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遵守规则。每个游戏都有规则，职场也不例外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大局观念。与同事发生矛盾时，要站在大局的角度考虑问题，学会忍耐和包容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保持距离。与领导、同事和客户都要保持适当距离，不搞小团体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Group 6" descr=""/>
          <p:cNvPicPr/>
          <p:nvPr/>
        </p:nvPicPr>
        <p:blipFill>
          <a:blip r:embed="rId2"/>
          <a:stretch/>
        </p:blipFill>
        <p:spPr>
          <a:xfrm>
            <a:off x="530280" y="4048200"/>
            <a:ext cx="165240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矩形 1"/>
          <p:cNvSpPr/>
          <p:nvPr/>
        </p:nvSpPr>
        <p:spPr>
          <a:xfrm>
            <a:off x="539640" y="1176480"/>
            <a:ext cx="56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三、幼儿园班级管理中教师与教师之间的人际关系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0" name="图示 3" descr=""/>
          <p:cNvPicPr/>
          <p:nvPr/>
        </p:nvPicPr>
        <p:blipFill>
          <a:blip r:embed="rId1"/>
          <a:stretch/>
        </p:blipFill>
        <p:spPr>
          <a:xfrm>
            <a:off x="785880" y="1596960"/>
            <a:ext cx="7974000" cy="46278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1907640" y="1052280"/>
            <a:ext cx="1584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Lucida Sans"/>
              </a:rPr>
              <a:t>经典回味</a:t>
            </a:r>
            <a:endParaRPr b="1" lang="en-US" sz="2400" spc="-1" strike="noStrike">
              <a:solidFill>
                <a:srgbClr val="0d0d0d"/>
              </a:solidFill>
              <a:latin typeface="Lucida Sans"/>
            </a:endParaRPr>
          </a:p>
        </p:txBody>
      </p:sp>
      <p:grpSp>
        <p:nvGrpSpPr>
          <p:cNvPr id="1262" name="Group 3"/>
          <p:cNvGrpSpPr/>
          <p:nvPr/>
        </p:nvGrpSpPr>
        <p:grpSpPr>
          <a:xfrm>
            <a:off x="394920" y="950400"/>
            <a:ext cx="1297080" cy="808560"/>
            <a:chOff x="394920" y="950400"/>
            <a:chExt cx="1297080" cy="808560"/>
          </a:xfrm>
        </p:grpSpPr>
        <p:grpSp>
          <p:nvGrpSpPr>
            <p:cNvPr id="1263" name="Group 4"/>
            <p:cNvGrpSpPr/>
            <p:nvPr/>
          </p:nvGrpSpPr>
          <p:grpSpPr>
            <a:xfrm>
              <a:off x="394920" y="950400"/>
              <a:ext cx="1297080" cy="808560"/>
              <a:chOff x="394920" y="950400"/>
              <a:chExt cx="1297080" cy="808560"/>
            </a:xfrm>
          </p:grpSpPr>
          <p:sp>
            <p:nvSpPr>
              <p:cNvPr id="1264" name="椭圆 2"/>
              <p:cNvSpPr/>
              <p:nvPr/>
            </p:nvSpPr>
            <p:spPr>
              <a:xfrm>
                <a:off x="445320" y="1125360"/>
                <a:ext cx="1175760" cy="45324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5" name="椭圆 11"/>
              <p:cNvSpPr/>
              <p:nvPr/>
            </p:nvSpPr>
            <p:spPr>
              <a:xfrm flipH="1">
                <a:off x="394560" y="1210680"/>
                <a:ext cx="183960" cy="7092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58ad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6" name="椭圆 12"/>
              <p:cNvSpPr/>
              <p:nvPr/>
            </p:nvSpPr>
            <p:spPr>
              <a:xfrm flipH="1">
                <a:off x="1507680" y="1207440"/>
                <a:ext cx="183960" cy="7092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7" name="椭圆 13"/>
              <p:cNvSpPr/>
              <p:nvPr/>
            </p:nvSpPr>
            <p:spPr>
              <a:xfrm flipH="1">
                <a:off x="955080" y="1557720"/>
                <a:ext cx="183960" cy="7092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4a9c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68" name="Group 9"/>
              <p:cNvGrpSpPr/>
              <p:nvPr/>
            </p:nvGrpSpPr>
            <p:grpSpPr>
              <a:xfrm>
                <a:off x="525960" y="950400"/>
                <a:ext cx="1038960" cy="808560"/>
                <a:chOff x="525960" y="950400"/>
                <a:chExt cx="1038960" cy="808560"/>
              </a:xfrm>
            </p:grpSpPr>
            <p:grpSp>
              <p:nvGrpSpPr>
                <p:cNvPr id="1269" name="Group 10"/>
                <p:cNvGrpSpPr/>
                <p:nvPr/>
              </p:nvGrpSpPr>
              <p:grpSpPr>
                <a:xfrm>
                  <a:off x="554400" y="1163880"/>
                  <a:ext cx="961560" cy="371160"/>
                  <a:chOff x="554400" y="1163880"/>
                  <a:chExt cx="961560" cy="371160"/>
                </a:xfrm>
              </p:grpSpPr>
              <p:sp>
                <p:nvSpPr>
                  <p:cNvPr id="1270" name="饼形 7"/>
                  <p:cNvSpPr/>
                  <p:nvPr/>
                </p:nvSpPr>
                <p:spPr>
                  <a:xfrm>
                    <a:off x="554400" y="1163880"/>
                    <a:ext cx="961560" cy="371160"/>
                  </a:xfrm>
                  <a:custGeom>
                    <a:avLst/>
                    <a:gdLst>
                      <a:gd name="textAreaLeft" fmla="*/ 0 w 961560"/>
                      <a:gd name="textAreaRight" fmla="*/ 961920 w 961560"/>
                      <a:gd name="textAreaTop" fmla="*/ 0 h 371160"/>
                      <a:gd name="textAreaBottom" fmla="*/ 371520 h 371160"/>
                    </a:gdLst>
                    <a:ahLst/>
                    <a:rect l="textAreaLeft" t="textAreaTop" r="textAreaRight" b="textAreaBottom"/>
                    <a:pathLst>
                      <a:path w="3183471" h="3184418">
                        <a:moveTo>
                          <a:pt x="184991" y="2337207"/>
                        </a:moveTo>
                        <a:cubicBezTo>
                          <a:pt x="-76166" y="1843782"/>
                          <a:pt x="-59876" y="1249578"/>
                          <a:pt x="227923" y="771212"/>
                        </a:cubicBezTo>
                        <a:cubicBezTo>
                          <a:pt x="515835" y="292659"/>
                          <a:pt x="1033372" y="1"/>
                          <a:pt x="1591736" y="1"/>
                        </a:cubicBezTo>
                        <a:lnTo>
                          <a:pt x="1591736" y="1592209"/>
                        </a:lnTo>
                        <a:lnTo>
                          <a:pt x="184991" y="2337207"/>
                        </a:lnTo>
                        <a:close/>
                      </a:path>
                    </a:pathLst>
                  </a:custGeom>
                  <a:solidFill>
                    <a:srgbClr val="58ad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71" name="饼形 8"/>
                  <p:cNvSpPr/>
                  <p:nvPr/>
                </p:nvSpPr>
                <p:spPr>
                  <a:xfrm>
                    <a:off x="703080" y="1219320"/>
                    <a:ext cx="680040" cy="26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51453" h="2252587">
                        <a:moveTo>
                          <a:pt x="130787" y="1653203"/>
                        </a:moveTo>
                        <a:cubicBezTo>
                          <a:pt x="-53849" y="1304212"/>
                          <a:pt x="-42332" y="883969"/>
                          <a:pt x="161142" y="545625"/>
                        </a:cubicBezTo>
                        <a:cubicBezTo>
                          <a:pt x="364750" y="207057"/>
                          <a:pt x="730798" y="-1"/>
                          <a:pt x="1125728" y="-1"/>
                        </a:cubicBezTo>
                        <a:cubicBezTo>
                          <a:pt x="1125728" y="375431"/>
                          <a:pt x="1125727" y="750862"/>
                          <a:pt x="1125727" y="1126294"/>
                        </a:cubicBezTo>
                        <a:lnTo>
                          <a:pt x="130787" y="165320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272" name="Group 13"/>
                <p:cNvGrpSpPr/>
                <p:nvPr/>
              </p:nvGrpSpPr>
              <p:grpSpPr>
                <a:xfrm>
                  <a:off x="546120" y="950400"/>
                  <a:ext cx="1018800" cy="800640"/>
                  <a:chOff x="546120" y="950400"/>
                  <a:chExt cx="1018800" cy="800640"/>
                </a:xfrm>
              </p:grpSpPr>
              <p:sp>
                <p:nvSpPr>
                  <p:cNvPr id="1273" name="饼形 21"/>
                  <p:cNvSpPr/>
                  <p:nvPr/>
                </p:nvSpPr>
                <p:spPr>
                  <a:xfrm rot="7192200">
                    <a:off x="869760" y="869760"/>
                    <a:ext cx="371160" cy="961560"/>
                  </a:xfrm>
                  <a:custGeom>
                    <a:avLst/>
                    <a:gdLst>
                      <a:gd name="textAreaLeft" fmla="*/ 0 w 371160"/>
                      <a:gd name="textAreaRight" fmla="*/ 371520 w 371160"/>
                      <a:gd name="textAreaTop" fmla="*/ 0 h 961560"/>
                      <a:gd name="textAreaBottom" fmla="*/ 961920 h 961560"/>
                    </a:gdLst>
                    <a:ahLst/>
                    <a:rect l="textAreaLeft" t="textAreaTop" r="textAreaRight" b="textAreaBottom"/>
                    <a:pathLst>
                      <a:path w="3184418" h="3183471">
                        <a:moveTo>
                          <a:pt x="185229" y="2336858"/>
                        </a:moveTo>
                        <a:cubicBezTo>
                          <a:pt x="-76262" y="1843389"/>
                          <a:pt x="-59953" y="1249020"/>
                          <a:pt x="228206" y="770624"/>
                        </a:cubicBezTo>
                        <a:cubicBezTo>
                          <a:pt x="516252" y="292416"/>
                          <a:pt x="1033828" y="0"/>
                          <a:pt x="1592209" y="0"/>
                        </a:cubicBezTo>
                        <a:lnTo>
                          <a:pt x="1592209" y="1591736"/>
                        </a:lnTo>
                        <a:lnTo>
                          <a:pt x="185229" y="2336858"/>
                        </a:lnTo>
                        <a:close/>
                      </a:path>
                    </a:pathLst>
                  </a:custGeom>
                  <a:solidFill>
                    <a:srgbClr val="ffa9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74" name="饼形 22"/>
                  <p:cNvSpPr/>
                  <p:nvPr/>
                </p:nvSpPr>
                <p:spPr>
                  <a:xfrm rot="7192200">
                    <a:off x="918720" y="1010880"/>
                    <a:ext cx="262800" cy="679680"/>
                  </a:xfrm>
                  <a:custGeom>
                    <a:avLst/>
                    <a:gdLst>
                      <a:gd name="textAreaLeft" fmla="*/ 0 w 262800"/>
                      <a:gd name="textAreaRight" fmla="*/ 262800 w 262800"/>
                      <a:gd name="textAreaTop" fmla="*/ 0 h 679680"/>
                      <a:gd name="textAreaBottom" fmla="*/ 680040 h 679680"/>
                    </a:gdLst>
                    <a:ahLst/>
                    <a:rect l="textAreaLeft" t="textAreaTop" r="textAreaRight" b="textAreaBottom"/>
                    <a:pathLst>
                      <a:path w="2252587" h="2249865">
                        <a:moveTo>
                          <a:pt x="217114" y="1788907"/>
                        </a:moveTo>
                        <a:cubicBezTo>
                          <a:pt x="-33417" y="1446684"/>
                          <a:pt x="-70040" y="992846"/>
                          <a:pt x="122381" y="614964"/>
                        </a:cubicBezTo>
                        <a:cubicBezTo>
                          <a:pt x="314517" y="237643"/>
                          <a:pt x="702464" y="-1"/>
                          <a:pt x="1126294" y="-1"/>
                        </a:cubicBezTo>
                        <a:lnTo>
                          <a:pt x="1126294" y="1124933"/>
                        </a:lnTo>
                        <a:lnTo>
                          <a:pt x="217114" y="178890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275" name="Group 16"/>
                <p:cNvGrpSpPr/>
                <p:nvPr/>
              </p:nvGrpSpPr>
              <p:grpSpPr>
                <a:xfrm>
                  <a:off x="525960" y="955440"/>
                  <a:ext cx="1018080" cy="803520"/>
                  <a:chOff x="525960" y="955440"/>
                  <a:chExt cx="1018080" cy="803520"/>
                </a:xfrm>
              </p:grpSpPr>
              <p:sp>
                <p:nvSpPr>
                  <p:cNvPr id="1276" name="饼形 19"/>
                  <p:cNvSpPr/>
                  <p:nvPr/>
                </p:nvSpPr>
                <p:spPr>
                  <a:xfrm rot="14392200">
                    <a:off x="849240" y="876240"/>
                    <a:ext cx="371160" cy="961560"/>
                  </a:xfrm>
                  <a:custGeom>
                    <a:avLst/>
                    <a:gdLst>
                      <a:gd name="textAreaLeft" fmla="*/ 0 w 371160"/>
                      <a:gd name="textAreaRight" fmla="*/ 371520 w 371160"/>
                      <a:gd name="textAreaTop" fmla="*/ 0 h 961560"/>
                      <a:gd name="textAreaBottom" fmla="*/ 961920 h 961560"/>
                    </a:gdLst>
                    <a:ahLst/>
                    <a:rect l="textAreaLeft" t="textAreaTop" r="textAreaRight" b="textAreaBottom"/>
                    <a:pathLst>
                      <a:path w="3186006" h="3183471">
                        <a:moveTo>
                          <a:pt x="185475" y="2337148"/>
                        </a:moveTo>
                        <a:cubicBezTo>
                          <a:pt x="-76362" y="1843519"/>
                          <a:pt x="-60032" y="1248863"/>
                          <a:pt x="228501" y="770324"/>
                        </a:cubicBezTo>
                        <a:cubicBezTo>
                          <a:pt x="516732" y="292286"/>
                          <a:pt x="1034469" y="0"/>
                          <a:pt x="1593003" y="0"/>
                        </a:cubicBezTo>
                        <a:lnTo>
                          <a:pt x="1593003" y="1591736"/>
                        </a:lnTo>
                        <a:lnTo>
                          <a:pt x="185475" y="2337148"/>
                        </a:lnTo>
                        <a:close/>
                      </a:path>
                    </a:pathLst>
                  </a:custGeom>
                  <a:solidFill>
                    <a:srgbClr val="4a9cd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77" name="饼形 15"/>
                  <p:cNvSpPr/>
                  <p:nvPr/>
                </p:nvSpPr>
                <p:spPr>
                  <a:xfrm rot="14392200">
                    <a:off x="905040" y="1012680"/>
                    <a:ext cx="262440" cy="67968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79680"/>
                      <a:gd name="textAreaBottom" fmla="*/ 680040 h 679680"/>
                    </a:gdLst>
                    <a:ahLst/>
                    <a:rect l="textAreaLeft" t="textAreaTop" r="textAreaRight" b="textAreaBottom"/>
                    <a:pathLst>
                      <a:path w="2252587" h="2249865">
                        <a:moveTo>
                          <a:pt x="131226" y="1651910"/>
                        </a:moveTo>
                        <a:cubicBezTo>
                          <a:pt x="-54026" y="1302952"/>
                          <a:pt x="-42473" y="882521"/>
                          <a:pt x="161662" y="544237"/>
                        </a:cubicBezTo>
                        <a:cubicBezTo>
                          <a:pt x="365472" y="206492"/>
                          <a:pt x="731469" y="0"/>
                          <a:pt x="1126294" y="0"/>
                        </a:cubicBezTo>
                        <a:lnTo>
                          <a:pt x="1126294" y="1124933"/>
                        </a:lnTo>
                        <a:lnTo>
                          <a:pt x="131226" y="165191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278" name="椭圆 15"/>
              <p:cNvSpPr/>
              <p:nvPr/>
            </p:nvSpPr>
            <p:spPr>
              <a:xfrm>
                <a:off x="838800" y="1271880"/>
                <a:ext cx="405720" cy="15660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279" name="矩形 4" descr=""/>
            <p:cNvPicPr/>
            <p:nvPr/>
          </p:nvPicPr>
          <p:blipFill>
            <a:blip r:embed="rId1"/>
            <a:stretch/>
          </p:blipFill>
          <p:spPr>
            <a:xfrm>
              <a:off x="821160" y="1175760"/>
              <a:ext cx="69804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0" name="矩形 5" descr=""/>
            <p:cNvPicPr/>
            <p:nvPr/>
          </p:nvPicPr>
          <p:blipFill>
            <a:blip r:embed="rId2"/>
            <a:stretch/>
          </p:blipFill>
          <p:spPr>
            <a:xfrm>
              <a:off x="720000" y="1320120"/>
              <a:ext cx="614880" cy="21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1" name="矩形 6" descr=""/>
            <p:cNvPicPr/>
            <p:nvPr/>
          </p:nvPicPr>
          <p:blipFill>
            <a:blip r:embed="rId3"/>
            <a:stretch/>
          </p:blipFill>
          <p:spPr>
            <a:xfrm>
              <a:off x="567000" y="1165320"/>
              <a:ext cx="720000" cy="29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2" name="Picture 2" descr="D:\PPT模版\素材\png素材\web sites\web sites2\32x32\yen_currency_sign.png"/>
            <p:cNvPicPr/>
            <p:nvPr/>
          </p:nvPicPr>
          <p:blipFill>
            <a:blip r:embed="rId4"/>
            <a:stretch/>
          </p:blipFill>
          <p:spPr>
            <a:xfrm>
              <a:off x="990720" y="1567800"/>
              <a:ext cx="122760" cy="4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3" name="Picture 3" descr="D:\PPT模版\素材\png素材\web sites\web sites2\32x32\dollar_currency_sign.png"/>
            <p:cNvPicPr/>
            <p:nvPr/>
          </p:nvPicPr>
          <p:blipFill>
            <a:blip r:embed="rId5"/>
            <a:stretch/>
          </p:blipFill>
          <p:spPr>
            <a:xfrm>
              <a:off x="429840" y="1220760"/>
              <a:ext cx="122760" cy="4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4" name="Picture 4" descr="D:\PPT模版\素材\png素材\web sites\web sites2\32x32\euro_currency_sign.png"/>
            <p:cNvPicPr/>
            <p:nvPr/>
          </p:nvPicPr>
          <p:blipFill>
            <a:blip r:embed="rId6"/>
            <a:stretch/>
          </p:blipFill>
          <p:spPr>
            <a:xfrm>
              <a:off x="1539360" y="1219320"/>
              <a:ext cx="121320" cy="4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5" name="TextBox 58"/>
          <p:cNvSpPr/>
          <p:nvPr/>
        </p:nvSpPr>
        <p:spPr>
          <a:xfrm>
            <a:off x="395280" y="1636560"/>
            <a:ext cx="8424720" cy="24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生活即教育  社会即学校  教学做合一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　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一、生活即教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       “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生活即教育”是陶行知（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7-1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）生活教育理论的核心。在陶行知看来，教育和生活是同一过程，教育含于生活之中，教育必须和生活结合才能发生作用，他主张把教育与生活完全熔于一炉。“生活即教育”的核心内容是“过什么生活便是受什么教育”。陶行知认为，人们在社会上生活不同，因而所受的教育也不同，”过好的生活，便是受好的教育；过坏的生活，便是受坏的教育，过有目的的生活，便是受有目的的教育。”他还指出：“生活教育与生俱来，与生同去。出世便是破蒙；进棺材才算毕业”。可见，陶行知所说的“教育”是指终生教育，它以“生活”为前提，不与实际生活相结合的教育就不是真正的教育。他坚决反对没有“生活做中心”的死教育、死学校、死书本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     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陶行知认为，“生活主义包含万状，凡人生一切所需皆属之”。“生活”不是人们通常狭义的理解，而是“包含广泛意味的生活实践的意思”。“生活”是包括整个自然界和人类社会生活的总体，是人类一切实践活动的总称。“生活即教育”就其本质而言，是生活决定教育，教育改造生活。具体讲，教育的目的、内容、原则、方法均由生活决定；教育要通过生活来进行；整个的生活要有整个的教育；生活是发展的，教育也应随时代的前进而不断发展。教育改造生活是指教育不是被动地由生活制约，而是对生活有能动的促进作用。生活教育的实质体现了生活与教育的辩证关系。陶行知认为：”在一般的生活里，找出教育的特殊意义，发挥出教育的特殊力量。同时要在特殊的教育里，找出一般的生活联系，展开对一般生活的普遍而深刻的影响。把教育推广到生活所包括的领域，使生活提高到教育所瞄准的水平。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二、社会即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社会即学校”来源于杜威的“学校即社会”，是在对杜威教育思想批判的基础上得出的。陶行知认为，在“学校即社会”的主张下，学校里的东西太少，不如反过来主张“社会即学校”，教育的材料，教育的方法，教育的工具，教育的环境，都可以大大地增加，学生、先生也可以多起来。“社会即学校”是与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　　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907640" y="1052280"/>
            <a:ext cx="1584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Lucida Sans"/>
              </a:rPr>
              <a:t>经典回味</a:t>
            </a:r>
            <a:endParaRPr b="1" lang="en-US" sz="2400" spc="-1" strike="noStrike">
              <a:solidFill>
                <a:srgbClr val="0d0d0d"/>
              </a:solidFill>
              <a:latin typeface="Lucida Sans"/>
            </a:endParaRPr>
          </a:p>
        </p:txBody>
      </p:sp>
      <p:grpSp>
        <p:nvGrpSpPr>
          <p:cNvPr id="1287" name="Group 3"/>
          <p:cNvGrpSpPr/>
          <p:nvPr/>
        </p:nvGrpSpPr>
        <p:grpSpPr>
          <a:xfrm>
            <a:off x="394920" y="950400"/>
            <a:ext cx="1297080" cy="808560"/>
            <a:chOff x="394920" y="950400"/>
            <a:chExt cx="1297080" cy="808560"/>
          </a:xfrm>
        </p:grpSpPr>
        <p:grpSp>
          <p:nvGrpSpPr>
            <p:cNvPr id="1288" name="Group 4"/>
            <p:cNvGrpSpPr/>
            <p:nvPr/>
          </p:nvGrpSpPr>
          <p:grpSpPr>
            <a:xfrm>
              <a:off x="394920" y="950400"/>
              <a:ext cx="1297080" cy="808560"/>
              <a:chOff x="394920" y="950400"/>
              <a:chExt cx="1297080" cy="808560"/>
            </a:xfrm>
          </p:grpSpPr>
          <p:sp>
            <p:nvSpPr>
              <p:cNvPr id="1289" name="椭圆 2"/>
              <p:cNvSpPr/>
              <p:nvPr/>
            </p:nvSpPr>
            <p:spPr>
              <a:xfrm>
                <a:off x="445320" y="1125360"/>
                <a:ext cx="1175760" cy="45324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0" name="椭圆 11"/>
              <p:cNvSpPr/>
              <p:nvPr/>
            </p:nvSpPr>
            <p:spPr>
              <a:xfrm flipH="1">
                <a:off x="394560" y="1210680"/>
                <a:ext cx="183960" cy="7092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58ad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1" name="椭圆 12"/>
              <p:cNvSpPr/>
              <p:nvPr/>
            </p:nvSpPr>
            <p:spPr>
              <a:xfrm flipH="1">
                <a:off x="1507680" y="1207440"/>
                <a:ext cx="183960" cy="7092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2" name="椭圆 13"/>
              <p:cNvSpPr/>
              <p:nvPr/>
            </p:nvSpPr>
            <p:spPr>
              <a:xfrm flipH="1">
                <a:off x="955080" y="1557720"/>
                <a:ext cx="183960" cy="7092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4a9c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93" name="Group 9"/>
              <p:cNvGrpSpPr/>
              <p:nvPr/>
            </p:nvGrpSpPr>
            <p:grpSpPr>
              <a:xfrm>
                <a:off x="525960" y="950400"/>
                <a:ext cx="1038960" cy="808560"/>
                <a:chOff x="525960" y="950400"/>
                <a:chExt cx="1038960" cy="808560"/>
              </a:xfrm>
            </p:grpSpPr>
            <p:grpSp>
              <p:nvGrpSpPr>
                <p:cNvPr id="1294" name="Group 10"/>
                <p:cNvGrpSpPr/>
                <p:nvPr/>
              </p:nvGrpSpPr>
              <p:grpSpPr>
                <a:xfrm>
                  <a:off x="554400" y="1163880"/>
                  <a:ext cx="961560" cy="371160"/>
                  <a:chOff x="554400" y="1163880"/>
                  <a:chExt cx="961560" cy="371160"/>
                </a:xfrm>
              </p:grpSpPr>
              <p:sp>
                <p:nvSpPr>
                  <p:cNvPr id="1295" name="饼形 7"/>
                  <p:cNvSpPr/>
                  <p:nvPr/>
                </p:nvSpPr>
                <p:spPr>
                  <a:xfrm>
                    <a:off x="554400" y="1163880"/>
                    <a:ext cx="961560" cy="371160"/>
                  </a:xfrm>
                  <a:custGeom>
                    <a:avLst/>
                    <a:gdLst>
                      <a:gd name="textAreaLeft" fmla="*/ 0 w 961560"/>
                      <a:gd name="textAreaRight" fmla="*/ 961920 w 961560"/>
                      <a:gd name="textAreaTop" fmla="*/ 0 h 371160"/>
                      <a:gd name="textAreaBottom" fmla="*/ 371520 h 371160"/>
                    </a:gdLst>
                    <a:ahLst/>
                    <a:rect l="textAreaLeft" t="textAreaTop" r="textAreaRight" b="textAreaBottom"/>
                    <a:pathLst>
                      <a:path w="3183471" h="3184418">
                        <a:moveTo>
                          <a:pt x="184991" y="2337207"/>
                        </a:moveTo>
                        <a:cubicBezTo>
                          <a:pt x="-76166" y="1843782"/>
                          <a:pt x="-59876" y="1249578"/>
                          <a:pt x="227923" y="771212"/>
                        </a:cubicBezTo>
                        <a:cubicBezTo>
                          <a:pt x="515835" y="292659"/>
                          <a:pt x="1033372" y="1"/>
                          <a:pt x="1591736" y="1"/>
                        </a:cubicBezTo>
                        <a:lnTo>
                          <a:pt x="1591736" y="1592209"/>
                        </a:lnTo>
                        <a:lnTo>
                          <a:pt x="184991" y="2337207"/>
                        </a:lnTo>
                        <a:close/>
                      </a:path>
                    </a:pathLst>
                  </a:custGeom>
                  <a:solidFill>
                    <a:srgbClr val="58ad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96" name="饼形 8"/>
                  <p:cNvSpPr/>
                  <p:nvPr/>
                </p:nvSpPr>
                <p:spPr>
                  <a:xfrm>
                    <a:off x="703080" y="1219320"/>
                    <a:ext cx="680040" cy="26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51453" h="2252587">
                        <a:moveTo>
                          <a:pt x="130787" y="1653203"/>
                        </a:moveTo>
                        <a:cubicBezTo>
                          <a:pt x="-53849" y="1304212"/>
                          <a:pt x="-42332" y="883969"/>
                          <a:pt x="161142" y="545625"/>
                        </a:cubicBezTo>
                        <a:cubicBezTo>
                          <a:pt x="364750" y="207057"/>
                          <a:pt x="730798" y="-1"/>
                          <a:pt x="1125728" y="-1"/>
                        </a:cubicBezTo>
                        <a:cubicBezTo>
                          <a:pt x="1125728" y="375431"/>
                          <a:pt x="1125727" y="750862"/>
                          <a:pt x="1125727" y="1126294"/>
                        </a:cubicBezTo>
                        <a:lnTo>
                          <a:pt x="130787" y="165320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297" name="Group 13"/>
                <p:cNvGrpSpPr/>
                <p:nvPr/>
              </p:nvGrpSpPr>
              <p:grpSpPr>
                <a:xfrm>
                  <a:off x="546120" y="950400"/>
                  <a:ext cx="1018800" cy="800640"/>
                  <a:chOff x="546120" y="950400"/>
                  <a:chExt cx="1018800" cy="800640"/>
                </a:xfrm>
              </p:grpSpPr>
              <p:sp>
                <p:nvSpPr>
                  <p:cNvPr id="1298" name="饼形 21"/>
                  <p:cNvSpPr/>
                  <p:nvPr/>
                </p:nvSpPr>
                <p:spPr>
                  <a:xfrm rot="7192200">
                    <a:off x="869760" y="869760"/>
                    <a:ext cx="371160" cy="961560"/>
                  </a:xfrm>
                  <a:custGeom>
                    <a:avLst/>
                    <a:gdLst>
                      <a:gd name="textAreaLeft" fmla="*/ 0 w 371160"/>
                      <a:gd name="textAreaRight" fmla="*/ 371520 w 371160"/>
                      <a:gd name="textAreaTop" fmla="*/ 0 h 961560"/>
                      <a:gd name="textAreaBottom" fmla="*/ 961920 h 961560"/>
                    </a:gdLst>
                    <a:ahLst/>
                    <a:rect l="textAreaLeft" t="textAreaTop" r="textAreaRight" b="textAreaBottom"/>
                    <a:pathLst>
                      <a:path w="3184418" h="3183471">
                        <a:moveTo>
                          <a:pt x="185229" y="2336858"/>
                        </a:moveTo>
                        <a:cubicBezTo>
                          <a:pt x="-76262" y="1843389"/>
                          <a:pt x="-59953" y="1249020"/>
                          <a:pt x="228206" y="770624"/>
                        </a:cubicBezTo>
                        <a:cubicBezTo>
                          <a:pt x="516252" y="292416"/>
                          <a:pt x="1033828" y="0"/>
                          <a:pt x="1592209" y="0"/>
                        </a:cubicBezTo>
                        <a:lnTo>
                          <a:pt x="1592209" y="1591736"/>
                        </a:lnTo>
                        <a:lnTo>
                          <a:pt x="185229" y="2336858"/>
                        </a:lnTo>
                        <a:close/>
                      </a:path>
                    </a:pathLst>
                  </a:custGeom>
                  <a:solidFill>
                    <a:srgbClr val="ffa9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99" name="饼形 22"/>
                  <p:cNvSpPr/>
                  <p:nvPr/>
                </p:nvSpPr>
                <p:spPr>
                  <a:xfrm rot="7192200">
                    <a:off x="918720" y="1010880"/>
                    <a:ext cx="262800" cy="679680"/>
                  </a:xfrm>
                  <a:custGeom>
                    <a:avLst/>
                    <a:gdLst>
                      <a:gd name="textAreaLeft" fmla="*/ 0 w 262800"/>
                      <a:gd name="textAreaRight" fmla="*/ 262800 w 262800"/>
                      <a:gd name="textAreaTop" fmla="*/ 0 h 679680"/>
                      <a:gd name="textAreaBottom" fmla="*/ 680040 h 679680"/>
                    </a:gdLst>
                    <a:ahLst/>
                    <a:rect l="textAreaLeft" t="textAreaTop" r="textAreaRight" b="textAreaBottom"/>
                    <a:pathLst>
                      <a:path w="2252587" h="2249865">
                        <a:moveTo>
                          <a:pt x="217114" y="1788907"/>
                        </a:moveTo>
                        <a:cubicBezTo>
                          <a:pt x="-33417" y="1446684"/>
                          <a:pt x="-70040" y="992846"/>
                          <a:pt x="122381" y="614964"/>
                        </a:cubicBezTo>
                        <a:cubicBezTo>
                          <a:pt x="314517" y="237643"/>
                          <a:pt x="702464" y="-1"/>
                          <a:pt x="1126294" y="-1"/>
                        </a:cubicBezTo>
                        <a:lnTo>
                          <a:pt x="1126294" y="1124933"/>
                        </a:lnTo>
                        <a:lnTo>
                          <a:pt x="217114" y="178890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300" name="Group 16"/>
                <p:cNvGrpSpPr/>
                <p:nvPr/>
              </p:nvGrpSpPr>
              <p:grpSpPr>
                <a:xfrm>
                  <a:off x="525960" y="955440"/>
                  <a:ext cx="1018080" cy="803520"/>
                  <a:chOff x="525960" y="955440"/>
                  <a:chExt cx="1018080" cy="803520"/>
                </a:xfrm>
              </p:grpSpPr>
              <p:sp>
                <p:nvSpPr>
                  <p:cNvPr id="1301" name="饼形 19"/>
                  <p:cNvSpPr/>
                  <p:nvPr/>
                </p:nvSpPr>
                <p:spPr>
                  <a:xfrm rot="14392200">
                    <a:off x="849240" y="876240"/>
                    <a:ext cx="371160" cy="961560"/>
                  </a:xfrm>
                  <a:custGeom>
                    <a:avLst/>
                    <a:gdLst>
                      <a:gd name="textAreaLeft" fmla="*/ 0 w 371160"/>
                      <a:gd name="textAreaRight" fmla="*/ 371520 w 371160"/>
                      <a:gd name="textAreaTop" fmla="*/ 0 h 961560"/>
                      <a:gd name="textAreaBottom" fmla="*/ 961920 h 961560"/>
                    </a:gdLst>
                    <a:ahLst/>
                    <a:rect l="textAreaLeft" t="textAreaTop" r="textAreaRight" b="textAreaBottom"/>
                    <a:pathLst>
                      <a:path w="3186006" h="3183471">
                        <a:moveTo>
                          <a:pt x="185475" y="2337148"/>
                        </a:moveTo>
                        <a:cubicBezTo>
                          <a:pt x="-76362" y="1843519"/>
                          <a:pt x="-60032" y="1248863"/>
                          <a:pt x="228501" y="770324"/>
                        </a:cubicBezTo>
                        <a:cubicBezTo>
                          <a:pt x="516732" y="292286"/>
                          <a:pt x="1034469" y="0"/>
                          <a:pt x="1593003" y="0"/>
                        </a:cubicBezTo>
                        <a:lnTo>
                          <a:pt x="1593003" y="1591736"/>
                        </a:lnTo>
                        <a:lnTo>
                          <a:pt x="185475" y="2337148"/>
                        </a:lnTo>
                        <a:close/>
                      </a:path>
                    </a:pathLst>
                  </a:custGeom>
                  <a:solidFill>
                    <a:srgbClr val="4a9cd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02" name="饼形 15"/>
                  <p:cNvSpPr/>
                  <p:nvPr/>
                </p:nvSpPr>
                <p:spPr>
                  <a:xfrm rot="14392200">
                    <a:off x="905040" y="1012680"/>
                    <a:ext cx="262440" cy="67968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79680"/>
                      <a:gd name="textAreaBottom" fmla="*/ 680040 h 679680"/>
                    </a:gdLst>
                    <a:ahLst/>
                    <a:rect l="textAreaLeft" t="textAreaTop" r="textAreaRight" b="textAreaBottom"/>
                    <a:pathLst>
                      <a:path w="2252587" h="2249865">
                        <a:moveTo>
                          <a:pt x="131226" y="1651910"/>
                        </a:moveTo>
                        <a:cubicBezTo>
                          <a:pt x="-54026" y="1302952"/>
                          <a:pt x="-42473" y="882521"/>
                          <a:pt x="161662" y="544237"/>
                        </a:cubicBezTo>
                        <a:cubicBezTo>
                          <a:pt x="365472" y="206492"/>
                          <a:pt x="731469" y="0"/>
                          <a:pt x="1126294" y="0"/>
                        </a:cubicBezTo>
                        <a:lnTo>
                          <a:pt x="1126294" y="1124933"/>
                        </a:lnTo>
                        <a:lnTo>
                          <a:pt x="131226" y="165191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303" name="椭圆 15"/>
              <p:cNvSpPr/>
              <p:nvPr/>
            </p:nvSpPr>
            <p:spPr>
              <a:xfrm>
                <a:off x="838800" y="1271880"/>
                <a:ext cx="405720" cy="15660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304" name="矩形 4" descr=""/>
            <p:cNvPicPr/>
            <p:nvPr/>
          </p:nvPicPr>
          <p:blipFill>
            <a:blip r:embed="rId1"/>
            <a:stretch/>
          </p:blipFill>
          <p:spPr>
            <a:xfrm>
              <a:off x="821160" y="1175760"/>
              <a:ext cx="69804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5" name="矩形 5" descr=""/>
            <p:cNvPicPr/>
            <p:nvPr/>
          </p:nvPicPr>
          <p:blipFill>
            <a:blip r:embed="rId2"/>
            <a:stretch/>
          </p:blipFill>
          <p:spPr>
            <a:xfrm>
              <a:off x="720000" y="1320120"/>
              <a:ext cx="614880" cy="21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6" name="矩形 6" descr=""/>
            <p:cNvPicPr/>
            <p:nvPr/>
          </p:nvPicPr>
          <p:blipFill>
            <a:blip r:embed="rId3"/>
            <a:stretch/>
          </p:blipFill>
          <p:spPr>
            <a:xfrm>
              <a:off x="567000" y="1165320"/>
              <a:ext cx="720000" cy="29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7" name="Picture 2" descr="D:\PPT模版\素材\png素材\web sites\web sites2\32x32\yen_currency_sign.png"/>
            <p:cNvPicPr/>
            <p:nvPr/>
          </p:nvPicPr>
          <p:blipFill>
            <a:blip r:embed="rId4"/>
            <a:stretch/>
          </p:blipFill>
          <p:spPr>
            <a:xfrm>
              <a:off x="990720" y="1567800"/>
              <a:ext cx="122760" cy="4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8" name="Picture 3" descr="D:\PPT模版\素材\png素材\web sites\web sites2\32x32\dollar_currency_sign.png"/>
            <p:cNvPicPr/>
            <p:nvPr/>
          </p:nvPicPr>
          <p:blipFill>
            <a:blip r:embed="rId5"/>
            <a:stretch/>
          </p:blipFill>
          <p:spPr>
            <a:xfrm>
              <a:off x="429840" y="1220760"/>
              <a:ext cx="122760" cy="4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9" name="Picture 4" descr="D:\PPT模版\素材\png素材\web sites\web sites2\32x32\euro_currency_sign.png"/>
            <p:cNvPicPr/>
            <p:nvPr/>
          </p:nvPicPr>
          <p:blipFill>
            <a:blip r:embed="rId6"/>
            <a:stretch/>
          </p:blipFill>
          <p:spPr>
            <a:xfrm>
              <a:off x="1539360" y="1219320"/>
              <a:ext cx="121320" cy="4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0" name="TextBox 58"/>
          <p:cNvSpPr/>
          <p:nvPr/>
        </p:nvSpPr>
        <p:spPr>
          <a:xfrm>
            <a:off x="378000" y="1616040"/>
            <a:ext cx="41940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生活即教育  社会即学校  教学做合一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　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生活即教育”紧密相联的，是“生活即教育”同一意义的不同说明，也是它的逻辑延伸与保证。因为生活教育的“生活”是社会生活，所以“整个社会的运动，就是教育的范围，不消谈什么联络而它的血脉是自然相通的”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三、教学做合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     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这是生活教育理论的教学论。“教学做合一”用陶行知的话说，是生活现象之说明，即教育现象之说明，在生活里，对事说是做，对己之长进说是学，对人之影响说是教，教学做只是一种生活之三方面，不是三个各不相谋的过程。“教学做是一件事，不是三件事。我们要在做上教，在做上学”。他用种田为例，指出种田这件事，要在田里做的，便须在田里学，在田里教。在陶行知看来，“教学做合一”是生活法，也是教育法，它的含义是教的方法根据学的方法，学的方法要根据做方法，“事怎样做便怎样学，怎样学便怎样教。教而不做，不能算是教；学而不做，不能算是学。教与学都以做为中心”。由此他特别强调要亲自在“做”的活动中获得知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　　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1" name="图片 26" descr="E:\（十三五）高职\组稿\幼儿园班级管理\幼儿园班级管理-插图\7-1.jpg"/>
          <p:cNvPicPr/>
          <p:nvPr/>
        </p:nvPicPr>
        <p:blipFill>
          <a:blip r:embed="rId7"/>
          <a:srcRect l="0" t="14589" r="0" b="8854"/>
          <a:stretch/>
        </p:blipFill>
        <p:spPr>
          <a:xfrm>
            <a:off x="4572000" y="1163520"/>
            <a:ext cx="4032360" cy="4569120"/>
          </a:xfrm>
          <a:prstGeom prst="rect">
            <a:avLst/>
          </a:prstGeom>
          <a:ln w="0">
            <a:noFill/>
          </a:ln>
        </p:spPr>
      </p:pic>
      <p:sp>
        <p:nvSpPr>
          <p:cNvPr id="1312" name="矩形 1"/>
          <p:cNvSpPr/>
          <p:nvPr/>
        </p:nvSpPr>
        <p:spPr>
          <a:xfrm>
            <a:off x="6310080" y="5910120"/>
            <a:ext cx="107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-1 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陶行知先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2195280" y="1413000"/>
            <a:ext cx="5172120" cy="122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2d050"/>
                </a:solidFill>
                <a:latin typeface="Bookman Old Style"/>
                <a:ea typeface="华文行楷"/>
              </a:rPr>
              <a:t>Thank You</a:t>
            </a:r>
            <a:r>
              <a:rPr b="1" lang="zh-CN" sz="5400" spc="-1" strike="noStrike">
                <a:solidFill>
                  <a:srgbClr val="92d050"/>
                </a:solidFill>
                <a:latin typeface="Bookman Old Style"/>
                <a:ea typeface="华文行楷"/>
              </a:rPr>
              <a:t>！</a:t>
            </a:r>
            <a:endParaRPr b="1" lang="en-US" sz="54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  <p:transition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17"/>
          <p:cNvGrpSpPr/>
          <p:nvPr/>
        </p:nvGrpSpPr>
        <p:grpSpPr>
          <a:xfrm>
            <a:off x="2981160" y="2816280"/>
            <a:ext cx="1251000" cy="3099960"/>
            <a:chOff x="2981160" y="2816280"/>
            <a:chExt cx="1251000" cy="3099960"/>
          </a:xfrm>
        </p:grpSpPr>
        <p:sp>
          <p:nvSpPr>
            <p:cNvPr id="1135" name="圆角矩形 49"/>
            <p:cNvSpPr/>
            <p:nvPr/>
          </p:nvSpPr>
          <p:spPr>
            <a:xfrm>
              <a:off x="2981160" y="2816280"/>
              <a:ext cx="1251000" cy="306864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8640"/>
                <a:gd name="textAreaBottom" fmla="*/ 2885400 h 3068640"/>
              </a:gdLst>
              <a:ahLst/>
              <a:rect l="textAreaLeft" t="textAreaTop" r="textAreaRight" b="textAreaBottom"/>
              <a:pathLst>
                <a:path w="21600" h="52975">
                  <a:moveTo>
                    <a:pt x="10800" y="0"/>
                  </a:moveTo>
                  <a:arcTo wR="10800" hR="10800" stAng="16200000" swAng="-5400000"/>
                  <a:lnTo>
                    <a:pt x="0" y="42175"/>
                  </a:lnTo>
                  <a:arcTo wR="10800" hR="10800" stAng="10800000" swAng="-5400000"/>
                  <a:lnTo>
                    <a:pt x="10800" y="5297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58ad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椭圆 50"/>
            <p:cNvSpPr/>
            <p:nvPr/>
          </p:nvSpPr>
          <p:spPr>
            <a:xfrm>
              <a:off x="3044520" y="291780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TextBox 51"/>
            <p:cNvSpPr/>
            <p:nvPr/>
          </p:nvSpPr>
          <p:spPr>
            <a:xfrm>
              <a:off x="3333240" y="5456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TextBox 52"/>
            <p:cNvSpPr/>
            <p:nvPr/>
          </p:nvSpPr>
          <p:spPr>
            <a:xfrm>
              <a:off x="3196800" y="4309920"/>
              <a:ext cx="84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职责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9" name="环形箭头 55"/>
          <p:cNvSpPr/>
          <p:nvPr/>
        </p:nvSpPr>
        <p:spPr>
          <a:xfrm>
            <a:off x="4572000" y="1787400"/>
            <a:ext cx="3198960" cy="2382840"/>
          </a:xfrm>
          <a:custGeom>
            <a:avLst/>
            <a:gdLst>
              <a:gd name="textAreaLeft" fmla="*/ 0 w 3198960"/>
              <a:gd name="textAreaRight" fmla="*/ 3199320 w 3198960"/>
              <a:gd name="textAreaTop" fmla="*/ 0 h 2382840"/>
              <a:gd name="textAreaBottom" fmla="*/ 2382840 h 2382840"/>
            </a:gdLst>
            <a:ahLst/>
            <a:rect l="textAreaLeft" t="textAreaTop" r="textAreaRight" b="textAreaBottom"/>
            <a:pathLst>
              <a:path w="3198813" h="2382838">
                <a:moveTo>
                  <a:pt x="1885768" y="186575"/>
                </a:moveTo>
                <a:cubicBezTo>
                  <a:pt x="2325818" y="250756"/>
                  <a:pt x="2698391" y="458762"/>
                  <a:pt x="2892340" y="748541"/>
                </a:cubicBezTo>
                <a:lnTo>
                  <a:pt x="3051954" y="726521"/>
                </a:lnTo>
                <a:lnTo>
                  <a:pt x="2962122" y="1003419"/>
                </a:lnTo>
                <a:lnTo>
                  <a:pt x="2634054" y="784174"/>
                </a:lnTo>
                <a:lnTo>
                  <a:pt x="2793120" y="762229"/>
                </a:lnTo>
                <a:cubicBezTo>
                  <a:pt x="2605398" y="509080"/>
                  <a:pt x="2262232" y="329298"/>
                  <a:pt x="1860898" y="273844"/>
                </a:cubicBezTo>
                <a:lnTo>
                  <a:pt x="1885768" y="186575"/>
                </a:lnTo>
                <a:close/>
              </a:path>
            </a:pathLst>
          </a:custGeom>
          <a:solidFill>
            <a:srgbClr val="4f9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环形箭头 56"/>
          <p:cNvSpPr/>
          <p:nvPr/>
        </p:nvSpPr>
        <p:spPr>
          <a:xfrm flipH="1">
            <a:off x="1145520" y="1735200"/>
            <a:ext cx="3220920" cy="2382840"/>
          </a:xfrm>
          <a:custGeom>
            <a:avLst/>
            <a:gdLst>
              <a:gd name="textAreaLeft" fmla="*/ -360 w 3220920"/>
              <a:gd name="textAreaRight" fmla="*/ 3220920 w 3220920"/>
              <a:gd name="textAreaTop" fmla="*/ 0 h 2382840"/>
              <a:gd name="textAreaBottom" fmla="*/ 2383200 h 2382840"/>
            </a:gdLst>
            <a:ahLst/>
            <a:rect l="textAreaLeft" t="textAreaTop" r="textAreaRight" b="textAreaBottom"/>
            <a:pathLst>
              <a:path w="3221038" h="2382837">
                <a:moveTo>
                  <a:pt x="1896968" y="186268"/>
                </a:moveTo>
                <a:cubicBezTo>
                  <a:pt x="2339799" y="249864"/>
                  <a:pt x="2715215" y="456871"/>
                  <a:pt x="2911570" y="745726"/>
                </a:cubicBezTo>
                <a:lnTo>
                  <a:pt x="3071032" y="723727"/>
                </a:lnTo>
                <a:lnTo>
                  <a:pt x="2983735" y="1001969"/>
                </a:lnTo>
                <a:lnTo>
                  <a:pt x="2653132" y="781381"/>
                </a:lnTo>
                <a:lnTo>
                  <a:pt x="2812027" y="759459"/>
                </a:lnTo>
                <a:cubicBezTo>
                  <a:pt x="2621919" y="507262"/>
                  <a:pt x="2276046" y="328463"/>
                  <a:pt x="1872090" y="273559"/>
                </a:cubicBezTo>
                <a:lnTo>
                  <a:pt x="1896968" y="186268"/>
                </a:lnTo>
                <a:close/>
              </a:path>
            </a:pathLst>
          </a:custGeom>
          <a:solidFill>
            <a:srgbClr val="4f9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Lucida Sans"/>
              </a:rPr>
              <a:t>关键词</a:t>
            </a:r>
            <a:endParaRPr b="1" lang="en-US" sz="2800" spc="-1" strike="noStrike">
              <a:solidFill>
                <a:srgbClr val="0d0d0d"/>
              </a:solidFill>
              <a:latin typeface="Lucida Sans"/>
            </a:endParaRPr>
          </a:p>
        </p:txBody>
      </p:sp>
      <p:grpSp>
        <p:nvGrpSpPr>
          <p:cNvPr id="1142" name="Group 26"/>
          <p:cNvGrpSpPr/>
          <p:nvPr/>
        </p:nvGrpSpPr>
        <p:grpSpPr>
          <a:xfrm>
            <a:off x="4878360" y="2779560"/>
            <a:ext cx="1251000" cy="3100320"/>
            <a:chOff x="4878360" y="2779560"/>
            <a:chExt cx="1251000" cy="3100320"/>
          </a:xfrm>
        </p:grpSpPr>
        <p:sp>
          <p:nvSpPr>
            <p:cNvPr id="1143" name="圆角矩形 31"/>
            <p:cNvSpPr/>
            <p:nvPr/>
          </p:nvSpPr>
          <p:spPr>
            <a:xfrm>
              <a:off x="4878360" y="2779560"/>
              <a:ext cx="1251000" cy="306900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9000"/>
                <a:gd name="textAreaBottom" fmla="*/ 2885760 h 3069000"/>
              </a:gdLst>
              <a:ahLst/>
              <a:rect l="textAreaLeft" t="textAreaTop" r="textAreaRight" b="textAreaBottom"/>
              <a:pathLst>
                <a:path w="21600" h="52981">
                  <a:moveTo>
                    <a:pt x="10800" y="0"/>
                  </a:moveTo>
                  <a:arcTo wR="10800" hR="10800" stAng="16200000" swAng="-5400000"/>
                  <a:lnTo>
                    <a:pt x="0" y="42181"/>
                  </a:lnTo>
                  <a:arcTo wR="10800" hR="10800" stAng="10800000" swAng="-5400000"/>
                  <a:lnTo>
                    <a:pt x="10800" y="5298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4f9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4" name="椭圆 32"/>
            <p:cNvSpPr/>
            <p:nvPr/>
          </p:nvSpPr>
          <p:spPr>
            <a:xfrm>
              <a:off x="4941720" y="288108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5" name="TextBox 35"/>
            <p:cNvSpPr/>
            <p:nvPr/>
          </p:nvSpPr>
          <p:spPr>
            <a:xfrm>
              <a:off x="5230440" y="5420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TextBox 36"/>
            <p:cNvSpPr/>
            <p:nvPr/>
          </p:nvSpPr>
          <p:spPr>
            <a:xfrm>
              <a:off x="5094000" y="4273560"/>
              <a:ext cx="84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质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7" name="右箭头 2"/>
          <p:cNvGrpSpPr/>
          <p:nvPr/>
        </p:nvGrpSpPr>
        <p:grpSpPr>
          <a:xfrm>
            <a:off x="2097000" y="2567160"/>
            <a:ext cx="1189080" cy="2376360"/>
            <a:chOff x="2097000" y="2567160"/>
            <a:chExt cx="1189080" cy="2376360"/>
          </a:xfrm>
        </p:grpSpPr>
        <p:pic>
          <p:nvPicPr>
            <p:cNvPr id="1148" name="右箭头 2" descr=""/>
            <p:cNvPicPr/>
            <p:nvPr/>
          </p:nvPicPr>
          <p:blipFill>
            <a:blip r:embed="rId1"/>
            <a:stretch/>
          </p:blipFill>
          <p:spPr>
            <a:xfrm>
              <a:off x="2097000" y="2567160"/>
              <a:ext cx="118908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9" name=""/>
            <p:cNvSpPr/>
            <p:nvPr/>
          </p:nvSpPr>
          <p:spPr>
            <a:xfrm>
              <a:off x="2097000" y="3029040"/>
              <a:ext cx="82548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0" name="Group 4"/>
          <p:cNvGrpSpPr/>
          <p:nvPr/>
        </p:nvGrpSpPr>
        <p:grpSpPr>
          <a:xfrm>
            <a:off x="539640" y="1814400"/>
            <a:ext cx="1654200" cy="2184480"/>
            <a:chOff x="539640" y="1814400"/>
            <a:chExt cx="1654200" cy="2184480"/>
          </a:xfrm>
        </p:grpSpPr>
        <p:sp>
          <p:nvSpPr>
            <p:cNvPr id="1151" name="矩形 4"/>
            <p:cNvSpPr/>
            <p:nvPr/>
          </p:nvSpPr>
          <p:spPr>
            <a:xfrm>
              <a:off x="1267200" y="3018960"/>
              <a:ext cx="156960" cy="979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52" name="Group 6"/>
            <p:cNvGrpSpPr/>
            <p:nvPr/>
          </p:nvGrpSpPr>
          <p:grpSpPr>
            <a:xfrm>
              <a:off x="539640" y="1814400"/>
              <a:ext cx="1654200" cy="1585440"/>
              <a:chOff x="539640" y="1814400"/>
              <a:chExt cx="1654200" cy="1585440"/>
            </a:xfrm>
          </p:grpSpPr>
          <p:sp>
            <p:nvSpPr>
              <p:cNvPr id="1153" name="椭圆 11"/>
              <p:cNvSpPr/>
              <p:nvPr/>
            </p:nvSpPr>
            <p:spPr>
              <a:xfrm>
                <a:off x="539640" y="1814400"/>
                <a:ext cx="1654200" cy="1585440"/>
              </a:xfrm>
              <a:prstGeom prst="ellipse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4" name="椭圆 3"/>
              <p:cNvSpPr/>
              <p:nvPr/>
            </p:nvSpPr>
            <p:spPr>
              <a:xfrm>
                <a:off x="608400" y="1880280"/>
                <a:ext cx="1516320" cy="1453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5" name="椭圆 13"/>
              <p:cNvSpPr/>
              <p:nvPr/>
            </p:nvSpPr>
            <p:spPr>
              <a:xfrm>
                <a:off x="645120" y="1915560"/>
                <a:ext cx="1442880" cy="1382760"/>
              </a:xfrm>
              <a:prstGeom prst="ellipse">
                <a:avLst/>
              </a:prstGeom>
              <a:solidFill>
                <a:srgbClr val="44b093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引子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56" name="矩形 7"/>
            <p:cNvSpPr/>
            <p:nvPr/>
          </p:nvSpPr>
          <p:spPr>
            <a:xfrm flipV="1">
              <a:off x="1167840" y="3521880"/>
              <a:ext cx="355680" cy="1227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7" name="圆角矩形 14"/>
          <p:cNvSpPr/>
          <p:nvPr/>
        </p:nvSpPr>
        <p:spPr>
          <a:xfrm>
            <a:off x="3276720" y="2421000"/>
            <a:ext cx="5398920" cy="2592360"/>
          </a:xfrm>
          <a:prstGeom prst="roundRect">
            <a:avLst>
              <a:gd name="adj" fmla="val 9685"/>
            </a:avLst>
          </a:prstGeom>
          <a:noFill/>
          <a:ln w="76320">
            <a:solidFill>
              <a:srgbClr val="9ec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284640" y="2738520"/>
            <a:ext cx="532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近，在刘老师的班里发生了这样一件事。自由活动时，孩子们玩起了小老师的游戏。他们一会儿教识字，一会儿教唱歌，并不时地让”学生”坐好，忙得不亦乐乎。不一会儿，小老师便学着刘老师的样子开始批评”学生”了，那样子可真像那么回事，一只手指着”学生”，一只手叉着腰，对着学生说：”我不喜欢你了，也不要你了，一会儿把你送别的班里去。”望着孩子天真的神情，刘老师有些不自在了，刘老师想：这就是我平时批评孩子时的样子吗？我给孩子做了一个什么样的榜样啊？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9" name="Group 6" descr=""/>
          <p:cNvPicPr/>
          <p:nvPr/>
        </p:nvPicPr>
        <p:blipFill>
          <a:blip r:embed="rId2"/>
          <a:stretch/>
        </p:blipFill>
        <p:spPr>
          <a:xfrm>
            <a:off x="530280" y="4048200"/>
            <a:ext cx="165240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矩形 4"/>
          <p:cNvSpPr/>
          <p:nvPr/>
        </p:nvSpPr>
        <p:spPr>
          <a:xfrm>
            <a:off x="1619280" y="3672000"/>
            <a:ext cx="156960" cy="981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矩形 7"/>
          <p:cNvSpPr/>
          <p:nvPr/>
        </p:nvSpPr>
        <p:spPr>
          <a:xfrm flipV="1">
            <a:off x="1476360" y="3860640"/>
            <a:ext cx="426960" cy="1447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圆角矩形 14"/>
          <p:cNvSpPr/>
          <p:nvPr/>
        </p:nvSpPr>
        <p:spPr>
          <a:xfrm>
            <a:off x="2916360" y="1700280"/>
            <a:ext cx="4968720" cy="3384360"/>
          </a:xfrm>
          <a:prstGeom prst="roundRect">
            <a:avLst>
              <a:gd name="adj" fmla="val 9685"/>
            </a:avLst>
          </a:prstGeom>
          <a:noFill/>
          <a:ln w="76320">
            <a:solidFill>
              <a:srgbClr val="9ec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TextBox 58"/>
          <p:cNvSpPr/>
          <p:nvPr/>
        </p:nvSpPr>
        <p:spPr>
          <a:xfrm>
            <a:off x="3079800" y="2247840"/>
            <a:ext cx="482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孩子的眼里，老师是”圣人”，是完美无缺的。常听家长和老师沟通说：”我家的孩子最听老师的话了，我说什么也不听啊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”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日生活中，老师和孩子相处的时间较长，俗话说：什么样的老师就会教出什么样的孩子。老师的性格往往从孩子的身上也可体现出来。作为老师，要爱孩子，同时也要注意方式方法，否则，可能会适得其反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4" name="Group 6"/>
          <p:cNvGrpSpPr/>
          <p:nvPr/>
        </p:nvGrpSpPr>
        <p:grpSpPr>
          <a:xfrm>
            <a:off x="826920" y="2133720"/>
            <a:ext cx="1654200" cy="1584360"/>
            <a:chOff x="826920" y="2133720"/>
            <a:chExt cx="1654200" cy="1584360"/>
          </a:xfrm>
        </p:grpSpPr>
        <p:sp>
          <p:nvSpPr>
            <p:cNvPr id="1165" name="椭圆 11"/>
            <p:cNvSpPr/>
            <p:nvPr/>
          </p:nvSpPr>
          <p:spPr>
            <a:xfrm>
              <a:off x="826920" y="2133720"/>
              <a:ext cx="1654200" cy="1584360"/>
            </a:xfrm>
            <a:prstGeom prst="ellipse">
              <a:avLst/>
            </a:prstGeom>
            <a:solidFill>
              <a:srgbClr val="44b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6" name="椭圆 3"/>
            <p:cNvSpPr/>
            <p:nvPr/>
          </p:nvSpPr>
          <p:spPr>
            <a:xfrm>
              <a:off x="895680" y="2199600"/>
              <a:ext cx="1516320" cy="145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7" name="椭圆 13"/>
            <p:cNvSpPr/>
            <p:nvPr/>
          </p:nvSpPr>
          <p:spPr>
            <a:xfrm>
              <a:off x="932400" y="2234880"/>
              <a:ext cx="1442880" cy="1381680"/>
            </a:xfrm>
            <a:prstGeom prst="ellipse">
              <a:avLst/>
            </a:prstGeom>
            <a:solidFill>
              <a:srgbClr val="44b093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点评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8" name="Group 26"/>
          <p:cNvGrpSpPr/>
          <p:nvPr/>
        </p:nvGrpSpPr>
        <p:grpSpPr>
          <a:xfrm>
            <a:off x="826920" y="2133720"/>
            <a:ext cx="1654200" cy="2519280"/>
            <a:chOff x="826920" y="2133720"/>
            <a:chExt cx="1654200" cy="2519280"/>
          </a:xfrm>
        </p:grpSpPr>
        <p:sp>
          <p:nvSpPr>
            <p:cNvPr id="1169" name="矩形 4"/>
            <p:cNvSpPr/>
            <p:nvPr/>
          </p:nvSpPr>
          <p:spPr>
            <a:xfrm>
              <a:off x="1619280" y="3672000"/>
              <a:ext cx="156960" cy="9810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70" name="Group 6"/>
            <p:cNvGrpSpPr/>
            <p:nvPr/>
          </p:nvGrpSpPr>
          <p:grpSpPr>
            <a:xfrm>
              <a:off x="826920" y="2133720"/>
              <a:ext cx="1654200" cy="1584360"/>
              <a:chOff x="826920" y="2133720"/>
              <a:chExt cx="1654200" cy="1584360"/>
            </a:xfrm>
          </p:grpSpPr>
          <p:sp>
            <p:nvSpPr>
              <p:cNvPr id="1171" name="椭圆 11"/>
              <p:cNvSpPr/>
              <p:nvPr/>
            </p:nvSpPr>
            <p:spPr>
              <a:xfrm>
                <a:off x="826920" y="2133720"/>
                <a:ext cx="1654200" cy="1584360"/>
              </a:xfrm>
              <a:prstGeom prst="ellipse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2" name="椭圆 3"/>
              <p:cNvSpPr/>
              <p:nvPr/>
            </p:nvSpPr>
            <p:spPr>
              <a:xfrm>
                <a:off x="895680" y="2199600"/>
                <a:ext cx="1516320" cy="1452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3" name="椭圆 13"/>
              <p:cNvSpPr/>
              <p:nvPr/>
            </p:nvSpPr>
            <p:spPr>
              <a:xfrm>
                <a:off x="932400" y="2234880"/>
                <a:ext cx="1442880" cy="1381680"/>
              </a:xfrm>
              <a:prstGeom prst="ellipse">
                <a:avLst/>
              </a:prstGeom>
              <a:solidFill>
                <a:srgbClr val="44b093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评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圆角矩形 31"/>
          <p:cNvSpPr/>
          <p:nvPr/>
        </p:nvSpPr>
        <p:spPr>
          <a:xfrm>
            <a:off x="1778040" y="3284640"/>
            <a:ext cx="5315040" cy="406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9fd4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25560">
            <a:solidFill>
              <a:srgbClr val="4f9f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d"/>
                </a:solidFill>
                <a:latin typeface="Calibri"/>
                <a:ea typeface="宋体"/>
              </a:rPr>
              <a:t>        </a:t>
            </a:r>
            <a:r>
              <a:rPr b="1" lang="zh-CN" sz="1800" spc="-1" strike="noStrike">
                <a:solidFill>
                  <a:srgbClr val="0d0d0d"/>
                </a:solidFill>
                <a:latin typeface="Calibri"/>
                <a:ea typeface="宋体"/>
              </a:rPr>
              <a:t>第一节 幼儿园保教人员的基本职责和要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5" name="Group 8"/>
          <p:cNvGrpSpPr/>
          <p:nvPr/>
        </p:nvGrpSpPr>
        <p:grpSpPr>
          <a:xfrm>
            <a:off x="2050920" y="3370320"/>
            <a:ext cx="244440" cy="249120"/>
            <a:chOff x="2050920" y="3370320"/>
            <a:chExt cx="244440" cy="249120"/>
          </a:xfrm>
        </p:grpSpPr>
        <p:pic>
          <p:nvPicPr>
            <p:cNvPr id="1176" name="椭圆 30" descr=""/>
            <p:cNvPicPr/>
            <p:nvPr/>
          </p:nvPicPr>
          <p:blipFill>
            <a:blip r:embed="rId1"/>
            <a:stretch/>
          </p:blipFill>
          <p:spPr>
            <a:xfrm>
              <a:off x="2050920" y="3370320"/>
              <a:ext cx="244440" cy="24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7" name="Text Box 10"/>
            <p:cNvSpPr/>
            <p:nvPr/>
          </p:nvSpPr>
          <p:spPr>
            <a:xfrm>
              <a:off x="2096640" y="3418200"/>
              <a:ext cx="1530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矩形 1"/>
          <p:cNvSpPr/>
          <p:nvPr/>
        </p:nvSpPr>
        <p:spPr>
          <a:xfrm>
            <a:off x="1081800" y="112536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一、</a:t>
            </a:r>
            <a:r>
              <a:rPr b="1" lang="zh-CN" sz="1800" spc="-1" strike="noStrike">
                <a:solidFill>
                  <a:srgbClr val="0d0d0d"/>
                </a:solidFill>
                <a:latin typeface="黑体"/>
                <a:ea typeface="黑体"/>
              </a:rPr>
              <a:t>幼儿园教师的基本职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矩形 1"/>
          <p:cNvSpPr/>
          <p:nvPr/>
        </p:nvSpPr>
        <p:spPr>
          <a:xfrm>
            <a:off x="539640" y="1536840"/>
            <a:ext cx="806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认真贯彻执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幼儿园工作规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结合本班幼儿的特点和个体差异及时制定好各类教育工作计划，并认真实施，有计划有步骤地开展班级保教工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树立正确的儿童观、教育观，热爱幼儿、尊重幼儿，对幼儿做到关心、细心、耐心，不偏爱，坚持正面教育，严禁体罚和变相体罚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认真及时制订教育活动计划，钻研教材，研究教法，引导幼儿主动学习。观察、分析并记录幼儿发展情况，因材施教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科学、合理地安排幼儿一日活动，认真执行幼儿园各项教育常规及幼儿园安全、卫生保健制度。定期进行总结，不断提高工作质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进班前，必须做好一切准备工作，带班时精力集中，尽心尽责，不随便离开班级，密切关注幼儿的活动及需求，及时提供适当的指导。注意幼儿安全，预防事故发生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矩形 1"/>
          <p:cNvSpPr/>
          <p:nvPr/>
        </p:nvSpPr>
        <p:spPr>
          <a:xfrm>
            <a:off x="1081800" y="112536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一、</a:t>
            </a:r>
            <a:r>
              <a:rPr b="1" lang="zh-CN" sz="1800" spc="-1" strike="noStrike">
                <a:solidFill>
                  <a:srgbClr val="0d0d0d"/>
                </a:solidFill>
                <a:latin typeface="黑体"/>
                <a:ea typeface="黑体"/>
              </a:rPr>
              <a:t>幼儿园教师的基本职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矩形 1"/>
          <p:cNvSpPr/>
          <p:nvPr/>
        </p:nvSpPr>
        <p:spPr>
          <a:xfrm>
            <a:off x="539640" y="1536840"/>
            <a:ext cx="80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努力学习幼教专业理论，积极参加教育研究和各种业务进修学习，勇于改革、创新，不断提高自身的业务素质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根据教育内容，定期更换、精心布置体现幼儿主体地位的活动室环境，为区域活动提供符合本班幼儿发展水平、操作心强、卫生、丰富的玩具和材料。管理好班内一切物品不受损失，保持班内环境、物品的整洁，做好保管区内的清洁工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认真做好家长工作，定时和每个幼儿家长保持联系，了解幼儿家庭教育情况，和家长商议符合幼儿特点的教育措施，共同配合完成教育工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定期向园领导汇报工作，接受其检查和指导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07:51:02Z</dcterms:created>
  <dc:creator>Administrator</dc:creator>
  <dc:description/>
  <dc:language>en-US</dc:language>
  <cp:lastModifiedBy>hp</cp:lastModifiedBy>
  <cp:lastPrinted>1899-12-30T00:00:00Z</cp:lastPrinted>
  <dcterms:modified xsi:type="dcterms:W3CDTF">2017-04-23T14:18:20Z</dcterms:modified>
  <cp:revision>88</cp:revision>
  <dc:subject/>
  <dc:title>乘风破浪,世界就在眼前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