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3FB-A8ED-445E-ACD6-AA5171F24204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21F-8F90-4E6A-91C9-1CD4D67C27DF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17E-DE6E-4A97-B8F3-D6CBEF88A693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FA8-A099-41C4-B495-B7F25C62AB03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8E3-078F-4E1D-B52F-8B4BA39C87B5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0BDA-5505-4F7D-87B7-0A97D63AAC18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5EA-183F-4A1F-9152-67B398F431E1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9A0-0011-4E6F-B85E-D4CE9BD0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0A0-8788-4577-9595-495E56D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696-BADE-4534-82A6-76FF32C6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009-10CF-4AF3-98E3-ACE610D9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21C-32E1-4CFF-BEF3-9553EF6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06F-DBC8-46A9-BE00-8C5E586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1AB-E7D1-4762-BB4A-8566A608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1CB-EEF5-4A41-8CCE-4172F54C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46D-E158-49C2-9F0C-53232E3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16C-0D8D-4A42-9F9E-D1D1158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859-D2CD-4536-A7EC-B10620F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31E-72E8-4384-9D87-98D611D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5DD-1D8A-4DA3-87C0-63178707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上半年</a:t>
            </a:r>
            <a:r>
              <a:rPr b="1" lang="en-US" sz="4400" spc="-1" strike="noStrike">
                <a:solidFill>
                  <a:srgbClr val="f8f8f8"/>
                </a:solidFill>
                <a:latin typeface="黑体"/>
                <a:ea typeface="黑体"/>
              </a:rPr>
              <a:t>CET</a:t>
            </a: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考务工作</a:t>
            </a:r>
            <a:br>
              <a:rPr sz="4400"/>
            </a:b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调整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教育部考试中心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2013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86920" y="3141360"/>
            <a:ext cx="7129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一部分  考试材料变更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二部分  考场操作规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三部分  条形码异常情况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547640" y="141300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黑体"/>
                <a:ea typeface="黑体"/>
              </a:rPr>
              <a:t>内  容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一部分 考试材料变更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 </a:t>
            </a:r>
            <a:r>
              <a:rPr b="1" lang="zh-CN" sz="22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题册背面内容有作文题目、准考证号填写栏、姓名填写栏以及条形码粘贴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Administrator\AppData\Roaming\Tencent\Users\58445695\QQ\WinTemp\RichOle\EHVQM{7_D%T7E$`)8S[%0PM.jpg"/>
          <p:cNvPicPr/>
          <p:nvPr/>
        </p:nvPicPr>
        <p:blipFill>
          <a:blip r:embed="rId1"/>
          <a:stretch/>
        </p:blipFill>
        <p:spPr>
          <a:xfrm>
            <a:off x="1835280" y="1989000"/>
            <a:ext cx="3876480" cy="4705560"/>
          </a:xfrm>
          <a:prstGeom prst="rect">
            <a:avLst/>
          </a:prstGeom>
          <a:ln w="0">
            <a:noFill/>
          </a:ln>
        </p:spPr>
      </p:pic>
      <p:sp>
        <p:nvSpPr>
          <p:cNvPr id="5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线形标注 2 14"/>
          <p:cNvSpPr/>
          <p:nvPr/>
        </p:nvSpPr>
        <p:spPr>
          <a:xfrm>
            <a:off x="1763640" y="2349360"/>
            <a:ext cx="4103640" cy="2232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88920" y="3213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作文题目区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线形标注 2 16"/>
          <p:cNvSpPr/>
          <p:nvPr/>
        </p:nvSpPr>
        <p:spPr>
          <a:xfrm>
            <a:off x="1763640" y="4869000"/>
            <a:ext cx="2737080" cy="1584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88920" y="5445000"/>
            <a:ext cx="169236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个人信息填涂区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线形标注 2 18"/>
          <p:cNvSpPr/>
          <p:nvPr/>
        </p:nvSpPr>
        <p:spPr>
          <a:xfrm>
            <a:off x="4643280" y="4869000"/>
            <a:ext cx="865440" cy="158436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84720" y="5950080"/>
            <a:ext cx="187200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033960" y="2060640"/>
            <a:ext cx="2968920" cy="151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1"/>
          <p:cNvSpPr/>
          <p:nvPr/>
        </p:nvSpPr>
        <p:spPr>
          <a:xfrm>
            <a:off x="6372360" y="357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增加提示语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684360" y="98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二部分考务操作规程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000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116000" y="3284640"/>
            <a:ext cx="1314360" cy="15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042920" y="508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2916360" y="3068640"/>
            <a:ext cx="92556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试题册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16360" y="4149720"/>
            <a:ext cx="92556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916360" y="5300640"/>
            <a:ext cx="92556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659640" y="3573360"/>
            <a:ext cx="1315800" cy="1295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6659640" y="508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74" name="直接箭头连接符 14"/>
          <p:cNvCxnSpPr>
            <a:stCxn id="69" idx="3"/>
          </p:cNvCxnSpPr>
          <p:nvPr/>
        </p:nvCxnSpPr>
        <p:spPr>
          <a:xfrm>
            <a:off x="3841920" y="3392280"/>
            <a:ext cx="2304000" cy="626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直接箭头连接符 16"/>
          <p:cNvCxnSpPr>
            <a:stCxn id="70" idx="3"/>
          </p:cNvCxnSpPr>
          <p:nvPr/>
        </p:nvCxnSpPr>
        <p:spPr>
          <a:xfrm flipV="1">
            <a:off x="3841920" y="4149360"/>
            <a:ext cx="2232720" cy="3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6" name="直接箭头连接符 19"/>
          <p:cNvCxnSpPr/>
          <p:nvPr/>
        </p:nvCxnSpPr>
        <p:spPr>
          <a:xfrm flipV="1">
            <a:off x="3637080" y="4220640"/>
            <a:ext cx="2961360" cy="1332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7" name="TextBox 22"/>
          <p:cNvSpPr/>
          <p:nvPr/>
        </p:nvSpPr>
        <p:spPr>
          <a:xfrm>
            <a:off x="3995640" y="306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左上角，背面向上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考试开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612720" y="4221000"/>
            <a:ext cx="113976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684360" y="5302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124000" y="3933720"/>
            <a:ext cx="68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提示考生作文题目在试题册背面，作文题目仍作答在答题卡</a:t>
            </a:r>
            <a:r>
              <a:rPr b="1" lang="en-US" sz="32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相应位置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第一次检查考生条形码粘贴情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11280" y="1917720"/>
            <a:ext cx="114120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11280" y="299736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124000" y="2060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开始作答作文题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云形 16"/>
          <p:cNvSpPr/>
          <p:nvPr/>
        </p:nvSpPr>
        <p:spPr>
          <a:xfrm>
            <a:off x="324000" y="1268280"/>
            <a:ext cx="3887640" cy="2737080"/>
          </a:xfrm>
          <a:prstGeom prst="pie">
            <a:avLst/>
          </a:prstGeom>
          <a:solidFill>
            <a:srgbClr val="ffcb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异常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考生已在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或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上作答时，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发现试题册有印刷错误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图示 17" descr=""/>
          <p:cNvPicPr/>
          <p:nvPr/>
        </p:nvPicPr>
        <p:blipFill>
          <a:blip r:embed="rId1"/>
          <a:stretch/>
        </p:blipFill>
        <p:spPr>
          <a:xfrm>
            <a:off x="3833640" y="682560"/>
            <a:ext cx="5054760" cy="5621400"/>
          </a:xfrm>
          <a:prstGeom prst="rect">
            <a:avLst/>
          </a:prstGeom>
          <a:ln w="0">
            <a:noFill/>
          </a:ln>
        </p:spPr>
      </p:pic>
      <p:sp>
        <p:nvSpPr>
          <p:cNvPr id="87" name="矩形 18"/>
          <p:cNvSpPr/>
          <p:nvPr/>
        </p:nvSpPr>
        <p:spPr>
          <a:xfrm>
            <a:off x="6113520" y="5173560"/>
            <a:ext cx="50472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右箭头 20"/>
          <p:cNvSpPr/>
          <p:nvPr/>
        </p:nvSpPr>
        <p:spPr>
          <a:xfrm>
            <a:off x="7410600" y="5318280"/>
            <a:ext cx="287280" cy="2156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矩形 22"/>
          <p:cNvSpPr/>
          <p:nvPr/>
        </p:nvSpPr>
        <p:spPr>
          <a:xfrm>
            <a:off x="6905520" y="5173560"/>
            <a:ext cx="50508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加号 11"/>
          <p:cNvSpPr/>
          <p:nvPr/>
        </p:nvSpPr>
        <p:spPr>
          <a:xfrm>
            <a:off x="6618240" y="5245200"/>
            <a:ext cx="287280" cy="28872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7697880" y="5173560"/>
            <a:ext cx="504720" cy="505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6113520" y="5749920"/>
            <a:ext cx="50472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右箭头 19"/>
          <p:cNvSpPr/>
          <p:nvPr/>
        </p:nvSpPr>
        <p:spPr>
          <a:xfrm>
            <a:off x="7410600" y="5894280"/>
            <a:ext cx="287280" cy="2160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6905520" y="5749920"/>
            <a:ext cx="5050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加号 26"/>
          <p:cNvSpPr/>
          <p:nvPr/>
        </p:nvSpPr>
        <p:spPr>
          <a:xfrm>
            <a:off x="6618240" y="582120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矩形 27"/>
          <p:cNvSpPr/>
          <p:nvPr/>
        </p:nvSpPr>
        <p:spPr>
          <a:xfrm>
            <a:off x="7697880" y="5749920"/>
            <a:ext cx="50472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椭圆形标注 28"/>
          <p:cNvSpPr/>
          <p:nvPr/>
        </p:nvSpPr>
        <p:spPr>
          <a:xfrm>
            <a:off x="1476360" y="4365720"/>
            <a:ext cx="2590920" cy="1871640"/>
          </a:xfrm>
          <a:prstGeom prst="wedgeEllipseCallout">
            <a:avLst>
              <a:gd name="adj1" fmla="val 66726"/>
              <a:gd name="adj2" fmla="val 2862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5:36Z</dcterms:created>
  <dc:creator>王伟</dc:creator>
  <dc:description/>
  <dc:language>en-US</dc:language>
  <cp:lastModifiedBy>dap</cp:lastModifiedBy>
  <dcterms:modified xsi:type="dcterms:W3CDTF">2014-06-14T13:25:23Z</dcterms:modified>
  <cp:revision>955</cp:revision>
  <dc:subject/>
  <dc:title>大学英语四六级考试考务会</dc:title>
</cp:coreProperties>
</file>