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6A5-52D5-4EC6-A7BF-6AB665E2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FB5-67D5-4D69-AF82-4DDB6C5E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C9F-19CD-4D00-AE2F-7B5F9D99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2DB-A840-407C-9EA0-D5D1D02D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272-EBEE-4D13-8BBE-00E10E17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8DB-6544-4639-B72E-BEB4CD4E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A52-B00B-459D-BB35-5185E55D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8A4-AAC9-4EAE-A0F8-77346F70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4C6-FC42-41D4-8241-C3DE8671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317-C6E8-4691-B7E3-8DD50BB6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B57-DD39-4415-873D-F6D7A236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F68-1483-44B6-A8E1-EDF1A272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D02-22E7-42E8-9381-0DDEE0ABE6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巨无霸水电工程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三峡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峡航拍，大坝主体明显分为约三个坝段，两边就是左右岸厂房，可以看到粗大的引水钢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744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伊泰普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847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伊泰普水电站，位于巴拉那河流经巴西与巴拉圭两国边境的河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伊泰普水电站一开始装设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机组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频率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0Hz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机组为巴西所有，另外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Hz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机组为巴拉圭所有，巴拉圭多余电量经直流换流站和线路输送至巴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又扩建预留机坑的两座机组，目前共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发电机组，是当今世界装机容量第二大，发电量最大的水电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伊泰普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古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古里水电站，委内瑞拉东南部奥里诺科河支流卡罗尼河梯级开发的第一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坝址年径流量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1536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亿立方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水电站装机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1030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万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kW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，拥有惊人的水库库容，总库容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1350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亿立方米，调节库容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854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亿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立方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古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02:14:24Z</dcterms:created>
  <dc:creator>dingaiping</dc:creator>
  <dc:description/>
  <dc:language>en-US</dc:language>
  <cp:lastModifiedBy>dingaiping</cp:lastModifiedBy>
  <dcterms:modified xsi:type="dcterms:W3CDTF">2013-06-22T02:23:08Z</dcterms:modified>
  <cp:revision>3</cp:revision>
  <dc:subject/>
  <dc:title>巨无霸水电工程 </dc:title>
</cp:coreProperties>
</file>