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D295-684A-4C4F-993E-052E8B6522BA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9286-A98F-4109-8237-CDA2F8ED80F1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1406-5847-45FE-8E2D-3F7BB5DD6598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10F9-EAB4-4A8E-9C91-46B317B57BF3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8A77-76F9-4603-B93B-1E343C156FEB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FB11-430B-49FF-9272-E84E4196E8E8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E586-C8DD-4EF9-B344-08AD58F30057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4A4-12FD-4E13-8FA6-5EE01E2C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756-4B87-4886-8007-D0C94DC9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A48-BF3E-45F5-81E7-475842B8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173-45B5-4DE7-9B7D-C1BB6F87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16E-BC43-4002-B571-64548CFC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F7B-C26C-4FA5-AD20-8B91A8C4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739-60A1-4CB1-B704-3DD926CC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E29-2498-49FC-9525-87618EB9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A7E-F5A6-46C0-905E-50E06499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DF9-85C6-4E93-A522-E26EF91A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B4C-FAD0-4B7B-94E7-0D2B923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332-7227-4366-92D4-46607D9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A601-0C84-4F2F-8B26-7F2C2E80F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" name="Picture 7" descr="A6"/>
          <p:cNvPicPr/>
          <p:nvPr/>
        </p:nvPicPr>
        <p:blipFill>
          <a:blip r:embed="rId2"/>
          <a:stretch/>
        </p:blipFill>
        <p:spPr>
          <a:xfrm>
            <a:off x="0" y="0"/>
            <a:ext cx="9201240" cy="689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8f8f8"/>
                </a:solidFill>
                <a:latin typeface="黑体"/>
                <a:ea typeface="黑体"/>
              </a:rPr>
              <a:t>上半年</a:t>
            </a:r>
            <a:r>
              <a:rPr b="1" lang="en-US" sz="4400" spc="-1" strike="noStrike">
                <a:solidFill>
                  <a:srgbClr val="f8f8f8"/>
                </a:solidFill>
                <a:latin typeface="黑体"/>
                <a:ea typeface="黑体"/>
              </a:rPr>
              <a:t>CET</a:t>
            </a:r>
            <a:r>
              <a:rPr b="1" lang="zh-CN" sz="4400" spc="-1" strike="noStrike">
                <a:solidFill>
                  <a:srgbClr val="f8f8f8"/>
                </a:solidFill>
                <a:latin typeface="黑体"/>
                <a:ea typeface="黑体"/>
              </a:rPr>
              <a:t>考务工作</a:t>
            </a:r>
            <a:br>
              <a:rPr sz="4400"/>
            </a:br>
            <a:r>
              <a:rPr b="1" lang="zh-CN" sz="4400" spc="-1" strike="noStrike">
                <a:solidFill>
                  <a:srgbClr val="f8f8f8"/>
                </a:solidFill>
                <a:latin typeface="黑体"/>
                <a:ea typeface="黑体"/>
              </a:rPr>
              <a:t>调整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f8f8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教育部考试中心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8f8f8"/>
                </a:solidFill>
                <a:latin typeface="黑体"/>
                <a:ea typeface="黑体"/>
              </a:rPr>
              <a:t>2013</a:t>
            </a: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f8f8f8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86920" y="3141360"/>
            <a:ext cx="7129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第一部分  考试材料变更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第二部分  考场操作规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第三部分  条形码异常情况处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547640" y="141300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8f8f8"/>
                </a:solidFill>
                <a:latin typeface="黑体"/>
                <a:ea typeface="黑体"/>
              </a:rPr>
              <a:t>内  容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</a:rPr>
              <a:t>第一部分 考试材料变更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 </a:t>
            </a:r>
            <a:r>
              <a:rPr b="1" lang="zh-CN" sz="22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试题册背面内容有作文题目、准考证号填写栏、姓名填写栏以及条形码粘贴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C:\Users\Administrator\AppData\Roaming\Tencent\Users\58445695\QQ\WinTemp\RichOle\EHVQM{7_D%T7E$`)8S[%0PM.jpg"/>
          <p:cNvPicPr/>
          <p:nvPr/>
        </p:nvPicPr>
        <p:blipFill>
          <a:blip r:embed="rId1"/>
          <a:stretch/>
        </p:blipFill>
        <p:spPr>
          <a:xfrm>
            <a:off x="1835280" y="1989000"/>
            <a:ext cx="3876480" cy="4705560"/>
          </a:xfrm>
          <a:prstGeom prst="rect">
            <a:avLst/>
          </a:prstGeom>
          <a:ln w="0">
            <a:noFill/>
          </a:ln>
        </p:spPr>
      </p:pic>
      <p:sp>
        <p:nvSpPr>
          <p:cNvPr id="56" name="线形标注 1 13"/>
          <p:cNvSpPr/>
          <p:nvPr/>
        </p:nvSpPr>
        <p:spPr>
          <a:xfrm>
            <a:off x="3780000" y="2060640"/>
            <a:ext cx="4537080" cy="23763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线形标注 2 14"/>
          <p:cNvSpPr/>
          <p:nvPr/>
        </p:nvSpPr>
        <p:spPr>
          <a:xfrm>
            <a:off x="1763640" y="2349360"/>
            <a:ext cx="4103640" cy="2232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3159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88920" y="321300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作文题目区域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线形标注 2 16"/>
          <p:cNvSpPr/>
          <p:nvPr/>
        </p:nvSpPr>
        <p:spPr>
          <a:xfrm>
            <a:off x="1763640" y="4869000"/>
            <a:ext cx="2737080" cy="15843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3159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88920" y="5445000"/>
            <a:ext cx="1692360" cy="33732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cc"/>
                </a:solidFill>
                <a:latin typeface="Arial"/>
              </a:rPr>
              <a:t>个人信息填涂区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线形标注 2 18"/>
          <p:cNvSpPr/>
          <p:nvPr/>
        </p:nvSpPr>
        <p:spPr>
          <a:xfrm>
            <a:off x="4643280" y="4869000"/>
            <a:ext cx="865440" cy="158436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29125"/>
              <a:gd name="adj6" fmla="val 982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6084720" y="5950080"/>
            <a:ext cx="187200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条形码粘贴条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6033960" y="2060640"/>
            <a:ext cx="2968920" cy="15127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1"/>
          <p:cNvSpPr/>
          <p:nvPr/>
        </p:nvSpPr>
        <p:spPr>
          <a:xfrm>
            <a:off x="6372360" y="35733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条形码粘贴条增加提示语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684360" y="981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f8f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</a:rPr>
              <a:t>第二部分考务操作规程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90000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9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时，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 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时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1116000" y="3284640"/>
            <a:ext cx="1314360" cy="1585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1042920" y="5084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矩形 8"/>
          <p:cNvSpPr/>
          <p:nvPr/>
        </p:nvSpPr>
        <p:spPr>
          <a:xfrm>
            <a:off x="2916360" y="3068640"/>
            <a:ext cx="92556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试题册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916360" y="4149720"/>
            <a:ext cx="925560" cy="647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题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矩形 10"/>
          <p:cNvSpPr/>
          <p:nvPr/>
        </p:nvSpPr>
        <p:spPr>
          <a:xfrm>
            <a:off x="2916360" y="5300640"/>
            <a:ext cx="925560" cy="64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题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6659640" y="3573360"/>
            <a:ext cx="1315800" cy="1295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2"/>
          <p:cNvSpPr/>
          <p:nvPr/>
        </p:nvSpPr>
        <p:spPr>
          <a:xfrm>
            <a:off x="6659640" y="5084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琥珀"/>
                <a:ea typeface="华文琥珀"/>
              </a:rPr>
              <a:t>考生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74" name="直接箭头连接符 14"/>
          <p:cNvCxnSpPr>
            <a:stCxn id="69" idx="3"/>
          </p:cNvCxnSpPr>
          <p:nvPr/>
        </p:nvCxnSpPr>
        <p:spPr>
          <a:xfrm>
            <a:off x="3841920" y="3392280"/>
            <a:ext cx="2304000" cy="6260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5" name="直接箭头连接符 16"/>
          <p:cNvCxnSpPr>
            <a:stCxn id="70" idx="3"/>
          </p:cNvCxnSpPr>
          <p:nvPr/>
        </p:nvCxnSpPr>
        <p:spPr>
          <a:xfrm flipV="1">
            <a:off x="3841920" y="4149360"/>
            <a:ext cx="2232720" cy="3247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6" name="直接箭头连接符 19"/>
          <p:cNvCxnSpPr/>
          <p:nvPr/>
        </p:nvCxnSpPr>
        <p:spPr>
          <a:xfrm flipV="1">
            <a:off x="3637080" y="4220640"/>
            <a:ext cx="2961360" cy="13327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77" name="TextBox 22"/>
          <p:cNvSpPr/>
          <p:nvPr/>
        </p:nvSpPr>
        <p:spPr>
          <a:xfrm>
            <a:off x="3995640" y="306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左上角，背面向上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5"/>
          <p:cNvSpPr/>
          <p:nvPr/>
        </p:nvSpPr>
        <p:spPr>
          <a:xfrm>
            <a:off x="755640" y="1052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9:1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，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 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，考试开始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612720" y="4221000"/>
            <a:ext cx="1139760" cy="936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684360" y="53020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124000" y="3933720"/>
            <a:ext cx="68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提示考生作文题目在试题册背面，作文题目仍作答在答题卡</a:t>
            </a:r>
            <a:r>
              <a:rPr b="1" lang="en-US" sz="32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相应位置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第一次检查考生条形码粘贴情况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2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611280" y="1917720"/>
            <a:ext cx="1141200" cy="8888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611280" y="299736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琥珀"/>
                <a:ea typeface="华文琥珀"/>
              </a:rPr>
              <a:t>学生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124000" y="206064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开始作答作文题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云形 16"/>
          <p:cNvSpPr/>
          <p:nvPr/>
        </p:nvSpPr>
        <p:spPr>
          <a:xfrm>
            <a:off x="324000" y="1268280"/>
            <a:ext cx="3887640" cy="2737080"/>
          </a:xfrm>
          <a:prstGeom prst="pie">
            <a:avLst/>
          </a:prstGeom>
          <a:solidFill>
            <a:srgbClr val="ffcb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异常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考生已在答题卡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或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上作答时，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发现试题册有印刷错误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6" name="图示 17" descr=""/>
          <p:cNvPicPr/>
          <p:nvPr/>
        </p:nvPicPr>
        <p:blipFill>
          <a:blip r:embed="rId1"/>
          <a:stretch/>
        </p:blipFill>
        <p:spPr>
          <a:xfrm>
            <a:off x="3833640" y="682560"/>
            <a:ext cx="5054760" cy="5621400"/>
          </a:xfrm>
          <a:prstGeom prst="rect">
            <a:avLst/>
          </a:prstGeom>
          <a:ln w="0">
            <a:noFill/>
          </a:ln>
        </p:spPr>
      </p:pic>
      <p:sp>
        <p:nvSpPr>
          <p:cNvPr id="87" name="矩形 18"/>
          <p:cNvSpPr/>
          <p:nvPr/>
        </p:nvSpPr>
        <p:spPr>
          <a:xfrm>
            <a:off x="6113520" y="5173560"/>
            <a:ext cx="504720" cy="505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原有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右箭头 20"/>
          <p:cNvSpPr/>
          <p:nvPr/>
        </p:nvSpPr>
        <p:spPr>
          <a:xfrm>
            <a:off x="7410600" y="5318280"/>
            <a:ext cx="287280" cy="2156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矩形 22"/>
          <p:cNvSpPr/>
          <p:nvPr/>
        </p:nvSpPr>
        <p:spPr>
          <a:xfrm>
            <a:off x="6905520" y="5173560"/>
            <a:ext cx="505080" cy="505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备用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加号 11"/>
          <p:cNvSpPr/>
          <p:nvPr/>
        </p:nvSpPr>
        <p:spPr>
          <a:xfrm>
            <a:off x="6618240" y="5245200"/>
            <a:ext cx="287280" cy="288720"/>
          </a:xfrm>
          <a:custGeom>
            <a:avLst/>
            <a:gdLst/>
            <a:ahLst/>
            <a:rect l="l" t="t" r="r" b="b"/>
            <a:pathLst>
              <a:path w="287337" h="288925">
                <a:moveTo>
                  <a:pt x="38087" y="110672"/>
                </a:moveTo>
                <a:lnTo>
                  <a:pt x="109878" y="110672"/>
                </a:lnTo>
                <a:lnTo>
                  <a:pt x="109878" y="38297"/>
                </a:lnTo>
                <a:lnTo>
                  <a:pt x="177459" y="38297"/>
                </a:lnTo>
                <a:lnTo>
                  <a:pt x="177459" y="110672"/>
                </a:lnTo>
                <a:lnTo>
                  <a:pt x="249250" y="110672"/>
                </a:lnTo>
                <a:lnTo>
                  <a:pt x="249250" y="178253"/>
                </a:lnTo>
                <a:lnTo>
                  <a:pt x="177459" y="178253"/>
                </a:lnTo>
                <a:lnTo>
                  <a:pt x="177459" y="250628"/>
                </a:lnTo>
                <a:lnTo>
                  <a:pt x="109878" y="250628"/>
                </a:lnTo>
                <a:lnTo>
                  <a:pt x="109878" y="178253"/>
                </a:lnTo>
                <a:lnTo>
                  <a:pt x="38087" y="178253"/>
                </a:lnTo>
                <a:lnTo>
                  <a:pt x="38087" y="11067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7697880" y="5173560"/>
            <a:ext cx="504720" cy="505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6113520" y="5749920"/>
            <a:ext cx="50472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原有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右箭头 19"/>
          <p:cNvSpPr/>
          <p:nvPr/>
        </p:nvSpPr>
        <p:spPr>
          <a:xfrm>
            <a:off x="7410600" y="5894280"/>
            <a:ext cx="287280" cy="2160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矩形 25"/>
          <p:cNvSpPr/>
          <p:nvPr/>
        </p:nvSpPr>
        <p:spPr>
          <a:xfrm>
            <a:off x="6905520" y="5749920"/>
            <a:ext cx="50508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备用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加号 26"/>
          <p:cNvSpPr/>
          <p:nvPr/>
        </p:nvSpPr>
        <p:spPr>
          <a:xfrm>
            <a:off x="6618240" y="5821200"/>
            <a:ext cx="287280" cy="289080"/>
          </a:xfrm>
          <a:custGeom>
            <a:avLst/>
            <a:gdLst/>
            <a:ahLst/>
            <a:rect l="l" t="t" r="r" b="b"/>
            <a:pathLst>
              <a:path w="287337" h="288925">
                <a:moveTo>
                  <a:pt x="38087" y="110672"/>
                </a:moveTo>
                <a:lnTo>
                  <a:pt x="109878" y="110672"/>
                </a:lnTo>
                <a:lnTo>
                  <a:pt x="109878" y="38297"/>
                </a:lnTo>
                <a:lnTo>
                  <a:pt x="177459" y="38297"/>
                </a:lnTo>
                <a:lnTo>
                  <a:pt x="177459" y="110672"/>
                </a:lnTo>
                <a:lnTo>
                  <a:pt x="249250" y="110672"/>
                </a:lnTo>
                <a:lnTo>
                  <a:pt x="249250" y="178253"/>
                </a:lnTo>
                <a:lnTo>
                  <a:pt x="177459" y="178253"/>
                </a:lnTo>
                <a:lnTo>
                  <a:pt x="177459" y="250628"/>
                </a:lnTo>
                <a:lnTo>
                  <a:pt x="109878" y="250628"/>
                </a:lnTo>
                <a:lnTo>
                  <a:pt x="109878" y="178253"/>
                </a:lnTo>
                <a:lnTo>
                  <a:pt x="38087" y="178253"/>
                </a:lnTo>
                <a:lnTo>
                  <a:pt x="38087" y="11067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矩形 27"/>
          <p:cNvSpPr/>
          <p:nvPr/>
        </p:nvSpPr>
        <p:spPr>
          <a:xfrm>
            <a:off x="7697880" y="5749920"/>
            <a:ext cx="50472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椭圆形标注 28"/>
          <p:cNvSpPr/>
          <p:nvPr/>
        </p:nvSpPr>
        <p:spPr>
          <a:xfrm>
            <a:off x="1476360" y="4365720"/>
            <a:ext cx="2590920" cy="1871640"/>
          </a:xfrm>
          <a:prstGeom prst="wedgeEllipseCallout">
            <a:avLst>
              <a:gd name="adj1" fmla="val 66726"/>
              <a:gd name="adj2" fmla="val 2862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彩云"/>
                <a:ea typeface="华文彩云"/>
              </a:rPr>
              <a:t>经省同意，所误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时间予以延长</a:t>
            </a:r>
            <a:r>
              <a:rPr b="1" lang="en-US" sz="2800" spc="-1" strike="noStrike">
                <a:solidFill>
                  <a:srgbClr val="ffff00"/>
                </a:solidFill>
                <a:latin typeface="华文彩云"/>
                <a:ea typeface="华文彩云"/>
              </a:rPr>
              <a:t>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1:25:36Z</dcterms:created>
  <dc:creator>王伟</dc:creator>
  <dc:description/>
  <dc:language>en-US</dc:language>
  <cp:lastModifiedBy>dap</cp:lastModifiedBy>
  <dcterms:modified xsi:type="dcterms:W3CDTF">2014-06-14T13:25:23Z</dcterms:modified>
  <cp:revision>955</cp:revision>
  <dc:subject/>
  <dc:title>大学英语四六级考试考务会</dc:title>
</cp:coreProperties>
</file>