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89F-FF50-4529-8212-FDDA4AEF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D3D-5F2D-417D-A9B1-4A3D9088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C28-959E-4AC9-9079-7E55B2DC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822-F489-40F3-8A32-1E2BA195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252-BEA3-423D-9BE2-940D4686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6E4-0443-41BE-887C-9E5D1015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C03-1EC8-448C-AC10-EE9C3B30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136-19CC-48DA-B233-C7F4C1F5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B71-C4D1-49BF-BC9F-A7E1AAC2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DCC-6B27-478E-8143-E5B12ADA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9A3-07FD-4576-A76E-E3AA1182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162-B782-480C-803F-5EFD130A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B9EF-10AF-497D-A63F-CF9F292172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巨无霸水电工程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三峡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峡航拍，大坝主体明显分为约三个坝段，两边就是左右岸厂房，可以看到粗大的引水钢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744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伊泰普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847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伊泰普水电站，位于巴拉那河流经巴西与巴拉圭两国边境的河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伊泰普水电站一开始装设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机组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频率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0Hz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机组为巴西所有，另外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Hz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机组为巴拉圭所有，巴拉圭多余电量经直流换流站和线路输送至巴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又扩建预留机坑的两座机组，目前共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发电机组，是当今世界装机容量第二大，发电量最大的水电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伊泰普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古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古里水电站，委内瑞拉东南部奥里诺科河支流卡罗尼河梯级开发的第一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坝址年径流量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1536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亿立方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水电站装机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1030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万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kW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，拥有惊人的水库库容，总库容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1350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亿立方米，调节库容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854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亿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立方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古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2T02:14:24Z</dcterms:created>
  <dc:creator>dingaiping</dc:creator>
  <dc:description/>
  <dc:language>en-US</dc:language>
  <cp:lastModifiedBy>dingaiping</cp:lastModifiedBy>
  <dcterms:modified xsi:type="dcterms:W3CDTF">2013-06-22T02:23:08Z</dcterms:modified>
  <cp:revision>3</cp:revision>
  <dc:subject/>
  <dc:title>巨无霸水电工程 </dc:title>
</cp:coreProperties>
</file>