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media/image2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7.wmf" ContentType="image/x-wmf"/>
  <Override PartName="/ppt/media/image12.png" ContentType="image/png"/>
  <Override PartName="/ppt/media/image13.png" ContentType="image/png"/>
  <Override PartName="/ppt/media/image8.wmf" ContentType="image/x-wmf"/>
  <Override PartName="/ppt/media/image14.png" ContentType="image/png"/>
  <Override PartName="/ppt/media/image9.wmf" ContentType="image/x-wmf"/>
  <Override PartName="/ppt/media/image6.wmf" ContentType="image/x-wmf"/>
  <Override PartName="/ppt/media/image11.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AF9EC-E65F-46EF-9701-E78F908F9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896F-C68D-46D5-9809-7C36D89C6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23093A-5C61-4A77-903C-B4B1AD0FCA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C04B6B-C10E-41D5-B263-17E5622782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37C1C7-E5E4-47E4-9762-1F5025F302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BEE55-7CC8-4D5C-BE1C-0F153424F7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A1A06-D029-44F5-B6B9-7478DA2AF8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E42F40-7C3B-4896-AC5B-C6FD0BD917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C268E4-900A-4631-B44B-CBA601988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7826E1-7785-4474-BA58-2AEBCA353D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D3EC71-76BA-4D78-8558-306EC1594A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9C007D-A202-4893-81A9-07DDA94773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ED89D-98FC-4F1F-9EF3-E687EBFE8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BF214C-8C43-4875-AC0F-C592056A8C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2A6FB9-F240-4EC3-808E-4C3D9FE8A6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D897FA-B0BC-4F67-B0FA-810EA35604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CF6F50-F87A-4AA3-862E-A618AAC952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3E55CD-7F30-4FF7-BCDC-67E0EEA43B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F1B178-4A04-414F-A8B6-710D1C0F41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0F70FC-5693-42E3-AB18-FCB3849C77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DDD50-F865-49E2-A00B-ECF8755F9C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E67E20-B19D-4B0E-B503-57695798B2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0B2E20-CF7C-485F-ADAB-253E422B57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722F8-C91B-44EB-A845-2D765B833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63CAB37-A8DD-4BFC-8205-1F604CB8B0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524ADB-E7A7-4813-AEB0-B84276C006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231873-D531-420D-A00F-0509EEE910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82250A-60D5-4B90-98A6-17A98E1976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45A42B-A423-4915-AAA1-C6D11001E6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2287ED-8CEC-4B9D-9147-10CC14517E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B8FD8E-4A9D-4B15-9CB0-774187AEC8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7DA4C9-3DED-4B47-ABE0-F46A3F71C2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9E286-08D5-484B-AC92-9DB318F921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5C0A57-53B0-46B8-857A-6AB39BB2AE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B1C6E-5DBF-415E-9700-7152A7DE4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C56550-93F0-4968-BEF2-06EDF79ABC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C744AD-373C-446A-8864-08595368B1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E1DC69-DF49-4E7D-B15A-B818CB6439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5CC057-FAD3-436C-908B-779BEE755A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7F14AB-3C8E-4A95-81A9-188F33E3B5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93748A-EA26-4CDB-B906-ABF6D5960F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BCB000-4751-4CBB-869E-631D9664AB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44ED74-1CF2-4719-B63C-502BB80464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026AA7-6ED2-4E95-8298-C648087000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F3938C-D1DE-43A7-AF6F-0D1EC8DBD8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C9E4B-9F2B-4850-AEC5-F737449C0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8ABBD4-7EA2-4D4E-B36B-EBFE81425F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5DD580-A8B6-4D7F-8DCB-744FFD5922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819AC2-8D2E-469C-BBFE-B0ADEB64B9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13E31E-CBEF-4D2A-A223-D62AA1C509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17D86F-D7C1-486C-939D-750ABF43C0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BE35C1-A355-46C0-963E-ABB6957154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438C42-CC83-4AA8-9DF6-35708B33A1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916E28-F984-45A3-8292-1CC3CBAB78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CED04F-3C08-4332-814B-49C75E6401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AEA184-5A52-4292-BE72-FB17AA4DBF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DE5FC-C4C9-4456-923C-75A70A113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15E113-8B7F-494B-B6EA-41ABA388D8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CAFC67-C3A9-4782-92B2-40DE5DE123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F39F44-1AE4-48E0-97CF-57E1C16383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DEFB92-90A2-4F17-BE74-B964E7DF7A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7ED540-A041-4CC4-8856-7FD001B6C91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9810D4-7A4C-4D94-A7F7-DB814C7EFE2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52B113-817B-4AF0-BDA1-C859DB0A67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3B608F-5634-4E17-ABF3-027F1CA41B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E0B175-BC68-41F8-9DF8-C367162CE5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B3007C-4AA7-4DAF-9AD0-C4C8F0663D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9CB6E-2758-4D8F-9B04-358492CEC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8595F7-63F0-4764-8764-592D927F99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AA8836-F472-43F5-944E-4C5B7EE768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922772-4CDE-4450-B5D9-973A3367FB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B133A7-50EE-4B43-997E-9C0C910CCD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633AA8-F57B-49D1-9981-28F765A9C7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409DB9-B839-4B49-819B-95E47ED2AB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FD84CA-145B-43A1-948B-575F389CB0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920EB79-456D-465B-B5C3-7566AB3558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20D7D66-357A-43FB-B75C-968E2015E6F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98E7BFA-2B3A-491C-937C-89A6351E41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E794C-ADD8-4027-BA96-A633A2D9D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0AA8FA-EBC1-4F78-A102-A94DC531E56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F529D7-080E-4B88-8A38-91EDBF4120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6412A3-CE76-41AF-943B-44230590A7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EFBA17-59DD-48C9-BE4E-93C478F982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504F72-1A92-4911-988A-ABC9FAF6DE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A56820-EF2E-4EDC-8426-0D2637DFCA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33B6A3-634B-4B96-8A5E-C6E692911A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598D2A-436B-4BA0-9AB0-C07A3C773D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0F30FD-90FE-4E20-B966-F83302CF94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70EC3AA-1213-46AC-B42E-F698FAFD446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C86F4-3C7F-42C4-847D-C04C87102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83B4312-43C4-4D94-9E6D-67044CB063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D5D0853-F1EB-4794-B8E2-A818F08FD45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71352FB-BB07-4AA8-8588-149BADAF11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2AF84D-F1F2-401C-9B56-5272247181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94326F-8751-4638-8C6D-6382CEFD21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DA16C9-038C-4560-87C7-D8B5376FBF7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5264D0-064F-4480-9B46-B8B025C428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1D4748-E686-42C1-AF65-C2C0D0C782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814A5E-7BE5-4DBE-ACA5-F32BD3BD20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5E89A8-FB6A-4D7D-8856-4A938DD305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83ACD-7DAE-4683-9027-576F6FF50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5C7FF5-9FFB-4364-8A35-5A3FFEECF8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643F6C3-F617-431A-97B7-19B4118F6F5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09A6417-8049-49B0-9F69-F0A28859AB8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22C0018-A1CF-4D8A-9994-449CB1E8D48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881021-9257-4FFE-9ED8-207B06500E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4702F4-E9D0-49A0-AFF8-54E45379B19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8A89D87-89B2-4CC8-9115-E233A7D2AB3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245B4D-307C-4A13-BACD-DD357BE8A35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32CDE5-BFCA-4975-B983-389275CAEE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74391E-6277-4E28-B8CF-25C93847DF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145D7-4545-48D3-96C7-F7B755C05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A8B1A-1158-4539-841F-2EF97CA25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DD14D9-2898-4EC6-AD09-BE3D472E75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E9E5B7-11D1-4E9C-BA58-757FE6095F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AB9741-342C-4101-8F05-585D6063ED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DDE5813-80C1-41BB-8B31-9E3C2A7FC4B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1F79E11-0601-4796-9070-FF642701542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FC8FE84-9326-4A26-B655-D8DD5847C73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FE8D5D-69FF-4819-8DAA-BACABD12BA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FFF7A97-82F3-4D6A-9FEA-FEF0226C6B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9D4D60-D9A8-47C6-8CEC-AB78D4CC2FE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460CE3-FE35-4D67-828A-07E608E70D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01B5F-2439-474A-AECC-6F47C86C4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4FAD1B7-EB5B-4EC2-9E59-7F2BBD82B2A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739F2DC-1E60-4479-95D8-EF50537883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D1919C-FD91-4BF4-B53E-1765585790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C0977C9-1BA6-42FC-BB22-76976EC230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52933B-5729-4930-8D54-2AEDCA6263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47210E9-7BB3-4C17-9F14-00D3A5FAEB7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EB4D8D4-66EB-446E-AE59-A3FEAA6AEC9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D8C8F76-8F6D-47A9-8671-103ECFE46BA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B77F3E7-AFD9-4514-BC73-0BFB9ECA1EF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14979B7-782A-4CF5-B414-54E0A471711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99CE2-DD10-4BB5-A854-23B5BE9D2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9374ABE-6A41-4B77-9FBB-9DCA5646F51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AB362FA-F2B1-4905-B9C2-8DFED23917B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E030D0B-2AFC-4D8A-B2F1-DDDBFBFD9A7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5B5DBB-2880-43B2-A669-5D6D939312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DD5E5EE-4D6A-4748-8AD3-3F5F660415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F8EF572-8B87-4226-B78F-06E5B7B6DA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7E0F8F-E528-4D6D-8F9C-3EDF6007FF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DDBD85B-8BA0-4F68-B2AC-15B0E3F7726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3626018-6A4D-4661-B040-3C7BB2B5AFF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94348FF-2FD5-4C69-8BB0-FE879F19C5B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2688F-4F52-47CB-ABEA-3F61C1039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4EF09B7-6070-4D5F-9A02-91A25EB6E62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72D1E70-ADC9-4AEE-A595-7FC89706D56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54EE5F3-31E6-48A4-AC1F-86468BF54FE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73E4289-10E0-4EF8-91C6-F78B8343B3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360F636-B5EA-4984-9FA0-883EDA6D863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733CE7-814F-48B8-BB4D-F74D460C8FB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749BD6F-3D70-4019-AEC2-7BAF4AB438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3E3CBB6-F71B-47E5-922B-8E9201420C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66D22C-14B3-432A-836B-61812F88C4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AE4A2A3-C7F8-48C3-B8ED-052CAB990A0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7DFA6-AD47-49DF-B567-9EC949C23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936AB6E-5926-4D18-9A81-78FABF4A863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5D90A79-48E1-43FC-9974-CF7E7369A32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B27DB92-0A96-4D9D-AB87-3A81386C41F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AFE0FB-C30D-4F7F-B092-BE28226089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77A227-B3DE-47E5-AAE0-9F2372EE982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893B97E-853A-4E44-A790-315CEE935E7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7D72F17-F843-4E31-8F2B-04EB6516F36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6096F41-7431-46E0-98A2-2509F44FB53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FDFAD5-5FC5-4636-B500-C9ED3EA3E0A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AA6A1F-0506-48BE-ACBD-2E806B42EF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A77D6B-E385-4A64-BDC9-5F8CA037F5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6239A63-97B0-42D6-8840-D546829F926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9808AB5-05FA-490C-9628-222D41E83E8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6B8D9CC-1F9B-421D-8425-02E5872670E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6E1E663-D424-46A7-B8C3-63A710B574B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01BA225-15E5-40AD-9FCC-D6365B0F17F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372E65B-2A59-43E2-AD69-8399243A8A7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092CF7-30F2-4C6B-A840-CA9A5FDABE4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B657540-99CA-4CB9-973E-8B9A57A5C9E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E6407E5-245F-4695-B3DA-95B51E018ED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911F54-56FE-4910-AC3E-A6CDDA3C229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FDCDA-C00A-4C51-8B16-35632B06D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A4353D-3966-4C0C-A679-40BC16B5AA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66226B-3CBB-442F-A028-D8CB2D072C3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8EEC42-3353-45B9-847A-06D77628A21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73ECEF5-6652-439A-B671-50A2A97881B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5860E60-C1B2-4BA0-B020-CE8655436BA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934BA78-3373-4645-BA0F-1375F6CEE34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789D1BC-D8F2-492C-B5E8-C63577ED87A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AC45BB5-54F0-40E3-93C7-46C3C81CB3F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5E44E47-94FA-4C1C-9841-D3BB3A800CE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FBDE474-562A-475F-960D-73F1E8BE9F4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6C665-EB6C-4061-B038-7EF437606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C14383F-C63D-4963-8E83-150F2E5935B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CBA2C8-2727-439B-97AC-673C37055AA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09AA9E1-5F88-455F-A74E-DBB4D927DB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75FE026-FEBB-4AB4-BC34-DD1949C6BAC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DCAE410-3BB8-4A58-B134-8CE4560AA08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A1CCE50-93AC-426F-8138-FDC90F2068C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416919E-83C8-4271-B3D8-8CD0FDD2671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70C14A0-E3CC-4650-90DB-C13C7724485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11BD50F-761D-4795-A564-759D9505AB7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437E52A-D6C4-403A-B993-25B04DB9B51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06931-981B-4EDF-823B-5006F5B8B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871C5B1-882A-4FBB-AE8B-1416862FB05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EDE6ADD-0D2D-4684-8D9E-585EC1BC2EB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F3C488A-4F5D-4E6B-A10B-94DA59EEB1D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E2201E9-BF88-4786-9C9B-37E36B3F471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DFED745-4033-49A2-8FF1-26EE59B1B9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2CF411E-70E7-41A3-8B5F-841AE3E2B5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1197FA6-C316-4629-8716-6F0BA8DD825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9F3A0AA-7ABA-43FD-8B7F-821134676CF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50928CF-5730-4DA5-9FF1-9738D15F0B5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59F9696-0275-4EAC-9EE3-6B5A6727146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A3B52-5987-473F-A176-6FC0A4E35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C6607AF-BD17-4D8A-98A6-D7CCFF7CF44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B63A178-5670-485A-A6B0-8B3DA2512FD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EB1EB06-E25A-4DD6-AE28-E8EE41899AC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2E18A15-4842-4484-91AC-743578FCCA0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2A54F49-D7C7-4702-A0FF-339DB607F5B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E35AFCA-DFB8-4BE1-86A4-12113597D76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902126C-76CD-412B-98A1-D0F2BE75021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B4961A0-32A8-4442-BB91-87B7622B671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CE5464B-1CCA-4C38-AD73-DB336B09A51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C5C0D9E-DC40-407B-9339-45134B890A9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DEA1B-0A81-484A-AFCC-D664553C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FBB34-DD0D-43A8-AE59-BEFC031B9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33B02F2-8272-4A40-8B78-30343A7281E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E6FC021-8E96-456D-AD73-5752363CDF0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88C52A5-9517-4B82-AAD4-8C790115405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A4503B2-F406-4840-BFB8-02D8A7F21FF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1ABBDB3-C6D7-48E1-B797-BA22B11D1DF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E3E82FD-42C0-4ED1-B069-DD150B5EC39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98BCA38-6473-4F0D-B822-2278733277E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80CC588-C789-4C56-A5ED-606AA93B1B1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92A964D-0BE8-432D-9B63-B1257DA87D0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DC0F152-F57A-49E7-A0DA-65906DD0ED3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942A5-B071-4D26-8265-4FB183FFC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B0E9D78-12B3-45DD-A6CA-0808ACFC55E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6159C81-44AC-443F-A707-C263F19F05F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0CD78DC-DB0F-480B-B99C-711D5E23B39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3C3F870-8F3F-49C9-AB99-CF8AF314BA9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419EC94-4545-4A1D-914C-994F41BEE7C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8856DB0-27FE-4FAC-8F89-36781710369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B967E65-C93D-420B-B571-C15656D6F74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D987798-6655-49B6-AFE1-0F1C0C9516B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3A74CB2-FED1-4438-80C3-2DC518B50AC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5BFA0C4-02D8-4F43-8A56-7AAA56D24F1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6532E-4005-4991-98EA-F006F5508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B81BD28-104F-4E03-8B2E-00ACA479BB2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1412311-0F43-4624-9A28-616641D148A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19C912B-F5AD-4F42-A5CD-7C6EA763B1C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0FC9EAC-3C3E-4A07-8090-3FBCD6666FA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AB9A133-0735-435E-A1FE-20C80E86B64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9A363C8-12CC-4B2D-AC36-95327E67678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3B731E8-ED36-42B1-843A-82B7AD53A66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5065FFC-4CBC-4542-AD96-EEBE54AE2B0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94CE72D-BEBD-4D12-9CA9-1731AB177B9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453D856-755D-45F6-B5EB-06855F14E72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F5EB4-E6E0-45ED-AB8E-3F642AA6C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F5EA5E8-19AB-48CF-9708-5F796943C63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0CCC7E6-B9D9-4A6A-B73A-23FDD515776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05EDC9B-7AC7-43C0-9969-68854BFAEF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76BADB0-269C-4BF9-B303-668FBCA64EF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31D1D31-548E-4737-81EC-762B12D824C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ACE4627-C384-4481-8636-6F019E82F9D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9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C068607-66E2-407F-ABE9-68B74DE326D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236FEC9-92BE-4B89-8447-F446F307784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76092C7-C1D1-4C3F-870A-A85CA7095D0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2A25C85-28FC-4D87-8BEE-1BD5119059F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0F0F4-5626-40DD-AC84-A6CDF4F0C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FEA6E14-04E4-416C-90F5-BEF30041036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ABC9BC6-8E3B-4E45-8A55-67BFDCABDED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6580F63-2F0B-4E9A-91AC-4DFE3B36090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BB33580-3439-4A33-A681-3652661E44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CA3FBF1-665A-4DC8-A24D-D7DFA69B950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C8C9119-1570-4D30-89C3-EFCBEF16E63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62D5EBB-17BB-4DEB-A4BB-7CC2D415740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0136025-6034-4FA4-9F75-F5C8DC9EA40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63D08D9-11D9-4ABE-9772-0DA4113F502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CFB676A-E92E-4256-B0B0-AD56EA72356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BC2E1C-FAD3-48C9-851E-912ABE36A8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7341357-CACC-4EDA-A674-C45884B6341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963F0C2-19FB-44EC-A63E-A0662E96989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1990D6B-CF18-4A7F-9661-A993BC40C04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2AABBC9-514E-4863-B59D-7270865E609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01EC7E8-56B3-4C19-8EF6-49F82C2C841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EEC0085-84CF-49C0-84CB-D8246491690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9E8AE16-6A6A-4923-922A-8F7F58173F8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31AAF39-6EAE-4BA4-9D16-7077FA925F9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EC3D63A-F592-436D-9094-7098D9E8888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9AD1ED4-FCEC-4A0C-BC96-BFF2F0FAFD4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221C96-86F9-437C-87E1-681AC66A8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9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248F31C-5776-4DDA-9C95-970C185953D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8AEB564-E3D0-48F6-BED5-2C42AF9565F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78438F8-A7D9-4D75-8492-8203535B2A2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75DCEA8-D40F-43A4-8B05-EC78AE2CB65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05C27DC-AD9F-43FE-AEF0-BADF0510FD2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0FD6B20-F506-45C9-9025-2AC316FF169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FEA5438-236C-41AD-8D8E-9148567400F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A4C826B-013C-4354-9025-6EA572B2F5E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2B66844-E336-4F86-8F00-B6BB86A6FB9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857DD38-F556-474D-896F-4F83EB3B6D9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148694-9333-46D4-B336-162D60D71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0ED2715-A050-429A-8526-5481E1F5E0C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E9E61C9-C215-4031-94B6-0CB7CDF868A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8463D1A-327C-416F-9521-880D3D05367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E9D8EC2-851E-47D3-A270-BCAA36AE6D2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C940C98-6730-4E18-9504-92235DD14D7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73FE53C-1581-4CE2-A8D7-156ACAFDF34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B933455-819F-4A48-8FDF-073FAD06F67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5024935-FA9F-44B4-A1BD-05BB26C4E30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321562C-A9DD-4315-8856-AE73022FC36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3F627B5-EB0D-4B92-9D26-22BA43F6F69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6CC11-FAC8-4840-B670-95887268C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7BB3F3B-F30E-4395-A2B2-5BF25D9ED0D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B12E278-6563-452F-A82B-B174A1B7461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5356E6F-0384-4810-9A05-9FF55702D01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78840C2-92CE-412D-8E95-8E1E7BE0C64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5DE7793-77A5-4B30-A684-32897B81EEE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1A544E7-C819-43C2-B0F4-7DDC7EA1AE6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127ADE4-F2CC-4D1E-A927-7346EF8C3ED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7CD62D4-50A2-40A0-8813-780CDD8A71C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B6385A7-0E77-459A-BB20-F7EDC205637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8D04320-2FAE-456B-91CE-F1E489F5019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48E88-09BF-4FA8-9EBA-F21443329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68B08F5-5AC0-4E52-B343-76A0420B5B1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9ADFE66-7100-42D7-AE31-8C5D5BF894A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F994C66-EA64-4FBC-B810-DD675BF08A0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1097FB6-47C2-4282-87D5-7A6B120A982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5E7F9C1-03F1-44EE-84C2-6A406D795C4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5D4B02F-B2D8-4D76-A859-AD3EDC9058C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E7BCDB9-1D87-49C5-8029-A2DE5D34E6D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EB90A31-CF34-4BBF-8089-CA57749ECBE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A9937B8-0905-4005-A8CB-A43AFA5A23F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C2E8ECC-B5F4-4A54-B8BB-5A8802EFD8B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F89F4-F71E-4D1C-B6B5-D13DA547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8D0BF3-8B7C-49D4-8748-25E83DA48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59AF86A-12C5-4400-AFA3-B3674ED1A69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CD8E25C-49DC-488B-83FA-4B17250BC41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680A7E8-294D-4082-921F-2E61D9F4B51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70426F7-EFF6-4D16-80BC-E9BCB236223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8840DF3-C3FB-456A-AABA-5A144486423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9C5FE44-EBD9-438D-8C9A-05F2A6939FB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700A5F9-53EF-43C8-A8ED-A4880AF9310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888C5EF-5321-4CAF-9F5E-2D23304DCB3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407483F-771A-4E6B-82B6-1BB389BDFAB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30C4280-FD3E-47EA-A749-BE28FD179C53}"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A9444-F3EF-4152-BC23-DFBE0220A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989BFC3-83F6-4DCD-BF56-89DB9FB503A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23E2D20-5655-48D2-AD9D-47B62FA4E06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38C1B26-F791-4793-AE17-310513CE62A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8C1E9AD-86AD-432F-B170-4B9BF619239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47785CD-7BBA-4858-9629-4C429D22E3E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340D84A-075B-45FD-967A-194F30DB592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26F72B6-748D-4E1A-A789-3144CFD7E85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4965AEA-9CA0-4B2D-A58E-FA9D306F729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74576A4-1AB5-44B1-A9FA-50EF418975F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B9FB614-C1A0-4893-96D2-D16166B2CF7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151C8A-FF3B-4461-8582-351607D07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0679C53-8CF5-40B6-BBEA-26420D0D6C0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99D6926-3C9E-4E89-9C6C-247830F79887}"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66FFFEA-91DA-47A7-ADEF-93B01722A82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A4F477D-A0E5-4990-858B-29BEA9C8842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E0F9571-A0A1-4574-91BD-9736DC3FDB5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D64193E-B99E-44B1-85CF-13297564D8F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70BA448-CF52-4E7C-ACF0-B7E8D52C0D4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B0E9415-EBCC-4186-9DC9-B2BA1B96473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5387806-EB3C-43C0-9A89-0C520CBE487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5BFCF0B-2C04-4802-87EF-1847D833D65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63D71-A454-461F-B7EC-A81D4E577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FEE40EA-DD05-4541-B586-CE92780F034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93B5392-64EF-4124-B67E-C737D3FD26E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9DAA916-C42A-41D4-903A-91521122363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F04840B-AA50-422C-9596-43014B5304C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F863273-192F-4D9E-8D59-56B2C23778D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C891AE8-4D54-4B96-81CB-E3E810D8EBF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77FAAC2-F182-46EC-B310-CA74931A15C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2BC08DE-431D-4330-B3F7-A2901A4EB36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03256C0-D87F-4E43-AB56-5D0E1724ABC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FDEDE24-52C7-4EDD-8DED-6444A555EAC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D1441-CA6C-4F77-B231-C006ACBE7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5AE9731-D886-46CC-8E19-F3FED67ACC1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EEF1F10-1053-4605-85F2-240E66CB50B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B392E6E-3363-442B-AADF-0F66F35693D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8CEA04A-8153-406A-9C0C-A7C0B23D481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E64D27CF-D3D6-4437-8157-DE4F331594D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BC227D33-E5E1-449F-A264-079932408B5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C9A092A-7961-4FF4-ADD6-A23636B73D7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5A87C3B-3098-4BBC-B088-69BAEC74FD4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6BDEFEF-1E87-4105-AFBE-D8FD0D6AFA1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0FD5F2A-63FB-4C40-8059-B5C75AB7A27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AA033-10B7-452F-8B3B-F9BC4CED0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6B30366-35B4-4405-AC70-135969C8686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01A0528-22DE-4659-99A1-E87B63BCD8D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4F6978A-6892-4D92-92F8-B3F76D96CB5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E307B28-625B-4288-97FB-39D071E9A6B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BBB9FEA-2127-4308-8EC3-D1C6EED9666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C3A1479-BE02-41E7-A357-79F54B6649C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9A1F2A0-7A66-4426-A805-F0B475D84ED0}"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4CAD337-C9DE-47F4-9A24-C95B83E3572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F727230-29D7-4C64-9374-597FDAB9F90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37A0A3F-BA8C-4249-BB2F-96FF7DB8116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0419B9-343C-4922-9903-AE5A3215B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1DDA705-09F9-4EE3-83F5-4EB5D681499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D7A9835-CAF9-4DC2-B1C7-E86531AF766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0A89BBA-D054-4F5E-B0AB-6066E44B12E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EBFD8CA-1976-4D24-BCC2-D4DFC3A8201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CF1CD29-ECBE-4583-9A11-6A0D7C0B8D1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C8F5677-5441-441A-85D6-77EFA66DF86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90C7DAD-E78F-4D25-AE03-D522DD1F17F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DFEF3DE-143C-4776-BAE1-79C6074D860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215A1068-3F47-43FB-85F3-930447E88F6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76E57E-52F1-4042-9F81-7405578C4F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1AA01F-8626-4E3B-94A8-C9E5F54475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4D06E3-3646-4D12-8072-2DF7E4E24E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BC3B1-220F-453B-9817-DA91C53D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5F573-946B-4B2D-BB8E-E54E6CE13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35A18-D350-41D2-A059-36AC2FE3B8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DA623-1539-4749-B5DC-1A739FA72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8AC6D4-5D2F-4FC3-AFEF-5EDA6C9F2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3190CD-5288-4B45-8911-682E502D2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8C182-8A25-4783-A716-0B51FB91E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3C05D-7DCF-4CAF-B4B4-BDB7E66AE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72A23-68C0-4C7D-9265-0B913AD45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1BF65-A302-45BA-9975-40DB0CFB4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6936B3-81A8-4406-A1F6-F608AABFF6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978E6-7B29-4AA8-BF7A-B364C3EF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1551FE-5403-485C-BB20-4931ADE8C7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45DD0C-776A-450A-91AE-443B781739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13D44B-DA8E-4A5E-B419-112DAAE0A5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CF991A-C5AA-453A-A505-3EC7F83FB9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125E5-0697-4F78-B8C9-7CAF9E9CB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2C89B7-C65D-4AF7-9E17-5901BCAE19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766DD-B5CA-44A4-8F67-761BD91D9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EA963-7C48-4935-AF74-E85AF74D1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75EB2-E876-486B-8548-9D8D83304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CEEB1-C562-48A6-8E52-73463984F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1565-7772-4A75-9D85-244850483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7FFBC-7D01-4B7F-8BF2-FDCFE5907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6D6A0A-0FD1-4838-AAE1-1F5728B66B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4EDE4E-B6F5-4BF6-B237-450445B67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DB61C2-22AD-4EC9-BE20-929A2E44C0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3FCD4-75AC-40DA-82EA-D6B53572E2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9A43C-A7D1-4D2E-A161-B514000EC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247569-20A1-48EE-9683-D465A12E9E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2A836-091A-4FDF-B588-4D7057D9F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BF4B5A-C5E2-4A0A-901F-514BB2B3CE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E948F-3FA8-46AE-9F8D-7FEC4654E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2B75-F897-464D-8527-65CBDBFFC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39B5A-F22C-4800-BD35-48E58B230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249D5-F55C-4851-800F-0F84E75E8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49E2E-9B38-4E9C-A216-46B2CE209B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C8E6DF-CED5-4F56-B9C3-B8FFC9422A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79FF7F-70D1-4FDA-90FD-DBCC9DEC6C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EF83C8-C42F-4EDE-AEB3-CDA7D0B05C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9AEF69-6AEA-4955-8238-3E3507E4AD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702912-9B8F-45EB-ABF8-01AF916012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529CB6-1EF5-4FA5-BADE-9B65073C0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8AACBE-EF0E-4394-A180-62F0176694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3DBA6-8A40-4270-BB39-44ECD802F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4817D9-D796-4818-8EC9-F6D3EDDD1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D14E5-D0EF-4E3E-8E4C-B4A56C708D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4A249-EF34-4194-9720-60CF0323C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0B17F-73CA-4601-890C-59ED86722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70BDD-1333-4F6B-88AE-BD7B580620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381B7D-1408-4A78-B2AB-0D16D3FDCB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AAFFB3-2C74-41CC-A3A0-6BC401BE89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F74788-79C2-4785-941B-791DA906F5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F4D9AD-B6AC-48E8-8FEC-9136CE7A09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4B67B5-BE5B-4457-BC76-84D7F21E72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7.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301.xml"/><Relationship Id="rId12" Type="http://schemas.openxmlformats.org/officeDocument/2006/relationships/slideLayout" Target="../slideLayouts/slideLayout302.xml"/><Relationship Id="rId13" Type="http://schemas.openxmlformats.org/officeDocument/2006/relationships/slideLayout" Target="../slideLayouts/slideLayout303.xml"/><Relationship Id="rId14" Type="http://schemas.openxmlformats.org/officeDocument/2006/relationships/slideLayout" Target="../slideLayouts/slideLayout304.xml"/><Relationship Id="rId15" Type="http://schemas.openxmlformats.org/officeDocument/2006/relationships/slideLayout" Target="../slideLayouts/slideLayout305.xml"/><Relationship Id="rId16" Type="http://schemas.openxmlformats.org/officeDocument/2006/relationships/slideLayout" Target="../slideLayouts/slideLayout306.xml"/><Relationship Id="rId17" Type="http://schemas.openxmlformats.org/officeDocument/2006/relationships/slideLayout" Target="../slideLayouts/slideLayout307.xml"/><Relationship Id="rId18" Type="http://schemas.openxmlformats.org/officeDocument/2006/relationships/slideLayout" Target="../slideLayouts/slideLayout308.xml"/><Relationship Id="rId19" Type="http://schemas.openxmlformats.org/officeDocument/2006/relationships/slideLayout" Target="../slideLayouts/slideLayout309.xml"/><Relationship Id="rId20" Type="http://schemas.openxmlformats.org/officeDocument/2006/relationships/slideLayout" Target="../slideLayouts/slideLayout310.xml"/><Relationship Id="rId21" Type="http://schemas.openxmlformats.org/officeDocument/2006/relationships/slideLayout" Target="../slideLayouts/slideLayout311.xml"/><Relationship Id="rId22"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7.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37.xml"/><Relationship Id="rId8" Type="http://schemas.openxmlformats.org/officeDocument/2006/relationships/slideLayout" Target="../slideLayouts/slideLayout338.xml"/><Relationship Id="rId9" Type="http://schemas.openxmlformats.org/officeDocument/2006/relationships/slideLayout" Target="../slideLayouts/slideLayout339.xml"/><Relationship Id="rId10" Type="http://schemas.openxmlformats.org/officeDocument/2006/relationships/slideLayout" Target="../slideLayouts/slideLayout340.xml"/><Relationship Id="rId11" Type="http://schemas.openxmlformats.org/officeDocument/2006/relationships/slideLayout" Target="../slideLayouts/slideLayout341.xml"/><Relationship Id="rId12" Type="http://schemas.openxmlformats.org/officeDocument/2006/relationships/slideLayout" Target="../slideLayouts/slideLayout342.xml"/><Relationship Id="rId13" Type="http://schemas.openxmlformats.org/officeDocument/2006/relationships/slideLayout" Target="../slideLayouts/slideLayout343.xml"/><Relationship Id="rId14" Type="http://schemas.openxmlformats.org/officeDocument/2006/relationships/slideLayout" Target="../slideLayouts/slideLayout344.xml"/><Relationship Id="rId15" Type="http://schemas.openxmlformats.org/officeDocument/2006/relationships/slideLayout" Target="../slideLayouts/slideLayout345.xml"/><Relationship Id="rId16" Type="http://schemas.openxmlformats.org/officeDocument/2006/relationships/slideLayout" Target="../slideLayouts/slideLayout346.xml"/><Relationship Id="rId17" Type="http://schemas.openxmlformats.org/officeDocument/2006/relationships/slideLayout" Target="../slideLayouts/slideLayout347.xml"/><Relationship Id="rId18"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49.xml"/><Relationship Id="rId7" Type="http://schemas.openxmlformats.org/officeDocument/2006/relationships/slideLayout" Target="../slideLayouts/slideLayout350.xml"/><Relationship Id="rId8" Type="http://schemas.openxmlformats.org/officeDocument/2006/relationships/slideLayout" Target="../slideLayouts/slideLayout351.xml"/><Relationship Id="rId9" Type="http://schemas.openxmlformats.org/officeDocument/2006/relationships/slideLayout" Target="../slideLayouts/slideLayout352.xml"/><Relationship Id="rId10" Type="http://schemas.openxmlformats.org/officeDocument/2006/relationships/slideLayout" Target="../slideLayouts/slideLayout353.xml"/><Relationship Id="rId11" Type="http://schemas.openxmlformats.org/officeDocument/2006/relationships/slideLayout" Target="../slideLayouts/slideLayout354.xml"/><Relationship Id="rId12" Type="http://schemas.openxmlformats.org/officeDocument/2006/relationships/slideLayout" Target="../slideLayouts/slideLayout355.xml"/><Relationship Id="rId13" Type="http://schemas.openxmlformats.org/officeDocument/2006/relationships/slideLayout" Target="../slideLayouts/slideLayout356.xml"/><Relationship Id="rId14" Type="http://schemas.openxmlformats.org/officeDocument/2006/relationships/slideLayout" Target="../slideLayouts/slideLayout357.xml"/><Relationship Id="rId15" Type="http://schemas.openxmlformats.org/officeDocument/2006/relationships/slideLayout" Target="../slideLayouts/slideLayout358.xml"/><Relationship Id="rId16" Type="http://schemas.openxmlformats.org/officeDocument/2006/relationships/slideLayout" Target="../slideLayouts/slideLayout359.xml"/><Relationship Id="rId17"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61.xml"/><Relationship Id="rId8" Type="http://schemas.openxmlformats.org/officeDocument/2006/relationships/slideLayout" Target="../slideLayouts/slideLayout362.xml"/><Relationship Id="rId9" Type="http://schemas.openxmlformats.org/officeDocument/2006/relationships/slideLayout" Target="../slideLayouts/slideLayout363.xml"/><Relationship Id="rId10" Type="http://schemas.openxmlformats.org/officeDocument/2006/relationships/slideLayout" Target="../slideLayouts/slideLayout364.xml"/><Relationship Id="rId11" Type="http://schemas.openxmlformats.org/officeDocument/2006/relationships/slideLayout" Target="../slideLayouts/slideLayout365.xml"/><Relationship Id="rId12" Type="http://schemas.openxmlformats.org/officeDocument/2006/relationships/slideLayout" Target="../slideLayouts/slideLayout366.xml"/><Relationship Id="rId13" Type="http://schemas.openxmlformats.org/officeDocument/2006/relationships/slideLayout" Target="../slideLayouts/slideLayout367.xml"/><Relationship Id="rId14" Type="http://schemas.openxmlformats.org/officeDocument/2006/relationships/slideLayout" Target="../slideLayouts/slideLayout368.xml"/><Relationship Id="rId15" Type="http://schemas.openxmlformats.org/officeDocument/2006/relationships/slideLayout" Target="../slideLayouts/slideLayout369.xml"/><Relationship Id="rId16" Type="http://schemas.openxmlformats.org/officeDocument/2006/relationships/slideLayout" Target="../slideLayouts/slideLayout370.xml"/><Relationship Id="rId17" Type="http://schemas.openxmlformats.org/officeDocument/2006/relationships/slideLayout" Target="../slideLayouts/slideLayout371.xml"/><Relationship Id="rId18"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3.xml"/><Relationship Id="rId8" Type="http://schemas.openxmlformats.org/officeDocument/2006/relationships/slideLayout" Target="../slideLayouts/slideLayout374.xml"/><Relationship Id="rId9" Type="http://schemas.openxmlformats.org/officeDocument/2006/relationships/slideLayout" Target="../slideLayouts/slideLayout375.xml"/><Relationship Id="rId10" Type="http://schemas.openxmlformats.org/officeDocument/2006/relationships/slideLayout" Target="../slideLayouts/slideLayout376.xml"/><Relationship Id="rId11" Type="http://schemas.openxmlformats.org/officeDocument/2006/relationships/slideLayout" Target="../slideLayouts/slideLayout377.xml"/><Relationship Id="rId12" Type="http://schemas.openxmlformats.org/officeDocument/2006/relationships/slideLayout" Target="../slideLayouts/slideLayout378.xml"/><Relationship Id="rId13" Type="http://schemas.openxmlformats.org/officeDocument/2006/relationships/slideLayout" Target="../slideLayouts/slideLayout379.xml"/><Relationship Id="rId14" Type="http://schemas.openxmlformats.org/officeDocument/2006/relationships/slideLayout" Target="../slideLayouts/slideLayout380.xml"/><Relationship Id="rId15" Type="http://schemas.openxmlformats.org/officeDocument/2006/relationships/slideLayout" Target="../slideLayouts/slideLayout381.xml"/><Relationship Id="rId16" Type="http://schemas.openxmlformats.org/officeDocument/2006/relationships/slideLayout" Target="../slideLayouts/slideLayout382.xml"/><Relationship Id="rId17" Type="http://schemas.openxmlformats.org/officeDocument/2006/relationships/slideLayout" Target="../slideLayouts/slideLayout383.xml"/><Relationship Id="rId18"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09.xml"/><Relationship Id="rId8" Type="http://schemas.openxmlformats.org/officeDocument/2006/relationships/slideLayout" Target="../slideLayouts/slideLayout410.xml"/><Relationship Id="rId9" Type="http://schemas.openxmlformats.org/officeDocument/2006/relationships/slideLayout" Target="../slideLayouts/slideLayout411.xml"/><Relationship Id="rId10" Type="http://schemas.openxmlformats.org/officeDocument/2006/relationships/slideLayout" Target="../slideLayouts/slideLayout412.xml"/><Relationship Id="rId11" Type="http://schemas.openxmlformats.org/officeDocument/2006/relationships/slideLayout" Target="../slideLayouts/slideLayout413.xml"/><Relationship Id="rId12" Type="http://schemas.openxmlformats.org/officeDocument/2006/relationships/slideLayout" Target="../slideLayouts/slideLayout414.xml"/><Relationship Id="rId13" Type="http://schemas.openxmlformats.org/officeDocument/2006/relationships/slideLayout" Target="../slideLayouts/slideLayout415.xml"/><Relationship Id="rId14" Type="http://schemas.openxmlformats.org/officeDocument/2006/relationships/slideLayout" Target="../slideLayouts/slideLayout416.xml"/><Relationship Id="rId15" Type="http://schemas.openxmlformats.org/officeDocument/2006/relationships/slideLayout" Target="../slideLayouts/slideLayout417.xml"/><Relationship Id="rId16" Type="http://schemas.openxmlformats.org/officeDocument/2006/relationships/slideLayout" Target="../slideLayouts/slideLayout418.xml"/><Relationship Id="rId17" Type="http://schemas.openxmlformats.org/officeDocument/2006/relationships/slideLayout" Target="../slideLayouts/slideLayout419.xml"/><Relationship Id="rId18"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21.xml"/><Relationship Id="rId8" Type="http://schemas.openxmlformats.org/officeDocument/2006/relationships/slideLayout" Target="../slideLayouts/slideLayout422.xml"/><Relationship Id="rId9" Type="http://schemas.openxmlformats.org/officeDocument/2006/relationships/slideLayout" Target="../slideLayouts/slideLayout423.xml"/><Relationship Id="rId10" Type="http://schemas.openxmlformats.org/officeDocument/2006/relationships/slideLayout" Target="../slideLayouts/slideLayout424.xml"/><Relationship Id="rId11" Type="http://schemas.openxmlformats.org/officeDocument/2006/relationships/slideLayout" Target="../slideLayouts/slideLayout425.xml"/><Relationship Id="rId12" Type="http://schemas.openxmlformats.org/officeDocument/2006/relationships/slideLayout" Target="../slideLayouts/slideLayout426.xml"/><Relationship Id="rId13" Type="http://schemas.openxmlformats.org/officeDocument/2006/relationships/slideLayout" Target="../slideLayouts/slideLayout427.xml"/><Relationship Id="rId14" Type="http://schemas.openxmlformats.org/officeDocument/2006/relationships/slideLayout" Target="../slideLayouts/slideLayout428.xml"/><Relationship Id="rId15" Type="http://schemas.openxmlformats.org/officeDocument/2006/relationships/slideLayout" Target="../slideLayouts/slideLayout429.xml"/><Relationship Id="rId16" Type="http://schemas.openxmlformats.org/officeDocument/2006/relationships/slideLayout" Target="../slideLayouts/slideLayout430.xml"/><Relationship Id="rId17" Type="http://schemas.openxmlformats.org/officeDocument/2006/relationships/slideLayout" Target="../slideLayouts/slideLayout431.xml"/><Relationship Id="rId18"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33.xml"/><Relationship Id="rId8" Type="http://schemas.openxmlformats.org/officeDocument/2006/relationships/slideLayout" Target="../slideLayouts/slideLayout434.xml"/><Relationship Id="rId9" Type="http://schemas.openxmlformats.org/officeDocument/2006/relationships/slideLayout" Target="../slideLayouts/slideLayout435.xml"/><Relationship Id="rId10" Type="http://schemas.openxmlformats.org/officeDocument/2006/relationships/slideLayout" Target="../slideLayouts/slideLayout436.xml"/><Relationship Id="rId11" Type="http://schemas.openxmlformats.org/officeDocument/2006/relationships/slideLayout" Target="../slideLayouts/slideLayout437.xml"/><Relationship Id="rId12" Type="http://schemas.openxmlformats.org/officeDocument/2006/relationships/slideLayout" Target="../slideLayouts/slideLayout438.xml"/><Relationship Id="rId13" Type="http://schemas.openxmlformats.org/officeDocument/2006/relationships/slideLayout" Target="../slideLayouts/slideLayout439.xml"/><Relationship Id="rId14" Type="http://schemas.openxmlformats.org/officeDocument/2006/relationships/slideLayout" Target="../slideLayouts/slideLayout440.xml"/><Relationship Id="rId15" Type="http://schemas.openxmlformats.org/officeDocument/2006/relationships/slideLayout" Target="../slideLayouts/slideLayout441.xml"/><Relationship Id="rId16" Type="http://schemas.openxmlformats.org/officeDocument/2006/relationships/slideLayout" Target="../slideLayouts/slideLayout442.xml"/><Relationship Id="rId17" Type="http://schemas.openxmlformats.org/officeDocument/2006/relationships/slideLayout" Target="../slideLayouts/slideLayout443.xml"/><Relationship Id="rId18"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445.xml"/><Relationship Id="rId12" Type="http://schemas.openxmlformats.org/officeDocument/2006/relationships/slideLayout" Target="../slideLayouts/slideLayout446.xml"/><Relationship Id="rId13" Type="http://schemas.openxmlformats.org/officeDocument/2006/relationships/slideLayout" Target="../slideLayouts/slideLayout447.xml"/><Relationship Id="rId14" Type="http://schemas.openxmlformats.org/officeDocument/2006/relationships/slideLayout" Target="../slideLayouts/slideLayout448.xml"/><Relationship Id="rId15" Type="http://schemas.openxmlformats.org/officeDocument/2006/relationships/slideLayout" Target="../slideLayouts/slideLayout449.xml"/><Relationship Id="rId16" Type="http://schemas.openxmlformats.org/officeDocument/2006/relationships/slideLayout" Target="../slideLayouts/slideLayout450.xml"/><Relationship Id="rId17" Type="http://schemas.openxmlformats.org/officeDocument/2006/relationships/slideLayout" Target="../slideLayouts/slideLayout451.xml"/><Relationship Id="rId18" Type="http://schemas.openxmlformats.org/officeDocument/2006/relationships/slideLayout" Target="../slideLayouts/slideLayout452.xml"/><Relationship Id="rId19" Type="http://schemas.openxmlformats.org/officeDocument/2006/relationships/slideLayout" Target="../slideLayouts/slideLayout453.xml"/><Relationship Id="rId20" Type="http://schemas.openxmlformats.org/officeDocument/2006/relationships/slideLayout" Target="../slideLayouts/slideLayout454.xml"/><Relationship Id="rId21" Type="http://schemas.openxmlformats.org/officeDocument/2006/relationships/slideLayout" Target="../slideLayouts/slideLayout455.xml"/><Relationship Id="rId22"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7.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877F-01BB-4435-916E-2949280EA8A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02B5-9D3A-4A4E-B96B-721D240C7CE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7" name="图片 7" descr=""/>
          <p:cNvPicPr/>
          <p:nvPr/>
        </p:nvPicPr>
        <p:blipFill>
          <a:blip r:embed="rId2"/>
          <a:stretch/>
        </p:blipFill>
        <p:spPr>
          <a:xfrm>
            <a:off x="10899720" y="5443560"/>
            <a:ext cx="1292400" cy="1414440"/>
          </a:xfrm>
          <a:prstGeom prst="rect">
            <a:avLst/>
          </a:prstGeom>
          <a:ln w="0">
            <a:noFill/>
          </a:ln>
        </p:spPr>
      </p:pic>
      <p:pic>
        <p:nvPicPr>
          <p:cNvPr id="408" name="图片 8" descr=""/>
          <p:cNvPicPr/>
          <p:nvPr/>
        </p:nvPicPr>
        <p:blipFill>
          <a:blip r:embed="rId3"/>
          <a:stretch/>
        </p:blipFill>
        <p:spPr>
          <a:xfrm>
            <a:off x="311040" y="6194520"/>
            <a:ext cx="507960" cy="431640"/>
          </a:xfrm>
          <a:prstGeom prst="rect">
            <a:avLst/>
          </a:prstGeom>
          <a:ln w="0">
            <a:noFill/>
          </a:ln>
        </p:spPr>
      </p:pic>
      <p:pic>
        <p:nvPicPr>
          <p:cNvPr id="409" name="图片 9" descr=""/>
          <p:cNvPicPr/>
          <p:nvPr/>
        </p:nvPicPr>
        <p:blipFill>
          <a:blip r:embed="rId4"/>
          <a:stretch/>
        </p:blipFill>
        <p:spPr>
          <a:xfrm>
            <a:off x="10291680" y="6410160"/>
            <a:ext cx="354240" cy="336600"/>
          </a:xfrm>
          <a:prstGeom prst="rect">
            <a:avLst/>
          </a:prstGeom>
          <a:ln w="0">
            <a:noFill/>
          </a:ln>
        </p:spPr>
      </p:pic>
      <p:pic>
        <p:nvPicPr>
          <p:cNvPr id="410" name="图片 10" descr=""/>
          <p:cNvPicPr/>
          <p:nvPr/>
        </p:nvPicPr>
        <p:blipFill>
          <a:blip r:embed="rId5"/>
          <a:stretch/>
        </p:blipFill>
        <p:spPr>
          <a:xfrm>
            <a:off x="260280" y="114480"/>
            <a:ext cx="546120" cy="534960"/>
          </a:xfrm>
          <a:prstGeom prst="rect">
            <a:avLst/>
          </a:prstGeom>
          <a:ln w="0">
            <a:noFill/>
          </a:ln>
        </p:spPr>
      </p:pic>
      <p:pic>
        <p:nvPicPr>
          <p:cNvPr id="411" name="图片 11" descr=""/>
          <p:cNvPicPr/>
          <p:nvPr/>
        </p:nvPicPr>
        <p:blipFill>
          <a:blip r:embed="rId6"/>
          <a:stretch/>
        </p:blipFill>
        <p:spPr>
          <a:xfrm>
            <a:off x="11442600" y="54000"/>
            <a:ext cx="615960" cy="608040"/>
          </a:xfrm>
          <a:prstGeom prst="rect">
            <a:avLst/>
          </a:prstGeom>
          <a:ln w="0">
            <a:noFill/>
          </a:ln>
        </p:spPr>
      </p:pic>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4"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E30D-4E09-4CE9-89B6-7F26B901201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5"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0B35-2515-4622-9764-5E1713EE6FB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4" name="图片 7" descr=""/>
          <p:cNvPicPr/>
          <p:nvPr/>
        </p:nvPicPr>
        <p:blipFill>
          <a:blip r:embed="rId2"/>
          <a:stretch/>
        </p:blipFill>
        <p:spPr>
          <a:xfrm>
            <a:off x="10899720" y="5443560"/>
            <a:ext cx="1292400" cy="1414440"/>
          </a:xfrm>
          <a:prstGeom prst="rect">
            <a:avLst/>
          </a:prstGeom>
          <a:ln w="0">
            <a:noFill/>
          </a:ln>
        </p:spPr>
      </p:pic>
      <p:pic>
        <p:nvPicPr>
          <p:cNvPr id="455" name="图片 8" descr=""/>
          <p:cNvPicPr/>
          <p:nvPr/>
        </p:nvPicPr>
        <p:blipFill>
          <a:blip r:embed="rId3"/>
          <a:stretch/>
        </p:blipFill>
        <p:spPr>
          <a:xfrm>
            <a:off x="311040" y="6194520"/>
            <a:ext cx="507960" cy="431640"/>
          </a:xfrm>
          <a:prstGeom prst="rect">
            <a:avLst/>
          </a:prstGeom>
          <a:ln w="0">
            <a:noFill/>
          </a:ln>
        </p:spPr>
      </p:pic>
      <p:pic>
        <p:nvPicPr>
          <p:cNvPr id="456" name="图片 9" descr=""/>
          <p:cNvPicPr/>
          <p:nvPr/>
        </p:nvPicPr>
        <p:blipFill>
          <a:blip r:embed="rId4"/>
          <a:stretch/>
        </p:blipFill>
        <p:spPr>
          <a:xfrm>
            <a:off x="10291680" y="6410160"/>
            <a:ext cx="354240" cy="336600"/>
          </a:xfrm>
          <a:prstGeom prst="rect">
            <a:avLst/>
          </a:prstGeom>
          <a:ln w="0">
            <a:noFill/>
          </a:ln>
        </p:spPr>
      </p:pic>
      <p:pic>
        <p:nvPicPr>
          <p:cNvPr id="457" name="图片 10" descr=""/>
          <p:cNvPicPr/>
          <p:nvPr/>
        </p:nvPicPr>
        <p:blipFill>
          <a:blip r:embed="rId5"/>
          <a:stretch/>
        </p:blipFill>
        <p:spPr>
          <a:xfrm>
            <a:off x="260280" y="114480"/>
            <a:ext cx="546120" cy="534960"/>
          </a:xfrm>
          <a:prstGeom prst="rect">
            <a:avLst/>
          </a:prstGeom>
          <a:ln w="0">
            <a:noFill/>
          </a:ln>
        </p:spPr>
      </p:pic>
      <p:pic>
        <p:nvPicPr>
          <p:cNvPr id="458" name="图片 11" descr=""/>
          <p:cNvPicPr/>
          <p:nvPr/>
        </p:nvPicPr>
        <p:blipFill>
          <a:blip r:embed="rId6"/>
          <a:stretch/>
        </p:blipFill>
        <p:spPr>
          <a:xfrm>
            <a:off x="11442600" y="54000"/>
            <a:ext cx="615960" cy="608040"/>
          </a:xfrm>
          <a:prstGeom prst="rect">
            <a:avLst/>
          </a:prstGeom>
          <a:ln w="0">
            <a:noFill/>
          </a:ln>
        </p:spPr>
      </p:pic>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1"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80F3-2674-4A00-9CB1-20B835B4594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2"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3118-6EA5-49C8-9BF1-D18A5C55DAA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1" name="图片 6" descr=""/>
          <p:cNvPicPr/>
          <p:nvPr/>
        </p:nvPicPr>
        <p:blipFill>
          <a:blip r:embed="rId2"/>
          <a:stretch/>
        </p:blipFill>
        <p:spPr>
          <a:xfrm>
            <a:off x="10899720" y="5443560"/>
            <a:ext cx="1292400" cy="1414440"/>
          </a:xfrm>
          <a:prstGeom prst="rect">
            <a:avLst/>
          </a:prstGeom>
          <a:ln w="0">
            <a:noFill/>
          </a:ln>
        </p:spPr>
      </p:pic>
      <p:pic>
        <p:nvPicPr>
          <p:cNvPr id="502" name="图片 7" descr=""/>
          <p:cNvPicPr/>
          <p:nvPr/>
        </p:nvPicPr>
        <p:blipFill>
          <a:blip r:embed="rId3"/>
          <a:stretch/>
        </p:blipFill>
        <p:spPr>
          <a:xfrm>
            <a:off x="311040" y="6194520"/>
            <a:ext cx="507960" cy="431640"/>
          </a:xfrm>
          <a:prstGeom prst="rect">
            <a:avLst/>
          </a:prstGeom>
          <a:ln w="0">
            <a:noFill/>
          </a:ln>
        </p:spPr>
      </p:pic>
      <p:pic>
        <p:nvPicPr>
          <p:cNvPr id="503" name="图片 8" descr=""/>
          <p:cNvPicPr/>
          <p:nvPr/>
        </p:nvPicPr>
        <p:blipFill>
          <a:blip r:embed="rId4"/>
          <a:stretch/>
        </p:blipFill>
        <p:spPr>
          <a:xfrm>
            <a:off x="10291680" y="6410160"/>
            <a:ext cx="354240" cy="336600"/>
          </a:xfrm>
          <a:prstGeom prst="rect">
            <a:avLst/>
          </a:prstGeom>
          <a:ln w="0">
            <a:noFill/>
          </a:ln>
        </p:spPr>
      </p:pic>
      <p:pic>
        <p:nvPicPr>
          <p:cNvPr id="504" name="图片 9" descr=""/>
          <p:cNvPicPr/>
          <p:nvPr/>
        </p:nvPicPr>
        <p:blipFill>
          <a:blip r:embed="rId5"/>
          <a:stretch/>
        </p:blipFill>
        <p:spPr>
          <a:xfrm>
            <a:off x="260280" y="114480"/>
            <a:ext cx="546120" cy="534960"/>
          </a:xfrm>
          <a:prstGeom prst="rect">
            <a:avLst/>
          </a:prstGeom>
          <a:ln w="0">
            <a:noFill/>
          </a:ln>
        </p:spPr>
      </p:pic>
      <p:pic>
        <p:nvPicPr>
          <p:cNvPr id="505" name="图片 10" descr=""/>
          <p:cNvPicPr/>
          <p:nvPr/>
        </p:nvPicPr>
        <p:blipFill>
          <a:blip r:embed="rId6"/>
          <a:stretch/>
        </p:blipFill>
        <p:spPr>
          <a:xfrm>
            <a:off x="11442600" y="54000"/>
            <a:ext cx="615960" cy="608040"/>
          </a:xfrm>
          <a:prstGeom prst="rect">
            <a:avLst/>
          </a:prstGeom>
          <a:ln w="0">
            <a:noFill/>
          </a:ln>
        </p:spPr>
      </p:pic>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0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08"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056A-A2A1-4E06-9E67-7E78341F61C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09"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0"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5CC6-DCA8-4B4A-9B23-DC007ED30E5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48" name="图片 5" descr=""/>
          <p:cNvPicPr/>
          <p:nvPr/>
        </p:nvPicPr>
        <p:blipFill>
          <a:blip r:embed="rId2"/>
          <a:stretch/>
        </p:blipFill>
        <p:spPr>
          <a:xfrm>
            <a:off x="10899720" y="5443560"/>
            <a:ext cx="1292400" cy="1414440"/>
          </a:xfrm>
          <a:prstGeom prst="rect">
            <a:avLst/>
          </a:prstGeom>
          <a:ln w="0">
            <a:noFill/>
          </a:ln>
        </p:spPr>
      </p:pic>
      <p:pic>
        <p:nvPicPr>
          <p:cNvPr id="549" name="图片 7" descr=""/>
          <p:cNvPicPr/>
          <p:nvPr/>
        </p:nvPicPr>
        <p:blipFill>
          <a:blip r:embed="rId3"/>
          <a:stretch/>
        </p:blipFill>
        <p:spPr>
          <a:xfrm>
            <a:off x="311040" y="6194520"/>
            <a:ext cx="507960" cy="431640"/>
          </a:xfrm>
          <a:prstGeom prst="rect">
            <a:avLst/>
          </a:prstGeom>
          <a:ln w="0">
            <a:noFill/>
          </a:ln>
        </p:spPr>
      </p:pic>
      <p:pic>
        <p:nvPicPr>
          <p:cNvPr id="550" name="图片 8" descr=""/>
          <p:cNvPicPr/>
          <p:nvPr/>
        </p:nvPicPr>
        <p:blipFill>
          <a:blip r:embed="rId4"/>
          <a:stretch/>
        </p:blipFill>
        <p:spPr>
          <a:xfrm>
            <a:off x="10291680" y="6410160"/>
            <a:ext cx="354240" cy="336600"/>
          </a:xfrm>
          <a:prstGeom prst="rect">
            <a:avLst/>
          </a:prstGeom>
          <a:ln w="0">
            <a:noFill/>
          </a:ln>
        </p:spPr>
      </p:pic>
      <p:pic>
        <p:nvPicPr>
          <p:cNvPr id="551" name="图片 9" descr=""/>
          <p:cNvPicPr/>
          <p:nvPr/>
        </p:nvPicPr>
        <p:blipFill>
          <a:blip r:embed="rId5"/>
          <a:stretch/>
        </p:blipFill>
        <p:spPr>
          <a:xfrm>
            <a:off x="260280" y="114480"/>
            <a:ext cx="546120" cy="534960"/>
          </a:xfrm>
          <a:prstGeom prst="rect">
            <a:avLst/>
          </a:prstGeom>
          <a:ln w="0">
            <a:noFill/>
          </a:ln>
        </p:spPr>
      </p:pic>
      <p:pic>
        <p:nvPicPr>
          <p:cNvPr id="552" name="图片 10" descr=""/>
          <p:cNvPicPr/>
          <p:nvPr/>
        </p:nvPicPr>
        <p:blipFill>
          <a:blip r:embed="rId6"/>
          <a:stretch/>
        </p:blipFill>
        <p:spPr>
          <a:xfrm>
            <a:off x="11442600" y="54000"/>
            <a:ext cx="615960" cy="608040"/>
          </a:xfrm>
          <a:prstGeom prst="rect">
            <a:avLst/>
          </a:prstGeom>
          <a:ln w="0">
            <a:noFill/>
          </a:ln>
        </p:spPr>
      </p:pic>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55" name="PlaceHolder 3"/>
          <p:cNvSpPr>
            <a:spLocks noGrp="1"/>
          </p:cNvSpPr>
          <p:nvPr>
            <p:ph type="dt" idx="3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6314-9BE6-4483-9645-F705AD54284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56"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B417-EFF4-4B46-A9E2-B17AB568F9A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5" name="图片 5" descr=""/>
          <p:cNvPicPr/>
          <p:nvPr/>
        </p:nvPicPr>
        <p:blipFill>
          <a:blip r:embed="rId2"/>
          <a:stretch/>
        </p:blipFill>
        <p:spPr>
          <a:xfrm>
            <a:off x="2868480" y="3490920"/>
            <a:ext cx="2543400" cy="3108240"/>
          </a:xfrm>
          <a:prstGeom prst="rect">
            <a:avLst/>
          </a:prstGeom>
          <a:ln w="0">
            <a:noFill/>
          </a:ln>
        </p:spPr>
      </p:pic>
      <p:pic>
        <p:nvPicPr>
          <p:cNvPr id="596" name="图片 6" descr=""/>
          <p:cNvPicPr/>
          <p:nvPr/>
        </p:nvPicPr>
        <p:blipFill>
          <a:blip r:embed="rId3"/>
          <a:stretch/>
        </p:blipFill>
        <p:spPr>
          <a:xfrm>
            <a:off x="6480" y="1612800"/>
            <a:ext cx="3257280" cy="5243760"/>
          </a:xfrm>
          <a:prstGeom prst="rect">
            <a:avLst/>
          </a:prstGeom>
          <a:ln w="0">
            <a:noFill/>
          </a:ln>
        </p:spPr>
      </p:pic>
      <p:pic>
        <p:nvPicPr>
          <p:cNvPr id="597" name="图片 6" descr=""/>
          <p:cNvPicPr/>
          <p:nvPr/>
        </p:nvPicPr>
        <p:blipFill>
          <a:blip r:embed="rId4"/>
          <a:stretch/>
        </p:blipFill>
        <p:spPr>
          <a:xfrm rot="17330400">
            <a:off x="3570480" y="5589000"/>
            <a:ext cx="568440" cy="542880"/>
          </a:xfrm>
          <a:prstGeom prst="rect">
            <a:avLst/>
          </a:prstGeom>
          <a:ln w="0">
            <a:noFill/>
          </a:ln>
        </p:spPr>
      </p:pic>
      <p:pic>
        <p:nvPicPr>
          <p:cNvPr id="598" name="图片 5" descr=""/>
          <p:cNvPicPr/>
          <p:nvPr/>
        </p:nvPicPr>
        <p:blipFill>
          <a:blip r:embed="rId5"/>
          <a:stretch/>
        </p:blipFill>
        <p:spPr>
          <a:xfrm rot="20422800">
            <a:off x="1217160" y="5847840"/>
            <a:ext cx="563760" cy="536760"/>
          </a:xfrm>
          <a:prstGeom prst="rect">
            <a:avLst/>
          </a:prstGeom>
          <a:ln w="0">
            <a:noFill/>
          </a:ln>
        </p:spPr>
      </p:pic>
      <p:pic>
        <p:nvPicPr>
          <p:cNvPr id="599" name="图片 9" descr=""/>
          <p:cNvPicPr/>
          <p:nvPr/>
        </p:nvPicPr>
        <p:blipFill>
          <a:blip r:embed="rId6"/>
          <a:stretch/>
        </p:blipFill>
        <p:spPr>
          <a:xfrm>
            <a:off x="4964040" y="4621320"/>
            <a:ext cx="1830600" cy="2236680"/>
          </a:xfrm>
          <a:prstGeom prst="rect">
            <a:avLst/>
          </a:prstGeom>
          <a:ln w="0">
            <a:noFill/>
          </a:ln>
        </p:spPr>
      </p:pic>
      <p:pic>
        <p:nvPicPr>
          <p:cNvPr id="600" name="图片 10" descr=""/>
          <p:cNvPicPr/>
          <p:nvPr/>
        </p:nvPicPr>
        <p:blipFill>
          <a:blip r:embed="rId7"/>
          <a:stretch/>
        </p:blipFill>
        <p:spPr>
          <a:xfrm>
            <a:off x="3616200" y="369720"/>
            <a:ext cx="2659320" cy="3116520"/>
          </a:xfrm>
          <a:prstGeom prst="rect">
            <a:avLst/>
          </a:prstGeom>
          <a:ln w="0">
            <a:noFill/>
          </a:ln>
        </p:spPr>
      </p:pic>
      <p:pic>
        <p:nvPicPr>
          <p:cNvPr id="601" name="图片 3" descr=""/>
          <p:cNvPicPr/>
          <p:nvPr/>
        </p:nvPicPr>
        <p:blipFill>
          <a:blip r:embed="rId8"/>
          <a:stretch/>
        </p:blipFill>
        <p:spPr>
          <a:xfrm flipH="1" rot="20731200">
            <a:off x="10271880" y="1108080"/>
            <a:ext cx="1067040" cy="1046160"/>
          </a:xfrm>
          <a:prstGeom prst="rect">
            <a:avLst/>
          </a:prstGeom>
          <a:ln w="0">
            <a:noFill/>
          </a:ln>
        </p:spPr>
      </p:pic>
      <p:pic>
        <p:nvPicPr>
          <p:cNvPr id="602" name="图片 4" descr=""/>
          <p:cNvPicPr/>
          <p:nvPr/>
        </p:nvPicPr>
        <p:blipFill>
          <a:blip r:embed="rId9"/>
          <a:stretch/>
        </p:blipFill>
        <p:spPr>
          <a:xfrm>
            <a:off x="8472600" y="5543640"/>
            <a:ext cx="558720" cy="533160"/>
          </a:xfrm>
          <a:prstGeom prst="rect">
            <a:avLst/>
          </a:prstGeom>
          <a:ln w="0">
            <a:noFill/>
          </a:ln>
        </p:spPr>
      </p:pic>
      <p:pic>
        <p:nvPicPr>
          <p:cNvPr id="603" name="图片 3" descr=""/>
          <p:cNvPicPr/>
          <p:nvPr/>
        </p:nvPicPr>
        <p:blipFill>
          <a:blip r:embed="rId10"/>
          <a:stretch/>
        </p:blipFill>
        <p:spPr>
          <a:xfrm>
            <a:off x="2421000" y="1197000"/>
            <a:ext cx="950760" cy="933480"/>
          </a:xfrm>
          <a:prstGeom prst="rect">
            <a:avLst/>
          </a:prstGeom>
          <a:ln w="0">
            <a:noFill/>
          </a:ln>
        </p:spPr>
      </p:pic>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6" name="PlaceHolder 3"/>
          <p:cNvSpPr>
            <a:spLocks noGrp="1"/>
          </p:cNvSpPr>
          <p:nvPr>
            <p:ph type="dt" idx="40"/>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26B9-792A-4442-8FC0-1C00A971A56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7"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DFD4-0B90-4EA1-9479-DEF201C3A24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4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49"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DC65-17E2-4B1B-9E38-788603FE6EA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50"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1"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791C-ECC6-4739-B46E-6452C74F174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9" name="图片 5" descr=""/>
          <p:cNvPicPr/>
          <p:nvPr/>
        </p:nvPicPr>
        <p:blipFill>
          <a:blip r:embed="rId2"/>
          <a:stretch/>
        </p:blipFill>
        <p:spPr>
          <a:xfrm rot="19920000">
            <a:off x="1331640" y="5760720"/>
            <a:ext cx="709560" cy="676080"/>
          </a:xfrm>
          <a:prstGeom prst="rect">
            <a:avLst/>
          </a:prstGeom>
          <a:ln w="0">
            <a:noFill/>
          </a:ln>
        </p:spPr>
      </p:pic>
      <p:pic>
        <p:nvPicPr>
          <p:cNvPr id="690" name="图片 6" descr=""/>
          <p:cNvPicPr/>
          <p:nvPr/>
        </p:nvPicPr>
        <p:blipFill>
          <a:blip r:embed="rId3"/>
          <a:stretch/>
        </p:blipFill>
        <p:spPr>
          <a:xfrm rot="17330400">
            <a:off x="3751200" y="5588640"/>
            <a:ext cx="568440" cy="543240"/>
          </a:xfrm>
          <a:prstGeom prst="rect">
            <a:avLst/>
          </a:prstGeom>
          <a:ln w="0">
            <a:noFill/>
          </a:ln>
        </p:spPr>
      </p:pic>
      <p:pic>
        <p:nvPicPr>
          <p:cNvPr id="691" name="图片 4" descr=""/>
          <p:cNvPicPr/>
          <p:nvPr/>
        </p:nvPicPr>
        <p:blipFill>
          <a:blip r:embed="rId4"/>
          <a:stretch/>
        </p:blipFill>
        <p:spPr>
          <a:xfrm>
            <a:off x="609480" y="693720"/>
            <a:ext cx="560520" cy="534960"/>
          </a:xfrm>
          <a:prstGeom prst="rect">
            <a:avLst/>
          </a:prstGeom>
          <a:ln w="0">
            <a:noFill/>
          </a:ln>
        </p:spPr>
      </p:pic>
      <p:pic>
        <p:nvPicPr>
          <p:cNvPr id="692" name="图片 3" descr=""/>
          <p:cNvPicPr/>
          <p:nvPr/>
        </p:nvPicPr>
        <p:blipFill>
          <a:blip r:embed="rId5"/>
          <a:stretch/>
        </p:blipFill>
        <p:spPr>
          <a:xfrm>
            <a:off x="2606760" y="1195560"/>
            <a:ext cx="950760" cy="933120"/>
          </a:xfrm>
          <a:prstGeom prst="rect">
            <a:avLst/>
          </a:prstGeom>
          <a:ln w="0">
            <a:noFill/>
          </a:ln>
        </p:spPr>
      </p:pic>
      <p:pic>
        <p:nvPicPr>
          <p:cNvPr id="693" name="图片 2" descr=""/>
          <p:cNvPicPr/>
          <p:nvPr/>
        </p:nvPicPr>
        <p:blipFill>
          <a:blip r:embed="rId6"/>
          <a:stretch/>
        </p:blipFill>
        <p:spPr>
          <a:xfrm>
            <a:off x="5986440" y="1724040"/>
            <a:ext cx="5950080" cy="4987800"/>
          </a:xfrm>
          <a:prstGeom prst="rect">
            <a:avLst/>
          </a:prstGeom>
          <a:ln w="0">
            <a:noFill/>
          </a:ln>
        </p:spPr>
      </p:pic>
      <p:pic>
        <p:nvPicPr>
          <p:cNvPr id="694" name="图片 1" descr=""/>
          <p:cNvPicPr/>
          <p:nvPr/>
        </p:nvPicPr>
        <p:blipFill>
          <a:blip r:embed="rId7"/>
          <a:stretch/>
        </p:blipFill>
        <p:spPr>
          <a:xfrm>
            <a:off x="10969560" y="1963800"/>
            <a:ext cx="1013040" cy="1003320"/>
          </a:xfrm>
          <a:prstGeom prst="rect">
            <a:avLst/>
          </a:prstGeom>
          <a:ln w="0">
            <a:noFill/>
          </a:ln>
        </p:spPr>
      </p:pic>
      <p:sp>
        <p:nvSpPr>
          <p:cNvPr id="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97"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83C5-488B-4AA2-933E-00B1E17C632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98"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58DD-23BA-4967-8265-97CCC9967E1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7" name="图片 6" descr=""/>
          <p:cNvPicPr/>
          <p:nvPr/>
        </p:nvPicPr>
        <p:blipFill>
          <a:blip r:embed="rId2"/>
          <a:stretch/>
        </p:blipFill>
        <p:spPr>
          <a:xfrm>
            <a:off x="10899720" y="5443560"/>
            <a:ext cx="1292400" cy="1414440"/>
          </a:xfrm>
          <a:prstGeom prst="rect">
            <a:avLst/>
          </a:prstGeom>
          <a:ln w="0">
            <a:noFill/>
          </a:ln>
        </p:spPr>
      </p:pic>
      <p:pic>
        <p:nvPicPr>
          <p:cNvPr id="738" name="图片 7" descr=""/>
          <p:cNvPicPr/>
          <p:nvPr/>
        </p:nvPicPr>
        <p:blipFill>
          <a:blip r:embed="rId3"/>
          <a:stretch/>
        </p:blipFill>
        <p:spPr>
          <a:xfrm>
            <a:off x="311040" y="6194520"/>
            <a:ext cx="507960" cy="431640"/>
          </a:xfrm>
          <a:prstGeom prst="rect">
            <a:avLst/>
          </a:prstGeom>
          <a:ln w="0">
            <a:noFill/>
          </a:ln>
        </p:spPr>
      </p:pic>
      <p:pic>
        <p:nvPicPr>
          <p:cNvPr id="739" name="图片 8" descr=""/>
          <p:cNvPicPr/>
          <p:nvPr/>
        </p:nvPicPr>
        <p:blipFill>
          <a:blip r:embed="rId4"/>
          <a:stretch/>
        </p:blipFill>
        <p:spPr>
          <a:xfrm>
            <a:off x="10291680" y="6410160"/>
            <a:ext cx="354240" cy="336600"/>
          </a:xfrm>
          <a:prstGeom prst="rect">
            <a:avLst/>
          </a:prstGeom>
          <a:ln w="0">
            <a:noFill/>
          </a:ln>
        </p:spPr>
      </p:pic>
      <p:pic>
        <p:nvPicPr>
          <p:cNvPr id="740" name="图片 9" descr=""/>
          <p:cNvPicPr/>
          <p:nvPr/>
        </p:nvPicPr>
        <p:blipFill>
          <a:blip r:embed="rId5"/>
          <a:stretch/>
        </p:blipFill>
        <p:spPr>
          <a:xfrm>
            <a:off x="260280" y="114480"/>
            <a:ext cx="546120" cy="534960"/>
          </a:xfrm>
          <a:prstGeom prst="rect">
            <a:avLst/>
          </a:prstGeom>
          <a:ln w="0">
            <a:noFill/>
          </a:ln>
        </p:spPr>
      </p:pic>
      <p:pic>
        <p:nvPicPr>
          <p:cNvPr id="741" name="图片 10" descr=""/>
          <p:cNvPicPr/>
          <p:nvPr/>
        </p:nvPicPr>
        <p:blipFill>
          <a:blip r:embed="rId6"/>
          <a:stretch/>
        </p:blipFill>
        <p:spPr>
          <a:xfrm>
            <a:off x="11442600" y="54000"/>
            <a:ext cx="615960" cy="608040"/>
          </a:xfrm>
          <a:prstGeom prst="rect">
            <a:avLst/>
          </a:prstGeom>
          <a:ln w="0">
            <a:noFill/>
          </a:ln>
        </p:spPr>
      </p:pic>
      <p:sp>
        <p:nvSpPr>
          <p:cNvPr id="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4"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50B5-C534-49B5-AA8E-C7B587FF6B4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5"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6"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FBC8-0DC6-4FB9-BC78-AAD45F49168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4" name="图片 7" descr=""/>
          <p:cNvPicPr/>
          <p:nvPr/>
        </p:nvPicPr>
        <p:blipFill>
          <a:blip r:embed="rId2"/>
          <a:stretch/>
        </p:blipFill>
        <p:spPr>
          <a:xfrm flipH="1" rot="20731200">
            <a:off x="9333720" y="2427120"/>
            <a:ext cx="1067040" cy="1046160"/>
          </a:xfrm>
          <a:prstGeom prst="rect">
            <a:avLst/>
          </a:prstGeom>
          <a:ln w="0">
            <a:noFill/>
          </a:ln>
        </p:spPr>
      </p:pic>
      <p:pic>
        <p:nvPicPr>
          <p:cNvPr id="785" name="图片 3" descr=""/>
          <p:cNvPicPr/>
          <p:nvPr/>
        </p:nvPicPr>
        <p:blipFill>
          <a:blip r:embed="rId3"/>
          <a:stretch/>
        </p:blipFill>
        <p:spPr>
          <a:xfrm>
            <a:off x="2212920" y="2452680"/>
            <a:ext cx="951120" cy="933480"/>
          </a:xfrm>
          <a:prstGeom prst="rect">
            <a:avLst/>
          </a:prstGeom>
          <a:ln w="0">
            <a:noFill/>
          </a:ln>
        </p:spPr>
      </p:pic>
      <p:pic>
        <p:nvPicPr>
          <p:cNvPr id="786" name="图片 8" descr=""/>
          <p:cNvPicPr/>
          <p:nvPr/>
        </p:nvPicPr>
        <p:blipFill>
          <a:blip r:embed="rId4"/>
          <a:stretch/>
        </p:blipFill>
        <p:spPr>
          <a:xfrm>
            <a:off x="4859280" y="-30240"/>
            <a:ext cx="1836720" cy="2237040"/>
          </a:xfrm>
          <a:prstGeom prst="rect">
            <a:avLst/>
          </a:prstGeom>
          <a:ln w="0">
            <a:noFill/>
          </a:ln>
        </p:spPr>
      </p:pic>
      <p:pic>
        <p:nvPicPr>
          <p:cNvPr id="787" name="图片 9" descr=""/>
          <p:cNvPicPr/>
          <p:nvPr/>
        </p:nvPicPr>
        <p:blipFill>
          <a:blip r:embed="rId5"/>
          <a:stretch/>
        </p:blipFill>
        <p:spPr>
          <a:xfrm>
            <a:off x="5068800" y="4519440"/>
            <a:ext cx="2060640" cy="2325960"/>
          </a:xfrm>
          <a:prstGeom prst="rect">
            <a:avLst/>
          </a:prstGeom>
          <a:ln w="0">
            <a:noFill/>
          </a:ln>
        </p:spPr>
      </p:pic>
      <p:sp>
        <p:nvSpPr>
          <p:cNvPr id="7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8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0"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5DF4-326C-4F4D-8526-321AF21EB33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1"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2"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4953-B792-43CD-9D1D-17FCC933804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0" name="图片 7" descr=""/>
          <p:cNvPicPr/>
          <p:nvPr/>
        </p:nvPicPr>
        <p:blipFill>
          <a:blip r:embed="rId2"/>
          <a:stretch/>
        </p:blipFill>
        <p:spPr>
          <a:xfrm>
            <a:off x="10899720" y="5443560"/>
            <a:ext cx="1292400" cy="1414440"/>
          </a:xfrm>
          <a:prstGeom prst="rect">
            <a:avLst/>
          </a:prstGeom>
          <a:ln w="0">
            <a:noFill/>
          </a:ln>
        </p:spPr>
      </p:pic>
      <p:pic>
        <p:nvPicPr>
          <p:cNvPr id="831" name="图片 8" descr=""/>
          <p:cNvPicPr/>
          <p:nvPr/>
        </p:nvPicPr>
        <p:blipFill>
          <a:blip r:embed="rId3"/>
          <a:stretch/>
        </p:blipFill>
        <p:spPr>
          <a:xfrm>
            <a:off x="311040" y="6194520"/>
            <a:ext cx="507960" cy="431640"/>
          </a:xfrm>
          <a:prstGeom prst="rect">
            <a:avLst/>
          </a:prstGeom>
          <a:ln w="0">
            <a:noFill/>
          </a:ln>
        </p:spPr>
      </p:pic>
      <p:pic>
        <p:nvPicPr>
          <p:cNvPr id="832" name="图片 9" descr=""/>
          <p:cNvPicPr/>
          <p:nvPr/>
        </p:nvPicPr>
        <p:blipFill>
          <a:blip r:embed="rId4"/>
          <a:stretch/>
        </p:blipFill>
        <p:spPr>
          <a:xfrm>
            <a:off x="10291680" y="6410160"/>
            <a:ext cx="354240" cy="336600"/>
          </a:xfrm>
          <a:prstGeom prst="rect">
            <a:avLst/>
          </a:prstGeom>
          <a:ln w="0">
            <a:noFill/>
          </a:ln>
        </p:spPr>
      </p:pic>
      <p:pic>
        <p:nvPicPr>
          <p:cNvPr id="833" name="图片 10" descr=""/>
          <p:cNvPicPr/>
          <p:nvPr/>
        </p:nvPicPr>
        <p:blipFill>
          <a:blip r:embed="rId5"/>
          <a:stretch/>
        </p:blipFill>
        <p:spPr>
          <a:xfrm>
            <a:off x="260280" y="114480"/>
            <a:ext cx="546120" cy="534960"/>
          </a:xfrm>
          <a:prstGeom prst="rect">
            <a:avLst/>
          </a:prstGeom>
          <a:ln w="0">
            <a:noFill/>
          </a:ln>
        </p:spPr>
      </p:pic>
      <p:pic>
        <p:nvPicPr>
          <p:cNvPr id="834" name="图片 11" descr=""/>
          <p:cNvPicPr/>
          <p:nvPr/>
        </p:nvPicPr>
        <p:blipFill>
          <a:blip r:embed="rId6"/>
          <a:stretch/>
        </p:blipFill>
        <p:spPr>
          <a:xfrm>
            <a:off x="11442600" y="54000"/>
            <a:ext cx="615960" cy="608040"/>
          </a:xfrm>
          <a:prstGeom prst="rect">
            <a:avLst/>
          </a:prstGeom>
          <a:ln w="0">
            <a:noFill/>
          </a:ln>
        </p:spPr>
      </p:pic>
      <p:sp>
        <p:nvSpPr>
          <p:cNvPr id="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3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37"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D5E5-4CF0-4496-B54B-FD2376BF1DD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38"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00E8-5BA7-4FB7-B946-616BA6388A66}"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B13E-7782-4568-8B47-6B06D300653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C958-0BB7-4100-BB68-A598AE58F3C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77" name="图片 9" descr=""/>
          <p:cNvPicPr/>
          <p:nvPr/>
        </p:nvPicPr>
        <p:blipFill>
          <a:blip r:embed="rId2"/>
          <a:stretch/>
        </p:blipFill>
        <p:spPr>
          <a:xfrm>
            <a:off x="10899720" y="5443560"/>
            <a:ext cx="1292400" cy="1414440"/>
          </a:xfrm>
          <a:prstGeom prst="rect">
            <a:avLst/>
          </a:prstGeom>
          <a:ln w="0">
            <a:noFill/>
          </a:ln>
        </p:spPr>
      </p:pic>
      <p:pic>
        <p:nvPicPr>
          <p:cNvPr id="878" name="图片 10" descr=""/>
          <p:cNvPicPr/>
          <p:nvPr/>
        </p:nvPicPr>
        <p:blipFill>
          <a:blip r:embed="rId3"/>
          <a:stretch/>
        </p:blipFill>
        <p:spPr>
          <a:xfrm>
            <a:off x="311040" y="6194520"/>
            <a:ext cx="507960" cy="431640"/>
          </a:xfrm>
          <a:prstGeom prst="rect">
            <a:avLst/>
          </a:prstGeom>
          <a:ln w="0">
            <a:noFill/>
          </a:ln>
        </p:spPr>
      </p:pic>
      <p:pic>
        <p:nvPicPr>
          <p:cNvPr id="879" name="图片 11" descr=""/>
          <p:cNvPicPr/>
          <p:nvPr/>
        </p:nvPicPr>
        <p:blipFill>
          <a:blip r:embed="rId4"/>
          <a:stretch/>
        </p:blipFill>
        <p:spPr>
          <a:xfrm>
            <a:off x="10291680" y="6410160"/>
            <a:ext cx="354240" cy="336600"/>
          </a:xfrm>
          <a:prstGeom prst="rect">
            <a:avLst/>
          </a:prstGeom>
          <a:ln w="0">
            <a:noFill/>
          </a:ln>
        </p:spPr>
      </p:pic>
      <p:pic>
        <p:nvPicPr>
          <p:cNvPr id="880" name="图片 12" descr=""/>
          <p:cNvPicPr/>
          <p:nvPr/>
        </p:nvPicPr>
        <p:blipFill>
          <a:blip r:embed="rId5"/>
          <a:stretch/>
        </p:blipFill>
        <p:spPr>
          <a:xfrm>
            <a:off x="260280" y="114480"/>
            <a:ext cx="546120" cy="534960"/>
          </a:xfrm>
          <a:prstGeom prst="rect">
            <a:avLst/>
          </a:prstGeom>
          <a:ln w="0">
            <a:noFill/>
          </a:ln>
        </p:spPr>
      </p:pic>
      <p:pic>
        <p:nvPicPr>
          <p:cNvPr id="881" name="图片 13" descr=""/>
          <p:cNvPicPr/>
          <p:nvPr/>
        </p:nvPicPr>
        <p:blipFill>
          <a:blip r:embed="rId6"/>
          <a:stretch/>
        </p:blipFill>
        <p:spPr>
          <a:xfrm>
            <a:off x="11442600" y="54000"/>
            <a:ext cx="615960" cy="608040"/>
          </a:xfrm>
          <a:prstGeom prst="rect">
            <a:avLst/>
          </a:prstGeom>
          <a:ln w="0">
            <a:noFill/>
          </a:ln>
        </p:spPr>
      </p:pic>
      <p:sp>
        <p:nvSpPr>
          <p:cNvPr id="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4"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86CC-9295-425C-8918-2F5104C828A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739F-0724-4159-AFDF-353269F3866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4" name="图片 5" descr=""/>
          <p:cNvPicPr/>
          <p:nvPr/>
        </p:nvPicPr>
        <p:blipFill>
          <a:blip r:embed="rId2"/>
          <a:stretch/>
        </p:blipFill>
        <p:spPr>
          <a:xfrm>
            <a:off x="10899720" y="5443560"/>
            <a:ext cx="1292400" cy="1414440"/>
          </a:xfrm>
          <a:prstGeom prst="rect">
            <a:avLst/>
          </a:prstGeom>
          <a:ln w="0">
            <a:noFill/>
          </a:ln>
        </p:spPr>
      </p:pic>
      <p:pic>
        <p:nvPicPr>
          <p:cNvPr id="925" name="图片 8" descr=""/>
          <p:cNvPicPr/>
          <p:nvPr/>
        </p:nvPicPr>
        <p:blipFill>
          <a:blip r:embed="rId3"/>
          <a:stretch/>
        </p:blipFill>
        <p:spPr>
          <a:xfrm>
            <a:off x="260280" y="114480"/>
            <a:ext cx="546120" cy="534960"/>
          </a:xfrm>
          <a:prstGeom prst="rect">
            <a:avLst/>
          </a:prstGeom>
          <a:ln w="0">
            <a:noFill/>
          </a:ln>
        </p:spPr>
      </p:pic>
      <p:pic>
        <p:nvPicPr>
          <p:cNvPr id="926" name="图片 9" descr=""/>
          <p:cNvPicPr/>
          <p:nvPr/>
        </p:nvPicPr>
        <p:blipFill>
          <a:blip r:embed="rId4"/>
          <a:stretch/>
        </p:blipFill>
        <p:spPr>
          <a:xfrm>
            <a:off x="11442600" y="54000"/>
            <a:ext cx="615960" cy="608040"/>
          </a:xfrm>
          <a:prstGeom prst="rect">
            <a:avLst/>
          </a:prstGeom>
          <a:ln w="0">
            <a:noFill/>
          </a:ln>
        </p:spPr>
      </p:pic>
      <p:sp>
        <p:nvSpPr>
          <p:cNvPr id="9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29"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233F-44C0-4D2E-9082-5ECA19D1247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0"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F8C4-08E5-4AB8-8825-C88E22DDB03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69" name="图片 7" descr=""/>
          <p:cNvPicPr/>
          <p:nvPr/>
        </p:nvPicPr>
        <p:blipFill>
          <a:blip r:embed="rId2"/>
          <a:stretch/>
        </p:blipFill>
        <p:spPr>
          <a:xfrm>
            <a:off x="10899720" y="5443560"/>
            <a:ext cx="1292400" cy="1414440"/>
          </a:xfrm>
          <a:prstGeom prst="rect">
            <a:avLst/>
          </a:prstGeom>
          <a:ln w="0">
            <a:noFill/>
          </a:ln>
        </p:spPr>
      </p:pic>
      <p:pic>
        <p:nvPicPr>
          <p:cNvPr id="970" name="图片 8" descr=""/>
          <p:cNvPicPr/>
          <p:nvPr/>
        </p:nvPicPr>
        <p:blipFill>
          <a:blip r:embed="rId3"/>
          <a:stretch/>
        </p:blipFill>
        <p:spPr>
          <a:xfrm>
            <a:off x="311040" y="6194520"/>
            <a:ext cx="507960" cy="431640"/>
          </a:xfrm>
          <a:prstGeom prst="rect">
            <a:avLst/>
          </a:prstGeom>
          <a:ln w="0">
            <a:noFill/>
          </a:ln>
        </p:spPr>
      </p:pic>
      <p:pic>
        <p:nvPicPr>
          <p:cNvPr id="971" name="图片 9" descr=""/>
          <p:cNvPicPr/>
          <p:nvPr/>
        </p:nvPicPr>
        <p:blipFill>
          <a:blip r:embed="rId4"/>
          <a:stretch/>
        </p:blipFill>
        <p:spPr>
          <a:xfrm>
            <a:off x="10291680" y="6410160"/>
            <a:ext cx="354240" cy="336600"/>
          </a:xfrm>
          <a:prstGeom prst="rect">
            <a:avLst/>
          </a:prstGeom>
          <a:ln w="0">
            <a:noFill/>
          </a:ln>
        </p:spPr>
      </p:pic>
      <p:pic>
        <p:nvPicPr>
          <p:cNvPr id="972" name="图片 10" descr=""/>
          <p:cNvPicPr/>
          <p:nvPr/>
        </p:nvPicPr>
        <p:blipFill>
          <a:blip r:embed="rId5"/>
          <a:stretch/>
        </p:blipFill>
        <p:spPr>
          <a:xfrm>
            <a:off x="260280" y="114480"/>
            <a:ext cx="546120" cy="534960"/>
          </a:xfrm>
          <a:prstGeom prst="rect">
            <a:avLst/>
          </a:prstGeom>
          <a:ln w="0">
            <a:noFill/>
          </a:ln>
        </p:spPr>
      </p:pic>
      <p:pic>
        <p:nvPicPr>
          <p:cNvPr id="973" name="图片 11" descr=""/>
          <p:cNvPicPr/>
          <p:nvPr/>
        </p:nvPicPr>
        <p:blipFill>
          <a:blip r:embed="rId6"/>
          <a:stretch/>
        </p:blipFill>
        <p:spPr>
          <a:xfrm>
            <a:off x="11442600" y="54000"/>
            <a:ext cx="615960" cy="608040"/>
          </a:xfrm>
          <a:prstGeom prst="rect">
            <a:avLst/>
          </a:prstGeom>
          <a:ln w="0">
            <a:noFill/>
          </a:ln>
        </p:spPr>
      </p:pic>
      <p:sp>
        <p:nvSpPr>
          <p:cNvPr id="9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7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76"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3314-76B6-4830-B3FB-520E4C5225B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77"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31E6-7C94-414F-B7A4-235A93CB3C2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6" name="图片 7" descr=""/>
          <p:cNvPicPr/>
          <p:nvPr/>
        </p:nvPicPr>
        <p:blipFill>
          <a:blip r:embed="rId2"/>
          <a:stretch/>
        </p:blipFill>
        <p:spPr>
          <a:xfrm>
            <a:off x="10899720" y="5443560"/>
            <a:ext cx="1292400" cy="1414440"/>
          </a:xfrm>
          <a:prstGeom prst="rect">
            <a:avLst/>
          </a:prstGeom>
          <a:ln w="0">
            <a:noFill/>
          </a:ln>
        </p:spPr>
      </p:pic>
      <p:pic>
        <p:nvPicPr>
          <p:cNvPr id="1017" name="图片 8" descr=""/>
          <p:cNvPicPr/>
          <p:nvPr/>
        </p:nvPicPr>
        <p:blipFill>
          <a:blip r:embed="rId3"/>
          <a:stretch/>
        </p:blipFill>
        <p:spPr>
          <a:xfrm>
            <a:off x="311040" y="6194520"/>
            <a:ext cx="507960" cy="431640"/>
          </a:xfrm>
          <a:prstGeom prst="rect">
            <a:avLst/>
          </a:prstGeom>
          <a:ln w="0">
            <a:noFill/>
          </a:ln>
        </p:spPr>
      </p:pic>
      <p:pic>
        <p:nvPicPr>
          <p:cNvPr id="1018" name="图片 9" descr=""/>
          <p:cNvPicPr/>
          <p:nvPr/>
        </p:nvPicPr>
        <p:blipFill>
          <a:blip r:embed="rId4"/>
          <a:stretch/>
        </p:blipFill>
        <p:spPr>
          <a:xfrm>
            <a:off x="10291680" y="6410160"/>
            <a:ext cx="354240" cy="336600"/>
          </a:xfrm>
          <a:prstGeom prst="rect">
            <a:avLst/>
          </a:prstGeom>
          <a:ln w="0">
            <a:noFill/>
          </a:ln>
        </p:spPr>
      </p:pic>
      <p:pic>
        <p:nvPicPr>
          <p:cNvPr id="1019" name="图片 10" descr=""/>
          <p:cNvPicPr/>
          <p:nvPr/>
        </p:nvPicPr>
        <p:blipFill>
          <a:blip r:embed="rId5"/>
          <a:stretch/>
        </p:blipFill>
        <p:spPr>
          <a:xfrm>
            <a:off x="260280" y="114480"/>
            <a:ext cx="546120" cy="534960"/>
          </a:xfrm>
          <a:prstGeom prst="rect">
            <a:avLst/>
          </a:prstGeom>
          <a:ln w="0">
            <a:noFill/>
          </a:ln>
        </p:spPr>
      </p:pic>
      <p:pic>
        <p:nvPicPr>
          <p:cNvPr id="1020" name="图片 11" descr=""/>
          <p:cNvPicPr/>
          <p:nvPr/>
        </p:nvPicPr>
        <p:blipFill>
          <a:blip r:embed="rId6"/>
          <a:stretch/>
        </p:blipFill>
        <p:spPr>
          <a:xfrm>
            <a:off x="11442600" y="54000"/>
            <a:ext cx="615960" cy="608040"/>
          </a:xfrm>
          <a:prstGeom prst="rect">
            <a:avLst/>
          </a:prstGeom>
          <a:ln w="0">
            <a:noFill/>
          </a:ln>
        </p:spPr>
      </p:pic>
      <p:sp>
        <p:nvSpPr>
          <p:cNvPr id="10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3"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1BFB-9E47-40A5-874C-CF31C9B043C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4"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9CEF-223D-4FB5-9AD5-2BDF9F17C63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3" name="图片 6" descr=""/>
          <p:cNvPicPr/>
          <p:nvPr/>
        </p:nvPicPr>
        <p:blipFill>
          <a:blip r:embed="rId2"/>
          <a:stretch/>
        </p:blipFill>
        <p:spPr>
          <a:xfrm>
            <a:off x="10899720" y="5443560"/>
            <a:ext cx="1292400" cy="1414440"/>
          </a:xfrm>
          <a:prstGeom prst="rect">
            <a:avLst/>
          </a:prstGeom>
          <a:ln w="0">
            <a:noFill/>
          </a:ln>
        </p:spPr>
      </p:pic>
      <p:pic>
        <p:nvPicPr>
          <p:cNvPr id="1064" name="图片 7" descr=""/>
          <p:cNvPicPr/>
          <p:nvPr/>
        </p:nvPicPr>
        <p:blipFill>
          <a:blip r:embed="rId3"/>
          <a:stretch/>
        </p:blipFill>
        <p:spPr>
          <a:xfrm>
            <a:off x="311040" y="6194520"/>
            <a:ext cx="507960" cy="431640"/>
          </a:xfrm>
          <a:prstGeom prst="rect">
            <a:avLst/>
          </a:prstGeom>
          <a:ln w="0">
            <a:noFill/>
          </a:ln>
        </p:spPr>
      </p:pic>
      <p:pic>
        <p:nvPicPr>
          <p:cNvPr id="1065" name="图片 8" descr=""/>
          <p:cNvPicPr/>
          <p:nvPr/>
        </p:nvPicPr>
        <p:blipFill>
          <a:blip r:embed="rId4"/>
          <a:stretch/>
        </p:blipFill>
        <p:spPr>
          <a:xfrm>
            <a:off x="10291680" y="6410160"/>
            <a:ext cx="354240" cy="336600"/>
          </a:xfrm>
          <a:prstGeom prst="rect">
            <a:avLst/>
          </a:prstGeom>
          <a:ln w="0">
            <a:noFill/>
          </a:ln>
        </p:spPr>
      </p:pic>
      <p:pic>
        <p:nvPicPr>
          <p:cNvPr id="1066" name="图片 9" descr=""/>
          <p:cNvPicPr/>
          <p:nvPr/>
        </p:nvPicPr>
        <p:blipFill>
          <a:blip r:embed="rId5"/>
          <a:stretch/>
        </p:blipFill>
        <p:spPr>
          <a:xfrm>
            <a:off x="260280" y="114480"/>
            <a:ext cx="546120" cy="534960"/>
          </a:xfrm>
          <a:prstGeom prst="rect">
            <a:avLst/>
          </a:prstGeom>
          <a:ln w="0">
            <a:noFill/>
          </a:ln>
        </p:spPr>
      </p:pic>
      <p:pic>
        <p:nvPicPr>
          <p:cNvPr id="1067" name="图片 10" descr=""/>
          <p:cNvPicPr/>
          <p:nvPr/>
        </p:nvPicPr>
        <p:blipFill>
          <a:blip r:embed="rId6"/>
          <a:stretch/>
        </p:blipFill>
        <p:spPr>
          <a:xfrm>
            <a:off x="11442600" y="54000"/>
            <a:ext cx="615960" cy="608040"/>
          </a:xfrm>
          <a:prstGeom prst="rect">
            <a:avLst/>
          </a:prstGeom>
          <a:ln w="0">
            <a:noFill/>
          </a:ln>
        </p:spPr>
      </p:pic>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0"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9E79-3B40-405B-A1E9-405C7358CB8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1"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447B-EF46-45D5-BFE1-76FD94E99A9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0" name="图片 5" descr=""/>
          <p:cNvPicPr/>
          <p:nvPr/>
        </p:nvPicPr>
        <p:blipFill>
          <a:blip r:embed="rId2"/>
          <a:stretch/>
        </p:blipFill>
        <p:spPr>
          <a:xfrm>
            <a:off x="10899720" y="5443560"/>
            <a:ext cx="1292400" cy="1414440"/>
          </a:xfrm>
          <a:prstGeom prst="rect">
            <a:avLst/>
          </a:prstGeom>
          <a:ln w="0">
            <a:noFill/>
          </a:ln>
        </p:spPr>
      </p:pic>
      <p:pic>
        <p:nvPicPr>
          <p:cNvPr id="1111" name="图片 7" descr=""/>
          <p:cNvPicPr/>
          <p:nvPr/>
        </p:nvPicPr>
        <p:blipFill>
          <a:blip r:embed="rId3"/>
          <a:stretch/>
        </p:blipFill>
        <p:spPr>
          <a:xfrm>
            <a:off x="311040" y="6194520"/>
            <a:ext cx="507960" cy="431640"/>
          </a:xfrm>
          <a:prstGeom prst="rect">
            <a:avLst/>
          </a:prstGeom>
          <a:ln w="0">
            <a:noFill/>
          </a:ln>
        </p:spPr>
      </p:pic>
      <p:pic>
        <p:nvPicPr>
          <p:cNvPr id="1112" name="图片 8" descr=""/>
          <p:cNvPicPr/>
          <p:nvPr/>
        </p:nvPicPr>
        <p:blipFill>
          <a:blip r:embed="rId4"/>
          <a:stretch/>
        </p:blipFill>
        <p:spPr>
          <a:xfrm>
            <a:off x="10291680" y="6410160"/>
            <a:ext cx="354240" cy="336600"/>
          </a:xfrm>
          <a:prstGeom prst="rect">
            <a:avLst/>
          </a:prstGeom>
          <a:ln w="0">
            <a:noFill/>
          </a:ln>
        </p:spPr>
      </p:pic>
      <p:pic>
        <p:nvPicPr>
          <p:cNvPr id="1113" name="图片 9" descr=""/>
          <p:cNvPicPr/>
          <p:nvPr/>
        </p:nvPicPr>
        <p:blipFill>
          <a:blip r:embed="rId5"/>
          <a:stretch/>
        </p:blipFill>
        <p:spPr>
          <a:xfrm>
            <a:off x="260280" y="114480"/>
            <a:ext cx="546120" cy="534960"/>
          </a:xfrm>
          <a:prstGeom prst="rect">
            <a:avLst/>
          </a:prstGeom>
          <a:ln w="0">
            <a:noFill/>
          </a:ln>
        </p:spPr>
      </p:pic>
      <p:pic>
        <p:nvPicPr>
          <p:cNvPr id="1114" name="图片 10" descr=""/>
          <p:cNvPicPr/>
          <p:nvPr/>
        </p:nvPicPr>
        <p:blipFill>
          <a:blip r:embed="rId6"/>
          <a:stretch/>
        </p:blipFill>
        <p:spPr>
          <a:xfrm>
            <a:off x="11442600" y="54000"/>
            <a:ext cx="615960" cy="608040"/>
          </a:xfrm>
          <a:prstGeom prst="rect">
            <a:avLst/>
          </a:prstGeom>
          <a:ln w="0">
            <a:noFill/>
          </a:ln>
        </p:spPr>
      </p:pic>
      <p:sp>
        <p:nvSpPr>
          <p:cNvPr id="1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1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17" name="PlaceHolder 3"/>
          <p:cNvSpPr>
            <a:spLocks noGrp="1"/>
          </p:cNvSpPr>
          <p:nvPr>
            <p:ph type="dt" idx="7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7FDC-B395-4C3A-AAA1-EEAF364BE2E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18"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9"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E989-1AA4-4BA2-828E-5266AC98006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57" name="图片 5" descr=""/>
          <p:cNvPicPr/>
          <p:nvPr/>
        </p:nvPicPr>
        <p:blipFill>
          <a:blip r:embed="rId2"/>
          <a:stretch/>
        </p:blipFill>
        <p:spPr>
          <a:xfrm>
            <a:off x="2868480" y="3490920"/>
            <a:ext cx="2543400" cy="3108240"/>
          </a:xfrm>
          <a:prstGeom prst="rect">
            <a:avLst/>
          </a:prstGeom>
          <a:ln w="0">
            <a:noFill/>
          </a:ln>
        </p:spPr>
      </p:pic>
      <p:pic>
        <p:nvPicPr>
          <p:cNvPr id="1158" name="图片 6" descr=""/>
          <p:cNvPicPr/>
          <p:nvPr/>
        </p:nvPicPr>
        <p:blipFill>
          <a:blip r:embed="rId3"/>
          <a:stretch/>
        </p:blipFill>
        <p:spPr>
          <a:xfrm>
            <a:off x="6480" y="1612800"/>
            <a:ext cx="3257280" cy="5243760"/>
          </a:xfrm>
          <a:prstGeom prst="rect">
            <a:avLst/>
          </a:prstGeom>
          <a:ln w="0">
            <a:noFill/>
          </a:ln>
        </p:spPr>
      </p:pic>
      <p:pic>
        <p:nvPicPr>
          <p:cNvPr id="1159" name="图片 6" descr=""/>
          <p:cNvPicPr/>
          <p:nvPr/>
        </p:nvPicPr>
        <p:blipFill>
          <a:blip r:embed="rId4"/>
          <a:stretch/>
        </p:blipFill>
        <p:spPr>
          <a:xfrm rot="17330400">
            <a:off x="3570480" y="5589000"/>
            <a:ext cx="568440" cy="542880"/>
          </a:xfrm>
          <a:prstGeom prst="rect">
            <a:avLst/>
          </a:prstGeom>
          <a:ln w="0">
            <a:noFill/>
          </a:ln>
        </p:spPr>
      </p:pic>
      <p:pic>
        <p:nvPicPr>
          <p:cNvPr id="1160" name="图片 5" descr=""/>
          <p:cNvPicPr/>
          <p:nvPr/>
        </p:nvPicPr>
        <p:blipFill>
          <a:blip r:embed="rId5"/>
          <a:stretch/>
        </p:blipFill>
        <p:spPr>
          <a:xfrm rot="20422800">
            <a:off x="1217160" y="5847840"/>
            <a:ext cx="563760" cy="536760"/>
          </a:xfrm>
          <a:prstGeom prst="rect">
            <a:avLst/>
          </a:prstGeom>
          <a:ln w="0">
            <a:noFill/>
          </a:ln>
        </p:spPr>
      </p:pic>
      <p:pic>
        <p:nvPicPr>
          <p:cNvPr id="1161" name="图片 9" descr=""/>
          <p:cNvPicPr/>
          <p:nvPr/>
        </p:nvPicPr>
        <p:blipFill>
          <a:blip r:embed="rId6"/>
          <a:stretch/>
        </p:blipFill>
        <p:spPr>
          <a:xfrm>
            <a:off x="4964040" y="4621320"/>
            <a:ext cx="1830600" cy="2236680"/>
          </a:xfrm>
          <a:prstGeom prst="rect">
            <a:avLst/>
          </a:prstGeom>
          <a:ln w="0">
            <a:noFill/>
          </a:ln>
        </p:spPr>
      </p:pic>
      <p:pic>
        <p:nvPicPr>
          <p:cNvPr id="1162" name="图片 10" descr=""/>
          <p:cNvPicPr/>
          <p:nvPr/>
        </p:nvPicPr>
        <p:blipFill>
          <a:blip r:embed="rId7"/>
          <a:stretch/>
        </p:blipFill>
        <p:spPr>
          <a:xfrm>
            <a:off x="3616200" y="369720"/>
            <a:ext cx="2659320" cy="3116520"/>
          </a:xfrm>
          <a:prstGeom prst="rect">
            <a:avLst/>
          </a:prstGeom>
          <a:ln w="0">
            <a:noFill/>
          </a:ln>
        </p:spPr>
      </p:pic>
      <p:pic>
        <p:nvPicPr>
          <p:cNvPr id="1163" name="图片 3" descr=""/>
          <p:cNvPicPr/>
          <p:nvPr/>
        </p:nvPicPr>
        <p:blipFill>
          <a:blip r:embed="rId8"/>
          <a:stretch/>
        </p:blipFill>
        <p:spPr>
          <a:xfrm flipH="1" rot="20731200">
            <a:off x="10271880" y="1108080"/>
            <a:ext cx="1067040" cy="1046160"/>
          </a:xfrm>
          <a:prstGeom prst="rect">
            <a:avLst/>
          </a:prstGeom>
          <a:ln w="0">
            <a:noFill/>
          </a:ln>
        </p:spPr>
      </p:pic>
      <p:pic>
        <p:nvPicPr>
          <p:cNvPr id="1164" name="图片 4" descr=""/>
          <p:cNvPicPr/>
          <p:nvPr/>
        </p:nvPicPr>
        <p:blipFill>
          <a:blip r:embed="rId9"/>
          <a:stretch/>
        </p:blipFill>
        <p:spPr>
          <a:xfrm>
            <a:off x="8472600" y="5543640"/>
            <a:ext cx="558720" cy="533160"/>
          </a:xfrm>
          <a:prstGeom prst="rect">
            <a:avLst/>
          </a:prstGeom>
          <a:ln w="0">
            <a:noFill/>
          </a:ln>
        </p:spPr>
      </p:pic>
      <p:pic>
        <p:nvPicPr>
          <p:cNvPr id="1165" name="图片 3" descr=""/>
          <p:cNvPicPr/>
          <p:nvPr/>
        </p:nvPicPr>
        <p:blipFill>
          <a:blip r:embed="rId10"/>
          <a:stretch/>
        </p:blipFill>
        <p:spPr>
          <a:xfrm>
            <a:off x="2421000" y="1197000"/>
            <a:ext cx="950760" cy="933480"/>
          </a:xfrm>
          <a:prstGeom prst="rect">
            <a:avLst/>
          </a:prstGeom>
          <a:ln w="0">
            <a:noFill/>
          </a:ln>
        </p:spPr>
      </p:pic>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8" name="PlaceHolder 3"/>
          <p:cNvSpPr>
            <a:spLocks noGrp="1"/>
          </p:cNvSpPr>
          <p:nvPr>
            <p:ph type="dt" idx="76"/>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C2BD-71DC-4E86-AE9C-3F1544D69B4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69"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0"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75EB-AFBA-4E53-96F5-743D2346A86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11"/>
    <p:sldLayoutId id="2147483975" r:id="rId12"/>
    <p:sldLayoutId id="2147483976" r:id="rId13"/>
    <p:sldLayoutId id="2147483977" r:id="rId14"/>
    <p:sldLayoutId id="2147483978" r:id="rId15"/>
    <p:sldLayoutId id="2147483979" r:id="rId16"/>
    <p:sldLayoutId id="2147483980" r:id="rId17"/>
    <p:sldLayoutId id="2147483981" r:id="rId18"/>
    <p:sldLayoutId id="2147483982" r:id="rId19"/>
    <p:sldLayoutId id="2147483983" r:id="rId20"/>
    <p:sldLayoutId id="2147483984" r:id="rId21"/>
    <p:sldLayoutId id="2147483985" r:id="rId22"/>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8"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1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11" name="PlaceHolder 3"/>
          <p:cNvSpPr>
            <a:spLocks noGrp="1"/>
          </p:cNvSpPr>
          <p:nvPr>
            <p:ph type="dt" idx="7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25DD-17CD-4E51-AF03-A4068669258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12" name="PlaceHolder 4"/>
          <p:cNvSpPr>
            <a:spLocks noGrp="1"/>
          </p:cNvSpPr>
          <p:nvPr>
            <p:ph type="ftr" idx="8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3" name="PlaceHolder 5"/>
          <p:cNvSpPr>
            <a:spLocks noGrp="1"/>
          </p:cNvSpPr>
          <p:nvPr>
            <p:ph type="sldNum" idx="8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998B-5319-4E62-BB70-A52C44423C0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51" name="图片 5" descr=""/>
          <p:cNvPicPr/>
          <p:nvPr/>
        </p:nvPicPr>
        <p:blipFill>
          <a:blip r:embed="rId2"/>
          <a:stretch/>
        </p:blipFill>
        <p:spPr>
          <a:xfrm rot="19920000">
            <a:off x="1331640" y="5760720"/>
            <a:ext cx="709560" cy="676080"/>
          </a:xfrm>
          <a:prstGeom prst="rect">
            <a:avLst/>
          </a:prstGeom>
          <a:ln w="0">
            <a:noFill/>
          </a:ln>
        </p:spPr>
      </p:pic>
      <p:pic>
        <p:nvPicPr>
          <p:cNvPr id="1252" name="图片 6" descr=""/>
          <p:cNvPicPr/>
          <p:nvPr/>
        </p:nvPicPr>
        <p:blipFill>
          <a:blip r:embed="rId3"/>
          <a:stretch/>
        </p:blipFill>
        <p:spPr>
          <a:xfrm rot="17330400">
            <a:off x="3751200" y="5588640"/>
            <a:ext cx="568440" cy="543240"/>
          </a:xfrm>
          <a:prstGeom prst="rect">
            <a:avLst/>
          </a:prstGeom>
          <a:ln w="0">
            <a:noFill/>
          </a:ln>
        </p:spPr>
      </p:pic>
      <p:pic>
        <p:nvPicPr>
          <p:cNvPr id="1253" name="图片 4" descr=""/>
          <p:cNvPicPr/>
          <p:nvPr/>
        </p:nvPicPr>
        <p:blipFill>
          <a:blip r:embed="rId4"/>
          <a:stretch/>
        </p:blipFill>
        <p:spPr>
          <a:xfrm>
            <a:off x="609480" y="693720"/>
            <a:ext cx="560520" cy="534960"/>
          </a:xfrm>
          <a:prstGeom prst="rect">
            <a:avLst/>
          </a:prstGeom>
          <a:ln w="0">
            <a:noFill/>
          </a:ln>
        </p:spPr>
      </p:pic>
      <p:pic>
        <p:nvPicPr>
          <p:cNvPr id="1254" name="图片 3" descr=""/>
          <p:cNvPicPr/>
          <p:nvPr/>
        </p:nvPicPr>
        <p:blipFill>
          <a:blip r:embed="rId5"/>
          <a:stretch/>
        </p:blipFill>
        <p:spPr>
          <a:xfrm>
            <a:off x="2606760" y="1195560"/>
            <a:ext cx="950760" cy="933120"/>
          </a:xfrm>
          <a:prstGeom prst="rect">
            <a:avLst/>
          </a:prstGeom>
          <a:ln w="0">
            <a:noFill/>
          </a:ln>
        </p:spPr>
      </p:pic>
      <p:pic>
        <p:nvPicPr>
          <p:cNvPr id="1255" name="图片 2" descr=""/>
          <p:cNvPicPr/>
          <p:nvPr/>
        </p:nvPicPr>
        <p:blipFill>
          <a:blip r:embed="rId6"/>
          <a:stretch/>
        </p:blipFill>
        <p:spPr>
          <a:xfrm>
            <a:off x="5986440" y="1724040"/>
            <a:ext cx="5950080" cy="4987800"/>
          </a:xfrm>
          <a:prstGeom prst="rect">
            <a:avLst/>
          </a:prstGeom>
          <a:ln w="0">
            <a:noFill/>
          </a:ln>
        </p:spPr>
      </p:pic>
      <p:pic>
        <p:nvPicPr>
          <p:cNvPr id="1256" name="图片 1" descr=""/>
          <p:cNvPicPr/>
          <p:nvPr/>
        </p:nvPicPr>
        <p:blipFill>
          <a:blip r:embed="rId7"/>
          <a:stretch/>
        </p:blipFill>
        <p:spPr>
          <a:xfrm>
            <a:off x="10969560" y="1963800"/>
            <a:ext cx="1013040" cy="1003320"/>
          </a:xfrm>
          <a:prstGeom prst="rect">
            <a:avLst/>
          </a:prstGeom>
          <a:ln w="0">
            <a:noFill/>
          </a:ln>
        </p:spPr>
      </p:pic>
      <p:sp>
        <p:nvSpPr>
          <p:cNvPr id="1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5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59" name="PlaceHolder 3"/>
          <p:cNvSpPr>
            <a:spLocks noGrp="1"/>
          </p:cNvSpPr>
          <p:nvPr>
            <p:ph type="dt" idx="8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CDB8-0B6C-4AF9-B038-9B0AFBADC85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60" name="PlaceHolder 4"/>
          <p:cNvSpPr>
            <a:spLocks noGrp="1"/>
          </p:cNvSpPr>
          <p:nvPr>
            <p:ph type="ftr" idx="8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1" name="PlaceHolder 5"/>
          <p:cNvSpPr>
            <a:spLocks noGrp="1"/>
          </p:cNvSpPr>
          <p:nvPr>
            <p:ph type="sldNum" idx="8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0169-C75A-40FB-A7BB-D840CC78416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9" name="图片 6" descr=""/>
          <p:cNvPicPr/>
          <p:nvPr/>
        </p:nvPicPr>
        <p:blipFill>
          <a:blip r:embed="rId2"/>
          <a:stretch/>
        </p:blipFill>
        <p:spPr>
          <a:xfrm>
            <a:off x="10899720" y="5443560"/>
            <a:ext cx="1292400" cy="1414440"/>
          </a:xfrm>
          <a:prstGeom prst="rect">
            <a:avLst/>
          </a:prstGeom>
          <a:ln w="0">
            <a:noFill/>
          </a:ln>
        </p:spPr>
      </p:pic>
      <p:pic>
        <p:nvPicPr>
          <p:cNvPr id="1300" name="图片 7" descr=""/>
          <p:cNvPicPr/>
          <p:nvPr/>
        </p:nvPicPr>
        <p:blipFill>
          <a:blip r:embed="rId3"/>
          <a:stretch/>
        </p:blipFill>
        <p:spPr>
          <a:xfrm>
            <a:off x="311040" y="6194520"/>
            <a:ext cx="507960" cy="431640"/>
          </a:xfrm>
          <a:prstGeom prst="rect">
            <a:avLst/>
          </a:prstGeom>
          <a:ln w="0">
            <a:noFill/>
          </a:ln>
        </p:spPr>
      </p:pic>
      <p:pic>
        <p:nvPicPr>
          <p:cNvPr id="1301" name="图片 8" descr=""/>
          <p:cNvPicPr/>
          <p:nvPr/>
        </p:nvPicPr>
        <p:blipFill>
          <a:blip r:embed="rId4"/>
          <a:stretch/>
        </p:blipFill>
        <p:spPr>
          <a:xfrm>
            <a:off x="10291680" y="6410160"/>
            <a:ext cx="354240" cy="336600"/>
          </a:xfrm>
          <a:prstGeom prst="rect">
            <a:avLst/>
          </a:prstGeom>
          <a:ln w="0">
            <a:noFill/>
          </a:ln>
        </p:spPr>
      </p:pic>
      <p:pic>
        <p:nvPicPr>
          <p:cNvPr id="1302" name="图片 9" descr=""/>
          <p:cNvPicPr/>
          <p:nvPr/>
        </p:nvPicPr>
        <p:blipFill>
          <a:blip r:embed="rId5"/>
          <a:stretch/>
        </p:blipFill>
        <p:spPr>
          <a:xfrm>
            <a:off x="260280" y="114480"/>
            <a:ext cx="546120" cy="534960"/>
          </a:xfrm>
          <a:prstGeom prst="rect">
            <a:avLst/>
          </a:prstGeom>
          <a:ln w="0">
            <a:noFill/>
          </a:ln>
        </p:spPr>
      </p:pic>
      <p:pic>
        <p:nvPicPr>
          <p:cNvPr id="1303" name="图片 10" descr=""/>
          <p:cNvPicPr/>
          <p:nvPr/>
        </p:nvPicPr>
        <p:blipFill>
          <a:blip r:embed="rId6"/>
          <a:stretch/>
        </p:blipFill>
        <p:spPr>
          <a:xfrm>
            <a:off x="11442600" y="54000"/>
            <a:ext cx="615960" cy="608040"/>
          </a:xfrm>
          <a:prstGeom prst="rect">
            <a:avLst/>
          </a:prstGeom>
          <a:ln w="0">
            <a:noFill/>
          </a:ln>
        </p:spPr>
      </p:pic>
      <p:sp>
        <p:nvSpPr>
          <p:cNvPr id="1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06" name="PlaceHolder 3"/>
          <p:cNvSpPr>
            <a:spLocks noGrp="1"/>
          </p:cNvSpPr>
          <p:nvPr>
            <p:ph type="dt" idx="8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3A40-04AD-4716-A59D-AFE387C3207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07" name="PlaceHolder 4"/>
          <p:cNvSpPr>
            <a:spLocks noGrp="1"/>
          </p:cNvSpPr>
          <p:nvPr>
            <p:ph type="ftr" idx="8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PlaceHolder 5"/>
          <p:cNvSpPr>
            <a:spLocks noGrp="1"/>
          </p:cNvSpPr>
          <p:nvPr>
            <p:ph type="sldNum" idx="8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10D4-BA56-4B0B-861B-62885794AF5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7"/>
    <p:sldLayoutId id="2147484014" r:id="rId8"/>
    <p:sldLayoutId id="2147484015" r:id="rId9"/>
    <p:sldLayoutId id="2147484016" r:id="rId10"/>
    <p:sldLayoutId id="2147484017" r:id="rId11"/>
    <p:sldLayoutId id="2147484018" r:id="rId12"/>
    <p:sldLayoutId id="2147484019" r:id="rId13"/>
    <p:sldLayoutId id="2147484020" r:id="rId14"/>
    <p:sldLayoutId id="2147484021" r:id="rId15"/>
    <p:sldLayoutId id="2147484022" r:id="rId16"/>
    <p:sldLayoutId id="2147484023" r:id="rId17"/>
    <p:sldLayoutId id="2147484024"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6"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6C1B-F4C7-414A-A8E1-DF81ED28E19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D326-F953-40E6-93C9-3A511D50532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6" name="图片 7" descr=""/>
          <p:cNvPicPr/>
          <p:nvPr/>
        </p:nvPicPr>
        <p:blipFill>
          <a:blip r:embed="rId2"/>
          <a:stretch/>
        </p:blipFill>
        <p:spPr>
          <a:xfrm flipH="1" rot="20731200">
            <a:off x="9333720" y="2427120"/>
            <a:ext cx="1067040" cy="1046160"/>
          </a:xfrm>
          <a:prstGeom prst="rect">
            <a:avLst/>
          </a:prstGeom>
          <a:ln w="0">
            <a:noFill/>
          </a:ln>
        </p:spPr>
      </p:pic>
      <p:pic>
        <p:nvPicPr>
          <p:cNvPr id="1347" name="图片 3" descr=""/>
          <p:cNvPicPr/>
          <p:nvPr/>
        </p:nvPicPr>
        <p:blipFill>
          <a:blip r:embed="rId3"/>
          <a:stretch/>
        </p:blipFill>
        <p:spPr>
          <a:xfrm>
            <a:off x="2212920" y="2452680"/>
            <a:ext cx="951120" cy="933480"/>
          </a:xfrm>
          <a:prstGeom prst="rect">
            <a:avLst/>
          </a:prstGeom>
          <a:ln w="0">
            <a:noFill/>
          </a:ln>
        </p:spPr>
      </p:pic>
      <p:pic>
        <p:nvPicPr>
          <p:cNvPr id="1348" name="图片 8" descr=""/>
          <p:cNvPicPr/>
          <p:nvPr/>
        </p:nvPicPr>
        <p:blipFill>
          <a:blip r:embed="rId4"/>
          <a:stretch/>
        </p:blipFill>
        <p:spPr>
          <a:xfrm>
            <a:off x="4859280" y="-30240"/>
            <a:ext cx="1836720" cy="2237040"/>
          </a:xfrm>
          <a:prstGeom prst="rect">
            <a:avLst/>
          </a:prstGeom>
          <a:ln w="0">
            <a:noFill/>
          </a:ln>
        </p:spPr>
      </p:pic>
      <p:pic>
        <p:nvPicPr>
          <p:cNvPr id="1349" name="图片 9" descr=""/>
          <p:cNvPicPr/>
          <p:nvPr/>
        </p:nvPicPr>
        <p:blipFill>
          <a:blip r:embed="rId5"/>
          <a:stretch/>
        </p:blipFill>
        <p:spPr>
          <a:xfrm>
            <a:off x="5068800" y="4519440"/>
            <a:ext cx="2060640" cy="2325960"/>
          </a:xfrm>
          <a:prstGeom prst="rect">
            <a:avLst/>
          </a:prstGeom>
          <a:ln w="0">
            <a:noFill/>
          </a:ln>
        </p:spPr>
      </p:pic>
      <p:sp>
        <p:nvSpPr>
          <p:cNvPr id="13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5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2" name="PlaceHolder 3"/>
          <p:cNvSpPr>
            <a:spLocks noGrp="1"/>
          </p:cNvSpPr>
          <p:nvPr>
            <p:ph type="dt" idx="8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0CFA-8816-4CFE-A525-6BE36D34650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53" name="PlaceHolder 4"/>
          <p:cNvSpPr>
            <a:spLocks noGrp="1"/>
          </p:cNvSpPr>
          <p:nvPr>
            <p:ph type="ftr" idx="8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PlaceHolder 5"/>
          <p:cNvSpPr>
            <a:spLocks noGrp="1"/>
          </p:cNvSpPr>
          <p:nvPr>
            <p:ph type="sldNum" idx="9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92E0-0210-47B9-BA3B-A86C59495FD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6"/>
    <p:sldLayoutId id="2147484027" r:id="rId7"/>
    <p:sldLayoutId id="2147484028" r:id="rId8"/>
    <p:sldLayoutId id="2147484029" r:id="rId9"/>
    <p:sldLayoutId id="2147484030" r:id="rId10"/>
    <p:sldLayoutId id="2147484031" r:id="rId11"/>
    <p:sldLayoutId id="2147484032" r:id="rId12"/>
    <p:sldLayoutId id="2147484033" r:id="rId13"/>
    <p:sldLayoutId id="2147484034" r:id="rId14"/>
    <p:sldLayoutId id="2147484035" r:id="rId15"/>
    <p:sldLayoutId id="2147484036" r:id="rId16"/>
    <p:sldLayoutId id="2147484037" r:id="rId17"/>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92" name="图片 7" descr=""/>
          <p:cNvPicPr/>
          <p:nvPr/>
        </p:nvPicPr>
        <p:blipFill>
          <a:blip r:embed="rId2"/>
          <a:stretch/>
        </p:blipFill>
        <p:spPr>
          <a:xfrm>
            <a:off x="10899720" y="5443560"/>
            <a:ext cx="1292400" cy="1414440"/>
          </a:xfrm>
          <a:prstGeom prst="rect">
            <a:avLst/>
          </a:prstGeom>
          <a:ln w="0">
            <a:noFill/>
          </a:ln>
        </p:spPr>
      </p:pic>
      <p:pic>
        <p:nvPicPr>
          <p:cNvPr id="1393" name="图片 8" descr=""/>
          <p:cNvPicPr/>
          <p:nvPr/>
        </p:nvPicPr>
        <p:blipFill>
          <a:blip r:embed="rId3"/>
          <a:stretch/>
        </p:blipFill>
        <p:spPr>
          <a:xfrm>
            <a:off x="311040" y="6194520"/>
            <a:ext cx="507960" cy="431640"/>
          </a:xfrm>
          <a:prstGeom prst="rect">
            <a:avLst/>
          </a:prstGeom>
          <a:ln w="0">
            <a:noFill/>
          </a:ln>
        </p:spPr>
      </p:pic>
      <p:pic>
        <p:nvPicPr>
          <p:cNvPr id="1394" name="图片 9" descr=""/>
          <p:cNvPicPr/>
          <p:nvPr/>
        </p:nvPicPr>
        <p:blipFill>
          <a:blip r:embed="rId4"/>
          <a:stretch/>
        </p:blipFill>
        <p:spPr>
          <a:xfrm>
            <a:off x="10291680" y="6410160"/>
            <a:ext cx="354240" cy="336600"/>
          </a:xfrm>
          <a:prstGeom prst="rect">
            <a:avLst/>
          </a:prstGeom>
          <a:ln w="0">
            <a:noFill/>
          </a:ln>
        </p:spPr>
      </p:pic>
      <p:pic>
        <p:nvPicPr>
          <p:cNvPr id="1395" name="图片 10" descr=""/>
          <p:cNvPicPr/>
          <p:nvPr/>
        </p:nvPicPr>
        <p:blipFill>
          <a:blip r:embed="rId5"/>
          <a:stretch/>
        </p:blipFill>
        <p:spPr>
          <a:xfrm>
            <a:off x="260280" y="114480"/>
            <a:ext cx="546120" cy="534960"/>
          </a:xfrm>
          <a:prstGeom prst="rect">
            <a:avLst/>
          </a:prstGeom>
          <a:ln w="0">
            <a:noFill/>
          </a:ln>
        </p:spPr>
      </p:pic>
      <p:pic>
        <p:nvPicPr>
          <p:cNvPr id="1396" name="图片 11" descr=""/>
          <p:cNvPicPr/>
          <p:nvPr/>
        </p:nvPicPr>
        <p:blipFill>
          <a:blip r:embed="rId6"/>
          <a:stretch/>
        </p:blipFill>
        <p:spPr>
          <a:xfrm>
            <a:off x="11442600" y="54000"/>
            <a:ext cx="615960" cy="608040"/>
          </a:xfrm>
          <a:prstGeom prst="rect">
            <a:avLst/>
          </a:prstGeom>
          <a:ln w="0">
            <a:noFill/>
          </a:ln>
        </p:spPr>
      </p:pic>
      <p:sp>
        <p:nvSpPr>
          <p:cNvPr id="1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99" name="PlaceHolder 3"/>
          <p:cNvSpPr>
            <a:spLocks noGrp="1"/>
          </p:cNvSpPr>
          <p:nvPr>
            <p:ph type="dt" idx="9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A881-9D03-4356-B3FB-25B354B7750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00" name="PlaceHolder 4"/>
          <p:cNvSpPr>
            <a:spLocks noGrp="1"/>
          </p:cNvSpPr>
          <p:nvPr>
            <p:ph type="ftr" idx="9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1" name="PlaceHolder 5"/>
          <p:cNvSpPr>
            <a:spLocks noGrp="1"/>
          </p:cNvSpPr>
          <p:nvPr>
            <p:ph type="sldNum" idx="9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9087-FD29-4DD0-BE48-20B79BB15CE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7"/>
    <p:sldLayoutId id="2147484040" r:id="rId8"/>
    <p:sldLayoutId id="2147484041" r:id="rId9"/>
    <p:sldLayoutId id="2147484042" r:id="rId10"/>
    <p:sldLayoutId id="2147484043" r:id="rId11"/>
    <p:sldLayoutId id="2147484044" r:id="rId12"/>
    <p:sldLayoutId id="2147484045" r:id="rId13"/>
    <p:sldLayoutId id="2147484046" r:id="rId14"/>
    <p:sldLayoutId id="2147484047" r:id="rId15"/>
    <p:sldLayoutId id="2147484048" r:id="rId16"/>
    <p:sldLayoutId id="2147484049" r:id="rId17"/>
    <p:sldLayoutId id="2147484050" r:id="rId18"/>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39" name="图片 9" descr=""/>
          <p:cNvPicPr/>
          <p:nvPr/>
        </p:nvPicPr>
        <p:blipFill>
          <a:blip r:embed="rId2"/>
          <a:stretch/>
        </p:blipFill>
        <p:spPr>
          <a:xfrm>
            <a:off x="10899720" y="5443560"/>
            <a:ext cx="1292400" cy="1414440"/>
          </a:xfrm>
          <a:prstGeom prst="rect">
            <a:avLst/>
          </a:prstGeom>
          <a:ln w="0">
            <a:noFill/>
          </a:ln>
        </p:spPr>
      </p:pic>
      <p:pic>
        <p:nvPicPr>
          <p:cNvPr id="1440" name="图片 10" descr=""/>
          <p:cNvPicPr/>
          <p:nvPr/>
        </p:nvPicPr>
        <p:blipFill>
          <a:blip r:embed="rId3"/>
          <a:stretch/>
        </p:blipFill>
        <p:spPr>
          <a:xfrm>
            <a:off x="311040" y="6194520"/>
            <a:ext cx="507960" cy="431640"/>
          </a:xfrm>
          <a:prstGeom prst="rect">
            <a:avLst/>
          </a:prstGeom>
          <a:ln w="0">
            <a:noFill/>
          </a:ln>
        </p:spPr>
      </p:pic>
      <p:pic>
        <p:nvPicPr>
          <p:cNvPr id="1441" name="图片 11" descr=""/>
          <p:cNvPicPr/>
          <p:nvPr/>
        </p:nvPicPr>
        <p:blipFill>
          <a:blip r:embed="rId4"/>
          <a:stretch/>
        </p:blipFill>
        <p:spPr>
          <a:xfrm>
            <a:off x="10291680" y="6410160"/>
            <a:ext cx="354240" cy="336600"/>
          </a:xfrm>
          <a:prstGeom prst="rect">
            <a:avLst/>
          </a:prstGeom>
          <a:ln w="0">
            <a:noFill/>
          </a:ln>
        </p:spPr>
      </p:pic>
      <p:pic>
        <p:nvPicPr>
          <p:cNvPr id="1442" name="图片 12" descr=""/>
          <p:cNvPicPr/>
          <p:nvPr/>
        </p:nvPicPr>
        <p:blipFill>
          <a:blip r:embed="rId5"/>
          <a:stretch/>
        </p:blipFill>
        <p:spPr>
          <a:xfrm>
            <a:off x="260280" y="114480"/>
            <a:ext cx="546120" cy="534960"/>
          </a:xfrm>
          <a:prstGeom prst="rect">
            <a:avLst/>
          </a:prstGeom>
          <a:ln w="0">
            <a:noFill/>
          </a:ln>
        </p:spPr>
      </p:pic>
      <p:pic>
        <p:nvPicPr>
          <p:cNvPr id="1443" name="图片 13" descr=""/>
          <p:cNvPicPr/>
          <p:nvPr/>
        </p:nvPicPr>
        <p:blipFill>
          <a:blip r:embed="rId6"/>
          <a:stretch/>
        </p:blipFill>
        <p:spPr>
          <a:xfrm>
            <a:off x="11442600" y="54000"/>
            <a:ext cx="615960" cy="608040"/>
          </a:xfrm>
          <a:prstGeom prst="rect">
            <a:avLst/>
          </a:prstGeom>
          <a:ln w="0">
            <a:noFill/>
          </a:ln>
        </p:spPr>
      </p:pic>
      <p:sp>
        <p:nvSpPr>
          <p:cNvPr id="1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4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46" name="PlaceHolder 3"/>
          <p:cNvSpPr>
            <a:spLocks noGrp="1"/>
          </p:cNvSpPr>
          <p:nvPr>
            <p:ph type="dt" idx="9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49F0-815C-4CDF-B823-6FA9BD0A1E2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47" name="PlaceHolder 4"/>
          <p:cNvSpPr>
            <a:spLocks noGrp="1"/>
          </p:cNvSpPr>
          <p:nvPr>
            <p:ph type="ftr" idx="9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8" name="PlaceHolder 5"/>
          <p:cNvSpPr>
            <a:spLocks noGrp="1"/>
          </p:cNvSpPr>
          <p:nvPr>
            <p:ph type="sldNum" idx="9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5ADA-9CA4-4F4C-B5C1-6C13D744927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7"/>
    <p:sldLayoutId id="2147484053" r:id="rId8"/>
    <p:sldLayoutId id="2147484054" r:id="rId9"/>
    <p:sldLayoutId id="2147484055" r:id="rId10"/>
    <p:sldLayoutId id="2147484056" r:id="rId11"/>
    <p:sldLayoutId id="2147484057" r:id="rId12"/>
    <p:sldLayoutId id="2147484058" r:id="rId13"/>
    <p:sldLayoutId id="2147484059" r:id="rId14"/>
    <p:sldLayoutId id="2147484060" r:id="rId15"/>
    <p:sldLayoutId id="2147484061" r:id="rId16"/>
    <p:sldLayoutId id="2147484062" r:id="rId17"/>
    <p:sldLayoutId id="2147484063" r:id="rId18"/>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6" name="图片 5" descr=""/>
          <p:cNvPicPr/>
          <p:nvPr/>
        </p:nvPicPr>
        <p:blipFill>
          <a:blip r:embed="rId2"/>
          <a:stretch/>
        </p:blipFill>
        <p:spPr>
          <a:xfrm>
            <a:off x="10899720" y="5443560"/>
            <a:ext cx="1292400" cy="1414440"/>
          </a:xfrm>
          <a:prstGeom prst="rect">
            <a:avLst/>
          </a:prstGeom>
          <a:ln w="0">
            <a:noFill/>
          </a:ln>
        </p:spPr>
      </p:pic>
      <p:pic>
        <p:nvPicPr>
          <p:cNvPr id="1487" name="图片 8" descr=""/>
          <p:cNvPicPr/>
          <p:nvPr/>
        </p:nvPicPr>
        <p:blipFill>
          <a:blip r:embed="rId3"/>
          <a:stretch/>
        </p:blipFill>
        <p:spPr>
          <a:xfrm>
            <a:off x="260280" y="114480"/>
            <a:ext cx="546120" cy="534960"/>
          </a:xfrm>
          <a:prstGeom prst="rect">
            <a:avLst/>
          </a:prstGeom>
          <a:ln w="0">
            <a:noFill/>
          </a:ln>
        </p:spPr>
      </p:pic>
      <p:pic>
        <p:nvPicPr>
          <p:cNvPr id="1488" name="图片 9" descr=""/>
          <p:cNvPicPr/>
          <p:nvPr/>
        </p:nvPicPr>
        <p:blipFill>
          <a:blip r:embed="rId4"/>
          <a:stretch/>
        </p:blipFill>
        <p:spPr>
          <a:xfrm>
            <a:off x="11442600" y="54000"/>
            <a:ext cx="615960" cy="608040"/>
          </a:xfrm>
          <a:prstGeom prst="rect">
            <a:avLst/>
          </a:prstGeom>
          <a:ln w="0">
            <a:noFill/>
          </a:ln>
        </p:spPr>
      </p:pic>
      <p:sp>
        <p:nvSpPr>
          <p:cNvPr id="14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9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91" name="PlaceHolder 3"/>
          <p:cNvSpPr>
            <a:spLocks noGrp="1"/>
          </p:cNvSpPr>
          <p:nvPr>
            <p:ph type="dt" idx="9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8C6A-37FF-46F2-9746-F47F2E40B51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92" name="PlaceHolder 4"/>
          <p:cNvSpPr>
            <a:spLocks noGrp="1"/>
          </p:cNvSpPr>
          <p:nvPr>
            <p:ph type="ftr" idx="9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3" name="PlaceHolder 5"/>
          <p:cNvSpPr>
            <a:spLocks noGrp="1"/>
          </p:cNvSpPr>
          <p:nvPr>
            <p:ph type="sldNum" idx="9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24D3-DDC8-4DA6-9583-2D71526862A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31" name="图片 7" descr=""/>
          <p:cNvPicPr/>
          <p:nvPr/>
        </p:nvPicPr>
        <p:blipFill>
          <a:blip r:embed="rId2"/>
          <a:stretch/>
        </p:blipFill>
        <p:spPr>
          <a:xfrm>
            <a:off x="10899720" y="5443560"/>
            <a:ext cx="1292400" cy="1414440"/>
          </a:xfrm>
          <a:prstGeom prst="rect">
            <a:avLst/>
          </a:prstGeom>
          <a:ln w="0">
            <a:noFill/>
          </a:ln>
        </p:spPr>
      </p:pic>
      <p:pic>
        <p:nvPicPr>
          <p:cNvPr id="1532" name="图片 8" descr=""/>
          <p:cNvPicPr/>
          <p:nvPr/>
        </p:nvPicPr>
        <p:blipFill>
          <a:blip r:embed="rId3"/>
          <a:stretch/>
        </p:blipFill>
        <p:spPr>
          <a:xfrm>
            <a:off x="311040" y="6194520"/>
            <a:ext cx="507960" cy="431640"/>
          </a:xfrm>
          <a:prstGeom prst="rect">
            <a:avLst/>
          </a:prstGeom>
          <a:ln w="0">
            <a:noFill/>
          </a:ln>
        </p:spPr>
      </p:pic>
      <p:pic>
        <p:nvPicPr>
          <p:cNvPr id="1533" name="图片 9" descr=""/>
          <p:cNvPicPr/>
          <p:nvPr/>
        </p:nvPicPr>
        <p:blipFill>
          <a:blip r:embed="rId4"/>
          <a:stretch/>
        </p:blipFill>
        <p:spPr>
          <a:xfrm>
            <a:off x="10291680" y="6410160"/>
            <a:ext cx="354240" cy="336600"/>
          </a:xfrm>
          <a:prstGeom prst="rect">
            <a:avLst/>
          </a:prstGeom>
          <a:ln w="0">
            <a:noFill/>
          </a:ln>
        </p:spPr>
      </p:pic>
      <p:pic>
        <p:nvPicPr>
          <p:cNvPr id="1534" name="图片 10" descr=""/>
          <p:cNvPicPr/>
          <p:nvPr/>
        </p:nvPicPr>
        <p:blipFill>
          <a:blip r:embed="rId5"/>
          <a:stretch/>
        </p:blipFill>
        <p:spPr>
          <a:xfrm>
            <a:off x="260280" y="114480"/>
            <a:ext cx="546120" cy="534960"/>
          </a:xfrm>
          <a:prstGeom prst="rect">
            <a:avLst/>
          </a:prstGeom>
          <a:ln w="0">
            <a:noFill/>
          </a:ln>
        </p:spPr>
      </p:pic>
      <p:pic>
        <p:nvPicPr>
          <p:cNvPr id="1535" name="图片 11" descr=""/>
          <p:cNvPicPr/>
          <p:nvPr/>
        </p:nvPicPr>
        <p:blipFill>
          <a:blip r:embed="rId6"/>
          <a:stretch/>
        </p:blipFill>
        <p:spPr>
          <a:xfrm>
            <a:off x="11442600" y="54000"/>
            <a:ext cx="615960" cy="608040"/>
          </a:xfrm>
          <a:prstGeom prst="rect">
            <a:avLst/>
          </a:prstGeom>
          <a:ln w="0">
            <a:noFill/>
          </a:ln>
        </p:spPr>
      </p:pic>
      <p:sp>
        <p:nvSpPr>
          <p:cNvPr id="1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3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38" name="PlaceHolder 3"/>
          <p:cNvSpPr>
            <a:spLocks noGrp="1"/>
          </p:cNvSpPr>
          <p:nvPr>
            <p:ph type="dt" idx="10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C4A9-ECD4-4373-87A3-3E90FB582AD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39" name="PlaceHolder 4"/>
          <p:cNvSpPr>
            <a:spLocks noGrp="1"/>
          </p:cNvSpPr>
          <p:nvPr>
            <p:ph type="ftr" idx="10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PlaceHolder 5"/>
          <p:cNvSpPr>
            <a:spLocks noGrp="1"/>
          </p:cNvSpPr>
          <p:nvPr>
            <p:ph type="sldNum" idx="10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F5EA-163F-47C8-8C50-8122CB9BF83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78" name="图片 7" descr=""/>
          <p:cNvPicPr/>
          <p:nvPr/>
        </p:nvPicPr>
        <p:blipFill>
          <a:blip r:embed="rId2"/>
          <a:stretch/>
        </p:blipFill>
        <p:spPr>
          <a:xfrm>
            <a:off x="10899720" y="5443560"/>
            <a:ext cx="1292400" cy="1414440"/>
          </a:xfrm>
          <a:prstGeom prst="rect">
            <a:avLst/>
          </a:prstGeom>
          <a:ln w="0">
            <a:noFill/>
          </a:ln>
        </p:spPr>
      </p:pic>
      <p:pic>
        <p:nvPicPr>
          <p:cNvPr id="1579" name="图片 8" descr=""/>
          <p:cNvPicPr/>
          <p:nvPr/>
        </p:nvPicPr>
        <p:blipFill>
          <a:blip r:embed="rId3"/>
          <a:stretch/>
        </p:blipFill>
        <p:spPr>
          <a:xfrm>
            <a:off x="311040" y="6194520"/>
            <a:ext cx="507960" cy="431640"/>
          </a:xfrm>
          <a:prstGeom prst="rect">
            <a:avLst/>
          </a:prstGeom>
          <a:ln w="0">
            <a:noFill/>
          </a:ln>
        </p:spPr>
      </p:pic>
      <p:pic>
        <p:nvPicPr>
          <p:cNvPr id="1580" name="图片 9" descr=""/>
          <p:cNvPicPr/>
          <p:nvPr/>
        </p:nvPicPr>
        <p:blipFill>
          <a:blip r:embed="rId4"/>
          <a:stretch/>
        </p:blipFill>
        <p:spPr>
          <a:xfrm>
            <a:off x="10291680" y="6410160"/>
            <a:ext cx="354240" cy="336600"/>
          </a:xfrm>
          <a:prstGeom prst="rect">
            <a:avLst/>
          </a:prstGeom>
          <a:ln w="0">
            <a:noFill/>
          </a:ln>
        </p:spPr>
      </p:pic>
      <p:pic>
        <p:nvPicPr>
          <p:cNvPr id="1581" name="图片 10" descr=""/>
          <p:cNvPicPr/>
          <p:nvPr/>
        </p:nvPicPr>
        <p:blipFill>
          <a:blip r:embed="rId5"/>
          <a:stretch/>
        </p:blipFill>
        <p:spPr>
          <a:xfrm>
            <a:off x="260280" y="114480"/>
            <a:ext cx="546120" cy="534960"/>
          </a:xfrm>
          <a:prstGeom prst="rect">
            <a:avLst/>
          </a:prstGeom>
          <a:ln w="0">
            <a:noFill/>
          </a:ln>
        </p:spPr>
      </p:pic>
      <p:pic>
        <p:nvPicPr>
          <p:cNvPr id="1582" name="图片 11" descr=""/>
          <p:cNvPicPr/>
          <p:nvPr/>
        </p:nvPicPr>
        <p:blipFill>
          <a:blip r:embed="rId6"/>
          <a:stretch/>
        </p:blipFill>
        <p:spPr>
          <a:xfrm>
            <a:off x="11442600" y="54000"/>
            <a:ext cx="615960" cy="608040"/>
          </a:xfrm>
          <a:prstGeom prst="rect">
            <a:avLst/>
          </a:prstGeom>
          <a:ln w="0">
            <a:noFill/>
          </a:ln>
        </p:spPr>
      </p:pic>
      <p:sp>
        <p:nvSpPr>
          <p:cNvPr id="15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8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85" name="PlaceHolder 3"/>
          <p:cNvSpPr>
            <a:spLocks noGrp="1"/>
          </p:cNvSpPr>
          <p:nvPr>
            <p:ph type="dt" idx="103"/>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9676-2A10-4371-B6E5-EFF98C1713A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86" name="PlaceHolder 4"/>
          <p:cNvSpPr>
            <a:spLocks noGrp="1"/>
          </p:cNvSpPr>
          <p:nvPr>
            <p:ph type="ftr" idx="10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PlaceHolder 5"/>
          <p:cNvSpPr>
            <a:spLocks noGrp="1"/>
          </p:cNvSpPr>
          <p:nvPr>
            <p:ph type="sldNum" idx="105"/>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E530-959B-4906-A8E7-08DEEC91750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7"/>
    <p:sldLayoutId id="2147484092" r:id="rId8"/>
    <p:sldLayoutId id="2147484093" r:id="rId9"/>
    <p:sldLayoutId id="2147484094" r:id="rId10"/>
    <p:sldLayoutId id="2147484095" r:id="rId11"/>
    <p:sldLayoutId id="2147484096" r:id="rId12"/>
    <p:sldLayoutId id="2147484097" r:id="rId13"/>
    <p:sldLayoutId id="2147484098" r:id="rId14"/>
    <p:sldLayoutId id="2147484099" r:id="rId15"/>
    <p:sldLayoutId id="2147484100" r:id="rId16"/>
    <p:sldLayoutId id="2147484101" r:id="rId17"/>
    <p:sldLayoutId id="2147484102" r:id="rId18"/>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25" name="图片 6" descr=""/>
          <p:cNvPicPr/>
          <p:nvPr/>
        </p:nvPicPr>
        <p:blipFill>
          <a:blip r:embed="rId2"/>
          <a:stretch/>
        </p:blipFill>
        <p:spPr>
          <a:xfrm>
            <a:off x="10899720" y="5443560"/>
            <a:ext cx="1292400" cy="1414440"/>
          </a:xfrm>
          <a:prstGeom prst="rect">
            <a:avLst/>
          </a:prstGeom>
          <a:ln w="0">
            <a:noFill/>
          </a:ln>
        </p:spPr>
      </p:pic>
      <p:pic>
        <p:nvPicPr>
          <p:cNvPr id="1626" name="图片 7" descr=""/>
          <p:cNvPicPr/>
          <p:nvPr/>
        </p:nvPicPr>
        <p:blipFill>
          <a:blip r:embed="rId3"/>
          <a:stretch/>
        </p:blipFill>
        <p:spPr>
          <a:xfrm>
            <a:off x="311040" y="6194520"/>
            <a:ext cx="507960" cy="431640"/>
          </a:xfrm>
          <a:prstGeom prst="rect">
            <a:avLst/>
          </a:prstGeom>
          <a:ln w="0">
            <a:noFill/>
          </a:ln>
        </p:spPr>
      </p:pic>
      <p:pic>
        <p:nvPicPr>
          <p:cNvPr id="1627" name="图片 8" descr=""/>
          <p:cNvPicPr/>
          <p:nvPr/>
        </p:nvPicPr>
        <p:blipFill>
          <a:blip r:embed="rId4"/>
          <a:stretch/>
        </p:blipFill>
        <p:spPr>
          <a:xfrm>
            <a:off x="10291680" y="6410160"/>
            <a:ext cx="354240" cy="336600"/>
          </a:xfrm>
          <a:prstGeom prst="rect">
            <a:avLst/>
          </a:prstGeom>
          <a:ln w="0">
            <a:noFill/>
          </a:ln>
        </p:spPr>
      </p:pic>
      <p:pic>
        <p:nvPicPr>
          <p:cNvPr id="1628" name="图片 9" descr=""/>
          <p:cNvPicPr/>
          <p:nvPr/>
        </p:nvPicPr>
        <p:blipFill>
          <a:blip r:embed="rId5"/>
          <a:stretch/>
        </p:blipFill>
        <p:spPr>
          <a:xfrm>
            <a:off x="260280" y="114480"/>
            <a:ext cx="546120" cy="534960"/>
          </a:xfrm>
          <a:prstGeom prst="rect">
            <a:avLst/>
          </a:prstGeom>
          <a:ln w="0">
            <a:noFill/>
          </a:ln>
        </p:spPr>
      </p:pic>
      <p:pic>
        <p:nvPicPr>
          <p:cNvPr id="1629" name="图片 10" descr=""/>
          <p:cNvPicPr/>
          <p:nvPr/>
        </p:nvPicPr>
        <p:blipFill>
          <a:blip r:embed="rId6"/>
          <a:stretch/>
        </p:blipFill>
        <p:spPr>
          <a:xfrm>
            <a:off x="11442600" y="54000"/>
            <a:ext cx="615960" cy="608040"/>
          </a:xfrm>
          <a:prstGeom prst="rect">
            <a:avLst/>
          </a:prstGeom>
          <a:ln w="0">
            <a:noFill/>
          </a:ln>
        </p:spPr>
      </p:pic>
      <p:sp>
        <p:nvSpPr>
          <p:cNvPr id="1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3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32" name="PlaceHolder 3"/>
          <p:cNvSpPr>
            <a:spLocks noGrp="1"/>
          </p:cNvSpPr>
          <p:nvPr>
            <p:ph type="dt" idx="10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D09A-ABBC-4E2F-A18E-6D72B52F8F1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33" name="PlaceHolder 4"/>
          <p:cNvSpPr>
            <a:spLocks noGrp="1"/>
          </p:cNvSpPr>
          <p:nvPr>
            <p:ph type="ftr" idx="10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PlaceHolder 5"/>
          <p:cNvSpPr>
            <a:spLocks noGrp="1"/>
          </p:cNvSpPr>
          <p:nvPr>
            <p:ph type="sldNum" idx="10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1D54-6B74-422A-8FE7-AE23555314B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7"/>
    <p:sldLayoutId id="2147484105" r:id="rId8"/>
    <p:sldLayoutId id="2147484106" r:id="rId9"/>
    <p:sldLayoutId id="2147484107" r:id="rId10"/>
    <p:sldLayoutId id="2147484108" r:id="rId11"/>
    <p:sldLayoutId id="2147484109" r:id="rId12"/>
    <p:sldLayoutId id="2147484110" r:id="rId13"/>
    <p:sldLayoutId id="2147484111" r:id="rId14"/>
    <p:sldLayoutId id="2147484112" r:id="rId15"/>
    <p:sldLayoutId id="2147484113" r:id="rId16"/>
    <p:sldLayoutId id="2147484114" r:id="rId17"/>
    <p:sldLayoutId id="2147484115" r:id="rId18"/>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2" name="图片 5" descr=""/>
          <p:cNvPicPr/>
          <p:nvPr/>
        </p:nvPicPr>
        <p:blipFill>
          <a:blip r:embed="rId2"/>
          <a:stretch/>
        </p:blipFill>
        <p:spPr>
          <a:xfrm>
            <a:off x="10899720" y="5443560"/>
            <a:ext cx="1292400" cy="1414440"/>
          </a:xfrm>
          <a:prstGeom prst="rect">
            <a:avLst/>
          </a:prstGeom>
          <a:ln w="0">
            <a:noFill/>
          </a:ln>
        </p:spPr>
      </p:pic>
      <p:pic>
        <p:nvPicPr>
          <p:cNvPr id="1673" name="图片 7" descr=""/>
          <p:cNvPicPr/>
          <p:nvPr/>
        </p:nvPicPr>
        <p:blipFill>
          <a:blip r:embed="rId3"/>
          <a:stretch/>
        </p:blipFill>
        <p:spPr>
          <a:xfrm>
            <a:off x="311040" y="6194520"/>
            <a:ext cx="507960" cy="431640"/>
          </a:xfrm>
          <a:prstGeom prst="rect">
            <a:avLst/>
          </a:prstGeom>
          <a:ln w="0">
            <a:noFill/>
          </a:ln>
        </p:spPr>
      </p:pic>
      <p:pic>
        <p:nvPicPr>
          <p:cNvPr id="1674" name="图片 8" descr=""/>
          <p:cNvPicPr/>
          <p:nvPr/>
        </p:nvPicPr>
        <p:blipFill>
          <a:blip r:embed="rId4"/>
          <a:stretch/>
        </p:blipFill>
        <p:spPr>
          <a:xfrm>
            <a:off x="10291680" y="6410160"/>
            <a:ext cx="354240" cy="336600"/>
          </a:xfrm>
          <a:prstGeom prst="rect">
            <a:avLst/>
          </a:prstGeom>
          <a:ln w="0">
            <a:noFill/>
          </a:ln>
        </p:spPr>
      </p:pic>
      <p:pic>
        <p:nvPicPr>
          <p:cNvPr id="1675" name="图片 9" descr=""/>
          <p:cNvPicPr/>
          <p:nvPr/>
        </p:nvPicPr>
        <p:blipFill>
          <a:blip r:embed="rId5"/>
          <a:stretch/>
        </p:blipFill>
        <p:spPr>
          <a:xfrm>
            <a:off x="260280" y="114480"/>
            <a:ext cx="546120" cy="534960"/>
          </a:xfrm>
          <a:prstGeom prst="rect">
            <a:avLst/>
          </a:prstGeom>
          <a:ln w="0">
            <a:noFill/>
          </a:ln>
        </p:spPr>
      </p:pic>
      <p:pic>
        <p:nvPicPr>
          <p:cNvPr id="1676" name="图片 10" descr=""/>
          <p:cNvPicPr/>
          <p:nvPr/>
        </p:nvPicPr>
        <p:blipFill>
          <a:blip r:embed="rId6"/>
          <a:stretch/>
        </p:blipFill>
        <p:spPr>
          <a:xfrm>
            <a:off x="11442600" y="54000"/>
            <a:ext cx="615960" cy="608040"/>
          </a:xfrm>
          <a:prstGeom prst="rect">
            <a:avLst/>
          </a:prstGeom>
          <a:ln w="0">
            <a:noFill/>
          </a:ln>
        </p:spPr>
      </p:pic>
      <p:sp>
        <p:nvSpPr>
          <p:cNvPr id="16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79" name="PlaceHolder 3"/>
          <p:cNvSpPr>
            <a:spLocks noGrp="1"/>
          </p:cNvSpPr>
          <p:nvPr>
            <p:ph type="dt" idx="10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6BD2-32A6-47E0-8C23-E0D0B614C45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80" name="PlaceHolder 4"/>
          <p:cNvSpPr>
            <a:spLocks noGrp="1"/>
          </p:cNvSpPr>
          <p:nvPr>
            <p:ph type="ftr" idx="11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1" name="PlaceHolder 5"/>
          <p:cNvSpPr>
            <a:spLocks noGrp="1"/>
          </p:cNvSpPr>
          <p:nvPr>
            <p:ph type="sldNum" idx="11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72C3-A8B4-4EEA-AE49-6D378BAA89D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7"/>
    <p:sldLayoutId id="2147484118" r:id="rId8"/>
    <p:sldLayoutId id="2147484119" r:id="rId9"/>
    <p:sldLayoutId id="2147484120" r:id="rId10"/>
    <p:sldLayoutId id="2147484121" r:id="rId11"/>
    <p:sldLayoutId id="2147484122" r:id="rId12"/>
    <p:sldLayoutId id="2147484123" r:id="rId13"/>
    <p:sldLayoutId id="2147484124" r:id="rId14"/>
    <p:sldLayoutId id="2147484125" r:id="rId15"/>
    <p:sldLayoutId id="2147484126" r:id="rId16"/>
    <p:sldLayoutId id="2147484127" r:id="rId17"/>
    <p:sldLayoutId id="2147484128" r:id="rId18"/>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19" name="图片 5" descr=""/>
          <p:cNvPicPr/>
          <p:nvPr/>
        </p:nvPicPr>
        <p:blipFill>
          <a:blip r:embed="rId2"/>
          <a:stretch/>
        </p:blipFill>
        <p:spPr>
          <a:xfrm>
            <a:off x="2868480" y="3490920"/>
            <a:ext cx="2543400" cy="3108240"/>
          </a:xfrm>
          <a:prstGeom prst="rect">
            <a:avLst/>
          </a:prstGeom>
          <a:ln w="0">
            <a:noFill/>
          </a:ln>
        </p:spPr>
      </p:pic>
      <p:pic>
        <p:nvPicPr>
          <p:cNvPr id="1720" name="图片 6" descr=""/>
          <p:cNvPicPr/>
          <p:nvPr/>
        </p:nvPicPr>
        <p:blipFill>
          <a:blip r:embed="rId3"/>
          <a:stretch/>
        </p:blipFill>
        <p:spPr>
          <a:xfrm>
            <a:off x="6480" y="1612800"/>
            <a:ext cx="3257280" cy="5243760"/>
          </a:xfrm>
          <a:prstGeom prst="rect">
            <a:avLst/>
          </a:prstGeom>
          <a:ln w="0">
            <a:noFill/>
          </a:ln>
        </p:spPr>
      </p:pic>
      <p:pic>
        <p:nvPicPr>
          <p:cNvPr id="1721" name="图片 6" descr=""/>
          <p:cNvPicPr/>
          <p:nvPr/>
        </p:nvPicPr>
        <p:blipFill>
          <a:blip r:embed="rId4"/>
          <a:stretch/>
        </p:blipFill>
        <p:spPr>
          <a:xfrm rot="17330400">
            <a:off x="3570480" y="5589000"/>
            <a:ext cx="568440" cy="542880"/>
          </a:xfrm>
          <a:prstGeom prst="rect">
            <a:avLst/>
          </a:prstGeom>
          <a:ln w="0">
            <a:noFill/>
          </a:ln>
        </p:spPr>
      </p:pic>
      <p:pic>
        <p:nvPicPr>
          <p:cNvPr id="1722" name="图片 5" descr=""/>
          <p:cNvPicPr/>
          <p:nvPr/>
        </p:nvPicPr>
        <p:blipFill>
          <a:blip r:embed="rId5"/>
          <a:stretch/>
        </p:blipFill>
        <p:spPr>
          <a:xfrm rot="20422800">
            <a:off x="1217160" y="5847840"/>
            <a:ext cx="563760" cy="536760"/>
          </a:xfrm>
          <a:prstGeom prst="rect">
            <a:avLst/>
          </a:prstGeom>
          <a:ln w="0">
            <a:noFill/>
          </a:ln>
        </p:spPr>
      </p:pic>
      <p:pic>
        <p:nvPicPr>
          <p:cNvPr id="1723" name="图片 9" descr=""/>
          <p:cNvPicPr/>
          <p:nvPr/>
        </p:nvPicPr>
        <p:blipFill>
          <a:blip r:embed="rId6"/>
          <a:stretch/>
        </p:blipFill>
        <p:spPr>
          <a:xfrm>
            <a:off x="4964040" y="4621320"/>
            <a:ext cx="1830600" cy="2236680"/>
          </a:xfrm>
          <a:prstGeom prst="rect">
            <a:avLst/>
          </a:prstGeom>
          <a:ln w="0">
            <a:noFill/>
          </a:ln>
        </p:spPr>
      </p:pic>
      <p:pic>
        <p:nvPicPr>
          <p:cNvPr id="1724" name="图片 10" descr=""/>
          <p:cNvPicPr/>
          <p:nvPr/>
        </p:nvPicPr>
        <p:blipFill>
          <a:blip r:embed="rId7"/>
          <a:stretch/>
        </p:blipFill>
        <p:spPr>
          <a:xfrm>
            <a:off x="3616200" y="369720"/>
            <a:ext cx="2659320" cy="3116520"/>
          </a:xfrm>
          <a:prstGeom prst="rect">
            <a:avLst/>
          </a:prstGeom>
          <a:ln w="0">
            <a:noFill/>
          </a:ln>
        </p:spPr>
      </p:pic>
      <p:pic>
        <p:nvPicPr>
          <p:cNvPr id="1725" name="图片 3" descr=""/>
          <p:cNvPicPr/>
          <p:nvPr/>
        </p:nvPicPr>
        <p:blipFill>
          <a:blip r:embed="rId8"/>
          <a:stretch/>
        </p:blipFill>
        <p:spPr>
          <a:xfrm flipH="1" rot="20731200">
            <a:off x="10271880" y="1108080"/>
            <a:ext cx="1067040" cy="1046160"/>
          </a:xfrm>
          <a:prstGeom prst="rect">
            <a:avLst/>
          </a:prstGeom>
          <a:ln w="0">
            <a:noFill/>
          </a:ln>
        </p:spPr>
      </p:pic>
      <p:pic>
        <p:nvPicPr>
          <p:cNvPr id="1726" name="图片 4" descr=""/>
          <p:cNvPicPr/>
          <p:nvPr/>
        </p:nvPicPr>
        <p:blipFill>
          <a:blip r:embed="rId9"/>
          <a:stretch/>
        </p:blipFill>
        <p:spPr>
          <a:xfrm>
            <a:off x="8472600" y="5543640"/>
            <a:ext cx="558720" cy="533160"/>
          </a:xfrm>
          <a:prstGeom prst="rect">
            <a:avLst/>
          </a:prstGeom>
          <a:ln w="0">
            <a:noFill/>
          </a:ln>
        </p:spPr>
      </p:pic>
      <p:pic>
        <p:nvPicPr>
          <p:cNvPr id="1727" name="图片 3" descr=""/>
          <p:cNvPicPr/>
          <p:nvPr/>
        </p:nvPicPr>
        <p:blipFill>
          <a:blip r:embed="rId10"/>
          <a:stretch/>
        </p:blipFill>
        <p:spPr>
          <a:xfrm>
            <a:off x="2421000" y="1197000"/>
            <a:ext cx="950760" cy="933480"/>
          </a:xfrm>
          <a:prstGeom prst="rect">
            <a:avLst/>
          </a:prstGeom>
          <a:ln w="0">
            <a:noFill/>
          </a:ln>
        </p:spPr>
      </p:pic>
      <p:sp>
        <p:nvSpPr>
          <p:cNvPr id="17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2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30" name="PlaceHolder 3"/>
          <p:cNvSpPr>
            <a:spLocks noGrp="1"/>
          </p:cNvSpPr>
          <p:nvPr>
            <p:ph type="dt" idx="112"/>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1C13-F6C8-4FDB-B116-22FEF2512A2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31" name="PlaceHolder 4"/>
          <p:cNvSpPr>
            <a:spLocks noGrp="1"/>
          </p:cNvSpPr>
          <p:nvPr>
            <p:ph type="ftr" idx="11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2" name="PlaceHolder 5"/>
          <p:cNvSpPr>
            <a:spLocks noGrp="1"/>
          </p:cNvSpPr>
          <p:nvPr>
            <p:ph type="sldNum" idx="11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248F-8069-454E-A01C-DCCC965FD85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11"/>
    <p:sldLayoutId id="2147484131" r:id="rId12"/>
    <p:sldLayoutId id="2147484132" r:id="rId13"/>
    <p:sldLayoutId id="2147484133" r:id="rId14"/>
    <p:sldLayoutId id="2147484134" r:id="rId15"/>
    <p:sldLayoutId id="2147484135" r:id="rId16"/>
    <p:sldLayoutId id="2147484136" r:id="rId17"/>
    <p:sldLayoutId id="2147484137" r:id="rId18"/>
    <p:sldLayoutId id="2147484138" r:id="rId19"/>
    <p:sldLayoutId id="2147484139" r:id="rId20"/>
    <p:sldLayoutId id="2147484140" r:id="rId21"/>
    <p:sldLayoutId id="2147484141" r:id="rId22"/>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0"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7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3" name="PlaceHolder 3"/>
          <p:cNvSpPr>
            <a:spLocks noGrp="1"/>
          </p:cNvSpPr>
          <p:nvPr>
            <p:ph type="dt" idx="11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4F5C-5643-42A9-A4B5-54EA524E9C0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74" name="PlaceHolder 4"/>
          <p:cNvSpPr>
            <a:spLocks noGrp="1"/>
          </p:cNvSpPr>
          <p:nvPr>
            <p:ph type="ftr" idx="11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5" name="PlaceHolder 5"/>
          <p:cNvSpPr>
            <a:spLocks noGrp="1"/>
          </p:cNvSpPr>
          <p:nvPr>
            <p:ph type="sldNum" idx="11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935B-893D-439B-B129-71292F42C8D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7" name="图片 5" descr=""/>
          <p:cNvPicPr/>
          <p:nvPr/>
        </p:nvPicPr>
        <p:blipFill>
          <a:blip r:embed="rId2"/>
          <a:stretch/>
        </p:blipFill>
        <p:spPr>
          <a:xfrm rot="19920000">
            <a:off x="1331640" y="5760720"/>
            <a:ext cx="709560" cy="676080"/>
          </a:xfrm>
          <a:prstGeom prst="rect">
            <a:avLst/>
          </a:prstGeom>
          <a:ln w="0">
            <a:noFill/>
          </a:ln>
        </p:spPr>
      </p:pic>
      <p:pic>
        <p:nvPicPr>
          <p:cNvPr id="128" name="图片 6" descr=""/>
          <p:cNvPicPr/>
          <p:nvPr/>
        </p:nvPicPr>
        <p:blipFill>
          <a:blip r:embed="rId3"/>
          <a:stretch/>
        </p:blipFill>
        <p:spPr>
          <a:xfrm rot="17330400">
            <a:off x="3751200" y="5588640"/>
            <a:ext cx="568440" cy="543240"/>
          </a:xfrm>
          <a:prstGeom prst="rect">
            <a:avLst/>
          </a:prstGeom>
          <a:ln w="0">
            <a:noFill/>
          </a:ln>
        </p:spPr>
      </p:pic>
      <p:pic>
        <p:nvPicPr>
          <p:cNvPr id="129" name="图片 4" descr=""/>
          <p:cNvPicPr/>
          <p:nvPr/>
        </p:nvPicPr>
        <p:blipFill>
          <a:blip r:embed="rId4"/>
          <a:stretch/>
        </p:blipFill>
        <p:spPr>
          <a:xfrm>
            <a:off x="609480" y="693720"/>
            <a:ext cx="560520" cy="534960"/>
          </a:xfrm>
          <a:prstGeom prst="rect">
            <a:avLst/>
          </a:prstGeom>
          <a:ln w="0">
            <a:noFill/>
          </a:ln>
        </p:spPr>
      </p:pic>
      <p:pic>
        <p:nvPicPr>
          <p:cNvPr id="130" name="图片 3" descr=""/>
          <p:cNvPicPr/>
          <p:nvPr/>
        </p:nvPicPr>
        <p:blipFill>
          <a:blip r:embed="rId5"/>
          <a:stretch/>
        </p:blipFill>
        <p:spPr>
          <a:xfrm>
            <a:off x="2606760" y="1195560"/>
            <a:ext cx="950760" cy="933120"/>
          </a:xfrm>
          <a:prstGeom prst="rect">
            <a:avLst/>
          </a:prstGeom>
          <a:ln w="0">
            <a:noFill/>
          </a:ln>
        </p:spPr>
      </p:pic>
      <p:pic>
        <p:nvPicPr>
          <p:cNvPr id="131" name="图片 2" descr=""/>
          <p:cNvPicPr/>
          <p:nvPr/>
        </p:nvPicPr>
        <p:blipFill>
          <a:blip r:embed="rId6"/>
          <a:stretch/>
        </p:blipFill>
        <p:spPr>
          <a:xfrm>
            <a:off x="5986440" y="1724040"/>
            <a:ext cx="5950080" cy="4987800"/>
          </a:xfrm>
          <a:prstGeom prst="rect">
            <a:avLst/>
          </a:prstGeom>
          <a:ln w="0">
            <a:noFill/>
          </a:ln>
        </p:spPr>
      </p:pic>
      <p:pic>
        <p:nvPicPr>
          <p:cNvPr id="132" name="图片 1" descr=""/>
          <p:cNvPicPr/>
          <p:nvPr/>
        </p:nvPicPr>
        <p:blipFill>
          <a:blip r:embed="rId7"/>
          <a:stretch/>
        </p:blipFill>
        <p:spPr>
          <a:xfrm>
            <a:off x="10969560" y="1963800"/>
            <a:ext cx="1013040" cy="1003320"/>
          </a:xfrm>
          <a:prstGeom prst="rect">
            <a:avLst/>
          </a:prstGeom>
          <a:ln w="0">
            <a:noFill/>
          </a:ln>
        </p:spPr>
      </p:pic>
      <p:sp>
        <p:nvSpPr>
          <p:cNvPr id="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EA81-32FB-4DFB-A782-57FF0673159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AF92-DF39-49BF-821B-A1EC779B684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5" name="图片 6" descr=""/>
          <p:cNvPicPr/>
          <p:nvPr/>
        </p:nvPicPr>
        <p:blipFill>
          <a:blip r:embed="rId2"/>
          <a:stretch/>
        </p:blipFill>
        <p:spPr>
          <a:xfrm>
            <a:off x="10899720" y="5443560"/>
            <a:ext cx="1292400" cy="1414440"/>
          </a:xfrm>
          <a:prstGeom prst="rect">
            <a:avLst/>
          </a:prstGeom>
          <a:ln w="0">
            <a:noFill/>
          </a:ln>
        </p:spPr>
      </p:pic>
      <p:pic>
        <p:nvPicPr>
          <p:cNvPr id="176" name="图片 7" descr=""/>
          <p:cNvPicPr/>
          <p:nvPr/>
        </p:nvPicPr>
        <p:blipFill>
          <a:blip r:embed="rId3"/>
          <a:stretch/>
        </p:blipFill>
        <p:spPr>
          <a:xfrm>
            <a:off x="311040" y="6194520"/>
            <a:ext cx="507960" cy="431640"/>
          </a:xfrm>
          <a:prstGeom prst="rect">
            <a:avLst/>
          </a:prstGeom>
          <a:ln w="0">
            <a:noFill/>
          </a:ln>
        </p:spPr>
      </p:pic>
      <p:pic>
        <p:nvPicPr>
          <p:cNvPr id="177" name="图片 8" descr=""/>
          <p:cNvPicPr/>
          <p:nvPr/>
        </p:nvPicPr>
        <p:blipFill>
          <a:blip r:embed="rId4"/>
          <a:stretch/>
        </p:blipFill>
        <p:spPr>
          <a:xfrm>
            <a:off x="10291680" y="6410160"/>
            <a:ext cx="354240" cy="336600"/>
          </a:xfrm>
          <a:prstGeom prst="rect">
            <a:avLst/>
          </a:prstGeom>
          <a:ln w="0">
            <a:noFill/>
          </a:ln>
        </p:spPr>
      </p:pic>
      <p:pic>
        <p:nvPicPr>
          <p:cNvPr id="178" name="图片 9" descr=""/>
          <p:cNvPicPr/>
          <p:nvPr/>
        </p:nvPicPr>
        <p:blipFill>
          <a:blip r:embed="rId5"/>
          <a:stretch/>
        </p:blipFill>
        <p:spPr>
          <a:xfrm>
            <a:off x="260280" y="114480"/>
            <a:ext cx="546120" cy="534960"/>
          </a:xfrm>
          <a:prstGeom prst="rect">
            <a:avLst/>
          </a:prstGeom>
          <a:ln w="0">
            <a:noFill/>
          </a:ln>
        </p:spPr>
      </p:pic>
      <p:pic>
        <p:nvPicPr>
          <p:cNvPr id="179" name="图片 10" descr=""/>
          <p:cNvPicPr/>
          <p:nvPr/>
        </p:nvPicPr>
        <p:blipFill>
          <a:blip r:embed="rId6"/>
          <a:stretch/>
        </p:blipFill>
        <p:spPr>
          <a:xfrm>
            <a:off x="11442600" y="54000"/>
            <a:ext cx="615960" cy="608040"/>
          </a:xfrm>
          <a:prstGeom prst="rect">
            <a:avLst/>
          </a:prstGeom>
          <a:ln w="0">
            <a:noFill/>
          </a:ln>
        </p:spPr>
      </p:pic>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2"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A848-C81B-405C-86FE-21D30EB7A19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3"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46E5-A658-453B-8F44-9BB30CCDB5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2" name="图片 7" descr=""/>
          <p:cNvPicPr/>
          <p:nvPr/>
        </p:nvPicPr>
        <p:blipFill>
          <a:blip r:embed="rId2"/>
          <a:stretch/>
        </p:blipFill>
        <p:spPr>
          <a:xfrm flipH="1" rot="20731200">
            <a:off x="9333720" y="2427120"/>
            <a:ext cx="1067040" cy="1046160"/>
          </a:xfrm>
          <a:prstGeom prst="rect">
            <a:avLst/>
          </a:prstGeom>
          <a:ln w="0">
            <a:noFill/>
          </a:ln>
        </p:spPr>
      </p:pic>
      <p:pic>
        <p:nvPicPr>
          <p:cNvPr id="223" name="图片 3" descr=""/>
          <p:cNvPicPr/>
          <p:nvPr/>
        </p:nvPicPr>
        <p:blipFill>
          <a:blip r:embed="rId3"/>
          <a:stretch/>
        </p:blipFill>
        <p:spPr>
          <a:xfrm>
            <a:off x="2212920" y="2452680"/>
            <a:ext cx="951120" cy="933480"/>
          </a:xfrm>
          <a:prstGeom prst="rect">
            <a:avLst/>
          </a:prstGeom>
          <a:ln w="0">
            <a:noFill/>
          </a:ln>
        </p:spPr>
      </p:pic>
      <p:pic>
        <p:nvPicPr>
          <p:cNvPr id="224" name="图片 8" descr=""/>
          <p:cNvPicPr/>
          <p:nvPr/>
        </p:nvPicPr>
        <p:blipFill>
          <a:blip r:embed="rId4"/>
          <a:stretch/>
        </p:blipFill>
        <p:spPr>
          <a:xfrm>
            <a:off x="4859280" y="-30240"/>
            <a:ext cx="1836720" cy="2237040"/>
          </a:xfrm>
          <a:prstGeom prst="rect">
            <a:avLst/>
          </a:prstGeom>
          <a:ln w="0">
            <a:noFill/>
          </a:ln>
        </p:spPr>
      </p:pic>
      <p:pic>
        <p:nvPicPr>
          <p:cNvPr id="225" name="图片 9" descr=""/>
          <p:cNvPicPr/>
          <p:nvPr/>
        </p:nvPicPr>
        <p:blipFill>
          <a:blip r:embed="rId5"/>
          <a:stretch/>
        </p:blipFill>
        <p:spPr>
          <a:xfrm>
            <a:off x="5068800" y="4519440"/>
            <a:ext cx="2060640" cy="2325960"/>
          </a:xfrm>
          <a:prstGeom prst="rect">
            <a:avLst/>
          </a:prstGeom>
          <a:ln w="0">
            <a:noFill/>
          </a:ln>
        </p:spPr>
      </p:pic>
      <p:sp>
        <p:nvSpPr>
          <p:cNvPr id="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8"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B93C-9514-45CA-9DDD-5268F7363FC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29"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A20D-F573-4437-A809-4ABAF77363C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8" name="图片 7" descr=""/>
          <p:cNvPicPr/>
          <p:nvPr/>
        </p:nvPicPr>
        <p:blipFill>
          <a:blip r:embed="rId2"/>
          <a:stretch/>
        </p:blipFill>
        <p:spPr>
          <a:xfrm>
            <a:off x="10899720" y="5443560"/>
            <a:ext cx="1292400" cy="1414440"/>
          </a:xfrm>
          <a:prstGeom prst="rect">
            <a:avLst/>
          </a:prstGeom>
          <a:ln w="0">
            <a:noFill/>
          </a:ln>
        </p:spPr>
      </p:pic>
      <p:pic>
        <p:nvPicPr>
          <p:cNvPr id="269" name="图片 8" descr=""/>
          <p:cNvPicPr/>
          <p:nvPr/>
        </p:nvPicPr>
        <p:blipFill>
          <a:blip r:embed="rId3"/>
          <a:stretch/>
        </p:blipFill>
        <p:spPr>
          <a:xfrm>
            <a:off x="311040" y="6194520"/>
            <a:ext cx="507960" cy="431640"/>
          </a:xfrm>
          <a:prstGeom prst="rect">
            <a:avLst/>
          </a:prstGeom>
          <a:ln w="0">
            <a:noFill/>
          </a:ln>
        </p:spPr>
      </p:pic>
      <p:pic>
        <p:nvPicPr>
          <p:cNvPr id="270" name="图片 9" descr=""/>
          <p:cNvPicPr/>
          <p:nvPr/>
        </p:nvPicPr>
        <p:blipFill>
          <a:blip r:embed="rId4"/>
          <a:stretch/>
        </p:blipFill>
        <p:spPr>
          <a:xfrm>
            <a:off x="10291680" y="6410160"/>
            <a:ext cx="354240" cy="336600"/>
          </a:xfrm>
          <a:prstGeom prst="rect">
            <a:avLst/>
          </a:prstGeom>
          <a:ln w="0">
            <a:noFill/>
          </a:ln>
        </p:spPr>
      </p:pic>
      <p:pic>
        <p:nvPicPr>
          <p:cNvPr id="271" name="图片 10" descr=""/>
          <p:cNvPicPr/>
          <p:nvPr/>
        </p:nvPicPr>
        <p:blipFill>
          <a:blip r:embed="rId5"/>
          <a:stretch/>
        </p:blipFill>
        <p:spPr>
          <a:xfrm>
            <a:off x="260280" y="114480"/>
            <a:ext cx="546120" cy="534960"/>
          </a:xfrm>
          <a:prstGeom prst="rect">
            <a:avLst/>
          </a:prstGeom>
          <a:ln w="0">
            <a:noFill/>
          </a:ln>
        </p:spPr>
      </p:pic>
      <p:pic>
        <p:nvPicPr>
          <p:cNvPr id="272" name="图片 11" descr=""/>
          <p:cNvPicPr/>
          <p:nvPr/>
        </p:nvPicPr>
        <p:blipFill>
          <a:blip r:embed="rId6"/>
          <a:stretch/>
        </p:blipFill>
        <p:spPr>
          <a:xfrm>
            <a:off x="11442600" y="54000"/>
            <a:ext cx="615960" cy="608040"/>
          </a:xfrm>
          <a:prstGeom prst="rect">
            <a:avLst/>
          </a:prstGeom>
          <a:ln w="0">
            <a:noFill/>
          </a:ln>
        </p:spPr>
      </p:pic>
      <p:sp>
        <p:nvSpPr>
          <p:cNvPr id="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5"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5CB7-A041-4EC4-BC32-F9C3F50AA78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DFFF-AC36-4CE8-96C1-E982B3E7F6F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5" name="图片 9" descr=""/>
          <p:cNvPicPr/>
          <p:nvPr/>
        </p:nvPicPr>
        <p:blipFill>
          <a:blip r:embed="rId2"/>
          <a:stretch/>
        </p:blipFill>
        <p:spPr>
          <a:xfrm>
            <a:off x="10899720" y="5443560"/>
            <a:ext cx="1292400" cy="1414440"/>
          </a:xfrm>
          <a:prstGeom prst="rect">
            <a:avLst/>
          </a:prstGeom>
          <a:ln w="0">
            <a:noFill/>
          </a:ln>
        </p:spPr>
      </p:pic>
      <p:pic>
        <p:nvPicPr>
          <p:cNvPr id="316" name="图片 10" descr=""/>
          <p:cNvPicPr/>
          <p:nvPr/>
        </p:nvPicPr>
        <p:blipFill>
          <a:blip r:embed="rId3"/>
          <a:stretch/>
        </p:blipFill>
        <p:spPr>
          <a:xfrm>
            <a:off x="311040" y="6194520"/>
            <a:ext cx="507960" cy="431640"/>
          </a:xfrm>
          <a:prstGeom prst="rect">
            <a:avLst/>
          </a:prstGeom>
          <a:ln w="0">
            <a:noFill/>
          </a:ln>
        </p:spPr>
      </p:pic>
      <p:pic>
        <p:nvPicPr>
          <p:cNvPr id="317" name="图片 11" descr=""/>
          <p:cNvPicPr/>
          <p:nvPr/>
        </p:nvPicPr>
        <p:blipFill>
          <a:blip r:embed="rId4"/>
          <a:stretch/>
        </p:blipFill>
        <p:spPr>
          <a:xfrm>
            <a:off x="10291680" y="6410160"/>
            <a:ext cx="354240" cy="336600"/>
          </a:xfrm>
          <a:prstGeom prst="rect">
            <a:avLst/>
          </a:prstGeom>
          <a:ln w="0">
            <a:noFill/>
          </a:ln>
        </p:spPr>
      </p:pic>
      <p:pic>
        <p:nvPicPr>
          <p:cNvPr id="318" name="图片 12" descr=""/>
          <p:cNvPicPr/>
          <p:nvPr/>
        </p:nvPicPr>
        <p:blipFill>
          <a:blip r:embed="rId5"/>
          <a:stretch/>
        </p:blipFill>
        <p:spPr>
          <a:xfrm>
            <a:off x="260280" y="114480"/>
            <a:ext cx="546120" cy="534960"/>
          </a:xfrm>
          <a:prstGeom prst="rect">
            <a:avLst/>
          </a:prstGeom>
          <a:ln w="0">
            <a:noFill/>
          </a:ln>
        </p:spPr>
      </p:pic>
      <p:pic>
        <p:nvPicPr>
          <p:cNvPr id="319" name="图片 13" descr=""/>
          <p:cNvPicPr/>
          <p:nvPr/>
        </p:nvPicPr>
        <p:blipFill>
          <a:blip r:embed="rId6"/>
          <a:stretch/>
        </p:blipFill>
        <p:spPr>
          <a:xfrm>
            <a:off x="11442600" y="54000"/>
            <a:ext cx="615960" cy="608040"/>
          </a:xfrm>
          <a:prstGeom prst="rect">
            <a:avLst/>
          </a:prstGeom>
          <a:ln w="0">
            <a:noFill/>
          </a:ln>
        </p:spPr>
      </p:pic>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2"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83BA-1E10-4B84-9542-567DDE96361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3"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EDB8-ACA7-477C-B56A-553D7FDE6D3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2" name="图片 5" descr=""/>
          <p:cNvPicPr/>
          <p:nvPr/>
        </p:nvPicPr>
        <p:blipFill>
          <a:blip r:embed="rId2"/>
          <a:stretch/>
        </p:blipFill>
        <p:spPr>
          <a:xfrm>
            <a:off x="10899720" y="5443560"/>
            <a:ext cx="1292400" cy="1414440"/>
          </a:xfrm>
          <a:prstGeom prst="rect">
            <a:avLst/>
          </a:prstGeom>
          <a:ln w="0">
            <a:noFill/>
          </a:ln>
        </p:spPr>
      </p:pic>
      <p:pic>
        <p:nvPicPr>
          <p:cNvPr id="363" name="图片 8" descr=""/>
          <p:cNvPicPr/>
          <p:nvPr/>
        </p:nvPicPr>
        <p:blipFill>
          <a:blip r:embed="rId3"/>
          <a:stretch/>
        </p:blipFill>
        <p:spPr>
          <a:xfrm>
            <a:off x="260280" y="114480"/>
            <a:ext cx="546120" cy="534960"/>
          </a:xfrm>
          <a:prstGeom prst="rect">
            <a:avLst/>
          </a:prstGeom>
          <a:ln w="0">
            <a:noFill/>
          </a:ln>
        </p:spPr>
      </p:pic>
      <p:pic>
        <p:nvPicPr>
          <p:cNvPr id="364" name="图片 9" descr=""/>
          <p:cNvPicPr/>
          <p:nvPr/>
        </p:nvPicPr>
        <p:blipFill>
          <a:blip r:embed="rId4"/>
          <a:stretch/>
        </p:blipFill>
        <p:spPr>
          <a:xfrm>
            <a:off x="11442600" y="54000"/>
            <a:ext cx="615960" cy="608040"/>
          </a:xfrm>
          <a:prstGeom prst="rect">
            <a:avLst/>
          </a:prstGeom>
          <a:ln w="0">
            <a:noFill/>
          </a:ln>
        </p:spPr>
      </p:pic>
      <p:sp>
        <p:nvSpPr>
          <p:cNvPr id="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6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11430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67"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61EA-08AF-48F3-902E-996B915388C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68"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9726-11AB-4287-9C99-9357B6635C3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4.png"/><Relationship Id="rId6"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4.png"/><Relationship Id="rId3"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4.png"/><Relationship Id="rId3"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4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3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3142800" y="1989000"/>
            <a:ext cx="6481800" cy="191304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f75b4"/>
                </a:solidFill>
                <a:latin typeface="Bodoni MT Black"/>
              </a:rPr>
              <a:t>      </a:t>
            </a:r>
            <a:r>
              <a:rPr b="1" lang="zh-CN" sz="6000" spc="-1" strike="noStrike">
                <a:solidFill>
                  <a:srgbClr val="8e10d4"/>
                </a:solidFill>
                <a:latin typeface="Bodoni MT Black"/>
              </a:rPr>
              <a:t>项目十 </a:t>
            </a:r>
            <a:br>
              <a:rPr sz="6000"/>
            </a:br>
            <a:r>
              <a:rPr b="1" lang="zh-CN" sz="6000" spc="-1" strike="noStrike">
                <a:solidFill>
                  <a:srgbClr val="8e10d4"/>
                </a:solidFill>
                <a:latin typeface="Bodoni MT Black"/>
              </a:rPr>
              <a:t>审计报告的编制</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812"/>
                                        </p:tgtEl>
                                        <p:attrNameLst>
                                          <p:attrName>style.visibility</p:attrName>
                                        </p:attrNameLst>
                                      </p:cBhvr>
                                      <p:to>
                                        <p:strVal val="visible"/>
                                      </p:to>
                                    </p:set>
                                    <p:anim calcmode="lin" valueType="num">
                                      <p:cBhvr additive="repl">
                                        <p:cTn id="7" dur="700" fill="hold">
                                          <p:stCondLst>
                                            <p:cond delay="0"/>
                                          </p:stCondLst>
                                        </p:cTn>
                                        <p:tgtEl>
                                          <p:spTgt spid="1812"/>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812"/>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Freeform 8"/>
          <p:cNvSpPr/>
          <p:nvPr/>
        </p:nvSpPr>
        <p:spPr>
          <a:xfrm>
            <a:off x="4492800" y="2809800"/>
            <a:ext cx="1670040" cy="1503360"/>
          </a:xfrm>
          <a:prstGeom prst="ellipse">
            <a:avLst/>
          </a:prstGeom>
          <a:solidFill>
            <a:srgbClr val="2ea6eb"/>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1" name="Freeform 9"/>
          <p:cNvSpPr/>
          <p:nvPr/>
        </p:nvSpPr>
        <p:spPr>
          <a:xfrm>
            <a:off x="6326280" y="3340080"/>
            <a:ext cx="1500120" cy="1449360"/>
          </a:xfrm>
          <a:prstGeom prst="ellipse">
            <a:avLst/>
          </a:prstGeom>
          <a:solidFill>
            <a:srgbClr val="f4ebf4"/>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2" name="Freeform 10"/>
          <p:cNvSpPr/>
          <p:nvPr/>
        </p:nvSpPr>
        <p:spPr>
          <a:xfrm>
            <a:off x="4465800" y="5519880"/>
            <a:ext cx="865080" cy="839520"/>
          </a:xfrm>
          <a:prstGeom prst="ellipse">
            <a:avLst/>
          </a:prstGeom>
          <a:solidFill>
            <a:srgbClr val="aeedff"/>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3" name="Freeform 11"/>
          <p:cNvSpPr/>
          <p:nvPr/>
        </p:nvSpPr>
        <p:spPr>
          <a:xfrm>
            <a:off x="3700440" y="3573360"/>
            <a:ext cx="839880" cy="816120"/>
          </a:xfrm>
          <a:prstGeom prst="ellipse">
            <a:avLst/>
          </a:prstGeom>
          <a:solidFill>
            <a:srgbClr val="aeedff"/>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4" name="Freeform 12"/>
          <p:cNvSpPr/>
          <p:nvPr/>
        </p:nvSpPr>
        <p:spPr>
          <a:xfrm>
            <a:off x="6191280" y="2368440"/>
            <a:ext cx="909720" cy="882720"/>
          </a:xfrm>
          <a:prstGeom prst="ellipse">
            <a:avLst/>
          </a:prstGeom>
          <a:solidFill>
            <a:srgbClr val="fe9b0c"/>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5" name="Freeform 13"/>
          <p:cNvSpPr/>
          <p:nvPr/>
        </p:nvSpPr>
        <p:spPr>
          <a:xfrm>
            <a:off x="5222880" y="4562640"/>
            <a:ext cx="1120680" cy="1130040"/>
          </a:xfrm>
          <a:prstGeom prst="ellipse">
            <a:avLst/>
          </a:prstGeom>
          <a:solidFill>
            <a:srgbClr val="fdc01a"/>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96" name="Group 14"/>
          <p:cNvGrpSpPr/>
          <p:nvPr/>
        </p:nvGrpSpPr>
        <p:grpSpPr>
          <a:xfrm>
            <a:off x="5526000" y="4917960"/>
            <a:ext cx="336240" cy="355320"/>
            <a:chOff x="5526000" y="4917960"/>
            <a:chExt cx="336240" cy="355320"/>
          </a:xfrm>
        </p:grpSpPr>
        <p:sp>
          <p:nvSpPr>
            <p:cNvPr id="1897" name="Freeform 15"/>
            <p:cNvSpPr/>
            <p:nvPr/>
          </p:nvSpPr>
          <p:spPr>
            <a:xfrm>
              <a:off x="5794560" y="5002200"/>
              <a:ext cx="27360" cy="271080"/>
            </a:xfrm>
            <a:custGeom>
              <a:avLst/>
              <a:gdLst/>
              <a:ahLst/>
              <a:rect l="l" t="t" r="r" b="b"/>
              <a:pathLst>
                <a:path w="7" h="67">
                  <a:moveTo>
                    <a:pt x="4" y="0"/>
                  </a:moveTo>
                  <a:cubicBezTo>
                    <a:pt x="2" y="0"/>
                    <a:pt x="0" y="1"/>
                    <a:pt x="0" y="3"/>
                  </a:cubicBezTo>
                  <a:cubicBezTo>
                    <a:pt x="0" y="63"/>
                    <a:pt x="0" y="63"/>
                    <a:pt x="0" y="63"/>
                  </a:cubicBezTo>
                  <a:cubicBezTo>
                    <a:pt x="0" y="65"/>
                    <a:pt x="2" y="67"/>
                    <a:pt x="4" y="67"/>
                  </a:cubicBezTo>
                  <a:cubicBezTo>
                    <a:pt x="6" y="67"/>
                    <a:pt x="7" y="65"/>
                    <a:pt x="7" y="63"/>
                  </a:cubicBezTo>
                  <a:cubicBezTo>
                    <a:pt x="7" y="3"/>
                    <a:pt x="7" y="3"/>
                    <a:pt x="7" y="3"/>
                  </a:cubicBezTo>
                  <a:cubicBezTo>
                    <a:pt x="7" y="1"/>
                    <a:pt x="6" y="0"/>
                    <a:pt x="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8" name="Freeform 16"/>
            <p:cNvSpPr/>
            <p:nvPr/>
          </p:nvSpPr>
          <p:spPr>
            <a:xfrm>
              <a:off x="5834880" y="5046840"/>
              <a:ext cx="27360" cy="226440"/>
            </a:xfrm>
            <a:custGeom>
              <a:avLst/>
              <a:gdLst/>
              <a:ahLst/>
              <a:rect l="l" t="t" r="r" b="b"/>
              <a:pathLst>
                <a:path w="7" h="56">
                  <a:moveTo>
                    <a:pt x="3" y="0"/>
                  </a:moveTo>
                  <a:cubicBezTo>
                    <a:pt x="1" y="0"/>
                    <a:pt x="0" y="2"/>
                    <a:pt x="0" y="4"/>
                  </a:cubicBezTo>
                  <a:cubicBezTo>
                    <a:pt x="0" y="52"/>
                    <a:pt x="0" y="52"/>
                    <a:pt x="0" y="52"/>
                  </a:cubicBezTo>
                  <a:cubicBezTo>
                    <a:pt x="0" y="54"/>
                    <a:pt x="1" y="56"/>
                    <a:pt x="3" y="56"/>
                  </a:cubicBezTo>
                  <a:cubicBezTo>
                    <a:pt x="5" y="56"/>
                    <a:pt x="7" y="54"/>
                    <a:pt x="7" y="52"/>
                  </a:cubicBezTo>
                  <a:cubicBezTo>
                    <a:pt x="7" y="4"/>
                    <a:pt x="7" y="4"/>
                    <a:pt x="7" y="4"/>
                  </a:cubicBezTo>
                  <a:cubicBezTo>
                    <a:pt x="7" y="2"/>
                    <a:pt x="5" y="0"/>
                    <a:pt x="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9" name="Freeform 17"/>
            <p:cNvSpPr/>
            <p:nvPr/>
          </p:nvSpPr>
          <p:spPr>
            <a:xfrm>
              <a:off x="5591520" y="5019480"/>
              <a:ext cx="120240" cy="31320"/>
            </a:xfrm>
            <a:custGeom>
              <a:avLst/>
              <a:gdLst/>
              <a:ahLst/>
              <a:rect l="l" t="t" r="r" b="b"/>
              <a:pathLst>
                <a:path w="30" h="8">
                  <a:moveTo>
                    <a:pt x="27" y="0"/>
                  </a:moveTo>
                  <a:cubicBezTo>
                    <a:pt x="4" y="0"/>
                    <a:pt x="4" y="0"/>
                    <a:pt x="4" y="0"/>
                  </a:cubicBezTo>
                  <a:cubicBezTo>
                    <a:pt x="2" y="0"/>
                    <a:pt x="0" y="2"/>
                    <a:pt x="0" y="4"/>
                  </a:cubicBezTo>
                  <a:cubicBezTo>
                    <a:pt x="0" y="6"/>
                    <a:pt x="2" y="8"/>
                    <a:pt x="4" y="8"/>
                  </a:cubicBezTo>
                  <a:cubicBezTo>
                    <a:pt x="27" y="8"/>
                    <a:pt x="27" y="8"/>
                    <a:pt x="27" y="8"/>
                  </a:cubicBezTo>
                  <a:cubicBezTo>
                    <a:pt x="29" y="8"/>
                    <a:pt x="30" y="6"/>
                    <a:pt x="30" y="4"/>
                  </a:cubicBezTo>
                  <a:cubicBezTo>
                    <a:pt x="30" y="2"/>
                    <a:pt x="29" y="0"/>
                    <a:pt x="27" y="0"/>
                  </a:cubicBezTo>
                  <a:close/>
                </a:path>
              </a:pathLst>
            </a:custGeom>
            <a:solidFill>
              <a:srgbClr val="ffffff"/>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0" name="Freeform 18"/>
            <p:cNvSpPr/>
            <p:nvPr/>
          </p:nvSpPr>
          <p:spPr>
            <a:xfrm>
              <a:off x="5591520" y="5081040"/>
              <a:ext cx="120240" cy="27000"/>
            </a:xfrm>
            <a:custGeom>
              <a:avLst/>
              <a:gdLst/>
              <a:ahLst/>
              <a:rect l="l" t="t" r="r" b="b"/>
              <a:pathLst>
                <a:path w="30" h="7">
                  <a:moveTo>
                    <a:pt x="27" y="0"/>
                  </a:moveTo>
                  <a:cubicBezTo>
                    <a:pt x="4" y="0"/>
                    <a:pt x="4" y="0"/>
                    <a:pt x="4" y="0"/>
                  </a:cubicBezTo>
                  <a:cubicBezTo>
                    <a:pt x="2" y="0"/>
                    <a:pt x="0" y="2"/>
                    <a:pt x="0" y="4"/>
                  </a:cubicBezTo>
                  <a:cubicBezTo>
                    <a:pt x="0" y="6"/>
                    <a:pt x="2" y="7"/>
                    <a:pt x="4" y="7"/>
                  </a:cubicBezTo>
                  <a:cubicBezTo>
                    <a:pt x="27" y="7"/>
                    <a:pt x="27" y="7"/>
                    <a:pt x="27" y="7"/>
                  </a:cubicBezTo>
                  <a:cubicBezTo>
                    <a:pt x="29" y="7"/>
                    <a:pt x="30" y="6"/>
                    <a:pt x="30" y="4"/>
                  </a:cubicBezTo>
                  <a:cubicBezTo>
                    <a:pt x="30" y="2"/>
                    <a:pt x="29" y="0"/>
                    <a:pt x="27" y="0"/>
                  </a:cubicBezTo>
                  <a:close/>
                </a:path>
              </a:pathLst>
            </a:custGeom>
            <a:solidFill>
              <a:srgbClr val="fffff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1" name="Freeform 19"/>
            <p:cNvSpPr/>
            <p:nvPr/>
          </p:nvSpPr>
          <p:spPr>
            <a:xfrm>
              <a:off x="5591520" y="5140080"/>
              <a:ext cx="92880" cy="29520"/>
            </a:xfrm>
            <a:custGeom>
              <a:avLst/>
              <a:gdLst/>
              <a:ahLst/>
              <a:rect l="l" t="t" r="r" b="b"/>
              <a:pathLst>
                <a:path w="23" h="7">
                  <a:moveTo>
                    <a:pt x="19" y="0"/>
                  </a:moveTo>
                  <a:cubicBezTo>
                    <a:pt x="4" y="0"/>
                    <a:pt x="4" y="0"/>
                    <a:pt x="4" y="0"/>
                  </a:cubicBezTo>
                  <a:cubicBezTo>
                    <a:pt x="2" y="0"/>
                    <a:pt x="0" y="1"/>
                    <a:pt x="0" y="3"/>
                  </a:cubicBezTo>
                  <a:cubicBezTo>
                    <a:pt x="0" y="5"/>
                    <a:pt x="2" y="7"/>
                    <a:pt x="4" y="7"/>
                  </a:cubicBezTo>
                  <a:cubicBezTo>
                    <a:pt x="19" y="7"/>
                    <a:pt x="19" y="7"/>
                    <a:pt x="19" y="7"/>
                  </a:cubicBezTo>
                  <a:cubicBezTo>
                    <a:pt x="22" y="7"/>
                    <a:pt x="23" y="5"/>
                    <a:pt x="23" y="3"/>
                  </a:cubicBezTo>
                  <a:cubicBezTo>
                    <a:pt x="23" y="1"/>
                    <a:pt x="22" y="0"/>
                    <a:pt x="19" y="0"/>
                  </a:cubicBez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2" name="Freeform 20"/>
            <p:cNvSpPr/>
            <p:nvPr/>
          </p:nvSpPr>
          <p:spPr>
            <a:xfrm>
              <a:off x="5526000" y="4917960"/>
              <a:ext cx="256320" cy="355320"/>
            </a:xfrm>
            <a:custGeom>
              <a:avLst/>
              <a:gdLst/>
              <a:ahLst/>
              <a:rect l="l" t="t" r="r" b="b"/>
              <a:pathLst>
                <a:path w="63" h="88">
                  <a:moveTo>
                    <a:pt x="55" y="0"/>
                  </a:moveTo>
                  <a:cubicBezTo>
                    <a:pt x="9" y="0"/>
                    <a:pt x="9" y="0"/>
                    <a:pt x="9" y="0"/>
                  </a:cubicBezTo>
                  <a:cubicBezTo>
                    <a:pt x="4" y="0"/>
                    <a:pt x="0" y="3"/>
                    <a:pt x="0" y="8"/>
                  </a:cubicBezTo>
                  <a:cubicBezTo>
                    <a:pt x="0" y="79"/>
                    <a:pt x="0" y="79"/>
                    <a:pt x="0" y="79"/>
                  </a:cubicBezTo>
                  <a:cubicBezTo>
                    <a:pt x="0" y="84"/>
                    <a:pt x="4" y="88"/>
                    <a:pt x="9" y="88"/>
                  </a:cubicBezTo>
                  <a:cubicBezTo>
                    <a:pt x="55" y="88"/>
                    <a:pt x="55" y="88"/>
                    <a:pt x="55" y="88"/>
                  </a:cubicBezTo>
                  <a:cubicBezTo>
                    <a:pt x="59" y="88"/>
                    <a:pt x="63" y="84"/>
                    <a:pt x="63" y="79"/>
                  </a:cubicBezTo>
                  <a:cubicBezTo>
                    <a:pt x="63" y="8"/>
                    <a:pt x="63" y="8"/>
                    <a:pt x="63" y="8"/>
                  </a:cubicBezTo>
                  <a:cubicBezTo>
                    <a:pt x="63" y="3"/>
                    <a:pt x="59" y="0"/>
                    <a:pt x="55" y="0"/>
                  </a:cubicBezTo>
                  <a:close/>
                  <a:moveTo>
                    <a:pt x="55" y="79"/>
                  </a:moveTo>
                  <a:cubicBezTo>
                    <a:pt x="55" y="80"/>
                    <a:pt x="55" y="80"/>
                    <a:pt x="55" y="80"/>
                  </a:cubicBezTo>
                  <a:cubicBezTo>
                    <a:pt x="9" y="80"/>
                    <a:pt x="9" y="80"/>
                    <a:pt x="9" y="80"/>
                  </a:cubicBezTo>
                  <a:cubicBezTo>
                    <a:pt x="8" y="80"/>
                    <a:pt x="8" y="80"/>
                    <a:pt x="8" y="79"/>
                  </a:cubicBezTo>
                  <a:cubicBezTo>
                    <a:pt x="8" y="8"/>
                    <a:pt x="8" y="8"/>
                    <a:pt x="8" y="8"/>
                  </a:cubicBezTo>
                  <a:cubicBezTo>
                    <a:pt x="8" y="8"/>
                    <a:pt x="8" y="7"/>
                    <a:pt x="9" y="7"/>
                  </a:cubicBezTo>
                  <a:cubicBezTo>
                    <a:pt x="55" y="7"/>
                    <a:pt x="55" y="7"/>
                    <a:pt x="55" y="7"/>
                  </a:cubicBezTo>
                  <a:cubicBezTo>
                    <a:pt x="55" y="7"/>
                    <a:pt x="55" y="8"/>
                    <a:pt x="55" y="8"/>
                  </a:cubicBezTo>
                  <a:lnTo>
                    <a:pt x="55" y="7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3" name="Group 21"/>
          <p:cNvGrpSpPr/>
          <p:nvPr/>
        </p:nvGrpSpPr>
        <p:grpSpPr>
          <a:xfrm>
            <a:off x="3944880" y="3795840"/>
            <a:ext cx="355320" cy="354960"/>
            <a:chOff x="3944880" y="3795840"/>
            <a:chExt cx="355320" cy="354960"/>
          </a:xfrm>
        </p:grpSpPr>
        <p:sp>
          <p:nvSpPr>
            <p:cNvPr id="1904" name="Freeform 22"/>
            <p:cNvSpPr/>
            <p:nvPr/>
          </p:nvSpPr>
          <p:spPr>
            <a:xfrm>
              <a:off x="3944880" y="3795840"/>
              <a:ext cx="355320" cy="354960"/>
            </a:xfrm>
            <a:custGeom>
              <a:avLst/>
              <a:gdLst/>
              <a:ahLst/>
              <a:rect l="l" t="t" r="r" b="b"/>
              <a:pathLst>
                <a:path w="88" h="88">
                  <a:moveTo>
                    <a:pt x="44" y="0"/>
                  </a:moveTo>
                  <a:cubicBezTo>
                    <a:pt x="20" y="0"/>
                    <a:pt x="0" y="20"/>
                    <a:pt x="0" y="44"/>
                  </a:cubicBezTo>
                  <a:cubicBezTo>
                    <a:pt x="0" y="68"/>
                    <a:pt x="20" y="88"/>
                    <a:pt x="44" y="88"/>
                  </a:cubicBezTo>
                  <a:cubicBezTo>
                    <a:pt x="68" y="88"/>
                    <a:pt x="88" y="68"/>
                    <a:pt x="88" y="44"/>
                  </a:cubicBezTo>
                  <a:cubicBezTo>
                    <a:pt x="88" y="20"/>
                    <a:pt x="68" y="0"/>
                    <a:pt x="44" y="0"/>
                  </a:cubicBezTo>
                  <a:close/>
                  <a:moveTo>
                    <a:pt x="44" y="80"/>
                  </a:moveTo>
                  <a:cubicBezTo>
                    <a:pt x="24" y="80"/>
                    <a:pt x="8" y="64"/>
                    <a:pt x="8" y="44"/>
                  </a:cubicBezTo>
                  <a:cubicBezTo>
                    <a:pt x="8" y="24"/>
                    <a:pt x="24" y="7"/>
                    <a:pt x="44" y="7"/>
                  </a:cubicBezTo>
                  <a:cubicBezTo>
                    <a:pt x="64" y="7"/>
                    <a:pt x="80" y="24"/>
                    <a:pt x="80" y="44"/>
                  </a:cubicBezTo>
                  <a:cubicBezTo>
                    <a:pt x="80" y="64"/>
                    <a:pt x="64" y="80"/>
                    <a:pt x="44" y="8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5" name="Freeform 23"/>
            <p:cNvSpPr/>
            <p:nvPr/>
          </p:nvSpPr>
          <p:spPr>
            <a:xfrm>
              <a:off x="4054680" y="3913920"/>
              <a:ext cx="164880" cy="133200"/>
            </a:xfrm>
            <a:custGeom>
              <a:avLst/>
              <a:gdLst/>
              <a:ahLst/>
              <a:rect l="l" t="t" r="r" b="b"/>
              <a:pathLst>
                <a:path w="41" h="33">
                  <a:moveTo>
                    <a:pt x="39" y="1"/>
                  </a:moveTo>
                  <a:cubicBezTo>
                    <a:pt x="38" y="0"/>
                    <a:pt x="35" y="0"/>
                    <a:pt x="34" y="2"/>
                  </a:cubicBezTo>
                  <a:cubicBezTo>
                    <a:pt x="17" y="23"/>
                    <a:pt x="17" y="23"/>
                    <a:pt x="17" y="23"/>
                  </a:cubicBezTo>
                  <a:cubicBezTo>
                    <a:pt x="6" y="12"/>
                    <a:pt x="6" y="12"/>
                    <a:pt x="6" y="12"/>
                  </a:cubicBezTo>
                  <a:cubicBezTo>
                    <a:pt x="5" y="11"/>
                    <a:pt x="3" y="11"/>
                    <a:pt x="1" y="12"/>
                  </a:cubicBezTo>
                  <a:cubicBezTo>
                    <a:pt x="0" y="14"/>
                    <a:pt x="0" y="16"/>
                    <a:pt x="1" y="17"/>
                  </a:cubicBezTo>
                  <a:cubicBezTo>
                    <a:pt x="14" y="32"/>
                    <a:pt x="14" y="32"/>
                    <a:pt x="14" y="32"/>
                  </a:cubicBezTo>
                  <a:cubicBezTo>
                    <a:pt x="15" y="32"/>
                    <a:pt x="16" y="33"/>
                    <a:pt x="17" y="33"/>
                  </a:cubicBezTo>
                  <a:cubicBezTo>
                    <a:pt x="17" y="33"/>
                    <a:pt x="17" y="33"/>
                    <a:pt x="17" y="33"/>
                  </a:cubicBezTo>
                  <a:cubicBezTo>
                    <a:pt x="18" y="33"/>
                    <a:pt x="19" y="32"/>
                    <a:pt x="20" y="31"/>
                  </a:cubicBezTo>
                  <a:cubicBezTo>
                    <a:pt x="40" y="6"/>
                    <a:pt x="40" y="6"/>
                    <a:pt x="40" y="6"/>
                  </a:cubicBezTo>
                  <a:cubicBezTo>
                    <a:pt x="41" y="5"/>
                    <a:pt x="41" y="2"/>
                    <a:pt x="39"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6" name="Group 24"/>
          <p:cNvGrpSpPr/>
          <p:nvPr/>
        </p:nvGrpSpPr>
        <p:grpSpPr>
          <a:xfrm>
            <a:off x="4740120" y="5738760"/>
            <a:ext cx="276120" cy="355320"/>
            <a:chOff x="4740120" y="5738760"/>
            <a:chExt cx="276120" cy="355320"/>
          </a:xfrm>
        </p:grpSpPr>
        <p:sp>
          <p:nvSpPr>
            <p:cNvPr id="1907" name="Freeform 25"/>
            <p:cNvSpPr/>
            <p:nvPr/>
          </p:nvSpPr>
          <p:spPr>
            <a:xfrm>
              <a:off x="4740120" y="5738760"/>
              <a:ext cx="276120" cy="355320"/>
            </a:xfrm>
            <a:custGeom>
              <a:avLst/>
              <a:gdLst/>
              <a:ahLst/>
              <a:rect l="l" t="t" r="r" b="b"/>
              <a:pathLst>
                <a:path w="68" h="88">
                  <a:moveTo>
                    <a:pt x="15" y="81"/>
                  </a:moveTo>
                  <a:cubicBezTo>
                    <a:pt x="8" y="81"/>
                    <a:pt x="8" y="81"/>
                    <a:pt x="8" y="81"/>
                  </a:cubicBezTo>
                  <a:cubicBezTo>
                    <a:pt x="8" y="8"/>
                    <a:pt x="8" y="8"/>
                    <a:pt x="8" y="8"/>
                  </a:cubicBezTo>
                  <a:cubicBezTo>
                    <a:pt x="65" y="8"/>
                    <a:pt x="65" y="8"/>
                    <a:pt x="65" y="8"/>
                  </a:cubicBezTo>
                  <a:cubicBezTo>
                    <a:pt x="67" y="8"/>
                    <a:pt x="68" y="6"/>
                    <a:pt x="68" y="4"/>
                  </a:cubicBezTo>
                  <a:cubicBezTo>
                    <a:pt x="68" y="2"/>
                    <a:pt x="67" y="0"/>
                    <a:pt x="65" y="0"/>
                  </a:cubicBezTo>
                  <a:cubicBezTo>
                    <a:pt x="4" y="0"/>
                    <a:pt x="4" y="0"/>
                    <a:pt x="4" y="0"/>
                  </a:cubicBezTo>
                  <a:cubicBezTo>
                    <a:pt x="2" y="0"/>
                    <a:pt x="0" y="2"/>
                    <a:pt x="0" y="4"/>
                  </a:cubicBezTo>
                  <a:cubicBezTo>
                    <a:pt x="0" y="84"/>
                    <a:pt x="0" y="84"/>
                    <a:pt x="0" y="84"/>
                  </a:cubicBezTo>
                  <a:cubicBezTo>
                    <a:pt x="0" y="87"/>
                    <a:pt x="2" y="88"/>
                    <a:pt x="4" y="88"/>
                  </a:cubicBezTo>
                  <a:cubicBezTo>
                    <a:pt x="15" y="88"/>
                    <a:pt x="15" y="88"/>
                    <a:pt x="15" y="88"/>
                  </a:cubicBezTo>
                  <a:cubicBezTo>
                    <a:pt x="17" y="88"/>
                    <a:pt x="19" y="87"/>
                    <a:pt x="19" y="84"/>
                  </a:cubicBezTo>
                  <a:cubicBezTo>
                    <a:pt x="19" y="82"/>
                    <a:pt x="17" y="81"/>
                    <a:pt x="1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8" name="Freeform 26"/>
            <p:cNvSpPr/>
            <p:nvPr/>
          </p:nvSpPr>
          <p:spPr>
            <a:xfrm>
              <a:off x="4916520" y="5948280"/>
              <a:ext cx="99720" cy="145800"/>
            </a:xfrm>
            <a:custGeom>
              <a:avLst/>
              <a:gdLst/>
              <a:ahLst/>
              <a:rect l="l" t="t" r="r" b="b"/>
              <a:pathLst>
                <a:path w="25" h="36">
                  <a:moveTo>
                    <a:pt x="22" y="0"/>
                  </a:moveTo>
                  <a:cubicBezTo>
                    <a:pt x="20" y="0"/>
                    <a:pt x="18" y="1"/>
                    <a:pt x="18" y="4"/>
                  </a:cubicBezTo>
                  <a:cubicBezTo>
                    <a:pt x="18" y="29"/>
                    <a:pt x="18" y="29"/>
                    <a:pt x="18" y="29"/>
                  </a:cubicBezTo>
                  <a:cubicBezTo>
                    <a:pt x="4" y="29"/>
                    <a:pt x="4" y="29"/>
                    <a:pt x="4" y="29"/>
                  </a:cubicBezTo>
                  <a:cubicBezTo>
                    <a:pt x="2" y="29"/>
                    <a:pt x="0" y="30"/>
                    <a:pt x="0" y="32"/>
                  </a:cubicBezTo>
                  <a:cubicBezTo>
                    <a:pt x="0" y="35"/>
                    <a:pt x="2" y="36"/>
                    <a:pt x="4" y="36"/>
                  </a:cubicBezTo>
                  <a:cubicBezTo>
                    <a:pt x="22" y="36"/>
                    <a:pt x="22" y="36"/>
                    <a:pt x="22" y="36"/>
                  </a:cubicBezTo>
                  <a:cubicBezTo>
                    <a:pt x="23" y="36"/>
                    <a:pt x="24" y="36"/>
                    <a:pt x="24" y="35"/>
                  </a:cubicBezTo>
                  <a:cubicBezTo>
                    <a:pt x="25" y="34"/>
                    <a:pt x="25" y="33"/>
                    <a:pt x="25" y="32"/>
                  </a:cubicBezTo>
                  <a:cubicBezTo>
                    <a:pt x="25" y="4"/>
                    <a:pt x="25" y="4"/>
                    <a:pt x="25" y="4"/>
                  </a:cubicBezTo>
                  <a:cubicBezTo>
                    <a:pt x="25" y="1"/>
                    <a:pt x="24" y="0"/>
                    <a:pt x="2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9" name="Freeform 27"/>
            <p:cNvSpPr/>
            <p:nvPr/>
          </p:nvSpPr>
          <p:spPr>
            <a:xfrm>
              <a:off x="4842360" y="5814720"/>
              <a:ext cx="169560" cy="251640"/>
            </a:xfrm>
            <a:custGeom>
              <a:avLst/>
              <a:gdLst/>
              <a:ahLst/>
              <a:rect l="l" t="t" r="r" b="b"/>
              <a:pathLst>
                <a:path w="42" h="62">
                  <a:moveTo>
                    <a:pt x="37" y="1"/>
                  </a:moveTo>
                  <a:cubicBezTo>
                    <a:pt x="35" y="0"/>
                    <a:pt x="34" y="0"/>
                    <a:pt x="32" y="0"/>
                  </a:cubicBezTo>
                  <a:cubicBezTo>
                    <a:pt x="29" y="0"/>
                    <a:pt x="26" y="1"/>
                    <a:pt x="24" y="4"/>
                  </a:cubicBezTo>
                  <a:cubicBezTo>
                    <a:pt x="0" y="46"/>
                    <a:pt x="0" y="46"/>
                    <a:pt x="0" y="46"/>
                  </a:cubicBezTo>
                  <a:cubicBezTo>
                    <a:pt x="0" y="47"/>
                    <a:pt x="0" y="48"/>
                    <a:pt x="0" y="48"/>
                  </a:cubicBezTo>
                  <a:cubicBezTo>
                    <a:pt x="0" y="58"/>
                    <a:pt x="0" y="58"/>
                    <a:pt x="0" y="58"/>
                  </a:cubicBezTo>
                  <a:cubicBezTo>
                    <a:pt x="0" y="59"/>
                    <a:pt x="1" y="60"/>
                    <a:pt x="2" y="61"/>
                  </a:cubicBezTo>
                  <a:cubicBezTo>
                    <a:pt x="2" y="61"/>
                    <a:pt x="3" y="62"/>
                    <a:pt x="4" y="62"/>
                  </a:cubicBezTo>
                  <a:cubicBezTo>
                    <a:pt x="4" y="62"/>
                    <a:pt x="5" y="61"/>
                    <a:pt x="5" y="61"/>
                  </a:cubicBezTo>
                  <a:cubicBezTo>
                    <a:pt x="14" y="57"/>
                    <a:pt x="14" y="57"/>
                    <a:pt x="14" y="57"/>
                  </a:cubicBezTo>
                  <a:cubicBezTo>
                    <a:pt x="15" y="56"/>
                    <a:pt x="15" y="56"/>
                    <a:pt x="15" y="55"/>
                  </a:cubicBezTo>
                  <a:cubicBezTo>
                    <a:pt x="40" y="13"/>
                    <a:pt x="40" y="13"/>
                    <a:pt x="40" y="13"/>
                  </a:cubicBezTo>
                  <a:cubicBezTo>
                    <a:pt x="42" y="9"/>
                    <a:pt x="41" y="3"/>
                    <a:pt x="37" y="1"/>
                  </a:cubicBezTo>
                  <a:close/>
                  <a:moveTo>
                    <a:pt x="33" y="9"/>
                  </a:moveTo>
                  <a:cubicBezTo>
                    <a:pt x="9" y="50"/>
                    <a:pt x="9" y="50"/>
                    <a:pt x="9" y="50"/>
                  </a:cubicBezTo>
                  <a:cubicBezTo>
                    <a:pt x="7" y="52"/>
                    <a:pt x="7" y="52"/>
                    <a:pt x="7" y="52"/>
                  </a:cubicBezTo>
                  <a:cubicBezTo>
                    <a:pt x="7" y="49"/>
                    <a:pt x="7" y="49"/>
                    <a:pt x="7" y="49"/>
                  </a:cubicBezTo>
                  <a:cubicBezTo>
                    <a:pt x="31" y="8"/>
                    <a:pt x="31" y="8"/>
                    <a:pt x="31" y="8"/>
                  </a:cubicBezTo>
                  <a:cubicBezTo>
                    <a:pt x="31" y="7"/>
                    <a:pt x="32" y="7"/>
                    <a:pt x="33" y="7"/>
                  </a:cubicBezTo>
                  <a:cubicBezTo>
                    <a:pt x="33" y="8"/>
                    <a:pt x="34" y="9"/>
                    <a:pt x="33" y="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0" name="Freeform 28"/>
            <p:cNvSpPr/>
            <p:nvPr/>
          </p:nvSpPr>
          <p:spPr>
            <a:xfrm>
              <a:off x="4793040" y="5840280"/>
              <a:ext cx="106560" cy="31320"/>
            </a:xfrm>
            <a:custGeom>
              <a:avLst/>
              <a:gdLst/>
              <a:ahLst/>
              <a:rect l="l" t="t" r="r" b="b"/>
              <a:pathLst>
                <a:path w="26" h="8">
                  <a:moveTo>
                    <a:pt x="26" y="4"/>
                  </a:moveTo>
                  <a:cubicBezTo>
                    <a:pt x="26" y="2"/>
                    <a:pt x="25" y="0"/>
                    <a:pt x="23" y="0"/>
                  </a:cubicBezTo>
                  <a:cubicBezTo>
                    <a:pt x="4" y="0"/>
                    <a:pt x="4" y="0"/>
                    <a:pt x="4" y="0"/>
                  </a:cubicBezTo>
                  <a:cubicBezTo>
                    <a:pt x="2" y="0"/>
                    <a:pt x="0" y="2"/>
                    <a:pt x="0" y="4"/>
                  </a:cubicBezTo>
                  <a:cubicBezTo>
                    <a:pt x="0" y="6"/>
                    <a:pt x="2" y="8"/>
                    <a:pt x="4" y="8"/>
                  </a:cubicBezTo>
                  <a:cubicBezTo>
                    <a:pt x="23" y="8"/>
                    <a:pt x="23" y="8"/>
                    <a:pt x="23" y="8"/>
                  </a:cubicBezTo>
                  <a:cubicBezTo>
                    <a:pt x="25" y="8"/>
                    <a:pt x="26" y="6"/>
                    <a:pt x="26" y="4"/>
                  </a:cubicBezTo>
                  <a:close/>
                </a:path>
              </a:pathLst>
            </a:custGeom>
            <a:solidFill>
              <a:srgbClr val="ffffff"/>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1" name="Freeform 29"/>
            <p:cNvSpPr/>
            <p:nvPr/>
          </p:nvSpPr>
          <p:spPr>
            <a:xfrm>
              <a:off x="4793040" y="5899320"/>
              <a:ext cx="70200" cy="31320"/>
            </a:xfrm>
            <a:custGeom>
              <a:avLst/>
              <a:gdLst/>
              <a:ahLst/>
              <a:rect l="l" t="t" r="r" b="b"/>
              <a:pathLst>
                <a:path w="17" h="8">
                  <a:moveTo>
                    <a:pt x="4" y="0"/>
                  </a:moveTo>
                  <a:cubicBezTo>
                    <a:pt x="2" y="0"/>
                    <a:pt x="0" y="2"/>
                    <a:pt x="0" y="4"/>
                  </a:cubicBezTo>
                  <a:cubicBezTo>
                    <a:pt x="0" y="6"/>
                    <a:pt x="2" y="8"/>
                    <a:pt x="4" y="8"/>
                  </a:cubicBezTo>
                  <a:cubicBezTo>
                    <a:pt x="13" y="8"/>
                    <a:pt x="13" y="8"/>
                    <a:pt x="13" y="8"/>
                  </a:cubicBezTo>
                  <a:cubicBezTo>
                    <a:pt x="15" y="8"/>
                    <a:pt x="17" y="6"/>
                    <a:pt x="17" y="4"/>
                  </a:cubicBezTo>
                  <a:cubicBezTo>
                    <a:pt x="17" y="2"/>
                    <a:pt x="15" y="0"/>
                    <a:pt x="13" y="0"/>
                  </a:cubicBezTo>
                  <a:lnTo>
                    <a:pt x="4" y="0"/>
                  </a:lnTo>
                  <a:close/>
                </a:path>
              </a:pathLst>
            </a:custGeom>
            <a:solidFill>
              <a:srgbClr val="ffffff"/>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2" name="Group 30"/>
          <p:cNvGrpSpPr/>
          <p:nvPr/>
        </p:nvGrpSpPr>
        <p:grpSpPr>
          <a:xfrm>
            <a:off x="6850080" y="3841920"/>
            <a:ext cx="573840" cy="474120"/>
            <a:chOff x="6850080" y="3841920"/>
            <a:chExt cx="573840" cy="474120"/>
          </a:xfrm>
        </p:grpSpPr>
        <p:sp>
          <p:nvSpPr>
            <p:cNvPr id="1913" name="Freeform 31"/>
            <p:cNvSpPr/>
            <p:nvPr/>
          </p:nvSpPr>
          <p:spPr>
            <a:xfrm>
              <a:off x="6850080" y="3841920"/>
              <a:ext cx="573840" cy="474120"/>
            </a:xfrm>
            <a:custGeom>
              <a:avLst/>
              <a:gdLst/>
              <a:ahLst/>
              <a:rect l="l" t="t" r="r" b="b"/>
              <a:pathLst>
                <a:path w="87" h="88">
                  <a:moveTo>
                    <a:pt x="87" y="37"/>
                  </a:moveTo>
                  <a:cubicBezTo>
                    <a:pt x="87" y="36"/>
                    <a:pt x="86" y="35"/>
                    <a:pt x="84" y="34"/>
                  </a:cubicBezTo>
                  <a:cubicBezTo>
                    <a:pt x="77" y="32"/>
                    <a:pt x="77" y="32"/>
                    <a:pt x="77" y="32"/>
                  </a:cubicBezTo>
                  <a:cubicBezTo>
                    <a:pt x="77" y="31"/>
                    <a:pt x="77" y="29"/>
                    <a:pt x="76" y="28"/>
                  </a:cubicBezTo>
                  <a:cubicBezTo>
                    <a:pt x="79" y="22"/>
                    <a:pt x="79" y="22"/>
                    <a:pt x="79" y="22"/>
                  </a:cubicBezTo>
                  <a:cubicBezTo>
                    <a:pt x="80" y="20"/>
                    <a:pt x="80" y="19"/>
                    <a:pt x="79" y="18"/>
                  </a:cubicBezTo>
                  <a:cubicBezTo>
                    <a:pt x="76" y="14"/>
                    <a:pt x="73" y="11"/>
                    <a:pt x="69" y="8"/>
                  </a:cubicBezTo>
                  <a:cubicBezTo>
                    <a:pt x="68" y="8"/>
                    <a:pt x="67" y="7"/>
                    <a:pt x="66" y="8"/>
                  </a:cubicBezTo>
                  <a:cubicBezTo>
                    <a:pt x="59" y="11"/>
                    <a:pt x="59" y="11"/>
                    <a:pt x="59" y="11"/>
                  </a:cubicBezTo>
                  <a:cubicBezTo>
                    <a:pt x="58" y="11"/>
                    <a:pt x="57" y="10"/>
                    <a:pt x="56" y="10"/>
                  </a:cubicBezTo>
                  <a:cubicBezTo>
                    <a:pt x="53" y="3"/>
                    <a:pt x="53" y="3"/>
                    <a:pt x="53" y="3"/>
                  </a:cubicBezTo>
                  <a:cubicBezTo>
                    <a:pt x="53" y="2"/>
                    <a:pt x="52" y="1"/>
                    <a:pt x="50" y="0"/>
                  </a:cubicBezTo>
                  <a:cubicBezTo>
                    <a:pt x="45" y="0"/>
                    <a:pt x="42" y="0"/>
                    <a:pt x="37" y="0"/>
                  </a:cubicBezTo>
                  <a:cubicBezTo>
                    <a:pt x="35" y="1"/>
                    <a:pt x="34" y="2"/>
                    <a:pt x="34" y="3"/>
                  </a:cubicBezTo>
                  <a:cubicBezTo>
                    <a:pt x="31" y="10"/>
                    <a:pt x="31" y="10"/>
                    <a:pt x="31" y="10"/>
                  </a:cubicBezTo>
                  <a:cubicBezTo>
                    <a:pt x="30" y="10"/>
                    <a:pt x="29" y="11"/>
                    <a:pt x="28" y="11"/>
                  </a:cubicBezTo>
                  <a:cubicBezTo>
                    <a:pt x="21" y="8"/>
                    <a:pt x="21" y="8"/>
                    <a:pt x="21" y="8"/>
                  </a:cubicBezTo>
                  <a:cubicBezTo>
                    <a:pt x="20" y="7"/>
                    <a:pt x="19" y="8"/>
                    <a:pt x="18" y="8"/>
                  </a:cubicBezTo>
                  <a:cubicBezTo>
                    <a:pt x="14" y="11"/>
                    <a:pt x="11" y="14"/>
                    <a:pt x="8" y="18"/>
                  </a:cubicBezTo>
                  <a:cubicBezTo>
                    <a:pt x="7" y="19"/>
                    <a:pt x="7" y="20"/>
                    <a:pt x="8" y="22"/>
                  </a:cubicBezTo>
                  <a:cubicBezTo>
                    <a:pt x="11" y="28"/>
                    <a:pt x="11" y="28"/>
                    <a:pt x="11" y="28"/>
                  </a:cubicBezTo>
                  <a:cubicBezTo>
                    <a:pt x="10" y="29"/>
                    <a:pt x="10" y="31"/>
                    <a:pt x="9" y="32"/>
                  </a:cubicBezTo>
                  <a:cubicBezTo>
                    <a:pt x="3" y="34"/>
                    <a:pt x="3" y="34"/>
                    <a:pt x="3" y="34"/>
                  </a:cubicBezTo>
                  <a:cubicBezTo>
                    <a:pt x="1" y="35"/>
                    <a:pt x="0" y="36"/>
                    <a:pt x="0" y="37"/>
                  </a:cubicBezTo>
                  <a:cubicBezTo>
                    <a:pt x="0" y="40"/>
                    <a:pt x="0" y="42"/>
                    <a:pt x="0" y="44"/>
                  </a:cubicBezTo>
                  <a:cubicBezTo>
                    <a:pt x="0" y="46"/>
                    <a:pt x="0" y="48"/>
                    <a:pt x="0" y="50"/>
                  </a:cubicBezTo>
                  <a:cubicBezTo>
                    <a:pt x="0" y="52"/>
                    <a:pt x="1" y="53"/>
                    <a:pt x="3" y="53"/>
                  </a:cubicBezTo>
                  <a:cubicBezTo>
                    <a:pt x="9" y="56"/>
                    <a:pt x="9" y="56"/>
                    <a:pt x="9" y="56"/>
                  </a:cubicBezTo>
                  <a:cubicBezTo>
                    <a:pt x="10" y="57"/>
                    <a:pt x="10" y="58"/>
                    <a:pt x="11" y="59"/>
                  </a:cubicBezTo>
                  <a:cubicBezTo>
                    <a:pt x="8" y="66"/>
                    <a:pt x="8" y="66"/>
                    <a:pt x="8" y="66"/>
                  </a:cubicBezTo>
                  <a:cubicBezTo>
                    <a:pt x="7" y="67"/>
                    <a:pt x="7" y="69"/>
                    <a:pt x="8" y="70"/>
                  </a:cubicBezTo>
                  <a:cubicBezTo>
                    <a:pt x="11" y="73"/>
                    <a:pt x="14" y="77"/>
                    <a:pt x="18" y="79"/>
                  </a:cubicBezTo>
                  <a:cubicBezTo>
                    <a:pt x="19" y="80"/>
                    <a:pt x="20" y="80"/>
                    <a:pt x="21" y="80"/>
                  </a:cubicBezTo>
                  <a:cubicBezTo>
                    <a:pt x="28" y="76"/>
                    <a:pt x="28" y="76"/>
                    <a:pt x="28" y="76"/>
                  </a:cubicBezTo>
                  <a:cubicBezTo>
                    <a:pt x="29" y="77"/>
                    <a:pt x="30" y="77"/>
                    <a:pt x="31" y="78"/>
                  </a:cubicBezTo>
                  <a:cubicBezTo>
                    <a:pt x="34" y="85"/>
                    <a:pt x="34" y="85"/>
                    <a:pt x="34" y="85"/>
                  </a:cubicBezTo>
                  <a:cubicBezTo>
                    <a:pt x="34" y="86"/>
                    <a:pt x="35" y="87"/>
                    <a:pt x="37" y="87"/>
                  </a:cubicBezTo>
                  <a:cubicBezTo>
                    <a:pt x="39" y="88"/>
                    <a:pt x="41" y="88"/>
                    <a:pt x="43" y="88"/>
                  </a:cubicBezTo>
                  <a:cubicBezTo>
                    <a:pt x="46" y="88"/>
                    <a:pt x="48" y="88"/>
                    <a:pt x="50" y="87"/>
                  </a:cubicBezTo>
                  <a:cubicBezTo>
                    <a:pt x="52" y="87"/>
                    <a:pt x="53" y="86"/>
                    <a:pt x="53" y="85"/>
                  </a:cubicBezTo>
                  <a:cubicBezTo>
                    <a:pt x="56" y="78"/>
                    <a:pt x="56" y="78"/>
                    <a:pt x="56" y="78"/>
                  </a:cubicBezTo>
                  <a:cubicBezTo>
                    <a:pt x="57" y="77"/>
                    <a:pt x="58" y="77"/>
                    <a:pt x="59" y="76"/>
                  </a:cubicBezTo>
                  <a:cubicBezTo>
                    <a:pt x="66" y="80"/>
                    <a:pt x="66" y="80"/>
                    <a:pt x="66" y="80"/>
                  </a:cubicBezTo>
                  <a:cubicBezTo>
                    <a:pt x="67" y="80"/>
                    <a:pt x="68" y="80"/>
                    <a:pt x="69" y="79"/>
                  </a:cubicBezTo>
                  <a:cubicBezTo>
                    <a:pt x="73" y="77"/>
                    <a:pt x="76" y="73"/>
                    <a:pt x="79" y="70"/>
                  </a:cubicBezTo>
                  <a:cubicBezTo>
                    <a:pt x="80" y="69"/>
                    <a:pt x="80" y="67"/>
                    <a:pt x="79" y="66"/>
                  </a:cubicBezTo>
                  <a:cubicBezTo>
                    <a:pt x="76" y="59"/>
                    <a:pt x="76" y="59"/>
                    <a:pt x="76" y="59"/>
                  </a:cubicBezTo>
                  <a:cubicBezTo>
                    <a:pt x="77" y="58"/>
                    <a:pt x="77" y="57"/>
                    <a:pt x="77" y="56"/>
                  </a:cubicBezTo>
                  <a:cubicBezTo>
                    <a:pt x="84" y="53"/>
                    <a:pt x="84" y="53"/>
                    <a:pt x="84" y="53"/>
                  </a:cubicBezTo>
                  <a:cubicBezTo>
                    <a:pt x="86" y="53"/>
                    <a:pt x="87" y="52"/>
                    <a:pt x="87" y="50"/>
                  </a:cubicBezTo>
                  <a:cubicBezTo>
                    <a:pt x="87" y="48"/>
                    <a:pt x="87" y="46"/>
                    <a:pt x="87" y="44"/>
                  </a:cubicBezTo>
                  <a:cubicBezTo>
                    <a:pt x="87" y="42"/>
                    <a:pt x="87" y="40"/>
                    <a:pt x="87" y="37"/>
                  </a:cubicBezTo>
                  <a:close/>
                  <a:moveTo>
                    <a:pt x="80" y="47"/>
                  </a:moveTo>
                  <a:cubicBezTo>
                    <a:pt x="73" y="49"/>
                    <a:pt x="73" y="49"/>
                    <a:pt x="73" y="49"/>
                  </a:cubicBezTo>
                  <a:cubicBezTo>
                    <a:pt x="72" y="50"/>
                    <a:pt x="71" y="51"/>
                    <a:pt x="71" y="52"/>
                  </a:cubicBezTo>
                  <a:cubicBezTo>
                    <a:pt x="70" y="54"/>
                    <a:pt x="70" y="56"/>
                    <a:pt x="69" y="57"/>
                  </a:cubicBezTo>
                  <a:cubicBezTo>
                    <a:pt x="68" y="58"/>
                    <a:pt x="68" y="60"/>
                    <a:pt x="68" y="61"/>
                  </a:cubicBezTo>
                  <a:cubicBezTo>
                    <a:pt x="71" y="67"/>
                    <a:pt x="71" y="67"/>
                    <a:pt x="71" y="67"/>
                  </a:cubicBezTo>
                  <a:cubicBezTo>
                    <a:pt x="70" y="69"/>
                    <a:pt x="68" y="70"/>
                    <a:pt x="67" y="72"/>
                  </a:cubicBezTo>
                  <a:cubicBezTo>
                    <a:pt x="61" y="69"/>
                    <a:pt x="61" y="69"/>
                    <a:pt x="61" y="69"/>
                  </a:cubicBezTo>
                  <a:cubicBezTo>
                    <a:pt x="59" y="68"/>
                    <a:pt x="58" y="68"/>
                    <a:pt x="57" y="69"/>
                  </a:cubicBezTo>
                  <a:cubicBezTo>
                    <a:pt x="55" y="70"/>
                    <a:pt x="54" y="71"/>
                    <a:pt x="52" y="71"/>
                  </a:cubicBezTo>
                  <a:cubicBezTo>
                    <a:pt x="50" y="71"/>
                    <a:pt x="50" y="72"/>
                    <a:pt x="49" y="74"/>
                  </a:cubicBezTo>
                  <a:cubicBezTo>
                    <a:pt x="47" y="80"/>
                    <a:pt x="47" y="80"/>
                    <a:pt x="47" y="80"/>
                  </a:cubicBezTo>
                  <a:cubicBezTo>
                    <a:pt x="44" y="80"/>
                    <a:pt x="43" y="80"/>
                    <a:pt x="40" y="80"/>
                  </a:cubicBezTo>
                  <a:cubicBezTo>
                    <a:pt x="38" y="74"/>
                    <a:pt x="38" y="74"/>
                    <a:pt x="38" y="74"/>
                  </a:cubicBezTo>
                  <a:cubicBezTo>
                    <a:pt x="37" y="72"/>
                    <a:pt x="37" y="71"/>
                    <a:pt x="35" y="71"/>
                  </a:cubicBezTo>
                  <a:cubicBezTo>
                    <a:pt x="33" y="71"/>
                    <a:pt x="32" y="70"/>
                    <a:pt x="30" y="69"/>
                  </a:cubicBezTo>
                  <a:cubicBezTo>
                    <a:pt x="29" y="68"/>
                    <a:pt x="28" y="68"/>
                    <a:pt x="26" y="69"/>
                  </a:cubicBezTo>
                  <a:cubicBezTo>
                    <a:pt x="20" y="72"/>
                    <a:pt x="20" y="72"/>
                    <a:pt x="20" y="72"/>
                  </a:cubicBezTo>
                  <a:cubicBezTo>
                    <a:pt x="19" y="70"/>
                    <a:pt x="17" y="69"/>
                    <a:pt x="16" y="67"/>
                  </a:cubicBezTo>
                  <a:cubicBezTo>
                    <a:pt x="18" y="61"/>
                    <a:pt x="18" y="61"/>
                    <a:pt x="18" y="61"/>
                  </a:cubicBezTo>
                  <a:cubicBezTo>
                    <a:pt x="19" y="60"/>
                    <a:pt x="19" y="58"/>
                    <a:pt x="18" y="57"/>
                  </a:cubicBezTo>
                  <a:cubicBezTo>
                    <a:pt x="17" y="56"/>
                    <a:pt x="17" y="54"/>
                    <a:pt x="16" y="52"/>
                  </a:cubicBezTo>
                  <a:cubicBezTo>
                    <a:pt x="16" y="51"/>
                    <a:pt x="15" y="50"/>
                    <a:pt x="14" y="49"/>
                  </a:cubicBezTo>
                  <a:cubicBezTo>
                    <a:pt x="7" y="47"/>
                    <a:pt x="7" y="47"/>
                    <a:pt x="7" y="47"/>
                  </a:cubicBezTo>
                  <a:cubicBezTo>
                    <a:pt x="7" y="46"/>
                    <a:pt x="7" y="45"/>
                    <a:pt x="7" y="44"/>
                  </a:cubicBezTo>
                  <a:cubicBezTo>
                    <a:pt x="7" y="43"/>
                    <a:pt x="7" y="42"/>
                    <a:pt x="7" y="40"/>
                  </a:cubicBezTo>
                  <a:cubicBezTo>
                    <a:pt x="14" y="38"/>
                    <a:pt x="14" y="38"/>
                    <a:pt x="14" y="38"/>
                  </a:cubicBezTo>
                  <a:cubicBezTo>
                    <a:pt x="15" y="38"/>
                    <a:pt x="16" y="37"/>
                    <a:pt x="16" y="36"/>
                  </a:cubicBezTo>
                  <a:cubicBezTo>
                    <a:pt x="17" y="34"/>
                    <a:pt x="17" y="32"/>
                    <a:pt x="18" y="30"/>
                  </a:cubicBezTo>
                  <a:cubicBezTo>
                    <a:pt x="19" y="29"/>
                    <a:pt x="19" y="28"/>
                    <a:pt x="18" y="27"/>
                  </a:cubicBezTo>
                  <a:cubicBezTo>
                    <a:pt x="16" y="21"/>
                    <a:pt x="16" y="21"/>
                    <a:pt x="16" y="21"/>
                  </a:cubicBezTo>
                  <a:cubicBezTo>
                    <a:pt x="17" y="19"/>
                    <a:pt x="19" y="17"/>
                    <a:pt x="20" y="16"/>
                  </a:cubicBezTo>
                  <a:cubicBezTo>
                    <a:pt x="26" y="19"/>
                    <a:pt x="26" y="19"/>
                    <a:pt x="26" y="19"/>
                  </a:cubicBezTo>
                  <a:cubicBezTo>
                    <a:pt x="28" y="19"/>
                    <a:pt x="29" y="19"/>
                    <a:pt x="30" y="19"/>
                  </a:cubicBezTo>
                  <a:cubicBezTo>
                    <a:pt x="32" y="18"/>
                    <a:pt x="33" y="17"/>
                    <a:pt x="35" y="16"/>
                  </a:cubicBezTo>
                  <a:cubicBezTo>
                    <a:pt x="37" y="16"/>
                    <a:pt x="37" y="15"/>
                    <a:pt x="38" y="14"/>
                  </a:cubicBezTo>
                  <a:cubicBezTo>
                    <a:pt x="40" y="8"/>
                    <a:pt x="40" y="8"/>
                    <a:pt x="40" y="8"/>
                  </a:cubicBezTo>
                  <a:cubicBezTo>
                    <a:pt x="42" y="7"/>
                    <a:pt x="44" y="7"/>
                    <a:pt x="47" y="8"/>
                  </a:cubicBezTo>
                  <a:cubicBezTo>
                    <a:pt x="49" y="14"/>
                    <a:pt x="49" y="14"/>
                    <a:pt x="49" y="14"/>
                  </a:cubicBezTo>
                  <a:cubicBezTo>
                    <a:pt x="50" y="15"/>
                    <a:pt x="50" y="16"/>
                    <a:pt x="52" y="16"/>
                  </a:cubicBezTo>
                  <a:cubicBezTo>
                    <a:pt x="54" y="17"/>
                    <a:pt x="55" y="18"/>
                    <a:pt x="57" y="19"/>
                  </a:cubicBezTo>
                  <a:cubicBezTo>
                    <a:pt x="58" y="19"/>
                    <a:pt x="59" y="19"/>
                    <a:pt x="61" y="19"/>
                  </a:cubicBezTo>
                  <a:cubicBezTo>
                    <a:pt x="67" y="16"/>
                    <a:pt x="67" y="16"/>
                    <a:pt x="67" y="16"/>
                  </a:cubicBezTo>
                  <a:cubicBezTo>
                    <a:pt x="68" y="17"/>
                    <a:pt x="70" y="19"/>
                    <a:pt x="71" y="21"/>
                  </a:cubicBezTo>
                  <a:cubicBezTo>
                    <a:pt x="68" y="27"/>
                    <a:pt x="68" y="27"/>
                    <a:pt x="68" y="27"/>
                  </a:cubicBezTo>
                  <a:cubicBezTo>
                    <a:pt x="68" y="28"/>
                    <a:pt x="68" y="29"/>
                    <a:pt x="69" y="30"/>
                  </a:cubicBezTo>
                  <a:cubicBezTo>
                    <a:pt x="70" y="32"/>
                    <a:pt x="70" y="34"/>
                    <a:pt x="71" y="36"/>
                  </a:cubicBezTo>
                  <a:cubicBezTo>
                    <a:pt x="71" y="37"/>
                    <a:pt x="72" y="38"/>
                    <a:pt x="73" y="38"/>
                  </a:cubicBezTo>
                  <a:cubicBezTo>
                    <a:pt x="80" y="40"/>
                    <a:pt x="80" y="40"/>
                    <a:pt x="80" y="40"/>
                  </a:cubicBezTo>
                  <a:cubicBezTo>
                    <a:pt x="80" y="42"/>
                    <a:pt x="80" y="43"/>
                    <a:pt x="80" y="44"/>
                  </a:cubicBezTo>
                  <a:cubicBezTo>
                    <a:pt x="80" y="45"/>
                    <a:pt x="80" y="46"/>
                    <a:pt x="80"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4" name="Freeform 32"/>
            <p:cNvSpPr/>
            <p:nvPr/>
          </p:nvSpPr>
          <p:spPr>
            <a:xfrm>
              <a:off x="7021440" y="3977280"/>
              <a:ext cx="230760" cy="188640"/>
            </a:xfrm>
            <a:custGeom>
              <a:avLst/>
              <a:gdLst/>
              <a:ahLst/>
              <a:rect l="l" t="t" r="r" b="b"/>
              <a:pathLst>
                <a:path w="35" h="35">
                  <a:moveTo>
                    <a:pt x="17" y="0"/>
                  </a:moveTo>
                  <a:cubicBezTo>
                    <a:pt x="8" y="0"/>
                    <a:pt x="0" y="8"/>
                    <a:pt x="0" y="18"/>
                  </a:cubicBezTo>
                  <a:cubicBezTo>
                    <a:pt x="0" y="28"/>
                    <a:pt x="8" y="35"/>
                    <a:pt x="17" y="35"/>
                  </a:cubicBezTo>
                  <a:cubicBezTo>
                    <a:pt x="27" y="35"/>
                    <a:pt x="35" y="28"/>
                    <a:pt x="35" y="18"/>
                  </a:cubicBezTo>
                  <a:cubicBezTo>
                    <a:pt x="35" y="8"/>
                    <a:pt x="27" y="0"/>
                    <a:pt x="17" y="0"/>
                  </a:cubicBezTo>
                  <a:close/>
                  <a:moveTo>
                    <a:pt x="17" y="28"/>
                  </a:moveTo>
                  <a:cubicBezTo>
                    <a:pt x="12" y="28"/>
                    <a:pt x="8" y="23"/>
                    <a:pt x="8" y="18"/>
                  </a:cubicBezTo>
                  <a:cubicBezTo>
                    <a:pt x="8" y="12"/>
                    <a:pt x="12" y="8"/>
                    <a:pt x="17" y="8"/>
                  </a:cubicBezTo>
                  <a:cubicBezTo>
                    <a:pt x="23" y="8"/>
                    <a:pt x="27" y="12"/>
                    <a:pt x="27" y="18"/>
                  </a:cubicBezTo>
                  <a:cubicBezTo>
                    <a:pt x="27" y="23"/>
                    <a:pt x="23" y="28"/>
                    <a:pt x="17"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5" name="Group 33"/>
          <p:cNvGrpSpPr/>
          <p:nvPr/>
        </p:nvGrpSpPr>
        <p:grpSpPr>
          <a:xfrm>
            <a:off x="6465960" y="2664000"/>
            <a:ext cx="360000" cy="354600"/>
            <a:chOff x="6465960" y="2664000"/>
            <a:chExt cx="360000" cy="354600"/>
          </a:xfrm>
        </p:grpSpPr>
        <p:sp>
          <p:nvSpPr>
            <p:cNvPr id="1916" name="Freeform 34"/>
            <p:cNvSpPr/>
            <p:nvPr/>
          </p:nvSpPr>
          <p:spPr>
            <a:xfrm>
              <a:off x="6465960" y="2664000"/>
              <a:ext cx="360000" cy="253440"/>
            </a:xfrm>
            <a:custGeom>
              <a:avLst/>
              <a:gdLst/>
              <a:ahLst/>
              <a:rect l="l" t="t" r="r" b="b"/>
              <a:pathLst>
                <a:path w="87" h="63">
                  <a:moveTo>
                    <a:pt x="67" y="23"/>
                  </a:moveTo>
                  <a:cubicBezTo>
                    <a:pt x="65" y="23"/>
                    <a:pt x="64" y="24"/>
                    <a:pt x="63" y="24"/>
                  </a:cubicBezTo>
                  <a:cubicBezTo>
                    <a:pt x="63" y="23"/>
                    <a:pt x="63" y="23"/>
                    <a:pt x="63" y="22"/>
                  </a:cubicBezTo>
                  <a:cubicBezTo>
                    <a:pt x="63" y="10"/>
                    <a:pt x="53" y="0"/>
                    <a:pt x="41" y="0"/>
                  </a:cubicBezTo>
                  <a:cubicBezTo>
                    <a:pt x="31" y="0"/>
                    <a:pt x="22" y="8"/>
                    <a:pt x="20" y="18"/>
                  </a:cubicBezTo>
                  <a:cubicBezTo>
                    <a:pt x="18" y="18"/>
                    <a:pt x="16" y="18"/>
                    <a:pt x="14" y="19"/>
                  </a:cubicBezTo>
                  <a:cubicBezTo>
                    <a:pt x="14" y="19"/>
                    <a:pt x="14" y="19"/>
                    <a:pt x="14" y="19"/>
                  </a:cubicBezTo>
                  <a:cubicBezTo>
                    <a:pt x="9" y="21"/>
                    <a:pt x="5" y="26"/>
                    <a:pt x="5" y="32"/>
                  </a:cubicBezTo>
                  <a:cubicBezTo>
                    <a:pt x="5" y="34"/>
                    <a:pt x="6" y="36"/>
                    <a:pt x="6" y="38"/>
                  </a:cubicBezTo>
                  <a:cubicBezTo>
                    <a:pt x="3" y="41"/>
                    <a:pt x="0" y="45"/>
                    <a:pt x="0" y="50"/>
                  </a:cubicBezTo>
                  <a:cubicBezTo>
                    <a:pt x="0" y="57"/>
                    <a:pt x="6" y="63"/>
                    <a:pt x="14" y="63"/>
                  </a:cubicBezTo>
                  <a:cubicBezTo>
                    <a:pt x="28" y="63"/>
                    <a:pt x="28" y="63"/>
                    <a:pt x="28" y="63"/>
                  </a:cubicBezTo>
                  <a:cubicBezTo>
                    <a:pt x="30" y="63"/>
                    <a:pt x="32" y="62"/>
                    <a:pt x="32" y="60"/>
                  </a:cubicBezTo>
                  <a:cubicBezTo>
                    <a:pt x="32" y="58"/>
                    <a:pt x="30" y="56"/>
                    <a:pt x="28" y="56"/>
                  </a:cubicBezTo>
                  <a:cubicBezTo>
                    <a:pt x="14" y="56"/>
                    <a:pt x="14" y="56"/>
                    <a:pt x="14" y="56"/>
                  </a:cubicBezTo>
                  <a:cubicBezTo>
                    <a:pt x="10" y="56"/>
                    <a:pt x="8" y="53"/>
                    <a:pt x="8" y="50"/>
                  </a:cubicBezTo>
                  <a:cubicBezTo>
                    <a:pt x="8" y="47"/>
                    <a:pt x="10" y="44"/>
                    <a:pt x="13" y="43"/>
                  </a:cubicBezTo>
                  <a:cubicBezTo>
                    <a:pt x="15" y="43"/>
                    <a:pt x="16" y="42"/>
                    <a:pt x="16" y="41"/>
                  </a:cubicBezTo>
                  <a:cubicBezTo>
                    <a:pt x="17" y="39"/>
                    <a:pt x="16" y="38"/>
                    <a:pt x="15" y="37"/>
                  </a:cubicBezTo>
                  <a:cubicBezTo>
                    <a:pt x="13" y="36"/>
                    <a:pt x="13" y="34"/>
                    <a:pt x="13" y="32"/>
                  </a:cubicBezTo>
                  <a:cubicBezTo>
                    <a:pt x="13" y="29"/>
                    <a:pt x="14" y="27"/>
                    <a:pt x="17" y="26"/>
                  </a:cubicBezTo>
                  <a:cubicBezTo>
                    <a:pt x="17" y="26"/>
                    <a:pt x="17" y="26"/>
                    <a:pt x="17" y="26"/>
                  </a:cubicBezTo>
                  <a:cubicBezTo>
                    <a:pt x="18" y="25"/>
                    <a:pt x="20" y="26"/>
                    <a:pt x="22" y="27"/>
                  </a:cubicBezTo>
                  <a:cubicBezTo>
                    <a:pt x="23" y="27"/>
                    <a:pt x="25" y="27"/>
                    <a:pt x="26" y="26"/>
                  </a:cubicBezTo>
                  <a:cubicBezTo>
                    <a:pt x="27" y="26"/>
                    <a:pt x="28" y="24"/>
                    <a:pt x="28" y="23"/>
                  </a:cubicBezTo>
                  <a:cubicBezTo>
                    <a:pt x="27" y="23"/>
                    <a:pt x="27" y="22"/>
                    <a:pt x="27" y="22"/>
                  </a:cubicBezTo>
                  <a:cubicBezTo>
                    <a:pt x="27" y="22"/>
                    <a:pt x="27" y="22"/>
                    <a:pt x="27" y="22"/>
                  </a:cubicBezTo>
                  <a:cubicBezTo>
                    <a:pt x="27" y="14"/>
                    <a:pt x="34" y="8"/>
                    <a:pt x="41" y="8"/>
                  </a:cubicBezTo>
                  <a:cubicBezTo>
                    <a:pt x="49" y="8"/>
                    <a:pt x="55" y="14"/>
                    <a:pt x="55" y="22"/>
                  </a:cubicBezTo>
                  <a:cubicBezTo>
                    <a:pt x="55" y="24"/>
                    <a:pt x="55" y="27"/>
                    <a:pt x="53" y="29"/>
                  </a:cubicBezTo>
                  <a:cubicBezTo>
                    <a:pt x="52" y="31"/>
                    <a:pt x="53" y="33"/>
                    <a:pt x="54" y="34"/>
                  </a:cubicBezTo>
                  <a:cubicBezTo>
                    <a:pt x="55" y="35"/>
                    <a:pt x="57" y="35"/>
                    <a:pt x="59" y="34"/>
                  </a:cubicBezTo>
                  <a:cubicBezTo>
                    <a:pt x="60" y="33"/>
                    <a:pt x="63" y="31"/>
                    <a:pt x="67" y="31"/>
                  </a:cubicBezTo>
                  <a:cubicBezTo>
                    <a:pt x="74" y="31"/>
                    <a:pt x="79" y="37"/>
                    <a:pt x="79" y="43"/>
                  </a:cubicBezTo>
                  <a:cubicBezTo>
                    <a:pt x="79" y="50"/>
                    <a:pt x="74" y="56"/>
                    <a:pt x="67" y="56"/>
                  </a:cubicBezTo>
                  <a:cubicBezTo>
                    <a:pt x="59" y="56"/>
                    <a:pt x="59" y="56"/>
                    <a:pt x="59" y="56"/>
                  </a:cubicBezTo>
                  <a:cubicBezTo>
                    <a:pt x="56" y="56"/>
                    <a:pt x="55" y="58"/>
                    <a:pt x="55" y="60"/>
                  </a:cubicBezTo>
                  <a:cubicBezTo>
                    <a:pt x="55" y="62"/>
                    <a:pt x="56" y="63"/>
                    <a:pt x="59" y="63"/>
                  </a:cubicBezTo>
                  <a:cubicBezTo>
                    <a:pt x="67" y="63"/>
                    <a:pt x="67" y="63"/>
                    <a:pt x="67" y="63"/>
                  </a:cubicBezTo>
                  <a:cubicBezTo>
                    <a:pt x="78" y="63"/>
                    <a:pt x="87" y="54"/>
                    <a:pt x="87" y="43"/>
                  </a:cubicBezTo>
                  <a:cubicBezTo>
                    <a:pt x="87" y="32"/>
                    <a:pt x="78" y="23"/>
                    <a:pt x="67"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7" name="Freeform 35"/>
            <p:cNvSpPr/>
            <p:nvPr/>
          </p:nvSpPr>
          <p:spPr>
            <a:xfrm>
              <a:off x="6576480" y="2809440"/>
              <a:ext cx="136800" cy="209160"/>
            </a:xfrm>
            <a:custGeom>
              <a:avLst/>
              <a:gdLst/>
              <a:ahLst/>
              <a:rect l="l" t="t" r="r" b="b"/>
              <a:pathLst>
                <a:path w="33" h="52">
                  <a:moveTo>
                    <a:pt x="27" y="33"/>
                  </a:moveTo>
                  <a:cubicBezTo>
                    <a:pt x="20" y="39"/>
                    <a:pt x="20" y="39"/>
                    <a:pt x="20" y="39"/>
                  </a:cubicBezTo>
                  <a:cubicBezTo>
                    <a:pt x="20" y="3"/>
                    <a:pt x="20" y="3"/>
                    <a:pt x="20" y="3"/>
                  </a:cubicBezTo>
                  <a:cubicBezTo>
                    <a:pt x="20" y="1"/>
                    <a:pt x="19" y="0"/>
                    <a:pt x="16" y="0"/>
                  </a:cubicBezTo>
                  <a:cubicBezTo>
                    <a:pt x="14" y="0"/>
                    <a:pt x="13" y="1"/>
                    <a:pt x="13" y="3"/>
                  </a:cubicBezTo>
                  <a:cubicBezTo>
                    <a:pt x="13" y="39"/>
                    <a:pt x="13" y="39"/>
                    <a:pt x="13" y="39"/>
                  </a:cubicBezTo>
                  <a:cubicBezTo>
                    <a:pt x="6" y="33"/>
                    <a:pt x="6" y="33"/>
                    <a:pt x="6" y="33"/>
                  </a:cubicBezTo>
                  <a:cubicBezTo>
                    <a:pt x="5" y="32"/>
                    <a:pt x="2" y="32"/>
                    <a:pt x="1" y="33"/>
                  </a:cubicBezTo>
                  <a:cubicBezTo>
                    <a:pt x="0" y="34"/>
                    <a:pt x="0" y="37"/>
                    <a:pt x="1" y="38"/>
                  </a:cubicBezTo>
                  <a:cubicBezTo>
                    <a:pt x="14" y="51"/>
                    <a:pt x="14" y="51"/>
                    <a:pt x="14" y="51"/>
                  </a:cubicBezTo>
                  <a:cubicBezTo>
                    <a:pt x="15" y="52"/>
                    <a:pt x="15" y="52"/>
                    <a:pt x="16" y="52"/>
                  </a:cubicBezTo>
                  <a:cubicBezTo>
                    <a:pt x="17" y="52"/>
                    <a:pt x="18" y="52"/>
                    <a:pt x="19" y="51"/>
                  </a:cubicBezTo>
                  <a:cubicBezTo>
                    <a:pt x="32" y="38"/>
                    <a:pt x="32" y="38"/>
                    <a:pt x="32" y="38"/>
                  </a:cubicBezTo>
                  <a:cubicBezTo>
                    <a:pt x="33" y="37"/>
                    <a:pt x="33" y="34"/>
                    <a:pt x="32" y="33"/>
                  </a:cubicBezTo>
                  <a:cubicBezTo>
                    <a:pt x="30" y="32"/>
                    <a:pt x="28" y="32"/>
                    <a:pt x="27"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18" name="Freeform 36"/>
          <p:cNvSpPr/>
          <p:nvPr/>
        </p:nvSpPr>
        <p:spPr>
          <a:xfrm>
            <a:off x="5148360" y="3449520"/>
            <a:ext cx="357120" cy="247680"/>
          </a:xfrm>
          <a:custGeom>
            <a:avLst/>
            <a:gdLst/>
            <a:ahLst/>
            <a:rect l="l" t="t" r="r" b="b"/>
            <a:pathLst>
              <a:path w="88" h="61">
                <a:moveTo>
                  <a:pt x="84" y="7"/>
                </a:moveTo>
                <a:cubicBezTo>
                  <a:pt x="82" y="5"/>
                  <a:pt x="79" y="4"/>
                  <a:pt x="76" y="4"/>
                </a:cubicBezTo>
                <a:cubicBezTo>
                  <a:pt x="73" y="4"/>
                  <a:pt x="70" y="5"/>
                  <a:pt x="68" y="7"/>
                </a:cubicBezTo>
                <a:cubicBezTo>
                  <a:pt x="65" y="9"/>
                  <a:pt x="64" y="12"/>
                  <a:pt x="64" y="15"/>
                </a:cubicBezTo>
                <a:cubicBezTo>
                  <a:pt x="64" y="17"/>
                  <a:pt x="65" y="19"/>
                  <a:pt x="65" y="20"/>
                </a:cubicBezTo>
                <a:cubicBezTo>
                  <a:pt x="51" y="33"/>
                  <a:pt x="51" y="33"/>
                  <a:pt x="51" y="33"/>
                </a:cubicBezTo>
                <a:cubicBezTo>
                  <a:pt x="48" y="32"/>
                  <a:pt x="46" y="31"/>
                  <a:pt x="43" y="31"/>
                </a:cubicBezTo>
                <a:cubicBezTo>
                  <a:pt x="40" y="31"/>
                  <a:pt x="38" y="32"/>
                  <a:pt x="36" y="33"/>
                </a:cubicBezTo>
                <a:cubicBezTo>
                  <a:pt x="25" y="21"/>
                  <a:pt x="25" y="21"/>
                  <a:pt x="25" y="21"/>
                </a:cubicBezTo>
                <a:cubicBezTo>
                  <a:pt x="28" y="15"/>
                  <a:pt x="28" y="8"/>
                  <a:pt x="23" y="4"/>
                </a:cubicBezTo>
                <a:cubicBezTo>
                  <a:pt x="21" y="1"/>
                  <a:pt x="17" y="0"/>
                  <a:pt x="14" y="0"/>
                </a:cubicBezTo>
                <a:cubicBezTo>
                  <a:pt x="10" y="0"/>
                  <a:pt x="6" y="1"/>
                  <a:pt x="4" y="4"/>
                </a:cubicBezTo>
                <a:cubicBezTo>
                  <a:pt x="1" y="7"/>
                  <a:pt x="0" y="10"/>
                  <a:pt x="0" y="14"/>
                </a:cubicBezTo>
                <a:cubicBezTo>
                  <a:pt x="0" y="17"/>
                  <a:pt x="1" y="21"/>
                  <a:pt x="4" y="23"/>
                </a:cubicBezTo>
                <a:cubicBezTo>
                  <a:pt x="6" y="26"/>
                  <a:pt x="10" y="27"/>
                  <a:pt x="14" y="27"/>
                </a:cubicBezTo>
                <a:cubicBezTo>
                  <a:pt x="16" y="27"/>
                  <a:pt x="18" y="27"/>
                  <a:pt x="20" y="26"/>
                </a:cubicBezTo>
                <a:cubicBezTo>
                  <a:pt x="30" y="38"/>
                  <a:pt x="30" y="38"/>
                  <a:pt x="30" y="38"/>
                </a:cubicBezTo>
                <a:cubicBezTo>
                  <a:pt x="27" y="44"/>
                  <a:pt x="28" y="51"/>
                  <a:pt x="33" y="56"/>
                </a:cubicBezTo>
                <a:cubicBezTo>
                  <a:pt x="35" y="59"/>
                  <a:pt x="39" y="61"/>
                  <a:pt x="43" y="61"/>
                </a:cubicBezTo>
                <a:cubicBezTo>
                  <a:pt x="47" y="61"/>
                  <a:pt x="51" y="59"/>
                  <a:pt x="54" y="56"/>
                </a:cubicBezTo>
                <a:cubicBezTo>
                  <a:pt x="58" y="51"/>
                  <a:pt x="59" y="44"/>
                  <a:pt x="56" y="38"/>
                </a:cubicBezTo>
                <a:cubicBezTo>
                  <a:pt x="71" y="26"/>
                  <a:pt x="71" y="26"/>
                  <a:pt x="71" y="26"/>
                </a:cubicBezTo>
                <a:cubicBezTo>
                  <a:pt x="72" y="27"/>
                  <a:pt x="74" y="27"/>
                  <a:pt x="76" y="27"/>
                </a:cubicBezTo>
                <a:cubicBezTo>
                  <a:pt x="79" y="27"/>
                  <a:pt x="82" y="26"/>
                  <a:pt x="84" y="24"/>
                </a:cubicBezTo>
                <a:cubicBezTo>
                  <a:pt x="87" y="21"/>
                  <a:pt x="88" y="18"/>
                  <a:pt x="88" y="15"/>
                </a:cubicBezTo>
                <a:cubicBezTo>
                  <a:pt x="88" y="12"/>
                  <a:pt x="87" y="9"/>
                  <a:pt x="84" y="7"/>
                </a:cubicBezTo>
                <a:close/>
                <a:moveTo>
                  <a:pt x="9" y="18"/>
                </a:moveTo>
                <a:cubicBezTo>
                  <a:pt x="8" y="17"/>
                  <a:pt x="7" y="15"/>
                  <a:pt x="7" y="14"/>
                </a:cubicBezTo>
                <a:cubicBezTo>
                  <a:pt x="7" y="12"/>
                  <a:pt x="8" y="11"/>
                  <a:pt x="9" y="9"/>
                </a:cubicBezTo>
                <a:cubicBezTo>
                  <a:pt x="10" y="8"/>
                  <a:pt x="12" y="8"/>
                  <a:pt x="14" y="8"/>
                </a:cubicBezTo>
                <a:cubicBezTo>
                  <a:pt x="15" y="8"/>
                  <a:pt x="17" y="8"/>
                  <a:pt x="18" y="9"/>
                </a:cubicBezTo>
                <a:cubicBezTo>
                  <a:pt x="20" y="12"/>
                  <a:pt x="20" y="16"/>
                  <a:pt x="18" y="18"/>
                </a:cubicBezTo>
                <a:cubicBezTo>
                  <a:pt x="16" y="20"/>
                  <a:pt x="12" y="20"/>
                  <a:pt x="9" y="18"/>
                </a:cubicBezTo>
                <a:close/>
                <a:moveTo>
                  <a:pt x="79" y="18"/>
                </a:moveTo>
                <a:cubicBezTo>
                  <a:pt x="77" y="20"/>
                  <a:pt x="75" y="20"/>
                  <a:pt x="73" y="18"/>
                </a:cubicBezTo>
                <a:cubicBezTo>
                  <a:pt x="72" y="18"/>
                  <a:pt x="72" y="16"/>
                  <a:pt x="72" y="15"/>
                </a:cubicBezTo>
                <a:cubicBezTo>
                  <a:pt x="72" y="14"/>
                  <a:pt x="72" y="13"/>
                  <a:pt x="73" y="12"/>
                </a:cubicBezTo>
                <a:cubicBezTo>
                  <a:pt x="74" y="12"/>
                  <a:pt x="75" y="11"/>
                  <a:pt x="76" y="11"/>
                </a:cubicBezTo>
                <a:cubicBezTo>
                  <a:pt x="77" y="11"/>
                  <a:pt x="78" y="12"/>
                  <a:pt x="79" y="12"/>
                </a:cubicBezTo>
                <a:cubicBezTo>
                  <a:pt x="80" y="13"/>
                  <a:pt x="80" y="14"/>
                  <a:pt x="80" y="15"/>
                </a:cubicBezTo>
                <a:cubicBezTo>
                  <a:pt x="80" y="16"/>
                  <a:pt x="80" y="18"/>
                  <a:pt x="79" y="18"/>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9" name="Freeform 42"/>
          <p:cNvSpPr/>
          <p:nvPr/>
        </p:nvSpPr>
        <p:spPr>
          <a:xfrm flipV="1">
            <a:off x="7321680" y="3042360"/>
            <a:ext cx="1095120" cy="909720"/>
          </a:xfrm>
          <a:custGeom>
            <a:avLst/>
            <a:gdLst/>
            <a:ahLst/>
            <a:rect l="l" t="t" r="r" b="b"/>
            <a:pathLst>
              <a:path w="729" h="487">
                <a:moveTo>
                  <a:pt x="159" y="0"/>
                </a:moveTo>
                <a:lnTo>
                  <a:pt x="0" y="0"/>
                </a:lnTo>
                <a:lnTo>
                  <a:pt x="0" y="487"/>
                </a:lnTo>
                <a:lnTo>
                  <a:pt x="729" y="487"/>
                </a:lnTo>
              </a:path>
            </a:pathLst>
          </a:custGeom>
          <a:noFill/>
          <a:ln w="6480">
            <a:solidFill>
              <a:srgbClr val="f4ebf4"/>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0" name="Rectangle 48"/>
          <p:cNvSpPr/>
          <p:nvPr/>
        </p:nvSpPr>
        <p:spPr>
          <a:xfrm>
            <a:off x="334800" y="2403360"/>
            <a:ext cx="4537080" cy="73188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1</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编制审计差异汇总表和试算平衡表</a:t>
            </a:r>
            <a:endParaRPr b="1"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21" name="组合 28"/>
          <p:cNvGrpSpPr/>
          <p:nvPr/>
        </p:nvGrpSpPr>
        <p:grpSpPr>
          <a:xfrm>
            <a:off x="927000" y="284040"/>
            <a:ext cx="10360080" cy="524160"/>
            <a:chOff x="927000" y="284040"/>
            <a:chExt cx="10360080" cy="524160"/>
          </a:xfrm>
        </p:grpSpPr>
        <p:sp>
          <p:nvSpPr>
            <p:cNvPr id="1922" name="直接连接符 52"/>
            <p:cNvSpPr/>
            <p:nvPr/>
          </p:nvSpPr>
          <p:spPr>
            <a:xfrm>
              <a:off x="927000" y="5464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3" name="直接连接符 2"/>
            <p:cNvSpPr/>
            <p:nvPr/>
          </p:nvSpPr>
          <p:spPr>
            <a:xfrm>
              <a:off x="9307800" y="5464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24" name="文本框 31" descr=""/>
            <p:cNvPicPr/>
            <p:nvPr/>
          </p:nvPicPr>
          <p:blipFill>
            <a:blip r:embed="rId1"/>
            <a:stretch/>
          </p:blipFill>
          <p:spPr>
            <a:xfrm>
              <a:off x="2487600" y="284040"/>
              <a:ext cx="7560360" cy="524160"/>
            </a:xfrm>
            <a:prstGeom prst="rect">
              <a:avLst/>
            </a:prstGeom>
            <a:ln w="0">
              <a:noFill/>
            </a:ln>
          </p:spPr>
        </p:pic>
      </p:grpSp>
      <p:sp>
        <p:nvSpPr>
          <p:cNvPr id="1925" name="矩形 41"/>
          <p:cNvSpPr/>
          <p:nvPr/>
        </p:nvSpPr>
        <p:spPr>
          <a:xfrm>
            <a:off x="4349880" y="792000"/>
            <a:ext cx="3074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 </a:t>
            </a: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cxnSp>
        <p:nvCxnSpPr>
          <p:cNvPr id="1926" name="连接符: 肘形 6"/>
          <p:cNvCxnSpPr/>
          <p:nvPr/>
        </p:nvCxnSpPr>
        <p:spPr>
          <a:xfrm>
            <a:off x="8504640" y="1144080"/>
            <a:ext cx="50040" cy="73800"/>
          </a:xfrm>
          <a:prstGeom prst="straightConnector1">
            <a:avLst/>
          </a:prstGeom>
          <a:ln w="6480">
            <a:solidFill>
              <a:srgbClr val="5b9bd4"/>
            </a:solidFill>
            <a:miter/>
          </a:ln>
        </p:spPr>
      </p:cxnSp>
      <p:cxnSp>
        <p:nvCxnSpPr>
          <p:cNvPr id="1927" name="连接符: 肘形 10"/>
          <p:cNvCxnSpPr/>
          <p:nvPr/>
        </p:nvCxnSpPr>
        <p:spPr>
          <a:xfrm>
            <a:off x="4134960" y="4770360"/>
            <a:ext cx="1096200" cy="435600"/>
          </a:xfrm>
          <a:prstGeom prst="straightConnector1">
            <a:avLst/>
          </a:prstGeom>
          <a:ln w="6480">
            <a:solidFill>
              <a:srgbClr val="5b9bd4"/>
            </a:solidFill>
            <a:miter/>
          </a:ln>
        </p:spPr>
      </p:cxnSp>
      <p:cxnSp>
        <p:nvCxnSpPr>
          <p:cNvPr id="1928" name="连接符: 肘形 12"/>
          <p:cNvCxnSpPr/>
          <p:nvPr/>
        </p:nvCxnSpPr>
        <p:spPr>
          <a:xfrm>
            <a:off x="3595680" y="5856120"/>
            <a:ext cx="1024560" cy="254880"/>
          </a:xfrm>
          <a:prstGeom prst="straightConnector1">
            <a:avLst/>
          </a:prstGeom>
          <a:ln w="6480">
            <a:solidFill>
              <a:srgbClr val="5b9bd4"/>
            </a:solidFill>
            <a:miter/>
          </a:ln>
        </p:spPr>
      </p:cxnSp>
      <p:cxnSp>
        <p:nvCxnSpPr>
          <p:cNvPr id="1929" name="连接符: 肘形 14"/>
          <p:cNvCxnSpPr/>
          <p:nvPr/>
        </p:nvCxnSpPr>
        <p:spPr>
          <a:xfrm flipH="1" flipV="1">
            <a:off x="3303000" y="3337920"/>
            <a:ext cx="826200" cy="562680"/>
          </a:xfrm>
          <a:prstGeom prst="straightConnector1">
            <a:avLst/>
          </a:prstGeom>
          <a:ln w="6480">
            <a:solidFill>
              <a:srgbClr val="5b9bd4"/>
            </a:solidFill>
            <a:miter/>
          </a:ln>
        </p:spPr>
      </p:cxnSp>
      <p:cxnSp>
        <p:nvCxnSpPr>
          <p:cNvPr id="1930" name="连接符: 肘形 16"/>
          <p:cNvCxnSpPr/>
          <p:nvPr/>
        </p:nvCxnSpPr>
        <p:spPr>
          <a:xfrm flipV="1">
            <a:off x="8187840" y="5422320"/>
            <a:ext cx="731160" cy="291240"/>
          </a:xfrm>
          <a:prstGeom prst="straightConnector1">
            <a:avLst/>
          </a:prstGeom>
          <a:ln w="6480">
            <a:solidFill>
              <a:srgbClr val="5b9bd4"/>
            </a:solidFill>
            <a:miter/>
          </a:ln>
        </p:spPr>
      </p:cxnSp>
      <p:cxnSp>
        <p:nvCxnSpPr>
          <p:cNvPr id="1931" name="连接符: 肘形 20"/>
          <p:cNvCxnSpPr/>
          <p:nvPr/>
        </p:nvCxnSpPr>
        <p:spPr>
          <a:xfrm flipV="1">
            <a:off x="8758800" y="4833360"/>
            <a:ext cx="29160" cy="37080"/>
          </a:xfrm>
          <a:prstGeom prst="straightConnector1">
            <a:avLst/>
          </a:prstGeom>
          <a:ln w="6480">
            <a:solidFill>
              <a:srgbClr val="5b9bd4"/>
            </a:solidFill>
            <a:miter/>
          </a:ln>
        </p:spPr>
      </p:cxnSp>
      <p:cxnSp>
        <p:nvCxnSpPr>
          <p:cNvPr id="1932" name="连接符: 肘形 22"/>
          <p:cNvCxnSpPr/>
          <p:nvPr/>
        </p:nvCxnSpPr>
        <p:spPr>
          <a:xfrm flipV="1">
            <a:off x="7354800" y="3104640"/>
            <a:ext cx="1069200" cy="551520"/>
          </a:xfrm>
          <a:prstGeom prst="straightConnector1">
            <a:avLst/>
          </a:prstGeom>
          <a:ln w="6480">
            <a:solidFill>
              <a:srgbClr val="5b9bd4"/>
            </a:solidFill>
            <a:miter/>
          </a:ln>
        </p:spPr>
      </p:cxnSp>
      <p:cxnSp>
        <p:nvCxnSpPr>
          <p:cNvPr id="1933" name="连接符: 肘形 72"/>
          <p:cNvCxnSpPr/>
          <p:nvPr/>
        </p:nvCxnSpPr>
        <p:spPr>
          <a:xfrm flipH="1" flipV="1">
            <a:off x="4733280" y="2542680"/>
            <a:ext cx="662760" cy="511920"/>
          </a:xfrm>
          <a:prstGeom prst="straightConnector1">
            <a:avLst/>
          </a:prstGeom>
          <a:ln w="6480">
            <a:solidFill>
              <a:srgbClr val="5b9bd4"/>
            </a:solidFill>
            <a:miter/>
          </a:ln>
        </p:spPr>
      </p:cxnSp>
      <p:sp>
        <p:nvSpPr>
          <p:cNvPr id="1934" name="矩形 47"/>
          <p:cNvSpPr/>
          <p:nvPr/>
        </p:nvSpPr>
        <p:spPr>
          <a:xfrm>
            <a:off x="479520" y="1459080"/>
            <a:ext cx="54910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 </a:t>
            </a:r>
            <a:r>
              <a:rPr b="1" lang="zh-CN" sz="2800" spc="-1" strike="noStrike">
                <a:solidFill>
                  <a:srgbClr val="2f75b4"/>
                </a:solidFill>
                <a:latin typeface="微软雅黑"/>
                <a:ea typeface="微软雅黑"/>
              </a:rPr>
              <a:t>审计报告阶段的主要工作包括：</a:t>
            </a:r>
            <a:endParaRPr b="1" lang="en-US" sz="2800" spc="-1" strike="noStrike">
              <a:solidFill>
                <a:srgbClr val="000000"/>
              </a:solidFill>
              <a:latin typeface="Arial"/>
            </a:endParaRPr>
          </a:p>
        </p:txBody>
      </p:sp>
      <p:sp>
        <p:nvSpPr>
          <p:cNvPr id="1935" name="Rectangle 47"/>
          <p:cNvSpPr/>
          <p:nvPr/>
        </p:nvSpPr>
        <p:spPr>
          <a:xfrm flipV="1" rot="10800000">
            <a:off x="460440" y="3240720"/>
            <a:ext cx="31701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zh-CN" sz="2000" spc="-1" strike="noStrike">
                <a:solidFill>
                  <a:srgbClr val="595959"/>
                </a:solidFill>
                <a:latin typeface="思源黑体"/>
                <a:ea typeface="思源黑体"/>
              </a:rPr>
              <a:t>2</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取得管理层声明书</a:t>
            </a:r>
            <a:endParaRPr b="1" lang="en-US" sz="2000" spc="-1" strike="noStrike">
              <a:solidFill>
                <a:srgbClr val="000000"/>
              </a:solidFill>
              <a:latin typeface="Arial"/>
            </a:endParaRPr>
          </a:p>
        </p:txBody>
      </p:sp>
      <p:sp>
        <p:nvSpPr>
          <p:cNvPr id="1936" name="Rectangle 47"/>
          <p:cNvSpPr/>
          <p:nvPr/>
        </p:nvSpPr>
        <p:spPr>
          <a:xfrm flipV="1" rot="10800000">
            <a:off x="262080" y="4460040"/>
            <a:ext cx="3549600" cy="1224720"/>
          </a:xfrm>
          <a:prstGeom prst="rect">
            <a:avLst/>
          </a:prstGeom>
          <a:noFill/>
          <a:ln w="0">
            <a:noFill/>
          </a:ln>
        </p:spPr>
        <p:style>
          <a:lnRef idx="0"/>
          <a:fillRef idx="0"/>
          <a:effectRef idx="0"/>
          <a:fontRef idx="minor"/>
        </p:style>
        <p:txBody>
          <a:bodyPr lIns="0" rIns="0" tIns="0" bIns="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3</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整理和分析审计工作底稿，撰写审计工作总结</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cxnSp>
        <p:nvCxnSpPr>
          <p:cNvPr id="1937" name="连接符: 肘形 91"/>
          <p:cNvCxnSpPr/>
          <p:nvPr/>
        </p:nvCxnSpPr>
        <p:spPr>
          <a:xfrm flipH="1">
            <a:off x="6976440" y="2206800"/>
            <a:ext cx="849960" cy="352800"/>
          </a:xfrm>
          <a:prstGeom prst="straightConnector1">
            <a:avLst/>
          </a:prstGeom>
          <a:ln w="6480">
            <a:solidFill>
              <a:srgbClr val="5b9bd4"/>
            </a:solidFill>
            <a:miter/>
          </a:ln>
        </p:spPr>
      </p:cxnSp>
      <p:sp>
        <p:nvSpPr>
          <p:cNvPr id="1938" name="Rectangle 47"/>
          <p:cNvSpPr/>
          <p:nvPr/>
        </p:nvSpPr>
        <p:spPr>
          <a:xfrm>
            <a:off x="262080" y="5692680"/>
            <a:ext cx="3441600" cy="7318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4</a:t>
            </a:r>
            <a:r>
              <a:rPr b="0"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完成项目质量控制复核</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9" name="Freeform 8"/>
          <p:cNvSpPr/>
          <p:nvPr/>
        </p:nvSpPr>
        <p:spPr>
          <a:xfrm>
            <a:off x="7035840" y="4856040"/>
            <a:ext cx="1279440" cy="1173240"/>
          </a:xfrm>
          <a:prstGeom prst="ellipse">
            <a:avLst/>
          </a:prstGeom>
          <a:solidFill>
            <a:srgbClr val="2ea6eb"/>
          </a:solidFill>
          <a:ln w="0">
            <a:noFill/>
          </a:ln>
          <a:effectLst>
            <a:outerShdw dist="19044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0" name="Group 33"/>
          <p:cNvGrpSpPr/>
          <p:nvPr/>
        </p:nvGrpSpPr>
        <p:grpSpPr>
          <a:xfrm>
            <a:off x="7527960" y="5256360"/>
            <a:ext cx="360000" cy="354600"/>
            <a:chOff x="7527960" y="5256360"/>
            <a:chExt cx="360000" cy="354600"/>
          </a:xfrm>
        </p:grpSpPr>
        <p:sp>
          <p:nvSpPr>
            <p:cNvPr id="1941" name="Freeform 34"/>
            <p:cNvSpPr/>
            <p:nvPr/>
          </p:nvSpPr>
          <p:spPr>
            <a:xfrm>
              <a:off x="7527960" y="5256360"/>
              <a:ext cx="360000" cy="253440"/>
            </a:xfrm>
            <a:custGeom>
              <a:avLst/>
              <a:gdLst/>
              <a:ahLst/>
              <a:rect l="l" t="t" r="r" b="b"/>
              <a:pathLst>
                <a:path w="87" h="63">
                  <a:moveTo>
                    <a:pt x="67" y="23"/>
                  </a:moveTo>
                  <a:cubicBezTo>
                    <a:pt x="65" y="23"/>
                    <a:pt x="64" y="24"/>
                    <a:pt x="63" y="24"/>
                  </a:cubicBezTo>
                  <a:cubicBezTo>
                    <a:pt x="63" y="23"/>
                    <a:pt x="63" y="23"/>
                    <a:pt x="63" y="22"/>
                  </a:cubicBezTo>
                  <a:cubicBezTo>
                    <a:pt x="63" y="10"/>
                    <a:pt x="53" y="0"/>
                    <a:pt x="41" y="0"/>
                  </a:cubicBezTo>
                  <a:cubicBezTo>
                    <a:pt x="31" y="0"/>
                    <a:pt x="22" y="8"/>
                    <a:pt x="20" y="18"/>
                  </a:cubicBezTo>
                  <a:cubicBezTo>
                    <a:pt x="18" y="18"/>
                    <a:pt x="16" y="18"/>
                    <a:pt x="14" y="19"/>
                  </a:cubicBezTo>
                  <a:cubicBezTo>
                    <a:pt x="14" y="19"/>
                    <a:pt x="14" y="19"/>
                    <a:pt x="14" y="19"/>
                  </a:cubicBezTo>
                  <a:cubicBezTo>
                    <a:pt x="9" y="21"/>
                    <a:pt x="5" y="26"/>
                    <a:pt x="5" y="32"/>
                  </a:cubicBezTo>
                  <a:cubicBezTo>
                    <a:pt x="5" y="34"/>
                    <a:pt x="6" y="36"/>
                    <a:pt x="6" y="38"/>
                  </a:cubicBezTo>
                  <a:cubicBezTo>
                    <a:pt x="3" y="41"/>
                    <a:pt x="0" y="45"/>
                    <a:pt x="0" y="50"/>
                  </a:cubicBezTo>
                  <a:cubicBezTo>
                    <a:pt x="0" y="57"/>
                    <a:pt x="6" y="63"/>
                    <a:pt x="14" y="63"/>
                  </a:cubicBezTo>
                  <a:cubicBezTo>
                    <a:pt x="28" y="63"/>
                    <a:pt x="28" y="63"/>
                    <a:pt x="28" y="63"/>
                  </a:cubicBezTo>
                  <a:cubicBezTo>
                    <a:pt x="30" y="63"/>
                    <a:pt x="32" y="62"/>
                    <a:pt x="32" y="60"/>
                  </a:cubicBezTo>
                  <a:cubicBezTo>
                    <a:pt x="32" y="58"/>
                    <a:pt x="30" y="56"/>
                    <a:pt x="28" y="56"/>
                  </a:cubicBezTo>
                  <a:cubicBezTo>
                    <a:pt x="14" y="56"/>
                    <a:pt x="14" y="56"/>
                    <a:pt x="14" y="56"/>
                  </a:cubicBezTo>
                  <a:cubicBezTo>
                    <a:pt x="10" y="56"/>
                    <a:pt x="8" y="53"/>
                    <a:pt x="8" y="50"/>
                  </a:cubicBezTo>
                  <a:cubicBezTo>
                    <a:pt x="8" y="47"/>
                    <a:pt x="10" y="44"/>
                    <a:pt x="13" y="43"/>
                  </a:cubicBezTo>
                  <a:cubicBezTo>
                    <a:pt x="15" y="43"/>
                    <a:pt x="16" y="42"/>
                    <a:pt x="16" y="41"/>
                  </a:cubicBezTo>
                  <a:cubicBezTo>
                    <a:pt x="17" y="39"/>
                    <a:pt x="16" y="38"/>
                    <a:pt x="15" y="37"/>
                  </a:cubicBezTo>
                  <a:cubicBezTo>
                    <a:pt x="13" y="36"/>
                    <a:pt x="13" y="34"/>
                    <a:pt x="13" y="32"/>
                  </a:cubicBezTo>
                  <a:cubicBezTo>
                    <a:pt x="13" y="29"/>
                    <a:pt x="14" y="27"/>
                    <a:pt x="17" y="26"/>
                  </a:cubicBezTo>
                  <a:cubicBezTo>
                    <a:pt x="17" y="26"/>
                    <a:pt x="17" y="26"/>
                    <a:pt x="17" y="26"/>
                  </a:cubicBezTo>
                  <a:cubicBezTo>
                    <a:pt x="18" y="25"/>
                    <a:pt x="20" y="26"/>
                    <a:pt x="22" y="27"/>
                  </a:cubicBezTo>
                  <a:cubicBezTo>
                    <a:pt x="23" y="27"/>
                    <a:pt x="25" y="27"/>
                    <a:pt x="26" y="26"/>
                  </a:cubicBezTo>
                  <a:cubicBezTo>
                    <a:pt x="27" y="26"/>
                    <a:pt x="28" y="24"/>
                    <a:pt x="28" y="23"/>
                  </a:cubicBezTo>
                  <a:cubicBezTo>
                    <a:pt x="27" y="23"/>
                    <a:pt x="27" y="22"/>
                    <a:pt x="27" y="22"/>
                  </a:cubicBezTo>
                  <a:cubicBezTo>
                    <a:pt x="27" y="22"/>
                    <a:pt x="27" y="22"/>
                    <a:pt x="27" y="22"/>
                  </a:cubicBezTo>
                  <a:cubicBezTo>
                    <a:pt x="27" y="14"/>
                    <a:pt x="34" y="8"/>
                    <a:pt x="41" y="8"/>
                  </a:cubicBezTo>
                  <a:cubicBezTo>
                    <a:pt x="49" y="8"/>
                    <a:pt x="55" y="14"/>
                    <a:pt x="55" y="22"/>
                  </a:cubicBezTo>
                  <a:cubicBezTo>
                    <a:pt x="55" y="24"/>
                    <a:pt x="55" y="27"/>
                    <a:pt x="53" y="29"/>
                  </a:cubicBezTo>
                  <a:cubicBezTo>
                    <a:pt x="52" y="31"/>
                    <a:pt x="53" y="33"/>
                    <a:pt x="54" y="34"/>
                  </a:cubicBezTo>
                  <a:cubicBezTo>
                    <a:pt x="55" y="35"/>
                    <a:pt x="57" y="35"/>
                    <a:pt x="59" y="34"/>
                  </a:cubicBezTo>
                  <a:cubicBezTo>
                    <a:pt x="60" y="33"/>
                    <a:pt x="63" y="31"/>
                    <a:pt x="67" y="31"/>
                  </a:cubicBezTo>
                  <a:cubicBezTo>
                    <a:pt x="74" y="31"/>
                    <a:pt x="79" y="37"/>
                    <a:pt x="79" y="43"/>
                  </a:cubicBezTo>
                  <a:cubicBezTo>
                    <a:pt x="79" y="50"/>
                    <a:pt x="74" y="56"/>
                    <a:pt x="67" y="56"/>
                  </a:cubicBezTo>
                  <a:cubicBezTo>
                    <a:pt x="59" y="56"/>
                    <a:pt x="59" y="56"/>
                    <a:pt x="59" y="56"/>
                  </a:cubicBezTo>
                  <a:cubicBezTo>
                    <a:pt x="56" y="56"/>
                    <a:pt x="55" y="58"/>
                    <a:pt x="55" y="60"/>
                  </a:cubicBezTo>
                  <a:cubicBezTo>
                    <a:pt x="55" y="62"/>
                    <a:pt x="56" y="63"/>
                    <a:pt x="59" y="63"/>
                  </a:cubicBezTo>
                  <a:cubicBezTo>
                    <a:pt x="67" y="63"/>
                    <a:pt x="67" y="63"/>
                    <a:pt x="67" y="63"/>
                  </a:cubicBezTo>
                  <a:cubicBezTo>
                    <a:pt x="78" y="63"/>
                    <a:pt x="87" y="54"/>
                    <a:pt x="87" y="43"/>
                  </a:cubicBezTo>
                  <a:cubicBezTo>
                    <a:pt x="87" y="32"/>
                    <a:pt x="78" y="23"/>
                    <a:pt x="67"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2" name="Freeform 35"/>
            <p:cNvSpPr/>
            <p:nvPr/>
          </p:nvSpPr>
          <p:spPr>
            <a:xfrm>
              <a:off x="7638480" y="5401800"/>
              <a:ext cx="136800" cy="209160"/>
            </a:xfrm>
            <a:custGeom>
              <a:avLst/>
              <a:gdLst/>
              <a:ahLst/>
              <a:rect l="l" t="t" r="r" b="b"/>
              <a:pathLst>
                <a:path w="33" h="52">
                  <a:moveTo>
                    <a:pt x="27" y="33"/>
                  </a:moveTo>
                  <a:cubicBezTo>
                    <a:pt x="20" y="39"/>
                    <a:pt x="20" y="39"/>
                    <a:pt x="20" y="39"/>
                  </a:cubicBezTo>
                  <a:cubicBezTo>
                    <a:pt x="20" y="3"/>
                    <a:pt x="20" y="3"/>
                    <a:pt x="20" y="3"/>
                  </a:cubicBezTo>
                  <a:cubicBezTo>
                    <a:pt x="20" y="1"/>
                    <a:pt x="19" y="0"/>
                    <a:pt x="16" y="0"/>
                  </a:cubicBezTo>
                  <a:cubicBezTo>
                    <a:pt x="14" y="0"/>
                    <a:pt x="13" y="1"/>
                    <a:pt x="13" y="3"/>
                  </a:cubicBezTo>
                  <a:cubicBezTo>
                    <a:pt x="13" y="39"/>
                    <a:pt x="13" y="39"/>
                    <a:pt x="13" y="39"/>
                  </a:cubicBezTo>
                  <a:cubicBezTo>
                    <a:pt x="6" y="33"/>
                    <a:pt x="6" y="33"/>
                    <a:pt x="6" y="33"/>
                  </a:cubicBezTo>
                  <a:cubicBezTo>
                    <a:pt x="5" y="32"/>
                    <a:pt x="2" y="32"/>
                    <a:pt x="1" y="33"/>
                  </a:cubicBezTo>
                  <a:cubicBezTo>
                    <a:pt x="0" y="34"/>
                    <a:pt x="0" y="37"/>
                    <a:pt x="1" y="38"/>
                  </a:cubicBezTo>
                  <a:cubicBezTo>
                    <a:pt x="14" y="51"/>
                    <a:pt x="14" y="51"/>
                    <a:pt x="14" y="51"/>
                  </a:cubicBezTo>
                  <a:cubicBezTo>
                    <a:pt x="15" y="52"/>
                    <a:pt x="15" y="52"/>
                    <a:pt x="16" y="52"/>
                  </a:cubicBezTo>
                  <a:cubicBezTo>
                    <a:pt x="17" y="52"/>
                    <a:pt x="18" y="52"/>
                    <a:pt x="19" y="51"/>
                  </a:cubicBezTo>
                  <a:cubicBezTo>
                    <a:pt x="32" y="38"/>
                    <a:pt x="32" y="38"/>
                    <a:pt x="32" y="38"/>
                  </a:cubicBezTo>
                  <a:cubicBezTo>
                    <a:pt x="33" y="37"/>
                    <a:pt x="33" y="34"/>
                    <a:pt x="32" y="33"/>
                  </a:cubicBezTo>
                  <a:cubicBezTo>
                    <a:pt x="30" y="32"/>
                    <a:pt x="28" y="32"/>
                    <a:pt x="27"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43" name="Rectangle 47"/>
          <p:cNvSpPr/>
          <p:nvPr/>
        </p:nvSpPr>
        <p:spPr>
          <a:xfrm flipV="1" rot="10800000">
            <a:off x="7775640" y="2017080"/>
            <a:ext cx="3295440" cy="858960"/>
          </a:xfrm>
          <a:prstGeom prst="rect">
            <a:avLst/>
          </a:prstGeom>
          <a:noFill/>
          <a:ln w="0">
            <a:noFill/>
          </a:ln>
        </p:spPr>
        <p:style>
          <a:lnRef idx="0"/>
          <a:fillRef idx="0"/>
          <a:effectRef idx="0"/>
          <a:fontRef idx="minor"/>
        </p:style>
        <p:txBody>
          <a:bodyPr lIns="0" rIns="0" tIns="0" bIns="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5</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评价审计结果</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4" name="Rectangle 47"/>
          <p:cNvSpPr/>
          <p:nvPr/>
        </p:nvSpPr>
        <p:spPr>
          <a:xfrm flipH="1" flipV="1" rot="10800000">
            <a:off x="8373960" y="2907720"/>
            <a:ext cx="3283200" cy="858960"/>
          </a:xfrm>
          <a:prstGeom prst="rect">
            <a:avLst/>
          </a:prstGeom>
          <a:noFill/>
          <a:ln w="0">
            <a:noFill/>
          </a:ln>
        </p:spPr>
        <p:style>
          <a:lnRef idx="0"/>
          <a:fillRef idx="0"/>
          <a:effectRef idx="0"/>
          <a:fontRef idx="minor"/>
        </p:style>
        <p:txBody>
          <a:bodyPr lIns="0" rIns="0" tIns="0" bIns="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6</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就审计结果、需调整事项、审计报告意见类型等有关事项与被 审计单位管理层、治理层进行沟通</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5" name="Rectangle 47"/>
          <p:cNvSpPr/>
          <p:nvPr/>
        </p:nvSpPr>
        <p:spPr>
          <a:xfrm flipH="1" flipV="1" rot="10800000">
            <a:off x="8806320" y="5252040"/>
            <a:ext cx="328284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思源黑体"/>
                <a:ea typeface="思源黑体"/>
              </a:rPr>
              <a:t>（</a:t>
            </a:r>
            <a:r>
              <a:rPr b="1" lang="en-US" sz="2000" spc="-1" strike="noStrike">
                <a:solidFill>
                  <a:srgbClr val="595959"/>
                </a:solidFill>
                <a:latin typeface="思源黑体"/>
                <a:ea typeface="思源黑体"/>
              </a:rPr>
              <a:t>7</a:t>
            </a:r>
            <a:r>
              <a:rPr b="1" lang="zh-CN" sz="2000" spc="-1" strike="noStrike">
                <a:solidFill>
                  <a:srgbClr val="595959"/>
                </a:solidFill>
                <a:latin typeface="思源黑体"/>
                <a:ea typeface="思源黑体"/>
              </a:rPr>
              <a:t>）</a:t>
            </a:r>
            <a:r>
              <a:rPr b="0" lang="zh-CN" sz="2000" spc="-1" strike="noStrike">
                <a:solidFill>
                  <a:srgbClr val="262626"/>
                </a:solidFill>
                <a:latin typeface="Arial"/>
                <a:ea typeface="微软雅黑"/>
              </a:rPr>
              <a:t>编制与出具审计报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6" name="组合 112"/>
          <p:cNvGrpSpPr/>
          <p:nvPr/>
        </p:nvGrpSpPr>
        <p:grpSpPr>
          <a:xfrm>
            <a:off x="2173320" y="1325520"/>
            <a:ext cx="10115280" cy="5848200"/>
            <a:chOff x="2173320" y="1325520"/>
            <a:chExt cx="10115280" cy="5848200"/>
          </a:xfrm>
        </p:grpSpPr>
        <p:sp>
          <p:nvSpPr>
            <p:cNvPr id="1947" name="圆角矩形 113"/>
            <p:cNvSpPr/>
            <p:nvPr/>
          </p:nvSpPr>
          <p:spPr>
            <a:xfrm>
              <a:off x="2312640" y="1630800"/>
              <a:ext cx="9826560" cy="523908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8" name="组合 114"/>
            <p:cNvGrpSpPr/>
            <p:nvPr/>
          </p:nvGrpSpPr>
          <p:grpSpPr>
            <a:xfrm>
              <a:off x="2173320" y="1325520"/>
              <a:ext cx="577800" cy="587520"/>
              <a:chOff x="2173320" y="1325520"/>
              <a:chExt cx="577800" cy="587520"/>
            </a:xfrm>
          </p:grpSpPr>
          <p:sp>
            <p:nvSpPr>
              <p:cNvPr id="1949" name="菱形 115"/>
              <p:cNvSpPr/>
              <p:nvPr/>
            </p:nvSpPr>
            <p:spPr>
              <a:xfrm>
                <a:off x="2173320" y="1325520"/>
                <a:ext cx="336240" cy="587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0" name="菱形 116"/>
              <p:cNvSpPr/>
              <p:nvPr/>
            </p:nvSpPr>
            <p:spPr>
              <a:xfrm>
                <a:off x="2414880" y="1325520"/>
                <a:ext cx="336240" cy="587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1" name="组合 117"/>
            <p:cNvGrpSpPr/>
            <p:nvPr/>
          </p:nvGrpSpPr>
          <p:grpSpPr>
            <a:xfrm>
              <a:off x="2180160" y="6558840"/>
              <a:ext cx="569880" cy="614880"/>
              <a:chOff x="2180160" y="6558840"/>
              <a:chExt cx="569880" cy="614880"/>
            </a:xfrm>
          </p:grpSpPr>
          <p:sp>
            <p:nvSpPr>
              <p:cNvPr id="1952" name="菱形 118"/>
              <p:cNvSpPr/>
              <p:nvPr/>
            </p:nvSpPr>
            <p:spPr>
              <a:xfrm>
                <a:off x="2180160" y="6585120"/>
                <a:ext cx="336240" cy="58860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3" name="菱形 119"/>
              <p:cNvSpPr/>
              <p:nvPr/>
            </p:nvSpPr>
            <p:spPr>
              <a:xfrm>
                <a:off x="2413800" y="6558840"/>
                <a:ext cx="336240" cy="58860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4" name="组合 120"/>
            <p:cNvGrpSpPr/>
            <p:nvPr/>
          </p:nvGrpSpPr>
          <p:grpSpPr>
            <a:xfrm>
              <a:off x="11700000" y="6561720"/>
              <a:ext cx="588600" cy="587160"/>
              <a:chOff x="11700000" y="6561720"/>
              <a:chExt cx="588600" cy="587160"/>
            </a:xfrm>
          </p:grpSpPr>
          <p:sp>
            <p:nvSpPr>
              <p:cNvPr id="1955" name="菱形 121"/>
              <p:cNvSpPr/>
              <p:nvPr/>
            </p:nvSpPr>
            <p:spPr>
              <a:xfrm flipH="1">
                <a:off x="11940840" y="6561720"/>
                <a:ext cx="347760" cy="587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6" name="菱形 122"/>
              <p:cNvSpPr/>
              <p:nvPr/>
            </p:nvSpPr>
            <p:spPr>
              <a:xfrm flipH="1">
                <a:off x="11699640" y="6561720"/>
                <a:ext cx="348840" cy="587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7" name="组合 123"/>
            <p:cNvGrpSpPr/>
            <p:nvPr/>
          </p:nvGrpSpPr>
          <p:grpSpPr>
            <a:xfrm>
              <a:off x="11710800" y="1356120"/>
              <a:ext cx="577800" cy="587520"/>
              <a:chOff x="11710800" y="1356120"/>
              <a:chExt cx="577800" cy="587520"/>
            </a:xfrm>
          </p:grpSpPr>
          <p:sp>
            <p:nvSpPr>
              <p:cNvPr id="1958" name="菱形 124"/>
              <p:cNvSpPr/>
              <p:nvPr/>
            </p:nvSpPr>
            <p:spPr>
              <a:xfrm flipH="1">
                <a:off x="11952360" y="1356120"/>
                <a:ext cx="336240" cy="587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9" name="菱形 125"/>
              <p:cNvSpPr/>
              <p:nvPr/>
            </p:nvSpPr>
            <p:spPr>
              <a:xfrm flipH="1">
                <a:off x="11710800" y="1356120"/>
                <a:ext cx="336240" cy="587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960" name="Title 6"/>
          <p:cNvSpPr/>
          <p:nvPr/>
        </p:nvSpPr>
        <p:spPr>
          <a:xfrm>
            <a:off x="2266920" y="1523880"/>
            <a:ext cx="9755280" cy="2188080"/>
          </a:xfrm>
          <a:prstGeom prst="rect">
            <a:avLst/>
          </a:prstGeom>
          <a:noFill/>
          <a:ln w="0">
            <a:noFill/>
          </a:ln>
        </p:spPr>
        <p:style>
          <a:lnRef idx="0"/>
          <a:fillRef idx="0"/>
          <a:effectRef idx="0"/>
          <a:fontRef idx="minor"/>
        </p:style>
        <p:txBody>
          <a:bodyPr lIns="72000" rIns="72000" tIns="36360" bIns="3636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审计人员在审计过程中发现的被审计单位的会计处理方法与有关会计准则的不一致即为审计差异，其按是否需要调整账户记录可分为核算误差和重分类误差。 </a:t>
            </a:r>
            <a:endParaRPr b="1" lang="en-US" sz="20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核算误差是因企业对经济业务进行了不正确的会计核算而引起的误差，根据审计 重要性原则，这些核算误差可分为建议调整的不符事项和不建议调整的不符事项 （未调整不符事项）。</a:t>
            </a:r>
            <a:endParaRPr b="1" lang="en-US" sz="20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重分类误差是因企业未按有关会计准则、会计制度规定编制 会计报表而引起的误差，重分类误差不管金额大小都要调整。 </a:t>
            </a:r>
            <a:endParaRPr b="1" lang="en-US" sz="20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对审计中发现的核算误差，如何运用审计重要性原则来划分建议调整的不符 事项与未调整不符事项，是正确编制审计差异调整表的关键。审计重要性原则具 有数量和质量两个方面的特征。因此，注册会计师在划分建议调整不符事项和未 调整不符事项时，应当考虑核算误差的金额和性质两个因素。</a:t>
            </a:r>
            <a:endParaRPr b="1" lang="en-US" sz="2000" spc="-1" strike="noStrike">
              <a:solidFill>
                <a:srgbClr val="000000"/>
              </a:solidFill>
              <a:latin typeface="Arial"/>
            </a:endParaRPr>
          </a:p>
        </p:txBody>
      </p:sp>
      <p:grpSp>
        <p:nvGrpSpPr>
          <p:cNvPr id="1961" name="组合 28"/>
          <p:cNvGrpSpPr/>
          <p:nvPr/>
        </p:nvGrpSpPr>
        <p:grpSpPr>
          <a:xfrm>
            <a:off x="927000" y="341280"/>
            <a:ext cx="10360080" cy="523800"/>
            <a:chOff x="927000" y="341280"/>
            <a:chExt cx="10360080" cy="523800"/>
          </a:xfrm>
        </p:grpSpPr>
        <p:sp>
          <p:nvSpPr>
            <p:cNvPr id="1962" name="直接连接符 52"/>
            <p:cNvSpPr/>
            <p:nvPr/>
          </p:nvSpPr>
          <p:spPr>
            <a:xfrm>
              <a:off x="927000" y="603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3" name="直接连接符 64"/>
            <p:cNvSpPr/>
            <p:nvPr/>
          </p:nvSpPr>
          <p:spPr>
            <a:xfrm>
              <a:off x="9307800" y="603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64" name="文本框 31" descr=""/>
            <p:cNvPicPr/>
            <p:nvPr/>
          </p:nvPicPr>
          <p:blipFill>
            <a:blip r:embed="rId1"/>
            <a:stretch/>
          </p:blipFill>
          <p:spPr>
            <a:xfrm>
              <a:off x="2487600" y="341280"/>
              <a:ext cx="7560360" cy="523800"/>
            </a:xfrm>
            <a:prstGeom prst="rect">
              <a:avLst/>
            </a:prstGeom>
            <a:ln w="0">
              <a:noFill/>
            </a:ln>
          </p:spPr>
        </p:pic>
      </p:grpSp>
      <p:sp>
        <p:nvSpPr>
          <p:cNvPr id="1965" name="文本框 2"/>
          <p:cNvSpPr/>
          <p:nvPr/>
        </p:nvSpPr>
        <p:spPr>
          <a:xfrm>
            <a:off x="2763720" y="907920"/>
            <a:ext cx="736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一、编制审计差异汇总表和试算平衡表 </a:t>
            </a:r>
            <a:endParaRPr b="1" lang="en-US" sz="3200" spc="-1" strike="noStrike">
              <a:solidFill>
                <a:srgbClr val="000000"/>
              </a:solidFill>
              <a:latin typeface="Arial"/>
            </a:endParaRPr>
          </a:p>
        </p:txBody>
      </p:sp>
      <p:grpSp>
        <p:nvGrpSpPr>
          <p:cNvPr id="1966" name="组合 1"/>
          <p:cNvGrpSpPr/>
          <p:nvPr/>
        </p:nvGrpSpPr>
        <p:grpSpPr>
          <a:xfrm>
            <a:off x="-223200" y="2276640"/>
            <a:ext cx="2472480" cy="3466800"/>
            <a:chOff x="-223200" y="2276640"/>
            <a:chExt cx="2472480" cy="3466800"/>
          </a:xfrm>
        </p:grpSpPr>
        <p:sp>
          <p:nvSpPr>
            <p:cNvPr id="1967" name="任意多边形 21"/>
            <p:cNvSpPr/>
            <p:nvPr/>
          </p:nvSpPr>
          <p:spPr>
            <a:xfrm>
              <a:off x="480240" y="2680200"/>
              <a:ext cx="1736280" cy="3063240"/>
            </a:xfrm>
            <a:custGeom>
              <a:avLst/>
              <a:gdLst/>
              <a:ahLst/>
              <a:rect l="l" t="t" r="r" b="b"/>
              <a:pathLst>
                <a:path w="424" h="536">
                  <a:moveTo>
                    <a:pt x="9" y="0"/>
                  </a:moveTo>
                  <a:cubicBezTo>
                    <a:pt x="3" y="6"/>
                    <a:pt x="0" y="15"/>
                    <a:pt x="0" y="25"/>
                  </a:cubicBezTo>
                  <a:cubicBezTo>
                    <a:pt x="0" y="497"/>
                    <a:pt x="0" y="497"/>
                    <a:pt x="0" y="497"/>
                  </a:cubicBezTo>
                  <a:cubicBezTo>
                    <a:pt x="0" y="519"/>
                    <a:pt x="18" y="536"/>
                    <a:pt x="39" y="536"/>
                  </a:cubicBezTo>
                  <a:cubicBezTo>
                    <a:pt x="391" y="536"/>
                    <a:pt x="391" y="536"/>
                    <a:pt x="391" y="536"/>
                  </a:cubicBezTo>
                  <a:cubicBezTo>
                    <a:pt x="405" y="536"/>
                    <a:pt x="416" y="530"/>
                    <a:pt x="424" y="519"/>
                  </a:cubicBezTo>
                  <a:cubicBezTo>
                    <a:pt x="416" y="528"/>
                    <a:pt x="405" y="534"/>
                    <a:pt x="393" y="534"/>
                  </a:cubicBezTo>
                  <a:cubicBezTo>
                    <a:pt x="42" y="534"/>
                    <a:pt x="42" y="534"/>
                    <a:pt x="42" y="534"/>
                  </a:cubicBezTo>
                  <a:cubicBezTo>
                    <a:pt x="20" y="534"/>
                    <a:pt x="2" y="516"/>
                    <a:pt x="2" y="494"/>
                  </a:cubicBezTo>
                  <a:cubicBezTo>
                    <a:pt x="2" y="22"/>
                    <a:pt x="2" y="22"/>
                    <a:pt x="2" y="22"/>
                  </a:cubicBezTo>
                  <a:cubicBezTo>
                    <a:pt x="2" y="14"/>
                    <a:pt x="5" y="6"/>
                    <a:pt x="9" y="0"/>
                  </a:cubicBezTo>
                </a:path>
              </a:pathLst>
            </a:custGeom>
            <a:solidFill>
              <a:srgbClr val="93959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8" name="任意多边形 22"/>
            <p:cNvSpPr/>
            <p:nvPr/>
          </p:nvSpPr>
          <p:spPr>
            <a:xfrm>
              <a:off x="488520" y="2584440"/>
              <a:ext cx="1760760" cy="3147840"/>
            </a:xfrm>
            <a:custGeom>
              <a:avLst/>
              <a:gdLst/>
              <a:ahLst/>
              <a:rect l="l" t="t" r="r" b="b"/>
              <a:pathLst>
                <a:path w="430" h="551">
                  <a:moveTo>
                    <a:pt x="430" y="511"/>
                  </a:moveTo>
                  <a:cubicBezTo>
                    <a:pt x="430" y="533"/>
                    <a:pt x="413" y="551"/>
                    <a:pt x="391" y="551"/>
                  </a:cubicBezTo>
                  <a:cubicBezTo>
                    <a:pt x="40" y="551"/>
                    <a:pt x="40" y="551"/>
                    <a:pt x="40" y="551"/>
                  </a:cubicBezTo>
                  <a:cubicBezTo>
                    <a:pt x="18" y="551"/>
                    <a:pt x="0" y="533"/>
                    <a:pt x="0" y="511"/>
                  </a:cubicBezTo>
                  <a:cubicBezTo>
                    <a:pt x="0" y="39"/>
                    <a:pt x="0" y="39"/>
                    <a:pt x="0" y="39"/>
                  </a:cubicBezTo>
                  <a:cubicBezTo>
                    <a:pt x="0" y="17"/>
                    <a:pt x="18" y="0"/>
                    <a:pt x="40" y="0"/>
                  </a:cubicBezTo>
                  <a:cubicBezTo>
                    <a:pt x="391" y="0"/>
                    <a:pt x="391" y="0"/>
                    <a:pt x="391" y="0"/>
                  </a:cubicBezTo>
                  <a:cubicBezTo>
                    <a:pt x="413" y="0"/>
                    <a:pt x="430" y="17"/>
                    <a:pt x="430" y="39"/>
                  </a:cubicBezTo>
                  <a:cubicBezTo>
                    <a:pt x="430" y="511"/>
                    <a:pt x="430" y="511"/>
                    <a:pt x="430" y="511"/>
                  </a:cubicBezTo>
                </a:path>
              </a:pathLst>
            </a:custGeom>
            <a:solidFill>
              <a:srgbClr val="d9dde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9" name="任意多边形 23"/>
            <p:cNvSpPr/>
            <p:nvPr/>
          </p:nvSpPr>
          <p:spPr>
            <a:xfrm>
              <a:off x="570600" y="2766240"/>
              <a:ext cx="1588680" cy="2828160"/>
            </a:xfrm>
            <a:custGeom>
              <a:avLst/>
              <a:gdLst/>
              <a:ahLst/>
              <a:rect l="l" t="t" r="r" b="b"/>
              <a:pathLst>
                <a:path w="1549" h="1974">
                  <a:moveTo>
                    <a:pt x="1549" y="0"/>
                  </a:moveTo>
                  <a:lnTo>
                    <a:pt x="1541" y="0"/>
                  </a:lnTo>
                  <a:lnTo>
                    <a:pt x="1541" y="1962"/>
                  </a:lnTo>
                  <a:lnTo>
                    <a:pt x="355" y="1962"/>
                  </a:lnTo>
                  <a:lnTo>
                    <a:pt x="0" y="1619"/>
                  </a:lnTo>
                  <a:lnTo>
                    <a:pt x="363" y="1974"/>
                  </a:lnTo>
                  <a:lnTo>
                    <a:pt x="1549" y="1974"/>
                  </a:lnTo>
                  <a:lnTo>
                    <a:pt x="1549"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0" name="任意多边形 24"/>
            <p:cNvSpPr/>
            <p:nvPr/>
          </p:nvSpPr>
          <p:spPr>
            <a:xfrm>
              <a:off x="558360" y="2754720"/>
              <a:ext cx="1593000" cy="2822400"/>
            </a:xfrm>
            <a:custGeom>
              <a:avLst/>
              <a:gdLst/>
              <a:ahLst/>
              <a:rect l="l" t="t" r="r" b="b"/>
              <a:pathLst>
                <a:path w="1553" h="1970">
                  <a:moveTo>
                    <a:pt x="367" y="1970"/>
                  </a:moveTo>
                  <a:lnTo>
                    <a:pt x="1553" y="1970"/>
                  </a:lnTo>
                  <a:lnTo>
                    <a:pt x="1553" y="0"/>
                  </a:lnTo>
                  <a:lnTo>
                    <a:pt x="0" y="0"/>
                  </a:lnTo>
                  <a:lnTo>
                    <a:pt x="0" y="1619"/>
                  </a:lnTo>
                  <a:lnTo>
                    <a:pt x="367" y="19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1" name="任意多边形 25"/>
            <p:cNvSpPr/>
            <p:nvPr/>
          </p:nvSpPr>
          <p:spPr>
            <a:xfrm>
              <a:off x="637920" y="2865960"/>
              <a:ext cx="1593000" cy="2822400"/>
            </a:xfrm>
            <a:custGeom>
              <a:avLst/>
              <a:gdLst/>
              <a:ahLst/>
              <a:rect l="l" t="t" r="r" b="b"/>
              <a:pathLst>
                <a:path w="1553" h="1970">
                  <a:moveTo>
                    <a:pt x="367" y="1970"/>
                  </a:moveTo>
                  <a:lnTo>
                    <a:pt x="1553" y="1970"/>
                  </a:lnTo>
                  <a:lnTo>
                    <a:pt x="1553" y="0"/>
                  </a:lnTo>
                  <a:lnTo>
                    <a:pt x="0" y="0"/>
                  </a:lnTo>
                  <a:lnTo>
                    <a:pt x="0" y="1619"/>
                  </a:lnTo>
                  <a:lnTo>
                    <a:pt x="367" y="197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2" name="矩形 68"/>
            <p:cNvSpPr/>
            <p:nvPr/>
          </p:nvSpPr>
          <p:spPr>
            <a:xfrm>
              <a:off x="1406520" y="5206320"/>
              <a:ext cx="560880" cy="97200"/>
            </a:xfrm>
            <a:prstGeom prst="rect">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3" name="矩形 69"/>
            <p:cNvSpPr/>
            <p:nvPr/>
          </p:nvSpPr>
          <p:spPr>
            <a:xfrm>
              <a:off x="750960" y="345852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4" name="矩形 70"/>
            <p:cNvSpPr/>
            <p:nvPr/>
          </p:nvSpPr>
          <p:spPr>
            <a:xfrm>
              <a:off x="750960" y="363420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5" name="矩形 71"/>
            <p:cNvSpPr/>
            <p:nvPr/>
          </p:nvSpPr>
          <p:spPr>
            <a:xfrm>
              <a:off x="750960" y="381780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6" name="矩形 72"/>
            <p:cNvSpPr/>
            <p:nvPr/>
          </p:nvSpPr>
          <p:spPr>
            <a:xfrm>
              <a:off x="750960" y="399564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7" name="矩形 13"/>
            <p:cNvSpPr/>
            <p:nvPr/>
          </p:nvSpPr>
          <p:spPr>
            <a:xfrm>
              <a:off x="750960" y="417744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8" name="矩形 14"/>
            <p:cNvSpPr/>
            <p:nvPr/>
          </p:nvSpPr>
          <p:spPr>
            <a:xfrm>
              <a:off x="750960" y="436104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9" name="矩形 16"/>
            <p:cNvSpPr/>
            <p:nvPr/>
          </p:nvSpPr>
          <p:spPr>
            <a:xfrm>
              <a:off x="750960" y="4537440"/>
              <a:ext cx="1216080" cy="51480"/>
            </a:xfrm>
            <a:prstGeom prst="rect">
              <a:avLst/>
            </a:prstGeom>
            <a:solidFill>
              <a:srgbClr val="b3bac8"/>
            </a:solidFill>
            <a:ln w="0">
              <a:noFill/>
            </a:ln>
          </p:spPr>
          <p:style>
            <a:lnRef idx="0"/>
            <a:fillRef idx="0"/>
            <a:effectRef idx="0"/>
            <a:fontRef idx="minor"/>
          </p:style>
          <p:txBody>
            <a:bodyPr lIns="90000" rIns="90000" tIns="4680" bIns="4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0" name="矩形 19"/>
            <p:cNvSpPr/>
            <p:nvPr/>
          </p:nvSpPr>
          <p:spPr>
            <a:xfrm>
              <a:off x="750960" y="472104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1" name="矩形 20"/>
            <p:cNvSpPr/>
            <p:nvPr/>
          </p:nvSpPr>
          <p:spPr>
            <a:xfrm>
              <a:off x="750960" y="4903920"/>
              <a:ext cx="1216080" cy="45360"/>
            </a:xfrm>
            <a:prstGeom prst="rect">
              <a:avLst/>
            </a:prstGeom>
            <a:solidFill>
              <a:srgbClr val="b3bac8"/>
            </a:solidFill>
            <a:ln w="0">
              <a:noFill/>
            </a:ln>
          </p:spPr>
          <p:style>
            <a:lnRef idx="0"/>
            <a:fillRef idx="0"/>
            <a:effectRef idx="0"/>
            <a:fontRef idx="minor"/>
          </p:style>
          <p:txBody>
            <a:bodyPr lIns="90000" rIns="90000" tIns="-1440" bIns="-14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2" name="矩形 22"/>
            <p:cNvSpPr/>
            <p:nvPr/>
          </p:nvSpPr>
          <p:spPr>
            <a:xfrm>
              <a:off x="942840" y="3081600"/>
              <a:ext cx="856440" cy="96120"/>
            </a:xfrm>
            <a:prstGeom prst="rect">
              <a:avLst/>
            </a:prstGeom>
            <a:solidFill>
              <a:srgbClr val="b3bac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3" name="任意多边形 37"/>
            <p:cNvSpPr/>
            <p:nvPr/>
          </p:nvSpPr>
          <p:spPr>
            <a:xfrm>
              <a:off x="558360" y="5074560"/>
              <a:ext cx="384480" cy="502560"/>
            </a:xfrm>
            <a:custGeom>
              <a:avLst/>
              <a:gdLst/>
              <a:ahLst/>
              <a:rect l="l" t="t" r="r" b="b"/>
              <a:pathLst>
                <a:path w="375" h="351">
                  <a:moveTo>
                    <a:pt x="375" y="0"/>
                  </a:moveTo>
                  <a:lnTo>
                    <a:pt x="0" y="0"/>
                  </a:lnTo>
                  <a:lnTo>
                    <a:pt x="367" y="351"/>
                  </a:lnTo>
                  <a:lnTo>
                    <a:pt x="375" y="0"/>
                  </a:lnTo>
                  <a:close/>
                </a:path>
              </a:pathLst>
            </a:custGeom>
            <a:solidFill>
              <a:srgbClr val="bcbc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4" name="任意多边形 38"/>
            <p:cNvSpPr/>
            <p:nvPr/>
          </p:nvSpPr>
          <p:spPr>
            <a:xfrm>
              <a:off x="637920" y="5185800"/>
              <a:ext cx="384480" cy="502560"/>
            </a:xfrm>
            <a:custGeom>
              <a:avLst/>
              <a:gdLst/>
              <a:ahLst/>
              <a:rect l="l" t="t" r="r" b="b"/>
              <a:pathLst>
                <a:path w="375" h="351">
                  <a:moveTo>
                    <a:pt x="375" y="0"/>
                  </a:moveTo>
                  <a:lnTo>
                    <a:pt x="0" y="0"/>
                  </a:lnTo>
                  <a:lnTo>
                    <a:pt x="367" y="351"/>
                  </a:lnTo>
                  <a:lnTo>
                    <a:pt x="375"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5" name="任意多边形 39"/>
            <p:cNvSpPr/>
            <p:nvPr/>
          </p:nvSpPr>
          <p:spPr>
            <a:xfrm>
              <a:off x="558360" y="5074560"/>
              <a:ext cx="376200" cy="502560"/>
            </a:xfrm>
            <a:custGeom>
              <a:avLst/>
              <a:gdLst/>
              <a:ahLst/>
              <a:rect l="l" t="t" r="r" b="b"/>
              <a:pathLst>
                <a:path w="367" h="351">
                  <a:moveTo>
                    <a:pt x="351" y="20"/>
                  </a:moveTo>
                  <a:lnTo>
                    <a:pt x="0" y="0"/>
                  </a:lnTo>
                  <a:lnTo>
                    <a:pt x="367" y="351"/>
                  </a:lnTo>
                  <a:lnTo>
                    <a:pt x="351" y="20"/>
                  </a:lnTo>
                  <a:close/>
                </a:path>
              </a:pathLst>
            </a:custGeom>
            <a:solidFill>
              <a:srgbClr val="b3bac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6" name="矩形 26"/>
            <p:cNvSpPr/>
            <p:nvPr/>
          </p:nvSpPr>
          <p:spPr>
            <a:xfrm>
              <a:off x="1053720" y="2503800"/>
              <a:ext cx="610200" cy="262080"/>
            </a:xfrm>
            <a:prstGeom prst="rect">
              <a:avLst/>
            </a:prstGeom>
            <a:solidFill>
              <a:srgbClr val="4d576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7" name="任意多边形 19"/>
            <p:cNvSpPr/>
            <p:nvPr/>
          </p:nvSpPr>
          <p:spPr>
            <a:xfrm>
              <a:off x="1044000" y="2276640"/>
              <a:ext cx="620640" cy="469080"/>
            </a:xfrm>
            <a:custGeom>
              <a:avLst/>
              <a:gdLst/>
              <a:ahLst/>
              <a:rect l="l" t="t" r="r" b="b"/>
              <a:pathLst>
                <a:path w="167" h="88">
                  <a:moveTo>
                    <a:pt x="115" y="42"/>
                  </a:moveTo>
                  <a:cubicBezTo>
                    <a:pt x="116" y="39"/>
                    <a:pt x="117" y="36"/>
                    <a:pt x="117" y="33"/>
                  </a:cubicBezTo>
                  <a:cubicBezTo>
                    <a:pt x="117" y="15"/>
                    <a:pt x="102" y="0"/>
                    <a:pt x="83" y="0"/>
                  </a:cubicBezTo>
                  <a:cubicBezTo>
                    <a:pt x="65" y="0"/>
                    <a:pt x="50" y="15"/>
                    <a:pt x="50" y="33"/>
                  </a:cubicBezTo>
                  <a:cubicBezTo>
                    <a:pt x="50" y="36"/>
                    <a:pt x="51" y="39"/>
                    <a:pt x="51" y="42"/>
                  </a:cubicBezTo>
                  <a:cubicBezTo>
                    <a:pt x="0" y="42"/>
                    <a:pt x="0" y="42"/>
                    <a:pt x="0" y="42"/>
                  </a:cubicBezTo>
                  <a:cubicBezTo>
                    <a:pt x="0" y="88"/>
                    <a:pt x="0" y="88"/>
                    <a:pt x="0" y="88"/>
                  </a:cubicBezTo>
                  <a:cubicBezTo>
                    <a:pt x="167" y="88"/>
                    <a:pt x="167" y="88"/>
                    <a:pt x="167" y="88"/>
                  </a:cubicBezTo>
                  <a:cubicBezTo>
                    <a:pt x="167" y="42"/>
                    <a:pt x="167" y="42"/>
                    <a:pt x="167" y="42"/>
                  </a:cubicBezTo>
                  <a:lnTo>
                    <a:pt x="115" y="42"/>
                  </a:lnTo>
                  <a:close/>
                </a:path>
              </a:pathLst>
            </a:custGeom>
            <a:solidFill>
              <a:srgbClr val="8d98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8" name="椭圆 31"/>
            <p:cNvSpPr/>
            <p:nvPr/>
          </p:nvSpPr>
          <p:spPr>
            <a:xfrm>
              <a:off x="1281960" y="2350800"/>
              <a:ext cx="149400" cy="208800"/>
            </a:xfrm>
            <a:prstGeom prst="ellipse">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9" name="任意多边形 13"/>
            <p:cNvSpPr/>
            <p:nvPr/>
          </p:nvSpPr>
          <p:spPr>
            <a:xfrm rot="1080600">
              <a:off x="989640" y="3863880"/>
              <a:ext cx="356400" cy="305640"/>
            </a:xfrm>
            <a:custGeom>
              <a:avLst/>
              <a:gdLst/>
              <a:ahLst/>
              <a:rect l="l" t="t" r="r" b="b"/>
              <a:pathLst>
                <a:path w="117" h="71">
                  <a:moveTo>
                    <a:pt x="6" y="29"/>
                  </a:moveTo>
                  <a:cubicBezTo>
                    <a:pt x="0" y="58"/>
                    <a:pt x="0" y="58"/>
                    <a:pt x="0" y="58"/>
                  </a:cubicBezTo>
                  <a:cubicBezTo>
                    <a:pt x="63" y="71"/>
                    <a:pt x="63" y="71"/>
                    <a:pt x="63" y="71"/>
                  </a:cubicBezTo>
                  <a:cubicBezTo>
                    <a:pt x="76" y="58"/>
                    <a:pt x="95" y="51"/>
                    <a:pt x="115" y="55"/>
                  </a:cubicBezTo>
                  <a:cubicBezTo>
                    <a:pt x="115" y="55"/>
                    <a:pt x="115" y="55"/>
                    <a:pt x="115" y="55"/>
                  </a:cubicBezTo>
                  <a:cubicBezTo>
                    <a:pt x="115" y="53"/>
                    <a:pt x="115" y="53"/>
                    <a:pt x="115" y="53"/>
                  </a:cubicBezTo>
                  <a:cubicBezTo>
                    <a:pt x="68" y="43"/>
                    <a:pt x="68" y="43"/>
                    <a:pt x="68" y="43"/>
                  </a:cubicBezTo>
                  <a:cubicBezTo>
                    <a:pt x="67" y="45"/>
                    <a:pt x="64" y="47"/>
                    <a:pt x="62" y="46"/>
                  </a:cubicBezTo>
                  <a:cubicBezTo>
                    <a:pt x="59" y="45"/>
                    <a:pt x="57" y="42"/>
                    <a:pt x="57" y="39"/>
                  </a:cubicBezTo>
                  <a:cubicBezTo>
                    <a:pt x="58" y="36"/>
                    <a:pt x="61" y="34"/>
                    <a:pt x="64" y="35"/>
                  </a:cubicBezTo>
                  <a:cubicBezTo>
                    <a:pt x="67" y="36"/>
                    <a:pt x="68" y="38"/>
                    <a:pt x="68" y="40"/>
                  </a:cubicBezTo>
                  <a:cubicBezTo>
                    <a:pt x="116" y="50"/>
                    <a:pt x="116" y="50"/>
                    <a:pt x="116" y="50"/>
                  </a:cubicBezTo>
                  <a:cubicBezTo>
                    <a:pt x="117" y="48"/>
                    <a:pt x="117" y="48"/>
                    <a:pt x="117" y="48"/>
                  </a:cubicBezTo>
                  <a:cubicBezTo>
                    <a:pt x="117" y="48"/>
                    <a:pt x="117" y="48"/>
                    <a:pt x="117" y="48"/>
                  </a:cubicBezTo>
                  <a:cubicBezTo>
                    <a:pt x="97" y="44"/>
                    <a:pt x="82" y="30"/>
                    <a:pt x="75" y="13"/>
                  </a:cubicBezTo>
                  <a:cubicBezTo>
                    <a:pt x="12" y="0"/>
                    <a:pt x="12" y="0"/>
                    <a:pt x="12" y="0"/>
                  </a:cubicBezTo>
                  <a:lnTo>
                    <a:pt x="6" y="29"/>
                  </a:lnTo>
                  <a:close/>
                </a:path>
              </a:pathLst>
            </a:custGeom>
            <a:solidFill>
              <a:srgbClr val="63b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0" name="任意多边形 14"/>
            <p:cNvSpPr/>
            <p:nvPr/>
          </p:nvSpPr>
          <p:spPr>
            <a:xfrm rot="1080600">
              <a:off x="83520" y="3299760"/>
              <a:ext cx="1066680" cy="593640"/>
            </a:xfrm>
            <a:custGeom>
              <a:avLst/>
              <a:gdLst/>
              <a:ahLst/>
              <a:rect l="l" t="t" r="r" b="b"/>
              <a:pathLst>
                <a:path w="2111" h="841">
                  <a:moveTo>
                    <a:pt x="2111" y="420"/>
                  </a:moveTo>
                  <a:lnTo>
                    <a:pt x="2027" y="841"/>
                  </a:lnTo>
                  <a:lnTo>
                    <a:pt x="0" y="426"/>
                  </a:lnTo>
                  <a:lnTo>
                    <a:pt x="84" y="0"/>
                  </a:lnTo>
                  <a:lnTo>
                    <a:pt x="2111" y="42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1" name="任意多边形 15"/>
            <p:cNvSpPr/>
            <p:nvPr/>
          </p:nvSpPr>
          <p:spPr>
            <a:xfrm rot="1080600">
              <a:off x="44640" y="3268800"/>
              <a:ext cx="1067040" cy="597600"/>
            </a:xfrm>
            <a:custGeom>
              <a:avLst/>
              <a:gdLst/>
              <a:ahLst/>
              <a:rect l="l" t="t" r="r" b="b"/>
              <a:pathLst>
                <a:path w="2112" h="847">
                  <a:moveTo>
                    <a:pt x="2112" y="421"/>
                  </a:moveTo>
                  <a:lnTo>
                    <a:pt x="2027" y="847"/>
                  </a:lnTo>
                  <a:lnTo>
                    <a:pt x="0" y="427"/>
                  </a:lnTo>
                  <a:lnTo>
                    <a:pt x="85" y="0"/>
                  </a:lnTo>
                  <a:lnTo>
                    <a:pt x="2112" y="421"/>
                  </a:ln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2" name="任意多边形 16"/>
            <p:cNvSpPr/>
            <p:nvPr/>
          </p:nvSpPr>
          <p:spPr>
            <a:xfrm rot="1080600">
              <a:off x="-168120" y="2859120"/>
              <a:ext cx="170640" cy="383040"/>
            </a:xfrm>
            <a:custGeom>
              <a:avLst/>
              <a:gdLst/>
              <a:ahLst/>
              <a:rect l="l" t="t" r="r" b="b"/>
              <a:pathLst>
                <a:path w="56" h="89">
                  <a:moveTo>
                    <a:pt x="37" y="88"/>
                  </a:moveTo>
                  <a:cubicBezTo>
                    <a:pt x="39" y="89"/>
                    <a:pt x="39" y="89"/>
                    <a:pt x="39" y="89"/>
                  </a:cubicBezTo>
                  <a:cubicBezTo>
                    <a:pt x="56" y="5"/>
                    <a:pt x="56" y="5"/>
                    <a:pt x="56" y="5"/>
                  </a:cubicBezTo>
                  <a:cubicBezTo>
                    <a:pt x="54" y="4"/>
                    <a:pt x="54" y="4"/>
                    <a:pt x="54" y="4"/>
                  </a:cubicBezTo>
                  <a:cubicBezTo>
                    <a:pt x="32" y="0"/>
                    <a:pt x="10" y="15"/>
                    <a:pt x="5" y="38"/>
                  </a:cubicBezTo>
                  <a:cubicBezTo>
                    <a:pt x="0" y="61"/>
                    <a:pt x="15" y="83"/>
                    <a:pt x="37" y="88"/>
                  </a:cubicBez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3" name="任意多边形 17"/>
            <p:cNvSpPr/>
            <p:nvPr/>
          </p:nvSpPr>
          <p:spPr>
            <a:xfrm rot="1080600">
              <a:off x="-68400" y="2908800"/>
              <a:ext cx="664200" cy="610560"/>
            </a:xfrm>
            <a:custGeom>
              <a:avLst/>
              <a:gdLst/>
              <a:ahLst/>
              <a:rect l="l" t="t" r="r" b="b"/>
              <a:pathLst>
                <a:path w="218" h="142">
                  <a:moveTo>
                    <a:pt x="17" y="30"/>
                  </a:moveTo>
                  <a:cubicBezTo>
                    <a:pt x="0" y="114"/>
                    <a:pt x="0" y="114"/>
                    <a:pt x="0" y="114"/>
                  </a:cubicBezTo>
                  <a:cubicBezTo>
                    <a:pt x="137" y="142"/>
                    <a:pt x="137" y="142"/>
                    <a:pt x="137" y="142"/>
                  </a:cubicBezTo>
                  <a:cubicBezTo>
                    <a:pt x="140" y="142"/>
                    <a:pt x="144" y="140"/>
                    <a:pt x="145" y="136"/>
                  </a:cubicBezTo>
                  <a:cubicBezTo>
                    <a:pt x="159" y="65"/>
                    <a:pt x="159" y="65"/>
                    <a:pt x="159" y="65"/>
                  </a:cubicBezTo>
                  <a:cubicBezTo>
                    <a:pt x="160" y="62"/>
                    <a:pt x="158" y="58"/>
                    <a:pt x="154" y="58"/>
                  </a:cubicBezTo>
                  <a:cubicBezTo>
                    <a:pt x="31" y="32"/>
                    <a:pt x="31" y="32"/>
                    <a:pt x="31" y="32"/>
                  </a:cubicBezTo>
                  <a:cubicBezTo>
                    <a:pt x="33" y="22"/>
                    <a:pt x="44" y="15"/>
                    <a:pt x="54" y="18"/>
                  </a:cubicBezTo>
                  <a:cubicBezTo>
                    <a:pt x="206" y="49"/>
                    <a:pt x="206" y="49"/>
                    <a:pt x="206" y="49"/>
                  </a:cubicBezTo>
                  <a:cubicBezTo>
                    <a:pt x="206" y="49"/>
                    <a:pt x="206" y="49"/>
                    <a:pt x="206" y="49"/>
                  </a:cubicBezTo>
                  <a:cubicBezTo>
                    <a:pt x="210" y="49"/>
                    <a:pt x="215" y="47"/>
                    <a:pt x="216" y="44"/>
                  </a:cubicBezTo>
                  <a:cubicBezTo>
                    <a:pt x="216" y="44"/>
                    <a:pt x="216" y="44"/>
                    <a:pt x="216" y="44"/>
                  </a:cubicBezTo>
                  <a:cubicBezTo>
                    <a:pt x="218" y="36"/>
                    <a:pt x="218" y="36"/>
                    <a:pt x="218" y="36"/>
                  </a:cubicBezTo>
                  <a:cubicBezTo>
                    <a:pt x="57" y="3"/>
                    <a:pt x="57" y="3"/>
                    <a:pt x="57" y="3"/>
                  </a:cubicBezTo>
                  <a:cubicBezTo>
                    <a:pt x="39" y="0"/>
                    <a:pt x="21" y="11"/>
                    <a:pt x="17" y="3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4" name="任意多边形 18"/>
            <p:cNvSpPr/>
            <p:nvPr/>
          </p:nvSpPr>
          <p:spPr>
            <a:xfrm rot="1080600">
              <a:off x="-18360" y="2944800"/>
              <a:ext cx="109080" cy="378000"/>
            </a:xfrm>
            <a:custGeom>
              <a:avLst/>
              <a:gdLst/>
              <a:ahLst/>
              <a:rect l="l" t="t" r="r" b="b"/>
              <a:pathLst>
                <a:path w="217" h="536">
                  <a:moveTo>
                    <a:pt x="114" y="536"/>
                  </a:moveTo>
                  <a:lnTo>
                    <a:pt x="217" y="24"/>
                  </a:lnTo>
                  <a:lnTo>
                    <a:pt x="102" y="0"/>
                  </a:lnTo>
                  <a:lnTo>
                    <a:pt x="0" y="512"/>
                  </a:lnTo>
                  <a:lnTo>
                    <a:pt x="114" y="536"/>
                  </a:lnTo>
                  <a:close/>
                </a:path>
              </a:pathLst>
            </a:custGeom>
            <a:solidFill>
              <a:srgbClr val="97ca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29">
                                  <p:stCondLst>
                                    <p:cond delay="0"/>
                                  </p:stCondLst>
                                  <p:childTnLst>
                                    <p:set>
                                      <p:cBhvr>
                                        <p:cTn id="64" dur="1" fill="hold">
                                          <p:stCondLst>
                                            <p:cond delay="0"/>
                                          </p:stCondLst>
                                        </p:cTn>
                                        <p:tgtEl>
                                          <p:spTgt spid="1960"/>
                                        </p:tgtEl>
                                        <p:attrNameLst>
                                          <p:attrName>style.visibility</p:attrName>
                                        </p:attrNameLst>
                                      </p:cBhvr>
                                      <p:to>
                                        <p:strVal val="visible"/>
                                      </p:to>
                                    </p:set>
                                    <p:anim calcmode="lin" valueType="num">
                                      <p:cBhvr additive="repl">
                                        <p:cTn id="65" dur="1000" fill="hold"/>
                                        <p:tgtEl>
                                          <p:spTgt spid="1960"/>
                                        </p:tgtEl>
                                        <p:attrNameLst>
                                          <p:attrName>ppt_x</p:attrName>
                                        </p:attrNameLst>
                                      </p:cBhvr>
                                      <p:tavLst>
                                        <p:tav tm="0">
                                          <p:val>
                                            <p:strVal val="#ppt_x-.2"/>
                                          </p:val>
                                        </p:tav>
                                        <p:tav tm="100000">
                                          <p:val>
                                            <p:strVal val="#ppt_x"/>
                                          </p:val>
                                        </p:tav>
                                      </p:tavLst>
                                    </p:anim>
                                    <p:anim calcmode="lin" valueType="num">
                                      <p:cBhvr additive="repl">
                                        <p:cTn id="66" dur="1000" fill="hold"/>
                                        <p:tgtEl>
                                          <p:spTgt spid="1960"/>
                                        </p:tgtEl>
                                        <p:attrNameLst>
                                          <p:attrName>ppt_y</p:attrName>
                                        </p:attrNameLst>
                                      </p:cBhvr>
                                      <p:tavLst>
                                        <p:tav tm="0">
                                          <p:val>
                                            <p:strVal val="#ppt_y"/>
                                          </p:val>
                                        </p:tav>
                                        <p:tav tm="100000">
                                          <p:val>
                                            <p:strVal val="#ppt_y"/>
                                          </p:val>
                                        </p:tav>
                                      </p:tavLst>
                                    </p:anim>
                                    <p:animEffect filter="wipe(right)" transition="in">
                                      <p:cBhvr additive="repl">
                                        <p:cTn id="67" dur="1000"/>
                                        <p:tgtEl>
                                          <p:spTgt spid="1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任意多边形 36"/>
          <p:cNvSpPr/>
          <p:nvPr/>
        </p:nvSpPr>
        <p:spPr>
          <a:xfrm>
            <a:off x="4346640" y="3124080"/>
            <a:ext cx="527040" cy="527040"/>
          </a:xfrm>
          <a:custGeom>
            <a:avLst/>
            <a:gdLst/>
            <a:ahLst/>
            <a:rect l="l" t="t" r="r" b="b"/>
            <a:pathLst>
              <a:path w="144" h="144">
                <a:moveTo>
                  <a:pt x="142" y="69"/>
                </a:moveTo>
                <a:cubicBezTo>
                  <a:pt x="144" y="107"/>
                  <a:pt x="114" y="140"/>
                  <a:pt x="76" y="142"/>
                </a:cubicBezTo>
                <a:cubicBezTo>
                  <a:pt x="37" y="144"/>
                  <a:pt x="4" y="114"/>
                  <a:pt x="2" y="76"/>
                </a:cubicBezTo>
                <a:cubicBezTo>
                  <a:pt x="0" y="37"/>
                  <a:pt x="30" y="4"/>
                  <a:pt x="69"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6" name="任意多边形 37"/>
          <p:cNvSpPr/>
          <p:nvPr/>
        </p:nvSpPr>
        <p:spPr>
          <a:xfrm>
            <a:off x="6942240" y="3873600"/>
            <a:ext cx="530280" cy="527040"/>
          </a:xfrm>
          <a:custGeom>
            <a:avLst/>
            <a:gdLst/>
            <a:ahLst/>
            <a:rect l="l" t="t" r="r" b="b"/>
            <a:pathLst>
              <a:path w="144" h="144">
                <a:moveTo>
                  <a:pt x="142" y="69"/>
                </a:moveTo>
                <a:cubicBezTo>
                  <a:pt x="144" y="108"/>
                  <a:pt x="114" y="141"/>
                  <a:pt x="75" y="142"/>
                </a:cubicBezTo>
                <a:cubicBezTo>
                  <a:pt x="36" y="144"/>
                  <a:pt x="3" y="115"/>
                  <a:pt x="1" y="76"/>
                </a:cubicBezTo>
                <a:cubicBezTo>
                  <a:pt x="0" y="37"/>
                  <a:pt x="29" y="4"/>
                  <a:pt x="68"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7" name="任意多边形 38"/>
          <p:cNvSpPr/>
          <p:nvPr/>
        </p:nvSpPr>
        <p:spPr>
          <a:xfrm>
            <a:off x="5694480" y="4176720"/>
            <a:ext cx="531720" cy="530280"/>
          </a:xfrm>
          <a:custGeom>
            <a:avLst/>
            <a:gdLst/>
            <a:ahLst/>
            <a:rect l="l" t="t" r="r" b="b"/>
            <a:pathLst>
              <a:path w="145" h="144">
                <a:moveTo>
                  <a:pt x="143" y="68"/>
                </a:moveTo>
                <a:cubicBezTo>
                  <a:pt x="145" y="107"/>
                  <a:pt x="115" y="140"/>
                  <a:pt x="76" y="142"/>
                </a:cubicBezTo>
                <a:cubicBezTo>
                  <a:pt x="37" y="144"/>
                  <a:pt x="4" y="114"/>
                  <a:pt x="2" y="75"/>
                </a:cubicBezTo>
                <a:cubicBezTo>
                  <a:pt x="0" y="36"/>
                  <a:pt x="30" y="3"/>
                  <a:pt x="69" y="2"/>
                </a:cubicBezTo>
                <a:cubicBezTo>
                  <a:pt x="108" y="0"/>
                  <a:pt x="141" y="29"/>
                  <a:pt x="143" y="68"/>
                </a:cubicBezTo>
                <a:close/>
              </a:path>
            </a:pathLst>
          </a:custGeom>
          <a:solidFill>
            <a:srgbClr val="7396c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8" name="任意多边形 39"/>
          <p:cNvSpPr/>
          <p:nvPr/>
        </p:nvSpPr>
        <p:spPr>
          <a:xfrm>
            <a:off x="5672160" y="2701800"/>
            <a:ext cx="528480" cy="528840"/>
          </a:xfrm>
          <a:custGeom>
            <a:avLst/>
            <a:gdLst/>
            <a:ahLst/>
            <a:rect l="l" t="t" r="r" b="b"/>
            <a:pathLst>
              <a:path w="144" h="144">
                <a:moveTo>
                  <a:pt x="143" y="68"/>
                </a:moveTo>
                <a:cubicBezTo>
                  <a:pt x="144" y="107"/>
                  <a:pt x="115" y="140"/>
                  <a:pt x="76" y="142"/>
                </a:cubicBezTo>
                <a:cubicBezTo>
                  <a:pt x="37" y="144"/>
                  <a:pt x="4" y="114"/>
                  <a:pt x="2" y="75"/>
                </a:cubicBezTo>
                <a:cubicBezTo>
                  <a:pt x="0" y="37"/>
                  <a:pt x="30" y="4"/>
                  <a:pt x="69" y="2"/>
                </a:cubicBezTo>
                <a:cubicBezTo>
                  <a:pt x="108" y="0"/>
                  <a:pt x="141" y="30"/>
                  <a:pt x="143" y="68"/>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9" name="任意多边形 40"/>
          <p:cNvSpPr/>
          <p:nvPr/>
        </p:nvSpPr>
        <p:spPr>
          <a:xfrm>
            <a:off x="6980400" y="2709720"/>
            <a:ext cx="198360" cy="200160"/>
          </a:xfrm>
          <a:custGeom>
            <a:avLst/>
            <a:gdLst/>
            <a:ahLst/>
            <a:rect l="l" t="t" r="r" b="b"/>
            <a:pathLst>
              <a:path w="54" h="54">
                <a:moveTo>
                  <a:pt x="53" y="25"/>
                </a:moveTo>
                <a:cubicBezTo>
                  <a:pt x="54" y="40"/>
                  <a:pt x="43" y="52"/>
                  <a:pt x="28" y="53"/>
                </a:cubicBezTo>
                <a:cubicBezTo>
                  <a:pt x="14" y="54"/>
                  <a:pt x="2" y="42"/>
                  <a:pt x="1" y="28"/>
                </a:cubicBezTo>
                <a:cubicBezTo>
                  <a:pt x="0" y="14"/>
                  <a:pt x="11" y="1"/>
                  <a:pt x="26" y="1"/>
                </a:cubicBezTo>
                <a:cubicBezTo>
                  <a:pt x="40" y="0"/>
                  <a:pt x="52" y="11"/>
                  <a:pt x="53" y="25"/>
                </a:cubicBezTo>
                <a:close/>
              </a:path>
            </a:pathLst>
          </a:custGeom>
          <a:solidFill>
            <a:srgbClr val="d0dce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0" name="直接连接符 34"/>
          <p:cNvSpPr/>
          <p:nvPr/>
        </p:nvSpPr>
        <p:spPr>
          <a:xfrm>
            <a:off x="5070600" y="4432320"/>
            <a:ext cx="1125360" cy="407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1" name="直接连接符 35"/>
          <p:cNvSpPr/>
          <p:nvPr/>
        </p:nvSpPr>
        <p:spPr>
          <a:xfrm flipV="1">
            <a:off x="6210360" y="4559400"/>
            <a:ext cx="1004760" cy="272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2" name="任意多边形 31"/>
          <p:cNvSpPr/>
          <p:nvPr/>
        </p:nvSpPr>
        <p:spPr>
          <a:xfrm>
            <a:off x="4492800" y="3278160"/>
            <a:ext cx="936360" cy="933480"/>
          </a:xfrm>
          <a:custGeom>
            <a:avLst/>
            <a:gdLst/>
            <a:ahLst/>
            <a:rect l="l" t="t" r="r" b="b"/>
            <a:pathLst>
              <a:path w="256" h="255">
                <a:moveTo>
                  <a:pt x="252" y="121"/>
                </a:moveTo>
                <a:cubicBezTo>
                  <a:pt x="256" y="190"/>
                  <a:pt x="203" y="248"/>
                  <a:pt x="134" y="252"/>
                </a:cubicBezTo>
                <a:cubicBezTo>
                  <a:pt x="65" y="255"/>
                  <a:pt x="7" y="202"/>
                  <a:pt x="4" y="133"/>
                </a:cubicBezTo>
                <a:cubicBezTo>
                  <a:pt x="0" y="65"/>
                  <a:pt x="53" y="6"/>
                  <a:pt x="122" y="3"/>
                </a:cubicBezTo>
                <a:cubicBezTo>
                  <a:pt x="190" y="0"/>
                  <a:pt x="249" y="52"/>
                  <a:pt x="252" y="121"/>
                </a:cubicBezTo>
                <a:close/>
              </a:path>
            </a:pathLst>
          </a:custGeom>
          <a:solidFill>
            <a:srgbClr val="325792">
              <a:alpha val="1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3" name="任意多边形 32"/>
          <p:cNvSpPr/>
          <p:nvPr/>
        </p:nvSpPr>
        <p:spPr>
          <a:xfrm>
            <a:off x="4689360" y="2754360"/>
            <a:ext cx="1152720" cy="1152360"/>
          </a:xfrm>
          <a:custGeom>
            <a:avLst/>
            <a:gdLst/>
            <a:ahLst/>
            <a:rect l="l" t="t" r="r" b="b"/>
            <a:pathLst>
              <a:path w="314" h="314">
                <a:moveTo>
                  <a:pt x="310" y="150"/>
                </a:moveTo>
                <a:cubicBezTo>
                  <a:pt x="314" y="234"/>
                  <a:pt x="249" y="306"/>
                  <a:pt x="164" y="310"/>
                </a:cubicBezTo>
                <a:cubicBezTo>
                  <a:pt x="80" y="314"/>
                  <a:pt x="8" y="249"/>
                  <a:pt x="4" y="165"/>
                </a:cubicBezTo>
                <a:cubicBezTo>
                  <a:pt x="0" y="80"/>
                  <a:pt x="65" y="9"/>
                  <a:pt x="149" y="4"/>
                </a:cubicBezTo>
                <a:cubicBezTo>
                  <a:pt x="234" y="0"/>
                  <a:pt x="305" y="65"/>
                  <a:pt x="310" y="150"/>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4" name="任意多边形 33"/>
          <p:cNvSpPr/>
          <p:nvPr/>
        </p:nvSpPr>
        <p:spPr>
          <a:xfrm>
            <a:off x="6337440" y="3309840"/>
            <a:ext cx="842760" cy="843120"/>
          </a:xfrm>
          <a:custGeom>
            <a:avLst/>
            <a:gdLst/>
            <a:ahLst/>
            <a:rect l="l" t="t" r="r" b="b"/>
            <a:pathLst>
              <a:path w="230" h="230">
                <a:moveTo>
                  <a:pt x="227" y="109"/>
                </a:moveTo>
                <a:cubicBezTo>
                  <a:pt x="230" y="171"/>
                  <a:pt x="182" y="224"/>
                  <a:pt x="121" y="227"/>
                </a:cubicBezTo>
                <a:cubicBezTo>
                  <a:pt x="59" y="230"/>
                  <a:pt x="6" y="182"/>
                  <a:pt x="3" y="120"/>
                </a:cubicBezTo>
                <a:cubicBezTo>
                  <a:pt x="0" y="59"/>
                  <a:pt x="48" y="6"/>
                  <a:pt x="109" y="3"/>
                </a:cubicBezTo>
                <a:cubicBezTo>
                  <a:pt x="171" y="0"/>
                  <a:pt x="224" y="48"/>
                  <a:pt x="227" y="109"/>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5" name="任意多边形 15"/>
          <p:cNvSpPr/>
          <p:nvPr/>
        </p:nvSpPr>
        <p:spPr>
          <a:xfrm flipH="1">
            <a:off x="4887360" y="3024360"/>
            <a:ext cx="2339640" cy="3822480"/>
          </a:xfrm>
          <a:custGeom>
            <a:avLst/>
            <a:gdLst/>
            <a:ahLst/>
            <a:rect l="l" t="t" r="r" b="b"/>
            <a:pathLst>
              <a:path w="689" h="1041">
                <a:moveTo>
                  <a:pt x="534" y="591"/>
                </a:moveTo>
                <a:cubicBezTo>
                  <a:pt x="537" y="590"/>
                  <a:pt x="597" y="559"/>
                  <a:pt x="667" y="589"/>
                </a:cubicBezTo>
                <a:cubicBezTo>
                  <a:pt x="667" y="589"/>
                  <a:pt x="587" y="584"/>
                  <a:pt x="509" y="634"/>
                </a:cubicBezTo>
                <a:cubicBezTo>
                  <a:pt x="493" y="644"/>
                  <a:pt x="477" y="657"/>
                  <a:pt x="462" y="672"/>
                </a:cubicBezTo>
                <a:cubicBezTo>
                  <a:pt x="442" y="692"/>
                  <a:pt x="423" y="718"/>
                  <a:pt x="407" y="750"/>
                </a:cubicBezTo>
                <a:cubicBezTo>
                  <a:pt x="401" y="762"/>
                  <a:pt x="395" y="775"/>
                  <a:pt x="390" y="788"/>
                </a:cubicBezTo>
                <a:cubicBezTo>
                  <a:pt x="390" y="788"/>
                  <a:pt x="374" y="851"/>
                  <a:pt x="381" y="961"/>
                </a:cubicBezTo>
                <a:cubicBezTo>
                  <a:pt x="381" y="961"/>
                  <a:pt x="381" y="970"/>
                  <a:pt x="383" y="983"/>
                </a:cubicBezTo>
                <a:cubicBezTo>
                  <a:pt x="383" y="983"/>
                  <a:pt x="383" y="983"/>
                  <a:pt x="383" y="983"/>
                </a:cubicBezTo>
                <a:cubicBezTo>
                  <a:pt x="387" y="1000"/>
                  <a:pt x="387" y="1026"/>
                  <a:pt x="411" y="1041"/>
                </a:cubicBezTo>
                <a:cubicBezTo>
                  <a:pt x="227" y="1041"/>
                  <a:pt x="227" y="1041"/>
                  <a:pt x="227" y="1041"/>
                </a:cubicBezTo>
                <a:cubicBezTo>
                  <a:pt x="227" y="1041"/>
                  <a:pt x="258" y="1034"/>
                  <a:pt x="266" y="968"/>
                </a:cubicBezTo>
                <a:cubicBezTo>
                  <a:pt x="266" y="968"/>
                  <a:pt x="266" y="968"/>
                  <a:pt x="266" y="968"/>
                </a:cubicBezTo>
                <a:cubicBezTo>
                  <a:pt x="267" y="935"/>
                  <a:pt x="270" y="901"/>
                  <a:pt x="274" y="866"/>
                </a:cubicBezTo>
                <a:cubicBezTo>
                  <a:pt x="289" y="744"/>
                  <a:pt x="247" y="642"/>
                  <a:pt x="196" y="596"/>
                </a:cubicBezTo>
                <a:cubicBezTo>
                  <a:pt x="192" y="592"/>
                  <a:pt x="188" y="589"/>
                  <a:pt x="184" y="586"/>
                </a:cubicBezTo>
                <a:cubicBezTo>
                  <a:pt x="134" y="551"/>
                  <a:pt x="73" y="547"/>
                  <a:pt x="19" y="496"/>
                </a:cubicBezTo>
                <a:cubicBezTo>
                  <a:pt x="13" y="489"/>
                  <a:pt x="6" y="482"/>
                  <a:pt x="0" y="473"/>
                </a:cubicBezTo>
                <a:cubicBezTo>
                  <a:pt x="1" y="474"/>
                  <a:pt x="9" y="482"/>
                  <a:pt x="23" y="490"/>
                </a:cubicBezTo>
                <a:cubicBezTo>
                  <a:pt x="23" y="490"/>
                  <a:pt x="23" y="490"/>
                  <a:pt x="23" y="490"/>
                </a:cubicBezTo>
                <a:cubicBezTo>
                  <a:pt x="37" y="499"/>
                  <a:pt x="57" y="509"/>
                  <a:pt x="82" y="516"/>
                </a:cubicBezTo>
                <a:cubicBezTo>
                  <a:pt x="103" y="522"/>
                  <a:pt x="126" y="526"/>
                  <a:pt x="154" y="527"/>
                </a:cubicBezTo>
                <a:cubicBezTo>
                  <a:pt x="154" y="527"/>
                  <a:pt x="137" y="509"/>
                  <a:pt x="120" y="479"/>
                </a:cubicBezTo>
                <a:cubicBezTo>
                  <a:pt x="114" y="470"/>
                  <a:pt x="108" y="459"/>
                  <a:pt x="103" y="447"/>
                </a:cubicBezTo>
                <a:cubicBezTo>
                  <a:pt x="94" y="429"/>
                  <a:pt x="86" y="408"/>
                  <a:pt x="81" y="386"/>
                </a:cubicBezTo>
                <a:cubicBezTo>
                  <a:pt x="77" y="372"/>
                  <a:pt x="74" y="356"/>
                  <a:pt x="73" y="340"/>
                </a:cubicBezTo>
                <a:cubicBezTo>
                  <a:pt x="72" y="332"/>
                  <a:pt x="72" y="323"/>
                  <a:pt x="72" y="314"/>
                </a:cubicBezTo>
                <a:cubicBezTo>
                  <a:pt x="73" y="303"/>
                  <a:pt x="74" y="291"/>
                  <a:pt x="76" y="280"/>
                </a:cubicBezTo>
                <a:cubicBezTo>
                  <a:pt x="76" y="280"/>
                  <a:pt x="76" y="290"/>
                  <a:pt x="79" y="305"/>
                </a:cubicBezTo>
                <a:cubicBezTo>
                  <a:pt x="80" y="311"/>
                  <a:pt x="82" y="316"/>
                  <a:pt x="83" y="323"/>
                </a:cubicBezTo>
                <a:cubicBezTo>
                  <a:pt x="89" y="346"/>
                  <a:pt x="98" y="377"/>
                  <a:pt x="115" y="406"/>
                </a:cubicBezTo>
                <a:cubicBezTo>
                  <a:pt x="120" y="416"/>
                  <a:pt x="126" y="426"/>
                  <a:pt x="133" y="435"/>
                </a:cubicBezTo>
                <a:cubicBezTo>
                  <a:pt x="139" y="442"/>
                  <a:pt x="145" y="450"/>
                  <a:pt x="151" y="458"/>
                </a:cubicBezTo>
                <a:cubicBezTo>
                  <a:pt x="151" y="458"/>
                  <a:pt x="151" y="458"/>
                  <a:pt x="151" y="458"/>
                </a:cubicBezTo>
                <a:cubicBezTo>
                  <a:pt x="153" y="460"/>
                  <a:pt x="155" y="462"/>
                  <a:pt x="157" y="465"/>
                </a:cubicBezTo>
                <a:cubicBezTo>
                  <a:pt x="171" y="482"/>
                  <a:pt x="187" y="500"/>
                  <a:pt x="203" y="518"/>
                </a:cubicBezTo>
                <a:cubicBezTo>
                  <a:pt x="203" y="518"/>
                  <a:pt x="203" y="518"/>
                  <a:pt x="203" y="518"/>
                </a:cubicBezTo>
                <a:cubicBezTo>
                  <a:pt x="216" y="534"/>
                  <a:pt x="230" y="550"/>
                  <a:pt x="243" y="567"/>
                </a:cubicBezTo>
                <a:cubicBezTo>
                  <a:pt x="270" y="601"/>
                  <a:pt x="293" y="637"/>
                  <a:pt x="303" y="671"/>
                </a:cubicBezTo>
                <a:cubicBezTo>
                  <a:pt x="303" y="671"/>
                  <a:pt x="317" y="642"/>
                  <a:pt x="332" y="594"/>
                </a:cubicBezTo>
                <a:cubicBezTo>
                  <a:pt x="333" y="593"/>
                  <a:pt x="333" y="593"/>
                  <a:pt x="333" y="592"/>
                </a:cubicBezTo>
                <a:cubicBezTo>
                  <a:pt x="342" y="565"/>
                  <a:pt x="351" y="532"/>
                  <a:pt x="359" y="494"/>
                </a:cubicBezTo>
                <a:cubicBezTo>
                  <a:pt x="359" y="491"/>
                  <a:pt x="360" y="489"/>
                  <a:pt x="360" y="486"/>
                </a:cubicBezTo>
                <a:cubicBezTo>
                  <a:pt x="361" y="484"/>
                  <a:pt x="361" y="482"/>
                  <a:pt x="361" y="481"/>
                </a:cubicBezTo>
                <a:cubicBezTo>
                  <a:pt x="364" y="468"/>
                  <a:pt x="366" y="454"/>
                  <a:pt x="368" y="440"/>
                </a:cubicBezTo>
                <a:cubicBezTo>
                  <a:pt x="369" y="436"/>
                  <a:pt x="369" y="431"/>
                  <a:pt x="370" y="427"/>
                </a:cubicBezTo>
                <a:cubicBezTo>
                  <a:pt x="373" y="400"/>
                  <a:pt x="375" y="371"/>
                  <a:pt x="376" y="342"/>
                </a:cubicBezTo>
                <a:cubicBezTo>
                  <a:pt x="376" y="337"/>
                  <a:pt x="376" y="332"/>
                  <a:pt x="376" y="327"/>
                </a:cubicBezTo>
                <a:cubicBezTo>
                  <a:pt x="376" y="314"/>
                  <a:pt x="376" y="301"/>
                  <a:pt x="375" y="288"/>
                </a:cubicBezTo>
                <a:cubicBezTo>
                  <a:pt x="375" y="287"/>
                  <a:pt x="375" y="287"/>
                  <a:pt x="375" y="287"/>
                </a:cubicBezTo>
                <a:cubicBezTo>
                  <a:pt x="375" y="281"/>
                  <a:pt x="374" y="276"/>
                  <a:pt x="374" y="270"/>
                </a:cubicBezTo>
                <a:cubicBezTo>
                  <a:pt x="374" y="270"/>
                  <a:pt x="374" y="270"/>
                  <a:pt x="374" y="270"/>
                </a:cubicBezTo>
                <a:cubicBezTo>
                  <a:pt x="374" y="265"/>
                  <a:pt x="373" y="261"/>
                  <a:pt x="373" y="257"/>
                </a:cubicBezTo>
                <a:cubicBezTo>
                  <a:pt x="372" y="243"/>
                  <a:pt x="370" y="229"/>
                  <a:pt x="368" y="215"/>
                </a:cubicBezTo>
                <a:cubicBezTo>
                  <a:pt x="367" y="207"/>
                  <a:pt x="365" y="199"/>
                  <a:pt x="364" y="191"/>
                </a:cubicBezTo>
                <a:cubicBezTo>
                  <a:pt x="363" y="190"/>
                  <a:pt x="363" y="189"/>
                  <a:pt x="363" y="188"/>
                </a:cubicBezTo>
                <a:cubicBezTo>
                  <a:pt x="363" y="188"/>
                  <a:pt x="363" y="188"/>
                  <a:pt x="363" y="188"/>
                </a:cubicBezTo>
                <a:cubicBezTo>
                  <a:pt x="362" y="181"/>
                  <a:pt x="360" y="173"/>
                  <a:pt x="358" y="165"/>
                </a:cubicBezTo>
                <a:cubicBezTo>
                  <a:pt x="352" y="139"/>
                  <a:pt x="344" y="113"/>
                  <a:pt x="334" y="86"/>
                </a:cubicBezTo>
                <a:cubicBezTo>
                  <a:pt x="332" y="80"/>
                  <a:pt x="330" y="74"/>
                  <a:pt x="327" y="67"/>
                </a:cubicBezTo>
                <a:cubicBezTo>
                  <a:pt x="323" y="57"/>
                  <a:pt x="319" y="48"/>
                  <a:pt x="314" y="38"/>
                </a:cubicBezTo>
                <a:cubicBezTo>
                  <a:pt x="308" y="25"/>
                  <a:pt x="302" y="12"/>
                  <a:pt x="295" y="0"/>
                </a:cubicBezTo>
                <a:cubicBezTo>
                  <a:pt x="296" y="1"/>
                  <a:pt x="310" y="14"/>
                  <a:pt x="328" y="39"/>
                </a:cubicBezTo>
                <a:cubicBezTo>
                  <a:pt x="334" y="47"/>
                  <a:pt x="340" y="56"/>
                  <a:pt x="346" y="66"/>
                </a:cubicBezTo>
                <a:cubicBezTo>
                  <a:pt x="346" y="66"/>
                  <a:pt x="346" y="66"/>
                  <a:pt x="346" y="66"/>
                </a:cubicBezTo>
                <a:cubicBezTo>
                  <a:pt x="359" y="87"/>
                  <a:pt x="373" y="114"/>
                  <a:pt x="386" y="146"/>
                </a:cubicBezTo>
                <a:cubicBezTo>
                  <a:pt x="392" y="163"/>
                  <a:pt x="398" y="181"/>
                  <a:pt x="404" y="201"/>
                </a:cubicBezTo>
                <a:cubicBezTo>
                  <a:pt x="406" y="210"/>
                  <a:pt x="408" y="218"/>
                  <a:pt x="410" y="228"/>
                </a:cubicBezTo>
                <a:cubicBezTo>
                  <a:pt x="410" y="228"/>
                  <a:pt x="410" y="228"/>
                  <a:pt x="410" y="228"/>
                </a:cubicBezTo>
                <a:cubicBezTo>
                  <a:pt x="412" y="238"/>
                  <a:pt x="414" y="248"/>
                  <a:pt x="416" y="259"/>
                </a:cubicBezTo>
                <a:cubicBezTo>
                  <a:pt x="420" y="281"/>
                  <a:pt x="423" y="305"/>
                  <a:pt x="424" y="331"/>
                </a:cubicBezTo>
                <a:cubicBezTo>
                  <a:pt x="424" y="340"/>
                  <a:pt x="425" y="350"/>
                  <a:pt x="425" y="361"/>
                </a:cubicBezTo>
                <a:cubicBezTo>
                  <a:pt x="425" y="370"/>
                  <a:pt x="425" y="379"/>
                  <a:pt x="425" y="389"/>
                </a:cubicBezTo>
                <a:cubicBezTo>
                  <a:pt x="425" y="389"/>
                  <a:pt x="429" y="381"/>
                  <a:pt x="437" y="370"/>
                </a:cubicBezTo>
                <a:cubicBezTo>
                  <a:pt x="442" y="362"/>
                  <a:pt x="449" y="353"/>
                  <a:pt x="457" y="344"/>
                </a:cubicBezTo>
                <a:cubicBezTo>
                  <a:pt x="467" y="331"/>
                  <a:pt x="478" y="317"/>
                  <a:pt x="491" y="306"/>
                </a:cubicBezTo>
                <a:cubicBezTo>
                  <a:pt x="495" y="302"/>
                  <a:pt x="501" y="297"/>
                  <a:pt x="506" y="291"/>
                </a:cubicBezTo>
                <a:cubicBezTo>
                  <a:pt x="511" y="286"/>
                  <a:pt x="515" y="281"/>
                  <a:pt x="520" y="275"/>
                </a:cubicBezTo>
                <a:cubicBezTo>
                  <a:pt x="528" y="265"/>
                  <a:pt x="537" y="253"/>
                  <a:pt x="546" y="239"/>
                </a:cubicBezTo>
                <a:cubicBezTo>
                  <a:pt x="546" y="239"/>
                  <a:pt x="546" y="239"/>
                  <a:pt x="546" y="239"/>
                </a:cubicBezTo>
                <a:cubicBezTo>
                  <a:pt x="551" y="231"/>
                  <a:pt x="556" y="222"/>
                  <a:pt x="561" y="213"/>
                </a:cubicBezTo>
                <a:cubicBezTo>
                  <a:pt x="575" y="186"/>
                  <a:pt x="588" y="153"/>
                  <a:pt x="599" y="113"/>
                </a:cubicBezTo>
                <a:cubicBezTo>
                  <a:pt x="602" y="101"/>
                  <a:pt x="605" y="88"/>
                  <a:pt x="608" y="74"/>
                </a:cubicBezTo>
                <a:cubicBezTo>
                  <a:pt x="608" y="74"/>
                  <a:pt x="611" y="91"/>
                  <a:pt x="608" y="120"/>
                </a:cubicBezTo>
                <a:cubicBezTo>
                  <a:pt x="608" y="123"/>
                  <a:pt x="607" y="127"/>
                  <a:pt x="607" y="131"/>
                </a:cubicBezTo>
                <a:cubicBezTo>
                  <a:pt x="607" y="131"/>
                  <a:pt x="607" y="131"/>
                  <a:pt x="607" y="131"/>
                </a:cubicBezTo>
                <a:cubicBezTo>
                  <a:pt x="606" y="137"/>
                  <a:pt x="605" y="143"/>
                  <a:pt x="604" y="150"/>
                </a:cubicBezTo>
                <a:cubicBezTo>
                  <a:pt x="600" y="174"/>
                  <a:pt x="592" y="203"/>
                  <a:pt x="578" y="235"/>
                </a:cubicBezTo>
                <a:cubicBezTo>
                  <a:pt x="574" y="244"/>
                  <a:pt x="570" y="253"/>
                  <a:pt x="566" y="262"/>
                </a:cubicBezTo>
                <a:cubicBezTo>
                  <a:pt x="563" y="268"/>
                  <a:pt x="560" y="274"/>
                  <a:pt x="556" y="280"/>
                </a:cubicBezTo>
                <a:cubicBezTo>
                  <a:pt x="553" y="286"/>
                  <a:pt x="550" y="291"/>
                  <a:pt x="547" y="297"/>
                </a:cubicBezTo>
                <a:cubicBezTo>
                  <a:pt x="544" y="302"/>
                  <a:pt x="541" y="306"/>
                  <a:pt x="538" y="311"/>
                </a:cubicBezTo>
                <a:cubicBezTo>
                  <a:pt x="521" y="337"/>
                  <a:pt x="508" y="359"/>
                  <a:pt x="496" y="376"/>
                </a:cubicBezTo>
                <a:cubicBezTo>
                  <a:pt x="493" y="379"/>
                  <a:pt x="491" y="383"/>
                  <a:pt x="489" y="386"/>
                </a:cubicBezTo>
                <a:cubicBezTo>
                  <a:pt x="448" y="446"/>
                  <a:pt x="439" y="449"/>
                  <a:pt x="427" y="479"/>
                </a:cubicBezTo>
                <a:cubicBezTo>
                  <a:pt x="427" y="479"/>
                  <a:pt x="426" y="483"/>
                  <a:pt x="425" y="489"/>
                </a:cubicBezTo>
                <a:cubicBezTo>
                  <a:pt x="425" y="492"/>
                  <a:pt x="424" y="497"/>
                  <a:pt x="423" y="501"/>
                </a:cubicBezTo>
                <a:cubicBezTo>
                  <a:pt x="419" y="526"/>
                  <a:pt x="411" y="568"/>
                  <a:pt x="406" y="605"/>
                </a:cubicBezTo>
                <a:cubicBezTo>
                  <a:pt x="401" y="635"/>
                  <a:pt x="397" y="663"/>
                  <a:pt x="396" y="677"/>
                </a:cubicBezTo>
                <a:cubicBezTo>
                  <a:pt x="396" y="677"/>
                  <a:pt x="444" y="624"/>
                  <a:pt x="496" y="584"/>
                </a:cubicBezTo>
                <a:cubicBezTo>
                  <a:pt x="502" y="579"/>
                  <a:pt x="509" y="574"/>
                  <a:pt x="515" y="570"/>
                </a:cubicBezTo>
                <a:cubicBezTo>
                  <a:pt x="545" y="548"/>
                  <a:pt x="581" y="519"/>
                  <a:pt x="614" y="485"/>
                </a:cubicBezTo>
                <a:cubicBezTo>
                  <a:pt x="615" y="485"/>
                  <a:pt x="615" y="484"/>
                  <a:pt x="616" y="483"/>
                </a:cubicBezTo>
                <a:cubicBezTo>
                  <a:pt x="644" y="454"/>
                  <a:pt x="669" y="422"/>
                  <a:pt x="685" y="390"/>
                </a:cubicBezTo>
                <a:cubicBezTo>
                  <a:pt x="686" y="387"/>
                  <a:pt x="688" y="385"/>
                  <a:pt x="689" y="383"/>
                </a:cubicBezTo>
                <a:cubicBezTo>
                  <a:pt x="689" y="383"/>
                  <a:pt x="688" y="386"/>
                  <a:pt x="686" y="390"/>
                </a:cubicBezTo>
                <a:cubicBezTo>
                  <a:pt x="681" y="406"/>
                  <a:pt x="665" y="444"/>
                  <a:pt x="632" y="490"/>
                </a:cubicBezTo>
                <a:cubicBezTo>
                  <a:pt x="631" y="490"/>
                  <a:pt x="631" y="491"/>
                  <a:pt x="630" y="492"/>
                </a:cubicBezTo>
                <a:cubicBezTo>
                  <a:pt x="607" y="523"/>
                  <a:pt x="576" y="558"/>
                  <a:pt x="534" y="591"/>
                </a:cubicBezTo>
                <a:close/>
              </a:path>
            </a:pathLst>
          </a:custGeom>
          <a:solidFill>
            <a:srgbClr val="5959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6" name="任意多边形 16"/>
          <p:cNvSpPr/>
          <p:nvPr/>
        </p:nvSpPr>
        <p:spPr>
          <a:xfrm>
            <a:off x="4879800" y="3954600"/>
            <a:ext cx="1200240" cy="1203120"/>
          </a:xfrm>
          <a:custGeom>
            <a:avLst/>
            <a:gdLst/>
            <a:ahLst/>
            <a:rect l="l" t="t" r="r" b="b"/>
            <a:pathLst>
              <a:path w="327" h="328">
                <a:moveTo>
                  <a:pt x="323" y="198"/>
                </a:moveTo>
                <a:cubicBezTo>
                  <a:pt x="321" y="209"/>
                  <a:pt x="317" y="219"/>
                  <a:pt x="313" y="229"/>
                </a:cubicBezTo>
                <a:cubicBezTo>
                  <a:pt x="312" y="231"/>
                  <a:pt x="311" y="233"/>
                  <a:pt x="310" y="235"/>
                </a:cubicBezTo>
                <a:cubicBezTo>
                  <a:pt x="295" y="266"/>
                  <a:pt x="270" y="291"/>
                  <a:pt x="240" y="307"/>
                </a:cubicBezTo>
                <a:cubicBezTo>
                  <a:pt x="228" y="313"/>
                  <a:pt x="216" y="318"/>
                  <a:pt x="203" y="321"/>
                </a:cubicBezTo>
                <a:cubicBezTo>
                  <a:pt x="193" y="323"/>
                  <a:pt x="183" y="325"/>
                  <a:pt x="173" y="325"/>
                </a:cubicBezTo>
                <a:cubicBezTo>
                  <a:pt x="121" y="328"/>
                  <a:pt x="74" y="306"/>
                  <a:pt x="42" y="270"/>
                </a:cubicBezTo>
                <a:cubicBezTo>
                  <a:pt x="31" y="257"/>
                  <a:pt x="22" y="243"/>
                  <a:pt x="15" y="227"/>
                </a:cubicBezTo>
                <a:cubicBezTo>
                  <a:pt x="8" y="210"/>
                  <a:pt x="3" y="191"/>
                  <a:pt x="2" y="171"/>
                </a:cubicBezTo>
                <a:cubicBezTo>
                  <a:pt x="0" y="133"/>
                  <a:pt x="12" y="97"/>
                  <a:pt x="32" y="68"/>
                </a:cubicBezTo>
                <a:cubicBezTo>
                  <a:pt x="35" y="65"/>
                  <a:pt x="37" y="62"/>
                  <a:pt x="39" y="59"/>
                </a:cubicBezTo>
                <a:cubicBezTo>
                  <a:pt x="55" y="40"/>
                  <a:pt x="76" y="24"/>
                  <a:pt x="99" y="14"/>
                </a:cubicBezTo>
                <a:cubicBezTo>
                  <a:pt x="109" y="10"/>
                  <a:pt x="120" y="6"/>
                  <a:pt x="132" y="4"/>
                </a:cubicBezTo>
                <a:cubicBezTo>
                  <a:pt x="139" y="2"/>
                  <a:pt x="147" y="1"/>
                  <a:pt x="155" y="1"/>
                </a:cubicBezTo>
                <a:cubicBezTo>
                  <a:pt x="155" y="1"/>
                  <a:pt x="155" y="1"/>
                  <a:pt x="155" y="1"/>
                </a:cubicBezTo>
                <a:cubicBezTo>
                  <a:pt x="155" y="1"/>
                  <a:pt x="156" y="1"/>
                  <a:pt x="156" y="1"/>
                </a:cubicBezTo>
                <a:cubicBezTo>
                  <a:pt x="165" y="0"/>
                  <a:pt x="173" y="0"/>
                  <a:pt x="182" y="1"/>
                </a:cubicBezTo>
                <a:cubicBezTo>
                  <a:pt x="182" y="1"/>
                  <a:pt x="182" y="1"/>
                  <a:pt x="182" y="1"/>
                </a:cubicBezTo>
                <a:cubicBezTo>
                  <a:pt x="206" y="4"/>
                  <a:pt x="228" y="12"/>
                  <a:pt x="248" y="24"/>
                </a:cubicBezTo>
                <a:cubicBezTo>
                  <a:pt x="253" y="27"/>
                  <a:pt x="259" y="30"/>
                  <a:pt x="264" y="34"/>
                </a:cubicBezTo>
                <a:cubicBezTo>
                  <a:pt x="277" y="45"/>
                  <a:pt x="290" y="58"/>
                  <a:pt x="299" y="72"/>
                </a:cubicBezTo>
                <a:cubicBezTo>
                  <a:pt x="299" y="73"/>
                  <a:pt x="299" y="73"/>
                  <a:pt x="299" y="73"/>
                </a:cubicBezTo>
                <a:cubicBezTo>
                  <a:pt x="302" y="77"/>
                  <a:pt x="305" y="82"/>
                  <a:pt x="308" y="86"/>
                </a:cubicBezTo>
                <a:cubicBezTo>
                  <a:pt x="319" y="107"/>
                  <a:pt x="325" y="130"/>
                  <a:pt x="327" y="155"/>
                </a:cubicBezTo>
                <a:cubicBezTo>
                  <a:pt x="327" y="170"/>
                  <a:pt x="326" y="184"/>
                  <a:pt x="323" y="198"/>
                </a:cubicBezTo>
                <a:close/>
              </a:path>
            </a:pathLst>
          </a:custGeom>
          <a:solidFill>
            <a:srgbClr val="a1b9df">
              <a:alpha val="6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7" name="任意多边形 29"/>
          <p:cNvSpPr/>
          <p:nvPr/>
        </p:nvSpPr>
        <p:spPr>
          <a:xfrm>
            <a:off x="5072040" y="3292560"/>
            <a:ext cx="903240" cy="904680"/>
          </a:xfrm>
          <a:custGeom>
            <a:avLst/>
            <a:gdLst/>
            <a:ahLst/>
            <a:rect l="l" t="t" r="r" b="b"/>
            <a:pathLst>
              <a:path w="246" h="247">
                <a:moveTo>
                  <a:pt x="243" y="118"/>
                </a:moveTo>
                <a:cubicBezTo>
                  <a:pt x="246" y="184"/>
                  <a:pt x="195" y="240"/>
                  <a:pt x="129" y="243"/>
                </a:cubicBezTo>
                <a:cubicBezTo>
                  <a:pt x="63" y="247"/>
                  <a:pt x="7" y="196"/>
                  <a:pt x="3" y="130"/>
                </a:cubicBezTo>
                <a:cubicBezTo>
                  <a:pt x="0" y="63"/>
                  <a:pt x="51" y="7"/>
                  <a:pt x="117" y="4"/>
                </a:cubicBezTo>
                <a:cubicBezTo>
                  <a:pt x="183" y="0"/>
                  <a:pt x="240" y="51"/>
                  <a:pt x="243" y="118"/>
                </a:cubicBezTo>
                <a:close/>
              </a:path>
            </a:pathLst>
          </a:custGeom>
          <a:solidFill>
            <a:srgbClr val="3257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8" name="任意多边形 30"/>
          <p:cNvSpPr/>
          <p:nvPr/>
        </p:nvSpPr>
        <p:spPr>
          <a:xfrm>
            <a:off x="6143760" y="3745080"/>
            <a:ext cx="758520" cy="755640"/>
          </a:xfrm>
          <a:custGeom>
            <a:avLst/>
            <a:gdLst/>
            <a:ahLst/>
            <a:rect l="l" t="t" r="r" b="b"/>
            <a:pathLst>
              <a:path w="206" h="206">
                <a:moveTo>
                  <a:pt x="204" y="98"/>
                </a:moveTo>
                <a:cubicBezTo>
                  <a:pt x="206" y="153"/>
                  <a:pt x="164" y="200"/>
                  <a:pt x="108" y="203"/>
                </a:cubicBezTo>
                <a:cubicBezTo>
                  <a:pt x="53" y="206"/>
                  <a:pt x="6" y="163"/>
                  <a:pt x="3" y="108"/>
                </a:cubicBezTo>
                <a:cubicBezTo>
                  <a:pt x="0" y="52"/>
                  <a:pt x="43" y="5"/>
                  <a:pt x="98" y="3"/>
                </a:cubicBezTo>
                <a:cubicBezTo>
                  <a:pt x="154" y="0"/>
                  <a:pt x="201" y="42"/>
                  <a:pt x="204" y="98"/>
                </a:cubicBezTo>
                <a:close/>
              </a:path>
            </a:pathLst>
          </a:custGeom>
          <a:solidFill>
            <a:srgbClr val="d0dc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9" name="任意多边形 19"/>
          <p:cNvSpPr/>
          <p:nvPr/>
        </p:nvSpPr>
        <p:spPr>
          <a:xfrm>
            <a:off x="7178760" y="3044880"/>
            <a:ext cx="253800" cy="255600"/>
          </a:xfrm>
          <a:custGeom>
            <a:avLst/>
            <a:gdLst/>
            <a:ahLst/>
            <a:rect l="l" t="t" r="r" b="b"/>
            <a:pathLst>
              <a:path w="69" h="69">
                <a:moveTo>
                  <a:pt x="68" y="33"/>
                </a:moveTo>
                <a:cubicBezTo>
                  <a:pt x="69" y="52"/>
                  <a:pt x="54" y="67"/>
                  <a:pt x="36" y="68"/>
                </a:cubicBezTo>
                <a:cubicBezTo>
                  <a:pt x="17" y="69"/>
                  <a:pt x="1" y="55"/>
                  <a:pt x="0" y="36"/>
                </a:cubicBezTo>
                <a:cubicBezTo>
                  <a:pt x="0" y="18"/>
                  <a:pt x="14" y="2"/>
                  <a:pt x="32" y="1"/>
                </a:cubicBezTo>
                <a:cubicBezTo>
                  <a:pt x="51" y="0"/>
                  <a:pt x="67" y="14"/>
                  <a:pt x="68" y="33"/>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0" name="任意多边形 20"/>
          <p:cNvSpPr/>
          <p:nvPr/>
        </p:nvSpPr>
        <p:spPr>
          <a:xfrm>
            <a:off x="4843440" y="2649600"/>
            <a:ext cx="231840" cy="233280"/>
          </a:xfrm>
          <a:custGeom>
            <a:avLst/>
            <a:gdLst/>
            <a:ahLst/>
            <a:rect l="l" t="t" r="r" b="b"/>
            <a:pathLst>
              <a:path w="63" h="64">
                <a:moveTo>
                  <a:pt x="62" y="30"/>
                </a:moveTo>
                <a:cubicBezTo>
                  <a:pt x="63" y="47"/>
                  <a:pt x="50" y="62"/>
                  <a:pt x="33" y="63"/>
                </a:cubicBezTo>
                <a:cubicBezTo>
                  <a:pt x="16" y="64"/>
                  <a:pt x="1" y="51"/>
                  <a:pt x="1" y="34"/>
                </a:cubicBezTo>
                <a:cubicBezTo>
                  <a:pt x="0" y="16"/>
                  <a:pt x="13" y="2"/>
                  <a:pt x="30" y="1"/>
                </a:cubicBezTo>
                <a:cubicBezTo>
                  <a:pt x="47" y="0"/>
                  <a:pt x="62" y="13"/>
                  <a:pt x="62" y="30"/>
                </a:cubicBezTo>
                <a:close/>
              </a:path>
            </a:pathLst>
          </a:cu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1" name="任意多边形 21"/>
          <p:cNvSpPr/>
          <p:nvPr/>
        </p:nvSpPr>
        <p:spPr>
          <a:xfrm>
            <a:off x="6126120" y="2529000"/>
            <a:ext cx="235080" cy="237960"/>
          </a:xfrm>
          <a:custGeom>
            <a:avLst/>
            <a:gdLst/>
            <a:ahLst/>
            <a:rect l="l" t="t" r="r" b="b"/>
            <a:pathLst>
              <a:path w="64" h="64">
                <a:moveTo>
                  <a:pt x="63" y="31"/>
                </a:moveTo>
                <a:cubicBezTo>
                  <a:pt x="64" y="48"/>
                  <a:pt x="50" y="62"/>
                  <a:pt x="33" y="63"/>
                </a:cubicBezTo>
                <a:cubicBezTo>
                  <a:pt x="16" y="64"/>
                  <a:pt x="2" y="51"/>
                  <a:pt x="1" y="34"/>
                </a:cubicBezTo>
                <a:cubicBezTo>
                  <a:pt x="0" y="17"/>
                  <a:pt x="13" y="2"/>
                  <a:pt x="30" y="1"/>
                </a:cubicBezTo>
                <a:cubicBezTo>
                  <a:pt x="47" y="0"/>
                  <a:pt x="62" y="13"/>
                  <a:pt x="63" y="31"/>
                </a:cubicBezTo>
                <a:close/>
              </a:path>
            </a:pathLst>
          </a:custGeom>
          <a:solidFill>
            <a:srgbClr val="a1b9d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2" name="任意多边形 22"/>
          <p:cNvSpPr/>
          <p:nvPr/>
        </p:nvSpPr>
        <p:spPr>
          <a:xfrm>
            <a:off x="4900680" y="3024360"/>
            <a:ext cx="338040" cy="341280"/>
          </a:xfrm>
          <a:custGeom>
            <a:avLst/>
            <a:gdLst/>
            <a:ahLst/>
            <a:rect l="l" t="t" r="r" b="b"/>
            <a:pathLst>
              <a:path w="92" h="93">
                <a:moveTo>
                  <a:pt x="91" y="44"/>
                </a:moveTo>
                <a:cubicBezTo>
                  <a:pt x="92" y="69"/>
                  <a:pt x="73" y="90"/>
                  <a:pt x="48" y="91"/>
                </a:cubicBezTo>
                <a:cubicBezTo>
                  <a:pt x="23" y="93"/>
                  <a:pt x="2" y="73"/>
                  <a:pt x="1" y="49"/>
                </a:cubicBezTo>
                <a:cubicBezTo>
                  <a:pt x="0" y="24"/>
                  <a:pt x="19" y="3"/>
                  <a:pt x="44" y="1"/>
                </a:cubicBezTo>
                <a:cubicBezTo>
                  <a:pt x="69" y="0"/>
                  <a:pt x="90" y="19"/>
                  <a:pt x="91" y="44"/>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3" name="任意多边形 23"/>
          <p:cNvSpPr/>
          <p:nvPr/>
        </p:nvSpPr>
        <p:spPr>
          <a:xfrm>
            <a:off x="7039080" y="3625920"/>
            <a:ext cx="341280" cy="341280"/>
          </a:xfrm>
          <a:custGeom>
            <a:avLst/>
            <a:gdLst/>
            <a:ahLst/>
            <a:rect l="l" t="t" r="r" b="b"/>
            <a:pathLst>
              <a:path w="93" h="93">
                <a:moveTo>
                  <a:pt x="92" y="44"/>
                </a:moveTo>
                <a:cubicBezTo>
                  <a:pt x="93" y="69"/>
                  <a:pt x="74" y="90"/>
                  <a:pt x="49" y="91"/>
                </a:cubicBezTo>
                <a:cubicBezTo>
                  <a:pt x="24" y="93"/>
                  <a:pt x="3" y="74"/>
                  <a:pt x="2" y="49"/>
                </a:cubicBezTo>
                <a:cubicBezTo>
                  <a:pt x="0" y="24"/>
                  <a:pt x="19" y="3"/>
                  <a:pt x="44" y="1"/>
                </a:cubicBezTo>
                <a:cubicBezTo>
                  <a:pt x="69" y="0"/>
                  <a:pt x="90" y="19"/>
                  <a:pt x="92" y="44"/>
                </a:cubicBezTo>
                <a:close/>
              </a:path>
            </a:pathLst>
          </a:cu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4" name="任意多边形 18"/>
          <p:cNvSpPr/>
          <p:nvPr/>
        </p:nvSpPr>
        <p:spPr>
          <a:xfrm>
            <a:off x="6095880" y="2671920"/>
            <a:ext cx="828720" cy="892080"/>
          </a:xfrm>
          <a:custGeom>
            <a:avLst/>
            <a:gdLst/>
            <a:ahLst/>
            <a:rect l="l" t="t" r="r" b="b"/>
            <a:pathLst>
              <a:path w="200" h="199">
                <a:moveTo>
                  <a:pt x="197" y="95"/>
                </a:moveTo>
                <a:cubicBezTo>
                  <a:pt x="200" y="148"/>
                  <a:pt x="158" y="194"/>
                  <a:pt x="105" y="197"/>
                </a:cubicBezTo>
                <a:cubicBezTo>
                  <a:pt x="51" y="199"/>
                  <a:pt x="6" y="158"/>
                  <a:pt x="3" y="105"/>
                </a:cubicBezTo>
                <a:cubicBezTo>
                  <a:pt x="0" y="51"/>
                  <a:pt x="42" y="5"/>
                  <a:pt x="95" y="3"/>
                </a:cubicBezTo>
                <a:cubicBezTo>
                  <a:pt x="149" y="0"/>
                  <a:pt x="194" y="41"/>
                  <a:pt x="197" y="95"/>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5" name="椭圆 26"/>
          <p:cNvSpPr/>
          <p:nvPr/>
        </p:nvSpPr>
        <p:spPr>
          <a:xfrm>
            <a:off x="5276880" y="2496960"/>
            <a:ext cx="814320" cy="798840"/>
          </a:xfrm>
          <a:prstGeom prst="ellipse">
            <a:avLst/>
          </a:pr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6" name="任意多边形 27"/>
          <p:cNvSpPr/>
          <p:nvPr/>
        </p:nvSpPr>
        <p:spPr>
          <a:xfrm>
            <a:off x="5857920" y="3157560"/>
            <a:ext cx="1217520" cy="1128600"/>
          </a:xfrm>
          <a:custGeom>
            <a:avLst/>
            <a:gdLst/>
            <a:ahLst/>
            <a:rect l="l" t="t" r="r" b="b"/>
            <a:pathLst>
              <a:path w="328" h="328">
                <a:moveTo>
                  <a:pt x="323" y="156"/>
                </a:moveTo>
                <a:cubicBezTo>
                  <a:pt x="328" y="244"/>
                  <a:pt x="260" y="319"/>
                  <a:pt x="172" y="323"/>
                </a:cubicBezTo>
                <a:cubicBezTo>
                  <a:pt x="84" y="328"/>
                  <a:pt x="9" y="260"/>
                  <a:pt x="4" y="172"/>
                </a:cubicBezTo>
                <a:cubicBezTo>
                  <a:pt x="0" y="84"/>
                  <a:pt x="68" y="9"/>
                  <a:pt x="156" y="4"/>
                </a:cubicBezTo>
                <a:cubicBezTo>
                  <a:pt x="244" y="0"/>
                  <a:pt x="319" y="68"/>
                  <a:pt x="323" y="156"/>
                </a:cubicBez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7" name="任意多边形 28"/>
          <p:cNvSpPr/>
          <p:nvPr/>
        </p:nvSpPr>
        <p:spPr>
          <a:xfrm>
            <a:off x="6845400" y="4210200"/>
            <a:ext cx="711000" cy="706320"/>
          </a:xfrm>
          <a:custGeom>
            <a:avLst/>
            <a:gdLst/>
            <a:ahLst/>
            <a:rect l="l" t="t" r="r" b="b"/>
            <a:pathLst>
              <a:path w="194" h="193">
                <a:moveTo>
                  <a:pt x="192" y="93"/>
                </a:moveTo>
                <a:cubicBezTo>
                  <a:pt x="194" y="145"/>
                  <a:pt x="153" y="190"/>
                  <a:pt x="101" y="192"/>
                </a:cubicBezTo>
                <a:cubicBezTo>
                  <a:pt x="84" y="193"/>
                  <a:pt x="69" y="190"/>
                  <a:pt x="55" y="183"/>
                </a:cubicBezTo>
                <a:cubicBezTo>
                  <a:pt x="50" y="181"/>
                  <a:pt x="45" y="178"/>
                  <a:pt x="40" y="174"/>
                </a:cubicBezTo>
                <a:cubicBezTo>
                  <a:pt x="25" y="163"/>
                  <a:pt x="12" y="147"/>
                  <a:pt x="6" y="127"/>
                </a:cubicBezTo>
                <a:cubicBezTo>
                  <a:pt x="4" y="122"/>
                  <a:pt x="2" y="115"/>
                  <a:pt x="1" y="109"/>
                </a:cubicBezTo>
                <a:cubicBezTo>
                  <a:pt x="1" y="106"/>
                  <a:pt x="1" y="104"/>
                  <a:pt x="1" y="101"/>
                </a:cubicBezTo>
                <a:cubicBezTo>
                  <a:pt x="0" y="79"/>
                  <a:pt x="6" y="59"/>
                  <a:pt x="18" y="43"/>
                </a:cubicBezTo>
                <a:cubicBezTo>
                  <a:pt x="26" y="31"/>
                  <a:pt x="36" y="21"/>
                  <a:pt x="48" y="14"/>
                </a:cubicBezTo>
                <a:cubicBezTo>
                  <a:pt x="61" y="6"/>
                  <a:pt x="76" y="2"/>
                  <a:pt x="92" y="1"/>
                </a:cubicBezTo>
                <a:cubicBezTo>
                  <a:pt x="129" y="0"/>
                  <a:pt x="161" y="19"/>
                  <a:pt x="179" y="48"/>
                </a:cubicBezTo>
                <a:cubicBezTo>
                  <a:pt x="179" y="48"/>
                  <a:pt x="179" y="48"/>
                  <a:pt x="179" y="48"/>
                </a:cubicBezTo>
                <a:cubicBezTo>
                  <a:pt x="187" y="61"/>
                  <a:pt x="191" y="76"/>
                  <a:pt x="192" y="93"/>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8" name="任意多边形 25"/>
          <p:cNvSpPr/>
          <p:nvPr/>
        </p:nvSpPr>
        <p:spPr>
          <a:xfrm>
            <a:off x="5322960" y="4146480"/>
            <a:ext cx="1228680" cy="1231920"/>
          </a:xfrm>
          <a:custGeom>
            <a:avLst/>
            <a:gdLst/>
            <a:ahLst/>
            <a:rect l="l" t="t" r="r" b="b"/>
            <a:pathLst>
              <a:path w="280" h="281">
                <a:moveTo>
                  <a:pt x="280" y="148"/>
                </a:moveTo>
                <a:cubicBezTo>
                  <a:pt x="280" y="148"/>
                  <a:pt x="280" y="148"/>
                  <a:pt x="280" y="148"/>
                </a:cubicBezTo>
                <a:cubicBezTo>
                  <a:pt x="276" y="216"/>
                  <a:pt x="224" y="272"/>
                  <a:pt x="156" y="279"/>
                </a:cubicBezTo>
                <a:cubicBezTo>
                  <a:pt x="153" y="280"/>
                  <a:pt x="149" y="280"/>
                  <a:pt x="146" y="280"/>
                </a:cubicBezTo>
                <a:cubicBezTo>
                  <a:pt x="124" y="281"/>
                  <a:pt x="102" y="277"/>
                  <a:pt x="83" y="268"/>
                </a:cubicBezTo>
                <a:cubicBezTo>
                  <a:pt x="62" y="259"/>
                  <a:pt x="44" y="245"/>
                  <a:pt x="30" y="227"/>
                </a:cubicBezTo>
                <a:cubicBezTo>
                  <a:pt x="13" y="205"/>
                  <a:pt x="1" y="177"/>
                  <a:pt x="0" y="146"/>
                </a:cubicBezTo>
                <a:cubicBezTo>
                  <a:pt x="0" y="134"/>
                  <a:pt x="1" y="123"/>
                  <a:pt x="3" y="111"/>
                </a:cubicBezTo>
                <a:cubicBezTo>
                  <a:pt x="5" y="104"/>
                  <a:pt x="7" y="98"/>
                  <a:pt x="9" y="91"/>
                </a:cubicBezTo>
                <a:cubicBezTo>
                  <a:pt x="9" y="91"/>
                  <a:pt x="9" y="91"/>
                  <a:pt x="9" y="91"/>
                </a:cubicBezTo>
                <a:cubicBezTo>
                  <a:pt x="16" y="73"/>
                  <a:pt x="26" y="57"/>
                  <a:pt x="39" y="44"/>
                </a:cubicBezTo>
                <a:cubicBezTo>
                  <a:pt x="55" y="27"/>
                  <a:pt x="76" y="14"/>
                  <a:pt x="99" y="7"/>
                </a:cubicBezTo>
                <a:cubicBezTo>
                  <a:pt x="103" y="5"/>
                  <a:pt x="108" y="4"/>
                  <a:pt x="113" y="3"/>
                </a:cubicBezTo>
                <a:cubicBezTo>
                  <a:pt x="117" y="2"/>
                  <a:pt x="122" y="2"/>
                  <a:pt x="127" y="1"/>
                </a:cubicBezTo>
                <a:cubicBezTo>
                  <a:pt x="129" y="1"/>
                  <a:pt x="132" y="1"/>
                  <a:pt x="134" y="1"/>
                </a:cubicBezTo>
                <a:cubicBezTo>
                  <a:pt x="140" y="0"/>
                  <a:pt x="145" y="1"/>
                  <a:pt x="151" y="1"/>
                </a:cubicBezTo>
                <a:cubicBezTo>
                  <a:pt x="159" y="2"/>
                  <a:pt x="167" y="3"/>
                  <a:pt x="175" y="5"/>
                </a:cubicBezTo>
                <a:cubicBezTo>
                  <a:pt x="186" y="8"/>
                  <a:pt x="197" y="12"/>
                  <a:pt x="207" y="18"/>
                </a:cubicBezTo>
                <a:cubicBezTo>
                  <a:pt x="222" y="26"/>
                  <a:pt x="236" y="37"/>
                  <a:pt x="247" y="50"/>
                </a:cubicBezTo>
                <a:cubicBezTo>
                  <a:pt x="249" y="53"/>
                  <a:pt x="252" y="56"/>
                  <a:pt x="254" y="60"/>
                </a:cubicBezTo>
                <a:cubicBezTo>
                  <a:pt x="268" y="79"/>
                  <a:pt x="277" y="103"/>
                  <a:pt x="279" y="128"/>
                </a:cubicBezTo>
                <a:cubicBezTo>
                  <a:pt x="280" y="130"/>
                  <a:pt x="280" y="132"/>
                  <a:pt x="280" y="134"/>
                </a:cubicBezTo>
                <a:cubicBezTo>
                  <a:pt x="280" y="139"/>
                  <a:pt x="280" y="144"/>
                  <a:pt x="280" y="148"/>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9" name="任意多边形 24"/>
          <p:cNvSpPr/>
          <p:nvPr/>
        </p:nvSpPr>
        <p:spPr>
          <a:xfrm>
            <a:off x="4662360" y="3610080"/>
            <a:ext cx="857520" cy="857160"/>
          </a:xfrm>
          <a:custGeom>
            <a:avLst/>
            <a:gdLst/>
            <a:ahLst/>
            <a:rect l="l" t="t" r="r" b="b"/>
            <a:pathLst>
              <a:path w="234" h="234">
                <a:moveTo>
                  <a:pt x="232" y="112"/>
                </a:moveTo>
                <a:cubicBezTo>
                  <a:pt x="234" y="175"/>
                  <a:pt x="185" y="229"/>
                  <a:pt x="122" y="232"/>
                </a:cubicBezTo>
                <a:cubicBezTo>
                  <a:pt x="59" y="234"/>
                  <a:pt x="6" y="185"/>
                  <a:pt x="3" y="122"/>
                </a:cubicBezTo>
                <a:cubicBezTo>
                  <a:pt x="0" y="59"/>
                  <a:pt x="49" y="6"/>
                  <a:pt x="112" y="3"/>
                </a:cubicBezTo>
                <a:cubicBezTo>
                  <a:pt x="176" y="0"/>
                  <a:pt x="229" y="49"/>
                  <a:pt x="232" y="112"/>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0" name="直接连接符 41"/>
          <p:cNvSpPr/>
          <p:nvPr/>
        </p:nvSpPr>
        <p:spPr>
          <a:xfrm>
            <a:off x="3695760" y="3830760"/>
            <a:ext cx="1395360" cy="0"/>
          </a:xfrm>
          <a:prstGeom prst="line">
            <a:avLst/>
          </a:prstGeom>
          <a:ln w="12600">
            <a:solidFill>
              <a:srgbClr val="178aa1"/>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1" name="椭圆 42"/>
          <p:cNvSpPr/>
          <p:nvPr/>
        </p:nvSpPr>
        <p:spPr>
          <a:xfrm flipH="1" flipV="1" rot="16200000">
            <a:off x="3697200" y="3797280"/>
            <a:ext cx="46080" cy="46080"/>
          </a:xfrm>
          <a:prstGeom prst="ellipse">
            <a:avLst/>
          </a:prstGeom>
          <a:solidFill>
            <a:srgbClr val="178aa1"/>
          </a:solidFill>
          <a:ln w="12600">
            <a:solidFill>
              <a:srgbClr val="178aa1"/>
            </a:solidFill>
            <a:miter/>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2" name="椭圆 45"/>
          <p:cNvSpPr/>
          <p:nvPr/>
        </p:nvSpPr>
        <p:spPr>
          <a:xfrm rot="5400000">
            <a:off x="8051400" y="3797280"/>
            <a:ext cx="47520" cy="44280"/>
          </a:xfrm>
          <a:prstGeom prst="ellipse">
            <a:avLst/>
          </a:prstGeom>
          <a:solidFill>
            <a:srgbClr val="4276aa"/>
          </a:solidFill>
          <a:ln w="12600">
            <a:solidFill>
              <a:srgbClr val="4276aa"/>
            </a:solidFill>
            <a:miter/>
          </a:ln>
        </p:spPr>
        <p:style>
          <a:lnRef idx="0"/>
          <a:fillRef idx="0"/>
          <a:effectRef idx="0"/>
          <a:fontRef idx="minor"/>
        </p:style>
        <p:txBody>
          <a:bodyPr lIns="90000" rIns="90000" tIns="-15480" bIns="-154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3" name="文本框 50"/>
          <p:cNvSpPr/>
          <p:nvPr/>
        </p:nvSpPr>
        <p:spPr>
          <a:xfrm>
            <a:off x="595440" y="3481560"/>
            <a:ext cx="3125520" cy="5223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是明确管理层对财务报表的责任。</a:t>
            </a:r>
            <a:endParaRPr b="1" lang="en-US" sz="2400" spc="-1" strike="noStrike">
              <a:solidFill>
                <a:srgbClr val="000000"/>
              </a:solidFill>
              <a:latin typeface="Arial"/>
            </a:endParaRPr>
          </a:p>
        </p:txBody>
      </p:sp>
      <p:sp>
        <p:nvSpPr>
          <p:cNvPr id="2024" name="直接连接符 61"/>
          <p:cNvSpPr/>
          <p:nvPr/>
        </p:nvSpPr>
        <p:spPr>
          <a:xfrm flipH="1">
            <a:off x="6980400" y="3819600"/>
            <a:ext cx="10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5" name="文本框 43"/>
          <p:cNvSpPr/>
          <p:nvPr/>
        </p:nvSpPr>
        <p:spPr>
          <a:xfrm>
            <a:off x="8182080" y="3473280"/>
            <a:ext cx="3686040" cy="14727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 是提供审计证据。被审计单位管理层声明书将管理层审计人员的询问所做的答复 以书面的方式予以记录，可作为书面证据</a:t>
            </a:r>
            <a:r>
              <a:rPr b="0" lang="zh-CN" sz="2000" spc="-1" strike="noStrike">
                <a:solidFill>
                  <a:srgbClr val="000000"/>
                </a:solidFill>
                <a:latin typeface="Arial"/>
                <a:ea typeface="微软雅黑"/>
              </a:rPr>
              <a:t>。</a:t>
            </a:r>
            <a:endParaRPr b="1" lang="en-US" sz="2000" spc="-1" strike="noStrike">
              <a:solidFill>
                <a:srgbClr val="000000"/>
              </a:solidFill>
              <a:latin typeface="Arial"/>
            </a:endParaRPr>
          </a:p>
        </p:txBody>
      </p:sp>
      <p:grpSp>
        <p:nvGrpSpPr>
          <p:cNvPr id="2026" name="组合 28"/>
          <p:cNvGrpSpPr/>
          <p:nvPr/>
        </p:nvGrpSpPr>
        <p:grpSpPr>
          <a:xfrm>
            <a:off x="797040" y="149400"/>
            <a:ext cx="10490040" cy="523800"/>
            <a:chOff x="797040" y="149400"/>
            <a:chExt cx="10490040" cy="523800"/>
          </a:xfrm>
        </p:grpSpPr>
        <p:sp>
          <p:nvSpPr>
            <p:cNvPr id="2027" name="直接连接符 2"/>
            <p:cNvSpPr/>
            <p:nvPr/>
          </p:nvSpPr>
          <p:spPr>
            <a:xfrm>
              <a:off x="797040" y="4730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8" name="直接连接符 3"/>
            <p:cNvSpPr/>
            <p:nvPr/>
          </p:nvSpPr>
          <p:spPr>
            <a:xfrm>
              <a:off x="9307800" y="56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029" name="文本框 31" descr=""/>
            <p:cNvPicPr/>
            <p:nvPr/>
          </p:nvPicPr>
          <p:blipFill>
            <a:blip r:embed="rId1"/>
            <a:stretch/>
          </p:blipFill>
          <p:spPr>
            <a:xfrm>
              <a:off x="2564640" y="149400"/>
              <a:ext cx="7560360" cy="523800"/>
            </a:xfrm>
            <a:prstGeom prst="rect">
              <a:avLst/>
            </a:prstGeom>
            <a:ln w="0">
              <a:noFill/>
            </a:ln>
          </p:spPr>
        </p:pic>
      </p:grpSp>
      <p:sp>
        <p:nvSpPr>
          <p:cNvPr id="2030" name="文本框 4"/>
          <p:cNvSpPr/>
          <p:nvPr/>
        </p:nvSpPr>
        <p:spPr>
          <a:xfrm>
            <a:off x="3575160" y="806400"/>
            <a:ext cx="42814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取得管理层声明</a:t>
            </a:r>
            <a:endParaRPr b="1" lang="en-US" sz="3200" spc="-1" strike="noStrike">
              <a:solidFill>
                <a:srgbClr val="000000"/>
              </a:solidFill>
              <a:latin typeface="Arial"/>
            </a:endParaRPr>
          </a:p>
        </p:txBody>
      </p:sp>
      <p:sp>
        <p:nvSpPr>
          <p:cNvPr id="2031" name="文本框 44"/>
          <p:cNvSpPr/>
          <p:nvPr/>
        </p:nvSpPr>
        <p:spPr>
          <a:xfrm>
            <a:off x="504720" y="1400040"/>
            <a:ext cx="1152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声明是指被审计单位管理层向审计人员提供的关于财务报表的各项陈 述。获取管理层声明书是顺利开展审计工作的必要条件，是审计工作必不可少的 一部分。</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声明书具有如下两项作用：</a:t>
            </a:r>
            <a:endParaRPr b="1" lang="en-US" sz="2400" spc="-1" strike="noStrike">
              <a:solidFill>
                <a:srgbClr val="000000"/>
              </a:solidFill>
              <a:latin typeface="Arial"/>
            </a:endParaRPr>
          </a:p>
        </p:txBody>
      </p:sp>
      <p:grpSp>
        <p:nvGrpSpPr>
          <p:cNvPr id="2032" name="组合 112"/>
          <p:cNvGrpSpPr/>
          <p:nvPr/>
        </p:nvGrpSpPr>
        <p:grpSpPr>
          <a:xfrm>
            <a:off x="192240" y="1241280"/>
            <a:ext cx="11999520" cy="1444680"/>
            <a:chOff x="192240" y="1241280"/>
            <a:chExt cx="11999520" cy="1444680"/>
          </a:xfrm>
        </p:grpSpPr>
        <p:sp>
          <p:nvSpPr>
            <p:cNvPr id="2033" name="圆角矩形 113"/>
            <p:cNvSpPr/>
            <p:nvPr/>
          </p:nvSpPr>
          <p:spPr>
            <a:xfrm>
              <a:off x="282240" y="1299600"/>
              <a:ext cx="11657520" cy="130104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34" name="组合 114"/>
            <p:cNvGrpSpPr/>
            <p:nvPr/>
          </p:nvGrpSpPr>
          <p:grpSpPr>
            <a:xfrm>
              <a:off x="192240" y="1241280"/>
              <a:ext cx="684720" cy="145440"/>
              <a:chOff x="192240" y="1241280"/>
              <a:chExt cx="684720" cy="145440"/>
            </a:xfrm>
          </p:grpSpPr>
          <p:sp>
            <p:nvSpPr>
              <p:cNvPr id="2035" name="菱形 60"/>
              <p:cNvSpPr/>
              <p:nvPr/>
            </p:nvSpPr>
            <p:spPr>
              <a:xfrm>
                <a:off x="192240" y="1241280"/>
                <a:ext cx="39888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6" name="菱形 62"/>
              <p:cNvSpPr/>
              <p:nvPr/>
            </p:nvSpPr>
            <p:spPr>
              <a:xfrm>
                <a:off x="478440" y="1241280"/>
                <a:ext cx="39852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37" name="组合 117"/>
            <p:cNvGrpSpPr/>
            <p:nvPr/>
          </p:nvGrpSpPr>
          <p:grpSpPr>
            <a:xfrm>
              <a:off x="192240" y="2540520"/>
              <a:ext cx="684720" cy="145440"/>
              <a:chOff x="192240" y="2540520"/>
              <a:chExt cx="684720" cy="145440"/>
            </a:xfrm>
          </p:grpSpPr>
          <p:sp>
            <p:nvSpPr>
              <p:cNvPr id="2038" name="菱形 58"/>
              <p:cNvSpPr/>
              <p:nvPr/>
            </p:nvSpPr>
            <p:spPr>
              <a:xfrm>
                <a:off x="192240" y="2540520"/>
                <a:ext cx="39888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9" name="菱形 59"/>
              <p:cNvSpPr/>
              <p:nvPr/>
            </p:nvSpPr>
            <p:spPr>
              <a:xfrm>
                <a:off x="478440" y="2540520"/>
                <a:ext cx="39852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0" name="组合 120"/>
            <p:cNvGrpSpPr/>
            <p:nvPr/>
          </p:nvGrpSpPr>
          <p:grpSpPr>
            <a:xfrm>
              <a:off x="11493360" y="2540520"/>
              <a:ext cx="698400" cy="145440"/>
              <a:chOff x="11493360" y="2540520"/>
              <a:chExt cx="698400" cy="145440"/>
            </a:xfrm>
          </p:grpSpPr>
          <p:sp>
            <p:nvSpPr>
              <p:cNvPr id="2041" name="菱形 55"/>
              <p:cNvSpPr/>
              <p:nvPr/>
            </p:nvSpPr>
            <p:spPr>
              <a:xfrm flipH="1">
                <a:off x="11777040" y="2540520"/>
                <a:ext cx="41436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2" name="菱形 56"/>
              <p:cNvSpPr/>
              <p:nvPr/>
            </p:nvSpPr>
            <p:spPr>
              <a:xfrm flipH="1">
                <a:off x="11493000" y="2540520"/>
                <a:ext cx="41436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3" name="组合 123"/>
            <p:cNvGrpSpPr/>
            <p:nvPr/>
          </p:nvGrpSpPr>
          <p:grpSpPr>
            <a:xfrm>
              <a:off x="11506680" y="1248840"/>
              <a:ext cx="684720" cy="145440"/>
              <a:chOff x="11506680" y="1248840"/>
              <a:chExt cx="684720" cy="145440"/>
            </a:xfrm>
          </p:grpSpPr>
          <p:sp>
            <p:nvSpPr>
              <p:cNvPr id="2044" name="菱形 53"/>
              <p:cNvSpPr/>
              <p:nvPr/>
            </p:nvSpPr>
            <p:spPr>
              <a:xfrm flipH="1">
                <a:off x="11792520" y="1248840"/>
                <a:ext cx="398880" cy="145440"/>
              </a:xfrm>
              <a:prstGeom prst="diamond">
                <a:avLst/>
              </a:prstGeom>
              <a:solidFill>
                <a:srgbClr val="5b9bd4"/>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5" name="菱形 54"/>
              <p:cNvSpPr/>
              <p:nvPr/>
            </p:nvSpPr>
            <p:spPr>
              <a:xfrm flipH="1">
                <a:off x="11506320" y="1248840"/>
                <a:ext cx="398520" cy="145440"/>
              </a:xfrm>
              <a:prstGeom prst="diamond">
                <a:avLst/>
              </a:prstGeom>
              <a:solidFill>
                <a:srgbClr val="bdd7ee"/>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直接连接符 31"/>
          <p:cNvSpPr/>
          <p:nvPr/>
        </p:nvSpPr>
        <p:spPr>
          <a:xfrm flipV="1">
            <a:off x="9435960" y="3885840"/>
            <a:ext cx="0" cy="436680"/>
          </a:xfrm>
          <a:prstGeom prst="line">
            <a:avLst/>
          </a:prstGeom>
          <a:ln w="1908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7" name="直接连接符 16"/>
          <p:cNvSpPr/>
          <p:nvPr/>
        </p:nvSpPr>
        <p:spPr>
          <a:xfrm flipV="1">
            <a:off x="3144960" y="3865680"/>
            <a:ext cx="0" cy="691920"/>
          </a:xfrm>
          <a:prstGeom prst="line">
            <a:avLst/>
          </a:prstGeom>
          <a:ln w="19080">
            <a:solidFill>
              <a:srgbClr val="0067d9"/>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8" name="直接连接符 5"/>
          <p:cNvSpPr/>
          <p:nvPr/>
        </p:nvSpPr>
        <p:spPr>
          <a:xfrm>
            <a:off x="1519200" y="3592440"/>
            <a:ext cx="9906120" cy="0"/>
          </a:xfrm>
          <a:prstGeom prst="line">
            <a:avLst/>
          </a:prstGeom>
          <a:ln cap="rnd" w="5076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9" name="椭圆 12"/>
          <p:cNvSpPr/>
          <p:nvPr/>
        </p:nvSpPr>
        <p:spPr>
          <a:xfrm>
            <a:off x="3078000" y="4459320"/>
            <a:ext cx="157320" cy="156960"/>
          </a:xfrm>
          <a:prstGeom prst="ellipse">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0" name="直接连接符 25"/>
          <p:cNvSpPr/>
          <p:nvPr/>
        </p:nvSpPr>
        <p:spPr>
          <a:xfrm flipV="1">
            <a:off x="6102360" y="3726000"/>
            <a:ext cx="42840" cy="666720"/>
          </a:xfrm>
          <a:prstGeom prst="line">
            <a:avLst/>
          </a:prstGeom>
          <a:ln w="19080">
            <a:solidFill>
              <a:srgbClr val="00206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1" name="任意多边形 55"/>
          <p:cNvSpPr/>
          <p:nvPr/>
        </p:nvSpPr>
        <p:spPr>
          <a:xfrm flipH="1" rot="8100000">
            <a:off x="2399760" y="2907720"/>
            <a:ext cx="1407600" cy="144612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2" name="文本框 18"/>
          <p:cNvSpPr/>
          <p:nvPr/>
        </p:nvSpPr>
        <p:spPr>
          <a:xfrm>
            <a:off x="2573280" y="3481560"/>
            <a:ext cx="1155600" cy="27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1" lang="en-US" sz="2400" spc="-1" strike="noStrike">
              <a:solidFill>
                <a:srgbClr val="000000"/>
              </a:solidFill>
              <a:latin typeface="Arial"/>
            </a:endParaRPr>
          </a:p>
        </p:txBody>
      </p:sp>
      <p:sp>
        <p:nvSpPr>
          <p:cNvPr id="2053" name="文本框 5"/>
          <p:cNvSpPr/>
          <p:nvPr/>
        </p:nvSpPr>
        <p:spPr>
          <a:xfrm>
            <a:off x="1905120" y="4567320"/>
            <a:ext cx="2341440" cy="6681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项目负责</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人进行讨论</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4" name="椭圆 24"/>
          <p:cNvSpPr/>
          <p:nvPr/>
        </p:nvSpPr>
        <p:spPr>
          <a:xfrm>
            <a:off x="6035760" y="4475160"/>
            <a:ext cx="155520" cy="15732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5" name="任意多边形 55"/>
          <p:cNvSpPr/>
          <p:nvPr/>
        </p:nvSpPr>
        <p:spPr>
          <a:xfrm flipH="1" rot="8100000">
            <a:off x="5397120" y="2887200"/>
            <a:ext cx="1414440" cy="143964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479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6" name="文本框 27"/>
          <p:cNvSpPr/>
          <p:nvPr/>
        </p:nvSpPr>
        <p:spPr>
          <a:xfrm>
            <a:off x="5564160" y="3538440"/>
            <a:ext cx="1123920" cy="10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1" lang="en-US" sz="2400" spc="-1" strike="noStrike">
              <a:solidFill>
                <a:srgbClr val="000000"/>
              </a:solidFill>
              <a:latin typeface="Arial"/>
            </a:endParaRPr>
          </a:p>
        </p:txBody>
      </p:sp>
      <p:sp>
        <p:nvSpPr>
          <p:cNvPr id="2057" name="文本框 5"/>
          <p:cNvSpPr/>
          <p:nvPr/>
        </p:nvSpPr>
        <p:spPr>
          <a:xfrm>
            <a:off x="4525920" y="4556160"/>
            <a:ext cx="3240000" cy="1360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复核财务报表或其他 业务对象信息及报告，尤其考虑报告是否适当</a:t>
            </a:r>
            <a:endParaRPr b="1" lang="en-US" sz="2000" spc="-1" strike="noStrike">
              <a:solidFill>
                <a:srgbClr val="000000"/>
              </a:solidFill>
              <a:latin typeface="Arial"/>
            </a:endParaRPr>
          </a:p>
        </p:txBody>
      </p:sp>
      <p:sp>
        <p:nvSpPr>
          <p:cNvPr id="2058" name="椭圆 30"/>
          <p:cNvSpPr/>
          <p:nvPr/>
        </p:nvSpPr>
        <p:spPr>
          <a:xfrm>
            <a:off x="9358200" y="4362480"/>
            <a:ext cx="155520" cy="156960"/>
          </a:xfrm>
          <a:prstGeom prst="ellipse">
            <a:avLst/>
          </a:pr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9" name="任意多边形 55"/>
          <p:cNvSpPr/>
          <p:nvPr/>
        </p:nvSpPr>
        <p:spPr>
          <a:xfrm flipH="1" rot="8100000">
            <a:off x="8762040" y="2944080"/>
            <a:ext cx="1359000" cy="1330560"/>
          </a:xfrm>
          <a:custGeom>
            <a:avLst/>
            <a:gdLst/>
            <a:ahLst/>
            <a:rect l="l" t="t" r="r" b="b"/>
            <a:pathLst>
              <a:path w="1071330" h="1071333">
                <a:moveTo>
                  <a:pt x="499605" y="985614"/>
                </a:moveTo>
                <a:lnTo>
                  <a:pt x="978876" y="506343"/>
                </a:lnTo>
                <a:cubicBezTo>
                  <a:pt x="993163" y="492057"/>
                  <a:pt x="1005664" y="476661"/>
                  <a:pt x="1016378" y="460432"/>
                </a:cubicBezTo>
                <a:lnTo>
                  <a:pt x="1020824" y="451984"/>
                </a:lnTo>
                <a:lnTo>
                  <a:pt x="1021972" y="450592"/>
                </a:lnTo>
                <a:cubicBezTo>
                  <a:pt x="1053134" y="404467"/>
                  <a:pt x="1071330" y="348861"/>
                  <a:pt x="1071330" y="289006"/>
                </a:cubicBezTo>
                <a:lnTo>
                  <a:pt x="1071330" y="0"/>
                </a:lnTo>
                <a:lnTo>
                  <a:pt x="782324" y="0"/>
                </a:lnTo>
                <a:cubicBezTo>
                  <a:pt x="722469" y="0"/>
                  <a:pt x="666864" y="18196"/>
                  <a:pt x="620738" y="49358"/>
                </a:cubicBezTo>
                <a:lnTo>
                  <a:pt x="619333" y="50517"/>
                </a:lnTo>
                <a:lnTo>
                  <a:pt x="610901" y="54955"/>
                </a:lnTo>
                <a:cubicBezTo>
                  <a:pt x="594672" y="65670"/>
                  <a:pt x="579276" y="78170"/>
                  <a:pt x="564990" y="92456"/>
                </a:cubicBezTo>
                <a:lnTo>
                  <a:pt x="85718" y="571728"/>
                </a:lnTo>
                <a:cubicBezTo>
                  <a:pt x="-28573" y="686020"/>
                  <a:pt x="-28573" y="871323"/>
                  <a:pt x="85718" y="985614"/>
                </a:cubicBezTo>
                <a:cubicBezTo>
                  <a:pt x="200010" y="1099906"/>
                  <a:pt x="385313" y="1099906"/>
                  <a:pt x="499605" y="985614"/>
                </a:cubicBezTo>
                <a:close/>
              </a:path>
            </a:pathLst>
          </a:custGeom>
          <a:solidFill>
            <a:srgbClr val="2f75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0" name="文本框 34"/>
          <p:cNvSpPr/>
          <p:nvPr/>
        </p:nvSpPr>
        <p:spPr>
          <a:xfrm>
            <a:off x="8486640" y="3305160"/>
            <a:ext cx="19004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1" lang="en-US" sz="2400" spc="-1" strike="noStrike">
              <a:solidFill>
                <a:srgbClr val="000000"/>
              </a:solidFill>
              <a:latin typeface="Arial"/>
            </a:endParaRPr>
          </a:p>
        </p:txBody>
      </p:sp>
      <p:sp>
        <p:nvSpPr>
          <p:cNvPr id="2061" name="文本框 5"/>
          <p:cNvSpPr/>
          <p:nvPr/>
        </p:nvSpPr>
        <p:spPr>
          <a:xfrm>
            <a:off x="8096400" y="4556160"/>
            <a:ext cx="3328920" cy="1436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选取与项目组做出重大判断及形 成结论有关的工作底稿进行复核</a:t>
            </a:r>
            <a:endParaRPr b="1" lang="en-US" sz="2000" spc="-1" strike="noStrike">
              <a:solidFill>
                <a:srgbClr val="000000"/>
              </a:solidFill>
              <a:latin typeface="Arial"/>
            </a:endParaRPr>
          </a:p>
        </p:txBody>
      </p:sp>
      <p:sp>
        <p:nvSpPr>
          <p:cNvPr id="2062" name="文本框 2"/>
          <p:cNvSpPr/>
          <p:nvPr/>
        </p:nvSpPr>
        <p:spPr>
          <a:xfrm>
            <a:off x="687240" y="1390680"/>
            <a:ext cx="10507680" cy="1150560"/>
          </a:xfrm>
          <a:prstGeom prst="rect">
            <a:avLst/>
          </a:prstGeom>
          <a:noFill/>
          <a:ln w="0">
            <a:noFill/>
          </a:ln>
        </p:spPr>
        <p:style>
          <a:lnRef idx="0"/>
          <a:fillRef idx="0"/>
          <a:effectRef idx="0"/>
          <a:fontRef idx="minor"/>
        </p:style>
        <p:txBody>
          <a:bodyPr lIns="71640" rIns="71640" tIns="36360" bIns="36360" anchor="t">
            <a:spAutoFit/>
          </a:bodyPr>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项目质量控制复核是指在出具审计报告前，项目质量控制复核人员对项目组 做出的重大判断和准备审计报告时得出的结论进行客观评价的过程。</a:t>
            </a:r>
            <a:endParaRPr b="1" lang="en-US" sz="2400" spc="-1" strike="noStrike">
              <a:solidFill>
                <a:srgbClr val="000000"/>
              </a:solidFill>
              <a:latin typeface="Arial"/>
            </a:endParaRPr>
          </a:p>
          <a:p>
            <a:pPr lvl="1" marL="179280" indent="-1792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项目质量控制复核通常包括：</a:t>
            </a:r>
            <a:endParaRPr b="1" lang="en-US" sz="2400" spc="-1" strike="noStrike">
              <a:solidFill>
                <a:srgbClr val="000000"/>
              </a:solidFill>
              <a:latin typeface="Arial"/>
            </a:endParaRPr>
          </a:p>
        </p:txBody>
      </p:sp>
      <p:grpSp>
        <p:nvGrpSpPr>
          <p:cNvPr id="2063" name="组合 28"/>
          <p:cNvGrpSpPr/>
          <p:nvPr/>
        </p:nvGrpSpPr>
        <p:grpSpPr>
          <a:xfrm>
            <a:off x="870120" y="404640"/>
            <a:ext cx="10359360" cy="0"/>
            <a:chOff x="870120" y="404640"/>
            <a:chExt cx="10359360" cy="0"/>
          </a:xfrm>
        </p:grpSpPr>
        <p:sp>
          <p:nvSpPr>
            <p:cNvPr id="2064" name="直接连接符 52"/>
            <p:cNvSpPr/>
            <p:nvPr/>
          </p:nvSpPr>
          <p:spPr>
            <a:xfrm>
              <a:off x="870120" y="404640"/>
              <a:ext cx="145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5" name="直接连接符 64"/>
            <p:cNvSpPr/>
            <p:nvPr/>
          </p:nvSpPr>
          <p:spPr>
            <a:xfrm>
              <a:off x="9672840" y="404640"/>
              <a:ext cx="155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66" name="文本框 31"/>
          <p:cNvSpPr/>
          <p:nvPr/>
        </p:nvSpPr>
        <p:spPr>
          <a:xfrm flipV="1" rot="10800000">
            <a:off x="3187440" y="865080"/>
            <a:ext cx="58626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7" name="文本框 28"/>
          <p:cNvSpPr/>
          <p:nvPr/>
        </p:nvSpPr>
        <p:spPr>
          <a:xfrm>
            <a:off x="3503520" y="78732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三、完成项目质量控制复核</a:t>
            </a:r>
            <a:endParaRPr b="1" lang="en-US" sz="3200" spc="-1" strike="noStrike">
              <a:solidFill>
                <a:srgbClr val="000000"/>
              </a:solidFill>
              <a:latin typeface="Arial"/>
            </a:endParaRPr>
          </a:p>
        </p:txBody>
      </p:sp>
      <p:sp>
        <p:nvSpPr>
          <p:cNvPr id="2068" name="矩形 3"/>
          <p:cNvSpPr/>
          <p:nvPr/>
        </p:nvSpPr>
        <p:spPr>
          <a:xfrm>
            <a:off x="2522520" y="87480"/>
            <a:ext cx="683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任务一 审计报告阶段的主要工作</a:t>
            </a:r>
            <a:endParaRPr b="1" lang="en-US" sz="3600" spc="-1" strike="noStrike">
              <a:solidFill>
                <a:srgbClr val="000000"/>
              </a:solidFill>
              <a:latin typeface="Arial"/>
            </a:endParaRPr>
          </a:p>
        </p:txBody>
      </p:sp>
      <p:grpSp>
        <p:nvGrpSpPr>
          <p:cNvPr id="2069" name="组合 112"/>
          <p:cNvGrpSpPr/>
          <p:nvPr/>
        </p:nvGrpSpPr>
        <p:grpSpPr>
          <a:xfrm>
            <a:off x="293760" y="1332000"/>
            <a:ext cx="11795040" cy="1790640"/>
            <a:chOff x="293760" y="1332000"/>
            <a:chExt cx="11795040" cy="1790640"/>
          </a:xfrm>
        </p:grpSpPr>
        <p:sp>
          <p:nvSpPr>
            <p:cNvPr id="2070" name="圆角矩形 113"/>
            <p:cNvSpPr/>
            <p:nvPr/>
          </p:nvSpPr>
          <p:spPr>
            <a:xfrm>
              <a:off x="381960" y="1404720"/>
              <a:ext cx="11458440" cy="161244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71" name="组合 114"/>
            <p:cNvGrpSpPr/>
            <p:nvPr/>
          </p:nvGrpSpPr>
          <p:grpSpPr>
            <a:xfrm>
              <a:off x="293760" y="1332000"/>
              <a:ext cx="673560" cy="180360"/>
              <a:chOff x="293760" y="1332000"/>
              <a:chExt cx="673560" cy="180360"/>
            </a:xfrm>
          </p:grpSpPr>
          <p:sp>
            <p:nvSpPr>
              <p:cNvPr id="2072" name="菱形 46"/>
              <p:cNvSpPr/>
              <p:nvPr/>
            </p:nvSpPr>
            <p:spPr>
              <a:xfrm>
                <a:off x="293760" y="1332000"/>
                <a:ext cx="39204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3" name="菱形 47"/>
              <p:cNvSpPr/>
              <p:nvPr/>
            </p:nvSpPr>
            <p:spPr>
              <a:xfrm>
                <a:off x="575280" y="1332000"/>
                <a:ext cx="39204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4" name="组合 117"/>
            <p:cNvGrpSpPr/>
            <p:nvPr/>
          </p:nvGrpSpPr>
          <p:grpSpPr>
            <a:xfrm>
              <a:off x="293760" y="2942280"/>
              <a:ext cx="673560" cy="180360"/>
              <a:chOff x="293760" y="2942280"/>
              <a:chExt cx="673560" cy="180360"/>
            </a:xfrm>
          </p:grpSpPr>
          <p:sp>
            <p:nvSpPr>
              <p:cNvPr id="2075" name="菱形 44"/>
              <p:cNvSpPr/>
              <p:nvPr/>
            </p:nvSpPr>
            <p:spPr>
              <a:xfrm>
                <a:off x="293760" y="2942280"/>
                <a:ext cx="39204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6" name="菱形 45"/>
              <p:cNvSpPr/>
              <p:nvPr/>
            </p:nvSpPr>
            <p:spPr>
              <a:xfrm>
                <a:off x="575280" y="2942280"/>
                <a:ext cx="39204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7" name="组合 120"/>
            <p:cNvGrpSpPr/>
            <p:nvPr/>
          </p:nvGrpSpPr>
          <p:grpSpPr>
            <a:xfrm>
              <a:off x="11401920" y="2942280"/>
              <a:ext cx="686880" cy="180360"/>
              <a:chOff x="11401920" y="2942280"/>
              <a:chExt cx="686880" cy="180360"/>
            </a:xfrm>
          </p:grpSpPr>
          <p:sp>
            <p:nvSpPr>
              <p:cNvPr id="2078" name="菱形 42"/>
              <p:cNvSpPr/>
              <p:nvPr/>
            </p:nvSpPr>
            <p:spPr>
              <a:xfrm flipH="1">
                <a:off x="11681280" y="2942280"/>
                <a:ext cx="40752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9" name="菱形 43"/>
              <p:cNvSpPr/>
              <p:nvPr/>
            </p:nvSpPr>
            <p:spPr>
              <a:xfrm flipH="1">
                <a:off x="11401920" y="2942280"/>
                <a:ext cx="40752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0" name="组合 123"/>
            <p:cNvGrpSpPr/>
            <p:nvPr/>
          </p:nvGrpSpPr>
          <p:grpSpPr>
            <a:xfrm>
              <a:off x="11414520" y="1341360"/>
              <a:ext cx="673560" cy="180360"/>
              <a:chOff x="11414520" y="1341360"/>
              <a:chExt cx="673560" cy="180360"/>
            </a:xfrm>
          </p:grpSpPr>
          <p:sp>
            <p:nvSpPr>
              <p:cNvPr id="2081" name="菱形 40"/>
              <p:cNvSpPr/>
              <p:nvPr/>
            </p:nvSpPr>
            <p:spPr>
              <a:xfrm flipH="1">
                <a:off x="11695680" y="1341360"/>
                <a:ext cx="392040" cy="180360"/>
              </a:xfrm>
              <a:prstGeom prst="diamond">
                <a:avLst/>
              </a:prstGeom>
              <a:solidFill>
                <a:srgbClr val="5b9bd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2" name="菱形 41"/>
              <p:cNvSpPr/>
              <p:nvPr/>
            </p:nvSpPr>
            <p:spPr>
              <a:xfrm flipH="1">
                <a:off x="11414160" y="1341360"/>
                <a:ext cx="392040" cy="180360"/>
              </a:xfrm>
              <a:prstGeom prst="diamond">
                <a:avLst/>
              </a:prstGeom>
              <a:solidFill>
                <a:srgbClr val="bdd7ee"/>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42">
                                  <p:stCondLst>
                                    <p:cond delay="0"/>
                                  </p:stCondLst>
                                  <p:childTnLst>
                                    <p:set>
                                      <p:cBhvr>
                                        <p:cTn id="73" dur="1" fill="hold">
                                          <p:stCondLst>
                                            <p:cond delay="0"/>
                                          </p:stCondLst>
                                        </p:cTn>
                                        <p:tgtEl>
                                          <p:spTgt spid="2062"/>
                                        </p:tgtEl>
                                        <p:attrNameLst>
                                          <p:attrName>style.visibility</p:attrName>
                                        </p:attrNameLst>
                                      </p:cBhvr>
                                      <p:to>
                                        <p:strVal val="visible"/>
                                      </p:to>
                                    </p:set>
                                    <p:animEffect filter="fade" transition="in">
                                      <p:cBhvr additive="repl">
                                        <p:cTn id="74" dur="1000"/>
                                        <p:tgtEl>
                                          <p:spTgt spid="2062"/>
                                        </p:tgtEl>
                                      </p:cBhvr>
                                    </p:animEffect>
                                    <p:anim calcmode="lin" valueType="num">
                                      <p:cBhvr additive="repl">
                                        <p:cTn id="75" dur="1000" fill="hold"/>
                                        <p:tgtEl>
                                          <p:spTgt spid="2062"/>
                                        </p:tgtEl>
                                        <p:attrNameLst>
                                          <p:attrName>ppt_x</p:attrName>
                                        </p:attrNameLst>
                                      </p:cBhvr>
                                      <p:tavLst>
                                        <p:tav tm="0">
                                          <p:val>
                                            <p:strVal val="#ppt_x"/>
                                          </p:val>
                                        </p:tav>
                                        <p:tav tm="100000">
                                          <p:val>
                                            <p:strVal val="#ppt_x"/>
                                          </p:val>
                                        </p:tav>
                                      </p:tavLst>
                                    </p:anim>
                                    <p:anim calcmode="lin" valueType="num">
                                      <p:cBhvr additive="repl">
                                        <p:cTn id="76" dur="1000" fill="hold"/>
                                        <p:tgtEl>
                                          <p:spTgt spid="2062"/>
                                        </p:tgtEl>
                                        <p:attrNameLst>
                                          <p:attrName>ppt_y</p:attrName>
                                        </p:attrNameLst>
                                      </p:cBhvr>
                                      <p:tavLst>
                                        <p:tav tm="0">
                                          <p:val>
                                            <p:strVal val="#ppt_y+.1"/>
                                          </p:val>
                                        </p:tav>
                                        <p:tav tm="100000">
                                          <p:val>
                                            <p:strVal val="#ppt_y"/>
                                          </p:val>
                                        </p:tav>
                                      </p:tavLst>
                                    </p:anim>
                                  </p:childTnLst>
                                </p:cTn>
                              </p:par>
                            </p:childTnLst>
                          </p:cTn>
                        </p:par>
                        <p:par>
                          <p:cTn id="77" fill="hold">
                            <p:stCondLst>
                              <p:cond delay="1000"/>
                            </p:stCondLst>
                            <p:childTnLst>
                              <p:par>
                                <p:cTn id="78" dur="indefinite" nodeType="afterEffect" fill="hold" presetClass="entr" presetID="37">
                                  <p:stCondLst>
                                    <p:cond delay="0"/>
                                  </p:stCondLst>
                                  <p:childTnLst>
                                    <p:set>
                                      <p:cBhvr>
                                        <p:cTn id="79" dur="1" fill="hold">
                                          <p:stCondLst>
                                            <p:cond delay="0"/>
                                          </p:stCondLst>
                                        </p:cTn>
                                        <p:tgtEl>
                                          <p:spTgt spid="2053"/>
                                        </p:tgtEl>
                                        <p:attrNameLst>
                                          <p:attrName>style.visibility</p:attrName>
                                        </p:attrNameLst>
                                      </p:cBhvr>
                                      <p:to>
                                        <p:strVal val="visible"/>
                                      </p:to>
                                    </p:set>
                                    <p:animEffect filter="fade" transition="in">
                                      <p:cBhvr additive="repl">
                                        <p:cTn id="80" dur="1000"/>
                                        <p:tgtEl>
                                          <p:spTgt spid="2053"/>
                                        </p:tgtEl>
                                      </p:cBhvr>
                                    </p:animEffect>
                                    <p:anim calcmode="lin" valueType="num">
                                      <p:cBhvr additive="repl">
                                        <p:cTn id="81" dur="1000" fill="hold"/>
                                        <p:tgtEl>
                                          <p:spTgt spid="2053"/>
                                        </p:tgtEl>
                                        <p:attrNameLst>
                                          <p:attrName>ppt_x</p:attrName>
                                        </p:attrNameLst>
                                      </p:cBhvr>
                                      <p:tavLst>
                                        <p:tav tm="0">
                                          <p:val>
                                            <p:strVal val="#ppt_x"/>
                                          </p:val>
                                        </p:tav>
                                        <p:tav tm="100000">
                                          <p:val>
                                            <p:strVal val="#ppt_x"/>
                                          </p:val>
                                        </p:tav>
                                      </p:tavLst>
                                    </p:anim>
                                    <p:anim calcmode="lin" valueType="num">
                                      <p:cBhvr additive="repl">
                                        <p:cTn id="82" dur="900" fill="hold"/>
                                        <p:tgtEl>
                                          <p:spTgt spid="2053"/>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2053"/>
                                        </p:tgtEl>
                                        <p:attrNameLst>
                                          <p:attrName>ppt_y</p:attrName>
                                        </p:attrNameLst>
                                      </p:cBhvr>
                                      <p:tavLst>
                                        <p:tav tm="0">
                                          <p:val>
                                            <p:strVal val="#ppt_y-.03"/>
                                          </p:val>
                                        </p:tav>
                                        <p:tav tm="100000">
                                          <p:val>
                                            <p:strVal val="#ppt_y"/>
                                          </p:val>
                                        </p:tav>
                                      </p:tavLst>
                                    </p:anim>
                                  </p:childTnLst>
                                </p:cTn>
                              </p:par>
                            </p:childTnLst>
                          </p:cTn>
                        </p:par>
                        <p:par>
                          <p:cTn id="84" fill="hold">
                            <p:stCondLst>
                              <p:cond delay="2000"/>
                            </p:stCondLst>
                            <p:childTnLst>
                              <p:par>
                                <p:cTn id="85" dur="indefinite" nodeType="afterEffect" fill="hold" presetClass="entr" presetID="37">
                                  <p:stCondLst>
                                    <p:cond delay="0"/>
                                  </p:stCondLst>
                                  <p:childTnLst>
                                    <p:set>
                                      <p:cBhvr>
                                        <p:cTn id="86" dur="1" fill="hold">
                                          <p:stCondLst>
                                            <p:cond delay="0"/>
                                          </p:stCondLst>
                                        </p:cTn>
                                        <p:tgtEl>
                                          <p:spTgt spid="2057"/>
                                        </p:tgtEl>
                                        <p:attrNameLst>
                                          <p:attrName>style.visibility</p:attrName>
                                        </p:attrNameLst>
                                      </p:cBhvr>
                                      <p:to>
                                        <p:strVal val="visible"/>
                                      </p:to>
                                    </p:set>
                                    <p:animEffect filter="fade" transition="in">
                                      <p:cBhvr additive="repl">
                                        <p:cTn id="87" dur="1000"/>
                                        <p:tgtEl>
                                          <p:spTgt spid="2057"/>
                                        </p:tgtEl>
                                      </p:cBhvr>
                                    </p:animEffect>
                                    <p:anim calcmode="lin" valueType="num">
                                      <p:cBhvr additive="repl">
                                        <p:cTn id="88" dur="1000" fill="hold"/>
                                        <p:tgtEl>
                                          <p:spTgt spid="2057"/>
                                        </p:tgtEl>
                                        <p:attrNameLst>
                                          <p:attrName>ppt_x</p:attrName>
                                        </p:attrNameLst>
                                      </p:cBhvr>
                                      <p:tavLst>
                                        <p:tav tm="0">
                                          <p:val>
                                            <p:strVal val="#ppt_x"/>
                                          </p:val>
                                        </p:tav>
                                        <p:tav tm="100000">
                                          <p:val>
                                            <p:strVal val="#ppt_x"/>
                                          </p:val>
                                        </p:tav>
                                      </p:tavLst>
                                    </p:anim>
                                    <p:anim calcmode="lin" valueType="num">
                                      <p:cBhvr additive="repl">
                                        <p:cTn id="89" dur="900" fill="hold"/>
                                        <p:tgtEl>
                                          <p:spTgt spid="2057"/>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057"/>
                                        </p:tgtEl>
                                        <p:attrNameLst>
                                          <p:attrName>ppt_y</p:attrName>
                                        </p:attrNameLst>
                                      </p:cBhvr>
                                      <p:tavLst>
                                        <p:tav tm="0">
                                          <p:val>
                                            <p:strVal val="#ppt_y-.03"/>
                                          </p:val>
                                        </p:tav>
                                        <p:tav tm="100000">
                                          <p:val>
                                            <p:strVal val="#ppt_y"/>
                                          </p:val>
                                        </p:tav>
                                      </p:tavLst>
                                    </p:anim>
                                  </p:childTnLst>
                                </p:cTn>
                              </p:par>
                            </p:childTnLst>
                          </p:cTn>
                        </p:par>
                        <p:par>
                          <p:cTn id="91" fill="hold">
                            <p:stCondLst>
                              <p:cond delay="3000"/>
                            </p:stCondLst>
                            <p:childTnLst>
                              <p:par>
                                <p:cTn id="92" dur="indefinite" nodeType="afterEffect" fill="hold" presetClass="entr" presetID="37">
                                  <p:stCondLst>
                                    <p:cond delay="0"/>
                                  </p:stCondLst>
                                  <p:childTnLst>
                                    <p:set>
                                      <p:cBhvr>
                                        <p:cTn id="93" dur="1" fill="hold">
                                          <p:stCondLst>
                                            <p:cond delay="0"/>
                                          </p:stCondLst>
                                        </p:cTn>
                                        <p:tgtEl>
                                          <p:spTgt spid="2061"/>
                                        </p:tgtEl>
                                        <p:attrNameLst>
                                          <p:attrName>style.visibility</p:attrName>
                                        </p:attrNameLst>
                                      </p:cBhvr>
                                      <p:to>
                                        <p:strVal val="visible"/>
                                      </p:to>
                                    </p:set>
                                    <p:animEffect filter="fade" transition="in">
                                      <p:cBhvr additive="repl">
                                        <p:cTn id="94" dur="1000"/>
                                        <p:tgtEl>
                                          <p:spTgt spid="2061"/>
                                        </p:tgtEl>
                                      </p:cBhvr>
                                    </p:animEffect>
                                    <p:anim calcmode="lin" valueType="num">
                                      <p:cBhvr additive="repl">
                                        <p:cTn id="95" dur="1000" fill="hold"/>
                                        <p:tgtEl>
                                          <p:spTgt spid="2061"/>
                                        </p:tgtEl>
                                        <p:attrNameLst>
                                          <p:attrName>ppt_x</p:attrName>
                                        </p:attrNameLst>
                                      </p:cBhvr>
                                      <p:tavLst>
                                        <p:tav tm="0">
                                          <p:val>
                                            <p:strVal val="#ppt_x"/>
                                          </p:val>
                                        </p:tav>
                                        <p:tav tm="100000">
                                          <p:val>
                                            <p:strVal val="#ppt_x"/>
                                          </p:val>
                                        </p:tav>
                                      </p:tavLst>
                                    </p:anim>
                                    <p:anim calcmode="lin" valueType="num">
                                      <p:cBhvr additive="repl">
                                        <p:cTn id="96" dur="900" fill="hold"/>
                                        <p:tgtEl>
                                          <p:spTgt spid="2061"/>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20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3" name="组合 28"/>
          <p:cNvGrpSpPr/>
          <p:nvPr/>
        </p:nvGrpSpPr>
        <p:grpSpPr>
          <a:xfrm>
            <a:off x="944640" y="476280"/>
            <a:ext cx="10360080" cy="0"/>
            <a:chOff x="944640" y="476280"/>
            <a:chExt cx="10360080" cy="0"/>
          </a:xfrm>
        </p:grpSpPr>
        <p:sp>
          <p:nvSpPr>
            <p:cNvPr id="2084" name="直接连接符 52"/>
            <p:cNvSpPr/>
            <p:nvPr/>
          </p:nvSpPr>
          <p:spPr>
            <a:xfrm>
              <a:off x="944640" y="476280"/>
              <a:ext cx="11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5" name="直接连接符 64"/>
            <p:cNvSpPr/>
            <p:nvPr/>
          </p:nvSpPr>
          <p:spPr>
            <a:xfrm>
              <a:off x="9939600" y="476280"/>
              <a:ext cx="136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86" name="文本框 2"/>
          <p:cNvSpPr/>
          <p:nvPr/>
        </p:nvSpPr>
        <p:spPr>
          <a:xfrm>
            <a:off x="4052880" y="668160"/>
            <a:ext cx="3952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四、评价审计结果</a:t>
            </a:r>
            <a:endParaRPr b="1" lang="en-US" sz="3200" spc="-1" strike="noStrike">
              <a:solidFill>
                <a:srgbClr val="000000"/>
              </a:solidFill>
              <a:latin typeface="Arial"/>
            </a:endParaRPr>
          </a:p>
        </p:txBody>
      </p:sp>
      <p:sp>
        <p:nvSpPr>
          <p:cNvPr id="2087" name="Title 6"/>
          <p:cNvSpPr/>
          <p:nvPr/>
        </p:nvSpPr>
        <p:spPr>
          <a:xfrm>
            <a:off x="66600" y="1141560"/>
            <a:ext cx="12284280" cy="2246400"/>
          </a:xfrm>
          <a:prstGeom prst="rect">
            <a:avLst/>
          </a:prstGeom>
          <a:noFill/>
          <a:ln w="0">
            <a:noFill/>
          </a:ln>
        </p:spPr>
        <p:style>
          <a:lnRef idx="0"/>
          <a:fillRef idx="0"/>
          <a:effectRef idx="0"/>
          <a:fontRef idx="minor"/>
        </p:style>
        <p:txBody>
          <a:bodyPr lIns="72000" rIns="72000" tIns="36360" bIns="3636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      </a:t>
            </a:r>
            <a:r>
              <a:rPr b="0" lang="zh-CN" sz="2400" spc="-1" strike="noStrike">
                <a:solidFill>
                  <a:srgbClr val="000000"/>
                </a:solidFill>
                <a:latin typeface="Arial Black"/>
                <a:ea typeface="黑体"/>
              </a:rPr>
              <a:t>注册会计师评价审计结果，主要为了确定将要发表的审计意见的类型以及在 整个审计</a:t>
            </a:r>
            <a:endParaRPr b="1" lang="en-US" sz="24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黑体"/>
              </a:rPr>
              <a:t>  </a:t>
            </a:r>
            <a:r>
              <a:rPr b="0" lang="zh-CN" sz="2400" spc="-1" strike="noStrike">
                <a:solidFill>
                  <a:srgbClr val="000000"/>
                </a:solidFill>
                <a:latin typeface="Arial Black"/>
                <a:ea typeface="黑体"/>
              </a:rPr>
              <a:t>工作中是否遵循了审计准则。主要包括以下工作内容：</a:t>
            </a:r>
            <a:endParaRPr b="1" lang="en-US" sz="2400" spc="-1" strike="noStrike">
              <a:solidFill>
                <a:srgbClr val="000000"/>
              </a:solidFill>
              <a:latin typeface="Arial"/>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75b4"/>
                </a:solidFill>
                <a:latin typeface="微软雅黑"/>
                <a:ea typeface="微软雅黑"/>
              </a:rPr>
              <a:t>（一）对重要性和审计风险进行最终的评价 （二）对被审计单位已审计财务报表形成审计意见并草拟审计报告</a:t>
            </a:r>
            <a:endParaRPr b="1" lang="en-US" sz="2000" spc="-1" strike="noStrike">
              <a:solidFill>
                <a:srgbClr val="000000"/>
              </a:solidFill>
              <a:latin typeface="Arial"/>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8" name="直接连接符 143"/>
          <p:cNvSpPr/>
          <p:nvPr/>
        </p:nvSpPr>
        <p:spPr>
          <a:xfrm>
            <a:off x="6164280" y="5456160"/>
            <a:ext cx="0" cy="1077840"/>
          </a:xfrm>
          <a:prstGeom prst="line">
            <a:avLst/>
          </a:prstGeom>
          <a:ln w="41400">
            <a:solidFill>
              <a:srgbClr val="f2f2f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089" name="组合 69"/>
          <p:cNvGrpSpPr/>
          <p:nvPr/>
        </p:nvGrpSpPr>
        <p:grpSpPr>
          <a:xfrm>
            <a:off x="5483160" y="3633840"/>
            <a:ext cx="2335320" cy="2022480"/>
            <a:chOff x="5483160" y="3633840"/>
            <a:chExt cx="2335320" cy="2022480"/>
          </a:xfrm>
        </p:grpSpPr>
        <p:sp>
          <p:nvSpPr>
            <p:cNvPr id="2090" name="PA-任意多边形 81"/>
            <p:cNvSpPr/>
            <p:nvPr/>
          </p:nvSpPr>
          <p:spPr>
            <a:xfrm>
              <a:off x="5672880" y="5182560"/>
              <a:ext cx="82080" cy="10152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1" name="PA-任意多边形 82"/>
            <p:cNvSpPr/>
            <p:nvPr/>
          </p:nvSpPr>
          <p:spPr>
            <a:xfrm>
              <a:off x="5545440" y="5195520"/>
              <a:ext cx="102240" cy="21168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2" name="PA-任意多边形 86"/>
            <p:cNvSpPr/>
            <p:nvPr/>
          </p:nvSpPr>
          <p:spPr>
            <a:xfrm>
              <a:off x="5495760" y="5346360"/>
              <a:ext cx="117000" cy="6048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3" name="PA-任意多边形 87"/>
            <p:cNvSpPr/>
            <p:nvPr/>
          </p:nvSpPr>
          <p:spPr>
            <a:xfrm>
              <a:off x="5595840" y="5195520"/>
              <a:ext cx="29520" cy="5004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4" name="PA-任意多边形 88"/>
            <p:cNvSpPr/>
            <p:nvPr/>
          </p:nvSpPr>
          <p:spPr>
            <a:xfrm>
              <a:off x="5603400" y="5254200"/>
              <a:ext cx="29520" cy="5004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5" name="PA-任意多边形 89"/>
            <p:cNvSpPr/>
            <p:nvPr/>
          </p:nvSpPr>
          <p:spPr>
            <a:xfrm>
              <a:off x="5595840" y="5310360"/>
              <a:ext cx="29520" cy="4644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6" name="PA-任意多边形 90"/>
            <p:cNvSpPr/>
            <p:nvPr/>
          </p:nvSpPr>
          <p:spPr>
            <a:xfrm>
              <a:off x="5580000" y="5362920"/>
              <a:ext cx="37800" cy="4068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7" name="PA-任意多边形 92"/>
            <p:cNvSpPr/>
            <p:nvPr/>
          </p:nvSpPr>
          <p:spPr>
            <a:xfrm>
              <a:off x="5543280" y="5120640"/>
              <a:ext cx="142200" cy="6984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8" name="PA-任意多边形 93"/>
            <p:cNvSpPr/>
            <p:nvPr/>
          </p:nvSpPr>
          <p:spPr>
            <a:xfrm>
              <a:off x="5572800" y="5126400"/>
              <a:ext cx="52560" cy="2196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99" name="组合 96"/>
            <p:cNvGrpSpPr/>
            <p:nvPr/>
          </p:nvGrpSpPr>
          <p:grpSpPr>
            <a:xfrm>
              <a:off x="5483160" y="3633840"/>
              <a:ext cx="2335320" cy="2022480"/>
              <a:chOff x="5483160" y="3633840"/>
              <a:chExt cx="2335320" cy="2022480"/>
            </a:xfrm>
          </p:grpSpPr>
          <p:sp>
            <p:nvSpPr>
              <p:cNvPr id="2100" name="PA-矩形 120"/>
              <p:cNvSpPr/>
              <p:nvPr/>
            </p:nvSpPr>
            <p:spPr>
              <a:xfrm>
                <a:off x="6175800" y="4116240"/>
                <a:ext cx="942840" cy="104508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1" name="PA-任意多边形 56"/>
              <p:cNvSpPr/>
              <p:nvPr/>
            </p:nvSpPr>
            <p:spPr>
              <a:xfrm>
                <a:off x="6639120" y="4685400"/>
                <a:ext cx="497160" cy="97092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2" name="PA-任意多边形 57"/>
              <p:cNvSpPr/>
              <p:nvPr/>
            </p:nvSpPr>
            <p:spPr>
              <a:xfrm>
                <a:off x="6894720" y="4796640"/>
                <a:ext cx="421200" cy="72972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3" name="PA-任意多边形 58"/>
              <p:cNvSpPr/>
              <p:nvPr/>
            </p:nvSpPr>
            <p:spPr>
              <a:xfrm>
                <a:off x="7048800" y="5193360"/>
                <a:ext cx="526680" cy="32508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4" name="PA-任意多边形 59"/>
              <p:cNvSpPr/>
              <p:nvPr/>
            </p:nvSpPr>
            <p:spPr>
              <a:xfrm>
                <a:off x="6644520" y="3633840"/>
                <a:ext cx="426240" cy="98712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5" name="PA-任意多边形 60"/>
              <p:cNvSpPr/>
              <p:nvPr/>
            </p:nvSpPr>
            <p:spPr>
              <a:xfrm>
                <a:off x="6165000" y="4685400"/>
                <a:ext cx="497160" cy="97092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6" name="PA-任意多边形 61"/>
              <p:cNvSpPr/>
              <p:nvPr/>
            </p:nvSpPr>
            <p:spPr>
              <a:xfrm>
                <a:off x="6439680" y="4505400"/>
                <a:ext cx="419040" cy="82332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7" name="PA-任意多边形 62"/>
              <p:cNvSpPr/>
              <p:nvPr/>
            </p:nvSpPr>
            <p:spPr>
              <a:xfrm>
                <a:off x="6505200" y="4505400"/>
                <a:ext cx="289080" cy="27108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8" name="PA-任意多边形 63"/>
              <p:cNvSpPr/>
              <p:nvPr/>
            </p:nvSpPr>
            <p:spPr>
              <a:xfrm>
                <a:off x="6514560" y="4505400"/>
                <a:ext cx="274320" cy="19404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9" name="PA-任意多边形 64"/>
              <p:cNvSpPr/>
              <p:nvPr/>
            </p:nvSpPr>
            <p:spPr>
              <a:xfrm>
                <a:off x="6477480" y="4505400"/>
                <a:ext cx="172080" cy="43272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0" name="PA-任意多边形 65"/>
              <p:cNvSpPr/>
              <p:nvPr/>
            </p:nvSpPr>
            <p:spPr>
              <a:xfrm>
                <a:off x="6505200" y="4505400"/>
                <a:ext cx="144360" cy="27468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1" name="PA-任意多边形 66"/>
              <p:cNvSpPr/>
              <p:nvPr/>
            </p:nvSpPr>
            <p:spPr>
              <a:xfrm>
                <a:off x="6514560" y="4505400"/>
                <a:ext cx="135000" cy="19404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PA-任意多边形 67"/>
              <p:cNvSpPr/>
              <p:nvPr/>
            </p:nvSpPr>
            <p:spPr>
              <a:xfrm>
                <a:off x="6540120" y="4776840"/>
                <a:ext cx="221400" cy="15552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3" name="PA-任意多边形 68"/>
              <p:cNvSpPr/>
              <p:nvPr/>
            </p:nvSpPr>
            <p:spPr>
              <a:xfrm>
                <a:off x="6599160" y="4833000"/>
                <a:ext cx="102240" cy="52380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4" name="PA-任意多边形 69"/>
              <p:cNvSpPr/>
              <p:nvPr/>
            </p:nvSpPr>
            <p:spPr>
              <a:xfrm>
                <a:off x="6227280" y="3633840"/>
                <a:ext cx="426240" cy="98712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5" name="PA-任意多边形 70"/>
              <p:cNvSpPr/>
              <p:nvPr/>
            </p:nvSpPr>
            <p:spPr>
              <a:xfrm>
                <a:off x="6291720" y="3866400"/>
                <a:ext cx="707400" cy="93816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6" name="PA-任意多边形 71"/>
              <p:cNvSpPr/>
              <p:nvPr/>
            </p:nvSpPr>
            <p:spPr>
              <a:xfrm>
                <a:off x="6291720" y="3866400"/>
                <a:ext cx="362160" cy="80244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7" name="PA-任意多边形 72"/>
              <p:cNvSpPr/>
              <p:nvPr/>
            </p:nvSpPr>
            <p:spPr>
              <a:xfrm>
                <a:off x="6245280" y="3791520"/>
                <a:ext cx="783360" cy="34956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8" name="PA-任意多边形 73"/>
              <p:cNvSpPr/>
              <p:nvPr/>
            </p:nvSpPr>
            <p:spPr>
              <a:xfrm>
                <a:off x="6591600" y="4124880"/>
                <a:ext cx="92880" cy="33552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9" name="PA-任意多边形 74"/>
              <p:cNvSpPr/>
              <p:nvPr/>
            </p:nvSpPr>
            <p:spPr>
              <a:xfrm>
                <a:off x="5989680" y="4796640"/>
                <a:ext cx="422280" cy="72972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0" name="PA-任意多边形 75"/>
              <p:cNvSpPr/>
              <p:nvPr/>
            </p:nvSpPr>
            <p:spPr>
              <a:xfrm>
                <a:off x="5725800" y="5193360"/>
                <a:ext cx="534240" cy="32508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1" name="PA-任意多边形 76"/>
              <p:cNvSpPr/>
              <p:nvPr/>
            </p:nvSpPr>
            <p:spPr>
              <a:xfrm>
                <a:off x="6437520" y="4663080"/>
                <a:ext cx="214200" cy="21384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2" name="PA-任意多边形 77"/>
              <p:cNvSpPr/>
              <p:nvPr/>
            </p:nvSpPr>
            <p:spPr>
              <a:xfrm>
                <a:off x="6651720" y="4669200"/>
                <a:ext cx="212040" cy="20232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3" name="PA-任意多边形 78"/>
              <p:cNvSpPr/>
              <p:nvPr/>
            </p:nvSpPr>
            <p:spPr>
              <a:xfrm>
                <a:off x="6646680" y="4685400"/>
                <a:ext cx="294480" cy="91008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4" name="PA-任意多边形 79"/>
              <p:cNvSpPr/>
              <p:nvPr/>
            </p:nvSpPr>
            <p:spPr>
              <a:xfrm>
                <a:off x="6359400" y="4685400"/>
                <a:ext cx="294480" cy="91008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5" name="PA-任意多边形 80"/>
              <p:cNvSpPr/>
              <p:nvPr/>
            </p:nvSpPr>
            <p:spPr>
              <a:xfrm>
                <a:off x="5530320" y="5162760"/>
                <a:ext cx="230040" cy="26892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6" name="PA-任意多边形 83"/>
              <p:cNvSpPr/>
              <p:nvPr/>
            </p:nvSpPr>
            <p:spPr>
              <a:xfrm>
                <a:off x="5502960" y="5179320"/>
                <a:ext cx="127440" cy="7236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7" name="PA-任意多边形 84"/>
              <p:cNvSpPr/>
              <p:nvPr/>
            </p:nvSpPr>
            <p:spPr>
              <a:xfrm>
                <a:off x="5483160" y="5235480"/>
                <a:ext cx="155160" cy="7452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8" name="PA-任意多边形 85"/>
              <p:cNvSpPr/>
              <p:nvPr/>
            </p:nvSpPr>
            <p:spPr>
              <a:xfrm>
                <a:off x="5488200" y="5290200"/>
                <a:ext cx="142200" cy="7236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9" name="PA-任意多边形 91"/>
              <p:cNvSpPr/>
              <p:nvPr/>
            </p:nvSpPr>
            <p:spPr>
              <a:xfrm>
                <a:off x="5625360" y="5132520"/>
                <a:ext cx="102240" cy="11088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0" name="PA-任意多边形 94"/>
              <p:cNvSpPr/>
              <p:nvPr/>
            </p:nvSpPr>
            <p:spPr>
              <a:xfrm>
                <a:off x="7540920" y="5162760"/>
                <a:ext cx="232200" cy="26892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1" name="PA-任意多边形 95"/>
              <p:cNvSpPr/>
              <p:nvPr/>
            </p:nvSpPr>
            <p:spPr>
              <a:xfrm>
                <a:off x="7546320" y="5182560"/>
                <a:ext cx="82080" cy="10152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2" name="PA-任意多边形 96"/>
              <p:cNvSpPr/>
              <p:nvPr/>
            </p:nvSpPr>
            <p:spPr>
              <a:xfrm>
                <a:off x="7656120" y="5195520"/>
                <a:ext cx="100080" cy="21168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3" name="PA-任意多边形 97"/>
              <p:cNvSpPr/>
              <p:nvPr/>
            </p:nvSpPr>
            <p:spPr>
              <a:xfrm>
                <a:off x="7670880" y="5179320"/>
                <a:ext cx="127440" cy="7236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4" name="PA-任意多边形 98"/>
              <p:cNvSpPr/>
              <p:nvPr/>
            </p:nvSpPr>
            <p:spPr>
              <a:xfrm>
                <a:off x="7663320" y="5235480"/>
                <a:ext cx="155160" cy="7452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5" name="PA-任意多边形 99"/>
              <p:cNvSpPr/>
              <p:nvPr/>
            </p:nvSpPr>
            <p:spPr>
              <a:xfrm>
                <a:off x="7670880" y="5290200"/>
                <a:ext cx="144360" cy="7236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6" name="PA-任意多边形 100"/>
              <p:cNvSpPr/>
              <p:nvPr/>
            </p:nvSpPr>
            <p:spPr>
              <a:xfrm>
                <a:off x="7688880" y="5346360"/>
                <a:ext cx="117000" cy="6048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7" name="PA-任意多边形 101"/>
              <p:cNvSpPr/>
              <p:nvPr/>
            </p:nvSpPr>
            <p:spPr>
              <a:xfrm>
                <a:off x="7676280" y="5195520"/>
                <a:ext cx="29520" cy="5004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8" name="PA-任意多边形 102"/>
              <p:cNvSpPr/>
              <p:nvPr/>
            </p:nvSpPr>
            <p:spPr>
              <a:xfrm>
                <a:off x="7668720" y="5254200"/>
                <a:ext cx="29520" cy="5004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9" name="PA-任意多边形 103"/>
              <p:cNvSpPr/>
              <p:nvPr/>
            </p:nvSpPr>
            <p:spPr>
              <a:xfrm>
                <a:off x="7676280" y="5310360"/>
                <a:ext cx="29520" cy="4644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0" name="PA-任意多边形 104"/>
              <p:cNvSpPr/>
              <p:nvPr/>
            </p:nvSpPr>
            <p:spPr>
              <a:xfrm>
                <a:off x="7683480" y="5362920"/>
                <a:ext cx="39960" cy="4068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1" name="PA-任意多边形 105"/>
              <p:cNvSpPr/>
              <p:nvPr/>
            </p:nvSpPr>
            <p:spPr>
              <a:xfrm>
                <a:off x="7573680" y="5132520"/>
                <a:ext cx="102240" cy="11088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2" name="PA-任意多边形 106"/>
              <p:cNvSpPr/>
              <p:nvPr/>
            </p:nvSpPr>
            <p:spPr>
              <a:xfrm>
                <a:off x="7615800" y="5120640"/>
                <a:ext cx="142200" cy="6984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3" name="PA-任意多边形 107"/>
              <p:cNvSpPr/>
              <p:nvPr/>
            </p:nvSpPr>
            <p:spPr>
              <a:xfrm>
                <a:off x="7676280" y="5126400"/>
                <a:ext cx="54720" cy="2196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4" name="PA-任意多边形 108"/>
              <p:cNvSpPr/>
              <p:nvPr/>
            </p:nvSpPr>
            <p:spPr>
              <a:xfrm>
                <a:off x="6669720" y="4002120"/>
                <a:ext cx="327240" cy="11448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145" name="椭圆 145"/>
          <p:cNvSpPr/>
          <p:nvPr/>
        </p:nvSpPr>
        <p:spPr>
          <a:xfrm>
            <a:off x="6099120" y="5311800"/>
            <a:ext cx="131760" cy="1411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6" name="组合 146"/>
          <p:cNvGrpSpPr/>
          <p:nvPr/>
        </p:nvGrpSpPr>
        <p:grpSpPr>
          <a:xfrm>
            <a:off x="5156280" y="4257720"/>
            <a:ext cx="3146400" cy="912600"/>
            <a:chOff x="5156280" y="4257720"/>
            <a:chExt cx="3146400" cy="912600"/>
          </a:xfrm>
        </p:grpSpPr>
        <p:grpSp>
          <p:nvGrpSpPr>
            <p:cNvPr id="2147" name="组合 147"/>
            <p:cNvGrpSpPr/>
            <p:nvPr/>
          </p:nvGrpSpPr>
          <p:grpSpPr>
            <a:xfrm>
              <a:off x="5156280" y="4262040"/>
              <a:ext cx="856080" cy="908280"/>
              <a:chOff x="5156280" y="4262040"/>
              <a:chExt cx="856080" cy="908280"/>
            </a:xfrm>
          </p:grpSpPr>
          <p:sp>
            <p:nvSpPr>
              <p:cNvPr id="2148" name="PA-椭圆 175"/>
              <p:cNvSpPr/>
              <p:nvPr/>
            </p:nvSpPr>
            <p:spPr>
              <a:xfrm flipH="1">
                <a:off x="5156280" y="4262040"/>
                <a:ext cx="856080" cy="908280"/>
              </a:xfrm>
              <a:prstGeom prst="ellipse">
                <a:avLst/>
              </a:prstGeom>
              <a:solidFill>
                <a:srgbClr val="d6eaf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9" name="任意多边形: 形状 76"/>
              <p:cNvSpPr/>
              <p:nvPr/>
            </p:nvSpPr>
            <p:spPr>
              <a:xfrm flipH="1">
                <a:off x="5156280" y="4484160"/>
                <a:ext cx="856080" cy="68616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3498d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0" name="PA-任意多边形 42"/>
              <p:cNvSpPr/>
              <p:nvPr/>
            </p:nvSpPr>
            <p:spPr>
              <a:xfrm>
                <a:off x="5343480" y="4560480"/>
                <a:ext cx="486720" cy="40032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51" name="组合 151"/>
            <p:cNvGrpSpPr/>
            <p:nvPr/>
          </p:nvGrpSpPr>
          <p:grpSpPr>
            <a:xfrm>
              <a:off x="7398360" y="4257720"/>
              <a:ext cx="904320" cy="907920"/>
              <a:chOff x="7398360" y="4257720"/>
              <a:chExt cx="904320" cy="907920"/>
            </a:xfrm>
          </p:grpSpPr>
          <p:sp>
            <p:nvSpPr>
              <p:cNvPr id="2152" name="PA-椭圆 43"/>
              <p:cNvSpPr/>
              <p:nvPr/>
            </p:nvSpPr>
            <p:spPr>
              <a:xfrm flipH="1">
                <a:off x="7398360" y="4257720"/>
                <a:ext cx="904320" cy="907920"/>
              </a:xfrm>
              <a:prstGeom prst="ellipse">
                <a:avLst/>
              </a:prstGeom>
              <a:solidFill>
                <a:srgbClr val="deebf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3" name="任意多边形: 形状 79"/>
              <p:cNvSpPr/>
              <p:nvPr/>
            </p:nvSpPr>
            <p:spPr>
              <a:xfrm flipH="1">
                <a:off x="7459200" y="4816440"/>
                <a:ext cx="829800" cy="34920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5b9bd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4" name="任意多边形 38"/>
              <p:cNvSpPr/>
              <p:nvPr/>
            </p:nvSpPr>
            <p:spPr>
              <a:xfrm>
                <a:off x="7654680" y="4530960"/>
                <a:ext cx="427680" cy="36144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155" name="PA-文本框 115"/>
          <p:cNvSpPr/>
          <p:nvPr/>
        </p:nvSpPr>
        <p:spPr>
          <a:xfrm>
            <a:off x="320760" y="3160800"/>
            <a:ext cx="4784760" cy="329256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对重要性和审计风险进行最终评价，是注册会计师决定发表何种审计意见的 必要过程。该过程可通过以下两个步骤完成。 </a:t>
            </a:r>
            <a:endParaRPr b="1"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确定可能错报金额。可能错报金额包括已经识别的具体错报和推断误差。</a:t>
            </a:r>
            <a:endParaRPr b="1"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rPr>
              <a:t>2. </a:t>
            </a:r>
            <a:r>
              <a:rPr b="1" lang="zh-CN" sz="2000" spc="-1" strike="noStrike">
                <a:solidFill>
                  <a:srgbClr val="000000"/>
                </a:solidFill>
                <a:latin typeface="Arial"/>
                <a:ea typeface="宋体"/>
              </a:rPr>
              <a:t>根据财务报表层次重要性水平，确定可能的错报金额的汇总数对财务报表 的影响程度。</a:t>
            </a:r>
            <a:endParaRPr b="1" lang="en-US" sz="2000" spc="-1" strike="noStrike">
              <a:solidFill>
                <a:srgbClr val="000000"/>
              </a:solidFill>
              <a:latin typeface="Arial"/>
            </a:endParaRPr>
          </a:p>
        </p:txBody>
      </p:sp>
      <p:sp>
        <p:nvSpPr>
          <p:cNvPr id="2156" name="PA-文本框 115"/>
          <p:cNvSpPr/>
          <p:nvPr/>
        </p:nvSpPr>
        <p:spPr>
          <a:xfrm>
            <a:off x="7970760" y="3198960"/>
            <a:ext cx="4154400" cy="2946240"/>
          </a:xfrm>
          <a:prstGeom prst="rect">
            <a:avLst/>
          </a:prstGeom>
          <a:noFill/>
          <a:ln w="0">
            <a:noFill/>
          </a:ln>
        </p:spPr>
        <p:style>
          <a:lnRef idx="0"/>
          <a:fillRef idx="0"/>
          <a:effectRef idx="0"/>
          <a:fontRef idx="minor"/>
        </p:style>
        <p:txBody>
          <a:bodyPr lIns="90000" rIns="90000" tIns="0" bIns="46800" anchor="t">
            <a:noAutofit/>
          </a:bodyPr>
          <a:p>
            <a:pPr marL="285840" indent="-285840" algn="just">
              <a:lnSpc>
                <a:spcPct val="140000"/>
              </a:lnSpc>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审计过程中，要实施各种测试。这些测试通常由参加审计工作的审计项目组成员共同执行，而每个成员所执行的测试可能只限于某几个领域或账项。因此， 在每个功能领域或报表项目的测试都完成之后，审计项目经理应汇总所有审计组 成员的审计结果</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2157" name="矩形 80"/>
          <p:cNvSpPr/>
          <p:nvPr/>
        </p:nvSpPr>
        <p:spPr>
          <a:xfrm>
            <a:off x="1932120" y="88920"/>
            <a:ext cx="811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审计报告阶段的主要工作</a:t>
            </a:r>
            <a:endParaRPr b="1" lang="en-US" sz="4000" spc="-1" strike="noStrike">
              <a:solidFill>
                <a:srgbClr val="000000"/>
              </a:solidFill>
              <a:latin typeface="Arial"/>
            </a:endParaRPr>
          </a:p>
        </p:txBody>
      </p:sp>
      <p:sp>
        <p:nvSpPr>
          <p:cNvPr id="2158" name="箭头: 下 3"/>
          <p:cNvSpPr/>
          <p:nvPr/>
        </p:nvSpPr>
        <p:spPr>
          <a:xfrm>
            <a:off x="9942480" y="2982960"/>
            <a:ext cx="216000" cy="282600"/>
          </a:xfrm>
          <a:prstGeom prst="downArrow">
            <a:avLst>
              <a:gd name="adj1" fmla="val 50000"/>
              <a:gd name="adj2" fmla="val 49977"/>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9" name="箭头: 下 4"/>
          <p:cNvSpPr/>
          <p:nvPr/>
        </p:nvSpPr>
        <p:spPr>
          <a:xfrm flipH="1">
            <a:off x="2496960" y="2982960"/>
            <a:ext cx="216000" cy="282600"/>
          </a:xfrm>
          <a:prstGeom prst="downArrow">
            <a:avLst>
              <a:gd name="adj1" fmla="val 50000"/>
              <a:gd name="adj2" fmla="val 49977"/>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afterEffect" fill="hold" presetClass="entr" presetID="12" presetSubtype="8">
                                  <p:stCondLst>
                                    <p:cond delay="0"/>
                                  </p:stCondLst>
                                  <p:childTnLst>
                                    <p:set>
                                      <p:cBhvr>
                                        <p:cTn id="103" dur="1000" fill="hold">
                                          <p:stCondLst>
                                            <p:cond delay="0"/>
                                          </p:stCondLst>
                                        </p:cTn>
                                        <p:tgtEl>
                                          <p:spTgt spid="2155"/>
                                        </p:tgtEl>
                                        <p:attrNameLst>
                                          <p:attrName>style.visibility</p:attrName>
                                        </p:attrNameLst>
                                      </p:cBhvr>
                                      <p:to>
                                        <p:strVal val="visible"/>
                                      </p:to>
                                    </p:set>
                                    <p:anim calcmode="lin" valueType="num">
                                      <p:cBhvr additive="repl">
                                        <p:cTn id="104" dur="1000"/>
                                        <p:tgtEl>
                                          <p:spTgt spid="2155"/>
                                        </p:tgtEl>
                                        <p:attrNameLst>
                                          <p:attrName>ppt_x</p:attrName>
                                        </p:attrNameLst>
                                      </p:cBhvr>
                                      <p:tavLst>
                                        <p:tav tm="0">
                                          <p:val>
                                            <p:strVal val="#ppt_x-#ppt_w*1.125000"/>
                                          </p:val>
                                        </p:tav>
                                        <p:tav tm="100000">
                                          <p:val>
                                            <p:strVal val="#ppt_x"/>
                                          </p:val>
                                        </p:tav>
                                      </p:tavLst>
                                    </p:anim>
                                    <p:animEffect filter="wipe(right)" transition="in">
                                      <p:cBhvr additive="repl">
                                        <p:cTn id="105" dur="1000"/>
                                        <p:tgtEl>
                                          <p:spTgt spid="2155"/>
                                        </p:tgtEl>
                                      </p:cBhvr>
                                    </p:animEffect>
                                  </p:childTnLst>
                                </p:cTn>
                              </p:par>
                            </p:childTnLst>
                          </p:cTn>
                        </p:par>
                        <p:par>
                          <p:cTn id="106" fill="hold">
                            <p:stCondLst>
                              <p:cond delay="1000"/>
                            </p:stCondLst>
                            <p:childTnLst>
                              <p:par>
                                <p:cTn id="107" dur="indefinite" nodeType="afterEffect" fill="hold" presetClass="entr" presetID="12" presetSubtype="2">
                                  <p:stCondLst>
                                    <p:cond delay="0"/>
                                  </p:stCondLst>
                                  <p:childTnLst>
                                    <p:set>
                                      <p:cBhvr>
                                        <p:cTn id="108" dur="1000" fill="hold">
                                          <p:stCondLst>
                                            <p:cond delay="0"/>
                                          </p:stCondLst>
                                        </p:cTn>
                                        <p:tgtEl>
                                          <p:spTgt spid="2156"/>
                                        </p:tgtEl>
                                        <p:attrNameLst>
                                          <p:attrName>style.visibility</p:attrName>
                                        </p:attrNameLst>
                                      </p:cBhvr>
                                      <p:to>
                                        <p:strVal val="visible"/>
                                      </p:to>
                                    </p:set>
                                    <p:anim calcmode="lin" valueType="num">
                                      <p:cBhvr additive="repl">
                                        <p:cTn id="109" dur="1000"/>
                                        <p:tgtEl>
                                          <p:spTgt spid="2156"/>
                                        </p:tgtEl>
                                        <p:attrNameLst>
                                          <p:attrName>ppt_x</p:attrName>
                                        </p:attrNameLst>
                                      </p:cBhvr>
                                      <p:tavLst>
                                        <p:tav tm="0">
                                          <p:val>
                                            <p:strVal val="#ppt_x+#ppt_w*1.125000"/>
                                          </p:val>
                                        </p:tav>
                                        <p:tav tm="100000">
                                          <p:val>
                                            <p:strVal val="#ppt_x"/>
                                          </p:val>
                                        </p:tav>
                                      </p:tavLst>
                                    </p:anim>
                                    <p:animEffect filter="wipe(left)" transition="in">
                                      <p:cBhvr additive="repl">
                                        <p:cTn id="110" dur="1000"/>
                                        <p:tgtEl>
                                          <p:spTgt spid="2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Line 51"/>
          <p:cNvSpPr/>
          <p:nvPr/>
        </p:nvSpPr>
        <p:spPr>
          <a:xfrm flipH="1" flipV="1">
            <a:off x="5817960" y="2290680"/>
            <a:ext cx="4680" cy="308448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61" name="Freeform 52"/>
          <p:cNvSpPr/>
          <p:nvPr/>
        </p:nvSpPr>
        <p:spPr>
          <a:xfrm>
            <a:off x="6126120" y="4809960"/>
            <a:ext cx="612720" cy="576360"/>
          </a:xfrm>
          <a:custGeom>
            <a:avLst/>
            <a:gdLst/>
            <a:ahLst/>
            <a:rect l="l" t="t" r="r" b="b"/>
            <a:pathLst>
              <a:path w="343" h="322">
                <a:moveTo>
                  <a:pt x="0" y="322"/>
                </a:moveTo>
                <a:cubicBezTo>
                  <a:pt x="0" y="120"/>
                  <a:pt x="0" y="120"/>
                  <a:pt x="0" y="120"/>
                </a:cubicBezTo>
                <a:cubicBezTo>
                  <a:pt x="0" y="54"/>
                  <a:pt x="54" y="0"/>
                  <a:pt x="120" y="0"/>
                </a:cubicBezTo>
                <a:cubicBezTo>
                  <a:pt x="343" y="0"/>
                  <a:pt x="343" y="0"/>
                  <a:pt x="343"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2" name="Freeform 53"/>
          <p:cNvSpPr/>
          <p:nvPr/>
        </p:nvSpPr>
        <p:spPr>
          <a:xfrm>
            <a:off x="6040440" y="3843360"/>
            <a:ext cx="914400" cy="1243080"/>
          </a:xfrm>
          <a:custGeom>
            <a:avLst/>
            <a:gdLst/>
            <a:ahLst/>
            <a:rect l="l" t="t" r="r" b="b"/>
            <a:pathLst>
              <a:path w="905" h="633">
                <a:moveTo>
                  <a:pt x="0" y="633"/>
                </a:moveTo>
                <a:cubicBezTo>
                  <a:pt x="0" y="120"/>
                  <a:pt x="0" y="120"/>
                  <a:pt x="0" y="120"/>
                </a:cubicBezTo>
                <a:cubicBezTo>
                  <a:pt x="0" y="54"/>
                  <a:pt x="54" y="0"/>
                  <a:pt x="120" y="0"/>
                </a:cubicBezTo>
                <a:cubicBezTo>
                  <a:pt x="905" y="0"/>
                  <a:pt x="905" y="0"/>
                  <a:pt x="905"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3" name="Freeform 54"/>
          <p:cNvSpPr/>
          <p:nvPr/>
        </p:nvSpPr>
        <p:spPr>
          <a:xfrm>
            <a:off x="4548240" y="3932280"/>
            <a:ext cx="1049400" cy="1419120"/>
          </a:xfrm>
          <a:custGeom>
            <a:avLst/>
            <a:gdLst/>
            <a:ahLst/>
            <a:rect l="l" t="t" r="r" b="b"/>
            <a:pathLst>
              <a:path w="587" h="792">
                <a:moveTo>
                  <a:pt x="587" y="792"/>
                </a:moveTo>
                <a:cubicBezTo>
                  <a:pt x="587" y="120"/>
                  <a:pt x="587" y="120"/>
                  <a:pt x="587" y="120"/>
                </a:cubicBezTo>
                <a:cubicBezTo>
                  <a:pt x="587" y="54"/>
                  <a:pt x="533" y="0"/>
                  <a:pt x="467"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4" name="Freeform 55"/>
          <p:cNvSpPr/>
          <p:nvPr/>
        </p:nvSpPr>
        <p:spPr>
          <a:xfrm>
            <a:off x="3968640" y="4681440"/>
            <a:ext cx="1525680" cy="1086120"/>
          </a:xfrm>
          <a:custGeom>
            <a:avLst/>
            <a:gdLst/>
            <a:ahLst/>
            <a:rect l="l" t="t" r="r" b="b"/>
            <a:pathLst>
              <a:path w="853" h="607">
                <a:moveTo>
                  <a:pt x="853" y="607"/>
                </a:moveTo>
                <a:cubicBezTo>
                  <a:pt x="853" y="120"/>
                  <a:pt x="853" y="120"/>
                  <a:pt x="853" y="120"/>
                </a:cubicBezTo>
                <a:cubicBezTo>
                  <a:pt x="853" y="54"/>
                  <a:pt x="799" y="0"/>
                  <a:pt x="733"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5" name="Freeform 56"/>
          <p:cNvSpPr/>
          <p:nvPr/>
        </p:nvSpPr>
        <p:spPr>
          <a:xfrm>
            <a:off x="5940360" y="2727360"/>
            <a:ext cx="976320" cy="2359080"/>
          </a:xfrm>
          <a:custGeom>
            <a:avLst/>
            <a:gdLst/>
            <a:ahLst/>
            <a:rect l="l" t="t" r="r" b="b"/>
            <a:pathLst>
              <a:path w="558" h="634">
                <a:moveTo>
                  <a:pt x="0" y="634"/>
                </a:moveTo>
                <a:cubicBezTo>
                  <a:pt x="0" y="120"/>
                  <a:pt x="0" y="120"/>
                  <a:pt x="0" y="120"/>
                </a:cubicBezTo>
                <a:cubicBezTo>
                  <a:pt x="0" y="54"/>
                  <a:pt x="54" y="0"/>
                  <a:pt x="120" y="0"/>
                </a:cubicBezTo>
                <a:cubicBezTo>
                  <a:pt x="558" y="0"/>
                  <a:pt x="558" y="0"/>
                  <a:pt x="558"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6" name="Freeform 57"/>
          <p:cNvSpPr/>
          <p:nvPr/>
        </p:nvSpPr>
        <p:spPr>
          <a:xfrm>
            <a:off x="4579920" y="2719440"/>
            <a:ext cx="1138320" cy="2717640"/>
          </a:xfrm>
          <a:custGeom>
            <a:avLst/>
            <a:gdLst/>
            <a:ahLst/>
            <a:rect l="l" t="t" r="r" b="b"/>
            <a:pathLst>
              <a:path w="659" h="1322">
                <a:moveTo>
                  <a:pt x="659" y="1322"/>
                </a:moveTo>
                <a:cubicBezTo>
                  <a:pt x="659" y="120"/>
                  <a:pt x="659" y="120"/>
                  <a:pt x="659" y="120"/>
                </a:cubicBezTo>
                <a:cubicBezTo>
                  <a:pt x="659" y="54"/>
                  <a:pt x="605" y="0"/>
                  <a:pt x="540"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Oval 58"/>
          <p:cNvSpPr/>
          <p:nvPr/>
        </p:nvSpPr>
        <p:spPr>
          <a:xfrm>
            <a:off x="5180040" y="5019840"/>
            <a:ext cx="1322280" cy="1323720"/>
          </a:xfrm>
          <a:prstGeom prst="ellipse">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8" name="Oval 66"/>
          <p:cNvSpPr/>
          <p:nvPr/>
        </p:nvSpPr>
        <p:spPr>
          <a:xfrm>
            <a:off x="6172200" y="2708280"/>
            <a:ext cx="103320" cy="103320"/>
          </a:xfrm>
          <a:prstGeom prst="ellipse">
            <a:avLst/>
          </a:prstGeom>
          <a:solidFill>
            <a:srgbClr val="c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9" name="Oval 67"/>
          <p:cNvSpPr/>
          <p:nvPr/>
        </p:nvSpPr>
        <p:spPr>
          <a:xfrm>
            <a:off x="6230880" y="3773520"/>
            <a:ext cx="101520" cy="103320"/>
          </a:xfrm>
          <a:prstGeom prst="ellipse">
            <a:avLst/>
          </a:prstGeom>
          <a:solidFill>
            <a:srgbClr val="92d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0" name="Oval 68"/>
          <p:cNvSpPr/>
          <p:nvPr/>
        </p:nvSpPr>
        <p:spPr>
          <a:xfrm>
            <a:off x="6159600" y="4809960"/>
            <a:ext cx="1000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1" name="Oval 69"/>
          <p:cNvSpPr/>
          <p:nvPr/>
        </p:nvSpPr>
        <p:spPr>
          <a:xfrm>
            <a:off x="5757840" y="4000680"/>
            <a:ext cx="10008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2" name="Oval 70"/>
          <p:cNvSpPr/>
          <p:nvPr/>
        </p:nvSpPr>
        <p:spPr>
          <a:xfrm>
            <a:off x="6004080" y="4264200"/>
            <a:ext cx="10152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3" name="Oval 71"/>
          <p:cNvSpPr/>
          <p:nvPr/>
        </p:nvSpPr>
        <p:spPr>
          <a:xfrm>
            <a:off x="6545160" y="4879800"/>
            <a:ext cx="1018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4" name="Oval 72"/>
          <p:cNvSpPr/>
          <p:nvPr/>
        </p:nvSpPr>
        <p:spPr>
          <a:xfrm>
            <a:off x="5772240" y="2630520"/>
            <a:ext cx="98280" cy="103320"/>
          </a:xfrm>
          <a:prstGeom prst="ellipse">
            <a:avLst/>
          </a:prstGeom>
          <a:solidFill>
            <a:srgbClr val="00b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5" name="Oval 73"/>
          <p:cNvSpPr/>
          <p:nvPr/>
        </p:nvSpPr>
        <p:spPr>
          <a:xfrm>
            <a:off x="5446800" y="2681280"/>
            <a:ext cx="100080" cy="100080"/>
          </a:xfrm>
          <a:prstGeom prst="ellipse">
            <a:avLst/>
          </a:prstGeom>
          <a:solidFill>
            <a:srgbClr val="5555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6" name="Oval 74"/>
          <p:cNvSpPr/>
          <p:nvPr/>
        </p:nvSpPr>
        <p:spPr>
          <a:xfrm>
            <a:off x="5375160" y="3909960"/>
            <a:ext cx="100080" cy="103320"/>
          </a:xfrm>
          <a:prstGeom prst="ellipse">
            <a:avLst/>
          </a:prstGeom>
          <a:solidFill>
            <a:srgbClr val="ffc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7" name="Oval 75"/>
          <p:cNvSpPr/>
          <p:nvPr/>
        </p:nvSpPr>
        <p:spPr>
          <a:xfrm>
            <a:off x="4965840" y="4664160"/>
            <a:ext cx="99720" cy="100080"/>
          </a:xfrm>
          <a:prstGeom prst="ellipse">
            <a:avLst/>
          </a:prstGeom>
          <a:solidFill>
            <a:srgbClr val="5b9bd4"/>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8" name="Oval 76"/>
          <p:cNvSpPr/>
          <p:nvPr/>
        </p:nvSpPr>
        <p:spPr>
          <a:xfrm>
            <a:off x="5770440" y="5048280"/>
            <a:ext cx="103320" cy="101520"/>
          </a:xfrm>
          <a:prstGeom prst="ellipse">
            <a:avLst/>
          </a:prstGeom>
          <a:solidFill>
            <a:srgbClr val="bfbfb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9" name="Freeform 27"/>
          <p:cNvSpPr/>
          <p:nvPr/>
        </p:nvSpPr>
        <p:spPr>
          <a:xfrm>
            <a:off x="5494320" y="5176800"/>
            <a:ext cx="642960" cy="798480"/>
          </a:xfrm>
          <a:custGeom>
            <a:avLst/>
            <a:gdLst/>
            <a:ahLst/>
            <a:rect l="l" t="t" r="r" b="b"/>
            <a:pathLst>
              <a:path w="2659" h="3500">
                <a:moveTo>
                  <a:pt x="769" y="2381"/>
                </a:moveTo>
                <a:lnTo>
                  <a:pt x="739" y="2394"/>
                </a:lnTo>
                <a:lnTo>
                  <a:pt x="707" y="2403"/>
                </a:lnTo>
                <a:lnTo>
                  <a:pt x="676" y="2412"/>
                </a:lnTo>
                <a:lnTo>
                  <a:pt x="647" y="2418"/>
                </a:lnTo>
                <a:lnTo>
                  <a:pt x="618" y="2422"/>
                </a:lnTo>
                <a:lnTo>
                  <a:pt x="593" y="2426"/>
                </a:lnTo>
                <a:lnTo>
                  <a:pt x="572" y="2428"/>
                </a:lnTo>
                <a:lnTo>
                  <a:pt x="556" y="2429"/>
                </a:lnTo>
                <a:lnTo>
                  <a:pt x="544" y="2430"/>
                </a:lnTo>
                <a:lnTo>
                  <a:pt x="540" y="2430"/>
                </a:lnTo>
                <a:lnTo>
                  <a:pt x="492" y="2433"/>
                </a:lnTo>
                <a:lnTo>
                  <a:pt x="446" y="2442"/>
                </a:lnTo>
                <a:lnTo>
                  <a:pt x="402" y="2455"/>
                </a:lnTo>
                <a:lnTo>
                  <a:pt x="360" y="2474"/>
                </a:lnTo>
                <a:lnTo>
                  <a:pt x="322" y="2499"/>
                </a:lnTo>
                <a:lnTo>
                  <a:pt x="286" y="2526"/>
                </a:lnTo>
                <a:lnTo>
                  <a:pt x="254" y="2559"/>
                </a:lnTo>
                <a:lnTo>
                  <a:pt x="226" y="2594"/>
                </a:lnTo>
                <a:lnTo>
                  <a:pt x="202" y="2633"/>
                </a:lnTo>
                <a:lnTo>
                  <a:pt x="183" y="2675"/>
                </a:lnTo>
                <a:lnTo>
                  <a:pt x="169" y="2719"/>
                </a:lnTo>
                <a:lnTo>
                  <a:pt x="161" y="2765"/>
                </a:lnTo>
                <a:lnTo>
                  <a:pt x="158" y="2813"/>
                </a:lnTo>
                <a:lnTo>
                  <a:pt x="158" y="3342"/>
                </a:lnTo>
                <a:lnTo>
                  <a:pt x="2502" y="3342"/>
                </a:lnTo>
                <a:lnTo>
                  <a:pt x="2502" y="2813"/>
                </a:lnTo>
                <a:lnTo>
                  <a:pt x="2499" y="2765"/>
                </a:lnTo>
                <a:lnTo>
                  <a:pt x="2491" y="2719"/>
                </a:lnTo>
                <a:lnTo>
                  <a:pt x="2476" y="2675"/>
                </a:lnTo>
                <a:lnTo>
                  <a:pt x="2457" y="2633"/>
                </a:lnTo>
                <a:lnTo>
                  <a:pt x="2433" y="2594"/>
                </a:lnTo>
                <a:lnTo>
                  <a:pt x="2405" y="2559"/>
                </a:lnTo>
                <a:lnTo>
                  <a:pt x="2373" y="2526"/>
                </a:lnTo>
                <a:lnTo>
                  <a:pt x="2338" y="2499"/>
                </a:lnTo>
                <a:lnTo>
                  <a:pt x="2299" y="2474"/>
                </a:lnTo>
                <a:lnTo>
                  <a:pt x="2258" y="2455"/>
                </a:lnTo>
                <a:lnTo>
                  <a:pt x="2213" y="2442"/>
                </a:lnTo>
                <a:lnTo>
                  <a:pt x="2167" y="2433"/>
                </a:lnTo>
                <a:lnTo>
                  <a:pt x="2119" y="2430"/>
                </a:lnTo>
                <a:lnTo>
                  <a:pt x="2115" y="2430"/>
                </a:lnTo>
                <a:lnTo>
                  <a:pt x="2102" y="2430"/>
                </a:lnTo>
                <a:lnTo>
                  <a:pt x="2084" y="2428"/>
                </a:lnTo>
                <a:lnTo>
                  <a:pt x="2060" y="2426"/>
                </a:lnTo>
                <a:lnTo>
                  <a:pt x="2031" y="2421"/>
                </a:lnTo>
                <a:lnTo>
                  <a:pt x="1999" y="2415"/>
                </a:lnTo>
                <a:lnTo>
                  <a:pt x="1965" y="2407"/>
                </a:lnTo>
                <a:lnTo>
                  <a:pt x="1927" y="2396"/>
                </a:lnTo>
                <a:lnTo>
                  <a:pt x="1890" y="2381"/>
                </a:lnTo>
                <a:lnTo>
                  <a:pt x="1469" y="2981"/>
                </a:lnTo>
                <a:lnTo>
                  <a:pt x="1452" y="3003"/>
                </a:lnTo>
                <a:lnTo>
                  <a:pt x="1431" y="3021"/>
                </a:lnTo>
                <a:lnTo>
                  <a:pt x="1409" y="3034"/>
                </a:lnTo>
                <a:lnTo>
                  <a:pt x="1383" y="3045"/>
                </a:lnTo>
                <a:lnTo>
                  <a:pt x="1357" y="3051"/>
                </a:lnTo>
                <a:lnTo>
                  <a:pt x="1329" y="3055"/>
                </a:lnTo>
                <a:lnTo>
                  <a:pt x="1302" y="3051"/>
                </a:lnTo>
                <a:lnTo>
                  <a:pt x="1275" y="3045"/>
                </a:lnTo>
                <a:lnTo>
                  <a:pt x="1251" y="3034"/>
                </a:lnTo>
                <a:lnTo>
                  <a:pt x="1228" y="3021"/>
                </a:lnTo>
                <a:lnTo>
                  <a:pt x="1208" y="3003"/>
                </a:lnTo>
                <a:lnTo>
                  <a:pt x="1190" y="2981"/>
                </a:lnTo>
                <a:lnTo>
                  <a:pt x="769" y="2381"/>
                </a:lnTo>
                <a:close/>
                <a:moveTo>
                  <a:pt x="1135" y="1929"/>
                </a:moveTo>
                <a:lnTo>
                  <a:pt x="1121" y="1984"/>
                </a:lnTo>
                <a:lnTo>
                  <a:pt x="1103" y="2038"/>
                </a:lnTo>
                <a:lnTo>
                  <a:pt x="1080" y="2089"/>
                </a:lnTo>
                <a:lnTo>
                  <a:pt x="1053" y="2138"/>
                </a:lnTo>
                <a:lnTo>
                  <a:pt x="1021" y="2184"/>
                </a:lnTo>
                <a:lnTo>
                  <a:pt x="986" y="2226"/>
                </a:lnTo>
                <a:lnTo>
                  <a:pt x="947" y="2265"/>
                </a:lnTo>
                <a:lnTo>
                  <a:pt x="906" y="2302"/>
                </a:lnTo>
                <a:lnTo>
                  <a:pt x="1319" y="2890"/>
                </a:lnTo>
                <a:lnTo>
                  <a:pt x="1322" y="2893"/>
                </a:lnTo>
                <a:lnTo>
                  <a:pt x="1325" y="2895"/>
                </a:lnTo>
                <a:lnTo>
                  <a:pt x="1329" y="2897"/>
                </a:lnTo>
                <a:lnTo>
                  <a:pt x="1334" y="2895"/>
                </a:lnTo>
                <a:lnTo>
                  <a:pt x="1338" y="2893"/>
                </a:lnTo>
                <a:lnTo>
                  <a:pt x="1341" y="2890"/>
                </a:lnTo>
                <a:lnTo>
                  <a:pt x="1754" y="2302"/>
                </a:lnTo>
                <a:lnTo>
                  <a:pt x="1712" y="2265"/>
                </a:lnTo>
                <a:lnTo>
                  <a:pt x="1673" y="2226"/>
                </a:lnTo>
                <a:lnTo>
                  <a:pt x="1637" y="2184"/>
                </a:lnTo>
                <a:lnTo>
                  <a:pt x="1607" y="2138"/>
                </a:lnTo>
                <a:lnTo>
                  <a:pt x="1579" y="2089"/>
                </a:lnTo>
                <a:lnTo>
                  <a:pt x="1557" y="2038"/>
                </a:lnTo>
                <a:lnTo>
                  <a:pt x="1538" y="1985"/>
                </a:lnTo>
                <a:lnTo>
                  <a:pt x="1525" y="1929"/>
                </a:lnTo>
                <a:lnTo>
                  <a:pt x="1478" y="1945"/>
                </a:lnTo>
                <a:lnTo>
                  <a:pt x="1429" y="1956"/>
                </a:lnTo>
                <a:lnTo>
                  <a:pt x="1380" y="1962"/>
                </a:lnTo>
                <a:lnTo>
                  <a:pt x="1329" y="1964"/>
                </a:lnTo>
                <a:lnTo>
                  <a:pt x="1280" y="1962"/>
                </a:lnTo>
                <a:lnTo>
                  <a:pt x="1230" y="1955"/>
                </a:lnTo>
                <a:lnTo>
                  <a:pt x="1181" y="1944"/>
                </a:lnTo>
                <a:lnTo>
                  <a:pt x="1135" y="1929"/>
                </a:lnTo>
                <a:close/>
                <a:moveTo>
                  <a:pt x="992" y="806"/>
                </a:moveTo>
                <a:lnTo>
                  <a:pt x="964" y="867"/>
                </a:lnTo>
                <a:lnTo>
                  <a:pt x="931" y="925"/>
                </a:lnTo>
                <a:lnTo>
                  <a:pt x="895" y="980"/>
                </a:lnTo>
                <a:lnTo>
                  <a:pt x="855" y="1032"/>
                </a:lnTo>
                <a:lnTo>
                  <a:pt x="811" y="1082"/>
                </a:lnTo>
                <a:lnTo>
                  <a:pt x="763" y="1127"/>
                </a:lnTo>
                <a:lnTo>
                  <a:pt x="773" y="1196"/>
                </a:lnTo>
                <a:lnTo>
                  <a:pt x="787" y="1263"/>
                </a:lnTo>
                <a:lnTo>
                  <a:pt x="805" y="1328"/>
                </a:lnTo>
                <a:lnTo>
                  <a:pt x="828" y="1390"/>
                </a:lnTo>
                <a:lnTo>
                  <a:pt x="854" y="1450"/>
                </a:lnTo>
                <a:lnTo>
                  <a:pt x="884" y="1506"/>
                </a:lnTo>
                <a:lnTo>
                  <a:pt x="917" y="1558"/>
                </a:lnTo>
                <a:lnTo>
                  <a:pt x="954" y="1608"/>
                </a:lnTo>
                <a:lnTo>
                  <a:pt x="994" y="1652"/>
                </a:lnTo>
                <a:lnTo>
                  <a:pt x="1037" y="1693"/>
                </a:lnTo>
                <a:lnTo>
                  <a:pt x="1082" y="1727"/>
                </a:lnTo>
                <a:lnTo>
                  <a:pt x="1129" y="1755"/>
                </a:lnTo>
                <a:lnTo>
                  <a:pt x="1178" y="1778"/>
                </a:lnTo>
                <a:lnTo>
                  <a:pt x="1228" y="1793"/>
                </a:lnTo>
                <a:lnTo>
                  <a:pt x="1279" y="1803"/>
                </a:lnTo>
                <a:lnTo>
                  <a:pt x="1329" y="1806"/>
                </a:lnTo>
                <a:lnTo>
                  <a:pt x="1382" y="1803"/>
                </a:lnTo>
                <a:lnTo>
                  <a:pt x="1433" y="1793"/>
                </a:lnTo>
                <a:lnTo>
                  <a:pt x="1482" y="1778"/>
                </a:lnTo>
                <a:lnTo>
                  <a:pt x="1529" y="1756"/>
                </a:lnTo>
                <a:lnTo>
                  <a:pt x="1576" y="1729"/>
                </a:lnTo>
                <a:lnTo>
                  <a:pt x="1619" y="1696"/>
                </a:lnTo>
                <a:lnTo>
                  <a:pt x="1661" y="1659"/>
                </a:lnTo>
                <a:lnTo>
                  <a:pt x="1700" y="1616"/>
                </a:lnTo>
                <a:lnTo>
                  <a:pt x="1736" y="1570"/>
                </a:lnTo>
                <a:lnTo>
                  <a:pt x="1769" y="1519"/>
                </a:lnTo>
                <a:lnTo>
                  <a:pt x="1798" y="1465"/>
                </a:lnTo>
                <a:lnTo>
                  <a:pt x="1826" y="1406"/>
                </a:lnTo>
                <a:lnTo>
                  <a:pt x="1849" y="1345"/>
                </a:lnTo>
                <a:lnTo>
                  <a:pt x="1868" y="1281"/>
                </a:lnTo>
                <a:lnTo>
                  <a:pt x="1883" y="1213"/>
                </a:lnTo>
                <a:lnTo>
                  <a:pt x="1895" y="1144"/>
                </a:lnTo>
                <a:lnTo>
                  <a:pt x="1902" y="1073"/>
                </a:lnTo>
                <a:lnTo>
                  <a:pt x="1904" y="999"/>
                </a:lnTo>
                <a:lnTo>
                  <a:pt x="1904" y="998"/>
                </a:lnTo>
                <a:lnTo>
                  <a:pt x="1889" y="972"/>
                </a:lnTo>
                <a:lnTo>
                  <a:pt x="1870" y="947"/>
                </a:lnTo>
                <a:lnTo>
                  <a:pt x="1849" y="927"/>
                </a:lnTo>
                <a:lnTo>
                  <a:pt x="1824" y="910"/>
                </a:lnTo>
                <a:lnTo>
                  <a:pt x="1795" y="897"/>
                </a:lnTo>
                <a:lnTo>
                  <a:pt x="1766" y="890"/>
                </a:lnTo>
                <a:lnTo>
                  <a:pt x="1734" y="887"/>
                </a:lnTo>
                <a:lnTo>
                  <a:pt x="1198" y="887"/>
                </a:lnTo>
                <a:lnTo>
                  <a:pt x="1158" y="885"/>
                </a:lnTo>
                <a:lnTo>
                  <a:pt x="1121" y="877"/>
                </a:lnTo>
                <a:lnTo>
                  <a:pt x="1084" y="865"/>
                </a:lnTo>
                <a:lnTo>
                  <a:pt x="1049" y="848"/>
                </a:lnTo>
                <a:lnTo>
                  <a:pt x="1016" y="827"/>
                </a:lnTo>
                <a:lnTo>
                  <a:pt x="992" y="806"/>
                </a:lnTo>
                <a:close/>
                <a:moveTo>
                  <a:pt x="1396" y="158"/>
                </a:moveTo>
                <a:lnTo>
                  <a:pt x="1344" y="160"/>
                </a:lnTo>
                <a:lnTo>
                  <a:pt x="1293" y="168"/>
                </a:lnTo>
                <a:lnTo>
                  <a:pt x="1243" y="180"/>
                </a:lnTo>
                <a:lnTo>
                  <a:pt x="1193" y="198"/>
                </a:lnTo>
                <a:lnTo>
                  <a:pt x="1145" y="221"/>
                </a:lnTo>
                <a:lnTo>
                  <a:pt x="1129" y="227"/>
                </a:lnTo>
                <a:lnTo>
                  <a:pt x="1112" y="230"/>
                </a:lnTo>
                <a:lnTo>
                  <a:pt x="1066" y="234"/>
                </a:lnTo>
                <a:lnTo>
                  <a:pt x="1021" y="244"/>
                </a:lnTo>
                <a:lnTo>
                  <a:pt x="978" y="260"/>
                </a:lnTo>
                <a:lnTo>
                  <a:pt x="936" y="281"/>
                </a:lnTo>
                <a:lnTo>
                  <a:pt x="896" y="305"/>
                </a:lnTo>
                <a:lnTo>
                  <a:pt x="860" y="335"/>
                </a:lnTo>
                <a:lnTo>
                  <a:pt x="828" y="368"/>
                </a:lnTo>
                <a:lnTo>
                  <a:pt x="797" y="405"/>
                </a:lnTo>
                <a:lnTo>
                  <a:pt x="769" y="445"/>
                </a:lnTo>
                <a:lnTo>
                  <a:pt x="746" y="489"/>
                </a:lnTo>
                <a:lnTo>
                  <a:pt x="725" y="536"/>
                </a:lnTo>
                <a:lnTo>
                  <a:pt x="708" y="584"/>
                </a:lnTo>
                <a:lnTo>
                  <a:pt x="695" y="635"/>
                </a:lnTo>
                <a:lnTo>
                  <a:pt x="686" y="688"/>
                </a:lnTo>
                <a:lnTo>
                  <a:pt x="681" y="742"/>
                </a:lnTo>
                <a:lnTo>
                  <a:pt x="679" y="798"/>
                </a:lnTo>
                <a:lnTo>
                  <a:pt x="682" y="854"/>
                </a:lnTo>
                <a:lnTo>
                  <a:pt x="689" y="911"/>
                </a:lnTo>
                <a:lnTo>
                  <a:pt x="701" y="968"/>
                </a:lnTo>
                <a:lnTo>
                  <a:pt x="742" y="923"/>
                </a:lnTo>
                <a:lnTo>
                  <a:pt x="778" y="873"/>
                </a:lnTo>
                <a:lnTo>
                  <a:pt x="810" y="821"/>
                </a:lnTo>
                <a:lnTo>
                  <a:pt x="838" y="766"/>
                </a:lnTo>
                <a:lnTo>
                  <a:pt x="860" y="708"/>
                </a:lnTo>
                <a:lnTo>
                  <a:pt x="878" y="649"/>
                </a:lnTo>
                <a:lnTo>
                  <a:pt x="886" y="630"/>
                </a:lnTo>
                <a:lnTo>
                  <a:pt x="896" y="613"/>
                </a:lnTo>
                <a:lnTo>
                  <a:pt x="911" y="599"/>
                </a:lnTo>
                <a:lnTo>
                  <a:pt x="927" y="589"/>
                </a:lnTo>
                <a:lnTo>
                  <a:pt x="946" y="581"/>
                </a:lnTo>
                <a:lnTo>
                  <a:pt x="966" y="577"/>
                </a:lnTo>
                <a:lnTo>
                  <a:pt x="986" y="578"/>
                </a:lnTo>
                <a:lnTo>
                  <a:pt x="1007" y="583"/>
                </a:lnTo>
                <a:lnTo>
                  <a:pt x="1024" y="592"/>
                </a:lnTo>
                <a:lnTo>
                  <a:pt x="1039" y="605"/>
                </a:lnTo>
                <a:lnTo>
                  <a:pt x="1052" y="619"/>
                </a:lnTo>
                <a:lnTo>
                  <a:pt x="1062" y="637"/>
                </a:lnTo>
                <a:lnTo>
                  <a:pt x="1074" y="662"/>
                </a:lnTo>
                <a:lnTo>
                  <a:pt x="1090" y="683"/>
                </a:lnTo>
                <a:lnTo>
                  <a:pt x="1110" y="700"/>
                </a:lnTo>
                <a:lnTo>
                  <a:pt x="1130" y="713"/>
                </a:lnTo>
                <a:lnTo>
                  <a:pt x="1152" y="722"/>
                </a:lnTo>
                <a:lnTo>
                  <a:pt x="1174" y="728"/>
                </a:lnTo>
                <a:lnTo>
                  <a:pt x="1198" y="730"/>
                </a:lnTo>
                <a:lnTo>
                  <a:pt x="1734" y="730"/>
                </a:lnTo>
                <a:lnTo>
                  <a:pt x="1780" y="733"/>
                </a:lnTo>
                <a:lnTo>
                  <a:pt x="1826" y="742"/>
                </a:lnTo>
                <a:lnTo>
                  <a:pt x="1868" y="757"/>
                </a:lnTo>
                <a:lnTo>
                  <a:pt x="1908" y="777"/>
                </a:lnTo>
                <a:lnTo>
                  <a:pt x="1945" y="803"/>
                </a:lnTo>
                <a:lnTo>
                  <a:pt x="1978" y="833"/>
                </a:lnTo>
                <a:lnTo>
                  <a:pt x="1979" y="801"/>
                </a:lnTo>
                <a:lnTo>
                  <a:pt x="1976" y="735"/>
                </a:lnTo>
                <a:lnTo>
                  <a:pt x="1968" y="671"/>
                </a:lnTo>
                <a:lnTo>
                  <a:pt x="1953" y="610"/>
                </a:lnTo>
                <a:lnTo>
                  <a:pt x="1934" y="550"/>
                </a:lnTo>
                <a:lnTo>
                  <a:pt x="1908" y="494"/>
                </a:lnTo>
                <a:lnTo>
                  <a:pt x="1880" y="441"/>
                </a:lnTo>
                <a:lnTo>
                  <a:pt x="1846" y="391"/>
                </a:lnTo>
                <a:lnTo>
                  <a:pt x="1808" y="346"/>
                </a:lnTo>
                <a:lnTo>
                  <a:pt x="1767" y="304"/>
                </a:lnTo>
                <a:lnTo>
                  <a:pt x="1722" y="267"/>
                </a:lnTo>
                <a:lnTo>
                  <a:pt x="1673" y="235"/>
                </a:lnTo>
                <a:lnTo>
                  <a:pt x="1623" y="208"/>
                </a:lnTo>
                <a:lnTo>
                  <a:pt x="1569" y="187"/>
                </a:lnTo>
                <a:lnTo>
                  <a:pt x="1514" y="171"/>
                </a:lnTo>
                <a:lnTo>
                  <a:pt x="1455" y="161"/>
                </a:lnTo>
                <a:lnTo>
                  <a:pt x="1396" y="158"/>
                </a:lnTo>
                <a:close/>
                <a:moveTo>
                  <a:pt x="1396" y="0"/>
                </a:moveTo>
                <a:lnTo>
                  <a:pt x="1463" y="3"/>
                </a:lnTo>
                <a:lnTo>
                  <a:pt x="1528" y="13"/>
                </a:lnTo>
                <a:lnTo>
                  <a:pt x="1593" y="29"/>
                </a:lnTo>
                <a:lnTo>
                  <a:pt x="1654" y="50"/>
                </a:lnTo>
                <a:lnTo>
                  <a:pt x="1713" y="77"/>
                </a:lnTo>
                <a:lnTo>
                  <a:pt x="1770" y="109"/>
                </a:lnTo>
                <a:lnTo>
                  <a:pt x="1823" y="146"/>
                </a:lnTo>
                <a:lnTo>
                  <a:pt x="1872" y="189"/>
                </a:lnTo>
                <a:lnTo>
                  <a:pt x="1919" y="234"/>
                </a:lnTo>
                <a:lnTo>
                  <a:pt x="1962" y="285"/>
                </a:lnTo>
                <a:lnTo>
                  <a:pt x="2000" y="339"/>
                </a:lnTo>
                <a:lnTo>
                  <a:pt x="2035" y="397"/>
                </a:lnTo>
                <a:lnTo>
                  <a:pt x="2065" y="458"/>
                </a:lnTo>
                <a:lnTo>
                  <a:pt x="2090" y="522"/>
                </a:lnTo>
                <a:lnTo>
                  <a:pt x="2111" y="589"/>
                </a:lnTo>
                <a:lnTo>
                  <a:pt x="2124" y="657"/>
                </a:lnTo>
                <a:lnTo>
                  <a:pt x="2134" y="728"/>
                </a:lnTo>
                <a:lnTo>
                  <a:pt x="2137" y="801"/>
                </a:lnTo>
                <a:lnTo>
                  <a:pt x="2134" y="870"/>
                </a:lnTo>
                <a:lnTo>
                  <a:pt x="2126" y="937"/>
                </a:lnTo>
                <a:lnTo>
                  <a:pt x="2113" y="1003"/>
                </a:lnTo>
                <a:lnTo>
                  <a:pt x="2095" y="1068"/>
                </a:lnTo>
                <a:lnTo>
                  <a:pt x="2071" y="1131"/>
                </a:lnTo>
                <a:lnTo>
                  <a:pt x="2063" y="1147"/>
                </a:lnTo>
                <a:lnTo>
                  <a:pt x="2051" y="1158"/>
                </a:lnTo>
                <a:lnTo>
                  <a:pt x="2041" y="1230"/>
                </a:lnTo>
                <a:lnTo>
                  <a:pt x="2025" y="1300"/>
                </a:lnTo>
                <a:lnTo>
                  <a:pt x="2006" y="1368"/>
                </a:lnTo>
                <a:lnTo>
                  <a:pt x="1984" y="1435"/>
                </a:lnTo>
                <a:lnTo>
                  <a:pt x="1957" y="1499"/>
                </a:lnTo>
                <a:lnTo>
                  <a:pt x="1926" y="1559"/>
                </a:lnTo>
                <a:lnTo>
                  <a:pt x="1893" y="1617"/>
                </a:lnTo>
                <a:lnTo>
                  <a:pt x="1854" y="1673"/>
                </a:lnTo>
                <a:lnTo>
                  <a:pt x="1813" y="1726"/>
                </a:lnTo>
                <a:lnTo>
                  <a:pt x="1769" y="1772"/>
                </a:lnTo>
                <a:lnTo>
                  <a:pt x="1722" y="1815"/>
                </a:lnTo>
                <a:lnTo>
                  <a:pt x="1673" y="1853"/>
                </a:lnTo>
                <a:lnTo>
                  <a:pt x="1682" y="1904"/>
                </a:lnTo>
                <a:lnTo>
                  <a:pt x="1695" y="1952"/>
                </a:lnTo>
                <a:lnTo>
                  <a:pt x="1710" y="1995"/>
                </a:lnTo>
                <a:lnTo>
                  <a:pt x="1728" y="2033"/>
                </a:lnTo>
                <a:lnTo>
                  <a:pt x="1749" y="2069"/>
                </a:lnTo>
                <a:lnTo>
                  <a:pt x="1771" y="2100"/>
                </a:lnTo>
                <a:lnTo>
                  <a:pt x="1794" y="2129"/>
                </a:lnTo>
                <a:lnTo>
                  <a:pt x="1819" y="2153"/>
                </a:lnTo>
                <a:lnTo>
                  <a:pt x="1846" y="2175"/>
                </a:lnTo>
                <a:lnTo>
                  <a:pt x="1872" y="2194"/>
                </a:lnTo>
                <a:lnTo>
                  <a:pt x="1900" y="2210"/>
                </a:lnTo>
                <a:lnTo>
                  <a:pt x="1926" y="2224"/>
                </a:lnTo>
                <a:lnTo>
                  <a:pt x="1954" y="2236"/>
                </a:lnTo>
                <a:lnTo>
                  <a:pt x="1980" y="2245"/>
                </a:lnTo>
                <a:lnTo>
                  <a:pt x="2005" y="2254"/>
                </a:lnTo>
                <a:lnTo>
                  <a:pt x="2029" y="2259"/>
                </a:lnTo>
                <a:lnTo>
                  <a:pt x="2051" y="2264"/>
                </a:lnTo>
                <a:lnTo>
                  <a:pt x="2072" y="2268"/>
                </a:lnTo>
                <a:lnTo>
                  <a:pt x="2090" y="2270"/>
                </a:lnTo>
                <a:lnTo>
                  <a:pt x="2106" y="2272"/>
                </a:lnTo>
                <a:lnTo>
                  <a:pt x="2119" y="2272"/>
                </a:lnTo>
                <a:lnTo>
                  <a:pt x="2130" y="2273"/>
                </a:lnTo>
                <a:lnTo>
                  <a:pt x="2135" y="2273"/>
                </a:lnTo>
                <a:lnTo>
                  <a:pt x="2138" y="2273"/>
                </a:lnTo>
                <a:lnTo>
                  <a:pt x="2195" y="2278"/>
                </a:lnTo>
                <a:lnTo>
                  <a:pt x="2250" y="2289"/>
                </a:lnTo>
                <a:lnTo>
                  <a:pt x="2303" y="2305"/>
                </a:lnTo>
                <a:lnTo>
                  <a:pt x="2354" y="2326"/>
                </a:lnTo>
                <a:lnTo>
                  <a:pt x="2402" y="2352"/>
                </a:lnTo>
                <a:lnTo>
                  <a:pt x="2446" y="2383"/>
                </a:lnTo>
                <a:lnTo>
                  <a:pt x="2487" y="2418"/>
                </a:lnTo>
                <a:lnTo>
                  <a:pt x="2526" y="2457"/>
                </a:lnTo>
                <a:lnTo>
                  <a:pt x="2558" y="2500"/>
                </a:lnTo>
                <a:lnTo>
                  <a:pt x="2588" y="2545"/>
                </a:lnTo>
                <a:lnTo>
                  <a:pt x="2613" y="2594"/>
                </a:lnTo>
                <a:lnTo>
                  <a:pt x="2632" y="2646"/>
                </a:lnTo>
                <a:lnTo>
                  <a:pt x="2647" y="2699"/>
                </a:lnTo>
                <a:lnTo>
                  <a:pt x="2656" y="2755"/>
                </a:lnTo>
                <a:lnTo>
                  <a:pt x="2659" y="2813"/>
                </a:lnTo>
                <a:lnTo>
                  <a:pt x="2659" y="3422"/>
                </a:lnTo>
                <a:lnTo>
                  <a:pt x="2657" y="3442"/>
                </a:lnTo>
                <a:lnTo>
                  <a:pt x="2648" y="3461"/>
                </a:lnTo>
                <a:lnTo>
                  <a:pt x="2636" y="3477"/>
                </a:lnTo>
                <a:lnTo>
                  <a:pt x="2620" y="3489"/>
                </a:lnTo>
                <a:lnTo>
                  <a:pt x="2602" y="3497"/>
                </a:lnTo>
                <a:lnTo>
                  <a:pt x="2581" y="3500"/>
                </a:lnTo>
                <a:lnTo>
                  <a:pt x="78" y="3500"/>
                </a:lnTo>
                <a:lnTo>
                  <a:pt x="58" y="3497"/>
                </a:lnTo>
                <a:lnTo>
                  <a:pt x="39" y="3489"/>
                </a:lnTo>
                <a:lnTo>
                  <a:pt x="23" y="3477"/>
                </a:lnTo>
                <a:lnTo>
                  <a:pt x="11" y="3461"/>
                </a:lnTo>
                <a:lnTo>
                  <a:pt x="3" y="3442"/>
                </a:lnTo>
                <a:lnTo>
                  <a:pt x="0" y="3422"/>
                </a:lnTo>
                <a:lnTo>
                  <a:pt x="0" y="2813"/>
                </a:lnTo>
                <a:lnTo>
                  <a:pt x="3" y="2755"/>
                </a:lnTo>
                <a:lnTo>
                  <a:pt x="12" y="2699"/>
                </a:lnTo>
                <a:lnTo>
                  <a:pt x="26" y="2646"/>
                </a:lnTo>
                <a:lnTo>
                  <a:pt x="47" y="2594"/>
                </a:lnTo>
                <a:lnTo>
                  <a:pt x="71" y="2545"/>
                </a:lnTo>
                <a:lnTo>
                  <a:pt x="100" y="2500"/>
                </a:lnTo>
                <a:lnTo>
                  <a:pt x="134" y="2457"/>
                </a:lnTo>
                <a:lnTo>
                  <a:pt x="171" y="2418"/>
                </a:lnTo>
                <a:lnTo>
                  <a:pt x="213" y="2383"/>
                </a:lnTo>
                <a:lnTo>
                  <a:pt x="258" y="2352"/>
                </a:lnTo>
                <a:lnTo>
                  <a:pt x="306" y="2326"/>
                </a:lnTo>
                <a:lnTo>
                  <a:pt x="357" y="2305"/>
                </a:lnTo>
                <a:lnTo>
                  <a:pt x="410" y="2289"/>
                </a:lnTo>
                <a:lnTo>
                  <a:pt x="465" y="2278"/>
                </a:lnTo>
                <a:lnTo>
                  <a:pt x="522" y="2273"/>
                </a:lnTo>
                <a:lnTo>
                  <a:pt x="524" y="2273"/>
                </a:lnTo>
                <a:lnTo>
                  <a:pt x="530" y="2273"/>
                </a:lnTo>
                <a:lnTo>
                  <a:pt x="540" y="2272"/>
                </a:lnTo>
                <a:lnTo>
                  <a:pt x="552" y="2272"/>
                </a:lnTo>
                <a:lnTo>
                  <a:pt x="568" y="2270"/>
                </a:lnTo>
                <a:lnTo>
                  <a:pt x="586" y="2268"/>
                </a:lnTo>
                <a:lnTo>
                  <a:pt x="608" y="2264"/>
                </a:lnTo>
                <a:lnTo>
                  <a:pt x="630" y="2259"/>
                </a:lnTo>
                <a:lnTo>
                  <a:pt x="654" y="2254"/>
                </a:lnTo>
                <a:lnTo>
                  <a:pt x="679" y="2245"/>
                </a:lnTo>
                <a:lnTo>
                  <a:pt x="706" y="2236"/>
                </a:lnTo>
                <a:lnTo>
                  <a:pt x="732" y="2224"/>
                </a:lnTo>
                <a:lnTo>
                  <a:pt x="760" y="2210"/>
                </a:lnTo>
                <a:lnTo>
                  <a:pt x="786" y="2194"/>
                </a:lnTo>
                <a:lnTo>
                  <a:pt x="814" y="2175"/>
                </a:lnTo>
                <a:lnTo>
                  <a:pt x="839" y="2153"/>
                </a:lnTo>
                <a:lnTo>
                  <a:pt x="865" y="2129"/>
                </a:lnTo>
                <a:lnTo>
                  <a:pt x="889" y="2100"/>
                </a:lnTo>
                <a:lnTo>
                  <a:pt x="911" y="2068"/>
                </a:lnTo>
                <a:lnTo>
                  <a:pt x="931" y="2033"/>
                </a:lnTo>
                <a:lnTo>
                  <a:pt x="949" y="1994"/>
                </a:lnTo>
                <a:lnTo>
                  <a:pt x="964" y="1952"/>
                </a:lnTo>
                <a:lnTo>
                  <a:pt x="977" y="1904"/>
                </a:lnTo>
                <a:lnTo>
                  <a:pt x="986" y="1852"/>
                </a:lnTo>
                <a:lnTo>
                  <a:pt x="935" y="1812"/>
                </a:lnTo>
                <a:lnTo>
                  <a:pt x="885" y="1767"/>
                </a:lnTo>
                <a:lnTo>
                  <a:pt x="839" y="1716"/>
                </a:lnTo>
                <a:lnTo>
                  <a:pt x="796" y="1661"/>
                </a:lnTo>
                <a:lnTo>
                  <a:pt x="757" y="1602"/>
                </a:lnTo>
                <a:lnTo>
                  <a:pt x="722" y="1538"/>
                </a:lnTo>
                <a:lnTo>
                  <a:pt x="690" y="1470"/>
                </a:lnTo>
                <a:lnTo>
                  <a:pt x="663" y="1398"/>
                </a:lnTo>
                <a:lnTo>
                  <a:pt x="640" y="1324"/>
                </a:lnTo>
                <a:lnTo>
                  <a:pt x="622" y="1245"/>
                </a:lnTo>
                <a:lnTo>
                  <a:pt x="609" y="1165"/>
                </a:lnTo>
                <a:lnTo>
                  <a:pt x="598" y="1152"/>
                </a:lnTo>
                <a:lnTo>
                  <a:pt x="591" y="1137"/>
                </a:lnTo>
                <a:lnTo>
                  <a:pt x="568" y="1078"/>
                </a:lnTo>
                <a:lnTo>
                  <a:pt x="550" y="1016"/>
                </a:lnTo>
                <a:lnTo>
                  <a:pt x="537" y="950"/>
                </a:lnTo>
                <a:lnTo>
                  <a:pt x="527" y="885"/>
                </a:lnTo>
                <a:lnTo>
                  <a:pt x="522" y="819"/>
                </a:lnTo>
                <a:lnTo>
                  <a:pt x="523" y="754"/>
                </a:lnTo>
                <a:lnTo>
                  <a:pt x="527" y="689"/>
                </a:lnTo>
                <a:lnTo>
                  <a:pt x="537" y="626"/>
                </a:lnTo>
                <a:lnTo>
                  <a:pt x="551" y="563"/>
                </a:lnTo>
                <a:lnTo>
                  <a:pt x="570" y="503"/>
                </a:lnTo>
                <a:lnTo>
                  <a:pt x="594" y="444"/>
                </a:lnTo>
                <a:lnTo>
                  <a:pt x="622" y="387"/>
                </a:lnTo>
                <a:lnTo>
                  <a:pt x="655" y="334"/>
                </a:lnTo>
                <a:lnTo>
                  <a:pt x="692" y="285"/>
                </a:lnTo>
                <a:lnTo>
                  <a:pt x="731" y="241"/>
                </a:lnTo>
                <a:lnTo>
                  <a:pt x="775" y="200"/>
                </a:lnTo>
                <a:lnTo>
                  <a:pt x="821" y="167"/>
                </a:lnTo>
                <a:lnTo>
                  <a:pt x="871" y="137"/>
                </a:lnTo>
                <a:lnTo>
                  <a:pt x="923" y="112"/>
                </a:lnTo>
                <a:lnTo>
                  <a:pt x="978" y="93"/>
                </a:lnTo>
                <a:lnTo>
                  <a:pt x="1032" y="81"/>
                </a:lnTo>
                <a:lnTo>
                  <a:pt x="1087" y="73"/>
                </a:lnTo>
                <a:lnTo>
                  <a:pt x="1146" y="47"/>
                </a:lnTo>
                <a:lnTo>
                  <a:pt x="1208" y="27"/>
                </a:lnTo>
                <a:lnTo>
                  <a:pt x="1269" y="12"/>
                </a:lnTo>
                <a:lnTo>
                  <a:pt x="1332" y="3"/>
                </a:lnTo>
                <a:lnTo>
                  <a:pt x="139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0" name="Inhaltsplatzhalter 4"/>
          <p:cNvSpPr/>
          <p:nvPr/>
        </p:nvSpPr>
        <p:spPr>
          <a:xfrm>
            <a:off x="243000" y="2664000"/>
            <a:ext cx="3871800" cy="853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1199"/>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注册会计师的责任。</a:t>
            </a:r>
            <a:endParaRPr b="1" lang="en-US" sz="2400" spc="-1" strike="noStrike">
              <a:solidFill>
                <a:srgbClr val="000000"/>
              </a:solidFill>
              <a:latin typeface="Arial"/>
            </a:endParaRPr>
          </a:p>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即注册会计师、被审计单位治理层对财务报表各自所 承担的责任，以及注册会计师与治理层沟通的责任。</a:t>
            </a:r>
            <a:endParaRPr b="1" lang="en-US" sz="2200" spc="-1" strike="noStrike">
              <a:solidFill>
                <a:srgbClr val="000000"/>
              </a:solidFill>
              <a:latin typeface="Arial"/>
            </a:endParaRPr>
          </a:p>
        </p:txBody>
      </p:sp>
      <p:grpSp>
        <p:nvGrpSpPr>
          <p:cNvPr id="2181" name="Group 5"/>
          <p:cNvGrpSpPr/>
          <p:nvPr/>
        </p:nvGrpSpPr>
        <p:grpSpPr>
          <a:xfrm>
            <a:off x="4300560" y="3557520"/>
            <a:ext cx="709560" cy="750960"/>
            <a:chOff x="4300560" y="3557520"/>
            <a:chExt cx="709560" cy="750960"/>
          </a:xfrm>
        </p:grpSpPr>
        <p:sp>
          <p:nvSpPr>
            <p:cNvPr id="2182" name="Oval 64"/>
            <p:cNvSpPr/>
            <p:nvPr/>
          </p:nvSpPr>
          <p:spPr>
            <a:xfrm>
              <a:off x="4300560" y="3557520"/>
              <a:ext cx="709560" cy="750960"/>
            </a:xfrm>
            <a:prstGeom prst="ellipse">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83" name="Group 64"/>
            <p:cNvGrpSpPr/>
            <p:nvPr/>
          </p:nvGrpSpPr>
          <p:grpSpPr>
            <a:xfrm>
              <a:off x="0" y="0"/>
              <a:ext cx="0" cy="0"/>
              <a:chOff x="0" y="0"/>
              <a:chExt cx="0" cy="0"/>
            </a:xfrm>
          </p:grpSpPr>
        </p:grpSp>
      </p:grpSp>
      <p:grpSp>
        <p:nvGrpSpPr>
          <p:cNvPr id="2184" name="Group 9"/>
          <p:cNvGrpSpPr/>
          <p:nvPr/>
        </p:nvGrpSpPr>
        <p:grpSpPr>
          <a:xfrm>
            <a:off x="4471920" y="2460600"/>
            <a:ext cx="723960" cy="684360"/>
            <a:chOff x="4471920" y="2460600"/>
            <a:chExt cx="723960" cy="684360"/>
          </a:xfrm>
        </p:grpSpPr>
        <p:sp>
          <p:nvSpPr>
            <p:cNvPr id="2185" name="Oval 63"/>
            <p:cNvSpPr/>
            <p:nvPr/>
          </p:nvSpPr>
          <p:spPr>
            <a:xfrm>
              <a:off x="4471920" y="2460600"/>
              <a:ext cx="723960" cy="68436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6" name="Freeform 19"/>
            <p:cNvSpPr/>
            <p:nvPr/>
          </p:nvSpPr>
          <p:spPr>
            <a:xfrm>
              <a:off x="4605120" y="2608200"/>
              <a:ext cx="378360" cy="379080"/>
            </a:xfrm>
            <a:custGeom>
              <a:avLst/>
              <a:gdLst/>
              <a:ahLst/>
              <a:rect l="l" t="t" r="r" b="b"/>
              <a:pathLst>
                <a:path w="3184" h="3385">
                  <a:moveTo>
                    <a:pt x="2579" y="2364"/>
                  </a:moveTo>
                  <a:lnTo>
                    <a:pt x="2528" y="2367"/>
                  </a:lnTo>
                  <a:lnTo>
                    <a:pt x="2478" y="2377"/>
                  </a:lnTo>
                  <a:lnTo>
                    <a:pt x="2429" y="2392"/>
                  </a:lnTo>
                  <a:lnTo>
                    <a:pt x="2385" y="2413"/>
                  </a:lnTo>
                  <a:lnTo>
                    <a:pt x="2343" y="2439"/>
                  </a:lnTo>
                  <a:lnTo>
                    <a:pt x="2304" y="2469"/>
                  </a:lnTo>
                  <a:lnTo>
                    <a:pt x="2270" y="2504"/>
                  </a:lnTo>
                  <a:lnTo>
                    <a:pt x="2239" y="2542"/>
                  </a:lnTo>
                  <a:lnTo>
                    <a:pt x="2213" y="2584"/>
                  </a:lnTo>
                  <a:lnTo>
                    <a:pt x="2193" y="2630"/>
                  </a:lnTo>
                  <a:lnTo>
                    <a:pt x="2177" y="2677"/>
                  </a:lnTo>
                  <a:lnTo>
                    <a:pt x="2168" y="2727"/>
                  </a:lnTo>
                  <a:lnTo>
                    <a:pt x="2165" y="2779"/>
                  </a:lnTo>
                  <a:lnTo>
                    <a:pt x="2168" y="2831"/>
                  </a:lnTo>
                  <a:lnTo>
                    <a:pt x="2177" y="2882"/>
                  </a:lnTo>
                  <a:lnTo>
                    <a:pt x="2193" y="2929"/>
                  </a:lnTo>
                  <a:lnTo>
                    <a:pt x="2213" y="2975"/>
                  </a:lnTo>
                  <a:lnTo>
                    <a:pt x="2239" y="3017"/>
                  </a:lnTo>
                  <a:lnTo>
                    <a:pt x="2270" y="3055"/>
                  </a:lnTo>
                  <a:lnTo>
                    <a:pt x="2304" y="3090"/>
                  </a:lnTo>
                  <a:lnTo>
                    <a:pt x="2343" y="3120"/>
                  </a:lnTo>
                  <a:lnTo>
                    <a:pt x="2385" y="3146"/>
                  </a:lnTo>
                  <a:lnTo>
                    <a:pt x="2429" y="3166"/>
                  </a:lnTo>
                  <a:lnTo>
                    <a:pt x="2478" y="3182"/>
                  </a:lnTo>
                  <a:lnTo>
                    <a:pt x="2528" y="3191"/>
                  </a:lnTo>
                  <a:lnTo>
                    <a:pt x="2579" y="3195"/>
                  </a:lnTo>
                  <a:lnTo>
                    <a:pt x="2632" y="3191"/>
                  </a:lnTo>
                  <a:lnTo>
                    <a:pt x="2681" y="3182"/>
                  </a:lnTo>
                  <a:lnTo>
                    <a:pt x="2729" y="3166"/>
                  </a:lnTo>
                  <a:lnTo>
                    <a:pt x="2774" y="3146"/>
                  </a:lnTo>
                  <a:lnTo>
                    <a:pt x="2816" y="3120"/>
                  </a:lnTo>
                  <a:lnTo>
                    <a:pt x="2855" y="3090"/>
                  </a:lnTo>
                  <a:lnTo>
                    <a:pt x="2889" y="3055"/>
                  </a:lnTo>
                  <a:lnTo>
                    <a:pt x="2920" y="3017"/>
                  </a:lnTo>
                  <a:lnTo>
                    <a:pt x="2945" y="2975"/>
                  </a:lnTo>
                  <a:lnTo>
                    <a:pt x="2966" y="2929"/>
                  </a:lnTo>
                  <a:lnTo>
                    <a:pt x="2981" y="2882"/>
                  </a:lnTo>
                  <a:lnTo>
                    <a:pt x="2991" y="2831"/>
                  </a:lnTo>
                  <a:lnTo>
                    <a:pt x="2994" y="2779"/>
                  </a:lnTo>
                  <a:lnTo>
                    <a:pt x="2991" y="2727"/>
                  </a:lnTo>
                  <a:lnTo>
                    <a:pt x="2981" y="2677"/>
                  </a:lnTo>
                  <a:lnTo>
                    <a:pt x="2966" y="2630"/>
                  </a:lnTo>
                  <a:lnTo>
                    <a:pt x="2945" y="2584"/>
                  </a:lnTo>
                  <a:lnTo>
                    <a:pt x="2920" y="2542"/>
                  </a:lnTo>
                  <a:lnTo>
                    <a:pt x="2889" y="2504"/>
                  </a:lnTo>
                  <a:lnTo>
                    <a:pt x="2855" y="2469"/>
                  </a:lnTo>
                  <a:lnTo>
                    <a:pt x="2816" y="2439"/>
                  </a:lnTo>
                  <a:lnTo>
                    <a:pt x="2774" y="2413"/>
                  </a:lnTo>
                  <a:lnTo>
                    <a:pt x="2729" y="2392"/>
                  </a:lnTo>
                  <a:lnTo>
                    <a:pt x="2681" y="2377"/>
                  </a:lnTo>
                  <a:lnTo>
                    <a:pt x="2632" y="2367"/>
                  </a:lnTo>
                  <a:lnTo>
                    <a:pt x="2579" y="2364"/>
                  </a:lnTo>
                  <a:close/>
                  <a:moveTo>
                    <a:pt x="604" y="1277"/>
                  </a:moveTo>
                  <a:lnTo>
                    <a:pt x="553" y="1280"/>
                  </a:lnTo>
                  <a:lnTo>
                    <a:pt x="503" y="1289"/>
                  </a:lnTo>
                  <a:lnTo>
                    <a:pt x="454" y="1305"/>
                  </a:lnTo>
                  <a:lnTo>
                    <a:pt x="410" y="1325"/>
                  </a:lnTo>
                  <a:lnTo>
                    <a:pt x="368" y="1351"/>
                  </a:lnTo>
                  <a:lnTo>
                    <a:pt x="329" y="1382"/>
                  </a:lnTo>
                  <a:lnTo>
                    <a:pt x="295" y="1416"/>
                  </a:lnTo>
                  <a:lnTo>
                    <a:pt x="264" y="1455"/>
                  </a:lnTo>
                  <a:lnTo>
                    <a:pt x="238" y="1497"/>
                  </a:lnTo>
                  <a:lnTo>
                    <a:pt x="218" y="1543"/>
                  </a:lnTo>
                  <a:lnTo>
                    <a:pt x="202" y="1590"/>
                  </a:lnTo>
                  <a:lnTo>
                    <a:pt x="193" y="1640"/>
                  </a:lnTo>
                  <a:lnTo>
                    <a:pt x="190" y="1692"/>
                  </a:lnTo>
                  <a:lnTo>
                    <a:pt x="193" y="1744"/>
                  </a:lnTo>
                  <a:lnTo>
                    <a:pt x="202" y="1794"/>
                  </a:lnTo>
                  <a:lnTo>
                    <a:pt x="218" y="1842"/>
                  </a:lnTo>
                  <a:lnTo>
                    <a:pt x="238" y="1888"/>
                  </a:lnTo>
                  <a:lnTo>
                    <a:pt x="264" y="1929"/>
                  </a:lnTo>
                  <a:lnTo>
                    <a:pt x="295" y="1968"/>
                  </a:lnTo>
                  <a:lnTo>
                    <a:pt x="329" y="2002"/>
                  </a:lnTo>
                  <a:lnTo>
                    <a:pt x="368" y="2033"/>
                  </a:lnTo>
                  <a:lnTo>
                    <a:pt x="410" y="2059"/>
                  </a:lnTo>
                  <a:lnTo>
                    <a:pt x="454" y="2079"/>
                  </a:lnTo>
                  <a:lnTo>
                    <a:pt x="503" y="2095"/>
                  </a:lnTo>
                  <a:lnTo>
                    <a:pt x="553" y="2104"/>
                  </a:lnTo>
                  <a:lnTo>
                    <a:pt x="604" y="2107"/>
                  </a:lnTo>
                  <a:lnTo>
                    <a:pt x="656" y="2104"/>
                  </a:lnTo>
                  <a:lnTo>
                    <a:pt x="706" y="2095"/>
                  </a:lnTo>
                  <a:lnTo>
                    <a:pt x="754" y="2079"/>
                  </a:lnTo>
                  <a:lnTo>
                    <a:pt x="799" y="2059"/>
                  </a:lnTo>
                  <a:lnTo>
                    <a:pt x="841" y="2033"/>
                  </a:lnTo>
                  <a:lnTo>
                    <a:pt x="879" y="2002"/>
                  </a:lnTo>
                  <a:lnTo>
                    <a:pt x="914" y="1968"/>
                  </a:lnTo>
                  <a:lnTo>
                    <a:pt x="945" y="1929"/>
                  </a:lnTo>
                  <a:lnTo>
                    <a:pt x="970" y="1888"/>
                  </a:lnTo>
                  <a:lnTo>
                    <a:pt x="991" y="1842"/>
                  </a:lnTo>
                  <a:lnTo>
                    <a:pt x="1006" y="1794"/>
                  </a:lnTo>
                  <a:lnTo>
                    <a:pt x="1016" y="1744"/>
                  </a:lnTo>
                  <a:lnTo>
                    <a:pt x="1019" y="1692"/>
                  </a:lnTo>
                  <a:lnTo>
                    <a:pt x="1016" y="1640"/>
                  </a:lnTo>
                  <a:lnTo>
                    <a:pt x="1006" y="1590"/>
                  </a:lnTo>
                  <a:lnTo>
                    <a:pt x="991" y="1543"/>
                  </a:lnTo>
                  <a:lnTo>
                    <a:pt x="970" y="1497"/>
                  </a:lnTo>
                  <a:lnTo>
                    <a:pt x="945" y="1455"/>
                  </a:lnTo>
                  <a:lnTo>
                    <a:pt x="914" y="1416"/>
                  </a:lnTo>
                  <a:lnTo>
                    <a:pt x="880" y="1382"/>
                  </a:lnTo>
                  <a:lnTo>
                    <a:pt x="841" y="1351"/>
                  </a:lnTo>
                  <a:lnTo>
                    <a:pt x="799" y="1325"/>
                  </a:lnTo>
                  <a:lnTo>
                    <a:pt x="755" y="1305"/>
                  </a:lnTo>
                  <a:lnTo>
                    <a:pt x="706" y="1289"/>
                  </a:lnTo>
                  <a:lnTo>
                    <a:pt x="657" y="1280"/>
                  </a:lnTo>
                  <a:lnTo>
                    <a:pt x="604" y="1277"/>
                  </a:lnTo>
                  <a:close/>
                  <a:moveTo>
                    <a:pt x="2579" y="191"/>
                  </a:moveTo>
                  <a:lnTo>
                    <a:pt x="2528" y="194"/>
                  </a:lnTo>
                  <a:lnTo>
                    <a:pt x="2478" y="203"/>
                  </a:lnTo>
                  <a:lnTo>
                    <a:pt x="2430" y="219"/>
                  </a:lnTo>
                  <a:lnTo>
                    <a:pt x="2385" y="239"/>
                  </a:lnTo>
                  <a:lnTo>
                    <a:pt x="2343" y="265"/>
                  </a:lnTo>
                  <a:lnTo>
                    <a:pt x="2305" y="296"/>
                  </a:lnTo>
                  <a:lnTo>
                    <a:pt x="2270" y="331"/>
                  </a:lnTo>
                  <a:lnTo>
                    <a:pt x="2239" y="369"/>
                  </a:lnTo>
                  <a:lnTo>
                    <a:pt x="2213" y="411"/>
                  </a:lnTo>
                  <a:lnTo>
                    <a:pt x="2193" y="457"/>
                  </a:lnTo>
                  <a:lnTo>
                    <a:pt x="2177" y="504"/>
                  </a:lnTo>
                  <a:lnTo>
                    <a:pt x="2168" y="554"/>
                  </a:lnTo>
                  <a:lnTo>
                    <a:pt x="2165" y="606"/>
                  </a:lnTo>
                  <a:lnTo>
                    <a:pt x="2168" y="659"/>
                  </a:lnTo>
                  <a:lnTo>
                    <a:pt x="2177" y="708"/>
                  </a:lnTo>
                  <a:lnTo>
                    <a:pt x="2193" y="756"/>
                  </a:lnTo>
                  <a:lnTo>
                    <a:pt x="2213" y="802"/>
                  </a:lnTo>
                  <a:lnTo>
                    <a:pt x="2239" y="843"/>
                  </a:lnTo>
                  <a:lnTo>
                    <a:pt x="2270" y="882"/>
                  </a:lnTo>
                  <a:lnTo>
                    <a:pt x="2304" y="916"/>
                  </a:lnTo>
                  <a:lnTo>
                    <a:pt x="2343" y="947"/>
                  </a:lnTo>
                  <a:lnTo>
                    <a:pt x="2385" y="973"/>
                  </a:lnTo>
                  <a:lnTo>
                    <a:pt x="2429" y="993"/>
                  </a:lnTo>
                  <a:lnTo>
                    <a:pt x="2478" y="1009"/>
                  </a:lnTo>
                  <a:lnTo>
                    <a:pt x="2528" y="1018"/>
                  </a:lnTo>
                  <a:lnTo>
                    <a:pt x="2579" y="1021"/>
                  </a:lnTo>
                  <a:lnTo>
                    <a:pt x="2632" y="1018"/>
                  </a:lnTo>
                  <a:lnTo>
                    <a:pt x="2681" y="1009"/>
                  </a:lnTo>
                  <a:lnTo>
                    <a:pt x="2729" y="993"/>
                  </a:lnTo>
                  <a:lnTo>
                    <a:pt x="2774" y="973"/>
                  </a:lnTo>
                  <a:lnTo>
                    <a:pt x="2816" y="947"/>
                  </a:lnTo>
                  <a:lnTo>
                    <a:pt x="2855" y="916"/>
                  </a:lnTo>
                  <a:lnTo>
                    <a:pt x="2889" y="882"/>
                  </a:lnTo>
                  <a:lnTo>
                    <a:pt x="2920" y="843"/>
                  </a:lnTo>
                  <a:lnTo>
                    <a:pt x="2945" y="802"/>
                  </a:lnTo>
                  <a:lnTo>
                    <a:pt x="2966" y="756"/>
                  </a:lnTo>
                  <a:lnTo>
                    <a:pt x="2981" y="708"/>
                  </a:lnTo>
                  <a:lnTo>
                    <a:pt x="2991" y="659"/>
                  </a:lnTo>
                  <a:lnTo>
                    <a:pt x="2994" y="606"/>
                  </a:lnTo>
                  <a:lnTo>
                    <a:pt x="2991" y="554"/>
                  </a:lnTo>
                  <a:lnTo>
                    <a:pt x="2981" y="504"/>
                  </a:lnTo>
                  <a:lnTo>
                    <a:pt x="2966" y="457"/>
                  </a:lnTo>
                  <a:lnTo>
                    <a:pt x="2945" y="411"/>
                  </a:lnTo>
                  <a:lnTo>
                    <a:pt x="2920" y="369"/>
                  </a:lnTo>
                  <a:lnTo>
                    <a:pt x="2889" y="331"/>
                  </a:lnTo>
                  <a:lnTo>
                    <a:pt x="2855" y="296"/>
                  </a:lnTo>
                  <a:lnTo>
                    <a:pt x="2816" y="265"/>
                  </a:lnTo>
                  <a:lnTo>
                    <a:pt x="2774" y="239"/>
                  </a:lnTo>
                  <a:lnTo>
                    <a:pt x="2729" y="219"/>
                  </a:lnTo>
                  <a:lnTo>
                    <a:pt x="2681" y="203"/>
                  </a:lnTo>
                  <a:lnTo>
                    <a:pt x="2632" y="194"/>
                  </a:lnTo>
                  <a:lnTo>
                    <a:pt x="2579" y="191"/>
                  </a:lnTo>
                  <a:close/>
                  <a:moveTo>
                    <a:pt x="2578" y="0"/>
                  </a:moveTo>
                  <a:lnTo>
                    <a:pt x="2640" y="3"/>
                  </a:lnTo>
                  <a:lnTo>
                    <a:pt x="2701" y="13"/>
                  </a:lnTo>
                  <a:lnTo>
                    <a:pt x="2758" y="28"/>
                  </a:lnTo>
                  <a:lnTo>
                    <a:pt x="2814" y="48"/>
                  </a:lnTo>
                  <a:lnTo>
                    <a:pt x="2866" y="73"/>
                  </a:lnTo>
                  <a:lnTo>
                    <a:pt x="2917" y="104"/>
                  </a:lnTo>
                  <a:lnTo>
                    <a:pt x="2963" y="138"/>
                  </a:lnTo>
                  <a:lnTo>
                    <a:pt x="3006" y="177"/>
                  </a:lnTo>
                  <a:lnTo>
                    <a:pt x="3045" y="221"/>
                  </a:lnTo>
                  <a:lnTo>
                    <a:pt x="3079" y="267"/>
                  </a:lnTo>
                  <a:lnTo>
                    <a:pt x="3110" y="318"/>
                  </a:lnTo>
                  <a:lnTo>
                    <a:pt x="3135" y="370"/>
                  </a:lnTo>
                  <a:lnTo>
                    <a:pt x="3155" y="426"/>
                  </a:lnTo>
                  <a:lnTo>
                    <a:pt x="3170" y="483"/>
                  </a:lnTo>
                  <a:lnTo>
                    <a:pt x="3180" y="543"/>
                  </a:lnTo>
                  <a:lnTo>
                    <a:pt x="3183" y="605"/>
                  </a:lnTo>
                  <a:lnTo>
                    <a:pt x="3180" y="667"/>
                  </a:lnTo>
                  <a:lnTo>
                    <a:pt x="3170" y="728"/>
                  </a:lnTo>
                  <a:lnTo>
                    <a:pt x="3155" y="785"/>
                  </a:lnTo>
                  <a:lnTo>
                    <a:pt x="3134" y="841"/>
                  </a:lnTo>
                  <a:lnTo>
                    <a:pt x="3110" y="893"/>
                  </a:lnTo>
                  <a:lnTo>
                    <a:pt x="3079" y="944"/>
                  </a:lnTo>
                  <a:lnTo>
                    <a:pt x="3044" y="990"/>
                  </a:lnTo>
                  <a:lnTo>
                    <a:pt x="3005" y="1034"/>
                  </a:lnTo>
                  <a:lnTo>
                    <a:pt x="2963" y="1073"/>
                  </a:lnTo>
                  <a:lnTo>
                    <a:pt x="2915" y="1107"/>
                  </a:lnTo>
                  <a:lnTo>
                    <a:pt x="2866" y="1138"/>
                  </a:lnTo>
                  <a:lnTo>
                    <a:pt x="2814" y="1163"/>
                  </a:lnTo>
                  <a:lnTo>
                    <a:pt x="2758" y="1183"/>
                  </a:lnTo>
                  <a:lnTo>
                    <a:pt x="2700" y="1198"/>
                  </a:lnTo>
                  <a:lnTo>
                    <a:pt x="2640" y="1208"/>
                  </a:lnTo>
                  <a:lnTo>
                    <a:pt x="2578" y="1211"/>
                  </a:lnTo>
                  <a:lnTo>
                    <a:pt x="2521" y="1208"/>
                  </a:lnTo>
                  <a:lnTo>
                    <a:pt x="2464" y="1199"/>
                  </a:lnTo>
                  <a:lnTo>
                    <a:pt x="2410" y="1186"/>
                  </a:lnTo>
                  <a:lnTo>
                    <a:pt x="2357" y="1169"/>
                  </a:lnTo>
                  <a:lnTo>
                    <a:pt x="2307" y="1146"/>
                  </a:lnTo>
                  <a:lnTo>
                    <a:pt x="2260" y="1119"/>
                  </a:lnTo>
                  <a:lnTo>
                    <a:pt x="2215" y="1088"/>
                  </a:lnTo>
                  <a:lnTo>
                    <a:pt x="2173" y="1053"/>
                  </a:lnTo>
                  <a:lnTo>
                    <a:pt x="2134" y="1015"/>
                  </a:lnTo>
                  <a:lnTo>
                    <a:pt x="2099" y="973"/>
                  </a:lnTo>
                  <a:lnTo>
                    <a:pt x="1173" y="1492"/>
                  </a:lnTo>
                  <a:lnTo>
                    <a:pt x="1187" y="1539"/>
                  </a:lnTo>
                  <a:lnTo>
                    <a:pt x="1199" y="1589"/>
                  </a:lnTo>
                  <a:lnTo>
                    <a:pt x="1205" y="1640"/>
                  </a:lnTo>
                  <a:lnTo>
                    <a:pt x="1207" y="1692"/>
                  </a:lnTo>
                  <a:lnTo>
                    <a:pt x="1205" y="1743"/>
                  </a:lnTo>
                  <a:lnTo>
                    <a:pt x="1199" y="1795"/>
                  </a:lnTo>
                  <a:lnTo>
                    <a:pt x="1187" y="1843"/>
                  </a:lnTo>
                  <a:lnTo>
                    <a:pt x="1173" y="1892"/>
                  </a:lnTo>
                  <a:lnTo>
                    <a:pt x="2101" y="2411"/>
                  </a:lnTo>
                  <a:lnTo>
                    <a:pt x="2136" y="2370"/>
                  </a:lnTo>
                  <a:lnTo>
                    <a:pt x="2174" y="2332"/>
                  </a:lnTo>
                  <a:lnTo>
                    <a:pt x="2216" y="2297"/>
                  </a:lnTo>
                  <a:lnTo>
                    <a:pt x="2262" y="2266"/>
                  </a:lnTo>
                  <a:lnTo>
                    <a:pt x="2309" y="2239"/>
                  </a:lnTo>
                  <a:lnTo>
                    <a:pt x="2359" y="2216"/>
                  </a:lnTo>
                  <a:lnTo>
                    <a:pt x="2412" y="2199"/>
                  </a:lnTo>
                  <a:lnTo>
                    <a:pt x="2465" y="2185"/>
                  </a:lnTo>
                  <a:lnTo>
                    <a:pt x="2522" y="2177"/>
                  </a:lnTo>
                  <a:lnTo>
                    <a:pt x="2579" y="2175"/>
                  </a:lnTo>
                  <a:lnTo>
                    <a:pt x="2641" y="2178"/>
                  </a:lnTo>
                  <a:lnTo>
                    <a:pt x="2701" y="2188"/>
                  </a:lnTo>
                  <a:lnTo>
                    <a:pt x="2759" y="2202"/>
                  </a:lnTo>
                  <a:lnTo>
                    <a:pt x="2815" y="2223"/>
                  </a:lnTo>
                  <a:lnTo>
                    <a:pt x="2867" y="2248"/>
                  </a:lnTo>
                  <a:lnTo>
                    <a:pt x="2918" y="2278"/>
                  </a:lnTo>
                  <a:lnTo>
                    <a:pt x="2964" y="2313"/>
                  </a:lnTo>
                  <a:lnTo>
                    <a:pt x="3007" y="2352"/>
                  </a:lnTo>
                  <a:lnTo>
                    <a:pt x="3046" y="2396"/>
                  </a:lnTo>
                  <a:lnTo>
                    <a:pt x="3080" y="2442"/>
                  </a:lnTo>
                  <a:lnTo>
                    <a:pt x="3111" y="2491"/>
                  </a:lnTo>
                  <a:lnTo>
                    <a:pt x="3137" y="2545"/>
                  </a:lnTo>
                  <a:lnTo>
                    <a:pt x="3157" y="2601"/>
                  </a:lnTo>
                  <a:lnTo>
                    <a:pt x="3171" y="2658"/>
                  </a:lnTo>
                  <a:lnTo>
                    <a:pt x="3181" y="2718"/>
                  </a:lnTo>
                  <a:lnTo>
                    <a:pt x="3184" y="2780"/>
                  </a:lnTo>
                  <a:lnTo>
                    <a:pt x="3181" y="2842"/>
                  </a:lnTo>
                  <a:lnTo>
                    <a:pt x="3171" y="2902"/>
                  </a:lnTo>
                  <a:lnTo>
                    <a:pt x="3157" y="2960"/>
                  </a:lnTo>
                  <a:lnTo>
                    <a:pt x="3137" y="3016"/>
                  </a:lnTo>
                  <a:lnTo>
                    <a:pt x="3111" y="3068"/>
                  </a:lnTo>
                  <a:lnTo>
                    <a:pt x="3081" y="3118"/>
                  </a:lnTo>
                  <a:lnTo>
                    <a:pt x="3046" y="3165"/>
                  </a:lnTo>
                  <a:lnTo>
                    <a:pt x="3007" y="3208"/>
                  </a:lnTo>
                  <a:lnTo>
                    <a:pt x="2964" y="3247"/>
                  </a:lnTo>
                  <a:lnTo>
                    <a:pt x="2918" y="3282"/>
                  </a:lnTo>
                  <a:lnTo>
                    <a:pt x="2868" y="3313"/>
                  </a:lnTo>
                  <a:lnTo>
                    <a:pt x="2815" y="3337"/>
                  </a:lnTo>
                  <a:lnTo>
                    <a:pt x="2759" y="3358"/>
                  </a:lnTo>
                  <a:lnTo>
                    <a:pt x="2702" y="3373"/>
                  </a:lnTo>
                  <a:lnTo>
                    <a:pt x="2642" y="3382"/>
                  </a:lnTo>
                  <a:lnTo>
                    <a:pt x="2580" y="3385"/>
                  </a:lnTo>
                  <a:lnTo>
                    <a:pt x="2519" y="3382"/>
                  </a:lnTo>
                  <a:lnTo>
                    <a:pt x="2458" y="3373"/>
                  </a:lnTo>
                  <a:lnTo>
                    <a:pt x="2400" y="3358"/>
                  </a:lnTo>
                  <a:lnTo>
                    <a:pt x="2345" y="3337"/>
                  </a:lnTo>
                  <a:lnTo>
                    <a:pt x="2292" y="3312"/>
                  </a:lnTo>
                  <a:lnTo>
                    <a:pt x="2243" y="3282"/>
                  </a:lnTo>
                  <a:lnTo>
                    <a:pt x="2196" y="3247"/>
                  </a:lnTo>
                  <a:lnTo>
                    <a:pt x="2154" y="3208"/>
                  </a:lnTo>
                  <a:lnTo>
                    <a:pt x="2115" y="3164"/>
                  </a:lnTo>
                  <a:lnTo>
                    <a:pt x="2080" y="3118"/>
                  </a:lnTo>
                  <a:lnTo>
                    <a:pt x="2049" y="3068"/>
                  </a:lnTo>
                  <a:lnTo>
                    <a:pt x="2024" y="3015"/>
                  </a:lnTo>
                  <a:lnTo>
                    <a:pt x="2004" y="2959"/>
                  </a:lnTo>
                  <a:lnTo>
                    <a:pt x="1988" y="2902"/>
                  </a:lnTo>
                  <a:lnTo>
                    <a:pt x="1979" y="2842"/>
                  </a:lnTo>
                  <a:lnTo>
                    <a:pt x="1976" y="2780"/>
                  </a:lnTo>
                  <a:lnTo>
                    <a:pt x="1979" y="2727"/>
                  </a:lnTo>
                  <a:lnTo>
                    <a:pt x="1985" y="2677"/>
                  </a:lnTo>
                  <a:lnTo>
                    <a:pt x="1996" y="2626"/>
                  </a:lnTo>
                  <a:lnTo>
                    <a:pt x="2012" y="2578"/>
                  </a:lnTo>
                  <a:lnTo>
                    <a:pt x="1085" y="2059"/>
                  </a:lnTo>
                  <a:lnTo>
                    <a:pt x="1050" y="2101"/>
                  </a:lnTo>
                  <a:lnTo>
                    <a:pt x="1011" y="2139"/>
                  </a:lnTo>
                  <a:lnTo>
                    <a:pt x="968" y="2174"/>
                  </a:lnTo>
                  <a:lnTo>
                    <a:pt x="924" y="2205"/>
                  </a:lnTo>
                  <a:lnTo>
                    <a:pt x="876" y="2233"/>
                  </a:lnTo>
                  <a:lnTo>
                    <a:pt x="825" y="2256"/>
                  </a:lnTo>
                  <a:lnTo>
                    <a:pt x="773" y="2273"/>
                  </a:lnTo>
                  <a:lnTo>
                    <a:pt x="719" y="2286"/>
                  </a:lnTo>
                  <a:lnTo>
                    <a:pt x="662" y="2295"/>
                  </a:lnTo>
                  <a:lnTo>
                    <a:pt x="604" y="2297"/>
                  </a:lnTo>
                  <a:lnTo>
                    <a:pt x="543" y="2294"/>
                  </a:lnTo>
                  <a:lnTo>
                    <a:pt x="483" y="2285"/>
                  </a:lnTo>
                  <a:lnTo>
                    <a:pt x="426" y="2270"/>
                  </a:lnTo>
                  <a:lnTo>
                    <a:pt x="370" y="2249"/>
                  </a:lnTo>
                  <a:lnTo>
                    <a:pt x="317" y="2225"/>
                  </a:lnTo>
                  <a:lnTo>
                    <a:pt x="267" y="2194"/>
                  </a:lnTo>
                  <a:lnTo>
                    <a:pt x="220" y="2159"/>
                  </a:lnTo>
                  <a:lnTo>
                    <a:pt x="178" y="2120"/>
                  </a:lnTo>
                  <a:lnTo>
                    <a:pt x="139" y="2077"/>
                  </a:lnTo>
                  <a:lnTo>
                    <a:pt x="104" y="2030"/>
                  </a:lnTo>
                  <a:lnTo>
                    <a:pt x="73" y="1980"/>
                  </a:lnTo>
                  <a:lnTo>
                    <a:pt x="47" y="1928"/>
                  </a:lnTo>
                  <a:lnTo>
                    <a:pt x="28" y="1872"/>
                  </a:lnTo>
                  <a:lnTo>
                    <a:pt x="12" y="1814"/>
                  </a:lnTo>
                  <a:lnTo>
                    <a:pt x="3" y="1754"/>
                  </a:lnTo>
                  <a:lnTo>
                    <a:pt x="0" y="1692"/>
                  </a:lnTo>
                  <a:lnTo>
                    <a:pt x="3" y="1630"/>
                  </a:lnTo>
                  <a:lnTo>
                    <a:pt x="12" y="1570"/>
                  </a:lnTo>
                  <a:lnTo>
                    <a:pt x="28" y="1513"/>
                  </a:lnTo>
                  <a:lnTo>
                    <a:pt x="47" y="1457"/>
                  </a:lnTo>
                  <a:lnTo>
                    <a:pt x="73" y="1403"/>
                  </a:lnTo>
                  <a:lnTo>
                    <a:pt x="104" y="1354"/>
                  </a:lnTo>
                  <a:lnTo>
                    <a:pt x="139" y="1308"/>
                  </a:lnTo>
                  <a:lnTo>
                    <a:pt x="177" y="1264"/>
                  </a:lnTo>
                  <a:lnTo>
                    <a:pt x="220" y="1225"/>
                  </a:lnTo>
                  <a:lnTo>
                    <a:pt x="266" y="1190"/>
                  </a:lnTo>
                  <a:lnTo>
                    <a:pt x="317" y="1160"/>
                  </a:lnTo>
                  <a:lnTo>
                    <a:pt x="369" y="1135"/>
                  </a:lnTo>
                  <a:lnTo>
                    <a:pt x="425" y="1114"/>
                  </a:lnTo>
                  <a:lnTo>
                    <a:pt x="482" y="1100"/>
                  </a:lnTo>
                  <a:lnTo>
                    <a:pt x="543" y="1090"/>
                  </a:lnTo>
                  <a:lnTo>
                    <a:pt x="603" y="1087"/>
                  </a:lnTo>
                  <a:lnTo>
                    <a:pt x="662" y="1089"/>
                  </a:lnTo>
                  <a:lnTo>
                    <a:pt x="718" y="1097"/>
                  </a:lnTo>
                  <a:lnTo>
                    <a:pt x="772" y="1111"/>
                  </a:lnTo>
                  <a:lnTo>
                    <a:pt x="825" y="1128"/>
                  </a:lnTo>
                  <a:lnTo>
                    <a:pt x="875" y="1151"/>
                  </a:lnTo>
                  <a:lnTo>
                    <a:pt x="923" y="1178"/>
                  </a:lnTo>
                  <a:lnTo>
                    <a:pt x="967" y="1210"/>
                  </a:lnTo>
                  <a:lnTo>
                    <a:pt x="1010" y="1244"/>
                  </a:lnTo>
                  <a:lnTo>
                    <a:pt x="1048" y="1283"/>
                  </a:lnTo>
                  <a:lnTo>
                    <a:pt x="1082" y="1324"/>
                  </a:lnTo>
                  <a:lnTo>
                    <a:pt x="2009" y="806"/>
                  </a:lnTo>
                  <a:lnTo>
                    <a:pt x="1994" y="758"/>
                  </a:lnTo>
                  <a:lnTo>
                    <a:pt x="1984" y="709"/>
                  </a:lnTo>
                  <a:lnTo>
                    <a:pt x="1977" y="658"/>
                  </a:lnTo>
                  <a:lnTo>
                    <a:pt x="1975" y="605"/>
                  </a:lnTo>
                  <a:lnTo>
                    <a:pt x="1978" y="543"/>
                  </a:lnTo>
                  <a:lnTo>
                    <a:pt x="1987" y="483"/>
                  </a:lnTo>
                  <a:lnTo>
                    <a:pt x="2002" y="426"/>
                  </a:lnTo>
                  <a:lnTo>
                    <a:pt x="2022" y="370"/>
                  </a:lnTo>
                  <a:lnTo>
                    <a:pt x="2048" y="318"/>
                  </a:lnTo>
                  <a:lnTo>
                    <a:pt x="2078" y="267"/>
                  </a:lnTo>
                  <a:lnTo>
                    <a:pt x="2113" y="221"/>
                  </a:lnTo>
                  <a:lnTo>
                    <a:pt x="2152" y="177"/>
                  </a:lnTo>
                  <a:lnTo>
                    <a:pt x="2195" y="138"/>
                  </a:lnTo>
                  <a:lnTo>
                    <a:pt x="2241" y="104"/>
                  </a:lnTo>
                  <a:lnTo>
                    <a:pt x="2291" y="73"/>
                  </a:lnTo>
                  <a:lnTo>
                    <a:pt x="2344" y="48"/>
                  </a:lnTo>
                  <a:lnTo>
                    <a:pt x="2399" y="28"/>
                  </a:lnTo>
                  <a:lnTo>
                    <a:pt x="2457" y="13"/>
                  </a:lnTo>
                  <a:lnTo>
                    <a:pt x="2517" y="3"/>
                  </a:lnTo>
                  <a:lnTo>
                    <a:pt x="25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87" name="Group 11"/>
          <p:cNvGrpSpPr/>
          <p:nvPr/>
        </p:nvGrpSpPr>
        <p:grpSpPr>
          <a:xfrm>
            <a:off x="6461280" y="3432240"/>
            <a:ext cx="703080" cy="731880"/>
            <a:chOff x="6461280" y="3432240"/>
            <a:chExt cx="703080" cy="731880"/>
          </a:xfrm>
        </p:grpSpPr>
        <p:sp>
          <p:nvSpPr>
            <p:cNvPr id="2188" name="Oval 60"/>
            <p:cNvSpPr/>
            <p:nvPr/>
          </p:nvSpPr>
          <p:spPr>
            <a:xfrm>
              <a:off x="6461280" y="3432240"/>
              <a:ext cx="703080" cy="731880"/>
            </a:xfrm>
            <a:prstGeom prst="ellipse">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9" name="Freeform 29"/>
            <p:cNvSpPr/>
            <p:nvPr/>
          </p:nvSpPr>
          <p:spPr>
            <a:xfrm>
              <a:off x="6596640" y="3557160"/>
              <a:ext cx="432000" cy="482040"/>
            </a:xfrm>
            <a:custGeom>
              <a:avLst/>
              <a:gdLst/>
              <a:ahLst/>
              <a:rect l="l" t="t" r="r" b="b"/>
              <a:pathLst>
                <a:path w="3187" h="3426">
                  <a:moveTo>
                    <a:pt x="2707" y="2847"/>
                  </a:moveTo>
                  <a:lnTo>
                    <a:pt x="2672" y="2850"/>
                  </a:lnTo>
                  <a:lnTo>
                    <a:pt x="2639" y="2860"/>
                  </a:lnTo>
                  <a:lnTo>
                    <a:pt x="2608" y="2874"/>
                  </a:lnTo>
                  <a:lnTo>
                    <a:pt x="2582" y="2893"/>
                  </a:lnTo>
                  <a:lnTo>
                    <a:pt x="2558" y="2917"/>
                  </a:lnTo>
                  <a:lnTo>
                    <a:pt x="2539" y="2943"/>
                  </a:lnTo>
                  <a:lnTo>
                    <a:pt x="2525" y="2973"/>
                  </a:lnTo>
                  <a:lnTo>
                    <a:pt x="2515" y="3007"/>
                  </a:lnTo>
                  <a:lnTo>
                    <a:pt x="2512" y="3041"/>
                  </a:lnTo>
                  <a:lnTo>
                    <a:pt x="2515" y="3075"/>
                  </a:lnTo>
                  <a:lnTo>
                    <a:pt x="2525" y="3108"/>
                  </a:lnTo>
                  <a:lnTo>
                    <a:pt x="2539" y="3138"/>
                  </a:lnTo>
                  <a:lnTo>
                    <a:pt x="2558" y="3165"/>
                  </a:lnTo>
                  <a:lnTo>
                    <a:pt x="2582" y="3189"/>
                  </a:lnTo>
                  <a:lnTo>
                    <a:pt x="2608" y="3208"/>
                  </a:lnTo>
                  <a:lnTo>
                    <a:pt x="2639" y="3222"/>
                  </a:lnTo>
                  <a:lnTo>
                    <a:pt x="2672" y="3232"/>
                  </a:lnTo>
                  <a:lnTo>
                    <a:pt x="2707" y="3235"/>
                  </a:lnTo>
                  <a:lnTo>
                    <a:pt x="2741" y="3232"/>
                  </a:lnTo>
                  <a:lnTo>
                    <a:pt x="2773" y="3222"/>
                  </a:lnTo>
                  <a:lnTo>
                    <a:pt x="2804" y="3208"/>
                  </a:lnTo>
                  <a:lnTo>
                    <a:pt x="2831" y="3189"/>
                  </a:lnTo>
                  <a:lnTo>
                    <a:pt x="2855" y="3166"/>
                  </a:lnTo>
                  <a:lnTo>
                    <a:pt x="2874" y="3139"/>
                  </a:lnTo>
                  <a:lnTo>
                    <a:pt x="2888" y="3109"/>
                  </a:lnTo>
                  <a:lnTo>
                    <a:pt x="2898" y="3075"/>
                  </a:lnTo>
                  <a:lnTo>
                    <a:pt x="2901" y="3041"/>
                  </a:lnTo>
                  <a:lnTo>
                    <a:pt x="2898" y="3006"/>
                  </a:lnTo>
                  <a:lnTo>
                    <a:pt x="2888" y="2973"/>
                  </a:lnTo>
                  <a:lnTo>
                    <a:pt x="2874" y="2943"/>
                  </a:lnTo>
                  <a:lnTo>
                    <a:pt x="2855" y="2916"/>
                  </a:lnTo>
                  <a:lnTo>
                    <a:pt x="2831" y="2893"/>
                  </a:lnTo>
                  <a:lnTo>
                    <a:pt x="2804" y="2874"/>
                  </a:lnTo>
                  <a:lnTo>
                    <a:pt x="2773" y="2860"/>
                  </a:lnTo>
                  <a:lnTo>
                    <a:pt x="2741" y="2850"/>
                  </a:lnTo>
                  <a:lnTo>
                    <a:pt x="2707" y="2847"/>
                  </a:lnTo>
                  <a:close/>
                  <a:moveTo>
                    <a:pt x="1188" y="2847"/>
                  </a:moveTo>
                  <a:lnTo>
                    <a:pt x="1153" y="2850"/>
                  </a:lnTo>
                  <a:lnTo>
                    <a:pt x="1120" y="2860"/>
                  </a:lnTo>
                  <a:lnTo>
                    <a:pt x="1090" y="2874"/>
                  </a:lnTo>
                  <a:lnTo>
                    <a:pt x="1063" y="2893"/>
                  </a:lnTo>
                  <a:lnTo>
                    <a:pt x="1040" y="2917"/>
                  </a:lnTo>
                  <a:lnTo>
                    <a:pt x="1020" y="2943"/>
                  </a:lnTo>
                  <a:lnTo>
                    <a:pt x="1007" y="2973"/>
                  </a:lnTo>
                  <a:lnTo>
                    <a:pt x="997" y="3007"/>
                  </a:lnTo>
                  <a:lnTo>
                    <a:pt x="994" y="3041"/>
                  </a:lnTo>
                  <a:lnTo>
                    <a:pt x="997" y="3075"/>
                  </a:lnTo>
                  <a:lnTo>
                    <a:pt x="1007" y="3108"/>
                  </a:lnTo>
                  <a:lnTo>
                    <a:pt x="1020" y="3138"/>
                  </a:lnTo>
                  <a:lnTo>
                    <a:pt x="1040" y="3165"/>
                  </a:lnTo>
                  <a:lnTo>
                    <a:pt x="1063" y="3189"/>
                  </a:lnTo>
                  <a:lnTo>
                    <a:pt x="1090" y="3208"/>
                  </a:lnTo>
                  <a:lnTo>
                    <a:pt x="1120" y="3222"/>
                  </a:lnTo>
                  <a:lnTo>
                    <a:pt x="1153" y="3232"/>
                  </a:lnTo>
                  <a:lnTo>
                    <a:pt x="1188" y="3235"/>
                  </a:lnTo>
                  <a:lnTo>
                    <a:pt x="1223" y="3232"/>
                  </a:lnTo>
                  <a:lnTo>
                    <a:pt x="1255" y="3222"/>
                  </a:lnTo>
                  <a:lnTo>
                    <a:pt x="1285" y="3208"/>
                  </a:lnTo>
                  <a:lnTo>
                    <a:pt x="1313" y="3189"/>
                  </a:lnTo>
                  <a:lnTo>
                    <a:pt x="1336" y="3166"/>
                  </a:lnTo>
                  <a:lnTo>
                    <a:pt x="1355" y="3139"/>
                  </a:lnTo>
                  <a:lnTo>
                    <a:pt x="1370" y="3109"/>
                  </a:lnTo>
                  <a:lnTo>
                    <a:pt x="1378" y="3075"/>
                  </a:lnTo>
                  <a:lnTo>
                    <a:pt x="1381" y="3041"/>
                  </a:lnTo>
                  <a:lnTo>
                    <a:pt x="1378" y="3006"/>
                  </a:lnTo>
                  <a:lnTo>
                    <a:pt x="1370" y="2973"/>
                  </a:lnTo>
                  <a:lnTo>
                    <a:pt x="1355" y="2943"/>
                  </a:lnTo>
                  <a:lnTo>
                    <a:pt x="1336" y="2916"/>
                  </a:lnTo>
                  <a:lnTo>
                    <a:pt x="1313" y="2893"/>
                  </a:lnTo>
                  <a:lnTo>
                    <a:pt x="1285" y="2874"/>
                  </a:lnTo>
                  <a:lnTo>
                    <a:pt x="1255" y="2860"/>
                  </a:lnTo>
                  <a:lnTo>
                    <a:pt x="1223" y="2850"/>
                  </a:lnTo>
                  <a:lnTo>
                    <a:pt x="1188" y="2847"/>
                  </a:lnTo>
                  <a:close/>
                  <a:moveTo>
                    <a:pt x="709" y="840"/>
                  </a:moveTo>
                  <a:lnTo>
                    <a:pt x="709" y="1867"/>
                  </a:lnTo>
                  <a:lnTo>
                    <a:pt x="712" y="1903"/>
                  </a:lnTo>
                  <a:lnTo>
                    <a:pt x="722" y="1936"/>
                  </a:lnTo>
                  <a:lnTo>
                    <a:pt x="736" y="1967"/>
                  </a:lnTo>
                  <a:lnTo>
                    <a:pt x="756" y="1994"/>
                  </a:lnTo>
                  <a:lnTo>
                    <a:pt x="780" y="2018"/>
                  </a:lnTo>
                  <a:lnTo>
                    <a:pt x="807" y="2038"/>
                  </a:lnTo>
                  <a:lnTo>
                    <a:pt x="838" y="2053"/>
                  </a:lnTo>
                  <a:lnTo>
                    <a:pt x="872" y="2062"/>
                  </a:lnTo>
                  <a:lnTo>
                    <a:pt x="907" y="2065"/>
                  </a:lnTo>
                  <a:lnTo>
                    <a:pt x="2798" y="2065"/>
                  </a:lnTo>
                  <a:lnTo>
                    <a:pt x="2834" y="2062"/>
                  </a:lnTo>
                  <a:lnTo>
                    <a:pt x="2867" y="2053"/>
                  </a:lnTo>
                  <a:lnTo>
                    <a:pt x="2899" y="2038"/>
                  </a:lnTo>
                  <a:lnTo>
                    <a:pt x="2926" y="2018"/>
                  </a:lnTo>
                  <a:lnTo>
                    <a:pt x="2950" y="1994"/>
                  </a:lnTo>
                  <a:lnTo>
                    <a:pt x="2970" y="1967"/>
                  </a:lnTo>
                  <a:lnTo>
                    <a:pt x="2984" y="1936"/>
                  </a:lnTo>
                  <a:lnTo>
                    <a:pt x="2994" y="1902"/>
                  </a:lnTo>
                  <a:lnTo>
                    <a:pt x="2997" y="1866"/>
                  </a:lnTo>
                  <a:lnTo>
                    <a:pt x="2997" y="1154"/>
                  </a:lnTo>
                  <a:lnTo>
                    <a:pt x="709" y="840"/>
                  </a:lnTo>
                  <a:close/>
                  <a:moveTo>
                    <a:pt x="89" y="0"/>
                  </a:moveTo>
                  <a:lnTo>
                    <a:pt x="111" y="2"/>
                  </a:lnTo>
                  <a:lnTo>
                    <a:pt x="132" y="9"/>
                  </a:lnTo>
                  <a:lnTo>
                    <a:pt x="652" y="226"/>
                  </a:lnTo>
                  <a:lnTo>
                    <a:pt x="656" y="229"/>
                  </a:lnTo>
                  <a:lnTo>
                    <a:pt x="661" y="231"/>
                  </a:lnTo>
                  <a:lnTo>
                    <a:pt x="662" y="232"/>
                  </a:lnTo>
                  <a:lnTo>
                    <a:pt x="663" y="232"/>
                  </a:lnTo>
                  <a:lnTo>
                    <a:pt x="664" y="233"/>
                  </a:lnTo>
                  <a:lnTo>
                    <a:pt x="666" y="234"/>
                  </a:lnTo>
                  <a:lnTo>
                    <a:pt x="668" y="236"/>
                  </a:lnTo>
                  <a:lnTo>
                    <a:pt x="670" y="237"/>
                  </a:lnTo>
                  <a:lnTo>
                    <a:pt x="672" y="239"/>
                  </a:lnTo>
                  <a:lnTo>
                    <a:pt x="674" y="240"/>
                  </a:lnTo>
                  <a:lnTo>
                    <a:pt x="676" y="241"/>
                  </a:lnTo>
                  <a:lnTo>
                    <a:pt x="678" y="243"/>
                  </a:lnTo>
                  <a:lnTo>
                    <a:pt x="680" y="245"/>
                  </a:lnTo>
                  <a:lnTo>
                    <a:pt x="682" y="247"/>
                  </a:lnTo>
                  <a:lnTo>
                    <a:pt x="689" y="254"/>
                  </a:lnTo>
                  <a:lnTo>
                    <a:pt x="690" y="256"/>
                  </a:lnTo>
                  <a:lnTo>
                    <a:pt x="691" y="258"/>
                  </a:lnTo>
                  <a:lnTo>
                    <a:pt x="693" y="262"/>
                  </a:lnTo>
                  <a:lnTo>
                    <a:pt x="694" y="263"/>
                  </a:lnTo>
                  <a:lnTo>
                    <a:pt x="695" y="265"/>
                  </a:lnTo>
                  <a:lnTo>
                    <a:pt x="698" y="267"/>
                  </a:lnTo>
                  <a:lnTo>
                    <a:pt x="699" y="269"/>
                  </a:lnTo>
                  <a:lnTo>
                    <a:pt x="699" y="270"/>
                  </a:lnTo>
                  <a:lnTo>
                    <a:pt x="700" y="271"/>
                  </a:lnTo>
                  <a:lnTo>
                    <a:pt x="700" y="272"/>
                  </a:lnTo>
                  <a:lnTo>
                    <a:pt x="701" y="274"/>
                  </a:lnTo>
                  <a:lnTo>
                    <a:pt x="702" y="275"/>
                  </a:lnTo>
                  <a:lnTo>
                    <a:pt x="703" y="278"/>
                  </a:lnTo>
                  <a:lnTo>
                    <a:pt x="703" y="279"/>
                  </a:lnTo>
                  <a:lnTo>
                    <a:pt x="704" y="280"/>
                  </a:lnTo>
                  <a:lnTo>
                    <a:pt x="704" y="281"/>
                  </a:lnTo>
                  <a:lnTo>
                    <a:pt x="706" y="287"/>
                  </a:lnTo>
                  <a:lnTo>
                    <a:pt x="706" y="288"/>
                  </a:lnTo>
                  <a:lnTo>
                    <a:pt x="706" y="289"/>
                  </a:lnTo>
                  <a:lnTo>
                    <a:pt x="706" y="290"/>
                  </a:lnTo>
                  <a:lnTo>
                    <a:pt x="707" y="292"/>
                  </a:lnTo>
                  <a:lnTo>
                    <a:pt x="707" y="294"/>
                  </a:lnTo>
                  <a:lnTo>
                    <a:pt x="708" y="296"/>
                  </a:lnTo>
                  <a:lnTo>
                    <a:pt x="708" y="299"/>
                  </a:lnTo>
                  <a:lnTo>
                    <a:pt x="708" y="303"/>
                  </a:lnTo>
                  <a:lnTo>
                    <a:pt x="709" y="304"/>
                  </a:lnTo>
                  <a:lnTo>
                    <a:pt x="709" y="305"/>
                  </a:lnTo>
                  <a:lnTo>
                    <a:pt x="710" y="308"/>
                  </a:lnTo>
                  <a:lnTo>
                    <a:pt x="710" y="312"/>
                  </a:lnTo>
                  <a:lnTo>
                    <a:pt x="710" y="315"/>
                  </a:lnTo>
                  <a:lnTo>
                    <a:pt x="710" y="649"/>
                  </a:lnTo>
                  <a:lnTo>
                    <a:pt x="3105" y="979"/>
                  </a:lnTo>
                  <a:lnTo>
                    <a:pt x="3108" y="979"/>
                  </a:lnTo>
                  <a:lnTo>
                    <a:pt x="3109" y="979"/>
                  </a:lnTo>
                  <a:lnTo>
                    <a:pt x="3111" y="979"/>
                  </a:lnTo>
                  <a:lnTo>
                    <a:pt x="3112" y="979"/>
                  </a:lnTo>
                  <a:lnTo>
                    <a:pt x="3114" y="980"/>
                  </a:lnTo>
                  <a:lnTo>
                    <a:pt x="3116" y="980"/>
                  </a:lnTo>
                  <a:lnTo>
                    <a:pt x="3118" y="981"/>
                  </a:lnTo>
                  <a:lnTo>
                    <a:pt x="3119" y="981"/>
                  </a:lnTo>
                  <a:lnTo>
                    <a:pt x="3121" y="981"/>
                  </a:lnTo>
                  <a:lnTo>
                    <a:pt x="3122" y="982"/>
                  </a:lnTo>
                  <a:lnTo>
                    <a:pt x="3124" y="983"/>
                  </a:lnTo>
                  <a:lnTo>
                    <a:pt x="3126" y="983"/>
                  </a:lnTo>
                  <a:lnTo>
                    <a:pt x="3130" y="985"/>
                  </a:lnTo>
                  <a:lnTo>
                    <a:pt x="3139" y="990"/>
                  </a:lnTo>
                  <a:lnTo>
                    <a:pt x="3141" y="992"/>
                  </a:lnTo>
                  <a:lnTo>
                    <a:pt x="3144" y="993"/>
                  </a:lnTo>
                  <a:lnTo>
                    <a:pt x="3145" y="994"/>
                  </a:lnTo>
                  <a:lnTo>
                    <a:pt x="3147" y="995"/>
                  </a:lnTo>
                  <a:lnTo>
                    <a:pt x="3149" y="996"/>
                  </a:lnTo>
                  <a:lnTo>
                    <a:pt x="3151" y="998"/>
                  </a:lnTo>
                  <a:lnTo>
                    <a:pt x="3152" y="999"/>
                  </a:lnTo>
                  <a:lnTo>
                    <a:pt x="3153" y="1000"/>
                  </a:lnTo>
                  <a:lnTo>
                    <a:pt x="3154" y="1001"/>
                  </a:lnTo>
                  <a:lnTo>
                    <a:pt x="3159" y="1004"/>
                  </a:lnTo>
                  <a:lnTo>
                    <a:pt x="3160" y="1005"/>
                  </a:lnTo>
                  <a:lnTo>
                    <a:pt x="3161" y="1005"/>
                  </a:lnTo>
                  <a:lnTo>
                    <a:pt x="3161" y="1007"/>
                  </a:lnTo>
                  <a:lnTo>
                    <a:pt x="3162" y="1008"/>
                  </a:lnTo>
                  <a:lnTo>
                    <a:pt x="3163" y="1009"/>
                  </a:lnTo>
                  <a:lnTo>
                    <a:pt x="3164" y="1010"/>
                  </a:lnTo>
                  <a:lnTo>
                    <a:pt x="3165" y="1011"/>
                  </a:lnTo>
                  <a:lnTo>
                    <a:pt x="3166" y="1012"/>
                  </a:lnTo>
                  <a:lnTo>
                    <a:pt x="3167" y="1013"/>
                  </a:lnTo>
                  <a:lnTo>
                    <a:pt x="3168" y="1016"/>
                  </a:lnTo>
                  <a:lnTo>
                    <a:pt x="3169" y="1017"/>
                  </a:lnTo>
                  <a:lnTo>
                    <a:pt x="3169" y="1018"/>
                  </a:lnTo>
                  <a:lnTo>
                    <a:pt x="3171" y="1020"/>
                  </a:lnTo>
                  <a:lnTo>
                    <a:pt x="3172" y="1022"/>
                  </a:lnTo>
                  <a:lnTo>
                    <a:pt x="3173" y="1023"/>
                  </a:lnTo>
                  <a:lnTo>
                    <a:pt x="3174" y="1025"/>
                  </a:lnTo>
                  <a:lnTo>
                    <a:pt x="3176" y="1029"/>
                  </a:lnTo>
                  <a:lnTo>
                    <a:pt x="3177" y="1031"/>
                  </a:lnTo>
                  <a:lnTo>
                    <a:pt x="3179" y="1033"/>
                  </a:lnTo>
                  <a:lnTo>
                    <a:pt x="3180" y="1035"/>
                  </a:lnTo>
                  <a:lnTo>
                    <a:pt x="3181" y="1037"/>
                  </a:lnTo>
                  <a:lnTo>
                    <a:pt x="3182" y="1040"/>
                  </a:lnTo>
                  <a:lnTo>
                    <a:pt x="3183" y="1042"/>
                  </a:lnTo>
                  <a:lnTo>
                    <a:pt x="3183" y="1044"/>
                  </a:lnTo>
                  <a:lnTo>
                    <a:pt x="3184" y="1046"/>
                  </a:lnTo>
                  <a:lnTo>
                    <a:pt x="3185" y="1049"/>
                  </a:lnTo>
                  <a:lnTo>
                    <a:pt x="3185" y="1051"/>
                  </a:lnTo>
                  <a:lnTo>
                    <a:pt x="3186" y="1053"/>
                  </a:lnTo>
                  <a:lnTo>
                    <a:pt x="3186" y="1055"/>
                  </a:lnTo>
                  <a:lnTo>
                    <a:pt x="3186" y="1057"/>
                  </a:lnTo>
                  <a:lnTo>
                    <a:pt x="3187" y="1058"/>
                  </a:lnTo>
                  <a:lnTo>
                    <a:pt x="3187" y="1060"/>
                  </a:lnTo>
                  <a:lnTo>
                    <a:pt x="3187" y="1062"/>
                  </a:lnTo>
                  <a:lnTo>
                    <a:pt x="3187" y="1065"/>
                  </a:lnTo>
                  <a:lnTo>
                    <a:pt x="3187" y="1867"/>
                  </a:lnTo>
                  <a:lnTo>
                    <a:pt x="3184" y="1915"/>
                  </a:lnTo>
                  <a:lnTo>
                    <a:pt x="3175" y="1962"/>
                  </a:lnTo>
                  <a:lnTo>
                    <a:pt x="3161" y="2007"/>
                  </a:lnTo>
                  <a:lnTo>
                    <a:pt x="3142" y="2050"/>
                  </a:lnTo>
                  <a:lnTo>
                    <a:pt x="3117" y="2088"/>
                  </a:lnTo>
                  <a:lnTo>
                    <a:pt x="3089" y="2125"/>
                  </a:lnTo>
                  <a:lnTo>
                    <a:pt x="3056" y="2157"/>
                  </a:lnTo>
                  <a:lnTo>
                    <a:pt x="3020" y="2185"/>
                  </a:lnTo>
                  <a:lnTo>
                    <a:pt x="2981" y="2210"/>
                  </a:lnTo>
                  <a:lnTo>
                    <a:pt x="2938" y="2229"/>
                  </a:lnTo>
                  <a:lnTo>
                    <a:pt x="2893" y="2244"/>
                  </a:lnTo>
                  <a:lnTo>
                    <a:pt x="2846" y="2252"/>
                  </a:lnTo>
                  <a:lnTo>
                    <a:pt x="2798" y="2255"/>
                  </a:lnTo>
                  <a:lnTo>
                    <a:pt x="907" y="2255"/>
                  </a:lnTo>
                  <a:lnTo>
                    <a:pt x="865" y="2253"/>
                  </a:lnTo>
                  <a:lnTo>
                    <a:pt x="823" y="2247"/>
                  </a:lnTo>
                  <a:lnTo>
                    <a:pt x="783" y="2235"/>
                  </a:lnTo>
                  <a:lnTo>
                    <a:pt x="745" y="2221"/>
                  </a:lnTo>
                  <a:lnTo>
                    <a:pt x="709" y="2202"/>
                  </a:lnTo>
                  <a:lnTo>
                    <a:pt x="709" y="2459"/>
                  </a:lnTo>
                  <a:lnTo>
                    <a:pt x="712" y="2495"/>
                  </a:lnTo>
                  <a:lnTo>
                    <a:pt x="722" y="2528"/>
                  </a:lnTo>
                  <a:lnTo>
                    <a:pt x="736" y="2559"/>
                  </a:lnTo>
                  <a:lnTo>
                    <a:pt x="756" y="2588"/>
                  </a:lnTo>
                  <a:lnTo>
                    <a:pt x="780" y="2612"/>
                  </a:lnTo>
                  <a:lnTo>
                    <a:pt x="807" y="2630"/>
                  </a:lnTo>
                  <a:lnTo>
                    <a:pt x="838" y="2646"/>
                  </a:lnTo>
                  <a:lnTo>
                    <a:pt x="872" y="2655"/>
                  </a:lnTo>
                  <a:lnTo>
                    <a:pt x="907" y="2658"/>
                  </a:lnTo>
                  <a:lnTo>
                    <a:pt x="2705" y="2658"/>
                  </a:lnTo>
                  <a:lnTo>
                    <a:pt x="2754" y="2661"/>
                  </a:lnTo>
                  <a:lnTo>
                    <a:pt x="2801" y="2670"/>
                  </a:lnTo>
                  <a:lnTo>
                    <a:pt x="2844" y="2683"/>
                  </a:lnTo>
                  <a:lnTo>
                    <a:pt x="2886" y="2703"/>
                  </a:lnTo>
                  <a:lnTo>
                    <a:pt x="2925" y="2727"/>
                  </a:lnTo>
                  <a:lnTo>
                    <a:pt x="2960" y="2755"/>
                  </a:lnTo>
                  <a:lnTo>
                    <a:pt x="2993" y="2787"/>
                  </a:lnTo>
                  <a:lnTo>
                    <a:pt x="3021" y="2823"/>
                  </a:lnTo>
                  <a:lnTo>
                    <a:pt x="3045" y="2862"/>
                  </a:lnTo>
                  <a:lnTo>
                    <a:pt x="3064" y="2903"/>
                  </a:lnTo>
                  <a:lnTo>
                    <a:pt x="3078" y="2947"/>
                  </a:lnTo>
                  <a:lnTo>
                    <a:pt x="3087" y="2994"/>
                  </a:lnTo>
                  <a:lnTo>
                    <a:pt x="3090" y="3042"/>
                  </a:lnTo>
                  <a:lnTo>
                    <a:pt x="3087" y="3090"/>
                  </a:lnTo>
                  <a:lnTo>
                    <a:pt x="3078" y="3136"/>
                  </a:lnTo>
                  <a:lnTo>
                    <a:pt x="3064" y="3180"/>
                  </a:lnTo>
                  <a:lnTo>
                    <a:pt x="3045" y="3221"/>
                  </a:lnTo>
                  <a:lnTo>
                    <a:pt x="3021" y="3261"/>
                  </a:lnTo>
                  <a:lnTo>
                    <a:pt x="2993" y="3296"/>
                  </a:lnTo>
                  <a:lnTo>
                    <a:pt x="2960" y="3328"/>
                  </a:lnTo>
                  <a:lnTo>
                    <a:pt x="2925" y="3356"/>
                  </a:lnTo>
                  <a:lnTo>
                    <a:pt x="2886" y="3380"/>
                  </a:lnTo>
                  <a:lnTo>
                    <a:pt x="2844" y="3400"/>
                  </a:lnTo>
                  <a:lnTo>
                    <a:pt x="2801" y="3413"/>
                  </a:lnTo>
                  <a:lnTo>
                    <a:pt x="2754" y="3423"/>
                  </a:lnTo>
                  <a:lnTo>
                    <a:pt x="2705" y="3426"/>
                  </a:lnTo>
                  <a:lnTo>
                    <a:pt x="2657" y="3423"/>
                  </a:lnTo>
                  <a:lnTo>
                    <a:pt x="2612" y="3413"/>
                  </a:lnTo>
                  <a:lnTo>
                    <a:pt x="2568" y="3400"/>
                  </a:lnTo>
                  <a:lnTo>
                    <a:pt x="2526" y="3380"/>
                  </a:lnTo>
                  <a:lnTo>
                    <a:pt x="2486" y="3357"/>
                  </a:lnTo>
                  <a:lnTo>
                    <a:pt x="2451" y="3329"/>
                  </a:lnTo>
                  <a:lnTo>
                    <a:pt x="2418" y="3296"/>
                  </a:lnTo>
                  <a:lnTo>
                    <a:pt x="2390" y="3261"/>
                  </a:lnTo>
                  <a:lnTo>
                    <a:pt x="2367" y="3222"/>
                  </a:lnTo>
                  <a:lnTo>
                    <a:pt x="2347" y="3181"/>
                  </a:lnTo>
                  <a:lnTo>
                    <a:pt x="2334" y="3136"/>
                  </a:lnTo>
                  <a:lnTo>
                    <a:pt x="2324" y="3090"/>
                  </a:lnTo>
                  <a:lnTo>
                    <a:pt x="2321" y="3042"/>
                  </a:lnTo>
                  <a:lnTo>
                    <a:pt x="2323" y="3000"/>
                  </a:lnTo>
                  <a:lnTo>
                    <a:pt x="2331" y="2960"/>
                  </a:lnTo>
                  <a:lnTo>
                    <a:pt x="2341" y="2920"/>
                  </a:lnTo>
                  <a:lnTo>
                    <a:pt x="2356" y="2884"/>
                  </a:lnTo>
                  <a:lnTo>
                    <a:pt x="2374" y="2848"/>
                  </a:lnTo>
                  <a:lnTo>
                    <a:pt x="1518" y="2848"/>
                  </a:lnTo>
                  <a:lnTo>
                    <a:pt x="1537" y="2883"/>
                  </a:lnTo>
                  <a:lnTo>
                    <a:pt x="1552" y="2920"/>
                  </a:lnTo>
                  <a:lnTo>
                    <a:pt x="1562" y="2960"/>
                  </a:lnTo>
                  <a:lnTo>
                    <a:pt x="1569" y="3000"/>
                  </a:lnTo>
                  <a:lnTo>
                    <a:pt x="1572" y="3042"/>
                  </a:lnTo>
                  <a:lnTo>
                    <a:pt x="1568" y="3090"/>
                  </a:lnTo>
                  <a:lnTo>
                    <a:pt x="1560" y="3136"/>
                  </a:lnTo>
                  <a:lnTo>
                    <a:pt x="1545" y="3180"/>
                  </a:lnTo>
                  <a:lnTo>
                    <a:pt x="1527" y="3221"/>
                  </a:lnTo>
                  <a:lnTo>
                    <a:pt x="1503" y="3261"/>
                  </a:lnTo>
                  <a:lnTo>
                    <a:pt x="1474" y="3296"/>
                  </a:lnTo>
                  <a:lnTo>
                    <a:pt x="1442" y="3328"/>
                  </a:lnTo>
                  <a:lnTo>
                    <a:pt x="1407" y="3356"/>
                  </a:lnTo>
                  <a:lnTo>
                    <a:pt x="1368" y="3380"/>
                  </a:lnTo>
                  <a:lnTo>
                    <a:pt x="1326" y="3400"/>
                  </a:lnTo>
                  <a:lnTo>
                    <a:pt x="1281" y="3413"/>
                  </a:lnTo>
                  <a:lnTo>
                    <a:pt x="1235" y="3423"/>
                  </a:lnTo>
                  <a:lnTo>
                    <a:pt x="1187" y="3426"/>
                  </a:lnTo>
                  <a:lnTo>
                    <a:pt x="1139" y="3423"/>
                  </a:lnTo>
                  <a:lnTo>
                    <a:pt x="1092" y="3413"/>
                  </a:lnTo>
                  <a:lnTo>
                    <a:pt x="1048" y="3400"/>
                  </a:lnTo>
                  <a:lnTo>
                    <a:pt x="1007" y="3380"/>
                  </a:lnTo>
                  <a:lnTo>
                    <a:pt x="968" y="3357"/>
                  </a:lnTo>
                  <a:lnTo>
                    <a:pt x="932" y="3329"/>
                  </a:lnTo>
                  <a:lnTo>
                    <a:pt x="900" y="3296"/>
                  </a:lnTo>
                  <a:lnTo>
                    <a:pt x="872" y="3261"/>
                  </a:lnTo>
                  <a:lnTo>
                    <a:pt x="848" y="3222"/>
                  </a:lnTo>
                  <a:lnTo>
                    <a:pt x="829" y="3181"/>
                  </a:lnTo>
                  <a:lnTo>
                    <a:pt x="814" y="3136"/>
                  </a:lnTo>
                  <a:lnTo>
                    <a:pt x="806" y="3090"/>
                  </a:lnTo>
                  <a:lnTo>
                    <a:pt x="803" y="3042"/>
                  </a:lnTo>
                  <a:lnTo>
                    <a:pt x="805" y="2999"/>
                  </a:lnTo>
                  <a:lnTo>
                    <a:pt x="812" y="2958"/>
                  </a:lnTo>
                  <a:lnTo>
                    <a:pt x="824" y="2918"/>
                  </a:lnTo>
                  <a:lnTo>
                    <a:pt x="838" y="2880"/>
                  </a:lnTo>
                  <a:lnTo>
                    <a:pt x="858" y="2845"/>
                  </a:lnTo>
                  <a:lnTo>
                    <a:pt x="811" y="2836"/>
                  </a:lnTo>
                  <a:lnTo>
                    <a:pt x="766" y="2821"/>
                  </a:lnTo>
                  <a:lnTo>
                    <a:pt x="725" y="2801"/>
                  </a:lnTo>
                  <a:lnTo>
                    <a:pt x="685" y="2777"/>
                  </a:lnTo>
                  <a:lnTo>
                    <a:pt x="649" y="2749"/>
                  </a:lnTo>
                  <a:lnTo>
                    <a:pt x="617" y="2717"/>
                  </a:lnTo>
                  <a:lnTo>
                    <a:pt x="588" y="2680"/>
                  </a:lnTo>
                  <a:lnTo>
                    <a:pt x="564" y="2642"/>
                  </a:lnTo>
                  <a:lnTo>
                    <a:pt x="545" y="2599"/>
                  </a:lnTo>
                  <a:lnTo>
                    <a:pt x="530" y="2555"/>
                  </a:lnTo>
                  <a:lnTo>
                    <a:pt x="522" y="2508"/>
                  </a:lnTo>
                  <a:lnTo>
                    <a:pt x="519" y="2459"/>
                  </a:lnTo>
                  <a:lnTo>
                    <a:pt x="519" y="378"/>
                  </a:lnTo>
                  <a:lnTo>
                    <a:pt x="57" y="184"/>
                  </a:lnTo>
                  <a:lnTo>
                    <a:pt x="39" y="172"/>
                  </a:lnTo>
                  <a:lnTo>
                    <a:pt x="23" y="159"/>
                  </a:lnTo>
                  <a:lnTo>
                    <a:pt x="10" y="141"/>
                  </a:lnTo>
                  <a:lnTo>
                    <a:pt x="3" y="122"/>
                  </a:lnTo>
                  <a:lnTo>
                    <a:pt x="0" y="101"/>
                  </a:lnTo>
                  <a:lnTo>
                    <a:pt x="1" y="79"/>
                  </a:lnTo>
                  <a:lnTo>
                    <a:pt x="7" y="59"/>
                  </a:lnTo>
                  <a:lnTo>
                    <a:pt x="18" y="40"/>
                  </a:lnTo>
                  <a:lnTo>
                    <a:pt x="32" y="24"/>
                  </a:lnTo>
                  <a:lnTo>
                    <a:pt x="49" y="12"/>
                  </a:lnTo>
                  <a:lnTo>
                    <a:pt x="69" y="4"/>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90" name="Group 8"/>
          <p:cNvGrpSpPr/>
          <p:nvPr/>
        </p:nvGrpSpPr>
        <p:grpSpPr>
          <a:xfrm>
            <a:off x="5510160" y="1862280"/>
            <a:ext cx="662040" cy="655560"/>
            <a:chOff x="5510160" y="1862280"/>
            <a:chExt cx="662040" cy="655560"/>
          </a:xfrm>
        </p:grpSpPr>
        <p:sp>
          <p:nvSpPr>
            <p:cNvPr id="2191" name="Oval 62"/>
            <p:cNvSpPr/>
            <p:nvPr/>
          </p:nvSpPr>
          <p:spPr>
            <a:xfrm>
              <a:off x="5510160" y="1862280"/>
              <a:ext cx="662040" cy="655560"/>
            </a:xfrm>
            <a:prstGeom prst="ellipse">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2" name="Group 69"/>
            <p:cNvGrpSpPr/>
            <p:nvPr/>
          </p:nvGrpSpPr>
          <p:grpSpPr>
            <a:xfrm>
              <a:off x="0" y="0"/>
              <a:ext cx="0" cy="0"/>
              <a:chOff x="0" y="0"/>
              <a:chExt cx="0" cy="0"/>
            </a:xfrm>
          </p:grpSpPr>
        </p:grpSp>
      </p:grpSp>
      <p:grpSp>
        <p:nvGrpSpPr>
          <p:cNvPr id="2193" name="Group 4"/>
          <p:cNvGrpSpPr/>
          <p:nvPr/>
        </p:nvGrpSpPr>
        <p:grpSpPr>
          <a:xfrm>
            <a:off x="4029120" y="4351320"/>
            <a:ext cx="708120" cy="650880"/>
            <a:chOff x="4029120" y="4351320"/>
            <a:chExt cx="708120" cy="650880"/>
          </a:xfrm>
        </p:grpSpPr>
        <p:sp>
          <p:nvSpPr>
            <p:cNvPr id="2194" name="Oval 65"/>
            <p:cNvSpPr/>
            <p:nvPr/>
          </p:nvSpPr>
          <p:spPr>
            <a:xfrm>
              <a:off x="4029120" y="4351320"/>
              <a:ext cx="708120" cy="650880"/>
            </a:xfrm>
            <a:prstGeom prst="ellips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5" name="Freeform 184"/>
            <p:cNvSpPr/>
            <p:nvPr/>
          </p:nvSpPr>
          <p:spPr>
            <a:xfrm>
              <a:off x="4214160" y="4515840"/>
              <a:ext cx="337680" cy="321480"/>
            </a:xfrm>
            <a:custGeom>
              <a:avLst/>
              <a:gdLst/>
              <a:ahLst/>
              <a:rect l="l" t="t" r="r" b="b"/>
              <a:pathLst>
                <a:path w="3269" h="3367">
                  <a:moveTo>
                    <a:pt x="293" y="1799"/>
                  </a:moveTo>
                  <a:lnTo>
                    <a:pt x="269" y="1802"/>
                  </a:lnTo>
                  <a:lnTo>
                    <a:pt x="248" y="1809"/>
                  </a:lnTo>
                  <a:lnTo>
                    <a:pt x="228" y="1821"/>
                  </a:lnTo>
                  <a:lnTo>
                    <a:pt x="212" y="1838"/>
                  </a:lnTo>
                  <a:lnTo>
                    <a:pt x="200" y="1856"/>
                  </a:lnTo>
                  <a:lnTo>
                    <a:pt x="192" y="1879"/>
                  </a:lnTo>
                  <a:lnTo>
                    <a:pt x="189" y="1902"/>
                  </a:lnTo>
                  <a:lnTo>
                    <a:pt x="189" y="3047"/>
                  </a:lnTo>
                  <a:lnTo>
                    <a:pt x="192" y="3070"/>
                  </a:lnTo>
                  <a:lnTo>
                    <a:pt x="200" y="3092"/>
                  </a:lnTo>
                  <a:lnTo>
                    <a:pt x="212" y="3111"/>
                  </a:lnTo>
                  <a:lnTo>
                    <a:pt x="228" y="3127"/>
                  </a:lnTo>
                  <a:lnTo>
                    <a:pt x="247" y="3139"/>
                  </a:lnTo>
                  <a:lnTo>
                    <a:pt x="268" y="3147"/>
                  </a:lnTo>
                  <a:lnTo>
                    <a:pt x="293" y="3150"/>
                  </a:lnTo>
                  <a:lnTo>
                    <a:pt x="293" y="3149"/>
                  </a:lnTo>
                  <a:lnTo>
                    <a:pt x="721" y="3149"/>
                  </a:lnTo>
                  <a:lnTo>
                    <a:pt x="745" y="3147"/>
                  </a:lnTo>
                  <a:lnTo>
                    <a:pt x="766" y="3138"/>
                  </a:lnTo>
                  <a:lnTo>
                    <a:pt x="786" y="3126"/>
                  </a:lnTo>
                  <a:lnTo>
                    <a:pt x="801" y="3111"/>
                  </a:lnTo>
                  <a:lnTo>
                    <a:pt x="813" y="3091"/>
                  </a:lnTo>
                  <a:lnTo>
                    <a:pt x="822" y="3070"/>
                  </a:lnTo>
                  <a:lnTo>
                    <a:pt x="824" y="3046"/>
                  </a:lnTo>
                  <a:lnTo>
                    <a:pt x="824" y="1902"/>
                  </a:lnTo>
                  <a:lnTo>
                    <a:pt x="822" y="1879"/>
                  </a:lnTo>
                  <a:lnTo>
                    <a:pt x="813" y="1857"/>
                  </a:lnTo>
                  <a:lnTo>
                    <a:pt x="801" y="1838"/>
                  </a:lnTo>
                  <a:lnTo>
                    <a:pt x="786" y="1822"/>
                  </a:lnTo>
                  <a:lnTo>
                    <a:pt x="766" y="1810"/>
                  </a:lnTo>
                  <a:lnTo>
                    <a:pt x="745" y="1802"/>
                  </a:lnTo>
                  <a:lnTo>
                    <a:pt x="721" y="1799"/>
                  </a:lnTo>
                  <a:lnTo>
                    <a:pt x="293" y="1799"/>
                  </a:lnTo>
                  <a:close/>
                  <a:moveTo>
                    <a:pt x="1782" y="189"/>
                  </a:moveTo>
                  <a:lnTo>
                    <a:pt x="1777" y="203"/>
                  </a:lnTo>
                  <a:lnTo>
                    <a:pt x="1772" y="221"/>
                  </a:lnTo>
                  <a:lnTo>
                    <a:pt x="1769" y="245"/>
                  </a:lnTo>
                  <a:lnTo>
                    <a:pt x="1767" y="272"/>
                  </a:lnTo>
                  <a:lnTo>
                    <a:pt x="1767" y="301"/>
                  </a:lnTo>
                  <a:lnTo>
                    <a:pt x="1768" y="332"/>
                  </a:lnTo>
                  <a:lnTo>
                    <a:pt x="1770" y="363"/>
                  </a:lnTo>
                  <a:lnTo>
                    <a:pt x="1773" y="392"/>
                  </a:lnTo>
                  <a:lnTo>
                    <a:pt x="1775" y="409"/>
                  </a:lnTo>
                  <a:lnTo>
                    <a:pt x="1773" y="425"/>
                  </a:lnTo>
                  <a:lnTo>
                    <a:pt x="1769" y="439"/>
                  </a:lnTo>
                  <a:lnTo>
                    <a:pt x="1767" y="447"/>
                  </a:lnTo>
                  <a:lnTo>
                    <a:pt x="1763" y="459"/>
                  </a:lnTo>
                  <a:lnTo>
                    <a:pt x="1756" y="475"/>
                  </a:lnTo>
                  <a:lnTo>
                    <a:pt x="1748" y="498"/>
                  </a:lnTo>
                  <a:lnTo>
                    <a:pt x="1737" y="523"/>
                  </a:lnTo>
                  <a:lnTo>
                    <a:pt x="1726" y="554"/>
                  </a:lnTo>
                  <a:lnTo>
                    <a:pt x="1712" y="588"/>
                  </a:lnTo>
                  <a:lnTo>
                    <a:pt x="1697" y="626"/>
                  </a:lnTo>
                  <a:lnTo>
                    <a:pt x="1680" y="666"/>
                  </a:lnTo>
                  <a:lnTo>
                    <a:pt x="1662" y="709"/>
                  </a:lnTo>
                  <a:lnTo>
                    <a:pt x="1642" y="754"/>
                  </a:lnTo>
                  <a:lnTo>
                    <a:pt x="1622" y="801"/>
                  </a:lnTo>
                  <a:lnTo>
                    <a:pt x="1599" y="850"/>
                  </a:lnTo>
                  <a:lnTo>
                    <a:pt x="1576" y="900"/>
                  </a:lnTo>
                  <a:lnTo>
                    <a:pt x="1551" y="952"/>
                  </a:lnTo>
                  <a:lnTo>
                    <a:pt x="1526" y="1004"/>
                  </a:lnTo>
                  <a:lnTo>
                    <a:pt x="1499" y="1056"/>
                  </a:lnTo>
                  <a:lnTo>
                    <a:pt x="1472" y="1107"/>
                  </a:lnTo>
                  <a:lnTo>
                    <a:pt x="1444" y="1159"/>
                  </a:lnTo>
                  <a:lnTo>
                    <a:pt x="1415" y="1210"/>
                  </a:lnTo>
                  <a:lnTo>
                    <a:pt x="1385" y="1259"/>
                  </a:lnTo>
                  <a:lnTo>
                    <a:pt x="1355" y="1307"/>
                  </a:lnTo>
                  <a:lnTo>
                    <a:pt x="1324" y="1353"/>
                  </a:lnTo>
                  <a:lnTo>
                    <a:pt x="1292" y="1397"/>
                  </a:lnTo>
                  <a:lnTo>
                    <a:pt x="1261" y="1439"/>
                  </a:lnTo>
                  <a:lnTo>
                    <a:pt x="1229" y="1478"/>
                  </a:lnTo>
                  <a:lnTo>
                    <a:pt x="1196" y="1513"/>
                  </a:lnTo>
                  <a:lnTo>
                    <a:pt x="1164" y="1545"/>
                  </a:lnTo>
                  <a:lnTo>
                    <a:pt x="1132" y="1573"/>
                  </a:lnTo>
                  <a:lnTo>
                    <a:pt x="1102" y="1607"/>
                  </a:lnTo>
                  <a:lnTo>
                    <a:pt x="1077" y="1642"/>
                  </a:lnTo>
                  <a:lnTo>
                    <a:pt x="1057" y="1676"/>
                  </a:lnTo>
                  <a:lnTo>
                    <a:pt x="1040" y="1710"/>
                  </a:lnTo>
                  <a:lnTo>
                    <a:pt x="1025" y="1741"/>
                  </a:lnTo>
                  <a:lnTo>
                    <a:pt x="1015" y="1769"/>
                  </a:lnTo>
                  <a:lnTo>
                    <a:pt x="1007" y="1795"/>
                  </a:lnTo>
                  <a:lnTo>
                    <a:pt x="1001" y="1814"/>
                  </a:lnTo>
                  <a:lnTo>
                    <a:pt x="1008" y="1843"/>
                  </a:lnTo>
                  <a:lnTo>
                    <a:pt x="1012" y="1871"/>
                  </a:lnTo>
                  <a:lnTo>
                    <a:pt x="1014" y="1902"/>
                  </a:lnTo>
                  <a:lnTo>
                    <a:pt x="1014" y="3047"/>
                  </a:lnTo>
                  <a:lnTo>
                    <a:pt x="1012" y="3078"/>
                  </a:lnTo>
                  <a:lnTo>
                    <a:pt x="1008" y="3109"/>
                  </a:lnTo>
                  <a:lnTo>
                    <a:pt x="1078" y="3117"/>
                  </a:lnTo>
                  <a:lnTo>
                    <a:pt x="1079" y="3117"/>
                  </a:lnTo>
                  <a:lnTo>
                    <a:pt x="1084" y="3118"/>
                  </a:lnTo>
                  <a:lnTo>
                    <a:pt x="1094" y="3119"/>
                  </a:lnTo>
                  <a:lnTo>
                    <a:pt x="1110" y="3121"/>
                  </a:lnTo>
                  <a:lnTo>
                    <a:pt x="1133" y="3124"/>
                  </a:lnTo>
                  <a:lnTo>
                    <a:pt x="1160" y="3127"/>
                  </a:lnTo>
                  <a:lnTo>
                    <a:pt x="1193" y="3130"/>
                  </a:lnTo>
                  <a:lnTo>
                    <a:pt x="1231" y="3134"/>
                  </a:lnTo>
                  <a:lnTo>
                    <a:pt x="1273" y="3138"/>
                  </a:lnTo>
                  <a:lnTo>
                    <a:pt x="1319" y="3142"/>
                  </a:lnTo>
                  <a:lnTo>
                    <a:pt x="1369" y="3147"/>
                  </a:lnTo>
                  <a:lnTo>
                    <a:pt x="1422" y="3151"/>
                  </a:lnTo>
                  <a:lnTo>
                    <a:pt x="1477" y="3154"/>
                  </a:lnTo>
                  <a:lnTo>
                    <a:pt x="1537" y="3158"/>
                  </a:lnTo>
                  <a:lnTo>
                    <a:pt x="1598" y="3161"/>
                  </a:lnTo>
                  <a:lnTo>
                    <a:pt x="1661" y="3164"/>
                  </a:lnTo>
                  <a:lnTo>
                    <a:pt x="1725" y="3166"/>
                  </a:lnTo>
                  <a:lnTo>
                    <a:pt x="1792" y="3167"/>
                  </a:lnTo>
                  <a:lnTo>
                    <a:pt x="1858" y="3168"/>
                  </a:lnTo>
                  <a:lnTo>
                    <a:pt x="1926" y="3168"/>
                  </a:lnTo>
                  <a:lnTo>
                    <a:pt x="1994" y="3167"/>
                  </a:lnTo>
                  <a:lnTo>
                    <a:pt x="2003" y="3167"/>
                  </a:lnTo>
                  <a:lnTo>
                    <a:pt x="2081" y="3172"/>
                  </a:lnTo>
                  <a:lnTo>
                    <a:pt x="2156" y="3176"/>
                  </a:lnTo>
                  <a:lnTo>
                    <a:pt x="2225" y="3177"/>
                  </a:lnTo>
                  <a:lnTo>
                    <a:pt x="2292" y="3176"/>
                  </a:lnTo>
                  <a:lnTo>
                    <a:pt x="2354" y="3173"/>
                  </a:lnTo>
                  <a:lnTo>
                    <a:pt x="2413" y="3168"/>
                  </a:lnTo>
                  <a:lnTo>
                    <a:pt x="2467" y="3161"/>
                  </a:lnTo>
                  <a:lnTo>
                    <a:pt x="2516" y="3152"/>
                  </a:lnTo>
                  <a:lnTo>
                    <a:pt x="2573" y="3137"/>
                  </a:lnTo>
                  <a:lnTo>
                    <a:pt x="2625" y="3121"/>
                  </a:lnTo>
                  <a:lnTo>
                    <a:pt x="2672" y="3103"/>
                  </a:lnTo>
                  <a:lnTo>
                    <a:pt x="2713" y="3081"/>
                  </a:lnTo>
                  <a:lnTo>
                    <a:pt x="2750" y="3057"/>
                  </a:lnTo>
                  <a:lnTo>
                    <a:pt x="2781" y="3032"/>
                  </a:lnTo>
                  <a:lnTo>
                    <a:pt x="2807" y="3003"/>
                  </a:lnTo>
                  <a:lnTo>
                    <a:pt x="2827" y="2972"/>
                  </a:lnTo>
                  <a:lnTo>
                    <a:pt x="2840" y="2947"/>
                  </a:lnTo>
                  <a:lnTo>
                    <a:pt x="2848" y="2920"/>
                  </a:lnTo>
                  <a:lnTo>
                    <a:pt x="2854" y="2895"/>
                  </a:lnTo>
                  <a:lnTo>
                    <a:pt x="2856" y="2871"/>
                  </a:lnTo>
                  <a:lnTo>
                    <a:pt x="2856" y="2850"/>
                  </a:lnTo>
                  <a:lnTo>
                    <a:pt x="2854" y="2830"/>
                  </a:lnTo>
                  <a:lnTo>
                    <a:pt x="2852" y="2814"/>
                  </a:lnTo>
                  <a:lnTo>
                    <a:pt x="2849" y="2801"/>
                  </a:lnTo>
                  <a:lnTo>
                    <a:pt x="2847" y="2794"/>
                  </a:lnTo>
                  <a:lnTo>
                    <a:pt x="2846" y="2791"/>
                  </a:lnTo>
                  <a:lnTo>
                    <a:pt x="2841" y="2772"/>
                  </a:lnTo>
                  <a:lnTo>
                    <a:pt x="2841" y="2751"/>
                  </a:lnTo>
                  <a:lnTo>
                    <a:pt x="2844" y="2732"/>
                  </a:lnTo>
                  <a:lnTo>
                    <a:pt x="2853" y="2713"/>
                  </a:lnTo>
                  <a:lnTo>
                    <a:pt x="2864" y="2697"/>
                  </a:lnTo>
                  <a:lnTo>
                    <a:pt x="2879" y="2683"/>
                  </a:lnTo>
                  <a:lnTo>
                    <a:pt x="2915" y="2652"/>
                  </a:lnTo>
                  <a:lnTo>
                    <a:pt x="2947" y="2620"/>
                  </a:lnTo>
                  <a:lnTo>
                    <a:pt x="2971" y="2586"/>
                  </a:lnTo>
                  <a:lnTo>
                    <a:pt x="2990" y="2551"/>
                  </a:lnTo>
                  <a:lnTo>
                    <a:pt x="3003" y="2516"/>
                  </a:lnTo>
                  <a:lnTo>
                    <a:pt x="3010" y="2478"/>
                  </a:lnTo>
                  <a:lnTo>
                    <a:pt x="3011" y="2439"/>
                  </a:lnTo>
                  <a:lnTo>
                    <a:pt x="3008" y="2414"/>
                  </a:lnTo>
                  <a:lnTo>
                    <a:pt x="3004" y="2393"/>
                  </a:lnTo>
                  <a:lnTo>
                    <a:pt x="2999" y="2372"/>
                  </a:lnTo>
                  <a:lnTo>
                    <a:pt x="2994" y="2355"/>
                  </a:lnTo>
                  <a:lnTo>
                    <a:pt x="2988" y="2342"/>
                  </a:lnTo>
                  <a:lnTo>
                    <a:pt x="2984" y="2330"/>
                  </a:lnTo>
                  <a:lnTo>
                    <a:pt x="2979" y="2324"/>
                  </a:lnTo>
                  <a:lnTo>
                    <a:pt x="2978" y="2321"/>
                  </a:lnTo>
                  <a:lnTo>
                    <a:pt x="2969" y="2303"/>
                  </a:lnTo>
                  <a:lnTo>
                    <a:pt x="2965" y="2282"/>
                  </a:lnTo>
                  <a:lnTo>
                    <a:pt x="2965" y="2262"/>
                  </a:lnTo>
                  <a:lnTo>
                    <a:pt x="2970" y="2242"/>
                  </a:lnTo>
                  <a:lnTo>
                    <a:pt x="2978" y="2224"/>
                  </a:lnTo>
                  <a:lnTo>
                    <a:pt x="2991" y="2206"/>
                  </a:lnTo>
                  <a:lnTo>
                    <a:pt x="3024" y="2168"/>
                  </a:lnTo>
                  <a:lnTo>
                    <a:pt x="3049" y="2131"/>
                  </a:lnTo>
                  <a:lnTo>
                    <a:pt x="3067" y="2093"/>
                  </a:lnTo>
                  <a:lnTo>
                    <a:pt x="3077" y="2055"/>
                  </a:lnTo>
                  <a:lnTo>
                    <a:pt x="3079" y="2017"/>
                  </a:lnTo>
                  <a:lnTo>
                    <a:pt x="3077" y="1991"/>
                  </a:lnTo>
                  <a:lnTo>
                    <a:pt x="3072" y="1968"/>
                  </a:lnTo>
                  <a:lnTo>
                    <a:pt x="3063" y="1946"/>
                  </a:lnTo>
                  <a:lnTo>
                    <a:pt x="3054" y="1926"/>
                  </a:lnTo>
                  <a:lnTo>
                    <a:pt x="3044" y="1908"/>
                  </a:lnTo>
                  <a:lnTo>
                    <a:pt x="3034" y="1892"/>
                  </a:lnTo>
                  <a:lnTo>
                    <a:pt x="3023" y="1879"/>
                  </a:lnTo>
                  <a:lnTo>
                    <a:pt x="3015" y="1867"/>
                  </a:lnTo>
                  <a:lnTo>
                    <a:pt x="3008" y="1859"/>
                  </a:lnTo>
                  <a:lnTo>
                    <a:pt x="3003" y="1854"/>
                  </a:lnTo>
                  <a:lnTo>
                    <a:pt x="3001" y="1853"/>
                  </a:lnTo>
                  <a:lnTo>
                    <a:pt x="2986" y="1836"/>
                  </a:lnTo>
                  <a:lnTo>
                    <a:pt x="2975" y="1815"/>
                  </a:lnTo>
                  <a:lnTo>
                    <a:pt x="2969" y="1795"/>
                  </a:lnTo>
                  <a:lnTo>
                    <a:pt x="2969" y="1772"/>
                  </a:lnTo>
                  <a:lnTo>
                    <a:pt x="2974" y="1751"/>
                  </a:lnTo>
                  <a:lnTo>
                    <a:pt x="2985" y="1730"/>
                  </a:lnTo>
                  <a:lnTo>
                    <a:pt x="2988" y="1725"/>
                  </a:lnTo>
                  <a:lnTo>
                    <a:pt x="2993" y="1715"/>
                  </a:lnTo>
                  <a:lnTo>
                    <a:pt x="2999" y="1702"/>
                  </a:lnTo>
                  <a:lnTo>
                    <a:pt x="3005" y="1685"/>
                  </a:lnTo>
                  <a:lnTo>
                    <a:pt x="3011" y="1668"/>
                  </a:lnTo>
                  <a:lnTo>
                    <a:pt x="3016" y="1646"/>
                  </a:lnTo>
                  <a:lnTo>
                    <a:pt x="3019" y="1624"/>
                  </a:lnTo>
                  <a:lnTo>
                    <a:pt x="3020" y="1599"/>
                  </a:lnTo>
                  <a:lnTo>
                    <a:pt x="3018" y="1574"/>
                  </a:lnTo>
                  <a:lnTo>
                    <a:pt x="3011" y="1549"/>
                  </a:lnTo>
                  <a:lnTo>
                    <a:pt x="3000" y="1523"/>
                  </a:lnTo>
                  <a:lnTo>
                    <a:pt x="2984" y="1498"/>
                  </a:lnTo>
                  <a:lnTo>
                    <a:pt x="2960" y="1473"/>
                  </a:lnTo>
                  <a:lnTo>
                    <a:pt x="2935" y="1453"/>
                  </a:lnTo>
                  <a:lnTo>
                    <a:pt x="2907" y="1437"/>
                  </a:lnTo>
                  <a:lnTo>
                    <a:pt x="2874" y="1424"/>
                  </a:lnTo>
                  <a:lnTo>
                    <a:pt x="2838" y="1413"/>
                  </a:lnTo>
                  <a:lnTo>
                    <a:pt x="2799" y="1403"/>
                  </a:lnTo>
                  <a:lnTo>
                    <a:pt x="2757" y="1396"/>
                  </a:lnTo>
                  <a:lnTo>
                    <a:pt x="2713" y="1391"/>
                  </a:lnTo>
                  <a:lnTo>
                    <a:pt x="2668" y="1388"/>
                  </a:lnTo>
                  <a:lnTo>
                    <a:pt x="2622" y="1386"/>
                  </a:lnTo>
                  <a:lnTo>
                    <a:pt x="2575" y="1386"/>
                  </a:lnTo>
                  <a:lnTo>
                    <a:pt x="2527" y="1388"/>
                  </a:lnTo>
                  <a:lnTo>
                    <a:pt x="2480" y="1390"/>
                  </a:lnTo>
                  <a:lnTo>
                    <a:pt x="2433" y="1394"/>
                  </a:lnTo>
                  <a:lnTo>
                    <a:pt x="2388" y="1399"/>
                  </a:lnTo>
                  <a:lnTo>
                    <a:pt x="2343" y="1405"/>
                  </a:lnTo>
                  <a:lnTo>
                    <a:pt x="2301" y="1412"/>
                  </a:lnTo>
                  <a:lnTo>
                    <a:pt x="2260" y="1419"/>
                  </a:lnTo>
                  <a:lnTo>
                    <a:pt x="2223" y="1427"/>
                  </a:lnTo>
                  <a:lnTo>
                    <a:pt x="2218" y="1428"/>
                  </a:lnTo>
                  <a:lnTo>
                    <a:pt x="2214" y="1429"/>
                  </a:lnTo>
                  <a:lnTo>
                    <a:pt x="2155" y="1439"/>
                  </a:lnTo>
                  <a:lnTo>
                    <a:pt x="2091" y="1453"/>
                  </a:lnTo>
                  <a:lnTo>
                    <a:pt x="2071" y="1459"/>
                  </a:lnTo>
                  <a:lnTo>
                    <a:pt x="2049" y="1462"/>
                  </a:lnTo>
                  <a:lnTo>
                    <a:pt x="2027" y="1463"/>
                  </a:lnTo>
                  <a:lnTo>
                    <a:pt x="2004" y="1460"/>
                  </a:lnTo>
                  <a:lnTo>
                    <a:pt x="1981" y="1452"/>
                  </a:lnTo>
                  <a:lnTo>
                    <a:pt x="1959" y="1441"/>
                  </a:lnTo>
                  <a:lnTo>
                    <a:pt x="1938" y="1426"/>
                  </a:lnTo>
                  <a:lnTo>
                    <a:pt x="1920" y="1407"/>
                  </a:lnTo>
                  <a:lnTo>
                    <a:pt x="1906" y="1387"/>
                  </a:lnTo>
                  <a:lnTo>
                    <a:pt x="1895" y="1362"/>
                  </a:lnTo>
                  <a:lnTo>
                    <a:pt x="1886" y="1336"/>
                  </a:lnTo>
                  <a:lnTo>
                    <a:pt x="1880" y="1305"/>
                  </a:lnTo>
                  <a:lnTo>
                    <a:pt x="1875" y="1271"/>
                  </a:lnTo>
                  <a:lnTo>
                    <a:pt x="1875" y="1234"/>
                  </a:lnTo>
                  <a:lnTo>
                    <a:pt x="1877" y="1193"/>
                  </a:lnTo>
                  <a:lnTo>
                    <a:pt x="1883" y="1148"/>
                  </a:lnTo>
                  <a:lnTo>
                    <a:pt x="1891" y="1100"/>
                  </a:lnTo>
                  <a:lnTo>
                    <a:pt x="1901" y="1047"/>
                  </a:lnTo>
                  <a:lnTo>
                    <a:pt x="1914" y="991"/>
                  </a:lnTo>
                  <a:lnTo>
                    <a:pt x="1931" y="930"/>
                  </a:lnTo>
                  <a:lnTo>
                    <a:pt x="1950" y="865"/>
                  </a:lnTo>
                  <a:lnTo>
                    <a:pt x="1973" y="796"/>
                  </a:lnTo>
                  <a:lnTo>
                    <a:pt x="1992" y="732"/>
                  </a:lnTo>
                  <a:lnTo>
                    <a:pt x="2007" y="673"/>
                  </a:lnTo>
                  <a:lnTo>
                    <a:pt x="2020" y="617"/>
                  </a:lnTo>
                  <a:lnTo>
                    <a:pt x="2028" y="562"/>
                  </a:lnTo>
                  <a:lnTo>
                    <a:pt x="2032" y="512"/>
                  </a:lnTo>
                  <a:lnTo>
                    <a:pt x="2033" y="465"/>
                  </a:lnTo>
                  <a:lnTo>
                    <a:pt x="2030" y="422"/>
                  </a:lnTo>
                  <a:lnTo>
                    <a:pt x="2023" y="382"/>
                  </a:lnTo>
                  <a:lnTo>
                    <a:pt x="2013" y="345"/>
                  </a:lnTo>
                  <a:lnTo>
                    <a:pt x="1999" y="312"/>
                  </a:lnTo>
                  <a:lnTo>
                    <a:pt x="1981" y="284"/>
                  </a:lnTo>
                  <a:lnTo>
                    <a:pt x="1961" y="260"/>
                  </a:lnTo>
                  <a:lnTo>
                    <a:pt x="1941" y="242"/>
                  </a:lnTo>
                  <a:lnTo>
                    <a:pt x="1918" y="226"/>
                  </a:lnTo>
                  <a:lnTo>
                    <a:pt x="1896" y="214"/>
                  </a:lnTo>
                  <a:lnTo>
                    <a:pt x="1873" y="205"/>
                  </a:lnTo>
                  <a:lnTo>
                    <a:pt x="1851" y="198"/>
                  </a:lnTo>
                  <a:lnTo>
                    <a:pt x="1830" y="194"/>
                  </a:lnTo>
                  <a:lnTo>
                    <a:pt x="1812" y="191"/>
                  </a:lnTo>
                  <a:lnTo>
                    <a:pt x="1796" y="190"/>
                  </a:lnTo>
                  <a:lnTo>
                    <a:pt x="1782" y="189"/>
                  </a:lnTo>
                  <a:close/>
                  <a:moveTo>
                    <a:pt x="1778" y="0"/>
                  </a:moveTo>
                  <a:lnTo>
                    <a:pt x="1793" y="0"/>
                  </a:lnTo>
                  <a:lnTo>
                    <a:pt x="1812" y="1"/>
                  </a:lnTo>
                  <a:lnTo>
                    <a:pt x="1835" y="3"/>
                  </a:lnTo>
                  <a:lnTo>
                    <a:pt x="1860" y="7"/>
                  </a:lnTo>
                  <a:lnTo>
                    <a:pt x="1888" y="13"/>
                  </a:lnTo>
                  <a:lnTo>
                    <a:pt x="1918" y="22"/>
                  </a:lnTo>
                  <a:lnTo>
                    <a:pt x="1949" y="32"/>
                  </a:lnTo>
                  <a:lnTo>
                    <a:pt x="1982" y="46"/>
                  </a:lnTo>
                  <a:lnTo>
                    <a:pt x="2015" y="64"/>
                  </a:lnTo>
                  <a:lnTo>
                    <a:pt x="2046" y="84"/>
                  </a:lnTo>
                  <a:lnTo>
                    <a:pt x="2078" y="110"/>
                  </a:lnTo>
                  <a:lnTo>
                    <a:pt x="2108" y="139"/>
                  </a:lnTo>
                  <a:lnTo>
                    <a:pt x="2136" y="174"/>
                  </a:lnTo>
                  <a:lnTo>
                    <a:pt x="2162" y="214"/>
                  </a:lnTo>
                  <a:lnTo>
                    <a:pt x="2182" y="257"/>
                  </a:lnTo>
                  <a:lnTo>
                    <a:pt x="2200" y="303"/>
                  </a:lnTo>
                  <a:lnTo>
                    <a:pt x="2212" y="352"/>
                  </a:lnTo>
                  <a:lnTo>
                    <a:pt x="2220" y="405"/>
                  </a:lnTo>
                  <a:lnTo>
                    <a:pt x="2223" y="460"/>
                  </a:lnTo>
                  <a:lnTo>
                    <a:pt x="2223" y="519"/>
                  </a:lnTo>
                  <a:lnTo>
                    <a:pt x="2218" y="581"/>
                  </a:lnTo>
                  <a:lnTo>
                    <a:pt x="2208" y="645"/>
                  </a:lnTo>
                  <a:lnTo>
                    <a:pt x="2195" y="713"/>
                  </a:lnTo>
                  <a:lnTo>
                    <a:pt x="2176" y="784"/>
                  </a:lnTo>
                  <a:lnTo>
                    <a:pt x="2154" y="856"/>
                  </a:lnTo>
                  <a:lnTo>
                    <a:pt x="2136" y="913"/>
                  </a:lnTo>
                  <a:lnTo>
                    <a:pt x="2121" y="964"/>
                  </a:lnTo>
                  <a:lnTo>
                    <a:pt x="2108" y="1010"/>
                  </a:lnTo>
                  <a:lnTo>
                    <a:pt x="2097" y="1052"/>
                  </a:lnTo>
                  <a:lnTo>
                    <a:pt x="2088" y="1090"/>
                  </a:lnTo>
                  <a:lnTo>
                    <a:pt x="2081" y="1124"/>
                  </a:lnTo>
                  <a:lnTo>
                    <a:pt x="2075" y="1153"/>
                  </a:lnTo>
                  <a:lnTo>
                    <a:pt x="2071" y="1180"/>
                  </a:lnTo>
                  <a:lnTo>
                    <a:pt x="2069" y="1204"/>
                  </a:lnTo>
                  <a:lnTo>
                    <a:pt x="2067" y="1223"/>
                  </a:lnTo>
                  <a:lnTo>
                    <a:pt x="2066" y="1240"/>
                  </a:lnTo>
                  <a:lnTo>
                    <a:pt x="2066" y="1255"/>
                  </a:lnTo>
                  <a:lnTo>
                    <a:pt x="2066" y="1266"/>
                  </a:lnTo>
                  <a:lnTo>
                    <a:pt x="2122" y="1254"/>
                  </a:lnTo>
                  <a:lnTo>
                    <a:pt x="2176" y="1244"/>
                  </a:lnTo>
                  <a:lnTo>
                    <a:pt x="2177" y="1244"/>
                  </a:lnTo>
                  <a:lnTo>
                    <a:pt x="2182" y="1243"/>
                  </a:lnTo>
                  <a:lnTo>
                    <a:pt x="2193" y="1240"/>
                  </a:lnTo>
                  <a:lnTo>
                    <a:pt x="2208" y="1237"/>
                  </a:lnTo>
                  <a:lnTo>
                    <a:pt x="2228" y="1233"/>
                  </a:lnTo>
                  <a:lnTo>
                    <a:pt x="2254" y="1229"/>
                  </a:lnTo>
                  <a:lnTo>
                    <a:pt x="2284" y="1224"/>
                  </a:lnTo>
                  <a:lnTo>
                    <a:pt x="2316" y="1219"/>
                  </a:lnTo>
                  <a:lnTo>
                    <a:pt x="2353" y="1214"/>
                  </a:lnTo>
                  <a:lnTo>
                    <a:pt x="2392" y="1210"/>
                  </a:lnTo>
                  <a:lnTo>
                    <a:pt x="2434" y="1206"/>
                  </a:lnTo>
                  <a:lnTo>
                    <a:pt x="2478" y="1202"/>
                  </a:lnTo>
                  <a:lnTo>
                    <a:pt x="2523" y="1199"/>
                  </a:lnTo>
                  <a:lnTo>
                    <a:pt x="2600" y="1197"/>
                  </a:lnTo>
                  <a:lnTo>
                    <a:pt x="2672" y="1198"/>
                  </a:lnTo>
                  <a:lnTo>
                    <a:pt x="2740" y="1204"/>
                  </a:lnTo>
                  <a:lnTo>
                    <a:pt x="2803" y="1212"/>
                  </a:lnTo>
                  <a:lnTo>
                    <a:pt x="2863" y="1224"/>
                  </a:lnTo>
                  <a:lnTo>
                    <a:pt x="2917" y="1239"/>
                  </a:lnTo>
                  <a:lnTo>
                    <a:pt x="2967" y="1258"/>
                  </a:lnTo>
                  <a:lnTo>
                    <a:pt x="3012" y="1279"/>
                  </a:lnTo>
                  <a:lnTo>
                    <a:pt x="3052" y="1305"/>
                  </a:lnTo>
                  <a:lnTo>
                    <a:pt x="3088" y="1335"/>
                  </a:lnTo>
                  <a:lnTo>
                    <a:pt x="3121" y="1367"/>
                  </a:lnTo>
                  <a:lnTo>
                    <a:pt x="3147" y="1401"/>
                  </a:lnTo>
                  <a:lnTo>
                    <a:pt x="3169" y="1436"/>
                  </a:lnTo>
                  <a:lnTo>
                    <a:pt x="3185" y="1471"/>
                  </a:lnTo>
                  <a:lnTo>
                    <a:pt x="3197" y="1507"/>
                  </a:lnTo>
                  <a:lnTo>
                    <a:pt x="3205" y="1543"/>
                  </a:lnTo>
                  <a:lnTo>
                    <a:pt x="3209" y="1577"/>
                  </a:lnTo>
                  <a:lnTo>
                    <a:pt x="3210" y="1612"/>
                  </a:lnTo>
                  <a:lnTo>
                    <a:pt x="3208" y="1646"/>
                  </a:lnTo>
                  <a:lnTo>
                    <a:pt x="3203" y="1679"/>
                  </a:lnTo>
                  <a:lnTo>
                    <a:pt x="3196" y="1711"/>
                  </a:lnTo>
                  <a:lnTo>
                    <a:pt x="3187" y="1740"/>
                  </a:lnTo>
                  <a:lnTo>
                    <a:pt x="3178" y="1767"/>
                  </a:lnTo>
                  <a:lnTo>
                    <a:pt x="3195" y="1791"/>
                  </a:lnTo>
                  <a:lnTo>
                    <a:pt x="3213" y="1819"/>
                  </a:lnTo>
                  <a:lnTo>
                    <a:pt x="3229" y="1851"/>
                  </a:lnTo>
                  <a:lnTo>
                    <a:pt x="3243" y="1886"/>
                  </a:lnTo>
                  <a:lnTo>
                    <a:pt x="3256" y="1924"/>
                  </a:lnTo>
                  <a:lnTo>
                    <a:pt x="3265" y="1966"/>
                  </a:lnTo>
                  <a:lnTo>
                    <a:pt x="3269" y="2010"/>
                  </a:lnTo>
                  <a:lnTo>
                    <a:pt x="3268" y="2058"/>
                  </a:lnTo>
                  <a:lnTo>
                    <a:pt x="3261" y="2106"/>
                  </a:lnTo>
                  <a:lnTo>
                    <a:pt x="3247" y="2153"/>
                  </a:lnTo>
                  <a:lnTo>
                    <a:pt x="3228" y="2199"/>
                  </a:lnTo>
                  <a:lnTo>
                    <a:pt x="3202" y="2244"/>
                  </a:lnTo>
                  <a:lnTo>
                    <a:pt x="3171" y="2289"/>
                  </a:lnTo>
                  <a:lnTo>
                    <a:pt x="3181" y="2318"/>
                  </a:lnTo>
                  <a:lnTo>
                    <a:pt x="3189" y="2352"/>
                  </a:lnTo>
                  <a:lnTo>
                    <a:pt x="3196" y="2390"/>
                  </a:lnTo>
                  <a:lnTo>
                    <a:pt x="3200" y="2431"/>
                  </a:lnTo>
                  <a:lnTo>
                    <a:pt x="3200" y="2461"/>
                  </a:lnTo>
                  <a:lnTo>
                    <a:pt x="3198" y="2494"/>
                  </a:lnTo>
                  <a:lnTo>
                    <a:pt x="3194" y="2529"/>
                  </a:lnTo>
                  <a:lnTo>
                    <a:pt x="3186" y="2566"/>
                  </a:lnTo>
                  <a:lnTo>
                    <a:pt x="3175" y="2603"/>
                  </a:lnTo>
                  <a:lnTo>
                    <a:pt x="3158" y="2642"/>
                  </a:lnTo>
                  <a:lnTo>
                    <a:pt x="3138" y="2680"/>
                  </a:lnTo>
                  <a:lnTo>
                    <a:pt x="3111" y="2718"/>
                  </a:lnTo>
                  <a:lnTo>
                    <a:pt x="3079" y="2757"/>
                  </a:lnTo>
                  <a:lnTo>
                    <a:pt x="3041" y="2796"/>
                  </a:lnTo>
                  <a:lnTo>
                    <a:pt x="3044" y="2826"/>
                  </a:lnTo>
                  <a:lnTo>
                    <a:pt x="3045" y="2860"/>
                  </a:lnTo>
                  <a:lnTo>
                    <a:pt x="3044" y="2897"/>
                  </a:lnTo>
                  <a:lnTo>
                    <a:pt x="3038" y="2937"/>
                  </a:lnTo>
                  <a:lnTo>
                    <a:pt x="3029" y="2979"/>
                  </a:lnTo>
                  <a:lnTo>
                    <a:pt x="3013" y="3022"/>
                  </a:lnTo>
                  <a:lnTo>
                    <a:pt x="2993" y="3066"/>
                  </a:lnTo>
                  <a:lnTo>
                    <a:pt x="2968" y="3105"/>
                  </a:lnTo>
                  <a:lnTo>
                    <a:pt x="2940" y="3141"/>
                  </a:lnTo>
                  <a:lnTo>
                    <a:pt x="2906" y="3175"/>
                  </a:lnTo>
                  <a:lnTo>
                    <a:pt x="2869" y="3206"/>
                  </a:lnTo>
                  <a:lnTo>
                    <a:pt x="2827" y="3235"/>
                  </a:lnTo>
                  <a:lnTo>
                    <a:pt x="2781" y="3261"/>
                  </a:lnTo>
                  <a:lnTo>
                    <a:pt x="2731" y="3284"/>
                  </a:lnTo>
                  <a:lnTo>
                    <a:pt x="2677" y="3304"/>
                  </a:lnTo>
                  <a:lnTo>
                    <a:pt x="2618" y="3323"/>
                  </a:lnTo>
                  <a:lnTo>
                    <a:pt x="2556" y="3338"/>
                  </a:lnTo>
                  <a:lnTo>
                    <a:pt x="2499" y="3348"/>
                  </a:lnTo>
                  <a:lnTo>
                    <a:pt x="2437" y="3357"/>
                  </a:lnTo>
                  <a:lnTo>
                    <a:pt x="2372" y="3363"/>
                  </a:lnTo>
                  <a:lnTo>
                    <a:pt x="2302" y="3366"/>
                  </a:lnTo>
                  <a:lnTo>
                    <a:pt x="2228" y="3367"/>
                  </a:lnTo>
                  <a:lnTo>
                    <a:pt x="2154" y="3366"/>
                  </a:lnTo>
                  <a:lnTo>
                    <a:pt x="2075" y="3363"/>
                  </a:lnTo>
                  <a:lnTo>
                    <a:pt x="1993" y="3358"/>
                  </a:lnTo>
                  <a:lnTo>
                    <a:pt x="1920" y="3359"/>
                  </a:lnTo>
                  <a:lnTo>
                    <a:pt x="1848" y="3359"/>
                  </a:lnTo>
                  <a:lnTo>
                    <a:pt x="1776" y="3358"/>
                  </a:lnTo>
                  <a:lnTo>
                    <a:pt x="1707" y="3356"/>
                  </a:lnTo>
                  <a:lnTo>
                    <a:pt x="1638" y="3353"/>
                  </a:lnTo>
                  <a:lnTo>
                    <a:pt x="1572" y="3350"/>
                  </a:lnTo>
                  <a:lnTo>
                    <a:pt x="1508" y="3346"/>
                  </a:lnTo>
                  <a:lnTo>
                    <a:pt x="1447" y="3342"/>
                  </a:lnTo>
                  <a:lnTo>
                    <a:pt x="1388" y="3338"/>
                  </a:lnTo>
                  <a:lnTo>
                    <a:pt x="1333" y="3334"/>
                  </a:lnTo>
                  <a:lnTo>
                    <a:pt x="1282" y="3330"/>
                  </a:lnTo>
                  <a:lnTo>
                    <a:pt x="1236" y="3326"/>
                  </a:lnTo>
                  <a:lnTo>
                    <a:pt x="1193" y="3322"/>
                  </a:lnTo>
                  <a:lnTo>
                    <a:pt x="1156" y="3318"/>
                  </a:lnTo>
                  <a:lnTo>
                    <a:pt x="1124" y="3315"/>
                  </a:lnTo>
                  <a:lnTo>
                    <a:pt x="1098" y="3311"/>
                  </a:lnTo>
                  <a:lnTo>
                    <a:pt x="1077" y="3308"/>
                  </a:lnTo>
                  <a:lnTo>
                    <a:pt x="1063" y="3307"/>
                  </a:lnTo>
                  <a:lnTo>
                    <a:pt x="1055" y="3306"/>
                  </a:lnTo>
                  <a:lnTo>
                    <a:pt x="890" y="3286"/>
                  </a:lnTo>
                  <a:lnTo>
                    <a:pt x="860" y="3304"/>
                  </a:lnTo>
                  <a:lnTo>
                    <a:pt x="828" y="3320"/>
                  </a:lnTo>
                  <a:lnTo>
                    <a:pt x="794" y="3331"/>
                  </a:lnTo>
                  <a:lnTo>
                    <a:pt x="758" y="3337"/>
                  </a:lnTo>
                  <a:lnTo>
                    <a:pt x="721" y="3340"/>
                  </a:lnTo>
                  <a:lnTo>
                    <a:pt x="293" y="3340"/>
                  </a:lnTo>
                  <a:lnTo>
                    <a:pt x="249" y="3337"/>
                  </a:lnTo>
                  <a:lnTo>
                    <a:pt x="208" y="3328"/>
                  </a:lnTo>
                  <a:lnTo>
                    <a:pt x="169" y="3312"/>
                  </a:lnTo>
                  <a:lnTo>
                    <a:pt x="133" y="3293"/>
                  </a:lnTo>
                  <a:lnTo>
                    <a:pt x="100" y="3268"/>
                  </a:lnTo>
                  <a:lnTo>
                    <a:pt x="72" y="3239"/>
                  </a:lnTo>
                  <a:lnTo>
                    <a:pt x="47" y="3206"/>
                  </a:lnTo>
                  <a:lnTo>
                    <a:pt x="27" y="3170"/>
                  </a:lnTo>
                  <a:lnTo>
                    <a:pt x="12" y="3131"/>
                  </a:lnTo>
                  <a:lnTo>
                    <a:pt x="3" y="3090"/>
                  </a:lnTo>
                  <a:lnTo>
                    <a:pt x="0" y="3047"/>
                  </a:lnTo>
                  <a:lnTo>
                    <a:pt x="0" y="1902"/>
                  </a:lnTo>
                  <a:lnTo>
                    <a:pt x="3" y="1859"/>
                  </a:lnTo>
                  <a:lnTo>
                    <a:pt x="12" y="1818"/>
                  </a:lnTo>
                  <a:lnTo>
                    <a:pt x="27" y="1779"/>
                  </a:lnTo>
                  <a:lnTo>
                    <a:pt x="47" y="1743"/>
                  </a:lnTo>
                  <a:lnTo>
                    <a:pt x="72" y="1711"/>
                  </a:lnTo>
                  <a:lnTo>
                    <a:pt x="100" y="1682"/>
                  </a:lnTo>
                  <a:lnTo>
                    <a:pt x="133" y="1657"/>
                  </a:lnTo>
                  <a:lnTo>
                    <a:pt x="169" y="1637"/>
                  </a:lnTo>
                  <a:lnTo>
                    <a:pt x="208" y="1622"/>
                  </a:lnTo>
                  <a:lnTo>
                    <a:pt x="249" y="1613"/>
                  </a:lnTo>
                  <a:lnTo>
                    <a:pt x="293" y="1609"/>
                  </a:lnTo>
                  <a:lnTo>
                    <a:pt x="721" y="1609"/>
                  </a:lnTo>
                  <a:lnTo>
                    <a:pt x="758" y="1612"/>
                  </a:lnTo>
                  <a:lnTo>
                    <a:pt x="794" y="1618"/>
                  </a:lnTo>
                  <a:lnTo>
                    <a:pt x="829" y="1630"/>
                  </a:lnTo>
                  <a:lnTo>
                    <a:pt x="860" y="1645"/>
                  </a:lnTo>
                  <a:lnTo>
                    <a:pt x="880" y="1605"/>
                  </a:lnTo>
                  <a:lnTo>
                    <a:pt x="903" y="1564"/>
                  </a:lnTo>
                  <a:lnTo>
                    <a:pt x="930" y="1521"/>
                  </a:lnTo>
                  <a:lnTo>
                    <a:pt x="962" y="1479"/>
                  </a:lnTo>
                  <a:lnTo>
                    <a:pt x="999" y="1438"/>
                  </a:lnTo>
                  <a:lnTo>
                    <a:pt x="1002" y="1434"/>
                  </a:lnTo>
                  <a:lnTo>
                    <a:pt x="1006" y="1431"/>
                  </a:lnTo>
                  <a:lnTo>
                    <a:pt x="1010" y="1428"/>
                  </a:lnTo>
                  <a:lnTo>
                    <a:pt x="1043" y="1399"/>
                  </a:lnTo>
                  <a:lnTo>
                    <a:pt x="1076" y="1364"/>
                  </a:lnTo>
                  <a:lnTo>
                    <a:pt x="1111" y="1324"/>
                  </a:lnTo>
                  <a:lnTo>
                    <a:pt x="1145" y="1279"/>
                  </a:lnTo>
                  <a:lnTo>
                    <a:pt x="1179" y="1230"/>
                  </a:lnTo>
                  <a:lnTo>
                    <a:pt x="1213" y="1178"/>
                  </a:lnTo>
                  <a:lnTo>
                    <a:pt x="1246" y="1122"/>
                  </a:lnTo>
                  <a:lnTo>
                    <a:pt x="1280" y="1063"/>
                  </a:lnTo>
                  <a:lnTo>
                    <a:pt x="1313" y="1004"/>
                  </a:lnTo>
                  <a:lnTo>
                    <a:pt x="1344" y="942"/>
                  </a:lnTo>
                  <a:lnTo>
                    <a:pt x="1375" y="881"/>
                  </a:lnTo>
                  <a:lnTo>
                    <a:pt x="1405" y="819"/>
                  </a:lnTo>
                  <a:lnTo>
                    <a:pt x="1432" y="758"/>
                  </a:lnTo>
                  <a:lnTo>
                    <a:pt x="1460" y="698"/>
                  </a:lnTo>
                  <a:lnTo>
                    <a:pt x="1486" y="640"/>
                  </a:lnTo>
                  <a:lnTo>
                    <a:pt x="1509" y="584"/>
                  </a:lnTo>
                  <a:lnTo>
                    <a:pt x="1531" y="532"/>
                  </a:lnTo>
                  <a:lnTo>
                    <a:pt x="1550" y="483"/>
                  </a:lnTo>
                  <a:lnTo>
                    <a:pt x="1567" y="437"/>
                  </a:lnTo>
                  <a:lnTo>
                    <a:pt x="1583" y="398"/>
                  </a:lnTo>
                  <a:lnTo>
                    <a:pt x="1581" y="375"/>
                  </a:lnTo>
                  <a:lnTo>
                    <a:pt x="1578" y="347"/>
                  </a:lnTo>
                  <a:lnTo>
                    <a:pt x="1577" y="318"/>
                  </a:lnTo>
                  <a:lnTo>
                    <a:pt x="1577" y="286"/>
                  </a:lnTo>
                  <a:lnTo>
                    <a:pt x="1578" y="252"/>
                  </a:lnTo>
                  <a:lnTo>
                    <a:pt x="1582" y="217"/>
                  </a:lnTo>
                  <a:lnTo>
                    <a:pt x="1587" y="183"/>
                  </a:lnTo>
                  <a:lnTo>
                    <a:pt x="1596" y="150"/>
                  </a:lnTo>
                  <a:lnTo>
                    <a:pt x="1607" y="118"/>
                  </a:lnTo>
                  <a:lnTo>
                    <a:pt x="1623" y="88"/>
                  </a:lnTo>
                  <a:lnTo>
                    <a:pt x="1642" y="62"/>
                  </a:lnTo>
                  <a:lnTo>
                    <a:pt x="1665" y="40"/>
                  </a:lnTo>
                  <a:lnTo>
                    <a:pt x="1689" y="23"/>
                  </a:lnTo>
                  <a:lnTo>
                    <a:pt x="1717" y="10"/>
                  </a:lnTo>
                  <a:lnTo>
                    <a:pt x="1747" y="2"/>
                  </a:lnTo>
                  <a:lnTo>
                    <a:pt x="17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96" name="Group 6"/>
          <p:cNvGrpSpPr/>
          <p:nvPr/>
        </p:nvGrpSpPr>
        <p:grpSpPr>
          <a:xfrm>
            <a:off x="6643800" y="4433760"/>
            <a:ext cx="731880" cy="709920"/>
            <a:chOff x="6643800" y="4433760"/>
            <a:chExt cx="731880" cy="709920"/>
          </a:xfrm>
        </p:grpSpPr>
        <p:sp>
          <p:nvSpPr>
            <p:cNvPr id="2197" name="Oval 59"/>
            <p:cNvSpPr/>
            <p:nvPr/>
          </p:nvSpPr>
          <p:spPr>
            <a:xfrm>
              <a:off x="6643800" y="4433760"/>
              <a:ext cx="731880" cy="709920"/>
            </a:xfrm>
            <a:prstGeom prst="ellipse">
              <a:avLst/>
            </a:prstGeom>
            <a:solidFill>
              <a:srgbClr val="ff9a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98" name="Group 79"/>
            <p:cNvGrpSpPr/>
            <p:nvPr/>
          </p:nvGrpSpPr>
          <p:grpSpPr>
            <a:xfrm>
              <a:off x="0" y="0"/>
              <a:ext cx="0" cy="0"/>
              <a:chOff x="0" y="0"/>
              <a:chExt cx="0" cy="0"/>
            </a:xfrm>
          </p:grpSpPr>
        </p:grpSp>
      </p:grpSp>
      <p:grpSp>
        <p:nvGrpSpPr>
          <p:cNvPr id="2199" name="Group 7"/>
          <p:cNvGrpSpPr/>
          <p:nvPr/>
        </p:nvGrpSpPr>
        <p:grpSpPr>
          <a:xfrm>
            <a:off x="6351480" y="2397240"/>
            <a:ext cx="703440" cy="682560"/>
            <a:chOff x="6351480" y="2397240"/>
            <a:chExt cx="703440" cy="682560"/>
          </a:xfrm>
        </p:grpSpPr>
        <p:sp>
          <p:nvSpPr>
            <p:cNvPr id="2200" name="Oval 61"/>
            <p:cNvSpPr/>
            <p:nvPr/>
          </p:nvSpPr>
          <p:spPr>
            <a:xfrm>
              <a:off x="6351480" y="2397240"/>
              <a:ext cx="703440" cy="682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01" name="Group 100"/>
            <p:cNvGrpSpPr/>
            <p:nvPr/>
          </p:nvGrpSpPr>
          <p:grpSpPr>
            <a:xfrm>
              <a:off x="0" y="0"/>
              <a:ext cx="0" cy="0"/>
              <a:chOff x="0" y="0"/>
              <a:chExt cx="0" cy="0"/>
            </a:xfrm>
          </p:grpSpPr>
        </p:grpSp>
      </p:grpSp>
      <p:grpSp>
        <p:nvGrpSpPr>
          <p:cNvPr id="2202" name="组合 28"/>
          <p:cNvGrpSpPr/>
          <p:nvPr/>
        </p:nvGrpSpPr>
        <p:grpSpPr>
          <a:xfrm>
            <a:off x="874800" y="476280"/>
            <a:ext cx="10360080" cy="0"/>
            <a:chOff x="874800" y="476280"/>
            <a:chExt cx="10360080" cy="0"/>
          </a:xfrm>
        </p:grpSpPr>
        <p:sp>
          <p:nvSpPr>
            <p:cNvPr id="2203" name="直接连接符 58"/>
            <p:cNvSpPr/>
            <p:nvPr/>
          </p:nvSpPr>
          <p:spPr>
            <a:xfrm>
              <a:off x="874800" y="476280"/>
              <a:ext cx="15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04" name="直接连接符 59"/>
            <p:cNvSpPr/>
            <p:nvPr/>
          </p:nvSpPr>
          <p:spPr>
            <a:xfrm>
              <a:off x="10128240" y="476280"/>
              <a:ext cx="110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205" name="文本框 60"/>
          <p:cNvSpPr/>
          <p:nvPr/>
        </p:nvSpPr>
        <p:spPr>
          <a:xfrm>
            <a:off x="3648240" y="866880"/>
            <a:ext cx="5903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五、与被审计单位治理层沟通</a:t>
            </a:r>
            <a:endParaRPr b="1" lang="en-US" sz="3200" spc="-1" strike="noStrike">
              <a:solidFill>
                <a:srgbClr val="000000"/>
              </a:solidFill>
              <a:latin typeface="Arial"/>
            </a:endParaRPr>
          </a:p>
        </p:txBody>
      </p:sp>
      <p:sp>
        <p:nvSpPr>
          <p:cNvPr id="2206" name="矩形 62"/>
          <p:cNvSpPr/>
          <p:nvPr/>
        </p:nvSpPr>
        <p:spPr>
          <a:xfrm>
            <a:off x="2063880" y="184320"/>
            <a:ext cx="82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审计报告阶段的主要工作</a:t>
            </a:r>
            <a:endParaRPr b="1" lang="en-US" sz="4000" spc="-1" strike="noStrike">
              <a:solidFill>
                <a:srgbClr val="000000"/>
              </a:solidFill>
              <a:latin typeface="Arial"/>
            </a:endParaRPr>
          </a:p>
        </p:txBody>
      </p:sp>
      <p:sp>
        <p:nvSpPr>
          <p:cNvPr id="2207" name="文本框 65"/>
          <p:cNvSpPr/>
          <p:nvPr/>
        </p:nvSpPr>
        <p:spPr>
          <a:xfrm>
            <a:off x="243000" y="1449360"/>
            <a:ext cx="10683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应当直接与被审计单位治理层沟通的主要事项包括：</a:t>
            </a:r>
            <a:endParaRPr b="1" lang="en-US" sz="2400" spc="-1" strike="noStrike">
              <a:solidFill>
                <a:srgbClr val="000000"/>
              </a:solidFill>
              <a:latin typeface="Arial"/>
            </a:endParaRPr>
          </a:p>
        </p:txBody>
      </p:sp>
      <p:sp>
        <p:nvSpPr>
          <p:cNvPr id="2208" name="Inhaltsplatzhalter 4"/>
          <p:cNvSpPr/>
          <p:nvPr/>
        </p:nvSpPr>
        <p:spPr>
          <a:xfrm flipH="1">
            <a:off x="7689240" y="2009880"/>
            <a:ext cx="4276440" cy="280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微软雅黑"/>
              </a:rPr>
              <a:t>2</a:t>
            </a:r>
            <a:r>
              <a:rPr b="1" lang="en-US" sz="2400" spc="-1" strike="noStrike">
                <a:solidFill>
                  <a:srgbClr val="0070c0"/>
                </a:solidFill>
                <a:latin typeface="Arial"/>
              </a:rPr>
              <a:t>. </a:t>
            </a:r>
            <a:r>
              <a:rPr b="1" lang="zh-CN" sz="2400" spc="-1" strike="noStrike">
                <a:solidFill>
                  <a:srgbClr val="0070c0"/>
                </a:solidFill>
                <a:latin typeface="Arial"/>
                <a:ea typeface="宋体"/>
              </a:rPr>
              <a:t>计划的审计范围和时间。</a:t>
            </a:r>
            <a:endParaRPr b="1" lang="en-US" sz="2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具体包括： </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1</a:t>
            </a:r>
            <a:r>
              <a:rPr b="1" lang="zh-CN" sz="2200" spc="-1" strike="noStrike">
                <a:solidFill>
                  <a:srgbClr val="000000"/>
                </a:solidFill>
                <a:latin typeface="Arial"/>
                <a:ea typeface="宋体"/>
              </a:rPr>
              <a:t>）注册会计师拟如何应对由于舞弊或错误导致的重大错报风险。 </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2</a:t>
            </a:r>
            <a:r>
              <a:rPr b="1" lang="zh-CN" sz="2200" spc="-1" strike="noStrike">
                <a:solidFill>
                  <a:srgbClr val="000000"/>
                </a:solidFill>
                <a:latin typeface="Arial"/>
                <a:ea typeface="宋体"/>
              </a:rPr>
              <a:t>）审计采取的方案。</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3</a:t>
            </a:r>
            <a:r>
              <a:rPr b="1" lang="zh-CN" sz="2200" spc="-1" strike="noStrike">
                <a:solidFill>
                  <a:srgbClr val="000000"/>
                </a:solidFill>
                <a:latin typeface="Arial"/>
                <a:ea typeface="宋体"/>
              </a:rPr>
              <a:t>）重要性的概念。注意不能涉及重要性的具体底线或数量、金额。 </a:t>
            </a:r>
            <a:endParaRPr b="1"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a:t>
            </a:r>
            <a:r>
              <a:rPr b="1" lang="en-US" sz="2200" spc="-1" strike="noStrike">
                <a:solidFill>
                  <a:srgbClr val="000000"/>
                </a:solidFill>
                <a:latin typeface="Arial"/>
              </a:rPr>
              <a:t>4</a:t>
            </a:r>
            <a:r>
              <a:rPr b="1" lang="zh-CN" sz="2200" spc="-1" strike="noStrike">
                <a:solidFill>
                  <a:srgbClr val="000000"/>
                </a:solidFill>
                <a:latin typeface="Arial"/>
                <a:ea typeface="宋体"/>
              </a:rPr>
              <a:t>）审计业务受到的限制或法律法规对审计业务的特定要求等。</a:t>
            </a:r>
            <a:endParaRPr b="1" lang="en-US" sz="2200" spc="-1" strike="noStrike">
              <a:solidFill>
                <a:srgbClr val="000000"/>
              </a:solidFill>
              <a:latin typeface="Arial"/>
            </a:endParaRPr>
          </a:p>
        </p:txBody>
      </p:sp>
      <p:cxnSp>
        <p:nvCxnSpPr>
          <p:cNvPr id="2209" name="直接箭头连接符 9"/>
          <p:cNvCxnSpPr/>
          <p:nvPr/>
        </p:nvCxnSpPr>
        <p:spPr>
          <a:xfrm>
            <a:off x="7064280" y="2733480"/>
            <a:ext cx="478800" cy="1080"/>
          </a:xfrm>
          <a:prstGeom prst="straightConnector1">
            <a:avLst/>
          </a:prstGeom>
          <a:ln w="6480">
            <a:solidFill>
              <a:srgbClr val="5b9bd4"/>
            </a:solidFill>
            <a:miter/>
            <a:tailEnd len="med" type="triangle" w="med"/>
          </a:ln>
        </p:spPr>
      </p:cxnSp>
      <p:cxnSp>
        <p:nvCxnSpPr>
          <p:cNvPr id="2210" name="直接箭头连接符 73"/>
          <p:cNvCxnSpPr/>
          <p:nvPr/>
        </p:nvCxnSpPr>
        <p:spPr>
          <a:xfrm flipH="1">
            <a:off x="3844440" y="2908080"/>
            <a:ext cx="627840" cy="1080"/>
          </a:xfrm>
          <a:prstGeom prst="straightConnector1">
            <a:avLst/>
          </a:prstGeom>
          <a:ln w="12600">
            <a:solidFill>
              <a:srgbClr val="2f75b4"/>
            </a:solidFill>
            <a:miter/>
            <a:tailEnd len="med" type="triangle"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afterEffect" fill="hold" presetClass="entr" presetID="42">
                                  <p:stCondLst>
                                    <p:cond delay="0"/>
                                  </p:stCondLst>
                                  <p:childTnLst>
                                    <p:set>
                                      <p:cBhvr>
                                        <p:cTn id="116" dur="1" fill="hold">
                                          <p:stCondLst>
                                            <p:cond delay="0"/>
                                          </p:stCondLst>
                                        </p:cTn>
                                        <p:tgtEl>
                                          <p:spTgt spid="2178"/>
                                        </p:tgtEl>
                                        <p:attrNameLst>
                                          <p:attrName>style.visibility</p:attrName>
                                        </p:attrNameLst>
                                      </p:cBhvr>
                                      <p:to>
                                        <p:strVal val="visible"/>
                                      </p:to>
                                    </p:set>
                                    <p:animEffect filter="fade" transition="in">
                                      <p:cBhvr additive="repl">
                                        <p:cTn id="117" dur="500"/>
                                        <p:tgtEl>
                                          <p:spTgt spid="2178"/>
                                        </p:tgtEl>
                                      </p:cBhvr>
                                    </p:animEffect>
                                    <p:anim calcmode="lin" valueType="num">
                                      <p:cBhvr additive="repl">
                                        <p:cTn id="118" dur="500" fill="hold"/>
                                        <p:tgtEl>
                                          <p:spTgt spid="2178"/>
                                        </p:tgtEl>
                                        <p:attrNameLst>
                                          <p:attrName>ppt_x</p:attrName>
                                        </p:attrNameLst>
                                      </p:cBhvr>
                                      <p:tavLst>
                                        <p:tav tm="0">
                                          <p:val>
                                            <p:strVal val="#ppt_x"/>
                                          </p:val>
                                        </p:tav>
                                        <p:tav tm="100000">
                                          <p:val>
                                            <p:strVal val="#ppt_x"/>
                                          </p:val>
                                        </p:tav>
                                      </p:tavLst>
                                    </p:anim>
                                    <p:anim calcmode="lin" valueType="num">
                                      <p:cBhvr additive="repl">
                                        <p:cTn id="119" dur="500" fill="hold"/>
                                        <p:tgtEl>
                                          <p:spTgt spid="2178"/>
                                        </p:tgtEl>
                                        <p:attrNameLst>
                                          <p:attrName>ppt_y</p:attrName>
                                        </p:attrNameLst>
                                      </p:cBhvr>
                                      <p:tavLst>
                                        <p:tav tm="0">
                                          <p:val>
                                            <p:strVal val="#ppt_y+.1"/>
                                          </p:val>
                                        </p:tav>
                                        <p:tav tm="100000">
                                          <p:val>
                                            <p:strVal val="#ppt_y"/>
                                          </p:val>
                                        </p:tav>
                                      </p:tavLst>
                                    </p:anim>
                                  </p:childTnLst>
                                </p:cTn>
                              </p:par>
                            </p:childTnLst>
                          </p:cTn>
                        </p:par>
                        <p:par>
                          <p:cTn id="120" fill="hold">
                            <p:stCondLst>
                              <p:cond delay="500"/>
                            </p:stCondLst>
                            <p:childTnLst>
                              <p:par>
                                <p:cTn id="121" dur="indefinite" nodeType="afterEffect" fill="hold" presetClass="entr" presetID="18" presetSubtype="9">
                                  <p:stCondLst>
                                    <p:cond delay="0"/>
                                  </p:stCondLst>
                                  <p:childTnLst>
                                    <p:set>
                                      <p:cBhvr>
                                        <p:cTn id="122" dur="1" fill="hold">
                                          <p:stCondLst>
                                            <p:cond delay="0"/>
                                          </p:stCondLst>
                                        </p:cTn>
                                        <p:tgtEl>
                                          <p:spTgt spid="2164"/>
                                        </p:tgtEl>
                                        <p:attrNameLst>
                                          <p:attrName>style.visibility</p:attrName>
                                        </p:attrNameLst>
                                      </p:cBhvr>
                                      <p:to>
                                        <p:strVal val="visible"/>
                                      </p:to>
                                    </p:set>
                                    <p:animEffect filter="strips(upLeft)" transition="in">
                                      <p:cBhvr additive="repl">
                                        <p:cTn id="123" dur="500"/>
                                        <p:tgtEl>
                                          <p:spTgt spid="2164"/>
                                        </p:tgtEl>
                                      </p:cBhvr>
                                    </p:animEffect>
                                  </p:childTnLst>
                                </p:cTn>
                              </p:par>
                            </p:childTnLst>
                          </p:cTn>
                        </p:par>
                        <p:par>
                          <p:cTn id="124" fill="hold">
                            <p:stCondLst>
                              <p:cond delay="1000"/>
                            </p:stCondLst>
                            <p:childTnLst>
                              <p:par>
                                <p:cTn id="125" dur="indefinite" nodeType="afterEffect" fill="hold" presetClass="entr" presetID="53" presetSubtype="16">
                                  <p:stCondLst>
                                    <p:cond delay="0"/>
                                  </p:stCondLst>
                                  <p:childTnLst>
                                    <p:set>
                                      <p:cBhvr>
                                        <p:cTn id="126" dur="1" fill="hold">
                                          <p:stCondLst>
                                            <p:cond delay="0"/>
                                          </p:stCondLst>
                                        </p:cTn>
                                        <p:tgtEl>
                                          <p:spTgt spid="2177"/>
                                        </p:tgtEl>
                                        <p:attrNameLst>
                                          <p:attrName>style.visibility</p:attrName>
                                        </p:attrNameLst>
                                      </p:cBhvr>
                                      <p:to>
                                        <p:strVal val="visible"/>
                                      </p:to>
                                    </p:set>
                                    <p:anim calcmode="lin" valueType="num">
                                      <p:cBhvr additive="repl">
                                        <p:cTn id="127" dur="500" fill="hold"/>
                                        <p:tgtEl>
                                          <p:spTgt spid="2177"/>
                                        </p:tgtEl>
                                        <p:attrNameLst>
                                          <p:attrName>ppt_w</p:attrName>
                                        </p:attrNameLst>
                                      </p:cBhvr>
                                      <p:tavLst>
                                        <p:tav tm="0">
                                          <p:val>
                                            <p:fltVal val="0"/>
                                          </p:val>
                                        </p:tav>
                                        <p:tav tm="100000">
                                          <p:val>
                                            <p:strVal val="#ppt_w"/>
                                          </p:val>
                                        </p:tav>
                                      </p:tavLst>
                                    </p:anim>
                                    <p:anim calcmode="lin" valueType="num">
                                      <p:cBhvr additive="repl">
                                        <p:cTn id="128" dur="500" fill="hold"/>
                                        <p:tgtEl>
                                          <p:spTgt spid="2177"/>
                                        </p:tgtEl>
                                        <p:attrNameLst>
                                          <p:attrName>ppt_h</p:attrName>
                                        </p:attrNameLst>
                                      </p:cBhvr>
                                      <p:tavLst>
                                        <p:tav tm="0">
                                          <p:val>
                                            <p:fltVal val="0"/>
                                          </p:val>
                                        </p:tav>
                                        <p:tav tm="100000">
                                          <p:val>
                                            <p:strVal val="#ppt_h"/>
                                          </p:val>
                                        </p:tav>
                                      </p:tavLst>
                                    </p:anim>
                                    <p:animEffect filter="fade" transition="in">
                                      <p:cBhvr additive="repl">
                                        <p:cTn id="129" dur="500"/>
                                        <p:tgtEl>
                                          <p:spTgt spid="2177"/>
                                        </p:tgtEl>
                                      </p:cBhvr>
                                    </p:animEffect>
                                  </p:childTnLst>
                                </p:cTn>
                              </p:par>
                              <p:par>
                                <p:cTn id="130" dur="indefinite" nodeType="withEffect" fill="hold" presetClass="entr" presetID="53" presetSubtype="16">
                                  <p:stCondLst>
                                    <p:cond delay="0"/>
                                  </p:stCondLst>
                                  <p:childTnLst>
                                    <p:set>
                                      <p:cBhvr>
                                        <p:cTn id="131" dur="1" fill="hold">
                                          <p:stCondLst>
                                            <p:cond delay="0"/>
                                          </p:stCondLst>
                                        </p:cTn>
                                        <p:tgtEl>
                                          <p:spTgt spid="2193"/>
                                        </p:tgtEl>
                                        <p:attrNameLst>
                                          <p:attrName>style.visibility</p:attrName>
                                        </p:attrNameLst>
                                      </p:cBhvr>
                                      <p:to>
                                        <p:strVal val="visible"/>
                                      </p:to>
                                    </p:set>
                                    <p:anim calcmode="lin" valueType="num">
                                      <p:cBhvr additive="repl">
                                        <p:cTn id="132" dur="500" fill="hold"/>
                                        <p:tgtEl>
                                          <p:spTgt spid="2193"/>
                                        </p:tgtEl>
                                        <p:attrNameLst>
                                          <p:attrName>ppt_w</p:attrName>
                                        </p:attrNameLst>
                                      </p:cBhvr>
                                      <p:tavLst>
                                        <p:tav tm="0">
                                          <p:val>
                                            <p:fltVal val="0"/>
                                          </p:val>
                                        </p:tav>
                                        <p:tav tm="100000">
                                          <p:val>
                                            <p:strVal val="#ppt_w"/>
                                          </p:val>
                                        </p:tav>
                                      </p:tavLst>
                                    </p:anim>
                                    <p:anim calcmode="lin" valueType="num">
                                      <p:cBhvr additive="repl">
                                        <p:cTn id="133" dur="500" fill="hold"/>
                                        <p:tgtEl>
                                          <p:spTgt spid="2193"/>
                                        </p:tgtEl>
                                        <p:attrNameLst>
                                          <p:attrName>ppt_h</p:attrName>
                                        </p:attrNameLst>
                                      </p:cBhvr>
                                      <p:tavLst>
                                        <p:tav tm="0">
                                          <p:val>
                                            <p:fltVal val="0"/>
                                          </p:val>
                                        </p:tav>
                                        <p:tav tm="100000">
                                          <p:val>
                                            <p:strVal val="#ppt_h"/>
                                          </p:val>
                                        </p:tav>
                                      </p:tavLst>
                                    </p:anim>
                                    <p:animEffect filter="fade" transition="in">
                                      <p:cBhvr additive="repl">
                                        <p:cTn id="134" dur="500"/>
                                        <p:tgtEl>
                                          <p:spTgt spid="2193"/>
                                        </p:tgtEl>
                                      </p:cBhvr>
                                    </p:animEffect>
                                  </p:childTnLst>
                                </p:cTn>
                              </p:par>
                            </p:childTnLst>
                          </p:cTn>
                        </p:par>
                        <p:par>
                          <p:cTn id="135" fill="hold">
                            <p:stCondLst>
                              <p:cond delay="1500"/>
                            </p:stCondLst>
                            <p:childTnLst>
                              <p:par>
                                <p:cTn id="136" dur="indefinite" nodeType="afterEffect" fill="hold" presetClass="entr" presetID="22" presetSubtype="2">
                                  <p:stCondLst>
                                    <p:cond delay="0"/>
                                  </p:stCondLst>
                                  <p:childTnLst>
                                    <p:set>
                                      <p:cBhvr>
                                        <p:cTn id="137" dur="1" fill="hold">
                                          <p:stCondLst>
                                            <p:cond delay="0"/>
                                          </p:stCondLst>
                                        </p:cTn>
                                        <p:tgtEl>
                                          <p:spTgt spid="2180"/>
                                        </p:tgtEl>
                                        <p:attrNameLst>
                                          <p:attrName>style.visibility</p:attrName>
                                        </p:attrNameLst>
                                      </p:cBhvr>
                                      <p:to>
                                        <p:strVal val="visible"/>
                                      </p:to>
                                    </p:set>
                                    <p:animEffect filter="wipe(right)" transition="in">
                                      <p:cBhvr additive="repl">
                                        <p:cTn id="138" dur="500"/>
                                        <p:tgtEl>
                                          <p:spTgt spid="2180"/>
                                        </p:tgtEl>
                                      </p:cBhvr>
                                    </p:animEffect>
                                  </p:childTnLst>
                                </p:cTn>
                              </p:par>
                            </p:childTnLst>
                          </p:cTn>
                        </p:par>
                        <p:par>
                          <p:cTn id="139" fill="hold">
                            <p:stCondLst>
                              <p:cond delay="2000"/>
                            </p:stCondLst>
                            <p:childTnLst>
                              <p:par>
                                <p:cTn id="140" dur="indefinite" nodeType="afterEffect" fill="hold" presetClass="entr" presetID="18" presetSubtype="9">
                                  <p:stCondLst>
                                    <p:cond delay="0"/>
                                  </p:stCondLst>
                                  <p:childTnLst>
                                    <p:set>
                                      <p:cBhvr>
                                        <p:cTn id="141" dur="1" fill="hold">
                                          <p:stCondLst>
                                            <p:cond delay="0"/>
                                          </p:stCondLst>
                                        </p:cTn>
                                        <p:tgtEl>
                                          <p:spTgt spid="2163"/>
                                        </p:tgtEl>
                                        <p:attrNameLst>
                                          <p:attrName>style.visibility</p:attrName>
                                        </p:attrNameLst>
                                      </p:cBhvr>
                                      <p:to>
                                        <p:strVal val="visible"/>
                                      </p:to>
                                    </p:set>
                                    <p:animEffect filter="strips(upLeft)" transition="in">
                                      <p:cBhvr additive="repl">
                                        <p:cTn id="142" dur="500"/>
                                        <p:tgtEl>
                                          <p:spTgt spid="2163"/>
                                        </p:tgtEl>
                                      </p:cBhvr>
                                    </p:animEffect>
                                  </p:childTnLst>
                                </p:cTn>
                              </p:par>
                            </p:childTnLst>
                          </p:cTn>
                        </p:par>
                        <p:par>
                          <p:cTn id="143" fill="hold">
                            <p:stCondLst>
                              <p:cond delay="2500"/>
                            </p:stCondLst>
                            <p:childTnLst>
                              <p:par>
                                <p:cTn id="144" dur="indefinite" nodeType="afterEffect" fill="hold" presetClass="entr" presetID="53" presetSubtype="16">
                                  <p:stCondLst>
                                    <p:cond delay="0"/>
                                  </p:stCondLst>
                                  <p:childTnLst>
                                    <p:set>
                                      <p:cBhvr>
                                        <p:cTn id="145" dur="1" fill="hold">
                                          <p:stCondLst>
                                            <p:cond delay="0"/>
                                          </p:stCondLst>
                                        </p:cTn>
                                        <p:tgtEl>
                                          <p:spTgt spid="2176"/>
                                        </p:tgtEl>
                                        <p:attrNameLst>
                                          <p:attrName>style.visibility</p:attrName>
                                        </p:attrNameLst>
                                      </p:cBhvr>
                                      <p:to>
                                        <p:strVal val="visible"/>
                                      </p:to>
                                    </p:set>
                                    <p:anim calcmode="lin" valueType="num">
                                      <p:cBhvr additive="repl">
                                        <p:cTn id="146" dur="500" fill="hold"/>
                                        <p:tgtEl>
                                          <p:spTgt spid="2176"/>
                                        </p:tgtEl>
                                        <p:attrNameLst>
                                          <p:attrName>ppt_w</p:attrName>
                                        </p:attrNameLst>
                                      </p:cBhvr>
                                      <p:tavLst>
                                        <p:tav tm="0">
                                          <p:val>
                                            <p:fltVal val="0"/>
                                          </p:val>
                                        </p:tav>
                                        <p:tav tm="100000">
                                          <p:val>
                                            <p:strVal val="#ppt_w"/>
                                          </p:val>
                                        </p:tav>
                                      </p:tavLst>
                                    </p:anim>
                                    <p:anim calcmode="lin" valueType="num">
                                      <p:cBhvr additive="repl">
                                        <p:cTn id="147" dur="500" fill="hold"/>
                                        <p:tgtEl>
                                          <p:spTgt spid="2176"/>
                                        </p:tgtEl>
                                        <p:attrNameLst>
                                          <p:attrName>ppt_h</p:attrName>
                                        </p:attrNameLst>
                                      </p:cBhvr>
                                      <p:tavLst>
                                        <p:tav tm="0">
                                          <p:val>
                                            <p:fltVal val="0"/>
                                          </p:val>
                                        </p:tav>
                                        <p:tav tm="100000">
                                          <p:val>
                                            <p:strVal val="#ppt_h"/>
                                          </p:val>
                                        </p:tav>
                                      </p:tavLst>
                                    </p:anim>
                                    <p:animEffect filter="fade" transition="in">
                                      <p:cBhvr additive="repl">
                                        <p:cTn id="148" dur="500"/>
                                        <p:tgtEl>
                                          <p:spTgt spid="2176"/>
                                        </p:tgtEl>
                                      </p:cBhvr>
                                    </p:animEffect>
                                  </p:childTnLst>
                                </p:cTn>
                              </p:par>
                              <p:par>
                                <p:cTn id="149" dur="indefinite" nodeType="withEffect" fill="hold" presetClass="entr" presetID="53" presetSubtype="16">
                                  <p:stCondLst>
                                    <p:cond delay="0"/>
                                  </p:stCondLst>
                                  <p:childTnLst>
                                    <p:set>
                                      <p:cBhvr>
                                        <p:cTn id="150" dur="1" fill="hold">
                                          <p:stCondLst>
                                            <p:cond delay="0"/>
                                          </p:stCondLst>
                                        </p:cTn>
                                        <p:tgtEl>
                                          <p:spTgt spid="2181"/>
                                        </p:tgtEl>
                                        <p:attrNameLst>
                                          <p:attrName>style.visibility</p:attrName>
                                        </p:attrNameLst>
                                      </p:cBhvr>
                                      <p:to>
                                        <p:strVal val="visible"/>
                                      </p:to>
                                    </p:set>
                                    <p:anim calcmode="lin" valueType="num">
                                      <p:cBhvr additive="repl">
                                        <p:cTn id="151" dur="500" fill="hold"/>
                                        <p:tgtEl>
                                          <p:spTgt spid="2181"/>
                                        </p:tgtEl>
                                        <p:attrNameLst>
                                          <p:attrName>ppt_w</p:attrName>
                                        </p:attrNameLst>
                                      </p:cBhvr>
                                      <p:tavLst>
                                        <p:tav tm="0">
                                          <p:val>
                                            <p:fltVal val="0"/>
                                          </p:val>
                                        </p:tav>
                                        <p:tav tm="100000">
                                          <p:val>
                                            <p:strVal val="#ppt_w"/>
                                          </p:val>
                                        </p:tav>
                                      </p:tavLst>
                                    </p:anim>
                                    <p:anim calcmode="lin" valueType="num">
                                      <p:cBhvr additive="repl">
                                        <p:cTn id="152" dur="500" fill="hold"/>
                                        <p:tgtEl>
                                          <p:spTgt spid="2181"/>
                                        </p:tgtEl>
                                        <p:attrNameLst>
                                          <p:attrName>ppt_h</p:attrName>
                                        </p:attrNameLst>
                                      </p:cBhvr>
                                      <p:tavLst>
                                        <p:tav tm="0">
                                          <p:val>
                                            <p:fltVal val="0"/>
                                          </p:val>
                                        </p:tav>
                                        <p:tav tm="100000">
                                          <p:val>
                                            <p:strVal val="#ppt_h"/>
                                          </p:val>
                                        </p:tav>
                                      </p:tavLst>
                                    </p:anim>
                                    <p:animEffect filter="fade" transition="in">
                                      <p:cBhvr additive="repl">
                                        <p:cTn id="153" dur="500"/>
                                        <p:tgtEl>
                                          <p:spTgt spid="2181"/>
                                        </p:tgtEl>
                                      </p:cBhvr>
                                    </p:animEffect>
                                  </p:childTnLst>
                                </p:cTn>
                              </p:par>
                            </p:childTnLst>
                          </p:cTn>
                        </p:par>
                        <p:par>
                          <p:cTn id="154" fill="hold">
                            <p:stCondLst>
                              <p:cond delay="3000"/>
                            </p:stCondLst>
                            <p:childTnLst>
                              <p:par>
                                <p:cTn id="155" dur="indefinite" nodeType="afterEffect" fill="hold" presetClass="entr" presetID="42">
                                  <p:stCondLst>
                                    <p:cond delay="0"/>
                                  </p:stCondLst>
                                  <p:childTnLst>
                                    <p:set>
                                      <p:cBhvr>
                                        <p:cTn id="156" dur="1" fill="hold">
                                          <p:stCondLst>
                                            <p:cond delay="0"/>
                                          </p:stCondLst>
                                        </p:cTn>
                                        <p:tgtEl>
                                          <p:spTgt spid="2172"/>
                                        </p:tgtEl>
                                        <p:attrNameLst>
                                          <p:attrName>style.visibility</p:attrName>
                                        </p:attrNameLst>
                                      </p:cBhvr>
                                      <p:to>
                                        <p:strVal val="visible"/>
                                      </p:to>
                                    </p:set>
                                    <p:animEffect filter="fade" transition="in">
                                      <p:cBhvr additive="repl">
                                        <p:cTn id="157" dur="500"/>
                                        <p:tgtEl>
                                          <p:spTgt spid="2172"/>
                                        </p:tgtEl>
                                      </p:cBhvr>
                                    </p:animEffect>
                                    <p:anim calcmode="lin" valueType="num">
                                      <p:cBhvr additive="repl">
                                        <p:cTn id="158" dur="500" fill="hold"/>
                                        <p:tgtEl>
                                          <p:spTgt spid="2172"/>
                                        </p:tgtEl>
                                        <p:attrNameLst>
                                          <p:attrName>ppt_x</p:attrName>
                                        </p:attrNameLst>
                                      </p:cBhvr>
                                      <p:tavLst>
                                        <p:tav tm="0">
                                          <p:val>
                                            <p:strVal val="#ppt_x"/>
                                          </p:val>
                                        </p:tav>
                                        <p:tav tm="100000">
                                          <p:val>
                                            <p:strVal val="#ppt_x"/>
                                          </p:val>
                                        </p:tav>
                                      </p:tavLst>
                                    </p:anim>
                                    <p:anim calcmode="lin" valueType="num">
                                      <p:cBhvr additive="repl">
                                        <p:cTn id="159" dur="500" fill="hold"/>
                                        <p:tgtEl>
                                          <p:spTgt spid="2172"/>
                                        </p:tgtEl>
                                        <p:attrNameLst>
                                          <p:attrName>ppt_y</p:attrName>
                                        </p:attrNameLst>
                                      </p:cBhvr>
                                      <p:tavLst>
                                        <p:tav tm="0">
                                          <p:val>
                                            <p:strVal val="#ppt_y+.1"/>
                                          </p:val>
                                        </p:tav>
                                        <p:tav tm="100000">
                                          <p:val>
                                            <p:strVal val="#ppt_y"/>
                                          </p:val>
                                        </p:tav>
                                      </p:tavLst>
                                    </p:anim>
                                  </p:childTnLst>
                                </p:cTn>
                              </p:par>
                            </p:childTnLst>
                          </p:cTn>
                        </p:par>
                        <p:par>
                          <p:cTn id="160" fill="hold">
                            <p:stCondLst>
                              <p:cond delay="3500"/>
                            </p:stCondLst>
                            <p:childTnLst>
                              <p:par>
                                <p:cTn id="161" dur="indefinite" nodeType="afterEffect" fill="hold" presetClass="entr" presetID="18" presetSubtype="9">
                                  <p:stCondLst>
                                    <p:cond delay="0"/>
                                  </p:stCondLst>
                                  <p:childTnLst>
                                    <p:set>
                                      <p:cBhvr>
                                        <p:cTn id="162" dur="1" fill="hold">
                                          <p:stCondLst>
                                            <p:cond delay="0"/>
                                          </p:stCondLst>
                                        </p:cTn>
                                        <p:tgtEl>
                                          <p:spTgt spid="2166"/>
                                        </p:tgtEl>
                                        <p:attrNameLst>
                                          <p:attrName>style.visibility</p:attrName>
                                        </p:attrNameLst>
                                      </p:cBhvr>
                                      <p:to>
                                        <p:strVal val="visible"/>
                                      </p:to>
                                    </p:set>
                                    <p:animEffect filter="strips(upLeft)" transition="in">
                                      <p:cBhvr additive="repl">
                                        <p:cTn id="163" dur="500"/>
                                        <p:tgtEl>
                                          <p:spTgt spid="2166"/>
                                        </p:tgtEl>
                                      </p:cBhvr>
                                    </p:animEffect>
                                  </p:childTnLst>
                                </p:cTn>
                              </p:par>
                            </p:childTnLst>
                          </p:cTn>
                        </p:par>
                        <p:par>
                          <p:cTn id="164" fill="hold">
                            <p:stCondLst>
                              <p:cond delay="4000"/>
                            </p:stCondLst>
                            <p:childTnLst>
                              <p:par>
                                <p:cTn id="165" dur="indefinite" nodeType="afterEffect" fill="hold" presetClass="entr" presetID="53" presetSubtype="16">
                                  <p:stCondLst>
                                    <p:cond delay="0"/>
                                  </p:stCondLst>
                                  <p:childTnLst>
                                    <p:set>
                                      <p:cBhvr>
                                        <p:cTn id="166" dur="1" fill="hold">
                                          <p:stCondLst>
                                            <p:cond delay="0"/>
                                          </p:stCondLst>
                                        </p:cTn>
                                        <p:tgtEl>
                                          <p:spTgt spid="2175"/>
                                        </p:tgtEl>
                                        <p:attrNameLst>
                                          <p:attrName>style.visibility</p:attrName>
                                        </p:attrNameLst>
                                      </p:cBhvr>
                                      <p:to>
                                        <p:strVal val="visible"/>
                                      </p:to>
                                    </p:set>
                                    <p:anim calcmode="lin" valueType="num">
                                      <p:cBhvr additive="repl">
                                        <p:cTn id="167" dur="500" fill="hold"/>
                                        <p:tgtEl>
                                          <p:spTgt spid="2175"/>
                                        </p:tgtEl>
                                        <p:attrNameLst>
                                          <p:attrName>ppt_w</p:attrName>
                                        </p:attrNameLst>
                                      </p:cBhvr>
                                      <p:tavLst>
                                        <p:tav tm="0">
                                          <p:val>
                                            <p:fltVal val="0"/>
                                          </p:val>
                                        </p:tav>
                                        <p:tav tm="100000">
                                          <p:val>
                                            <p:strVal val="#ppt_w"/>
                                          </p:val>
                                        </p:tav>
                                      </p:tavLst>
                                    </p:anim>
                                    <p:anim calcmode="lin" valueType="num">
                                      <p:cBhvr additive="repl">
                                        <p:cTn id="168" dur="500" fill="hold"/>
                                        <p:tgtEl>
                                          <p:spTgt spid="2175"/>
                                        </p:tgtEl>
                                        <p:attrNameLst>
                                          <p:attrName>ppt_h</p:attrName>
                                        </p:attrNameLst>
                                      </p:cBhvr>
                                      <p:tavLst>
                                        <p:tav tm="0">
                                          <p:val>
                                            <p:fltVal val="0"/>
                                          </p:val>
                                        </p:tav>
                                        <p:tav tm="100000">
                                          <p:val>
                                            <p:strVal val="#ppt_h"/>
                                          </p:val>
                                        </p:tav>
                                      </p:tavLst>
                                    </p:anim>
                                    <p:animEffect filter="fade" transition="in">
                                      <p:cBhvr additive="repl">
                                        <p:cTn id="169" dur="500"/>
                                        <p:tgtEl>
                                          <p:spTgt spid="2175"/>
                                        </p:tgtEl>
                                      </p:cBhvr>
                                    </p:animEffect>
                                  </p:childTnLst>
                                </p:cTn>
                              </p:par>
                              <p:par>
                                <p:cTn id="170" dur="indefinite" nodeType="withEffect" fill="hold" presetClass="entr" presetID="53" presetSubtype="16">
                                  <p:stCondLst>
                                    <p:cond delay="0"/>
                                  </p:stCondLst>
                                  <p:childTnLst>
                                    <p:set>
                                      <p:cBhvr>
                                        <p:cTn id="171" dur="1" fill="hold">
                                          <p:stCondLst>
                                            <p:cond delay="0"/>
                                          </p:stCondLst>
                                        </p:cTn>
                                        <p:tgtEl>
                                          <p:spTgt spid="2184"/>
                                        </p:tgtEl>
                                        <p:attrNameLst>
                                          <p:attrName>style.visibility</p:attrName>
                                        </p:attrNameLst>
                                      </p:cBhvr>
                                      <p:to>
                                        <p:strVal val="visible"/>
                                      </p:to>
                                    </p:set>
                                    <p:anim calcmode="lin" valueType="num">
                                      <p:cBhvr additive="repl">
                                        <p:cTn id="172" dur="500" fill="hold"/>
                                        <p:tgtEl>
                                          <p:spTgt spid="2184"/>
                                        </p:tgtEl>
                                        <p:attrNameLst>
                                          <p:attrName>ppt_w</p:attrName>
                                        </p:attrNameLst>
                                      </p:cBhvr>
                                      <p:tavLst>
                                        <p:tav tm="0">
                                          <p:val>
                                            <p:fltVal val="0"/>
                                          </p:val>
                                        </p:tav>
                                        <p:tav tm="100000">
                                          <p:val>
                                            <p:strVal val="#ppt_w"/>
                                          </p:val>
                                        </p:tav>
                                      </p:tavLst>
                                    </p:anim>
                                    <p:anim calcmode="lin" valueType="num">
                                      <p:cBhvr additive="repl">
                                        <p:cTn id="173" dur="500" fill="hold"/>
                                        <p:tgtEl>
                                          <p:spTgt spid="2184"/>
                                        </p:tgtEl>
                                        <p:attrNameLst>
                                          <p:attrName>ppt_h</p:attrName>
                                        </p:attrNameLst>
                                      </p:cBhvr>
                                      <p:tavLst>
                                        <p:tav tm="0">
                                          <p:val>
                                            <p:fltVal val="0"/>
                                          </p:val>
                                        </p:tav>
                                        <p:tav tm="100000">
                                          <p:val>
                                            <p:strVal val="#ppt_h"/>
                                          </p:val>
                                        </p:tav>
                                      </p:tavLst>
                                    </p:anim>
                                    <p:animEffect filter="fade" transition="in">
                                      <p:cBhvr additive="repl">
                                        <p:cTn id="174" dur="500"/>
                                        <p:tgtEl>
                                          <p:spTgt spid="2184"/>
                                        </p:tgtEl>
                                      </p:cBhvr>
                                    </p:animEffect>
                                  </p:childTnLst>
                                </p:cTn>
                              </p:par>
                            </p:childTnLst>
                          </p:cTn>
                        </p:par>
                        <p:par>
                          <p:cTn id="175" fill="hold">
                            <p:stCondLst>
                              <p:cond delay="4500"/>
                            </p:stCondLst>
                            <p:childTnLst>
                              <p:par>
                                <p:cTn id="176" dur="indefinite" nodeType="afterEffect" fill="hold" presetClass="entr" presetID="18" presetSubtype="3">
                                  <p:stCondLst>
                                    <p:cond delay="0"/>
                                  </p:stCondLst>
                                  <p:childTnLst>
                                    <p:set>
                                      <p:cBhvr>
                                        <p:cTn id="177" dur="1" fill="hold">
                                          <p:stCondLst>
                                            <p:cond delay="0"/>
                                          </p:stCondLst>
                                        </p:cTn>
                                        <p:tgtEl>
                                          <p:spTgt spid="2160"/>
                                        </p:tgtEl>
                                        <p:attrNameLst>
                                          <p:attrName>style.visibility</p:attrName>
                                        </p:attrNameLst>
                                      </p:cBhvr>
                                      <p:to>
                                        <p:strVal val="visible"/>
                                      </p:to>
                                    </p:set>
                                    <p:animEffect filter="strips(upRight)" transition="in">
                                      <p:cBhvr additive="repl">
                                        <p:cTn id="178" dur="500"/>
                                        <p:tgtEl>
                                          <p:spTgt spid="2160"/>
                                        </p:tgtEl>
                                      </p:cBhvr>
                                    </p:animEffect>
                                  </p:childTnLst>
                                </p:cTn>
                              </p:par>
                            </p:childTnLst>
                          </p:cTn>
                        </p:par>
                        <p:par>
                          <p:cTn id="179" fill="hold">
                            <p:stCondLst>
                              <p:cond delay="5000"/>
                            </p:stCondLst>
                            <p:childTnLst>
                              <p:par>
                                <p:cTn id="180" dur="indefinite" nodeType="afterEffect" fill="hold" presetClass="entr" presetID="42">
                                  <p:stCondLst>
                                    <p:cond delay="0"/>
                                  </p:stCondLst>
                                  <p:childTnLst>
                                    <p:set>
                                      <p:cBhvr>
                                        <p:cTn id="181" dur="1" fill="hold">
                                          <p:stCondLst>
                                            <p:cond delay="0"/>
                                          </p:stCondLst>
                                        </p:cTn>
                                        <p:tgtEl>
                                          <p:spTgt spid="2171"/>
                                        </p:tgtEl>
                                        <p:attrNameLst>
                                          <p:attrName>style.visibility</p:attrName>
                                        </p:attrNameLst>
                                      </p:cBhvr>
                                      <p:to>
                                        <p:strVal val="visible"/>
                                      </p:to>
                                    </p:set>
                                    <p:animEffect filter="fade" transition="in">
                                      <p:cBhvr additive="repl">
                                        <p:cTn id="182" dur="500"/>
                                        <p:tgtEl>
                                          <p:spTgt spid="2171"/>
                                        </p:tgtEl>
                                      </p:cBhvr>
                                    </p:animEffect>
                                    <p:anim calcmode="lin" valueType="num">
                                      <p:cBhvr additive="repl">
                                        <p:cTn id="183" dur="500" fill="hold"/>
                                        <p:tgtEl>
                                          <p:spTgt spid="2171"/>
                                        </p:tgtEl>
                                        <p:attrNameLst>
                                          <p:attrName>ppt_x</p:attrName>
                                        </p:attrNameLst>
                                      </p:cBhvr>
                                      <p:tavLst>
                                        <p:tav tm="0">
                                          <p:val>
                                            <p:strVal val="#ppt_x"/>
                                          </p:val>
                                        </p:tav>
                                        <p:tav tm="100000">
                                          <p:val>
                                            <p:strVal val="#ppt_x"/>
                                          </p:val>
                                        </p:tav>
                                      </p:tavLst>
                                    </p:anim>
                                    <p:anim calcmode="lin" valueType="num">
                                      <p:cBhvr additive="repl">
                                        <p:cTn id="184" dur="500" fill="hold"/>
                                        <p:tgtEl>
                                          <p:spTgt spid="2171"/>
                                        </p:tgtEl>
                                        <p:attrNameLst>
                                          <p:attrName>ppt_y</p:attrName>
                                        </p:attrNameLst>
                                      </p:cBhvr>
                                      <p:tavLst>
                                        <p:tav tm="0">
                                          <p:val>
                                            <p:strVal val="#ppt_y+.1"/>
                                          </p:val>
                                        </p:tav>
                                        <p:tav tm="100000">
                                          <p:val>
                                            <p:strVal val="#ppt_y"/>
                                          </p:val>
                                        </p:tav>
                                      </p:tavLst>
                                    </p:anim>
                                  </p:childTnLst>
                                </p:cTn>
                              </p:par>
                            </p:childTnLst>
                          </p:cTn>
                        </p:par>
                        <p:par>
                          <p:cTn id="185" fill="hold">
                            <p:stCondLst>
                              <p:cond delay="5500"/>
                            </p:stCondLst>
                            <p:childTnLst>
                              <p:par>
                                <p:cTn id="186" dur="indefinite" nodeType="afterEffect" fill="hold" presetClass="entr" presetID="42">
                                  <p:stCondLst>
                                    <p:cond delay="0"/>
                                  </p:stCondLst>
                                  <p:childTnLst>
                                    <p:set>
                                      <p:cBhvr>
                                        <p:cTn id="187" dur="1" fill="hold">
                                          <p:stCondLst>
                                            <p:cond delay="0"/>
                                          </p:stCondLst>
                                        </p:cTn>
                                        <p:tgtEl>
                                          <p:spTgt spid="2174"/>
                                        </p:tgtEl>
                                        <p:attrNameLst>
                                          <p:attrName>style.visibility</p:attrName>
                                        </p:attrNameLst>
                                      </p:cBhvr>
                                      <p:to>
                                        <p:strVal val="visible"/>
                                      </p:to>
                                    </p:set>
                                    <p:animEffect filter="fade" transition="in">
                                      <p:cBhvr additive="repl">
                                        <p:cTn id="188" dur="500"/>
                                        <p:tgtEl>
                                          <p:spTgt spid="2174"/>
                                        </p:tgtEl>
                                      </p:cBhvr>
                                    </p:animEffect>
                                    <p:anim calcmode="lin" valueType="num">
                                      <p:cBhvr additive="repl">
                                        <p:cTn id="189" dur="500" fill="hold"/>
                                        <p:tgtEl>
                                          <p:spTgt spid="2174"/>
                                        </p:tgtEl>
                                        <p:attrNameLst>
                                          <p:attrName>ppt_x</p:attrName>
                                        </p:attrNameLst>
                                      </p:cBhvr>
                                      <p:tavLst>
                                        <p:tav tm="0">
                                          <p:val>
                                            <p:strVal val="#ppt_x"/>
                                          </p:val>
                                        </p:tav>
                                        <p:tav tm="100000">
                                          <p:val>
                                            <p:strVal val="#ppt_x"/>
                                          </p:val>
                                        </p:tav>
                                      </p:tavLst>
                                    </p:anim>
                                    <p:anim calcmode="lin" valueType="num">
                                      <p:cBhvr additive="repl">
                                        <p:cTn id="190" dur="500" fill="hold"/>
                                        <p:tgtEl>
                                          <p:spTgt spid="2174"/>
                                        </p:tgtEl>
                                        <p:attrNameLst>
                                          <p:attrName>ppt_y</p:attrName>
                                        </p:attrNameLst>
                                      </p:cBhvr>
                                      <p:tavLst>
                                        <p:tav tm="0">
                                          <p:val>
                                            <p:strVal val="#ppt_y+.1"/>
                                          </p:val>
                                        </p:tav>
                                        <p:tav tm="100000">
                                          <p:val>
                                            <p:strVal val="#ppt_y"/>
                                          </p:val>
                                        </p:tav>
                                      </p:tavLst>
                                    </p:anim>
                                  </p:childTnLst>
                                </p:cTn>
                              </p:par>
                              <p:par>
                                <p:cTn id="191" dur="indefinite" nodeType="withEffect" fill="hold" presetClass="entr" presetID="53" presetSubtype="16">
                                  <p:stCondLst>
                                    <p:cond delay="0"/>
                                  </p:stCondLst>
                                  <p:childTnLst>
                                    <p:set>
                                      <p:cBhvr>
                                        <p:cTn id="192" dur="1" fill="hold">
                                          <p:stCondLst>
                                            <p:cond delay="0"/>
                                          </p:stCondLst>
                                        </p:cTn>
                                        <p:tgtEl>
                                          <p:spTgt spid="2190"/>
                                        </p:tgtEl>
                                        <p:attrNameLst>
                                          <p:attrName>style.visibility</p:attrName>
                                        </p:attrNameLst>
                                      </p:cBhvr>
                                      <p:to>
                                        <p:strVal val="visible"/>
                                      </p:to>
                                    </p:set>
                                    <p:anim calcmode="lin" valueType="num">
                                      <p:cBhvr additive="repl">
                                        <p:cTn id="193" dur="500" fill="hold"/>
                                        <p:tgtEl>
                                          <p:spTgt spid="2190"/>
                                        </p:tgtEl>
                                        <p:attrNameLst>
                                          <p:attrName>ppt_w</p:attrName>
                                        </p:attrNameLst>
                                      </p:cBhvr>
                                      <p:tavLst>
                                        <p:tav tm="0">
                                          <p:val>
                                            <p:fltVal val="0"/>
                                          </p:val>
                                        </p:tav>
                                        <p:tav tm="100000">
                                          <p:val>
                                            <p:strVal val="#ppt_w"/>
                                          </p:val>
                                        </p:tav>
                                      </p:tavLst>
                                    </p:anim>
                                    <p:anim calcmode="lin" valueType="num">
                                      <p:cBhvr additive="repl">
                                        <p:cTn id="194" dur="500" fill="hold"/>
                                        <p:tgtEl>
                                          <p:spTgt spid="2190"/>
                                        </p:tgtEl>
                                        <p:attrNameLst>
                                          <p:attrName>ppt_h</p:attrName>
                                        </p:attrNameLst>
                                      </p:cBhvr>
                                      <p:tavLst>
                                        <p:tav tm="0">
                                          <p:val>
                                            <p:fltVal val="0"/>
                                          </p:val>
                                        </p:tav>
                                        <p:tav tm="100000">
                                          <p:val>
                                            <p:strVal val="#ppt_h"/>
                                          </p:val>
                                        </p:tav>
                                      </p:tavLst>
                                    </p:anim>
                                    <p:animEffect filter="fade" transition="in">
                                      <p:cBhvr additive="repl">
                                        <p:cTn id="195" dur="500"/>
                                        <p:tgtEl>
                                          <p:spTgt spid="2190"/>
                                        </p:tgtEl>
                                      </p:cBhvr>
                                    </p:animEffect>
                                  </p:childTnLst>
                                </p:cTn>
                              </p:par>
                            </p:childTnLst>
                          </p:cTn>
                        </p:par>
                        <p:par>
                          <p:cTn id="196" fill="hold">
                            <p:stCondLst>
                              <p:cond delay="6000"/>
                            </p:stCondLst>
                            <p:childTnLst>
                              <p:par>
                                <p:cTn id="197" dur="indefinite" nodeType="afterEffect" fill="hold" presetClass="entr" presetID="18" presetSubtype="3">
                                  <p:stCondLst>
                                    <p:cond delay="0"/>
                                  </p:stCondLst>
                                  <p:childTnLst>
                                    <p:set>
                                      <p:cBhvr>
                                        <p:cTn id="198" dur="1" fill="hold">
                                          <p:stCondLst>
                                            <p:cond delay="0"/>
                                          </p:stCondLst>
                                        </p:cTn>
                                        <p:tgtEl>
                                          <p:spTgt spid="2165"/>
                                        </p:tgtEl>
                                        <p:attrNameLst>
                                          <p:attrName>style.visibility</p:attrName>
                                        </p:attrNameLst>
                                      </p:cBhvr>
                                      <p:to>
                                        <p:strVal val="visible"/>
                                      </p:to>
                                    </p:set>
                                    <p:animEffect filter="strips(upRight)" transition="in">
                                      <p:cBhvr additive="repl">
                                        <p:cTn id="199" dur="500"/>
                                        <p:tgtEl>
                                          <p:spTgt spid="2165"/>
                                        </p:tgtEl>
                                      </p:cBhvr>
                                    </p:animEffect>
                                  </p:childTnLst>
                                </p:cTn>
                              </p:par>
                            </p:childTnLst>
                          </p:cTn>
                        </p:par>
                        <p:par>
                          <p:cTn id="200" fill="hold">
                            <p:stCondLst>
                              <p:cond delay="6500"/>
                            </p:stCondLst>
                            <p:childTnLst>
                              <p:par>
                                <p:cTn id="201" dur="indefinite" nodeType="afterEffect" fill="hold" presetClass="entr" presetID="42">
                                  <p:stCondLst>
                                    <p:cond delay="0"/>
                                  </p:stCondLst>
                                  <p:childTnLst>
                                    <p:set>
                                      <p:cBhvr>
                                        <p:cTn id="202" dur="1" fill="hold">
                                          <p:stCondLst>
                                            <p:cond delay="0"/>
                                          </p:stCondLst>
                                        </p:cTn>
                                        <p:tgtEl>
                                          <p:spTgt spid="2170"/>
                                        </p:tgtEl>
                                        <p:attrNameLst>
                                          <p:attrName>style.visibility</p:attrName>
                                        </p:attrNameLst>
                                      </p:cBhvr>
                                      <p:to>
                                        <p:strVal val="visible"/>
                                      </p:to>
                                    </p:set>
                                    <p:animEffect filter="fade" transition="in">
                                      <p:cBhvr additive="repl">
                                        <p:cTn id="203" dur="500"/>
                                        <p:tgtEl>
                                          <p:spTgt spid="2170"/>
                                        </p:tgtEl>
                                      </p:cBhvr>
                                    </p:animEffect>
                                    <p:anim calcmode="lin" valueType="num">
                                      <p:cBhvr additive="repl">
                                        <p:cTn id="204" dur="500" fill="hold"/>
                                        <p:tgtEl>
                                          <p:spTgt spid="2170"/>
                                        </p:tgtEl>
                                        <p:attrNameLst>
                                          <p:attrName>ppt_x</p:attrName>
                                        </p:attrNameLst>
                                      </p:cBhvr>
                                      <p:tavLst>
                                        <p:tav tm="0">
                                          <p:val>
                                            <p:strVal val="#ppt_x"/>
                                          </p:val>
                                        </p:tav>
                                        <p:tav tm="100000">
                                          <p:val>
                                            <p:strVal val="#ppt_x"/>
                                          </p:val>
                                        </p:tav>
                                      </p:tavLst>
                                    </p:anim>
                                    <p:anim calcmode="lin" valueType="num">
                                      <p:cBhvr additive="repl">
                                        <p:cTn id="205" dur="500" fill="hold"/>
                                        <p:tgtEl>
                                          <p:spTgt spid="2170"/>
                                        </p:tgtEl>
                                        <p:attrNameLst>
                                          <p:attrName>ppt_y</p:attrName>
                                        </p:attrNameLst>
                                      </p:cBhvr>
                                      <p:tavLst>
                                        <p:tav tm="0">
                                          <p:val>
                                            <p:strVal val="#ppt_y+.1"/>
                                          </p:val>
                                        </p:tav>
                                        <p:tav tm="100000">
                                          <p:val>
                                            <p:strVal val="#ppt_y"/>
                                          </p:val>
                                        </p:tav>
                                      </p:tavLst>
                                    </p:anim>
                                  </p:childTnLst>
                                </p:cTn>
                              </p:par>
                            </p:childTnLst>
                          </p:cTn>
                        </p:par>
                        <p:par>
                          <p:cTn id="206" fill="hold">
                            <p:stCondLst>
                              <p:cond delay="7000"/>
                            </p:stCondLst>
                            <p:childTnLst>
                              <p:par>
                                <p:cTn id="207" dur="indefinite" nodeType="afterEffect" fill="hold" presetClass="entr" presetID="53" presetSubtype="16">
                                  <p:stCondLst>
                                    <p:cond delay="0"/>
                                  </p:stCondLst>
                                  <p:childTnLst>
                                    <p:set>
                                      <p:cBhvr>
                                        <p:cTn id="208" dur="1" fill="hold">
                                          <p:stCondLst>
                                            <p:cond delay="0"/>
                                          </p:stCondLst>
                                        </p:cTn>
                                        <p:tgtEl>
                                          <p:spTgt spid="2168"/>
                                        </p:tgtEl>
                                        <p:attrNameLst>
                                          <p:attrName>style.visibility</p:attrName>
                                        </p:attrNameLst>
                                      </p:cBhvr>
                                      <p:to>
                                        <p:strVal val="visible"/>
                                      </p:to>
                                    </p:set>
                                    <p:anim calcmode="lin" valueType="num">
                                      <p:cBhvr additive="repl">
                                        <p:cTn id="209" dur="500" fill="hold"/>
                                        <p:tgtEl>
                                          <p:spTgt spid="2168"/>
                                        </p:tgtEl>
                                        <p:attrNameLst>
                                          <p:attrName>ppt_w</p:attrName>
                                        </p:attrNameLst>
                                      </p:cBhvr>
                                      <p:tavLst>
                                        <p:tav tm="0">
                                          <p:val>
                                            <p:fltVal val="0"/>
                                          </p:val>
                                        </p:tav>
                                        <p:tav tm="100000">
                                          <p:val>
                                            <p:strVal val="#ppt_w"/>
                                          </p:val>
                                        </p:tav>
                                      </p:tavLst>
                                    </p:anim>
                                    <p:anim calcmode="lin" valueType="num">
                                      <p:cBhvr additive="repl">
                                        <p:cTn id="210" dur="500" fill="hold"/>
                                        <p:tgtEl>
                                          <p:spTgt spid="2168"/>
                                        </p:tgtEl>
                                        <p:attrNameLst>
                                          <p:attrName>ppt_h</p:attrName>
                                        </p:attrNameLst>
                                      </p:cBhvr>
                                      <p:tavLst>
                                        <p:tav tm="0">
                                          <p:val>
                                            <p:fltVal val="0"/>
                                          </p:val>
                                        </p:tav>
                                        <p:tav tm="100000">
                                          <p:val>
                                            <p:strVal val="#ppt_h"/>
                                          </p:val>
                                        </p:tav>
                                      </p:tavLst>
                                    </p:anim>
                                    <p:animEffect filter="fade" transition="in">
                                      <p:cBhvr additive="repl">
                                        <p:cTn id="211" dur="500"/>
                                        <p:tgtEl>
                                          <p:spTgt spid="2168"/>
                                        </p:tgtEl>
                                      </p:cBhvr>
                                    </p:animEffect>
                                  </p:childTnLst>
                                </p:cTn>
                              </p:par>
                              <p:par>
                                <p:cTn id="212" dur="indefinite" nodeType="withEffect" fill="hold" presetClass="entr" presetID="53" presetSubtype="16">
                                  <p:stCondLst>
                                    <p:cond delay="0"/>
                                  </p:stCondLst>
                                  <p:childTnLst>
                                    <p:set>
                                      <p:cBhvr>
                                        <p:cTn id="213" dur="1" fill="hold">
                                          <p:stCondLst>
                                            <p:cond delay="0"/>
                                          </p:stCondLst>
                                        </p:cTn>
                                        <p:tgtEl>
                                          <p:spTgt spid="2199"/>
                                        </p:tgtEl>
                                        <p:attrNameLst>
                                          <p:attrName>style.visibility</p:attrName>
                                        </p:attrNameLst>
                                      </p:cBhvr>
                                      <p:to>
                                        <p:strVal val="visible"/>
                                      </p:to>
                                    </p:set>
                                    <p:anim calcmode="lin" valueType="num">
                                      <p:cBhvr additive="repl">
                                        <p:cTn id="214" dur="500" fill="hold"/>
                                        <p:tgtEl>
                                          <p:spTgt spid="2199"/>
                                        </p:tgtEl>
                                        <p:attrNameLst>
                                          <p:attrName>ppt_w</p:attrName>
                                        </p:attrNameLst>
                                      </p:cBhvr>
                                      <p:tavLst>
                                        <p:tav tm="0">
                                          <p:val>
                                            <p:fltVal val="0"/>
                                          </p:val>
                                        </p:tav>
                                        <p:tav tm="100000">
                                          <p:val>
                                            <p:strVal val="#ppt_w"/>
                                          </p:val>
                                        </p:tav>
                                      </p:tavLst>
                                    </p:anim>
                                    <p:anim calcmode="lin" valueType="num">
                                      <p:cBhvr additive="repl">
                                        <p:cTn id="215" dur="500" fill="hold"/>
                                        <p:tgtEl>
                                          <p:spTgt spid="2199"/>
                                        </p:tgtEl>
                                        <p:attrNameLst>
                                          <p:attrName>ppt_h</p:attrName>
                                        </p:attrNameLst>
                                      </p:cBhvr>
                                      <p:tavLst>
                                        <p:tav tm="0">
                                          <p:val>
                                            <p:fltVal val="0"/>
                                          </p:val>
                                        </p:tav>
                                        <p:tav tm="100000">
                                          <p:val>
                                            <p:strVal val="#ppt_h"/>
                                          </p:val>
                                        </p:tav>
                                      </p:tavLst>
                                    </p:anim>
                                    <p:animEffect filter="fade" transition="in">
                                      <p:cBhvr additive="repl">
                                        <p:cTn id="216" dur="500"/>
                                        <p:tgtEl>
                                          <p:spTgt spid="2199"/>
                                        </p:tgtEl>
                                      </p:cBhvr>
                                    </p:animEffect>
                                  </p:childTnLst>
                                </p:cTn>
                              </p:par>
                            </p:childTnLst>
                          </p:cTn>
                        </p:par>
                        <p:par>
                          <p:cTn id="217" fill="hold">
                            <p:stCondLst>
                              <p:cond delay="7500"/>
                            </p:stCondLst>
                            <p:childTnLst>
                              <p:par>
                                <p:cTn id="218" dur="indefinite" nodeType="afterEffect" fill="hold" presetClass="entr" presetID="18" presetSubtype="3">
                                  <p:stCondLst>
                                    <p:cond delay="0"/>
                                  </p:stCondLst>
                                  <p:childTnLst>
                                    <p:set>
                                      <p:cBhvr>
                                        <p:cTn id="219" dur="1" fill="hold">
                                          <p:stCondLst>
                                            <p:cond delay="0"/>
                                          </p:stCondLst>
                                        </p:cTn>
                                        <p:tgtEl>
                                          <p:spTgt spid="2162"/>
                                        </p:tgtEl>
                                        <p:attrNameLst>
                                          <p:attrName>style.visibility</p:attrName>
                                        </p:attrNameLst>
                                      </p:cBhvr>
                                      <p:to>
                                        <p:strVal val="visible"/>
                                      </p:to>
                                    </p:set>
                                    <p:animEffect filter="strips(upRight)" transition="in">
                                      <p:cBhvr additive="repl">
                                        <p:cTn id="220" dur="500"/>
                                        <p:tgtEl>
                                          <p:spTgt spid="2162"/>
                                        </p:tgtEl>
                                      </p:cBhvr>
                                    </p:animEffect>
                                  </p:childTnLst>
                                </p:cTn>
                              </p:par>
                            </p:childTnLst>
                          </p:cTn>
                        </p:par>
                        <p:par>
                          <p:cTn id="221" fill="hold">
                            <p:stCondLst>
                              <p:cond delay="8000"/>
                            </p:stCondLst>
                            <p:childTnLst>
                              <p:par>
                                <p:cTn id="222" dur="indefinite" nodeType="afterEffect" fill="hold" presetClass="entr" presetID="53" presetSubtype="16">
                                  <p:stCondLst>
                                    <p:cond delay="0"/>
                                  </p:stCondLst>
                                  <p:childTnLst>
                                    <p:set>
                                      <p:cBhvr>
                                        <p:cTn id="223" dur="1" fill="hold">
                                          <p:stCondLst>
                                            <p:cond delay="0"/>
                                          </p:stCondLst>
                                        </p:cTn>
                                        <p:tgtEl>
                                          <p:spTgt spid="2169"/>
                                        </p:tgtEl>
                                        <p:attrNameLst>
                                          <p:attrName>style.visibility</p:attrName>
                                        </p:attrNameLst>
                                      </p:cBhvr>
                                      <p:to>
                                        <p:strVal val="visible"/>
                                      </p:to>
                                    </p:set>
                                    <p:anim calcmode="lin" valueType="num">
                                      <p:cBhvr additive="repl">
                                        <p:cTn id="224" dur="500" fill="hold"/>
                                        <p:tgtEl>
                                          <p:spTgt spid="2169"/>
                                        </p:tgtEl>
                                        <p:attrNameLst>
                                          <p:attrName>ppt_w</p:attrName>
                                        </p:attrNameLst>
                                      </p:cBhvr>
                                      <p:tavLst>
                                        <p:tav tm="0">
                                          <p:val>
                                            <p:fltVal val="0"/>
                                          </p:val>
                                        </p:tav>
                                        <p:tav tm="100000">
                                          <p:val>
                                            <p:strVal val="#ppt_w"/>
                                          </p:val>
                                        </p:tav>
                                      </p:tavLst>
                                    </p:anim>
                                    <p:anim calcmode="lin" valueType="num">
                                      <p:cBhvr additive="repl">
                                        <p:cTn id="225" dur="500" fill="hold"/>
                                        <p:tgtEl>
                                          <p:spTgt spid="2169"/>
                                        </p:tgtEl>
                                        <p:attrNameLst>
                                          <p:attrName>ppt_h</p:attrName>
                                        </p:attrNameLst>
                                      </p:cBhvr>
                                      <p:tavLst>
                                        <p:tav tm="0">
                                          <p:val>
                                            <p:fltVal val="0"/>
                                          </p:val>
                                        </p:tav>
                                        <p:tav tm="100000">
                                          <p:val>
                                            <p:strVal val="#ppt_h"/>
                                          </p:val>
                                        </p:tav>
                                      </p:tavLst>
                                    </p:anim>
                                    <p:animEffect filter="fade" transition="in">
                                      <p:cBhvr additive="repl">
                                        <p:cTn id="226" dur="500"/>
                                        <p:tgtEl>
                                          <p:spTgt spid="2169"/>
                                        </p:tgtEl>
                                      </p:cBhvr>
                                    </p:animEffect>
                                  </p:childTnLst>
                                </p:cTn>
                              </p:par>
                              <p:par>
                                <p:cTn id="227" dur="indefinite" nodeType="withEffect" fill="hold" presetClass="entr" presetID="53" presetSubtype="16">
                                  <p:stCondLst>
                                    <p:cond delay="0"/>
                                  </p:stCondLst>
                                  <p:childTnLst>
                                    <p:set>
                                      <p:cBhvr>
                                        <p:cTn id="228" dur="1" fill="hold">
                                          <p:stCondLst>
                                            <p:cond delay="0"/>
                                          </p:stCondLst>
                                        </p:cTn>
                                        <p:tgtEl>
                                          <p:spTgt spid="2187"/>
                                        </p:tgtEl>
                                        <p:attrNameLst>
                                          <p:attrName>style.visibility</p:attrName>
                                        </p:attrNameLst>
                                      </p:cBhvr>
                                      <p:to>
                                        <p:strVal val="visible"/>
                                      </p:to>
                                    </p:set>
                                    <p:anim calcmode="lin" valueType="num">
                                      <p:cBhvr additive="repl">
                                        <p:cTn id="229" dur="500" fill="hold"/>
                                        <p:tgtEl>
                                          <p:spTgt spid="2187"/>
                                        </p:tgtEl>
                                        <p:attrNameLst>
                                          <p:attrName>ppt_w</p:attrName>
                                        </p:attrNameLst>
                                      </p:cBhvr>
                                      <p:tavLst>
                                        <p:tav tm="0">
                                          <p:val>
                                            <p:fltVal val="0"/>
                                          </p:val>
                                        </p:tav>
                                        <p:tav tm="100000">
                                          <p:val>
                                            <p:strVal val="#ppt_w"/>
                                          </p:val>
                                        </p:tav>
                                      </p:tavLst>
                                    </p:anim>
                                    <p:anim calcmode="lin" valueType="num">
                                      <p:cBhvr additive="repl">
                                        <p:cTn id="230" dur="500" fill="hold"/>
                                        <p:tgtEl>
                                          <p:spTgt spid="2187"/>
                                        </p:tgtEl>
                                        <p:attrNameLst>
                                          <p:attrName>ppt_h</p:attrName>
                                        </p:attrNameLst>
                                      </p:cBhvr>
                                      <p:tavLst>
                                        <p:tav tm="0">
                                          <p:val>
                                            <p:fltVal val="0"/>
                                          </p:val>
                                        </p:tav>
                                        <p:tav tm="100000">
                                          <p:val>
                                            <p:strVal val="#ppt_h"/>
                                          </p:val>
                                        </p:tav>
                                      </p:tavLst>
                                    </p:anim>
                                    <p:animEffect filter="fade" transition="in">
                                      <p:cBhvr additive="repl">
                                        <p:cTn id="231" dur="500"/>
                                        <p:tgtEl>
                                          <p:spTgt spid="2187"/>
                                        </p:tgtEl>
                                      </p:cBhvr>
                                    </p:animEffect>
                                  </p:childTnLst>
                                </p:cTn>
                              </p:par>
                            </p:childTnLst>
                          </p:cTn>
                        </p:par>
                        <p:par>
                          <p:cTn id="232" fill="hold">
                            <p:stCondLst>
                              <p:cond delay="8500"/>
                            </p:stCondLst>
                            <p:childTnLst>
                              <p:par>
                                <p:cTn id="233" dur="indefinite" nodeType="afterEffect" fill="hold" presetClass="entr" presetID="18" presetSubtype="3">
                                  <p:stCondLst>
                                    <p:cond delay="0"/>
                                  </p:stCondLst>
                                  <p:childTnLst>
                                    <p:set>
                                      <p:cBhvr>
                                        <p:cTn id="234" dur="1" fill="hold">
                                          <p:stCondLst>
                                            <p:cond delay="0"/>
                                          </p:stCondLst>
                                        </p:cTn>
                                        <p:tgtEl>
                                          <p:spTgt spid="2161"/>
                                        </p:tgtEl>
                                        <p:attrNameLst>
                                          <p:attrName>style.visibility</p:attrName>
                                        </p:attrNameLst>
                                      </p:cBhvr>
                                      <p:to>
                                        <p:strVal val="visible"/>
                                      </p:to>
                                    </p:set>
                                    <p:animEffect filter="strips(upRight)" transition="in">
                                      <p:cBhvr additive="repl">
                                        <p:cTn id="235" dur="500"/>
                                        <p:tgtEl>
                                          <p:spTgt spid="2161"/>
                                        </p:tgtEl>
                                      </p:cBhvr>
                                    </p:animEffect>
                                  </p:childTnLst>
                                </p:cTn>
                              </p:par>
                            </p:childTnLst>
                          </p:cTn>
                        </p:par>
                        <p:par>
                          <p:cTn id="236" fill="hold">
                            <p:stCondLst>
                              <p:cond delay="9000"/>
                            </p:stCondLst>
                            <p:childTnLst>
                              <p:par>
                                <p:cTn id="237" dur="indefinite" nodeType="afterEffect" fill="hold" presetClass="entr" presetID="53" presetSubtype="16">
                                  <p:stCondLst>
                                    <p:cond delay="0"/>
                                  </p:stCondLst>
                                  <p:childTnLst>
                                    <p:set>
                                      <p:cBhvr>
                                        <p:cTn id="238" dur="1" fill="hold">
                                          <p:stCondLst>
                                            <p:cond delay="0"/>
                                          </p:stCondLst>
                                        </p:cTn>
                                        <p:tgtEl>
                                          <p:spTgt spid="2173"/>
                                        </p:tgtEl>
                                        <p:attrNameLst>
                                          <p:attrName>style.visibility</p:attrName>
                                        </p:attrNameLst>
                                      </p:cBhvr>
                                      <p:to>
                                        <p:strVal val="visible"/>
                                      </p:to>
                                    </p:set>
                                    <p:anim calcmode="lin" valueType="num">
                                      <p:cBhvr additive="repl">
                                        <p:cTn id="239" dur="500" fill="hold"/>
                                        <p:tgtEl>
                                          <p:spTgt spid="2173"/>
                                        </p:tgtEl>
                                        <p:attrNameLst>
                                          <p:attrName>ppt_w</p:attrName>
                                        </p:attrNameLst>
                                      </p:cBhvr>
                                      <p:tavLst>
                                        <p:tav tm="0">
                                          <p:val>
                                            <p:fltVal val="0"/>
                                          </p:val>
                                        </p:tav>
                                        <p:tav tm="100000">
                                          <p:val>
                                            <p:strVal val="#ppt_w"/>
                                          </p:val>
                                        </p:tav>
                                      </p:tavLst>
                                    </p:anim>
                                    <p:anim calcmode="lin" valueType="num">
                                      <p:cBhvr additive="repl">
                                        <p:cTn id="240" dur="500" fill="hold"/>
                                        <p:tgtEl>
                                          <p:spTgt spid="2173"/>
                                        </p:tgtEl>
                                        <p:attrNameLst>
                                          <p:attrName>ppt_h</p:attrName>
                                        </p:attrNameLst>
                                      </p:cBhvr>
                                      <p:tavLst>
                                        <p:tav tm="0">
                                          <p:val>
                                            <p:fltVal val="0"/>
                                          </p:val>
                                        </p:tav>
                                        <p:tav tm="100000">
                                          <p:val>
                                            <p:strVal val="#ppt_h"/>
                                          </p:val>
                                        </p:tav>
                                      </p:tavLst>
                                    </p:anim>
                                    <p:animEffect filter="fade" transition="in">
                                      <p:cBhvr additive="repl">
                                        <p:cTn id="241" dur="500"/>
                                        <p:tgtEl>
                                          <p:spTgt spid="2173"/>
                                        </p:tgtEl>
                                      </p:cBhvr>
                                    </p:animEffect>
                                  </p:childTnLst>
                                </p:cTn>
                              </p:par>
                              <p:par>
                                <p:cTn id="242" dur="indefinite" nodeType="withEffect" fill="hold" presetClass="entr" presetID="53" presetSubtype="16">
                                  <p:stCondLst>
                                    <p:cond delay="0"/>
                                  </p:stCondLst>
                                  <p:childTnLst>
                                    <p:set>
                                      <p:cBhvr>
                                        <p:cTn id="243" dur="1" fill="hold">
                                          <p:stCondLst>
                                            <p:cond delay="0"/>
                                          </p:stCondLst>
                                        </p:cTn>
                                        <p:tgtEl>
                                          <p:spTgt spid="2196"/>
                                        </p:tgtEl>
                                        <p:attrNameLst>
                                          <p:attrName>style.visibility</p:attrName>
                                        </p:attrNameLst>
                                      </p:cBhvr>
                                      <p:to>
                                        <p:strVal val="visible"/>
                                      </p:to>
                                    </p:set>
                                    <p:anim calcmode="lin" valueType="num">
                                      <p:cBhvr additive="repl">
                                        <p:cTn id="244" dur="500" fill="hold"/>
                                        <p:tgtEl>
                                          <p:spTgt spid="2196"/>
                                        </p:tgtEl>
                                        <p:attrNameLst>
                                          <p:attrName>ppt_w</p:attrName>
                                        </p:attrNameLst>
                                      </p:cBhvr>
                                      <p:tavLst>
                                        <p:tav tm="0">
                                          <p:val>
                                            <p:fltVal val="0"/>
                                          </p:val>
                                        </p:tav>
                                        <p:tav tm="100000">
                                          <p:val>
                                            <p:strVal val="#ppt_w"/>
                                          </p:val>
                                        </p:tav>
                                      </p:tavLst>
                                    </p:anim>
                                    <p:anim calcmode="lin" valueType="num">
                                      <p:cBhvr additive="repl">
                                        <p:cTn id="245" dur="500" fill="hold"/>
                                        <p:tgtEl>
                                          <p:spTgt spid="2196"/>
                                        </p:tgtEl>
                                        <p:attrNameLst>
                                          <p:attrName>ppt_h</p:attrName>
                                        </p:attrNameLst>
                                      </p:cBhvr>
                                      <p:tavLst>
                                        <p:tav tm="0">
                                          <p:val>
                                            <p:fltVal val="0"/>
                                          </p:val>
                                        </p:tav>
                                        <p:tav tm="100000">
                                          <p:val>
                                            <p:strVal val="#ppt_h"/>
                                          </p:val>
                                        </p:tav>
                                      </p:tavLst>
                                    </p:anim>
                                    <p:animEffect filter="fade" transition="in">
                                      <p:cBhvr additive="repl">
                                        <p:cTn id="246" dur="500"/>
                                        <p:tgtEl>
                                          <p:spTgt spid="2196"/>
                                        </p:tgtEl>
                                      </p:cBhvr>
                                    </p:animEffect>
                                  </p:childTnLst>
                                </p:cTn>
                              </p:par>
                            </p:childTnLst>
                          </p:cTn>
                        </p:par>
                        <p:par>
                          <p:cTn id="247" fill="hold">
                            <p:stCondLst>
                              <p:cond delay="9500"/>
                            </p:stCondLst>
                            <p:childTnLst>
                              <p:par>
                                <p:cTn id="248" dur="indefinite" nodeType="afterEffect" fill="hold" presetClass="entr" presetID="22" presetSubtype="8">
                                  <p:stCondLst>
                                    <p:cond delay="0"/>
                                  </p:stCondLst>
                                  <p:childTnLst>
                                    <p:set>
                                      <p:cBhvr>
                                        <p:cTn id="249" dur="1" fill="hold">
                                          <p:stCondLst>
                                            <p:cond delay="0"/>
                                          </p:stCondLst>
                                        </p:cTn>
                                        <p:tgtEl>
                                          <p:spTgt spid="2208"/>
                                        </p:tgtEl>
                                        <p:attrNameLst>
                                          <p:attrName>style.visibility</p:attrName>
                                        </p:attrNameLst>
                                      </p:cBhvr>
                                      <p:to>
                                        <p:strVal val="visible"/>
                                      </p:to>
                                    </p:set>
                                    <p:animEffect filter="wipe(left)" transition="in">
                                      <p:cBhvr additive="repl">
                                        <p:cTn id="250" dur="500"/>
                                        <p:tgtEl>
                                          <p:spTgt spid="2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Line 51"/>
          <p:cNvSpPr/>
          <p:nvPr/>
        </p:nvSpPr>
        <p:spPr>
          <a:xfrm flipH="1" flipV="1">
            <a:off x="5817960" y="2290680"/>
            <a:ext cx="4680" cy="308448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2" name="Freeform 52"/>
          <p:cNvSpPr/>
          <p:nvPr/>
        </p:nvSpPr>
        <p:spPr>
          <a:xfrm>
            <a:off x="6126120" y="4809960"/>
            <a:ext cx="612720" cy="576360"/>
          </a:xfrm>
          <a:custGeom>
            <a:avLst/>
            <a:gdLst/>
            <a:ahLst/>
            <a:rect l="l" t="t" r="r" b="b"/>
            <a:pathLst>
              <a:path w="343" h="322">
                <a:moveTo>
                  <a:pt x="0" y="322"/>
                </a:moveTo>
                <a:cubicBezTo>
                  <a:pt x="0" y="120"/>
                  <a:pt x="0" y="120"/>
                  <a:pt x="0" y="120"/>
                </a:cubicBezTo>
                <a:cubicBezTo>
                  <a:pt x="0" y="54"/>
                  <a:pt x="54" y="0"/>
                  <a:pt x="120" y="0"/>
                </a:cubicBezTo>
                <a:cubicBezTo>
                  <a:pt x="343" y="0"/>
                  <a:pt x="343" y="0"/>
                  <a:pt x="343"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3" name="Freeform 53"/>
          <p:cNvSpPr/>
          <p:nvPr/>
        </p:nvSpPr>
        <p:spPr>
          <a:xfrm>
            <a:off x="6040440" y="3843360"/>
            <a:ext cx="914400" cy="1243080"/>
          </a:xfrm>
          <a:custGeom>
            <a:avLst/>
            <a:gdLst/>
            <a:ahLst/>
            <a:rect l="l" t="t" r="r" b="b"/>
            <a:pathLst>
              <a:path w="905" h="633">
                <a:moveTo>
                  <a:pt x="0" y="633"/>
                </a:moveTo>
                <a:cubicBezTo>
                  <a:pt x="0" y="120"/>
                  <a:pt x="0" y="120"/>
                  <a:pt x="0" y="120"/>
                </a:cubicBezTo>
                <a:cubicBezTo>
                  <a:pt x="0" y="54"/>
                  <a:pt x="54" y="0"/>
                  <a:pt x="120" y="0"/>
                </a:cubicBezTo>
                <a:cubicBezTo>
                  <a:pt x="905" y="0"/>
                  <a:pt x="905" y="0"/>
                  <a:pt x="905"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4" name="Freeform 54"/>
          <p:cNvSpPr/>
          <p:nvPr/>
        </p:nvSpPr>
        <p:spPr>
          <a:xfrm>
            <a:off x="4548240" y="3932280"/>
            <a:ext cx="1049400" cy="1419120"/>
          </a:xfrm>
          <a:custGeom>
            <a:avLst/>
            <a:gdLst/>
            <a:ahLst/>
            <a:rect l="l" t="t" r="r" b="b"/>
            <a:pathLst>
              <a:path w="587" h="792">
                <a:moveTo>
                  <a:pt x="587" y="792"/>
                </a:moveTo>
                <a:cubicBezTo>
                  <a:pt x="587" y="120"/>
                  <a:pt x="587" y="120"/>
                  <a:pt x="587" y="120"/>
                </a:cubicBezTo>
                <a:cubicBezTo>
                  <a:pt x="587" y="54"/>
                  <a:pt x="533" y="0"/>
                  <a:pt x="467"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5" name="Freeform 55"/>
          <p:cNvSpPr/>
          <p:nvPr/>
        </p:nvSpPr>
        <p:spPr>
          <a:xfrm>
            <a:off x="3968640" y="4681440"/>
            <a:ext cx="1525680" cy="1086120"/>
          </a:xfrm>
          <a:custGeom>
            <a:avLst/>
            <a:gdLst/>
            <a:ahLst/>
            <a:rect l="l" t="t" r="r" b="b"/>
            <a:pathLst>
              <a:path w="853" h="607">
                <a:moveTo>
                  <a:pt x="853" y="607"/>
                </a:moveTo>
                <a:cubicBezTo>
                  <a:pt x="853" y="120"/>
                  <a:pt x="853" y="120"/>
                  <a:pt x="853" y="120"/>
                </a:cubicBezTo>
                <a:cubicBezTo>
                  <a:pt x="853" y="54"/>
                  <a:pt x="799" y="0"/>
                  <a:pt x="733"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6" name="Freeform 56"/>
          <p:cNvSpPr/>
          <p:nvPr/>
        </p:nvSpPr>
        <p:spPr>
          <a:xfrm>
            <a:off x="5940360" y="2727360"/>
            <a:ext cx="976320" cy="2359080"/>
          </a:xfrm>
          <a:custGeom>
            <a:avLst/>
            <a:gdLst/>
            <a:ahLst/>
            <a:rect l="l" t="t" r="r" b="b"/>
            <a:pathLst>
              <a:path w="558" h="634">
                <a:moveTo>
                  <a:pt x="0" y="634"/>
                </a:moveTo>
                <a:cubicBezTo>
                  <a:pt x="0" y="120"/>
                  <a:pt x="0" y="120"/>
                  <a:pt x="0" y="120"/>
                </a:cubicBezTo>
                <a:cubicBezTo>
                  <a:pt x="0" y="54"/>
                  <a:pt x="54" y="0"/>
                  <a:pt x="120" y="0"/>
                </a:cubicBezTo>
                <a:cubicBezTo>
                  <a:pt x="558" y="0"/>
                  <a:pt x="558" y="0"/>
                  <a:pt x="558"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7" name="Freeform 57"/>
          <p:cNvSpPr/>
          <p:nvPr/>
        </p:nvSpPr>
        <p:spPr>
          <a:xfrm>
            <a:off x="4579920" y="2719440"/>
            <a:ext cx="1138320" cy="2717640"/>
          </a:xfrm>
          <a:custGeom>
            <a:avLst/>
            <a:gdLst/>
            <a:ahLst/>
            <a:rect l="l" t="t" r="r" b="b"/>
            <a:pathLst>
              <a:path w="659" h="1322">
                <a:moveTo>
                  <a:pt x="659" y="1322"/>
                </a:moveTo>
                <a:cubicBezTo>
                  <a:pt x="659" y="120"/>
                  <a:pt x="659" y="120"/>
                  <a:pt x="659" y="120"/>
                </a:cubicBezTo>
                <a:cubicBezTo>
                  <a:pt x="659" y="54"/>
                  <a:pt x="605" y="0"/>
                  <a:pt x="540" y="0"/>
                </a:cubicBezTo>
                <a:cubicBezTo>
                  <a:pt x="0" y="0"/>
                  <a:pt x="0" y="0"/>
                  <a:pt x="0" y="0"/>
                </a:cubicBezTo>
              </a:path>
            </a:pathLst>
          </a:custGeom>
          <a:noFill/>
          <a:ln w="1584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8" name="Oval 58"/>
          <p:cNvSpPr/>
          <p:nvPr/>
        </p:nvSpPr>
        <p:spPr>
          <a:xfrm>
            <a:off x="5180040" y="5019840"/>
            <a:ext cx="1322280" cy="1323720"/>
          </a:xfrm>
          <a:prstGeom prst="ellipse">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9" name="Oval 66"/>
          <p:cNvSpPr/>
          <p:nvPr/>
        </p:nvSpPr>
        <p:spPr>
          <a:xfrm>
            <a:off x="6172200" y="2708280"/>
            <a:ext cx="103320" cy="103320"/>
          </a:xfrm>
          <a:prstGeom prst="ellipse">
            <a:avLst/>
          </a:prstGeom>
          <a:solidFill>
            <a:srgbClr val="c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0" name="Oval 67"/>
          <p:cNvSpPr/>
          <p:nvPr/>
        </p:nvSpPr>
        <p:spPr>
          <a:xfrm>
            <a:off x="6230880" y="3773520"/>
            <a:ext cx="101520" cy="103320"/>
          </a:xfrm>
          <a:prstGeom prst="ellipse">
            <a:avLst/>
          </a:prstGeom>
          <a:solidFill>
            <a:srgbClr val="92d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1" name="Oval 68"/>
          <p:cNvSpPr/>
          <p:nvPr/>
        </p:nvSpPr>
        <p:spPr>
          <a:xfrm>
            <a:off x="6159600" y="4809960"/>
            <a:ext cx="1000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2" name="Oval 69"/>
          <p:cNvSpPr/>
          <p:nvPr/>
        </p:nvSpPr>
        <p:spPr>
          <a:xfrm>
            <a:off x="5757840" y="4000680"/>
            <a:ext cx="10008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3" name="Oval 70"/>
          <p:cNvSpPr/>
          <p:nvPr/>
        </p:nvSpPr>
        <p:spPr>
          <a:xfrm>
            <a:off x="6004080" y="4264200"/>
            <a:ext cx="101520" cy="102960"/>
          </a:xfrm>
          <a:prstGeom prst="ellipse">
            <a:avLst/>
          </a:prstGeom>
          <a:solidFill>
            <a:srgbClr val="bfbfb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4" name="Oval 71"/>
          <p:cNvSpPr/>
          <p:nvPr/>
        </p:nvSpPr>
        <p:spPr>
          <a:xfrm>
            <a:off x="6545160" y="4879800"/>
            <a:ext cx="101880" cy="100080"/>
          </a:xfrm>
          <a:prstGeom prst="ellipse">
            <a:avLst/>
          </a:prstGeom>
          <a:solidFill>
            <a:srgbClr val="ff9a9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5" name="Oval 72"/>
          <p:cNvSpPr/>
          <p:nvPr/>
        </p:nvSpPr>
        <p:spPr>
          <a:xfrm>
            <a:off x="5772240" y="2630520"/>
            <a:ext cx="98280" cy="103320"/>
          </a:xfrm>
          <a:prstGeom prst="ellipse">
            <a:avLst/>
          </a:prstGeom>
          <a:solidFill>
            <a:srgbClr val="00b05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6" name="Oval 73"/>
          <p:cNvSpPr/>
          <p:nvPr/>
        </p:nvSpPr>
        <p:spPr>
          <a:xfrm>
            <a:off x="5446800" y="2681280"/>
            <a:ext cx="100080" cy="100080"/>
          </a:xfrm>
          <a:prstGeom prst="ellipse">
            <a:avLst/>
          </a:prstGeom>
          <a:solidFill>
            <a:srgbClr val="5555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7" name="Oval 74"/>
          <p:cNvSpPr/>
          <p:nvPr/>
        </p:nvSpPr>
        <p:spPr>
          <a:xfrm>
            <a:off x="5375160" y="3909960"/>
            <a:ext cx="100080" cy="103320"/>
          </a:xfrm>
          <a:prstGeom prst="ellipse">
            <a:avLst/>
          </a:prstGeom>
          <a:solidFill>
            <a:srgbClr val="ffc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8" name="Oval 75"/>
          <p:cNvSpPr/>
          <p:nvPr/>
        </p:nvSpPr>
        <p:spPr>
          <a:xfrm>
            <a:off x="4965840" y="4664160"/>
            <a:ext cx="99720" cy="100080"/>
          </a:xfrm>
          <a:prstGeom prst="ellipse">
            <a:avLst/>
          </a:prstGeom>
          <a:solidFill>
            <a:srgbClr val="5b9bd4"/>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9" name="Oval 76"/>
          <p:cNvSpPr/>
          <p:nvPr/>
        </p:nvSpPr>
        <p:spPr>
          <a:xfrm>
            <a:off x="5770440" y="5048280"/>
            <a:ext cx="103320" cy="101520"/>
          </a:xfrm>
          <a:prstGeom prst="ellipse">
            <a:avLst/>
          </a:prstGeom>
          <a:solidFill>
            <a:srgbClr val="bfbfb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0" name="Freeform 27"/>
          <p:cNvSpPr/>
          <p:nvPr/>
        </p:nvSpPr>
        <p:spPr>
          <a:xfrm>
            <a:off x="5494320" y="5176800"/>
            <a:ext cx="642960" cy="798480"/>
          </a:xfrm>
          <a:custGeom>
            <a:avLst/>
            <a:gdLst/>
            <a:ahLst/>
            <a:rect l="l" t="t" r="r" b="b"/>
            <a:pathLst>
              <a:path w="2659" h="3500">
                <a:moveTo>
                  <a:pt x="769" y="2381"/>
                </a:moveTo>
                <a:lnTo>
                  <a:pt x="739" y="2394"/>
                </a:lnTo>
                <a:lnTo>
                  <a:pt x="707" y="2403"/>
                </a:lnTo>
                <a:lnTo>
                  <a:pt x="676" y="2412"/>
                </a:lnTo>
                <a:lnTo>
                  <a:pt x="647" y="2418"/>
                </a:lnTo>
                <a:lnTo>
                  <a:pt x="618" y="2422"/>
                </a:lnTo>
                <a:lnTo>
                  <a:pt x="593" y="2426"/>
                </a:lnTo>
                <a:lnTo>
                  <a:pt x="572" y="2428"/>
                </a:lnTo>
                <a:lnTo>
                  <a:pt x="556" y="2429"/>
                </a:lnTo>
                <a:lnTo>
                  <a:pt x="544" y="2430"/>
                </a:lnTo>
                <a:lnTo>
                  <a:pt x="540" y="2430"/>
                </a:lnTo>
                <a:lnTo>
                  <a:pt x="492" y="2433"/>
                </a:lnTo>
                <a:lnTo>
                  <a:pt x="446" y="2442"/>
                </a:lnTo>
                <a:lnTo>
                  <a:pt x="402" y="2455"/>
                </a:lnTo>
                <a:lnTo>
                  <a:pt x="360" y="2474"/>
                </a:lnTo>
                <a:lnTo>
                  <a:pt x="322" y="2499"/>
                </a:lnTo>
                <a:lnTo>
                  <a:pt x="286" y="2526"/>
                </a:lnTo>
                <a:lnTo>
                  <a:pt x="254" y="2559"/>
                </a:lnTo>
                <a:lnTo>
                  <a:pt x="226" y="2594"/>
                </a:lnTo>
                <a:lnTo>
                  <a:pt x="202" y="2633"/>
                </a:lnTo>
                <a:lnTo>
                  <a:pt x="183" y="2675"/>
                </a:lnTo>
                <a:lnTo>
                  <a:pt x="169" y="2719"/>
                </a:lnTo>
                <a:lnTo>
                  <a:pt x="161" y="2765"/>
                </a:lnTo>
                <a:lnTo>
                  <a:pt x="158" y="2813"/>
                </a:lnTo>
                <a:lnTo>
                  <a:pt x="158" y="3342"/>
                </a:lnTo>
                <a:lnTo>
                  <a:pt x="2502" y="3342"/>
                </a:lnTo>
                <a:lnTo>
                  <a:pt x="2502" y="2813"/>
                </a:lnTo>
                <a:lnTo>
                  <a:pt x="2499" y="2765"/>
                </a:lnTo>
                <a:lnTo>
                  <a:pt x="2491" y="2719"/>
                </a:lnTo>
                <a:lnTo>
                  <a:pt x="2476" y="2675"/>
                </a:lnTo>
                <a:lnTo>
                  <a:pt x="2457" y="2633"/>
                </a:lnTo>
                <a:lnTo>
                  <a:pt x="2433" y="2594"/>
                </a:lnTo>
                <a:lnTo>
                  <a:pt x="2405" y="2559"/>
                </a:lnTo>
                <a:lnTo>
                  <a:pt x="2373" y="2526"/>
                </a:lnTo>
                <a:lnTo>
                  <a:pt x="2338" y="2499"/>
                </a:lnTo>
                <a:lnTo>
                  <a:pt x="2299" y="2474"/>
                </a:lnTo>
                <a:lnTo>
                  <a:pt x="2258" y="2455"/>
                </a:lnTo>
                <a:lnTo>
                  <a:pt x="2213" y="2442"/>
                </a:lnTo>
                <a:lnTo>
                  <a:pt x="2167" y="2433"/>
                </a:lnTo>
                <a:lnTo>
                  <a:pt x="2119" y="2430"/>
                </a:lnTo>
                <a:lnTo>
                  <a:pt x="2115" y="2430"/>
                </a:lnTo>
                <a:lnTo>
                  <a:pt x="2102" y="2430"/>
                </a:lnTo>
                <a:lnTo>
                  <a:pt x="2084" y="2428"/>
                </a:lnTo>
                <a:lnTo>
                  <a:pt x="2060" y="2426"/>
                </a:lnTo>
                <a:lnTo>
                  <a:pt x="2031" y="2421"/>
                </a:lnTo>
                <a:lnTo>
                  <a:pt x="1999" y="2415"/>
                </a:lnTo>
                <a:lnTo>
                  <a:pt x="1965" y="2407"/>
                </a:lnTo>
                <a:lnTo>
                  <a:pt x="1927" y="2396"/>
                </a:lnTo>
                <a:lnTo>
                  <a:pt x="1890" y="2381"/>
                </a:lnTo>
                <a:lnTo>
                  <a:pt x="1469" y="2981"/>
                </a:lnTo>
                <a:lnTo>
                  <a:pt x="1452" y="3003"/>
                </a:lnTo>
                <a:lnTo>
                  <a:pt x="1431" y="3021"/>
                </a:lnTo>
                <a:lnTo>
                  <a:pt x="1409" y="3034"/>
                </a:lnTo>
                <a:lnTo>
                  <a:pt x="1383" y="3045"/>
                </a:lnTo>
                <a:lnTo>
                  <a:pt x="1357" y="3051"/>
                </a:lnTo>
                <a:lnTo>
                  <a:pt x="1329" y="3055"/>
                </a:lnTo>
                <a:lnTo>
                  <a:pt x="1302" y="3051"/>
                </a:lnTo>
                <a:lnTo>
                  <a:pt x="1275" y="3045"/>
                </a:lnTo>
                <a:lnTo>
                  <a:pt x="1251" y="3034"/>
                </a:lnTo>
                <a:lnTo>
                  <a:pt x="1228" y="3021"/>
                </a:lnTo>
                <a:lnTo>
                  <a:pt x="1208" y="3003"/>
                </a:lnTo>
                <a:lnTo>
                  <a:pt x="1190" y="2981"/>
                </a:lnTo>
                <a:lnTo>
                  <a:pt x="769" y="2381"/>
                </a:lnTo>
                <a:close/>
                <a:moveTo>
                  <a:pt x="1135" y="1929"/>
                </a:moveTo>
                <a:lnTo>
                  <a:pt x="1121" y="1984"/>
                </a:lnTo>
                <a:lnTo>
                  <a:pt x="1103" y="2038"/>
                </a:lnTo>
                <a:lnTo>
                  <a:pt x="1080" y="2089"/>
                </a:lnTo>
                <a:lnTo>
                  <a:pt x="1053" y="2138"/>
                </a:lnTo>
                <a:lnTo>
                  <a:pt x="1021" y="2184"/>
                </a:lnTo>
                <a:lnTo>
                  <a:pt x="986" y="2226"/>
                </a:lnTo>
                <a:lnTo>
                  <a:pt x="947" y="2265"/>
                </a:lnTo>
                <a:lnTo>
                  <a:pt x="906" y="2302"/>
                </a:lnTo>
                <a:lnTo>
                  <a:pt x="1319" y="2890"/>
                </a:lnTo>
                <a:lnTo>
                  <a:pt x="1322" y="2893"/>
                </a:lnTo>
                <a:lnTo>
                  <a:pt x="1325" y="2895"/>
                </a:lnTo>
                <a:lnTo>
                  <a:pt x="1329" y="2897"/>
                </a:lnTo>
                <a:lnTo>
                  <a:pt x="1334" y="2895"/>
                </a:lnTo>
                <a:lnTo>
                  <a:pt x="1338" y="2893"/>
                </a:lnTo>
                <a:lnTo>
                  <a:pt x="1341" y="2890"/>
                </a:lnTo>
                <a:lnTo>
                  <a:pt x="1754" y="2302"/>
                </a:lnTo>
                <a:lnTo>
                  <a:pt x="1712" y="2265"/>
                </a:lnTo>
                <a:lnTo>
                  <a:pt x="1673" y="2226"/>
                </a:lnTo>
                <a:lnTo>
                  <a:pt x="1637" y="2184"/>
                </a:lnTo>
                <a:lnTo>
                  <a:pt x="1607" y="2138"/>
                </a:lnTo>
                <a:lnTo>
                  <a:pt x="1579" y="2089"/>
                </a:lnTo>
                <a:lnTo>
                  <a:pt x="1557" y="2038"/>
                </a:lnTo>
                <a:lnTo>
                  <a:pt x="1538" y="1985"/>
                </a:lnTo>
                <a:lnTo>
                  <a:pt x="1525" y="1929"/>
                </a:lnTo>
                <a:lnTo>
                  <a:pt x="1478" y="1945"/>
                </a:lnTo>
                <a:lnTo>
                  <a:pt x="1429" y="1956"/>
                </a:lnTo>
                <a:lnTo>
                  <a:pt x="1380" y="1962"/>
                </a:lnTo>
                <a:lnTo>
                  <a:pt x="1329" y="1964"/>
                </a:lnTo>
                <a:lnTo>
                  <a:pt x="1280" y="1962"/>
                </a:lnTo>
                <a:lnTo>
                  <a:pt x="1230" y="1955"/>
                </a:lnTo>
                <a:lnTo>
                  <a:pt x="1181" y="1944"/>
                </a:lnTo>
                <a:lnTo>
                  <a:pt x="1135" y="1929"/>
                </a:lnTo>
                <a:close/>
                <a:moveTo>
                  <a:pt x="992" y="806"/>
                </a:moveTo>
                <a:lnTo>
                  <a:pt x="964" y="867"/>
                </a:lnTo>
                <a:lnTo>
                  <a:pt x="931" y="925"/>
                </a:lnTo>
                <a:lnTo>
                  <a:pt x="895" y="980"/>
                </a:lnTo>
                <a:lnTo>
                  <a:pt x="855" y="1032"/>
                </a:lnTo>
                <a:lnTo>
                  <a:pt x="811" y="1082"/>
                </a:lnTo>
                <a:lnTo>
                  <a:pt x="763" y="1127"/>
                </a:lnTo>
                <a:lnTo>
                  <a:pt x="773" y="1196"/>
                </a:lnTo>
                <a:lnTo>
                  <a:pt x="787" y="1263"/>
                </a:lnTo>
                <a:lnTo>
                  <a:pt x="805" y="1328"/>
                </a:lnTo>
                <a:lnTo>
                  <a:pt x="828" y="1390"/>
                </a:lnTo>
                <a:lnTo>
                  <a:pt x="854" y="1450"/>
                </a:lnTo>
                <a:lnTo>
                  <a:pt x="884" y="1506"/>
                </a:lnTo>
                <a:lnTo>
                  <a:pt x="917" y="1558"/>
                </a:lnTo>
                <a:lnTo>
                  <a:pt x="954" y="1608"/>
                </a:lnTo>
                <a:lnTo>
                  <a:pt x="994" y="1652"/>
                </a:lnTo>
                <a:lnTo>
                  <a:pt x="1037" y="1693"/>
                </a:lnTo>
                <a:lnTo>
                  <a:pt x="1082" y="1727"/>
                </a:lnTo>
                <a:lnTo>
                  <a:pt x="1129" y="1755"/>
                </a:lnTo>
                <a:lnTo>
                  <a:pt x="1178" y="1778"/>
                </a:lnTo>
                <a:lnTo>
                  <a:pt x="1228" y="1793"/>
                </a:lnTo>
                <a:lnTo>
                  <a:pt x="1279" y="1803"/>
                </a:lnTo>
                <a:lnTo>
                  <a:pt x="1329" y="1806"/>
                </a:lnTo>
                <a:lnTo>
                  <a:pt x="1382" y="1803"/>
                </a:lnTo>
                <a:lnTo>
                  <a:pt x="1433" y="1793"/>
                </a:lnTo>
                <a:lnTo>
                  <a:pt x="1482" y="1778"/>
                </a:lnTo>
                <a:lnTo>
                  <a:pt x="1529" y="1756"/>
                </a:lnTo>
                <a:lnTo>
                  <a:pt x="1576" y="1729"/>
                </a:lnTo>
                <a:lnTo>
                  <a:pt x="1619" y="1696"/>
                </a:lnTo>
                <a:lnTo>
                  <a:pt x="1661" y="1659"/>
                </a:lnTo>
                <a:lnTo>
                  <a:pt x="1700" y="1616"/>
                </a:lnTo>
                <a:lnTo>
                  <a:pt x="1736" y="1570"/>
                </a:lnTo>
                <a:lnTo>
                  <a:pt x="1769" y="1519"/>
                </a:lnTo>
                <a:lnTo>
                  <a:pt x="1798" y="1465"/>
                </a:lnTo>
                <a:lnTo>
                  <a:pt x="1826" y="1406"/>
                </a:lnTo>
                <a:lnTo>
                  <a:pt x="1849" y="1345"/>
                </a:lnTo>
                <a:lnTo>
                  <a:pt x="1868" y="1281"/>
                </a:lnTo>
                <a:lnTo>
                  <a:pt x="1883" y="1213"/>
                </a:lnTo>
                <a:lnTo>
                  <a:pt x="1895" y="1144"/>
                </a:lnTo>
                <a:lnTo>
                  <a:pt x="1902" y="1073"/>
                </a:lnTo>
                <a:lnTo>
                  <a:pt x="1904" y="999"/>
                </a:lnTo>
                <a:lnTo>
                  <a:pt x="1904" y="998"/>
                </a:lnTo>
                <a:lnTo>
                  <a:pt x="1889" y="972"/>
                </a:lnTo>
                <a:lnTo>
                  <a:pt x="1870" y="947"/>
                </a:lnTo>
                <a:lnTo>
                  <a:pt x="1849" y="927"/>
                </a:lnTo>
                <a:lnTo>
                  <a:pt x="1824" y="910"/>
                </a:lnTo>
                <a:lnTo>
                  <a:pt x="1795" y="897"/>
                </a:lnTo>
                <a:lnTo>
                  <a:pt x="1766" y="890"/>
                </a:lnTo>
                <a:lnTo>
                  <a:pt x="1734" y="887"/>
                </a:lnTo>
                <a:lnTo>
                  <a:pt x="1198" y="887"/>
                </a:lnTo>
                <a:lnTo>
                  <a:pt x="1158" y="885"/>
                </a:lnTo>
                <a:lnTo>
                  <a:pt x="1121" y="877"/>
                </a:lnTo>
                <a:lnTo>
                  <a:pt x="1084" y="865"/>
                </a:lnTo>
                <a:lnTo>
                  <a:pt x="1049" y="848"/>
                </a:lnTo>
                <a:lnTo>
                  <a:pt x="1016" y="827"/>
                </a:lnTo>
                <a:lnTo>
                  <a:pt x="992" y="806"/>
                </a:lnTo>
                <a:close/>
                <a:moveTo>
                  <a:pt x="1396" y="158"/>
                </a:moveTo>
                <a:lnTo>
                  <a:pt x="1344" y="160"/>
                </a:lnTo>
                <a:lnTo>
                  <a:pt x="1293" y="168"/>
                </a:lnTo>
                <a:lnTo>
                  <a:pt x="1243" y="180"/>
                </a:lnTo>
                <a:lnTo>
                  <a:pt x="1193" y="198"/>
                </a:lnTo>
                <a:lnTo>
                  <a:pt x="1145" y="221"/>
                </a:lnTo>
                <a:lnTo>
                  <a:pt x="1129" y="227"/>
                </a:lnTo>
                <a:lnTo>
                  <a:pt x="1112" y="230"/>
                </a:lnTo>
                <a:lnTo>
                  <a:pt x="1066" y="234"/>
                </a:lnTo>
                <a:lnTo>
                  <a:pt x="1021" y="244"/>
                </a:lnTo>
                <a:lnTo>
                  <a:pt x="978" y="260"/>
                </a:lnTo>
                <a:lnTo>
                  <a:pt x="936" y="281"/>
                </a:lnTo>
                <a:lnTo>
                  <a:pt x="896" y="305"/>
                </a:lnTo>
                <a:lnTo>
                  <a:pt x="860" y="335"/>
                </a:lnTo>
                <a:lnTo>
                  <a:pt x="828" y="368"/>
                </a:lnTo>
                <a:lnTo>
                  <a:pt x="797" y="405"/>
                </a:lnTo>
                <a:lnTo>
                  <a:pt x="769" y="445"/>
                </a:lnTo>
                <a:lnTo>
                  <a:pt x="746" y="489"/>
                </a:lnTo>
                <a:lnTo>
                  <a:pt x="725" y="536"/>
                </a:lnTo>
                <a:lnTo>
                  <a:pt x="708" y="584"/>
                </a:lnTo>
                <a:lnTo>
                  <a:pt x="695" y="635"/>
                </a:lnTo>
                <a:lnTo>
                  <a:pt x="686" y="688"/>
                </a:lnTo>
                <a:lnTo>
                  <a:pt x="681" y="742"/>
                </a:lnTo>
                <a:lnTo>
                  <a:pt x="679" y="798"/>
                </a:lnTo>
                <a:lnTo>
                  <a:pt x="682" y="854"/>
                </a:lnTo>
                <a:lnTo>
                  <a:pt x="689" y="911"/>
                </a:lnTo>
                <a:lnTo>
                  <a:pt x="701" y="968"/>
                </a:lnTo>
                <a:lnTo>
                  <a:pt x="742" y="923"/>
                </a:lnTo>
                <a:lnTo>
                  <a:pt x="778" y="873"/>
                </a:lnTo>
                <a:lnTo>
                  <a:pt x="810" y="821"/>
                </a:lnTo>
                <a:lnTo>
                  <a:pt x="838" y="766"/>
                </a:lnTo>
                <a:lnTo>
                  <a:pt x="860" y="708"/>
                </a:lnTo>
                <a:lnTo>
                  <a:pt x="878" y="649"/>
                </a:lnTo>
                <a:lnTo>
                  <a:pt x="886" y="630"/>
                </a:lnTo>
                <a:lnTo>
                  <a:pt x="896" y="613"/>
                </a:lnTo>
                <a:lnTo>
                  <a:pt x="911" y="599"/>
                </a:lnTo>
                <a:lnTo>
                  <a:pt x="927" y="589"/>
                </a:lnTo>
                <a:lnTo>
                  <a:pt x="946" y="581"/>
                </a:lnTo>
                <a:lnTo>
                  <a:pt x="966" y="577"/>
                </a:lnTo>
                <a:lnTo>
                  <a:pt x="986" y="578"/>
                </a:lnTo>
                <a:lnTo>
                  <a:pt x="1007" y="583"/>
                </a:lnTo>
                <a:lnTo>
                  <a:pt x="1024" y="592"/>
                </a:lnTo>
                <a:lnTo>
                  <a:pt x="1039" y="605"/>
                </a:lnTo>
                <a:lnTo>
                  <a:pt x="1052" y="619"/>
                </a:lnTo>
                <a:lnTo>
                  <a:pt x="1062" y="637"/>
                </a:lnTo>
                <a:lnTo>
                  <a:pt x="1074" y="662"/>
                </a:lnTo>
                <a:lnTo>
                  <a:pt x="1090" y="683"/>
                </a:lnTo>
                <a:lnTo>
                  <a:pt x="1110" y="700"/>
                </a:lnTo>
                <a:lnTo>
                  <a:pt x="1130" y="713"/>
                </a:lnTo>
                <a:lnTo>
                  <a:pt x="1152" y="722"/>
                </a:lnTo>
                <a:lnTo>
                  <a:pt x="1174" y="728"/>
                </a:lnTo>
                <a:lnTo>
                  <a:pt x="1198" y="730"/>
                </a:lnTo>
                <a:lnTo>
                  <a:pt x="1734" y="730"/>
                </a:lnTo>
                <a:lnTo>
                  <a:pt x="1780" y="733"/>
                </a:lnTo>
                <a:lnTo>
                  <a:pt x="1826" y="742"/>
                </a:lnTo>
                <a:lnTo>
                  <a:pt x="1868" y="757"/>
                </a:lnTo>
                <a:lnTo>
                  <a:pt x="1908" y="777"/>
                </a:lnTo>
                <a:lnTo>
                  <a:pt x="1945" y="803"/>
                </a:lnTo>
                <a:lnTo>
                  <a:pt x="1978" y="833"/>
                </a:lnTo>
                <a:lnTo>
                  <a:pt x="1979" y="801"/>
                </a:lnTo>
                <a:lnTo>
                  <a:pt x="1976" y="735"/>
                </a:lnTo>
                <a:lnTo>
                  <a:pt x="1968" y="671"/>
                </a:lnTo>
                <a:lnTo>
                  <a:pt x="1953" y="610"/>
                </a:lnTo>
                <a:lnTo>
                  <a:pt x="1934" y="550"/>
                </a:lnTo>
                <a:lnTo>
                  <a:pt x="1908" y="494"/>
                </a:lnTo>
                <a:lnTo>
                  <a:pt x="1880" y="441"/>
                </a:lnTo>
                <a:lnTo>
                  <a:pt x="1846" y="391"/>
                </a:lnTo>
                <a:lnTo>
                  <a:pt x="1808" y="346"/>
                </a:lnTo>
                <a:lnTo>
                  <a:pt x="1767" y="304"/>
                </a:lnTo>
                <a:lnTo>
                  <a:pt x="1722" y="267"/>
                </a:lnTo>
                <a:lnTo>
                  <a:pt x="1673" y="235"/>
                </a:lnTo>
                <a:lnTo>
                  <a:pt x="1623" y="208"/>
                </a:lnTo>
                <a:lnTo>
                  <a:pt x="1569" y="187"/>
                </a:lnTo>
                <a:lnTo>
                  <a:pt x="1514" y="171"/>
                </a:lnTo>
                <a:lnTo>
                  <a:pt x="1455" y="161"/>
                </a:lnTo>
                <a:lnTo>
                  <a:pt x="1396" y="158"/>
                </a:lnTo>
                <a:close/>
                <a:moveTo>
                  <a:pt x="1396" y="0"/>
                </a:moveTo>
                <a:lnTo>
                  <a:pt x="1463" y="3"/>
                </a:lnTo>
                <a:lnTo>
                  <a:pt x="1528" y="13"/>
                </a:lnTo>
                <a:lnTo>
                  <a:pt x="1593" y="29"/>
                </a:lnTo>
                <a:lnTo>
                  <a:pt x="1654" y="50"/>
                </a:lnTo>
                <a:lnTo>
                  <a:pt x="1713" y="77"/>
                </a:lnTo>
                <a:lnTo>
                  <a:pt x="1770" y="109"/>
                </a:lnTo>
                <a:lnTo>
                  <a:pt x="1823" y="146"/>
                </a:lnTo>
                <a:lnTo>
                  <a:pt x="1872" y="189"/>
                </a:lnTo>
                <a:lnTo>
                  <a:pt x="1919" y="234"/>
                </a:lnTo>
                <a:lnTo>
                  <a:pt x="1962" y="285"/>
                </a:lnTo>
                <a:lnTo>
                  <a:pt x="2000" y="339"/>
                </a:lnTo>
                <a:lnTo>
                  <a:pt x="2035" y="397"/>
                </a:lnTo>
                <a:lnTo>
                  <a:pt x="2065" y="458"/>
                </a:lnTo>
                <a:lnTo>
                  <a:pt x="2090" y="522"/>
                </a:lnTo>
                <a:lnTo>
                  <a:pt x="2111" y="589"/>
                </a:lnTo>
                <a:lnTo>
                  <a:pt x="2124" y="657"/>
                </a:lnTo>
                <a:lnTo>
                  <a:pt x="2134" y="728"/>
                </a:lnTo>
                <a:lnTo>
                  <a:pt x="2137" y="801"/>
                </a:lnTo>
                <a:lnTo>
                  <a:pt x="2134" y="870"/>
                </a:lnTo>
                <a:lnTo>
                  <a:pt x="2126" y="937"/>
                </a:lnTo>
                <a:lnTo>
                  <a:pt x="2113" y="1003"/>
                </a:lnTo>
                <a:lnTo>
                  <a:pt x="2095" y="1068"/>
                </a:lnTo>
                <a:lnTo>
                  <a:pt x="2071" y="1131"/>
                </a:lnTo>
                <a:lnTo>
                  <a:pt x="2063" y="1147"/>
                </a:lnTo>
                <a:lnTo>
                  <a:pt x="2051" y="1158"/>
                </a:lnTo>
                <a:lnTo>
                  <a:pt x="2041" y="1230"/>
                </a:lnTo>
                <a:lnTo>
                  <a:pt x="2025" y="1300"/>
                </a:lnTo>
                <a:lnTo>
                  <a:pt x="2006" y="1368"/>
                </a:lnTo>
                <a:lnTo>
                  <a:pt x="1984" y="1435"/>
                </a:lnTo>
                <a:lnTo>
                  <a:pt x="1957" y="1499"/>
                </a:lnTo>
                <a:lnTo>
                  <a:pt x="1926" y="1559"/>
                </a:lnTo>
                <a:lnTo>
                  <a:pt x="1893" y="1617"/>
                </a:lnTo>
                <a:lnTo>
                  <a:pt x="1854" y="1673"/>
                </a:lnTo>
                <a:lnTo>
                  <a:pt x="1813" y="1726"/>
                </a:lnTo>
                <a:lnTo>
                  <a:pt x="1769" y="1772"/>
                </a:lnTo>
                <a:lnTo>
                  <a:pt x="1722" y="1815"/>
                </a:lnTo>
                <a:lnTo>
                  <a:pt x="1673" y="1853"/>
                </a:lnTo>
                <a:lnTo>
                  <a:pt x="1682" y="1904"/>
                </a:lnTo>
                <a:lnTo>
                  <a:pt x="1695" y="1952"/>
                </a:lnTo>
                <a:lnTo>
                  <a:pt x="1710" y="1995"/>
                </a:lnTo>
                <a:lnTo>
                  <a:pt x="1728" y="2033"/>
                </a:lnTo>
                <a:lnTo>
                  <a:pt x="1749" y="2069"/>
                </a:lnTo>
                <a:lnTo>
                  <a:pt x="1771" y="2100"/>
                </a:lnTo>
                <a:lnTo>
                  <a:pt x="1794" y="2129"/>
                </a:lnTo>
                <a:lnTo>
                  <a:pt x="1819" y="2153"/>
                </a:lnTo>
                <a:lnTo>
                  <a:pt x="1846" y="2175"/>
                </a:lnTo>
                <a:lnTo>
                  <a:pt x="1872" y="2194"/>
                </a:lnTo>
                <a:lnTo>
                  <a:pt x="1900" y="2210"/>
                </a:lnTo>
                <a:lnTo>
                  <a:pt x="1926" y="2224"/>
                </a:lnTo>
                <a:lnTo>
                  <a:pt x="1954" y="2236"/>
                </a:lnTo>
                <a:lnTo>
                  <a:pt x="1980" y="2245"/>
                </a:lnTo>
                <a:lnTo>
                  <a:pt x="2005" y="2254"/>
                </a:lnTo>
                <a:lnTo>
                  <a:pt x="2029" y="2259"/>
                </a:lnTo>
                <a:lnTo>
                  <a:pt x="2051" y="2264"/>
                </a:lnTo>
                <a:lnTo>
                  <a:pt x="2072" y="2268"/>
                </a:lnTo>
                <a:lnTo>
                  <a:pt x="2090" y="2270"/>
                </a:lnTo>
                <a:lnTo>
                  <a:pt x="2106" y="2272"/>
                </a:lnTo>
                <a:lnTo>
                  <a:pt x="2119" y="2272"/>
                </a:lnTo>
                <a:lnTo>
                  <a:pt x="2130" y="2273"/>
                </a:lnTo>
                <a:lnTo>
                  <a:pt x="2135" y="2273"/>
                </a:lnTo>
                <a:lnTo>
                  <a:pt x="2138" y="2273"/>
                </a:lnTo>
                <a:lnTo>
                  <a:pt x="2195" y="2278"/>
                </a:lnTo>
                <a:lnTo>
                  <a:pt x="2250" y="2289"/>
                </a:lnTo>
                <a:lnTo>
                  <a:pt x="2303" y="2305"/>
                </a:lnTo>
                <a:lnTo>
                  <a:pt x="2354" y="2326"/>
                </a:lnTo>
                <a:lnTo>
                  <a:pt x="2402" y="2352"/>
                </a:lnTo>
                <a:lnTo>
                  <a:pt x="2446" y="2383"/>
                </a:lnTo>
                <a:lnTo>
                  <a:pt x="2487" y="2418"/>
                </a:lnTo>
                <a:lnTo>
                  <a:pt x="2526" y="2457"/>
                </a:lnTo>
                <a:lnTo>
                  <a:pt x="2558" y="2500"/>
                </a:lnTo>
                <a:lnTo>
                  <a:pt x="2588" y="2545"/>
                </a:lnTo>
                <a:lnTo>
                  <a:pt x="2613" y="2594"/>
                </a:lnTo>
                <a:lnTo>
                  <a:pt x="2632" y="2646"/>
                </a:lnTo>
                <a:lnTo>
                  <a:pt x="2647" y="2699"/>
                </a:lnTo>
                <a:lnTo>
                  <a:pt x="2656" y="2755"/>
                </a:lnTo>
                <a:lnTo>
                  <a:pt x="2659" y="2813"/>
                </a:lnTo>
                <a:lnTo>
                  <a:pt x="2659" y="3422"/>
                </a:lnTo>
                <a:lnTo>
                  <a:pt x="2657" y="3442"/>
                </a:lnTo>
                <a:lnTo>
                  <a:pt x="2648" y="3461"/>
                </a:lnTo>
                <a:lnTo>
                  <a:pt x="2636" y="3477"/>
                </a:lnTo>
                <a:lnTo>
                  <a:pt x="2620" y="3489"/>
                </a:lnTo>
                <a:lnTo>
                  <a:pt x="2602" y="3497"/>
                </a:lnTo>
                <a:lnTo>
                  <a:pt x="2581" y="3500"/>
                </a:lnTo>
                <a:lnTo>
                  <a:pt x="78" y="3500"/>
                </a:lnTo>
                <a:lnTo>
                  <a:pt x="58" y="3497"/>
                </a:lnTo>
                <a:lnTo>
                  <a:pt x="39" y="3489"/>
                </a:lnTo>
                <a:lnTo>
                  <a:pt x="23" y="3477"/>
                </a:lnTo>
                <a:lnTo>
                  <a:pt x="11" y="3461"/>
                </a:lnTo>
                <a:lnTo>
                  <a:pt x="3" y="3442"/>
                </a:lnTo>
                <a:lnTo>
                  <a:pt x="0" y="3422"/>
                </a:lnTo>
                <a:lnTo>
                  <a:pt x="0" y="2813"/>
                </a:lnTo>
                <a:lnTo>
                  <a:pt x="3" y="2755"/>
                </a:lnTo>
                <a:lnTo>
                  <a:pt x="12" y="2699"/>
                </a:lnTo>
                <a:lnTo>
                  <a:pt x="26" y="2646"/>
                </a:lnTo>
                <a:lnTo>
                  <a:pt x="47" y="2594"/>
                </a:lnTo>
                <a:lnTo>
                  <a:pt x="71" y="2545"/>
                </a:lnTo>
                <a:lnTo>
                  <a:pt x="100" y="2500"/>
                </a:lnTo>
                <a:lnTo>
                  <a:pt x="134" y="2457"/>
                </a:lnTo>
                <a:lnTo>
                  <a:pt x="171" y="2418"/>
                </a:lnTo>
                <a:lnTo>
                  <a:pt x="213" y="2383"/>
                </a:lnTo>
                <a:lnTo>
                  <a:pt x="258" y="2352"/>
                </a:lnTo>
                <a:lnTo>
                  <a:pt x="306" y="2326"/>
                </a:lnTo>
                <a:lnTo>
                  <a:pt x="357" y="2305"/>
                </a:lnTo>
                <a:lnTo>
                  <a:pt x="410" y="2289"/>
                </a:lnTo>
                <a:lnTo>
                  <a:pt x="465" y="2278"/>
                </a:lnTo>
                <a:lnTo>
                  <a:pt x="522" y="2273"/>
                </a:lnTo>
                <a:lnTo>
                  <a:pt x="524" y="2273"/>
                </a:lnTo>
                <a:lnTo>
                  <a:pt x="530" y="2273"/>
                </a:lnTo>
                <a:lnTo>
                  <a:pt x="540" y="2272"/>
                </a:lnTo>
                <a:lnTo>
                  <a:pt x="552" y="2272"/>
                </a:lnTo>
                <a:lnTo>
                  <a:pt x="568" y="2270"/>
                </a:lnTo>
                <a:lnTo>
                  <a:pt x="586" y="2268"/>
                </a:lnTo>
                <a:lnTo>
                  <a:pt x="608" y="2264"/>
                </a:lnTo>
                <a:lnTo>
                  <a:pt x="630" y="2259"/>
                </a:lnTo>
                <a:lnTo>
                  <a:pt x="654" y="2254"/>
                </a:lnTo>
                <a:lnTo>
                  <a:pt x="679" y="2245"/>
                </a:lnTo>
                <a:lnTo>
                  <a:pt x="706" y="2236"/>
                </a:lnTo>
                <a:lnTo>
                  <a:pt x="732" y="2224"/>
                </a:lnTo>
                <a:lnTo>
                  <a:pt x="760" y="2210"/>
                </a:lnTo>
                <a:lnTo>
                  <a:pt x="786" y="2194"/>
                </a:lnTo>
                <a:lnTo>
                  <a:pt x="814" y="2175"/>
                </a:lnTo>
                <a:lnTo>
                  <a:pt x="839" y="2153"/>
                </a:lnTo>
                <a:lnTo>
                  <a:pt x="865" y="2129"/>
                </a:lnTo>
                <a:lnTo>
                  <a:pt x="889" y="2100"/>
                </a:lnTo>
                <a:lnTo>
                  <a:pt x="911" y="2068"/>
                </a:lnTo>
                <a:lnTo>
                  <a:pt x="931" y="2033"/>
                </a:lnTo>
                <a:lnTo>
                  <a:pt x="949" y="1994"/>
                </a:lnTo>
                <a:lnTo>
                  <a:pt x="964" y="1952"/>
                </a:lnTo>
                <a:lnTo>
                  <a:pt x="977" y="1904"/>
                </a:lnTo>
                <a:lnTo>
                  <a:pt x="986" y="1852"/>
                </a:lnTo>
                <a:lnTo>
                  <a:pt x="935" y="1812"/>
                </a:lnTo>
                <a:lnTo>
                  <a:pt x="885" y="1767"/>
                </a:lnTo>
                <a:lnTo>
                  <a:pt x="839" y="1716"/>
                </a:lnTo>
                <a:lnTo>
                  <a:pt x="796" y="1661"/>
                </a:lnTo>
                <a:lnTo>
                  <a:pt x="757" y="1602"/>
                </a:lnTo>
                <a:lnTo>
                  <a:pt x="722" y="1538"/>
                </a:lnTo>
                <a:lnTo>
                  <a:pt x="690" y="1470"/>
                </a:lnTo>
                <a:lnTo>
                  <a:pt x="663" y="1398"/>
                </a:lnTo>
                <a:lnTo>
                  <a:pt x="640" y="1324"/>
                </a:lnTo>
                <a:lnTo>
                  <a:pt x="622" y="1245"/>
                </a:lnTo>
                <a:lnTo>
                  <a:pt x="609" y="1165"/>
                </a:lnTo>
                <a:lnTo>
                  <a:pt x="598" y="1152"/>
                </a:lnTo>
                <a:lnTo>
                  <a:pt x="591" y="1137"/>
                </a:lnTo>
                <a:lnTo>
                  <a:pt x="568" y="1078"/>
                </a:lnTo>
                <a:lnTo>
                  <a:pt x="550" y="1016"/>
                </a:lnTo>
                <a:lnTo>
                  <a:pt x="537" y="950"/>
                </a:lnTo>
                <a:lnTo>
                  <a:pt x="527" y="885"/>
                </a:lnTo>
                <a:lnTo>
                  <a:pt x="522" y="819"/>
                </a:lnTo>
                <a:lnTo>
                  <a:pt x="523" y="754"/>
                </a:lnTo>
                <a:lnTo>
                  <a:pt x="527" y="689"/>
                </a:lnTo>
                <a:lnTo>
                  <a:pt x="537" y="626"/>
                </a:lnTo>
                <a:lnTo>
                  <a:pt x="551" y="563"/>
                </a:lnTo>
                <a:lnTo>
                  <a:pt x="570" y="503"/>
                </a:lnTo>
                <a:lnTo>
                  <a:pt x="594" y="444"/>
                </a:lnTo>
                <a:lnTo>
                  <a:pt x="622" y="387"/>
                </a:lnTo>
                <a:lnTo>
                  <a:pt x="655" y="334"/>
                </a:lnTo>
                <a:lnTo>
                  <a:pt x="692" y="285"/>
                </a:lnTo>
                <a:lnTo>
                  <a:pt x="731" y="241"/>
                </a:lnTo>
                <a:lnTo>
                  <a:pt x="775" y="200"/>
                </a:lnTo>
                <a:lnTo>
                  <a:pt x="821" y="167"/>
                </a:lnTo>
                <a:lnTo>
                  <a:pt x="871" y="137"/>
                </a:lnTo>
                <a:lnTo>
                  <a:pt x="923" y="112"/>
                </a:lnTo>
                <a:lnTo>
                  <a:pt x="978" y="93"/>
                </a:lnTo>
                <a:lnTo>
                  <a:pt x="1032" y="81"/>
                </a:lnTo>
                <a:lnTo>
                  <a:pt x="1087" y="73"/>
                </a:lnTo>
                <a:lnTo>
                  <a:pt x="1146" y="47"/>
                </a:lnTo>
                <a:lnTo>
                  <a:pt x="1208" y="27"/>
                </a:lnTo>
                <a:lnTo>
                  <a:pt x="1269" y="12"/>
                </a:lnTo>
                <a:lnTo>
                  <a:pt x="1332" y="3"/>
                </a:lnTo>
                <a:lnTo>
                  <a:pt x="139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1" name="Inhaltsplatzhalter 4"/>
          <p:cNvSpPr/>
          <p:nvPr/>
        </p:nvSpPr>
        <p:spPr>
          <a:xfrm>
            <a:off x="266760" y="2075040"/>
            <a:ext cx="3840120" cy="82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3. </a:t>
            </a:r>
            <a:r>
              <a:rPr b="1" lang="zh-CN" sz="2400" spc="-1" strike="noStrike">
                <a:solidFill>
                  <a:srgbClr val="0070c0"/>
                </a:solidFill>
                <a:latin typeface="Arial"/>
                <a:ea typeface="宋体"/>
              </a:rPr>
              <a:t>审计工作中发现的问题。</a:t>
            </a:r>
            <a:endParaRPr b="1" lang="en-US" sz="2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具体包括： （</a:t>
            </a:r>
            <a:r>
              <a:rPr b="1" lang="en-US" sz="2000" spc="-1" strike="noStrike">
                <a:solidFill>
                  <a:srgbClr val="000000"/>
                </a:solidFill>
                <a:latin typeface="Arial"/>
              </a:rPr>
              <a:t>1</a:t>
            </a:r>
            <a:r>
              <a:rPr b="1" lang="zh-CN" sz="2000" spc="-1" strike="noStrike">
                <a:solidFill>
                  <a:srgbClr val="000000"/>
                </a:solidFill>
                <a:latin typeface="Arial"/>
                <a:ea typeface="宋体"/>
              </a:rPr>
              <a:t>）注册会计师对被审计单位会计处理质量的看法。 （</a:t>
            </a:r>
            <a:r>
              <a:rPr b="1" lang="en-US" sz="2000" spc="-1" strike="noStrike">
                <a:solidFill>
                  <a:srgbClr val="000000"/>
                </a:solidFill>
                <a:latin typeface="Arial"/>
              </a:rPr>
              <a:t>2</a:t>
            </a:r>
            <a:r>
              <a:rPr b="1" lang="zh-CN" sz="2000" spc="-1" strike="noStrike">
                <a:solidFill>
                  <a:srgbClr val="000000"/>
                </a:solidFill>
                <a:latin typeface="Arial"/>
                <a:ea typeface="宋体"/>
              </a:rPr>
              <a:t>）审计工作中遇到的重大困难。（</a:t>
            </a:r>
            <a:r>
              <a:rPr b="1" lang="en-US" sz="2000" spc="-1" strike="noStrike">
                <a:solidFill>
                  <a:srgbClr val="000000"/>
                </a:solidFill>
                <a:latin typeface="Arial"/>
              </a:rPr>
              <a:t>3</a:t>
            </a:r>
            <a:r>
              <a:rPr b="1" lang="zh-CN" sz="2000" spc="-1" strike="noStrike">
                <a:solidFill>
                  <a:srgbClr val="000000"/>
                </a:solidFill>
                <a:latin typeface="Arial"/>
                <a:ea typeface="宋体"/>
              </a:rPr>
              <a:t>）尚未更正的错报，除非注册会计师认为这些错报明显不重要。 （</a:t>
            </a:r>
            <a:r>
              <a:rPr b="1" lang="en-US" sz="2000" spc="-1" strike="noStrike">
                <a:solidFill>
                  <a:srgbClr val="000000"/>
                </a:solidFill>
                <a:latin typeface="Arial"/>
              </a:rPr>
              <a:t>4</a:t>
            </a:r>
            <a:r>
              <a:rPr b="1" lang="zh-CN" sz="2000" spc="-1" strike="noStrike">
                <a:solidFill>
                  <a:srgbClr val="000000"/>
                </a:solidFill>
                <a:latin typeface="Arial"/>
                <a:ea typeface="宋体"/>
              </a:rPr>
              <a:t>）审计中发现的、根据职业判断认为重大且与治理层履行财务报告过程监 督责任直接相关的其他事项。</a:t>
            </a:r>
            <a:endParaRPr b="1" lang="en-US" sz="2000" spc="-1" strike="noStrike">
              <a:solidFill>
                <a:srgbClr val="000000"/>
              </a:solidFill>
              <a:latin typeface="Arial"/>
            </a:endParaRPr>
          </a:p>
        </p:txBody>
      </p:sp>
      <p:grpSp>
        <p:nvGrpSpPr>
          <p:cNvPr id="2232" name="Group 5"/>
          <p:cNvGrpSpPr/>
          <p:nvPr/>
        </p:nvGrpSpPr>
        <p:grpSpPr>
          <a:xfrm>
            <a:off x="4416480" y="3567240"/>
            <a:ext cx="709560" cy="750600"/>
            <a:chOff x="4416480" y="3567240"/>
            <a:chExt cx="709560" cy="750600"/>
          </a:xfrm>
        </p:grpSpPr>
        <p:sp>
          <p:nvSpPr>
            <p:cNvPr id="2233" name="Oval 64"/>
            <p:cNvSpPr/>
            <p:nvPr/>
          </p:nvSpPr>
          <p:spPr>
            <a:xfrm>
              <a:off x="4416480" y="3567240"/>
              <a:ext cx="709560" cy="750600"/>
            </a:xfrm>
            <a:prstGeom prst="ellipse">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34" name="Group 64"/>
            <p:cNvGrpSpPr/>
            <p:nvPr/>
          </p:nvGrpSpPr>
          <p:grpSpPr>
            <a:xfrm>
              <a:off x="0" y="0"/>
              <a:ext cx="0" cy="0"/>
              <a:chOff x="0" y="0"/>
              <a:chExt cx="0" cy="0"/>
            </a:xfrm>
          </p:grpSpPr>
        </p:grpSp>
      </p:grpSp>
      <p:grpSp>
        <p:nvGrpSpPr>
          <p:cNvPr id="2235" name="Group 9"/>
          <p:cNvGrpSpPr/>
          <p:nvPr/>
        </p:nvGrpSpPr>
        <p:grpSpPr>
          <a:xfrm>
            <a:off x="4538520" y="2468520"/>
            <a:ext cx="723960" cy="685800"/>
            <a:chOff x="4538520" y="2468520"/>
            <a:chExt cx="723960" cy="685800"/>
          </a:xfrm>
        </p:grpSpPr>
        <p:sp>
          <p:nvSpPr>
            <p:cNvPr id="2236" name="Oval 63"/>
            <p:cNvSpPr/>
            <p:nvPr/>
          </p:nvSpPr>
          <p:spPr>
            <a:xfrm>
              <a:off x="4538520" y="2468520"/>
              <a:ext cx="723960" cy="685800"/>
            </a:xfrm>
            <a:prstGeom prst="ellipse">
              <a:avLst/>
            </a:prstGeom>
            <a:solidFill>
              <a:srgbClr val="99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7" name="Freeform 19"/>
            <p:cNvSpPr/>
            <p:nvPr/>
          </p:nvSpPr>
          <p:spPr>
            <a:xfrm>
              <a:off x="4671720" y="2616480"/>
              <a:ext cx="378360" cy="379800"/>
            </a:xfrm>
            <a:custGeom>
              <a:avLst/>
              <a:gdLst/>
              <a:ahLst/>
              <a:rect l="l" t="t" r="r" b="b"/>
              <a:pathLst>
                <a:path w="3184" h="3385">
                  <a:moveTo>
                    <a:pt x="2579" y="2364"/>
                  </a:moveTo>
                  <a:lnTo>
                    <a:pt x="2528" y="2367"/>
                  </a:lnTo>
                  <a:lnTo>
                    <a:pt x="2478" y="2377"/>
                  </a:lnTo>
                  <a:lnTo>
                    <a:pt x="2429" y="2392"/>
                  </a:lnTo>
                  <a:lnTo>
                    <a:pt x="2385" y="2413"/>
                  </a:lnTo>
                  <a:lnTo>
                    <a:pt x="2343" y="2439"/>
                  </a:lnTo>
                  <a:lnTo>
                    <a:pt x="2304" y="2469"/>
                  </a:lnTo>
                  <a:lnTo>
                    <a:pt x="2270" y="2504"/>
                  </a:lnTo>
                  <a:lnTo>
                    <a:pt x="2239" y="2542"/>
                  </a:lnTo>
                  <a:lnTo>
                    <a:pt x="2213" y="2584"/>
                  </a:lnTo>
                  <a:lnTo>
                    <a:pt x="2193" y="2630"/>
                  </a:lnTo>
                  <a:lnTo>
                    <a:pt x="2177" y="2677"/>
                  </a:lnTo>
                  <a:lnTo>
                    <a:pt x="2168" y="2727"/>
                  </a:lnTo>
                  <a:lnTo>
                    <a:pt x="2165" y="2779"/>
                  </a:lnTo>
                  <a:lnTo>
                    <a:pt x="2168" y="2831"/>
                  </a:lnTo>
                  <a:lnTo>
                    <a:pt x="2177" y="2882"/>
                  </a:lnTo>
                  <a:lnTo>
                    <a:pt x="2193" y="2929"/>
                  </a:lnTo>
                  <a:lnTo>
                    <a:pt x="2213" y="2975"/>
                  </a:lnTo>
                  <a:lnTo>
                    <a:pt x="2239" y="3017"/>
                  </a:lnTo>
                  <a:lnTo>
                    <a:pt x="2270" y="3055"/>
                  </a:lnTo>
                  <a:lnTo>
                    <a:pt x="2304" y="3090"/>
                  </a:lnTo>
                  <a:lnTo>
                    <a:pt x="2343" y="3120"/>
                  </a:lnTo>
                  <a:lnTo>
                    <a:pt x="2385" y="3146"/>
                  </a:lnTo>
                  <a:lnTo>
                    <a:pt x="2429" y="3166"/>
                  </a:lnTo>
                  <a:lnTo>
                    <a:pt x="2478" y="3182"/>
                  </a:lnTo>
                  <a:lnTo>
                    <a:pt x="2528" y="3191"/>
                  </a:lnTo>
                  <a:lnTo>
                    <a:pt x="2579" y="3195"/>
                  </a:lnTo>
                  <a:lnTo>
                    <a:pt x="2632" y="3191"/>
                  </a:lnTo>
                  <a:lnTo>
                    <a:pt x="2681" y="3182"/>
                  </a:lnTo>
                  <a:lnTo>
                    <a:pt x="2729" y="3166"/>
                  </a:lnTo>
                  <a:lnTo>
                    <a:pt x="2774" y="3146"/>
                  </a:lnTo>
                  <a:lnTo>
                    <a:pt x="2816" y="3120"/>
                  </a:lnTo>
                  <a:lnTo>
                    <a:pt x="2855" y="3090"/>
                  </a:lnTo>
                  <a:lnTo>
                    <a:pt x="2889" y="3055"/>
                  </a:lnTo>
                  <a:lnTo>
                    <a:pt x="2920" y="3017"/>
                  </a:lnTo>
                  <a:lnTo>
                    <a:pt x="2945" y="2975"/>
                  </a:lnTo>
                  <a:lnTo>
                    <a:pt x="2966" y="2929"/>
                  </a:lnTo>
                  <a:lnTo>
                    <a:pt x="2981" y="2882"/>
                  </a:lnTo>
                  <a:lnTo>
                    <a:pt x="2991" y="2831"/>
                  </a:lnTo>
                  <a:lnTo>
                    <a:pt x="2994" y="2779"/>
                  </a:lnTo>
                  <a:lnTo>
                    <a:pt x="2991" y="2727"/>
                  </a:lnTo>
                  <a:lnTo>
                    <a:pt x="2981" y="2677"/>
                  </a:lnTo>
                  <a:lnTo>
                    <a:pt x="2966" y="2630"/>
                  </a:lnTo>
                  <a:lnTo>
                    <a:pt x="2945" y="2584"/>
                  </a:lnTo>
                  <a:lnTo>
                    <a:pt x="2920" y="2542"/>
                  </a:lnTo>
                  <a:lnTo>
                    <a:pt x="2889" y="2504"/>
                  </a:lnTo>
                  <a:lnTo>
                    <a:pt x="2855" y="2469"/>
                  </a:lnTo>
                  <a:lnTo>
                    <a:pt x="2816" y="2439"/>
                  </a:lnTo>
                  <a:lnTo>
                    <a:pt x="2774" y="2413"/>
                  </a:lnTo>
                  <a:lnTo>
                    <a:pt x="2729" y="2392"/>
                  </a:lnTo>
                  <a:lnTo>
                    <a:pt x="2681" y="2377"/>
                  </a:lnTo>
                  <a:lnTo>
                    <a:pt x="2632" y="2367"/>
                  </a:lnTo>
                  <a:lnTo>
                    <a:pt x="2579" y="2364"/>
                  </a:lnTo>
                  <a:close/>
                  <a:moveTo>
                    <a:pt x="604" y="1277"/>
                  </a:moveTo>
                  <a:lnTo>
                    <a:pt x="553" y="1280"/>
                  </a:lnTo>
                  <a:lnTo>
                    <a:pt x="503" y="1289"/>
                  </a:lnTo>
                  <a:lnTo>
                    <a:pt x="454" y="1305"/>
                  </a:lnTo>
                  <a:lnTo>
                    <a:pt x="410" y="1325"/>
                  </a:lnTo>
                  <a:lnTo>
                    <a:pt x="368" y="1351"/>
                  </a:lnTo>
                  <a:lnTo>
                    <a:pt x="329" y="1382"/>
                  </a:lnTo>
                  <a:lnTo>
                    <a:pt x="295" y="1416"/>
                  </a:lnTo>
                  <a:lnTo>
                    <a:pt x="264" y="1455"/>
                  </a:lnTo>
                  <a:lnTo>
                    <a:pt x="238" y="1497"/>
                  </a:lnTo>
                  <a:lnTo>
                    <a:pt x="218" y="1543"/>
                  </a:lnTo>
                  <a:lnTo>
                    <a:pt x="202" y="1590"/>
                  </a:lnTo>
                  <a:lnTo>
                    <a:pt x="193" y="1640"/>
                  </a:lnTo>
                  <a:lnTo>
                    <a:pt x="190" y="1692"/>
                  </a:lnTo>
                  <a:lnTo>
                    <a:pt x="193" y="1744"/>
                  </a:lnTo>
                  <a:lnTo>
                    <a:pt x="202" y="1794"/>
                  </a:lnTo>
                  <a:lnTo>
                    <a:pt x="218" y="1842"/>
                  </a:lnTo>
                  <a:lnTo>
                    <a:pt x="238" y="1888"/>
                  </a:lnTo>
                  <a:lnTo>
                    <a:pt x="264" y="1929"/>
                  </a:lnTo>
                  <a:lnTo>
                    <a:pt x="295" y="1968"/>
                  </a:lnTo>
                  <a:lnTo>
                    <a:pt x="329" y="2002"/>
                  </a:lnTo>
                  <a:lnTo>
                    <a:pt x="368" y="2033"/>
                  </a:lnTo>
                  <a:lnTo>
                    <a:pt x="410" y="2059"/>
                  </a:lnTo>
                  <a:lnTo>
                    <a:pt x="454" y="2079"/>
                  </a:lnTo>
                  <a:lnTo>
                    <a:pt x="503" y="2095"/>
                  </a:lnTo>
                  <a:lnTo>
                    <a:pt x="553" y="2104"/>
                  </a:lnTo>
                  <a:lnTo>
                    <a:pt x="604" y="2107"/>
                  </a:lnTo>
                  <a:lnTo>
                    <a:pt x="656" y="2104"/>
                  </a:lnTo>
                  <a:lnTo>
                    <a:pt x="706" y="2095"/>
                  </a:lnTo>
                  <a:lnTo>
                    <a:pt x="754" y="2079"/>
                  </a:lnTo>
                  <a:lnTo>
                    <a:pt x="799" y="2059"/>
                  </a:lnTo>
                  <a:lnTo>
                    <a:pt x="841" y="2033"/>
                  </a:lnTo>
                  <a:lnTo>
                    <a:pt x="879" y="2002"/>
                  </a:lnTo>
                  <a:lnTo>
                    <a:pt x="914" y="1968"/>
                  </a:lnTo>
                  <a:lnTo>
                    <a:pt x="945" y="1929"/>
                  </a:lnTo>
                  <a:lnTo>
                    <a:pt x="970" y="1888"/>
                  </a:lnTo>
                  <a:lnTo>
                    <a:pt x="991" y="1842"/>
                  </a:lnTo>
                  <a:lnTo>
                    <a:pt x="1006" y="1794"/>
                  </a:lnTo>
                  <a:lnTo>
                    <a:pt x="1016" y="1744"/>
                  </a:lnTo>
                  <a:lnTo>
                    <a:pt x="1019" y="1692"/>
                  </a:lnTo>
                  <a:lnTo>
                    <a:pt x="1016" y="1640"/>
                  </a:lnTo>
                  <a:lnTo>
                    <a:pt x="1006" y="1590"/>
                  </a:lnTo>
                  <a:lnTo>
                    <a:pt x="991" y="1543"/>
                  </a:lnTo>
                  <a:lnTo>
                    <a:pt x="970" y="1497"/>
                  </a:lnTo>
                  <a:lnTo>
                    <a:pt x="945" y="1455"/>
                  </a:lnTo>
                  <a:lnTo>
                    <a:pt x="914" y="1416"/>
                  </a:lnTo>
                  <a:lnTo>
                    <a:pt x="880" y="1382"/>
                  </a:lnTo>
                  <a:lnTo>
                    <a:pt x="841" y="1351"/>
                  </a:lnTo>
                  <a:lnTo>
                    <a:pt x="799" y="1325"/>
                  </a:lnTo>
                  <a:lnTo>
                    <a:pt x="755" y="1305"/>
                  </a:lnTo>
                  <a:lnTo>
                    <a:pt x="706" y="1289"/>
                  </a:lnTo>
                  <a:lnTo>
                    <a:pt x="657" y="1280"/>
                  </a:lnTo>
                  <a:lnTo>
                    <a:pt x="604" y="1277"/>
                  </a:lnTo>
                  <a:close/>
                  <a:moveTo>
                    <a:pt x="2579" y="191"/>
                  </a:moveTo>
                  <a:lnTo>
                    <a:pt x="2528" y="194"/>
                  </a:lnTo>
                  <a:lnTo>
                    <a:pt x="2478" y="203"/>
                  </a:lnTo>
                  <a:lnTo>
                    <a:pt x="2430" y="219"/>
                  </a:lnTo>
                  <a:lnTo>
                    <a:pt x="2385" y="239"/>
                  </a:lnTo>
                  <a:lnTo>
                    <a:pt x="2343" y="265"/>
                  </a:lnTo>
                  <a:lnTo>
                    <a:pt x="2305" y="296"/>
                  </a:lnTo>
                  <a:lnTo>
                    <a:pt x="2270" y="331"/>
                  </a:lnTo>
                  <a:lnTo>
                    <a:pt x="2239" y="369"/>
                  </a:lnTo>
                  <a:lnTo>
                    <a:pt x="2213" y="411"/>
                  </a:lnTo>
                  <a:lnTo>
                    <a:pt x="2193" y="457"/>
                  </a:lnTo>
                  <a:lnTo>
                    <a:pt x="2177" y="504"/>
                  </a:lnTo>
                  <a:lnTo>
                    <a:pt x="2168" y="554"/>
                  </a:lnTo>
                  <a:lnTo>
                    <a:pt x="2165" y="606"/>
                  </a:lnTo>
                  <a:lnTo>
                    <a:pt x="2168" y="659"/>
                  </a:lnTo>
                  <a:lnTo>
                    <a:pt x="2177" y="708"/>
                  </a:lnTo>
                  <a:lnTo>
                    <a:pt x="2193" y="756"/>
                  </a:lnTo>
                  <a:lnTo>
                    <a:pt x="2213" y="802"/>
                  </a:lnTo>
                  <a:lnTo>
                    <a:pt x="2239" y="843"/>
                  </a:lnTo>
                  <a:lnTo>
                    <a:pt x="2270" y="882"/>
                  </a:lnTo>
                  <a:lnTo>
                    <a:pt x="2304" y="916"/>
                  </a:lnTo>
                  <a:lnTo>
                    <a:pt x="2343" y="947"/>
                  </a:lnTo>
                  <a:lnTo>
                    <a:pt x="2385" y="973"/>
                  </a:lnTo>
                  <a:lnTo>
                    <a:pt x="2429" y="993"/>
                  </a:lnTo>
                  <a:lnTo>
                    <a:pt x="2478" y="1009"/>
                  </a:lnTo>
                  <a:lnTo>
                    <a:pt x="2528" y="1018"/>
                  </a:lnTo>
                  <a:lnTo>
                    <a:pt x="2579" y="1021"/>
                  </a:lnTo>
                  <a:lnTo>
                    <a:pt x="2632" y="1018"/>
                  </a:lnTo>
                  <a:lnTo>
                    <a:pt x="2681" y="1009"/>
                  </a:lnTo>
                  <a:lnTo>
                    <a:pt x="2729" y="993"/>
                  </a:lnTo>
                  <a:lnTo>
                    <a:pt x="2774" y="973"/>
                  </a:lnTo>
                  <a:lnTo>
                    <a:pt x="2816" y="947"/>
                  </a:lnTo>
                  <a:lnTo>
                    <a:pt x="2855" y="916"/>
                  </a:lnTo>
                  <a:lnTo>
                    <a:pt x="2889" y="882"/>
                  </a:lnTo>
                  <a:lnTo>
                    <a:pt x="2920" y="843"/>
                  </a:lnTo>
                  <a:lnTo>
                    <a:pt x="2945" y="802"/>
                  </a:lnTo>
                  <a:lnTo>
                    <a:pt x="2966" y="756"/>
                  </a:lnTo>
                  <a:lnTo>
                    <a:pt x="2981" y="708"/>
                  </a:lnTo>
                  <a:lnTo>
                    <a:pt x="2991" y="659"/>
                  </a:lnTo>
                  <a:lnTo>
                    <a:pt x="2994" y="606"/>
                  </a:lnTo>
                  <a:lnTo>
                    <a:pt x="2991" y="554"/>
                  </a:lnTo>
                  <a:lnTo>
                    <a:pt x="2981" y="504"/>
                  </a:lnTo>
                  <a:lnTo>
                    <a:pt x="2966" y="457"/>
                  </a:lnTo>
                  <a:lnTo>
                    <a:pt x="2945" y="411"/>
                  </a:lnTo>
                  <a:lnTo>
                    <a:pt x="2920" y="369"/>
                  </a:lnTo>
                  <a:lnTo>
                    <a:pt x="2889" y="331"/>
                  </a:lnTo>
                  <a:lnTo>
                    <a:pt x="2855" y="296"/>
                  </a:lnTo>
                  <a:lnTo>
                    <a:pt x="2816" y="265"/>
                  </a:lnTo>
                  <a:lnTo>
                    <a:pt x="2774" y="239"/>
                  </a:lnTo>
                  <a:lnTo>
                    <a:pt x="2729" y="219"/>
                  </a:lnTo>
                  <a:lnTo>
                    <a:pt x="2681" y="203"/>
                  </a:lnTo>
                  <a:lnTo>
                    <a:pt x="2632" y="194"/>
                  </a:lnTo>
                  <a:lnTo>
                    <a:pt x="2579" y="191"/>
                  </a:lnTo>
                  <a:close/>
                  <a:moveTo>
                    <a:pt x="2578" y="0"/>
                  </a:moveTo>
                  <a:lnTo>
                    <a:pt x="2640" y="3"/>
                  </a:lnTo>
                  <a:lnTo>
                    <a:pt x="2701" y="13"/>
                  </a:lnTo>
                  <a:lnTo>
                    <a:pt x="2758" y="28"/>
                  </a:lnTo>
                  <a:lnTo>
                    <a:pt x="2814" y="48"/>
                  </a:lnTo>
                  <a:lnTo>
                    <a:pt x="2866" y="73"/>
                  </a:lnTo>
                  <a:lnTo>
                    <a:pt x="2917" y="104"/>
                  </a:lnTo>
                  <a:lnTo>
                    <a:pt x="2963" y="138"/>
                  </a:lnTo>
                  <a:lnTo>
                    <a:pt x="3006" y="177"/>
                  </a:lnTo>
                  <a:lnTo>
                    <a:pt x="3045" y="221"/>
                  </a:lnTo>
                  <a:lnTo>
                    <a:pt x="3079" y="267"/>
                  </a:lnTo>
                  <a:lnTo>
                    <a:pt x="3110" y="318"/>
                  </a:lnTo>
                  <a:lnTo>
                    <a:pt x="3135" y="370"/>
                  </a:lnTo>
                  <a:lnTo>
                    <a:pt x="3155" y="426"/>
                  </a:lnTo>
                  <a:lnTo>
                    <a:pt x="3170" y="483"/>
                  </a:lnTo>
                  <a:lnTo>
                    <a:pt x="3180" y="543"/>
                  </a:lnTo>
                  <a:lnTo>
                    <a:pt x="3183" y="605"/>
                  </a:lnTo>
                  <a:lnTo>
                    <a:pt x="3180" y="667"/>
                  </a:lnTo>
                  <a:lnTo>
                    <a:pt x="3170" y="728"/>
                  </a:lnTo>
                  <a:lnTo>
                    <a:pt x="3155" y="785"/>
                  </a:lnTo>
                  <a:lnTo>
                    <a:pt x="3134" y="841"/>
                  </a:lnTo>
                  <a:lnTo>
                    <a:pt x="3110" y="893"/>
                  </a:lnTo>
                  <a:lnTo>
                    <a:pt x="3079" y="944"/>
                  </a:lnTo>
                  <a:lnTo>
                    <a:pt x="3044" y="990"/>
                  </a:lnTo>
                  <a:lnTo>
                    <a:pt x="3005" y="1034"/>
                  </a:lnTo>
                  <a:lnTo>
                    <a:pt x="2963" y="1073"/>
                  </a:lnTo>
                  <a:lnTo>
                    <a:pt x="2915" y="1107"/>
                  </a:lnTo>
                  <a:lnTo>
                    <a:pt x="2866" y="1138"/>
                  </a:lnTo>
                  <a:lnTo>
                    <a:pt x="2814" y="1163"/>
                  </a:lnTo>
                  <a:lnTo>
                    <a:pt x="2758" y="1183"/>
                  </a:lnTo>
                  <a:lnTo>
                    <a:pt x="2700" y="1198"/>
                  </a:lnTo>
                  <a:lnTo>
                    <a:pt x="2640" y="1208"/>
                  </a:lnTo>
                  <a:lnTo>
                    <a:pt x="2578" y="1211"/>
                  </a:lnTo>
                  <a:lnTo>
                    <a:pt x="2521" y="1208"/>
                  </a:lnTo>
                  <a:lnTo>
                    <a:pt x="2464" y="1199"/>
                  </a:lnTo>
                  <a:lnTo>
                    <a:pt x="2410" y="1186"/>
                  </a:lnTo>
                  <a:lnTo>
                    <a:pt x="2357" y="1169"/>
                  </a:lnTo>
                  <a:lnTo>
                    <a:pt x="2307" y="1146"/>
                  </a:lnTo>
                  <a:lnTo>
                    <a:pt x="2260" y="1119"/>
                  </a:lnTo>
                  <a:lnTo>
                    <a:pt x="2215" y="1088"/>
                  </a:lnTo>
                  <a:lnTo>
                    <a:pt x="2173" y="1053"/>
                  </a:lnTo>
                  <a:lnTo>
                    <a:pt x="2134" y="1015"/>
                  </a:lnTo>
                  <a:lnTo>
                    <a:pt x="2099" y="973"/>
                  </a:lnTo>
                  <a:lnTo>
                    <a:pt x="1173" y="1492"/>
                  </a:lnTo>
                  <a:lnTo>
                    <a:pt x="1187" y="1539"/>
                  </a:lnTo>
                  <a:lnTo>
                    <a:pt x="1199" y="1589"/>
                  </a:lnTo>
                  <a:lnTo>
                    <a:pt x="1205" y="1640"/>
                  </a:lnTo>
                  <a:lnTo>
                    <a:pt x="1207" y="1692"/>
                  </a:lnTo>
                  <a:lnTo>
                    <a:pt x="1205" y="1743"/>
                  </a:lnTo>
                  <a:lnTo>
                    <a:pt x="1199" y="1795"/>
                  </a:lnTo>
                  <a:lnTo>
                    <a:pt x="1187" y="1843"/>
                  </a:lnTo>
                  <a:lnTo>
                    <a:pt x="1173" y="1892"/>
                  </a:lnTo>
                  <a:lnTo>
                    <a:pt x="2101" y="2411"/>
                  </a:lnTo>
                  <a:lnTo>
                    <a:pt x="2136" y="2370"/>
                  </a:lnTo>
                  <a:lnTo>
                    <a:pt x="2174" y="2332"/>
                  </a:lnTo>
                  <a:lnTo>
                    <a:pt x="2216" y="2297"/>
                  </a:lnTo>
                  <a:lnTo>
                    <a:pt x="2262" y="2266"/>
                  </a:lnTo>
                  <a:lnTo>
                    <a:pt x="2309" y="2239"/>
                  </a:lnTo>
                  <a:lnTo>
                    <a:pt x="2359" y="2216"/>
                  </a:lnTo>
                  <a:lnTo>
                    <a:pt x="2412" y="2199"/>
                  </a:lnTo>
                  <a:lnTo>
                    <a:pt x="2465" y="2185"/>
                  </a:lnTo>
                  <a:lnTo>
                    <a:pt x="2522" y="2177"/>
                  </a:lnTo>
                  <a:lnTo>
                    <a:pt x="2579" y="2175"/>
                  </a:lnTo>
                  <a:lnTo>
                    <a:pt x="2641" y="2178"/>
                  </a:lnTo>
                  <a:lnTo>
                    <a:pt x="2701" y="2188"/>
                  </a:lnTo>
                  <a:lnTo>
                    <a:pt x="2759" y="2202"/>
                  </a:lnTo>
                  <a:lnTo>
                    <a:pt x="2815" y="2223"/>
                  </a:lnTo>
                  <a:lnTo>
                    <a:pt x="2867" y="2248"/>
                  </a:lnTo>
                  <a:lnTo>
                    <a:pt x="2918" y="2278"/>
                  </a:lnTo>
                  <a:lnTo>
                    <a:pt x="2964" y="2313"/>
                  </a:lnTo>
                  <a:lnTo>
                    <a:pt x="3007" y="2352"/>
                  </a:lnTo>
                  <a:lnTo>
                    <a:pt x="3046" y="2396"/>
                  </a:lnTo>
                  <a:lnTo>
                    <a:pt x="3080" y="2442"/>
                  </a:lnTo>
                  <a:lnTo>
                    <a:pt x="3111" y="2491"/>
                  </a:lnTo>
                  <a:lnTo>
                    <a:pt x="3137" y="2545"/>
                  </a:lnTo>
                  <a:lnTo>
                    <a:pt x="3157" y="2601"/>
                  </a:lnTo>
                  <a:lnTo>
                    <a:pt x="3171" y="2658"/>
                  </a:lnTo>
                  <a:lnTo>
                    <a:pt x="3181" y="2718"/>
                  </a:lnTo>
                  <a:lnTo>
                    <a:pt x="3184" y="2780"/>
                  </a:lnTo>
                  <a:lnTo>
                    <a:pt x="3181" y="2842"/>
                  </a:lnTo>
                  <a:lnTo>
                    <a:pt x="3171" y="2902"/>
                  </a:lnTo>
                  <a:lnTo>
                    <a:pt x="3157" y="2960"/>
                  </a:lnTo>
                  <a:lnTo>
                    <a:pt x="3137" y="3016"/>
                  </a:lnTo>
                  <a:lnTo>
                    <a:pt x="3111" y="3068"/>
                  </a:lnTo>
                  <a:lnTo>
                    <a:pt x="3081" y="3118"/>
                  </a:lnTo>
                  <a:lnTo>
                    <a:pt x="3046" y="3165"/>
                  </a:lnTo>
                  <a:lnTo>
                    <a:pt x="3007" y="3208"/>
                  </a:lnTo>
                  <a:lnTo>
                    <a:pt x="2964" y="3247"/>
                  </a:lnTo>
                  <a:lnTo>
                    <a:pt x="2918" y="3282"/>
                  </a:lnTo>
                  <a:lnTo>
                    <a:pt x="2868" y="3313"/>
                  </a:lnTo>
                  <a:lnTo>
                    <a:pt x="2815" y="3337"/>
                  </a:lnTo>
                  <a:lnTo>
                    <a:pt x="2759" y="3358"/>
                  </a:lnTo>
                  <a:lnTo>
                    <a:pt x="2702" y="3373"/>
                  </a:lnTo>
                  <a:lnTo>
                    <a:pt x="2642" y="3382"/>
                  </a:lnTo>
                  <a:lnTo>
                    <a:pt x="2580" y="3385"/>
                  </a:lnTo>
                  <a:lnTo>
                    <a:pt x="2519" y="3382"/>
                  </a:lnTo>
                  <a:lnTo>
                    <a:pt x="2458" y="3373"/>
                  </a:lnTo>
                  <a:lnTo>
                    <a:pt x="2400" y="3358"/>
                  </a:lnTo>
                  <a:lnTo>
                    <a:pt x="2345" y="3337"/>
                  </a:lnTo>
                  <a:lnTo>
                    <a:pt x="2292" y="3312"/>
                  </a:lnTo>
                  <a:lnTo>
                    <a:pt x="2243" y="3282"/>
                  </a:lnTo>
                  <a:lnTo>
                    <a:pt x="2196" y="3247"/>
                  </a:lnTo>
                  <a:lnTo>
                    <a:pt x="2154" y="3208"/>
                  </a:lnTo>
                  <a:lnTo>
                    <a:pt x="2115" y="3164"/>
                  </a:lnTo>
                  <a:lnTo>
                    <a:pt x="2080" y="3118"/>
                  </a:lnTo>
                  <a:lnTo>
                    <a:pt x="2049" y="3068"/>
                  </a:lnTo>
                  <a:lnTo>
                    <a:pt x="2024" y="3015"/>
                  </a:lnTo>
                  <a:lnTo>
                    <a:pt x="2004" y="2959"/>
                  </a:lnTo>
                  <a:lnTo>
                    <a:pt x="1988" y="2902"/>
                  </a:lnTo>
                  <a:lnTo>
                    <a:pt x="1979" y="2842"/>
                  </a:lnTo>
                  <a:lnTo>
                    <a:pt x="1976" y="2780"/>
                  </a:lnTo>
                  <a:lnTo>
                    <a:pt x="1979" y="2727"/>
                  </a:lnTo>
                  <a:lnTo>
                    <a:pt x="1985" y="2677"/>
                  </a:lnTo>
                  <a:lnTo>
                    <a:pt x="1996" y="2626"/>
                  </a:lnTo>
                  <a:lnTo>
                    <a:pt x="2012" y="2578"/>
                  </a:lnTo>
                  <a:lnTo>
                    <a:pt x="1085" y="2059"/>
                  </a:lnTo>
                  <a:lnTo>
                    <a:pt x="1050" y="2101"/>
                  </a:lnTo>
                  <a:lnTo>
                    <a:pt x="1011" y="2139"/>
                  </a:lnTo>
                  <a:lnTo>
                    <a:pt x="968" y="2174"/>
                  </a:lnTo>
                  <a:lnTo>
                    <a:pt x="924" y="2205"/>
                  </a:lnTo>
                  <a:lnTo>
                    <a:pt x="876" y="2233"/>
                  </a:lnTo>
                  <a:lnTo>
                    <a:pt x="825" y="2256"/>
                  </a:lnTo>
                  <a:lnTo>
                    <a:pt x="773" y="2273"/>
                  </a:lnTo>
                  <a:lnTo>
                    <a:pt x="719" y="2286"/>
                  </a:lnTo>
                  <a:lnTo>
                    <a:pt x="662" y="2295"/>
                  </a:lnTo>
                  <a:lnTo>
                    <a:pt x="604" y="2297"/>
                  </a:lnTo>
                  <a:lnTo>
                    <a:pt x="543" y="2294"/>
                  </a:lnTo>
                  <a:lnTo>
                    <a:pt x="483" y="2285"/>
                  </a:lnTo>
                  <a:lnTo>
                    <a:pt x="426" y="2270"/>
                  </a:lnTo>
                  <a:lnTo>
                    <a:pt x="370" y="2249"/>
                  </a:lnTo>
                  <a:lnTo>
                    <a:pt x="317" y="2225"/>
                  </a:lnTo>
                  <a:lnTo>
                    <a:pt x="267" y="2194"/>
                  </a:lnTo>
                  <a:lnTo>
                    <a:pt x="220" y="2159"/>
                  </a:lnTo>
                  <a:lnTo>
                    <a:pt x="178" y="2120"/>
                  </a:lnTo>
                  <a:lnTo>
                    <a:pt x="139" y="2077"/>
                  </a:lnTo>
                  <a:lnTo>
                    <a:pt x="104" y="2030"/>
                  </a:lnTo>
                  <a:lnTo>
                    <a:pt x="73" y="1980"/>
                  </a:lnTo>
                  <a:lnTo>
                    <a:pt x="47" y="1928"/>
                  </a:lnTo>
                  <a:lnTo>
                    <a:pt x="28" y="1872"/>
                  </a:lnTo>
                  <a:lnTo>
                    <a:pt x="12" y="1814"/>
                  </a:lnTo>
                  <a:lnTo>
                    <a:pt x="3" y="1754"/>
                  </a:lnTo>
                  <a:lnTo>
                    <a:pt x="0" y="1692"/>
                  </a:lnTo>
                  <a:lnTo>
                    <a:pt x="3" y="1630"/>
                  </a:lnTo>
                  <a:lnTo>
                    <a:pt x="12" y="1570"/>
                  </a:lnTo>
                  <a:lnTo>
                    <a:pt x="28" y="1513"/>
                  </a:lnTo>
                  <a:lnTo>
                    <a:pt x="47" y="1457"/>
                  </a:lnTo>
                  <a:lnTo>
                    <a:pt x="73" y="1403"/>
                  </a:lnTo>
                  <a:lnTo>
                    <a:pt x="104" y="1354"/>
                  </a:lnTo>
                  <a:lnTo>
                    <a:pt x="139" y="1308"/>
                  </a:lnTo>
                  <a:lnTo>
                    <a:pt x="177" y="1264"/>
                  </a:lnTo>
                  <a:lnTo>
                    <a:pt x="220" y="1225"/>
                  </a:lnTo>
                  <a:lnTo>
                    <a:pt x="266" y="1190"/>
                  </a:lnTo>
                  <a:lnTo>
                    <a:pt x="317" y="1160"/>
                  </a:lnTo>
                  <a:lnTo>
                    <a:pt x="369" y="1135"/>
                  </a:lnTo>
                  <a:lnTo>
                    <a:pt x="425" y="1114"/>
                  </a:lnTo>
                  <a:lnTo>
                    <a:pt x="482" y="1100"/>
                  </a:lnTo>
                  <a:lnTo>
                    <a:pt x="543" y="1090"/>
                  </a:lnTo>
                  <a:lnTo>
                    <a:pt x="603" y="1087"/>
                  </a:lnTo>
                  <a:lnTo>
                    <a:pt x="662" y="1089"/>
                  </a:lnTo>
                  <a:lnTo>
                    <a:pt x="718" y="1097"/>
                  </a:lnTo>
                  <a:lnTo>
                    <a:pt x="772" y="1111"/>
                  </a:lnTo>
                  <a:lnTo>
                    <a:pt x="825" y="1128"/>
                  </a:lnTo>
                  <a:lnTo>
                    <a:pt x="875" y="1151"/>
                  </a:lnTo>
                  <a:lnTo>
                    <a:pt x="923" y="1178"/>
                  </a:lnTo>
                  <a:lnTo>
                    <a:pt x="967" y="1210"/>
                  </a:lnTo>
                  <a:lnTo>
                    <a:pt x="1010" y="1244"/>
                  </a:lnTo>
                  <a:lnTo>
                    <a:pt x="1048" y="1283"/>
                  </a:lnTo>
                  <a:lnTo>
                    <a:pt x="1082" y="1324"/>
                  </a:lnTo>
                  <a:lnTo>
                    <a:pt x="2009" y="806"/>
                  </a:lnTo>
                  <a:lnTo>
                    <a:pt x="1994" y="758"/>
                  </a:lnTo>
                  <a:lnTo>
                    <a:pt x="1984" y="709"/>
                  </a:lnTo>
                  <a:lnTo>
                    <a:pt x="1977" y="658"/>
                  </a:lnTo>
                  <a:lnTo>
                    <a:pt x="1975" y="605"/>
                  </a:lnTo>
                  <a:lnTo>
                    <a:pt x="1978" y="543"/>
                  </a:lnTo>
                  <a:lnTo>
                    <a:pt x="1987" y="483"/>
                  </a:lnTo>
                  <a:lnTo>
                    <a:pt x="2002" y="426"/>
                  </a:lnTo>
                  <a:lnTo>
                    <a:pt x="2022" y="370"/>
                  </a:lnTo>
                  <a:lnTo>
                    <a:pt x="2048" y="318"/>
                  </a:lnTo>
                  <a:lnTo>
                    <a:pt x="2078" y="267"/>
                  </a:lnTo>
                  <a:lnTo>
                    <a:pt x="2113" y="221"/>
                  </a:lnTo>
                  <a:lnTo>
                    <a:pt x="2152" y="177"/>
                  </a:lnTo>
                  <a:lnTo>
                    <a:pt x="2195" y="138"/>
                  </a:lnTo>
                  <a:lnTo>
                    <a:pt x="2241" y="104"/>
                  </a:lnTo>
                  <a:lnTo>
                    <a:pt x="2291" y="73"/>
                  </a:lnTo>
                  <a:lnTo>
                    <a:pt x="2344" y="48"/>
                  </a:lnTo>
                  <a:lnTo>
                    <a:pt x="2399" y="28"/>
                  </a:lnTo>
                  <a:lnTo>
                    <a:pt x="2457" y="13"/>
                  </a:lnTo>
                  <a:lnTo>
                    <a:pt x="2517" y="3"/>
                  </a:lnTo>
                  <a:lnTo>
                    <a:pt x="25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38" name="Group 11"/>
          <p:cNvGrpSpPr/>
          <p:nvPr/>
        </p:nvGrpSpPr>
        <p:grpSpPr>
          <a:xfrm>
            <a:off x="6438960" y="3430440"/>
            <a:ext cx="703080" cy="731880"/>
            <a:chOff x="6438960" y="3430440"/>
            <a:chExt cx="703080" cy="731880"/>
          </a:xfrm>
        </p:grpSpPr>
        <p:sp>
          <p:nvSpPr>
            <p:cNvPr id="2239" name="Oval 60"/>
            <p:cNvSpPr/>
            <p:nvPr/>
          </p:nvSpPr>
          <p:spPr>
            <a:xfrm>
              <a:off x="6438960" y="3430440"/>
              <a:ext cx="703080" cy="731880"/>
            </a:xfrm>
            <a:prstGeom prst="ellipse">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0" name="Freeform 29"/>
            <p:cNvSpPr/>
            <p:nvPr/>
          </p:nvSpPr>
          <p:spPr>
            <a:xfrm>
              <a:off x="6574320" y="3555360"/>
              <a:ext cx="432000" cy="482040"/>
            </a:xfrm>
            <a:custGeom>
              <a:avLst/>
              <a:gdLst/>
              <a:ahLst/>
              <a:rect l="l" t="t" r="r" b="b"/>
              <a:pathLst>
                <a:path w="3187" h="3426">
                  <a:moveTo>
                    <a:pt x="2707" y="2847"/>
                  </a:moveTo>
                  <a:lnTo>
                    <a:pt x="2672" y="2850"/>
                  </a:lnTo>
                  <a:lnTo>
                    <a:pt x="2639" y="2860"/>
                  </a:lnTo>
                  <a:lnTo>
                    <a:pt x="2608" y="2874"/>
                  </a:lnTo>
                  <a:lnTo>
                    <a:pt x="2582" y="2893"/>
                  </a:lnTo>
                  <a:lnTo>
                    <a:pt x="2558" y="2917"/>
                  </a:lnTo>
                  <a:lnTo>
                    <a:pt x="2539" y="2943"/>
                  </a:lnTo>
                  <a:lnTo>
                    <a:pt x="2525" y="2973"/>
                  </a:lnTo>
                  <a:lnTo>
                    <a:pt x="2515" y="3007"/>
                  </a:lnTo>
                  <a:lnTo>
                    <a:pt x="2512" y="3041"/>
                  </a:lnTo>
                  <a:lnTo>
                    <a:pt x="2515" y="3075"/>
                  </a:lnTo>
                  <a:lnTo>
                    <a:pt x="2525" y="3108"/>
                  </a:lnTo>
                  <a:lnTo>
                    <a:pt x="2539" y="3138"/>
                  </a:lnTo>
                  <a:lnTo>
                    <a:pt x="2558" y="3165"/>
                  </a:lnTo>
                  <a:lnTo>
                    <a:pt x="2582" y="3189"/>
                  </a:lnTo>
                  <a:lnTo>
                    <a:pt x="2608" y="3208"/>
                  </a:lnTo>
                  <a:lnTo>
                    <a:pt x="2639" y="3222"/>
                  </a:lnTo>
                  <a:lnTo>
                    <a:pt x="2672" y="3232"/>
                  </a:lnTo>
                  <a:lnTo>
                    <a:pt x="2707" y="3235"/>
                  </a:lnTo>
                  <a:lnTo>
                    <a:pt x="2741" y="3232"/>
                  </a:lnTo>
                  <a:lnTo>
                    <a:pt x="2773" y="3222"/>
                  </a:lnTo>
                  <a:lnTo>
                    <a:pt x="2804" y="3208"/>
                  </a:lnTo>
                  <a:lnTo>
                    <a:pt x="2831" y="3189"/>
                  </a:lnTo>
                  <a:lnTo>
                    <a:pt x="2855" y="3166"/>
                  </a:lnTo>
                  <a:lnTo>
                    <a:pt x="2874" y="3139"/>
                  </a:lnTo>
                  <a:lnTo>
                    <a:pt x="2888" y="3109"/>
                  </a:lnTo>
                  <a:lnTo>
                    <a:pt x="2898" y="3075"/>
                  </a:lnTo>
                  <a:lnTo>
                    <a:pt x="2901" y="3041"/>
                  </a:lnTo>
                  <a:lnTo>
                    <a:pt x="2898" y="3006"/>
                  </a:lnTo>
                  <a:lnTo>
                    <a:pt x="2888" y="2973"/>
                  </a:lnTo>
                  <a:lnTo>
                    <a:pt x="2874" y="2943"/>
                  </a:lnTo>
                  <a:lnTo>
                    <a:pt x="2855" y="2916"/>
                  </a:lnTo>
                  <a:lnTo>
                    <a:pt x="2831" y="2893"/>
                  </a:lnTo>
                  <a:lnTo>
                    <a:pt x="2804" y="2874"/>
                  </a:lnTo>
                  <a:lnTo>
                    <a:pt x="2773" y="2860"/>
                  </a:lnTo>
                  <a:lnTo>
                    <a:pt x="2741" y="2850"/>
                  </a:lnTo>
                  <a:lnTo>
                    <a:pt x="2707" y="2847"/>
                  </a:lnTo>
                  <a:close/>
                  <a:moveTo>
                    <a:pt x="1188" y="2847"/>
                  </a:moveTo>
                  <a:lnTo>
                    <a:pt x="1153" y="2850"/>
                  </a:lnTo>
                  <a:lnTo>
                    <a:pt x="1120" y="2860"/>
                  </a:lnTo>
                  <a:lnTo>
                    <a:pt x="1090" y="2874"/>
                  </a:lnTo>
                  <a:lnTo>
                    <a:pt x="1063" y="2893"/>
                  </a:lnTo>
                  <a:lnTo>
                    <a:pt x="1040" y="2917"/>
                  </a:lnTo>
                  <a:lnTo>
                    <a:pt x="1020" y="2943"/>
                  </a:lnTo>
                  <a:lnTo>
                    <a:pt x="1007" y="2973"/>
                  </a:lnTo>
                  <a:lnTo>
                    <a:pt x="997" y="3007"/>
                  </a:lnTo>
                  <a:lnTo>
                    <a:pt x="994" y="3041"/>
                  </a:lnTo>
                  <a:lnTo>
                    <a:pt x="997" y="3075"/>
                  </a:lnTo>
                  <a:lnTo>
                    <a:pt x="1007" y="3108"/>
                  </a:lnTo>
                  <a:lnTo>
                    <a:pt x="1020" y="3138"/>
                  </a:lnTo>
                  <a:lnTo>
                    <a:pt x="1040" y="3165"/>
                  </a:lnTo>
                  <a:lnTo>
                    <a:pt x="1063" y="3189"/>
                  </a:lnTo>
                  <a:lnTo>
                    <a:pt x="1090" y="3208"/>
                  </a:lnTo>
                  <a:lnTo>
                    <a:pt x="1120" y="3222"/>
                  </a:lnTo>
                  <a:lnTo>
                    <a:pt x="1153" y="3232"/>
                  </a:lnTo>
                  <a:lnTo>
                    <a:pt x="1188" y="3235"/>
                  </a:lnTo>
                  <a:lnTo>
                    <a:pt x="1223" y="3232"/>
                  </a:lnTo>
                  <a:lnTo>
                    <a:pt x="1255" y="3222"/>
                  </a:lnTo>
                  <a:lnTo>
                    <a:pt x="1285" y="3208"/>
                  </a:lnTo>
                  <a:lnTo>
                    <a:pt x="1313" y="3189"/>
                  </a:lnTo>
                  <a:lnTo>
                    <a:pt x="1336" y="3166"/>
                  </a:lnTo>
                  <a:lnTo>
                    <a:pt x="1355" y="3139"/>
                  </a:lnTo>
                  <a:lnTo>
                    <a:pt x="1370" y="3109"/>
                  </a:lnTo>
                  <a:lnTo>
                    <a:pt x="1378" y="3075"/>
                  </a:lnTo>
                  <a:lnTo>
                    <a:pt x="1381" y="3041"/>
                  </a:lnTo>
                  <a:lnTo>
                    <a:pt x="1378" y="3006"/>
                  </a:lnTo>
                  <a:lnTo>
                    <a:pt x="1370" y="2973"/>
                  </a:lnTo>
                  <a:lnTo>
                    <a:pt x="1355" y="2943"/>
                  </a:lnTo>
                  <a:lnTo>
                    <a:pt x="1336" y="2916"/>
                  </a:lnTo>
                  <a:lnTo>
                    <a:pt x="1313" y="2893"/>
                  </a:lnTo>
                  <a:lnTo>
                    <a:pt x="1285" y="2874"/>
                  </a:lnTo>
                  <a:lnTo>
                    <a:pt x="1255" y="2860"/>
                  </a:lnTo>
                  <a:lnTo>
                    <a:pt x="1223" y="2850"/>
                  </a:lnTo>
                  <a:lnTo>
                    <a:pt x="1188" y="2847"/>
                  </a:lnTo>
                  <a:close/>
                  <a:moveTo>
                    <a:pt x="709" y="840"/>
                  </a:moveTo>
                  <a:lnTo>
                    <a:pt x="709" y="1867"/>
                  </a:lnTo>
                  <a:lnTo>
                    <a:pt x="712" y="1903"/>
                  </a:lnTo>
                  <a:lnTo>
                    <a:pt x="722" y="1936"/>
                  </a:lnTo>
                  <a:lnTo>
                    <a:pt x="736" y="1967"/>
                  </a:lnTo>
                  <a:lnTo>
                    <a:pt x="756" y="1994"/>
                  </a:lnTo>
                  <a:lnTo>
                    <a:pt x="780" y="2018"/>
                  </a:lnTo>
                  <a:lnTo>
                    <a:pt x="807" y="2038"/>
                  </a:lnTo>
                  <a:lnTo>
                    <a:pt x="838" y="2053"/>
                  </a:lnTo>
                  <a:lnTo>
                    <a:pt x="872" y="2062"/>
                  </a:lnTo>
                  <a:lnTo>
                    <a:pt x="907" y="2065"/>
                  </a:lnTo>
                  <a:lnTo>
                    <a:pt x="2798" y="2065"/>
                  </a:lnTo>
                  <a:lnTo>
                    <a:pt x="2834" y="2062"/>
                  </a:lnTo>
                  <a:lnTo>
                    <a:pt x="2867" y="2053"/>
                  </a:lnTo>
                  <a:lnTo>
                    <a:pt x="2899" y="2038"/>
                  </a:lnTo>
                  <a:lnTo>
                    <a:pt x="2926" y="2018"/>
                  </a:lnTo>
                  <a:lnTo>
                    <a:pt x="2950" y="1994"/>
                  </a:lnTo>
                  <a:lnTo>
                    <a:pt x="2970" y="1967"/>
                  </a:lnTo>
                  <a:lnTo>
                    <a:pt x="2984" y="1936"/>
                  </a:lnTo>
                  <a:lnTo>
                    <a:pt x="2994" y="1902"/>
                  </a:lnTo>
                  <a:lnTo>
                    <a:pt x="2997" y="1866"/>
                  </a:lnTo>
                  <a:lnTo>
                    <a:pt x="2997" y="1154"/>
                  </a:lnTo>
                  <a:lnTo>
                    <a:pt x="709" y="840"/>
                  </a:lnTo>
                  <a:close/>
                  <a:moveTo>
                    <a:pt x="89" y="0"/>
                  </a:moveTo>
                  <a:lnTo>
                    <a:pt x="111" y="2"/>
                  </a:lnTo>
                  <a:lnTo>
                    <a:pt x="132" y="9"/>
                  </a:lnTo>
                  <a:lnTo>
                    <a:pt x="652" y="226"/>
                  </a:lnTo>
                  <a:lnTo>
                    <a:pt x="656" y="229"/>
                  </a:lnTo>
                  <a:lnTo>
                    <a:pt x="661" y="231"/>
                  </a:lnTo>
                  <a:lnTo>
                    <a:pt x="662" y="232"/>
                  </a:lnTo>
                  <a:lnTo>
                    <a:pt x="663" y="232"/>
                  </a:lnTo>
                  <a:lnTo>
                    <a:pt x="664" y="233"/>
                  </a:lnTo>
                  <a:lnTo>
                    <a:pt x="666" y="234"/>
                  </a:lnTo>
                  <a:lnTo>
                    <a:pt x="668" y="236"/>
                  </a:lnTo>
                  <a:lnTo>
                    <a:pt x="670" y="237"/>
                  </a:lnTo>
                  <a:lnTo>
                    <a:pt x="672" y="239"/>
                  </a:lnTo>
                  <a:lnTo>
                    <a:pt x="674" y="240"/>
                  </a:lnTo>
                  <a:lnTo>
                    <a:pt x="676" y="241"/>
                  </a:lnTo>
                  <a:lnTo>
                    <a:pt x="678" y="243"/>
                  </a:lnTo>
                  <a:lnTo>
                    <a:pt x="680" y="245"/>
                  </a:lnTo>
                  <a:lnTo>
                    <a:pt x="682" y="247"/>
                  </a:lnTo>
                  <a:lnTo>
                    <a:pt x="689" y="254"/>
                  </a:lnTo>
                  <a:lnTo>
                    <a:pt x="690" y="256"/>
                  </a:lnTo>
                  <a:lnTo>
                    <a:pt x="691" y="258"/>
                  </a:lnTo>
                  <a:lnTo>
                    <a:pt x="693" y="262"/>
                  </a:lnTo>
                  <a:lnTo>
                    <a:pt x="694" y="263"/>
                  </a:lnTo>
                  <a:lnTo>
                    <a:pt x="695" y="265"/>
                  </a:lnTo>
                  <a:lnTo>
                    <a:pt x="698" y="267"/>
                  </a:lnTo>
                  <a:lnTo>
                    <a:pt x="699" y="269"/>
                  </a:lnTo>
                  <a:lnTo>
                    <a:pt x="699" y="270"/>
                  </a:lnTo>
                  <a:lnTo>
                    <a:pt x="700" y="271"/>
                  </a:lnTo>
                  <a:lnTo>
                    <a:pt x="700" y="272"/>
                  </a:lnTo>
                  <a:lnTo>
                    <a:pt x="701" y="274"/>
                  </a:lnTo>
                  <a:lnTo>
                    <a:pt x="702" y="275"/>
                  </a:lnTo>
                  <a:lnTo>
                    <a:pt x="703" y="278"/>
                  </a:lnTo>
                  <a:lnTo>
                    <a:pt x="703" y="279"/>
                  </a:lnTo>
                  <a:lnTo>
                    <a:pt x="704" y="280"/>
                  </a:lnTo>
                  <a:lnTo>
                    <a:pt x="704" y="281"/>
                  </a:lnTo>
                  <a:lnTo>
                    <a:pt x="706" y="287"/>
                  </a:lnTo>
                  <a:lnTo>
                    <a:pt x="706" y="288"/>
                  </a:lnTo>
                  <a:lnTo>
                    <a:pt x="706" y="289"/>
                  </a:lnTo>
                  <a:lnTo>
                    <a:pt x="706" y="290"/>
                  </a:lnTo>
                  <a:lnTo>
                    <a:pt x="707" y="292"/>
                  </a:lnTo>
                  <a:lnTo>
                    <a:pt x="707" y="294"/>
                  </a:lnTo>
                  <a:lnTo>
                    <a:pt x="708" y="296"/>
                  </a:lnTo>
                  <a:lnTo>
                    <a:pt x="708" y="299"/>
                  </a:lnTo>
                  <a:lnTo>
                    <a:pt x="708" y="303"/>
                  </a:lnTo>
                  <a:lnTo>
                    <a:pt x="709" y="304"/>
                  </a:lnTo>
                  <a:lnTo>
                    <a:pt x="709" y="305"/>
                  </a:lnTo>
                  <a:lnTo>
                    <a:pt x="710" y="308"/>
                  </a:lnTo>
                  <a:lnTo>
                    <a:pt x="710" y="312"/>
                  </a:lnTo>
                  <a:lnTo>
                    <a:pt x="710" y="315"/>
                  </a:lnTo>
                  <a:lnTo>
                    <a:pt x="710" y="649"/>
                  </a:lnTo>
                  <a:lnTo>
                    <a:pt x="3105" y="979"/>
                  </a:lnTo>
                  <a:lnTo>
                    <a:pt x="3108" y="979"/>
                  </a:lnTo>
                  <a:lnTo>
                    <a:pt x="3109" y="979"/>
                  </a:lnTo>
                  <a:lnTo>
                    <a:pt x="3111" y="979"/>
                  </a:lnTo>
                  <a:lnTo>
                    <a:pt x="3112" y="979"/>
                  </a:lnTo>
                  <a:lnTo>
                    <a:pt x="3114" y="980"/>
                  </a:lnTo>
                  <a:lnTo>
                    <a:pt x="3116" y="980"/>
                  </a:lnTo>
                  <a:lnTo>
                    <a:pt x="3118" y="981"/>
                  </a:lnTo>
                  <a:lnTo>
                    <a:pt x="3119" y="981"/>
                  </a:lnTo>
                  <a:lnTo>
                    <a:pt x="3121" y="981"/>
                  </a:lnTo>
                  <a:lnTo>
                    <a:pt x="3122" y="982"/>
                  </a:lnTo>
                  <a:lnTo>
                    <a:pt x="3124" y="983"/>
                  </a:lnTo>
                  <a:lnTo>
                    <a:pt x="3126" y="983"/>
                  </a:lnTo>
                  <a:lnTo>
                    <a:pt x="3130" y="985"/>
                  </a:lnTo>
                  <a:lnTo>
                    <a:pt x="3139" y="990"/>
                  </a:lnTo>
                  <a:lnTo>
                    <a:pt x="3141" y="992"/>
                  </a:lnTo>
                  <a:lnTo>
                    <a:pt x="3144" y="993"/>
                  </a:lnTo>
                  <a:lnTo>
                    <a:pt x="3145" y="994"/>
                  </a:lnTo>
                  <a:lnTo>
                    <a:pt x="3147" y="995"/>
                  </a:lnTo>
                  <a:lnTo>
                    <a:pt x="3149" y="996"/>
                  </a:lnTo>
                  <a:lnTo>
                    <a:pt x="3151" y="998"/>
                  </a:lnTo>
                  <a:lnTo>
                    <a:pt x="3152" y="999"/>
                  </a:lnTo>
                  <a:lnTo>
                    <a:pt x="3153" y="1000"/>
                  </a:lnTo>
                  <a:lnTo>
                    <a:pt x="3154" y="1001"/>
                  </a:lnTo>
                  <a:lnTo>
                    <a:pt x="3159" y="1004"/>
                  </a:lnTo>
                  <a:lnTo>
                    <a:pt x="3160" y="1005"/>
                  </a:lnTo>
                  <a:lnTo>
                    <a:pt x="3161" y="1005"/>
                  </a:lnTo>
                  <a:lnTo>
                    <a:pt x="3161" y="1007"/>
                  </a:lnTo>
                  <a:lnTo>
                    <a:pt x="3162" y="1008"/>
                  </a:lnTo>
                  <a:lnTo>
                    <a:pt x="3163" y="1009"/>
                  </a:lnTo>
                  <a:lnTo>
                    <a:pt x="3164" y="1010"/>
                  </a:lnTo>
                  <a:lnTo>
                    <a:pt x="3165" y="1011"/>
                  </a:lnTo>
                  <a:lnTo>
                    <a:pt x="3166" y="1012"/>
                  </a:lnTo>
                  <a:lnTo>
                    <a:pt x="3167" y="1013"/>
                  </a:lnTo>
                  <a:lnTo>
                    <a:pt x="3168" y="1016"/>
                  </a:lnTo>
                  <a:lnTo>
                    <a:pt x="3169" y="1017"/>
                  </a:lnTo>
                  <a:lnTo>
                    <a:pt x="3169" y="1018"/>
                  </a:lnTo>
                  <a:lnTo>
                    <a:pt x="3171" y="1020"/>
                  </a:lnTo>
                  <a:lnTo>
                    <a:pt x="3172" y="1022"/>
                  </a:lnTo>
                  <a:lnTo>
                    <a:pt x="3173" y="1023"/>
                  </a:lnTo>
                  <a:lnTo>
                    <a:pt x="3174" y="1025"/>
                  </a:lnTo>
                  <a:lnTo>
                    <a:pt x="3176" y="1029"/>
                  </a:lnTo>
                  <a:lnTo>
                    <a:pt x="3177" y="1031"/>
                  </a:lnTo>
                  <a:lnTo>
                    <a:pt x="3179" y="1033"/>
                  </a:lnTo>
                  <a:lnTo>
                    <a:pt x="3180" y="1035"/>
                  </a:lnTo>
                  <a:lnTo>
                    <a:pt x="3181" y="1037"/>
                  </a:lnTo>
                  <a:lnTo>
                    <a:pt x="3182" y="1040"/>
                  </a:lnTo>
                  <a:lnTo>
                    <a:pt x="3183" y="1042"/>
                  </a:lnTo>
                  <a:lnTo>
                    <a:pt x="3183" y="1044"/>
                  </a:lnTo>
                  <a:lnTo>
                    <a:pt x="3184" y="1046"/>
                  </a:lnTo>
                  <a:lnTo>
                    <a:pt x="3185" y="1049"/>
                  </a:lnTo>
                  <a:lnTo>
                    <a:pt x="3185" y="1051"/>
                  </a:lnTo>
                  <a:lnTo>
                    <a:pt x="3186" y="1053"/>
                  </a:lnTo>
                  <a:lnTo>
                    <a:pt x="3186" y="1055"/>
                  </a:lnTo>
                  <a:lnTo>
                    <a:pt x="3186" y="1057"/>
                  </a:lnTo>
                  <a:lnTo>
                    <a:pt x="3187" y="1058"/>
                  </a:lnTo>
                  <a:lnTo>
                    <a:pt x="3187" y="1060"/>
                  </a:lnTo>
                  <a:lnTo>
                    <a:pt x="3187" y="1062"/>
                  </a:lnTo>
                  <a:lnTo>
                    <a:pt x="3187" y="1065"/>
                  </a:lnTo>
                  <a:lnTo>
                    <a:pt x="3187" y="1867"/>
                  </a:lnTo>
                  <a:lnTo>
                    <a:pt x="3184" y="1915"/>
                  </a:lnTo>
                  <a:lnTo>
                    <a:pt x="3175" y="1962"/>
                  </a:lnTo>
                  <a:lnTo>
                    <a:pt x="3161" y="2007"/>
                  </a:lnTo>
                  <a:lnTo>
                    <a:pt x="3142" y="2050"/>
                  </a:lnTo>
                  <a:lnTo>
                    <a:pt x="3117" y="2088"/>
                  </a:lnTo>
                  <a:lnTo>
                    <a:pt x="3089" y="2125"/>
                  </a:lnTo>
                  <a:lnTo>
                    <a:pt x="3056" y="2157"/>
                  </a:lnTo>
                  <a:lnTo>
                    <a:pt x="3020" y="2185"/>
                  </a:lnTo>
                  <a:lnTo>
                    <a:pt x="2981" y="2210"/>
                  </a:lnTo>
                  <a:lnTo>
                    <a:pt x="2938" y="2229"/>
                  </a:lnTo>
                  <a:lnTo>
                    <a:pt x="2893" y="2244"/>
                  </a:lnTo>
                  <a:lnTo>
                    <a:pt x="2846" y="2252"/>
                  </a:lnTo>
                  <a:lnTo>
                    <a:pt x="2798" y="2255"/>
                  </a:lnTo>
                  <a:lnTo>
                    <a:pt x="907" y="2255"/>
                  </a:lnTo>
                  <a:lnTo>
                    <a:pt x="865" y="2253"/>
                  </a:lnTo>
                  <a:lnTo>
                    <a:pt x="823" y="2247"/>
                  </a:lnTo>
                  <a:lnTo>
                    <a:pt x="783" y="2235"/>
                  </a:lnTo>
                  <a:lnTo>
                    <a:pt x="745" y="2221"/>
                  </a:lnTo>
                  <a:lnTo>
                    <a:pt x="709" y="2202"/>
                  </a:lnTo>
                  <a:lnTo>
                    <a:pt x="709" y="2459"/>
                  </a:lnTo>
                  <a:lnTo>
                    <a:pt x="712" y="2495"/>
                  </a:lnTo>
                  <a:lnTo>
                    <a:pt x="722" y="2528"/>
                  </a:lnTo>
                  <a:lnTo>
                    <a:pt x="736" y="2559"/>
                  </a:lnTo>
                  <a:lnTo>
                    <a:pt x="756" y="2588"/>
                  </a:lnTo>
                  <a:lnTo>
                    <a:pt x="780" y="2612"/>
                  </a:lnTo>
                  <a:lnTo>
                    <a:pt x="807" y="2630"/>
                  </a:lnTo>
                  <a:lnTo>
                    <a:pt x="838" y="2646"/>
                  </a:lnTo>
                  <a:lnTo>
                    <a:pt x="872" y="2655"/>
                  </a:lnTo>
                  <a:lnTo>
                    <a:pt x="907" y="2658"/>
                  </a:lnTo>
                  <a:lnTo>
                    <a:pt x="2705" y="2658"/>
                  </a:lnTo>
                  <a:lnTo>
                    <a:pt x="2754" y="2661"/>
                  </a:lnTo>
                  <a:lnTo>
                    <a:pt x="2801" y="2670"/>
                  </a:lnTo>
                  <a:lnTo>
                    <a:pt x="2844" y="2683"/>
                  </a:lnTo>
                  <a:lnTo>
                    <a:pt x="2886" y="2703"/>
                  </a:lnTo>
                  <a:lnTo>
                    <a:pt x="2925" y="2727"/>
                  </a:lnTo>
                  <a:lnTo>
                    <a:pt x="2960" y="2755"/>
                  </a:lnTo>
                  <a:lnTo>
                    <a:pt x="2993" y="2787"/>
                  </a:lnTo>
                  <a:lnTo>
                    <a:pt x="3021" y="2823"/>
                  </a:lnTo>
                  <a:lnTo>
                    <a:pt x="3045" y="2862"/>
                  </a:lnTo>
                  <a:lnTo>
                    <a:pt x="3064" y="2903"/>
                  </a:lnTo>
                  <a:lnTo>
                    <a:pt x="3078" y="2947"/>
                  </a:lnTo>
                  <a:lnTo>
                    <a:pt x="3087" y="2994"/>
                  </a:lnTo>
                  <a:lnTo>
                    <a:pt x="3090" y="3042"/>
                  </a:lnTo>
                  <a:lnTo>
                    <a:pt x="3087" y="3090"/>
                  </a:lnTo>
                  <a:lnTo>
                    <a:pt x="3078" y="3136"/>
                  </a:lnTo>
                  <a:lnTo>
                    <a:pt x="3064" y="3180"/>
                  </a:lnTo>
                  <a:lnTo>
                    <a:pt x="3045" y="3221"/>
                  </a:lnTo>
                  <a:lnTo>
                    <a:pt x="3021" y="3261"/>
                  </a:lnTo>
                  <a:lnTo>
                    <a:pt x="2993" y="3296"/>
                  </a:lnTo>
                  <a:lnTo>
                    <a:pt x="2960" y="3328"/>
                  </a:lnTo>
                  <a:lnTo>
                    <a:pt x="2925" y="3356"/>
                  </a:lnTo>
                  <a:lnTo>
                    <a:pt x="2886" y="3380"/>
                  </a:lnTo>
                  <a:lnTo>
                    <a:pt x="2844" y="3400"/>
                  </a:lnTo>
                  <a:lnTo>
                    <a:pt x="2801" y="3413"/>
                  </a:lnTo>
                  <a:lnTo>
                    <a:pt x="2754" y="3423"/>
                  </a:lnTo>
                  <a:lnTo>
                    <a:pt x="2705" y="3426"/>
                  </a:lnTo>
                  <a:lnTo>
                    <a:pt x="2657" y="3423"/>
                  </a:lnTo>
                  <a:lnTo>
                    <a:pt x="2612" y="3413"/>
                  </a:lnTo>
                  <a:lnTo>
                    <a:pt x="2568" y="3400"/>
                  </a:lnTo>
                  <a:lnTo>
                    <a:pt x="2526" y="3380"/>
                  </a:lnTo>
                  <a:lnTo>
                    <a:pt x="2486" y="3357"/>
                  </a:lnTo>
                  <a:lnTo>
                    <a:pt x="2451" y="3329"/>
                  </a:lnTo>
                  <a:lnTo>
                    <a:pt x="2418" y="3296"/>
                  </a:lnTo>
                  <a:lnTo>
                    <a:pt x="2390" y="3261"/>
                  </a:lnTo>
                  <a:lnTo>
                    <a:pt x="2367" y="3222"/>
                  </a:lnTo>
                  <a:lnTo>
                    <a:pt x="2347" y="3181"/>
                  </a:lnTo>
                  <a:lnTo>
                    <a:pt x="2334" y="3136"/>
                  </a:lnTo>
                  <a:lnTo>
                    <a:pt x="2324" y="3090"/>
                  </a:lnTo>
                  <a:lnTo>
                    <a:pt x="2321" y="3042"/>
                  </a:lnTo>
                  <a:lnTo>
                    <a:pt x="2323" y="3000"/>
                  </a:lnTo>
                  <a:lnTo>
                    <a:pt x="2331" y="2960"/>
                  </a:lnTo>
                  <a:lnTo>
                    <a:pt x="2341" y="2920"/>
                  </a:lnTo>
                  <a:lnTo>
                    <a:pt x="2356" y="2884"/>
                  </a:lnTo>
                  <a:lnTo>
                    <a:pt x="2374" y="2848"/>
                  </a:lnTo>
                  <a:lnTo>
                    <a:pt x="1518" y="2848"/>
                  </a:lnTo>
                  <a:lnTo>
                    <a:pt x="1537" y="2883"/>
                  </a:lnTo>
                  <a:lnTo>
                    <a:pt x="1552" y="2920"/>
                  </a:lnTo>
                  <a:lnTo>
                    <a:pt x="1562" y="2960"/>
                  </a:lnTo>
                  <a:lnTo>
                    <a:pt x="1569" y="3000"/>
                  </a:lnTo>
                  <a:lnTo>
                    <a:pt x="1572" y="3042"/>
                  </a:lnTo>
                  <a:lnTo>
                    <a:pt x="1568" y="3090"/>
                  </a:lnTo>
                  <a:lnTo>
                    <a:pt x="1560" y="3136"/>
                  </a:lnTo>
                  <a:lnTo>
                    <a:pt x="1545" y="3180"/>
                  </a:lnTo>
                  <a:lnTo>
                    <a:pt x="1527" y="3221"/>
                  </a:lnTo>
                  <a:lnTo>
                    <a:pt x="1503" y="3261"/>
                  </a:lnTo>
                  <a:lnTo>
                    <a:pt x="1474" y="3296"/>
                  </a:lnTo>
                  <a:lnTo>
                    <a:pt x="1442" y="3328"/>
                  </a:lnTo>
                  <a:lnTo>
                    <a:pt x="1407" y="3356"/>
                  </a:lnTo>
                  <a:lnTo>
                    <a:pt x="1368" y="3380"/>
                  </a:lnTo>
                  <a:lnTo>
                    <a:pt x="1326" y="3400"/>
                  </a:lnTo>
                  <a:lnTo>
                    <a:pt x="1281" y="3413"/>
                  </a:lnTo>
                  <a:lnTo>
                    <a:pt x="1235" y="3423"/>
                  </a:lnTo>
                  <a:lnTo>
                    <a:pt x="1187" y="3426"/>
                  </a:lnTo>
                  <a:lnTo>
                    <a:pt x="1139" y="3423"/>
                  </a:lnTo>
                  <a:lnTo>
                    <a:pt x="1092" y="3413"/>
                  </a:lnTo>
                  <a:lnTo>
                    <a:pt x="1048" y="3400"/>
                  </a:lnTo>
                  <a:lnTo>
                    <a:pt x="1007" y="3380"/>
                  </a:lnTo>
                  <a:lnTo>
                    <a:pt x="968" y="3357"/>
                  </a:lnTo>
                  <a:lnTo>
                    <a:pt x="932" y="3329"/>
                  </a:lnTo>
                  <a:lnTo>
                    <a:pt x="900" y="3296"/>
                  </a:lnTo>
                  <a:lnTo>
                    <a:pt x="872" y="3261"/>
                  </a:lnTo>
                  <a:lnTo>
                    <a:pt x="848" y="3222"/>
                  </a:lnTo>
                  <a:lnTo>
                    <a:pt x="829" y="3181"/>
                  </a:lnTo>
                  <a:lnTo>
                    <a:pt x="814" y="3136"/>
                  </a:lnTo>
                  <a:lnTo>
                    <a:pt x="806" y="3090"/>
                  </a:lnTo>
                  <a:lnTo>
                    <a:pt x="803" y="3042"/>
                  </a:lnTo>
                  <a:lnTo>
                    <a:pt x="805" y="2999"/>
                  </a:lnTo>
                  <a:lnTo>
                    <a:pt x="812" y="2958"/>
                  </a:lnTo>
                  <a:lnTo>
                    <a:pt x="824" y="2918"/>
                  </a:lnTo>
                  <a:lnTo>
                    <a:pt x="838" y="2880"/>
                  </a:lnTo>
                  <a:lnTo>
                    <a:pt x="858" y="2845"/>
                  </a:lnTo>
                  <a:lnTo>
                    <a:pt x="811" y="2836"/>
                  </a:lnTo>
                  <a:lnTo>
                    <a:pt x="766" y="2821"/>
                  </a:lnTo>
                  <a:lnTo>
                    <a:pt x="725" y="2801"/>
                  </a:lnTo>
                  <a:lnTo>
                    <a:pt x="685" y="2777"/>
                  </a:lnTo>
                  <a:lnTo>
                    <a:pt x="649" y="2749"/>
                  </a:lnTo>
                  <a:lnTo>
                    <a:pt x="617" y="2717"/>
                  </a:lnTo>
                  <a:lnTo>
                    <a:pt x="588" y="2680"/>
                  </a:lnTo>
                  <a:lnTo>
                    <a:pt x="564" y="2642"/>
                  </a:lnTo>
                  <a:lnTo>
                    <a:pt x="545" y="2599"/>
                  </a:lnTo>
                  <a:lnTo>
                    <a:pt x="530" y="2555"/>
                  </a:lnTo>
                  <a:lnTo>
                    <a:pt x="522" y="2508"/>
                  </a:lnTo>
                  <a:lnTo>
                    <a:pt x="519" y="2459"/>
                  </a:lnTo>
                  <a:lnTo>
                    <a:pt x="519" y="378"/>
                  </a:lnTo>
                  <a:lnTo>
                    <a:pt x="57" y="184"/>
                  </a:lnTo>
                  <a:lnTo>
                    <a:pt x="39" y="172"/>
                  </a:lnTo>
                  <a:lnTo>
                    <a:pt x="23" y="159"/>
                  </a:lnTo>
                  <a:lnTo>
                    <a:pt x="10" y="141"/>
                  </a:lnTo>
                  <a:lnTo>
                    <a:pt x="3" y="122"/>
                  </a:lnTo>
                  <a:lnTo>
                    <a:pt x="0" y="101"/>
                  </a:lnTo>
                  <a:lnTo>
                    <a:pt x="1" y="79"/>
                  </a:lnTo>
                  <a:lnTo>
                    <a:pt x="7" y="59"/>
                  </a:lnTo>
                  <a:lnTo>
                    <a:pt x="18" y="40"/>
                  </a:lnTo>
                  <a:lnTo>
                    <a:pt x="32" y="24"/>
                  </a:lnTo>
                  <a:lnTo>
                    <a:pt x="49" y="12"/>
                  </a:lnTo>
                  <a:lnTo>
                    <a:pt x="69" y="4"/>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1" name="Group 8"/>
          <p:cNvGrpSpPr/>
          <p:nvPr/>
        </p:nvGrpSpPr>
        <p:grpSpPr>
          <a:xfrm>
            <a:off x="5462640" y="1911240"/>
            <a:ext cx="701640" cy="625680"/>
            <a:chOff x="5462640" y="1911240"/>
            <a:chExt cx="701640" cy="625680"/>
          </a:xfrm>
        </p:grpSpPr>
        <p:sp>
          <p:nvSpPr>
            <p:cNvPr id="2242" name="Oval 62"/>
            <p:cNvSpPr/>
            <p:nvPr/>
          </p:nvSpPr>
          <p:spPr>
            <a:xfrm>
              <a:off x="5462640" y="1911240"/>
              <a:ext cx="701640" cy="625680"/>
            </a:xfrm>
            <a:prstGeom prst="ellipse">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3" name="Group 69"/>
            <p:cNvGrpSpPr/>
            <p:nvPr/>
          </p:nvGrpSpPr>
          <p:grpSpPr>
            <a:xfrm>
              <a:off x="0" y="0"/>
              <a:ext cx="0" cy="0"/>
              <a:chOff x="0" y="0"/>
              <a:chExt cx="0" cy="0"/>
            </a:xfrm>
          </p:grpSpPr>
        </p:grpSp>
      </p:grpSp>
      <p:grpSp>
        <p:nvGrpSpPr>
          <p:cNvPr id="2244" name="Group 4"/>
          <p:cNvGrpSpPr/>
          <p:nvPr/>
        </p:nvGrpSpPr>
        <p:grpSpPr>
          <a:xfrm>
            <a:off x="4106880" y="4438800"/>
            <a:ext cx="708120" cy="650880"/>
            <a:chOff x="4106880" y="4438800"/>
            <a:chExt cx="708120" cy="650880"/>
          </a:xfrm>
        </p:grpSpPr>
        <p:sp>
          <p:nvSpPr>
            <p:cNvPr id="2245" name="Oval 65"/>
            <p:cNvSpPr/>
            <p:nvPr/>
          </p:nvSpPr>
          <p:spPr>
            <a:xfrm>
              <a:off x="4106880" y="4438800"/>
              <a:ext cx="708120" cy="650880"/>
            </a:xfrm>
            <a:prstGeom prst="ellipse">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6" name="Freeform 184"/>
            <p:cNvSpPr/>
            <p:nvPr/>
          </p:nvSpPr>
          <p:spPr>
            <a:xfrm>
              <a:off x="4291920" y="4603320"/>
              <a:ext cx="337680" cy="321480"/>
            </a:xfrm>
            <a:custGeom>
              <a:avLst/>
              <a:gdLst/>
              <a:ahLst/>
              <a:rect l="l" t="t" r="r" b="b"/>
              <a:pathLst>
                <a:path w="3269" h="3367">
                  <a:moveTo>
                    <a:pt x="293" y="1799"/>
                  </a:moveTo>
                  <a:lnTo>
                    <a:pt x="269" y="1802"/>
                  </a:lnTo>
                  <a:lnTo>
                    <a:pt x="248" y="1809"/>
                  </a:lnTo>
                  <a:lnTo>
                    <a:pt x="228" y="1821"/>
                  </a:lnTo>
                  <a:lnTo>
                    <a:pt x="212" y="1838"/>
                  </a:lnTo>
                  <a:lnTo>
                    <a:pt x="200" y="1856"/>
                  </a:lnTo>
                  <a:lnTo>
                    <a:pt x="192" y="1879"/>
                  </a:lnTo>
                  <a:lnTo>
                    <a:pt x="189" y="1902"/>
                  </a:lnTo>
                  <a:lnTo>
                    <a:pt x="189" y="3047"/>
                  </a:lnTo>
                  <a:lnTo>
                    <a:pt x="192" y="3070"/>
                  </a:lnTo>
                  <a:lnTo>
                    <a:pt x="200" y="3092"/>
                  </a:lnTo>
                  <a:lnTo>
                    <a:pt x="212" y="3111"/>
                  </a:lnTo>
                  <a:lnTo>
                    <a:pt x="228" y="3127"/>
                  </a:lnTo>
                  <a:lnTo>
                    <a:pt x="247" y="3139"/>
                  </a:lnTo>
                  <a:lnTo>
                    <a:pt x="268" y="3147"/>
                  </a:lnTo>
                  <a:lnTo>
                    <a:pt x="293" y="3150"/>
                  </a:lnTo>
                  <a:lnTo>
                    <a:pt x="293" y="3149"/>
                  </a:lnTo>
                  <a:lnTo>
                    <a:pt x="721" y="3149"/>
                  </a:lnTo>
                  <a:lnTo>
                    <a:pt x="745" y="3147"/>
                  </a:lnTo>
                  <a:lnTo>
                    <a:pt x="766" y="3138"/>
                  </a:lnTo>
                  <a:lnTo>
                    <a:pt x="786" y="3126"/>
                  </a:lnTo>
                  <a:lnTo>
                    <a:pt x="801" y="3111"/>
                  </a:lnTo>
                  <a:lnTo>
                    <a:pt x="813" y="3091"/>
                  </a:lnTo>
                  <a:lnTo>
                    <a:pt x="822" y="3070"/>
                  </a:lnTo>
                  <a:lnTo>
                    <a:pt x="824" y="3046"/>
                  </a:lnTo>
                  <a:lnTo>
                    <a:pt x="824" y="1902"/>
                  </a:lnTo>
                  <a:lnTo>
                    <a:pt x="822" y="1879"/>
                  </a:lnTo>
                  <a:lnTo>
                    <a:pt x="813" y="1857"/>
                  </a:lnTo>
                  <a:lnTo>
                    <a:pt x="801" y="1838"/>
                  </a:lnTo>
                  <a:lnTo>
                    <a:pt x="786" y="1822"/>
                  </a:lnTo>
                  <a:lnTo>
                    <a:pt x="766" y="1810"/>
                  </a:lnTo>
                  <a:lnTo>
                    <a:pt x="745" y="1802"/>
                  </a:lnTo>
                  <a:lnTo>
                    <a:pt x="721" y="1799"/>
                  </a:lnTo>
                  <a:lnTo>
                    <a:pt x="293" y="1799"/>
                  </a:lnTo>
                  <a:close/>
                  <a:moveTo>
                    <a:pt x="1782" y="189"/>
                  </a:moveTo>
                  <a:lnTo>
                    <a:pt x="1777" y="203"/>
                  </a:lnTo>
                  <a:lnTo>
                    <a:pt x="1772" y="221"/>
                  </a:lnTo>
                  <a:lnTo>
                    <a:pt x="1769" y="245"/>
                  </a:lnTo>
                  <a:lnTo>
                    <a:pt x="1767" y="272"/>
                  </a:lnTo>
                  <a:lnTo>
                    <a:pt x="1767" y="301"/>
                  </a:lnTo>
                  <a:lnTo>
                    <a:pt x="1768" y="332"/>
                  </a:lnTo>
                  <a:lnTo>
                    <a:pt x="1770" y="363"/>
                  </a:lnTo>
                  <a:lnTo>
                    <a:pt x="1773" y="392"/>
                  </a:lnTo>
                  <a:lnTo>
                    <a:pt x="1775" y="409"/>
                  </a:lnTo>
                  <a:lnTo>
                    <a:pt x="1773" y="425"/>
                  </a:lnTo>
                  <a:lnTo>
                    <a:pt x="1769" y="439"/>
                  </a:lnTo>
                  <a:lnTo>
                    <a:pt x="1767" y="447"/>
                  </a:lnTo>
                  <a:lnTo>
                    <a:pt x="1763" y="459"/>
                  </a:lnTo>
                  <a:lnTo>
                    <a:pt x="1756" y="475"/>
                  </a:lnTo>
                  <a:lnTo>
                    <a:pt x="1748" y="498"/>
                  </a:lnTo>
                  <a:lnTo>
                    <a:pt x="1737" y="523"/>
                  </a:lnTo>
                  <a:lnTo>
                    <a:pt x="1726" y="554"/>
                  </a:lnTo>
                  <a:lnTo>
                    <a:pt x="1712" y="588"/>
                  </a:lnTo>
                  <a:lnTo>
                    <a:pt x="1697" y="626"/>
                  </a:lnTo>
                  <a:lnTo>
                    <a:pt x="1680" y="666"/>
                  </a:lnTo>
                  <a:lnTo>
                    <a:pt x="1662" y="709"/>
                  </a:lnTo>
                  <a:lnTo>
                    <a:pt x="1642" y="754"/>
                  </a:lnTo>
                  <a:lnTo>
                    <a:pt x="1622" y="801"/>
                  </a:lnTo>
                  <a:lnTo>
                    <a:pt x="1599" y="850"/>
                  </a:lnTo>
                  <a:lnTo>
                    <a:pt x="1576" y="900"/>
                  </a:lnTo>
                  <a:lnTo>
                    <a:pt x="1551" y="952"/>
                  </a:lnTo>
                  <a:lnTo>
                    <a:pt x="1526" y="1004"/>
                  </a:lnTo>
                  <a:lnTo>
                    <a:pt x="1499" y="1056"/>
                  </a:lnTo>
                  <a:lnTo>
                    <a:pt x="1472" y="1107"/>
                  </a:lnTo>
                  <a:lnTo>
                    <a:pt x="1444" y="1159"/>
                  </a:lnTo>
                  <a:lnTo>
                    <a:pt x="1415" y="1210"/>
                  </a:lnTo>
                  <a:lnTo>
                    <a:pt x="1385" y="1259"/>
                  </a:lnTo>
                  <a:lnTo>
                    <a:pt x="1355" y="1307"/>
                  </a:lnTo>
                  <a:lnTo>
                    <a:pt x="1324" y="1353"/>
                  </a:lnTo>
                  <a:lnTo>
                    <a:pt x="1292" y="1397"/>
                  </a:lnTo>
                  <a:lnTo>
                    <a:pt x="1261" y="1439"/>
                  </a:lnTo>
                  <a:lnTo>
                    <a:pt x="1229" y="1478"/>
                  </a:lnTo>
                  <a:lnTo>
                    <a:pt x="1196" y="1513"/>
                  </a:lnTo>
                  <a:lnTo>
                    <a:pt x="1164" y="1545"/>
                  </a:lnTo>
                  <a:lnTo>
                    <a:pt x="1132" y="1573"/>
                  </a:lnTo>
                  <a:lnTo>
                    <a:pt x="1102" y="1607"/>
                  </a:lnTo>
                  <a:lnTo>
                    <a:pt x="1077" y="1642"/>
                  </a:lnTo>
                  <a:lnTo>
                    <a:pt x="1057" y="1676"/>
                  </a:lnTo>
                  <a:lnTo>
                    <a:pt x="1040" y="1710"/>
                  </a:lnTo>
                  <a:lnTo>
                    <a:pt x="1025" y="1741"/>
                  </a:lnTo>
                  <a:lnTo>
                    <a:pt x="1015" y="1769"/>
                  </a:lnTo>
                  <a:lnTo>
                    <a:pt x="1007" y="1795"/>
                  </a:lnTo>
                  <a:lnTo>
                    <a:pt x="1001" y="1814"/>
                  </a:lnTo>
                  <a:lnTo>
                    <a:pt x="1008" y="1843"/>
                  </a:lnTo>
                  <a:lnTo>
                    <a:pt x="1012" y="1871"/>
                  </a:lnTo>
                  <a:lnTo>
                    <a:pt x="1014" y="1902"/>
                  </a:lnTo>
                  <a:lnTo>
                    <a:pt x="1014" y="3047"/>
                  </a:lnTo>
                  <a:lnTo>
                    <a:pt x="1012" y="3078"/>
                  </a:lnTo>
                  <a:lnTo>
                    <a:pt x="1008" y="3109"/>
                  </a:lnTo>
                  <a:lnTo>
                    <a:pt x="1078" y="3117"/>
                  </a:lnTo>
                  <a:lnTo>
                    <a:pt x="1079" y="3117"/>
                  </a:lnTo>
                  <a:lnTo>
                    <a:pt x="1084" y="3118"/>
                  </a:lnTo>
                  <a:lnTo>
                    <a:pt x="1094" y="3119"/>
                  </a:lnTo>
                  <a:lnTo>
                    <a:pt x="1110" y="3121"/>
                  </a:lnTo>
                  <a:lnTo>
                    <a:pt x="1133" y="3124"/>
                  </a:lnTo>
                  <a:lnTo>
                    <a:pt x="1160" y="3127"/>
                  </a:lnTo>
                  <a:lnTo>
                    <a:pt x="1193" y="3130"/>
                  </a:lnTo>
                  <a:lnTo>
                    <a:pt x="1231" y="3134"/>
                  </a:lnTo>
                  <a:lnTo>
                    <a:pt x="1273" y="3138"/>
                  </a:lnTo>
                  <a:lnTo>
                    <a:pt x="1319" y="3142"/>
                  </a:lnTo>
                  <a:lnTo>
                    <a:pt x="1369" y="3147"/>
                  </a:lnTo>
                  <a:lnTo>
                    <a:pt x="1422" y="3151"/>
                  </a:lnTo>
                  <a:lnTo>
                    <a:pt x="1477" y="3154"/>
                  </a:lnTo>
                  <a:lnTo>
                    <a:pt x="1537" y="3158"/>
                  </a:lnTo>
                  <a:lnTo>
                    <a:pt x="1598" y="3161"/>
                  </a:lnTo>
                  <a:lnTo>
                    <a:pt x="1661" y="3164"/>
                  </a:lnTo>
                  <a:lnTo>
                    <a:pt x="1725" y="3166"/>
                  </a:lnTo>
                  <a:lnTo>
                    <a:pt x="1792" y="3167"/>
                  </a:lnTo>
                  <a:lnTo>
                    <a:pt x="1858" y="3168"/>
                  </a:lnTo>
                  <a:lnTo>
                    <a:pt x="1926" y="3168"/>
                  </a:lnTo>
                  <a:lnTo>
                    <a:pt x="1994" y="3167"/>
                  </a:lnTo>
                  <a:lnTo>
                    <a:pt x="2003" y="3167"/>
                  </a:lnTo>
                  <a:lnTo>
                    <a:pt x="2081" y="3172"/>
                  </a:lnTo>
                  <a:lnTo>
                    <a:pt x="2156" y="3176"/>
                  </a:lnTo>
                  <a:lnTo>
                    <a:pt x="2225" y="3177"/>
                  </a:lnTo>
                  <a:lnTo>
                    <a:pt x="2292" y="3176"/>
                  </a:lnTo>
                  <a:lnTo>
                    <a:pt x="2354" y="3173"/>
                  </a:lnTo>
                  <a:lnTo>
                    <a:pt x="2413" y="3168"/>
                  </a:lnTo>
                  <a:lnTo>
                    <a:pt x="2467" y="3161"/>
                  </a:lnTo>
                  <a:lnTo>
                    <a:pt x="2516" y="3152"/>
                  </a:lnTo>
                  <a:lnTo>
                    <a:pt x="2573" y="3137"/>
                  </a:lnTo>
                  <a:lnTo>
                    <a:pt x="2625" y="3121"/>
                  </a:lnTo>
                  <a:lnTo>
                    <a:pt x="2672" y="3103"/>
                  </a:lnTo>
                  <a:lnTo>
                    <a:pt x="2713" y="3081"/>
                  </a:lnTo>
                  <a:lnTo>
                    <a:pt x="2750" y="3057"/>
                  </a:lnTo>
                  <a:lnTo>
                    <a:pt x="2781" y="3032"/>
                  </a:lnTo>
                  <a:lnTo>
                    <a:pt x="2807" y="3003"/>
                  </a:lnTo>
                  <a:lnTo>
                    <a:pt x="2827" y="2972"/>
                  </a:lnTo>
                  <a:lnTo>
                    <a:pt x="2840" y="2947"/>
                  </a:lnTo>
                  <a:lnTo>
                    <a:pt x="2848" y="2920"/>
                  </a:lnTo>
                  <a:lnTo>
                    <a:pt x="2854" y="2895"/>
                  </a:lnTo>
                  <a:lnTo>
                    <a:pt x="2856" y="2871"/>
                  </a:lnTo>
                  <a:lnTo>
                    <a:pt x="2856" y="2850"/>
                  </a:lnTo>
                  <a:lnTo>
                    <a:pt x="2854" y="2830"/>
                  </a:lnTo>
                  <a:lnTo>
                    <a:pt x="2852" y="2814"/>
                  </a:lnTo>
                  <a:lnTo>
                    <a:pt x="2849" y="2801"/>
                  </a:lnTo>
                  <a:lnTo>
                    <a:pt x="2847" y="2794"/>
                  </a:lnTo>
                  <a:lnTo>
                    <a:pt x="2846" y="2791"/>
                  </a:lnTo>
                  <a:lnTo>
                    <a:pt x="2841" y="2772"/>
                  </a:lnTo>
                  <a:lnTo>
                    <a:pt x="2841" y="2751"/>
                  </a:lnTo>
                  <a:lnTo>
                    <a:pt x="2844" y="2732"/>
                  </a:lnTo>
                  <a:lnTo>
                    <a:pt x="2853" y="2713"/>
                  </a:lnTo>
                  <a:lnTo>
                    <a:pt x="2864" y="2697"/>
                  </a:lnTo>
                  <a:lnTo>
                    <a:pt x="2879" y="2683"/>
                  </a:lnTo>
                  <a:lnTo>
                    <a:pt x="2915" y="2652"/>
                  </a:lnTo>
                  <a:lnTo>
                    <a:pt x="2947" y="2620"/>
                  </a:lnTo>
                  <a:lnTo>
                    <a:pt x="2971" y="2586"/>
                  </a:lnTo>
                  <a:lnTo>
                    <a:pt x="2990" y="2551"/>
                  </a:lnTo>
                  <a:lnTo>
                    <a:pt x="3003" y="2516"/>
                  </a:lnTo>
                  <a:lnTo>
                    <a:pt x="3010" y="2478"/>
                  </a:lnTo>
                  <a:lnTo>
                    <a:pt x="3011" y="2439"/>
                  </a:lnTo>
                  <a:lnTo>
                    <a:pt x="3008" y="2414"/>
                  </a:lnTo>
                  <a:lnTo>
                    <a:pt x="3004" y="2393"/>
                  </a:lnTo>
                  <a:lnTo>
                    <a:pt x="2999" y="2372"/>
                  </a:lnTo>
                  <a:lnTo>
                    <a:pt x="2994" y="2355"/>
                  </a:lnTo>
                  <a:lnTo>
                    <a:pt x="2988" y="2342"/>
                  </a:lnTo>
                  <a:lnTo>
                    <a:pt x="2984" y="2330"/>
                  </a:lnTo>
                  <a:lnTo>
                    <a:pt x="2979" y="2324"/>
                  </a:lnTo>
                  <a:lnTo>
                    <a:pt x="2978" y="2321"/>
                  </a:lnTo>
                  <a:lnTo>
                    <a:pt x="2969" y="2303"/>
                  </a:lnTo>
                  <a:lnTo>
                    <a:pt x="2965" y="2282"/>
                  </a:lnTo>
                  <a:lnTo>
                    <a:pt x="2965" y="2262"/>
                  </a:lnTo>
                  <a:lnTo>
                    <a:pt x="2970" y="2242"/>
                  </a:lnTo>
                  <a:lnTo>
                    <a:pt x="2978" y="2224"/>
                  </a:lnTo>
                  <a:lnTo>
                    <a:pt x="2991" y="2206"/>
                  </a:lnTo>
                  <a:lnTo>
                    <a:pt x="3024" y="2168"/>
                  </a:lnTo>
                  <a:lnTo>
                    <a:pt x="3049" y="2131"/>
                  </a:lnTo>
                  <a:lnTo>
                    <a:pt x="3067" y="2093"/>
                  </a:lnTo>
                  <a:lnTo>
                    <a:pt x="3077" y="2055"/>
                  </a:lnTo>
                  <a:lnTo>
                    <a:pt x="3079" y="2017"/>
                  </a:lnTo>
                  <a:lnTo>
                    <a:pt x="3077" y="1991"/>
                  </a:lnTo>
                  <a:lnTo>
                    <a:pt x="3072" y="1968"/>
                  </a:lnTo>
                  <a:lnTo>
                    <a:pt x="3063" y="1946"/>
                  </a:lnTo>
                  <a:lnTo>
                    <a:pt x="3054" y="1926"/>
                  </a:lnTo>
                  <a:lnTo>
                    <a:pt x="3044" y="1908"/>
                  </a:lnTo>
                  <a:lnTo>
                    <a:pt x="3034" y="1892"/>
                  </a:lnTo>
                  <a:lnTo>
                    <a:pt x="3023" y="1879"/>
                  </a:lnTo>
                  <a:lnTo>
                    <a:pt x="3015" y="1867"/>
                  </a:lnTo>
                  <a:lnTo>
                    <a:pt x="3008" y="1859"/>
                  </a:lnTo>
                  <a:lnTo>
                    <a:pt x="3003" y="1854"/>
                  </a:lnTo>
                  <a:lnTo>
                    <a:pt x="3001" y="1853"/>
                  </a:lnTo>
                  <a:lnTo>
                    <a:pt x="2986" y="1836"/>
                  </a:lnTo>
                  <a:lnTo>
                    <a:pt x="2975" y="1815"/>
                  </a:lnTo>
                  <a:lnTo>
                    <a:pt x="2969" y="1795"/>
                  </a:lnTo>
                  <a:lnTo>
                    <a:pt x="2969" y="1772"/>
                  </a:lnTo>
                  <a:lnTo>
                    <a:pt x="2974" y="1751"/>
                  </a:lnTo>
                  <a:lnTo>
                    <a:pt x="2985" y="1730"/>
                  </a:lnTo>
                  <a:lnTo>
                    <a:pt x="2988" y="1725"/>
                  </a:lnTo>
                  <a:lnTo>
                    <a:pt x="2993" y="1715"/>
                  </a:lnTo>
                  <a:lnTo>
                    <a:pt x="2999" y="1702"/>
                  </a:lnTo>
                  <a:lnTo>
                    <a:pt x="3005" y="1685"/>
                  </a:lnTo>
                  <a:lnTo>
                    <a:pt x="3011" y="1668"/>
                  </a:lnTo>
                  <a:lnTo>
                    <a:pt x="3016" y="1646"/>
                  </a:lnTo>
                  <a:lnTo>
                    <a:pt x="3019" y="1624"/>
                  </a:lnTo>
                  <a:lnTo>
                    <a:pt x="3020" y="1599"/>
                  </a:lnTo>
                  <a:lnTo>
                    <a:pt x="3018" y="1574"/>
                  </a:lnTo>
                  <a:lnTo>
                    <a:pt x="3011" y="1549"/>
                  </a:lnTo>
                  <a:lnTo>
                    <a:pt x="3000" y="1523"/>
                  </a:lnTo>
                  <a:lnTo>
                    <a:pt x="2984" y="1498"/>
                  </a:lnTo>
                  <a:lnTo>
                    <a:pt x="2960" y="1473"/>
                  </a:lnTo>
                  <a:lnTo>
                    <a:pt x="2935" y="1453"/>
                  </a:lnTo>
                  <a:lnTo>
                    <a:pt x="2907" y="1437"/>
                  </a:lnTo>
                  <a:lnTo>
                    <a:pt x="2874" y="1424"/>
                  </a:lnTo>
                  <a:lnTo>
                    <a:pt x="2838" y="1413"/>
                  </a:lnTo>
                  <a:lnTo>
                    <a:pt x="2799" y="1403"/>
                  </a:lnTo>
                  <a:lnTo>
                    <a:pt x="2757" y="1396"/>
                  </a:lnTo>
                  <a:lnTo>
                    <a:pt x="2713" y="1391"/>
                  </a:lnTo>
                  <a:lnTo>
                    <a:pt x="2668" y="1388"/>
                  </a:lnTo>
                  <a:lnTo>
                    <a:pt x="2622" y="1386"/>
                  </a:lnTo>
                  <a:lnTo>
                    <a:pt x="2575" y="1386"/>
                  </a:lnTo>
                  <a:lnTo>
                    <a:pt x="2527" y="1388"/>
                  </a:lnTo>
                  <a:lnTo>
                    <a:pt x="2480" y="1390"/>
                  </a:lnTo>
                  <a:lnTo>
                    <a:pt x="2433" y="1394"/>
                  </a:lnTo>
                  <a:lnTo>
                    <a:pt x="2388" y="1399"/>
                  </a:lnTo>
                  <a:lnTo>
                    <a:pt x="2343" y="1405"/>
                  </a:lnTo>
                  <a:lnTo>
                    <a:pt x="2301" y="1412"/>
                  </a:lnTo>
                  <a:lnTo>
                    <a:pt x="2260" y="1419"/>
                  </a:lnTo>
                  <a:lnTo>
                    <a:pt x="2223" y="1427"/>
                  </a:lnTo>
                  <a:lnTo>
                    <a:pt x="2218" y="1428"/>
                  </a:lnTo>
                  <a:lnTo>
                    <a:pt x="2214" y="1429"/>
                  </a:lnTo>
                  <a:lnTo>
                    <a:pt x="2155" y="1439"/>
                  </a:lnTo>
                  <a:lnTo>
                    <a:pt x="2091" y="1453"/>
                  </a:lnTo>
                  <a:lnTo>
                    <a:pt x="2071" y="1459"/>
                  </a:lnTo>
                  <a:lnTo>
                    <a:pt x="2049" y="1462"/>
                  </a:lnTo>
                  <a:lnTo>
                    <a:pt x="2027" y="1463"/>
                  </a:lnTo>
                  <a:lnTo>
                    <a:pt x="2004" y="1460"/>
                  </a:lnTo>
                  <a:lnTo>
                    <a:pt x="1981" y="1452"/>
                  </a:lnTo>
                  <a:lnTo>
                    <a:pt x="1959" y="1441"/>
                  </a:lnTo>
                  <a:lnTo>
                    <a:pt x="1938" y="1426"/>
                  </a:lnTo>
                  <a:lnTo>
                    <a:pt x="1920" y="1407"/>
                  </a:lnTo>
                  <a:lnTo>
                    <a:pt x="1906" y="1387"/>
                  </a:lnTo>
                  <a:lnTo>
                    <a:pt x="1895" y="1362"/>
                  </a:lnTo>
                  <a:lnTo>
                    <a:pt x="1886" y="1336"/>
                  </a:lnTo>
                  <a:lnTo>
                    <a:pt x="1880" y="1305"/>
                  </a:lnTo>
                  <a:lnTo>
                    <a:pt x="1875" y="1271"/>
                  </a:lnTo>
                  <a:lnTo>
                    <a:pt x="1875" y="1234"/>
                  </a:lnTo>
                  <a:lnTo>
                    <a:pt x="1877" y="1193"/>
                  </a:lnTo>
                  <a:lnTo>
                    <a:pt x="1883" y="1148"/>
                  </a:lnTo>
                  <a:lnTo>
                    <a:pt x="1891" y="1100"/>
                  </a:lnTo>
                  <a:lnTo>
                    <a:pt x="1901" y="1047"/>
                  </a:lnTo>
                  <a:lnTo>
                    <a:pt x="1914" y="991"/>
                  </a:lnTo>
                  <a:lnTo>
                    <a:pt x="1931" y="930"/>
                  </a:lnTo>
                  <a:lnTo>
                    <a:pt x="1950" y="865"/>
                  </a:lnTo>
                  <a:lnTo>
                    <a:pt x="1973" y="796"/>
                  </a:lnTo>
                  <a:lnTo>
                    <a:pt x="1992" y="732"/>
                  </a:lnTo>
                  <a:lnTo>
                    <a:pt x="2007" y="673"/>
                  </a:lnTo>
                  <a:lnTo>
                    <a:pt x="2020" y="617"/>
                  </a:lnTo>
                  <a:lnTo>
                    <a:pt x="2028" y="562"/>
                  </a:lnTo>
                  <a:lnTo>
                    <a:pt x="2032" y="512"/>
                  </a:lnTo>
                  <a:lnTo>
                    <a:pt x="2033" y="465"/>
                  </a:lnTo>
                  <a:lnTo>
                    <a:pt x="2030" y="422"/>
                  </a:lnTo>
                  <a:lnTo>
                    <a:pt x="2023" y="382"/>
                  </a:lnTo>
                  <a:lnTo>
                    <a:pt x="2013" y="345"/>
                  </a:lnTo>
                  <a:lnTo>
                    <a:pt x="1999" y="312"/>
                  </a:lnTo>
                  <a:lnTo>
                    <a:pt x="1981" y="284"/>
                  </a:lnTo>
                  <a:lnTo>
                    <a:pt x="1961" y="260"/>
                  </a:lnTo>
                  <a:lnTo>
                    <a:pt x="1941" y="242"/>
                  </a:lnTo>
                  <a:lnTo>
                    <a:pt x="1918" y="226"/>
                  </a:lnTo>
                  <a:lnTo>
                    <a:pt x="1896" y="214"/>
                  </a:lnTo>
                  <a:lnTo>
                    <a:pt x="1873" y="205"/>
                  </a:lnTo>
                  <a:lnTo>
                    <a:pt x="1851" y="198"/>
                  </a:lnTo>
                  <a:lnTo>
                    <a:pt x="1830" y="194"/>
                  </a:lnTo>
                  <a:lnTo>
                    <a:pt x="1812" y="191"/>
                  </a:lnTo>
                  <a:lnTo>
                    <a:pt x="1796" y="190"/>
                  </a:lnTo>
                  <a:lnTo>
                    <a:pt x="1782" y="189"/>
                  </a:lnTo>
                  <a:close/>
                  <a:moveTo>
                    <a:pt x="1778" y="0"/>
                  </a:moveTo>
                  <a:lnTo>
                    <a:pt x="1793" y="0"/>
                  </a:lnTo>
                  <a:lnTo>
                    <a:pt x="1812" y="1"/>
                  </a:lnTo>
                  <a:lnTo>
                    <a:pt x="1835" y="3"/>
                  </a:lnTo>
                  <a:lnTo>
                    <a:pt x="1860" y="7"/>
                  </a:lnTo>
                  <a:lnTo>
                    <a:pt x="1888" y="13"/>
                  </a:lnTo>
                  <a:lnTo>
                    <a:pt x="1918" y="22"/>
                  </a:lnTo>
                  <a:lnTo>
                    <a:pt x="1949" y="32"/>
                  </a:lnTo>
                  <a:lnTo>
                    <a:pt x="1982" y="46"/>
                  </a:lnTo>
                  <a:lnTo>
                    <a:pt x="2015" y="64"/>
                  </a:lnTo>
                  <a:lnTo>
                    <a:pt x="2046" y="84"/>
                  </a:lnTo>
                  <a:lnTo>
                    <a:pt x="2078" y="110"/>
                  </a:lnTo>
                  <a:lnTo>
                    <a:pt x="2108" y="139"/>
                  </a:lnTo>
                  <a:lnTo>
                    <a:pt x="2136" y="174"/>
                  </a:lnTo>
                  <a:lnTo>
                    <a:pt x="2162" y="214"/>
                  </a:lnTo>
                  <a:lnTo>
                    <a:pt x="2182" y="257"/>
                  </a:lnTo>
                  <a:lnTo>
                    <a:pt x="2200" y="303"/>
                  </a:lnTo>
                  <a:lnTo>
                    <a:pt x="2212" y="352"/>
                  </a:lnTo>
                  <a:lnTo>
                    <a:pt x="2220" y="405"/>
                  </a:lnTo>
                  <a:lnTo>
                    <a:pt x="2223" y="460"/>
                  </a:lnTo>
                  <a:lnTo>
                    <a:pt x="2223" y="519"/>
                  </a:lnTo>
                  <a:lnTo>
                    <a:pt x="2218" y="581"/>
                  </a:lnTo>
                  <a:lnTo>
                    <a:pt x="2208" y="645"/>
                  </a:lnTo>
                  <a:lnTo>
                    <a:pt x="2195" y="713"/>
                  </a:lnTo>
                  <a:lnTo>
                    <a:pt x="2176" y="784"/>
                  </a:lnTo>
                  <a:lnTo>
                    <a:pt x="2154" y="856"/>
                  </a:lnTo>
                  <a:lnTo>
                    <a:pt x="2136" y="913"/>
                  </a:lnTo>
                  <a:lnTo>
                    <a:pt x="2121" y="964"/>
                  </a:lnTo>
                  <a:lnTo>
                    <a:pt x="2108" y="1010"/>
                  </a:lnTo>
                  <a:lnTo>
                    <a:pt x="2097" y="1052"/>
                  </a:lnTo>
                  <a:lnTo>
                    <a:pt x="2088" y="1090"/>
                  </a:lnTo>
                  <a:lnTo>
                    <a:pt x="2081" y="1124"/>
                  </a:lnTo>
                  <a:lnTo>
                    <a:pt x="2075" y="1153"/>
                  </a:lnTo>
                  <a:lnTo>
                    <a:pt x="2071" y="1180"/>
                  </a:lnTo>
                  <a:lnTo>
                    <a:pt x="2069" y="1204"/>
                  </a:lnTo>
                  <a:lnTo>
                    <a:pt x="2067" y="1223"/>
                  </a:lnTo>
                  <a:lnTo>
                    <a:pt x="2066" y="1240"/>
                  </a:lnTo>
                  <a:lnTo>
                    <a:pt x="2066" y="1255"/>
                  </a:lnTo>
                  <a:lnTo>
                    <a:pt x="2066" y="1266"/>
                  </a:lnTo>
                  <a:lnTo>
                    <a:pt x="2122" y="1254"/>
                  </a:lnTo>
                  <a:lnTo>
                    <a:pt x="2176" y="1244"/>
                  </a:lnTo>
                  <a:lnTo>
                    <a:pt x="2177" y="1244"/>
                  </a:lnTo>
                  <a:lnTo>
                    <a:pt x="2182" y="1243"/>
                  </a:lnTo>
                  <a:lnTo>
                    <a:pt x="2193" y="1240"/>
                  </a:lnTo>
                  <a:lnTo>
                    <a:pt x="2208" y="1237"/>
                  </a:lnTo>
                  <a:lnTo>
                    <a:pt x="2228" y="1233"/>
                  </a:lnTo>
                  <a:lnTo>
                    <a:pt x="2254" y="1229"/>
                  </a:lnTo>
                  <a:lnTo>
                    <a:pt x="2284" y="1224"/>
                  </a:lnTo>
                  <a:lnTo>
                    <a:pt x="2316" y="1219"/>
                  </a:lnTo>
                  <a:lnTo>
                    <a:pt x="2353" y="1214"/>
                  </a:lnTo>
                  <a:lnTo>
                    <a:pt x="2392" y="1210"/>
                  </a:lnTo>
                  <a:lnTo>
                    <a:pt x="2434" y="1206"/>
                  </a:lnTo>
                  <a:lnTo>
                    <a:pt x="2478" y="1202"/>
                  </a:lnTo>
                  <a:lnTo>
                    <a:pt x="2523" y="1199"/>
                  </a:lnTo>
                  <a:lnTo>
                    <a:pt x="2600" y="1197"/>
                  </a:lnTo>
                  <a:lnTo>
                    <a:pt x="2672" y="1198"/>
                  </a:lnTo>
                  <a:lnTo>
                    <a:pt x="2740" y="1204"/>
                  </a:lnTo>
                  <a:lnTo>
                    <a:pt x="2803" y="1212"/>
                  </a:lnTo>
                  <a:lnTo>
                    <a:pt x="2863" y="1224"/>
                  </a:lnTo>
                  <a:lnTo>
                    <a:pt x="2917" y="1239"/>
                  </a:lnTo>
                  <a:lnTo>
                    <a:pt x="2967" y="1258"/>
                  </a:lnTo>
                  <a:lnTo>
                    <a:pt x="3012" y="1279"/>
                  </a:lnTo>
                  <a:lnTo>
                    <a:pt x="3052" y="1305"/>
                  </a:lnTo>
                  <a:lnTo>
                    <a:pt x="3088" y="1335"/>
                  </a:lnTo>
                  <a:lnTo>
                    <a:pt x="3121" y="1367"/>
                  </a:lnTo>
                  <a:lnTo>
                    <a:pt x="3147" y="1401"/>
                  </a:lnTo>
                  <a:lnTo>
                    <a:pt x="3169" y="1436"/>
                  </a:lnTo>
                  <a:lnTo>
                    <a:pt x="3185" y="1471"/>
                  </a:lnTo>
                  <a:lnTo>
                    <a:pt x="3197" y="1507"/>
                  </a:lnTo>
                  <a:lnTo>
                    <a:pt x="3205" y="1543"/>
                  </a:lnTo>
                  <a:lnTo>
                    <a:pt x="3209" y="1577"/>
                  </a:lnTo>
                  <a:lnTo>
                    <a:pt x="3210" y="1612"/>
                  </a:lnTo>
                  <a:lnTo>
                    <a:pt x="3208" y="1646"/>
                  </a:lnTo>
                  <a:lnTo>
                    <a:pt x="3203" y="1679"/>
                  </a:lnTo>
                  <a:lnTo>
                    <a:pt x="3196" y="1711"/>
                  </a:lnTo>
                  <a:lnTo>
                    <a:pt x="3187" y="1740"/>
                  </a:lnTo>
                  <a:lnTo>
                    <a:pt x="3178" y="1767"/>
                  </a:lnTo>
                  <a:lnTo>
                    <a:pt x="3195" y="1791"/>
                  </a:lnTo>
                  <a:lnTo>
                    <a:pt x="3213" y="1819"/>
                  </a:lnTo>
                  <a:lnTo>
                    <a:pt x="3229" y="1851"/>
                  </a:lnTo>
                  <a:lnTo>
                    <a:pt x="3243" y="1886"/>
                  </a:lnTo>
                  <a:lnTo>
                    <a:pt x="3256" y="1924"/>
                  </a:lnTo>
                  <a:lnTo>
                    <a:pt x="3265" y="1966"/>
                  </a:lnTo>
                  <a:lnTo>
                    <a:pt x="3269" y="2010"/>
                  </a:lnTo>
                  <a:lnTo>
                    <a:pt x="3268" y="2058"/>
                  </a:lnTo>
                  <a:lnTo>
                    <a:pt x="3261" y="2106"/>
                  </a:lnTo>
                  <a:lnTo>
                    <a:pt x="3247" y="2153"/>
                  </a:lnTo>
                  <a:lnTo>
                    <a:pt x="3228" y="2199"/>
                  </a:lnTo>
                  <a:lnTo>
                    <a:pt x="3202" y="2244"/>
                  </a:lnTo>
                  <a:lnTo>
                    <a:pt x="3171" y="2289"/>
                  </a:lnTo>
                  <a:lnTo>
                    <a:pt x="3181" y="2318"/>
                  </a:lnTo>
                  <a:lnTo>
                    <a:pt x="3189" y="2352"/>
                  </a:lnTo>
                  <a:lnTo>
                    <a:pt x="3196" y="2390"/>
                  </a:lnTo>
                  <a:lnTo>
                    <a:pt x="3200" y="2431"/>
                  </a:lnTo>
                  <a:lnTo>
                    <a:pt x="3200" y="2461"/>
                  </a:lnTo>
                  <a:lnTo>
                    <a:pt x="3198" y="2494"/>
                  </a:lnTo>
                  <a:lnTo>
                    <a:pt x="3194" y="2529"/>
                  </a:lnTo>
                  <a:lnTo>
                    <a:pt x="3186" y="2566"/>
                  </a:lnTo>
                  <a:lnTo>
                    <a:pt x="3175" y="2603"/>
                  </a:lnTo>
                  <a:lnTo>
                    <a:pt x="3158" y="2642"/>
                  </a:lnTo>
                  <a:lnTo>
                    <a:pt x="3138" y="2680"/>
                  </a:lnTo>
                  <a:lnTo>
                    <a:pt x="3111" y="2718"/>
                  </a:lnTo>
                  <a:lnTo>
                    <a:pt x="3079" y="2757"/>
                  </a:lnTo>
                  <a:lnTo>
                    <a:pt x="3041" y="2796"/>
                  </a:lnTo>
                  <a:lnTo>
                    <a:pt x="3044" y="2826"/>
                  </a:lnTo>
                  <a:lnTo>
                    <a:pt x="3045" y="2860"/>
                  </a:lnTo>
                  <a:lnTo>
                    <a:pt x="3044" y="2897"/>
                  </a:lnTo>
                  <a:lnTo>
                    <a:pt x="3038" y="2937"/>
                  </a:lnTo>
                  <a:lnTo>
                    <a:pt x="3029" y="2979"/>
                  </a:lnTo>
                  <a:lnTo>
                    <a:pt x="3013" y="3022"/>
                  </a:lnTo>
                  <a:lnTo>
                    <a:pt x="2993" y="3066"/>
                  </a:lnTo>
                  <a:lnTo>
                    <a:pt x="2968" y="3105"/>
                  </a:lnTo>
                  <a:lnTo>
                    <a:pt x="2940" y="3141"/>
                  </a:lnTo>
                  <a:lnTo>
                    <a:pt x="2906" y="3175"/>
                  </a:lnTo>
                  <a:lnTo>
                    <a:pt x="2869" y="3206"/>
                  </a:lnTo>
                  <a:lnTo>
                    <a:pt x="2827" y="3235"/>
                  </a:lnTo>
                  <a:lnTo>
                    <a:pt x="2781" y="3261"/>
                  </a:lnTo>
                  <a:lnTo>
                    <a:pt x="2731" y="3284"/>
                  </a:lnTo>
                  <a:lnTo>
                    <a:pt x="2677" y="3304"/>
                  </a:lnTo>
                  <a:lnTo>
                    <a:pt x="2618" y="3323"/>
                  </a:lnTo>
                  <a:lnTo>
                    <a:pt x="2556" y="3338"/>
                  </a:lnTo>
                  <a:lnTo>
                    <a:pt x="2499" y="3348"/>
                  </a:lnTo>
                  <a:lnTo>
                    <a:pt x="2437" y="3357"/>
                  </a:lnTo>
                  <a:lnTo>
                    <a:pt x="2372" y="3363"/>
                  </a:lnTo>
                  <a:lnTo>
                    <a:pt x="2302" y="3366"/>
                  </a:lnTo>
                  <a:lnTo>
                    <a:pt x="2228" y="3367"/>
                  </a:lnTo>
                  <a:lnTo>
                    <a:pt x="2154" y="3366"/>
                  </a:lnTo>
                  <a:lnTo>
                    <a:pt x="2075" y="3363"/>
                  </a:lnTo>
                  <a:lnTo>
                    <a:pt x="1993" y="3358"/>
                  </a:lnTo>
                  <a:lnTo>
                    <a:pt x="1920" y="3359"/>
                  </a:lnTo>
                  <a:lnTo>
                    <a:pt x="1848" y="3359"/>
                  </a:lnTo>
                  <a:lnTo>
                    <a:pt x="1776" y="3358"/>
                  </a:lnTo>
                  <a:lnTo>
                    <a:pt x="1707" y="3356"/>
                  </a:lnTo>
                  <a:lnTo>
                    <a:pt x="1638" y="3353"/>
                  </a:lnTo>
                  <a:lnTo>
                    <a:pt x="1572" y="3350"/>
                  </a:lnTo>
                  <a:lnTo>
                    <a:pt x="1508" y="3346"/>
                  </a:lnTo>
                  <a:lnTo>
                    <a:pt x="1447" y="3342"/>
                  </a:lnTo>
                  <a:lnTo>
                    <a:pt x="1388" y="3338"/>
                  </a:lnTo>
                  <a:lnTo>
                    <a:pt x="1333" y="3334"/>
                  </a:lnTo>
                  <a:lnTo>
                    <a:pt x="1282" y="3330"/>
                  </a:lnTo>
                  <a:lnTo>
                    <a:pt x="1236" y="3326"/>
                  </a:lnTo>
                  <a:lnTo>
                    <a:pt x="1193" y="3322"/>
                  </a:lnTo>
                  <a:lnTo>
                    <a:pt x="1156" y="3318"/>
                  </a:lnTo>
                  <a:lnTo>
                    <a:pt x="1124" y="3315"/>
                  </a:lnTo>
                  <a:lnTo>
                    <a:pt x="1098" y="3311"/>
                  </a:lnTo>
                  <a:lnTo>
                    <a:pt x="1077" y="3308"/>
                  </a:lnTo>
                  <a:lnTo>
                    <a:pt x="1063" y="3307"/>
                  </a:lnTo>
                  <a:lnTo>
                    <a:pt x="1055" y="3306"/>
                  </a:lnTo>
                  <a:lnTo>
                    <a:pt x="890" y="3286"/>
                  </a:lnTo>
                  <a:lnTo>
                    <a:pt x="860" y="3304"/>
                  </a:lnTo>
                  <a:lnTo>
                    <a:pt x="828" y="3320"/>
                  </a:lnTo>
                  <a:lnTo>
                    <a:pt x="794" y="3331"/>
                  </a:lnTo>
                  <a:lnTo>
                    <a:pt x="758" y="3337"/>
                  </a:lnTo>
                  <a:lnTo>
                    <a:pt x="721" y="3340"/>
                  </a:lnTo>
                  <a:lnTo>
                    <a:pt x="293" y="3340"/>
                  </a:lnTo>
                  <a:lnTo>
                    <a:pt x="249" y="3337"/>
                  </a:lnTo>
                  <a:lnTo>
                    <a:pt x="208" y="3328"/>
                  </a:lnTo>
                  <a:lnTo>
                    <a:pt x="169" y="3312"/>
                  </a:lnTo>
                  <a:lnTo>
                    <a:pt x="133" y="3293"/>
                  </a:lnTo>
                  <a:lnTo>
                    <a:pt x="100" y="3268"/>
                  </a:lnTo>
                  <a:lnTo>
                    <a:pt x="72" y="3239"/>
                  </a:lnTo>
                  <a:lnTo>
                    <a:pt x="47" y="3206"/>
                  </a:lnTo>
                  <a:lnTo>
                    <a:pt x="27" y="3170"/>
                  </a:lnTo>
                  <a:lnTo>
                    <a:pt x="12" y="3131"/>
                  </a:lnTo>
                  <a:lnTo>
                    <a:pt x="3" y="3090"/>
                  </a:lnTo>
                  <a:lnTo>
                    <a:pt x="0" y="3047"/>
                  </a:lnTo>
                  <a:lnTo>
                    <a:pt x="0" y="1902"/>
                  </a:lnTo>
                  <a:lnTo>
                    <a:pt x="3" y="1859"/>
                  </a:lnTo>
                  <a:lnTo>
                    <a:pt x="12" y="1818"/>
                  </a:lnTo>
                  <a:lnTo>
                    <a:pt x="27" y="1779"/>
                  </a:lnTo>
                  <a:lnTo>
                    <a:pt x="47" y="1743"/>
                  </a:lnTo>
                  <a:lnTo>
                    <a:pt x="72" y="1711"/>
                  </a:lnTo>
                  <a:lnTo>
                    <a:pt x="100" y="1682"/>
                  </a:lnTo>
                  <a:lnTo>
                    <a:pt x="133" y="1657"/>
                  </a:lnTo>
                  <a:lnTo>
                    <a:pt x="169" y="1637"/>
                  </a:lnTo>
                  <a:lnTo>
                    <a:pt x="208" y="1622"/>
                  </a:lnTo>
                  <a:lnTo>
                    <a:pt x="249" y="1613"/>
                  </a:lnTo>
                  <a:lnTo>
                    <a:pt x="293" y="1609"/>
                  </a:lnTo>
                  <a:lnTo>
                    <a:pt x="721" y="1609"/>
                  </a:lnTo>
                  <a:lnTo>
                    <a:pt x="758" y="1612"/>
                  </a:lnTo>
                  <a:lnTo>
                    <a:pt x="794" y="1618"/>
                  </a:lnTo>
                  <a:lnTo>
                    <a:pt x="829" y="1630"/>
                  </a:lnTo>
                  <a:lnTo>
                    <a:pt x="860" y="1645"/>
                  </a:lnTo>
                  <a:lnTo>
                    <a:pt x="880" y="1605"/>
                  </a:lnTo>
                  <a:lnTo>
                    <a:pt x="903" y="1564"/>
                  </a:lnTo>
                  <a:lnTo>
                    <a:pt x="930" y="1521"/>
                  </a:lnTo>
                  <a:lnTo>
                    <a:pt x="962" y="1479"/>
                  </a:lnTo>
                  <a:lnTo>
                    <a:pt x="999" y="1438"/>
                  </a:lnTo>
                  <a:lnTo>
                    <a:pt x="1002" y="1434"/>
                  </a:lnTo>
                  <a:lnTo>
                    <a:pt x="1006" y="1431"/>
                  </a:lnTo>
                  <a:lnTo>
                    <a:pt x="1010" y="1428"/>
                  </a:lnTo>
                  <a:lnTo>
                    <a:pt x="1043" y="1399"/>
                  </a:lnTo>
                  <a:lnTo>
                    <a:pt x="1076" y="1364"/>
                  </a:lnTo>
                  <a:lnTo>
                    <a:pt x="1111" y="1324"/>
                  </a:lnTo>
                  <a:lnTo>
                    <a:pt x="1145" y="1279"/>
                  </a:lnTo>
                  <a:lnTo>
                    <a:pt x="1179" y="1230"/>
                  </a:lnTo>
                  <a:lnTo>
                    <a:pt x="1213" y="1178"/>
                  </a:lnTo>
                  <a:lnTo>
                    <a:pt x="1246" y="1122"/>
                  </a:lnTo>
                  <a:lnTo>
                    <a:pt x="1280" y="1063"/>
                  </a:lnTo>
                  <a:lnTo>
                    <a:pt x="1313" y="1004"/>
                  </a:lnTo>
                  <a:lnTo>
                    <a:pt x="1344" y="942"/>
                  </a:lnTo>
                  <a:lnTo>
                    <a:pt x="1375" y="881"/>
                  </a:lnTo>
                  <a:lnTo>
                    <a:pt x="1405" y="819"/>
                  </a:lnTo>
                  <a:lnTo>
                    <a:pt x="1432" y="758"/>
                  </a:lnTo>
                  <a:lnTo>
                    <a:pt x="1460" y="698"/>
                  </a:lnTo>
                  <a:lnTo>
                    <a:pt x="1486" y="640"/>
                  </a:lnTo>
                  <a:lnTo>
                    <a:pt x="1509" y="584"/>
                  </a:lnTo>
                  <a:lnTo>
                    <a:pt x="1531" y="532"/>
                  </a:lnTo>
                  <a:lnTo>
                    <a:pt x="1550" y="483"/>
                  </a:lnTo>
                  <a:lnTo>
                    <a:pt x="1567" y="437"/>
                  </a:lnTo>
                  <a:lnTo>
                    <a:pt x="1583" y="398"/>
                  </a:lnTo>
                  <a:lnTo>
                    <a:pt x="1581" y="375"/>
                  </a:lnTo>
                  <a:lnTo>
                    <a:pt x="1578" y="347"/>
                  </a:lnTo>
                  <a:lnTo>
                    <a:pt x="1577" y="318"/>
                  </a:lnTo>
                  <a:lnTo>
                    <a:pt x="1577" y="286"/>
                  </a:lnTo>
                  <a:lnTo>
                    <a:pt x="1578" y="252"/>
                  </a:lnTo>
                  <a:lnTo>
                    <a:pt x="1582" y="217"/>
                  </a:lnTo>
                  <a:lnTo>
                    <a:pt x="1587" y="183"/>
                  </a:lnTo>
                  <a:lnTo>
                    <a:pt x="1596" y="150"/>
                  </a:lnTo>
                  <a:lnTo>
                    <a:pt x="1607" y="118"/>
                  </a:lnTo>
                  <a:lnTo>
                    <a:pt x="1623" y="88"/>
                  </a:lnTo>
                  <a:lnTo>
                    <a:pt x="1642" y="62"/>
                  </a:lnTo>
                  <a:lnTo>
                    <a:pt x="1665" y="40"/>
                  </a:lnTo>
                  <a:lnTo>
                    <a:pt x="1689" y="23"/>
                  </a:lnTo>
                  <a:lnTo>
                    <a:pt x="1717" y="10"/>
                  </a:lnTo>
                  <a:lnTo>
                    <a:pt x="1747" y="2"/>
                  </a:lnTo>
                  <a:lnTo>
                    <a:pt x="177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7" name="Group 6"/>
          <p:cNvGrpSpPr/>
          <p:nvPr/>
        </p:nvGrpSpPr>
        <p:grpSpPr>
          <a:xfrm>
            <a:off x="6491160" y="4383000"/>
            <a:ext cx="730440" cy="709920"/>
            <a:chOff x="6491160" y="4383000"/>
            <a:chExt cx="730440" cy="709920"/>
          </a:xfrm>
        </p:grpSpPr>
        <p:sp>
          <p:nvSpPr>
            <p:cNvPr id="2248" name="Oval 59"/>
            <p:cNvSpPr/>
            <p:nvPr/>
          </p:nvSpPr>
          <p:spPr>
            <a:xfrm>
              <a:off x="6491160" y="4383000"/>
              <a:ext cx="730440" cy="709920"/>
            </a:xfrm>
            <a:prstGeom prst="ellipse">
              <a:avLst/>
            </a:prstGeom>
            <a:solidFill>
              <a:srgbClr val="ff9a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9" name="Group 79"/>
            <p:cNvGrpSpPr/>
            <p:nvPr/>
          </p:nvGrpSpPr>
          <p:grpSpPr>
            <a:xfrm>
              <a:off x="0" y="0"/>
              <a:ext cx="0" cy="0"/>
              <a:chOff x="0" y="0"/>
              <a:chExt cx="0" cy="0"/>
            </a:xfrm>
          </p:grpSpPr>
        </p:grpSp>
      </p:grpSp>
      <p:grpSp>
        <p:nvGrpSpPr>
          <p:cNvPr id="2250" name="Group 7"/>
          <p:cNvGrpSpPr/>
          <p:nvPr/>
        </p:nvGrpSpPr>
        <p:grpSpPr>
          <a:xfrm>
            <a:off x="6340320" y="2367000"/>
            <a:ext cx="703440" cy="682560"/>
            <a:chOff x="6340320" y="2367000"/>
            <a:chExt cx="703440" cy="682560"/>
          </a:xfrm>
        </p:grpSpPr>
        <p:sp>
          <p:nvSpPr>
            <p:cNvPr id="2251" name="Oval 61"/>
            <p:cNvSpPr/>
            <p:nvPr/>
          </p:nvSpPr>
          <p:spPr>
            <a:xfrm>
              <a:off x="6340320" y="2367000"/>
              <a:ext cx="703440" cy="682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52" name="Group 100"/>
            <p:cNvGrpSpPr/>
            <p:nvPr/>
          </p:nvGrpSpPr>
          <p:grpSpPr>
            <a:xfrm>
              <a:off x="0" y="0"/>
              <a:ext cx="0" cy="0"/>
              <a:chOff x="0" y="0"/>
              <a:chExt cx="0" cy="0"/>
            </a:xfrm>
          </p:grpSpPr>
        </p:grpSp>
      </p:grpSp>
      <p:grpSp>
        <p:nvGrpSpPr>
          <p:cNvPr id="2253" name="组合 28"/>
          <p:cNvGrpSpPr/>
          <p:nvPr/>
        </p:nvGrpSpPr>
        <p:grpSpPr>
          <a:xfrm>
            <a:off x="874800" y="476280"/>
            <a:ext cx="10360080" cy="0"/>
            <a:chOff x="874800" y="476280"/>
            <a:chExt cx="10360080" cy="0"/>
          </a:xfrm>
        </p:grpSpPr>
        <p:sp>
          <p:nvSpPr>
            <p:cNvPr id="2254" name="直接连接符 58"/>
            <p:cNvSpPr/>
            <p:nvPr/>
          </p:nvSpPr>
          <p:spPr>
            <a:xfrm>
              <a:off x="874800" y="476280"/>
              <a:ext cx="154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5" name="直接连接符 59"/>
            <p:cNvSpPr/>
            <p:nvPr/>
          </p:nvSpPr>
          <p:spPr>
            <a:xfrm>
              <a:off x="10128240" y="476280"/>
              <a:ext cx="110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256" name="文本框 60"/>
          <p:cNvSpPr/>
          <p:nvPr/>
        </p:nvSpPr>
        <p:spPr>
          <a:xfrm>
            <a:off x="3768840" y="824040"/>
            <a:ext cx="5783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五、与被审计单位治理层沟通</a:t>
            </a:r>
            <a:endParaRPr b="1" lang="en-US" sz="3200" spc="-1" strike="noStrike">
              <a:solidFill>
                <a:srgbClr val="000000"/>
              </a:solidFill>
              <a:latin typeface="Arial"/>
            </a:endParaRPr>
          </a:p>
        </p:txBody>
      </p:sp>
      <p:sp>
        <p:nvSpPr>
          <p:cNvPr id="2257" name="矩形 62"/>
          <p:cNvSpPr/>
          <p:nvPr/>
        </p:nvSpPr>
        <p:spPr>
          <a:xfrm>
            <a:off x="2119320" y="88920"/>
            <a:ext cx="82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审计报告阶段的主要工作</a:t>
            </a:r>
            <a:endParaRPr b="1" lang="en-US" sz="4000" spc="-1" strike="noStrike">
              <a:solidFill>
                <a:srgbClr val="000000"/>
              </a:solidFill>
              <a:latin typeface="Arial"/>
            </a:endParaRPr>
          </a:p>
        </p:txBody>
      </p:sp>
      <p:sp>
        <p:nvSpPr>
          <p:cNvPr id="2258" name="文本框 65"/>
          <p:cNvSpPr/>
          <p:nvPr/>
        </p:nvSpPr>
        <p:spPr>
          <a:xfrm>
            <a:off x="623880" y="1449360"/>
            <a:ext cx="1030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应当直接与被审计单位治理层沟通的主要事项包括：</a:t>
            </a:r>
            <a:endParaRPr b="1" lang="en-US" sz="2400" spc="-1" strike="noStrike">
              <a:solidFill>
                <a:srgbClr val="000000"/>
              </a:solidFill>
              <a:latin typeface="Arial"/>
            </a:endParaRPr>
          </a:p>
        </p:txBody>
      </p:sp>
      <p:sp>
        <p:nvSpPr>
          <p:cNvPr id="2259" name="Inhaltsplatzhalter 4"/>
          <p:cNvSpPr/>
          <p:nvPr/>
        </p:nvSpPr>
        <p:spPr>
          <a:xfrm>
            <a:off x="7245360" y="2075040"/>
            <a:ext cx="4946760" cy="1128240"/>
          </a:xfrm>
          <a:prstGeom prst="rect">
            <a:avLst/>
          </a:prstGeom>
          <a:noFill/>
          <a:ln w="0">
            <a:noFill/>
          </a:ln>
        </p:spPr>
        <p:style>
          <a:lnRef idx="0"/>
          <a:fillRef idx="0"/>
          <a:effectRef idx="0"/>
          <a:fontRef idx="minor"/>
        </p:style>
        <p:txBody>
          <a:bodyPr lIns="0" rIns="0" tIns="0" bIns="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微软雅黑"/>
              </a:rPr>
              <a:t>4</a:t>
            </a:r>
            <a:r>
              <a:rPr b="1" lang="en-US" sz="2400" spc="-1" strike="noStrike">
                <a:solidFill>
                  <a:srgbClr val="0070c0"/>
                </a:solidFill>
                <a:latin typeface="Arial"/>
              </a:rPr>
              <a:t>. </a:t>
            </a:r>
            <a:r>
              <a:rPr b="1" lang="zh-CN" sz="2400" spc="-1" strike="noStrike">
                <a:solidFill>
                  <a:srgbClr val="0070c0"/>
                </a:solidFill>
                <a:latin typeface="Arial"/>
                <a:ea typeface="宋体"/>
              </a:rPr>
              <a:t>注册会计师的独立性。 </a:t>
            </a:r>
            <a:endParaRPr b="1" lang="en-US" sz="24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就审计项目组成员、会计师事务所其他相关人员，以及会计师事务所按 照法律法规和职业道德规范的规定保持了独立性做出声明。 （</a:t>
            </a:r>
            <a:r>
              <a:rPr b="1" lang="en-US" sz="2000" spc="-1" strike="noStrike">
                <a:solidFill>
                  <a:srgbClr val="000000"/>
                </a:solidFill>
                <a:latin typeface="Arial"/>
              </a:rPr>
              <a:t>2</a:t>
            </a:r>
            <a:r>
              <a:rPr b="1" lang="zh-CN" sz="2000" spc="-1" strike="noStrike">
                <a:solidFill>
                  <a:srgbClr val="000000"/>
                </a:solidFill>
                <a:latin typeface="Arial"/>
                <a:ea typeface="宋体"/>
              </a:rPr>
              <a:t>）根据职业判断，注册会计师认为会计师事务所与被审计单位之间存在的 可能影响独立性的所有关系和其他事项，其中包括会计师事务所在财务报表涵盖 期间为被审计单位和受被审计单位控制的组成部分提供审计、非审计服务的收费 总额。 （</a:t>
            </a:r>
            <a:r>
              <a:rPr b="1" lang="en-US" sz="2000" spc="-1" strike="noStrike">
                <a:solidFill>
                  <a:srgbClr val="000000"/>
                </a:solidFill>
                <a:latin typeface="Arial"/>
              </a:rPr>
              <a:t>3</a:t>
            </a:r>
            <a:r>
              <a:rPr b="1" lang="zh-CN" sz="2000" spc="-1" strike="noStrike">
                <a:solidFill>
                  <a:srgbClr val="000000"/>
                </a:solidFill>
                <a:latin typeface="Arial"/>
                <a:ea typeface="宋体"/>
              </a:rPr>
              <a:t>）为消除对独立性的威胁或将其降至可接受的水平，已经采取的相关防护措施。</a:t>
            </a:r>
            <a:endParaRPr b="1" lang="en-US" sz="2000" spc="-1" strike="noStrike">
              <a:solidFill>
                <a:srgbClr val="000000"/>
              </a:solidFill>
              <a:latin typeface="Arial"/>
            </a:endParaRPr>
          </a:p>
        </p:txBody>
      </p:sp>
      <p:cxnSp>
        <p:nvCxnSpPr>
          <p:cNvPr id="2260" name="直接箭头连接符 61"/>
          <p:cNvCxnSpPr/>
          <p:nvPr/>
        </p:nvCxnSpPr>
        <p:spPr>
          <a:xfrm>
            <a:off x="6940440" y="2680920"/>
            <a:ext cx="478800" cy="1080"/>
          </a:xfrm>
          <a:prstGeom prst="straightConnector1">
            <a:avLst/>
          </a:prstGeom>
          <a:ln w="6480">
            <a:solidFill>
              <a:srgbClr val="5b9bd4"/>
            </a:solidFill>
            <a:miter/>
            <a:tailEnd len="med" type="triangle" w="med"/>
          </a:ln>
        </p:spPr>
      </p:cxnSp>
      <p:cxnSp>
        <p:nvCxnSpPr>
          <p:cNvPr id="2261" name="直接箭头连接符 63"/>
          <p:cNvCxnSpPr/>
          <p:nvPr/>
        </p:nvCxnSpPr>
        <p:spPr>
          <a:xfrm flipH="1">
            <a:off x="4048920" y="2717280"/>
            <a:ext cx="477000" cy="1080"/>
          </a:xfrm>
          <a:prstGeom prst="straightConnector1">
            <a:avLst/>
          </a:prstGeom>
          <a:ln w="6480">
            <a:solidFill>
              <a:srgbClr val="5b9bd4"/>
            </a:solidFill>
            <a:miter/>
            <a:tailEnd len="med" type="triangle" w="med"/>
          </a:ln>
        </p:spPr>
      </p:cxn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dur="indefinite" nodeType="afterEffect" fill="hold" presetClass="entr" presetID="42">
                                  <p:stCondLst>
                                    <p:cond delay="0"/>
                                  </p:stCondLst>
                                  <p:childTnLst>
                                    <p:set>
                                      <p:cBhvr>
                                        <p:cTn id="256" dur="1" fill="hold">
                                          <p:stCondLst>
                                            <p:cond delay="0"/>
                                          </p:stCondLst>
                                        </p:cTn>
                                        <p:tgtEl>
                                          <p:spTgt spid="2229"/>
                                        </p:tgtEl>
                                        <p:attrNameLst>
                                          <p:attrName>style.visibility</p:attrName>
                                        </p:attrNameLst>
                                      </p:cBhvr>
                                      <p:to>
                                        <p:strVal val="visible"/>
                                      </p:to>
                                    </p:set>
                                    <p:animEffect filter="fade" transition="in">
                                      <p:cBhvr additive="repl">
                                        <p:cTn id="257" dur="500"/>
                                        <p:tgtEl>
                                          <p:spTgt spid="2229"/>
                                        </p:tgtEl>
                                      </p:cBhvr>
                                    </p:animEffect>
                                    <p:anim calcmode="lin" valueType="num">
                                      <p:cBhvr additive="repl">
                                        <p:cTn id="258" dur="500" fill="hold"/>
                                        <p:tgtEl>
                                          <p:spTgt spid="2229"/>
                                        </p:tgtEl>
                                        <p:attrNameLst>
                                          <p:attrName>ppt_x</p:attrName>
                                        </p:attrNameLst>
                                      </p:cBhvr>
                                      <p:tavLst>
                                        <p:tav tm="0">
                                          <p:val>
                                            <p:strVal val="#ppt_x"/>
                                          </p:val>
                                        </p:tav>
                                        <p:tav tm="100000">
                                          <p:val>
                                            <p:strVal val="#ppt_x"/>
                                          </p:val>
                                        </p:tav>
                                      </p:tavLst>
                                    </p:anim>
                                    <p:anim calcmode="lin" valueType="num">
                                      <p:cBhvr additive="repl">
                                        <p:cTn id="259" dur="500" fill="hold"/>
                                        <p:tgtEl>
                                          <p:spTgt spid="2229"/>
                                        </p:tgtEl>
                                        <p:attrNameLst>
                                          <p:attrName>ppt_y</p:attrName>
                                        </p:attrNameLst>
                                      </p:cBhvr>
                                      <p:tavLst>
                                        <p:tav tm="0">
                                          <p:val>
                                            <p:strVal val="#ppt_y+.1"/>
                                          </p:val>
                                        </p:tav>
                                        <p:tav tm="100000">
                                          <p:val>
                                            <p:strVal val="#ppt_y"/>
                                          </p:val>
                                        </p:tav>
                                      </p:tavLst>
                                    </p:anim>
                                  </p:childTnLst>
                                </p:cTn>
                              </p:par>
                            </p:childTnLst>
                          </p:cTn>
                        </p:par>
                        <p:par>
                          <p:cTn id="260" fill="hold">
                            <p:stCondLst>
                              <p:cond delay="500"/>
                            </p:stCondLst>
                            <p:childTnLst>
                              <p:par>
                                <p:cTn id="261" dur="indefinite" nodeType="afterEffect" fill="hold" presetClass="entr" presetID="18" presetSubtype="9">
                                  <p:stCondLst>
                                    <p:cond delay="0"/>
                                  </p:stCondLst>
                                  <p:childTnLst>
                                    <p:set>
                                      <p:cBhvr>
                                        <p:cTn id="262" dur="1" fill="hold">
                                          <p:stCondLst>
                                            <p:cond delay="0"/>
                                          </p:stCondLst>
                                        </p:cTn>
                                        <p:tgtEl>
                                          <p:spTgt spid="2215"/>
                                        </p:tgtEl>
                                        <p:attrNameLst>
                                          <p:attrName>style.visibility</p:attrName>
                                        </p:attrNameLst>
                                      </p:cBhvr>
                                      <p:to>
                                        <p:strVal val="visible"/>
                                      </p:to>
                                    </p:set>
                                    <p:animEffect filter="strips(upLeft)" transition="in">
                                      <p:cBhvr additive="repl">
                                        <p:cTn id="263" dur="500"/>
                                        <p:tgtEl>
                                          <p:spTgt spid="2215"/>
                                        </p:tgtEl>
                                      </p:cBhvr>
                                    </p:animEffect>
                                  </p:childTnLst>
                                </p:cTn>
                              </p:par>
                            </p:childTnLst>
                          </p:cTn>
                        </p:par>
                        <p:par>
                          <p:cTn id="264" fill="hold">
                            <p:stCondLst>
                              <p:cond delay="1000"/>
                            </p:stCondLst>
                            <p:childTnLst>
                              <p:par>
                                <p:cTn id="265" dur="indefinite" nodeType="afterEffect" fill="hold" presetClass="entr" presetID="53" presetSubtype="16">
                                  <p:stCondLst>
                                    <p:cond delay="0"/>
                                  </p:stCondLst>
                                  <p:childTnLst>
                                    <p:set>
                                      <p:cBhvr>
                                        <p:cTn id="266" dur="1" fill="hold">
                                          <p:stCondLst>
                                            <p:cond delay="0"/>
                                          </p:stCondLst>
                                        </p:cTn>
                                        <p:tgtEl>
                                          <p:spTgt spid="2228"/>
                                        </p:tgtEl>
                                        <p:attrNameLst>
                                          <p:attrName>style.visibility</p:attrName>
                                        </p:attrNameLst>
                                      </p:cBhvr>
                                      <p:to>
                                        <p:strVal val="visible"/>
                                      </p:to>
                                    </p:set>
                                    <p:anim calcmode="lin" valueType="num">
                                      <p:cBhvr additive="repl">
                                        <p:cTn id="267" dur="500" fill="hold"/>
                                        <p:tgtEl>
                                          <p:spTgt spid="2228"/>
                                        </p:tgtEl>
                                        <p:attrNameLst>
                                          <p:attrName>ppt_w</p:attrName>
                                        </p:attrNameLst>
                                      </p:cBhvr>
                                      <p:tavLst>
                                        <p:tav tm="0">
                                          <p:val>
                                            <p:fltVal val="0"/>
                                          </p:val>
                                        </p:tav>
                                        <p:tav tm="100000">
                                          <p:val>
                                            <p:strVal val="#ppt_w"/>
                                          </p:val>
                                        </p:tav>
                                      </p:tavLst>
                                    </p:anim>
                                    <p:anim calcmode="lin" valueType="num">
                                      <p:cBhvr additive="repl">
                                        <p:cTn id="268" dur="500" fill="hold"/>
                                        <p:tgtEl>
                                          <p:spTgt spid="2228"/>
                                        </p:tgtEl>
                                        <p:attrNameLst>
                                          <p:attrName>ppt_h</p:attrName>
                                        </p:attrNameLst>
                                      </p:cBhvr>
                                      <p:tavLst>
                                        <p:tav tm="0">
                                          <p:val>
                                            <p:fltVal val="0"/>
                                          </p:val>
                                        </p:tav>
                                        <p:tav tm="100000">
                                          <p:val>
                                            <p:strVal val="#ppt_h"/>
                                          </p:val>
                                        </p:tav>
                                      </p:tavLst>
                                    </p:anim>
                                    <p:animEffect filter="fade" transition="in">
                                      <p:cBhvr additive="repl">
                                        <p:cTn id="269" dur="500"/>
                                        <p:tgtEl>
                                          <p:spTgt spid="2228"/>
                                        </p:tgtEl>
                                      </p:cBhvr>
                                    </p:animEffect>
                                  </p:childTnLst>
                                </p:cTn>
                              </p:par>
                              <p:par>
                                <p:cTn id="270" dur="indefinite" nodeType="withEffect" fill="hold" presetClass="entr" presetID="53" presetSubtype="16">
                                  <p:stCondLst>
                                    <p:cond delay="0"/>
                                  </p:stCondLst>
                                  <p:childTnLst>
                                    <p:set>
                                      <p:cBhvr>
                                        <p:cTn id="271" dur="1" fill="hold">
                                          <p:stCondLst>
                                            <p:cond delay="0"/>
                                          </p:stCondLst>
                                        </p:cTn>
                                        <p:tgtEl>
                                          <p:spTgt spid="2244"/>
                                        </p:tgtEl>
                                        <p:attrNameLst>
                                          <p:attrName>style.visibility</p:attrName>
                                        </p:attrNameLst>
                                      </p:cBhvr>
                                      <p:to>
                                        <p:strVal val="visible"/>
                                      </p:to>
                                    </p:set>
                                    <p:anim calcmode="lin" valueType="num">
                                      <p:cBhvr additive="repl">
                                        <p:cTn id="272" dur="500" fill="hold"/>
                                        <p:tgtEl>
                                          <p:spTgt spid="2244"/>
                                        </p:tgtEl>
                                        <p:attrNameLst>
                                          <p:attrName>ppt_w</p:attrName>
                                        </p:attrNameLst>
                                      </p:cBhvr>
                                      <p:tavLst>
                                        <p:tav tm="0">
                                          <p:val>
                                            <p:fltVal val="0"/>
                                          </p:val>
                                        </p:tav>
                                        <p:tav tm="100000">
                                          <p:val>
                                            <p:strVal val="#ppt_w"/>
                                          </p:val>
                                        </p:tav>
                                      </p:tavLst>
                                    </p:anim>
                                    <p:anim calcmode="lin" valueType="num">
                                      <p:cBhvr additive="repl">
                                        <p:cTn id="273" dur="500" fill="hold"/>
                                        <p:tgtEl>
                                          <p:spTgt spid="2244"/>
                                        </p:tgtEl>
                                        <p:attrNameLst>
                                          <p:attrName>ppt_h</p:attrName>
                                        </p:attrNameLst>
                                      </p:cBhvr>
                                      <p:tavLst>
                                        <p:tav tm="0">
                                          <p:val>
                                            <p:fltVal val="0"/>
                                          </p:val>
                                        </p:tav>
                                        <p:tav tm="100000">
                                          <p:val>
                                            <p:strVal val="#ppt_h"/>
                                          </p:val>
                                        </p:tav>
                                      </p:tavLst>
                                    </p:anim>
                                    <p:animEffect filter="fade" transition="in">
                                      <p:cBhvr additive="repl">
                                        <p:cTn id="274" dur="500"/>
                                        <p:tgtEl>
                                          <p:spTgt spid="2244"/>
                                        </p:tgtEl>
                                      </p:cBhvr>
                                    </p:animEffect>
                                  </p:childTnLst>
                                </p:cTn>
                              </p:par>
                            </p:childTnLst>
                          </p:cTn>
                        </p:par>
                        <p:par>
                          <p:cTn id="275" fill="hold">
                            <p:stCondLst>
                              <p:cond delay="1500"/>
                            </p:stCondLst>
                            <p:childTnLst>
                              <p:par>
                                <p:cTn id="276" dur="indefinite" nodeType="afterEffect" fill="hold" presetClass="entr" presetID="18" presetSubtype="9">
                                  <p:stCondLst>
                                    <p:cond delay="0"/>
                                  </p:stCondLst>
                                  <p:childTnLst>
                                    <p:set>
                                      <p:cBhvr>
                                        <p:cTn id="277" dur="1" fill="hold">
                                          <p:stCondLst>
                                            <p:cond delay="0"/>
                                          </p:stCondLst>
                                        </p:cTn>
                                        <p:tgtEl>
                                          <p:spTgt spid="2214"/>
                                        </p:tgtEl>
                                        <p:attrNameLst>
                                          <p:attrName>style.visibility</p:attrName>
                                        </p:attrNameLst>
                                      </p:cBhvr>
                                      <p:to>
                                        <p:strVal val="visible"/>
                                      </p:to>
                                    </p:set>
                                    <p:animEffect filter="strips(upLeft)" transition="in">
                                      <p:cBhvr additive="repl">
                                        <p:cTn id="278" dur="500"/>
                                        <p:tgtEl>
                                          <p:spTgt spid="2214"/>
                                        </p:tgtEl>
                                      </p:cBhvr>
                                    </p:animEffect>
                                  </p:childTnLst>
                                </p:cTn>
                              </p:par>
                            </p:childTnLst>
                          </p:cTn>
                        </p:par>
                        <p:par>
                          <p:cTn id="279" fill="hold">
                            <p:stCondLst>
                              <p:cond delay="2000"/>
                            </p:stCondLst>
                            <p:childTnLst>
                              <p:par>
                                <p:cTn id="280" dur="indefinite" nodeType="afterEffect" fill="hold" presetClass="entr" presetID="53" presetSubtype="16">
                                  <p:stCondLst>
                                    <p:cond delay="0"/>
                                  </p:stCondLst>
                                  <p:childTnLst>
                                    <p:set>
                                      <p:cBhvr>
                                        <p:cTn id="281" dur="1" fill="hold">
                                          <p:stCondLst>
                                            <p:cond delay="0"/>
                                          </p:stCondLst>
                                        </p:cTn>
                                        <p:tgtEl>
                                          <p:spTgt spid="2227"/>
                                        </p:tgtEl>
                                        <p:attrNameLst>
                                          <p:attrName>style.visibility</p:attrName>
                                        </p:attrNameLst>
                                      </p:cBhvr>
                                      <p:to>
                                        <p:strVal val="visible"/>
                                      </p:to>
                                    </p:set>
                                    <p:anim calcmode="lin" valueType="num">
                                      <p:cBhvr additive="repl">
                                        <p:cTn id="282" dur="500" fill="hold"/>
                                        <p:tgtEl>
                                          <p:spTgt spid="2227"/>
                                        </p:tgtEl>
                                        <p:attrNameLst>
                                          <p:attrName>ppt_w</p:attrName>
                                        </p:attrNameLst>
                                      </p:cBhvr>
                                      <p:tavLst>
                                        <p:tav tm="0">
                                          <p:val>
                                            <p:fltVal val="0"/>
                                          </p:val>
                                        </p:tav>
                                        <p:tav tm="100000">
                                          <p:val>
                                            <p:strVal val="#ppt_w"/>
                                          </p:val>
                                        </p:tav>
                                      </p:tavLst>
                                    </p:anim>
                                    <p:anim calcmode="lin" valueType="num">
                                      <p:cBhvr additive="repl">
                                        <p:cTn id="283" dur="500" fill="hold"/>
                                        <p:tgtEl>
                                          <p:spTgt spid="2227"/>
                                        </p:tgtEl>
                                        <p:attrNameLst>
                                          <p:attrName>ppt_h</p:attrName>
                                        </p:attrNameLst>
                                      </p:cBhvr>
                                      <p:tavLst>
                                        <p:tav tm="0">
                                          <p:val>
                                            <p:fltVal val="0"/>
                                          </p:val>
                                        </p:tav>
                                        <p:tav tm="100000">
                                          <p:val>
                                            <p:strVal val="#ppt_h"/>
                                          </p:val>
                                        </p:tav>
                                      </p:tavLst>
                                    </p:anim>
                                    <p:animEffect filter="fade" transition="in">
                                      <p:cBhvr additive="repl">
                                        <p:cTn id="284" dur="500"/>
                                        <p:tgtEl>
                                          <p:spTgt spid="2227"/>
                                        </p:tgtEl>
                                      </p:cBhvr>
                                    </p:animEffect>
                                  </p:childTnLst>
                                </p:cTn>
                              </p:par>
                              <p:par>
                                <p:cTn id="285" dur="indefinite" nodeType="withEffect" fill="hold" presetClass="entr" presetID="53" presetSubtype="16">
                                  <p:stCondLst>
                                    <p:cond delay="0"/>
                                  </p:stCondLst>
                                  <p:childTnLst>
                                    <p:set>
                                      <p:cBhvr>
                                        <p:cTn id="286" dur="1" fill="hold">
                                          <p:stCondLst>
                                            <p:cond delay="0"/>
                                          </p:stCondLst>
                                        </p:cTn>
                                        <p:tgtEl>
                                          <p:spTgt spid="2232"/>
                                        </p:tgtEl>
                                        <p:attrNameLst>
                                          <p:attrName>style.visibility</p:attrName>
                                        </p:attrNameLst>
                                      </p:cBhvr>
                                      <p:to>
                                        <p:strVal val="visible"/>
                                      </p:to>
                                    </p:set>
                                    <p:anim calcmode="lin" valueType="num">
                                      <p:cBhvr additive="repl">
                                        <p:cTn id="287" dur="500" fill="hold"/>
                                        <p:tgtEl>
                                          <p:spTgt spid="2232"/>
                                        </p:tgtEl>
                                        <p:attrNameLst>
                                          <p:attrName>ppt_w</p:attrName>
                                        </p:attrNameLst>
                                      </p:cBhvr>
                                      <p:tavLst>
                                        <p:tav tm="0">
                                          <p:val>
                                            <p:fltVal val="0"/>
                                          </p:val>
                                        </p:tav>
                                        <p:tav tm="100000">
                                          <p:val>
                                            <p:strVal val="#ppt_w"/>
                                          </p:val>
                                        </p:tav>
                                      </p:tavLst>
                                    </p:anim>
                                    <p:anim calcmode="lin" valueType="num">
                                      <p:cBhvr additive="repl">
                                        <p:cTn id="288" dur="500" fill="hold"/>
                                        <p:tgtEl>
                                          <p:spTgt spid="2232"/>
                                        </p:tgtEl>
                                        <p:attrNameLst>
                                          <p:attrName>ppt_h</p:attrName>
                                        </p:attrNameLst>
                                      </p:cBhvr>
                                      <p:tavLst>
                                        <p:tav tm="0">
                                          <p:val>
                                            <p:fltVal val="0"/>
                                          </p:val>
                                        </p:tav>
                                        <p:tav tm="100000">
                                          <p:val>
                                            <p:strVal val="#ppt_h"/>
                                          </p:val>
                                        </p:tav>
                                      </p:tavLst>
                                    </p:anim>
                                    <p:animEffect filter="fade" transition="in">
                                      <p:cBhvr additive="repl">
                                        <p:cTn id="289" dur="500"/>
                                        <p:tgtEl>
                                          <p:spTgt spid="2232"/>
                                        </p:tgtEl>
                                      </p:cBhvr>
                                    </p:animEffect>
                                  </p:childTnLst>
                                </p:cTn>
                              </p:par>
                            </p:childTnLst>
                          </p:cTn>
                        </p:par>
                        <p:par>
                          <p:cTn id="290" fill="hold">
                            <p:stCondLst>
                              <p:cond delay="2500"/>
                            </p:stCondLst>
                            <p:childTnLst>
                              <p:par>
                                <p:cTn id="291" dur="indefinite" nodeType="afterEffect" fill="hold" presetClass="entr" presetID="42">
                                  <p:stCondLst>
                                    <p:cond delay="0"/>
                                  </p:stCondLst>
                                  <p:childTnLst>
                                    <p:set>
                                      <p:cBhvr>
                                        <p:cTn id="292" dur="1" fill="hold">
                                          <p:stCondLst>
                                            <p:cond delay="0"/>
                                          </p:stCondLst>
                                        </p:cTn>
                                        <p:tgtEl>
                                          <p:spTgt spid="2223"/>
                                        </p:tgtEl>
                                        <p:attrNameLst>
                                          <p:attrName>style.visibility</p:attrName>
                                        </p:attrNameLst>
                                      </p:cBhvr>
                                      <p:to>
                                        <p:strVal val="visible"/>
                                      </p:to>
                                    </p:set>
                                    <p:animEffect filter="fade" transition="in">
                                      <p:cBhvr additive="repl">
                                        <p:cTn id="293" dur="500"/>
                                        <p:tgtEl>
                                          <p:spTgt spid="2223"/>
                                        </p:tgtEl>
                                      </p:cBhvr>
                                    </p:animEffect>
                                    <p:anim calcmode="lin" valueType="num">
                                      <p:cBhvr additive="repl">
                                        <p:cTn id="294" dur="500" fill="hold"/>
                                        <p:tgtEl>
                                          <p:spTgt spid="2223"/>
                                        </p:tgtEl>
                                        <p:attrNameLst>
                                          <p:attrName>ppt_x</p:attrName>
                                        </p:attrNameLst>
                                      </p:cBhvr>
                                      <p:tavLst>
                                        <p:tav tm="0">
                                          <p:val>
                                            <p:strVal val="#ppt_x"/>
                                          </p:val>
                                        </p:tav>
                                        <p:tav tm="100000">
                                          <p:val>
                                            <p:strVal val="#ppt_x"/>
                                          </p:val>
                                        </p:tav>
                                      </p:tavLst>
                                    </p:anim>
                                    <p:anim calcmode="lin" valueType="num">
                                      <p:cBhvr additive="repl">
                                        <p:cTn id="295" dur="500" fill="hold"/>
                                        <p:tgtEl>
                                          <p:spTgt spid="2223"/>
                                        </p:tgtEl>
                                        <p:attrNameLst>
                                          <p:attrName>ppt_y</p:attrName>
                                        </p:attrNameLst>
                                      </p:cBhvr>
                                      <p:tavLst>
                                        <p:tav tm="0">
                                          <p:val>
                                            <p:strVal val="#ppt_y+.1"/>
                                          </p:val>
                                        </p:tav>
                                        <p:tav tm="100000">
                                          <p:val>
                                            <p:strVal val="#ppt_y"/>
                                          </p:val>
                                        </p:tav>
                                      </p:tavLst>
                                    </p:anim>
                                  </p:childTnLst>
                                </p:cTn>
                              </p:par>
                            </p:childTnLst>
                          </p:cTn>
                        </p:par>
                        <p:par>
                          <p:cTn id="296" fill="hold">
                            <p:stCondLst>
                              <p:cond delay="3000"/>
                            </p:stCondLst>
                            <p:childTnLst>
                              <p:par>
                                <p:cTn id="297" dur="indefinite" nodeType="afterEffect" fill="hold" presetClass="entr" presetID="18" presetSubtype="9">
                                  <p:stCondLst>
                                    <p:cond delay="0"/>
                                  </p:stCondLst>
                                  <p:childTnLst>
                                    <p:set>
                                      <p:cBhvr>
                                        <p:cTn id="298" dur="1" fill="hold">
                                          <p:stCondLst>
                                            <p:cond delay="0"/>
                                          </p:stCondLst>
                                        </p:cTn>
                                        <p:tgtEl>
                                          <p:spTgt spid="2217"/>
                                        </p:tgtEl>
                                        <p:attrNameLst>
                                          <p:attrName>style.visibility</p:attrName>
                                        </p:attrNameLst>
                                      </p:cBhvr>
                                      <p:to>
                                        <p:strVal val="visible"/>
                                      </p:to>
                                    </p:set>
                                    <p:animEffect filter="strips(upLeft)" transition="in">
                                      <p:cBhvr additive="repl">
                                        <p:cTn id="299" dur="500"/>
                                        <p:tgtEl>
                                          <p:spTgt spid="2217"/>
                                        </p:tgtEl>
                                      </p:cBhvr>
                                    </p:animEffect>
                                  </p:childTnLst>
                                </p:cTn>
                              </p:par>
                            </p:childTnLst>
                          </p:cTn>
                        </p:par>
                        <p:par>
                          <p:cTn id="300" fill="hold">
                            <p:stCondLst>
                              <p:cond delay="3500"/>
                            </p:stCondLst>
                            <p:childTnLst>
                              <p:par>
                                <p:cTn id="301" dur="indefinite" nodeType="afterEffect" fill="hold" presetClass="entr" presetID="53" presetSubtype="16">
                                  <p:stCondLst>
                                    <p:cond delay="0"/>
                                  </p:stCondLst>
                                  <p:childTnLst>
                                    <p:set>
                                      <p:cBhvr>
                                        <p:cTn id="302" dur="1" fill="hold">
                                          <p:stCondLst>
                                            <p:cond delay="0"/>
                                          </p:stCondLst>
                                        </p:cTn>
                                        <p:tgtEl>
                                          <p:spTgt spid="2226"/>
                                        </p:tgtEl>
                                        <p:attrNameLst>
                                          <p:attrName>style.visibility</p:attrName>
                                        </p:attrNameLst>
                                      </p:cBhvr>
                                      <p:to>
                                        <p:strVal val="visible"/>
                                      </p:to>
                                    </p:set>
                                    <p:anim calcmode="lin" valueType="num">
                                      <p:cBhvr additive="repl">
                                        <p:cTn id="303" dur="500" fill="hold"/>
                                        <p:tgtEl>
                                          <p:spTgt spid="2226"/>
                                        </p:tgtEl>
                                        <p:attrNameLst>
                                          <p:attrName>ppt_w</p:attrName>
                                        </p:attrNameLst>
                                      </p:cBhvr>
                                      <p:tavLst>
                                        <p:tav tm="0">
                                          <p:val>
                                            <p:fltVal val="0"/>
                                          </p:val>
                                        </p:tav>
                                        <p:tav tm="100000">
                                          <p:val>
                                            <p:strVal val="#ppt_w"/>
                                          </p:val>
                                        </p:tav>
                                      </p:tavLst>
                                    </p:anim>
                                    <p:anim calcmode="lin" valueType="num">
                                      <p:cBhvr additive="repl">
                                        <p:cTn id="304" dur="500" fill="hold"/>
                                        <p:tgtEl>
                                          <p:spTgt spid="2226"/>
                                        </p:tgtEl>
                                        <p:attrNameLst>
                                          <p:attrName>ppt_h</p:attrName>
                                        </p:attrNameLst>
                                      </p:cBhvr>
                                      <p:tavLst>
                                        <p:tav tm="0">
                                          <p:val>
                                            <p:fltVal val="0"/>
                                          </p:val>
                                        </p:tav>
                                        <p:tav tm="100000">
                                          <p:val>
                                            <p:strVal val="#ppt_h"/>
                                          </p:val>
                                        </p:tav>
                                      </p:tavLst>
                                    </p:anim>
                                    <p:animEffect filter="fade" transition="in">
                                      <p:cBhvr additive="repl">
                                        <p:cTn id="305" dur="500"/>
                                        <p:tgtEl>
                                          <p:spTgt spid="2226"/>
                                        </p:tgtEl>
                                      </p:cBhvr>
                                    </p:animEffect>
                                  </p:childTnLst>
                                </p:cTn>
                              </p:par>
                              <p:par>
                                <p:cTn id="306" dur="indefinite" nodeType="withEffect" fill="hold" presetClass="entr" presetID="53" presetSubtype="16">
                                  <p:stCondLst>
                                    <p:cond delay="0"/>
                                  </p:stCondLst>
                                  <p:childTnLst>
                                    <p:set>
                                      <p:cBhvr>
                                        <p:cTn id="307" dur="1" fill="hold">
                                          <p:stCondLst>
                                            <p:cond delay="0"/>
                                          </p:stCondLst>
                                        </p:cTn>
                                        <p:tgtEl>
                                          <p:spTgt spid="2235"/>
                                        </p:tgtEl>
                                        <p:attrNameLst>
                                          <p:attrName>style.visibility</p:attrName>
                                        </p:attrNameLst>
                                      </p:cBhvr>
                                      <p:to>
                                        <p:strVal val="visible"/>
                                      </p:to>
                                    </p:set>
                                    <p:anim calcmode="lin" valueType="num">
                                      <p:cBhvr additive="repl">
                                        <p:cTn id="308" dur="500" fill="hold"/>
                                        <p:tgtEl>
                                          <p:spTgt spid="2235"/>
                                        </p:tgtEl>
                                        <p:attrNameLst>
                                          <p:attrName>ppt_w</p:attrName>
                                        </p:attrNameLst>
                                      </p:cBhvr>
                                      <p:tavLst>
                                        <p:tav tm="0">
                                          <p:val>
                                            <p:fltVal val="0"/>
                                          </p:val>
                                        </p:tav>
                                        <p:tav tm="100000">
                                          <p:val>
                                            <p:strVal val="#ppt_w"/>
                                          </p:val>
                                        </p:tav>
                                      </p:tavLst>
                                    </p:anim>
                                    <p:anim calcmode="lin" valueType="num">
                                      <p:cBhvr additive="repl">
                                        <p:cTn id="309" dur="500" fill="hold"/>
                                        <p:tgtEl>
                                          <p:spTgt spid="2235"/>
                                        </p:tgtEl>
                                        <p:attrNameLst>
                                          <p:attrName>ppt_h</p:attrName>
                                        </p:attrNameLst>
                                      </p:cBhvr>
                                      <p:tavLst>
                                        <p:tav tm="0">
                                          <p:val>
                                            <p:fltVal val="0"/>
                                          </p:val>
                                        </p:tav>
                                        <p:tav tm="100000">
                                          <p:val>
                                            <p:strVal val="#ppt_h"/>
                                          </p:val>
                                        </p:tav>
                                      </p:tavLst>
                                    </p:anim>
                                    <p:animEffect filter="fade" transition="in">
                                      <p:cBhvr additive="repl">
                                        <p:cTn id="310" dur="500"/>
                                        <p:tgtEl>
                                          <p:spTgt spid="2235"/>
                                        </p:tgtEl>
                                      </p:cBhvr>
                                    </p:animEffect>
                                  </p:childTnLst>
                                </p:cTn>
                              </p:par>
                            </p:childTnLst>
                          </p:cTn>
                        </p:par>
                        <p:par>
                          <p:cTn id="311" fill="hold">
                            <p:stCondLst>
                              <p:cond delay="4000"/>
                            </p:stCondLst>
                            <p:childTnLst>
                              <p:par>
                                <p:cTn id="312" dur="indefinite" nodeType="afterEffect" fill="hold" presetClass="entr" presetID="18" presetSubtype="3">
                                  <p:stCondLst>
                                    <p:cond delay="0"/>
                                  </p:stCondLst>
                                  <p:childTnLst>
                                    <p:set>
                                      <p:cBhvr>
                                        <p:cTn id="313" dur="1" fill="hold">
                                          <p:stCondLst>
                                            <p:cond delay="0"/>
                                          </p:stCondLst>
                                        </p:cTn>
                                        <p:tgtEl>
                                          <p:spTgt spid="2211"/>
                                        </p:tgtEl>
                                        <p:attrNameLst>
                                          <p:attrName>style.visibility</p:attrName>
                                        </p:attrNameLst>
                                      </p:cBhvr>
                                      <p:to>
                                        <p:strVal val="visible"/>
                                      </p:to>
                                    </p:set>
                                    <p:animEffect filter="strips(upRight)" transition="in">
                                      <p:cBhvr additive="repl">
                                        <p:cTn id="314" dur="500"/>
                                        <p:tgtEl>
                                          <p:spTgt spid="2211"/>
                                        </p:tgtEl>
                                      </p:cBhvr>
                                    </p:animEffect>
                                  </p:childTnLst>
                                </p:cTn>
                              </p:par>
                            </p:childTnLst>
                          </p:cTn>
                        </p:par>
                        <p:par>
                          <p:cTn id="315" fill="hold">
                            <p:stCondLst>
                              <p:cond delay="4500"/>
                            </p:stCondLst>
                            <p:childTnLst>
                              <p:par>
                                <p:cTn id="316" dur="indefinite" nodeType="afterEffect" fill="hold" presetClass="entr" presetID="42">
                                  <p:stCondLst>
                                    <p:cond delay="0"/>
                                  </p:stCondLst>
                                  <p:childTnLst>
                                    <p:set>
                                      <p:cBhvr>
                                        <p:cTn id="317" dur="1" fill="hold">
                                          <p:stCondLst>
                                            <p:cond delay="0"/>
                                          </p:stCondLst>
                                        </p:cTn>
                                        <p:tgtEl>
                                          <p:spTgt spid="2222"/>
                                        </p:tgtEl>
                                        <p:attrNameLst>
                                          <p:attrName>style.visibility</p:attrName>
                                        </p:attrNameLst>
                                      </p:cBhvr>
                                      <p:to>
                                        <p:strVal val="visible"/>
                                      </p:to>
                                    </p:set>
                                    <p:animEffect filter="fade" transition="in">
                                      <p:cBhvr additive="repl">
                                        <p:cTn id="318" dur="500"/>
                                        <p:tgtEl>
                                          <p:spTgt spid="2222"/>
                                        </p:tgtEl>
                                      </p:cBhvr>
                                    </p:animEffect>
                                    <p:anim calcmode="lin" valueType="num">
                                      <p:cBhvr additive="repl">
                                        <p:cTn id="319" dur="500" fill="hold"/>
                                        <p:tgtEl>
                                          <p:spTgt spid="2222"/>
                                        </p:tgtEl>
                                        <p:attrNameLst>
                                          <p:attrName>ppt_x</p:attrName>
                                        </p:attrNameLst>
                                      </p:cBhvr>
                                      <p:tavLst>
                                        <p:tav tm="0">
                                          <p:val>
                                            <p:strVal val="#ppt_x"/>
                                          </p:val>
                                        </p:tav>
                                        <p:tav tm="100000">
                                          <p:val>
                                            <p:strVal val="#ppt_x"/>
                                          </p:val>
                                        </p:tav>
                                      </p:tavLst>
                                    </p:anim>
                                    <p:anim calcmode="lin" valueType="num">
                                      <p:cBhvr additive="repl">
                                        <p:cTn id="320" dur="500" fill="hold"/>
                                        <p:tgtEl>
                                          <p:spTgt spid="2222"/>
                                        </p:tgtEl>
                                        <p:attrNameLst>
                                          <p:attrName>ppt_y</p:attrName>
                                        </p:attrNameLst>
                                      </p:cBhvr>
                                      <p:tavLst>
                                        <p:tav tm="0">
                                          <p:val>
                                            <p:strVal val="#ppt_y+.1"/>
                                          </p:val>
                                        </p:tav>
                                        <p:tav tm="100000">
                                          <p:val>
                                            <p:strVal val="#ppt_y"/>
                                          </p:val>
                                        </p:tav>
                                      </p:tavLst>
                                    </p:anim>
                                  </p:childTnLst>
                                </p:cTn>
                              </p:par>
                            </p:childTnLst>
                          </p:cTn>
                        </p:par>
                        <p:par>
                          <p:cTn id="321" fill="hold">
                            <p:stCondLst>
                              <p:cond delay="5000"/>
                            </p:stCondLst>
                            <p:childTnLst>
                              <p:par>
                                <p:cTn id="322" dur="indefinite" nodeType="afterEffect" fill="hold" presetClass="entr" presetID="42">
                                  <p:stCondLst>
                                    <p:cond delay="0"/>
                                  </p:stCondLst>
                                  <p:childTnLst>
                                    <p:set>
                                      <p:cBhvr>
                                        <p:cTn id="323" dur="1" fill="hold">
                                          <p:stCondLst>
                                            <p:cond delay="0"/>
                                          </p:stCondLst>
                                        </p:cTn>
                                        <p:tgtEl>
                                          <p:spTgt spid="2225"/>
                                        </p:tgtEl>
                                        <p:attrNameLst>
                                          <p:attrName>style.visibility</p:attrName>
                                        </p:attrNameLst>
                                      </p:cBhvr>
                                      <p:to>
                                        <p:strVal val="visible"/>
                                      </p:to>
                                    </p:set>
                                    <p:animEffect filter="fade" transition="in">
                                      <p:cBhvr additive="repl">
                                        <p:cTn id="324" dur="500"/>
                                        <p:tgtEl>
                                          <p:spTgt spid="2225"/>
                                        </p:tgtEl>
                                      </p:cBhvr>
                                    </p:animEffect>
                                    <p:anim calcmode="lin" valueType="num">
                                      <p:cBhvr additive="repl">
                                        <p:cTn id="325" dur="500" fill="hold"/>
                                        <p:tgtEl>
                                          <p:spTgt spid="2225"/>
                                        </p:tgtEl>
                                        <p:attrNameLst>
                                          <p:attrName>ppt_x</p:attrName>
                                        </p:attrNameLst>
                                      </p:cBhvr>
                                      <p:tavLst>
                                        <p:tav tm="0">
                                          <p:val>
                                            <p:strVal val="#ppt_x"/>
                                          </p:val>
                                        </p:tav>
                                        <p:tav tm="100000">
                                          <p:val>
                                            <p:strVal val="#ppt_x"/>
                                          </p:val>
                                        </p:tav>
                                      </p:tavLst>
                                    </p:anim>
                                    <p:anim calcmode="lin" valueType="num">
                                      <p:cBhvr additive="repl">
                                        <p:cTn id="326" dur="500" fill="hold"/>
                                        <p:tgtEl>
                                          <p:spTgt spid="2225"/>
                                        </p:tgtEl>
                                        <p:attrNameLst>
                                          <p:attrName>ppt_y</p:attrName>
                                        </p:attrNameLst>
                                      </p:cBhvr>
                                      <p:tavLst>
                                        <p:tav tm="0">
                                          <p:val>
                                            <p:strVal val="#ppt_y+.1"/>
                                          </p:val>
                                        </p:tav>
                                        <p:tav tm="100000">
                                          <p:val>
                                            <p:strVal val="#ppt_y"/>
                                          </p:val>
                                        </p:tav>
                                      </p:tavLst>
                                    </p:anim>
                                  </p:childTnLst>
                                </p:cTn>
                              </p:par>
                              <p:par>
                                <p:cTn id="327" dur="indefinite" nodeType="withEffect" fill="hold" presetClass="entr" presetID="53" presetSubtype="16">
                                  <p:stCondLst>
                                    <p:cond delay="0"/>
                                  </p:stCondLst>
                                  <p:childTnLst>
                                    <p:set>
                                      <p:cBhvr>
                                        <p:cTn id="328" dur="1" fill="hold">
                                          <p:stCondLst>
                                            <p:cond delay="0"/>
                                          </p:stCondLst>
                                        </p:cTn>
                                        <p:tgtEl>
                                          <p:spTgt spid="2241"/>
                                        </p:tgtEl>
                                        <p:attrNameLst>
                                          <p:attrName>style.visibility</p:attrName>
                                        </p:attrNameLst>
                                      </p:cBhvr>
                                      <p:to>
                                        <p:strVal val="visible"/>
                                      </p:to>
                                    </p:set>
                                    <p:anim calcmode="lin" valueType="num">
                                      <p:cBhvr additive="repl">
                                        <p:cTn id="329" dur="500" fill="hold"/>
                                        <p:tgtEl>
                                          <p:spTgt spid="2241"/>
                                        </p:tgtEl>
                                        <p:attrNameLst>
                                          <p:attrName>ppt_w</p:attrName>
                                        </p:attrNameLst>
                                      </p:cBhvr>
                                      <p:tavLst>
                                        <p:tav tm="0">
                                          <p:val>
                                            <p:fltVal val="0"/>
                                          </p:val>
                                        </p:tav>
                                        <p:tav tm="100000">
                                          <p:val>
                                            <p:strVal val="#ppt_w"/>
                                          </p:val>
                                        </p:tav>
                                      </p:tavLst>
                                    </p:anim>
                                    <p:anim calcmode="lin" valueType="num">
                                      <p:cBhvr additive="repl">
                                        <p:cTn id="330" dur="500" fill="hold"/>
                                        <p:tgtEl>
                                          <p:spTgt spid="2241"/>
                                        </p:tgtEl>
                                        <p:attrNameLst>
                                          <p:attrName>ppt_h</p:attrName>
                                        </p:attrNameLst>
                                      </p:cBhvr>
                                      <p:tavLst>
                                        <p:tav tm="0">
                                          <p:val>
                                            <p:fltVal val="0"/>
                                          </p:val>
                                        </p:tav>
                                        <p:tav tm="100000">
                                          <p:val>
                                            <p:strVal val="#ppt_h"/>
                                          </p:val>
                                        </p:tav>
                                      </p:tavLst>
                                    </p:anim>
                                    <p:animEffect filter="fade" transition="in">
                                      <p:cBhvr additive="repl">
                                        <p:cTn id="331" dur="500"/>
                                        <p:tgtEl>
                                          <p:spTgt spid="2241"/>
                                        </p:tgtEl>
                                      </p:cBhvr>
                                    </p:animEffect>
                                  </p:childTnLst>
                                </p:cTn>
                              </p:par>
                            </p:childTnLst>
                          </p:cTn>
                        </p:par>
                        <p:par>
                          <p:cTn id="332" fill="hold">
                            <p:stCondLst>
                              <p:cond delay="5500"/>
                            </p:stCondLst>
                            <p:childTnLst>
                              <p:par>
                                <p:cTn id="333" dur="indefinite" nodeType="afterEffect" fill="hold" presetClass="entr" presetID="18" presetSubtype="3">
                                  <p:stCondLst>
                                    <p:cond delay="0"/>
                                  </p:stCondLst>
                                  <p:childTnLst>
                                    <p:set>
                                      <p:cBhvr>
                                        <p:cTn id="334" dur="1" fill="hold">
                                          <p:stCondLst>
                                            <p:cond delay="0"/>
                                          </p:stCondLst>
                                        </p:cTn>
                                        <p:tgtEl>
                                          <p:spTgt spid="2216"/>
                                        </p:tgtEl>
                                        <p:attrNameLst>
                                          <p:attrName>style.visibility</p:attrName>
                                        </p:attrNameLst>
                                      </p:cBhvr>
                                      <p:to>
                                        <p:strVal val="visible"/>
                                      </p:to>
                                    </p:set>
                                    <p:animEffect filter="strips(upRight)" transition="in">
                                      <p:cBhvr additive="repl">
                                        <p:cTn id="335" dur="500"/>
                                        <p:tgtEl>
                                          <p:spTgt spid="2216"/>
                                        </p:tgtEl>
                                      </p:cBhvr>
                                    </p:animEffect>
                                  </p:childTnLst>
                                </p:cTn>
                              </p:par>
                            </p:childTnLst>
                          </p:cTn>
                        </p:par>
                        <p:par>
                          <p:cTn id="336" fill="hold">
                            <p:stCondLst>
                              <p:cond delay="6000"/>
                            </p:stCondLst>
                            <p:childTnLst>
                              <p:par>
                                <p:cTn id="337" dur="indefinite" nodeType="afterEffect" fill="hold" presetClass="entr" presetID="42">
                                  <p:stCondLst>
                                    <p:cond delay="0"/>
                                  </p:stCondLst>
                                  <p:childTnLst>
                                    <p:set>
                                      <p:cBhvr>
                                        <p:cTn id="338" dur="1" fill="hold">
                                          <p:stCondLst>
                                            <p:cond delay="0"/>
                                          </p:stCondLst>
                                        </p:cTn>
                                        <p:tgtEl>
                                          <p:spTgt spid="2221"/>
                                        </p:tgtEl>
                                        <p:attrNameLst>
                                          <p:attrName>style.visibility</p:attrName>
                                        </p:attrNameLst>
                                      </p:cBhvr>
                                      <p:to>
                                        <p:strVal val="visible"/>
                                      </p:to>
                                    </p:set>
                                    <p:animEffect filter="fade" transition="in">
                                      <p:cBhvr additive="repl">
                                        <p:cTn id="339" dur="500"/>
                                        <p:tgtEl>
                                          <p:spTgt spid="2221"/>
                                        </p:tgtEl>
                                      </p:cBhvr>
                                    </p:animEffect>
                                    <p:anim calcmode="lin" valueType="num">
                                      <p:cBhvr additive="repl">
                                        <p:cTn id="340" dur="500" fill="hold"/>
                                        <p:tgtEl>
                                          <p:spTgt spid="2221"/>
                                        </p:tgtEl>
                                        <p:attrNameLst>
                                          <p:attrName>ppt_x</p:attrName>
                                        </p:attrNameLst>
                                      </p:cBhvr>
                                      <p:tavLst>
                                        <p:tav tm="0">
                                          <p:val>
                                            <p:strVal val="#ppt_x"/>
                                          </p:val>
                                        </p:tav>
                                        <p:tav tm="100000">
                                          <p:val>
                                            <p:strVal val="#ppt_x"/>
                                          </p:val>
                                        </p:tav>
                                      </p:tavLst>
                                    </p:anim>
                                    <p:anim calcmode="lin" valueType="num">
                                      <p:cBhvr additive="repl">
                                        <p:cTn id="341" dur="500" fill="hold"/>
                                        <p:tgtEl>
                                          <p:spTgt spid="2221"/>
                                        </p:tgtEl>
                                        <p:attrNameLst>
                                          <p:attrName>ppt_y</p:attrName>
                                        </p:attrNameLst>
                                      </p:cBhvr>
                                      <p:tavLst>
                                        <p:tav tm="0">
                                          <p:val>
                                            <p:strVal val="#ppt_y+.1"/>
                                          </p:val>
                                        </p:tav>
                                        <p:tav tm="100000">
                                          <p:val>
                                            <p:strVal val="#ppt_y"/>
                                          </p:val>
                                        </p:tav>
                                      </p:tavLst>
                                    </p:anim>
                                  </p:childTnLst>
                                </p:cTn>
                              </p:par>
                            </p:childTnLst>
                          </p:cTn>
                        </p:par>
                        <p:par>
                          <p:cTn id="342" fill="hold">
                            <p:stCondLst>
                              <p:cond delay="6500"/>
                            </p:stCondLst>
                            <p:childTnLst>
                              <p:par>
                                <p:cTn id="343" dur="indefinite" nodeType="afterEffect" fill="hold" presetClass="entr" presetID="53" presetSubtype="16">
                                  <p:stCondLst>
                                    <p:cond delay="0"/>
                                  </p:stCondLst>
                                  <p:childTnLst>
                                    <p:set>
                                      <p:cBhvr>
                                        <p:cTn id="344" dur="1" fill="hold">
                                          <p:stCondLst>
                                            <p:cond delay="0"/>
                                          </p:stCondLst>
                                        </p:cTn>
                                        <p:tgtEl>
                                          <p:spTgt spid="2219"/>
                                        </p:tgtEl>
                                        <p:attrNameLst>
                                          <p:attrName>style.visibility</p:attrName>
                                        </p:attrNameLst>
                                      </p:cBhvr>
                                      <p:to>
                                        <p:strVal val="visible"/>
                                      </p:to>
                                    </p:set>
                                    <p:anim calcmode="lin" valueType="num">
                                      <p:cBhvr additive="repl">
                                        <p:cTn id="345" dur="500" fill="hold"/>
                                        <p:tgtEl>
                                          <p:spTgt spid="2219"/>
                                        </p:tgtEl>
                                        <p:attrNameLst>
                                          <p:attrName>ppt_w</p:attrName>
                                        </p:attrNameLst>
                                      </p:cBhvr>
                                      <p:tavLst>
                                        <p:tav tm="0">
                                          <p:val>
                                            <p:fltVal val="0"/>
                                          </p:val>
                                        </p:tav>
                                        <p:tav tm="100000">
                                          <p:val>
                                            <p:strVal val="#ppt_w"/>
                                          </p:val>
                                        </p:tav>
                                      </p:tavLst>
                                    </p:anim>
                                    <p:anim calcmode="lin" valueType="num">
                                      <p:cBhvr additive="repl">
                                        <p:cTn id="346" dur="500" fill="hold"/>
                                        <p:tgtEl>
                                          <p:spTgt spid="2219"/>
                                        </p:tgtEl>
                                        <p:attrNameLst>
                                          <p:attrName>ppt_h</p:attrName>
                                        </p:attrNameLst>
                                      </p:cBhvr>
                                      <p:tavLst>
                                        <p:tav tm="0">
                                          <p:val>
                                            <p:fltVal val="0"/>
                                          </p:val>
                                        </p:tav>
                                        <p:tav tm="100000">
                                          <p:val>
                                            <p:strVal val="#ppt_h"/>
                                          </p:val>
                                        </p:tav>
                                      </p:tavLst>
                                    </p:anim>
                                    <p:animEffect filter="fade" transition="in">
                                      <p:cBhvr additive="repl">
                                        <p:cTn id="347" dur="500"/>
                                        <p:tgtEl>
                                          <p:spTgt spid="2219"/>
                                        </p:tgtEl>
                                      </p:cBhvr>
                                    </p:animEffect>
                                  </p:childTnLst>
                                </p:cTn>
                              </p:par>
                              <p:par>
                                <p:cTn id="348" dur="indefinite" nodeType="withEffect" fill="hold" presetClass="entr" presetID="53" presetSubtype="16">
                                  <p:stCondLst>
                                    <p:cond delay="0"/>
                                  </p:stCondLst>
                                  <p:childTnLst>
                                    <p:set>
                                      <p:cBhvr>
                                        <p:cTn id="349" dur="1" fill="hold">
                                          <p:stCondLst>
                                            <p:cond delay="0"/>
                                          </p:stCondLst>
                                        </p:cTn>
                                        <p:tgtEl>
                                          <p:spTgt spid="2250"/>
                                        </p:tgtEl>
                                        <p:attrNameLst>
                                          <p:attrName>style.visibility</p:attrName>
                                        </p:attrNameLst>
                                      </p:cBhvr>
                                      <p:to>
                                        <p:strVal val="visible"/>
                                      </p:to>
                                    </p:set>
                                    <p:anim calcmode="lin" valueType="num">
                                      <p:cBhvr additive="repl">
                                        <p:cTn id="350" dur="500" fill="hold"/>
                                        <p:tgtEl>
                                          <p:spTgt spid="2250"/>
                                        </p:tgtEl>
                                        <p:attrNameLst>
                                          <p:attrName>ppt_w</p:attrName>
                                        </p:attrNameLst>
                                      </p:cBhvr>
                                      <p:tavLst>
                                        <p:tav tm="0">
                                          <p:val>
                                            <p:fltVal val="0"/>
                                          </p:val>
                                        </p:tav>
                                        <p:tav tm="100000">
                                          <p:val>
                                            <p:strVal val="#ppt_w"/>
                                          </p:val>
                                        </p:tav>
                                      </p:tavLst>
                                    </p:anim>
                                    <p:anim calcmode="lin" valueType="num">
                                      <p:cBhvr additive="repl">
                                        <p:cTn id="351" dur="500" fill="hold"/>
                                        <p:tgtEl>
                                          <p:spTgt spid="2250"/>
                                        </p:tgtEl>
                                        <p:attrNameLst>
                                          <p:attrName>ppt_h</p:attrName>
                                        </p:attrNameLst>
                                      </p:cBhvr>
                                      <p:tavLst>
                                        <p:tav tm="0">
                                          <p:val>
                                            <p:fltVal val="0"/>
                                          </p:val>
                                        </p:tav>
                                        <p:tav tm="100000">
                                          <p:val>
                                            <p:strVal val="#ppt_h"/>
                                          </p:val>
                                        </p:tav>
                                      </p:tavLst>
                                    </p:anim>
                                    <p:animEffect filter="fade" transition="in">
                                      <p:cBhvr additive="repl">
                                        <p:cTn id="352" dur="500"/>
                                        <p:tgtEl>
                                          <p:spTgt spid="2250"/>
                                        </p:tgtEl>
                                      </p:cBhvr>
                                    </p:animEffect>
                                  </p:childTnLst>
                                </p:cTn>
                              </p:par>
                            </p:childTnLst>
                          </p:cTn>
                        </p:par>
                        <p:par>
                          <p:cTn id="353" fill="hold">
                            <p:stCondLst>
                              <p:cond delay="7000"/>
                            </p:stCondLst>
                            <p:childTnLst>
                              <p:par>
                                <p:cTn id="354" dur="indefinite" nodeType="afterEffect" fill="hold" presetClass="entr" presetID="22" presetSubtype="8">
                                  <p:stCondLst>
                                    <p:cond delay="0"/>
                                  </p:stCondLst>
                                  <p:childTnLst>
                                    <p:set>
                                      <p:cBhvr>
                                        <p:cTn id="355" dur="1" fill="hold">
                                          <p:stCondLst>
                                            <p:cond delay="0"/>
                                          </p:stCondLst>
                                        </p:cTn>
                                        <p:tgtEl>
                                          <p:spTgt spid="2231"/>
                                        </p:tgtEl>
                                        <p:attrNameLst>
                                          <p:attrName>style.visibility</p:attrName>
                                        </p:attrNameLst>
                                      </p:cBhvr>
                                      <p:to>
                                        <p:strVal val="visible"/>
                                      </p:to>
                                    </p:set>
                                    <p:animEffect filter="wipe(left)" transition="in">
                                      <p:cBhvr additive="repl">
                                        <p:cTn id="356" dur="500"/>
                                        <p:tgtEl>
                                          <p:spTgt spid="2231"/>
                                        </p:tgtEl>
                                      </p:cBhvr>
                                    </p:animEffect>
                                  </p:childTnLst>
                                </p:cTn>
                              </p:par>
                            </p:childTnLst>
                          </p:cTn>
                        </p:par>
                        <p:par>
                          <p:cTn id="357" fill="hold">
                            <p:stCondLst>
                              <p:cond delay="7500"/>
                            </p:stCondLst>
                            <p:childTnLst>
                              <p:par>
                                <p:cTn id="358" dur="indefinite" nodeType="afterEffect" fill="hold" presetClass="entr" presetID="18" presetSubtype="3">
                                  <p:stCondLst>
                                    <p:cond delay="0"/>
                                  </p:stCondLst>
                                  <p:childTnLst>
                                    <p:set>
                                      <p:cBhvr>
                                        <p:cTn id="359" dur="1" fill="hold">
                                          <p:stCondLst>
                                            <p:cond delay="0"/>
                                          </p:stCondLst>
                                        </p:cTn>
                                        <p:tgtEl>
                                          <p:spTgt spid="2213"/>
                                        </p:tgtEl>
                                        <p:attrNameLst>
                                          <p:attrName>style.visibility</p:attrName>
                                        </p:attrNameLst>
                                      </p:cBhvr>
                                      <p:to>
                                        <p:strVal val="visible"/>
                                      </p:to>
                                    </p:set>
                                    <p:animEffect filter="strips(upRight)" transition="in">
                                      <p:cBhvr additive="repl">
                                        <p:cTn id="360" dur="500"/>
                                        <p:tgtEl>
                                          <p:spTgt spid="2213"/>
                                        </p:tgtEl>
                                      </p:cBhvr>
                                    </p:animEffect>
                                  </p:childTnLst>
                                </p:cTn>
                              </p:par>
                            </p:childTnLst>
                          </p:cTn>
                        </p:par>
                        <p:par>
                          <p:cTn id="361" fill="hold">
                            <p:stCondLst>
                              <p:cond delay="8000"/>
                            </p:stCondLst>
                            <p:childTnLst>
                              <p:par>
                                <p:cTn id="362" dur="indefinite" nodeType="afterEffect" fill="hold" presetClass="entr" presetID="53" presetSubtype="16">
                                  <p:stCondLst>
                                    <p:cond delay="0"/>
                                  </p:stCondLst>
                                  <p:childTnLst>
                                    <p:set>
                                      <p:cBhvr>
                                        <p:cTn id="363" dur="1" fill="hold">
                                          <p:stCondLst>
                                            <p:cond delay="0"/>
                                          </p:stCondLst>
                                        </p:cTn>
                                        <p:tgtEl>
                                          <p:spTgt spid="2220"/>
                                        </p:tgtEl>
                                        <p:attrNameLst>
                                          <p:attrName>style.visibility</p:attrName>
                                        </p:attrNameLst>
                                      </p:cBhvr>
                                      <p:to>
                                        <p:strVal val="visible"/>
                                      </p:to>
                                    </p:set>
                                    <p:anim calcmode="lin" valueType="num">
                                      <p:cBhvr additive="repl">
                                        <p:cTn id="364" dur="500" fill="hold"/>
                                        <p:tgtEl>
                                          <p:spTgt spid="2220"/>
                                        </p:tgtEl>
                                        <p:attrNameLst>
                                          <p:attrName>ppt_w</p:attrName>
                                        </p:attrNameLst>
                                      </p:cBhvr>
                                      <p:tavLst>
                                        <p:tav tm="0">
                                          <p:val>
                                            <p:fltVal val="0"/>
                                          </p:val>
                                        </p:tav>
                                        <p:tav tm="100000">
                                          <p:val>
                                            <p:strVal val="#ppt_w"/>
                                          </p:val>
                                        </p:tav>
                                      </p:tavLst>
                                    </p:anim>
                                    <p:anim calcmode="lin" valueType="num">
                                      <p:cBhvr additive="repl">
                                        <p:cTn id="365" dur="500" fill="hold"/>
                                        <p:tgtEl>
                                          <p:spTgt spid="2220"/>
                                        </p:tgtEl>
                                        <p:attrNameLst>
                                          <p:attrName>ppt_h</p:attrName>
                                        </p:attrNameLst>
                                      </p:cBhvr>
                                      <p:tavLst>
                                        <p:tav tm="0">
                                          <p:val>
                                            <p:fltVal val="0"/>
                                          </p:val>
                                        </p:tav>
                                        <p:tav tm="100000">
                                          <p:val>
                                            <p:strVal val="#ppt_h"/>
                                          </p:val>
                                        </p:tav>
                                      </p:tavLst>
                                    </p:anim>
                                    <p:animEffect filter="fade" transition="in">
                                      <p:cBhvr additive="repl">
                                        <p:cTn id="366" dur="500"/>
                                        <p:tgtEl>
                                          <p:spTgt spid="2220"/>
                                        </p:tgtEl>
                                      </p:cBhvr>
                                    </p:animEffect>
                                  </p:childTnLst>
                                </p:cTn>
                              </p:par>
                              <p:par>
                                <p:cTn id="367" dur="indefinite" nodeType="withEffect" fill="hold" presetClass="entr" presetID="53" presetSubtype="16">
                                  <p:stCondLst>
                                    <p:cond delay="0"/>
                                  </p:stCondLst>
                                  <p:childTnLst>
                                    <p:set>
                                      <p:cBhvr>
                                        <p:cTn id="368" dur="1" fill="hold">
                                          <p:stCondLst>
                                            <p:cond delay="0"/>
                                          </p:stCondLst>
                                        </p:cTn>
                                        <p:tgtEl>
                                          <p:spTgt spid="2238"/>
                                        </p:tgtEl>
                                        <p:attrNameLst>
                                          <p:attrName>style.visibility</p:attrName>
                                        </p:attrNameLst>
                                      </p:cBhvr>
                                      <p:to>
                                        <p:strVal val="visible"/>
                                      </p:to>
                                    </p:set>
                                    <p:anim calcmode="lin" valueType="num">
                                      <p:cBhvr additive="repl">
                                        <p:cTn id="369" dur="500" fill="hold"/>
                                        <p:tgtEl>
                                          <p:spTgt spid="2238"/>
                                        </p:tgtEl>
                                        <p:attrNameLst>
                                          <p:attrName>ppt_w</p:attrName>
                                        </p:attrNameLst>
                                      </p:cBhvr>
                                      <p:tavLst>
                                        <p:tav tm="0">
                                          <p:val>
                                            <p:fltVal val="0"/>
                                          </p:val>
                                        </p:tav>
                                        <p:tav tm="100000">
                                          <p:val>
                                            <p:strVal val="#ppt_w"/>
                                          </p:val>
                                        </p:tav>
                                      </p:tavLst>
                                    </p:anim>
                                    <p:anim calcmode="lin" valueType="num">
                                      <p:cBhvr additive="repl">
                                        <p:cTn id="370" dur="500" fill="hold"/>
                                        <p:tgtEl>
                                          <p:spTgt spid="2238"/>
                                        </p:tgtEl>
                                        <p:attrNameLst>
                                          <p:attrName>ppt_h</p:attrName>
                                        </p:attrNameLst>
                                      </p:cBhvr>
                                      <p:tavLst>
                                        <p:tav tm="0">
                                          <p:val>
                                            <p:fltVal val="0"/>
                                          </p:val>
                                        </p:tav>
                                        <p:tav tm="100000">
                                          <p:val>
                                            <p:strVal val="#ppt_h"/>
                                          </p:val>
                                        </p:tav>
                                      </p:tavLst>
                                    </p:anim>
                                    <p:animEffect filter="fade" transition="in">
                                      <p:cBhvr additive="repl">
                                        <p:cTn id="371" dur="500"/>
                                        <p:tgtEl>
                                          <p:spTgt spid="2238"/>
                                        </p:tgtEl>
                                      </p:cBhvr>
                                    </p:animEffect>
                                  </p:childTnLst>
                                </p:cTn>
                              </p:par>
                            </p:childTnLst>
                          </p:cTn>
                        </p:par>
                        <p:par>
                          <p:cTn id="372" fill="hold">
                            <p:stCondLst>
                              <p:cond delay="8500"/>
                            </p:stCondLst>
                            <p:childTnLst>
                              <p:par>
                                <p:cTn id="373" dur="indefinite" nodeType="afterEffect" fill="hold" presetClass="entr" presetID="18" presetSubtype="3">
                                  <p:stCondLst>
                                    <p:cond delay="0"/>
                                  </p:stCondLst>
                                  <p:childTnLst>
                                    <p:set>
                                      <p:cBhvr>
                                        <p:cTn id="374" dur="1" fill="hold">
                                          <p:stCondLst>
                                            <p:cond delay="0"/>
                                          </p:stCondLst>
                                        </p:cTn>
                                        <p:tgtEl>
                                          <p:spTgt spid="2212"/>
                                        </p:tgtEl>
                                        <p:attrNameLst>
                                          <p:attrName>style.visibility</p:attrName>
                                        </p:attrNameLst>
                                      </p:cBhvr>
                                      <p:to>
                                        <p:strVal val="visible"/>
                                      </p:to>
                                    </p:set>
                                    <p:animEffect filter="strips(upRight)" transition="in">
                                      <p:cBhvr additive="repl">
                                        <p:cTn id="375" dur="500"/>
                                        <p:tgtEl>
                                          <p:spTgt spid="2212"/>
                                        </p:tgtEl>
                                      </p:cBhvr>
                                    </p:animEffect>
                                  </p:childTnLst>
                                </p:cTn>
                              </p:par>
                            </p:childTnLst>
                          </p:cTn>
                        </p:par>
                        <p:par>
                          <p:cTn id="376" fill="hold">
                            <p:stCondLst>
                              <p:cond delay="9000"/>
                            </p:stCondLst>
                            <p:childTnLst>
                              <p:par>
                                <p:cTn id="377" dur="indefinite" nodeType="afterEffect" fill="hold" presetClass="entr" presetID="53" presetSubtype="16">
                                  <p:stCondLst>
                                    <p:cond delay="0"/>
                                  </p:stCondLst>
                                  <p:childTnLst>
                                    <p:set>
                                      <p:cBhvr>
                                        <p:cTn id="378" dur="1" fill="hold">
                                          <p:stCondLst>
                                            <p:cond delay="0"/>
                                          </p:stCondLst>
                                        </p:cTn>
                                        <p:tgtEl>
                                          <p:spTgt spid="2224"/>
                                        </p:tgtEl>
                                        <p:attrNameLst>
                                          <p:attrName>style.visibility</p:attrName>
                                        </p:attrNameLst>
                                      </p:cBhvr>
                                      <p:to>
                                        <p:strVal val="visible"/>
                                      </p:to>
                                    </p:set>
                                    <p:anim calcmode="lin" valueType="num">
                                      <p:cBhvr additive="repl">
                                        <p:cTn id="379" dur="500" fill="hold"/>
                                        <p:tgtEl>
                                          <p:spTgt spid="2224"/>
                                        </p:tgtEl>
                                        <p:attrNameLst>
                                          <p:attrName>ppt_w</p:attrName>
                                        </p:attrNameLst>
                                      </p:cBhvr>
                                      <p:tavLst>
                                        <p:tav tm="0">
                                          <p:val>
                                            <p:fltVal val="0"/>
                                          </p:val>
                                        </p:tav>
                                        <p:tav tm="100000">
                                          <p:val>
                                            <p:strVal val="#ppt_w"/>
                                          </p:val>
                                        </p:tav>
                                      </p:tavLst>
                                    </p:anim>
                                    <p:anim calcmode="lin" valueType="num">
                                      <p:cBhvr additive="repl">
                                        <p:cTn id="380" dur="500" fill="hold"/>
                                        <p:tgtEl>
                                          <p:spTgt spid="2224"/>
                                        </p:tgtEl>
                                        <p:attrNameLst>
                                          <p:attrName>ppt_h</p:attrName>
                                        </p:attrNameLst>
                                      </p:cBhvr>
                                      <p:tavLst>
                                        <p:tav tm="0">
                                          <p:val>
                                            <p:fltVal val="0"/>
                                          </p:val>
                                        </p:tav>
                                        <p:tav tm="100000">
                                          <p:val>
                                            <p:strVal val="#ppt_h"/>
                                          </p:val>
                                        </p:tav>
                                      </p:tavLst>
                                    </p:anim>
                                    <p:animEffect filter="fade" transition="in">
                                      <p:cBhvr additive="repl">
                                        <p:cTn id="381" dur="500"/>
                                        <p:tgtEl>
                                          <p:spTgt spid="2224"/>
                                        </p:tgtEl>
                                      </p:cBhvr>
                                    </p:animEffect>
                                  </p:childTnLst>
                                </p:cTn>
                              </p:par>
                              <p:par>
                                <p:cTn id="382" dur="indefinite" nodeType="withEffect" fill="hold" presetClass="entr" presetID="53" presetSubtype="16">
                                  <p:stCondLst>
                                    <p:cond delay="0"/>
                                  </p:stCondLst>
                                  <p:childTnLst>
                                    <p:set>
                                      <p:cBhvr>
                                        <p:cTn id="383" dur="1" fill="hold">
                                          <p:stCondLst>
                                            <p:cond delay="0"/>
                                          </p:stCondLst>
                                        </p:cTn>
                                        <p:tgtEl>
                                          <p:spTgt spid="2247"/>
                                        </p:tgtEl>
                                        <p:attrNameLst>
                                          <p:attrName>style.visibility</p:attrName>
                                        </p:attrNameLst>
                                      </p:cBhvr>
                                      <p:to>
                                        <p:strVal val="visible"/>
                                      </p:to>
                                    </p:set>
                                    <p:anim calcmode="lin" valueType="num">
                                      <p:cBhvr additive="repl">
                                        <p:cTn id="384" dur="500" fill="hold"/>
                                        <p:tgtEl>
                                          <p:spTgt spid="2247"/>
                                        </p:tgtEl>
                                        <p:attrNameLst>
                                          <p:attrName>ppt_w</p:attrName>
                                        </p:attrNameLst>
                                      </p:cBhvr>
                                      <p:tavLst>
                                        <p:tav tm="0">
                                          <p:val>
                                            <p:fltVal val="0"/>
                                          </p:val>
                                        </p:tav>
                                        <p:tav tm="100000">
                                          <p:val>
                                            <p:strVal val="#ppt_w"/>
                                          </p:val>
                                        </p:tav>
                                      </p:tavLst>
                                    </p:anim>
                                    <p:anim calcmode="lin" valueType="num">
                                      <p:cBhvr additive="repl">
                                        <p:cTn id="385" dur="500" fill="hold"/>
                                        <p:tgtEl>
                                          <p:spTgt spid="2247"/>
                                        </p:tgtEl>
                                        <p:attrNameLst>
                                          <p:attrName>ppt_h</p:attrName>
                                        </p:attrNameLst>
                                      </p:cBhvr>
                                      <p:tavLst>
                                        <p:tav tm="0">
                                          <p:val>
                                            <p:fltVal val="0"/>
                                          </p:val>
                                        </p:tav>
                                        <p:tav tm="100000">
                                          <p:val>
                                            <p:strVal val="#ppt_h"/>
                                          </p:val>
                                        </p:tav>
                                      </p:tavLst>
                                    </p:anim>
                                    <p:animEffect filter="fade" transition="in">
                                      <p:cBhvr additive="repl">
                                        <p:cTn id="386" dur="500"/>
                                        <p:tgtEl>
                                          <p:spTgt spid="2247"/>
                                        </p:tgtEl>
                                      </p:cBhvr>
                                    </p:animEffect>
                                  </p:childTnLst>
                                </p:cTn>
                              </p:par>
                            </p:childTnLst>
                          </p:cTn>
                        </p:par>
                        <p:par>
                          <p:cTn id="387" fill="hold">
                            <p:stCondLst>
                              <p:cond delay="9500"/>
                            </p:stCondLst>
                            <p:childTnLst>
                              <p:par>
                                <p:cTn id="388" dur="indefinite" nodeType="afterEffect" fill="hold" presetClass="entr" presetID="22" presetSubtype="8">
                                  <p:stCondLst>
                                    <p:cond delay="0"/>
                                  </p:stCondLst>
                                  <p:childTnLst>
                                    <p:set>
                                      <p:cBhvr>
                                        <p:cTn id="389" dur="1" fill="hold">
                                          <p:stCondLst>
                                            <p:cond delay="0"/>
                                          </p:stCondLst>
                                        </p:cTn>
                                        <p:tgtEl>
                                          <p:spTgt spid="2259"/>
                                        </p:tgtEl>
                                        <p:attrNameLst>
                                          <p:attrName>style.visibility</p:attrName>
                                        </p:attrNameLst>
                                      </p:cBhvr>
                                      <p:to>
                                        <p:strVal val="visible"/>
                                      </p:to>
                                    </p:set>
                                    <p:animEffect filter="wipe(left)" transition="in">
                                      <p:cBhvr additive="repl">
                                        <p:cTn id="390" dur="500"/>
                                        <p:tgtEl>
                                          <p:spTgt spid="2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982440" y="2205000"/>
            <a:ext cx="10225080" cy="33228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000000"/>
                </a:solidFill>
                <a:latin typeface="微软雅黑"/>
                <a:ea typeface="微软雅黑"/>
              </a:rPr>
              <a:t>                          </a:t>
            </a:r>
            <a:r>
              <a:rPr b="1" lang="zh-CN" sz="5400" spc="-1" strike="noStrike">
                <a:solidFill>
                  <a:srgbClr val="8e10d4"/>
                </a:solidFill>
                <a:latin typeface="微软雅黑"/>
              </a:rPr>
              <a:t>任务二 </a:t>
            </a:r>
            <a:br>
              <a:rPr sz="5400"/>
            </a:br>
            <a:r>
              <a:rPr b="1" lang="en-US" sz="5400" spc="-1" strike="noStrike">
                <a:solidFill>
                  <a:srgbClr val="8e10d4"/>
                </a:solidFill>
                <a:latin typeface="微软雅黑"/>
                <a:ea typeface="微软雅黑"/>
              </a:rPr>
              <a:t>        </a:t>
            </a:r>
            <a:r>
              <a:rPr b="1" lang="zh-CN" sz="5400" spc="-1" strike="noStrike">
                <a:solidFill>
                  <a:srgbClr val="8e10d4"/>
                </a:solidFill>
                <a:latin typeface="微软雅黑"/>
                <a:ea typeface="汉仪旗黑-85S"/>
              </a:rPr>
              <a:t>审计报告的编制和出具</a:t>
            </a:r>
            <a:br>
              <a:rPr sz="5400"/>
            </a:br>
            <a:br>
              <a:rPr sz="5400"/>
            </a:br>
            <a:endParaRPr b="1" lang="en-US" sz="5400" spc="-1" strike="noStrike">
              <a:solidFill>
                <a:srgbClr val="262626"/>
              </a:solidFill>
              <a:latin typeface="Arial"/>
            </a:endParaRPr>
          </a:p>
        </p:txBody>
      </p:sp>
    </p:spTree>
  </p:cSld>
  <p:transition>
    <p:fad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dur="indefinite" nodeType="afterEffect" fill="hold" presetClass="entr" presetID="22" presetSubtype="1">
                                  <p:stCondLst>
                                    <p:cond delay="0"/>
                                  </p:stCondLst>
                                  <p:childTnLst>
                                    <p:set>
                                      <p:cBhvr>
                                        <p:cTn id="396" dur="1000" fill="hold">
                                          <p:stCondLst>
                                            <p:cond delay="0"/>
                                          </p:stCondLst>
                                        </p:cTn>
                                        <p:tgtEl>
                                          <p:spTgt spid="2262"/>
                                        </p:tgtEl>
                                        <p:attrNameLst>
                                          <p:attrName>style.visibility</p:attrName>
                                        </p:attrNameLst>
                                      </p:cBhvr>
                                      <p:to>
                                        <p:strVal val="visible"/>
                                      </p:to>
                                    </p:set>
                                    <p:animEffect filter="wipe(up)" transition="in">
                                      <p:cBhvr additive="repl">
                                        <p:cTn id="397" dur="1000"/>
                                        <p:tgtEl>
                                          <p:spTgt spid="2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3" name="组合 112"/>
          <p:cNvGrpSpPr/>
          <p:nvPr/>
        </p:nvGrpSpPr>
        <p:grpSpPr>
          <a:xfrm>
            <a:off x="3822840" y="1830240"/>
            <a:ext cx="7629480" cy="3579480"/>
            <a:chOff x="3822840" y="1830240"/>
            <a:chExt cx="7629480" cy="3579480"/>
          </a:xfrm>
        </p:grpSpPr>
        <p:sp>
          <p:nvSpPr>
            <p:cNvPr id="2264" name="圆角矩形 113"/>
            <p:cNvSpPr/>
            <p:nvPr/>
          </p:nvSpPr>
          <p:spPr>
            <a:xfrm>
              <a:off x="3927600" y="2017080"/>
              <a:ext cx="7412040" cy="321948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65" name="组合 114"/>
            <p:cNvGrpSpPr/>
            <p:nvPr/>
          </p:nvGrpSpPr>
          <p:grpSpPr>
            <a:xfrm>
              <a:off x="3822840" y="1830240"/>
              <a:ext cx="389520" cy="378000"/>
              <a:chOff x="3822840" y="1830240"/>
              <a:chExt cx="389520" cy="378000"/>
            </a:xfrm>
          </p:grpSpPr>
          <p:sp>
            <p:nvSpPr>
              <p:cNvPr id="2266" name="菱形 115"/>
              <p:cNvSpPr/>
              <p:nvPr/>
            </p:nvSpPr>
            <p:spPr>
              <a:xfrm>
                <a:off x="3822840" y="1830240"/>
                <a:ext cx="253800" cy="362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7" name="菱形 116"/>
              <p:cNvSpPr/>
              <p:nvPr/>
            </p:nvSpPr>
            <p:spPr>
              <a:xfrm>
                <a:off x="4005000" y="1846080"/>
                <a:ext cx="207360" cy="362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68" name="组合 117"/>
            <p:cNvGrpSpPr/>
            <p:nvPr/>
          </p:nvGrpSpPr>
          <p:grpSpPr>
            <a:xfrm>
              <a:off x="3822840" y="5049000"/>
              <a:ext cx="435600" cy="360720"/>
              <a:chOff x="3822840" y="5049000"/>
              <a:chExt cx="435600" cy="360720"/>
            </a:xfrm>
          </p:grpSpPr>
          <p:sp>
            <p:nvSpPr>
              <p:cNvPr id="2269" name="菱形 118"/>
              <p:cNvSpPr/>
              <p:nvPr/>
            </p:nvSpPr>
            <p:spPr>
              <a:xfrm>
                <a:off x="3822840" y="5049000"/>
                <a:ext cx="254520" cy="3607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0" name="菱形 119"/>
              <p:cNvSpPr/>
              <p:nvPr/>
            </p:nvSpPr>
            <p:spPr>
              <a:xfrm>
                <a:off x="4003920" y="5049000"/>
                <a:ext cx="254520" cy="3607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1" name="组合 120"/>
            <p:cNvGrpSpPr/>
            <p:nvPr/>
          </p:nvGrpSpPr>
          <p:grpSpPr>
            <a:xfrm>
              <a:off x="11008440" y="5049000"/>
              <a:ext cx="443880" cy="360720"/>
              <a:chOff x="11008440" y="5049000"/>
              <a:chExt cx="443880" cy="360720"/>
            </a:xfrm>
          </p:grpSpPr>
          <p:sp>
            <p:nvSpPr>
              <p:cNvPr id="2272" name="菱形 121"/>
              <p:cNvSpPr/>
              <p:nvPr/>
            </p:nvSpPr>
            <p:spPr>
              <a:xfrm flipH="1">
                <a:off x="11188800" y="5049000"/>
                <a:ext cx="263520" cy="3607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3" name="菱形 122"/>
              <p:cNvSpPr/>
              <p:nvPr/>
            </p:nvSpPr>
            <p:spPr>
              <a:xfrm flipH="1">
                <a:off x="11008080" y="5049000"/>
                <a:ext cx="263160" cy="3607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4" name="组合 123"/>
            <p:cNvGrpSpPr/>
            <p:nvPr/>
          </p:nvGrpSpPr>
          <p:grpSpPr>
            <a:xfrm>
              <a:off x="11016720" y="1848960"/>
              <a:ext cx="435600" cy="361080"/>
              <a:chOff x="11016720" y="1848960"/>
              <a:chExt cx="435600" cy="361080"/>
            </a:xfrm>
          </p:grpSpPr>
          <p:sp>
            <p:nvSpPr>
              <p:cNvPr id="2275" name="菱形 124"/>
              <p:cNvSpPr/>
              <p:nvPr/>
            </p:nvSpPr>
            <p:spPr>
              <a:xfrm flipH="1">
                <a:off x="11197440" y="1848960"/>
                <a:ext cx="254520" cy="36108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6" name="菱形 125"/>
              <p:cNvSpPr/>
              <p:nvPr/>
            </p:nvSpPr>
            <p:spPr>
              <a:xfrm flipH="1">
                <a:off x="11016360" y="1848960"/>
                <a:ext cx="254520" cy="36108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277" name="组合 28"/>
          <p:cNvGrpSpPr/>
          <p:nvPr/>
        </p:nvGrpSpPr>
        <p:grpSpPr>
          <a:xfrm>
            <a:off x="927000" y="341280"/>
            <a:ext cx="10360080" cy="523800"/>
            <a:chOff x="927000" y="341280"/>
            <a:chExt cx="10360080" cy="523800"/>
          </a:xfrm>
        </p:grpSpPr>
        <p:sp>
          <p:nvSpPr>
            <p:cNvPr id="2278" name="直接连接符 52"/>
            <p:cNvSpPr/>
            <p:nvPr/>
          </p:nvSpPr>
          <p:spPr>
            <a:xfrm>
              <a:off x="927000" y="603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79" name="直接连接符 64"/>
            <p:cNvSpPr/>
            <p:nvPr/>
          </p:nvSpPr>
          <p:spPr>
            <a:xfrm>
              <a:off x="9307800" y="603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280" name="文本框 31" descr=""/>
            <p:cNvPicPr/>
            <p:nvPr/>
          </p:nvPicPr>
          <p:blipFill>
            <a:blip r:embed="rId1"/>
            <a:stretch/>
          </p:blipFill>
          <p:spPr>
            <a:xfrm>
              <a:off x="2741760" y="341280"/>
              <a:ext cx="6896160" cy="523800"/>
            </a:xfrm>
            <a:prstGeom prst="rect">
              <a:avLst/>
            </a:prstGeom>
            <a:ln w="0">
              <a:noFill/>
            </a:ln>
          </p:spPr>
        </p:pic>
      </p:grpSp>
      <p:sp>
        <p:nvSpPr>
          <p:cNvPr id="2281" name="文本框 2"/>
          <p:cNvSpPr/>
          <p:nvPr/>
        </p:nvSpPr>
        <p:spPr>
          <a:xfrm>
            <a:off x="4219560" y="1008000"/>
            <a:ext cx="297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282" name="矩形 1"/>
          <p:cNvSpPr/>
          <p:nvPr/>
        </p:nvSpPr>
        <p:spPr>
          <a:xfrm>
            <a:off x="4121280" y="2182680"/>
            <a:ext cx="694692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       </a:t>
            </a:r>
            <a:r>
              <a:rPr b="0" lang="zh-CN" sz="2400" spc="-1" strike="noStrike">
                <a:solidFill>
                  <a:srgbClr val="262626"/>
                </a:solidFill>
                <a:latin typeface="Arial"/>
                <a:ea typeface="微软雅黑"/>
              </a:rPr>
              <a:t>审计报告是指审计人员根据审计准则的要求，在实施了必要的审计程序后， 向审计授权人或委托人出具的用于被审计单位的审计结果进行评价、表达审计意 见和建议的书面文件。</a:t>
            </a:r>
            <a:endParaRPr b="1" lang="en-US" sz="2400" spc="-1" strike="noStrike">
              <a:solidFill>
                <a:srgbClr val="000000"/>
              </a:solidFill>
              <a:latin typeface="Arial"/>
            </a:endParaRPr>
          </a:p>
        </p:txBody>
      </p:sp>
      <p:grpSp>
        <p:nvGrpSpPr>
          <p:cNvPr id="2283" name="组合 3"/>
          <p:cNvGrpSpPr/>
          <p:nvPr/>
        </p:nvGrpSpPr>
        <p:grpSpPr>
          <a:xfrm>
            <a:off x="593640" y="2027160"/>
            <a:ext cx="3160800" cy="3024360"/>
            <a:chOff x="593640" y="2027160"/>
            <a:chExt cx="3160800" cy="3024360"/>
          </a:xfrm>
        </p:grpSpPr>
        <p:pic>
          <p:nvPicPr>
            <p:cNvPr id="2284" name="图片 22" descr=""/>
            <p:cNvPicPr/>
            <p:nvPr/>
          </p:nvPicPr>
          <p:blipFill>
            <a:blip r:embed="rId2"/>
            <a:stretch/>
          </p:blipFill>
          <p:spPr>
            <a:xfrm>
              <a:off x="1264320" y="2097000"/>
              <a:ext cx="2287080" cy="2940840"/>
            </a:xfrm>
            <a:prstGeom prst="rect">
              <a:avLst/>
            </a:prstGeom>
            <a:ln w="0">
              <a:noFill/>
            </a:ln>
          </p:spPr>
        </p:pic>
        <p:sp>
          <p:nvSpPr>
            <p:cNvPr id="2285" name="Rectangle 3"/>
            <p:cNvSpPr/>
            <p:nvPr/>
          </p:nvSpPr>
          <p:spPr>
            <a:xfrm rot="18900000">
              <a:off x="2748240" y="3072600"/>
              <a:ext cx="768960" cy="989640"/>
            </a:xfrm>
            <a:prstGeom prst="rect">
              <a:avLst/>
            </a:prstGeom>
            <a:solidFill>
              <a:srgbClr val="2196f3">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6" name="Diamond 5"/>
            <p:cNvSpPr/>
            <p:nvPr/>
          </p:nvSpPr>
          <p:spPr>
            <a:xfrm>
              <a:off x="2930400" y="3306960"/>
              <a:ext cx="404640" cy="522000"/>
            </a:xfrm>
            <a:prstGeom prst="diamond">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7" name="任意多边形: 形状 33"/>
            <p:cNvSpPr/>
            <p:nvPr/>
          </p:nvSpPr>
          <p:spPr>
            <a:xfrm>
              <a:off x="3051720" y="3463200"/>
              <a:ext cx="162000" cy="208800"/>
            </a:xfrm>
            <a:custGeom>
              <a:avLst/>
              <a:gdLst/>
              <a:ahLst/>
              <a:rect l="l" t="t" r="r" b="b"/>
              <a:pathLst>
                <a:path w="384214" h="384636">
                  <a:moveTo>
                    <a:pt x="54571" y="283927"/>
                  </a:moveTo>
                  <a:lnTo>
                    <a:pt x="66591" y="283927"/>
                  </a:lnTo>
                  <a:lnTo>
                    <a:pt x="66591" y="372616"/>
                  </a:lnTo>
                  <a:lnTo>
                    <a:pt x="325991" y="372616"/>
                  </a:lnTo>
                  <a:lnTo>
                    <a:pt x="325991" y="321574"/>
                  </a:lnTo>
                  <a:lnTo>
                    <a:pt x="338011" y="321574"/>
                  </a:lnTo>
                  <a:lnTo>
                    <a:pt x="338011" y="384636"/>
                  </a:lnTo>
                  <a:lnTo>
                    <a:pt x="54571" y="384636"/>
                  </a:lnTo>
                  <a:lnTo>
                    <a:pt x="54571" y="283927"/>
                  </a:lnTo>
                  <a:close/>
                  <a:moveTo>
                    <a:pt x="206048" y="221148"/>
                  </a:moveTo>
                  <a:cubicBezTo>
                    <a:pt x="209212" y="220144"/>
                    <a:pt x="212590" y="221896"/>
                    <a:pt x="213593" y="225060"/>
                  </a:cubicBezTo>
                  <a:cubicBezTo>
                    <a:pt x="214596" y="228224"/>
                    <a:pt x="212845" y="231602"/>
                    <a:pt x="209681" y="232606"/>
                  </a:cubicBezTo>
                  <a:lnTo>
                    <a:pt x="203107" y="234743"/>
                  </a:lnTo>
                  <a:cubicBezTo>
                    <a:pt x="202680" y="235130"/>
                    <a:pt x="202197" y="235451"/>
                    <a:pt x="201676" y="235696"/>
                  </a:cubicBezTo>
                  <a:lnTo>
                    <a:pt x="186404" y="241956"/>
                  </a:lnTo>
                  <a:cubicBezTo>
                    <a:pt x="185682" y="242253"/>
                    <a:pt x="184907" y="242407"/>
                    <a:pt x="184126" y="242408"/>
                  </a:cubicBezTo>
                  <a:cubicBezTo>
                    <a:pt x="181689" y="242406"/>
                    <a:pt x="179495" y="240933"/>
                    <a:pt x="178570" y="238678"/>
                  </a:cubicBezTo>
                  <a:cubicBezTo>
                    <a:pt x="177309" y="235606"/>
                    <a:pt x="178777" y="232093"/>
                    <a:pt x="181849" y="230833"/>
                  </a:cubicBezTo>
                  <a:lnTo>
                    <a:pt x="197086" y="224588"/>
                  </a:lnTo>
                  <a:cubicBezTo>
                    <a:pt x="197699" y="224042"/>
                    <a:pt x="198418" y="223629"/>
                    <a:pt x="199198" y="223373"/>
                  </a:cubicBezTo>
                  <a:lnTo>
                    <a:pt x="205972" y="221172"/>
                  </a:lnTo>
                  <a:cubicBezTo>
                    <a:pt x="205997" y="221164"/>
                    <a:pt x="206022" y="221156"/>
                    <a:pt x="206048" y="221148"/>
                  </a:cubicBezTo>
                  <a:close/>
                  <a:moveTo>
                    <a:pt x="279082" y="198325"/>
                  </a:moveTo>
                  <a:cubicBezTo>
                    <a:pt x="269129" y="198336"/>
                    <a:pt x="261063" y="206402"/>
                    <a:pt x="261052" y="216355"/>
                  </a:cubicBezTo>
                  <a:cubicBezTo>
                    <a:pt x="261052" y="226312"/>
                    <a:pt x="269124" y="234384"/>
                    <a:pt x="279082" y="234384"/>
                  </a:cubicBezTo>
                  <a:cubicBezTo>
                    <a:pt x="289039" y="234384"/>
                    <a:pt x="297111" y="226312"/>
                    <a:pt x="297111" y="216355"/>
                  </a:cubicBezTo>
                  <a:cubicBezTo>
                    <a:pt x="297111" y="206397"/>
                    <a:pt x="289039" y="198325"/>
                    <a:pt x="279082" y="198325"/>
                  </a:cubicBezTo>
                  <a:close/>
                  <a:moveTo>
                    <a:pt x="279082" y="186305"/>
                  </a:moveTo>
                  <a:cubicBezTo>
                    <a:pt x="295678" y="186305"/>
                    <a:pt x="309131" y="199759"/>
                    <a:pt x="309131" y="216355"/>
                  </a:cubicBezTo>
                  <a:cubicBezTo>
                    <a:pt x="309131" y="232951"/>
                    <a:pt x="295678" y="246404"/>
                    <a:pt x="279082" y="246404"/>
                  </a:cubicBezTo>
                  <a:cubicBezTo>
                    <a:pt x="262494" y="246385"/>
                    <a:pt x="249052" y="232942"/>
                    <a:pt x="249032" y="216355"/>
                  </a:cubicBezTo>
                  <a:cubicBezTo>
                    <a:pt x="249032" y="199759"/>
                    <a:pt x="262486" y="186305"/>
                    <a:pt x="279082" y="186305"/>
                  </a:cubicBezTo>
                  <a:close/>
                  <a:moveTo>
                    <a:pt x="105041" y="165197"/>
                  </a:moveTo>
                  <a:cubicBezTo>
                    <a:pt x="95083" y="165197"/>
                    <a:pt x="87011" y="173269"/>
                    <a:pt x="87011" y="183227"/>
                  </a:cubicBezTo>
                  <a:cubicBezTo>
                    <a:pt x="87011" y="193184"/>
                    <a:pt x="95083" y="201256"/>
                    <a:pt x="105041" y="201256"/>
                  </a:cubicBezTo>
                  <a:cubicBezTo>
                    <a:pt x="114994" y="201245"/>
                    <a:pt x="123059" y="193180"/>
                    <a:pt x="123070" y="183227"/>
                  </a:cubicBezTo>
                  <a:cubicBezTo>
                    <a:pt x="123070" y="173269"/>
                    <a:pt x="114998" y="165197"/>
                    <a:pt x="105041" y="165197"/>
                  </a:cubicBezTo>
                  <a:close/>
                  <a:moveTo>
                    <a:pt x="194726" y="156149"/>
                  </a:moveTo>
                  <a:cubicBezTo>
                    <a:pt x="197545" y="154395"/>
                    <a:pt x="201251" y="155259"/>
                    <a:pt x="203005" y="158077"/>
                  </a:cubicBezTo>
                  <a:cubicBezTo>
                    <a:pt x="204758" y="160895"/>
                    <a:pt x="203895" y="164602"/>
                    <a:pt x="201077" y="166355"/>
                  </a:cubicBezTo>
                  <a:lnTo>
                    <a:pt x="186316" y="175532"/>
                  </a:lnTo>
                  <a:cubicBezTo>
                    <a:pt x="185904" y="175787"/>
                    <a:pt x="185462" y="175992"/>
                    <a:pt x="185001" y="176142"/>
                  </a:cubicBezTo>
                  <a:lnTo>
                    <a:pt x="182859" y="176840"/>
                  </a:lnTo>
                  <a:cubicBezTo>
                    <a:pt x="183070" y="179082"/>
                    <a:pt x="183170" y="181178"/>
                    <a:pt x="183170" y="183238"/>
                  </a:cubicBezTo>
                  <a:cubicBezTo>
                    <a:pt x="183170" y="185271"/>
                    <a:pt x="183070" y="187340"/>
                    <a:pt x="182871" y="189547"/>
                  </a:cubicBezTo>
                  <a:lnTo>
                    <a:pt x="185019" y="190245"/>
                  </a:lnTo>
                  <a:cubicBezTo>
                    <a:pt x="185425" y="190377"/>
                    <a:pt x="185817" y="190551"/>
                    <a:pt x="186187" y="190765"/>
                  </a:cubicBezTo>
                  <a:lnTo>
                    <a:pt x="203172" y="200636"/>
                  </a:lnTo>
                  <a:cubicBezTo>
                    <a:pt x="206042" y="202306"/>
                    <a:pt x="207016" y="205986"/>
                    <a:pt x="205346" y="208856"/>
                  </a:cubicBezTo>
                  <a:cubicBezTo>
                    <a:pt x="203677" y="211726"/>
                    <a:pt x="199997" y="212700"/>
                    <a:pt x="197127" y="211031"/>
                  </a:cubicBezTo>
                  <a:lnTo>
                    <a:pt x="180699" y="201482"/>
                  </a:lnTo>
                  <a:lnTo>
                    <a:pt x="174454" y="199454"/>
                  </a:lnTo>
                  <a:cubicBezTo>
                    <a:pt x="171664" y="198550"/>
                    <a:pt x="169935" y="195764"/>
                    <a:pt x="170363" y="192863"/>
                  </a:cubicBezTo>
                  <a:cubicBezTo>
                    <a:pt x="171416" y="186462"/>
                    <a:pt x="171411" y="179932"/>
                    <a:pt x="170351" y="173533"/>
                  </a:cubicBezTo>
                  <a:cubicBezTo>
                    <a:pt x="169922" y="170634"/>
                    <a:pt x="171649" y="167848"/>
                    <a:pt x="174436" y="166942"/>
                  </a:cubicBezTo>
                  <a:lnTo>
                    <a:pt x="180588" y="164938"/>
                  </a:lnTo>
                  <a:lnTo>
                    <a:pt x="194726" y="156149"/>
                  </a:lnTo>
                  <a:close/>
                  <a:moveTo>
                    <a:pt x="105041" y="153177"/>
                  </a:moveTo>
                  <a:cubicBezTo>
                    <a:pt x="121628" y="153197"/>
                    <a:pt x="135071" y="166639"/>
                    <a:pt x="135090" y="183227"/>
                  </a:cubicBezTo>
                  <a:cubicBezTo>
                    <a:pt x="135090" y="199823"/>
                    <a:pt x="121637" y="213276"/>
                    <a:pt x="105041" y="213276"/>
                  </a:cubicBezTo>
                  <a:cubicBezTo>
                    <a:pt x="88445" y="213276"/>
                    <a:pt x="74991" y="199823"/>
                    <a:pt x="74991" y="183227"/>
                  </a:cubicBezTo>
                  <a:cubicBezTo>
                    <a:pt x="74991" y="166631"/>
                    <a:pt x="88445" y="153177"/>
                    <a:pt x="105041" y="153177"/>
                  </a:cubicBezTo>
                  <a:close/>
                  <a:moveTo>
                    <a:pt x="273125" y="108132"/>
                  </a:moveTo>
                  <a:lnTo>
                    <a:pt x="285145" y="108132"/>
                  </a:lnTo>
                  <a:cubicBezTo>
                    <a:pt x="287903" y="108131"/>
                    <a:pt x="290307" y="110010"/>
                    <a:pt x="290973" y="112686"/>
                  </a:cubicBezTo>
                  <a:lnTo>
                    <a:pt x="296977" y="136717"/>
                  </a:lnTo>
                  <a:cubicBezTo>
                    <a:pt x="297099" y="137193"/>
                    <a:pt x="297160" y="137682"/>
                    <a:pt x="297159" y="138173"/>
                  </a:cubicBezTo>
                  <a:lnTo>
                    <a:pt x="297159" y="140427"/>
                  </a:lnTo>
                  <a:cubicBezTo>
                    <a:pt x="301265" y="141400"/>
                    <a:pt x="305285" y="142706"/>
                    <a:pt x="309179" y="144333"/>
                  </a:cubicBezTo>
                  <a:lnTo>
                    <a:pt x="310505" y="142507"/>
                  </a:lnTo>
                  <a:cubicBezTo>
                    <a:pt x="310793" y="142111"/>
                    <a:pt x="311128" y="141751"/>
                    <a:pt x="311503" y="141436"/>
                  </a:cubicBezTo>
                  <a:lnTo>
                    <a:pt x="330484" y="125525"/>
                  </a:lnTo>
                  <a:cubicBezTo>
                    <a:pt x="332599" y="123756"/>
                    <a:pt x="335645" y="123650"/>
                    <a:pt x="337879" y="125267"/>
                  </a:cubicBezTo>
                  <a:lnTo>
                    <a:pt x="347604" y="132333"/>
                  </a:lnTo>
                  <a:cubicBezTo>
                    <a:pt x="349839" y="133959"/>
                    <a:pt x="350679" y="136899"/>
                    <a:pt x="349640" y="139461"/>
                  </a:cubicBezTo>
                  <a:lnTo>
                    <a:pt x="340314" y="162391"/>
                  </a:lnTo>
                  <a:cubicBezTo>
                    <a:pt x="340130" y="162838"/>
                    <a:pt x="339894" y="163262"/>
                    <a:pt x="339610" y="163653"/>
                  </a:cubicBezTo>
                  <a:lnTo>
                    <a:pt x="338307" y="165455"/>
                  </a:lnTo>
                  <a:cubicBezTo>
                    <a:pt x="341076" y="168676"/>
                    <a:pt x="343576" y="172118"/>
                    <a:pt x="345784" y="175747"/>
                  </a:cubicBezTo>
                  <a:lnTo>
                    <a:pt x="347921" y="175051"/>
                  </a:lnTo>
                  <a:cubicBezTo>
                    <a:pt x="348386" y="174898"/>
                    <a:pt x="348869" y="174805"/>
                    <a:pt x="349358" y="174772"/>
                  </a:cubicBezTo>
                  <a:lnTo>
                    <a:pt x="374073" y="173058"/>
                  </a:lnTo>
                  <a:cubicBezTo>
                    <a:pt x="376822" y="172882"/>
                    <a:pt x="379343" y="174584"/>
                    <a:pt x="380206" y="177199"/>
                  </a:cubicBezTo>
                  <a:lnTo>
                    <a:pt x="383915" y="188632"/>
                  </a:lnTo>
                  <a:cubicBezTo>
                    <a:pt x="384769" y="191260"/>
                    <a:pt x="383720" y="194131"/>
                    <a:pt x="381374" y="195590"/>
                  </a:cubicBezTo>
                  <a:lnTo>
                    <a:pt x="360357" y="208660"/>
                  </a:lnTo>
                  <a:cubicBezTo>
                    <a:pt x="359946" y="208918"/>
                    <a:pt x="359504" y="209124"/>
                    <a:pt x="359042" y="209274"/>
                  </a:cubicBezTo>
                  <a:lnTo>
                    <a:pt x="356900" y="209966"/>
                  </a:lnTo>
                  <a:cubicBezTo>
                    <a:pt x="357111" y="212208"/>
                    <a:pt x="357211" y="214306"/>
                    <a:pt x="357211" y="216363"/>
                  </a:cubicBezTo>
                  <a:cubicBezTo>
                    <a:pt x="357211" y="218397"/>
                    <a:pt x="357111" y="220469"/>
                    <a:pt x="356912" y="222676"/>
                  </a:cubicBezTo>
                  <a:lnTo>
                    <a:pt x="359060" y="223374"/>
                  </a:lnTo>
                  <a:cubicBezTo>
                    <a:pt x="359528" y="223526"/>
                    <a:pt x="359975" y="223735"/>
                    <a:pt x="360392" y="223996"/>
                  </a:cubicBezTo>
                  <a:lnTo>
                    <a:pt x="381392" y="237134"/>
                  </a:lnTo>
                  <a:cubicBezTo>
                    <a:pt x="383729" y="238597"/>
                    <a:pt x="384772" y="241463"/>
                    <a:pt x="383921" y="244086"/>
                  </a:cubicBezTo>
                  <a:lnTo>
                    <a:pt x="380206" y="255519"/>
                  </a:lnTo>
                  <a:cubicBezTo>
                    <a:pt x="379345" y="258144"/>
                    <a:pt x="376811" y="259848"/>
                    <a:pt x="374055" y="259657"/>
                  </a:cubicBezTo>
                  <a:lnTo>
                    <a:pt x="349364" y="257872"/>
                  </a:lnTo>
                  <a:cubicBezTo>
                    <a:pt x="348881" y="257837"/>
                    <a:pt x="348404" y="257743"/>
                    <a:pt x="347944" y="257594"/>
                  </a:cubicBezTo>
                  <a:lnTo>
                    <a:pt x="345825" y="256907"/>
                  </a:lnTo>
                  <a:cubicBezTo>
                    <a:pt x="343619" y="260538"/>
                    <a:pt x="341122" y="263983"/>
                    <a:pt x="338359" y="267210"/>
                  </a:cubicBezTo>
                  <a:lnTo>
                    <a:pt x="339674" y="269021"/>
                  </a:lnTo>
                  <a:cubicBezTo>
                    <a:pt x="339961" y="269419"/>
                    <a:pt x="340199" y="269849"/>
                    <a:pt x="340384" y="270303"/>
                  </a:cubicBezTo>
                  <a:lnTo>
                    <a:pt x="349651" y="293275"/>
                  </a:lnTo>
                  <a:cubicBezTo>
                    <a:pt x="350679" y="295833"/>
                    <a:pt x="349838" y="298762"/>
                    <a:pt x="347609" y="300385"/>
                  </a:cubicBezTo>
                  <a:lnTo>
                    <a:pt x="337885" y="307451"/>
                  </a:lnTo>
                  <a:cubicBezTo>
                    <a:pt x="335647" y="309073"/>
                    <a:pt x="332593" y="308963"/>
                    <a:pt x="330478" y="307184"/>
                  </a:cubicBezTo>
                  <a:lnTo>
                    <a:pt x="311550" y="291229"/>
                  </a:lnTo>
                  <a:cubicBezTo>
                    <a:pt x="311180" y="290917"/>
                    <a:pt x="310849" y="290561"/>
                    <a:pt x="310564" y="290170"/>
                  </a:cubicBezTo>
                  <a:lnTo>
                    <a:pt x="309255" y="288368"/>
                  </a:lnTo>
                  <a:cubicBezTo>
                    <a:pt x="305338" y="290009"/>
                    <a:pt x="301292" y="291325"/>
                    <a:pt x="297159" y="292303"/>
                  </a:cubicBezTo>
                  <a:lnTo>
                    <a:pt x="297159" y="294548"/>
                  </a:lnTo>
                  <a:cubicBezTo>
                    <a:pt x="297160" y="295039"/>
                    <a:pt x="297099" y="295528"/>
                    <a:pt x="296977" y="296004"/>
                  </a:cubicBezTo>
                  <a:lnTo>
                    <a:pt x="290973" y="320035"/>
                  </a:lnTo>
                  <a:cubicBezTo>
                    <a:pt x="290308" y="322711"/>
                    <a:pt x="287904" y="324590"/>
                    <a:pt x="285145" y="324589"/>
                  </a:cubicBezTo>
                  <a:lnTo>
                    <a:pt x="273125" y="324589"/>
                  </a:lnTo>
                  <a:cubicBezTo>
                    <a:pt x="270362" y="324588"/>
                    <a:pt x="267955" y="322703"/>
                    <a:pt x="267292" y="320020"/>
                  </a:cubicBezTo>
                  <a:lnTo>
                    <a:pt x="261358" y="295989"/>
                  </a:lnTo>
                  <a:cubicBezTo>
                    <a:pt x="261241" y="295520"/>
                    <a:pt x="261182" y="295038"/>
                    <a:pt x="261182" y="294554"/>
                  </a:cubicBezTo>
                  <a:lnTo>
                    <a:pt x="261182" y="292338"/>
                  </a:lnTo>
                  <a:cubicBezTo>
                    <a:pt x="257042" y="291368"/>
                    <a:pt x="252988" y="290059"/>
                    <a:pt x="249062" y="288424"/>
                  </a:cubicBezTo>
                  <a:lnTo>
                    <a:pt x="247765" y="290208"/>
                  </a:lnTo>
                  <a:cubicBezTo>
                    <a:pt x="247476" y="290607"/>
                    <a:pt x="247139" y="290970"/>
                    <a:pt x="246762" y="291288"/>
                  </a:cubicBezTo>
                  <a:lnTo>
                    <a:pt x="227769" y="307196"/>
                  </a:lnTo>
                  <a:cubicBezTo>
                    <a:pt x="225656" y="308970"/>
                    <a:pt x="222605" y="309075"/>
                    <a:pt x="220374" y="307451"/>
                  </a:cubicBezTo>
                  <a:lnTo>
                    <a:pt x="210649" y="300385"/>
                  </a:lnTo>
                  <a:cubicBezTo>
                    <a:pt x="208420" y="298762"/>
                    <a:pt x="207579" y="295833"/>
                    <a:pt x="208607" y="293275"/>
                  </a:cubicBezTo>
                  <a:lnTo>
                    <a:pt x="217874" y="270303"/>
                  </a:lnTo>
                  <a:cubicBezTo>
                    <a:pt x="218058" y="269847"/>
                    <a:pt x="218299" y="269415"/>
                    <a:pt x="218590" y="269018"/>
                  </a:cubicBezTo>
                  <a:lnTo>
                    <a:pt x="219864" y="267266"/>
                  </a:lnTo>
                  <a:cubicBezTo>
                    <a:pt x="217102" y="264052"/>
                    <a:pt x="214605" y="260619"/>
                    <a:pt x="212398" y="257001"/>
                  </a:cubicBezTo>
                  <a:lnTo>
                    <a:pt x="210344" y="257670"/>
                  </a:lnTo>
                  <a:cubicBezTo>
                    <a:pt x="209855" y="257828"/>
                    <a:pt x="209348" y="257923"/>
                    <a:pt x="208836" y="257955"/>
                  </a:cubicBezTo>
                  <a:lnTo>
                    <a:pt x="187983" y="259172"/>
                  </a:lnTo>
                  <a:cubicBezTo>
                    <a:pt x="184668" y="259367"/>
                    <a:pt x="181824" y="256838"/>
                    <a:pt x="181630" y="253524"/>
                  </a:cubicBezTo>
                  <a:cubicBezTo>
                    <a:pt x="181435" y="250209"/>
                    <a:pt x="183964" y="247365"/>
                    <a:pt x="187278" y="247170"/>
                  </a:cubicBezTo>
                  <a:lnTo>
                    <a:pt x="207362" y="245999"/>
                  </a:lnTo>
                  <a:lnTo>
                    <a:pt x="213343" y="244051"/>
                  </a:lnTo>
                  <a:cubicBezTo>
                    <a:pt x="216131" y="243142"/>
                    <a:pt x="219167" y="244379"/>
                    <a:pt x="220527" y="246977"/>
                  </a:cubicBezTo>
                  <a:cubicBezTo>
                    <a:pt x="223532" y="252719"/>
                    <a:pt x="227364" y="257989"/>
                    <a:pt x="231901" y="262618"/>
                  </a:cubicBezTo>
                  <a:cubicBezTo>
                    <a:pt x="233955" y="264713"/>
                    <a:pt x="234196" y="267986"/>
                    <a:pt x="232470" y="270359"/>
                  </a:cubicBezTo>
                  <a:lnTo>
                    <a:pt x="228743" y="275485"/>
                  </a:lnTo>
                  <a:lnTo>
                    <a:pt x="221513" y="293418"/>
                  </a:lnTo>
                  <a:lnTo>
                    <a:pt x="223643" y="294968"/>
                  </a:lnTo>
                  <a:lnTo>
                    <a:pt x="238468" y="282552"/>
                  </a:lnTo>
                  <a:lnTo>
                    <a:pt x="242213" y="277390"/>
                  </a:lnTo>
                  <a:cubicBezTo>
                    <a:pt x="243935" y="275011"/>
                    <a:pt x="247125" y="274226"/>
                    <a:pt x="249754" y="275535"/>
                  </a:cubicBezTo>
                  <a:cubicBezTo>
                    <a:pt x="255565" y="278419"/>
                    <a:pt x="261772" y="280426"/>
                    <a:pt x="268171" y="281489"/>
                  </a:cubicBezTo>
                  <a:cubicBezTo>
                    <a:pt x="271069" y="281969"/>
                    <a:pt x="273194" y="284474"/>
                    <a:pt x="273195" y="287411"/>
                  </a:cubicBezTo>
                  <a:lnTo>
                    <a:pt x="273201" y="293814"/>
                  </a:lnTo>
                  <a:lnTo>
                    <a:pt x="277832" y="312569"/>
                  </a:lnTo>
                  <a:lnTo>
                    <a:pt x="280450" y="312569"/>
                  </a:lnTo>
                  <a:lnTo>
                    <a:pt x="285139" y="293809"/>
                  </a:lnTo>
                  <a:lnTo>
                    <a:pt x="285139" y="287391"/>
                  </a:lnTo>
                  <a:cubicBezTo>
                    <a:pt x="285140" y="284457"/>
                    <a:pt x="287258" y="281952"/>
                    <a:pt x="290151" y="281463"/>
                  </a:cubicBezTo>
                  <a:cubicBezTo>
                    <a:pt x="296542" y="280391"/>
                    <a:pt x="302737" y="278375"/>
                    <a:pt x="308533" y="275480"/>
                  </a:cubicBezTo>
                  <a:cubicBezTo>
                    <a:pt x="311160" y="274162"/>
                    <a:pt x="314355" y="274941"/>
                    <a:pt x="316081" y="277319"/>
                  </a:cubicBezTo>
                  <a:lnTo>
                    <a:pt x="319855" y="282508"/>
                  </a:lnTo>
                  <a:lnTo>
                    <a:pt x="334627" y="294959"/>
                  </a:lnTo>
                  <a:lnTo>
                    <a:pt x="336746" y="293418"/>
                  </a:lnTo>
                  <a:lnTo>
                    <a:pt x="329509" y="275485"/>
                  </a:lnTo>
                  <a:lnTo>
                    <a:pt x="325747" y="270303"/>
                  </a:lnTo>
                  <a:cubicBezTo>
                    <a:pt x="324028" y="267931"/>
                    <a:pt x="324268" y="264665"/>
                    <a:pt x="326316" y="262571"/>
                  </a:cubicBezTo>
                  <a:cubicBezTo>
                    <a:pt x="330851" y="257930"/>
                    <a:pt x="334680" y="252648"/>
                    <a:pt x="337679" y="246894"/>
                  </a:cubicBezTo>
                  <a:cubicBezTo>
                    <a:pt x="339038" y="244296"/>
                    <a:pt x="342073" y="243056"/>
                    <a:pt x="344863" y="243960"/>
                  </a:cubicBezTo>
                  <a:lnTo>
                    <a:pt x="350961" y="245934"/>
                  </a:lnTo>
                  <a:lnTo>
                    <a:pt x="370229" y="247328"/>
                  </a:lnTo>
                  <a:lnTo>
                    <a:pt x="371039" y="244834"/>
                  </a:lnTo>
                  <a:lnTo>
                    <a:pt x="354647" y="234578"/>
                  </a:lnTo>
                  <a:lnTo>
                    <a:pt x="348496" y="232580"/>
                  </a:lnTo>
                  <a:cubicBezTo>
                    <a:pt x="345707" y="231674"/>
                    <a:pt x="343979" y="228889"/>
                    <a:pt x="344405" y="225989"/>
                  </a:cubicBezTo>
                  <a:cubicBezTo>
                    <a:pt x="345458" y="219588"/>
                    <a:pt x="345453" y="213058"/>
                    <a:pt x="344393" y="206659"/>
                  </a:cubicBezTo>
                  <a:cubicBezTo>
                    <a:pt x="343964" y="203759"/>
                    <a:pt x="345690" y="200972"/>
                    <a:pt x="348478" y="200065"/>
                  </a:cubicBezTo>
                  <a:lnTo>
                    <a:pt x="354629" y="198067"/>
                  </a:lnTo>
                  <a:lnTo>
                    <a:pt x="371033" y="187866"/>
                  </a:lnTo>
                  <a:lnTo>
                    <a:pt x="370223" y="185375"/>
                  </a:lnTo>
                  <a:lnTo>
                    <a:pt x="350931" y="186713"/>
                  </a:lnTo>
                  <a:lnTo>
                    <a:pt x="344827" y="188694"/>
                  </a:lnTo>
                  <a:cubicBezTo>
                    <a:pt x="342040" y="189601"/>
                    <a:pt x="339006" y="188363"/>
                    <a:pt x="337649" y="185765"/>
                  </a:cubicBezTo>
                  <a:cubicBezTo>
                    <a:pt x="334643" y="180016"/>
                    <a:pt x="330809" y="174740"/>
                    <a:pt x="326269" y="170106"/>
                  </a:cubicBezTo>
                  <a:cubicBezTo>
                    <a:pt x="324216" y="168013"/>
                    <a:pt x="323973" y="164744"/>
                    <a:pt x="325694" y="162371"/>
                  </a:cubicBezTo>
                  <a:lnTo>
                    <a:pt x="329450" y="157188"/>
                  </a:lnTo>
                  <a:lnTo>
                    <a:pt x="336728" y="139291"/>
                  </a:lnTo>
                  <a:lnTo>
                    <a:pt x="334609" y="137750"/>
                  </a:lnTo>
                  <a:lnTo>
                    <a:pt x="319790" y="150172"/>
                  </a:lnTo>
                  <a:lnTo>
                    <a:pt x="316010" y="155372"/>
                  </a:lnTo>
                  <a:cubicBezTo>
                    <a:pt x="314285" y="157743"/>
                    <a:pt x="311101" y="158524"/>
                    <a:pt x="308474" y="157221"/>
                  </a:cubicBezTo>
                  <a:cubicBezTo>
                    <a:pt x="302691" y="154344"/>
                    <a:pt x="296515" y="152336"/>
                    <a:pt x="290145" y="151261"/>
                  </a:cubicBezTo>
                  <a:cubicBezTo>
                    <a:pt x="287255" y="150771"/>
                    <a:pt x="285139" y="148268"/>
                    <a:pt x="285139" y="145336"/>
                  </a:cubicBezTo>
                  <a:lnTo>
                    <a:pt x="285139" y="138912"/>
                  </a:lnTo>
                  <a:lnTo>
                    <a:pt x="280449" y="120152"/>
                  </a:lnTo>
                  <a:lnTo>
                    <a:pt x="277814" y="120152"/>
                  </a:lnTo>
                  <a:lnTo>
                    <a:pt x="273119" y="138912"/>
                  </a:lnTo>
                  <a:lnTo>
                    <a:pt x="273125" y="145318"/>
                  </a:lnTo>
                  <a:cubicBezTo>
                    <a:pt x="273128" y="148257"/>
                    <a:pt x="271005" y="150767"/>
                    <a:pt x="268107" y="151252"/>
                  </a:cubicBezTo>
                  <a:cubicBezTo>
                    <a:pt x="261732" y="152317"/>
                    <a:pt x="255549" y="154318"/>
                    <a:pt x="249760" y="157191"/>
                  </a:cubicBezTo>
                  <a:cubicBezTo>
                    <a:pt x="247131" y="158506"/>
                    <a:pt x="243938" y="157720"/>
                    <a:pt x="242218" y="155337"/>
                  </a:cubicBezTo>
                  <a:lnTo>
                    <a:pt x="238468" y="150169"/>
                  </a:lnTo>
                  <a:lnTo>
                    <a:pt x="223649" y="137750"/>
                  </a:lnTo>
                  <a:lnTo>
                    <a:pt x="221518" y="139300"/>
                  </a:lnTo>
                  <a:lnTo>
                    <a:pt x="228749" y="157238"/>
                  </a:lnTo>
                  <a:lnTo>
                    <a:pt x="232470" y="162365"/>
                  </a:lnTo>
                  <a:cubicBezTo>
                    <a:pt x="234195" y="164738"/>
                    <a:pt x="233955" y="168011"/>
                    <a:pt x="231901" y="170106"/>
                  </a:cubicBezTo>
                  <a:cubicBezTo>
                    <a:pt x="227368" y="174736"/>
                    <a:pt x="223538" y="180005"/>
                    <a:pt x="220532" y="185744"/>
                  </a:cubicBezTo>
                  <a:lnTo>
                    <a:pt x="217304" y="192241"/>
                  </a:lnTo>
                  <a:cubicBezTo>
                    <a:pt x="217298" y="192253"/>
                    <a:pt x="217293" y="192265"/>
                    <a:pt x="217287" y="192277"/>
                  </a:cubicBezTo>
                  <a:cubicBezTo>
                    <a:pt x="215800" y="195244"/>
                    <a:pt x="212190" y="196445"/>
                    <a:pt x="209222" y="194959"/>
                  </a:cubicBezTo>
                  <a:cubicBezTo>
                    <a:pt x="206255" y="193473"/>
                    <a:pt x="205054" y="189862"/>
                    <a:pt x="206540" y="186895"/>
                  </a:cubicBezTo>
                  <a:lnTo>
                    <a:pt x="209827" y="180280"/>
                  </a:lnTo>
                  <a:cubicBezTo>
                    <a:pt x="212599" y="174975"/>
                    <a:pt x="215966" y="170002"/>
                    <a:pt x="219863" y="165458"/>
                  </a:cubicBezTo>
                  <a:lnTo>
                    <a:pt x="218590" y="163706"/>
                  </a:lnTo>
                  <a:cubicBezTo>
                    <a:pt x="218300" y="163308"/>
                    <a:pt x="218059" y="162877"/>
                    <a:pt x="217874" y="162421"/>
                  </a:cubicBezTo>
                  <a:lnTo>
                    <a:pt x="208612" y="139443"/>
                  </a:lnTo>
                  <a:cubicBezTo>
                    <a:pt x="207584" y="136885"/>
                    <a:pt x="208425" y="133955"/>
                    <a:pt x="210655" y="132333"/>
                  </a:cubicBezTo>
                  <a:lnTo>
                    <a:pt x="220380" y="125267"/>
                  </a:lnTo>
                  <a:cubicBezTo>
                    <a:pt x="222611" y="123644"/>
                    <a:pt x="225660" y="123750"/>
                    <a:pt x="227775" y="125522"/>
                  </a:cubicBezTo>
                  <a:lnTo>
                    <a:pt x="246761" y="141433"/>
                  </a:lnTo>
                  <a:cubicBezTo>
                    <a:pt x="247138" y="141751"/>
                    <a:pt x="247475" y="142113"/>
                    <a:pt x="247765" y="142513"/>
                  </a:cubicBezTo>
                  <a:lnTo>
                    <a:pt x="249062" y="144303"/>
                  </a:lnTo>
                  <a:cubicBezTo>
                    <a:pt x="252961" y="142679"/>
                    <a:pt x="256987" y="141377"/>
                    <a:pt x="261099" y="140409"/>
                  </a:cubicBezTo>
                  <a:lnTo>
                    <a:pt x="261099" y="138179"/>
                  </a:lnTo>
                  <a:cubicBezTo>
                    <a:pt x="261098" y="137685"/>
                    <a:pt x="261159" y="137193"/>
                    <a:pt x="261281" y="136714"/>
                  </a:cubicBezTo>
                  <a:lnTo>
                    <a:pt x="267297" y="112683"/>
                  </a:lnTo>
                  <a:cubicBezTo>
                    <a:pt x="267964" y="110008"/>
                    <a:pt x="270368" y="108131"/>
                    <a:pt x="273125" y="108132"/>
                  </a:cubicBezTo>
                  <a:close/>
                  <a:moveTo>
                    <a:pt x="99083" y="75004"/>
                  </a:moveTo>
                  <a:lnTo>
                    <a:pt x="111103" y="75004"/>
                  </a:lnTo>
                  <a:cubicBezTo>
                    <a:pt x="113862" y="75003"/>
                    <a:pt x="116266" y="76881"/>
                    <a:pt x="116931" y="79558"/>
                  </a:cubicBezTo>
                  <a:lnTo>
                    <a:pt x="122935" y="103592"/>
                  </a:lnTo>
                  <a:cubicBezTo>
                    <a:pt x="123057" y="104068"/>
                    <a:pt x="123118" y="104557"/>
                    <a:pt x="123117" y="105048"/>
                  </a:cubicBezTo>
                  <a:lnTo>
                    <a:pt x="123117" y="107301"/>
                  </a:lnTo>
                  <a:cubicBezTo>
                    <a:pt x="127223" y="108274"/>
                    <a:pt x="131243" y="109580"/>
                    <a:pt x="135137" y="111207"/>
                  </a:cubicBezTo>
                  <a:lnTo>
                    <a:pt x="136463" y="109382"/>
                  </a:lnTo>
                  <a:cubicBezTo>
                    <a:pt x="136750" y="108985"/>
                    <a:pt x="137086" y="108625"/>
                    <a:pt x="137461" y="108311"/>
                  </a:cubicBezTo>
                  <a:lnTo>
                    <a:pt x="156441" y="92397"/>
                  </a:lnTo>
                  <a:cubicBezTo>
                    <a:pt x="158558" y="90631"/>
                    <a:pt x="161602" y="90524"/>
                    <a:pt x="163836" y="92138"/>
                  </a:cubicBezTo>
                  <a:lnTo>
                    <a:pt x="173562" y="99205"/>
                  </a:lnTo>
                  <a:cubicBezTo>
                    <a:pt x="175798" y="100831"/>
                    <a:pt x="176638" y="103771"/>
                    <a:pt x="175598" y="106333"/>
                  </a:cubicBezTo>
                  <a:lnTo>
                    <a:pt x="166272" y="129263"/>
                  </a:lnTo>
                  <a:cubicBezTo>
                    <a:pt x="166088" y="129710"/>
                    <a:pt x="165852" y="130134"/>
                    <a:pt x="165568" y="130525"/>
                  </a:cubicBezTo>
                  <a:lnTo>
                    <a:pt x="164265" y="132327"/>
                  </a:lnTo>
                  <a:cubicBezTo>
                    <a:pt x="167034" y="135549"/>
                    <a:pt x="169535" y="138992"/>
                    <a:pt x="171742" y="142621"/>
                  </a:cubicBezTo>
                  <a:lnTo>
                    <a:pt x="173879" y="141926"/>
                  </a:lnTo>
                  <a:cubicBezTo>
                    <a:pt x="174345" y="141776"/>
                    <a:pt x="174828" y="141682"/>
                    <a:pt x="175317" y="141647"/>
                  </a:cubicBezTo>
                  <a:lnTo>
                    <a:pt x="193992" y="140350"/>
                  </a:lnTo>
                  <a:cubicBezTo>
                    <a:pt x="194024" y="140347"/>
                    <a:pt x="194057" y="140345"/>
                    <a:pt x="194089" y="140343"/>
                  </a:cubicBezTo>
                  <a:cubicBezTo>
                    <a:pt x="197402" y="140140"/>
                    <a:pt x="200253" y="142661"/>
                    <a:pt x="200456" y="145974"/>
                  </a:cubicBezTo>
                  <a:cubicBezTo>
                    <a:pt x="200659" y="149287"/>
                    <a:pt x="198138" y="152137"/>
                    <a:pt x="194825" y="152340"/>
                  </a:cubicBezTo>
                  <a:lnTo>
                    <a:pt x="176890" y="153588"/>
                  </a:lnTo>
                  <a:lnTo>
                    <a:pt x="170786" y="155568"/>
                  </a:lnTo>
                  <a:cubicBezTo>
                    <a:pt x="167999" y="156474"/>
                    <a:pt x="164966" y="155236"/>
                    <a:pt x="163608" y="152640"/>
                  </a:cubicBezTo>
                  <a:cubicBezTo>
                    <a:pt x="160601" y="146891"/>
                    <a:pt x="156767" y="141614"/>
                    <a:pt x="152228" y="136978"/>
                  </a:cubicBezTo>
                  <a:cubicBezTo>
                    <a:pt x="150175" y="134885"/>
                    <a:pt x="149932" y="131616"/>
                    <a:pt x="151653" y="129242"/>
                  </a:cubicBezTo>
                  <a:lnTo>
                    <a:pt x="155409" y="124060"/>
                  </a:lnTo>
                  <a:lnTo>
                    <a:pt x="162686" y="106163"/>
                  </a:lnTo>
                  <a:lnTo>
                    <a:pt x="160568" y="104622"/>
                  </a:lnTo>
                  <a:lnTo>
                    <a:pt x="145748" y="117047"/>
                  </a:lnTo>
                  <a:lnTo>
                    <a:pt x="141968" y="122247"/>
                  </a:lnTo>
                  <a:cubicBezTo>
                    <a:pt x="140239" y="124616"/>
                    <a:pt x="137055" y="125396"/>
                    <a:pt x="134427" y="124093"/>
                  </a:cubicBezTo>
                  <a:cubicBezTo>
                    <a:pt x="128646" y="121215"/>
                    <a:pt x="122471" y="119207"/>
                    <a:pt x="116103" y="118135"/>
                  </a:cubicBezTo>
                  <a:cubicBezTo>
                    <a:pt x="113213" y="117646"/>
                    <a:pt x="111098" y="115142"/>
                    <a:pt x="111097" y="112211"/>
                  </a:cubicBezTo>
                  <a:lnTo>
                    <a:pt x="111097" y="105787"/>
                  </a:lnTo>
                  <a:lnTo>
                    <a:pt x="106408" y="87024"/>
                  </a:lnTo>
                  <a:lnTo>
                    <a:pt x="103772" y="87024"/>
                  </a:lnTo>
                  <a:lnTo>
                    <a:pt x="99077" y="105787"/>
                  </a:lnTo>
                  <a:lnTo>
                    <a:pt x="99083" y="112190"/>
                  </a:lnTo>
                  <a:cubicBezTo>
                    <a:pt x="99086" y="115129"/>
                    <a:pt x="96964" y="117639"/>
                    <a:pt x="94065" y="118124"/>
                  </a:cubicBezTo>
                  <a:cubicBezTo>
                    <a:pt x="87688" y="119189"/>
                    <a:pt x="81504" y="121191"/>
                    <a:pt x="75712" y="124066"/>
                  </a:cubicBezTo>
                  <a:cubicBezTo>
                    <a:pt x="73087" y="125372"/>
                    <a:pt x="69902" y="124589"/>
                    <a:pt x="68182" y="122214"/>
                  </a:cubicBezTo>
                  <a:lnTo>
                    <a:pt x="64426" y="117047"/>
                  </a:lnTo>
                  <a:lnTo>
                    <a:pt x="49607" y="104622"/>
                  </a:lnTo>
                  <a:lnTo>
                    <a:pt x="47476" y="106171"/>
                  </a:lnTo>
                  <a:lnTo>
                    <a:pt x="54707" y="124111"/>
                  </a:lnTo>
                  <a:lnTo>
                    <a:pt x="58428" y="129237"/>
                  </a:lnTo>
                  <a:cubicBezTo>
                    <a:pt x="60153" y="131609"/>
                    <a:pt x="59915" y="134879"/>
                    <a:pt x="57865" y="136976"/>
                  </a:cubicBezTo>
                  <a:cubicBezTo>
                    <a:pt x="53330" y="141607"/>
                    <a:pt x="49497" y="146877"/>
                    <a:pt x="46491" y="152620"/>
                  </a:cubicBezTo>
                  <a:cubicBezTo>
                    <a:pt x="45130" y="155213"/>
                    <a:pt x="42098" y="156447"/>
                    <a:pt x="39313" y="155542"/>
                  </a:cubicBezTo>
                  <a:lnTo>
                    <a:pt x="33291" y="153588"/>
                  </a:lnTo>
                  <a:lnTo>
                    <a:pt x="13993" y="152250"/>
                  </a:lnTo>
                  <a:lnTo>
                    <a:pt x="13183" y="154753"/>
                  </a:lnTo>
                  <a:lnTo>
                    <a:pt x="29570" y="165018"/>
                  </a:lnTo>
                  <a:lnTo>
                    <a:pt x="35638" y="166984"/>
                  </a:lnTo>
                  <a:cubicBezTo>
                    <a:pt x="38428" y="167887"/>
                    <a:pt x="40157" y="170672"/>
                    <a:pt x="39729" y="173572"/>
                  </a:cubicBezTo>
                  <a:cubicBezTo>
                    <a:pt x="38673" y="179969"/>
                    <a:pt x="38673" y="186496"/>
                    <a:pt x="39729" y="192893"/>
                  </a:cubicBezTo>
                  <a:cubicBezTo>
                    <a:pt x="40156" y="195793"/>
                    <a:pt x="38427" y="198578"/>
                    <a:pt x="35638" y="199481"/>
                  </a:cubicBezTo>
                  <a:lnTo>
                    <a:pt x="29570" y="201450"/>
                  </a:lnTo>
                  <a:lnTo>
                    <a:pt x="13178" y="211709"/>
                  </a:lnTo>
                  <a:lnTo>
                    <a:pt x="13993" y="214215"/>
                  </a:lnTo>
                  <a:lnTo>
                    <a:pt x="33285" y="212880"/>
                  </a:lnTo>
                  <a:lnTo>
                    <a:pt x="39301" y="210923"/>
                  </a:lnTo>
                  <a:cubicBezTo>
                    <a:pt x="42089" y="210016"/>
                    <a:pt x="45124" y="211252"/>
                    <a:pt x="46485" y="213848"/>
                  </a:cubicBezTo>
                  <a:cubicBezTo>
                    <a:pt x="49489" y="219590"/>
                    <a:pt x="53319" y="224860"/>
                    <a:pt x="57853" y="229489"/>
                  </a:cubicBezTo>
                  <a:cubicBezTo>
                    <a:pt x="59906" y="231584"/>
                    <a:pt x="60149" y="234853"/>
                    <a:pt x="58428" y="237228"/>
                  </a:cubicBezTo>
                  <a:lnTo>
                    <a:pt x="54707" y="242354"/>
                  </a:lnTo>
                  <a:lnTo>
                    <a:pt x="47471" y="260293"/>
                  </a:lnTo>
                  <a:lnTo>
                    <a:pt x="49601" y="261840"/>
                  </a:lnTo>
                  <a:lnTo>
                    <a:pt x="64427" y="249421"/>
                  </a:lnTo>
                  <a:lnTo>
                    <a:pt x="68171" y="244259"/>
                  </a:lnTo>
                  <a:cubicBezTo>
                    <a:pt x="69895" y="241882"/>
                    <a:pt x="73084" y="241099"/>
                    <a:pt x="75712" y="242407"/>
                  </a:cubicBezTo>
                  <a:cubicBezTo>
                    <a:pt x="81522" y="245294"/>
                    <a:pt x="87729" y="247300"/>
                    <a:pt x="94130" y="248361"/>
                  </a:cubicBezTo>
                  <a:cubicBezTo>
                    <a:pt x="97028" y="248843"/>
                    <a:pt x="99154" y="251350"/>
                    <a:pt x="99154" y="254289"/>
                  </a:cubicBezTo>
                  <a:lnTo>
                    <a:pt x="99154" y="260689"/>
                  </a:lnTo>
                  <a:lnTo>
                    <a:pt x="103790" y="279444"/>
                  </a:lnTo>
                  <a:lnTo>
                    <a:pt x="106408" y="279444"/>
                  </a:lnTo>
                  <a:lnTo>
                    <a:pt x="111097" y="260680"/>
                  </a:lnTo>
                  <a:lnTo>
                    <a:pt x="111097" y="254265"/>
                  </a:lnTo>
                  <a:cubicBezTo>
                    <a:pt x="111098" y="251334"/>
                    <a:pt x="113213" y="248830"/>
                    <a:pt x="116103" y="248341"/>
                  </a:cubicBezTo>
                  <a:cubicBezTo>
                    <a:pt x="122495" y="247264"/>
                    <a:pt x="128691" y="245245"/>
                    <a:pt x="134491" y="242351"/>
                  </a:cubicBezTo>
                  <a:cubicBezTo>
                    <a:pt x="137118" y="241034"/>
                    <a:pt x="140313" y="241812"/>
                    <a:pt x="142039" y="244191"/>
                  </a:cubicBezTo>
                  <a:lnTo>
                    <a:pt x="145813" y="249379"/>
                  </a:lnTo>
                  <a:lnTo>
                    <a:pt x="160585" y="261834"/>
                  </a:lnTo>
                  <a:lnTo>
                    <a:pt x="162704" y="260293"/>
                  </a:lnTo>
                  <a:lnTo>
                    <a:pt x="155467" y="242357"/>
                  </a:lnTo>
                  <a:lnTo>
                    <a:pt x="151705" y="237175"/>
                  </a:lnTo>
                  <a:cubicBezTo>
                    <a:pt x="149985" y="234803"/>
                    <a:pt x="150226" y="231537"/>
                    <a:pt x="152274" y="229442"/>
                  </a:cubicBezTo>
                  <a:cubicBezTo>
                    <a:pt x="156808" y="224801"/>
                    <a:pt x="160637" y="219519"/>
                    <a:pt x="163637" y="213766"/>
                  </a:cubicBezTo>
                  <a:cubicBezTo>
                    <a:pt x="165173" y="210823"/>
                    <a:pt x="168805" y="209682"/>
                    <a:pt x="171748" y="211219"/>
                  </a:cubicBezTo>
                  <a:cubicBezTo>
                    <a:pt x="174691" y="212755"/>
                    <a:pt x="175831" y="216387"/>
                    <a:pt x="174295" y="219330"/>
                  </a:cubicBezTo>
                  <a:cubicBezTo>
                    <a:pt x="171538" y="224609"/>
                    <a:pt x="168191" y="229558"/>
                    <a:pt x="164317" y="234082"/>
                  </a:cubicBezTo>
                  <a:lnTo>
                    <a:pt x="165632" y="235892"/>
                  </a:lnTo>
                  <a:cubicBezTo>
                    <a:pt x="165919" y="236290"/>
                    <a:pt x="166157" y="236721"/>
                    <a:pt x="166342" y="237175"/>
                  </a:cubicBezTo>
                  <a:lnTo>
                    <a:pt x="175610" y="260149"/>
                  </a:lnTo>
                  <a:cubicBezTo>
                    <a:pt x="176638" y="262707"/>
                    <a:pt x="175797" y="265637"/>
                    <a:pt x="173567" y="267260"/>
                  </a:cubicBezTo>
                  <a:lnTo>
                    <a:pt x="163842" y="274323"/>
                  </a:lnTo>
                  <a:cubicBezTo>
                    <a:pt x="161605" y="275945"/>
                    <a:pt x="158550" y="275835"/>
                    <a:pt x="156435" y="274056"/>
                  </a:cubicBezTo>
                  <a:lnTo>
                    <a:pt x="137508" y="258101"/>
                  </a:lnTo>
                  <a:cubicBezTo>
                    <a:pt x="137138" y="257788"/>
                    <a:pt x="136807" y="257433"/>
                    <a:pt x="136522" y="257041"/>
                  </a:cubicBezTo>
                  <a:lnTo>
                    <a:pt x="135213" y="255239"/>
                  </a:lnTo>
                  <a:cubicBezTo>
                    <a:pt x="131295" y="256879"/>
                    <a:pt x="127249" y="258195"/>
                    <a:pt x="123117" y="259175"/>
                  </a:cubicBezTo>
                  <a:lnTo>
                    <a:pt x="123117" y="261420"/>
                  </a:lnTo>
                  <a:cubicBezTo>
                    <a:pt x="123118" y="261910"/>
                    <a:pt x="123057" y="262400"/>
                    <a:pt x="122935" y="262875"/>
                  </a:cubicBezTo>
                  <a:lnTo>
                    <a:pt x="116931" y="286909"/>
                  </a:lnTo>
                  <a:cubicBezTo>
                    <a:pt x="116265" y="289586"/>
                    <a:pt x="113861" y="291464"/>
                    <a:pt x="111103" y="291463"/>
                  </a:cubicBezTo>
                  <a:lnTo>
                    <a:pt x="99083" y="291463"/>
                  </a:lnTo>
                  <a:cubicBezTo>
                    <a:pt x="96319" y="291464"/>
                    <a:pt x="93911" y="289578"/>
                    <a:pt x="93249" y="286894"/>
                  </a:cubicBezTo>
                  <a:lnTo>
                    <a:pt x="87310" y="262860"/>
                  </a:lnTo>
                  <a:cubicBezTo>
                    <a:pt x="87192" y="262389"/>
                    <a:pt x="87133" y="261905"/>
                    <a:pt x="87134" y="261420"/>
                  </a:cubicBezTo>
                  <a:lnTo>
                    <a:pt x="87134" y="259213"/>
                  </a:lnTo>
                  <a:cubicBezTo>
                    <a:pt x="82993" y="258242"/>
                    <a:pt x="78940" y="256931"/>
                    <a:pt x="75014" y="255295"/>
                  </a:cubicBezTo>
                  <a:lnTo>
                    <a:pt x="73717" y="257082"/>
                  </a:lnTo>
                  <a:cubicBezTo>
                    <a:pt x="73426" y="257480"/>
                    <a:pt x="73089" y="257841"/>
                    <a:pt x="72713" y="258159"/>
                  </a:cubicBezTo>
                  <a:lnTo>
                    <a:pt x="53727" y="274068"/>
                  </a:lnTo>
                  <a:cubicBezTo>
                    <a:pt x="51612" y="275839"/>
                    <a:pt x="48564" y="275944"/>
                    <a:pt x="46332" y="274323"/>
                  </a:cubicBezTo>
                  <a:lnTo>
                    <a:pt x="36607" y="267260"/>
                  </a:lnTo>
                  <a:cubicBezTo>
                    <a:pt x="34377" y="265637"/>
                    <a:pt x="33536" y="262707"/>
                    <a:pt x="34564" y="260149"/>
                  </a:cubicBezTo>
                  <a:lnTo>
                    <a:pt x="43832" y="237175"/>
                  </a:lnTo>
                  <a:cubicBezTo>
                    <a:pt x="44017" y="236721"/>
                    <a:pt x="44255" y="236290"/>
                    <a:pt x="44542" y="235892"/>
                  </a:cubicBezTo>
                  <a:lnTo>
                    <a:pt x="45815" y="234141"/>
                  </a:lnTo>
                  <a:cubicBezTo>
                    <a:pt x="43053" y="230927"/>
                    <a:pt x="40559" y="227493"/>
                    <a:pt x="38356" y="223873"/>
                  </a:cubicBezTo>
                  <a:lnTo>
                    <a:pt x="36302" y="224542"/>
                  </a:lnTo>
                  <a:cubicBezTo>
                    <a:pt x="35834" y="224692"/>
                    <a:pt x="35349" y="224786"/>
                    <a:pt x="34858" y="224820"/>
                  </a:cubicBezTo>
                  <a:lnTo>
                    <a:pt x="10143" y="226528"/>
                  </a:lnTo>
                  <a:cubicBezTo>
                    <a:pt x="7387" y="226737"/>
                    <a:pt x="4849" y="225024"/>
                    <a:pt x="4010" y="222391"/>
                  </a:cubicBezTo>
                  <a:lnTo>
                    <a:pt x="295" y="210961"/>
                  </a:lnTo>
                  <a:cubicBezTo>
                    <a:pt x="-558" y="208337"/>
                    <a:pt x="485" y="205470"/>
                    <a:pt x="2825" y="204009"/>
                  </a:cubicBezTo>
                  <a:lnTo>
                    <a:pt x="23824" y="190868"/>
                  </a:lnTo>
                  <a:cubicBezTo>
                    <a:pt x="24241" y="190607"/>
                    <a:pt x="24689" y="190398"/>
                    <a:pt x="25157" y="190246"/>
                  </a:cubicBezTo>
                  <a:lnTo>
                    <a:pt x="27222" y="189574"/>
                  </a:lnTo>
                  <a:cubicBezTo>
                    <a:pt x="27017" y="187346"/>
                    <a:pt x="26917" y="185272"/>
                    <a:pt x="26917" y="183238"/>
                  </a:cubicBezTo>
                  <a:cubicBezTo>
                    <a:pt x="26917" y="181202"/>
                    <a:pt x="27017" y="179121"/>
                    <a:pt x="27222" y="176891"/>
                  </a:cubicBezTo>
                  <a:lnTo>
                    <a:pt x="25157" y="176222"/>
                  </a:lnTo>
                  <a:cubicBezTo>
                    <a:pt x="24689" y="176070"/>
                    <a:pt x="24241" y="175861"/>
                    <a:pt x="23824" y="175599"/>
                  </a:cubicBezTo>
                  <a:lnTo>
                    <a:pt x="2831" y="162453"/>
                  </a:lnTo>
                  <a:cubicBezTo>
                    <a:pt x="494" y="160990"/>
                    <a:pt x="-548" y="158126"/>
                    <a:pt x="301" y="155504"/>
                  </a:cubicBezTo>
                  <a:lnTo>
                    <a:pt x="4010" y="144074"/>
                  </a:lnTo>
                  <a:cubicBezTo>
                    <a:pt x="4850" y="141440"/>
                    <a:pt x="7387" y="139727"/>
                    <a:pt x="10143" y="139933"/>
                  </a:cubicBezTo>
                  <a:lnTo>
                    <a:pt x="34858" y="141647"/>
                  </a:lnTo>
                  <a:cubicBezTo>
                    <a:pt x="35347" y="141679"/>
                    <a:pt x="35830" y="141773"/>
                    <a:pt x="36296" y="141926"/>
                  </a:cubicBezTo>
                  <a:lnTo>
                    <a:pt x="38362" y="142595"/>
                  </a:lnTo>
                  <a:cubicBezTo>
                    <a:pt x="40565" y="138976"/>
                    <a:pt x="43060" y="135543"/>
                    <a:pt x="45822" y="132330"/>
                  </a:cubicBezTo>
                  <a:lnTo>
                    <a:pt x="44548" y="130578"/>
                  </a:lnTo>
                  <a:cubicBezTo>
                    <a:pt x="44258" y="130180"/>
                    <a:pt x="44018" y="129749"/>
                    <a:pt x="43832" y="129293"/>
                  </a:cubicBezTo>
                  <a:lnTo>
                    <a:pt x="34571" y="106315"/>
                  </a:lnTo>
                  <a:cubicBezTo>
                    <a:pt x="33542" y="103757"/>
                    <a:pt x="34384" y="100827"/>
                    <a:pt x="36613" y="99205"/>
                  </a:cubicBezTo>
                  <a:lnTo>
                    <a:pt x="46338" y="92138"/>
                  </a:lnTo>
                  <a:cubicBezTo>
                    <a:pt x="48570" y="90518"/>
                    <a:pt x="51619" y="90625"/>
                    <a:pt x="53733" y="92397"/>
                  </a:cubicBezTo>
                  <a:lnTo>
                    <a:pt x="72714" y="108311"/>
                  </a:lnTo>
                  <a:cubicBezTo>
                    <a:pt x="73089" y="108625"/>
                    <a:pt x="73424" y="108985"/>
                    <a:pt x="73711" y="109382"/>
                  </a:cubicBezTo>
                  <a:lnTo>
                    <a:pt x="75020" y="111178"/>
                  </a:lnTo>
                  <a:cubicBezTo>
                    <a:pt x="78919" y="109552"/>
                    <a:pt x="82945" y="108248"/>
                    <a:pt x="87058" y="107281"/>
                  </a:cubicBezTo>
                  <a:lnTo>
                    <a:pt x="87058" y="105053"/>
                  </a:lnTo>
                  <a:cubicBezTo>
                    <a:pt x="87056" y="104560"/>
                    <a:pt x="87117" y="104068"/>
                    <a:pt x="87239" y="103589"/>
                  </a:cubicBezTo>
                  <a:lnTo>
                    <a:pt x="93255" y="79555"/>
                  </a:lnTo>
                  <a:cubicBezTo>
                    <a:pt x="93923" y="76880"/>
                    <a:pt x="96326" y="75003"/>
                    <a:pt x="99083" y="75004"/>
                  </a:cubicBezTo>
                  <a:close/>
                  <a:moveTo>
                    <a:pt x="272678" y="20392"/>
                  </a:moveTo>
                  <a:lnTo>
                    <a:pt x="272678" y="65334"/>
                  </a:lnTo>
                  <a:lnTo>
                    <a:pt x="318174" y="65334"/>
                  </a:lnTo>
                  <a:lnTo>
                    <a:pt x="272678" y="20392"/>
                  </a:lnTo>
                  <a:close/>
                  <a:moveTo>
                    <a:pt x="54572" y="0"/>
                  </a:moveTo>
                  <a:lnTo>
                    <a:pt x="269133" y="0"/>
                  </a:lnTo>
                  <a:lnTo>
                    <a:pt x="270908" y="1753"/>
                  </a:lnTo>
                  <a:lnTo>
                    <a:pt x="270926" y="1771"/>
                  </a:lnTo>
                  <a:lnTo>
                    <a:pt x="338013" y="68035"/>
                  </a:lnTo>
                  <a:lnTo>
                    <a:pt x="338013" y="114122"/>
                  </a:lnTo>
                  <a:lnTo>
                    <a:pt x="325993" y="114122"/>
                  </a:lnTo>
                  <a:lnTo>
                    <a:pt x="325993" y="77355"/>
                  </a:lnTo>
                  <a:lnTo>
                    <a:pt x="266668" y="77355"/>
                  </a:lnTo>
                  <a:cubicBezTo>
                    <a:pt x="266667" y="77355"/>
                    <a:pt x="266666" y="77355"/>
                    <a:pt x="266665" y="77355"/>
                  </a:cubicBezTo>
                  <a:cubicBezTo>
                    <a:pt x="263347" y="77354"/>
                    <a:pt x="260657" y="74664"/>
                    <a:pt x="260658" y="71345"/>
                  </a:cubicBezTo>
                  <a:lnTo>
                    <a:pt x="260658" y="12020"/>
                  </a:lnTo>
                  <a:lnTo>
                    <a:pt x="66592" y="12020"/>
                  </a:lnTo>
                  <a:lnTo>
                    <a:pt x="66592" y="82681"/>
                  </a:lnTo>
                  <a:lnTo>
                    <a:pt x="54572" y="82681"/>
                  </a:lnTo>
                  <a:lnTo>
                    <a:pt x="54572" y="0"/>
                  </a:lnTo>
                  <a:close/>
                </a:path>
              </a:pathLst>
            </a:custGeom>
            <a:solidFill>
              <a:srgbClr val="2196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8" name="Diamond 2"/>
            <p:cNvSpPr/>
            <p:nvPr/>
          </p:nvSpPr>
          <p:spPr>
            <a:xfrm>
              <a:off x="653760" y="2266560"/>
              <a:ext cx="998280" cy="128268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9" name="Diamond 4"/>
            <p:cNvSpPr/>
            <p:nvPr/>
          </p:nvSpPr>
          <p:spPr>
            <a:xfrm>
              <a:off x="1355400" y="2027160"/>
              <a:ext cx="650880" cy="83484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0" name="Diamond 5"/>
            <p:cNvSpPr/>
            <p:nvPr/>
          </p:nvSpPr>
          <p:spPr>
            <a:xfrm>
              <a:off x="593640" y="3616200"/>
              <a:ext cx="1116000" cy="143532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1" name="Diamond 6"/>
            <p:cNvSpPr/>
            <p:nvPr/>
          </p:nvSpPr>
          <p:spPr>
            <a:xfrm>
              <a:off x="1522440" y="4362480"/>
              <a:ext cx="428400" cy="55080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Title 6"/>
          <p:cNvSpPr/>
          <p:nvPr/>
        </p:nvSpPr>
        <p:spPr>
          <a:xfrm>
            <a:off x="257040" y="1373040"/>
            <a:ext cx="11754000" cy="621720"/>
          </a:xfrm>
          <a:prstGeom prst="rect">
            <a:avLst/>
          </a:prstGeom>
          <a:noFill/>
          <a:ln w="12600">
            <a:solidFill>
              <a:srgbClr val="8e10d4"/>
            </a:solidFill>
            <a:round/>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      </a:t>
            </a:r>
            <a:r>
              <a:rPr b="0" lang="zh-CN" sz="2400" spc="-1" strike="noStrike">
                <a:solidFill>
                  <a:srgbClr val="000000"/>
                </a:solidFill>
                <a:latin typeface="Arial Black"/>
                <a:ea typeface="黑体"/>
              </a:rPr>
              <a:t>编制审计报告是注册会计师提供给审计授权者或委托者表明审计意见和审计 结论的书面文件，是审计工作的最终成果。编制各类审计报告时应符合以下四个基本要求。</a:t>
            </a:r>
            <a:endParaRPr b="1" lang="en-US" sz="2400" spc="-1" strike="noStrike">
              <a:solidFill>
                <a:srgbClr val="000000"/>
              </a:solidFill>
              <a:latin typeface="Arial"/>
            </a:endParaRPr>
          </a:p>
        </p:txBody>
      </p:sp>
      <p:grpSp>
        <p:nvGrpSpPr>
          <p:cNvPr id="2293" name="组合 28"/>
          <p:cNvGrpSpPr/>
          <p:nvPr/>
        </p:nvGrpSpPr>
        <p:grpSpPr>
          <a:xfrm>
            <a:off x="958680" y="404640"/>
            <a:ext cx="10360080" cy="0"/>
            <a:chOff x="958680" y="404640"/>
            <a:chExt cx="10360080" cy="0"/>
          </a:xfrm>
        </p:grpSpPr>
        <p:sp>
          <p:nvSpPr>
            <p:cNvPr id="2294" name="直接连接符 52"/>
            <p:cNvSpPr/>
            <p:nvPr/>
          </p:nvSpPr>
          <p:spPr>
            <a:xfrm>
              <a:off x="95868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95" name="直接连接符 64"/>
            <p:cNvSpPr/>
            <p:nvPr/>
          </p:nvSpPr>
          <p:spPr>
            <a:xfrm>
              <a:off x="933948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96" name="组合 112"/>
          <p:cNvGrpSpPr/>
          <p:nvPr/>
        </p:nvGrpSpPr>
        <p:grpSpPr>
          <a:xfrm>
            <a:off x="262080" y="2639880"/>
            <a:ext cx="1374480" cy="700200"/>
            <a:chOff x="262080" y="2639880"/>
            <a:chExt cx="1374480" cy="700200"/>
          </a:xfrm>
        </p:grpSpPr>
        <p:pic>
          <p:nvPicPr>
            <p:cNvPr id="2297" name="圆角矩形 29" descr=""/>
            <p:cNvPicPr/>
            <p:nvPr/>
          </p:nvPicPr>
          <p:blipFill>
            <a:blip r:embed="rId1"/>
            <a:stretch/>
          </p:blipFill>
          <p:spPr>
            <a:xfrm>
              <a:off x="360000" y="2725200"/>
              <a:ext cx="1276560" cy="614880"/>
            </a:xfrm>
            <a:prstGeom prst="rect">
              <a:avLst/>
            </a:prstGeom>
            <a:ln w="0">
              <a:noFill/>
            </a:ln>
          </p:spPr>
        </p:pic>
        <p:sp>
          <p:nvSpPr>
            <p:cNvPr id="2298" name="圆角矩形 2"/>
            <p:cNvSpPr/>
            <p:nvPr/>
          </p:nvSpPr>
          <p:spPr>
            <a:xfrm>
              <a:off x="262080" y="2639880"/>
              <a:ext cx="1247400" cy="58608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9" name="文本框 3"/>
            <p:cNvSpPr/>
            <p:nvPr/>
          </p:nvSpPr>
          <p:spPr>
            <a:xfrm>
              <a:off x="348480" y="2773080"/>
              <a:ext cx="394200" cy="44172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82cb"/>
                  </a:solidFill>
                  <a:latin typeface="Arial"/>
                </a:rPr>
                <a:t>A</a:t>
              </a:r>
              <a:endParaRPr b="1" lang="en-US" sz="2800" spc="-1" strike="noStrike">
                <a:solidFill>
                  <a:srgbClr val="000000"/>
                </a:solidFill>
                <a:latin typeface="Arial"/>
              </a:endParaRPr>
            </a:p>
          </p:txBody>
        </p:sp>
        <p:sp>
          <p:nvSpPr>
            <p:cNvPr id="2300" name="KSO_Shape"/>
            <p:cNvSpPr/>
            <p:nvPr/>
          </p:nvSpPr>
          <p:spPr>
            <a:xfrm>
              <a:off x="975240" y="2756160"/>
              <a:ext cx="372240" cy="353880"/>
            </a:xfrm>
            <a:custGeom>
              <a:avLst/>
              <a:gdLst/>
              <a:ahLst/>
              <a:rect l="l" t="t" r="r" b="b"/>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2e82c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01" name="组合 33"/>
            <p:cNvGrpSpPr/>
            <p:nvPr/>
          </p:nvGrpSpPr>
          <p:grpSpPr>
            <a:xfrm>
              <a:off x="0" y="0"/>
              <a:ext cx="0" cy="0"/>
              <a:chOff x="0" y="0"/>
              <a:chExt cx="0" cy="0"/>
            </a:xfrm>
          </p:grpSpPr>
        </p:grpSp>
      </p:grpSp>
      <p:grpSp>
        <p:nvGrpSpPr>
          <p:cNvPr id="2302" name="组合 42"/>
          <p:cNvGrpSpPr/>
          <p:nvPr/>
        </p:nvGrpSpPr>
        <p:grpSpPr>
          <a:xfrm>
            <a:off x="119160" y="4376880"/>
            <a:ext cx="1355760" cy="731520"/>
            <a:chOff x="119160" y="4376880"/>
            <a:chExt cx="1355760" cy="731520"/>
          </a:xfrm>
        </p:grpSpPr>
        <p:pic>
          <p:nvPicPr>
            <p:cNvPr id="2303" name="圆角矩形 43" descr=""/>
            <p:cNvPicPr/>
            <p:nvPr/>
          </p:nvPicPr>
          <p:blipFill>
            <a:blip r:embed="rId2"/>
            <a:stretch/>
          </p:blipFill>
          <p:spPr>
            <a:xfrm>
              <a:off x="231840" y="4468320"/>
              <a:ext cx="1243080" cy="640080"/>
            </a:xfrm>
            <a:prstGeom prst="rect">
              <a:avLst/>
            </a:prstGeom>
            <a:ln w="0">
              <a:noFill/>
            </a:ln>
          </p:spPr>
        </p:pic>
        <p:sp>
          <p:nvSpPr>
            <p:cNvPr id="2304" name="圆角矩形 44"/>
            <p:cNvSpPr/>
            <p:nvPr/>
          </p:nvSpPr>
          <p:spPr>
            <a:xfrm>
              <a:off x="119160" y="4376880"/>
              <a:ext cx="1214640" cy="61164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5" name="文本框 5"/>
            <p:cNvSpPr/>
            <p:nvPr/>
          </p:nvSpPr>
          <p:spPr>
            <a:xfrm>
              <a:off x="896760" y="4452840"/>
              <a:ext cx="383400" cy="4608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daad1"/>
                  </a:solidFill>
                  <a:latin typeface="Arial"/>
                </a:rPr>
                <a:t>B</a:t>
              </a:r>
              <a:endParaRPr b="1" lang="en-US" sz="3100" spc="-1" strike="noStrike">
                <a:solidFill>
                  <a:srgbClr val="000000"/>
                </a:solidFill>
                <a:latin typeface="Arial"/>
              </a:endParaRPr>
            </a:p>
          </p:txBody>
        </p:sp>
        <p:grpSp>
          <p:nvGrpSpPr>
            <p:cNvPr id="2306" name="组合 6"/>
            <p:cNvGrpSpPr/>
            <p:nvPr/>
          </p:nvGrpSpPr>
          <p:grpSpPr>
            <a:xfrm>
              <a:off x="0" y="0"/>
              <a:ext cx="0" cy="0"/>
              <a:chOff x="0" y="0"/>
              <a:chExt cx="0" cy="0"/>
            </a:xfrm>
          </p:grpSpPr>
        </p:grpSp>
        <p:sp>
          <p:nvSpPr>
            <p:cNvPr id="2307" name="KSO_Shape"/>
            <p:cNvSpPr/>
            <p:nvPr/>
          </p:nvSpPr>
          <p:spPr>
            <a:xfrm>
              <a:off x="249480" y="4533840"/>
              <a:ext cx="414720" cy="2973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3daad1"/>
            </a:solidFill>
            <a:ln w="0">
              <a:noFill/>
            </a:ln>
          </p:spPr>
          <p:style>
            <a:lnRef idx="0"/>
            <a:fillRef idx="0"/>
            <a:effectRef idx="0"/>
            <a:fontRef idx="minor"/>
          </p:style>
          <p:txBody>
            <a:bodyPr lIns="68760" rIns="68760" tIns="-242640" bIns="26316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8" name="组合 73"/>
          <p:cNvGrpSpPr/>
          <p:nvPr/>
        </p:nvGrpSpPr>
        <p:grpSpPr>
          <a:xfrm>
            <a:off x="5616720" y="2716200"/>
            <a:ext cx="1509480" cy="677880"/>
            <a:chOff x="5616720" y="2716200"/>
            <a:chExt cx="1509480" cy="677880"/>
          </a:xfrm>
        </p:grpSpPr>
        <p:pic>
          <p:nvPicPr>
            <p:cNvPr id="2309" name="圆角矩形 74" descr=""/>
            <p:cNvPicPr/>
            <p:nvPr/>
          </p:nvPicPr>
          <p:blipFill>
            <a:blip r:embed="rId3"/>
            <a:stretch/>
          </p:blipFill>
          <p:spPr>
            <a:xfrm>
              <a:off x="5771520" y="2798280"/>
              <a:ext cx="1354680" cy="595800"/>
            </a:xfrm>
            <a:prstGeom prst="rect">
              <a:avLst/>
            </a:prstGeom>
            <a:ln w="0">
              <a:noFill/>
            </a:ln>
          </p:spPr>
        </p:pic>
        <p:sp>
          <p:nvSpPr>
            <p:cNvPr id="2310" name="圆角矩形 75"/>
            <p:cNvSpPr/>
            <p:nvPr/>
          </p:nvSpPr>
          <p:spPr>
            <a:xfrm>
              <a:off x="5616720" y="2716200"/>
              <a:ext cx="1325520" cy="56916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1" name="文本框 12"/>
            <p:cNvSpPr/>
            <p:nvPr/>
          </p:nvSpPr>
          <p:spPr>
            <a:xfrm>
              <a:off x="6508440" y="2786040"/>
              <a:ext cx="418320" cy="42768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rPr>
                <a:t>C</a:t>
              </a:r>
              <a:endParaRPr b="1" lang="en-US" sz="2800" spc="-1" strike="noStrike">
                <a:solidFill>
                  <a:srgbClr val="000000"/>
                </a:solidFill>
                <a:latin typeface="Arial"/>
              </a:endParaRPr>
            </a:p>
          </p:txBody>
        </p:sp>
        <p:grpSp>
          <p:nvGrpSpPr>
            <p:cNvPr id="2312" name="组合 77"/>
            <p:cNvGrpSpPr/>
            <p:nvPr/>
          </p:nvGrpSpPr>
          <p:grpSpPr>
            <a:xfrm>
              <a:off x="0" y="0"/>
              <a:ext cx="0" cy="0"/>
              <a:chOff x="0" y="0"/>
              <a:chExt cx="0" cy="0"/>
            </a:xfrm>
          </p:grpSpPr>
        </p:grpSp>
        <p:sp>
          <p:nvSpPr>
            <p:cNvPr id="2313" name="KSO_Shape"/>
            <p:cNvSpPr/>
            <p:nvPr/>
          </p:nvSpPr>
          <p:spPr>
            <a:xfrm>
              <a:off x="5803560" y="2857680"/>
              <a:ext cx="433800" cy="284400"/>
            </a:xfrm>
            <a:custGeom>
              <a:avLst/>
              <a:gdLst/>
              <a:ahLst/>
              <a:rect l="l" t="t" r="r" b="b"/>
              <a:pathLst>
                <a:path w="5868" h="4208">
                  <a:moveTo>
                    <a:pt x="49" y="1128"/>
                  </a:moveTo>
                  <a:lnTo>
                    <a:pt x="49" y="1128"/>
                  </a:lnTo>
                  <a:lnTo>
                    <a:pt x="345" y="1748"/>
                  </a:lnTo>
                  <a:lnTo>
                    <a:pt x="354" y="1764"/>
                  </a:lnTo>
                  <a:lnTo>
                    <a:pt x="364" y="1778"/>
                  </a:lnTo>
                  <a:lnTo>
                    <a:pt x="375" y="1790"/>
                  </a:lnTo>
                  <a:lnTo>
                    <a:pt x="387" y="1803"/>
                  </a:lnTo>
                  <a:lnTo>
                    <a:pt x="400" y="1813"/>
                  </a:lnTo>
                  <a:lnTo>
                    <a:pt x="413" y="1821"/>
                  </a:lnTo>
                  <a:lnTo>
                    <a:pt x="428" y="1828"/>
                  </a:lnTo>
                  <a:lnTo>
                    <a:pt x="443" y="1834"/>
                  </a:lnTo>
                  <a:lnTo>
                    <a:pt x="460" y="1838"/>
                  </a:lnTo>
                  <a:lnTo>
                    <a:pt x="477" y="1842"/>
                  </a:lnTo>
                  <a:lnTo>
                    <a:pt x="495" y="1844"/>
                  </a:lnTo>
                  <a:lnTo>
                    <a:pt x="512" y="1845"/>
                  </a:lnTo>
                  <a:lnTo>
                    <a:pt x="531" y="1845"/>
                  </a:lnTo>
                  <a:lnTo>
                    <a:pt x="551" y="1843"/>
                  </a:lnTo>
                  <a:lnTo>
                    <a:pt x="573" y="1841"/>
                  </a:lnTo>
                  <a:lnTo>
                    <a:pt x="594" y="1837"/>
                  </a:lnTo>
                  <a:lnTo>
                    <a:pt x="1457" y="1607"/>
                  </a:lnTo>
                  <a:lnTo>
                    <a:pt x="1479" y="1599"/>
                  </a:lnTo>
                  <a:lnTo>
                    <a:pt x="1500" y="1589"/>
                  </a:lnTo>
                  <a:lnTo>
                    <a:pt x="1519" y="1579"/>
                  </a:lnTo>
                  <a:lnTo>
                    <a:pt x="1537" y="1569"/>
                  </a:lnTo>
                  <a:lnTo>
                    <a:pt x="1552" y="1557"/>
                  </a:lnTo>
                  <a:lnTo>
                    <a:pt x="1567" y="1546"/>
                  </a:lnTo>
                  <a:lnTo>
                    <a:pt x="1580" y="1534"/>
                  </a:lnTo>
                  <a:lnTo>
                    <a:pt x="1591" y="1522"/>
                  </a:lnTo>
                  <a:lnTo>
                    <a:pt x="1601" y="1510"/>
                  </a:lnTo>
                  <a:lnTo>
                    <a:pt x="1610" y="1496"/>
                  </a:lnTo>
                  <a:lnTo>
                    <a:pt x="1617" y="1482"/>
                  </a:lnTo>
                  <a:lnTo>
                    <a:pt x="1624" y="1467"/>
                  </a:lnTo>
                  <a:lnTo>
                    <a:pt x="1628" y="1453"/>
                  </a:lnTo>
                  <a:lnTo>
                    <a:pt x="1632" y="1438"/>
                  </a:lnTo>
                  <a:lnTo>
                    <a:pt x="1633" y="1423"/>
                  </a:lnTo>
                  <a:lnTo>
                    <a:pt x="1634" y="1406"/>
                  </a:lnTo>
                  <a:lnTo>
                    <a:pt x="1627" y="927"/>
                  </a:lnTo>
                  <a:lnTo>
                    <a:pt x="1664" y="910"/>
                  </a:lnTo>
                  <a:lnTo>
                    <a:pt x="1701" y="894"/>
                  </a:lnTo>
                  <a:lnTo>
                    <a:pt x="1775" y="863"/>
                  </a:lnTo>
                  <a:lnTo>
                    <a:pt x="1851" y="834"/>
                  </a:lnTo>
                  <a:lnTo>
                    <a:pt x="1929" y="807"/>
                  </a:lnTo>
                  <a:lnTo>
                    <a:pt x="2008" y="782"/>
                  </a:lnTo>
                  <a:lnTo>
                    <a:pt x="2089" y="759"/>
                  </a:lnTo>
                  <a:lnTo>
                    <a:pt x="2170" y="739"/>
                  </a:lnTo>
                  <a:lnTo>
                    <a:pt x="2252" y="720"/>
                  </a:lnTo>
                  <a:lnTo>
                    <a:pt x="2335" y="705"/>
                  </a:lnTo>
                  <a:lnTo>
                    <a:pt x="2420" y="690"/>
                  </a:lnTo>
                  <a:lnTo>
                    <a:pt x="2504" y="679"/>
                  </a:lnTo>
                  <a:lnTo>
                    <a:pt x="2589" y="669"/>
                  </a:lnTo>
                  <a:lnTo>
                    <a:pt x="2675" y="661"/>
                  </a:lnTo>
                  <a:lnTo>
                    <a:pt x="2761" y="657"/>
                  </a:lnTo>
                  <a:lnTo>
                    <a:pt x="2848" y="654"/>
                  </a:lnTo>
                  <a:lnTo>
                    <a:pt x="2934" y="652"/>
                  </a:lnTo>
                  <a:lnTo>
                    <a:pt x="3021" y="654"/>
                  </a:lnTo>
                  <a:lnTo>
                    <a:pt x="3106" y="657"/>
                  </a:lnTo>
                  <a:lnTo>
                    <a:pt x="3192" y="661"/>
                  </a:lnTo>
                  <a:lnTo>
                    <a:pt x="3278" y="669"/>
                  </a:lnTo>
                  <a:lnTo>
                    <a:pt x="3364" y="679"/>
                  </a:lnTo>
                  <a:lnTo>
                    <a:pt x="3449" y="690"/>
                  </a:lnTo>
                  <a:lnTo>
                    <a:pt x="3532" y="705"/>
                  </a:lnTo>
                  <a:lnTo>
                    <a:pt x="3616" y="720"/>
                  </a:lnTo>
                  <a:lnTo>
                    <a:pt x="3698" y="739"/>
                  </a:lnTo>
                  <a:lnTo>
                    <a:pt x="3780" y="759"/>
                  </a:lnTo>
                  <a:lnTo>
                    <a:pt x="3860" y="782"/>
                  </a:lnTo>
                  <a:lnTo>
                    <a:pt x="3939" y="807"/>
                  </a:lnTo>
                  <a:lnTo>
                    <a:pt x="4017" y="834"/>
                  </a:lnTo>
                  <a:lnTo>
                    <a:pt x="4093" y="863"/>
                  </a:lnTo>
                  <a:lnTo>
                    <a:pt x="4168" y="894"/>
                  </a:lnTo>
                  <a:lnTo>
                    <a:pt x="4204" y="910"/>
                  </a:lnTo>
                  <a:lnTo>
                    <a:pt x="4241" y="927"/>
                  </a:lnTo>
                  <a:lnTo>
                    <a:pt x="4235" y="1406"/>
                  </a:lnTo>
                  <a:lnTo>
                    <a:pt x="4235" y="1423"/>
                  </a:lnTo>
                  <a:lnTo>
                    <a:pt x="4237" y="1438"/>
                  </a:lnTo>
                  <a:lnTo>
                    <a:pt x="4240" y="1453"/>
                  </a:lnTo>
                  <a:lnTo>
                    <a:pt x="4245" y="1467"/>
                  </a:lnTo>
                  <a:lnTo>
                    <a:pt x="4250" y="1482"/>
                  </a:lnTo>
                  <a:lnTo>
                    <a:pt x="4258" y="1496"/>
                  </a:lnTo>
                  <a:lnTo>
                    <a:pt x="4266" y="1510"/>
                  </a:lnTo>
                  <a:lnTo>
                    <a:pt x="4276" y="1522"/>
                  </a:lnTo>
                  <a:lnTo>
                    <a:pt x="4288" y="1534"/>
                  </a:lnTo>
                  <a:lnTo>
                    <a:pt x="4300" y="1546"/>
                  </a:lnTo>
                  <a:lnTo>
                    <a:pt x="4315" y="1557"/>
                  </a:lnTo>
                  <a:lnTo>
                    <a:pt x="4331" y="1569"/>
                  </a:lnTo>
                  <a:lnTo>
                    <a:pt x="4349" y="1579"/>
                  </a:lnTo>
                  <a:lnTo>
                    <a:pt x="4368" y="1589"/>
                  </a:lnTo>
                  <a:lnTo>
                    <a:pt x="4389" y="1599"/>
                  </a:lnTo>
                  <a:lnTo>
                    <a:pt x="4412" y="1607"/>
                  </a:lnTo>
                  <a:lnTo>
                    <a:pt x="5275" y="1837"/>
                  </a:lnTo>
                  <a:lnTo>
                    <a:pt x="5296" y="1841"/>
                  </a:lnTo>
                  <a:lnTo>
                    <a:pt x="5316" y="1843"/>
                  </a:lnTo>
                  <a:lnTo>
                    <a:pt x="5336" y="1845"/>
                  </a:lnTo>
                  <a:lnTo>
                    <a:pt x="5355" y="1845"/>
                  </a:lnTo>
                  <a:lnTo>
                    <a:pt x="5374" y="1844"/>
                  </a:lnTo>
                  <a:lnTo>
                    <a:pt x="5392" y="1842"/>
                  </a:lnTo>
                  <a:lnTo>
                    <a:pt x="5408" y="1838"/>
                  </a:lnTo>
                  <a:lnTo>
                    <a:pt x="5425" y="1834"/>
                  </a:lnTo>
                  <a:lnTo>
                    <a:pt x="5440" y="1828"/>
                  </a:lnTo>
                  <a:lnTo>
                    <a:pt x="5454" y="1821"/>
                  </a:lnTo>
                  <a:lnTo>
                    <a:pt x="5469" y="1813"/>
                  </a:lnTo>
                  <a:lnTo>
                    <a:pt x="5481" y="1803"/>
                  </a:lnTo>
                  <a:lnTo>
                    <a:pt x="5493" y="1790"/>
                  </a:lnTo>
                  <a:lnTo>
                    <a:pt x="5504" y="1778"/>
                  </a:lnTo>
                  <a:lnTo>
                    <a:pt x="5514" y="1764"/>
                  </a:lnTo>
                  <a:lnTo>
                    <a:pt x="5523" y="1748"/>
                  </a:lnTo>
                  <a:lnTo>
                    <a:pt x="5820" y="1128"/>
                  </a:lnTo>
                  <a:lnTo>
                    <a:pt x="5835" y="1095"/>
                  </a:lnTo>
                  <a:lnTo>
                    <a:pt x="5848" y="1065"/>
                  </a:lnTo>
                  <a:lnTo>
                    <a:pt x="5856" y="1037"/>
                  </a:lnTo>
                  <a:lnTo>
                    <a:pt x="5863" y="1011"/>
                  </a:lnTo>
                  <a:lnTo>
                    <a:pt x="5867" y="988"/>
                  </a:lnTo>
                  <a:lnTo>
                    <a:pt x="5868" y="966"/>
                  </a:lnTo>
                  <a:lnTo>
                    <a:pt x="5868" y="956"/>
                  </a:lnTo>
                  <a:lnTo>
                    <a:pt x="5867" y="946"/>
                  </a:lnTo>
                  <a:lnTo>
                    <a:pt x="5864" y="936"/>
                  </a:lnTo>
                  <a:lnTo>
                    <a:pt x="5862" y="927"/>
                  </a:lnTo>
                  <a:lnTo>
                    <a:pt x="5859" y="918"/>
                  </a:lnTo>
                  <a:lnTo>
                    <a:pt x="5854" y="909"/>
                  </a:lnTo>
                  <a:lnTo>
                    <a:pt x="5845" y="892"/>
                  </a:lnTo>
                  <a:lnTo>
                    <a:pt x="5833" y="876"/>
                  </a:lnTo>
                  <a:lnTo>
                    <a:pt x="5820" y="861"/>
                  </a:lnTo>
                  <a:lnTo>
                    <a:pt x="5803" y="846"/>
                  </a:lnTo>
                  <a:lnTo>
                    <a:pt x="5784" y="832"/>
                  </a:lnTo>
                  <a:lnTo>
                    <a:pt x="5763" y="817"/>
                  </a:lnTo>
                  <a:lnTo>
                    <a:pt x="5741" y="803"/>
                  </a:lnTo>
                  <a:lnTo>
                    <a:pt x="5652" y="754"/>
                  </a:lnTo>
                  <a:lnTo>
                    <a:pt x="5564" y="706"/>
                  </a:lnTo>
                  <a:lnTo>
                    <a:pt x="5476" y="660"/>
                  </a:lnTo>
                  <a:lnTo>
                    <a:pt x="5389" y="616"/>
                  </a:lnTo>
                  <a:lnTo>
                    <a:pt x="5301" y="572"/>
                  </a:lnTo>
                  <a:lnTo>
                    <a:pt x="5213" y="531"/>
                  </a:lnTo>
                  <a:lnTo>
                    <a:pt x="5125" y="491"/>
                  </a:lnTo>
                  <a:lnTo>
                    <a:pt x="5037" y="452"/>
                  </a:lnTo>
                  <a:lnTo>
                    <a:pt x="4950" y="415"/>
                  </a:lnTo>
                  <a:lnTo>
                    <a:pt x="4862" y="381"/>
                  </a:lnTo>
                  <a:lnTo>
                    <a:pt x="4774" y="346"/>
                  </a:lnTo>
                  <a:lnTo>
                    <a:pt x="4686" y="315"/>
                  </a:lnTo>
                  <a:lnTo>
                    <a:pt x="4599" y="284"/>
                  </a:lnTo>
                  <a:lnTo>
                    <a:pt x="4511" y="255"/>
                  </a:lnTo>
                  <a:lnTo>
                    <a:pt x="4423" y="228"/>
                  </a:lnTo>
                  <a:lnTo>
                    <a:pt x="4336" y="201"/>
                  </a:lnTo>
                  <a:lnTo>
                    <a:pt x="4248" y="178"/>
                  </a:lnTo>
                  <a:lnTo>
                    <a:pt x="4161" y="154"/>
                  </a:lnTo>
                  <a:lnTo>
                    <a:pt x="4073" y="133"/>
                  </a:lnTo>
                  <a:lnTo>
                    <a:pt x="3985" y="114"/>
                  </a:lnTo>
                  <a:lnTo>
                    <a:pt x="3898" y="95"/>
                  </a:lnTo>
                  <a:lnTo>
                    <a:pt x="3810" y="80"/>
                  </a:lnTo>
                  <a:lnTo>
                    <a:pt x="3722" y="64"/>
                  </a:lnTo>
                  <a:lnTo>
                    <a:pt x="3635" y="51"/>
                  </a:lnTo>
                  <a:lnTo>
                    <a:pt x="3547" y="39"/>
                  </a:lnTo>
                  <a:lnTo>
                    <a:pt x="3460" y="29"/>
                  </a:lnTo>
                  <a:lnTo>
                    <a:pt x="3372" y="21"/>
                  </a:lnTo>
                  <a:lnTo>
                    <a:pt x="3285" y="14"/>
                  </a:lnTo>
                  <a:lnTo>
                    <a:pt x="3197" y="8"/>
                  </a:lnTo>
                  <a:lnTo>
                    <a:pt x="3109" y="4"/>
                  </a:lnTo>
                  <a:lnTo>
                    <a:pt x="3022" y="2"/>
                  </a:lnTo>
                  <a:lnTo>
                    <a:pt x="2934" y="0"/>
                  </a:lnTo>
                  <a:lnTo>
                    <a:pt x="2847" y="2"/>
                  </a:lnTo>
                  <a:lnTo>
                    <a:pt x="2759" y="4"/>
                  </a:lnTo>
                  <a:lnTo>
                    <a:pt x="2672" y="8"/>
                  </a:lnTo>
                  <a:lnTo>
                    <a:pt x="2584" y="14"/>
                  </a:lnTo>
                  <a:lnTo>
                    <a:pt x="2497" y="21"/>
                  </a:lnTo>
                  <a:lnTo>
                    <a:pt x="2409" y="29"/>
                  </a:lnTo>
                  <a:lnTo>
                    <a:pt x="2320" y="39"/>
                  </a:lnTo>
                  <a:lnTo>
                    <a:pt x="2234" y="51"/>
                  </a:lnTo>
                  <a:lnTo>
                    <a:pt x="2145" y="64"/>
                  </a:lnTo>
                  <a:lnTo>
                    <a:pt x="2059" y="80"/>
                  </a:lnTo>
                  <a:lnTo>
                    <a:pt x="1970" y="95"/>
                  </a:lnTo>
                  <a:lnTo>
                    <a:pt x="1882" y="114"/>
                  </a:lnTo>
                  <a:lnTo>
                    <a:pt x="1795" y="133"/>
                  </a:lnTo>
                  <a:lnTo>
                    <a:pt x="1707" y="154"/>
                  </a:lnTo>
                  <a:lnTo>
                    <a:pt x="1620" y="178"/>
                  </a:lnTo>
                  <a:lnTo>
                    <a:pt x="1532" y="201"/>
                  </a:lnTo>
                  <a:lnTo>
                    <a:pt x="1444" y="228"/>
                  </a:lnTo>
                  <a:lnTo>
                    <a:pt x="1357" y="255"/>
                  </a:lnTo>
                  <a:lnTo>
                    <a:pt x="1269" y="284"/>
                  </a:lnTo>
                  <a:lnTo>
                    <a:pt x="1181" y="315"/>
                  </a:lnTo>
                  <a:lnTo>
                    <a:pt x="1094" y="346"/>
                  </a:lnTo>
                  <a:lnTo>
                    <a:pt x="1006" y="381"/>
                  </a:lnTo>
                  <a:lnTo>
                    <a:pt x="918" y="415"/>
                  </a:lnTo>
                  <a:lnTo>
                    <a:pt x="830" y="452"/>
                  </a:lnTo>
                  <a:lnTo>
                    <a:pt x="743" y="491"/>
                  </a:lnTo>
                  <a:lnTo>
                    <a:pt x="655" y="531"/>
                  </a:lnTo>
                  <a:lnTo>
                    <a:pt x="567" y="572"/>
                  </a:lnTo>
                  <a:lnTo>
                    <a:pt x="479" y="616"/>
                  </a:lnTo>
                  <a:lnTo>
                    <a:pt x="391" y="660"/>
                  </a:lnTo>
                  <a:lnTo>
                    <a:pt x="303" y="706"/>
                  </a:lnTo>
                  <a:lnTo>
                    <a:pt x="216" y="754"/>
                  </a:lnTo>
                  <a:lnTo>
                    <a:pt x="128" y="803"/>
                  </a:lnTo>
                  <a:lnTo>
                    <a:pt x="104" y="817"/>
                  </a:lnTo>
                  <a:lnTo>
                    <a:pt x="84" y="832"/>
                  </a:lnTo>
                  <a:lnTo>
                    <a:pt x="65" y="846"/>
                  </a:lnTo>
                  <a:lnTo>
                    <a:pt x="49" y="861"/>
                  </a:lnTo>
                  <a:lnTo>
                    <a:pt x="34" y="876"/>
                  </a:lnTo>
                  <a:lnTo>
                    <a:pt x="23" y="892"/>
                  </a:lnTo>
                  <a:lnTo>
                    <a:pt x="13" y="909"/>
                  </a:lnTo>
                  <a:lnTo>
                    <a:pt x="10" y="918"/>
                  </a:lnTo>
                  <a:lnTo>
                    <a:pt x="6" y="927"/>
                  </a:lnTo>
                  <a:lnTo>
                    <a:pt x="4" y="936"/>
                  </a:lnTo>
                  <a:lnTo>
                    <a:pt x="2" y="946"/>
                  </a:lnTo>
                  <a:lnTo>
                    <a:pt x="1" y="956"/>
                  </a:lnTo>
                  <a:lnTo>
                    <a:pt x="0" y="966"/>
                  </a:lnTo>
                  <a:lnTo>
                    <a:pt x="1" y="988"/>
                  </a:lnTo>
                  <a:lnTo>
                    <a:pt x="4" y="1011"/>
                  </a:lnTo>
                  <a:lnTo>
                    <a:pt x="11" y="1037"/>
                  </a:lnTo>
                  <a:lnTo>
                    <a:pt x="21" y="1065"/>
                  </a:lnTo>
                  <a:lnTo>
                    <a:pt x="33" y="1095"/>
                  </a:lnTo>
                  <a:lnTo>
                    <a:pt x="49" y="1128"/>
                  </a:lnTo>
                  <a:close/>
                  <a:moveTo>
                    <a:pt x="2041" y="1134"/>
                  </a:moveTo>
                  <a:lnTo>
                    <a:pt x="2041" y="1134"/>
                  </a:lnTo>
                  <a:lnTo>
                    <a:pt x="2096" y="1117"/>
                  </a:lnTo>
                  <a:lnTo>
                    <a:pt x="2153" y="1101"/>
                  </a:lnTo>
                  <a:lnTo>
                    <a:pt x="2210" y="1085"/>
                  </a:lnTo>
                  <a:lnTo>
                    <a:pt x="2267" y="1072"/>
                  </a:lnTo>
                  <a:lnTo>
                    <a:pt x="2324" y="1058"/>
                  </a:lnTo>
                  <a:lnTo>
                    <a:pt x="2381" y="1046"/>
                  </a:lnTo>
                  <a:lnTo>
                    <a:pt x="2438" y="1036"/>
                  </a:lnTo>
                  <a:lnTo>
                    <a:pt x="2495" y="1026"/>
                  </a:lnTo>
                  <a:lnTo>
                    <a:pt x="2553" y="1017"/>
                  </a:lnTo>
                  <a:lnTo>
                    <a:pt x="2610" y="1009"/>
                  </a:lnTo>
                  <a:lnTo>
                    <a:pt x="2668" y="1004"/>
                  </a:lnTo>
                  <a:lnTo>
                    <a:pt x="2726" y="998"/>
                  </a:lnTo>
                  <a:lnTo>
                    <a:pt x="2785" y="995"/>
                  </a:lnTo>
                  <a:lnTo>
                    <a:pt x="2843" y="991"/>
                  </a:lnTo>
                  <a:lnTo>
                    <a:pt x="2902" y="989"/>
                  </a:lnTo>
                  <a:lnTo>
                    <a:pt x="2960" y="989"/>
                  </a:lnTo>
                  <a:lnTo>
                    <a:pt x="3019" y="989"/>
                  </a:lnTo>
                  <a:lnTo>
                    <a:pt x="3079" y="991"/>
                  </a:lnTo>
                  <a:lnTo>
                    <a:pt x="3136" y="995"/>
                  </a:lnTo>
                  <a:lnTo>
                    <a:pt x="3194" y="998"/>
                  </a:lnTo>
                  <a:lnTo>
                    <a:pt x="3252" y="1004"/>
                  </a:lnTo>
                  <a:lnTo>
                    <a:pt x="3310" y="1009"/>
                  </a:lnTo>
                  <a:lnTo>
                    <a:pt x="3368" y="1017"/>
                  </a:lnTo>
                  <a:lnTo>
                    <a:pt x="3426" y="1026"/>
                  </a:lnTo>
                  <a:lnTo>
                    <a:pt x="3483" y="1036"/>
                  </a:lnTo>
                  <a:lnTo>
                    <a:pt x="3541" y="1046"/>
                  </a:lnTo>
                  <a:lnTo>
                    <a:pt x="3598" y="1058"/>
                  </a:lnTo>
                  <a:lnTo>
                    <a:pt x="3655" y="1072"/>
                  </a:lnTo>
                  <a:lnTo>
                    <a:pt x="3712" y="1085"/>
                  </a:lnTo>
                  <a:lnTo>
                    <a:pt x="3769" y="1101"/>
                  </a:lnTo>
                  <a:lnTo>
                    <a:pt x="3824" y="1117"/>
                  </a:lnTo>
                  <a:lnTo>
                    <a:pt x="3881" y="1134"/>
                  </a:lnTo>
                  <a:lnTo>
                    <a:pt x="3881" y="1618"/>
                  </a:lnTo>
                  <a:lnTo>
                    <a:pt x="3884" y="1651"/>
                  </a:lnTo>
                  <a:lnTo>
                    <a:pt x="3890" y="1681"/>
                  </a:lnTo>
                  <a:lnTo>
                    <a:pt x="3898" y="1709"/>
                  </a:lnTo>
                  <a:lnTo>
                    <a:pt x="3907" y="1736"/>
                  </a:lnTo>
                  <a:lnTo>
                    <a:pt x="3918" y="1760"/>
                  </a:lnTo>
                  <a:lnTo>
                    <a:pt x="3931" y="1783"/>
                  </a:lnTo>
                  <a:lnTo>
                    <a:pt x="3946" y="1804"/>
                  </a:lnTo>
                  <a:lnTo>
                    <a:pt x="3961" y="1823"/>
                  </a:lnTo>
                  <a:lnTo>
                    <a:pt x="3979" y="1839"/>
                  </a:lnTo>
                  <a:lnTo>
                    <a:pt x="3999" y="1855"/>
                  </a:lnTo>
                  <a:lnTo>
                    <a:pt x="4020" y="1868"/>
                  </a:lnTo>
                  <a:lnTo>
                    <a:pt x="4043" y="1881"/>
                  </a:lnTo>
                  <a:lnTo>
                    <a:pt x="4066" y="1891"/>
                  </a:lnTo>
                  <a:lnTo>
                    <a:pt x="4092" y="1900"/>
                  </a:lnTo>
                  <a:lnTo>
                    <a:pt x="4119" y="1907"/>
                  </a:lnTo>
                  <a:lnTo>
                    <a:pt x="4146" y="1913"/>
                  </a:lnTo>
                  <a:lnTo>
                    <a:pt x="4896" y="2061"/>
                  </a:lnTo>
                  <a:lnTo>
                    <a:pt x="4925" y="2068"/>
                  </a:lnTo>
                  <a:lnTo>
                    <a:pt x="4951" y="2077"/>
                  </a:lnTo>
                  <a:lnTo>
                    <a:pt x="4977" y="2086"/>
                  </a:lnTo>
                  <a:lnTo>
                    <a:pt x="5001" y="2097"/>
                  </a:lnTo>
                  <a:lnTo>
                    <a:pt x="5024" y="2109"/>
                  </a:lnTo>
                  <a:lnTo>
                    <a:pt x="5044" y="2123"/>
                  </a:lnTo>
                  <a:lnTo>
                    <a:pt x="5063" y="2137"/>
                  </a:lnTo>
                  <a:lnTo>
                    <a:pt x="5081" y="2154"/>
                  </a:lnTo>
                  <a:lnTo>
                    <a:pt x="5095" y="2172"/>
                  </a:lnTo>
                  <a:lnTo>
                    <a:pt x="5108" y="2191"/>
                  </a:lnTo>
                  <a:lnTo>
                    <a:pt x="5120" y="2212"/>
                  </a:lnTo>
                  <a:lnTo>
                    <a:pt x="5129" y="2235"/>
                  </a:lnTo>
                  <a:lnTo>
                    <a:pt x="5134" y="2260"/>
                  </a:lnTo>
                  <a:lnTo>
                    <a:pt x="5139" y="2285"/>
                  </a:lnTo>
                  <a:lnTo>
                    <a:pt x="5141" y="2314"/>
                  </a:lnTo>
                  <a:lnTo>
                    <a:pt x="5141" y="2344"/>
                  </a:lnTo>
                  <a:lnTo>
                    <a:pt x="5141" y="3729"/>
                  </a:lnTo>
                  <a:lnTo>
                    <a:pt x="2960" y="3729"/>
                  </a:lnTo>
                  <a:lnTo>
                    <a:pt x="781" y="3729"/>
                  </a:lnTo>
                  <a:lnTo>
                    <a:pt x="781" y="2344"/>
                  </a:lnTo>
                  <a:lnTo>
                    <a:pt x="780" y="2314"/>
                  </a:lnTo>
                  <a:lnTo>
                    <a:pt x="782" y="2285"/>
                  </a:lnTo>
                  <a:lnTo>
                    <a:pt x="787" y="2260"/>
                  </a:lnTo>
                  <a:lnTo>
                    <a:pt x="793" y="2235"/>
                  </a:lnTo>
                  <a:lnTo>
                    <a:pt x="802" y="2212"/>
                  </a:lnTo>
                  <a:lnTo>
                    <a:pt x="813" y="2191"/>
                  </a:lnTo>
                  <a:lnTo>
                    <a:pt x="826" y="2172"/>
                  </a:lnTo>
                  <a:lnTo>
                    <a:pt x="841" y="2154"/>
                  </a:lnTo>
                  <a:lnTo>
                    <a:pt x="858" y="2137"/>
                  </a:lnTo>
                  <a:lnTo>
                    <a:pt x="877" y="2123"/>
                  </a:lnTo>
                  <a:lnTo>
                    <a:pt x="898" y="2109"/>
                  </a:lnTo>
                  <a:lnTo>
                    <a:pt x="920" y="2097"/>
                  </a:lnTo>
                  <a:lnTo>
                    <a:pt x="944" y="2086"/>
                  </a:lnTo>
                  <a:lnTo>
                    <a:pt x="971" y="2077"/>
                  </a:lnTo>
                  <a:lnTo>
                    <a:pt x="997" y="2068"/>
                  </a:lnTo>
                  <a:lnTo>
                    <a:pt x="1026" y="2061"/>
                  </a:lnTo>
                  <a:lnTo>
                    <a:pt x="1775" y="1913"/>
                  </a:lnTo>
                  <a:lnTo>
                    <a:pt x="1803" y="1907"/>
                  </a:lnTo>
                  <a:lnTo>
                    <a:pt x="1830" y="1900"/>
                  </a:lnTo>
                  <a:lnTo>
                    <a:pt x="1855" y="1891"/>
                  </a:lnTo>
                  <a:lnTo>
                    <a:pt x="1879" y="1881"/>
                  </a:lnTo>
                  <a:lnTo>
                    <a:pt x="1901" y="1868"/>
                  </a:lnTo>
                  <a:lnTo>
                    <a:pt x="1923" y="1855"/>
                  </a:lnTo>
                  <a:lnTo>
                    <a:pt x="1941" y="1839"/>
                  </a:lnTo>
                  <a:lnTo>
                    <a:pt x="1959" y="1823"/>
                  </a:lnTo>
                  <a:lnTo>
                    <a:pt x="1976" y="1804"/>
                  </a:lnTo>
                  <a:lnTo>
                    <a:pt x="1991" y="1783"/>
                  </a:lnTo>
                  <a:lnTo>
                    <a:pt x="2003" y="1760"/>
                  </a:lnTo>
                  <a:lnTo>
                    <a:pt x="2014" y="1736"/>
                  </a:lnTo>
                  <a:lnTo>
                    <a:pt x="2024" y="1709"/>
                  </a:lnTo>
                  <a:lnTo>
                    <a:pt x="2031" y="1681"/>
                  </a:lnTo>
                  <a:lnTo>
                    <a:pt x="2037" y="1651"/>
                  </a:lnTo>
                  <a:lnTo>
                    <a:pt x="2041" y="1618"/>
                  </a:lnTo>
                  <a:lnTo>
                    <a:pt x="2041" y="1134"/>
                  </a:lnTo>
                  <a:close/>
                  <a:moveTo>
                    <a:pt x="2971" y="1671"/>
                  </a:moveTo>
                  <a:lnTo>
                    <a:pt x="2971" y="1671"/>
                  </a:lnTo>
                  <a:lnTo>
                    <a:pt x="3017" y="1672"/>
                  </a:lnTo>
                  <a:lnTo>
                    <a:pt x="3063" y="1676"/>
                  </a:lnTo>
                  <a:lnTo>
                    <a:pt x="3107" y="1682"/>
                  </a:lnTo>
                  <a:lnTo>
                    <a:pt x="3151" y="1690"/>
                  </a:lnTo>
                  <a:lnTo>
                    <a:pt x="3194" y="1699"/>
                  </a:lnTo>
                  <a:lnTo>
                    <a:pt x="3237" y="1711"/>
                  </a:lnTo>
                  <a:lnTo>
                    <a:pt x="3278" y="1726"/>
                  </a:lnTo>
                  <a:lnTo>
                    <a:pt x="3318" y="1741"/>
                  </a:lnTo>
                  <a:lnTo>
                    <a:pt x="3358" y="1759"/>
                  </a:lnTo>
                  <a:lnTo>
                    <a:pt x="3396" y="1779"/>
                  </a:lnTo>
                  <a:lnTo>
                    <a:pt x="3434" y="1800"/>
                  </a:lnTo>
                  <a:lnTo>
                    <a:pt x="3470" y="1824"/>
                  </a:lnTo>
                  <a:lnTo>
                    <a:pt x="3505" y="1848"/>
                  </a:lnTo>
                  <a:lnTo>
                    <a:pt x="3539" y="1875"/>
                  </a:lnTo>
                  <a:lnTo>
                    <a:pt x="3571" y="1903"/>
                  </a:lnTo>
                  <a:lnTo>
                    <a:pt x="3602" y="1933"/>
                  </a:lnTo>
                  <a:lnTo>
                    <a:pt x="3631" y="1963"/>
                  </a:lnTo>
                  <a:lnTo>
                    <a:pt x="3659" y="1995"/>
                  </a:lnTo>
                  <a:lnTo>
                    <a:pt x="3686" y="2030"/>
                  </a:lnTo>
                  <a:lnTo>
                    <a:pt x="3711" y="2065"/>
                  </a:lnTo>
                  <a:lnTo>
                    <a:pt x="3734" y="2100"/>
                  </a:lnTo>
                  <a:lnTo>
                    <a:pt x="3755" y="2138"/>
                  </a:lnTo>
                  <a:lnTo>
                    <a:pt x="3775" y="2176"/>
                  </a:lnTo>
                  <a:lnTo>
                    <a:pt x="3793" y="2216"/>
                  </a:lnTo>
                  <a:lnTo>
                    <a:pt x="3809" y="2256"/>
                  </a:lnTo>
                  <a:lnTo>
                    <a:pt x="3823" y="2298"/>
                  </a:lnTo>
                  <a:lnTo>
                    <a:pt x="3835" y="2340"/>
                  </a:lnTo>
                  <a:lnTo>
                    <a:pt x="3845" y="2383"/>
                  </a:lnTo>
                  <a:lnTo>
                    <a:pt x="3853" y="2427"/>
                  </a:lnTo>
                  <a:lnTo>
                    <a:pt x="3859" y="2471"/>
                  </a:lnTo>
                  <a:lnTo>
                    <a:pt x="3862" y="2517"/>
                  </a:lnTo>
                  <a:lnTo>
                    <a:pt x="3863" y="2563"/>
                  </a:lnTo>
                  <a:lnTo>
                    <a:pt x="3863" y="2591"/>
                  </a:lnTo>
                  <a:lnTo>
                    <a:pt x="3861" y="2617"/>
                  </a:lnTo>
                  <a:lnTo>
                    <a:pt x="3860" y="2645"/>
                  </a:lnTo>
                  <a:lnTo>
                    <a:pt x="3857" y="2672"/>
                  </a:lnTo>
                  <a:lnTo>
                    <a:pt x="3853" y="2699"/>
                  </a:lnTo>
                  <a:lnTo>
                    <a:pt x="3849" y="2726"/>
                  </a:lnTo>
                  <a:lnTo>
                    <a:pt x="3843" y="2751"/>
                  </a:lnTo>
                  <a:lnTo>
                    <a:pt x="3838" y="2778"/>
                  </a:lnTo>
                  <a:lnTo>
                    <a:pt x="3831" y="2802"/>
                  </a:lnTo>
                  <a:lnTo>
                    <a:pt x="3823" y="2828"/>
                  </a:lnTo>
                  <a:lnTo>
                    <a:pt x="3814" y="2854"/>
                  </a:lnTo>
                  <a:lnTo>
                    <a:pt x="3805" y="2878"/>
                  </a:lnTo>
                  <a:lnTo>
                    <a:pt x="3796" y="2903"/>
                  </a:lnTo>
                  <a:lnTo>
                    <a:pt x="3786" y="2926"/>
                  </a:lnTo>
                  <a:lnTo>
                    <a:pt x="3775" y="2950"/>
                  </a:lnTo>
                  <a:lnTo>
                    <a:pt x="3763" y="2973"/>
                  </a:lnTo>
                  <a:lnTo>
                    <a:pt x="3410" y="2802"/>
                  </a:lnTo>
                  <a:lnTo>
                    <a:pt x="3423" y="2776"/>
                  </a:lnTo>
                  <a:lnTo>
                    <a:pt x="3435" y="2748"/>
                  </a:lnTo>
                  <a:lnTo>
                    <a:pt x="3446" y="2719"/>
                  </a:lnTo>
                  <a:lnTo>
                    <a:pt x="3455" y="2689"/>
                  </a:lnTo>
                  <a:lnTo>
                    <a:pt x="3462" y="2659"/>
                  </a:lnTo>
                  <a:lnTo>
                    <a:pt x="3466" y="2627"/>
                  </a:lnTo>
                  <a:lnTo>
                    <a:pt x="3470" y="2595"/>
                  </a:lnTo>
                  <a:lnTo>
                    <a:pt x="3471" y="2563"/>
                  </a:lnTo>
                  <a:lnTo>
                    <a:pt x="3470" y="2537"/>
                  </a:lnTo>
                  <a:lnTo>
                    <a:pt x="3469" y="2512"/>
                  </a:lnTo>
                  <a:lnTo>
                    <a:pt x="3465" y="2487"/>
                  </a:lnTo>
                  <a:lnTo>
                    <a:pt x="3461" y="2462"/>
                  </a:lnTo>
                  <a:lnTo>
                    <a:pt x="3455" y="2438"/>
                  </a:lnTo>
                  <a:lnTo>
                    <a:pt x="3449" y="2415"/>
                  </a:lnTo>
                  <a:lnTo>
                    <a:pt x="3441" y="2391"/>
                  </a:lnTo>
                  <a:lnTo>
                    <a:pt x="3432" y="2369"/>
                  </a:lnTo>
                  <a:lnTo>
                    <a:pt x="3422" y="2347"/>
                  </a:lnTo>
                  <a:lnTo>
                    <a:pt x="3411" y="2325"/>
                  </a:lnTo>
                  <a:lnTo>
                    <a:pt x="3398" y="2304"/>
                  </a:lnTo>
                  <a:lnTo>
                    <a:pt x="3386" y="2284"/>
                  </a:lnTo>
                  <a:lnTo>
                    <a:pt x="3372" y="2264"/>
                  </a:lnTo>
                  <a:lnTo>
                    <a:pt x="3357" y="2245"/>
                  </a:lnTo>
                  <a:lnTo>
                    <a:pt x="3342" y="2227"/>
                  </a:lnTo>
                  <a:lnTo>
                    <a:pt x="3325" y="2209"/>
                  </a:lnTo>
                  <a:lnTo>
                    <a:pt x="3307" y="2193"/>
                  </a:lnTo>
                  <a:lnTo>
                    <a:pt x="3289" y="2177"/>
                  </a:lnTo>
                  <a:lnTo>
                    <a:pt x="3270" y="2163"/>
                  </a:lnTo>
                  <a:lnTo>
                    <a:pt x="3251" y="2149"/>
                  </a:lnTo>
                  <a:lnTo>
                    <a:pt x="3230" y="2136"/>
                  </a:lnTo>
                  <a:lnTo>
                    <a:pt x="3210" y="2124"/>
                  </a:lnTo>
                  <a:lnTo>
                    <a:pt x="3188" y="2113"/>
                  </a:lnTo>
                  <a:lnTo>
                    <a:pt x="3165" y="2102"/>
                  </a:lnTo>
                  <a:lnTo>
                    <a:pt x="3143" y="2094"/>
                  </a:lnTo>
                  <a:lnTo>
                    <a:pt x="3120" y="2086"/>
                  </a:lnTo>
                  <a:lnTo>
                    <a:pt x="3096" y="2079"/>
                  </a:lnTo>
                  <a:lnTo>
                    <a:pt x="3072" y="2074"/>
                  </a:lnTo>
                  <a:lnTo>
                    <a:pt x="3047" y="2069"/>
                  </a:lnTo>
                  <a:lnTo>
                    <a:pt x="3023" y="2066"/>
                  </a:lnTo>
                  <a:lnTo>
                    <a:pt x="2997" y="2065"/>
                  </a:lnTo>
                  <a:lnTo>
                    <a:pt x="2971" y="2063"/>
                  </a:lnTo>
                  <a:lnTo>
                    <a:pt x="2946" y="2065"/>
                  </a:lnTo>
                  <a:lnTo>
                    <a:pt x="2920" y="2066"/>
                  </a:lnTo>
                  <a:lnTo>
                    <a:pt x="2896" y="2069"/>
                  </a:lnTo>
                  <a:lnTo>
                    <a:pt x="2871" y="2074"/>
                  </a:lnTo>
                  <a:lnTo>
                    <a:pt x="2847" y="2079"/>
                  </a:lnTo>
                  <a:lnTo>
                    <a:pt x="2823" y="2086"/>
                  </a:lnTo>
                  <a:lnTo>
                    <a:pt x="2800" y="2094"/>
                  </a:lnTo>
                  <a:lnTo>
                    <a:pt x="2778" y="2102"/>
                  </a:lnTo>
                  <a:lnTo>
                    <a:pt x="2755" y="2113"/>
                  </a:lnTo>
                  <a:lnTo>
                    <a:pt x="2734" y="2124"/>
                  </a:lnTo>
                  <a:lnTo>
                    <a:pt x="2713" y="2136"/>
                  </a:lnTo>
                  <a:lnTo>
                    <a:pt x="2693" y="2149"/>
                  </a:lnTo>
                  <a:lnTo>
                    <a:pt x="2673" y="2163"/>
                  </a:lnTo>
                  <a:lnTo>
                    <a:pt x="2654" y="2177"/>
                  </a:lnTo>
                  <a:lnTo>
                    <a:pt x="2636" y="2193"/>
                  </a:lnTo>
                  <a:lnTo>
                    <a:pt x="2619" y="2209"/>
                  </a:lnTo>
                  <a:lnTo>
                    <a:pt x="2603" y="2227"/>
                  </a:lnTo>
                  <a:lnTo>
                    <a:pt x="2587" y="2245"/>
                  </a:lnTo>
                  <a:lnTo>
                    <a:pt x="2571" y="2264"/>
                  </a:lnTo>
                  <a:lnTo>
                    <a:pt x="2558" y="2284"/>
                  </a:lnTo>
                  <a:lnTo>
                    <a:pt x="2545" y="2304"/>
                  </a:lnTo>
                  <a:lnTo>
                    <a:pt x="2532" y="2325"/>
                  </a:lnTo>
                  <a:lnTo>
                    <a:pt x="2521" y="2347"/>
                  </a:lnTo>
                  <a:lnTo>
                    <a:pt x="2512" y="2369"/>
                  </a:lnTo>
                  <a:lnTo>
                    <a:pt x="2502" y="2391"/>
                  </a:lnTo>
                  <a:lnTo>
                    <a:pt x="2494" y="2415"/>
                  </a:lnTo>
                  <a:lnTo>
                    <a:pt x="2488" y="2438"/>
                  </a:lnTo>
                  <a:lnTo>
                    <a:pt x="2482" y="2462"/>
                  </a:lnTo>
                  <a:lnTo>
                    <a:pt x="2478" y="2487"/>
                  </a:lnTo>
                  <a:lnTo>
                    <a:pt x="2475" y="2512"/>
                  </a:lnTo>
                  <a:lnTo>
                    <a:pt x="2473" y="2537"/>
                  </a:lnTo>
                  <a:lnTo>
                    <a:pt x="2472" y="2563"/>
                  </a:lnTo>
                  <a:lnTo>
                    <a:pt x="2473" y="2588"/>
                  </a:lnTo>
                  <a:lnTo>
                    <a:pt x="2475" y="2614"/>
                  </a:lnTo>
                  <a:lnTo>
                    <a:pt x="2478" y="2639"/>
                  </a:lnTo>
                  <a:lnTo>
                    <a:pt x="2482" y="2663"/>
                  </a:lnTo>
                  <a:lnTo>
                    <a:pt x="2488" y="2688"/>
                  </a:lnTo>
                  <a:lnTo>
                    <a:pt x="2494" y="2711"/>
                  </a:lnTo>
                  <a:lnTo>
                    <a:pt x="2502" y="2734"/>
                  </a:lnTo>
                  <a:lnTo>
                    <a:pt x="2512" y="2757"/>
                  </a:lnTo>
                  <a:lnTo>
                    <a:pt x="2521" y="2779"/>
                  </a:lnTo>
                  <a:lnTo>
                    <a:pt x="2532" y="2801"/>
                  </a:lnTo>
                  <a:lnTo>
                    <a:pt x="2545" y="2821"/>
                  </a:lnTo>
                  <a:lnTo>
                    <a:pt x="2558" y="2841"/>
                  </a:lnTo>
                  <a:lnTo>
                    <a:pt x="2571" y="2861"/>
                  </a:lnTo>
                  <a:lnTo>
                    <a:pt x="2587" y="2880"/>
                  </a:lnTo>
                  <a:lnTo>
                    <a:pt x="2603" y="2898"/>
                  </a:lnTo>
                  <a:lnTo>
                    <a:pt x="2619" y="2916"/>
                  </a:lnTo>
                  <a:lnTo>
                    <a:pt x="2636" y="2933"/>
                  </a:lnTo>
                  <a:lnTo>
                    <a:pt x="2654" y="2948"/>
                  </a:lnTo>
                  <a:lnTo>
                    <a:pt x="2673" y="2963"/>
                  </a:lnTo>
                  <a:lnTo>
                    <a:pt x="2693" y="2976"/>
                  </a:lnTo>
                  <a:lnTo>
                    <a:pt x="2713" y="2990"/>
                  </a:lnTo>
                  <a:lnTo>
                    <a:pt x="2734" y="3002"/>
                  </a:lnTo>
                  <a:lnTo>
                    <a:pt x="2755" y="3013"/>
                  </a:lnTo>
                  <a:lnTo>
                    <a:pt x="2778" y="3023"/>
                  </a:lnTo>
                  <a:lnTo>
                    <a:pt x="2800" y="3032"/>
                  </a:lnTo>
                  <a:lnTo>
                    <a:pt x="2823" y="3040"/>
                  </a:lnTo>
                  <a:lnTo>
                    <a:pt x="2847" y="3047"/>
                  </a:lnTo>
                  <a:lnTo>
                    <a:pt x="2871" y="3052"/>
                  </a:lnTo>
                  <a:lnTo>
                    <a:pt x="2896" y="3057"/>
                  </a:lnTo>
                  <a:lnTo>
                    <a:pt x="2920" y="3060"/>
                  </a:lnTo>
                  <a:lnTo>
                    <a:pt x="2946" y="3061"/>
                  </a:lnTo>
                  <a:lnTo>
                    <a:pt x="2971" y="3062"/>
                  </a:lnTo>
                  <a:lnTo>
                    <a:pt x="2994" y="3061"/>
                  </a:lnTo>
                  <a:lnTo>
                    <a:pt x="3015" y="3060"/>
                  </a:lnTo>
                  <a:lnTo>
                    <a:pt x="3037" y="3058"/>
                  </a:lnTo>
                  <a:lnTo>
                    <a:pt x="3058" y="3054"/>
                  </a:lnTo>
                  <a:lnTo>
                    <a:pt x="3079" y="3051"/>
                  </a:lnTo>
                  <a:lnTo>
                    <a:pt x="3100" y="3045"/>
                  </a:lnTo>
                  <a:lnTo>
                    <a:pt x="3120" y="3040"/>
                  </a:lnTo>
                  <a:lnTo>
                    <a:pt x="3140" y="3033"/>
                  </a:lnTo>
                  <a:lnTo>
                    <a:pt x="3159" y="3025"/>
                  </a:lnTo>
                  <a:lnTo>
                    <a:pt x="3178" y="3018"/>
                  </a:lnTo>
                  <a:lnTo>
                    <a:pt x="3197" y="3009"/>
                  </a:lnTo>
                  <a:lnTo>
                    <a:pt x="3215" y="2999"/>
                  </a:lnTo>
                  <a:lnTo>
                    <a:pt x="3232" y="2989"/>
                  </a:lnTo>
                  <a:lnTo>
                    <a:pt x="3250" y="2977"/>
                  </a:lnTo>
                  <a:lnTo>
                    <a:pt x="3267" y="2965"/>
                  </a:lnTo>
                  <a:lnTo>
                    <a:pt x="3283" y="2953"/>
                  </a:lnTo>
                  <a:lnTo>
                    <a:pt x="3563" y="3229"/>
                  </a:lnTo>
                  <a:lnTo>
                    <a:pt x="3533" y="3255"/>
                  </a:lnTo>
                  <a:lnTo>
                    <a:pt x="3502" y="3279"/>
                  </a:lnTo>
                  <a:lnTo>
                    <a:pt x="3470" y="3303"/>
                  </a:lnTo>
                  <a:lnTo>
                    <a:pt x="3436" y="3324"/>
                  </a:lnTo>
                  <a:lnTo>
                    <a:pt x="3402" y="3344"/>
                  </a:lnTo>
                  <a:lnTo>
                    <a:pt x="3366" y="3362"/>
                  </a:lnTo>
                  <a:lnTo>
                    <a:pt x="3330" y="3379"/>
                  </a:lnTo>
                  <a:lnTo>
                    <a:pt x="3294" y="3394"/>
                  </a:lnTo>
                  <a:lnTo>
                    <a:pt x="3256" y="3408"/>
                  </a:lnTo>
                  <a:lnTo>
                    <a:pt x="3217" y="3420"/>
                  </a:lnTo>
                  <a:lnTo>
                    <a:pt x="3178" y="3430"/>
                  </a:lnTo>
                  <a:lnTo>
                    <a:pt x="3138" y="3439"/>
                  </a:lnTo>
                  <a:lnTo>
                    <a:pt x="3097" y="3446"/>
                  </a:lnTo>
                  <a:lnTo>
                    <a:pt x="3056" y="3450"/>
                  </a:lnTo>
                  <a:lnTo>
                    <a:pt x="3014" y="3453"/>
                  </a:lnTo>
                  <a:lnTo>
                    <a:pt x="2971" y="3454"/>
                  </a:lnTo>
                  <a:lnTo>
                    <a:pt x="2926" y="3453"/>
                  </a:lnTo>
                  <a:lnTo>
                    <a:pt x="2880" y="3450"/>
                  </a:lnTo>
                  <a:lnTo>
                    <a:pt x="2835" y="3444"/>
                  </a:lnTo>
                  <a:lnTo>
                    <a:pt x="2792" y="3435"/>
                  </a:lnTo>
                  <a:lnTo>
                    <a:pt x="2749" y="3427"/>
                  </a:lnTo>
                  <a:lnTo>
                    <a:pt x="2706" y="3414"/>
                  </a:lnTo>
                  <a:lnTo>
                    <a:pt x="2665" y="3400"/>
                  </a:lnTo>
                  <a:lnTo>
                    <a:pt x="2625" y="3384"/>
                  </a:lnTo>
                  <a:lnTo>
                    <a:pt x="2585" y="3366"/>
                  </a:lnTo>
                  <a:lnTo>
                    <a:pt x="2547" y="3346"/>
                  </a:lnTo>
                  <a:lnTo>
                    <a:pt x="2510" y="3325"/>
                  </a:lnTo>
                  <a:lnTo>
                    <a:pt x="2473" y="3302"/>
                  </a:lnTo>
                  <a:lnTo>
                    <a:pt x="2439" y="3277"/>
                  </a:lnTo>
                  <a:lnTo>
                    <a:pt x="2405" y="3250"/>
                  </a:lnTo>
                  <a:lnTo>
                    <a:pt x="2373" y="3223"/>
                  </a:lnTo>
                  <a:lnTo>
                    <a:pt x="2342" y="3193"/>
                  </a:lnTo>
                  <a:lnTo>
                    <a:pt x="2312" y="3162"/>
                  </a:lnTo>
                  <a:lnTo>
                    <a:pt x="2284" y="3130"/>
                  </a:lnTo>
                  <a:lnTo>
                    <a:pt x="2257" y="3096"/>
                  </a:lnTo>
                  <a:lnTo>
                    <a:pt x="2232" y="3061"/>
                  </a:lnTo>
                  <a:lnTo>
                    <a:pt x="2209" y="3025"/>
                  </a:lnTo>
                  <a:lnTo>
                    <a:pt x="2188" y="2987"/>
                  </a:lnTo>
                  <a:lnTo>
                    <a:pt x="2168" y="2950"/>
                  </a:lnTo>
                  <a:lnTo>
                    <a:pt x="2150" y="2909"/>
                  </a:lnTo>
                  <a:lnTo>
                    <a:pt x="2134" y="2869"/>
                  </a:lnTo>
                  <a:lnTo>
                    <a:pt x="2120" y="2828"/>
                  </a:lnTo>
                  <a:lnTo>
                    <a:pt x="2109" y="2786"/>
                  </a:lnTo>
                  <a:lnTo>
                    <a:pt x="2099" y="2742"/>
                  </a:lnTo>
                  <a:lnTo>
                    <a:pt x="2091" y="2699"/>
                  </a:lnTo>
                  <a:lnTo>
                    <a:pt x="2085" y="2654"/>
                  </a:lnTo>
                  <a:lnTo>
                    <a:pt x="2081" y="2608"/>
                  </a:lnTo>
                  <a:lnTo>
                    <a:pt x="2080" y="2563"/>
                  </a:lnTo>
                  <a:lnTo>
                    <a:pt x="2081" y="2517"/>
                  </a:lnTo>
                  <a:lnTo>
                    <a:pt x="2085" y="2471"/>
                  </a:lnTo>
                  <a:lnTo>
                    <a:pt x="2091" y="2427"/>
                  </a:lnTo>
                  <a:lnTo>
                    <a:pt x="2099" y="2383"/>
                  </a:lnTo>
                  <a:lnTo>
                    <a:pt x="2109" y="2340"/>
                  </a:lnTo>
                  <a:lnTo>
                    <a:pt x="2120" y="2298"/>
                  </a:lnTo>
                  <a:lnTo>
                    <a:pt x="2134" y="2256"/>
                  </a:lnTo>
                  <a:lnTo>
                    <a:pt x="2150" y="2216"/>
                  </a:lnTo>
                  <a:lnTo>
                    <a:pt x="2168" y="2176"/>
                  </a:lnTo>
                  <a:lnTo>
                    <a:pt x="2188" y="2138"/>
                  </a:lnTo>
                  <a:lnTo>
                    <a:pt x="2209" y="2100"/>
                  </a:lnTo>
                  <a:lnTo>
                    <a:pt x="2232" y="2065"/>
                  </a:lnTo>
                  <a:lnTo>
                    <a:pt x="2257" y="2030"/>
                  </a:lnTo>
                  <a:lnTo>
                    <a:pt x="2284" y="1995"/>
                  </a:lnTo>
                  <a:lnTo>
                    <a:pt x="2312" y="1963"/>
                  </a:lnTo>
                  <a:lnTo>
                    <a:pt x="2342" y="1933"/>
                  </a:lnTo>
                  <a:lnTo>
                    <a:pt x="2373" y="1903"/>
                  </a:lnTo>
                  <a:lnTo>
                    <a:pt x="2405" y="1875"/>
                  </a:lnTo>
                  <a:lnTo>
                    <a:pt x="2439" y="1848"/>
                  </a:lnTo>
                  <a:lnTo>
                    <a:pt x="2473" y="1824"/>
                  </a:lnTo>
                  <a:lnTo>
                    <a:pt x="2510" y="1800"/>
                  </a:lnTo>
                  <a:lnTo>
                    <a:pt x="2547" y="1779"/>
                  </a:lnTo>
                  <a:lnTo>
                    <a:pt x="2585" y="1759"/>
                  </a:lnTo>
                  <a:lnTo>
                    <a:pt x="2625" y="1741"/>
                  </a:lnTo>
                  <a:lnTo>
                    <a:pt x="2665" y="1726"/>
                  </a:lnTo>
                  <a:lnTo>
                    <a:pt x="2706" y="1711"/>
                  </a:lnTo>
                  <a:lnTo>
                    <a:pt x="2749" y="1699"/>
                  </a:lnTo>
                  <a:lnTo>
                    <a:pt x="2792" y="1690"/>
                  </a:lnTo>
                  <a:lnTo>
                    <a:pt x="2835" y="1682"/>
                  </a:lnTo>
                  <a:lnTo>
                    <a:pt x="2880" y="1676"/>
                  </a:lnTo>
                  <a:lnTo>
                    <a:pt x="2926" y="1672"/>
                  </a:lnTo>
                  <a:lnTo>
                    <a:pt x="2971" y="1671"/>
                  </a:lnTo>
                  <a:close/>
                  <a:moveTo>
                    <a:pt x="4858" y="3824"/>
                  </a:moveTo>
                  <a:lnTo>
                    <a:pt x="4858" y="3824"/>
                  </a:lnTo>
                  <a:lnTo>
                    <a:pt x="4328" y="3824"/>
                  </a:lnTo>
                  <a:lnTo>
                    <a:pt x="4328" y="4208"/>
                  </a:lnTo>
                  <a:lnTo>
                    <a:pt x="4702" y="4208"/>
                  </a:lnTo>
                  <a:lnTo>
                    <a:pt x="4858" y="3824"/>
                  </a:lnTo>
                  <a:close/>
                  <a:moveTo>
                    <a:pt x="1064" y="3824"/>
                  </a:moveTo>
                  <a:lnTo>
                    <a:pt x="1064" y="3824"/>
                  </a:lnTo>
                  <a:lnTo>
                    <a:pt x="1594" y="3824"/>
                  </a:lnTo>
                  <a:lnTo>
                    <a:pt x="1594" y="4208"/>
                  </a:lnTo>
                  <a:lnTo>
                    <a:pt x="1219" y="4208"/>
                  </a:lnTo>
                  <a:lnTo>
                    <a:pt x="1064" y="3824"/>
                  </a:lnTo>
                  <a:close/>
                </a:path>
              </a:pathLst>
            </a:custGeom>
            <a:solidFill>
              <a:srgbClr val="00b0f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14" name="组合 113"/>
          <p:cNvGrpSpPr/>
          <p:nvPr/>
        </p:nvGrpSpPr>
        <p:grpSpPr>
          <a:xfrm>
            <a:off x="5688000" y="5205240"/>
            <a:ext cx="1379520" cy="671760"/>
            <a:chOff x="5688000" y="5205240"/>
            <a:chExt cx="1379520" cy="671760"/>
          </a:xfrm>
        </p:grpSpPr>
        <p:pic>
          <p:nvPicPr>
            <p:cNvPr id="2315" name="圆角矩形 86" descr=""/>
            <p:cNvPicPr/>
            <p:nvPr/>
          </p:nvPicPr>
          <p:blipFill>
            <a:blip r:embed="rId4"/>
            <a:stretch/>
          </p:blipFill>
          <p:spPr>
            <a:xfrm>
              <a:off x="5815080" y="5205240"/>
              <a:ext cx="1252440" cy="647280"/>
            </a:xfrm>
            <a:prstGeom prst="rect">
              <a:avLst/>
            </a:prstGeom>
            <a:ln w="0">
              <a:noFill/>
            </a:ln>
          </p:spPr>
        </p:pic>
        <p:sp>
          <p:nvSpPr>
            <p:cNvPr id="2316" name="圆角矩形 87"/>
            <p:cNvSpPr/>
            <p:nvPr/>
          </p:nvSpPr>
          <p:spPr>
            <a:xfrm>
              <a:off x="5688000" y="5256720"/>
              <a:ext cx="1224000" cy="620280"/>
            </a:xfrm>
            <a:prstGeom prst="roundRect">
              <a:avLst>
                <a:gd name="adj" fmla="val 50000"/>
              </a:avLst>
            </a:prstGeom>
            <a:gradFill rotWithShape="0">
              <a:gsLst>
                <a:gs pos="0">
                  <a:srgbClr val="f2f2f2"/>
                </a:gs>
                <a:gs pos="100000">
                  <a:srgbClr val="ffffff"/>
                </a:gs>
              </a:gsLst>
              <a:lin ang="27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7" name="文本框 88"/>
            <p:cNvSpPr/>
            <p:nvPr/>
          </p:nvSpPr>
          <p:spPr>
            <a:xfrm>
              <a:off x="5736600" y="5217120"/>
              <a:ext cx="388080" cy="46656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f75b4"/>
                  </a:solidFill>
                  <a:latin typeface="Arial"/>
                </a:rPr>
                <a:t>D</a:t>
              </a:r>
              <a:endParaRPr b="1" lang="en-US" sz="3100" spc="-1" strike="noStrike">
                <a:solidFill>
                  <a:srgbClr val="000000"/>
                </a:solidFill>
                <a:latin typeface="Arial"/>
              </a:endParaRPr>
            </a:p>
          </p:txBody>
        </p:sp>
        <p:grpSp>
          <p:nvGrpSpPr>
            <p:cNvPr id="2318" name="组合 89"/>
            <p:cNvGrpSpPr/>
            <p:nvPr/>
          </p:nvGrpSpPr>
          <p:grpSpPr>
            <a:xfrm>
              <a:off x="0" y="0"/>
              <a:ext cx="0" cy="0"/>
              <a:chOff x="0" y="0"/>
              <a:chExt cx="0" cy="0"/>
            </a:xfrm>
          </p:grpSpPr>
        </p:grpSp>
        <p:sp>
          <p:nvSpPr>
            <p:cNvPr id="2319" name="KSO_Shape"/>
            <p:cNvSpPr/>
            <p:nvPr/>
          </p:nvSpPr>
          <p:spPr>
            <a:xfrm>
              <a:off x="6467400" y="5238720"/>
              <a:ext cx="232560" cy="423000"/>
            </a:xfrm>
            <a:custGeom>
              <a:avLst/>
              <a:gdLst/>
              <a:ahLst/>
              <a:rect l="l" t="t" r="r" b="b"/>
              <a:pathLst>
                <a:path w="2938" h="5511">
                  <a:moveTo>
                    <a:pt x="2479" y="0"/>
                  </a:moveTo>
                  <a:lnTo>
                    <a:pt x="458" y="0"/>
                  </a:lnTo>
                  <a:lnTo>
                    <a:pt x="435" y="1"/>
                  </a:lnTo>
                  <a:lnTo>
                    <a:pt x="412" y="3"/>
                  </a:lnTo>
                  <a:lnTo>
                    <a:pt x="389" y="7"/>
                  </a:lnTo>
                  <a:lnTo>
                    <a:pt x="366" y="11"/>
                  </a:lnTo>
                  <a:lnTo>
                    <a:pt x="345" y="16"/>
                  </a:lnTo>
                  <a:lnTo>
                    <a:pt x="322" y="22"/>
                  </a:lnTo>
                  <a:lnTo>
                    <a:pt x="301" y="29"/>
                  </a:lnTo>
                  <a:lnTo>
                    <a:pt x="281" y="37"/>
                  </a:lnTo>
                  <a:lnTo>
                    <a:pt x="260" y="46"/>
                  </a:lnTo>
                  <a:lnTo>
                    <a:pt x="240" y="56"/>
                  </a:lnTo>
                  <a:lnTo>
                    <a:pt x="221" y="67"/>
                  </a:lnTo>
                  <a:lnTo>
                    <a:pt x="203" y="80"/>
                  </a:lnTo>
                  <a:lnTo>
                    <a:pt x="184" y="93"/>
                  </a:lnTo>
                  <a:lnTo>
                    <a:pt x="167" y="106"/>
                  </a:lnTo>
                  <a:lnTo>
                    <a:pt x="150" y="120"/>
                  </a:lnTo>
                  <a:lnTo>
                    <a:pt x="135" y="135"/>
                  </a:lnTo>
                  <a:lnTo>
                    <a:pt x="119" y="152"/>
                  </a:lnTo>
                  <a:lnTo>
                    <a:pt x="104" y="169"/>
                  </a:lnTo>
                  <a:lnTo>
                    <a:pt x="91" y="186"/>
                  </a:lnTo>
                  <a:lnTo>
                    <a:pt x="78" y="203"/>
                  </a:lnTo>
                  <a:lnTo>
                    <a:pt x="66" y="223"/>
                  </a:lnTo>
                  <a:lnTo>
                    <a:pt x="55" y="242"/>
                  </a:lnTo>
                  <a:lnTo>
                    <a:pt x="45" y="261"/>
                  </a:lnTo>
                  <a:lnTo>
                    <a:pt x="35" y="281"/>
                  </a:lnTo>
                  <a:lnTo>
                    <a:pt x="27" y="303"/>
                  </a:lnTo>
                  <a:lnTo>
                    <a:pt x="20" y="324"/>
                  </a:lnTo>
                  <a:lnTo>
                    <a:pt x="14" y="345"/>
                  </a:lnTo>
                  <a:lnTo>
                    <a:pt x="9" y="368"/>
                  </a:lnTo>
                  <a:lnTo>
                    <a:pt x="5" y="390"/>
                  </a:lnTo>
                  <a:lnTo>
                    <a:pt x="2" y="413"/>
                  </a:lnTo>
                  <a:lnTo>
                    <a:pt x="0" y="437"/>
                  </a:lnTo>
                  <a:lnTo>
                    <a:pt x="0" y="460"/>
                  </a:lnTo>
                  <a:lnTo>
                    <a:pt x="0" y="5052"/>
                  </a:lnTo>
                  <a:lnTo>
                    <a:pt x="0" y="5076"/>
                  </a:lnTo>
                  <a:lnTo>
                    <a:pt x="2" y="5099"/>
                  </a:lnTo>
                  <a:lnTo>
                    <a:pt x="5" y="5122"/>
                  </a:lnTo>
                  <a:lnTo>
                    <a:pt x="9" y="5144"/>
                  </a:lnTo>
                  <a:lnTo>
                    <a:pt x="14" y="5167"/>
                  </a:lnTo>
                  <a:lnTo>
                    <a:pt x="20" y="5189"/>
                  </a:lnTo>
                  <a:lnTo>
                    <a:pt x="27" y="5210"/>
                  </a:lnTo>
                  <a:lnTo>
                    <a:pt x="35" y="5230"/>
                  </a:lnTo>
                  <a:lnTo>
                    <a:pt x="45" y="5251"/>
                  </a:lnTo>
                  <a:lnTo>
                    <a:pt x="55" y="5271"/>
                  </a:lnTo>
                  <a:lnTo>
                    <a:pt x="66" y="5290"/>
                  </a:lnTo>
                  <a:lnTo>
                    <a:pt x="78" y="5309"/>
                  </a:lnTo>
                  <a:lnTo>
                    <a:pt x="91" y="5327"/>
                  </a:lnTo>
                  <a:lnTo>
                    <a:pt x="104" y="5344"/>
                  </a:lnTo>
                  <a:lnTo>
                    <a:pt x="119" y="5360"/>
                  </a:lnTo>
                  <a:lnTo>
                    <a:pt x="135" y="5377"/>
                  </a:lnTo>
                  <a:lnTo>
                    <a:pt x="150" y="5392"/>
                  </a:lnTo>
                  <a:lnTo>
                    <a:pt x="167" y="5406"/>
                  </a:lnTo>
                  <a:lnTo>
                    <a:pt x="184" y="5420"/>
                  </a:lnTo>
                  <a:lnTo>
                    <a:pt x="203" y="5433"/>
                  </a:lnTo>
                  <a:lnTo>
                    <a:pt x="221" y="5445"/>
                  </a:lnTo>
                  <a:lnTo>
                    <a:pt x="240" y="5456"/>
                  </a:lnTo>
                  <a:lnTo>
                    <a:pt x="260" y="5466"/>
                  </a:lnTo>
                  <a:lnTo>
                    <a:pt x="281" y="5475"/>
                  </a:lnTo>
                  <a:lnTo>
                    <a:pt x="301" y="5484"/>
                  </a:lnTo>
                  <a:lnTo>
                    <a:pt x="322" y="5491"/>
                  </a:lnTo>
                  <a:lnTo>
                    <a:pt x="345" y="5497"/>
                  </a:lnTo>
                  <a:lnTo>
                    <a:pt x="366" y="5502"/>
                  </a:lnTo>
                  <a:lnTo>
                    <a:pt x="389" y="5506"/>
                  </a:lnTo>
                  <a:lnTo>
                    <a:pt x="412" y="5509"/>
                  </a:lnTo>
                  <a:lnTo>
                    <a:pt x="435" y="5511"/>
                  </a:lnTo>
                  <a:lnTo>
                    <a:pt x="458" y="5511"/>
                  </a:lnTo>
                  <a:lnTo>
                    <a:pt x="2479" y="5511"/>
                  </a:lnTo>
                  <a:lnTo>
                    <a:pt x="2502" y="5511"/>
                  </a:lnTo>
                  <a:lnTo>
                    <a:pt x="2525" y="5509"/>
                  </a:lnTo>
                  <a:lnTo>
                    <a:pt x="2549" y="5506"/>
                  </a:lnTo>
                  <a:lnTo>
                    <a:pt x="2571" y="5502"/>
                  </a:lnTo>
                  <a:lnTo>
                    <a:pt x="2593" y="5497"/>
                  </a:lnTo>
                  <a:lnTo>
                    <a:pt x="2615" y="5491"/>
                  </a:lnTo>
                  <a:lnTo>
                    <a:pt x="2636" y="5484"/>
                  </a:lnTo>
                  <a:lnTo>
                    <a:pt x="2657" y="5475"/>
                  </a:lnTo>
                  <a:lnTo>
                    <a:pt x="2677" y="5466"/>
                  </a:lnTo>
                  <a:lnTo>
                    <a:pt x="2698" y="5456"/>
                  </a:lnTo>
                  <a:lnTo>
                    <a:pt x="2716" y="5445"/>
                  </a:lnTo>
                  <a:lnTo>
                    <a:pt x="2735" y="5433"/>
                  </a:lnTo>
                  <a:lnTo>
                    <a:pt x="2754" y="5420"/>
                  </a:lnTo>
                  <a:lnTo>
                    <a:pt x="2771" y="5406"/>
                  </a:lnTo>
                  <a:lnTo>
                    <a:pt x="2787" y="5392"/>
                  </a:lnTo>
                  <a:lnTo>
                    <a:pt x="2803" y="5377"/>
                  </a:lnTo>
                  <a:lnTo>
                    <a:pt x="2818" y="5360"/>
                  </a:lnTo>
                  <a:lnTo>
                    <a:pt x="2833" y="5344"/>
                  </a:lnTo>
                  <a:lnTo>
                    <a:pt x="2847" y="5327"/>
                  </a:lnTo>
                  <a:lnTo>
                    <a:pt x="2859" y="5309"/>
                  </a:lnTo>
                  <a:lnTo>
                    <a:pt x="2871" y="5290"/>
                  </a:lnTo>
                  <a:lnTo>
                    <a:pt x="2882" y="5271"/>
                  </a:lnTo>
                  <a:lnTo>
                    <a:pt x="2892" y="5251"/>
                  </a:lnTo>
                  <a:lnTo>
                    <a:pt x="2902" y="5230"/>
                  </a:lnTo>
                  <a:lnTo>
                    <a:pt x="2910" y="5210"/>
                  </a:lnTo>
                  <a:lnTo>
                    <a:pt x="2918" y="5189"/>
                  </a:lnTo>
                  <a:lnTo>
                    <a:pt x="2924" y="5167"/>
                  </a:lnTo>
                  <a:lnTo>
                    <a:pt x="2929" y="5144"/>
                  </a:lnTo>
                  <a:lnTo>
                    <a:pt x="2933" y="5122"/>
                  </a:lnTo>
                  <a:lnTo>
                    <a:pt x="2936" y="5099"/>
                  </a:lnTo>
                  <a:lnTo>
                    <a:pt x="2937" y="5076"/>
                  </a:lnTo>
                  <a:lnTo>
                    <a:pt x="2938" y="5052"/>
                  </a:lnTo>
                  <a:lnTo>
                    <a:pt x="2938" y="460"/>
                  </a:lnTo>
                  <a:lnTo>
                    <a:pt x="2937" y="437"/>
                  </a:lnTo>
                  <a:lnTo>
                    <a:pt x="2936" y="413"/>
                  </a:lnTo>
                  <a:lnTo>
                    <a:pt x="2933" y="390"/>
                  </a:lnTo>
                  <a:lnTo>
                    <a:pt x="2929" y="368"/>
                  </a:lnTo>
                  <a:lnTo>
                    <a:pt x="2924" y="345"/>
                  </a:lnTo>
                  <a:lnTo>
                    <a:pt x="2918" y="324"/>
                  </a:lnTo>
                  <a:lnTo>
                    <a:pt x="2910" y="303"/>
                  </a:lnTo>
                  <a:lnTo>
                    <a:pt x="2902" y="281"/>
                  </a:lnTo>
                  <a:lnTo>
                    <a:pt x="2892" y="261"/>
                  </a:lnTo>
                  <a:lnTo>
                    <a:pt x="2882" y="242"/>
                  </a:lnTo>
                  <a:lnTo>
                    <a:pt x="2871" y="223"/>
                  </a:lnTo>
                  <a:lnTo>
                    <a:pt x="2859" y="203"/>
                  </a:lnTo>
                  <a:lnTo>
                    <a:pt x="2847" y="186"/>
                  </a:lnTo>
                  <a:lnTo>
                    <a:pt x="2833" y="169"/>
                  </a:lnTo>
                  <a:lnTo>
                    <a:pt x="2818" y="152"/>
                  </a:lnTo>
                  <a:lnTo>
                    <a:pt x="2803" y="135"/>
                  </a:lnTo>
                  <a:lnTo>
                    <a:pt x="2787" y="120"/>
                  </a:lnTo>
                  <a:lnTo>
                    <a:pt x="2771" y="106"/>
                  </a:lnTo>
                  <a:lnTo>
                    <a:pt x="2754" y="93"/>
                  </a:lnTo>
                  <a:lnTo>
                    <a:pt x="2735" y="80"/>
                  </a:lnTo>
                  <a:lnTo>
                    <a:pt x="2716" y="67"/>
                  </a:lnTo>
                  <a:lnTo>
                    <a:pt x="2698" y="56"/>
                  </a:lnTo>
                  <a:lnTo>
                    <a:pt x="2677" y="46"/>
                  </a:lnTo>
                  <a:lnTo>
                    <a:pt x="2657" y="37"/>
                  </a:lnTo>
                  <a:lnTo>
                    <a:pt x="2636" y="29"/>
                  </a:lnTo>
                  <a:lnTo>
                    <a:pt x="2615" y="22"/>
                  </a:lnTo>
                  <a:lnTo>
                    <a:pt x="2593" y="16"/>
                  </a:lnTo>
                  <a:lnTo>
                    <a:pt x="2571" y="11"/>
                  </a:lnTo>
                  <a:lnTo>
                    <a:pt x="2549" y="7"/>
                  </a:lnTo>
                  <a:lnTo>
                    <a:pt x="2525" y="3"/>
                  </a:lnTo>
                  <a:lnTo>
                    <a:pt x="2502" y="1"/>
                  </a:lnTo>
                  <a:lnTo>
                    <a:pt x="2479" y="0"/>
                  </a:lnTo>
                  <a:close/>
                  <a:moveTo>
                    <a:pt x="1194" y="369"/>
                  </a:moveTo>
                  <a:lnTo>
                    <a:pt x="1744" y="369"/>
                  </a:lnTo>
                  <a:lnTo>
                    <a:pt x="1753" y="369"/>
                  </a:lnTo>
                  <a:lnTo>
                    <a:pt x="1763" y="370"/>
                  </a:lnTo>
                  <a:lnTo>
                    <a:pt x="1772" y="373"/>
                  </a:lnTo>
                  <a:lnTo>
                    <a:pt x="1780" y="376"/>
                  </a:lnTo>
                  <a:lnTo>
                    <a:pt x="1788" y="379"/>
                  </a:lnTo>
                  <a:lnTo>
                    <a:pt x="1796" y="384"/>
                  </a:lnTo>
                  <a:lnTo>
                    <a:pt x="1803" y="389"/>
                  </a:lnTo>
                  <a:lnTo>
                    <a:pt x="1809" y="395"/>
                  </a:lnTo>
                  <a:lnTo>
                    <a:pt x="1815" y="401"/>
                  </a:lnTo>
                  <a:lnTo>
                    <a:pt x="1820" y="408"/>
                  </a:lnTo>
                  <a:lnTo>
                    <a:pt x="1825" y="416"/>
                  </a:lnTo>
                  <a:lnTo>
                    <a:pt x="1828" y="424"/>
                  </a:lnTo>
                  <a:lnTo>
                    <a:pt x="1833" y="433"/>
                  </a:lnTo>
                  <a:lnTo>
                    <a:pt x="1835" y="442"/>
                  </a:lnTo>
                  <a:lnTo>
                    <a:pt x="1836" y="451"/>
                  </a:lnTo>
                  <a:lnTo>
                    <a:pt x="1837" y="460"/>
                  </a:lnTo>
                  <a:lnTo>
                    <a:pt x="1836" y="469"/>
                  </a:lnTo>
                  <a:lnTo>
                    <a:pt x="1835" y="478"/>
                  </a:lnTo>
                  <a:lnTo>
                    <a:pt x="1833" y="487"/>
                  </a:lnTo>
                  <a:lnTo>
                    <a:pt x="1828" y="495"/>
                  </a:lnTo>
                  <a:lnTo>
                    <a:pt x="1825" y="504"/>
                  </a:lnTo>
                  <a:lnTo>
                    <a:pt x="1820" y="512"/>
                  </a:lnTo>
                  <a:lnTo>
                    <a:pt x="1815" y="519"/>
                  </a:lnTo>
                  <a:lnTo>
                    <a:pt x="1809" y="525"/>
                  </a:lnTo>
                  <a:lnTo>
                    <a:pt x="1803" y="531"/>
                  </a:lnTo>
                  <a:lnTo>
                    <a:pt x="1796" y="536"/>
                  </a:lnTo>
                  <a:lnTo>
                    <a:pt x="1788" y="541"/>
                  </a:lnTo>
                  <a:lnTo>
                    <a:pt x="1780" y="545"/>
                  </a:lnTo>
                  <a:lnTo>
                    <a:pt x="1772" y="548"/>
                  </a:lnTo>
                  <a:lnTo>
                    <a:pt x="1763" y="550"/>
                  </a:lnTo>
                  <a:lnTo>
                    <a:pt x="1753" y="551"/>
                  </a:lnTo>
                  <a:lnTo>
                    <a:pt x="1744" y="552"/>
                  </a:lnTo>
                  <a:lnTo>
                    <a:pt x="1194" y="552"/>
                  </a:lnTo>
                  <a:lnTo>
                    <a:pt x="1184" y="551"/>
                  </a:lnTo>
                  <a:lnTo>
                    <a:pt x="1175" y="550"/>
                  </a:lnTo>
                  <a:lnTo>
                    <a:pt x="1166" y="548"/>
                  </a:lnTo>
                  <a:lnTo>
                    <a:pt x="1158" y="545"/>
                  </a:lnTo>
                  <a:lnTo>
                    <a:pt x="1150" y="541"/>
                  </a:lnTo>
                  <a:lnTo>
                    <a:pt x="1142" y="536"/>
                  </a:lnTo>
                  <a:lnTo>
                    <a:pt x="1135" y="531"/>
                  </a:lnTo>
                  <a:lnTo>
                    <a:pt x="1129" y="525"/>
                  </a:lnTo>
                  <a:lnTo>
                    <a:pt x="1123" y="519"/>
                  </a:lnTo>
                  <a:lnTo>
                    <a:pt x="1117" y="512"/>
                  </a:lnTo>
                  <a:lnTo>
                    <a:pt x="1112" y="504"/>
                  </a:lnTo>
                  <a:lnTo>
                    <a:pt x="1108" y="495"/>
                  </a:lnTo>
                  <a:lnTo>
                    <a:pt x="1105" y="487"/>
                  </a:lnTo>
                  <a:lnTo>
                    <a:pt x="1103" y="478"/>
                  </a:lnTo>
                  <a:lnTo>
                    <a:pt x="1102" y="469"/>
                  </a:lnTo>
                  <a:lnTo>
                    <a:pt x="1101" y="460"/>
                  </a:lnTo>
                  <a:lnTo>
                    <a:pt x="1102" y="451"/>
                  </a:lnTo>
                  <a:lnTo>
                    <a:pt x="1103" y="442"/>
                  </a:lnTo>
                  <a:lnTo>
                    <a:pt x="1105" y="433"/>
                  </a:lnTo>
                  <a:lnTo>
                    <a:pt x="1108" y="424"/>
                  </a:lnTo>
                  <a:lnTo>
                    <a:pt x="1112" y="416"/>
                  </a:lnTo>
                  <a:lnTo>
                    <a:pt x="1117" y="408"/>
                  </a:lnTo>
                  <a:lnTo>
                    <a:pt x="1123" y="401"/>
                  </a:lnTo>
                  <a:lnTo>
                    <a:pt x="1129" y="395"/>
                  </a:lnTo>
                  <a:lnTo>
                    <a:pt x="1135" y="389"/>
                  </a:lnTo>
                  <a:lnTo>
                    <a:pt x="1142" y="384"/>
                  </a:lnTo>
                  <a:lnTo>
                    <a:pt x="1150" y="379"/>
                  </a:lnTo>
                  <a:lnTo>
                    <a:pt x="1158" y="376"/>
                  </a:lnTo>
                  <a:lnTo>
                    <a:pt x="1166" y="373"/>
                  </a:lnTo>
                  <a:lnTo>
                    <a:pt x="1175" y="370"/>
                  </a:lnTo>
                  <a:lnTo>
                    <a:pt x="1184" y="369"/>
                  </a:lnTo>
                  <a:lnTo>
                    <a:pt x="1194" y="369"/>
                  </a:lnTo>
                  <a:close/>
                  <a:moveTo>
                    <a:pt x="1468" y="5328"/>
                  </a:moveTo>
                  <a:lnTo>
                    <a:pt x="1468" y="5328"/>
                  </a:lnTo>
                  <a:lnTo>
                    <a:pt x="1454" y="5328"/>
                  </a:lnTo>
                  <a:lnTo>
                    <a:pt x="1441" y="5327"/>
                  </a:lnTo>
                  <a:lnTo>
                    <a:pt x="1427" y="5325"/>
                  </a:lnTo>
                  <a:lnTo>
                    <a:pt x="1414" y="5322"/>
                  </a:lnTo>
                  <a:lnTo>
                    <a:pt x="1399" y="5319"/>
                  </a:lnTo>
                  <a:lnTo>
                    <a:pt x="1387" y="5316"/>
                  </a:lnTo>
                  <a:lnTo>
                    <a:pt x="1374" y="5312"/>
                  </a:lnTo>
                  <a:lnTo>
                    <a:pt x="1362" y="5307"/>
                  </a:lnTo>
                  <a:lnTo>
                    <a:pt x="1350" y="5300"/>
                  </a:lnTo>
                  <a:lnTo>
                    <a:pt x="1338" y="5294"/>
                  </a:lnTo>
                  <a:lnTo>
                    <a:pt x="1325" y="5288"/>
                  </a:lnTo>
                  <a:lnTo>
                    <a:pt x="1314" y="5281"/>
                  </a:lnTo>
                  <a:lnTo>
                    <a:pt x="1304" y="5273"/>
                  </a:lnTo>
                  <a:lnTo>
                    <a:pt x="1294" y="5265"/>
                  </a:lnTo>
                  <a:lnTo>
                    <a:pt x="1284" y="5257"/>
                  </a:lnTo>
                  <a:lnTo>
                    <a:pt x="1274" y="5248"/>
                  </a:lnTo>
                  <a:lnTo>
                    <a:pt x="1265" y="5238"/>
                  </a:lnTo>
                  <a:lnTo>
                    <a:pt x="1256" y="5227"/>
                  </a:lnTo>
                  <a:lnTo>
                    <a:pt x="1248" y="5217"/>
                  </a:lnTo>
                  <a:lnTo>
                    <a:pt x="1240" y="5206"/>
                  </a:lnTo>
                  <a:lnTo>
                    <a:pt x="1233" y="5195"/>
                  </a:lnTo>
                  <a:lnTo>
                    <a:pt x="1227" y="5184"/>
                  </a:lnTo>
                  <a:lnTo>
                    <a:pt x="1221" y="5172"/>
                  </a:lnTo>
                  <a:lnTo>
                    <a:pt x="1215" y="5159"/>
                  </a:lnTo>
                  <a:lnTo>
                    <a:pt x="1210" y="5147"/>
                  </a:lnTo>
                  <a:lnTo>
                    <a:pt x="1206" y="5134"/>
                  </a:lnTo>
                  <a:lnTo>
                    <a:pt x="1202" y="5121"/>
                  </a:lnTo>
                  <a:lnTo>
                    <a:pt x="1199" y="5108"/>
                  </a:lnTo>
                  <a:lnTo>
                    <a:pt x="1197" y="5095"/>
                  </a:lnTo>
                  <a:lnTo>
                    <a:pt x="1195" y="5080"/>
                  </a:lnTo>
                  <a:lnTo>
                    <a:pt x="1194" y="5066"/>
                  </a:lnTo>
                  <a:lnTo>
                    <a:pt x="1194" y="5052"/>
                  </a:lnTo>
                  <a:lnTo>
                    <a:pt x="1194" y="5038"/>
                  </a:lnTo>
                  <a:lnTo>
                    <a:pt x="1195" y="5025"/>
                  </a:lnTo>
                  <a:lnTo>
                    <a:pt x="1197" y="5010"/>
                  </a:lnTo>
                  <a:lnTo>
                    <a:pt x="1199" y="4997"/>
                  </a:lnTo>
                  <a:lnTo>
                    <a:pt x="1202" y="4983"/>
                  </a:lnTo>
                  <a:lnTo>
                    <a:pt x="1206" y="4970"/>
                  </a:lnTo>
                  <a:lnTo>
                    <a:pt x="1210" y="4958"/>
                  </a:lnTo>
                  <a:lnTo>
                    <a:pt x="1215" y="4945"/>
                  </a:lnTo>
                  <a:lnTo>
                    <a:pt x="1221" y="4932"/>
                  </a:lnTo>
                  <a:lnTo>
                    <a:pt x="1227" y="4921"/>
                  </a:lnTo>
                  <a:lnTo>
                    <a:pt x="1233" y="4909"/>
                  </a:lnTo>
                  <a:lnTo>
                    <a:pt x="1240" y="4898"/>
                  </a:lnTo>
                  <a:lnTo>
                    <a:pt x="1248" y="4888"/>
                  </a:lnTo>
                  <a:lnTo>
                    <a:pt x="1256" y="4876"/>
                  </a:lnTo>
                  <a:lnTo>
                    <a:pt x="1265" y="4867"/>
                  </a:lnTo>
                  <a:lnTo>
                    <a:pt x="1274" y="4857"/>
                  </a:lnTo>
                  <a:lnTo>
                    <a:pt x="1284" y="4848"/>
                  </a:lnTo>
                  <a:lnTo>
                    <a:pt x="1294" y="4840"/>
                  </a:lnTo>
                  <a:lnTo>
                    <a:pt x="1304" y="4832"/>
                  </a:lnTo>
                  <a:lnTo>
                    <a:pt x="1314" y="4824"/>
                  </a:lnTo>
                  <a:lnTo>
                    <a:pt x="1325" y="4817"/>
                  </a:lnTo>
                  <a:lnTo>
                    <a:pt x="1338" y="4810"/>
                  </a:lnTo>
                  <a:lnTo>
                    <a:pt x="1350" y="4803"/>
                  </a:lnTo>
                  <a:lnTo>
                    <a:pt x="1362" y="4798"/>
                  </a:lnTo>
                  <a:lnTo>
                    <a:pt x="1374" y="4793"/>
                  </a:lnTo>
                  <a:lnTo>
                    <a:pt x="1387" y="4789"/>
                  </a:lnTo>
                  <a:lnTo>
                    <a:pt x="1399" y="4785"/>
                  </a:lnTo>
                  <a:lnTo>
                    <a:pt x="1414" y="4782"/>
                  </a:lnTo>
                  <a:lnTo>
                    <a:pt x="1427" y="4780"/>
                  </a:lnTo>
                  <a:lnTo>
                    <a:pt x="1441" y="4778"/>
                  </a:lnTo>
                  <a:lnTo>
                    <a:pt x="1454" y="4777"/>
                  </a:lnTo>
                  <a:lnTo>
                    <a:pt x="1468" y="4777"/>
                  </a:lnTo>
                  <a:lnTo>
                    <a:pt x="1483" y="4777"/>
                  </a:lnTo>
                  <a:lnTo>
                    <a:pt x="1497" y="4778"/>
                  </a:lnTo>
                  <a:lnTo>
                    <a:pt x="1511" y="4780"/>
                  </a:lnTo>
                  <a:lnTo>
                    <a:pt x="1524" y="4782"/>
                  </a:lnTo>
                  <a:lnTo>
                    <a:pt x="1537" y="4785"/>
                  </a:lnTo>
                  <a:lnTo>
                    <a:pt x="1551" y="4789"/>
                  </a:lnTo>
                  <a:lnTo>
                    <a:pt x="1564" y="4793"/>
                  </a:lnTo>
                  <a:lnTo>
                    <a:pt x="1576" y="4798"/>
                  </a:lnTo>
                  <a:lnTo>
                    <a:pt x="1588" y="4803"/>
                  </a:lnTo>
                  <a:lnTo>
                    <a:pt x="1600" y="4810"/>
                  </a:lnTo>
                  <a:lnTo>
                    <a:pt x="1611" y="4817"/>
                  </a:lnTo>
                  <a:lnTo>
                    <a:pt x="1623" y="4824"/>
                  </a:lnTo>
                  <a:lnTo>
                    <a:pt x="1634" y="4832"/>
                  </a:lnTo>
                  <a:lnTo>
                    <a:pt x="1644" y="4840"/>
                  </a:lnTo>
                  <a:lnTo>
                    <a:pt x="1654" y="4848"/>
                  </a:lnTo>
                  <a:lnTo>
                    <a:pt x="1664" y="4857"/>
                  </a:lnTo>
                  <a:lnTo>
                    <a:pt x="1673" y="4867"/>
                  </a:lnTo>
                  <a:lnTo>
                    <a:pt x="1681" y="4876"/>
                  </a:lnTo>
                  <a:lnTo>
                    <a:pt x="1690" y="4888"/>
                  </a:lnTo>
                  <a:lnTo>
                    <a:pt x="1698" y="4898"/>
                  </a:lnTo>
                  <a:lnTo>
                    <a:pt x="1705" y="4909"/>
                  </a:lnTo>
                  <a:lnTo>
                    <a:pt x="1711" y="4921"/>
                  </a:lnTo>
                  <a:lnTo>
                    <a:pt x="1717" y="4932"/>
                  </a:lnTo>
                  <a:lnTo>
                    <a:pt x="1723" y="4945"/>
                  </a:lnTo>
                  <a:lnTo>
                    <a:pt x="1728" y="4958"/>
                  </a:lnTo>
                  <a:lnTo>
                    <a:pt x="1732" y="4970"/>
                  </a:lnTo>
                  <a:lnTo>
                    <a:pt x="1736" y="4983"/>
                  </a:lnTo>
                  <a:lnTo>
                    <a:pt x="1739" y="4997"/>
                  </a:lnTo>
                  <a:lnTo>
                    <a:pt x="1741" y="5010"/>
                  </a:lnTo>
                  <a:lnTo>
                    <a:pt x="1743" y="5025"/>
                  </a:lnTo>
                  <a:lnTo>
                    <a:pt x="1744" y="5038"/>
                  </a:lnTo>
                  <a:lnTo>
                    <a:pt x="1744" y="5052"/>
                  </a:lnTo>
                  <a:lnTo>
                    <a:pt x="1744" y="5066"/>
                  </a:lnTo>
                  <a:lnTo>
                    <a:pt x="1743" y="5080"/>
                  </a:lnTo>
                  <a:lnTo>
                    <a:pt x="1741" y="5095"/>
                  </a:lnTo>
                  <a:lnTo>
                    <a:pt x="1739" y="5108"/>
                  </a:lnTo>
                  <a:lnTo>
                    <a:pt x="1736" y="5121"/>
                  </a:lnTo>
                  <a:lnTo>
                    <a:pt x="1732" y="5134"/>
                  </a:lnTo>
                  <a:lnTo>
                    <a:pt x="1728" y="5147"/>
                  </a:lnTo>
                  <a:lnTo>
                    <a:pt x="1723" y="5159"/>
                  </a:lnTo>
                  <a:lnTo>
                    <a:pt x="1717" y="5172"/>
                  </a:lnTo>
                  <a:lnTo>
                    <a:pt x="1711" y="5184"/>
                  </a:lnTo>
                  <a:lnTo>
                    <a:pt x="1705" y="5195"/>
                  </a:lnTo>
                  <a:lnTo>
                    <a:pt x="1698" y="5206"/>
                  </a:lnTo>
                  <a:lnTo>
                    <a:pt x="1690" y="5217"/>
                  </a:lnTo>
                  <a:lnTo>
                    <a:pt x="1681" y="5227"/>
                  </a:lnTo>
                  <a:lnTo>
                    <a:pt x="1673" y="5238"/>
                  </a:lnTo>
                  <a:lnTo>
                    <a:pt x="1664" y="5248"/>
                  </a:lnTo>
                  <a:lnTo>
                    <a:pt x="1654" y="5257"/>
                  </a:lnTo>
                  <a:lnTo>
                    <a:pt x="1644" y="5265"/>
                  </a:lnTo>
                  <a:lnTo>
                    <a:pt x="1634" y="5273"/>
                  </a:lnTo>
                  <a:lnTo>
                    <a:pt x="1623" y="5281"/>
                  </a:lnTo>
                  <a:lnTo>
                    <a:pt x="1611" y="5288"/>
                  </a:lnTo>
                  <a:lnTo>
                    <a:pt x="1600" y="5294"/>
                  </a:lnTo>
                  <a:lnTo>
                    <a:pt x="1588" y="5300"/>
                  </a:lnTo>
                  <a:lnTo>
                    <a:pt x="1576" y="5307"/>
                  </a:lnTo>
                  <a:lnTo>
                    <a:pt x="1564" y="5312"/>
                  </a:lnTo>
                  <a:lnTo>
                    <a:pt x="1551" y="5316"/>
                  </a:lnTo>
                  <a:lnTo>
                    <a:pt x="1537" y="5319"/>
                  </a:lnTo>
                  <a:lnTo>
                    <a:pt x="1524" y="5322"/>
                  </a:lnTo>
                  <a:lnTo>
                    <a:pt x="1511" y="5325"/>
                  </a:lnTo>
                  <a:lnTo>
                    <a:pt x="1497" y="5327"/>
                  </a:lnTo>
                  <a:lnTo>
                    <a:pt x="1483" y="5328"/>
                  </a:lnTo>
                  <a:lnTo>
                    <a:pt x="1468" y="5328"/>
                  </a:lnTo>
                  <a:close/>
                  <a:moveTo>
                    <a:pt x="2755" y="4593"/>
                  </a:moveTo>
                  <a:lnTo>
                    <a:pt x="183" y="4593"/>
                  </a:lnTo>
                  <a:lnTo>
                    <a:pt x="183" y="919"/>
                  </a:lnTo>
                  <a:lnTo>
                    <a:pt x="2755" y="919"/>
                  </a:lnTo>
                  <a:lnTo>
                    <a:pt x="2755" y="4593"/>
                  </a:lnTo>
                  <a:close/>
                </a:path>
              </a:pathLst>
            </a:cu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20" name="文本框 104"/>
          <p:cNvSpPr/>
          <p:nvPr/>
        </p:nvSpPr>
        <p:spPr>
          <a:xfrm>
            <a:off x="1671480" y="2657520"/>
            <a:ext cx="3795840" cy="12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一）措辞要严谨准确</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审计报告旨在客观公正地表达审计意见和审计结论，编写审计报告时，措辞 必须严谨准确</a:t>
            </a:r>
            <a:endParaRPr b="1" lang="en-US" sz="2000" spc="-1" strike="noStrike">
              <a:solidFill>
                <a:srgbClr val="000000"/>
              </a:solidFill>
              <a:latin typeface="Arial"/>
            </a:endParaRPr>
          </a:p>
        </p:txBody>
      </p:sp>
      <p:sp>
        <p:nvSpPr>
          <p:cNvPr id="2321" name="文本框 106"/>
          <p:cNvSpPr/>
          <p:nvPr/>
        </p:nvSpPr>
        <p:spPr>
          <a:xfrm>
            <a:off x="1461960" y="4292640"/>
            <a:ext cx="4077000" cy="30081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二）证据要确凿充分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ea typeface="宋体"/>
              </a:rPr>
              <a:t>审计报告向使用者传递信息，提供其决策的依据。因此，审计报告所列的事 实必须证据确凿充分。为此审计报告一定要从实际出发，凭事实说话，切不可泛 泛而谈，言之无物，更不可虚构材料。</a:t>
            </a:r>
            <a:endParaRPr b="1" lang="en-US" sz="2000" spc="-1" strike="noStrike">
              <a:solidFill>
                <a:srgbClr val="000000"/>
              </a:solidFill>
              <a:latin typeface="Arial"/>
            </a:endParaRPr>
          </a:p>
        </p:txBody>
      </p:sp>
      <p:sp>
        <p:nvSpPr>
          <p:cNvPr id="2322" name="文本框 108"/>
          <p:cNvSpPr/>
          <p:nvPr/>
        </p:nvSpPr>
        <p:spPr>
          <a:xfrm>
            <a:off x="7130880" y="2703600"/>
            <a:ext cx="5061240" cy="26416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三）责任界定要分明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审计人员应当按照审计准则的要求，通过实施适当的审计程序和审计方法， 收集到必要的审计证据，从而判断被审计单位会计报表的编制是否符合</a:t>
            </a:r>
            <a:r>
              <a:rPr b="1" lang="en-US" sz="2000" spc="-1" strike="noStrike">
                <a:solidFill>
                  <a:srgbClr val="000000"/>
                </a:solidFill>
                <a:latin typeface="Arial"/>
              </a:rPr>
              <a:t>《</a:t>
            </a:r>
            <a:r>
              <a:rPr b="1" lang="zh-CN" sz="2000" spc="-1" strike="noStrike">
                <a:solidFill>
                  <a:srgbClr val="000000"/>
                </a:solidFill>
                <a:latin typeface="Arial"/>
                <a:ea typeface="宋体"/>
              </a:rPr>
              <a:t>企业会 计准则</a:t>
            </a:r>
            <a:r>
              <a:rPr b="1" lang="en-US" sz="2000" spc="-1" strike="noStrike">
                <a:solidFill>
                  <a:srgbClr val="000000"/>
                </a:solidFill>
                <a:latin typeface="Arial"/>
              </a:rPr>
              <a:t>》</a:t>
            </a:r>
            <a:r>
              <a:rPr b="1" lang="zh-CN" sz="2000" spc="-1" strike="noStrike">
                <a:solidFill>
                  <a:srgbClr val="000000"/>
                </a:solidFill>
                <a:latin typeface="Arial"/>
                <a:ea typeface="宋体"/>
              </a:rPr>
              <a:t>的要求，是否公允地反映被审计单位的财务状况、经营成果和资金变动 情况，并把自己判定的结论在审计报告中恰当地表述出来。</a:t>
            </a:r>
            <a:endParaRPr b="1" lang="en-US" sz="2000" spc="-1" strike="noStrike">
              <a:solidFill>
                <a:srgbClr val="000000"/>
              </a:solidFill>
              <a:latin typeface="Arial"/>
            </a:endParaRPr>
          </a:p>
        </p:txBody>
      </p:sp>
      <p:sp>
        <p:nvSpPr>
          <p:cNvPr id="2323" name="文本框 110"/>
          <p:cNvSpPr/>
          <p:nvPr/>
        </p:nvSpPr>
        <p:spPr>
          <a:xfrm>
            <a:off x="6953400" y="5564160"/>
            <a:ext cx="4975200" cy="138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Arial"/>
                <a:ea typeface="宋体"/>
              </a:rPr>
              <a:t>（四）内容要全面完整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审计报告是使用者了解企业真实财务信息的重要资料，注册会计师还须对出 具的审计报告承担相应的法律责任</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pic>
        <p:nvPicPr>
          <p:cNvPr id="2324" name="文本框 31" descr=""/>
          <p:cNvPicPr/>
          <p:nvPr/>
        </p:nvPicPr>
        <p:blipFill>
          <a:blip r:embed="rId5"/>
          <a:stretch/>
        </p:blipFill>
        <p:spPr>
          <a:xfrm>
            <a:off x="2617920" y="54000"/>
            <a:ext cx="6895800" cy="650880"/>
          </a:xfrm>
          <a:prstGeom prst="rect">
            <a:avLst/>
          </a:prstGeom>
          <a:ln w="0">
            <a:noFill/>
          </a:ln>
        </p:spPr>
      </p:pic>
      <p:sp>
        <p:nvSpPr>
          <p:cNvPr id="2325" name="矩形 1"/>
          <p:cNvSpPr/>
          <p:nvPr/>
        </p:nvSpPr>
        <p:spPr>
          <a:xfrm>
            <a:off x="3575160" y="824040"/>
            <a:ext cx="481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一、审计报告的编写要求</a:t>
            </a:r>
            <a:endParaRPr b="1" lang="en-US" sz="32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dur="indefinite" nodeType="afterEffect" fill="hold" presetClass="entr" presetID="10">
                                  <p:stCondLst>
                                    <p:cond delay="0"/>
                                  </p:stCondLst>
                                  <p:childTnLst>
                                    <p:set>
                                      <p:cBhvr>
                                        <p:cTn id="403" dur="500" fill="hold">
                                          <p:stCondLst>
                                            <p:cond delay="0"/>
                                          </p:stCondLst>
                                        </p:cTn>
                                        <p:tgtEl>
                                          <p:spTgt spid="2320"/>
                                        </p:tgtEl>
                                        <p:attrNameLst>
                                          <p:attrName>style.visibility</p:attrName>
                                        </p:attrNameLst>
                                      </p:cBhvr>
                                      <p:to>
                                        <p:strVal val="visible"/>
                                      </p:to>
                                    </p:set>
                                    <p:animEffect filter="fade" transition="in">
                                      <p:cBhvr additive="repl">
                                        <p:cTn id="404" dur="500"/>
                                        <p:tgtEl>
                                          <p:spTgt spid="2320"/>
                                        </p:tgtEl>
                                      </p:cBhvr>
                                    </p:animEffect>
                                  </p:childTnLst>
                                </p:cTn>
                              </p:par>
                            </p:childTnLst>
                          </p:cTn>
                        </p:par>
                        <p:par>
                          <p:cTn id="405" fill="hold">
                            <p:stCondLst>
                              <p:cond delay="500"/>
                            </p:stCondLst>
                            <p:childTnLst>
                              <p:par>
                                <p:cTn id="406" dur="indefinite" nodeType="afterEffect" fill="hold" presetClass="entr" presetID="10">
                                  <p:stCondLst>
                                    <p:cond delay="0"/>
                                  </p:stCondLst>
                                  <p:childTnLst>
                                    <p:set>
                                      <p:cBhvr>
                                        <p:cTn id="407" dur="500" fill="hold">
                                          <p:stCondLst>
                                            <p:cond delay="0"/>
                                          </p:stCondLst>
                                        </p:cTn>
                                        <p:tgtEl>
                                          <p:spTgt spid="2321"/>
                                        </p:tgtEl>
                                        <p:attrNameLst>
                                          <p:attrName>style.visibility</p:attrName>
                                        </p:attrNameLst>
                                      </p:cBhvr>
                                      <p:to>
                                        <p:strVal val="visible"/>
                                      </p:to>
                                    </p:set>
                                    <p:animEffect filter="fade" transition="in">
                                      <p:cBhvr additive="repl">
                                        <p:cTn id="408" dur="500"/>
                                        <p:tgtEl>
                                          <p:spTgt spid="2321"/>
                                        </p:tgtEl>
                                      </p:cBhvr>
                                    </p:animEffect>
                                  </p:childTnLst>
                                </p:cTn>
                              </p:par>
                            </p:childTnLst>
                          </p:cTn>
                        </p:par>
                        <p:par>
                          <p:cTn id="409" fill="hold">
                            <p:stCondLst>
                              <p:cond delay="1000"/>
                            </p:stCondLst>
                            <p:childTnLst>
                              <p:par>
                                <p:cTn id="410" dur="indefinite" nodeType="afterEffect" fill="hold" presetClass="entr" presetID="10">
                                  <p:stCondLst>
                                    <p:cond delay="0"/>
                                  </p:stCondLst>
                                  <p:childTnLst>
                                    <p:set>
                                      <p:cBhvr>
                                        <p:cTn id="411" dur="500" fill="hold">
                                          <p:stCondLst>
                                            <p:cond delay="0"/>
                                          </p:stCondLst>
                                        </p:cTn>
                                        <p:tgtEl>
                                          <p:spTgt spid="2322"/>
                                        </p:tgtEl>
                                        <p:attrNameLst>
                                          <p:attrName>style.visibility</p:attrName>
                                        </p:attrNameLst>
                                      </p:cBhvr>
                                      <p:to>
                                        <p:strVal val="visible"/>
                                      </p:to>
                                    </p:set>
                                    <p:animEffect filter="fade" transition="in">
                                      <p:cBhvr additive="repl">
                                        <p:cTn id="412" dur="500"/>
                                        <p:tgtEl>
                                          <p:spTgt spid="2322"/>
                                        </p:tgtEl>
                                      </p:cBhvr>
                                    </p:animEffect>
                                  </p:childTnLst>
                                </p:cTn>
                              </p:par>
                            </p:childTnLst>
                          </p:cTn>
                        </p:par>
                        <p:par>
                          <p:cTn id="413" fill="hold">
                            <p:stCondLst>
                              <p:cond delay="1500"/>
                            </p:stCondLst>
                            <p:childTnLst>
                              <p:par>
                                <p:cTn id="414" dur="indefinite" nodeType="afterEffect" fill="hold" presetClass="entr" presetID="10">
                                  <p:stCondLst>
                                    <p:cond delay="0"/>
                                  </p:stCondLst>
                                  <p:childTnLst>
                                    <p:set>
                                      <p:cBhvr>
                                        <p:cTn id="415" dur="500" fill="hold">
                                          <p:stCondLst>
                                            <p:cond delay="0"/>
                                          </p:stCondLst>
                                        </p:cTn>
                                        <p:tgtEl>
                                          <p:spTgt spid="2323"/>
                                        </p:tgtEl>
                                        <p:attrNameLst>
                                          <p:attrName>style.visibility</p:attrName>
                                        </p:attrNameLst>
                                      </p:cBhvr>
                                      <p:to>
                                        <p:strVal val="visible"/>
                                      </p:to>
                                    </p:set>
                                    <p:animEffect filter="fade" transition="in">
                                      <p:cBhvr additive="repl">
                                        <p:cTn id="416" dur="500"/>
                                        <p:tgtEl>
                                          <p:spTgt spid="2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3" name="组合 78"/>
          <p:cNvGrpSpPr/>
          <p:nvPr/>
        </p:nvGrpSpPr>
        <p:grpSpPr>
          <a:xfrm>
            <a:off x="3575160" y="2070000"/>
            <a:ext cx="8035920" cy="595080"/>
            <a:chOff x="3575160" y="2070000"/>
            <a:chExt cx="8035920" cy="595080"/>
          </a:xfrm>
        </p:grpSpPr>
        <p:sp>
          <p:nvSpPr>
            <p:cNvPr id="1814" name="矩形 51"/>
            <p:cNvSpPr/>
            <p:nvPr/>
          </p:nvSpPr>
          <p:spPr>
            <a:xfrm>
              <a:off x="4352760" y="20836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815" name="圆角矩形 55"/>
            <p:cNvSpPr/>
            <p:nvPr/>
          </p:nvSpPr>
          <p:spPr>
            <a:xfrm>
              <a:off x="3575160" y="215568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816" name="矩形 34"/>
            <p:cNvSpPr/>
            <p:nvPr/>
          </p:nvSpPr>
          <p:spPr>
            <a:xfrm>
              <a:off x="8371080" y="20700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1817" name="圆角矩形 35"/>
            <p:cNvSpPr/>
            <p:nvPr/>
          </p:nvSpPr>
          <p:spPr>
            <a:xfrm>
              <a:off x="7593120" y="21398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818" name="组合 71"/>
          <p:cNvGrpSpPr/>
          <p:nvPr/>
        </p:nvGrpSpPr>
        <p:grpSpPr>
          <a:xfrm>
            <a:off x="3575160" y="2809800"/>
            <a:ext cx="8123040" cy="595080"/>
            <a:chOff x="3575160" y="2809800"/>
            <a:chExt cx="8123040" cy="595080"/>
          </a:xfrm>
        </p:grpSpPr>
        <p:sp>
          <p:nvSpPr>
            <p:cNvPr id="1819" name="矩形 57"/>
            <p:cNvSpPr/>
            <p:nvPr/>
          </p:nvSpPr>
          <p:spPr>
            <a:xfrm>
              <a:off x="4360680" y="28234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业务的承接</a:t>
              </a:r>
              <a:endParaRPr b="1" lang="en-US" sz="2400" spc="-1" strike="noStrike">
                <a:solidFill>
                  <a:srgbClr val="000000"/>
                </a:solidFill>
                <a:latin typeface="Arial"/>
              </a:endParaRPr>
            </a:p>
          </p:txBody>
        </p:sp>
        <p:sp>
          <p:nvSpPr>
            <p:cNvPr id="1820" name="圆角矩形 74"/>
            <p:cNvSpPr/>
            <p:nvPr/>
          </p:nvSpPr>
          <p:spPr>
            <a:xfrm>
              <a:off x="3575160" y="28954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3</a:t>
              </a:r>
              <a:endParaRPr b="1" lang="en-US" sz="2400" spc="-1" strike="noStrike">
                <a:solidFill>
                  <a:srgbClr val="000000"/>
                </a:solidFill>
                <a:latin typeface="Arial"/>
              </a:endParaRPr>
            </a:p>
          </p:txBody>
        </p:sp>
        <p:sp>
          <p:nvSpPr>
            <p:cNvPr id="1821" name="矩形 37"/>
            <p:cNvSpPr/>
            <p:nvPr/>
          </p:nvSpPr>
          <p:spPr>
            <a:xfrm>
              <a:off x="8423640" y="28098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筹资与投资循环审计</a:t>
              </a:r>
              <a:endParaRPr b="1" lang="en-US" sz="2400" spc="-1" strike="noStrike">
                <a:solidFill>
                  <a:srgbClr val="000000"/>
                </a:solidFill>
                <a:latin typeface="Arial"/>
              </a:endParaRPr>
            </a:p>
          </p:txBody>
        </p:sp>
        <p:sp>
          <p:nvSpPr>
            <p:cNvPr id="1822" name="圆角矩形 38"/>
            <p:cNvSpPr/>
            <p:nvPr/>
          </p:nvSpPr>
          <p:spPr>
            <a:xfrm>
              <a:off x="7637400" y="287964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8</a:t>
              </a:r>
              <a:endParaRPr b="1" lang="en-US" sz="2400" spc="-1" strike="noStrike">
                <a:solidFill>
                  <a:srgbClr val="000000"/>
                </a:solidFill>
                <a:latin typeface="Arial"/>
              </a:endParaRPr>
            </a:p>
          </p:txBody>
        </p:sp>
      </p:grpSp>
      <p:grpSp>
        <p:nvGrpSpPr>
          <p:cNvPr id="1823" name="组合 72"/>
          <p:cNvGrpSpPr/>
          <p:nvPr/>
        </p:nvGrpSpPr>
        <p:grpSpPr>
          <a:xfrm>
            <a:off x="3575160" y="3549600"/>
            <a:ext cx="8122680" cy="595080"/>
            <a:chOff x="3575160" y="3549600"/>
            <a:chExt cx="8122680" cy="595080"/>
          </a:xfrm>
        </p:grpSpPr>
        <p:sp>
          <p:nvSpPr>
            <p:cNvPr id="1824" name="矩形 76"/>
            <p:cNvSpPr/>
            <p:nvPr/>
          </p:nvSpPr>
          <p:spPr>
            <a:xfrm>
              <a:off x="4440600" y="3563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1825" name="圆角矩形 100"/>
            <p:cNvSpPr/>
            <p:nvPr/>
          </p:nvSpPr>
          <p:spPr>
            <a:xfrm>
              <a:off x="3575160" y="3635280"/>
              <a:ext cx="58284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826" name="矩形 40"/>
            <p:cNvSpPr/>
            <p:nvPr/>
          </p:nvSpPr>
          <p:spPr>
            <a:xfrm>
              <a:off x="8458200" y="3549600"/>
              <a:ext cx="323964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货币资金审计</a:t>
              </a:r>
              <a:endParaRPr b="1" lang="en-US" sz="2400" spc="-1" strike="noStrike">
                <a:solidFill>
                  <a:srgbClr val="000000"/>
                </a:solidFill>
                <a:latin typeface="Arial"/>
              </a:endParaRPr>
            </a:p>
          </p:txBody>
        </p:sp>
        <p:sp>
          <p:nvSpPr>
            <p:cNvPr id="1827" name="圆角矩形 41"/>
            <p:cNvSpPr/>
            <p:nvPr/>
          </p:nvSpPr>
          <p:spPr>
            <a:xfrm>
              <a:off x="7680600" y="36194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828" name="组合 69"/>
          <p:cNvGrpSpPr/>
          <p:nvPr/>
        </p:nvGrpSpPr>
        <p:grpSpPr>
          <a:xfrm>
            <a:off x="3575160" y="1338120"/>
            <a:ext cx="8035560" cy="595080"/>
            <a:chOff x="3575160" y="1338120"/>
            <a:chExt cx="8035560" cy="595080"/>
          </a:xfrm>
        </p:grpSpPr>
        <p:sp>
          <p:nvSpPr>
            <p:cNvPr id="1829" name="矩形 27"/>
            <p:cNvSpPr/>
            <p:nvPr/>
          </p:nvSpPr>
          <p:spPr>
            <a:xfrm>
              <a:off x="4352760" y="13518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总论</a:t>
              </a:r>
              <a:endParaRPr b="1" lang="en-US" sz="2400" spc="-1" strike="noStrike">
                <a:solidFill>
                  <a:srgbClr val="000000"/>
                </a:solidFill>
                <a:latin typeface="Arial"/>
              </a:endParaRPr>
            </a:p>
          </p:txBody>
        </p:sp>
        <p:sp>
          <p:nvSpPr>
            <p:cNvPr id="1830" name="圆角矩形 28"/>
            <p:cNvSpPr/>
            <p:nvPr/>
          </p:nvSpPr>
          <p:spPr>
            <a:xfrm>
              <a:off x="3575160" y="1407960"/>
              <a:ext cx="576360" cy="484200"/>
            </a:xfrm>
            <a:prstGeom prst="roundRect">
              <a:avLst>
                <a:gd name="adj" fmla="val 16667"/>
              </a:avLst>
            </a:prstGeom>
            <a:solidFill>
              <a:srgbClr val="aeed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1831" name="矩形 43"/>
            <p:cNvSpPr/>
            <p:nvPr/>
          </p:nvSpPr>
          <p:spPr>
            <a:xfrm>
              <a:off x="8370720" y="133812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1832" name="圆角矩形 44"/>
            <p:cNvSpPr/>
            <p:nvPr/>
          </p:nvSpPr>
          <p:spPr>
            <a:xfrm>
              <a:off x="7593120" y="140796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1833" name="组合 73"/>
          <p:cNvGrpSpPr/>
          <p:nvPr/>
        </p:nvGrpSpPr>
        <p:grpSpPr>
          <a:xfrm>
            <a:off x="3575160" y="4289400"/>
            <a:ext cx="8123040" cy="595080"/>
            <a:chOff x="3575160" y="4289400"/>
            <a:chExt cx="8123040" cy="595080"/>
          </a:xfrm>
        </p:grpSpPr>
        <p:sp>
          <p:nvSpPr>
            <p:cNvPr id="1834" name="矩形 29"/>
            <p:cNvSpPr/>
            <p:nvPr/>
          </p:nvSpPr>
          <p:spPr>
            <a:xfrm>
              <a:off x="4360680" y="43030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835" name="圆角矩形 30"/>
            <p:cNvSpPr/>
            <p:nvPr/>
          </p:nvSpPr>
          <p:spPr>
            <a:xfrm>
              <a:off x="3575160" y="43750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836" name="矩形 45"/>
            <p:cNvSpPr/>
            <p:nvPr/>
          </p:nvSpPr>
          <p:spPr>
            <a:xfrm>
              <a:off x="8423640" y="42894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审计报告的编制</a:t>
              </a:r>
              <a:endParaRPr b="1" lang="en-US" sz="2400" spc="-1" strike="noStrike">
                <a:solidFill>
                  <a:srgbClr val="000000"/>
                </a:solidFill>
                <a:latin typeface="Arial"/>
              </a:endParaRPr>
            </a:p>
          </p:txBody>
        </p:sp>
        <p:sp>
          <p:nvSpPr>
            <p:cNvPr id="1837" name="圆角矩形 46"/>
            <p:cNvSpPr/>
            <p:nvPr/>
          </p:nvSpPr>
          <p:spPr>
            <a:xfrm>
              <a:off x="7637400" y="4359240"/>
              <a:ext cx="619200" cy="468360"/>
            </a:xfrm>
            <a:prstGeom prst="roundRect">
              <a:avLst>
                <a:gd name="adj" fmla="val 16667"/>
              </a:avLst>
            </a:prstGeom>
            <a:solidFill>
              <a:srgbClr val="8e10d4"/>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0</a:t>
              </a:r>
              <a:endParaRPr b="1" lang="en-US" sz="2400" spc="-1" strike="noStrike">
                <a:solidFill>
                  <a:srgbClr val="000000"/>
                </a:solidFill>
                <a:latin typeface="Arial"/>
              </a:endParaRPr>
            </a:p>
          </p:txBody>
        </p:sp>
      </p:grpSp>
      <p:grpSp>
        <p:nvGrpSpPr>
          <p:cNvPr id="1838" name="组合 64"/>
          <p:cNvGrpSpPr/>
          <p:nvPr/>
        </p:nvGrpSpPr>
        <p:grpSpPr>
          <a:xfrm>
            <a:off x="407880" y="2301840"/>
            <a:ext cx="2382840" cy="1785960"/>
            <a:chOff x="407880" y="2301840"/>
            <a:chExt cx="2382840" cy="1785960"/>
          </a:xfrm>
        </p:grpSpPr>
        <p:sp>
          <p:nvSpPr>
            <p:cNvPr id="1839" name="Freeform 6"/>
            <p:cNvSpPr/>
            <p:nvPr/>
          </p:nvSpPr>
          <p:spPr>
            <a:xfrm>
              <a:off x="407880" y="2301840"/>
              <a:ext cx="238284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0" name="文本框 62"/>
            <p:cNvSpPr/>
            <p:nvPr/>
          </p:nvSpPr>
          <p:spPr>
            <a:xfrm>
              <a:off x="582480" y="2625120"/>
              <a:ext cx="203544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841" name="Freeform 11"/>
            <p:cNvSpPr/>
            <p:nvPr/>
          </p:nvSpPr>
          <p:spPr>
            <a:xfrm>
              <a:off x="539640" y="2462040"/>
              <a:ext cx="212616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828"/>
                                        </p:tgtEl>
                                        <p:attrNameLst>
                                          <p:attrName>style.visibility</p:attrName>
                                        </p:attrNameLst>
                                      </p:cBhvr>
                                      <p:to>
                                        <p:strVal val="visible"/>
                                      </p:to>
                                    </p:set>
                                    <p:anim calcmode="lin" valueType="num">
                                      <p:cBhvr additive="repl">
                                        <p:cTn id="16" dur="500"/>
                                        <p:tgtEl>
                                          <p:spTgt spid="1828"/>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828"/>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813"/>
                                        </p:tgtEl>
                                        <p:attrNameLst>
                                          <p:attrName>style.visibility</p:attrName>
                                        </p:attrNameLst>
                                      </p:cBhvr>
                                      <p:to>
                                        <p:strVal val="visible"/>
                                      </p:to>
                                    </p:set>
                                    <p:anim calcmode="lin" valueType="num">
                                      <p:cBhvr additive="repl">
                                        <p:cTn id="21" dur="500"/>
                                        <p:tgtEl>
                                          <p:spTgt spid="1813"/>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813"/>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818"/>
                                        </p:tgtEl>
                                        <p:attrNameLst>
                                          <p:attrName>style.visibility</p:attrName>
                                        </p:attrNameLst>
                                      </p:cBhvr>
                                      <p:to>
                                        <p:strVal val="visible"/>
                                      </p:to>
                                    </p:set>
                                    <p:anim calcmode="lin" valueType="num">
                                      <p:cBhvr additive="repl">
                                        <p:cTn id="26" dur="500"/>
                                        <p:tgtEl>
                                          <p:spTgt spid="1818"/>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818"/>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823"/>
                                        </p:tgtEl>
                                        <p:attrNameLst>
                                          <p:attrName>style.visibility</p:attrName>
                                        </p:attrNameLst>
                                      </p:cBhvr>
                                      <p:to>
                                        <p:strVal val="visible"/>
                                      </p:to>
                                    </p:set>
                                    <p:anim calcmode="lin" valueType="num">
                                      <p:cBhvr additive="repl">
                                        <p:cTn id="31" dur="500"/>
                                        <p:tgtEl>
                                          <p:spTgt spid="1823"/>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823"/>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833"/>
                                        </p:tgtEl>
                                        <p:attrNameLst>
                                          <p:attrName>style.visibility</p:attrName>
                                        </p:attrNameLst>
                                      </p:cBhvr>
                                      <p:to>
                                        <p:strVal val="visible"/>
                                      </p:to>
                                    </p:set>
                                    <p:anim calcmode="lin" valueType="num">
                                      <p:cBhvr additive="repl">
                                        <p:cTn id="36" dur="500"/>
                                        <p:tgtEl>
                                          <p:spTgt spid="1833"/>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文本框 14"/>
          <p:cNvSpPr/>
          <p:nvPr/>
        </p:nvSpPr>
        <p:spPr>
          <a:xfrm>
            <a:off x="1511280" y="779400"/>
            <a:ext cx="8856720" cy="755280"/>
          </a:xfrm>
          <a:prstGeom prst="rect">
            <a:avLst/>
          </a:prstGeom>
          <a:noFill/>
          <a:ln w="0">
            <a:noFill/>
          </a:ln>
        </p:spPr>
        <p:style>
          <a:lnRef idx="0"/>
          <a:fillRef idx="0"/>
          <a:effectRef idx="0"/>
          <a:fontRef idx="minor"/>
        </p:style>
        <p:txBody>
          <a:bodyPr lIns="71640" rIns="71640" tIns="36360" bIns="3636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二、审计报告的要素</a:t>
            </a:r>
            <a:endParaRPr b="1" lang="en-US" sz="3200" spc="-1" strike="noStrike">
              <a:solidFill>
                <a:srgbClr val="000000"/>
              </a:solidFill>
              <a:latin typeface="Arial"/>
            </a:endParaRPr>
          </a:p>
        </p:txBody>
      </p:sp>
      <p:pic>
        <p:nvPicPr>
          <p:cNvPr id="2327" name="组合 2" descr=""/>
          <p:cNvPicPr/>
          <p:nvPr/>
        </p:nvPicPr>
        <p:blipFill>
          <a:blip r:embed="rId1"/>
          <a:stretch/>
        </p:blipFill>
        <p:spPr>
          <a:xfrm>
            <a:off x="939960" y="3608280"/>
            <a:ext cx="896760" cy="889200"/>
          </a:xfrm>
          <a:prstGeom prst="rect">
            <a:avLst/>
          </a:prstGeom>
          <a:ln w="0">
            <a:noFill/>
          </a:ln>
        </p:spPr>
      </p:pic>
      <p:grpSp>
        <p:nvGrpSpPr>
          <p:cNvPr id="2328" name="组合 4"/>
          <p:cNvGrpSpPr/>
          <p:nvPr/>
        </p:nvGrpSpPr>
        <p:grpSpPr>
          <a:xfrm>
            <a:off x="1836720" y="2708280"/>
            <a:ext cx="9805680" cy="2759040"/>
            <a:chOff x="1836720" y="2708280"/>
            <a:chExt cx="9805680" cy="2759040"/>
          </a:xfrm>
        </p:grpSpPr>
        <p:sp>
          <p:nvSpPr>
            <p:cNvPr id="2329" name="Google Shape;1645;p48"/>
            <p:cNvSpPr/>
            <p:nvPr/>
          </p:nvSpPr>
          <p:spPr>
            <a:xfrm flipH="1" rot="10800000">
              <a:off x="8744040" y="4019040"/>
              <a:ext cx="13874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0" name="Google Shape;1648;p48"/>
            <p:cNvSpPr/>
            <p:nvPr/>
          </p:nvSpPr>
          <p:spPr>
            <a:xfrm>
              <a:off x="1836720" y="347976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1" name="Google Shape;1654;p48"/>
            <p:cNvSpPr/>
            <p:nvPr/>
          </p:nvSpPr>
          <p:spPr>
            <a:xfrm>
              <a:off x="4599000" y="347976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2" name="Google Shape;1660;p48"/>
            <p:cNvSpPr/>
            <p:nvPr/>
          </p:nvSpPr>
          <p:spPr>
            <a:xfrm>
              <a:off x="7363080" y="3479760"/>
              <a:ext cx="138420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3" name="Google Shape;1666;p48"/>
            <p:cNvSpPr/>
            <p:nvPr/>
          </p:nvSpPr>
          <p:spPr>
            <a:xfrm flipH="1" rot="10800000">
              <a:off x="3216240" y="401904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4" name="Google Shape;1672;p48"/>
            <p:cNvSpPr/>
            <p:nvPr/>
          </p:nvSpPr>
          <p:spPr>
            <a:xfrm flipH="1" rot="10800000">
              <a:off x="5978520" y="4019040"/>
              <a:ext cx="138564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35" name="文本框 20"/>
            <p:cNvSpPr/>
            <p:nvPr/>
          </p:nvSpPr>
          <p:spPr>
            <a:xfrm>
              <a:off x="2082600" y="2708280"/>
              <a:ext cx="1834920" cy="46980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一）标题</a:t>
              </a:r>
              <a:endParaRPr b="1" lang="en-US" sz="2400" spc="-1" strike="noStrike">
                <a:solidFill>
                  <a:srgbClr val="000000"/>
                </a:solidFill>
                <a:latin typeface="Arial"/>
              </a:endParaRPr>
            </a:p>
          </p:txBody>
        </p:sp>
        <p:sp>
          <p:nvSpPr>
            <p:cNvPr id="2336" name="文本框 1"/>
            <p:cNvSpPr/>
            <p:nvPr/>
          </p:nvSpPr>
          <p:spPr>
            <a:xfrm>
              <a:off x="3327480" y="4718160"/>
              <a:ext cx="2049480" cy="469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二）收件人</a:t>
              </a:r>
              <a:endParaRPr b="1" lang="en-US" sz="2400" spc="-1" strike="noStrike">
                <a:solidFill>
                  <a:srgbClr val="000000"/>
                </a:solidFill>
                <a:latin typeface="Arial"/>
              </a:endParaRPr>
            </a:p>
          </p:txBody>
        </p:sp>
        <p:sp>
          <p:nvSpPr>
            <p:cNvPr id="2337" name="文本框 3"/>
            <p:cNvSpPr/>
            <p:nvPr/>
          </p:nvSpPr>
          <p:spPr>
            <a:xfrm>
              <a:off x="5807160" y="4718160"/>
              <a:ext cx="2263680" cy="469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四）形成审计意见的基础</a:t>
              </a:r>
              <a:endParaRPr b="1" lang="en-US" sz="2400" spc="-1" strike="noStrike">
                <a:solidFill>
                  <a:srgbClr val="000000"/>
                </a:solidFill>
                <a:latin typeface="Arial"/>
              </a:endParaRPr>
            </a:p>
          </p:txBody>
        </p:sp>
        <p:sp>
          <p:nvSpPr>
            <p:cNvPr id="2338" name="文本框 5"/>
            <p:cNvSpPr/>
            <p:nvPr/>
          </p:nvSpPr>
          <p:spPr>
            <a:xfrm>
              <a:off x="8616960" y="4718160"/>
              <a:ext cx="3025440" cy="7491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六）注册会计师对财务报表审计的责任</a:t>
              </a:r>
              <a:endParaRPr b="1" lang="en-US" sz="2400" spc="-1" strike="noStrike">
                <a:solidFill>
                  <a:srgbClr val="000000"/>
                </a:solidFill>
                <a:latin typeface="Arial"/>
              </a:endParaRPr>
            </a:p>
          </p:txBody>
        </p:sp>
        <p:sp>
          <p:nvSpPr>
            <p:cNvPr id="2339" name="文本框 24"/>
            <p:cNvSpPr/>
            <p:nvPr/>
          </p:nvSpPr>
          <p:spPr>
            <a:xfrm>
              <a:off x="4224240" y="2839680"/>
              <a:ext cx="3023640" cy="33804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三）审计意见</a:t>
              </a:r>
              <a:endParaRPr b="1" lang="en-US" sz="2400" spc="-1" strike="noStrike">
                <a:solidFill>
                  <a:srgbClr val="000000"/>
                </a:solidFill>
                <a:latin typeface="Arial"/>
              </a:endParaRPr>
            </a:p>
          </p:txBody>
        </p:sp>
        <p:sp>
          <p:nvSpPr>
            <p:cNvPr id="2340" name="文本框 7"/>
            <p:cNvSpPr/>
            <p:nvPr/>
          </p:nvSpPr>
          <p:spPr>
            <a:xfrm>
              <a:off x="7669080" y="2839680"/>
              <a:ext cx="3606480" cy="74880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五）管理层对财务报表的责任段</a:t>
              </a:r>
              <a:endParaRPr b="1" lang="en-US" sz="2400" spc="-1" strike="noStrike">
                <a:solidFill>
                  <a:srgbClr val="000000"/>
                </a:solidFill>
                <a:latin typeface="Arial"/>
              </a:endParaRPr>
            </a:p>
          </p:txBody>
        </p:sp>
        <p:sp>
          <p:nvSpPr>
            <p:cNvPr id="2341" name="Google Shape;1645;p48"/>
            <p:cNvSpPr/>
            <p:nvPr/>
          </p:nvSpPr>
          <p:spPr>
            <a:xfrm flipH="1" rot="10800000">
              <a:off x="8745840" y="3993840"/>
              <a:ext cx="138420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42" name="Google Shape;1666;p48"/>
            <p:cNvSpPr/>
            <p:nvPr/>
          </p:nvSpPr>
          <p:spPr>
            <a:xfrm flipH="1" rot="10800000">
              <a:off x="3218040" y="3993840"/>
              <a:ext cx="138420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43" name="Google Shape;1672;p48"/>
            <p:cNvSpPr/>
            <p:nvPr/>
          </p:nvSpPr>
          <p:spPr>
            <a:xfrm flipH="1" rot="10800000">
              <a:off x="5980680" y="3993840"/>
              <a:ext cx="138420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grpSp>
        <p:nvGrpSpPr>
          <p:cNvPr id="2344" name="组合 28"/>
          <p:cNvGrpSpPr/>
          <p:nvPr/>
        </p:nvGrpSpPr>
        <p:grpSpPr>
          <a:xfrm>
            <a:off x="915840" y="476280"/>
            <a:ext cx="10360080" cy="0"/>
            <a:chOff x="915840" y="476280"/>
            <a:chExt cx="10360080" cy="0"/>
          </a:xfrm>
        </p:grpSpPr>
        <p:sp>
          <p:nvSpPr>
            <p:cNvPr id="2345" name="直接连接符 52"/>
            <p:cNvSpPr/>
            <p:nvPr/>
          </p:nvSpPr>
          <p:spPr>
            <a:xfrm>
              <a:off x="915840" y="476280"/>
              <a:ext cx="1537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46" name="直接连接符 64"/>
            <p:cNvSpPr/>
            <p:nvPr/>
          </p:nvSpPr>
          <p:spPr>
            <a:xfrm>
              <a:off x="9983880" y="476280"/>
              <a:ext cx="129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2347" name="文本框 31" descr=""/>
          <p:cNvPicPr/>
          <p:nvPr/>
        </p:nvPicPr>
        <p:blipFill>
          <a:blip r:embed="rId2"/>
          <a:stretch/>
        </p:blipFill>
        <p:spPr>
          <a:xfrm>
            <a:off x="2657520" y="104760"/>
            <a:ext cx="6896160" cy="652320"/>
          </a:xfrm>
          <a:prstGeom prst="rect">
            <a:avLst/>
          </a:prstGeom>
          <a:ln w="0">
            <a:noFill/>
          </a:ln>
        </p:spPr>
      </p:pic>
      <p:sp>
        <p:nvSpPr>
          <p:cNvPr id="2348" name="文本框 25"/>
          <p:cNvSpPr/>
          <p:nvPr/>
        </p:nvSpPr>
        <p:spPr>
          <a:xfrm>
            <a:off x="1068480" y="1577880"/>
            <a:ext cx="9551880" cy="670320"/>
          </a:xfrm>
          <a:prstGeom prst="rect">
            <a:avLst/>
          </a:prstGeom>
          <a:noFill/>
          <a:ln w="0">
            <a:noFill/>
          </a:ln>
        </p:spPr>
        <p:style>
          <a:lnRef idx="0"/>
          <a:fillRef idx="0"/>
          <a:effectRef idx="0"/>
          <a:fontRef idx="minor"/>
        </p:style>
        <p:txBody>
          <a:bodyPr lIns="71640" rIns="71640" tIns="36360" bIns="3636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审计人员出具的审计报告主要包括以下要素：</a:t>
            </a:r>
            <a:endParaRPr b="1" lang="en-US" sz="28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9" name="组合 2" descr=""/>
          <p:cNvPicPr/>
          <p:nvPr/>
        </p:nvPicPr>
        <p:blipFill>
          <a:blip r:embed="rId1"/>
          <a:stretch/>
        </p:blipFill>
        <p:spPr>
          <a:xfrm>
            <a:off x="939960" y="3608280"/>
            <a:ext cx="896760" cy="889200"/>
          </a:xfrm>
          <a:prstGeom prst="rect">
            <a:avLst/>
          </a:prstGeom>
          <a:ln w="0">
            <a:noFill/>
          </a:ln>
        </p:spPr>
      </p:pic>
      <p:grpSp>
        <p:nvGrpSpPr>
          <p:cNvPr id="2350" name="组合 4"/>
          <p:cNvGrpSpPr/>
          <p:nvPr/>
        </p:nvGrpSpPr>
        <p:grpSpPr>
          <a:xfrm>
            <a:off x="1703520" y="2755800"/>
            <a:ext cx="8496000" cy="2352240"/>
            <a:chOff x="1703520" y="2755800"/>
            <a:chExt cx="8496000" cy="2352240"/>
          </a:xfrm>
        </p:grpSpPr>
        <p:sp>
          <p:nvSpPr>
            <p:cNvPr id="2351" name="Google Shape;1648;p48"/>
            <p:cNvSpPr/>
            <p:nvPr/>
          </p:nvSpPr>
          <p:spPr>
            <a:xfrm>
              <a:off x="2005200" y="34002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2" name="Google Shape;1649;p48"/>
            <p:cNvSpPr/>
            <p:nvPr/>
          </p:nvSpPr>
          <p:spPr>
            <a:xfrm>
              <a:off x="2465280" y="3657600"/>
              <a:ext cx="912960" cy="247320"/>
            </a:xfrm>
            <a:prstGeom prst="rect">
              <a:avLst/>
            </a:prstGeom>
            <a:noFill/>
            <a:ln w="0">
              <a:noFill/>
            </a:ln>
          </p:spPr>
          <p:style>
            <a:lnRef idx="0"/>
            <a:fillRef idx="0"/>
            <a:effectRef idx="0"/>
            <a:fontRef idx="minor"/>
          </p:style>
          <p:txBody>
            <a:bodyPr lIns="19080" rIns="19080" tIns="19080" bIns="19080" anchor="ctr">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3" name="Google Shape;1654;p48"/>
            <p:cNvSpPr/>
            <p:nvPr/>
          </p:nvSpPr>
          <p:spPr>
            <a:xfrm>
              <a:off x="5636880" y="33408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4" name="Google Shape;1666;p48"/>
            <p:cNvSpPr/>
            <p:nvPr/>
          </p:nvSpPr>
          <p:spPr>
            <a:xfrm flipH="1" rot="10800000">
              <a:off x="3818520" y="39402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5" name="Google Shape;1672;p48"/>
            <p:cNvSpPr/>
            <p:nvPr/>
          </p:nvSpPr>
          <p:spPr>
            <a:xfrm flipH="1" rot="10800000">
              <a:off x="7450560" y="3940200"/>
              <a:ext cx="18219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6" name="Google Shape;1673;p48"/>
            <p:cNvSpPr/>
            <p:nvPr/>
          </p:nvSpPr>
          <p:spPr>
            <a:xfrm>
              <a:off x="7920000" y="4039920"/>
              <a:ext cx="887400" cy="249120"/>
            </a:xfrm>
            <a:prstGeom prst="rect">
              <a:avLst/>
            </a:prstGeom>
            <a:noFill/>
            <a:ln w="0">
              <a:noFill/>
            </a:ln>
          </p:spPr>
          <p:style>
            <a:lnRef idx="0"/>
            <a:fillRef idx="0"/>
            <a:effectRef idx="0"/>
            <a:fontRef idx="minor"/>
          </p:style>
          <p:txBody>
            <a:bodyPr lIns="19080" rIns="19080" tIns="19080" bIns="19080" anchor="ctr">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57" name="文本框 20"/>
            <p:cNvSpPr/>
            <p:nvPr/>
          </p:nvSpPr>
          <p:spPr>
            <a:xfrm>
              <a:off x="1703520" y="2936520"/>
              <a:ext cx="3029040" cy="46944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七）注册会计师</a:t>
              </a:r>
              <a:endParaRPr b="1" lang="en-US" sz="2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的签名和盖章</a:t>
              </a:r>
              <a:endParaRPr b="1" lang="en-US" sz="2400" spc="-1" strike="noStrike">
                <a:solidFill>
                  <a:srgbClr val="000000"/>
                </a:solidFill>
                <a:latin typeface="Arial"/>
              </a:endParaRPr>
            </a:p>
          </p:txBody>
        </p:sp>
        <p:sp>
          <p:nvSpPr>
            <p:cNvPr id="2358" name="文本框 1"/>
            <p:cNvSpPr/>
            <p:nvPr/>
          </p:nvSpPr>
          <p:spPr>
            <a:xfrm>
              <a:off x="3503160" y="4638600"/>
              <a:ext cx="3672360" cy="3841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八）会计师事务所</a:t>
              </a:r>
              <a:endParaRPr b="1" lang="en-US" sz="2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的名称、地址及盖章</a:t>
              </a:r>
              <a:endParaRPr b="1" lang="en-US" sz="2400" spc="-1" strike="noStrike">
                <a:solidFill>
                  <a:srgbClr val="000000"/>
                </a:solidFill>
                <a:latin typeface="Arial"/>
              </a:endParaRPr>
            </a:p>
          </p:txBody>
        </p:sp>
        <p:sp>
          <p:nvSpPr>
            <p:cNvPr id="2359" name="文本框 3"/>
            <p:cNvSpPr/>
            <p:nvPr/>
          </p:nvSpPr>
          <p:spPr>
            <a:xfrm>
              <a:off x="7790400" y="4638600"/>
              <a:ext cx="2409120" cy="4694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十）附件</a:t>
              </a:r>
              <a:endParaRPr b="1" lang="en-US" sz="2400" spc="-1" strike="noStrike">
                <a:solidFill>
                  <a:srgbClr val="000000"/>
                </a:solidFill>
                <a:latin typeface="Arial"/>
              </a:endParaRPr>
            </a:p>
          </p:txBody>
        </p:sp>
        <p:sp>
          <p:nvSpPr>
            <p:cNvPr id="2360" name="文本框 24"/>
            <p:cNvSpPr/>
            <p:nvPr/>
          </p:nvSpPr>
          <p:spPr>
            <a:xfrm>
              <a:off x="5621040" y="2755800"/>
              <a:ext cx="2857680" cy="32220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九）报告日期</a:t>
              </a:r>
              <a:endParaRPr b="1" lang="en-US" sz="2400" spc="-1" strike="noStrike">
                <a:solidFill>
                  <a:srgbClr val="000000"/>
                </a:solidFill>
                <a:latin typeface="Arial"/>
              </a:endParaRPr>
            </a:p>
          </p:txBody>
        </p:sp>
        <p:sp>
          <p:nvSpPr>
            <p:cNvPr id="2361" name="Google Shape;1666;p48"/>
            <p:cNvSpPr/>
            <p:nvPr/>
          </p:nvSpPr>
          <p:spPr>
            <a:xfrm flipH="1" rot="10800000">
              <a:off x="3819960" y="3914640"/>
              <a:ext cx="182052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362" name="Google Shape;1672;p48"/>
            <p:cNvSpPr/>
            <p:nvPr/>
          </p:nvSpPr>
          <p:spPr>
            <a:xfrm flipH="1" rot="10800000">
              <a:off x="7452360" y="3914640"/>
              <a:ext cx="182052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grpSp>
        <p:nvGrpSpPr>
          <p:cNvPr id="2363" name="组合 28"/>
          <p:cNvGrpSpPr/>
          <p:nvPr/>
        </p:nvGrpSpPr>
        <p:grpSpPr>
          <a:xfrm>
            <a:off x="915840" y="549360"/>
            <a:ext cx="10359720" cy="0"/>
            <a:chOff x="915840" y="549360"/>
            <a:chExt cx="10359720" cy="0"/>
          </a:xfrm>
        </p:grpSpPr>
        <p:sp>
          <p:nvSpPr>
            <p:cNvPr id="2364" name="直接连接符 52"/>
            <p:cNvSpPr/>
            <p:nvPr/>
          </p:nvSpPr>
          <p:spPr>
            <a:xfrm>
              <a:off x="91584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5" name="直接连接符 64"/>
            <p:cNvSpPr/>
            <p:nvPr/>
          </p:nvSpPr>
          <p:spPr>
            <a:xfrm>
              <a:off x="929592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2366" name="文本框 31" descr=""/>
          <p:cNvPicPr/>
          <p:nvPr/>
        </p:nvPicPr>
        <p:blipFill>
          <a:blip r:embed="rId2"/>
          <a:stretch/>
        </p:blipFill>
        <p:spPr>
          <a:xfrm>
            <a:off x="2741760" y="235080"/>
            <a:ext cx="6895800" cy="652320"/>
          </a:xfrm>
          <a:prstGeom prst="rect">
            <a:avLst/>
          </a:prstGeom>
          <a:ln w="0">
            <a:noFill/>
          </a:ln>
        </p:spPr>
      </p:pic>
      <p:sp>
        <p:nvSpPr>
          <p:cNvPr id="2367" name="文本框 35"/>
          <p:cNvSpPr/>
          <p:nvPr/>
        </p:nvSpPr>
        <p:spPr>
          <a:xfrm>
            <a:off x="1589040" y="839880"/>
            <a:ext cx="8693280" cy="1564560"/>
          </a:xfrm>
          <a:prstGeom prst="rect">
            <a:avLst/>
          </a:prstGeom>
          <a:noFill/>
          <a:ln w="0">
            <a:noFill/>
          </a:ln>
        </p:spPr>
        <p:style>
          <a:lnRef idx="0"/>
          <a:fillRef idx="0"/>
          <a:effectRef idx="0"/>
          <a:fontRef idx="minor"/>
        </p:style>
        <p:txBody>
          <a:bodyPr lIns="71640" rIns="71640" tIns="36360" bIns="3636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二、审计报告的要素</a:t>
            </a:r>
            <a:endParaRPr b="1" lang="en-US" sz="32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1" lang="en-US" sz="3200" spc="-1" strike="noStrike">
              <a:solidFill>
                <a:srgbClr val="000000"/>
              </a:solidFill>
              <a:latin typeface="Arial"/>
            </a:endParaRPr>
          </a:p>
        </p:txBody>
      </p:sp>
      <p:sp>
        <p:nvSpPr>
          <p:cNvPr id="2368" name="矩形 4"/>
          <p:cNvSpPr/>
          <p:nvPr/>
        </p:nvSpPr>
        <p:spPr>
          <a:xfrm>
            <a:off x="552600" y="1617840"/>
            <a:ext cx="10167840" cy="825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审计人员出具的审计报告主要包括以下要素：</a:t>
            </a:r>
            <a:endParaRPr b="1" lang="en-US" sz="2800" spc="-1" strike="noStrike">
              <a:solidFill>
                <a:srgbClr val="000000"/>
              </a:solidFill>
              <a:latin typeface="Arial"/>
            </a:endParaRPr>
          </a:p>
        </p:txBody>
      </p:sp>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Title 6"/>
          <p:cNvSpPr/>
          <p:nvPr/>
        </p:nvSpPr>
        <p:spPr>
          <a:xfrm>
            <a:off x="1166760" y="806400"/>
            <a:ext cx="8232840" cy="804240"/>
          </a:xfrm>
          <a:prstGeom prst="rect">
            <a:avLst/>
          </a:prstGeom>
          <a:noFill/>
          <a:ln w="0">
            <a:noFill/>
          </a:ln>
        </p:spPr>
        <p:style>
          <a:lnRef idx="0"/>
          <a:fillRef idx="0"/>
          <a:effectRef idx="0"/>
          <a:fontRef idx="minor"/>
        </p:style>
        <p:txBody>
          <a:bodyPr lIns="72000" rIns="72000" tIns="36360" bIns="36360" anchor="t">
            <a:spAutoFit/>
          </a:bodyPr>
          <a:p>
            <a:pPr algn="ctr">
              <a:lnSpc>
                <a:spcPct val="15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三、审计报告的类型</a:t>
            </a:r>
            <a:endParaRPr b="1" lang="en-US" sz="3200" spc="-1" strike="noStrike">
              <a:solidFill>
                <a:srgbClr val="000000"/>
              </a:solidFill>
              <a:latin typeface="Arial"/>
            </a:endParaRPr>
          </a:p>
        </p:txBody>
      </p:sp>
      <p:grpSp>
        <p:nvGrpSpPr>
          <p:cNvPr id="2370" name="组合 91"/>
          <p:cNvGrpSpPr/>
          <p:nvPr/>
        </p:nvGrpSpPr>
        <p:grpSpPr>
          <a:xfrm>
            <a:off x="927000" y="549360"/>
            <a:ext cx="10360080" cy="0"/>
            <a:chOff x="927000" y="549360"/>
            <a:chExt cx="10360080" cy="0"/>
          </a:xfrm>
        </p:grpSpPr>
        <p:sp>
          <p:nvSpPr>
            <p:cNvPr id="2371" name="直接连接符 92"/>
            <p:cNvSpPr/>
            <p:nvPr/>
          </p:nvSpPr>
          <p:spPr>
            <a:xfrm>
              <a:off x="92700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72" name="直接连接符 93"/>
            <p:cNvSpPr/>
            <p:nvPr/>
          </p:nvSpPr>
          <p:spPr>
            <a:xfrm>
              <a:off x="930780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373" name="矩形 21"/>
          <p:cNvSpPr/>
          <p:nvPr/>
        </p:nvSpPr>
        <p:spPr>
          <a:xfrm>
            <a:off x="6027840" y="4414680"/>
            <a:ext cx="46080" cy="1908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74" name="组合 5"/>
          <p:cNvGrpSpPr/>
          <p:nvPr/>
        </p:nvGrpSpPr>
        <p:grpSpPr>
          <a:xfrm>
            <a:off x="1038240" y="3475080"/>
            <a:ext cx="4479840" cy="3292200"/>
            <a:chOff x="1038240" y="3475080"/>
            <a:chExt cx="4479840" cy="3292200"/>
          </a:xfrm>
        </p:grpSpPr>
        <p:sp>
          <p:nvSpPr>
            <p:cNvPr id="2375" name="同侧圆角矩形 4"/>
            <p:cNvSpPr/>
            <p:nvPr/>
          </p:nvSpPr>
          <p:spPr>
            <a:xfrm rot="5400000">
              <a:off x="3069000" y="2342160"/>
              <a:ext cx="709560" cy="3335400"/>
            </a:xfrm>
            <a:custGeom>
              <a:avLst/>
              <a:gdLst/>
              <a:ahLst/>
              <a:rect l="l" t="t" r="r" b="b"/>
              <a:pathLst>
                <a:path w="1141" h="3060">
                  <a:moveTo>
                    <a:pt x="570" y="0"/>
                  </a:moveTo>
                  <a:lnTo>
                    <a:pt x="570" y="0"/>
                  </a:lnTo>
                  <a:cubicBezTo>
                    <a:pt x="885" y="0"/>
                    <a:pt x="1140" y="255"/>
                    <a:pt x="1140" y="570"/>
                  </a:cubicBezTo>
                  <a:lnTo>
                    <a:pt x="1141" y="3060"/>
                  </a:lnTo>
                  <a:lnTo>
                    <a:pt x="1141" y="3060"/>
                  </a:lnTo>
                  <a:lnTo>
                    <a:pt x="0" y="3060"/>
                  </a:lnTo>
                  <a:lnTo>
                    <a:pt x="0" y="3060"/>
                  </a:lnTo>
                  <a:lnTo>
                    <a:pt x="0" y="570"/>
                  </a:lnTo>
                  <a:cubicBezTo>
                    <a:pt x="0" y="255"/>
                    <a:pt x="255" y="0"/>
                    <a:pt x="570"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6" name="椭圆 6"/>
            <p:cNvSpPr/>
            <p:nvPr/>
          </p:nvSpPr>
          <p:spPr>
            <a:xfrm>
              <a:off x="1069560" y="3584520"/>
              <a:ext cx="935280" cy="842400"/>
            </a:xfrm>
            <a:prstGeom prst="ellipse">
              <a:avLst/>
            </a:prstGeom>
            <a:solidFill>
              <a:srgbClr val="5b9bd4"/>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7" name="矩形 9"/>
            <p:cNvSpPr/>
            <p:nvPr/>
          </p:nvSpPr>
          <p:spPr>
            <a:xfrm>
              <a:off x="2829960" y="3886200"/>
              <a:ext cx="2073240" cy="39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8" name="文本框 22"/>
            <p:cNvSpPr/>
            <p:nvPr/>
          </p:nvSpPr>
          <p:spPr>
            <a:xfrm>
              <a:off x="1892520" y="3475080"/>
              <a:ext cx="3287160" cy="1016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Arial"/>
                  <a:ea typeface="黑体"/>
                </a:rPr>
                <a:t>无保留意见的审计报告</a:t>
              </a:r>
              <a:endParaRPr b="1" lang="en-US" sz="2400" spc="-1" strike="noStrike">
                <a:solidFill>
                  <a:srgbClr val="000000"/>
                </a:solidFill>
                <a:latin typeface="Arial"/>
              </a:endParaRPr>
            </a:p>
          </p:txBody>
        </p:sp>
        <p:sp>
          <p:nvSpPr>
            <p:cNvPr id="2379" name="文本框 24"/>
            <p:cNvSpPr/>
            <p:nvPr/>
          </p:nvSpPr>
          <p:spPr>
            <a:xfrm>
              <a:off x="1038240" y="4483080"/>
              <a:ext cx="4479840" cy="22842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3838"/>
                  </a:solidFill>
                  <a:latin typeface="Arial"/>
                  <a:ea typeface="黑体"/>
                </a:rPr>
                <a:t>如果注册会计师认为，财务报表在所有重大方面按照适用的财务报告编制基 础的规定编制并实现公允反映，应当出具无保留意见的审计报告。 </a:t>
              </a:r>
              <a:endParaRPr b="1" lang="en-US" sz="2400" spc="-1" strike="noStrike">
                <a:solidFill>
                  <a:srgbClr val="000000"/>
                </a:solidFill>
                <a:latin typeface="Arial"/>
              </a:endParaRPr>
            </a:p>
          </p:txBody>
        </p:sp>
      </p:grpSp>
      <p:grpSp>
        <p:nvGrpSpPr>
          <p:cNvPr id="2380" name="组合 7"/>
          <p:cNvGrpSpPr/>
          <p:nvPr/>
        </p:nvGrpSpPr>
        <p:grpSpPr>
          <a:xfrm>
            <a:off x="6095880" y="3384720"/>
            <a:ext cx="4947840" cy="2131920"/>
            <a:chOff x="6095880" y="3384720"/>
            <a:chExt cx="4947840" cy="2131920"/>
          </a:xfrm>
        </p:grpSpPr>
        <p:sp>
          <p:nvSpPr>
            <p:cNvPr id="2381" name="同侧圆角矩形 10"/>
            <p:cNvSpPr/>
            <p:nvPr/>
          </p:nvSpPr>
          <p:spPr>
            <a:xfrm rot="5400000">
              <a:off x="8407080" y="1901520"/>
              <a:ext cx="674640" cy="4091040"/>
            </a:xfrm>
            <a:custGeom>
              <a:avLst/>
              <a:gdLst/>
              <a:ahLst/>
              <a:rect l="l" t="t" r="r" b="b"/>
              <a:pathLst>
                <a:path w="1134" h="3404">
                  <a:moveTo>
                    <a:pt x="536" y="0"/>
                  </a:moveTo>
                  <a:lnTo>
                    <a:pt x="597" y="0"/>
                  </a:lnTo>
                  <a:cubicBezTo>
                    <a:pt x="893" y="0"/>
                    <a:pt x="1133" y="240"/>
                    <a:pt x="1133" y="536"/>
                  </a:cubicBezTo>
                  <a:lnTo>
                    <a:pt x="1134" y="3404"/>
                  </a:lnTo>
                  <a:lnTo>
                    <a:pt x="1134" y="3404"/>
                  </a:lnTo>
                  <a:lnTo>
                    <a:pt x="0" y="3404"/>
                  </a:lnTo>
                  <a:lnTo>
                    <a:pt x="0" y="3404"/>
                  </a:lnTo>
                  <a:lnTo>
                    <a:pt x="0" y="536"/>
                  </a:lnTo>
                  <a:cubicBezTo>
                    <a:pt x="0" y="240"/>
                    <a:pt x="240" y="0"/>
                    <a:pt x="536" y="0"/>
                  </a:cubicBezTo>
                  <a:close/>
                </a:path>
              </a:pathLst>
            </a:custGeom>
            <a:noFill/>
            <a:ln w="38160">
              <a:solidFill>
                <a:srgbClr val="3ea59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2" name="椭圆 13"/>
            <p:cNvSpPr/>
            <p:nvPr/>
          </p:nvSpPr>
          <p:spPr>
            <a:xfrm>
              <a:off x="6095880" y="3479760"/>
              <a:ext cx="916560" cy="903240"/>
            </a:xfrm>
            <a:prstGeom prst="ellipse">
              <a:avLst/>
            </a:prstGeom>
            <a:solidFill>
              <a:srgbClr val="9dc3e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3" name="矩形 15"/>
            <p:cNvSpPr/>
            <p:nvPr/>
          </p:nvSpPr>
          <p:spPr>
            <a:xfrm>
              <a:off x="8436960" y="4083480"/>
              <a:ext cx="228456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4" name="文本框 25"/>
            <p:cNvSpPr/>
            <p:nvPr/>
          </p:nvSpPr>
          <p:spPr>
            <a:xfrm>
              <a:off x="6952680" y="3384720"/>
              <a:ext cx="4091040" cy="1044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Arial"/>
                  <a:ea typeface="黑体"/>
                </a:rPr>
                <a:t>非无保留意见的审计报告</a:t>
              </a:r>
              <a:endParaRPr b="1" lang="en-US" sz="2400" spc="-1" strike="noStrike">
                <a:solidFill>
                  <a:srgbClr val="000000"/>
                </a:solidFill>
                <a:latin typeface="Arial"/>
              </a:endParaRPr>
            </a:p>
          </p:txBody>
        </p:sp>
        <p:sp>
          <p:nvSpPr>
            <p:cNvPr id="2385" name="文本框 26"/>
            <p:cNvSpPr/>
            <p:nvPr/>
          </p:nvSpPr>
          <p:spPr>
            <a:xfrm>
              <a:off x="6816960" y="4415040"/>
              <a:ext cx="4155840" cy="11016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Arial"/>
                  <a:ea typeface="黑体"/>
                </a:rPr>
                <a:t>1.</a:t>
              </a:r>
              <a:r>
                <a:rPr b="1" lang="zh-CN" sz="2400" spc="-1" strike="noStrike">
                  <a:solidFill>
                    <a:srgbClr val="3b3838"/>
                  </a:solidFill>
                  <a:latin typeface="Arial"/>
                  <a:ea typeface="黑体"/>
                </a:rPr>
                <a:t>保留意见的审计报告</a:t>
              </a:r>
              <a:endParaRPr b="1"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Arial"/>
                  <a:ea typeface="黑体"/>
                </a:rPr>
                <a:t>2. </a:t>
              </a:r>
              <a:r>
                <a:rPr b="1" lang="zh-CN" sz="2400" spc="-1" strike="noStrike">
                  <a:solidFill>
                    <a:srgbClr val="3b3838"/>
                  </a:solidFill>
                  <a:latin typeface="Arial"/>
                  <a:ea typeface="黑体"/>
                </a:rPr>
                <a:t>否定意见的审计报告</a:t>
              </a:r>
              <a:endParaRPr b="1"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Arial"/>
                  <a:ea typeface="黑体"/>
                </a:rPr>
                <a:t>3. </a:t>
              </a:r>
              <a:r>
                <a:rPr b="1" lang="zh-CN" sz="2400" spc="-1" strike="noStrike">
                  <a:solidFill>
                    <a:srgbClr val="3b3838"/>
                  </a:solidFill>
                  <a:latin typeface="Arial"/>
                  <a:ea typeface="黑体"/>
                </a:rPr>
                <a:t>无法表示意见的审计报告</a:t>
              </a:r>
              <a:endParaRPr b="1" lang="en-US" sz="2400" spc="-1" strike="noStrike">
                <a:solidFill>
                  <a:srgbClr val="000000"/>
                </a:solidFill>
                <a:latin typeface="Arial"/>
              </a:endParaRPr>
            </a:p>
          </p:txBody>
        </p:sp>
      </p:grpSp>
      <p:sp>
        <p:nvSpPr>
          <p:cNvPr id="2386" name="矩形 45"/>
          <p:cNvSpPr/>
          <p:nvPr/>
        </p:nvSpPr>
        <p:spPr>
          <a:xfrm>
            <a:off x="733320" y="4498920"/>
            <a:ext cx="46080" cy="1908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87" name="文本框 31" descr=""/>
          <p:cNvPicPr/>
          <p:nvPr/>
        </p:nvPicPr>
        <p:blipFill>
          <a:blip r:embed="rId1"/>
          <a:stretch/>
        </p:blipFill>
        <p:spPr>
          <a:xfrm>
            <a:off x="2741760" y="235080"/>
            <a:ext cx="6895800" cy="652320"/>
          </a:xfrm>
          <a:prstGeom prst="rect">
            <a:avLst/>
          </a:prstGeom>
          <a:ln w="0">
            <a:noFill/>
          </a:ln>
        </p:spPr>
      </p:pic>
      <p:sp>
        <p:nvSpPr>
          <p:cNvPr id="2388" name="矩形 1"/>
          <p:cNvSpPr/>
          <p:nvPr/>
        </p:nvSpPr>
        <p:spPr>
          <a:xfrm>
            <a:off x="357120" y="1673280"/>
            <a:ext cx="11017440" cy="459720"/>
          </a:xfrm>
          <a:prstGeom prst="rect">
            <a:avLst/>
          </a:prstGeom>
          <a:noFill/>
          <a:ln w="19080">
            <a:solidFill>
              <a:srgbClr val="8e10d4"/>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Arial"/>
                <a:ea typeface="宋体"/>
              </a:rPr>
              <a:t>注册会计师根据审计结果和被审计单位对有关问题的处理情况，形成不同的 审计意见，出具四种基本类型的审计报告，即无保留意见的审计报告、保留意见 的审计报告、否定意见的审计报告和无法表示意见的审计报告，后三类也称为非 无保留意见的审计报告</a:t>
            </a:r>
            <a:r>
              <a:rPr b="1" lang="zh-CN" sz="2000" spc="-1" strike="noStrike">
                <a:solidFill>
                  <a:srgbClr val="000000"/>
                </a:solidFill>
                <a:latin typeface="Arial"/>
                <a:ea typeface="宋体"/>
              </a:rPr>
              <a:t>。</a:t>
            </a:r>
            <a:endParaRPr b="1" lang="en-US" sz="2000" spc="-1" strike="noStrike">
              <a:solidFill>
                <a:srgbClr val="000000"/>
              </a:solidFill>
              <a:latin typeface="Arial"/>
            </a:endParaRPr>
          </a:p>
        </p:txBody>
      </p:sp>
      <p:sp>
        <p:nvSpPr>
          <p:cNvPr id="2389" name="矩形 2"/>
          <p:cNvSpPr/>
          <p:nvPr/>
        </p:nvSpPr>
        <p:spPr>
          <a:xfrm>
            <a:off x="1139760" y="36259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一）</a:t>
            </a:r>
            <a:endParaRPr b="1" lang="en-US" sz="1800" spc="-1" strike="noStrike">
              <a:solidFill>
                <a:srgbClr val="000000"/>
              </a:solidFill>
              <a:latin typeface="Arial"/>
            </a:endParaRPr>
          </a:p>
        </p:txBody>
      </p:sp>
      <p:sp>
        <p:nvSpPr>
          <p:cNvPr id="2390" name="矩形 3"/>
          <p:cNvSpPr/>
          <p:nvPr/>
        </p:nvSpPr>
        <p:spPr>
          <a:xfrm>
            <a:off x="5865840" y="3713040"/>
            <a:ext cx="106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黑体"/>
              </a:rPr>
              <a:t>（二）</a:t>
            </a:r>
            <a:endParaRPr b="1" lang="en-US" sz="1800" spc="-1" strike="noStrike">
              <a:solidFill>
                <a:srgbClr val="000000"/>
              </a:solidFill>
              <a:latin typeface="Arial"/>
            </a:endParaRPr>
          </a:p>
        </p:txBody>
      </p:sp>
    </p:spTree>
  </p:cSld>
  <p:transition>
    <p:fade/>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dur="indefinite" nodeType="afterEffect" fill="hold" presetClass="entr" presetID="2" presetSubtype="12">
                                  <p:stCondLst>
                                    <p:cond delay="0"/>
                                  </p:stCondLst>
                                  <p:childTnLst>
                                    <p:set>
                                      <p:cBhvr>
                                        <p:cTn id="422" dur="1" fill="hold">
                                          <p:stCondLst>
                                            <p:cond delay="0"/>
                                          </p:stCondLst>
                                        </p:cTn>
                                        <p:tgtEl>
                                          <p:spTgt spid="2380"/>
                                        </p:tgtEl>
                                        <p:attrNameLst>
                                          <p:attrName>style.visibility</p:attrName>
                                        </p:attrNameLst>
                                      </p:cBhvr>
                                      <p:to>
                                        <p:strVal val="visible"/>
                                      </p:to>
                                    </p:set>
                                    <p:anim calcmode="lin" valueType="num">
                                      <p:cBhvr additive="base">
                                        <p:cTn id="423" dur="500" fill="hold"/>
                                        <p:tgtEl>
                                          <p:spTgt spid="2380"/>
                                        </p:tgtEl>
                                        <p:attrNameLst>
                                          <p:attrName>ppt_x</p:attrName>
                                        </p:attrNameLst>
                                      </p:cBhvr>
                                      <p:tavLst>
                                        <p:tav tm="0">
                                          <p:val>
                                            <p:strVal val="0-#ppt_w/2"/>
                                          </p:val>
                                        </p:tav>
                                        <p:tav tm="100000">
                                          <p:val>
                                            <p:strVal val="#ppt_x"/>
                                          </p:val>
                                        </p:tav>
                                      </p:tavLst>
                                    </p:anim>
                                    <p:anim calcmode="lin" valueType="num">
                                      <p:cBhvr additive="base">
                                        <p:cTn id="424" dur="500" fill="hold"/>
                                        <p:tgtEl>
                                          <p:spTgt spid="2380"/>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dur="indefinite" nodeType="afterEffect" fill="hold" presetClass="entr" presetID="2" presetSubtype="12">
                                  <p:stCondLst>
                                    <p:cond delay="0"/>
                                  </p:stCondLst>
                                  <p:childTnLst>
                                    <p:set>
                                      <p:cBhvr>
                                        <p:cTn id="427" dur="1" fill="hold">
                                          <p:stCondLst>
                                            <p:cond delay="0"/>
                                          </p:stCondLst>
                                        </p:cTn>
                                        <p:tgtEl>
                                          <p:spTgt spid="2374"/>
                                        </p:tgtEl>
                                        <p:attrNameLst>
                                          <p:attrName>style.visibility</p:attrName>
                                        </p:attrNameLst>
                                      </p:cBhvr>
                                      <p:to>
                                        <p:strVal val="visible"/>
                                      </p:to>
                                    </p:set>
                                    <p:anim calcmode="lin" valueType="num">
                                      <p:cBhvr additive="base">
                                        <p:cTn id="428" dur="500" fill="hold"/>
                                        <p:tgtEl>
                                          <p:spTgt spid="2374"/>
                                        </p:tgtEl>
                                        <p:attrNameLst>
                                          <p:attrName>ppt_x</p:attrName>
                                        </p:attrNameLst>
                                      </p:cBhvr>
                                      <p:tavLst>
                                        <p:tav tm="0">
                                          <p:val>
                                            <p:strVal val="0-#ppt_w/2"/>
                                          </p:val>
                                        </p:tav>
                                        <p:tav tm="100000">
                                          <p:val>
                                            <p:strVal val="#ppt_x"/>
                                          </p:val>
                                        </p:tav>
                                      </p:tavLst>
                                    </p:anim>
                                    <p:anim calcmode="lin" valueType="num">
                                      <p:cBhvr additive="base">
                                        <p:cTn id="429" dur="500" fill="hold"/>
                                        <p:tgtEl>
                                          <p:spTgt spid="2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1" name="组合 112"/>
          <p:cNvGrpSpPr/>
          <p:nvPr/>
        </p:nvGrpSpPr>
        <p:grpSpPr>
          <a:xfrm>
            <a:off x="1343160" y="1763640"/>
            <a:ext cx="10080000" cy="4752720"/>
            <a:chOff x="1343160" y="1763640"/>
            <a:chExt cx="10080000" cy="4752720"/>
          </a:xfrm>
        </p:grpSpPr>
        <p:sp>
          <p:nvSpPr>
            <p:cNvPr id="2392" name="圆角矩形 113"/>
            <p:cNvSpPr/>
            <p:nvPr/>
          </p:nvSpPr>
          <p:spPr>
            <a:xfrm>
              <a:off x="1481400" y="2011680"/>
              <a:ext cx="9792720" cy="427824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93" name="组合 114"/>
            <p:cNvGrpSpPr/>
            <p:nvPr/>
          </p:nvGrpSpPr>
          <p:grpSpPr>
            <a:xfrm>
              <a:off x="1343160" y="1763640"/>
              <a:ext cx="575640" cy="479520"/>
              <a:chOff x="1343160" y="1763640"/>
              <a:chExt cx="575640" cy="479520"/>
            </a:xfrm>
          </p:grpSpPr>
          <p:sp>
            <p:nvSpPr>
              <p:cNvPr id="2394" name="菱形 115"/>
              <p:cNvSpPr/>
              <p:nvPr/>
            </p:nvSpPr>
            <p:spPr>
              <a:xfrm>
                <a:off x="1343160" y="1763640"/>
                <a:ext cx="336240" cy="479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5" name="菱形 116"/>
              <p:cNvSpPr/>
              <p:nvPr/>
            </p:nvSpPr>
            <p:spPr>
              <a:xfrm>
                <a:off x="1582560" y="1763640"/>
                <a:ext cx="336240" cy="479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96" name="组合 117"/>
            <p:cNvGrpSpPr/>
            <p:nvPr/>
          </p:nvGrpSpPr>
          <p:grpSpPr>
            <a:xfrm>
              <a:off x="1343160" y="6037200"/>
              <a:ext cx="575640" cy="479160"/>
              <a:chOff x="1343160" y="6037200"/>
              <a:chExt cx="575640" cy="479160"/>
            </a:xfrm>
          </p:grpSpPr>
          <p:sp>
            <p:nvSpPr>
              <p:cNvPr id="2397" name="菱形 118"/>
              <p:cNvSpPr/>
              <p:nvPr/>
            </p:nvSpPr>
            <p:spPr>
              <a:xfrm>
                <a:off x="1343160" y="6037200"/>
                <a:ext cx="336240" cy="479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8" name="菱形 119"/>
              <p:cNvSpPr/>
              <p:nvPr/>
            </p:nvSpPr>
            <p:spPr>
              <a:xfrm>
                <a:off x="1582560" y="6037200"/>
                <a:ext cx="336240" cy="479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99" name="组合 120"/>
            <p:cNvGrpSpPr/>
            <p:nvPr/>
          </p:nvGrpSpPr>
          <p:grpSpPr>
            <a:xfrm>
              <a:off x="10836360" y="6037200"/>
              <a:ext cx="586800" cy="479160"/>
              <a:chOff x="10836360" y="6037200"/>
              <a:chExt cx="586800" cy="479160"/>
            </a:xfrm>
          </p:grpSpPr>
          <p:sp>
            <p:nvSpPr>
              <p:cNvPr id="2400" name="菱形 121"/>
              <p:cNvSpPr/>
              <p:nvPr/>
            </p:nvSpPr>
            <p:spPr>
              <a:xfrm flipH="1">
                <a:off x="11077560" y="6037200"/>
                <a:ext cx="345240" cy="4791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1" name="菱形 122"/>
              <p:cNvSpPr/>
              <p:nvPr/>
            </p:nvSpPr>
            <p:spPr>
              <a:xfrm flipH="1">
                <a:off x="10836000" y="6037200"/>
                <a:ext cx="348840" cy="4791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02" name="组合 123"/>
            <p:cNvGrpSpPr/>
            <p:nvPr/>
          </p:nvGrpSpPr>
          <p:grpSpPr>
            <a:xfrm>
              <a:off x="10847520" y="1788480"/>
              <a:ext cx="575640" cy="479520"/>
              <a:chOff x="10847520" y="1788480"/>
              <a:chExt cx="575640" cy="479520"/>
            </a:xfrm>
          </p:grpSpPr>
          <p:sp>
            <p:nvSpPr>
              <p:cNvPr id="2403" name="菱形 124"/>
              <p:cNvSpPr/>
              <p:nvPr/>
            </p:nvSpPr>
            <p:spPr>
              <a:xfrm flipH="1">
                <a:off x="11086920" y="1788480"/>
                <a:ext cx="336240" cy="4795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4" name="菱形 125"/>
              <p:cNvSpPr/>
              <p:nvPr/>
            </p:nvSpPr>
            <p:spPr>
              <a:xfrm flipH="1">
                <a:off x="10847520" y="1788480"/>
                <a:ext cx="336240" cy="4795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405" name="组合 28"/>
          <p:cNvGrpSpPr/>
          <p:nvPr/>
        </p:nvGrpSpPr>
        <p:grpSpPr>
          <a:xfrm>
            <a:off x="846000" y="620640"/>
            <a:ext cx="10359720" cy="0"/>
            <a:chOff x="846000" y="620640"/>
            <a:chExt cx="10359720" cy="0"/>
          </a:xfrm>
        </p:grpSpPr>
        <p:sp>
          <p:nvSpPr>
            <p:cNvPr id="2406" name="直接连接符 52"/>
            <p:cNvSpPr/>
            <p:nvPr/>
          </p:nvSpPr>
          <p:spPr>
            <a:xfrm>
              <a:off x="846000" y="620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07" name="直接连接符 64"/>
            <p:cNvSpPr/>
            <p:nvPr/>
          </p:nvSpPr>
          <p:spPr>
            <a:xfrm>
              <a:off x="9226080" y="620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408" name="文本框 2"/>
          <p:cNvSpPr/>
          <p:nvPr/>
        </p:nvSpPr>
        <p:spPr>
          <a:xfrm>
            <a:off x="4367160" y="1087560"/>
            <a:ext cx="41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四、审计报告的出具 </a:t>
            </a:r>
            <a:endParaRPr b="1" lang="en-US" sz="3200" spc="-1" strike="noStrike">
              <a:solidFill>
                <a:srgbClr val="000000"/>
              </a:solidFill>
              <a:latin typeface="Arial"/>
            </a:endParaRPr>
          </a:p>
        </p:txBody>
      </p:sp>
      <p:sp>
        <p:nvSpPr>
          <p:cNvPr id="2409" name="矩形 1"/>
          <p:cNvSpPr/>
          <p:nvPr/>
        </p:nvSpPr>
        <p:spPr>
          <a:xfrm>
            <a:off x="1582560" y="2262240"/>
            <a:ext cx="9264960" cy="321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完成审计报告的编制之后，在正式出具审计报告之前，注册会计师须取得相关各方的复核与批准。具体内容及格式如表 </a:t>
            </a:r>
            <a:r>
              <a:rPr b="0" lang="en-US" sz="2400" spc="-1" strike="noStrike">
                <a:solidFill>
                  <a:srgbClr val="262626"/>
                </a:solidFill>
                <a:latin typeface="Arial"/>
                <a:ea typeface="微软雅黑"/>
              </a:rPr>
              <a:t>10-8 </a:t>
            </a:r>
            <a:r>
              <a:rPr b="0" lang="zh-CN" sz="2400" spc="-1" strike="noStrike">
                <a:solidFill>
                  <a:srgbClr val="262626"/>
                </a:solidFill>
                <a:latin typeface="Arial"/>
                <a:ea typeface="微软雅黑"/>
              </a:rPr>
              <a:t>所示表 </a:t>
            </a:r>
            <a:r>
              <a:rPr b="0" lang="en-US" sz="2400" spc="-1" strike="noStrike">
                <a:solidFill>
                  <a:srgbClr val="262626"/>
                </a:solidFill>
                <a:latin typeface="Arial"/>
                <a:ea typeface="微软雅黑"/>
              </a:rPr>
              <a:t>10-8</a:t>
            </a:r>
            <a:r>
              <a:rPr b="0" lang="zh-CN" sz="2400" spc="-1" strike="noStrike">
                <a:solidFill>
                  <a:srgbClr val="262626"/>
                </a:solidFill>
                <a:latin typeface="Arial"/>
                <a:ea typeface="微软雅黑"/>
              </a:rPr>
              <a:t>　复核及批准汇总表    </a:t>
            </a:r>
            <a:r>
              <a:rPr b="0" lang="en-US" sz="2400" spc="-1" strike="noStrike">
                <a:solidFill>
                  <a:srgbClr val="262626"/>
                </a:solidFill>
                <a:latin typeface="Arial"/>
                <a:ea typeface="微软雅黑"/>
              </a:rPr>
              <a:t>P261</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无保留意见的审计报告范例如下： 审计报告    </a:t>
            </a:r>
            <a:r>
              <a:rPr b="0" lang="en-US" sz="2400" spc="-1" strike="noStrike">
                <a:solidFill>
                  <a:srgbClr val="262626"/>
                </a:solidFill>
                <a:latin typeface="Arial"/>
                <a:ea typeface="微软雅黑"/>
              </a:rPr>
              <a:t>P262—264</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保留意见的审计报告范例如下： 审计报告</a:t>
            </a:r>
            <a:r>
              <a:rPr b="0" lang="en-US" sz="2400" spc="-1" strike="noStrike">
                <a:solidFill>
                  <a:srgbClr val="262626"/>
                </a:solidFill>
                <a:latin typeface="Arial"/>
                <a:ea typeface="微软雅黑"/>
              </a:rPr>
              <a:t>P264-266</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无法保留意见的审计报告范例如下： 审计报告  </a:t>
            </a:r>
            <a:r>
              <a:rPr b="0" lang="en-US" sz="2400" spc="-1" strike="noStrike">
                <a:solidFill>
                  <a:srgbClr val="262626"/>
                </a:solidFill>
                <a:latin typeface="Arial"/>
                <a:ea typeface="微软雅黑"/>
              </a:rPr>
              <a:t>P266-267</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10" name="文本框 31" descr=""/>
          <p:cNvPicPr/>
          <p:nvPr/>
        </p:nvPicPr>
        <p:blipFill>
          <a:blip r:embed="rId1"/>
          <a:stretch/>
        </p:blipFill>
        <p:spPr>
          <a:xfrm>
            <a:off x="2741760" y="235080"/>
            <a:ext cx="6895800" cy="652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dur="indefinite" nodeType="withEffect" fill="hold" presetClass="entr" presetID="0">
                                  <p:stCondLst>
                                    <p:cond delay="0"/>
                                  </p:stCondLst>
                                  <p:iterate type="lt">
                                    <p:tmAbs val="100"/>
                                  </p:iterate>
                                  <p:childTnLst>
                                    <p:set>
                                      <p:cBhvr>
                                        <p:cTn id="435" dur="1" fill="hold">
                                          <p:stCondLst>
                                            <p:cond delay="0"/>
                                          </p:stCondLst>
                                        </p:cTn>
                                        <p:tgtEl>
                                          <p:spTgt spid="2411"/>
                                        </p:tgtEl>
                                        <p:attrNameLst>
                                          <p:attrName>style.visibility</p:attrName>
                                        </p:attrNameLst>
                                      </p:cBhvr>
                                      <p:to>
                                        <p:strVal val="visible"/>
                                      </p:to>
                                    </p:set>
                                    <p:anim calcmode="lin" valueType="num">
                                      <p:cBhvr additive="repl">
                                        <p:cTn id="436" dur="833" fill="hold">
                                          <p:stCondLst>
                                            <p:cond delay="167"/>
                                          </p:stCondLst>
                                        </p:cTn>
                                        <p:tgtEl>
                                          <p:spTgt spid="2411"/>
                                        </p:tgtEl>
                                        <p:attrNameLst>
                                          <p:attrName>ppt_h</p:attrName>
                                        </p:attrNameLst>
                                      </p:cBhvr>
                                      <p:tavLst>
                                        <p:tav fmla="height*(1+0.4*sin(2.5*pi*$)*(1-$)^3)" tm="0">
                                          <p:val>
                                            <p:fltVal val="0"/>
                                          </p:val>
                                        </p:tav>
                                        <p:tav fmla="height*(1+0.4*sin(2.5*pi*$)*(1-$)^3)" tm="100000">
                                          <p:val>
                                            <p:fltVal val="1"/>
                                          </p:val>
                                        </p:tav>
                                      </p:tavLst>
                                    </p:anim>
                                    <p:anim calcmode="lin" valueType="num">
                                      <p:cBhvr additive="repl">
                                        <p:cTn id="437" dur="1000" fill="hold">
                                          <p:stCondLst>
                                            <p:cond delay="0"/>
                                          </p:stCondLst>
                                        </p:cTn>
                                        <p:tgtEl>
                                          <p:spTgt spid="2411"/>
                                        </p:tgtEl>
                                        <p:attrNameLst>
                                          <p:attrName>ppt_y</p:attrName>
                                        </p:attrNameLst>
                                      </p:cBhvr>
                                      <p:tavLst>
                                        <p:tav fmla="y-0.5*height+0.5*height" tm="0">
                                          <p:val>
                                            <p:fltVal val="0"/>
                                          </p:val>
                                        </p:tav>
                                        <p:tav fmla="y-0.5*height+0.5*height" tm="100000">
                                          <p:val>
                                            <p:fltVal val="1"/>
                                          </p:val>
                                        </p:tav>
                                      </p:tavLst>
                                    </p:anim>
                                    <p:anim calcmode="lin" valueType="num">
                                      <p:cBhvr additive="repl">
                                        <p:cTn id="438" dur="167" fill="hold">
                                          <p:stCondLst>
                                            <p:cond delay="0"/>
                                          </p:stCondLst>
                                        </p:cTn>
                                        <p:tgtEl>
                                          <p:spTgt spid="2411"/>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文本框 2"/>
          <p:cNvSpPr/>
          <p:nvPr/>
        </p:nvSpPr>
        <p:spPr>
          <a:xfrm>
            <a:off x="263520" y="2836800"/>
            <a:ext cx="221148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43" name="组合 7"/>
          <p:cNvGrpSpPr/>
          <p:nvPr/>
        </p:nvGrpSpPr>
        <p:grpSpPr>
          <a:xfrm>
            <a:off x="2811600" y="325440"/>
            <a:ext cx="9420120" cy="6207120"/>
            <a:chOff x="2811600" y="325440"/>
            <a:chExt cx="9420120" cy="6207120"/>
          </a:xfrm>
        </p:grpSpPr>
        <p:sp>
          <p:nvSpPr>
            <p:cNvPr id="1844" name="矩形 3"/>
            <p:cNvSpPr/>
            <p:nvPr/>
          </p:nvSpPr>
          <p:spPr>
            <a:xfrm>
              <a:off x="2811600" y="325440"/>
              <a:ext cx="9420120" cy="62071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5" name="矩形: 剪去对角 4"/>
            <p:cNvSpPr/>
            <p:nvPr/>
          </p:nvSpPr>
          <p:spPr>
            <a:xfrm>
              <a:off x="3150720" y="554400"/>
              <a:ext cx="8768880" cy="574776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46" name="图片 8" descr=""/>
          <p:cNvPicPr/>
          <p:nvPr/>
        </p:nvPicPr>
        <p:blipFill>
          <a:blip r:embed="rId2"/>
          <a:stretch/>
        </p:blipFill>
        <p:spPr>
          <a:xfrm rot="6720000">
            <a:off x="3204720" y="900000"/>
            <a:ext cx="838440" cy="682560"/>
          </a:xfrm>
          <a:prstGeom prst="rect">
            <a:avLst/>
          </a:prstGeom>
          <a:ln w="0">
            <a:noFill/>
          </a:ln>
        </p:spPr>
      </p:pic>
      <p:pic>
        <p:nvPicPr>
          <p:cNvPr id="1847" name="图片 9" descr=""/>
          <p:cNvPicPr/>
          <p:nvPr/>
        </p:nvPicPr>
        <p:blipFill>
          <a:blip r:embed="rId3"/>
          <a:stretch/>
        </p:blipFill>
        <p:spPr>
          <a:xfrm>
            <a:off x="10834560" y="5362560"/>
            <a:ext cx="733680" cy="673200"/>
          </a:xfrm>
          <a:prstGeom prst="rect">
            <a:avLst/>
          </a:prstGeom>
          <a:ln w="0">
            <a:noFill/>
          </a:ln>
        </p:spPr>
      </p:pic>
      <p:sp>
        <p:nvSpPr>
          <p:cNvPr id="1848" name="文本框 11"/>
          <p:cNvSpPr/>
          <p:nvPr/>
        </p:nvSpPr>
        <p:spPr>
          <a:xfrm>
            <a:off x="3000240" y="1628640"/>
            <a:ext cx="90727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了解审计报告阶段的主要工作。 </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理解审计报告的编制要求。</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理解审计报告的类型，掌握审计报告的编制。</a:t>
            </a:r>
            <a:endParaRPr b="1" lang="en-US" sz="2800" spc="-1" strike="noStrike">
              <a:solidFill>
                <a:srgbClr val="000000"/>
              </a:solidFill>
              <a:latin typeface="Arial"/>
            </a:endParaRPr>
          </a:p>
        </p:txBody>
      </p:sp>
      <p:pic>
        <p:nvPicPr>
          <p:cNvPr id="1849" name="图片 10" descr="&amp;pky8040249173&amp;"/>
          <p:cNvPicPr/>
          <p:nvPr/>
        </p:nvPicPr>
        <p:blipFill>
          <a:blip r:embed="rId4"/>
          <a:srcRect l="5404" t="13137" r="53113" b="0"/>
          <a:stretch/>
        </p:blipFill>
        <p:spPr>
          <a:xfrm>
            <a:off x="241200" y="3789360"/>
            <a:ext cx="2444760" cy="256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文本框 2"/>
          <p:cNvSpPr/>
          <p:nvPr/>
        </p:nvSpPr>
        <p:spPr>
          <a:xfrm>
            <a:off x="263520" y="2836800"/>
            <a:ext cx="221148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1" name="组合 7"/>
          <p:cNvGrpSpPr/>
          <p:nvPr/>
        </p:nvGrpSpPr>
        <p:grpSpPr>
          <a:xfrm>
            <a:off x="2597040" y="320760"/>
            <a:ext cx="8715600" cy="6219720"/>
            <a:chOff x="2597040" y="320760"/>
            <a:chExt cx="8715600" cy="6219720"/>
          </a:xfrm>
        </p:grpSpPr>
        <p:sp>
          <p:nvSpPr>
            <p:cNvPr id="1852" name="矩形 3"/>
            <p:cNvSpPr/>
            <p:nvPr/>
          </p:nvSpPr>
          <p:spPr>
            <a:xfrm>
              <a:off x="2597040" y="320760"/>
              <a:ext cx="8715600" cy="62197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3" name="矩形: 剪去对角 4"/>
            <p:cNvSpPr/>
            <p:nvPr/>
          </p:nvSpPr>
          <p:spPr>
            <a:xfrm>
              <a:off x="2910600" y="550080"/>
              <a:ext cx="8112960" cy="575964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54" name="图片 8" descr=""/>
          <p:cNvPicPr/>
          <p:nvPr/>
        </p:nvPicPr>
        <p:blipFill>
          <a:blip r:embed="rId2"/>
          <a:stretch/>
        </p:blipFill>
        <p:spPr>
          <a:xfrm rot="6720000">
            <a:off x="3204720" y="900000"/>
            <a:ext cx="838440" cy="682560"/>
          </a:xfrm>
          <a:prstGeom prst="rect">
            <a:avLst/>
          </a:prstGeom>
          <a:ln w="0">
            <a:noFill/>
          </a:ln>
        </p:spPr>
      </p:pic>
      <p:pic>
        <p:nvPicPr>
          <p:cNvPr id="1855" name="图片 9" descr=""/>
          <p:cNvPicPr/>
          <p:nvPr/>
        </p:nvPicPr>
        <p:blipFill>
          <a:blip r:embed="rId3"/>
          <a:stretch/>
        </p:blipFill>
        <p:spPr>
          <a:xfrm>
            <a:off x="10834560" y="5362560"/>
            <a:ext cx="733680" cy="673200"/>
          </a:xfrm>
          <a:prstGeom prst="rect">
            <a:avLst/>
          </a:prstGeom>
          <a:ln w="0">
            <a:noFill/>
          </a:ln>
        </p:spPr>
      </p:pic>
      <p:sp>
        <p:nvSpPr>
          <p:cNvPr id="1856" name="文本框 5"/>
          <p:cNvSpPr/>
          <p:nvPr/>
        </p:nvSpPr>
        <p:spPr>
          <a:xfrm>
            <a:off x="2911320" y="1382760"/>
            <a:ext cx="797400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能编制审计差异汇总表和试算平衡表。 </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能熟练完成项目质量控制复核。 </a:t>
            </a:r>
            <a:endParaRPr b="1" lang="en-US" sz="2800" spc="-1" strike="noStrike">
              <a:solidFill>
                <a:srgbClr val="000000"/>
              </a:solidFill>
              <a:latin typeface="Arial"/>
            </a:endParaRPr>
          </a:p>
          <a:p>
            <a:pPr>
              <a:lnSpc>
                <a:spcPct val="130000"/>
              </a:lnSpc>
              <a:spcBef>
                <a:spcPts val="1001"/>
              </a:spcBef>
              <a:buClr>
                <a:srgbClr val="2f75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能熟练编制和出具审计报告。</a:t>
            </a:r>
            <a:endParaRPr b="1" lang="en-US" sz="2800" spc="-1" strike="noStrike">
              <a:solidFill>
                <a:srgbClr val="000000"/>
              </a:solidFill>
              <a:latin typeface="Arial"/>
            </a:endParaRPr>
          </a:p>
        </p:txBody>
      </p:sp>
      <p:pic>
        <p:nvPicPr>
          <p:cNvPr id="1857" name="图片 10" descr="&amp;pky8040249173&amp;"/>
          <p:cNvPicPr/>
          <p:nvPr/>
        </p:nvPicPr>
        <p:blipFill>
          <a:blip r:embed="rId4"/>
          <a:srcRect l="5404" t="13137" r="53113" b="0"/>
          <a:stretch/>
        </p:blipFill>
        <p:spPr>
          <a:xfrm>
            <a:off x="173160" y="3789360"/>
            <a:ext cx="2444760" cy="256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文本框 2"/>
          <p:cNvSpPr/>
          <p:nvPr/>
        </p:nvSpPr>
        <p:spPr>
          <a:xfrm>
            <a:off x="173160" y="2276640"/>
            <a:ext cx="2301840" cy="174456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9" name="组合 7"/>
          <p:cNvGrpSpPr/>
          <p:nvPr/>
        </p:nvGrpSpPr>
        <p:grpSpPr>
          <a:xfrm>
            <a:off x="2475000" y="412920"/>
            <a:ext cx="9593280" cy="6181560"/>
            <a:chOff x="2475000" y="412920"/>
            <a:chExt cx="9593280" cy="6181560"/>
          </a:xfrm>
        </p:grpSpPr>
        <p:sp>
          <p:nvSpPr>
            <p:cNvPr id="1860" name="矩形 3"/>
            <p:cNvSpPr/>
            <p:nvPr/>
          </p:nvSpPr>
          <p:spPr>
            <a:xfrm>
              <a:off x="2475000" y="412920"/>
              <a:ext cx="9593280" cy="618156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1" name="矩形: 剪去对角 4"/>
            <p:cNvSpPr/>
            <p:nvPr/>
          </p:nvSpPr>
          <p:spPr>
            <a:xfrm>
              <a:off x="2820240" y="640800"/>
              <a:ext cx="8930160" cy="572436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62" name="图片 8" descr=""/>
          <p:cNvPicPr/>
          <p:nvPr/>
        </p:nvPicPr>
        <p:blipFill>
          <a:blip r:embed="rId2"/>
          <a:stretch/>
        </p:blipFill>
        <p:spPr>
          <a:xfrm rot="6720000">
            <a:off x="3204720" y="900000"/>
            <a:ext cx="838440" cy="682560"/>
          </a:xfrm>
          <a:prstGeom prst="rect">
            <a:avLst/>
          </a:prstGeom>
          <a:ln w="0">
            <a:noFill/>
          </a:ln>
        </p:spPr>
      </p:pic>
      <p:pic>
        <p:nvPicPr>
          <p:cNvPr id="1863" name="图片 9" descr=""/>
          <p:cNvPicPr/>
          <p:nvPr/>
        </p:nvPicPr>
        <p:blipFill>
          <a:blip r:embed="rId3"/>
          <a:stretch/>
        </p:blipFill>
        <p:spPr>
          <a:xfrm>
            <a:off x="10834560" y="5362560"/>
            <a:ext cx="733680" cy="673200"/>
          </a:xfrm>
          <a:prstGeom prst="rect">
            <a:avLst/>
          </a:prstGeom>
          <a:ln w="0">
            <a:noFill/>
          </a:ln>
        </p:spPr>
      </p:pic>
      <p:sp>
        <p:nvSpPr>
          <p:cNvPr id="1864" name="文本框 6"/>
          <p:cNvSpPr/>
          <p:nvPr/>
        </p:nvSpPr>
        <p:spPr>
          <a:xfrm>
            <a:off x="2662200" y="1758960"/>
            <a:ext cx="8856720" cy="191772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5094"/>
                </a:solidFill>
                <a:latin typeface="微软雅黑"/>
                <a:ea typeface="微软雅黑"/>
              </a:rPr>
              <a:t>    </a:t>
            </a: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培养学生树立正确的社会主义核心价值观，做好国家资产和人民利 益的守护者。</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培养学生诚信、客观、公正的职业道德，发挥工匠精神，发挥审计 监督的作用。</a:t>
            </a:r>
            <a:endParaRPr b="1" lang="en-US" sz="2800" spc="-1" strike="noStrike">
              <a:solidFill>
                <a:srgbClr val="000000"/>
              </a:solidFill>
              <a:latin typeface="Arial"/>
            </a:endParaRPr>
          </a:p>
        </p:txBody>
      </p:sp>
      <p:pic>
        <p:nvPicPr>
          <p:cNvPr id="1865" name="图片 10" descr="&amp;pky8040249173&amp;"/>
          <p:cNvPicPr/>
          <p:nvPr/>
        </p:nvPicPr>
        <p:blipFill>
          <a:blip r:embed="rId4"/>
          <a:srcRect l="5404" t="13137" r="53113" b="0"/>
          <a:stretch/>
        </p:blipFill>
        <p:spPr>
          <a:xfrm>
            <a:off x="173160" y="3573360"/>
            <a:ext cx="2043000" cy="27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文本框 2"/>
          <p:cNvSpPr/>
          <p:nvPr/>
        </p:nvSpPr>
        <p:spPr>
          <a:xfrm>
            <a:off x="203040" y="2421000"/>
            <a:ext cx="252108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67" name="组合 7"/>
          <p:cNvGrpSpPr/>
          <p:nvPr/>
        </p:nvGrpSpPr>
        <p:grpSpPr>
          <a:xfrm>
            <a:off x="2712960" y="692280"/>
            <a:ext cx="9286920" cy="5689440"/>
            <a:chOff x="2712960" y="692280"/>
            <a:chExt cx="9286920" cy="5689440"/>
          </a:xfrm>
        </p:grpSpPr>
        <p:sp>
          <p:nvSpPr>
            <p:cNvPr id="1868" name="矩形 3"/>
            <p:cNvSpPr/>
            <p:nvPr/>
          </p:nvSpPr>
          <p:spPr>
            <a:xfrm>
              <a:off x="2712960" y="692280"/>
              <a:ext cx="9286920" cy="56894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9" name="矩形: 剪去对角 4"/>
            <p:cNvSpPr/>
            <p:nvPr/>
          </p:nvSpPr>
          <p:spPr>
            <a:xfrm>
              <a:off x="3048120" y="1241280"/>
              <a:ext cx="8645760" cy="466848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70" name="图片 8" descr=""/>
          <p:cNvPicPr/>
          <p:nvPr/>
        </p:nvPicPr>
        <p:blipFill>
          <a:blip r:embed="rId2"/>
          <a:stretch/>
        </p:blipFill>
        <p:spPr>
          <a:xfrm rot="6720000">
            <a:off x="3215880" y="1816200"/>
            <a:ext cx="838080" cy="682560"/>
          </a:xfrm>
          <a:prstGeom prst="rect">
            <a:avLst/>
          </a:prstGeom>
          <a:ln w="0">
            <a:noFill/>
          </a:ln>
        </p:spPr>
      </p:pic>
      <p:pic>
        <p:nvPicPr>
          <p:cNvPr id="1871" name="图片 9" descr=""/>
          <p:cNvPicPr/>
          <p:nvPr/>
        </p:nvPicPr>
        <p:blipFill>
          <a:blip r:embed="rId3"/>
          <a:stretch/>
        </p:blipFill>
        <p:spPr>
          <a:xfrm>
            <a:off x="10769760" y="4371840"/>
            <a:ext cx="733320" cy="673200"/>
          </a:xfrm>
          <a:prstGeom prst="rect">
            <a:avLst/>
          </a:prstGeom>
          <a:ln w="0">
            <a:noFill/>
          </a:ln>
        </p:spPr>
      </p:pic>
      <p:sp>
        <p:nvSpPr>
          <p:cNvPr id="1872" name="文本框 5"/>
          <p:cNvSpPr/>
          <p:nvPr/>
        </p:nvSpPr>
        <p:spPr>
          <a:xfrm>
            <a:off x="3503520" y="1268280"/>
            <a:ext cx="7848720" cy="446436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注册会计师曹家德、吉刚于 </a:t>
            </a:r>
            <a:r>
              <a:rPr b="1" lang="en-US" sz="2800" spc="-1" strike="noStrike">
                <a:solidFill>
                  <a:srgbClr val="000000"/>
                </a:solidFill>
                <a:latin typeface="Arial"/>
              </a:rPr>
              <a:t>2019 </a:t>
            </a:r>
            <a:r>
              <a:rPr b="1" lang="zh-CN" sz="2800" spc="-1" strike="noStrike">
                <a:solidFill>
                  <a:srgbClr val="000000"/>
                </a:solidFill>
                <a:latin typeface="Arial"/>
                <a:ea typeface="宋体"/>
              </a:rPr>
              <a:t>年 </a:t>
            </a:r>
            <a:r>
              <a:rPr b="1" lang="en-US" sz="2800" spc="-1" strike="noStrike">
                <a:solidFill>
                  <a:srgbClr val="000000"/>
                </a:solidFill>
                <a:latin typeface="Arial"/>
              </a:rPr>
              <a:t>3 </a:t>
            </a:r>
            <a:r>
              <a:rPr b="1" lang="zh-CN" sz="2800" spc="-1" strike="noStrike">
                <a:solidFill>
                  <a:srgbClr val="000000"/>
                </a:solidFill>
                <a:latin typeface="Arial"/>
                <a:ea typeface="宋体"/>
              </a:rPr>
              <a:t>月 </a:t>
            </a:r>
            <a:r>
              <a:rPr b="1" lang="en-US" sz="2800" spc="-1" strike="noStrike">
                <a:solidFill>
                  <a:srgbClr val="000000"/>
                </a:solidFill>
                <a:latin typeface="Arial"/>
              </a:rPr>
              <a:t>15 </a:t>
            </a:r>
            <a:r>
              <a:rPr b="1" lang="zh-CN" sz="2800" spc="-1" strike="noStrike">
                <a:solidFill>
                  <a:srgbClr val="000000"/>
                </a:solidFill>
                <a:latin typeface="Arial"/>
                <a:ea typeface="宋体"/>
              </a:rPr>
              <a:t>日完成对鸿图股份有限公司 </a:t>
            </a:r>
            <a:r>
              <a:rPr b="1" lang="en-US" sz="2800" spc="-1" strike="noStrike">
                <a:solidFill>
                  <a:srgbClr val="000000"/>
                </a:solidFill>
                <a:latin typeface="Arial"/>
              </a:rPr>
              <a:t>2018 </a:t>
            </a:r>
            <a:r>
              <a:rPr b="1" lang="zh-CN" sz="2800" spc="-1" strike="noStrike">
                <a:solidFill>
                  <a:srgbClr val="000000"/>
                </a:solidFill>
                <a:latin typeface="Arial"/>
                <a:ea typeface="宋体"/>
              </a:rPr>
              <a:t>年度会计报表审计的外勤工作，包括完成各项规定审计程序。假定 </a:t>
            </a:r>
            <a:r>
              <a:rPr b="1" lang="en-US" sz="2800" spc="-1" strike="noStrike">
                <a:solidFill>
                  <a:srgbClr val="000000"/>
                </a:solidFill>
                <a:latin typeface="Arial"/>
              </a:rPr>
              <a:t>2017 </a:t>
            </a:r>
            <a:r>
              <a:rPr b="1" lang="zh-CN" sz="2800" spc="-1" strike="noStrike">
                <a:solidFill>
                  <a:srgbClr val="000000"/>
                </a:solidFill>
                <a:latin typeface="Arial"/>
                <a:ea typeface="宋体"/>
              </a:rPr>
              <a:t>年度会计报表审计工作也由他俩共同完成。除以下几个事项由曹家德、吉刚在编制审计报告时予以考虑外，其他条件符合出具无保留意见审计报告的要求。</a:t>
            </a:r>
            <a:endParaRPr b="1" lang="en-US" sz="2800" spc="-1" strike="noStrike">
              <a:solidFill>
                <a:srgbClr val="000000"/>
              </a:solidFill>
              <a:latin typeface="Arial"/>
            </a:endParaRPr>
          </a:p>
        </p:txBody>
      </p:sp>
      <p:pic>
        <p:nvPicPr>
          <p:cNvPr id="1873" name="图片 7" descr="&amp;pky8040249173&amp;"/>
          <p:cNvPicPr/>
          <p:nvPr/>
        </p:nvPicPr>
        <p:blipFill>
          <a:blip r:embed="rId4"/>
          <a:srcRect l="5404" t="13137" r="53113" b="0"/>
          <a:stretch/>
        </p:blipFill>
        <p:spPr>
          <a:xfrm>
            <a:off x="263520" y="3600360"/>
            <a:ext cx="1933560" cy="230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4" name="组合 216"/>
          <p:cNvGrpSpPr/>
          <p:nvPr/>
        </p:nvGrpSpPr>
        <p:grpSpPr>
          <a:xfrm>
            <a:off x="2639880" y="663480"/>
            <a:ext cx="8634600" cy="4956120"/>
            <a:chOff x="2639880" y="663480"/>
            <a:chExt cx="8634600" cy="4956120"/>
          </a:xfrm>
        </p:grpSpPr>
        <p:sp>
          <p:nvSpPr>
            <p:cNvPr id="1875" name="矩形 217"/>
            <p:cNvSpPr/>
            <p:nvPr/>
          </p:nvSpPr>
          <p:spPr>
            <a:xfrm>
              <a:off x="2640960" y="663480"/>
              <a:ext cx="8633520" cy="4956120"/>
            </a:xfrm>
            <a:prstGeom prst="rect">
              <a:avLst/>
            </a:prstGeom>
            <a:blipFill rotWithShape="0">
              <a:blip r:embed="rId1"/>
              <a:srcRect/>
              <a:tile tx="0" ty="0" sx="100000" sy="100000" algn="ctr"/>
            </a:blipFill>
            <a:ln w="25560">
              <a:solidFill>
                <a:srgbClr val="8e10d4"/>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6" name="斜纹 218"/>
            <p:cNvSpPr/>
            <p:nvPr/>
          </p:nvSpPr>
          <p:spPr>
            <a:xfrm rot="5400000">
              <a:off x="10748520" y="699120"/>
              <a:ext cx="561600" cy="490320"/>
            </a:xfrm>
            <a:custGeom>
              <a:avLst/>
              <a:gdLst/>
              <a:ahLst/>
              <a:rect l="l" t="t" r="r" b="b"/>
              <a:pathLst>
                <a:path w="894" h="898">
                  <a:moveTo>
                    <a:pt x="0" y="348"/>
                  </a:moveTo>
                  <a:lnTo>
                    <a:pt x="346" y="0"/>
                  </a:lnTo>
                  <a:lnTo>
                    <a:pt x="894" y="0"/>
                  </a:lnTo>
                  <a:lnTo>
                    <a:pt x="0" y="898"/>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7" name="斜纹 219"/>
            <p:cNvSpPr/>
            <p:nvPr/>
          </p:nvSpPr>
          <p:spPr>
            <a:xfrm rot="16200000">
              <a:off x="2603160" y="5093640"/>
              <a:ext cx="561600" cy="488520"/>
            </a:xfrm>
            <a:custGeom>
              <a:avLst/>
              <a:gdLst/>
              <a:ahLst/>
              <a:rect l="l" t="t" r="r" b="b"/>
              <a:pathLst>
                <a:path w="894" h="895">
                  <a:moveTo>
                    <a:pt x="0" y="347"/>
                  </a:moveTo>
                  <a:lnTo>
                    <a:pt x="346" y="0"/>
                  </a:lnTo>
                  <a:lnTo>
                    <a:pt x="894" y="0"/>
                  </a:lnTo>
                  <a:lnTo>
                    <a:pt x="0" y="895"/>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78" name="文本框 220"/>
          <p:cNvSpPr/>
          <p:nvPr/>
        </p:nvSpPr>
        <p:spPr>
          <a:xfrm>
            <a:off x="2855880" y="2661840"/>
            <a:ext cx="8136000" cy="670320"/>
          </a:xfrm>
          <a:prstGeom prst="rect">
            <a:avLst/>
          </a:prstGeom>
          <a:noFill/>
          <a:ln w="0">
            <a:noFill/>
          </a:ln>
        </p:spPr>
        <p:style>
          <a:lnRef idx="0"/>
          <a:fillRef idx="0"/>
          <a:effectRef idx="0"/>
          <a:fontRef idx="minor"/>
        </p:style>
        <p:txBody>
          <a:bodyPr lIns="71640" rIns="71640" tIns="36360" bIns="36360" anchor="ctr">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1879" name="文本框 17"/>
          <p:cNvSpPr/>
          <p:nvPr/>
        </p:nvSpPr>
        <p:spPr>
          <a:xfrm>
            <a:off x="263520" y="270828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审计意见</a:t>
            </a:r>
            <a:endParaRPr b="1" lang="en-US" sz="3600" spc="-1" strike="noStrike">
              <a:solidFill>
                <a:srgbClr val="000000"/>
              </a:solidFill>
              <a:latin typeface="Arial"/>
            </a:endParaRPr>
          </a:p>
        </p:txBody>
      </p:sp>
      <p:sp>
        <p:nvSpPr>
          <p:cNvPr id="1880" name="矩形 1"/>
          <p:cNvSpPr/>
          <p:nvPr/>
        </p:nvSpPr>
        <p:spPr>
          <a:xfrm>
            <a:off x="2782800" y="1484280"/>
            <a:ext cx="8426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根据上述资料，曹家德、吉刚发表的审计意见如下： 我们认为，鸿图股份有限公司财务报表已经按照</a:t>
            </a:r>
            <a:r>
              <a:rPr b="1" lang="en-US" sz="2800" spc="-1" strike="noStrike">
                <a:solidFill>
                  <a:srgbClr val="000000"/>
                </a:solidFill>
                <a:latin typeface="Arial"/>
              </a:rPr>
              <a:t>《</a:t>
            </a:r>
            <a:r>
              <a:rPr b="1" lang="zh-CN" sz="2800" spc="-1" strike="noStrike">
                <a:solidFill>
                  <a:srgbClr val="000000"/>
                </a:solidFill>
                <a:latin typeface="Arial"/>
                <a:ea typeface="宋体"/>
              </a:rPr>
              <a:t>企业会计准 则</a:t>
            </a:r>
            <a:r>
              <a:rPr b="1" lang="en-US" sz="2800" spc="-1" strike="noStrike">
                <a:solidFill>
                  <a:srgbClr val="000000"/>
                </a:solidFill>
                <a:latin typeface="Arial"/>
              </a:rPr>
              <a:t>》</a:t>
            </a:r>
            <a:r>
              <a:rPr b="1" lang="zh-CN" sz="2800" spc="-1" strike="noStrike">
                <a:solidFill>
                  <a:srgbClr val="000000"/>
                </a:solidFill>
                <a:latin typeface="Arial"/>
                <a:ea typeface="宋体"/>
              </a:rPr>
              <a:t>和</a:t>
            </a:r>
            <a:r>
              <a:rPr b="1" lang="en-US" sz="2800" spc="-1" strike="noStrike">
                <a:solidFill>
                  <a:srgbClr val="000000"/>
                </a:solidFill>
                <a:latin typeface="Arial"/>
              </a:rPr>
              <a:t>《</a:t>
            </a:r>
            <a:r>
              <a:rPr b="1" lang="zh-CN" sz="2800" spc="-1" strike="noStrike">
                <a:solidFill>
                  <a:srgbClr val="000000"/>
                </a:solidFill>
                <a:latin typeface="Arial"/>
                <a:ea typeface="宋体"/>
              </a:rPr>
              <a:t>企业会计制度</a:t>
            </a:r>
            <a:r>
              <a:rPr b="1" lang="en-US" sz="2800" spc="-1" strike="noStrike">
                <a:solidFill>
                  <a:srgbClr val="000000"/>
                </a:solidFill>
                <a:latin typeface="Arial"/>
              </a:rPr>
              <a:t>》</a:t>
            </a:r>
            <a:r>
              <a:rPr b="1" lang="zh-CN" sz="2800" spc="-1" strike="noStrike">
                <a:solidFill>
                  <a:srgbClr val="000000"/>
                </a:solidFill>
                <a:latin typeface="Arial"/>
                <a:ea typeface="宋体"/>
              </a:rPr>
              <a:t>的规定编制，在所有重大方面公允地反映了鸿图股份有限公司 </a:t>
            </a:r>
            <a:r>
              <a:rPr b="1" lang="en-US" sz="2800" spc="-1" strike="noStrike">
                <a:solidFill>
                  <a:srgbClr val="000000"/>
                </a:solidFill>
                <a:latin typeface="Arial"/>
              </a:rPr>
              <a:t>2018 </a:t>
            </a:r>
            <a:r>
              <a:rPr b="1" lang="zh-CN" sz="2800" spc="-1" strike="noStrike">
                <a:solidFill>
                  <a:srgbClr val="000000"/>
                </a:solidFill>
                <a:latin typeface="Arial"/>
                <a:ea typeface="宋体"/>
              </a:rPr>
              <a:t>年 </a:t>
            </a:r>
            <a:r>
              <a:rPr b="1" lang="en-US" sz="2800" spc="-1" strike="noStrike">
                <a:solidFill>
                  <a:srgbClr val="000000"/>
                </a:solidFill>
                <a:latin typeface="Arial"/>
              </a:rPr>
              <a:t>12 </a:t>
            </a:r>
            <a:r>
              <a:rPr b="1" lang="zh-CN" sz="2800" spc="-1" strike="noStrike">
                <a:solidFill>
                  <a:srgbClr val="000000"/>
                </a:solidFill>
                <a:latin typeface="Arial"/>
                <a:ea typeface="宋体"/>
              </a:rPr>
              <a:t>月 </a:t>
            </a:r>
            <a:r>
              <a:rPr b="1" lang="en-US" sz="2800" spc="-1" strike="noStrike">
                <a:solidFill>
                  <a:srgbClr val="000000"/>
                </a:solidFill>
                <a:latin typeface="Arial"/>
              </a:rPr>
              <a:t>31 </a:t>
            </a:r>
            <a:r>
              <a:rPr b="1" lang="zh-CN" sz="2800" spc="-1" strike="noStrike">
                <a:solidFill>
                  <a:srgbClr val="000000"/>
                </a:solidFill>
                <a:latin typeface="Arial"/>
                <a:ea typeface="宋体"/>
              </a:rPr>
              <a:t>日的财务状况以及 </a:t>
            </a:r>
            <a:r>
              <a:rPr b="1" lang="en-US" sz="2800" spc="-1" strike="noStrike">
                <a:solidFill>
                  <a:srgbClr val="000000"/>
                </a:solidFill>
                <a:latin typeface="Arial"/>
              </a:rPr>
              <a:t>2018 </a:t>
            </a:r>
            <a:r>
              <a:rPr b="1" lang="zh-CN" sz="2800" spc="-1" strike="noStrike">
                <a:solidFill>
                  <a:srgbClr val="000000"/>
                </a:solidFill>
                <a:latin typeface="Arial"/>
                <a:ea typeface="宋体"/>
              </a:rPr>
              <a:t>年的经 营成果和现金流量。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要求：根据上述资料，指出曹家德、吉刚发表的审计意见中存在的问题。</a:t>
            </a:r>
            <a:endParaRPr b="1" lang="en-US" sz="2800" spc="-1" strike="noStrike">
              <a:solidFill>
                <a:srgbClr val="000000"/>
              </a:solidFill>
              <a:latin typeface="Arial"/>
            </a:endParaRPr>
          </a:p>
        </p:txBody>
      </p:sp>
      <p:pic>
        <p:nvPicPr>
          <p:cNvPr id="1881" name="图片 7" descr="&amp;pky8040249173&amp;"/>
          <p:cNvPicPr/>
          <p:nvPr/>
        </p:nvPicPr>
        <p:blipFill>
          <a:blip r:embed="rId2"/>
          <a:srcRect l="5404" t="13137" r="53113" b="0"/>
          <a:stretch/>
        </p:blipFill>
        <p:spPr>
          <a:xfrm>
            <a:off x="263520" y="3429000"/>
            <a:ext cx="1933560" cy="252108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8" presetSubtype="6">
                                  <p:stCondLst>
                                    <p:cond delay="0"/>
                                  </p:stCondLst>
                                  <p:childTnLst>
                                    <p:set>
                                      <p:cBhvr>
                                        <p:cTn id="43" dur="2000" fill="hold">
                                          <p:stCondLst>
                                            <p:cond delay="0"/>
                                          </p:stCondLst>
                                        </p:cTn>
                                        <p:tgtEl>
                                          <p:spTgt spid="1878"/>
                                        </p:tgtEl>
                                        <p:attrNameLst>
                                          <p:attrName>style.visibility</p:attrName>
                                        </p:attrNameLst>
                                      </p:cBhvr>
                                      <p:to>
                                        <p:strVal val="visible"/>
                                      </p:to>
                                    </p:set>
                                    <p:animEffect filter="strips(downRight)" transition="in">
                                      <p:cBhvr additive="repl">
                                        <p:cTn id="44" dur="2000"/>
                                        <p:tgtEl>
                                          <p:spTgt spid="1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2" name="组合 216"/>
          <p:cNvGrpSpPr/>
          <p:nvPr/>
        </p:nvGrpSpPr>
        <p:grpSpPr>
          <a:xfrm>
            <a:off x="2927520" y="836640"/>
            <a:ext cx="8785080" cy="5024160"/>
            <a:chOff x="2927520" y="836640"/>
            <a:chExt cx="8785080" cy="5024160"/>
          </a:xfrm>
        </p:grpSpPr>
        <p:sp>
          <p:nvSpPr>
            <p:cNvPr id="1883" name="矩形 217"/>
            <p:cNvSpPr/>
            <p:nvPr/>
          </p:nvSpPr>
          <p:spPr>
            <a:xfrm>
              <a:off x="2927520" y="837720"/>
              <a:ext cx="8785080" cy="5023080"/>
            </a:xfrm>
            <a:prstGeom prst="rect">
              <a:avLst/>
            </a:prstGeom>
            <a:blipFill rotWithShape="0">
              <a:blip r:embed="rId1"/>
              <a:srcRect/>
              <a:tile tx="0" ty="0" sx="100000" sy="100000" algn="ctr"/>
            </a:blipFill>
            <a:ln w="25560">
              <a:solidFill>
                <a:srgbClr val="8e10d4"/>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提出提出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a:t>
              </a:r>
              <a:endParaRPr b="1" lang="en-US" sz="1800" spc="-1" strike="noStrike">
                <a:solidFill>
                  <a:srgbClr val="000000"/>
                </a:solidFill>
                <a:latin typeface="Arial"/>
              </a:endParaRPr>
            </a:p>
          </p:txBody>
        </p:sp>
        <p:sp>
          <p:nvSpPr>
            <p:cNvPr id="1884" name="斜纹 218"/>
            <p:cNvSpPr/>
            <p:nvPr/>
          </p:nvSpPr>
          <p:spPr>
            <a:xfrm rot="5400000">
              <a:off x="11177280" y="871560"/>
              <a:ext cx="569880" cy="500040"/>
            </a:xfrm>
            <a:custGeom>
              <a:avLst/>
              <a:gdLst/>
              <a:ahLst/>
              <a:rect l="l" t="t" r="r" b="b"/>
              <a:pathLst>
                <a:path w="895" h="900">
                  <a:moveTo>
                    <a:pt x="0" y="349"/>
                  </a:moveTo>
                  <a:lnTo>
                    <a:pt x="347" y="0"/>
                  </a:lnTo>
                  <a:lnTo>
                    <a:pt x="895" y="0"/>
                  </a:lnTo>
                  <a:lnTo>
                    <a:pt x="0" y="900"/>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5" name="斜纹 219"/>
            <p:cNvSpPr/>
            <p:nvPr/>
          </p:nvSpPr>
          <p:spPr>
            <a:xfrm rot="16200000">
              <a:off x="2890800" y="5326920"/>
              <a:ext cx="569880" cy="496440"/>
            </a:xfrm>
            <a:custGeom>
              <a:avLst/>
              <a:gdLst/>
              <a:ahLst/>
              <a:rect l="l" t="t" r="r" b="b"/>
              <a:pathLst>
                <a:path w="895" h="894">
                  <a:moveTo>
                    <a:pt x="0" y="346"/>
                  </a:moveTo>
                  <a:lnTo>
                    <a:pt x="347" y="0"/>
                  </a:lnTo>
                  <a:lnTo>
                    <a:pt x="895" y="0"/>
                  </a:lnTo>
                  <a:lnTo>
                    <a:pt x="0" y="894"/>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86" name="文本框 220"/>
          <p:cNvSpPr/>
          <p:nvPr/>
        </p:nvSpPr>
        <p:spPr>
          <a:xfrm>
            <a:off x="2927520" y="981000"/>
            <a:ext cx="8640720" cy="1991880"/>
          </a:xfrm>
          <a:prstGeom prst="rect">
            <a:avLst/>
          </a:prstGeom>
          <a:noFill/>
          <a:ln w="9360">
            <a:solidFill>
              <a:srgbClr val="8e10d4"/>
            </a:solidFill>
            <a:prstDash val="dash"/>
            <a:round/>
          </a:ln>
        </p:spPr>
        <p:style>
          <a:lnRef idx="0"/>
          <a:fillRef idx="0"/>
          <a:effectRef idx="0"/>
          <a:fontRef idx="minor"/>
        </p:style>
        <p:txBody>
          <a:bodyPr lIns="71640" rIns="71640" tIns="36360" bIns="3636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800" spc="-1" strike="noStrike">
                <a:solidFill>
                  <a:srgbClr val="000000"/>
                </a:solidFill>
                <a:latin typeface="Arial"/>
                <a:ea typeface="宋体"/>
              </a:rPr>
              <a:t>根据上述资料，指出曹家德、吉刚发表的审计意见中存在的问题。 </a:t>
            </a: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分析： 审计意见中存在的问题： 发表的审计意见不恰当。事项 </a:t>
            </a:r>
            <a:r>
              <a:rPr b="1" lang="en-US" sz="2800" spc="-1" strike="noStrike">
                <a:solidFill>
                  <a:srgbClr val="000000"/>
                </a:solidFill>
                <a:latin typeface="Arial"/>
              </a:rPr>
              <a:t>2 </a:t>
            </a:r>
            <a:r>
              <a:rPr b="1" lang="zh-CN" sz="2800" spc="-1" strike="noStrike">
                <a:solidFill>
                  <a:srgbClr val="000000"/>
                </a:solidFill>
                <a:latin typeface="Arial"/>
                <a:ea typeface="宋体"/>
              </a:rPr>
              <a:t>属于资产负债表日后事项中的 调整事项，应当调整 </a:t>
            </a:r>
            <a:r>
              <a:rPr b="1" lang="en-US" sz="2800" spc="-1" strike="noStrike">
                <a:solidFill>
                  <a:srgbClr val="000000"/>
                </a:solidFill>
                <a:latin typeface="Arial"/>
              </a:rPr>
              <a:t>2017 </a:t>
            </a:r>
            <a:r>
              <a:rPr b="1" lang="zh-CN" sz="2800" spc="-1" strike="noStrike">
                <a:solidFill>
                  <a:srgbClr val="000000"/>
                </a:solidFill>
                <a:latin typeface="Arial"/>
                <a:ea typeface="宋体"/>
              </a:rPr>
              <a:t>年度会计报表。由于该公司拒绝调整，且金额重大，因此，注册会计师应当根据其重要性水平发表保留意见或 否定意见。</a:t>
            </a:r>
            <a:endParaRPr b="1" lang="en-US" sz="2800" spc="-1" strike="noStrike">
              <a:solidFill>
                <a:srgbClr val="000000"/>
              </a:solidFill>
              <a:latin typeface="Arial"/>
            </a:endParaRPr>
          </a:p>
        </p:txBody>
      </p:sp>
      <p:sp>
        <p:nvSpPr>
          <p:cNvPr id="1887" name="文本框 6"/>
          <p:cNvSpPr/>
          <p:nvPr/>
        </p:nvSpPr>
        <p:spPr>
          <a:xfrm>
            <a:off x="173160" y="2565360"/>
            <a:ext cx="2754360" cy="10796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提出问题及</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分析问题</a:t>
            </a:r>
            <a:endParaRPr b="1" lang="en-US" sz="3600" spc="-1" strike="noStrike">
              <a:solidFill>
                <a:srgbClr val="000000"/>
              </a:solidFill>
              <a:latin typeface="Arial"/>
            </a:endParaRPr>
          </a:p>
        </p:txBody>
      </p:sp>
      <p:pic>
        <p:nvPicPr>
          <p:cNvPr id="1888" name="图片 7" descr="&amp;pky8040249173&amp;"/>
          <p:cNvPicPr/>
          <p:nvPr/>
        </p:nvPicPr>
        <p:blipFill>
          <a:blip r:embed="rId2"/>
          <a:srcRect l="5404" t="13137" r="53113" b="0"/>
          <a:stretch/>
        </p:blipFill>
        <p:spPr>
          <a:xfrm>
            <a:off x="173160" y="3789360"/>
            <a:ext cx="2444760" cy="256392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18" presetSubtype="6">
                                  <p:stCondLst>
                                    <p:cond delay="0"/>
                                  </p:stCondLst>
                                  <p:childTnLst>
                                    <p:set>
                                      <p:cBhvr>
                                        <p:cTn id="50" dur="2000" fill="hold">
                                          <p:stCondLst>
                                            <p:cond delay="0"/>
                                          </p:stCondLst>
                                        </p:cTn>
                                        <p:tgtEl>
                                          <p:spTgt spid="1886"/>
                                        </p:tgtEl>
                                        <p:attrNameLst>
                                          <p:attrName>style.visibility</p:attrName>
                                        </p:attrNameLst>
                                      </p:cBhvr>
                                      <p:to>
                                        <p:strVal val="visible"/>
                                      </p:to>
                                    </p:set>
                                    <p:animEffect filter="strips(downRight)" transition="in">
                                      <p:cBhvr additive="repl">
                                        <p:cTn id="51" dur="2000"/>
                                        <p:tgtEl>
                                          <p:spTgt spid="1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623520" y="2420640"/>
            <a:ext cx="10225080" cy="33224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000000"/>
                </a:solidFill>
                <a:latin typeface="微软雅黑"/>
                <a:ea typeface="微软雅黑"/>
              </a:rPr>
              <a:t>                          </a:t>
            </a:r>
            <a:r>
              <a:rPr b="1" lang="zh-CN" sz="5400" spc="-1" strike="noStrike">
                <a:solidFill>
                  <a:srgbClr val="8e10d4"/>
                </a:solidFill>
                <a:latin typeface="微软雅黑"/>
              </a:rPr>
              <a:t>任务一 </a:t>
            </a:r>
            <a:br>
              <a:rPr sz="5400"/>
            </a:br>
            <a:r>
              <a:rPr b="1" lang="en-US" sz="5400" spc="-1" strike="noStrike">
                <a:solidFill>
                  <a:srgbClr val="8e10d4"/>
                </a:solidFill>
                <a:latin typeface="微软雅黑"/>
                <a:ea typeface="微软雅黑"/>
              </a:rPr>
              <a:t>       </a:t>
            </a:r>
            <a:r>
              <a:rPr b="1" lang="zh-CN" sz="5400" spc="-1" strike="noStrike">
                <a:solidFill>
                  <a:srgbClr val="8e10d4"/>
                </a:solidFill>
                <a:latin typeface="微软雅黑"/>
              </a:rPr>
              <a:t>审计报告阶段的主要工作</a:t>
            </a:r>
            <a:br>
              <a:rPr sz="5400"/>
            </a:br>
            <a:br>
              <a:rPr sz="5400"/>
            </a:br>
            <a:endParaRPr b="1" lang="en-US" sz="5400" spc="-1" strike="noStrike">
              <a:solidFill>
                <a:srgbClr val="262626"/>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indefinite" nodeType="afterEffect" fill="hold" presetClass="entr" presetID="22" presetSubtype="1">
                                  <p:stCondLst>
                                    <p:cond delay="0"/>
                                  </p:stCondLst>
                                  <p:childTnLst>
                                    <p:set>
                                      <p:cBhvr>
                                        <p:cTn id="57" dur="1000" fill="hold">
                                          <p:stCondLst>
                                            <p:cond delay="0"/>
                                          </p:stCondLst>
                                        </p:cTn>
                                        <p:tgtEl>
                                          <p:spTgt spid="1889"/>
                                        </p:tgtEl>
                                        <p:attrNameLst>
                                          <p:attrName>style.visibility</p:attrName>
                                        </p:attrNameLst>
                                      </p:cBhvr>
                                      <p:to>
                                        <p:strVal val="visible"/>
                                      </p:to>
                                    </p:set>
                                    <p:animEffect filter="wipe(up)" transition="in">
                                      <p:cBhvr additive="repl">
                                        <p:cTn id="58" dur="1000"/>
                                        <p:tgtEl>
                                          <p:spTgt spid="1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20T02:00:44Z</dcterms:modified>
  <cp:revision>203</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