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66.xml" ContentType="application/vnd.openxmlformats-officedocument.presentationml.slideLayout+xml"/>
  <Override PartName="/ppt/slideLayouts/slideLayout442.xml" ContentType="application/vnd.openxmlformats-officedocument.presentationml.slideLayout+xml"/>
  <Override PartName="/ppt/slideLayouts/slideLayout462.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450.xml" ContentType="application/vnd.openxmlformats-officedocument.presentationml.slideLayout+xml"/>
  <Override PartName="/ppt/slideLayouts/slideLayout461.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460.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46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180.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5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6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45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13.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30.png" ContentType="image/png"/>
  <Override PartName="/ppt/media/image10.png" ContentType="image/png"/>
  <Override PartName="/ppt/media/image7.wmf" ContentType="image/x-wmf"/>
  <Override PartName="/ppt/media/image12.png" ContentType="image/png"/>
  <Override PartName="/ppt/media/image13.png" ContentType="image/png"/>
  <Override PartName="/ppt/media/image8.wmf" ContentType="image/x-wmf"/>
  <Override PartName="/ppt/media/image14.png" ContentType="image/png"/>
  <Override PartName="/ppt/media/image9.wmf" ContentType="image/x-wmf"/>
  <Override PartName="/ppt/media/image6.wmf" ContentType="image/x-wmf"/>
  <Override PartName="/ppt/media/image11.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25CAD-9F33-4E45-8AD8-02A7997DF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69DAD-F1DC-4926-BA56-72E7A1E7B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EFC3BC-AE19-4B3F-A85E-F641F9D578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E05DF0-1531-48EF-A0BD-DB3666BB34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E5F288-535E-4152-BB4C-A4C457D30A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EDA61F-95F1-44DB-80B2-8E2D1D236E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A33310-5ED2-48DD-8D50-1F8594595C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469C03-F793-4B6C-85AA-813346213E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5FB661-7AD4-4311-992A-C2C56B8BDB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6E7079-5EA9-463E-8AD8-FBDC16F741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838856-1E7E-4C78-A91C-1BAF031C1B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040C3A2-74B4-4296-8997-9350886935F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ADD8A-4AC3-4C28-9895-67A3F5FE9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1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5B325C-FB71-4A19-A716-DC27BC860A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19E38C-6CE7-4BC5-BE5C-E3457F7A1A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1AB1C8-A2A5-40FE-8A90-09D0B31E29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383448-799C-4CA5-BC63-B3DE715A9D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B70C3F-15C4-498D-9A0B-82367838F3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09B8C7-58CC-4578-9EB8-FF7ED315BA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E43B96-FFEC-4648-B449-F3DD24C820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6B079B-8217-486E-9DBD-7E55AB56A8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239190-5569-4D21-B642-E7B2D7DA1A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AE45F3-1C2E-4252-AFDD-D723D681DAE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417B8-18C2-4399-A936-01FD80CAF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74950F5-2C23-4D43-85FE-17F5E6A56D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DF52B60-E0F3-45BF-89DC-D869FEB02C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7B9026-3E30-43F5-9633-4E7621E3AF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4F27C6-E19B-403B-845C-EB7D2F0943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696739-FB2D-4388-9201-1F04B41B63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1D690D-4345-41DD-88DF-78F6BBA12E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62EFB7-468D-4E13-9DC1-276DADF390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EDCE5A-F567-4490-9DF7-B0FE4DFC61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C4A84A-9882-4563-A7D3-7168FEE997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65295A-9841-4813-8E63-E8BE5CC344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3678E-8A82-4729-8F4E-21E5930384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873631-37B3-4315-AC98-E5019B6505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7C0D8C5-FB78-4470-84D8-FC3A107633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448D51-3EEA-4CD4-BF45-733A796973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1A066A1-7991-4AB6-AD93-DA2EC520845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DEFDBA-82DD-4724-96AA-262A4BAF08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B6FFF3-EF2B-46DF-A461-01C29B6772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DA47C5-2269-424C-8F96-B5CDF3AAE8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5CB717-B215-4D76-86D9-1E30D46F14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6D07C3-D164-4D46-A621-F01B6E75F9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079865-7E71-4B83-8DFE-B2446FB826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24ABF-A404-4AB4-A8A8-A7FDE3E7D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58EC2E-C8CB-4D5E-AE5F-460D8B17D2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E445D4-CA8B-4384-A727-6F5A639471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5D4978E-E85B-4333-81A6-AF90F2F1E0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7BF063-0913-4332-8A61-C689A9872F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491A48F-979A-449C-A191-3F41C9A6B3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05C89AA-4D02-4962-A941-B3CDBCADF3B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135F31-8E58-464F-948B-0561A4C911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D88519-B00E-4A9F-B96C-9F3BC26CDD4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DE05B5-D8B2-4DA6-AC5F-A115E735E7A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7B0B8F-01C1-4B47-8AE5-7A2A65D23D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5E477-8F85-4D0F-8DCF-E3D10CC44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339D368-51FE-47BA-9908-AF985433E2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5D7ABC-D0B7-46F6-A782-246439F233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09E97A-7EA8-488B-A0C9-7A23EB0A84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F188C5-289F-417F-A0A1-9EE64635B4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D73BE3-C141-4788-9EB0-B40300A7A67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D5462A8-97DB-4D6A-9E2B-736FEA68901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86768DD-280A-4771-9D4D-3304174B202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86921CF-D253-4B3B-B34B-DFF6A54FA58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E508D3-B3A3-4FE3-AE82-B33FD21A4D8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28C9063-5890-441B-B73D-89E84CBB96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9438F-1DE2-424A-AC5D-DA3739C72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4560804-2C6F-4947-A189-DD06E68797E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ABF223-CAA0-4F8E-99DA-F430A34297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1D693D-80B9-48A4-AD9C-8C71790CE31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E91930-E2A2-4272-8865-F9A52B434A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8AD280-A700-4495-B9E8-D22AED1426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77F3CE-DC92-4E76-809D-8F63C82610A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D8C089-1FE9-4CB4-B5B8-08F7A94501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F069E23-FB1D-4C2E-ADAE-EC1A59999A6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DABD14E-9E15-4C22-A55D-69288671050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CD96D93-1B36-46CD-A5D3-91D31C740FA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A8DCC-A1D4-4B70-89A8-E6097336D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B2C7E44-9307-471B-97B5-17150F6763F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2FBE3DC-B01A-4E20-B418-735B4AB936E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4C46F9-64A1-48D4-937D-F2C000A138B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AA0CB8C-3FA8-4402-8217-00F3FF48EDC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466813-06A1-49C1-B482-0AE2CA24B9A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6028830-AFE5-4B7D-BAA3-5025A43AADC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5497DE-13BF-4883-8133-F2001B7B77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8EC9F30-5CC6-49DC-AFD3-1B56EF25A43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191CBE4-E78C-4F85-AE7C-B7A274EC5D1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798D19B-3C08-4C95-A246-EFB965E106F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1A813-2DA3-48EF-A5F0-EA067FF1C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D39CCB9-501D-4FC6-B374-10C58871075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C4F702D-FA87-4399-B6E5-B8A3D90BB76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CD0F54-47CF-410B-94B9-E70282FE073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202FF4D-8A85-436B-A8C3-3A6007A12B3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8F6BB06-9B86-41B3-8BEF-E9C3C523231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F3F80D9-3717-4106-A348-2D3257B464E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2A4BA3-A933-475B-BEF2-BEF6B4B7789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768E706-1B27-4702-941C-ADB41F892A5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3327999-03D0-410F-8F53-0E8E3508DB6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3B80AE4-8130-4D63-A147-FDE8632E62C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AC1EC-CB50-42F9-8075-D52A6BE1F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0FF6382-D53A-408D-B1C2-1804CB5A910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EF39780-9EF9-41AC-A767-213B46E68E6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7229227-6BF0-4E6D-A1E0-E79EADAA018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9DFAC85-4F40-4CC6-83EC-006110772D4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4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841C178-920F-4D87-952F-C406A06AE11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1C4EE17-FC14-4E1E-BA90-5E1E725F7DF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1C7CC2C-6219-4354-9BB1-007D72900C0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E87807B-3691-4477-8BB1-9A42A165339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A89A0A-4953-4678-9196-20B8D9B7158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F1B8E5-8739-4C7E-ADA4-73C3AEE9500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005EC-0E94-4959-86FD-435D0BAC8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13990-497E-4B80-88BF-18F6142CE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3952368-CD62-4D7D-BF39-B4960BF275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528484-E121-44C2-B85B-F9852665F8C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6331623-9A14-4982-8738-7FC04362481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1A43445-D60A-420E-9EDC-53FBE7F4553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C104F2D-B488-4DC6-8C36-4C7EEAB34D9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630234F-9764-4DF5-AAA5-8CF194B602A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21D00EA-2851-4851-80ED-C139F349ECC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B3379D4-293D-4A35-BB49-E6C47B93189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94DFB37-E48C-45B3-9F86-15BE5BBC7FF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5EB9EE1-7458-441C-8331-0D255FD4ACB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00877-E61B-4D0F-BD50-5C059927A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467F8A9-706B-46F1-B7ED-D2571FA7373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6471ECD-13C2-4C43-A9B3-C828EC9E626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28A7121-3037-45A5-9CFC-96371C7A596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50EF53D-4A32-4125-8E7C-0062423B138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FAA2D44-6851-4FFE-9CDD-C9CC7586FF0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96D52F9-A04D-4EAD-A6B5-C729B7D8C86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2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2617F07-7739-4750-8B59-05E251E31C8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2434904-59C7-441D-8797-DA63FDAEE94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0794B74-E35A-4B84-91AC-801DF305658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DFD3FC2-6D0B-412D-B018-8E276EBE665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7A498-860B-4E49-BAFD-BEFDA8402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221DD16-4E9D-4489-B37F-B6D3707282F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A7CD151-560F-463D-B2A4-2656A333A05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050C44F-9A0E-4FE5-85FC-AC7FB572ACB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E10CEF8-6EE6-4105-97C7-B2DE50C825D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5D374AE-4614-4F54-A306-DA8CFA1B013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056B0E0-862D-4B22-AB9B-BD0186BF69D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389BFB0-119B-4CE6-A370-92E5033E01F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21AE227-B852-4EB7-85BD-33CDC234827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7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E144785-4E17-4B74-8E27-1C490DB58FF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449B48F-AE86-4501-BD83-F5F7023E94B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378B6-6800-4E84-AA41-E6C1EF7614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29C2842-8674-41E5-AC92-A501C3CDD51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CD5D2AF-6559-44F1-89D4-A4AE5EAF064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6BB8915-38B0-4545-8D78-D7ACF9A6713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66A4197-B53F-45C7-ACDA-BB1F1998EDA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4C2209C-BAEA-486B-BF3F-4F89587FAA2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39BA872-EC08-475F-9750-F924F8E49B1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F152298-5935-48FA-A3A6-88FE1D122FB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BFDB8C7-A2B1-4131-87E2-632EED2728B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A883CDB-4491-443D-A71F-04F474FCF84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643CA29-D358-46FE-8726-504CF7FF286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5E338-4ED2-4078-AE2C-2F5CDD487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9079D43-40E3-4F8E-A6A8-210104C6A82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F70D519-1E94-47F9-9811-22CE754C4DB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29E213C-37F6-4FCC-8C8B-F36BEF0B3BE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DFBBADD-66D7-456E-9616-20D77000512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3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B4B4996-C3C3-4455-B296-BD00A46E753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B84E6D1-ECFD-4634-A964-570D0D7F84A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82B3406-00F3-49C0-9E83-89F6FFF189D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5D4B366-4912-4216-931B-CE0C6222D14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6548677-8141-4296-A21E-A6680927D54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0A136FB-A566-4593-A72A-F2F82AF1473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47F5E2-D5FA-4983-A9C4-DD37DA2311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B7FF6AA-2997-4BE5-A7A9-EC4237A1031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7CB88E7-DBEA-475A-B360-D3195EF55CC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6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3D5683B-4840-4537-81D1-4416A756FBF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1ED7A59-58A2-4FA2-A42E-D4AA6509AA8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7FCD7BC-6D28-4307-8F05-57B796115A4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9FCCC46-E5BE-4D9F-9D78-DC270510639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2F0FC58-D205-4796-8EDE-082CD7738E0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0D40D08-27A0-4252-BE10-F16F0F3B44C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68F5750-322E-49FB-BEAF-00F925A395A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21494F8-D49A-4D2C-A8F3-A4B56321C63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D3EA54-96AD-4801-96C4-BA1B27BAAE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6F26A68-E516-4577-B3F4-332CD10EFEB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73D6F56-8F44-4FCF-B043-1F985A6AD3D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149ACE7-46F9-49BC-9C75-54D4319F889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1EA8C1A-2E52-4A17-8CA9-DD16FE59EC4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9D76852-10C2-4B98-B35D-EDE558AE2C1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5941DC8-9095-4B59-8DE9-0F183721854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728004A-F427-4B97-AF6E-A20242EDE49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23CD9F7-F66F-4A18-9871-EB91A1563EA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80D1032-6CA7-4389-8224-59E4EDCC4B7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FAE22B8-F71C-4E47-931C-1ACC9B9CB22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14A835-033D-46DC-8364-D6DBB254CF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B4698F6-50C9-4E89-9937-3C56AB1C22C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161FDD2-1A60-4570-8F13-D93AB4B475E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8DF4542-6F2A-47D4-92FD-44FBD78E603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901980D-ADAE-4EA0-A735-F344BFBD6D9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F14E71E-2B8B-41DA-A9A3-C85FC02609D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8E30FBC-69F1-4B49-9B96-38EA2C649AA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A509D41-BE12-4373-8838-E3C75D6FC6F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A26ED12-C30B-4D7E-B9A4-54F660C9171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BDF256B-6827-4E6B-A090-BE1A1331403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67FD8E7-3E68-4462-8A91-CC207BDD589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9F15E9-4F66-4CE5-8D93-539E14B840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AD55415-EF65-4852-81DC-494D8A393BC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E2731F4-B4E4-4650-8654-D6FBBFCEB49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6EE244E-718E-4978-94EA-04BA8A7B718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107FB2A-6BC8-4174-832B-7545B78FA82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621D3BA-64EB-4B67-8DED-8890C6B8594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C2CECDE-C989-4BA0-938D-A6DA2A0D80B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6DC0E4B-8FED-46EF-9973-85C9B22AA05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857313A-D23F-4488-B8FD-B92D6BC8C217}"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71EF853-876A-49FE-A717-FAD5B3442AC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362BA3C-4CF4-4C1A-87D8-ECD23A137F5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F00DCF-E2D7-4EB6-B4B7-487C9AB1D1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3E4056C-C7D2-4572-9972-1F0BA47D781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5154DBB-41AC-496C-89B6-72CEBAFCCDE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2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47B2EDC-C992-49E8-AAA3-5A0CC660F46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5207EA4-116A-49C4-B762-F99B8BD4F9C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630FD9D-6EFA-49F5-A885-6D112318CA1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506BC75-3073-4E6E-BEEB-E68B3F7A3EB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DC30989-7709-43A0-9D13-E99CBB93B16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E3AA32F-DD81-4064-91A9-0B693C56B78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0E11289-172C-4350-A6E1-0E15CDCABDE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C7E257A-DC33-491C-847E-49452767423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66FFB-0C41-465D-9507-BE8820384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29F787-4450-43C2-8BA9-C1F4726316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567CE9D-0AEF-498A-B3F7-FBCF0943E21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C0F58B7-0FDC-4596-9D07-65DCEE4A9CE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7F36B19-555F-4993-A62A-ACD4C13D9D5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2D5F55D-3A17-4DC3-A6BD-5CE0B4B6E4D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3E1362B-4484-4FE3-A5C0-70E7AEE873E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674A6D8-7BFD-4374-A425-643610B350E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6025403-C0BB-4C9E-BC94-ABA42899DE3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8CF92AF-EA53-4F12-BA7E-7BF104517EE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39505D3-DBF8-4209-9AC8-EA520A06F90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607D7DF-5958-4206-9B92-41ACA7F46E3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01400-78CD-42B8-BDBC-150ED2517E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756A3A8-7953-4F59-9685-1B44ACF0AAD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E71EDA0-E9D2-4E3E-8538-9662134A2F3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0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A80BDD5-5D93-4DAD-99F0-848CB2759D6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D01BE20-2444-4846-87C6-E6AF4895494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6AF410F-AD74-4D22-A1A2-C197FC7CBFD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452648A-832F-4724-A2B5-E6EFD344489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50C1A23-AB6F-4AC5-B9AB-182BF20791C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7C03C79-7531-4228-A388-6449132EB74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17C4218-D2C2-4B40-AB1D-09C756CE79E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FFA5413-DBCB-4FC8-9219-30AB970831E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5870A-40AD-4B61-A883-953E885BA5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54E334B-8628-483A-9CF3-DDF32BAF868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B089B4C-BD04-4E74-95EB-190DAFB080D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D85ECA2-EBC7-4579-B916-CE46B315EBE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81D5DE6-B539-4F68-BDB0-1049982E48D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4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33C574D-3418-4A35-847F-E73207CC2D3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63ECED6-8642-4D8B-B099-5282856E0EF3}"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F664B2F-FD85-4E4B-97B1-125E89833B8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A624FBE-156F-4A21-A0DC-76C963B596A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6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6E9C628-CA1B-4DCA-817E-073B0307DC6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8952EAF-A834-45BB-91E8-E3F42965873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1319BE-C6FE-4A50-9DCA-12FEFF52B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43FEA12-4877-4FB7-94AB-9F62C0E8502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6163458-C311-4C0B-80E7-8600E7ECA91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57EECD3-67C0-481F-9592-219C75B48C6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D73BC98-B30A-4D5A-8AF8-7AB92370398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364F51A-A41D-4A9C-9EED-014FE8ED4DF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5AEE41A-D428-49CC-A43B-0F2ACFE2953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9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D87EE999-836B-4FBF-A831-6FB64B2BE164}"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AC2941C9-0854-4370-85F9-C0E93923CF91}"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2591421-4C95-4E16-8AEF-8BA63A9642F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A7A4D9C-E18F-4776-8D08-3D9F507642F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F39608-5538-485C-B348-3A1AE40428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258BDDA-C381-46CE-B60F-2FFD1579F30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3600C46-B9EB-409F-92DA-4C1C20F09E4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35CDF8E-43EB-45A6-8074-5C5E50B28CF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B9BEAC6-CEB7-44D1-8D0F-501FAF8A455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20D7C88-F0FD-4589-8C01-A3C704747FC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A134291-A027-4F6F-9B98-B6314A9701F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562BACC-C767-4C12-96B6-EA5C73C9201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5E32E00-3245-48AC-9D35-ADEC8E9FE4D5}"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10DA9A4-CE3D-4572-B5E9-5E997F10C633}"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4DC876A6-7ABB-4F2B-8493-843B96A15452}"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FA5F81-2CC9-45D5-834F-19FEA23A25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9D7ECE1-C264-4EF9-A091-6B15684B604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4F93C63-9048-4139-BC6E-4BC32D11D10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416D8E5-5B18-4B21-ACA9-4C3B0BF9639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27167EC-D859-4564-9598-63BAE813B44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F8C3D40-8A43-4998-ADD1-E53A161C15A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4C6C0C0-45F6-422E-A0E4-72DBCB774C9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306229A-9FA6-44BA-8517-84518A55B58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7C12824-5083-4B9A-BA99-0B73CE9E47F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16637D9-6AC1-469D-8473-DDBDF8E8BF9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8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119178AA-2184-484D-AAC3-321BA31FE68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3A21A5-74AC-41B1-8315-A57F291671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8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9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CBD78939-1D1D-48E7-B0D4-A684ECA6ACC2}"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14BF8593-D00A-4A69-A891-0A17C6DEF53A}"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3F96842-3A34-4941-96AF-100A28DB3FD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CAC3262-CCC5-4715-853F-6BFA4F0F940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0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A61B97B-F92A-4CF7-B9F8-46EE54AD866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72A0338-C6E0-4868-B339-38ADE5F59C1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ECB2143-4351-48EC-8182-33B451C7C7B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F8D8C1A-37A8-41A8-A9D2-BC21BF75B3F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80AFC27-8589-4FBA-9E9F-C379FACAB9A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05A7DA2-58A6-4C8D-A5A9-36073B21219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C4C77E-9870-4EB4-9288-9390BE6805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9F6F881-2FB9-4911-9D34-5C6E4713495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58E7CCB9-0154-49E3-B686-E9D25B8663ED}"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3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6D68BF26-5779-46CA-A86C-B53619F9E82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89AABADA-2A97-4866-A43C-E64248D27209}"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4B45D4F-ACC0-4E4F-8E00-AC189F1DA48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CA6CD1C-4A6B-4441-8F2E-888CF2DC56F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EB1A8BA-0011-4069-B2A9-BA23B9C6F00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99FDBBC-9160-4B41-A9EE-5D3E70CE473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478EBFC-2BBD-4459-A241-AE35D5964B1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44B82C3-4AA1-4A27-A8FE-6BF1147EF8A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2E6D95-7301-47B4-B8DE-B1ABD940A4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A90A649-2825-4042-A9D9-1F0F8E88816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9790B35-4A7C-4695-94D1-1BEC5139B9F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0CFE434-AC99-41C7-969E-04F6E8C48F9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0268826A-5917-415B-A983-E393F4F4F3C0}"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477479D-20F4-49A0-9875-AACBA0D58F5E}"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C7524319-ADBD-4515-BFAA-C0F7F1FA1B44}"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19ED6A0-813F-447C-AC0B-8F97506314A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C9AEB2C-C77C-4825-8020-383D52F6827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177BD92-977B-414A-9A97-60AEE0601B9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260AD8C-30D0-43FB-8A16-A95D95D6E10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457851-3306-4D91-846F-9AFFBB709A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DB3889A-97E8-4AF9-AA5E-A10471740AF0}"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6FDFEBC-9B91-4320-9488-C04CA4AFC2D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5390BA5-6F44-4BE1-A4FF-D96D32A5E5F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47FCB80-B11A-4DED-B0AE-C2EEE1B7600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526E89C-A9AB-430C-B374-02A81696E57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2D04CC6A-0FEB-44DE-A057-B9CDACDB39FF}"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2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8FBC26B8-6AB2-4326-9F44-94AD8FA2C3E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F8E6C5DB-5BE7-4BF0-939A-6BE450890CCB}"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184077F-2CDC-4FD7-9237-798D50DA3EA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D224476-E02C-4375-BD49-BBCD700772A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88FF6-5A3A-4032-80F4-FE24E8C34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0075C1-F120-44B7-BD01-C403113355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1E941EE-8C14-4C42-9D77-7802046BE16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C17BF2F-F244-4E76-8B07-CE8A7298B5F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7837023-7449-467F-ADC6-1EFABC4FAE2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96AB240-C2B8-4169-9E35-1BBBD3C04ED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13144E4-C25F-4C61-9473-607DD28CDD1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7A21131-A0E7-4DD6-BC82-C6F9CAE1824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893A8A5-38B0-414F-9119-29A3BE50066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C50EAA8E-1978-48AC-B802-6DBB446EF66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7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83C165FE-EF45-4ED5-A82F-B5C8A13150D0}"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04B27FFA-5F3D-4391-8FDF-8C866030A30C}"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DB419F-3A32-4E60-B42D-BB5735DD1F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8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A66E814-A2D9-4155-8F49-23D679E4A78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8782095-B8EB-40E8-BA51-7C1A28D4EAA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664BD08-3B5D-4DD7-8D16-FECD2EB8956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ADDC3F9-32C5-4BC6-901E-9123724FCC4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1E81157-4440-4F31-BD08-7E1A069E085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04EBAFA-3CFA-4354-BB75-871552DB093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30D4A71-F3F5-4DEE-B875-B2E6DC3F03B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330311C-B964-4BEF-9210-39ED3C0E752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82DA9AB-526D-4B03-A731-A93E0D2785B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39887DB-C71F-4D2A-9820-DDCE941D86B1}"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6A1F1D-0A2E-4707-94F8-1BE619A969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26562ABE-D258-4ECA-9FE5-0412ECFAA2DD}"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3E2C58BE-7010-47B6-A6AC-F9C9C3F97F54}"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ED646CF-2A38-4140-AD0B-E1936F698DC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7BA8282-9FF1-4F94-8BEA-758537A2AAF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5C4A4B6-322A-410D-B60A-EDC09C70CFE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65FA6CC-05D3-4784-B73A-DCEA86D9E38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F8C87BB-F5C4-4346-8E99-1EE2DD33526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8D23791-352B-4D56-B0EC-2E66C808D38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C5B487D-EB5A-4CFA-B0AC-2A349C4B335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AED0574-C5C3-4AF2-8DB9-9E5FA3FF57E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C8FB6-3827-4B30-B176-3CB5CAA8E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CD013D2-3E47-47AB-A520-411EFF45CB5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6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131EBED-494D-4782-B001-2BC6F67471A3}"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6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D3AF81DC-97A6-41D8-9EF5-0740C4696868}"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C4DA6B74-638A-4971-9DEA-E26B21A0C66D}"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E744F55C-BF47-4F80-B407-AF50481B237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C42225F-4E2D-48D6-8FAA-1569117C32E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8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727EB0A-352D-449B-94B0-6FBB530F6767}"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B10D6782-2521-4595-A86B-712CADF4775C}"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7BDF192-004D-40D5-9FB6-859F28738F4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C7C361F-B6A1-4A15-9118-F045B0DEF57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0BA953-DF21-4DE1-8C73-068AB833B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4559EE8-BC30-47FE-9B7E-88D6F0250A3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D5AA168-0E40-4E75-A141-7C7548358AE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3DF53C4-CDE5-45E4-9F32-8F6611B8EA9E}"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1D20D9F-8771-4889-A93B-39A3AF47398E}"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1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44AE37A2-00B0-42A1-9ADB-8D415775DB00}"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4F88C86A-1170-4252-B2FD-C379240C1C2A}"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497D353-9E13-4209-9264-C8387EEE74DA}"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89F107A2-BC54-453B-83CB-F534E43F440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3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6A25BCF-E25B-4B12-B1B1-57453C330333}"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2B175EC-1C86-4862-847A-0378F6B64345}"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A0E2DB-29EE-488D-9F6C-1CADD4C8A2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1F453D71-C44A-4124-AA79-AEAF797768E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31B6541-D278-4CCF-8BC4-A65A6EC45D6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586B2D3-DFD8-48DD-9604-F8AD0A9E663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D8E0BCF-E473-4A08-B85A-B9BEF19B7AB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0F8EED6-2FC1-4DD9-B197-0E9E492BE165}"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654FE88E-28FF-4C92-B000-2C9DB41AACBA}"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6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5D8EB3F3-7284-4E1B-95F7-FCC44B10B3C2}"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2F8BBB3F-0393-4A55-A540-6920AA545D53}"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7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082022C6-5E01-46F4-A2E6-BE5B00B4D91F}"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7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0B28B4A8-6FD8-49AD-BAAC-E5FA5E85C6D4}"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DEA374-DFD9-4BAF-AB88-DC8E3477BE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D8CC1AA-3466-4508-B545-3A8074928805}"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58B19F4-89AF-4DFD-8237-5751A42B6E54}"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82DEFF2-BA96-43DD-BECF-AD9087108F2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BF2135F-EDE8-406E-A662-2F95412E681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E802496-2158-4D1E-994C-672DD64620B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AECBB2A-DFEE-40F9-99F6-D6F8DCF0D3F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D86E033-DC6B-464E-9250-E75C94FA579D}"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0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AD9D7FDA-48DA-4422-932E-8F45026B7931}"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0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3128C27D-1ED9-4A0A-B2CC-828CB7B892FC}"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8E8A75-32A8-47B8-8DA8-99BCA5AE65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530C86-5888-4659-AABB-FA3089F5C9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BC02D4-C28A-4CF7-BBDA-EB94A4F75C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8B5B5-EFDC-4FF5-A2C2-982DE121A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EC6BB4-A0B8-4E9F-A2D4-D0F7C5477D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9E7EF2-481D-4611-AE1A-F66C6FDD74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E9BBE2-2BFF-40CC-A8F7-B994FB6D5C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2F67E5-3AE5-430D-B8E7-E95E1857E5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4C99A1-28F8-4565-AB40-17819A1FFE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AE1F53-8423-4DF1-B2A4-2A8764071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093AC-D178-4221-BA25-24A39A2E5D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75849B-F534-42D9-968A-CC7EB83C8A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4B1BC4-F607-42A7-884D-764A5DD1E3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58DEA2-5153-41B0-A625-9CBBDFDB13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518A1-8C5B-4853-8DA7-1B0C8167E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A1C71E-B620-433D-A0BA-391075AE44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6D84EF-A26A-4524-9530-1F66F7DCED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3C3577-0AB6-49F5-892C-F233B7E213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EF59A3-2FC1-4244-BE8E-CC9CB0BF3D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08182F-0915-448B-9EBE-76A15D26B4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19A1BC-6C47-41C6-9D1D-930355668C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1B6CAE-8522-48CE-A9D3-C489F4951E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53A7CE-3912-4ED6-8C60-686780A680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BA3B89-9221-4B6F-93DE-A505416FD6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878B1E-694B-4F93-8D3E-2247833B8D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73D4B-66C9-44DF-8A93-BB1D8E6EA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417984-2DD5-4C1A-8CEA-95AB082384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66C6EF-F93F-4C75-BBF6-8FD1A9FD52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27A341-5142-4040-B892-DC43D32C29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9618FE-D65E-4D88-8796-0990D79286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99144B-81FA-4EBC-A2C9-44D8512376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11D042-8ACA-4153-825C-55F40D1C4B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BBE443-E8BE-4A82-9409-CA32AA2F21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89CC1E-B99A-4500-B232-CA566E35C7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F3C459-AA17-4D03-8229-9916DBD24E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E91EDA-D16E-4CDA-AA82-47FC230603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1677A-013A-4625-8C78-8788F95C4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FFED3B-9731-47C4-9641-838ED93884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3F192-7E37-4F33-9060-AC7E772F07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D8FDBE-F30F-4BAB-806E-01742D5D39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B0C93D-F703-4DB7-8ED7-71B6B3B871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BCF3F6-3A90-4C44-AFC5-56D22A3F45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274387-9055-4980-BE75-882083CFCF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D824C6-8329-48ED-925E-3814EE03DC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8BAA48-EC9E-46EF-90A0-BC498EDF2B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251008-981E-45AB-9019-5B60636770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C1082E-15FF-4EC7-8740-99BC6E0DEB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6102C-815E-4C35-AD16-D59DE100A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BF8195-57A7-44FA-8105-637A89956B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7A21BF-8E5A-42D1-B20F-946E5B6D13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11F9DF-A46F-421F-9B28-FA392F58F9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C4C9CD-8007-4005-961E-A2796F685B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FA42FB-885F-44D0-B6F6-DDDE6B65AE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7EB5C9-7366-4C03-989B-517158B6F1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E3B001-734E-4570-BEBB-EC4A6D2B9D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B3F069-6350-4BA0-B304-6F333A6BF1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2B5AE7-1657-49FC-BAEA-A7C41B8E52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ADD00C-7556-44DD-983E-F60057E3D5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7.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81.xml"/><Relationship Id="rId9" Type="http://schemas.openxmlformats.org/officeDocument/2006/relationships/slideLayout" Target="../slideLayouts/slideLayout182.xml"/><Relationship Id="rId10" Type="http://schemas.openxmlformats.org/officeDocument/2006/relationships/slideLayout" Target="../slideLayouts/slideLayout183.xml"/><Relationship Id="rId11" Type="http://schemas.openxmlformats.org/officeDocument/2006/relationships/slideLayout" Target="../slideLayouts/slideLayout184.xml"/><Relationship Id="rId12" Type="http://schemas.openxmlformats.org/officeDocument/2006/relationships/slideLayout" Target="../slideLayouts/slideLayout185.xml"/><Relationship Id="rId13" Type="http://schemas.openxmlformats.org/officeDocument/2006/relationships/slideLayout" Target="../slideLayouts/slideLayout186.xml"/><Relationship Id="rId14" Type="http://schemas.openxmlformats.org/officeDocument/2006/relationships/slideLayout" Target="../slideLayouts/slideLayout187.xml"/><Relationship Id="rId15" Type="http://schemas.openxmlformats.org/officeDocument/2006/relationships/slideLayout" Target="../slideLayouts/slideLayout188.xml"/><Relationship Id="rId16" Type="http://schemas.openxmlformats.org/officeDocument/2006/relationships/slideLayout" Target="../slideLayouts/slideLayout189.xml"/><Relationship Id="rId17" Type="http://schemas.openxmlformats.org/officeDocument/2006/relationships/slideLayout" Target="../slideLayouts/slideLayout190.xml"/><Relationship Id="rId18" Type="http://schemas.openxmlformats.org/officeDocument/2006/relationships/slideLayout" Target="../slideLayouts/slideLayout191.xml"/><Relationship Id="rId19"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17.xml"/><Relationship Id="rId8" Type="http://schemas.openxmlformats.org/officeDocument/2006/relationships/slideLayout" Target="../slideLayouts/slideLayout218.xml"/><Relationship Id="rId9" Type="http://schemas.openxmlformats.org/officeDocument/2006/relationships/slideLayout" Target="../slideLayouts/slideLayout219.xml"/><Relationship Id="rId10" Type="http://schemas.openxmlformats.org/officeDocument/2006/relationships/slideLayout" Target="../slideLayouts/slideLayout220.xml"/><Relationship Id="rId11" Type="http://schemas.openxmlformats.org/officeDocument/2006/relationships/slideLayout" Target="../slideLayouts/slideLayout221.xml"/><Relationship Id="rId12" Type="http://schemas.openxmlformats.org/officeDocument/2006/relationships/slideLayout" Target="../slideLayouts/slideLayout222.xml"/><Relationship Id="rId13" Type="http://schemas.openxmlformats.org/officeDocument/2006/relationships/slideLayout" Target="../slideLayouts/slideLayout223.xml"/><Relationship Id="rId14" Type="http://schemas.openxmlformats.org/officeDocument/2006/relationships/slideLayout" Target="../slideLayouts/slideLayout224.xml"/><Relationship Id="rId15" Type="http://schemas.openxmlformats.org/officeDocument/2006/relationships/slideLayout" Target="../slideLayouts/slideLayout225.xml"/><Relationship Id="rId16" Type="http://schemas.openxmlformats.org/officeDocument/2006/relationships/slideLayout" Target="../slideLayouts/slideLayout226.xml"/><Relationship Id="rId17" Type="http://schemas.openxmlformats.org/officeDocument/2006/relationships/slideLayout" Target="../slideLayouts/slideLayout227.xml"/><Relationship Id="rId18"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29.xml"/><Relationship Id="rId8" Type="http://schemas.openxmlformats.org/officeDocument/2006/relationships/slideLayout" Target="../slideLayouts/slideLayout230.xml"/><Relationship Id="rId9" Type="http://schemas.openxmlformats.org/officeDocument/2006/relationships/slideLayout" Target="../slideLayouts/slideLayout231.xml"/><Relationship Id="rId10" Type="http://schemas.openxmlformats.org/officeDocument/2006/relationships/slideLayout" Target="../slideLayouts/slideLayout232.xml"/><Relationship Id="rId11" Type="http://schemas.openxmlformats.org/officeDocument/2006/relationships/slideLayout" Target="../slideLayouts/slideLayout233.xml"/><Relationship Id="rId12" Type="http://schemas.openxmlformats.org/officeDocument/2006/relationships/slideLayout" Target="../slideLayouts/slideLayout234.xml"/><Relationship Id="rId13" Type="http://schemas.openxmlformats.org/officeDocument/2006/relationships/slideLayout" Target="../slideLayouts/slideLayout235.xml"/><Relationship Id="rId14" Type="http://schemas.openxmlformats.org/officeDocument/2006/relationships/slideLayout" Target="../slideLayouts/slideLayout236.xml"/><Relationship Id="rId15" Type="http://schemas.openxmlformats.org/officeDocument/2006/relationships/slideLayout" Target="../slideLayouts/slideLayout237.xml"/><Relationship Id="rId16" Type="http://schemas.openxmlformats.org/officeDocument/2006/relationships/slideLayout" Target="../slideLayouts/slideLayout238.xml"/><Relationship Id="rId17" Type="http://schemas.openxmlformats.org/officeDocument/2006/relationships/slideLayout" Target="../slideLayouts/slideLayout239.xml"/><Relationship Id="rId18"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53.xml"/><Relationship Id="rId8" Type="http://schemas.openxmlformats.org/officeDocument/2006/relationships/slideLayout" Target="../slideLayouts/slideLayout254.xml"/><Relationship Id="rId9" Type="http://schemas.openxmlformats.org/officeDocument/2006/relationships/slideLayout" Target="../slideLayouts/slideLayout255.xml"/><Relationship Id="rId10" Type="http://schemas.openxmlformats.org/officeDocument/2006/relationships/slideLayout" Target="../slideLayouts/slideLayout256.xml"/><Relationship Id="rId11" Type="http://schemas.openxmlformats.org/officeDocument/2006/relationships/slideLayout" Target="../slideLayouts/slideLayout257.xml"/><Relationship Id="rId12" Type="http://schemas.openxmlformats.org/officeDocument/2006/relationships/slideLayout" Target="../slideLayouts/slideLayout258.xml"/><Relationship Id="rId13" Type="http://schemas.openxmlformats.org/officeDocument/2006/relationships/slideLayout" Target="../slideLayouts/slideLayout259.xml"/><Relationship Id="rId14" Type="http://schemas.openxmlformats.org/officeDocument/2006/relationships/slideLayout" Target="../slideLayouts/slideLayout260.xml"/><Relationship Id="rId15" Type="http://schemas.openxmlformats.org/officeDocument/2006/relationships/slideLayout" Target="../slideLayouts/slideLayout261.xml"/><Relationship Id="rId16" Type="http://schemas.openxmlformats.org/officeDocument/2006/relationships/slideLayout" Target="../slideLayouts/slideLayout262.xml"/><Relationship Id="rId17" Type="http://schemas.openxmlformats.org/officeDocument/2006/relationships/slideLayout" Target="../slideLayouts/slideLayout263.xml"/><Relationship Id="rId18"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65.xml"/><Relationship Id="rId8" Type="http://schemas.openxmlformats.org/officeDocument/2006/relationships/slideLayout" Target="../slideLayouts/slideLayout266.xml"/><Relationship Id="rId9" Type="http://schemas.openxmlformats.org/officeDocument/2006/relationships/slideLayout" Target="../slideLayouts/slideLayout267.xml"/><Relationship Id="rId10" Type="http://schemas.openxmlformats.org/officeDocument/2006/relationships/slideLayout" Target="../slideLayouts/slideLayout268.xml"/><Relationship Id="rId11" Type="http://schemas.openxmlformats.org/officeDocument/2006/relationships/slideLayout" Target="../slideLayouts/slideLayout269.xml"/><Relationship Id="rId12" Type="http://schemas.openxmlformats.org/officeDocument/2006/relationships/slideLayout" Target="../slideLayouts/slideLayout270.xml"/><Relationship Id="rId13" Type="http://schemas.openxmlformats.org/officeDocument/2006/relationships/slideLayout" Target="../slideLayouts/slideLayout271.xml"/><Relationship Id="rId14" Type="http://schemas.openxmlformats.org/officeDocument/2006/relationships/slideLayout" Target="../slideLayouts/slideLayout272.xml"/><Relationship Id="rId15" Type="http://schemas.openxmlformats.org/officeDocument/2006/relationships/slideLayout" Target="../slideLayouts/slideLayout273.xml"/><Relationship Id="rId16" Type="http://schemas.openxmlformats.org/officeDocument/2006/relationships/slideLayout" Target="../slideLayouts/slideLayout274.xml"/><Relationship Id="rId17" Type="http://schemas.openxmlformats.org/officeDocument/2006/relationships/slideLayout" Target="../slideLayouts/slideLayout275.xml"/><Relationship Id="rId18"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89.xml"/><Relationship Id="rId8" Type="http://schemas.openxmlformats.org/officeDocument/2006/relationships/slideLayout" Target="../slideLayouts/slideLayout290.xml"/><Relationship Id="rId9" Type="http://schemas.openxmlformats.org/officeDocument/2006/relationships/slideLayout" Target="../slideLayouts/slideLayout291.xml"/><Relationship Id="rId10" Type="http://schemas.openxmlformats.org/officeDocument/2006/relationships/slideLayout" Target="../slideLayouts/slideLayout292.xml"/><Relationship Id="rId11" Type="http://schemas.openxmlformats.org/officeDocument/2006/relationships/slideLayout" Target="../slideLayouts/slideLayout293.xml"/><Relationship Id="rId12" Type="http://schemas.openxmlformats.org/officeDocument/2006/relationships/slideLayout" Target="../slideLayouts/slideLayout294.xml"/><Relationship Id="rId13" Type="http://schemas.openxmlformats.org/officeDocument/2006/relationships/slideLayout" Target="../slideLayouts/slideLayout295.xml"/><Relationship Id="rId14" Type="http://schemas.openxmlformats.org/officeDocument/2006/relationships/slideLayout" Target="../slideLayouts/slideLayout296.xml"/><Relationship Id="rId15" Type="http://schemas.openxmlformats.org/officeDocument/2006/relationships/slideLayout" Target="../slideLayouts/slideLayout297.xml"/><Relationship Id="rId16" Type="http://schemas.openxmlformats.org/officeDocument/2006/relationships/slideLayout" Target="../slideLayouts/slideLayout298.xml"/><Relationship Id="rId17" Type="http://schemas.openxmlformats.org/officeDocument/2006/relationships/slideLayout" Target="../slideLayouts/slideLayout299.xml"/><Relationship Id="rId18"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301.xml"/><Relationship Id="rId12" Type="http://schemas.openxmlformats.org/officeDocument/2006/relationships/slideLayout" Target="../slideLayouts/slideLayout302.xml"/><Relationship Id="rId13" Type="http://schemas.openxmlformats.org/officeDocument/2006/relationships/slideLayout" Target="../slideLayouts/slideLayout303.xml"/><Relationship Id="rId14" Type="http://schemas.openxmlformats.org/officeDocument/2006/relationships/slideLayout" Target="../slideLayouts/slideLayout304.xml"/><Relationship Id="rId15" Type="http://schemas.openxmlformats.org/officeDocument/2006/relationships/slideLayout" Target="../slideLayouts/slideLayout305.xml"/><Relationship Id="rId16" Type="http://schemas.openxmlformats.org/officeDocument/2006/relationships/slideLayout" Target="../slideLayouts/slideLayout306.xml"/><Relationship Id="rId17" Type="http://schemas.openxmlformats.org/officeDocument/2006/relationships/slideLayout" Target="../slideLayouts/slideLayout307.xml"/><Relationship Id="rId18" Type="http://schemas.openxmlformats.org/officeDocument/2006/relationships/slideLayout" Target="../slideLayouts/slideLayout308.xml"/><Relationship Id="rId19" Type="http://schemas.openxmlformats.org/officeDocument/2006/relationships/slideLayout" Target="../slideLayouts/slideLayout309.xml"/><Relationship Id="rId20" Type="http://schemas.openxmlformats.org/officeDocument/2006/relationships/slideLayout" Target="../slideLayouts/slideLayout310.xml"/><Relationship Id="rId21" Type="http://schemas.openxmlformats.org/officeDocument/2006/relationships/slideLayout" Target="../slideLayouts/slideLayout311.xml"/><Relationship Id="rId22"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7.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25.xml"/><Relationship Id="rId9" Type="http://schemas.openxmlformats.org/officeDocument/2006/relationships/slideLayout" Target="../slideLayouts/slideLayout326.xml"/><Relationship Id="rId10" Type="http://schemas.openxmlformats.org/officeDocument/2006/relationships/slideLayout" Target="../slideLayouts/slideLayout327.xml"/><Relationship Id="rId11" Type="http://schemas.openxmlformats.org/officeDocument/2006/relationships/slideLayout" Target="../slideLayouts/slideLayout328.xml"/><Relationship Id="rId12" Type="http://schemas.openxmlformats.org/officeDocument/2006/relationships/slideLayout" Target="../slideLayouts/slideLayout329.xml"/><Relationship Id="rId13" Type="http://schemas.openxmlformats.org/officeDocument/2006/relationships/slideLayout" Target="../slideLayouts/slideLayout330.xml"/><Relationship Id="rId14" Type="http://schemas.openxmlformats.org/officeDocument/2006/relationships/slideLayout" Target="../slideLayouts/slideLayout331.xml"/><Relationship Id="rId15" Type="http://schemas.openxmlformats.org/officeDocument/2006/relationships/slideLayout" Target="../slideLayouts/slideLayout332.xml"/><Relationship Id="rId16" Type="http://schemas.openxmlformats.org/officeDocument/2006/relationships/slideLayout" Target="../slideLayouts/slideLayout333.xml"/><Relationship Id="rId17" Type="http://schemas.openxmlformats.org/officeDocument/2006/relationships/slideLayout" Target="../slideLayouts/slideLayout334.xml"/><Relationship Id="rId18" Type="http://schemas.openxmlformats.org/officeDocument/2006/relationships/slideLayout" Target="../slideLayouts/slideLayout335.xml"/><Relationship Id="rId19"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37.xml"/><Relationship Id="rId8" Type="http://schemas.openxmlformats.org/officeDocument/2006/relationships/slideLayout" Target="../slideLayouts/slideLayout338.xml"/><Relationship Id="rId9" Type="http://schemas.openxmlformats.org/officeDocument/2006/relationships/slideLayout" Target="../slideLayouts/slideLayout339.xml"/><Relationship Id="rId10" Type="http://schemas.openxmlformats.org/officeDocument/2006/relationships/slideLayout" Target="../slideLayouts/slideLayout340.xml"/><Relationship Id="rId11" Type="http://schemas.openxmlformats.org/officeDocument/2006/relationships/slideLayout" Target="../slideLayouts/slideLayout341.xml"/><Relationship Id="rId12" Type="http://schemas.openxmlformats.org/officeDocument/2006/relationships/slideLayout" Target="../slideLayouts/slideLayout342.xml"/><Relationship Id="rId13" Type="http://schemas.openxmlformats.org/officeDocument/2006/relationships/slideLayout" Target="../slideLayouts/slideLayout343.xml"/><Relationship Id="rId14" Type="http://schemas.openxmlformats.org/officeDocument/2006/relationships/slideLayout" Target="../slideLayouts/slideLayout344.xml"/><Relationship Id="rId15" Type="http://schemas.openxmlformats.org/officeDocument/2006/relationships/slideLayout" Target="../slideLayouts/slideLayout345.xml"/><Relationship Id="rId16" Type="http://schemas.openxmlformats.org/officeDocument/2006/relationships/slideLayout" Target="../slideLayouts/slideLayout346.xml"/><Relationship Id="rId17" Type="http://schemas.openxmlformats.org/officeDocument/2006/relationships/slideLayout" Target="../slideLayouts/slideLayout347.xml"/><Relationship Id="rId18"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49.xml"/><Relationship Id="rId7" Type="http://schemas.openxmlformats.org/officeDocument/2006/relationships/slideLayout" Target="../slideLayouts/slideLayout350.xml"/><Relationship Id="rId8" Type="http://schemas.openxmlformats.org/officeDocument/2006/relationships/slideLayout" Target="../slideLayouts/slideLayout351.xml"/><Relationship Id="rId9" Type="http://schemas.openxmlformats.org/officeDocument/2006/relationships/slideLayout" Target="../slideLayouts/slideLayout352.xml"/><Relationship Id="rId10" Type="http://schemas.openxmlformats.org/officeDocument/2006/relationships/slideLayout" Target="../slideLayouts/slideLayout353.xml"/><Relationship Id="rId11" Type="http://schemas.openxmlformats.org/officeDocument/2006/relationships/slideLayout" Target="../slideLayouts/slideLayout354.xml"/><Relationship Id="rId12" Type="http://schemas.openxmlformats.org/officeDocument/2006/relationships/slideLayout" Target="../slideLayouts/slideLayout355.xml"/><Relationship Id="rId13" Type="http://schemas.openxmlformats.org/officeDocument/2006/relationships/slideLayout" Target="../slideLayouts/slideLayout356.xml"/><Relationship Id="rId14" Type="http://schemas.openxmlformats.org/officeDocument/2006/relationships/slideLayout" Target="../slideLayouts/slideLayout357.xml"/><Relationship Id="rId15" Type="http://schemas.openxmlformats.org/officeDocument/2006/relationships/slideLayout" Target="../slideLayouts/slideLayout358.xml"/><Relationship Id="rId16" Type="http://schemas.openxmlformats.org/officeDocument/2006/relationships/slideLayout" Target="../slideLayouts/slideLayout359.xml"/><Relationship Id="rId17"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61.xml"/><Relationship Id="rId8" Type="http://schemas.openxmlformats.org/officeDocument/2006/relationships/slideLayout" Target="../slideLayouts/slideLayout362.xml"/><Relationship Id="rId9" Type="http://schemas.openxmlformats.org/officeDocument/2006/relationships/slideLayout" Target="../slideLayouts/slideLayout363.xml"/><Relationship Id="rId10" Type="http://schemas.openxmlformats.org/officeDocument/2006/relationships/slideLayout" Target="../slideLayouts/slideLayout364.xml"/><Relationship Id="rId11" Type="http://schemas.openxmlformats.org/officeDocument/2006/relationships/slideLayout" Target="../slideLayouts/slideLayout365.xml"/><Relationship Id="rId12" Type="http://schemas.openxmlformats.org/officeDocument/2006/relationships/slideLayout" Target="../slideLayouts/slideLayout366.xml"/><Relationship Id="rId13" Type="http://schemas.openxmlformats.org/officeDocument/2006/relationships/slideLayout" Target="../slideLayouts/slideLayout367.xml"/><Relationship Id="rId14" Type="http://schemas.openxmlformats.org/officeDocument/2006/relationships/slideLayout" Target="../slideLayouts/slideLayout368.xml"/><Relationship Id="rId15" Type="http://schemas.openxmlformats.org/officeDocument/2006/relationships/slideLayout" Target="../slideLayouts/slideLayout369.xml"/><Relationship Id="rId16" Type="http://schemas.openxmlformats.org/officeDocument/2006/relationships/slideLayout" Target="../slideLayouts/slideLayout370.xml"/><Relationship Id="rId17" Type="http://schemas.openxmlformats.org/officeDocument/2006/relationships/slideLayout" Target="../slideLayouts/slideLayout371.xml"/><Relationship Id="rId18"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73.xml"/><Relationship Id="rId8" Type="http://schemas.openxmlformats.org/officeDocument/2006/relationships/slideLayout" Target="../slideLayouts/slideLayout374.xml"/><Relationship Id="rId9" Type="http://schemas.openxmlformats.org/officeDocument/2006/relationships/slideLayout" Target="../slideLayouts/slideLayout375.xml"/><Relationship Id="rId10" Type="http://schemas.openxmlformats.org/officeDocument/2006/relationships/slideLayout" Target="../slideLayouts/slideLayout376.xml"/><Relationship Id="rId11" Type="http://schemas.openxmlformats.org/officeDocument/2006/relationships/slideLayout" Target="../slideLayouts/slideLayout377.xml"/><Relationship Id="rId12" Type="http://schemas.openxmlformats.org/officeDocument/2006/relationships/slideLayout" Target="../slideLayouts/slideLayout378.xml"/><Relationship Id="rId13" Type="http://schemas.openxmlformats.org/officeDocument/2006/relationships/slideLayout" Target="../slideLayouts/slideLayout379.xml"/><Relationship Id="rId14" Type="http://schemas.openxmlformats.org/officeDocument/2006/relationships/slideLayout" Target="../slideLayouts/slideLayout380.xml"/><Relationship Id="rId15" Type="http://schemas.openxmlformats.org/officeDocument/2006/relationships/slideLayout" Target="../slideLayouts/slideLayout381.xml"/><Relationship Id="rId16" Type="http://schemas.openxmlformats.org/officeDocument/2006/relationships/slideLayout" Target="../slideLayouts/slideLayout382.xml"/><Relationship Id="rId17" Type="http://schemas.openxmlformats.org/officeDocument/2006/relationships/slideLayout" Target="../slideLayouts/slideLayout383.xml"/><Relationship Id="rId18"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97.xml"/><Relationship Id="rId8" Type="http://schemas.openxmlformats.org/officeDocument/2006/relationships/slideLayout" Target="../slideLayouts/slideLayout398.xml"/><Relationship Id="rId9" Type="http://schemas.openxmlformats.org/officeDocument/2006/relationships/slideLayout" Target="../slideLayouts/slideLayout399.xml"/><Relationship Id="rId10" Type="http://schemas.openxmlformats.org/officeDocument/2006/relationships/slideLayout" Target="../slideLayouts/slideLayout400.xml"/><Relationship Id="rId11" Type="http://schemas.openxmlformats.org/officeDocument/2006/relationships/slideLayout" Target="../slideLayouts/slideLayout401.xml"/><Relationship Id="rId12" Type="http://schemas.openxmlformats.org/officeDocument/2006/relationships/slideLayout" Target="../slideLayouts/slideLayout402.xml"/><Relationship Id="rId13" Type="http://schemas.openxmlformats.org/officeDocument/2006/relationships/slideLayout" Target="../slideLayouts/slideLayout403.xml"/><Relationship Id="rId14" Type="http://schemas.openxmlformats.org/officeDocument/2006/relationships/slideLayout" Target="../slideLayouts/slideLayout404.xml"/><Relationship Id="rId15" Type="http://schemas.openxmlformats.org/officeDocument/2006/relationships/slideLayout" Target="../slideLayouts/slideLayout405.xml"/><Relationship Id="rId16" Type="http://schemas.openxmlformats.org/officeDocument/2006/relationships/slideLayout" Target="../slideLayouts/slideLayout406.xml"/><Relationship Id="rId17" Type="http://schemas.openxmlformats.org/officeDocument/2006/relationships/slideLayout" Target="../slideLayouts/slideLayout407.xml"/><Relationship Id="rId18"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09.xml"/><Relationship Id="rId8" Type="http://schemas.openxmlformats.org/officeDocument/2006/relationships/slideLayout" Target="../slideLayouts/slideLayout410.xml"/><Relationship Id="rId9" Type="http://schemas.openxmlformats.org/officeDocument/2006/relationships/slideLayout" Target="../slideLayouts/slideLayout411.xml"/><Relationship Id="rId10" Type="http://schemas.openxmlformats.org/officeDocument/2006/relationships/slideLayout" Target="../slideLayouts/slideLayout412.xml"/><Relationship Id="rId11" Type="http://schemas.openxmlformats.org/officeDocument/2006/relationships/slideLayout" Target="../slideLayouts/slideLayout413.xml"/><Relationship Id="rId12" Type="http://schemas.openxmlformats.org/officeDocument/2006/relationships/slideLayout" Target="../slideLayouts/slideLayout414.xml"/><Relationship Id="rId13" Type="http://schemas.openxmlformats.org/officeDocument/2006/relationships/slideLayout" Target="../slideLayouts/slideLayout415.xml"/><Relationship Id="rId14" Type="http://schemas.openxmlformats.org/officeDocument/2006/relationships/slideLayout" Target="../slideLayouts/slideLayout416.xml"/><Relationship Id="rId15" Type="http://schemas.openxmlformats.org/officeDocument/2006/relationships/slideLayout" Target="../slideLayouts/slideLayout417.xml"/><Relationship Id="rId16" Type="http://schemas.openxmlformats.org/officeDocument/2006/relationships/slideLayout" Target="../slideLayouts/slideLayout418.xml"/><Relationship Id="rId17" Type="http://schemas.openxmlformats.org/officeDocument/2006/relationships/slideLayout" Target="../slideLayouts/slideLayout419.xml"/><Relationship Id="rId18"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21.xml"/><Relationship Id="rId8" Type="http://schemas.openxmlformats.org/officeDocument/2006/relationships/slideLayout" Target="../slideLayouts/slideLayout422.xml"/><Relationship Id="rId9" Type="http://schemas.openxmlformats.org/officeDocument/2006/relationships/slideLayout" Target="../slideLayouts/slideLayout423.xml"/><Relationship Id="rId10" Type="http://schemas.openxmlformats.org/officeDocument/2006/relationships/slideLayout" Target="../slideLayouts/slideLayout424.xml"/><Relationship Id="rId11" Type="http://schemas.openxmlformats.org/officeDocument/2006/relationships/slideLayout" Target="../slideLayouts/slideLayout425.xml"/><Relationship Id="rId12" Type="http://schemas.openxmlformats.org/officeDocument/2006/relationships/slideLayout" Target="../slideLayouts/slideLayout426.xml"/><Relationship Id="rId13" Type="http://schemas.openxmlformats.org/officeDocument/2006/relationships/slideLayout" Target="../slideLayouts/slideLayout427.xml"/><Relationship Id="rId14" Type="http://schemas.openxmlformats.org/officeDocument/2006/relationships/slideLayout" Target="../slideLayouts/slideLayout428.xml"/><Relationship Id="rId15" Type="http://schemas.openxmlformats.org/officeDocument/2006/relationships/slideLayout" Target="../slideLayouts/slideLayout429.xml"/><Relationship Id="rId16" Type="http://schemas.openxmlformats.org/officeDocument/2006/relationships/slideLayout" Target="../slideLayouts/slideLayout430.xml"/><Relationship Id="rId17" Type="http://schemas.openxmlformats.org/officeDocument/2006/relationships/slideLayout" Target="../slideLayouts/slideLayout431.xml"/><Relationship Id="rId18"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33.xml"/><Relationship Id="rId8" Type="http://schemas.openxmlformats.org/officeDocument/2006/relationships/slideLayout" Target="../slideLayouts/slideLayout434.xml"/><Relationship Id="rId9" Type="http://schemas.openxmlformats.org/officeDocument/2006/relationships/slideLayout" Target="../slideLayouts/slideLayout435.xml"/><Relationship Id="rId10" Type="http://schemas.openxmlformats.org/officeDocument/2006/relationships/slideLayout" Target="../slideLayouts/slideLayout436.xml"/><Relationship Id="rId11" Type="http://schemas.openxmlformats.org/officeDocument/2006/relationships/slideLayout" Target="../slideLayouts/slideLayout437.xml"/><Relationship Id="rId12" Type="http://schemas.openxmlformats.org/officeDocument/2006/relationships/slideLayout" Target="../slideLayouts/slideLayout438.xml"/><Relationship Id="rId13" Type="http://schemas.openxmlformats.org/officeDocument/2006/relationships/slideLayout" Target="../slideLayouts/slideLayout439.xml"/><Relationship Id="rId14" Type="http://schemas.openxmlformats.org/officeDocument/2006/relationships/slideLayout" Target="../slideLayouts/slideLayout440.xml"/><Relationship Id="rId15" Type="http://schemas.openxmlformats.org/officeDocument/2006/relationships/slideLayout" Target="../slideLayouts/slideLayout441.xml"/><Relationship Id="rId16" Type="http://schemas.openxmlformats.org/officeDocument/2006/relationships/slideLayout" Target="../slideLayouts/slideLayout442.xml"/><Relationship Id="rId17" Type="http://schemas.openxmlformats.org/officeDocument/2006/relationships/slideLayout" Target="../slideLayouts/slideLayout443.xml"/><Relationship Id="rId18"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445.xml"/><Relationship Id="rId12" Type="http://schemas.openxmlformats.org/officeDocument/2006/relationships/slideLayout" Target="../slideLayouts/slideLayout446.xml"/><Relationship Id="rId13" Type="http://schemas.openxmlformats.org/officeDocument/2006/relationships/slideLayout" Target="../slideLayouts/slideLayout447.xml"/><Relationship Id="rId14" Type="http://schemas.openxmlformats.org/officeDocument/2006/relationships/slideLayout" Target="../slideLayouts/slideLayout448.xml"/><Relationship Id="rId15" Type="http://schemas.openxmlformats.org/officeDocument/2006/relationships/slideLayout" Target="../slideLayouts/slideLayout449.xml"/><Relationship Id="rId16" Type="http://schemas.openxmlformats.org/officeDocument/2006/relationships/slideLayout" Target="../slideLayouts/slideLayout450.xml"/><Relationship Id="rId17" Type="http://schemas.openxmlformats.org/officeDocument/2006/relationships/slideLayout" Target="../slideLayouts/slideLayout451.xml"/><Relationship Id="rId18" Type="http://schemas.openxmlformats.org/officeDocument/2006/relationships/slideLayout" Target="../slideLayouts/slideLayout452.xml"/><Relationship Id="rId19" Type="http://schemas.openxmlformats.org/officeDocument/2006/relationships/slideLayout" Target="../slideLayouts/slideLayout453.xml"/><Relationship Id="rId20" Type="http://schemas.openxmlformats.org/officeDocument/2006/relationships/slideLayout" Target="../slideLayouts/slideLayout454.xml"/><Relationship Id="rId21" Type="http://schemas.openxmlformats.org/officeDocument/2006/relationships/slideLayout" Target="../slideLayouts/slideLayout455.xml"/><Relationship Id="rId22"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7.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 name="PlaceHolder 3"/>
          <p:cNvSpPr>
            <a:spLocks noGrp="1"/>
          </p:cNvSpPr>
          <p:nvPr>
            <p:ph type="dt" idx="1"/>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03EC-816F-4BE9-8A8F-6675AF02FB34}"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58AE-A319-41FA-BD11-612F83D89AB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07" name="图片 7" descr=""/>
          <p:cNvPicPr/>
          <p:nvPr/>
        </p:nvPicPr>
        <p:blipFill>
          <a:blip r:embed="rId2"/>
          <a:stretch/>
        </p:blipFill>
        <p:spPr>
          <a:xfrm>
            <a:off x="10899720" y="5443560"/>
            <a:ext cx="1292400" cy="1414440"/>
          </a:xfrm>
          <a:prstGeom prst="rect">
            <a:avLst/>
          </a:prstGeom>
          <a:ln w="0">
            <a:noFill/>
          </a:ln>
        </p:spPr>
      </p:pic>
      <p:pic>
        <p:nvPicPr>
          <p:cNvPr id="408" name="图片 8" descr=""/>
          <p:cNvPicPr/>
          <p:nvPr/>
        </p:nvPicPr>
        <p:blipFill>
          <a:blip r:embed="rId3"/>
          <a:stretch/>
        </p:blipFill>
        <p:spPr>
          <a:xfrm>
            <a:off x="311040" y="6194520"/>
            <a:ext cx="507960" cy="431640"/>
          </a:xfrm>
          <a:prstGeom prst="rect">
            <a:avLst/>
          </a:prstGeom>
          <a:ln w="0">
            <a:noFill/>
          </a:ln>
        </p:spPr>
      </p:pic>
      <p:pic>
        <p:nvPicPr>
          <p:cNvPr id="409" name="图片 9" descr=""/>
          <p:cNvPicPr/>
          <p:nvPr/>
        </p:nvPicPr>
        <p:blipFill>
          <a:blip r:embed="rId4"/>
          <a:stretch/>
        </p:blipFill>
        <p:spPr>
          <a:xfrm>
            <a:off x="10291680" y="6410160"/>
            <a:ext cx="354240" cy="336600"/>
          </a:xfrm>
          <a:prstGeom prst="rect">
            <a:avLst/>
          </a:prstGeom>
          <a:ln w="0">
            <a:noFill/>
          </a:ln>
        </p:spPr>
      </p:pic>
      <p:pic>
        <p:nvPicPr>
          <p:cNvPr id="410" name="图片 10" descr=""/>
          <p:cNvPicPr/>
          <p:nvPr/>
        </p:nvPicPr>
        <p:blipFill>
          <a:blip r:embed="rId5"/>
          <a:stretch/>
        </p:blipFill>
        <p:spPr>
          <a:xfrm>
            <a:off x="260280" y="114480"/>
            <a:ext cx="546120" cy="534960"/>
          </a:xfrm>
          <a:prstGeom prst="rect">
            <a:avLst/>
          </a:prstGeom>
          <a:ln w="0">
            <a:noFill/>
          </a:ln>
        </p:spPr>
      </p:pic>
      <p:pic>
        <p:nvPicPr>
          <p:cNvPr id="411" name="图片 11" descr=""/>
          <p:cNvPicPr/>
          <p:nvPr/>
        </p:nvPicPr>
        <p:blipFill>
          <a:blip r:embed="rId6"/>
          <a:stretch/>
        </p:blipFill>
        <p:spPr>
          <a:xfrm>
            <a:off x="11442600" y="54000"/>
            <a:ext cx="615960" cy="608040"/>
          </a:xfrm>
          <a:prstGeom prst="rect">
            <a:avLst/>
          </a:prstGeom>
          <a:ln w="0">
            <a:noFill/>
          </a:ln>
        </p:spPr>
      </p:pic>
      <p:sp>
        <p:nvSpPr>
          <p:cNvPr id="4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1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14" name="PlaceHolder 3"/>
          <p:cNvSpPr>
            <a:spLocks noGrp="1"/>
          </p:cNvSpPr>
          <p:nvPr>
            <p:ph type="dt" idx="28"/>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264F-ABBE-4A23-A9BC-14519470566A}"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15" name="PlaceHolder 4"/>
          <p:cNvSpPr>
            <a:spLocks noGrp="1"/>
          </p:cNvSpPr>
          <p:nvPr>
            <p:ph type="ftr" idx="2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PlaceHolder 5"/>
          <p:cNvSpPr>
            <a:spLocks noGrp="1"/>
          </p:cNvSpPr>
          <p:nvPr>
            <p:ph type="sldNum" idx="30"/>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FE1B-AB37-4FEC-A523-CFEB4BECDCE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54" name="图片 7" descr=""/>
          <p:cNvPicPr/>
          <p:nvPr/>
        </p:nvPicPr>
        <p:blipFill>
          <a:blip r:embed="rId2"/>
          <a:stretch/>
        </p:blipFill>
        <p:spPr>
          <a:xfrm>
            <a:off x="10899720" y="5443560"/>
            <a:ext cx="1292400" cy="1414440"/>
          </a:xfrm>
          <a:prstGeom prst="rect">
            <a:avLst/>
          </a:prstGeom>
          <a:ln w="0">
            <a:noFill/>
          </a:ln>
        </p:spPr>
      </p:pic>
      <p:pic>
        <p:nvPicPr>
          <p:cNvPr id="455" name="图片 8" descr=""/>
          <p:cNvPicPr/>
          <p:nvPr/>
        </p:nvPicPr>
        <p:blipFill>
          <a:blip r:embed="rId3"/>
          <a:stretch/>
        </p:blipFill>
        <p:spPr>
          <a:xfrm>
            <a:off x="311040" y="6194520"/>
            <a:ext cx="507960" cy="431640"/>
          </a:xfrm>
          <a:prstGeom prst="rect">
            <a:avLst/>
          </a:prstGeom>
          <a:ln w="0">
            <a:noFill/>
          </a:ln>
        </p:spPr>
      </p:pic>
      <p:pic>
        <p:nvPicPr>
          <p:cNvPr id="456" name="图片 9" descr=""/>
          <p:cNvPicPr/>
          <p:nvPr/>
        </p:nvPicPr>
        <p:blipFill>
          <a:blip r:embed="rId4"/>
          <a:stretch/>
        </p:blipFill>
        <p:spPr>
          <a:xfrm>
            <a:off x="10291680" y="6410160"/>
            <a:ext cx="354240" cy="336600"/>
          </a:xfrm>
          <a:prstGeom prst="rect">
            <a:avLst/>
          </a:prstGeom>
          <a:ln w="0">
            <a:noFill/>
          </a:ln>
        </p:spPr>
      </p:pic>
      <p:pic>
        <p:nvPicPr>
          <p:cNvPr id="457" name="图片 10" descr=""/>
          <p:cNvPicPr/>
          <p:nvPr/>
        </p:nvPicPr>
        <p:blipFill>
          <a:blip r:embed="rId5"/>
          <a:stretch/>
        </p:blipFill>
        <p:spPr>
          <a:xfrm>
            <a:off x="260280" y="114480"/>
            <a:ext cx="546120" cy="534960"/>
          </a:xfrm>
          <a:prstGeom prst="rect">
            <a:avLst/>
          </a:prstGeom>
          <a:ln w="0">
            <a:noFill/>
          </a:ln>
        </p:spPr>
      </p:pic>
      <p:pic>
        <p:nvPicPr>
          <p:cNvPr id="458" name="图片 11" descr=""/>
          <p:cNvPicPr/>
          <p:nvPr/>
        </p:nvPicPr>
        <p:blipFill>
          <a:blip r:embed="rId6"/>
          <a:stretch/>
        </p:blipFill>
        <p:spPr>
          <a:xfrm>
            <a:off x="11442600" y="54000"/>
            <a:ext cx="615960" cy="608040"/>
          </a:xfrm>
          <a:prstGeom prst="rect">
            <a:avLst/>
          </a:prstGeom>
          <a:ln w="0">
            <a:noFill/>
          </a:ln>
        </p:spPr>
      </p:pic>
      <p:sp>
        <p:nvSpPr>
          <p:cNvPr id="4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6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61" name="PlaceHolder 3"/>
          <p:cNvSpPr>
            <a:spLocks noGrp="1"/>
          </p:cNvSpPr>
          <p:nvPr>
            <p:ph type="dt" idx="31"/>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B83A-E129-49E7-A6FE-1EC433FEBE2B}"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62" name="PlaceHolder 4"/>
          <p:cNvSpPr>
            <a:spLocks noGrp="1"/>
          </p:cNvSpPr>
          <p:nvPr>
            <p:ph type="ftr" idx="3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3" name="PlaceHolder 5"/>
          <p:cNvSpPr>
            <a:spLocks noGrp="1"/>
          </p:cNvSpPr>
          <p:nvPr>
            <p:ph type="sldNum" idx="33"/>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D519-D345-4490-82F7-8607076237D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01" name="图片 6" descr=""/>
          <p:cNvPicPr/>
          <p:nvPr/>
        </p:nvPicPr>
        <p:blipFill>
          <a:blip r:embed="rId2"/>
          <a:stretch/>
        </p:blipFill>
        <p:spPr>
          <a:xfrm>
            <a:off x="10899720" y="5443560"/>
            <a:ext cx="1292400" cy="1414440"/>
          </a:xfrm>
          <a:prstGeom prst="rect">
            <a:avLst/>
          </a:prstGeom>
          <a:ln w="0">
            <a:noFill/>
          </a:ln>
        </p:spPr>
      </p:pic>
      <p:pic>
        <p:nvPicPr>
          <p:cNvPr id="502" name="图片 7" descr=""/>
          <p:cNvPicPr/>
          <p:nvPr/>
        </p:nvPicPr>
        <p:blipFill>
          <a:blip r:embed="rId3"/>
          <a:stretch/>
        </p:blipFill>
        <p:spPr>
          <a:xfrm>
            <a:off x="311040" y="6194520"/>
            <a:ext cx="507960" cy="431640"/>
          </a:xfrm>
          <a:prstGeom prst="rect">
            <a:avLst/>
          </a:prstGeom>
          <a:ln w="0">
            <a:noFill/>
          </a:ln>
        </p:spPr>
      </p:pic>
      <p:pic>
        <p:nvPicPr>
          <p:cNvPr id="503" name="图片 8" descr=""/>
          <p:cNvPicPr/>
          <p:nvPr/>
        </p:nvPicPr>
        <p:blipFill>
          <a:blip r:embed="rId4"/>
          <a:stretch/>
        </p:blipFill>
        <p:spPr>
          <a:xfrm>
            <a:off x="10291680" y="6410160"/>
            <a:ext cx="354240" cy="336600"/>
          </a:xfrm>
          <a:prstGeom prst="rect">
            <a:avLst/>
          </a:prstGeom>
          <a:ln w="0">
            <a:noFill/>
          </a:ln>
        </p:spPr>
      </p:pic>
      <p:pic>
        <p:nvPicPr>
          <p:cNvPr id="504" name="图片 9" descr=""/>
          <p:cNvPicPr/>
          <p:nvPr/>
        </p:nvPicPr>
        <p:blipFill>
          <a:blip r:embed="rId5"/>
          <a:stretch/>
        </p:blipFill>
        <p:spPr>
          <a:xfrm>
            <a:off x="260280" y="114480"/>
            <a:ext cx="546120" cy="534960"/>
          </a:xfrm>
          <a:prstGeom prst="rect">
            <a:avLst/>
          </a:prstGeom>
          <a:ln w="0">
            <a:noFill/>
          </a:ln>
        </p:spPr>
      </p:pic>
      <p:pic>
        <p:nvPicPr>
          <p:cNvPr id="505" name="图片 10" descr=""/>
          <p:cNvPicPr/>
          <p:nvPr/>
        </p:nvPicPr>
        <p:blipFill>
          <a:blip r:embed="rId6"/>
          <a:stretch/>
        </p:blipFill>
        <p:spPr>
          <a:xfrm>
            <a:off x="11442600" y="54000"/>
            <a:ext cx="615960" cy="608040"/>
          </a:xfrm>
          <a:prstGeom prst="rect">
            <a:avLst/>
          </a:prstGeom>
          <a:ln w="0">
            <a:noFill/>
          </a:ln>
        </p:spPr>
      </p:pic>
      <p:sp>
        <p:nvSpPr>
          <p:cNvPr id="5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0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08" name="PlaceHolder 3"/>
          <p:cNvSpPr>
            <a:spLocks noGrp="1"/>
          </p:cNvSpPr>
          <p:nvPr>
            <p:ph type="dt" idx="34"/>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019C-819B-43AC-ACD7-BF81A5F6793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09" name="PlaceHolder 4"/>
          <p:cNvSpPr>
            <a:spLocks noGrp="1"/>
          </p:cNvSpPr>
          <p:nvPr>
            <p:ph type="ftr" idx="3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0" name="PlaceHolder 5"/>
          <p:cNvSpPr>
            <a:spLocks noGrp="1"/>
          </p:cNvSpPr>
          <p:nvPr>
            <p:ph type="sldNum" idx="36"/>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6D34-A1C2-411A-A45E-D789A0921FB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48" name="图片 5" descr=""/>
          <p:cNvPicPr/>
          <p:nvPr/>
        </p:nvPicPr>
        <p:blipFill>
          <a:blip r:embed="rId2"/>
          <a:stretch/>
        </p:blipFill>
        <p:spPr>
          <a:xfrm>
            <a:off x="10899720" y="5443560"/>
            <a:ext cx="1292400" cy="1414440"/>
          </a:xfrm>
          <a:prstGeom prst="rect">
            <a:avLst/>
          </a:prstGeom>
          <a:ln w="0">
            <a:noFill/>
          </a:ln>
        </p:spPr>
      </p:pic>
      <p:pic>
        <p:nvPicPr>
          <p:cNvPr id="549" name="图片 7" descr=""/>
          <p:cNvPicPr/>
          <p:nvPr/>
        </p:nvPicPr>
        <p:blipFill>
          <a:blip r:embed="rId3"/>
          <a:stretch/>
        </p:blipFill>
        <p:spPr>
          <a:xfrm>
            <a:off x="311040" y="6194520"/>
            <a:ext cx="507960" cy="431640"/>
          </a:xfrm>
          <a:prstGeom prst="rect">
            <a:avLst/>
          </a:prstGeom>
          <a:ln w="0">
            <a:noFill/>
          </a:ln>
        </p:spPr>
      </p:pic>
      <p:pic>
        <p:nvPicPr>
          <p:cNvPr id="550" name="图片 8" descr=""/>
          <p:cNvPicPr/>
          <p:nvPr/>
        </p:nvPicPr>
        <p:blipFill>
          <a:blip r:embed="rId4"/>
          <a:stretch/>
        </p:blipFill>
        <p:spPr>
          <a:xfrm>
            <a:off x="10291680" y="6410160"/>
            <a:ext cx="354240" cy="336600"/>
          </a:xfrm>
          <a:prstGeom prst="rect">
            <a:avLst/>
          </a:prstGeom>
          <a:ln w="0">
            <a:noFill/>
          </a:ln>
        </p:spPr>
      </p:pic>
      <p:pic>
        <p:nvPicPr>
          <p:cNvPr id="551" name="图片 9" descr=""/>
          <p:cNvPicPr/>
          <p:nvPr/>
        </p:nvPicPr>
        <p:blipFill>
          <a:blip r:embed="rId5"/>
          <a:stretch/>
        </p:blipFill>
        <p:spPr>
          <a:xfrm>
            <a:off x="260280" y="114480"/>
            <a:ext cx="546120" cy="534960"/>
          </a:xfrm>
          <a:prstGeom prst="rect">
            <a:avLst/>
          </a:prstGeom>
          <a:ln w="0">
            <a:noFill/>
          </a:ln>
        </p:spPr>
      </p:pic>
      <p:pic>
        <p:nvPicPr>
          <p:cNvPr id="552" name="图片 10" descr=""/>
          <p:cNvPicPr/>
          <p:nvPr/>
        </p:nvPicPr>
        <p:blipFill>
          <a:blip r:embed="rId6"/>
          <a:stretch/>
        </p:blipFill>
        <p:spPr>
          <a:xfrm>
            <a:off x="11442600" y="54000"/>
            <a:ext cx="615960" cy="608040"/>
          </a:xfrm>
          <a:prstGeom prst="rect">
            <a:avLst/>
          </a:prstGeom>
          <a:ln w="0">
            <a:noFill/>
          </a:ln>
        </p:spPr>
      </p:pic>
      <p:sp>
        <p:nvSpPr>
          <p:cNvPr id="5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5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55" name="PlaceHolder 3"/>
          <p:cNvSpPr>
            <a:spLocks noGrp="1"/>
          </p:cNvSpPr>
          <p:nvPr>
            <p:ph type="dt" idx="37"/>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3EC3-A4DE-4D06-B535-BFB4A872F9A4}"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56" name="PlaceHolder 4"/>
          <p:cNvSpPr>
            <a:spLocks noGrp="1"/>
          </p:cNvSpPr>
          <p:nvPr>
            <p:ph type="ftr" idx="3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7" name="PlaceHolder 5"/>
          <p:cNvSpPr>
            <a:spLocks noGrp="1"/>
          </p:cNvSpPr>
          <p:nvPr>
            <p:ph type="sldNum" idx="39"/>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FC86-3EBD-498B-86FE-8B1175FF328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5" name="图片 5" descr=""/>
          <p:cNvPicPr/>
          <p:nvPr/>
        </p:nvPicPr>
        <p:blipFill>
          <a:blip r:embed="rId2"/>
          <a:stretch/>
        </p:blipFill>
        <p:spPr>
          <a:xfrm>
            <a:off x="2868480" y="3490920"/>
            <a:ext cx="2543400" cy="3108240"/>
          </a:xfrm>
          <a:prstGeom prst="rect">
            <a:avLst/>
          </a:prstGeom>
          <a:ln w="0">
            <a:noFill/>
          </a:ln>
        </p:spPr>
      </p:pic>
      <p:pic>
        <p:nvPicPr>
          <p:cNvPr id="596" name="图片 6" descr=""/>
          <p:cNvPicPr/>
          <p:nvPr/>
        </p:nvPicPr>
        <p:blipFill>
          <a:blip r:embed="rId3"/>
          <a:stretch/>
        </p:blipFill>
        <p:spPr>
          <a:xfrm>
            <a:off x="6480" y="1612800"/>
            <a:ext cx="3257280" cy="5243760"/>
          </a:xfrm>
          <a:prstGeom prst="rect">
            <a:avLst/>
          </a:prstGeom>
          <a:ln w="0">
            <a:noFill/>
          </a:ln>
        </p:spPr>
      </p:pic>
      <p:pic>
        <p:nvPicPr>
          <p:cNvPr id="597" name="图片 6" descr=""/>
          <p:cNvPicPr/>
          <p:nvPr/>
        </p:nvPicPr>
        <p:blipFill>
          <a:blip r:embed="rId4"/>
          <a:stretch/>
        </p:blipFill>
        <p:spPr>
          <a:xfrm rot="17330400">
            <a:off x="3570480" y="5589000"/>
            <a:ext cx="568440" cy="542880"/>
          </a:xfrm>
          <a:prstGeom prst="rect">
            <a:avLst/>
          </a:prstGeom>
          <a:ln w="0">
            <a:noFill/>
          </a:ln>
        </p:spPr>
      </p:pic>
      <p:pic>
        <p:nvPicPr>
          <p:cNvPr id="598" name="图片 5" descr=""/>
          <p:cNvPicPr/>
          <p:nvPr/>
        </p:nvPicPr>
        <p:blipFill>
          <a:blip r:embed="rId5"/>
          <a:stretch/>
        </p:blipFill>
        <p:spPr>
          <a:xfrm rot="20422800">
            <a:off x="1217160" y="5847840"/>
            <a:ext cx="563760" cy="536760"/>
          </a:xfrm>
          <a:prstGeom prst="rect">
            <a:avLst/>
          </a:prstGeom>
          <a:ln w="0">
            <a:noFill/>
          </a:ln>
        </p:spPr>
      </p:pic>
      <p:pic>
        <p:nvPicPr>
          <p:cNvPr id="599" name="图片 9" descr=""/>
          <p:cNvPicPr/>
          <p:nvPr/>
        </p:nvPicPr>
        <p:blipFill>
          <a:blip r:embed="rId6"/>
          <a:stretch/>
        </p:blipFill>
        <p:spPr>
          <a:xfrm>
            <a:off x="4964040" y="4621320"/>
            <a:ext cx="1830600" cy="2236680"/>
          </a:xfrm>
          <a:prstGeom prst="rect">
            <a:avLst/>
          </a:prstGeom>
          <a:ln w="0">
            <a:noFill/>
          </a:ln>
        </p:spPr>
      </p:pic>
      <p:pic>
        <p:nvPicPr>
          <p:cNvPr id="600" name="图片 10" descr=""/>
          <p:cNvPicPr/>
          <p:nvPr/>
        </p:nvPicPr>
        <p:blipFill>
          <a:blip r:embed="rId7"/>
          <a:stretch/>
        </p:blipFill>
        <p:spPr>
          <a:xfrm>
            <a:off x="3616200" y="369720"/>
            <a:ext cx="2659320" cy="3116520"/>
          </a:xfrm>
          <a:prstGeom prst="rect">
            <a:avLst/>
          </a:prstGeom>
          <a:ln w="0">
            <a:noFill/>
          </a:ln>
        </p:spPr>
      </p:pic>
      <p:pic>
        <p:nvPicPr>
          <p:cNvPr id="601" name="图片 3" descr=""/>
          <p:cNvPicPr/>
          <p:nvPr/>
        </p:nvPicPr>
        <p:blipFill>
          <a:blip r:embed="rId8"/>
          <a:stretch/>
        </p:blipFill>
        <p:spPr>
          <a:xfrm flipH="1" rot="20731200">
            <a:off x="10271880" y="1108080"/>
            <a:ext cx="1067040" cy="1046160"/>
          </a:xfrm>
          <a:prstGeom prst="rect">
            <a:avLst/>
          </a:prstGeom>
          <a:ln w="0">
            <a:noFill/>
          </a:ln>
        </p:spPr>
      </p:pic>
      <p:pic>
        <p:nvPicPr>
          <p:cNvPr id="602" name="图片 4" descr=""/>
          <p:cNvPicPr/>
          <p:nvPr/>
        </p:nvPicPr>
        <p:blipFill>
          <a:blip r:embed="rId9"/>
          <a:stretch/>
        </p:blipFill>
        <p:spPr>
          <a:xfrm>
            <a:off x="8472600" y="5543640"/>
            <a:ext cx="558720" cy="533160"/>
          </a:xfrm>
          <a:prstGeom prst="rect">
            <a:avLst/>
          </a:prstGeom>
          <a:ln w="0">
            <a:noFill/>
          </a:ln>
        </p:spPr>
      </p:pic>
      <p:pic>
        <p:nvPicPr>
          <p:cNvPr id="603" name="图片 3" descr=""/>
          <p:cNvPicPr/>
          <p:nvPr/>
        </p:nvPicPr>
        <p:blipFill>
          <a:blip r:embed="rId10"/>
          <a:stretch/>
        </p:blipFill>
        <p:spPr>
          <a:xfrm>
            <a:off x="2421000" y="1197000"/>
            <a:ext cx="950760" cy="933480"/>
          </a:xfrm>
          <a:prstGeom prst="rect">
            <a:avLst/>
          </a:prstGeom>
          <a:ln w="0">
            <a:noFill/>
          </a:ln>
        </p:spPr>
      </p:pic>
      <p:sp>
        <p:nvSpPr>
          <p:cNvPr id="6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0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06" name="PlaceHolder 3"/>
          <p:cNvSpPr>
            <a:spLocks noGrp="1"/>
          </p:cNvSpPr>
          <p:nvPr>
            <p:ph type="dt" idx="40"/>
          </p:nvPr>
        </p:nvSpPr>
        <p:spPr>
          <a:xfrm>
            <a:off x="72396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C62D-DCF9-4608-AD3F-8AB43974F56D}"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07" name="PlaceHolder 4"/>
          <p:cNvSpPr>
            <a:spLocks noGrp="1"/>
          </p:cNvSpPr>
          <p:nvPr>
            <p:ph type="ftr" idx="4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8" name="PlaceHolder 5"/>
          <p:cNvSpPr>
            <a:spLocks noGrp="1"/>
          </p:cNvSpPr>
          <p:nvPr>
            <p:ph type="sldNum" idx="4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014E-3D19-4770-BCBB-35F716AB3D6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6"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4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49" name="PlaceHolder 3"/>
          <p:cNvSpPr>
            <a:spLocks noGrp="1"/>
          </p:cNvSpPr>
          <p:nvPr>
            <p:ph type="dt" idx="43"/>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7917-34AB-458E-B628-843F6CBAC163}"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50" name="PlaceHolder 4"/>
          <p:cNvSpPr>
            <a:spLocks noGrp="1"/>
          </p:cNvSpPr>
          <p:nvPr>
            <p:ph type="ftr" idx="4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1" name="PlaceHolder 5"/>
          <p:cNvSpPr>
            <a:spLocks noGrp="1"/>
          </p:cNvSpPr>
          <p:nvPr>
            <p:ph type="sldNum" idx="45"/>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6B07-112A-4D2B-9387-FB24A44988A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89" name="图片 5" descr=""/>
          <p:cNvPicPr/>
          <p:nvPr/>
        </p:nvPicPr>
        <p:blipFill>
          <a:blip r:embed="rId2"/>
          <a:stretch/>
        </p:blipFill>
        <p:spPr>
          <a:xfrm rot="19920000">
            <a:off x="1331640" y="5760720"/>
            <a:ext cx="709560" cy="676080"/>
          </a:xfrm>
          <a:prstGeom prst="rect">
            <a:avLst/>
          </a:prstGeom>
          <a:ln w="0">
            <a:noFill/>
          </a:ln>
        </p:spPr>
      </p:pic>
      <p:pic>
        <p:nvPicPr>
          <p:cNvPr id="690" name="图片 6" descr=""/>
          <p:cNvPicPr/>
          <p:nvPr/>
        </p:nvPicPr>
        <p:blipFill>
          <a:blip r:embed="rId3"/>
          <a:stretch/>
        </p:blipFill>
        <p:spPr>
          <a:xfrm rot="17330400">
            <a:off x="3751200" y="5588640"/>
            <a:ext cx="568440" cy="543240"/>
          </a:xfrm>
          <a:prstGeom prst="rect">
            <a:avLst/>
          </a:prstGeom>
          <a:ln w="0">
            <a:noFill/>
          </a:ln>
        </p:spPr>
      </p:pic>
      <p:pic>
        <p:nvPicPr>
          <p:cNvPr id="691" name="图片 4" descr=""/>
          <p:cNvPicPr/>
          <p:nvPr/>
        </p:nvPicPr>
        <p:blipFill>
          <a:blip r:embed="rId4"/>
          <a:stretch/>
        </p:blipFill>
        <p:spPr>
          <a:xfrm>
            <a:off x="609480" y="693720"/>
            <a:ext cx="560520" cy="534960"/>
          </a:xfrm>
          <a:prstGeom prst="rect">
            <a:avLst/>
          </a:prstGeom>
          <a:ln w="0">
            <a:noFill/>
          </a:ln>
        </p:spPr>
      </p:pic>
      <p:pic>
        <p:nvPicPr>
          <p:cNvPr id="692" name="图片 3" descr=""/>
          <p:cNvPicPr/>
          <p:nvPr/>
        </p:nvPicPr>
        <p:blipFill>
          <a:blip r:embed="rId5"/>
          <a:stretch/>
        </p:blipFill>
        <p:spPr>
          <a:xfrm>
            <a:off x="2606760" y="1195560"/>
            <a:ext cx="950760" cy="933120"/>
          </a:xfrm>
          <a:prstGeom prst="rect">
            <a:avLst/>
          </a:prstGeom>
          <a:ln w="0">
            <a:noFill/>
          </a:ln>
        </p:spPr>
      </p:pic>
      <p:pic>
        <p:nvPicPr>
          <p:cNvPr id="693" name="图片 2" descr=""/>
          <p:cNvPicPr/>
          <p:nvPr/>
        </p:nvPicPr>
        <p:blipFill>
          <a:blip r:embed="rId6"/>
          <a:stretch/>
        </p:blipFill>
        <p:spPr>
          <a:xfrm>
            <a:off x="5986440" y="1724040"/>
            <a:ext cx="5950080" cy="4987800"/>
          </a:xfrm>
          <a:prstGeom prst="rect">
            <a:avLst/>
          </a:prstGeom>
          <a:ln w="0">
            <a:noFill/>
          </a:ln>
        </p:spPr>
      </p:pic>
      <p:pic>
        <p:nvPicPr>
          <p:cNvPr id="694" name="图片 1" descr=""/>
          <p:cNvPicPr/>
          <p:nvPr/>
        </p:nvPicPr>
        <p:blipFill>
          <a:blip r:embed="rId7"/>
          <a:stretch/>
        </p:blipFill>
        <p:spPr>
          <a:xfrm>
            <a:off x="10969560" y="1963800"/>
            <a:ext cx="1013040" cy="1003320"/>
          </a:xfrm>
          <a:prstGeom prst="rect">
            <a:avLst/>
          </a:prstGeom>
          <a:ln w="0">
            <a:noFill/>
          </a:ln>
        </p:spPr>
      </p:pic>
      <p:sp>
        <p:nvSpPr>
          <p:cNvPr id="6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9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97" name="PlaceHolder 3"/>
          <p:cNvSpPr>
            <a:spLocks noGrp="1"/>
          </p:cNvSpPr>
          <p:nvPr>
            <p:ph type="dt" idx="4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DEEA2-8338-4269-BE0B-139410E5F72C}"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698" name="PlaceHolder 4"/>
          <p:cNvSpPr>
            <a:spLocks noGrp="1"/>
          </p:cNvSpPr>
          <p:nvPr>
            <p:ph type="ftr" idx="4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9" name="PlaceHolder 5"/>
          <p:cNvSpPr>
            <a:spLocks noGrp="1"/>
          </p:cNvSpPr>
          <p:nvPr>
            <p:ph type="sldNum" idx="4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7CF9-6CEC-4143-AF5E-18D2C96ECE90}"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8"/>
    <p:sldLayoutId id="2147483845" r:id="rId9"/>
    <p:sldLayoutId id="2147483846" r:id="rId10"/>
    <p:sldLayoutId id="2147483847" r:id="rId11"/>
    <p:sldLayoutId id="2147483848" r:id="rId12"/>
    <p:sldLayoutId id="2147483849" r:id="rId13"/>
    <p:sldLayoutId id="2147483850" r:id="rId14"/>
    <p:sldLayoutId id="2147483851" r:id="rId15"/>
    <p:sldLayoutId id="2147483852" r:id="rId16"/>
    <p:sldLayoutId id="2147483853" r:id="rId17"/>
    <p:sldLayoutId id="2147483854" r:id="rId18"/>
    <p:sldLayoutId id="2147483855" r:id="rId19"/>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37" name="图片 6" descr=""/>
          <p:cNvPicPr/>
          <p:nvPr/>
        </p:nvPicPr>
        <p:blipFill>
          <a:blip r:embed="rId2"/>
          <a:stretch/>
        </p:blipFill>
        <p:spPr>
          <a:xfrm>
            <a:off x="10899720" y="5443560"/>
            <a:ext cx="1292400" cy="1414440"/>
          </a:xfrm>
          <a:prstGeom prst="rect">
            <a:avLst/>
          </a:prstGeom>
          <a:ln w="0">
            <a:noFill/>
          </a:ln>
        </p:spPr>
      </p:pic>
      <p:pic>
        <p:nvPicPr>
          <p:cNvPr id="738" name="图片 7" descr=""/>
          <p:cNvPicPr/>
          <p:nvPr/>
        </p:nvPicPr>
        <p:blipFill>
          <a:blip r:embed="rId3"/>
          <a:stretch/>
        </p:blipFill>
        <p:spPr>
          <a:xfrm>
            <a:off x="311040" y="6194520"/>
            <a:ext cx="507960" cy="431640"/>
          </a:xfrm>
          <a:prstGeom prst="rect">
            <a:avLst/>
          </a:prstGeom>
          <a:ln w="0">
            <a:noFill/>
          </a:ln>
        </p:spPr>
      </p:pic>
      <p:pic>
        <p:nvPicPr>
          <p:cNvPr id="739" name="图片 8" descr=""/>
          <p:cNvPicPr/>
          <p:nvPr/>
        </p:nvPicPr>
        <p:blipFill>
          <a:blip r:embed="rId4"/>
          <a:stretch/>
        </p:blipFill>
        <p:spPr>
          <a:xfrm>
            <a:off x="10291680" y="6410160"/>
            <a:ext cx="354240" cy="336600"/>
          </a:xfrm>
          <a:prstGeom prst="rect">
            <a:avLst/>
          </a:prstGeom>
          <a:ln w="0">
            <a:noFill/>
          </a:ln>
        </p:spPr>
      </p:pic>
      <p:pic>
        <p:nvPicPr>
          <p:cNvPr id="740" name="图片 9" descr=""/>
          <p:cNvPicPr/>
          <p:nvPr/>
        </p:nvPicPr>
        <p:blipFill>
          <a:blip r:embed="rId5"/>
          <a:stretch/>
        </p:blipFill>
        <p:spPr>
          <a:xfrm>
            <a:off x="260280" y="114480"/>
            <a:ext cx="546120" cy="534960"/>
          </a:xfrm>
          <a:prstGeom prst="rect">
            <a:avLst/>
          </a:prstGeom>
          <a:ln w="0">
            <a:noFill/>
          </a:ln>
        </p:spPr>
      </p:pic>
      <p:pic>
        <p:nvPicPr>
          <p:cNvPr id="741" name="图片 10" descr=""/>
          <p:cNvPicPr/>
          <p:nvPr/>
        </p:nvPicPr>
        <p:blipFill>
          <a:blip r:embed="rId6"/>
          <a:stretch/>
        </p:blipFill>
        <p:spPr>
          <a:xfrm>
            <a:off x="11442600" y="54000"/>
            <a:ext cx="615960" cy="608040"/>
          </a:xfrm>
          <a:prstGeom prst="rect">
            <a:avLst/>
          </a:prstGeom>
          <a:ln w="0">
            <a:noFill/>
          </a:ln>
        </p:spPr>
      </p:pic>
      <p:sp>
        <p:nvSpPr>
          <p:cNvPr id="7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4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44" name="PlaceHolder 3"/>
          <p:cNvSpPr>
            <a:spLocks noGrp="1"/>
          </p:cNvSpPr>
          <p:nvPr>
            <p:ph type="dt" idx="4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5095-338C-4A1F-9602-F97B85AAABC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45" name="PlaceHolder 4"/>
          <p:cNvSpPr>
            <a:spLocks noGrp="1"/>
          </p:cNvSpPr>
          <p:nvPr>
            <p:ph type="ftr" idx="5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6" name="PlaceHolder 5"/>
          <p:cNvSpPr>
            <a:spLocks noGrp="1"/>
          </p:cNvSpPr>
          <p:nvPr>
            <p:ph type="sldNum" idx="5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51E0-D807-4195-9E73-F270884B4E9A}"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84" name="图片 7" descr=""/>
          <p:cNvPicPr/>
          <p:nvPr/>
        </p:nvPicPr>
        <p:blipFill>
          <a:blip r:embed="rId2"/>
          <a:stretch/>
        </p:blipFill>
        <p:spPr>
          <a:xfrm flipH="1" rot="20731200">
            <a:off x="9333720" y="2427120"/>
            <a:ext cx="1067040" cy="1046160"/>
          </a:xfrm>
          <a:prstGeom prst="rect">
            <a:avLst/>
          </a:prstGeom>
          <a:ln w="0">
            <a:noFill/>
          </a:ln>
        </p:spPr>
      </p:pic>
      <p:pic>
        <p:nvPicPr>
          <p:cNvPr id="785" name="图片 3" descr=""/>
          <p:cNvPicPr/>
          <p:nvPr/>
        </p:nvPicPr>
        <p:blipFill>
          <a:blip r:embed="rId3"/>
          <a:stretch/>
        </p:blipFill>
        <p:spPr>
          <a:xfrm>
            <a:off x="2212920" y="2452680"/>
            <a:ext cx="951120" cy="933480"/>
          </a:xfrm>
          <a:prstGeom prst="rect">
            <a:avLst/>
          </a:prstGeom>
          <a:ln w="0">
            <a:noFill/>
          </a:ln>
        </p:spPr>
      </p:pic>
      <p:pic>
        <p:nvPicPr>
          <p:cNvPr id="786" name="图片 8" descr=""/>
          <p:cNvPicPr/>
          <p:nvPr/>
        </p:nvPicPr>
        <p:blipFill>
          <a:blip r:embed="rId4"/>
          <a:stretch/>
        </p:blipFill>
        <p:spPr>
          <a:xfrm>
            <a:off x="4859280" y="-30240"/>
            <a:ext cx="1836720" cy="2237040"/>
          </a:xfrm>
          <a:prstGeom prst="rect">
            <a:avLst/>
          </a:prstGeom>
          <a:ln w="0">
            <a:noFill/>
          </a:ln>
        </p:spPr>
      </p:pic>
      <p:pic>
        <p:nvPicPr>
          <p:cNvPr id="787" name="图片 9" descr=""/>
          <p:cNvPicPr/>
          <p:nvPr/>
        </p:nvPicPr>
        <p:blipFill>
          <a:blip r:embed="rId5"/>
          <a:stretch/>
        </p:blipFill>
        <p:spPr>
          <a:xfrm>
            <a:off x="5068800" y="4519440"/>
            <a:ext cx="2060640" cy="2325960"/>
          </a:xfrm>
          <a:prstGeom prst="rect">
            <a:avLst/>
          </a:prstGeom>
          <a:ln w="0">
            <a:noFill/>
          </a:ln>
        </p:spPr>
      </p:pic>
      <p:sp>
        <p:nvSpPr>
          <p:cNvPr id="7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8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90" name="PlaceHolder 3"/>
          <p:cNvSpPr>
            <a:spLocks noGrp="1"/>
          </p:cNvSpPr>
          <p:nvPr>
            <p:ph type="dt" idx="5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B019-CE90-42AD-9318-AA559B95F686}"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91" name="PlaceHolder 4"/>
          <p:cNvSpPr>
            <a:spLocks noGrp="1"/>
          </p:cNvSpPr>
          <p:nvPr>
            <p:ph type="ftr" idx="5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2" name="PlaceHolder 5"/>
          <p:cNvSpPr>
            <a:spLocks noGrp="1"/>
          </p:cNvSpPr>
          <p:nvPr>
            <p:ph type="sldNum" idx="5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DDDB-AFC0-4543-8E92-A99104AB7EC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30" name="图片 7" descr=""/>
          <p:cNvPicPr/>
          <p:nvPr/>
        </p:nvPicPr>
        <p:blipFill>
          <a:blip r:embed="rId2"/>
          <a:stretch/>
        </p:blipFill>
        <p:spPr>
          <a:xfrm>
            <a:off x="10899720" y="5443560"/>
            <a:ext cx="1292400" cy="1414440"/>
          </a:xfrm>
          <a:prstGeom prst="rect">
            <a:avLst/>
          </a:prstGeom>
          <a:ln w="0">
            <a:noFill/>
          </a:ln>
        </p:spPr>
      </p:pic>
      <p:pic>
        <p:nvPicPr>
          <p:cNvPr id="831" name="图片 8" descr=""/>
          <p:cNvPicPr/>
          <p:nvPr/>
        </p:nvPicPr>
        <p:blipFill>
          <a:blip r:embed="rId3"/>
          <a:stretch/>
        </p:blipFill>
        <p:spPr>
          <a:xfrm>
            <a:off x="311040" y="6194520"/>
            <a:ext cx="507960" cy="431640"/>
          </a:xfrm>
          <a:prstGeom prst="rect">
            <a:avLst/>
          </a:prstGeom>
          <a:ln w="0">
            <a:noFill/>
          </a:ln>
        </p:spPr>
      </p:pic>
      <p:pic>
        <p:nvPicPr>
          <p:cNvPr id="832" name="图片 9" descr=""/>
          <p:cNvPicPr/>
          <p:nvPr/>
        </p:nvPicPr>
        <p:blipFill>
          <a:blip r:embed="rId4"/>
          <a:stretch/>
        </p:blipFill>
        <p:spPr>
          <a:xfrm>
            <a:off x="10291680" y="6410160"/>
            <a:ext cx="354240" cy="336600"/>
          </a:xfrm>
          <a:prstGeom prst="rect">
            <a:avLst/>
          </a:prstGeom>
          <a:ln w="0">
            <a:noFill/>
          </a:ln>
        </p:spPr>
      </p:pic>
      <p:pic>
        <p:nvPicPr>
          <p:cNvPr id="833" name="图片 10" descr=""/>
          <p:cNvPicPr/>
          <p:nvPr/>
        </p:nvPicPr>
        <p:blipFill>
          <a:blip r:embed="rId5"/>
          <a:stretch/>
        </p:blipFill>
        <p:spPr>
          <a:xfrm>
            <a:off x="260280" y="114480"/>
            <a:ext cx="546120" cy="534960"/>
          </a:xfrm>
          <a:prstGeom prst="rect">
            <a:avLst/>
          </a:prstGeom>
          <a:ln w="0">
            <a:noFill/>
          </a:ln>
        </p:spPr>
      </p:pic>
      <p:pic>
        <p:nvPicPr>
          <p:cNvPr id="834" name="图片 11" descr=""/>
          <p:cNvPicPr/>
          <p:nvPr/>
        </p:nvPicPr>
        <p:blipFill>
          <a:blip r:embed="rId6"/>
          <a:stretch/>
        </p:blipFill>
        <p:spPr>
          <a:xfrm>
            <a:off x="11442600" y="54000"/>
            <a:ext cx="615960" cy="608040"/>
          </a:xfrm>
          <a:prstGeom prst="rect">
            <a:avLst/>
          </a:prstGeom>
          <a:ln w="0">
            <a:noFill/>
          </a:ln>
        </p:spPr>
      </p:pic>
      <p:sp>
        <p:nvSpPr>
          <p:cNvPr id="8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3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37" name="PlaceHolder 3"/>
          <p:cNvSpPr>
            <a:spLocks noGrp="1"/>
          </p:cNvSpPr>
          <p:nvPr>
            <p:ph type="dt" idx="5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BEED-3FAE-4DB2-B771-54234B47DDB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38" name="PlaceHolder 4"/>
          <p:cNvSpPr>
            <a:spLocks noGrp="1"/>
          </p:cNvSpPr>
          <p:nvPr>
            <p:ph type="ftr" idx="5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PlaceHolder 5"/>
          <p:cNvSpPr>
            <a:spLocks noGrp="1"/>
          </p:cNvSpPr>
          <p:nvPr>
            <p:ph type="sldNum" idx="5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A590-C6F4-44EE-B355-DE54B75088C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7"/>
    <p:sldLayoutId id="2147483884" r:id="rId8"/>
    <p:sldLayoutId id="2147483885" r:id="rId9"/>
    <p:sldLayoutId id="2147483886" r:id="rId10"/>
    <p:sldLayoutId id="2147483887" r:id="rId11"/>
    <p:sldLayoutId id="2147483888" r:id="rId12"/>
    <p:sldLayoutId id="2147483889" r:id="rId13"/>
    <p:sldLayoutId id="2147483890" r:id="rId14"/>
    <p:sldLayoutId id="2147483891" r:id="rId15"/>
    <p:sldLayoutId id="2147483892" r:id="rId16"/>
    <p:sldLayoutId id="2147483893" r:id="rId17"/>
    <p:sldLayoutId id="2147483894"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4" name="PlaceHolder 3"/>
          <p:cNvSpPr>
            <a:spLocks noGrp="1"/>
          </p:cNvSpPr>
          <p:nvPr>
            <p:ph type="dt" idx="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FD26-2392-4E61-82C3-719632E5ADC6}"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5"/>
          <p:cNvSpPr>
            <a:spLocks noGrp="1"/>
          </p:cNvSpPr>
          <p:nvPr>
            <p:ph type="sldNum" idx="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004B-3FC0-449C-8127-5B1600FADC1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
        <p:nvSpPr>
          <p:cNvPr id="4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77" name="图片 9" descr=""/>
          <p:cNvPicPr/>
          <p:nvPr/>
        </p:nvPicPr>
        <p:blipFill>
          <a:blip r:embed="rId2"/>
          <a:stretch/>
        </p:blipFill>
        <p:spPr>
          <a:xfrm>
            <a:off x="10899720" y="5443560"/>
            <a:ext cx="1292400" cy="1414440"/>
          </a:xfrm>
          <a:prstGeom prst="rect">
            <a:avLst/>
          </a:prstGeom>
          <a:ln w="0">
            <a:noFill/>
          </a:ln>
        </p:spPr>
      </p:pic>
      <p:pic>
        <p:nvPicPr>
          <p:cNvPr id="878" name="图片 10" descr=""/>
          <p:cNvPicPr/>
          <p:nvPr/>
        </p:nvPicPr>
        <p:blipFill>
          <a:blip r:embed="rId3"/>
          <a:stretch/>
        </p:blipFill>
        <p:spPr>
          <a:xfrm>
            <a:off x="311040" y="6194520"/>
            <a:ext cx="507960" cy="431640"/>
          </a:xfrm>
          <a:prstGeom prst="rect">
            <a:avLst/>
          </a:prstGeom>
          <a:ln w="0">
            <a:noFill/>
          </a:ln>
        </p:spPr>
      </p:pic>
      <p:pic>
        <p:nvPicPr>
          <p:cNvPr id="879" name="图片 11" descr=""/>
          <p:cNvPicPr/>
          <p:nvPr/>
        </p:nvPicPr>
        <p:blipFill>
          <a:blip r:embed="rId4"/>
          <a:stretch/>
        </p:blipFill>
        <p:spPr>
          <a:xfrm>
            <a:off x="10291680" y="6410160"/>
            <a:ext cx="354240" cy="336600"/>
          </a:xfrm>
          <a:prstGeom prst="rect">
            <a:avLst/>
          </a:prstGeom>
          <a:ln w="0">
            <a:noFill/>
          </a:ln>
        </p:spPr>
      </p:pic>
      <p:pic>
        <p:nvPicPr>
          <p:cNvPr id="880" name="图片 12" descr=""/>
          <p:cNvPicPr/>
          <p:nvPr/>
        </p:nvPicPr>
        <p:blipFill>
          <a:blip r:embed="rId5"/>
          <a:stretch/>
        </p:blipFill>
        <p:spPr>
          <a:xfrm>
            <a:off x="260280" y="114480"/>
            <a:ext cx="546120" cy="534960"/>
          </a:xfrm>
          <a:prstGeom prst="rect">
            <a:avLst/>
          </a:prstGeom>
          <a:ln w="0">
            <a:noFill/>
          </a:ln>
        </p:spPr>
      </p:pic>
      <p:pic>
        <p:nvPicPr>
          <p:cNvPr id="881" name="图片 13" descr=""/>
          <p:cNvPicPr/>
          <p:nvPr/>
        </p:nvPicPr>
        <p:blipFill>
          <a:blip r:embed="rId6"/>
          <a:stretch/>
        </p:blipFill>
        <p:spPr>
          <a:xfrm>
            <a:off x="11442600" y="54000"/>
            <a:ext cx="615960" cy="608040"/>
          </a:xfrm>
          <a:prstGeom prst="rect">
            <a:avLst/>
          </a:prstGeom>
          <a:ln w="0">
            <a:noFill/>
          </a:ln>
        </p:spPr>
      </p:pic>
      <p:sp>
        <p:nvSpPr>
          <p:cNvPr id="8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8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84" name="PlaceHolder 3"/>
          <p:cNvSpPr>
            <a:spLocks noGrp="1"/>
          </p:cNvSpPr>
          <p:nvPr>
            <p:ph type="dt" idx="5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D0CA-BEA2-428D-B30E-9FB740834B2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6" name="PlaceHolder 5"/>
          <p:cNvSpPr>
            <a:spLocks noGrp="1"/>
          </p:cNvSpPr>
          <p:nvPr>
            <p:ph type="sldNum" idx="6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9918-BE1A-41C7-8781-DB68D6900604}"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7"/>
    <p:sldLayoutId id="2147483897" r:id="rId8"/>
    <p:sldLayoutId id="2147483898" r:id="rId9"/>
    <p:sldLayoutId id="2147483899" r:id="rId10"/>
    <p:sldLayoutId id="2147483900" r:id="rId11"/>
    <p:sldLayoutId id="2147483901" r:id="rId12"/>
    <p:sldLayoutId id="2147483902" r:id="rId13"/>
    <p:sldLayoutId id="2147483903" r:id="rId14"/>
    <p:sldLayoutId id="2147483904" r:id="rId15"/>
    <p:sldLayoutId id="2147483905" r:id="rId16"/>
    <p:sldLayoutId id="2147483906" r:id="rId17"/>
    <p:sldLayoutId id="2147483907" r:id="rId18"/>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24" name="图片 5" descr=""/>
          <p:cNvPicPr/>
          <p:nvPr/>
        </p:nvPicPr>
        <p:blipFill>
          <a:blip r:embed="rId2"/>
          <a:stretch/>
        </p:blipFill>
        <p:spPr>
          <a:xfrm>
            <a:off x="10899720" y="5443560"/>
            <a:ext cx="1292400" cy="1414440"/>
          </a:xfrm>
          <a:prstGeom prst="rect">
            <a:avLst/>
          </a:prstGeom>
          <a:ln w="0">
            <a:noFill/>
          </a:ln>
        </p:spPr>
      </p:pic>
      <p:pic>
        <p:nvPicPr>
          <p:cNvPr id="925" name="图片 8" descr=""/>
          <p:cNvPicPr/>
          <p:nvPr/>
        </p:nvPicPr>
        <p:blipFill>
          <a:blip r:embed="rId3"/>
          <a:stretch/>
        </p:blipFill>
        <p:spPr>
          <a:xfrm>
            <a:off x="260280" y="114480"/>
            <a:ext cx="546120" cy="534960"/>
          </a:xfrm>
          <a:prstGeom prst="rect">
            <a:avLst/>
          </a:prstGeom>
          <a:ln w="0">
            <a:noFill/>
          </a:ln>
        </p:spPr>
      </p:pic>
      <p:pic>
        <p:nvPicPr>
          <p:cNvPr id="926" name="图片 9" descr=""/>
          <p:cNvPicPr/>
          <p:nvPr/>
        </p:nvPicPr>
        <p:blipFill>
          <a:blip r:embed="rId4"/>
          <a:stretch/>
        </p:blipFill>
        <p:spPr>
          <a:xfrm>
            <a:off x="11442600" y="54000"/>
            <a:ext cx="615960" cy="608040"/>
          </a:xfrm>
          <a:prstGeom prst="rect">
            <a:avLst/>
          </a:prstGeom>
          <a:ln w="0">
            <a:noFill/>
          </a:ln>
        </p:spPr>
      </p:pic>
      <p:sp>
        <p:nvSpPr>
          <p:cNvPr id="9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2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29" name="PlaceHolder 3"/>
          <p:cNvSpPr>
            <a:spLocks noGrp="1"/>
          </p:cNvSpPr>
          <p:nvPr>
            <p:ph type="dt" idx="6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CF15-91EE-4B97-83E5-E55AB3714B1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30" name="PlaceHolder 4"/>
          <p:cNvSpPr>
            <a:spLocks noGrp="1"/>
          </p:cNvSpPr>
          <p:nvPr>
            <p:ph type="ftr" idx="6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1" name="PlaceHolder 5"/>
          <p:cNvSpPr>
            <a:spLocks noGrp="1"/>
          </p:cNvSpPr>
          <p:nvPr>
            <p:ph type="sldNum" idx="6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6922-47E5-41D2-BEE7-FB945C3A2FB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69" name="图片 7" descr=""/>
          <p:cNvPicPr/>
          <p:nvPr/>
        </p:nvPicPr>
        <p:blipFill>
          <a:blip r:embed="rId2"/>
          <a:stretch/>
        </p:blipFill>
        <p:spPr>
          <a:xfrm>
            <a:off x="10899720" y="5443560"/>
            <a:ext cx="1292400" cy="1414440"/>
          </a:xfrm>
          <a:prstGeom prst="rect">
            <a:avLst/>
          </a:prstGeom>
          <a:ln w="0">
            <a:noFill/>
          </a:ln>
        </p:spPr>
      </p:pic>
      <p:pic>
        <p:nvPicPr>
          <p:cNvPr id="970" name="图片 8" descr=""/>
          <p:cNvPicPr/>
          <p:nvPr/>
        </p:nvPicPr>
        <p:blipFill>
          <a:blip r:embed="rId3"/>
          <a:stretch/>
        </p:blipFill>
        <p:spPr>
          <a:xfrm>
            <a:off x="311040" y="6194520"/>
            <a:ext cx="507960" cy="431640"/>
          </a:xfrm>
          <a:prstGeom prst="rect">
            <a:avLst/>
          </a:prstGeom>
          <a:ln w="0">
            <a:noFill/>
          </a:ln>
        </p:spPr>
      </p:pic>
      <p:pic>
        <p:nvPicPr>
          <p:cNvPr id="971" name="图片 9" descr=""/>
          <p:cNvPicPr/>
          <p:nvPr/>
        </p:nvPicPr>
        <p:blipFill>
          <a:blip r:embed="rId4"/>
          <a:stretch/>
        </p:blipFill>
        <p:spPr>
          <a:xfrm>
            <a:off x="10291680" y="6410160"/>
            <a:ext cx="354240" cy="336600"/>
          </a:xfrm>
          <a:prstGeom prst="rect">
            <a:avLst/>
          </a:prstGeom>
          <a:ln w="0">
            <a:noFill/>
          </a:ln>
        </p:spPr>
      </p:pic>
      <p:pic>
        <p:nvPicPr>
          <p:cNvPr id="972" name="图片 10" descr=""/>
          <p:cNvPicPr/>
          <p:nvPr/>
        </p:nvPicPr>
        <p:blipFill>
          <a:blip r:embed="rId5"/>
          <a:stretch/>
        </p:blipFill>
        <p:spPr>
          <a:xfrm>
            <a:off x="260280" y="114480"/>
            <a:ext cx="546120" cy="534960"/>
          </a:xfrm>
          <a:prstGeom prst="rect">
            <a:avLst/>
          </a:prstGeom>
          <a:ln w="0">
            <a:noFill/>
          </a:ln>
        </p:spPr>
      </p:pic>
      <p:pic>
        <p:nvPicPr>
          <p:cNvPr id="973" name="图片 11" descr=""/>
          <p:cNvPicPr/>
          <p:nvPr/>
        </p:nvPicPr>
        <p:blipFill>
          <a:blip r:embed="rId6"/>
          <a:stretch/>
        </p:blipFill>
        <p:spPr>
          <a:xfrm>
            <a:off x="11442600" y="54000"/>
            <a:ext cx="615960" cy="608040"/>
          </a:xfrm>
          <a:prstGeom prst="rect">
            <a:avLst/>
          </a:prstGeom>
          <a:ln w="0">
            <a:noFill/>
          </a:ln>
        </p:spPr>
      </p:pic>
      <p:sp>
        <p:nvSpPr>
          <p:cNvPr id="9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7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76" name="PlaceHolder 3"/>
          <p:cNvSpPr>
            <a:spLocks noGrp="1"/>
          </p:cNvSpPr>
          <p:nvPr>
            <p:ph type="dt" idx="6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8858-ED96-4391-863C-5C43519B7BC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77" name="PlaceHolder 4"/>
          <p:cNvSpPr>
            <a:spLocks noGrp="1"/>
          </p:cNvSpPr>
          <p:nvPr>
            <p:ph type="ftr" idx="6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5"/>
          <p:cNvSpPr>
            <a:spLocks noGrp="1"/>
          </p:cNvSpPr>
          <p:nvPr>
            <p:ph type="sldNum" idx="6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16EF-EBB6-4A5C-ABCE-BC07C428F857}"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7"/>
    <p:sldLayoutId id="2147483923" r:id="rId8"/>
    <p:sldLayoutId id="2147483924" r:id="rId9"/>
    <p:sldLayoutId id="2147483925" r:id="rId10"/>
    <p:sldLayoutId id="2147483926" r:id="rId11"/>
    <p:sldLayoutId id="2147483927" r:id="rId12"/>
    <p:sldLayoutId id="2147483928" r:id="rId13"/>
    <p:sldLayoutId id="2147483929" r:id="rId14"/>
    <p:sldLayoutId id="2147483930" r:id="rId15"/>
    <p:sldLayoutId id="2147483931" r:id="rId16"/>
    <p:sldLayoutId id="2147483932" r:id="rId17"/>
    <p:sldLayoutId id="2147483933" r:id="rId18"/>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16" name="图片 7" descr=""/>
          <p:cNvPicPr/>
          <p:nvPr/>
        </p:nvPicPr>
        <p:blipFill>
          <a:blip r:embed="rId2"/>
          <a:stretch/>
        </p:blipFill>
        <p:spPr>
          <a:xfrm>
            <a:off x="10899720" y="5443560"/>
            <a:ext cx="1292400" cy="1414440"/>
          </a:xfrm>
          <a:prstGeom prst="rect">
            <a:avLst/>
          </a:prstGeom>
          <a:ln w="0">
            <a:noFill/>
          </a:ln>
        </p:spPr>
      </p:pic>
      <p:pic>
        <p:nvPicPr>
          <p:cNvPr id="1017" name="图片 8" descr=""/>
          <p:cNvPicPr/>
          <p:nvPr/>
        </p:nvPicPr>
        <p:blipFill>
          <a:blip r:embed="rId3"/>
          <a:stretch/>
        </p:blipFill>
        <p:spPr>
          <a:xfrm>
            <a:off x="311040" y="6194520"/>
            <a:ext cx="507960" cy="431640"/>
          </a:xfrm>
          <a:prstGeom prst="rect">
            <a:avLst/>
          </a:prstGeom>
          <a:ln w="0">
            <a:noFill/>
          </a:ln>
        </p:spPr>
      </p:pic>
      <p:pic>
        <p:nvPicPr>
          <p:cNvPr id="1018" name="图片 9" descr=""/>
          <p:cNvPicPr/>
          <p:nvPr/>
        </p:nvPicPr>
        <p:blipFill>
          <a:blip r:embed="rId4"/>
          <a:stretch/>
        </p:blipFill>
        <p:spPr>
          <a:xfrm>
            <a:off x="10291680" y="6410160"/>
            <a:ext cx="354240" cy="336600"/>
          </a:xfrm>
          <a:prstGeom prst="rect">
            <a:avLst/>
          </a:prstGeom>
          <a:ln w="0">
            <a:noFill/>
          </a:ln>
        </p:spPr>
      </p:pic>
      <p:pic>
        <p:nvPicPr>
          <p:cNvPr id="1019" name="图片 10" descr=""/>
          <p:cNvPicPr/>
          <p:nvPr/>
        </p:nvPicPr>
        <p:blipFill>
          <a:blip r:embed="rId5"/>
          <a:stretch/>
        </p:blipFill>
        <p:spPr>
          <a:xfrm>
            <a:off x="260280" y="114480"/>
            <a:ext cx="546120" cy="534960"/>
          </a:xfrm>
          <a:prstGeom prst="rect">
            <a:avLst/>
          </a:prstGeom>
          <a:ln w="0">
            <a:noFill/>
          </a:ln>
        </p:spPr>
      </p:pic>
      <p:pic>
        <p:nvPicPr>
          <p:cNvPr id="1020" name="图片 11" descr=""/>
          <p:cNvPicPr/>
          <p:nvPr/>
        </p:nvPicPr>
        <p:blipFill>
          <a:blip r:embed="rId6"/>
          <a:stretch/>
        </p:blipFill>
        <p:spPr>
          <a:xfrm>
            <a:off x="11442600" y="54000"/>
            <a:ext cx="615960" cy="608040"/>
          </a:xfrm>
          <a:prstGeom prst="rect">
            <a:avLst/>
          </a:prstGeom>
          <a:ln w="0">
            <a:noFill/>
          </a:ln>
        </p:spPr>
      </p:pic>
      <p:sp>
        <p:nvSpPr>
          <p:cNvPr id="10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2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23" name="PlaceHolder 3"/>
          <p:cNvSpPr>
            <a:spLocks noGrp="1"/>
          </p:cNvSpPr>
          <p:nvPr>
            <p:ph type="dt" idx="67"/>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D808-6B2D-460D-B306-FBC72DE28B17}"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24" name="PlaceHolder 4"/>
          <p:cNvSpPr>
            <a:spLocks noGrp="1"/>
          </p:cNvSpPr>
          <p:nvPr>
            <p:ph type="ftr" idx="6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5" name="PlaceHolder 5"/>
          <p:cNvSpPr>
            <a:spLocks noGrp="1"/>
          </p:cNvSpPr>
          <p:nvPr>
            <p:ph type="sldNum" idx="69"/>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B7F1-E396-4F11-A2F4-6604D3CCFE3D}"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7"/>
    <p:sldLayoutId id="2147483936" r:id="rId8"/>
    <p:sldLayoutId id="2147483937" r:id="rId9"/>
    <p:sldLayoutId id="2147483938" r:id="rId10"/>
    <p:sldLayoutId id="2147483939" r:id="rId11"/>
    <p:sldLayoutId id="2147483940" r:id="rId12"/>
    <p:sldLayoutId id="2147483941" r:id="rId13"/>
    <p:sldLayoutId id="2147483942" r:id="rId14"/>
    <p:sldLayoutId id="2147483943" r:id="rId15"/>
    <p:sldLayoutId id="2147483944" r:id="rId16"/>
    <p:sldLayoutId id="2147483945" r:id="rId17"/>
    <p:sldLayoutId id="2147483946" r:id="rId18"/>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63" name="图片 6" descr=""/>
          <p:cNvPicPr/>
          <p:nvPr/>
        </p:nvPicPr>
        <p:blipFill>
          <a:blip r:embed="rId2"/>
          <a:stretch/>
        </p:blipFill>
        <p:spPr>
          <a:xfrm>
            <a:off x="10899720" y="5443560"/>
            <a:ext cx="1292400" cy="1414440"/>
          </a:xfrm>
          <a:prstGeom prst="rect">
            <a:avLst/>
          </a:prstGeom>
          <a:ln w="0">
            <a:noFill/>
          </a:ln>
        </p:spPr>
      </p:pic>
      <p:pic>
        <p:nvPicPr>
          <p:cNvPr id="1064" name="图片 7" descr=""/>
          <p:cNvPicPr/>
          <p:nvPr/>
        </p:nvPicPr>
        <p:blipFill>
          <a:blip r:embed="rId3"/>
          <a:stretch/>
        </p:blipFill>
        <p:spPr>
          <a:xfrm>
            <a:off x="311040" y="6194520"/>
            <a:ext cx="507960" cy="431640"/>
          </a:xfrm>
          <a:prstGeom prst="rect">
            <a:avLst/>
          </a:prstGeom>
          <a:ln w="0">
            <a:noFill/>
          </a:ln>
        </p:spPr>
      </p:pic>
      <p:pic>
        <p:nvPicPr>
          <p:cNvPr id="1065" name="图片 8" descr=""/>
          <p:cNvPicPr/>
          <p:nvPr/>
        </p:nvPicPr>
        <p:blipFill>
          <a:blip r:embed="rId4"/>
          <a:stretch/>
        </p:blipFill>
        <p:spPr>
          <a:xfrm>
            <a:off x="10291680" y="6410160"/>
            <a:ext cx="354240" cy="336600"/>
          </a:xfrm>
          <a:prstGeom prst="rect">
            <a:avLst/>
          </a:prstGeom>
          <a:ln w="0">
            <a:noFill/>
          </a:ln>
        </p:spPr>
      </p:pic>
      <p:pic>
        <p:nvPicPr>
          <p:cNvPr id="1066" name="图片 9" descr=""/>
          <p:cNvPicPr/>
          <p:nvPr/>
        </p:nvPicPr>
        <p:blipFill>
          <a:blip r:embed="rId5"/>
          <a:stretch/>
        </p:blipFill>
        <p:spPr>
          <a:xfrm>
            <a:off x="260280" y="114480"/>
            <a:ext cx="546120" cy="534960"/>
          </a:xfrm>
          <a:prstGeom prst="rect">
            <a:avLst/>
          </a:prstGeom>
          <a:ln w="0">
            <a:noFill/>
          </a:ln>
        </p:spPr>
      </p:pic>
      <p:pic>
        <p:nvPicPr>
          <p:cNvPr id="1067" name="图片 10" descr=""/>
          <p:cNvPicPr/>
          <p:nvPr/>
        </p:nvPicPr>
        <p:blipFill>
          <a:blip r:embed="rId6"/>
          <a:stretch/>
        </p:blipFill>
        <p:spPr>
          <a:xfrm>
            <a:off x="11442600" y="54000"/>
            <a:ext cx="615960" cy="608040"/>
          </a:xfrm>
          <a:prstGeom prst="rect">
            <a:avLst/>
          </a:prstGeom>
          <a:ln w="0">
            <a:noFill/>
          </a:ln>
        </p:spPr>
      </p:pic>
      <p:sp>
        <p:nvSpPr>
          <p:cNvPr id="10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6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70" name="PlaceHolder 3"/>
          <p:cNvSpPr>
            <a:spLocks noGrp="1"/>
          </p:cNvSpPr>
          <p:nvPr>
            <p:ph type="dt" idx="7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3C56-7853-4596-A095-E3E4FD3CCCA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71" name="PlaceHolder 4"/>
          <p:cNvSpPr>
            <a:spLocks noGrp="1"/>
          </p:cNvSpPr>
          <p:nvPr>
            <p:ph type="ftr" idx="7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2" name="PlaceHolder 5"/>
          <p:cNvSpPr>
            <a:spLocks noGrp="1"/>
          </p:cNvSpPr>
          <p:nvPr>
            <p:ph type="sldNum" idx="7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9A7B-2F10-42B2-9473-4AA75F67DBD6}"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10" name="图片 5" descr=""/>
          <p:cNvPicPr/>
          <p:nvPr/>
        </p:nvPicPr>
        <p:blipFill>
          <a:blip r:embed="rId2"/>
          <a:stretch/>
        </p:blipFill>
        <p:spPr>
          <a:xfrm>
            <a:off x="10899720" y="5443560"/>
            <a:ext cx="1292400" cy="1414440"/>
          </a:xfrm>
          <a:prstGeom prst="rect">
            <a:avLst/>
          </a:prstGeom>
          <a:ln w="0">
            <a:noFill/>
          </a:ln>
        </p:spPr>
      </p:pic>
      <p:pic>
        <p:nvPicPr>
          <p:cNvPr id="1111" name="图片 7" descr=""/>
          <p:cNvPicPr/>
          <p:nvPr/>
        </p:nvPicPr>
        <p:blipFill>
          <a:blip r:embed="rId3"/>
          <a:stretch/>
        </p:blipFill>
        <p:spPr>
          <a:xfrm>
            <a:off x="311040" y="6194520"/>
            <a:ext cx="507960" cy="431640"/>
          </a:xfrm>
          <a:prstGeom prst="rect">
            <a:avLst/>
          </a:prstGeom>
          <a:ln w="0">
            <a:noFill/>
          </a:ln>
        </p:spPr>
      </p:pic>
      <p:pic>
        <p:nvPicPr>
          <p:cNvPr id="1112" name="图片 8" descr=""/>
          <p:cNvPicPr/>
          <p:nvPr/>
        </p:nvPicPr>
        <p:blipFill>
          <a:blip r:embed="rId4"/>
          <a:stretch/>
        </p:blipFill>
        <p:spPr>
          <a:xfrm>
            <a:off x="10291680" y="6410160"/>
            <a:ext cx="354240" cy="336600"/>
          </a:xfrm>
          <a:prstGeom prst="rect">
            <a:avLst/>
          </a:prstGeom>
          <a:ln w="0">
            <a:noFill/>
          </a:ln>
        </p:spPr>
      </p:pic>
      <p:pic>
        <p:nvPicPr>
          <p:cNvPr id="1113" name="图片 9" descr=""/>
          <p:cNvPicPr/>
          <p:nvPr/>
        </p:nvPicPr>
        <p:blipFill>
          <a:blip r:embed="rId5"/>
          <a:stretch/>
        </p:blipFill>
        <p:spPr>
          <a:xfrm>
            <a:off x="260280" y="114480"/>
            <a:ext cx="546120" cy="534960"/>
          </a:xfrm>
          <a:prstGeom prst="rect">
            <a:avLst/>
          </a:prstGeom>
          <a:ln w="0">
            <a:noFill/>
          </a:ln>
        </p:spPr>
      </p:pic>
      <p:pic>
        <p:nvPicPr>
          <p:cNvPr id="1114" name="图片 10" descr=""/>
          <p:cNvPicPr/>
          <p:nvPr/>
        </p:nvPicPr>
        <p:blipFill>
          <a:blip r:embed="rId6"/>
          <a:stretch/>
        </p:blipFill>
        <p:spPr>
          <a:xfrm>
            <a:off x="11442600" y="54000"/>
            <a:ext cx="615960" cy="608040"/>
          </a:xfrm>
          <a:prstGeom prst="rect">
            <a:avLst/>
          </a:prstGeom>
          <a:ln w="0">
            <a:noFill/>
          </a:ln>
        </p:spPr>
      </p:pic>
      <p:sp>
        <p:nvSpPr>
          <p:cNvPr id="11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1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17" name="PlaceHolder 3"/>
          <p:cNvSpPr>
            <a:spLocks noGrp="1"/>
          </p:cNvSpPr>
          <p:nvPr>
            <p:ph type="dt" idx="7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98A5-62A2-4187-B1E2-4C0BF0E6FCE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18" name="PlaceHolder 4"/>
          <p:cNvSpPr>
            <a:spLocks noGrp="1"/>
          </p:cNvSpPr>
          <p:nvPr>
            <p:ph type="ftr" idx="7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9" name="PlaceHolder 5"/>
          <p:cNvSpPr>
            <a:spLocks noGrp="1"/>
          </p:cNvSpPr>
          <p:nvPr>
            <p:ph type="sldNum" idx="7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9A0E5-9B36-4F6E-AA3B-75CB6D077BC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7"/>
    <p:sldLayoutId id="2147483962" r:id="rId8"/>
    <p:sldLayoutId id="2147483963" r:id="rId9"/>
    <p:sldLayoutId id="2147483964" r:id="rId10"/>
    <p:sldLayoutId id="2147483965" r:id="rId11"/>
    <p:sldLayoutId id="2147483966" r:id="rId12"/>
    <p:sldLayoutId id="2147483967" r:id="rId13"/>
    <p:sldLayoutId id="2147483968" r:id="rId14"/>
    <p:sldLayoutId id="2147483969" r:id="rId15"/>
    <p:sldLayoutId id="2147483970" r:id="rId16"/>
    <p:sldLayoutId id="2147483971" r:id="rId17"/>
    <p:sldLayoutId id="2147483972" r:id="rId18"/>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57" name="图片 5" descr=""/>
          <p:cNvPicPr/>
          <p:nvPr/>
        </p:nvPicPr>
        <p:blipFill>
          <a:blip r:embed="rId2"/>
          <a:stretch/>
        </p:blipFill>
        <p:spPr>
          <a:xfrm>
            <a:off x="2868480" y="3490920"/>
            <a:ext cx="2543400" cy="3108240"/>
          </a:xfrm>
          <a:prstGeom prst="rect">
            <a:avLst/>
          </a:prstGeom>
          <a:ln w="0">
            <a:noFill/>
          </a:ln>
        </p:spPr>
      </p:pic>
      <p:pic>
        <p:nvPicPr>
          <p:cNvPr id="1158" name="图片 6" descr=""/>
          <p:cNvPicPr/>
          <p:nvPr/>
        </p:nvPicPr>
        <p:blipFill>
          <a:blip r:embed="rId3"/>
          <a:stretch/>
        </p:blipFill>
        <p:spPr>
          <a:xfrm>
            <a:off x="6480" y="1612800"/>
            <a:ext cx="3257280" cy="5243760"/>
          </a:xfrm>
          <a:prstGeom prst="rect">
            <a:avLst/>
          </a:prstGeom>
          <a:ln w="0">
            <a:noFill/>
          </a:ln>
        </p:spPr>
      </p:pic>
      <p:pic>
        <p:nvPicPr>
          <p:cNvPr id="1159" name="图片 6" descr=""/>
          <p:cNvPicPr/>
          <p:nvPr/>
        </p:nvPicPr>
        <p:blipFill>
          <a:blip r:embed="rId4"/>
          <a:stretch/>
        </p:blipFill>
        <p:spPr>
          <a:xfrm rot="17330400">
            <a:off x="3570480" y="5589000"/>
            <a:ext cx="568440" cy="542880"/>
          </a:xfrm>
          <a:prstGeom prst="rect">
            <a:avLst/>
          </a:prstGeom>
          <a:ln w="0">
            <a:noFill/>
          </a:ln>
        </p:spPr>
      </p:pic>
      <p:pic>
        <p:nvPicPr>
          <p:cNvPr id="1160" name="图片 5" descr=""/>
          <p:cNvPicPr/>
          <p:nvPr/>
        </p:nvPicPr>
        <p:blipFill>
          <a:blip r:embed="rId5"/>
          <a:stretch/>
        </p:blipFill>
        <p:spPr>
          <a:xfrm rot="20422800">
            <a:off x="1217160" y="5847840"/>
            <a:ext cx="563760" cy="536760"/>
          </a:xfrm>
          <a:prstGeom prst="rect">
            <a:avLst/>
          </a:prstGeom>
          <a:ln w="0">
            <a:noFill/>
          </a:ln>
        </p:spPr>
      </p:pic>
      <p:pic>
        <p:nvPicPr>
          <p:cNvPr id="1161" name="图片 9" descr=""/>
          <p:cNvPicPr/>
          <p:nvPr/>
        </p:nvPicPr>
        <p:blipFill>
          <a:blip r:embed="rId6"/>
          <a:stretch/>
        </p:blipFill>
        <p:spPr>
          <a:xfrm>
            <a:off x="4964040" y="4621320"/>
            <a:ext cx="1830600" cy="2236680"/>
          </a:xfrm>
          <a:prstGeom prst="rect">
            <a:avLst/>
          </a:prstGeom>
          <a:ln w="0">
            <a:noFill/>
          </a:ln>
        </p:spPr>
      </p:pic>
      <p:pic>
        <p:nvPicPr>
          <p:cNvPr id="1162" name="图片 10" descr=""/>
          <p:cNvPicPr/>
          <p:nvPr/>
        </p:nvPicPr>
        <p:blipFill>
          <a:blip r:embed="rId7"/>
          <a:stretch/>
        </p:blipFill>
        <p:spPr>
          <a:xfrm>
            <a:off x="3616200" y="369720"/>
            <a:ext cx="2659320" cy="3116520"/>
          </a:xfrm>
          <a:prstGeom prst="rect">
            <a:avLst/>
          </a:prstGeom>
          <a:ln w="0">
            <a:noFill/>
          </a:ln>
        </p:spPr>
      </p:pic>
      <p:pic>
        <p:nvPicPr>
          <p:cNvPr id="1163" name="图片 3" descr=""/>
          <p:cNvPicPr/>
          <p:nvPr/>
        </p:nvPicPr>
        <p:blipFill>
          <a:blip r:embed="rId8"/>
          <a:stretch/>
        </p:blipFill>
        <p:spPr>
          <a:xfrm flipH="1" rot="20731200">
            <a:off x="10271880" y="1108080"/>
            <a:ext cx="1067040" cy="1046160"/>
          </a:xfrm>
          <a:prstGeom prst="rect">
            <a:avLst/>
          </a:prstGeom>
          <a:ln w="0">
            <a:noFill/>
          </a:ln>
        </p:spPr>
      </p:pic>
      <p:pic>
        <p:nvPicPr>
          <p:cNvPr id="1164" name="图片 4" descr=""/>
          <p:cNvPicPr/>
          <p:nvPr/>
        </p:nvPicPr>
        <p:blipFill>
          <a:blip r:embed="rId9"/>
          <a:stretch/>
        </p:blipFill>
        <p:spPr>
          <a:xfrm>
            <a:off x="8472600" y="5543640"/>
            <a:ext cx="558720" cy="533160"/>
          </a:xfrm>
          <a:prstGeom prst="rect">
            <a:avLst/>
          </a:prstGeom>
          <a:ln w="0">
            <a:noFill/>
          </a:ln>
        </p:spPr>
      </p:pic>
      <p:pic>
        <p:nvPicPr>
          <p:cNvPr id="1165" name="图片 3" descr=""/>
          <p:cNvPicPr/>
          <p:nvPr/>
        </p:nvPicPr>
        <p:blipFill>
          <a:blip r:embed="rId10"/>
          <a:stretch/>
        </p:blipFill>
        <p:spPr>
          <a:xfrm>
            <a:off x="2421000" y="1197000"/>
            <a:ext cx="950760" cy="933480"/>
          </a:xfrm>
          <a:prstGeom prst="rect">
            <a:avLst/>
          </a:prstGeom>
          <a:ln w="0">
            <a:noFill/>
          </a:ln>
        </p:spPr>
      </p:pic>
      <p:sp>
        <p:nvSpPr>
          <p:cNvPr id="11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6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68" name="PlaceHolder 3"/>
          <p:cNvSpPr>
            <a:spLocks noGrp="1"/>
          </p:cNvSpPr>
          <p:nvPr>
            <p:ph type="dt" idx="76"/>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4653-EB8F-4DEA-8325-0EB912AD477C}"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69" name="PlaceHolder 4"/>
          <p:cNvSpPr>
            <a:spLocks noGrp="1"/>
          </p:cNvSpPr>
          <p:nvPr>
            <p:ph type="ftr" idx="7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0" name="PlaceHolder 5"/>
          <p:cNvSpPr>
            <a:spLocks noGrp="1"/>
          </p:cNvSpPr>
          <p:nvPr>
            <p:ph type="sldNum" idx="7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7F55-3B56-4329-ADC6-D2D5386DD42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11"/>
    <p:sldLayoutId id="2147483975" r:id="rId12"/>
    <p:sldLayoutId id="2147483976" r:id="rId13"/>
    <p:sldLayoutId id="2147483977" r:id="rId14"/>
    <p:sldLayoutId id="2147483978" r:id="rId15"/>
    <p:sldLayoutId id="2147483979" r:id="rId16"/>
    <p:sldLayoutId id="2147483980" r:id="rId17"/>
    <p:sldLayoutId id="2147483981" r:id="rId18"/>
    <p:sldLayoutId id="2147483982" r:id="rId19"/>
    <p:sldLayoutId id="2147483983" r:id="rId20"/>
    <p:sldLayoutId id="2147483984" r:id="rId21"/>
    <p:sldLayoutId id="2147483985" r:id="rId22"/>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8"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21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211" name="PlaceHolder 3"/>
          <p:cNvSpPr>
            <a:spLocks noGrp="1"/>
          </p:cNvSpPr>
          <p:nvPr>
            <p:ph type="dt" idx="7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B4E3-A19B-49EA-9341-0E00665C8B93}"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212" name="PlaceHolder 4"/>
          <p:cNvSpPr>
            <a:spLocks noGrp="1"/>
          </p:cNvSpPr>
          <p:nvPr>
            <p:ph type="ftr" idx="8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3" name="PlaceHolder 5"/>
          <p:cNvSpPr>
            <a:spLocks noGrp="1"/>
          </p:cNvSpPr>
          <p:nvPr>
            <p:ph type="sldNum" idx="8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D8AD-90FB-4207-B102-2B5186855C6A}"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51" name="图片 5" descr=""/>
          <p:cNvPicPr/>
          <p:nvPr/>
        </p:nvPicPr>
        <p:blipFill>
          <a:blip r:embed="rId2"/>
          <a:stretch/>
        </p:blipFill>
        <p:spPr>
          <a:xfrm rot="19920000">
            <a:off x="1331640" y="5760720"/>
            <a:ext cx="709560" cy="676080"/>
          </a:xfrm>
          <a:prstGeom prst="rect">
            <a:avLst/>
          </a:prstGeom>
          <a:ln w="0">
            <a:noFill/>
          </a:ln>
        </p:spPr>
      </p:pic>
      <p:pic>
        <p:nvPicPr>
          <p:cNvPr id="1252" name="图片 6" descr=""/>
          <p:cNvPicPr/>
          <p:nvPr/>
        </p:nvPicPr>
        <p:blipFill>
          <a:blip r:embed="rId3"/>
          <a:stretch/>
        </p:blipFill>
        <p:spPr>
          <a:xfrm rot="17330400">
            <a:off x="3751200" y="5588640"/>
            <a:ext cx="568440" cy="543240"/>
          </a:xfrm>
          <a:prstGeom prst="rect">
            <a:avLst/>
          </a:prstGeom>
          <a:ln w="0">
            <a:noFill/>
          </a:ln>
        </p:spPr>
      </p:pic>
      <p:pic>
        <p:nvPicPr>
          <p:cNvPr id="1253" name="图片 4" descr=""/>
          <p:cNvPicPr/>
          <p:nvPr/>
        </p:nvPicPr>
        <p:blipFill>
          <a:blip r:embed="rId4"/>
          <a:stretch/>
        </p:blipFill>
        <p:spPr>
          <a:xfrm>
            <a:off x="609480" y="693720"/>
            <a:ext cx="560520" cy="534960"/>
          </a:xfrm>
          <a:prstGeom prst="rect">
            <a:avLst/>
          </a:prstGeom>
          <a:ln w="0">
            <a:noFill/>
          </a:ln>
        </p:spPr>
      </p:pic>
      <p:pic>
        <p:nvPicPr>
          <p:cNvPr id="1254" name="图片 3" descr=""/>
          <p:cNvPicPr/>
          <p:nvPr/>
        </p:nvPicPr>
        <p:blipFill>
          <a:blip r:embed="rId5"/>
          <a:stretch/>
        </p:blipFill>
        <p:spPr>
          <a:xfrm>
            <a:off x="2606760" y="1195560"/>
            <a:ext cx="950760" cy="933120"/>
          </a:xfrm>
          <a:prstGeom prst="rect">
            <a:avLst/>
          </a:prstGeom>
          <a:ln w="0">
            <a:noFill/>
          </a:ln>
        </p:spPr>
      </p:pic>
      <p:pic>
        <p:nvPicPr>
          <p:cNvPr id="1255" name="图片 2" descr=""/>
          <p:cNvPicPr/>
          <p:nvPr/>
        </p:nvPicPr>
        <p:blipFill>
          <a:blip r:embed="rId6"/>
          <a:stretch/>
        </p:blipFill>
        <p:spPr>
          <a:xfrm>
            <a:off x="5986440" y="1724040"/>
            <a:ext cx="5950080" cy="4987800"/>
          </a:xfrm>
          <a:prstGeom prst="rect">
            <a:avLst/>
          </a:prstGeom>
          <a:ln w="0">
            <a:noFill/>
          </a:ln>
        </p:spPr>
      </p:pic>
      <p:pic>
        <p:nvPicPr>
          <p:cNvPr id="1256" name="图片 1" descr=""/>
          <p:cNvPicPr/>
          <p:nvPr/>
        </p:nvPicPr>
        <p:blipFill>
          <a:blip r:embed="rId7"/>
          <a:stretch/>
        </p:blipFill>
        <p:spPr>
          <a:xfrm>
            <a:off x="10969560" y="1963800"/>
            <a:ext cx="1013040" cy="1003320"/>
          </a:xfrm>
          <a:prstGeom prst="rect">
            <a:avLst/>
          </a:prstGeom>
          <a:ln w="0">
            <a:noFill/>
          </a:ln>
        </p:spPr>
      </p:pic>
      <p:sp>
        <p:nvSpPr>
          <p:cNvPr id="12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25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259" name="PlaceHolder 3"/>
          <p:cNvSpPr>
            <a:spLocks noGrp="1"/>
          </p:cNvSpPr>
          <p:nvPr>
            <p:ph type="dt" idx="8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36F4A-B86D-4902-AFE0-6F20886CACA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260" name="PlaceHolder 4"/>
          <p:cNvSpPr>
            <a:spLocks noGrp="1"/>
          </p:cNvSpPr>
          <p:nvPr>
            <p:ph type="ftr" idx="8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1" name="PlaceHolder 5"/>
          <p:cNvSpPr>
            <a:spLocks noGrp="1"/>
          </p:cNvSpPr>
          <p:nvPr>
            <p:ph type="sldNum" idx="8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4ED9-CBFE-4DA9-9A74-C62E17FEECA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8"/>
    <p:sldLayoutId id="2147484001" r:id="rId9"/>
    <p:sldLayoutId id="2147484002" r:id="rId10"/>
    <p:sldLayoutId id="2147484003" r:id="rId11"/>
    <p:sldLayoutId id="2147484004" r:id="rId12"/>
    <p:sldLayoutId id="2147484005" r:id="rId13"/>
    <p:sldLayoutId id="2147484006" r:id="rId14"/>
    <p:sldLayoutId id="2147484007" r:id="rId15"/>
    <p:sldLayoutId id="2147484008" r:id="rId16"/>
    <p:sldLayoutId id="2147484009" r:id="rId17"/>
    <p:sldLayoutId id="2147484010" r:id="rId18"/>
    <p:sldLayoutId id="2147484011" r:id="rId19"/>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99" name="图片 6" descr=""/>
          <p:cNvPicPr/>
          <p:nvPr/>
        </p:nvPicPr>
        <p:blipFill>
          <a:blip r:embed="rId2"/>
          <a:stretch/>
        </p:blipFill>
        <p:spPr>
          <a:xfrm>
            <a:off x="10899720" y="5443560"/>
            <a:ext cx="1292400" cy="1414440"/>
          </a:xfrm>
          <a:prstGeom prst="rect">
            <a:avLst/>
          </a:prstGeom>
          <a:ln w="0">
            <a:noFill/>
          </a:ln>
        </p:spPr>
      </p:pic>
      <p:pic>
        <p:nvPicPr>
          <p:cNvPr id="1300" name="图片 7" descr=""/>
          <p:cNvPicPr/>
          <p:nvPr/>
        </p:nvPicPr>
        <p:blipFill>
          <a:blip r:embed="rId3"/>
          <a:stretch/>
        </p:blipFill>
        <p:spPr>
          <a:xfrm>
            <a:off x="311040" y="6194520"/>
            <a:ext cx="507960" cy="431640"/>
          </a:xfrm>
          <a:prstGeom prst="rect">
            <a:avLst/>
          </a:prstGeom>
          <a:ln w="0">
            <a:noFill/>
          </a:ln>
        </p:spPr>
      </p:pic>
      <p:pic>
        <p:nvPicPr>
          <p:cNvPr id="1301" name="图片 8" descr=""/>
          <p:cNvPicPr/>
          <p:nvPr/>
        </p:nvPicPr>
        <p:blipFill>
          <a:blip r:embed="rId4"/>
          <a:stretch/>
        </p:blipFill>
        <p:spPr>
          <a:xfrm>
            <a:off x="10291680" y="6410160"/>
            <a:ext cx="354240" cy="336600"/>
          </a:xfrm>
          <a:prstGeom prst="rect">
            <a:avLst/>
          </a:prstGeom>
          <a:ln w="0">
            <a:noFill/>
          </a:ln>
        </p:spPr>
      </p:pic>
      <p:pic>
        <p:nvPicPr>
          <p:cNvPr id="1302" name="图片 9" descr=""/>
          <p:cNvPicPr/>
          <p:nvPr/>
        </p:nvPicPr>
        <p:blipFill>
          <a:blip r:embed="rId5"/>
          <a:stretch/>
        </p:blipFill>
        <p:spPr>
          <a:xfrm>
            <a:off x="260280" y="114480"/>
            <a:ext cx="546120" cy="534960"/>
          </a:xfrm>
          <a:prstGeom prst="rect">
            <a:avLst/>
          </a:prstGeom>
          <a:ln w="0">
            <a:noFill/>
          </a:ln>
        </p:spPr>
      </p:pic>
      <p:pic>
        <p:nvPicPr>
          <p:cNvPr id="1303" name="图片 10" descr=""/>
          <p:cNvPicPr/>
          <p:nvPr/>
        </p:nvPicPr>
        <p:blipFill>
          <a:blip r:embed="rId6"/>
          <a:stretch/>
        </p:blipFill>
        <p:spPr>
          <a:xfrm>
            <a:off x="11442600" y="54000"/>
            <a:ext cx="615960" cy="608040"/>
          </a:xfrm>
          <a:prstGeom prst="rect">
            <a:avLst/>
          </a:prstGeom>
          <a:ln w="0">
            <a:noFill/>
          </a:ln>
        </p:spPr>
      </p:pic>
      <p:sp>
        <p:nvSpPr>
          <p:cNvPr id="13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0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06" name="PlaceHolder 3"/>
          <p:cNvSpPr>
            <a:spLocks noGrp="1"/>
          </p:cNvSpPr>
          <p:nvPr>
            <p:ph type="dt" idx="8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7B9F-52E5-4A41-B108-8C0A163CDC5F}"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307" name="PlaceHolder 4"/>
          <p:cNvSpPr>
            <a:spLocks noGrp="1"/>
          </p:cNvSpPr>
          <p:nvPr>
            <p:ph type="ftr" idx="8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8" name="PlaceHolder 5"/>
          <p:cNvSpPr>
            <a:spLocks noGrp="1"/>
          </p:cNvSpPr>
          <p:nvPr>
            <p:ph type="sldNum" idx="8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9CF7-A733-4FDF-B02C-D1796C3259E1}"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7"/>
    <p:sldLayoutId id="2147484014" r:id="rId8"/>
    <p:sldLayoutId id="2147484015" r:id="rId9"/>
    <p:sldLayoutId id="2147484016" r:id="rId10"/>
    <p:sldLayoutId id="2147484017" r:id="rId11"/>
    <p:sldLayoutId id="2147484018" r:id="rId12"/>
    <p:sldLayoutId id="2147484019" r:id="rId13"/>
    <p:sldLayoutId id="2147484020" r:id="rId14"/>
    <p:sldLayoutId id="2147484021" r:id="rId15"/>
    <p:sldLayoutId id="2147484022" r:id="rId16"/>
    <p:sldLayoutId id="2147484023" r:id="rId17"/>
    <p:sldLayoutId id="2147484024"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6" name="PlaceHolder 3"/>
          <p:cNvSpPr>
            <a:spLocks noGrp="1"/>
          </p:cNvSpPr>
          <p:nvPr>
            <p:ph type="dt" idx="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30697-688D-4A67-9931-FBDBBFB405D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PlaceHolder 5"/>
          <p:cNvSpPr>
            <a:spLocks noGrp="1"/>
          </p:cNvSpPr>
          <p:nvPr>
            <p:ph type="sldNum" idx="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E54F5-F4FA-499D-8046-303D02A74DE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
        <p:nvSpPr>
          <p:cNvPr id="8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46" name="图片 7" descr=""/>
          <p:cNvPicPr/>
          <p:nvPr/>
        </p:nvPicPr>
        <p:blipFill>
          <a:blip r:embed="rId2"/>
          <a:stretch/>
        </p:blipFill>
        <p:spPr>
          <a:xfrm flipH="1" rot="20731200">
            <a:off x="9333720" y="2427120"/>
            <a:ext cx="1067040" cy="1046160"/>
          </a:xfrm>
          <a:prstGeom prst="rect">
            <a:avLst/>
          </a:prstGeom>
          <a:ln w="0">
            <a:noFill/>
          </a:ln>
        </p:spPr>
      </p:pic>
      <p:pic>
        <p:nvPicPr>
          <p:cNvPr id="1347" name="图片 3" descr=""/>
          <p:cNvPicPr/>
          <p:nvPr/>
        </p:nvPicPr>
        <p:blipFill>
          <a:blip r:embed="rId3"/>
          <a:stretch/>
        </p:blipFill>
        <p:spPr>
          <a:xfrm>
            <a:off x="2212920" y="2452680"/>
            <a:ext cx="951120" cy="933480"/>
          </a:xfrm>
          <a:prstGeom prst="rect">
            <a:avLst/>
          </a:prstGeom>
          <a:ln w="0">
            <a:noFill/>
          </a:ln>
        </p:spPr>
      </p:pic>
      <p:pic>
        <p:nvPicPr>
          <p:cNvPr id="1348" name="图片 8" descr=""/>
          <p:cNvPicPr/>
          <p:nvPr/>
        </p:nvPicPr>
        <p:blipFill>
          <a:blip r:embed="rId4"/>
          <a:stretch/>
        </p:blipFill>
        <p:spPr>
          <a:xfrm>
            <a:off x="4859280" y="-30240"/>
            <a:ext cx="1836720" cy="2237040"/>
          </a:xfrm>
          <a:prstGeom prst="rect">
            <a:avLst/>
          </a:prstGeom>
          <a:ln w="0">
            <a:noFill/>
          </a:ln>
        </p:spPr>
      </p:pic>
      <p:pic>
        <p:nvPicPr>
          <p:cNvPr id="1349" name="图片 9" descr=""/>
          <p:cNvPicPr/>
          <p:nvPr/>
        </p:nvPicPr>
        <p:blipFill>
          <a:blip r:embed="rId5"/>
          <a:stretch/>
        </p:blipFill>
        <p:spPr>
          <a:xfrm>
            <a:off x="5068800" y="4519440"/>
            <a:ext cx="2060640" cy="2325960"/>
          </a:xfrm>
          <a:prstGeom prst="rect">
            <a:avLst/>
          </a:prstGeom>
          <a:ln w="0">
            <a:noFill/>
          </a:ln>
        </p:spPr>
      </p:pic>
      <p:sp>
        <p:nvSpPr>
          <p:cNvPr id="13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5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52" name="PlaceHolder 3"/>
          <p:cNvSpPr>
            <a:spLocks noGrp="1"/>
          </p:cNvSpPr>
          <p:nvPr>
            <p:ph type="dt" idx="8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5756-E202-4C03-A877-08115FC6F94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353" name="PlaceHolder 4"/>
          <p:cNvSpPr>
            <a:spLocks noGrp="1"/>
          </p:cNvSpPr>
          <p:nvPr>
            <p:ph type="ftr" idx="8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4" name="PlaceHolder 5"/>
          <p:cNvSpPr>
            <a:spLocks noGrp="1"/>
          </p:cNvSpPr>
          <p:nvPr>
            <p:ph type="sldNum" idx="9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49CB-0A9E-49EF-B367-573B086B291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6"/>
    <p:sldLayoutId id="2147484027" r:id="rId7"/>
    <p:sldLayoutId id="2147484028" r:id="rId8"/>
    <p:sldLayoutId id="2147484029" r:id="rId9"/>
    <p:sldLayoutId id="2147484030" r:id="rId10"/>
    <p:sldLayoutId id="2147484031" r:id="rId11"/>
    <p:sldLayoutId id="2147484032" r:id="rId12"/>
    <p:sldLayoutId id="2147484033" r:id="rId13"/>
    <p:sldLayoutId id="2147484034" r:id="rId14"/>
    <p:sldLayoutId id="2147484035" r:id="rId15"/>
    <p:sldLayoutId id="2147484036" r:id="rId16"/>
    <p:sldLayoutId id="2147484037" r:id="rId17"/>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92" name="图片 7" descr=""/>
          <p:cNvPicPr/>
          <p:nvPr/>
        </p:nvPicPr>
        <p:blipFill>
          <a:blip r:embed="rId2"/>
          <a:stretch/>
        </p:blipFill>
        <p:spPr>
          <a:xfrm>
            <a:off x="10899720" y="5443560"/>
            <a:ext cx="1292400" cy="1414440"/>
          </a:xfrm>
          <a:prstGeom prst="rect">
            <a:avLst/>
          </a:prstGeom>
          <a:ln w="0">
            <a:noFill/>
          </a:ln>
        </p:spPr>
      </p:pic>
      <p:pic>
        <p:nvPicPr>
          <p:cNvPr id="1393" name="图片 8" descr=""/>
          <p:cNvPicPr/>
          <p:nvPr/>
        </p:nvPicPr>
        <p:blipFill>
          <a:blip r:embed="rId3"/>
          <a:stretch/>
        </p:blipFill>
        <p:spPr>
          <a:xfrm>
            <a:off x="311040" y="6194520"/>
            <a:ext cx="507960" cy="431640"/>
          </a:xfrm>
          <a:prstGeom prst="rect">
            <a:avLst/>
          </a:prstGeom>
          <a:ln w="0">
            <a:noFill/>
          </a:ln>
        </p:spPr>
      </p:pic>
      <p:pic>
        <p:nvPicPr>
          <p:cNvPr id="1394" name="图片 9" descr=""/>
          <p:cNvPicPr/>
          <p:nvPr/>
        </p:nvPicPr>
        <p:blipFill>
          <a:blip r:embed="rId4"/>
          <a:stretch/>
        </p:blipFill>
        <p:spPr>
          <a:xfrm>
            <a:off x="10291680" y="6410160"/>
            <a:ext cx="354240" cy="336600"/>
          </a:xfrm>
          <a:prstGeom prst="rect">
            <a:avLst/>
          </a:prstGeom>
          <a:ln w="0">
            <a:noFill/>
          </a:ln>
        </p:spPr>
      </p:pic>
      <p:pic>
        <p:nvPicPr>
          <p:cNvPr id="1395" name="图片 10" descr=""/>
          <p:cNvPicPr/>
          <p:nvPr/>
        </p:nvPicPr>
        <p:blipFill>
          <a:blip r:embed="rId5"/>
          <a:stretch/>
        </p:blipFill>
        <p:spPr>
          <a:xfrm>
            <a:off x="260280" y="114480"/>
            <a:ext cx="546120" cy="534960"/>
          </a:xfrm>
          <a:prstGeom prst="rect">
            <a:avLst/>
          </a:prstGeom>
          <a:ln w="0">
            <a:noFill/>
          </a:ln>
        </p:spPr>
      </p:pic>
      <p:pic>
        <p:nvPicPr>
          <p:cNvPr id="1396" name="图片 11" descr=""/>
          <p:cNvPicPr/>
          <p:nvPr/>
        </p:nvPicPr>
        <p:blipFill>
          <a:blip r:embed="rId6"/>
          <a:stretch/>
        </p:blipFill>
        <p:spPr>
          <a:xfrm>
            <a:off x="11442600" y="54000"/>
            <a:ext cx="615960" cy="608040"/>
          </a:xfrm>
          <a:prstGeom prst="rect">
            <a:avLst/>
          </a:prstGeom>
          <a:ln w="0">
            <a:noFill/>
          </a:ln>
        </p:spPr>
      </p:pic>
      <p:sp>
        <p:nvSpPr>
          <p:cNvPr id="13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9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99" name="PlaceHolder 3"/>
          <p:cNvSpPr>
            <a:spLocks noGrp="1"/>
          </p:cNvSpPr>
          <p:nvPr>
            <p:ph type="dt" idx="9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1F80-90DE-4F55-BA1B-581EFBEF55DF}"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400" name="PlaceHolder 4"/>
          <p:cNvSpPr>
            <a:spLocks noGrp="1"/>
          </p:cNvSpPr>
          <p:nvPr>
            <p:ph type="ftr" idx="9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1" name="PlaceHolder 5"/>
          <p:cNvSpPr>
            <a:spLocks noGrp="1"/>
          </p:cNvSpPr>
          <p:nvPr>
            <p:ph type="sldNum" idx="9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FA9A-80F2-4290-A197-EEEF6426D0E5}"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7"/>
    <p:sldLayoutId id="2147484040" r:id="rId8"/>
    <p:sldLayoutId id="2147484041" r:id="rId9"/>
    <p:sldLayoutId id="2147484042" r:id="rId10"/>
    <p:sldLayoutId id="2147484043" r:id="rId11"/>
    <p:sldLayoutId id="2147484044" r:id="rId12"/>
    <p:sldLayoutId id="2147484045" r:id="rId13"/>
    <p:sldLayoutId id="2147484046" r:id="rId14"/>
    <p:sldLayoutId id="2147484047" r:id="rId15"/>
    <p:sldLayoutId id="2147484048" r:id="rId16"/>
    <p:sldLayoutId id="2147484049" r:id="rId17"/>
    <p:sldLayoutId id="2147484050" r:id="rId18"/>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39" name="图片 9" descr=""/>
          <p:cNvPicPr/>
          <p:nvPr/>
        </p:nvPicPr>
        <p:blipFill>
          <a:blip r:embed="rId2"/>
          <a:stretch/>
        </p:blipFill>
        <p:spPr>
          <a:xfrm>
            <a:off x="10899720" y="5443560"/>
            <a:ext cx="1292400" cy="1414440"/>
          </a:xfrm>
          <a:prstGeom prst="rect">
            <a:avLst/>
          </a:prstGeom>
          <a:ln w="0">
            <a:noFill/>
          </a:ln>
        </p:spPr>
      </p:pic>
      <p:pic>
        <p:nvPicPr>
          <p:cNvPr id="1440" name="图片 10" descr=""/>
          <p:cNvPicPr/>
          <p:nvPr/>
        </p:nvPicPr>
        <p:blipFill>
          <a:blip r:embed="rId3"/>
          <a:stretch/>
        </p:blipFill>
        <p:spPr>
          <a:xfrm>
            <a:off x="311040" y="6194520"/>
            <a:ext cx="507960" cy="431640"/>
          </a:xfrm>
          <a:prstGeom prst="rect">
            <a:avLst/>
          </a:prstGeom>
          <a:ln w="0">
            <a:noFill/>
          </a:ln>
        </p:spPr>
      </p:pic>
      <p:pic>
        <p:nvPicPr>
          <p:cNvPr id="1441" name="图片 11" descr=""/>
          <p:cNvPicPr/>
          <p:nvPr/>
        </p:nvPicPr>
        <p:blipFill>
          <a:blip r:embed="rId4"/>
          <a:stretch/>
        </p:blipFill>
        <p:spPr>
          <a:xfrm>
            <a:off x="10291680" y="6410160"/>
            <a:ext cx="354240" cy="336600"/>
          </a:xfrm>
          <a:prstGeom prst="rect">
            <a:avLst/>
          </a:prstGeom>
          <a:ln w="0">
            <a:noFill/>
          </a:ln>
        </p:spPr>
      </p:pic>
      <p:pic>
        <p:nvPicPr>
          <p:cNvPr id="1442" name="图片 12" descr=""/>
          <p:cNvPicPr/>
          <p:nvPr/>
        </p:nvPicPr>
        <p:blipFill>
          <a:blip r:embed="rId5"/>
          <a:stretch/>
        </p:blipFill>
        <p:spPr>
          <a:xfrm>
            <a:off x="260280" y="114480"/>
            <a:ext cx="546120" cy="534960"/>
          </a:xfrm>
          <a:prstGeom prst="rect">
            <a:avLst/>
          </a:prstGeom>
          <a:ln w="0">
            <a:noFill/>
          </a:ln>
        </p:spPr>
      </p:pic>
      <p:pic>
        <p:nvPicPr>
          <p:cNvPr id="1443" name="图片 13" descr=""/>
          <p:cNvPicPr/>
          <p:nvPr/>
        </p:nvPicPr>
        <p:blipFill>
          <a:blip r:embed="rId6"/>
          <a:stretch/>
        </p:blipFill>
        <p:spPr>
          <a:xfrm>
            <a:off x="11442600" y="54000"/>
            <a:ext cx="615960" cy="608040"/>
          </a:xfrm>
          <a:prstGeom prst="rect">
            <a:avLst/>
          </a:prstGeom>
          <a:ln w="0">
            <a:noFill/>
          </a:ln>
        </p:spPr>
      </p:pic>
      <p:sp>
        <p:nvSpPr>
          <p:cNvPr id="14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44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446" name="PlaceHolder 3"/>
          <p:cNvSpPr>
            <a:spLocks noGrp="1"/>
          </p:cNvSpPr>
          <p:nvPr>
            <p:ph type="dt" idx="9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1876-3DCA-4512-A8AA-1FD8B81B748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447" name="PlaceHolder 4"/>
          <p:cNvSpPr>
            <a:spLocks noGrp="1"/>
          </p:cNvSpPr>
          <p:nvPr>
            <p:ph type="ftr" idx="9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8" name="PlaceHolder 5"/>
          <p:cNvSpPr>
            <a:spLocks noGrp="1"/>
          </p:cNvSpPr>
          <p:nvPr>
            <p:ph type="sldNum" idx="9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3C68-21D2-4E94-8659-D4B5162026A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7"/>
    <p:sldLayoutId id="2147484053" r:id="rId8"/>
    <p:sldLayoutId id="2147484054" r:id="rId9"/>
    <p:sldLayoutId id="2147484055" r:id="rId10"/>
    <p:sldLayoutId id="2147484056" r:id="rId11"/>
    <p:sldLayoutId id="2147484057" r:id="rId12"/>
    <p:sldLayoutId id="2147484058" r:id="rId13"/>
    <p:sldLayoutId id="2147484059" r:id="rId14"/>
    <p:sldLayoutId id="2147484060" r:id="rId15"/>
    <p:sldLayoutId id="2147484061" r:id="rId16"/>
    <p:sldLayoutId id="2147484062" r:id="rId17"/>
    <p:sldLayoutId id="2147484063" r:id="rId18"/>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86" name="图片 5" descr=""/>
          <p:cNvPicPr/>
          <p:nvPr/>
        </p:nvPicPr>
        <p:blipFill>
          <a:blip r:embed="rId2"/>
          <a:stretch/>
        </p:blipFill>
        <p:spPr>
          <a:xfrm>
            <a:off x="10899720" y="5443560"/>
            <a:ext cx="1292400" cy="1414440"/>
          </a:xfrm>
          <a:prstGeom prst="rect">
            <a:avLst/>
          </a:prstGeom>
          <a:ln w="0">
            <a:noFill/>
          </a:ln>
        </p:spPr>
      </p:pic>
      <p:pic>
        <p:nvPicPr>
          <p:cNvPr id="1487" name="图片 8" descr=""/>
          <p:cNvPicPr/>
          <p:nvPr/>
        </p:nvPicPr>
        <p:blipFill>
          <a:blip r:embed="rId3"/>
          <a:stretch/>
        </p:blipFill>
        <p:spPr>
          <a:xfrm>
            <a:off x="260280" y="114480"/>
            <a:ext cx="546120" cy="534960"/>
          </a:xfrm>
          <a:prstGeom prst="rect">
            <a:avLst/>
          </a:prstGeom>
          <a:ln w="0">
            <a:noFill/>
          </a:ln>
        </p:spPr>
      </p:pic>
      <p:pic>
        <p:nvPicPr>
          <p:cNvPr id="1488" name="图片 9" descr=""/>
          <p:cNvPicPr/>
          <p:nvPr/>
        </p:nvPicPr>
        <p:blipFill>
          <a:blip r:embed="rId4"/>
          <a:stretch/>
        </p:blipFill>
        <p:spPr>
          <a:xfrm>
            <a:off x="11442600" y="54000"/>
            <a:ext cx="615960" cy="608040"/>
          </a:xfrm>
          <a:prstGeom prst="rect">
            <a:avLst/>
          </a:prstGeom>
          <a:ln w="0">
            <a:noFill/>
          </a:ln>
        </p:spPr>
      </p:pic>
      <p:sp>
        <p:nvSpPr>
          <p:cNvPr id="14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49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491" name="PlaceHolder 3"/>
          <p:cNvSpPr>
            <a:spLocks noGrp="1"/>
          </p:cNvSpPr>
          <p:nvPr>
            <p:ph type="dt" idx="9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92E1-8827-4529-B5FA-336AB15AA5B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492" name="PlaceHolder 4"/>
          <p:cNvSpPr>
            <a:spLocks noGrp="1"/>
          </p:cNvSpPr>
          <p:nvPr>
            <p:ph type="ftr" idx="9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3" name="PlaceHolder 5"/>
          <p:cNvSpPr>
            <a:spLocks noGrp="1"/>
          </p:cNvSpPr>
          <p:nvPr>
            <p:ph type="sldNum" idx="9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B064-2EB0-444F-BA28-F8D962B22928}"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31" name="图片 7" descr=""/>
          <p:cNvPicPr/>
          <p:nvPr/>
        </p:nvPicPr>
        <p:blipFill>
          <a:blip r:embed="rId2"/>
          <a:stretch/>
        </p:blipFill>
        <p:spPr>
          <a:xfrm>
            <a:off x="10899720" y="5443560"/>
            <a:ext cx="1292400" cy="1414440"/>
          </a:xfrm>
          <a:prstGeom prst="rect">
            <a:avLst/>
          </a:prstGeom>
          <a:ln w="0">
            <a:noFill/>
          </a:ln>
        </p:spPr>
      </p:pic>
      <p:pic>
        <p:nvPicPr>
          <p:cNvPr id="1532" name="图片 8" descr=""/>
          <p:cNvPicPr/>
          <p:nvPr/>
        </p:nvPicPr>
        <p:blipFill>
          <a:blip r:embed="rId3"/>
          <a:stretch/>
        </p:blipFill>
        <p:spPr>
          <a:xfrm>
            <a:off x="311040" y="6194520"/>
            <a:ext cx="507960" cy="431640"/>
          </a:xfrm>
          <a:prstGeom prst="rect">
            <a:avLst/>
          </a:prstGeom>
          <a:ln w="0">
            <a:noFill/>
          </a:ln>
        </p:spPr>
      </p:pic>
      <p:pic>
        <p:nvPicPr>
          <p:cNvPr id="1533" name="图片 9" descr=""/>
          <p:cNvPicPr/>
          <p:nvPr/>
        </p:nvPicPr>
        <p:blipFill>
          <a:blip r:embed="rId4"/>
          <a:stretch/>
        </p:blipFill>
        <p:spPr>
          <a:xfrm>
            <a:off x="10291680" y="6410160"/>
            <a:ext cx="354240" cy="336600"/>
          </a:xfrm>
          <a:prstGeom prst="rect">
            <a:avLst/>
          </a:prstGeom>
          <a:ln w="0">
            <a:noFill/>
          </a:ln>
        </p:spPr>
      </p:pic>
      <p:pic>
        <p:nvPicPr>
          <p:cNvPr id="1534" name="图片 10" descr=""/>
          <p:cNvPicPr/>
          <p:nvPr/>
        </p:nvPicPr>
        <p:blipFill>
          <a:blip r:embed="rId5"/>
          <a:stretch/>
        </p:blipFill>
        <p:spPr>
          <a:xfrm>
            <a:off x="260280" y="114480"/>
            <a:ext cx="546120" cy="534960"/>
          </a:xfrm>
          <a:prstGeom prst="rect">
            <a:avLst/>
          </a:prstGeom>
          <a:ln w="0">
            <a:noFill/>
          </a:ln>
        </p:spPr>
      </p:pic>
      <p:pic>
        <p:nvPicPr>
          <p:cNvPr id="1535" name="图片 11" descr=""/>
          <p:cNvPicPr/>
          <p:nvPr/>
        </p:nvPicPr>
        <p:blipFill>
          <a:blip r:embed="rId6"/>
          <a:stretch/>
        </p:blipFill>
        <p:spPr>
          <a:xfrm>
            <a:off x="11442600" y="54000"/>
            <a:ext cx="615960" cy="608040"/>
          </a:xfrm>
          <a:prstGeom prst="rect">
            <a:avLst/>
          </a:prstGeom>
          <a:ln w="0">
            <a:noFill/>
          </a:ln>
        </p:spPr>
      </p:pic>
      <p:sp>
        <p:nvSpPr>
          <p:cNvPr id="15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53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538" name="PlaceHolder 3"/>
          <p:cNvSpPr>
            <a:spLocks noGrp="1"/>
          </p:cNvSpPr>
          <p:nvPr>
            <p:ph type="dt" idx="10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AEBB-9503-4358-945F-33C198A0D0A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539" name="PlaceHolder 4"/>
          <p:cNvSpPr>
            <a:spLocks noGrp="1"/>
          </p:cNvSpPr>
          <p:nvPr>
            <p:ph type="ftr" idx="10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0" name="PlaceHolder 5"/>
          <p:cNvSpPr>
            <a:spLocks noGrp="1"/>
          </p:cNvSpPr>
          <p:nvPr>
            <p:ph type="sldNum" idx="10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5AAF-AC30-4BE1-9642-DF8AFD17BB63}"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7"/>
    <p:sldLayoutId id="2147484079" r:id="rId8"/>
    <p:sldLayoutId id="2147484080" r:id="rId9"/>
    <p:sldLayoutId id="2147484081" r:id="rId10"/>
    <p:sldLayoutId id="2147484082" r:id="rId11"/>
    <p:sldLayoutId id="2147484083" r:id="rId12"/>
    <p:sldLayoutId id="2147484084" r:id="rId13"/>
    <p:sldLayoutId id="2147484085" r:id="rId14"/>
    <p:sldLayoutId id="2147484086" r:id="rId15"/>
    <p:sldLayoutId id="2147484087" r:id="rId16"/>
    <p:sldLayoutId id="2147484088" r:id="rId17"/>
    <p:sldLayoutId id="2147484089" r:id="rId18"/>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78" name="图片 7" descr=""/>
          <p:cNvPicPr/>
          <p:nvPr/>
        </p:nvPicPr>
        <p:blipFill>
          <a:blip r:embed="rId2"/>
          <a:stretch/>
        </p:blipFill>
        <p:spPr>
          <a:xfrm>
            <a:off x="10899720" y="5443560"/>
            <a:ext cx="1292400" cy="1414440"/>
          </a:xfrm>
          <a:prstGeom prst="rect">
            <a:avLst/>
          </a:prstGeom>
          <a:ln w="0">
            <a:noFill/>
          </a:ln>
        </p:spPr>
      </p:pic>
      <p:pic>
        <p:nvPicPr>
          <p:cNvPr id="1579" name="图片 8" descr=""/>
          <p:cNvPicPr/>
          <p:nvPr/>
        </p:nvPicPr>
        <p:blipFill>
          <a:blip r:embed="rId3"/>
          <a:stretch/>
        </p:blipFill>
        <p:spPr>
          <a:xfrm>
            <a:off x="311040" y="6194520"/>
            <a:ext cx="507960" cy="431640"/>
          </a:xfrm>
          <a:prstGeom prst="rect">
            <a:avLst/>
          </a:prstGeom>
          <a:ln w="0">
            <a:noFill/>
          </a:ln>
        </p:spPr>
      </p:pic>
      <p:pic>
        <p:nvPicPr>
          <p:cNvPr id="1580" name="图片 9" descr=""/>
          <p:cNvPicPr/>
          <p:nvPr/>
        </p:nvPicPr>
        <p:blipFill>
          <a:blip r:embed="rId4"/>
          <a:stretch/>
        </p:blipFill>
        <p:spPr>
          <a:xfrm>
            <a:off x="10291680" y="6410160"/>
            <a:ext cx="354240" cy="336600"/>
          </a:xfrm>
          <a:prstGeom prst="rect">
            <a:avLst/>
          </a:prstGeom>
          <a:ln w="0">
            <a:noFill/>
          </a:ln>
        </p:spPr>
      </p:pic>
      <p:pic>
        <p:nvPicPr>
          <p:cNvPr id="1581" name="图片 10" descr=""/>
          <p:cNvPicPr/>
          <p:nvPr/>
        </p:nvPicPr>
        <p:blipFill>
          <a:blip r:embed="rId5"/>
          <a:stretch/>
        </p:blipFill>
        <p:spPr>
          <a:xfrm>
            <a:off x="260280" y="114480"/>
            <a:ext cx="546120" cy="534960"/>
          </a:xfrm>
          <a:prstGeom prst="rect">
            <a:avLst/>
          </a:prstGeom>
          <a:ln w="0">
            <a:noFill/>
          </a:ln>
        </p:spPr>
      </p:pic>
      <p:pic>
        <p:nvPicPr>
          <p:cNvPr id="1582" name="图片 11" descr=""/>
          <p:cNvPicPr/>
          <p:nvPr/>
        </p:nvPicPr>
        <p:blipFill>
          <a:blip r:embed="rId6"/>
          <a:stretch/>
        </p:blipFill>
        <p:spPr>
          <a:xfrm>
            <a:off x="11442600" y="54000"/>
            <a:ext cx="615960" cy="608040"/>
          </a:xfrm>
          <a:prstGeom prst="rect">
            <a:avLst/>
          </a:prstGeom>
          <a:ln w="0">
            <a:noFill/>
          </a:ln>
        </p:spPr>
      </p:pic>
      <p:sp>
        <p:nvSpPr>
          <p:cNvPr id="15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58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585" name="PlaceHolder 3"/>
          <p:cNvSpPr>
            <a:spLocks noGrp="1"/>
          </p:cNvSpPr>
          <p:nvPr>
            <p:ph type="dt" idx="103"/>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F74F-ECA1-4F33-AEEE-9A7C19A3496C}"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586" name="PlaceHolder 4"/>
          <p:cNvSpPr>
            <a:spLocks noGrp="1"/>
          </p:cNvSpPr>
          <p:nvPr>
            <p:ph type="ftr" idx="10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7" name="PlaceHolder 5"/>
          <p:cNvSpPr>
            <a:spLocks noGrp="1"/>
          </p:cNvSpPr>
          <p:nvPr>
            <p:ph type="sldNum" idx="105"/>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5166-E533-4B49-B3C3-48121ACB2EA3}"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7"/>
    <p:sldLayoutId id="2147484092" r:id="rId8"/>
    <p:sldLayoutId id="2147484093" r:id="rId9"/>
    <p:sldLayoutId id="2147484094" r:id="rId10"/>
    <p:sldLayoutId id="2147484095" r:id="rId11"/>
    <p:sldLayoutId id="2147484096" r:id="rId12"/>
    <p:sldLayoutId id="2147484097" r:id="rId13"/>
    <p:sldLayoutId id="2147484098" r:id="rId14"/>
    <p:sldLayoutId id="2147484099" r:id="rId15"/>
    <p:sldLayoutId id="2147484100" r:id="rId16"/>
    <p:sldLayoutId id="2147484101" r:id="rId17"/>
    <p:sldLayoutId id="2147484102" r:id="rId18"/>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25" name="图片 6" descr=""/>
          <p:cNvPicPr/>
          <p:nvPr/>
        </p:nvPicPr>
        <p:blipFill>
          <a:blip r:embed="rId2"/>
          <a:stretch/>
        </p:blipFill>
        <p:spPr>
          <a:xfrm>
            <a:off x="10899720" y="5443560"/>
            <a:ext cx="1292400" cy="1414440"/>
          </a:xfrm>
          <a:prstGeom prst="rect">
            <a:avLst/>
          </a:prstGeom>
          <a:ln w="0">
            <a:noFill/>
          </a:ln>
        </p:spPr>
      </p:pic>
      <p:pic>
        <p:nvPicPr>
          <p:cNvPr id="1626" name="图片 7" descr=""/>
          <p:cNvPicPr/>
          <p:nvPr/>
        </p:nvPicPr>
        <p:blipFill>
          <a:blip r:embed="rId3"/>
          <a:stretch/>
        </p:blipFill>
        <p:spPr>
          <a:xfrm>
            <a:off x="311040" y="6194520"/>
            <a:ext cx="507960" cy="431640"/>
          </a:xfrm>
          <a:prstGeom prst="rect">
            <a:avLst/>
          </a:prstGeom>
          <a:ln w="0">
            <a:noFill/>
          </a:ln>
        </p:spPr>
      </p:pic>
      <p:pic>
        <p:nvPicPr>
          <p:cNvPr id="1627" name="图片 8" descr=""/>
          <p:cNvPicPr/>
          <p:nvPr/>
        </p:nvPicPr>
        <p:blipFill>
          <a:blip r:embed="rId4"/>
          <a:stretch/>
        </p:blipFill>
        <p:spPr>
          <a:xfrm>
            <a:off x="10291680" y="6410160"/>
            <a:ext cx="354240" cy="336600"/>
          </a:xfrm>
          <a:prstGeom prst="rect">
            <a:avLst/>
          </a:prstGeom>
          <a:ln w="0">
            <a:noFill/>
          </a:ln>
        </p:spPr>
      </p:pic>
      <p:pic>
        <p:nvPicPr>
          <p:cNvPr id="1628" name="图片 9" descr=""/>
          <p:cNvPicPr/>
          <p:nvPr/>
        </p:nvPicPr>
        <p:blipFill>
          <a:blip r:embed="rId5"/>
          <a:stretch/>
        </p:blipFill>
        <p:spPr>
          <a:xfrm>
            <a:off x="260280" y="114480"/>
            <a:ext cx="546120" cy="534960"/>
          </a:xfrm>
          <a:prstGeom prst="rect">
            <a:avLst/>
          </a:prstGeom>
          <a:ln w="0">
            <a:noFill/>
          </a:ln>
        </p:spPr>
      </p:pic>
      <p:pic>
        <p:nvPicPr>
          <p:cNvPr id="1629" name="图片 10" descr=""/>
          <p:cNvPicPr/>
          <p:nvPr/>
        </p:nvPicPr>
        <p:blipFill>
          <a:blip r:embed="rId6"/>
          <a:stretch/>
        </p:blipFill>
        <p:spPr>
          <a:xfrm>
            <a:off x="11442600" y="54000"/>
            <a:ext cx="615960" cy="608040"/>
          </a:xfrm>
          <a:prstGeom prst="rect">
            <a:avLst/>
          </a:prstGeom>
          <a:ln w="0">
            <a:noFill/>
          </a:ln>
        </p:spPr>
      </p:pic>
      <p:sp>
        <p:nvSpPr>
          <p:cNvPr id="16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63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632" name="PlaceHolder 3"/>
          <p:cNvSpPr>
            <a:spLocks noGrp="1"/>
          </p:cNvSpPr>
          <p:nvPr>
            <p:ph type="dt" idx="10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51C7-A059-4DE1-95DF-4DB60A83242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633" name="PlaceHolder 4"/>
          <p:cNvSpPr>
            <a:spLocks noGrp="1"/>
          </p:cNvSpPr>
          <p:nvPr>
            <p:ph type="ftr" idx="10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4" name="PlaceHolder 5"/>
          <p:cNvSpPr>
            <a:spLocks noGrp="1"/>
          </p:cNvSpPr>
          <p:nvPr>
            <p:ph type="sldNum" idx="10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5813-C45B-40B1-ABE3-D4B32F9F7F24}"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7"/>
    <p:sldLayoutId id="2147484105" r:id="rId8"/>
    <p:sldLayoutId id="2147484106" r:id="rId9"/>
    <p:sldLayoutId id="2147484107" r:id="rId10"/>
    <p:sldLayoutId id="2147484108" r:id="rId11"/>
    <p:sldLayoutId id="2147484109" r:id="rId12"/>
    <p:sldLayoutId id="2147484110" r:id="rId13"/>
    <p:sldLayoutId id="2147484111" r:id="rId14"/>
    <p:sldLayoutId id="2147484112" r:id="rId15"/>
    <p:sldLayoutId id="2147484113" r:id="rId16"/>
    <p:sldLayoutId id="2147484114" r:id="rId17"/>
    <p:sldLayoutId id="2147484115" r:id="rId18"/>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2" name="图片 5" descr=""/>
          <p:cNvPicPr/>
          <p:nvPr/>
        </p:nvPicPr>
        <p:blipFill>
          <a:blip r:embed="rId2"/>
          <a:stretch/>
        </p:blipFill>
        <p:spPr>
          <a:xfrm>
            <a:off x="10899720" y="5443560"/>
            <a:ext cx="1292400" cy="1414440"/>
          </a:xfrm>
          <a:prstGeom prst="rect">
            <a:avLst/>
          </a:prstGeom>
          <a:ln w="0">
            <a:noFill/>
          </a:ln>
        </p:spPr>
      </p:pic>
      <p:pic>
        <p:nvPicPr>
          <p:cNvPr id="1673" name="图片 7" descr=""/>
          <p:cNvPicPr/>
          <p:nvPr/>
        </p:nvPicPr>
        <p:blipFill>
          <a:blip r:embed="rId3"/>
          <a:stretch/>
        </p:blipFill>
        <p:spPr>
          <a:xfrm>
            <a:off x="311040" y="6194520"/>
            <a:ext cx="507960" cy="431640"/>
          </a:xfrm>
          <a:prstGeom prst="rect">
            <a:avLst/>
          </a:prstGeom>
          <a:ln w="0">
            <a:noFill/>
          </a:ln>
        </p:spPr>
      </p:pic>
      <p:pic>
        <p:nvPicPr>
          <p:cNvPr id="1674" name="图片 8" descr=""/>
          <p:cNvPicPr/>
          <p:nvPr/>
        </p:nvPicPr>
        <p:blipFill>
          <a:blip r:embed="rId4"/>
          <a:stretch/>
        </p:blipFill>
        <p:spPr>
          <a:xfrm>
            <a:off x="10291680" y="6410160"/>
            <a:ext cx="354240" cy="336600"/>
          </a:xfrm>
          <a:prstGeom prst="rect">
            <a:avLst/>
          </a:prstGeom>
          <a:ln w="0">
            <a:noFill/>
          </a:ln>
        </p:spPr>
      </p:pic>
      <p:pic>
        <p:nvPicPr>
          <p:cNvPr id="1675" name="图片 9" descr=""/>
          <p:cNvPicPr/>
          <p:nvPr/>
        </p:nvPicPr>
        <p:blipFill>
          <a:blip r:embed="rId5"/>
          <a:stretch/>
        </p:blipFill>
        <p:spPr>
          <a:xfrm>
            <a:off x="260280" y="114480"/>
            <a:ext cx="546120" cy="534960"/>
          </a:xfrm>
          <a:prstGeom prst="rect">
            <a:avLst/>
          </a:prstGeom>
          <a:ln w="0">
            <a:noFill/>
          </a:ln>
        </p:spPr>
      </p:pic>
      <p:pic>
        <p:nvPicPr>
          <p:cNvPr id="1676" name="图片 10" descr=""/>
          <p:cNvPicPr/>
          <p:nvPr/>
        </p:nvPicPr>
        <p:blipFill>
          <a:blip r:embed="rId6"/>
          <a:stretch/>
        </p:blipFill>
        <p:spPr>
          <a:xfrm>
            <a:off x="11442600" y="54000"/>
            <a:ext cx="615960" cy="608040"/>
          </a:xfrm>
          <a:prstGeom prst="rect">
            <a:avLst/>
          </a:prstGeom>
          <a:ln w="0">
            <a:noFill/>
          </a:ln>
        </p:spPr>
      </p:pic>
      <p:sp>
        <p:nvSpPr>
          <p:cNvPr id="16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67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679" name="PlaceHolder 3"/>
          <p:cNvSpPr>
            <a:spLocks noGrp="1"/>
          </p:cNvSpPr>
          <p:nvPr>
            <p:ph type="dt" idx="10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76EA-FA69-4C54-B755-AC88E8A8982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680" name="PlaceHolder 4"/>
          <p:cNvSpPr>
            <a:spLocks noGrp="1"/>
          </p:cNvSpPr>
          <p:nvPr>
            <p:ph type="ftr" idx="11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1" name="PlaceHolder 5"/>
          <p:cNvSpPr>
            <a:spLocks noGrp="1"/>
          </p:cNvSpPr>
          <p:nvPr>
            <p:ph type="sldNum" idx="11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6434-9AEA-4032-BB90-187CB402050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7"/>
    <p:sldLayoutId id="2147484118" r:id="rId8"/>
    <p:sldLayoutId id="2147484119" r:id="rId9"/>
    <p:sldLayoutId id="2147484120" r:id="rId10"/>
    <p:sldLayoutId id="2147484121" r:id="rId11"/>
    <p:sldLayoutId id="2147484122" r:id="rId12"/>
    <p:sldLayoutId id="2147484123" r:id="rId13"/>
    <p:sldLayoutId id="2147484124" r:id="rId14"/>
    <p:sldLayoutId id="2147484125" r:id="rId15"/>
    <p:sldLayoutId id="2147484126" r:id="rId16"/>
    <p:sldLayoutId id="2147484127" r:id="rId17"/>
    <p:sldLayoutId id="2147484128" r:id="rId18"/>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19" name="图片 5" descr=""/>
          <p:cNvPicPr/>
          <p:nvPr/>
        </p:nvPicPr>
        <p:blipFill>
          <a:blip r:embed="rId2"/>
          <a:stretch/>
        </p:blipFill>
        <p:spPr>
          <a:xfrm>
            <a:off x="2868480" y="3490920"/>
            <a:ext cx="2543400" cy="3108240"/>
          </a:xfrm>
          <a:prstGeom prst="rect">
            <a:avLst/>
          </a:prstGeom>
          <a:ln w="0">
            <a:noFill/>
          </a:ln>
        </p:spPr>
      </p:pic>
      <p:pic>
        <p:nvPicPr>
          <p:cNvPr id="1720" name="图片 6" descr=""/>
          <p:cNvPicPr/>
          <p:nvPr/>
        </p:nvPicPr>
        <p:blipFill>
          <a:blip r:embed="rId3"/>
          <a:stretch/>
        </p:blipFill>
        <p:spPr>
          <a:xfrm>
            <a:off x="6480" y="1612800"/>
            <a:ext cx="3257280" cy="5243760"/>
          </a:xfrm>
          <a:prstGeom prst="rect">
            <a:avLst/>
          </a:prstGeom>
          <a:ln w="0">
            <a:noFill/>
          </a:ln>
        </p:spPr>
      </p:pic>
      <p:pic>
        <p:nvPicPr>
          <p:cNvPr id="1721" name="图片 6" descr=""/>
          <p:cNvPicPr/>
          <p:nvPr/>
        </p:nvPicPr>
        <p:blipFill>
          <a:blip r:embed="rId4"/>
          <a:stretch/>
        </p:blipFill>
        <p:spPr>
          <a:xfrm rot="17330400">
            <a:off x="3570480" y="5589000"/>
            <a:ext cx="568440" cy="542880"/>
          </a:xfrm>
          <a:prstGeom prst="rect">
            <a:avLst/>
          </a:prstGeom>
          <a:ln w="0">
            <a:noFill/>
          </a:ln>
        </p:spPr>
      </p:pic>
      <p:pic>
        <p:nvPicPr>
          <p:cNvPr id="1722" name="图片 5" descr=""/>
          <p:cNvPicPr/>
          <p:nvPr/>
        </p:nvPicPr>
        <p:blipFill>
          <a:blip r:embed="rId5"/>
          <a:stretch/>
        </p:blipFill>
        <p:spPr>
          <a:xfrm rot="20422800">
            <a:off x="1217160" y="5847840"/>
            <a:ext cx="563760" cy="536760"/>
          </a:xfrm>
          <a:prstGeom prst="rect">
            <a:avLst/>
          </a:prstGeom>
          <a:ln w="0">
            <a:noFill/>
          </a:ln>
        </p:spPr>
      </p:pic>
      <p:pic>
        <p:nvPicPr>
          <p:cNvPr id="1723" name="图片 9" descr=""/>
          <p:cNvPicPr/>
          <p:nvPr/>
        </p:nvPicPr>
        <p:blipFill>
          <a:blip r:embed="rId6"/>
          <a:stretch/>
        </p:blipFill>
        <p:spPr>
          <a:xfrm>
            <a:off x="4964040" y="4621320"/>
            <a:ext cx="1830600" cy="2236680"/>
          </a:xfrm>
          <a:prstGeom prst="rect">
            <a:avLst/>
          </a:prstGeom>
          <a:ln w="0">
            <a:noFill/>
          </a:ln>
        </p:spPr>
      </p:pic>
      <p:pic>
        <p:nvPicPr>
          <p:cNvPr id="1724" name="图片 10" descr=""/>
          <p:cNvPicPr/>
          <p:nvPr/>
        </p:nvPicPr>
        <p:blipFill>
          <a:blip r:embed="rId7"/>
          <a:stretch/>
        </p:blipFill>
        <p:spPr>
          <a:xfrm>
            <a:off x="3616200" y="369720"/>
            <a:ext cx="2659320" cy="3116520"/>
          </a:xfrm>
          <a:prstGeom prst="rect">
            <a:avLst/>
          </a:prstGeom>
          <a:ln w="0">
            <a:noFill/>
          </a:ln>
        </p:spPr>
      </p:pic>
      <p:pic>
        <p:nvPicPr>
          <p:cNvPr id="1725" name="图片 3" descr=""/>
          <p:cNvPicPr/>
          <p:nvPr/>
        </p:nvPicPr>
        <p:blipFill>
          <a:blip r:embed="rId8"/>
          <a:stretch/>
        </p:blipFill>
        <p:spPr>
          <a:xfrm flipH="1" rot="20731200">
            <a:off x="10271880" y="1108080"/>
            <a:ext cx="1067040" cy="1046160"/>
          </a:xfrm>
          <a:prstGeom prst="rect">
            <a:avLst/>
          </a:prstGeom>
          <a:ln w="0">
            <a:noFill/>
          </a:ln>
        </p:spPr>
      </p:pic>
      <p:pic>
        <p:nvPicPr>
          <p:cNvPr id="1726" name="图片 4" descr=""/>
          <p:cNvPicPr/>
          <p:nvPr/>
        </p:nvPicPr>
        <p:blipFill>
          <a:blip r:embed="rId9"/>
          <a:stretch/>
        </p:blipFill>
        <p:spPr>
          <a:xfrm>
            <a:off x="8472600" y="5543640"/>
            <a:ext cx="558720" cy="533160"/>
          </a:xfrm>
          <a:prstGeom prst="rect">
            <a:avLst/>
          </a:prstGeom>
          <a:ln w="0">
            <a:noFill/>
          </a:ln>
        </p:spPr>
      </p:pic>
      <p:pic>
        <p:nvPicPr>
          <p:cNvPr id="1727" name="图片 3" descr=""/>
          <p:cNvPicPr/>
          <p:nvPr/>
        </p:nvPicPr>
        <p:blipFill>
          <a:blip r:embed="rId10"/>
          <a:stretch/>
        </p:blipFill>
        <p:spPr>
          <a:xfrm>
            <a:off x="2421000" y="1197000"/>
            <a:ext cx="950760" cy="933480"/>
          </a:xfrm>
          <a:prstGeom prst="rect">
            <a:avLst/>
          </a:prstGeom>
          <a:ln w="0">
            <a:noFill/>
          </a:ln>
        </p:spPr>
      </p:pic>
      <p:sp>
        <p:nvSpPr>
          <p:cNvPr id="17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72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730" name="PlaceHolder 3"/>
          <p:cNvSpPr>
            <a:spLocks noGrp="1"/>
          </p:cNvSpPr>
          <p:nvPr>
            <p:ph type="dt" idx="112"/>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D30A-481C-4E08-85B7-B4F19EEB3D1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731" name="PlaceHolder 4"/>
          <p:cNvSpPr>
            <a:spLocks noGrp="1"/>
          </p:cNvSpPr>
          <p:nvPr>
            <p:ph type="ftr" idx="11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2" name="PlaceHolder 5"/>
          <p:cNvSpPr>
            <a:spLocks noGrp="1"/>
          </p:cNvSpPr>
          <p:nvPr>
            <p:ph type="sldNum" idx="11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8ADC-F9B9-496A-9B76-856777BEA17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11"/>
    <p:sldLayoutId id="2147484131" r:id="rId12"/>
    <p:sldLayoutId id="2147484132" r:id="rId13"/>
    <p:sldLayoutId id="2147484133" r:id="rId14"/>
    <p:sldLayoutId id="2147484134" r:id="rId15"/>
    <p:sldLayoutId id="2147484135" r:id="rId16"/>
    <p:sldLayoutId id="2147484136" r:id="rId17"/>
    <p:sldLayoutId id="2147484137" r:id="rId18"/>
    <p:sldLayoutId id="2147484138" r:id="rId19"/>
    <p:sldLayoutId id="2147484139" r:id="rId20"/>
    <p:sldLayoutId id="2147484140" r:id="rId21"/>
    <p:sldLayoutId id="2147484141" r:id="rId22"/>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0"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77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773" name="PlaceHolder 3"/>
          <p:cNvSpPr>
            <a:spLocks noGrp="1"/>
          </p:cNvSpPr>
          <p:nvPr>
            <p:ph type="dt" idx="11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3446-E323-413E-AABA-0AB59F6F8315}"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774" name="PlaceHolder 4"/>
          <p:cNvSpPr>
            <a:spLocks noGrp="1"/>
          </p:cNvSpPr>
          <p:nvPr>
            <p:ph type="ftr" idx="11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5" name="PlaceHolder 5"/>
          <p:cNvSpPr>
            <a:spLocks noGrp="1"/>
          </p:cNvSpPr>
          <p:nvPr>
            <p:ph type="sldNum" idx="11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CBFB-BE0C-44C4-A761-D52A044E7390}"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7" name="图片 5" descr=""/>
          <p:cNvPicPr/>
          <p:nvPr/>
        </p:nvPicPr>
        <p:blipFill>
          <a:blip r:embed="rId2"/>
          <a:stretch/>
        </p:blipFill>
        <p:spPr>
          <a:xfrm rot="19920000">
            <a:off x="1331640" y="5760720"/>
            <a:ext cx="709560" cy="676080"/>
          </a:xfrm>
          <a:prstGeom prst="rect">
            <a:avLst/>
          </a:prstGeom>
          <a:ln w="0">
            <a:noFill/>
          </a:ln>
        </p:spPr>
      </p:pic>
      <p:pic>
        <p:nvPicPr>
          <p:cNvPr id="128" name="图片 6" descr=""/>
          <p:cNvPicPr/>
          <p:nvPr/>
        </p:nvPicPr>
        <p:blipFill>
          <a:blip r:embed="rId3"/>
          <a:stretch/>
        </p:blipFill>
        <p:spPr>
          <a:xfrm rot="17330400">
            <a:off x="3751200" y="5588640"/>
            <a:ext cx="568440" cy="543240"/>
          </a:xfrm>
          <a:prstGeom prst="rect">
            <a:avLst/>
          </a:prstGeom>
          <a:ln w="0">
            <a:noFill/>
          </a:ln>
        </p:spPr>
      </p:pic>
      <p:pic>
        <p:nvPicPr>
          <p:cNvPr id="129" name="图片 4" descr=""/>
          <p:cNvPicPr/>
          <p:nvPr/>
        </p:nvPicPr>
        <p:blipFill>
          <a:blip r:embed="rId4"/>
          <a:stretch/>
        </p:blipFill>
        <p:spPr>
          <a:xfrm>
            <a:off x="609480" y="693720"/>
            <a:ext cx="560520" cy="534960"/>
          </a:xfrm>
          <a:prstGeom prst="rect">
            <a:avLst/>
          </a:prstGeom>
          <a:ln w="0">
            <a:noFill/>
          </a:ln>
        </p:spPr>
      </p:pic>
      <p:pic>
        <p:nvPicPr>
          <p:cNvPr id="130" name="图片 3" descr=""/>
          <p:cNvPicPr/>
          <p:nvPr/>
        </p:nvPicPr>
        <p:blipFill>
          <a:blip r:embed="rId5"/>
          <a:stretch/>
        </p:blipFill>
        <p:spPr>
          <a:xfrm>
            <a:off x="2606760" y="1195560"/>
            <a:ext cx="950760" cy="933120"/>
          </a:xfrm>
          <a:prstGeom prst="rect">
            <a:avLst/>
          </a:prstGeom>
          <a:ln w="0">
            <a:noFill/>
          </a:ln>
        </p:spPr>
      </p:pic>
      <p:pic>
        <p:nvPicPr>
          <p:cNvPr id="131" name="图片 2" descr=""/>
          <p:cNvPicPr/>
          <p:nvPr/>
        </p:nvPicPr>
        <p:blipFill>
          <a:blip r:embed="rId6"/>
          <a:stretch/>
        </p:blipFill>
        <p:spPr>
          <a:xfrm>
            <a:off x="5986440" y="1724040"/>
            <a:ext cx="5950080" cy="4987800"/>
          </a:xfrm>
          <a:prstGeom prst="rect">
            <a:avLst/>
          </a:prstGeom>
          <a:ln w="0">
            <a:noFill/>
          </a:ln>
        </p:spPr>
      </p:pic>
      <p:pic>
        <p:nvPicPr>
          <p:cNvPr id="132" name="图片 1" descr=""/>
          <p:cNvPicPr/>
          <p:nvPr/>
        </p:nvPicPr>
        <p:blipFill>
          <a:blip r:embed="rId7"/>
          <a:stretch/>
        </p:blipFill>
        <p:spPr>
          <a:xfrm>
            <a:off x="10969560" y="1963800"/>
            <a:ext cx="1013040" cy="1003320"/>
          </a:xfrm>
          <a:prstGeom prst="rect">
            <a:avLst/>
          </a:prstGeom>
          <a:ln w="0">
            <a:noFill/>
          </a:ln>
        </p:spPr>
      </p:pic>
      <p:sp>
        <p:nvSpPr>
          <p:cNvPr id="1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5" name="PlaceHolder 3"/>
          <p:cNvSpPr>
            <a:spLocks noGrp="1"/>
          </p:cNvSpPr>
          <p:nvPr>
            <p:ph type="dt" idx="10"/>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C80A-FE16-4551-B4D9-B2C044F52A69}"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PlaceHolder 5"/>
          <p:cNvSpPr>
            <a:spLocks noGrp="1"/>
          </p:cNvSpPr>
          <p:nvPr>
            <p:ph type="sldNum" idx="1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D4F6-1539-48C6-B3CD-4EEFA2D78CE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5" name="图片 6" descr=""/>
          <p:cNvPicPr/>
          <p:nvPr/>
        </p:nvPicPr>
        <p:blipFill>
          <a:blip r:embed="rId2"/>
          <a:stretch/>
        </p:blipFill>
        <p:spPr>
          <a:xfrm>
            <a:off x="10899720" y="5443560"/>
            <a:ext cx="1292400" cy="1414440"/>
          </a:xfrm>
          <a:prstGeom prst="rect">
            <a:avLst/>
          </a:prstGeom>
          <a:ln w="0">
            <a:noFill/>
          </a:ln>
        </p:spPr>
      </p:pic>
      <p:pic>
        <p:nvPicPr>
          <p:cNvPr id="176" name="图片 7" descr=""/>
          <p:cNvPicPr/>
          <p:nvPr/>
        </p:nvPicPr>
        <p:blipFill>
          <a:blip r:embed="rId3"/>
          <a:stretch/>
        </p:blipFill>
        <p:spPr>
          <a:xfrm>
            <a:off x="311040" y="6194520"/>
            <a:ext cx="507960" cy="431640"/>
          </a:xfrm>
          <a:prstGeom prst="rect">
            <a:avLst/>
          </a:prstGeom>
          <a:ln w="0">
            <a:noFill/>
          </a:ln>
        </p:spPr>
      </p:pic>
      <p:pic>
        <p:nvPicPr>
          <p:cNvPr id="177" name="图片 8" descr=""/>
          <p:cNvPicPr/>
          <p:nvPr/>
        </p:nvPicPr>
        <p:blipFill>
          <a:blip r:embed="rId4"/>
          <a:stretch/>
        </p:blipFill>
        <p:spPr>
          <a:xfrm>
            <a:off x="10291680" y="6410160"/>
            <a:ext cx="354240" cy="336600"/>
          </a:xfrm>
          <a:prstGeom prst="rect">
            <a:avLst/>
          </a:prstGeom>
          <a:ln w="0">
            <a:noFill/>
          </a:ln>
        </p:spPr>
      </p:pic>
      <p:pic>
        <p:nvPicPr>
          <p:cNvPr id="178" name="图片 9" descr=""/>
          <p:cNvPicPr/>
          <p:nvPr/>
        </p:nvPicPr>
        <p:blipFill>
          <a:blip r:embed="rId5"/>
          <a:stretch/>
        </p:blipFill>
        <p:spPr>
          <a:xfrm>
            <a:off x="260280" y="114480"/>
            <a:ext cx="546120" cy="534960"/>
          </a:xfrm>
          <a:prstGeom prst="rect">
            <a:avLst/>
          </a:prstGeom>
          <a:ln w="0">
            <a:noFill/>
          </a:ln>
        </p:spPr>
      </p:pic>
      <p:pic>
        <p:nvPicPr>
          <p:cNvPr id="179" name="图片 10" descr=""/>
          <p:cNvPicPr/>
          <p:nvPr/>
        </p:nvPicPr>
        <p:blipFill>
          <a:blip r:embed="rId6"/>
          <a:stretch/>
        </p:blipFill>
        <p:spPr>
          <a:xfrm>
            <a:off x="11442600" y="54000"/>
            <a:ext cx="615960" cy="608040"/>
          </a:xfrm>
          <a:prstGeom prst="rect">
            <a:avLst/>
          </a:prstGeom>
          <a:ln w="0">
            <a:noFill/>
          </a:ln>
        </p:spPr>
      </p:pic>
      <p:sp>
        <p:nvSpPr>
          <p:cNvPr id="1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8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82" name="PlaceHolder 3"/>
          <p:cNvSpPr>
            <a:spLocks noGrp="1"/>
          </p:cNvSpPr>
          <p:nvPr>
            <p:ph type="dt" idx="13"/>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FEF1-1C46-40DA-A1B6-A2964BC86D75}"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83" name="PlaceHolder 4"/>
          <p:cNvSpPr>
            <a:spLocks noGrp="1"/>
          </p:cNvSpPr>
          <p:nvPr>
            <p:ph type="ftr" idx="1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PlaceHolder 5"/>
          <p:cNvSpPr>
            <a:spLocks noGrp="1"/>
          </p:cNvSpPr>
          <p:nvPr>
            <p:ph type="sldNum" idx="15"/>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EC5B-8655-4FA6-B700-E1811DD09F9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2" name="图片 7" descr=""/>
          <p:cNvPicPr/>
          <p:nvPr/>
        </p:nvPicPr>
        <p:blipFill>
          <a:blip r:embed="rId2"/>
          <a:stretch/>
        </p:blipFill>
        <p:spPr>
          <a:xfrm flipH="1" rot="20731200">
            <a:off x="9333720" y="2427120"/>
            <a:ext cx="1067040" cy="1046160"/>
          </a:xfrm>
          <a:prstGeom prst="rect">
            <a:avLst/>
          </a:prstGeom>
          <a:ln w="0">
            <a:noFill/>
          </a:ln>
        </p:spPr>
      </p:pic>
      <p:pic>
        <p:nvPicPr>
          <p:cNvPr id="223" name="图片 3" descr=""/>
          <p:cNvPicPr/>
          <p:nvPr/>
        </p:nvPicPr>
        <p:blipFill>
          <a:blip r:embed="rId3"/>
          <a:stretch/>
        </p:blipFill>
        <p:spPr>
          <a:xfrm>
            <a:off x="2212920" y="2452680"/>
            <a:ext cx="951120" cy="933480"/>
          </a:xfrm>
          <a:prstGeom prst="rect">
            <a:avLst/>
          </a:prstGeom>
          <a:ln w="0">
            <a:noFill/>
          </a:ln>
        </p:spPr>
      </p:pic>
      <p:pic>
        <p:nvPicPr>
          <p:cNvPr id="224" name="图片 8" descr=""/>
          <p:cNvPicPr/>
          <p:nvPr/>
        </p:nvPicPr>
        <p:blipFill>
          <a:blip r:embed="rId4"/>
          <a:stretch/>
        </p:blipFill>
        <p:spPr>
          <a:xfrm>
            <a:off x="4859280" y="-30240"/>
            <a:ext cx="1836720" cy="2237040"/>
          </a:xfrm>
          <a:prstGeom prst="rect">
            <a:avLst/>
          </a:prstGeom>
          <a:ln w="0">
            <a:noFill/>
          </a:ln>
        </p:spPr>
      </p:pic>
      <p:pic>
        <p:nvPicPr>
          <p:cNvPr id="225" name="图片 9" descr=""/>
          <p:cNvPicPr/>
          <p:nvPr/>
        </p:nvPicPr>
        <p:blipFill>
          <a:blip r:embed="rId5"/>
          <a:stretch/>
        </p:blipFill>
        <p:spPr>
          <a:xfrm>
            <a:off x="5068800" y="4519440"/>
            <a:ext cx="2060640" cy="2325960"/>
          </a:xfrm>
          <a:prstGeom prst="rect">
            <a:avLst/>
          </a:prstGeom>
          <a:ln w="0">
            <a:noFill/>
          </a:ln>
        </p:spPr>
      </p:pic>
      <p:sp>
        <p:nvSpPr>
          <p:cNvPr id="2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2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28" name="PlaceHolder 3"/>
          <p:cNvSpPr>
            <a:spLocks noGrp="1"/>
          </p:cNvSpPr>
          <p:nvPr>
            <p:ph type="dt" idx="16"/>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5590-79AC-481F-81AA-251A345E22B9}"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29" name="PlaceHolder 4"/>
          <p:cNvSpPr>
            <a:spLocks noGrp="1"/>
          </p:cNvSpPr>
          <p:nvPr>
            <p:ph type="ftr" idx="1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 name="PlaceHolder 5"/>
          <p:cNvSpPr>
            <a:spLocks noGrp="1"/>
          </p:cNvSpPr>
          <p:nvPr>
            <p:ph type="sldNum" idx="18"/>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7C87-722F-49B9-A750-51045D75B51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8" name="图片 7" descr=""/>
          <p:cNvPicPr/>
          <p:nvPr/>
        </p:nvPicPr>
        <p:blipFill>
          <a:blip r:embed="rId2"/>
          <a:stretch/>
        </p:blipFill>
        <p:spPr>
          <a:xfrm>
            <a:off x="10899720" y="5443560"/>
            <a:ext cx="1292400" cy="1414440"/>
          </a:xfrm>
          <a:prstGeom prst="rect">
            <a:avLst/>
          </a:prstGeom>
          <a:ln w="0">
            <a:noFill/>
          </a:ln>
        </p:spPr>
      </p:pic>
      <p:pic>
        <p:nvPicPr>
          <p:cNvPr id="269" name="图片 8" descr=""/>
          <p:cNvPicPr/>
          <p:nvPr/>
        </p:nvPicPr>
        <p:blipFill>
          <a:blip r:embed="rId3"/>
          <a:stretch/>
        </p:blipFill>
        <p:spPr>
          <a:xfrm>
            <a:off x="311040" y="6194520"/>
            <a:ext cx="507960" cy="431640"/>
          </a:xfrm>
          <a:prstGeom prst="rect">
            <a:avLst/>
          </a:prstGeom>
          <a:ln w="0">
            <a:noFill/>
          </a:ln>
        </p:spPr>
      </p:pic>
      <p:pic>
        <p:nvPicPr>
          <p:cNvPr id="270" name="图片 9" descr=""/>
          <p:cNvPicPr/>
          <p:nvPr/>
        </p:nvPicPr>
        <p:blipFill>
          <a:blip r:embed="rId4"/>
          <a:stretch/>
        </p:blipFill>
        <p:spPr>
          <a:xfrm>
            <a:off x="10291680" y="6410160"/>
            <a:ext cx="354240" cy="336600"/>
          </a:xfrm>
          <a:prstGeom prst="rect">
            <a:avLst/>
          </a:prstGeom>
          <a:ln w="0">
            <a:noFill/>
          </a:ln>
        </p:spPr>
      </p:pic>
      <p:pic>
        <p:nvPicPr>
          <p:cNvPr id="271" name="图片 10" descr=""/>
          <p:cNvPicPr/>
          <p:nvPr/>
        </p:nvPicPr>
        <p:blipFill>
          <a:blip r:embed="rId5"/>
          <a:stretch/>
        </p:blipFill>
        <p:spPr>
          <a:xfrm>
            <a:off x="260280" y="114480"/>
            <a:ext cx="546120" cy="534960"/>
          </a:xfrm>
          <a:prstGeom prst="rect">
            <a:avLst/>
          </a:prstGeom>
          <a:ln w="0">
            <a:noFill/>
          </a:ln>
        </p:spPr>
      </p:pic>
      <p:pic>
        <p:nvPicPr>
          <p:cNvPr id="272" name="图片 11" descr=""/>
          <p:cNvPicPr/>
          <p:nvPr/>
        </p:nvPicPr>
        <p:blipFill>
          <a:blip r:embed="rId6"/>
          <a:stretch/>
        </p:blipFill>
        <p:spPr>
          <a:xfrm>
            <a:off x="11442600" y="54000"/>
            <a:ext cx="615960" cy="608040"/>
          </a:xfrm>
          <a:prstGeom prst="rect">
            <a:avLst/>
          </a:prstGeom>
          <a:ln w="0">
            <a:noFill/>
          </a:ln>
        </p:spPr>
      </p:pic>
      <p:sp>
        <p:nvSpPr>
          <p:cNvPr id="2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7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75" name="PlaceHolder 3"/>
          <p:cNvSpPr>
            <a:spLocks noGrp="1"/>
          </p:cNvSpPr>
          <p:nvPr>
            <p:ph type="dt" idx="19"/>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FB47-7FD8-4294-A61A-16F45DC7647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76" name="PlaceHolder 4"/>
          <p:cNvSpPr>
            <a:spLocks noGrp="1"/>
          </p:cNvSpPr>
          <p:nvPr>
            <p:ph type="ftr" idx="2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PlaceHolder 5"/>
          <p:cNvSpPr>
            <a:spLocks noGrp="1"/>
          </p:cNvSpPr>
          <p:nvPr>
            <p:ph type="sldNum" idx="21"/>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27FD-09B1-4709-87C6-8D7B8393050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15" name="图片 9" descr=""/>
          <p:cNvPicPr/>
          <p:nvPr/>
        </p:nvPicPr>
        <p:blipFill>
          <a:blip r:embed="rId2"/>
          <a:stretch/>
        </p:blipFill>
        <p:spPr>
          <a:xfrm>
            <a:off x="10899720" y="5443560"/>
            <a:ext cx="1292400" cy="1414440"/>
          </a:xfrm>
          <a:prstGeom prst="rect">
            <a:avLst/>
          </a:prstGeom>
          <a:ln w="0">
            <a:noFill/>
          </a:ln>
        </p:spPr>
      </p:pic>
      <p:pic>
        <p:nvPicPr>
          <p:cNvPr id="316" name="图片 10" descr=""/>
          <p:cNvPicPr/>
          <p:nvPr/>
        </p:nvPicPr>
        <p:blipFill>
          <a:blip r:embed="rId3"/>
          <a:stretch/>
        </p:blipFill>
        <p:spPr>
          <a:xfrm>
            <a:off x="311040" y="6194520"/>
            <a:ext cx="507960" cy="431640"/>
          </a:xfrm>
          <a:prstGeom prst="rect">
            <a:avLst/>
          </a:prstGeom>
          <a:ln w="0">
            <a:noFill/>
          </a:ln>
        </p:spPr>
      </p:pic>
      <p:pic>
        <p:nvPicPr>
          <p:cNvPr id="317" name="图片 11" descr=""/>
          <p:cNvPicPr/>
          <p:nvPr/>
        </p:nvPicPr>
        <p:blipFill>
          <a:blip r:embed="rId4"/>
          <a:stretch/>
        </p:blipFill>
        <p:spPr>
          <a:xfrm>
            <a:off x="10291680" y="6410160"/>
            <a:ext cx="354240" cy="336600"/>
          </a:xfrm>
          <a:prstGeom prst="rect">
            <a:avLst/>
          </a:prstGeom>
          <a:ln w="0">
            <a:noFill/>
          </a:ln>
        </p:spPr>
      </p:pic>
      <p:pic>
        <p:nvPicPr>
          <p:cNvPr id="318" name="图片 12" descr=""/>
          <p:cNvPicPr/>
          <p:nvPr/>
        </p:nvPicPr>
        <p:blipFill>
          <a:blip r:embed="rId5"/>
          <a:stretch/>
        </p:blipFill>
        <p:spPr>
          <a:xfrm>
            <a:off x="260280" y="114480"/>
            <a:ext cx="546120" cy="534960"/>
          </a:xfrm>
          <a:prstGeom prst="rect">
            <a:avLst/>
          </a:prstGeom>
          <a:ln w="0">
            <a:noFill/>
          </a:ln>
        </p:spPr>
      </p:pic>
      <p:pic>
        <p:nvPicPr>
          <p:cNvPr id="319" name="图片 13" descr=""/>
          <p:cNvPicPr/>
          <p:nvPr/>
        </p:nvPicPr>
        <p:blipFill>
          <a:blip r:embed="rId6"/>
          <a:stretch/>
        </p:blipFill>
        <p:spPr>
          <a:xfrm>
            <a:off x="11442600" y="54000"/>
            <a:ext cx="615960" cy="608040"/>
          </a:xfrm>
          <a:prstGeom prst="rect">
            <a:avLst/>
          </a:prstGeom>
          <a:ln w="0">
            <a:noFill/>
          </a:ln>
        </p:spPr>
      </p:pic>
      <p:sp>
        <p:nvSpPr>
          <p:cNvPr id="3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2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22" name="PlaceHolder 3"/>
          <p:cNvSpPr>
            <a:spLocks noGrp="1"/>
          </p:cNvSpPr>
          <p:nvPr>
            <p:ph type="dt" idx="22"/>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90C8-307E-478D-BAD2-3A6D42A4B640}"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23" name="PlaceHolder 4"/>
          <p:cNvSpPr>
            <a:spLocks noGrp="1"/>
          </p:cNvSpPr>
          <p:nvPr>
            <p:ph type="ftr" idx="2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PlaceHolder 5"/>
          <p:cNvSpPr>
            <a:spLocks noGrp="1"/>
          </p:cNvSpPr>
          <p:nvPr>
            <p:ph type="sldNum" idx="24"/>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BC2A-3B57-456D-B8FA-9E14FC2C856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62" name="图片 5" descr=""/>
          <p:cNvPicPr/>
          <p:nvPr/>
        </p:nvPicPr>
        <p:blipFill>
          <a:blip r:embed="rId2"/>
          <a:stretch/>
        </p:blipFill>
        <p:spPr>
          <a:xfrm>
            <a:off x="10899720" y="5443560"/>
            <a:ext cx="1292400" cy="1414440"/>
          </a:xfrm>
          <a:prstGeom prst="rect">
            <a:avLst/>
          </a:prstGeom>
          <a:ln w="0">
            <a:noFill/>
          </a:ln>
        </p:spPr>
      </p:pic>
      <p:pic>
        <p:nvPicPr>
          <p:cNvPr id="363" name="图片 8" descr=""/>
          <p:cNvPicPr/>
          <p:nvPr/>
        </p:nvPicPr>
        <p:blipFill>
          <a:blip r:embed="rId3"/>
          <a:stretch/>
        </p:blipFill>
        <p:spPr>
          <a:xfrm>
            <a:off x="260280" y="114480"/>
            <a:ext cx="546120" cy="534960"/>
          </a:xfrm>
          <a:prstGeom prst="rect">
            <a:avLst/>
          </a:prstGeom>
          <a:ln w="0">
            <a:noFill/>
          </a:ln>
        </p:spPr>
      </p:pic>
      <p:pic>
        <p:nvPicPr>
          <p:cNvPr id="364" name="图片 9" descr=""/>
          <p:cNvPicPr/>
          <p:nvPr/>
        </p:nvPicPr>
        <p:blipFill>
          <a:blip r:embed="rId4"/>
          <a:stretch/>
        </p:blipFill>
        <p:spPr>
          <a:xfrm>
            <a:off x="11442600" y="54000"/>
            <a:ext cx="615960" cy="608040"/>
          </a:xfrm>
          <a:prstGeom prst="rect">
            <a:avLst/>
          </a:prstGeom>
          <a:ln w="0">
            <a:noFill/>
          </a:ln>
        </p:spPr>
      </p:pic>
      <p:sp>
        <p:nvSpPr>
          <p:cNvPr id="3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6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67" name="PlaceHolder 3"/>
          <p:cNvSpPr>
            <a:spLocks noGrp="1"/>
          </p:cNvSpPr>
          <p:nvPr>
            <p:ph type="dt" idx="25"/>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4499-8444-443E-905E-1BCE902FFFEE}"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68" name="PlaceHolder 4"/>
          <p:cNvSpPr>
            <a:spLocks noGrp="1"/>
          </p:cNvSpPr>
          <p:nvPr>
            <p:ph type="ftr" idx="2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PlaceHolder 5"/>
          <p:cNvSpPr>
            <a:spLocks noGrp="1"/>
          </p:cNvSpPr>
          <p:nvPr>
            <p:ph type="sldNum" idx="27"/>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E9BE-29B8-4122-807F-22DF8C2E6CE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5.png"/><Relationship Id="rId3"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5.png"/><Relationship Id="rId3"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3.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3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title"/>
          </p:nvPr>
        </p:nvSpPr>
        <p:spPr>
          <a:xfrm>
            <a:off x="2424240" y="2205000"/>
            <a:ext cx="8208720" cy="191304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b9bd4"/>
                </a:solidFill>
                <a:latin typeface="Arial"/>
                <a:ea typeface="汉仪旗黑-85S"/>
              </a:rPr>
              <a:t>           </a:t>
            </a:r>
            <a:r>
              <a:rPr b="1" lang="zh-CN" sz="6000" spc="-1" strike="noStrike">
                <a:solidFill>
                  <a:srgbClr val="8e10d4"/>
                </a:solidFill>
                <a:latin typeface="Arial Black"/>
                <a:ea typeface="汉仪旗黑-85S"/>
              </a:rPr>
              <a:t>项目六 </a:t>
            </a:r>
            <a:br>
              <a:rPr sz="6000"/>
            </a:br>
            <a:r>
              <a:rPr b="1" lang="zh-CN" sz="6000" spc="-1" strike="noStrike">
                <a:solidFill>
                  <a:srgbClr val="8e10d4"/>
                </a:solidFill>
                <a:latin typeface="Arial Black"/>
                <a:ea typeface="汉仪旗黑-85S"/>
              </a:rPr>
              <a:t>采购与付款循环审计</a:t>
            </a:r>
            <a:endParaRPr b="1" lang="en-US" sz="6000" spc="-1" strike="noStrike">
              <a:solidFill>
                <a:srgbClr val="262626"/>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0">
                                  <p:stCondLst>
                                    <p:cond delay="0"/>
                                  </p:stCondLst>
                                  <p:iterate type="lt">
                                    <p:tmAbs val="70"/>
                                  </p:iterate>
                                  <p:childTnLst>
                                    <p:set>
                                      <p:cBhvr>
                                        <p:cTn id="6" dur="1" fill="hold">
                                          <p:stCondLst>
                                            <p:cond delay="0"/>
                                          </p:stCondLst>
                                        </p:cTn>
                                        <p:tgtEl>
                                          <p:spTgt spid="1812"/>
                                        </p:tgtEl>
                                        <p:attrNameLst>
                                          <p:attrName>style.visibility</p:attrName>
                                        </p:attrNameLst>
                                      </p:cBhvr>
                                      <p:to>
                                        <p:strVal val="visible"/>
                                      </p:to>
                                    </p:set>
                                    <p:anim calcmode="lin" valueType="num">
                                      <p:cBhvr additive="repl">
                                        <p:cTn id="7" dur="700" fill="hold">
                                          <p:stCondLst>
                                            <p:cond delay="0"/>
                                          </p:stCondLst>
                                        </p:cTn>
                                        <p:tgtEl>
                                          <p:spTgt spid="1812"/>
                                        </p:tgtEl>
                                        <p:attrNameLst>
                                          <p:attrName>ppt_x</p:attrName>
                                        </p:attrNameLst>
                                      </p:cBhvr>
                                      <p:tavLst>
                                        <p:tav fmla="x-height*((1.5-1.5*$)^3-(1.5-1.5*$)^2)" tm="0">
                                          <p:val>
                                            <p:fltVal val="0"/>
                                          </p:val>
                                        </p:tav>
                                        <p:tav fmla="x-height*((1.5-1.5*$)^3-(1.5-1.5*$)^2)" tm="100000">
                                          <p:val>
                                            <p:fltVal val="1"/>
                                          </p:val>
                                        </p:tav>
                                      </p:tavLst>
                                    </p:anim>
                                    <p:anim calcmode="lin" valueType="num">
                                      <p:cBhvr additive="repl">
                                        <p:cTn id="8" dur="700" fill="hold">
                                          <p:stCondLst>
                                            <p:cond delay="0"/>
                                          </p:stCondLst>
                                        </p:cTn>
                                        <p:tgtEl>
                                          <p:spTgt spid="1812"/>
                                        </p:tgtEl>
                                        <p:attrNameLst>
                                          <p:attrName>r</p:attrName>
                                        </p:attrNameLst>
                                      </p:cBhvr>
                                      <p:tavLst>
                                        <p:tav fmla="#ppt_r+180*((1.5-1.5*$)^3-(1.5-1.5*$)^2)" tm="0">
                                          <p:val>
                                            <p:strVal val="0"/>
                                          </p:val>
                                        </p:tav>
                                        <p:tav fmla="#ppt_r+180*((1.5-1.5*$)^3-(1.5-1.5*$)^2)" tm="100000">
                                          <p:val>
                                            <p:strVal val="1"/>
                                          </p:val>
                                        </p:tav>
                                      </p:tavLst>
                                    </p:anim>
                                    <p:animEffect filter="fade" transition="in">
                                      <p:cBhvr additive="repl">
                                        <p:cTn id="9" dur="300">
                                          <p:stCondLst>
                                            <p:cond delay="0"/>
                                          </p:stCondLst>
                                        </p:cTn>
                                        <p:tgtEl>
                                          <p:spTgt spid="1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1487520" y="2565360"/>
            <a:ext cx="9648720" cy="33228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5400" spc="-1" strike="noStrike">
                <a:solidFill>
                  <a:srgbClr val="8e10d4"/>
                </a:solidFill>
                <a:latin typeface="Arial Black"/>
                <a:ea typeface="汉仪旗黑-85S"/>
              </a:rPr>
              <a:t>任务一 </a:t>
            </a:r>
            <a:br>
              <a:rPr sz="5400"/>
            </a:br>
            <a:r>
              <a:rPr b="1" lang="zh-CN" sz="5400" spc="-1" strike="noStrike">
                <a:solidFill>
                  <a:srgbClr val="5b9bd4"/>
                </a:solidFill>
                <a:latin typeface="Arial Black"/>
                <a:ea typeface="汉仪旗黑-85S"/>
              </a:rPr>
              <a:t> </a:t>
            </a:r>
            <a:r>
              <a:rPr b="1" lang="zh-CN" sz="5400" spc="-1" strike="noStrike">
                <a:solidFill>
                  <a:srgbClr val="8e10d4"/>
                </a:solidFill>
                <a:latin typeface="Arial Black"/>
                <a:ea typeface="汉仪旗黑-85S"/>
              </a:rPr>
              <a:t>采购与付款循环的控制测试</a:t>
            </a:r>
            <a:br>
              <a:rPr sz="5400"/>
            </a:br>
            <a:br>
              <a:rPr sz="5400"/>
            </a:br>
            <a:endParaRPr b="1" lang="en-US" sz="5400" spc="-1" strike="noStrike">
              <a:solidFill>
                <a:srgbClr val="262626"/>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22" presetSubtype="1">
                                  <p:stCondLst>
                                    <p:cond delay="0"/>
                                  </p:stCondLst>
                                  <p:childTnLst>
                                    <p:set>
                                      <p:cBhvr>
                                        <p:cTn id="43" dur="1000" fill="hold">
                                          <p:stCondLst>
                                            <p:cond delay="0"/>
                                          </p:stCondLst>
                                        </p:cTn>
                                        <p:tgtEl>
                                          <p:spTgt spid="1897"/>
                                        </p:tgtEl>
                                        <p:attrNameLst>
                                          <p:attrName>style.visibility</p:attrName>
                                        </p:attrNameLst>
                                      </p:cBhvr>
                                      <p:to>
                                        <p:strVal val="visible"/>
                                      </p:to>
                                    </p:set>
                                    <p:animEffect filter="wipe(up)" transition="in">
                                      <p:cBhvr additive="repl">
                                        <p:cTn id="44" dur="1000"/>
                                        <p:tgtEl>
                                          <p:spTgt spid="1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文本框 1"/>
          <p:cNvSpPr/>
          <p:nvPr/>
        </p:nvSpPr>
        <p:spPr>
          <a:xfrm>
            <a:off x="804960" y="1676520"/>
            <a:ext cx="10440720" cy="627480"/>
          </a:xfrm>
          <a:prstGeom prst="rect">
            <a:avLst/>
          </a:prstGeom>
          <a:noFill/>
          <a:ln w="0">
            <a:noFill/>
          </a:ln>
        </p:spPr>
        <p:style>
          <a:lnRef idx="0"/>
          <a:fillRef idx="0"/>
          <a:effectRef idx="0"/>
          <a:fontRef idx="minor"/>
        </p:style>
        <p:txBody>
          <a:bodyPr lIns="71640" rIns="71640" tIns="36360" bIns="36360" anchor="t">
            <a:spAutoFit/>
          </a:bodyPr>
          <a:p>
            <a:pPr lvl="1" marL="7452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e78"/>
                </a:solidFill>
                <a:latin typeface="微软雅黑"/>
                <a:ea typeface="微软雅黑"/>
              </a:rPr>
              <a:t>一、采购与付款循环涉及的主要业务活动</a:t>
            </a:r>
            <a:endParaRPr b="1" lang="en-US" sz="2800" spc="-1" strike="noStrike">
              <a:solidFill>
                <a:srgbClr val="000000"/>
              </a:solidFill>
              <a:latin typeface="Arial"/>
            </a:endParaRPr>
          </a:p>
        </p:txBody>
      </p:sp>
      <p:grpSp>
        <p:nvGrpSpPr>
          <p:cNvPr id="1899" name="组合 24"/>
          <p:cNvGrpSpPr/>
          <p:nvPr/>
        </p:nvGrpSpPr>
        <p:grpSpPr>
          <a:xfrm>
            <a:off x="155520" y="2502000"/>
            <a:ext cx="2463840" cy="1170000"/>
            <a:chOff x="155520" y="2502000"/>
            <a:chExt cx="2463840" cy="1170000"/>
          </a:xfrm>
        </p:grpSpPr>
        <p:sp>
          <p:nvSpPr>
            <p:cNvPr id="1900" name="五边形 11"/>
            <p:cNvSpPr/>
            <p:nvPr/>
          </p:nvSpPr>
          <p:spPr>
            <a:xfrm>
              <a:off x="155520" y="2664360"/>
              <a:ext cx="800280" cy="534960"/>
            </a:xfrm>
            <a:custGeom>
              <a:avLst/>
              <a:gdLst>
                <a:gd name="textAreaLeft" fmla="*/ 0 w 800280"/>
                <a:gd name="textAreaRight" fmla="*/ 800640 w 800280"/>
                <a:gd name="textAreaTop" fmla="*/ 0 h 534960"/>
                <a:gd name="textAreaBottom" fmla="*/ 535320 h 53496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1" name="燕尾形箭头 21"/>
            <p:cNvSpPr/>
            <p:nvPr/>
          </p:nvSpPr>
          <p:spPr>
            <a:xfrm>
              <a:off x="619560" y="2502000"/>
              <a:ext cx="1999800" cy="866880"/>
            </a:xfrm>
            <a:custGeom>
              <a:avLst/>
              <a:gdLst>
                <a:gd name="textAreaLeft" fmla="*/ 316800 w 1999800"/>
                <a:gd name="textAreaRight" fmla="*/ 1683000 w 1999800"/>
                <a:gd name="textAreaTop" fmla="*/ 0 h 866880"/>
                <a:gd name="textAreaBottom" fmla="*/ 867240 h 866880"/>
              </a:gdLst>
              <a:ahLst/>
              <a:rect l="textAreaLeft" t="textAreaTop" r="textAreaRight" b="textAreaBottom"/>
              <a:pathLst>
                <a:path w="21600" h="21600">
                  <a:moveTo>
                    <a:pt x="0" y="0"/>
                  </a:moveTo>
                  <a:lnTo>
                    <a:pt x="18177" y="0"/>
                  </a:lnTo>
                  <a:lnTo>
                    <a:pt x="18177" y="0"/>
                  </a:lnTo>
                  <a:lnTo>
                    <a:pt x="21600" y="10800"/>
                  </a:lnTo>
                  <a:lnTo>
                    <a:pt x="18177" y="21600"/>
                  </a:lnTo>
                  <a:lnTo>
                    <a:pt x="18177" y="21600"/>
                  </a:lnTo>
                  <a:lnTo>
                    <a:pt x="0" y="21600"/>
                  </a:lnTo>
                  <a:lnTo>
                    <a:pt x="3423" y="10800"/>
                  </a:lnTo>
                  <a:lnTo>
                    <a:pt x="0" y="0"/>
                  </a:lnTo>
                  <a:close/>
                </a:path>
              </a:pathLst>
            </a:custGeom>
            <a:solidFill>
              <a:srgbClr val="2f75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2" name="直接连接符 45"/>
            <p:cNvSpPr/>
            <p:nvPr/>
          </p:nvSpPr>
          <p:spPr>
            <a:xfrm>
              <a:off x="1492200" y="3389760"/>
              <a:ext cx="0" cy="282240"/>
            </a:xfrm>
            <a:prstGeom prst="line">
              <a:avLst/>
            </a:prstGeom>
            <a:ln cap="rnd" w="28440">
              <a:solidFill>
                <a:srgbClr val="5b9bd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3" name="椭圆 22"/>
            <p:cNvSpPr/>
            <p:nvPr/>
          </p:nvSpPr>
          <p:spPr>
            <a:xfrm>
              <a:off x="1228680" y="2685600"/>
              <a:ext cx="603360" cy="52236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4" name="任意多边形 23"/>
            <p:cNvSpPr/>
            <p:nvPr/>
          </p:nvSpPr>
          <p:spPr>
            <a:xfrm>
              <a:off x="1377360" y="2778120"/>
              <a:ext cx="339120" cy="309960"/>
            </a:xfrm>
            <a:custGeom>
              <a:avLst/>
              <a:gdLst/>
              <a:ahLst/>
              <a:rect l="l" t="t" r="r" b="b"/>
              <a:pathLst>
                <a:path w="608344" h="548582">
                  <a:moveTo>
                    <a:pt x="521432" y="370453"/>
                  </a:moveTo>
                  <a:lnTo>
                    <a:pt x="465737" y="425787"/>
                  </a:lnTo>
                  <a:lnTo>
                    <a:pt x="442491" y="402479"/>
                  </a:lnTo>
                  <a:lnTo>
                    <a:pt x="418201" y="426545"/>
                  </a:lnTo>
                  <a:lnTo>
                    <a:pt x="441447" y="449948"/>
                  </a:lnTo>
                  <a:lnTo>
                    <a:pt x="465642" y="474204"/>
                  </a:lnTo>
                  <a:lnTo>
                    <a:pt x="489932" y="450043"/>
                  </a:lnTo>
                  <a:lnTo>
                    <a:pt x="545532" y="394709"/>
                  </a:lnTo>
                  <a:lnTo>
                    <a:pt x="521432" y="370453"/>
                  </a:lnTo>
                  <a:close/>
                  <a:moveTo>
                    <a:pt x="481962" y="296170"/>
                  </a:moveTo>
                  <a:cubicBezTo>
                    <a:pt x="551795" y="296170"/>
                    <a:pt x="608344" y="352641"/>
                    <a:pt x="608344" y="422376"/>
                  </a:cubicBezTo>
                  <a:cubicBezTo>
                    <a:pt x="608344" y="492111"/>
                    <a:pt x="551795" y="548582"/>
                    <a:pt x="481962" y="548582"/>
                  </a:cubicBezTo>
                  <a:cubicBezTo>
                    <a:pt x="412129" y="548582"/>
                    <a:pt x="355579" y="492111"/>
                    <a:pt x="355579" y="422376"/>
                  </a:cubicBezTo>
                  <a:cubicBezTo>
                    <a:pt x="355579" y="352641"/>
                    <a:pt x="412129" y="296170"/>
                    <a:pt x="481962" y="296170"/>
                  </a:cubicBezTo>
                  <a:close/>
                  <a:moveTo>
                    <a:pt x="255835" y="446"/>
                  </a:moveTo>
                  <a:cubicBezTo>
                    <a:pt x="282785" y="-1828"/>
                    <a:pt x="303187" y="4899"/>
                    <a:pt x="317801" y="13616"/>
                  </a:cubicBezTo>
                  <a:cubicBezTo>
                    <a:pt x="339721" y="25744"/>
                    <a:pt x="348072" y="41661"/>
                    <a:pt x="348072" y="41661"/>
                  </a:cubicBezTo>
                  <a:cubicBezTo>
                    <a:pt x="348072" y="41661"/>
                    <a:pt x="398176" y="45167"/>
                    <a:pt x="381190" y="146831"/>
                  </a:cubicBezTo>
                  <a:cubicBezTo>
                    <a:pt x="380621" y="149863"/>
                    <a:pt x="379862" y="153085"/>
                    <a:pt x="378913" y="156211"/>
                  </a:cubicBezTo>
                  <a:cubicBezTo>
                    <a:pt x="388592" y="156211"/>
                    <a:pt x="398271" y="163507"/>
                    <a:pt x="387833" y="200458"/>
                  </a:cubicBezTo>
                  <a:cubicBezTo>
                    <a:pt x="379672" y="229262"/>
                    <a:pt x="372080" y="237221"/>
                    <a:pt x="366387" y="237694"/>
                  </a:cubicBezTo>
                  <a:cubicBezTo>
                    <a:pt x="364394" y="250675"/>
                    <a:pt x="359175" y="265076"/>
                    <a:pt x="351393" y="278720"/>
                  </a:cubicBezTo>
                  <a:lnTo>
                    <a:pt x="351393" y="322873"/>
                  </a:lnTo>
                  <a:cubicBezTo>
                    <a:pt x="330232" y="350539"/>
                    <a:pt x="317611" y="385027"/>
                    <a:pt x="317611" y="422358"/>
                  </a:cubicBezTo>
                  <a:cubicBezTo>
                    <a:pt x="317611" y="472764"/>
                    <a:pt x="340480" y="518053"/>
                    <a:pt x="376635" y="548088"/>
                  </a:cubicBezTo>
                  <a:lnTo>
                    <a:pt x="26855" y="548088"/>
                  </a:lnTo>
                  <a:cubicBezTo>
                    <a:pt x="12052" y="548088"/>
                    <a:pt x="0" y="536055"/>
                    <a:pt x="0" y="521274"/>
                  </a:cubicBezTo>
                  <a:lnTo>
                    <a:pt x="0" y="473806"/>
                  </a:lnTo>
                  <a:cubicBezTo>
                    <a:pt x="0" y="457983"/>
                    <a:pt x="7212" y="443013"/>
                    <a:pt x="19453" y="432969"/>
                  </a:cubicBezTo>
                  <a:cubicBezTo>
                    <a:pt x="86638" y="377921"/>
                    <a:pt x="159043" y="341443"/>
                    <a:pt x="173751" y="334242"/>
                  </a:cubicBezTo>
                  <a:cubicBezTo>
                    <a:pt x="175365" y="333484"/>
                    <a:pt x="176408" y="331779"/>
                    <a:pt x="176408" y="329884"/>
                  </a:cubicBezTo>
                  <a:lnTo>
                    <a:pt x="176408" y="278720"/>
                  </a:lnTo>
                  <a:cubicBezTo>
                    <a:pt x="168437" y="265076"/>
                    <a:pt x="163313" y="250675"/>
                    <a:pt x="161320" y="237694"/>
                  </a:cubicBezTo>
                  <a:cubicBezTo>
                    <a:pt x="155627" y="237221"/>
                    <a:pt x="148035" y="229072"/>
                    <a:pt x="139969" y="200458"/>
                  </a:cubicBezTo>
                  <a:cubicBezTo>
                    <a:pt x="129531" y="164170"/>
                    <a:pt x="138925" y="156496"/>
                    <a:pt x="148320" y="156211"/>
                  </a:cubicBezTo>
                  <a:cubicBezTo>
                    <a:pt x="147371" y="153085"/>
                    <a:pt x="146612" y="149863"/>
                    <a:pt x="146042" y="146736"/>
                  </a:cubicBezTo>
                  <a:cubicBezTo>
                    <a:pt x="142436" y="128450"/>
                    <a:pt x="141487" y="111396"/>
                    <a:pt x="145758" y="95099"/>
                  </a:cubicBezTo>
                  <a:cubicBezTo>
                    <a:pt x="150787" y="73212"/>
                    <a:pt x="162744" y="55684"/>
                    <a:pt x="176029" y="42135"/>
                  </a:cubicBezTo>
                  <a:cubicBezTo>
                    <a:pt x="184379" y="33134"/>
                    <a:pt x="193869" y="25459"/>
                    <a:pt x="203928" y="19017"/>
                  </a:cubicBezTo>
                  <a:cubicBezTo>
                    <a:pt x="212183" y="13332"/>
                    <a:pt x="221293" y="8405"/>
                    <a:pt x="231162" y="5089"/>
                  </a:cubicBezTo>
                  <a:cubicBezTo>
                    <a:pt x="238849" y="2625"/>
                    <a:pt x="247105" y="825"/>
                    <a:pt x="255835" y="44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05" name="组合 25"/>
          <p:cNvGrpSpPr/>
          <p:nvPr/>
        </p:nvGrpSpPr>
        <p:grpSpPr>
          <a:xfrm>
            <a:off x="2940120" y="2532240"/>
            <a:ext cx="2657160" cy="1139760"/>
            <a:chOff x="2940120" y="2532240"/>
            <a:chExt cx="2657160" cy="1139760"/>
          </a:xfrm>
        </p:grpSpPr>
        <p:sp>
          <p:nvSpPr>
            <p:cNvPr id="1906" name="五边形 26"/>
            <p:cNvSpPr/>
            <p:nvPr/>
          </p:nvSpPr>
          <p:spPr>
            <a:xfrm>
              <a:off x="2940120" y="2667600"/>
              <a:ext cx="902520" cy="446040"/>
            </a:xfrm>
            <a:custGeom>
              <a:avLst/>
              <a:gdLst>
                <a:gd name="textAreaLeft" fmla="*/ 0 w 902520"/>
                <a:gd name="textAreaRight" fmla="*/ 902880 w 902520"/>
                <a:gd name="textAreaTop" fmla="*/ 0 h 446040"/>
                <a:gd name="textAreaBottom" fmla="*/ 446400 h 446040"/>
              </a:gdLst>
              <a:ahLst/>
              <a:rect l="textAreaLeft" t="textAreaTop" r="textAreaRight" b="textAreaBottom"/>
              <a:pathLst>
                <a:path w="21600" h="21600">
                  <a:moveTo>
                    <a:pt x="0" y="0"/>
                  </a:moveTo>
                  <a:lnTo>
                    <a:pt x="16634" y="0"/>
                  </a:lnTo>
                  <a:lnTo>
                    <a:pt x="21600" y="10800"/>
                  </a:lnTo>
                  <a:lnTo>
                    <a:pt x="16634"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7" name="燕尾形箭头 27"/>
            <p:cNvSpPr/>
            <p:nvPr/>
          </p:nvSpPr>
          <p:spPr>
            <a:xfrm>
              <a:off x="3487680" y="2532240"/>
              <a:ext cx="2109600" cy="722160"/>
            </a:xfrm>
            <a:custGeom>
              <a:avLst/>
              <a:gdLst>
                <a:gd name="textAreaLeft" fmla="*/ 334080 w 2109600"/>
                <a:gd name="textAreaRight" fmla="*/ 1775520 w 2109600"/>
                <a:gd name="textAreaTop" fmla="*/ 0 h 722160"/>
                <a:gd name="textAreaBottom" fmla="*/ 722160 h 722160"/>
              </a:gdLst>
              <a:ahLst/>
              <a:rect l="textAreaLeft" t="textAreaTop" r="textAreaRight" b="textAreaBottom"/>
              <a:pathLst>
                <a:path w="21600" h="21600">
                  <a:moveTo>
                    <a:pt x="0" y="0"/>
                  </a:moveTo>
                  <a:lnTo>
                    <a:pt x="18177" y="0"/>
                  </a:lnTo>
                  <a:lnTo>
                    <a:pt x="18177" y="0"/>
                  </a:lnTo>
                  <a:lnTo>
                    <a:pt x="21600" y="10800"/>
                  </a:lnTo>
                  <a:lnTo>
                    <a:pt x="18177" y="21600"/>
                  </a:lnTo>
                  <a:lnTo>
                    <a:pt x="18177" y="21600"/>
                  </a:lnTo>
                  <a:lnTo>
                    <a:pt x="0" y="21600"/>
                  </a:lnTo>
                  <a:lnTo>
                    <a:pt x="3423" y="10800"/>
                  </a:lnTo>
                  <a:lnTo>
                    <a:pt x="0" y="0"/>
                  </a:ln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8" name="直接连接符 46"/>
            <p:cNvSpPr/>
            <p:nvPr/>
          </p:nvSpPr>
          <p:spPr>
            <a:xfrm flipH="1">
              <a:off x="4289760" y="3254400"/>
              <a:ext cx="7920" cy="417600"/>
            </a:xfrm>
            <a:prstGeom prst="line">
              <a:avLst/>
            </a:prstGeom>
            <a:ln cap="rnd" w="28440">
              <a:solidFill>
                <a:srgbClr val="5b9bd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9" name="椭圆 29"/>
            <p:cNvSpPr/>
            <p:nvPr/>
          </p:nvSpPr>
          <p:spPr>
            <a:xfrm>
              <a:off x="4129200" y="2685240"/>
              <a:ext cx="635040" cy="43560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0" name="任意多边形 30"/>
            <p:cNvSpPr/>
            <p:nvPr/>
          </p:nvSpPr>
          <p:spPr>
            <a:xfrm>
              <a:off x="4289760" y="2746800"/>
              <a:ext cx="348120" cy="289080"/>
            </a:xfrm>
            <a:custGeom>
              <a:avLst/>
              <a:gdLst/>
              <a:ahLst/>
              <a:rect l="l" t="t" r="r" b="b"/>
              <a:pathLst>
                <a:path w="585107" h="605788">
                  <a:moveTo>
                    <a:pt x="459289" y="416179"/>
                  </a:moveTo>
                  <a:lnTo>
                    <a:pt x="459289" y="511030"/>
                  </a:lnTo>
                  <a:lnTo>
                    <a:pt x="554270" y="511030"/>
                  </a:lnTo>
                  <a:cubicBezTo>
                    <a:pt x="554270" y="563416"/>
                    <a:pt x="511654" y="605788"/>
                    <a:pt x="459289" y="605788"/>
                  </a:cubicBezTo>
                  <a:cubicBezTo>
                    <a:pt x="406831" y="605788"/>
                    <a:pt x="364308" y="563323"/>
                    <a:pt x="364308" y="511030"/>
                  </a:cubicBezTo>
                  <a:cubicBezTo>
                    <a:pt x="364308" y="458551"/>
                    <a:pt x="406924" y="416179"/>
                    <a:pt x="459289" y="416179"/>
                  </a:cubicBezTo>
                  <a:close/>
                  <a:moveTo>
                    <a:pt x="490126" y="385412"/>
                  </a:moveTo>
                  <a:cubicBezTo>
                    <a:pt x="542491" y="385412"/>
                    <a:pt x="584921" y="427779"/>
                    <a:pt x="585107" y="480252"/>
                  </a:cubicBezTo>
                  <a:lnTo>
                    <a:pt x="490126" y="480252"/>
                  </a:lnTo>
                  <a:lnTo>
                    <a:pt x="490126" y="385412"/>
                  </a:lnTo>
                  <a:close/>
                  <a:moveTo>
                    <a:pt x="151337" y="315411"/>
                  </a:moveTo>
                  <a:lnTo>
                    <a:pt x="188565" y="433251"/>
                  </a:lnTo>
                  <a:lnTo>
                    <a:pt x="195621" y="455410"/>
                  </a:lnTo>
                  <a:lnTo>
                    <a:pt x="195714" y="455132"/>
                  </a:lnTo>
                  <a:lnTo>
                    <a:pt x="201841" y="473953"/>
                  </a:lnTo>
                  <a:lnTo>
                    <a:pt x="221523" y="418138"/>
                  </a:lnTo>
                  <a:cubicBezTo>
                    <a:pt x="173061" y="350828"/>
                    <a:pt x="231271" y="351384"/>
                    <a:pt x="234521" y="351570"/>
                  </a:cubicBezTo>
                  <a:cubicBezTo>
                    <a:pt x="237677" y="351384"/>
                    <a:pt x="295887" y="350828"/>
                    <a:pt x="247518" y="418138"/>
                  </a:cubicBezTo>
                  <a:lnTo>
                    <a:pt x="267200" y="473953"/>
                  </a:lnTo>
                  <a:lnTo>
                    <a:pt x="273235" y="455132"/>
                  </a:lnTo>
                  <a:lnTo>
                    <a:pt x="273327" y="455410"/>
                  </a:lnTo>
                  <a:lnTo>
                    <a:pt x="280383" y="433251"/>
                  </a:lnTo>
                  <a:lnTo>
                    <a:pt x="317705" y="315411"/>
                  </a:lnTo>
                  <a:cubicBezTo>
                    <a:pt x="317705" y="315411"/>
                    <a:pt x="365610" y="349066"/>
                    <a:pt x="424377" y="363993"/>
                  </a:cubicBezTo>
                  <a:cubicBezTo>
                    <a:pt x="437653" y="367331"/>
                    <a:pt x="447030" y="374377"/>
                    <a:pt x="453714" y="383185"/>
                  </a:cubicBezTo>
                  <a:cubicBezTo>
                    <a:pt x="385849" y="386523"/>
                    <a:pt x="331630" y="442615"/>
                    <a:pt x="331630" y="511131"/>
                  </a:cubicBezTo>
                  <a:cubicBezTo>
                    <a:pt x="331630" y="523091"/>
                    <a:pt x="333302" y="534588"/>
                    <a:pt x="336365" y="545528"/>
                  </a:cubicBezTo>
                  <a:cubicBezTo>
                    <a:pt x="306935" y="551276"/>
                    <a:pt x="272770" y="555263"/>
                    <a:pt x="234521" y="555263"/>
                  </a:cubicBezTo>
                  <a:cubicBezTo>
                    <a:pt x="91177" y="555263"/>
                    <a:pt x="5486" y="499634"/>
                    <a:pt x="5486" y="499634"/>
                  </a:cubicBezTo>
                  <a:cubicBezTo>
                    <a:pt x="2980" y="484800"/>
                    <a:pt x="380" y="450774"/>
                    <a:pt x="380" y="450774"/>
                  </a:cubicBezTo>
                  <a:cubicBezTo>
                    <a:pt x="-1291" y="425741"/>
                    <a:pt x="751" y="375119"/>
                    <a:pt x="44572" y="363993"/>
                  </a:cubicBezTo>
                  <a:cubicBezTo>
                    <a:pt x="103524" y="349066"/>
                    <a:pt x="151337" y="315411"/>
                    <a:pt x="151337" y="315411"/>
                  </a:cubicBezTo>
                  <a:close/>
                  <a:moveTo>
                    <a:pt x="227063" y="445"/>
                  </a:moveTo>
                  <a:cubicBezTo>
                    <a:pt x="253060" y="-1780"/>
                    <a:pt x="272743" y="4616"/>
                    <a:pt x="286856" y="13052"/>
                  </a:cubicBezTo>
                  <a:cubicBezTo>
                    <a:pt x="307839" y="24639"/>
                    <a:pt x="315917" y="40120"/>
                    <a:pt x="315917" y="40120"/>
                  </a:cubicBezTo>
                  <a:cubicBezTo>
                    <a:pt x="315917" y="40120"/>
                    <a:pt x="364197" y="43549"/>
                    <a:pt x="347856" y="141531"/>
                  </a:cubicBezTo>
                  <a:cubicBezTo>
                    <a:pt x="346834" y="146722"/>
                    <a:pt x="345535" y="151913"/>
                    <a:pt x="343678" y="157104"/>
                  </a:cubicBezTo>
                  <a:cubicBezTo>
                    <a:pt x="353334" y="156177"/>
                    <a:pt x="364661" y="161832"/>
                    <a:pt x="353891" y="199653"/>
                  </a:cubicBezTo>
                  <a:cubicBezTo>
                    <a:pt x="346092" y="227370"/>
                    <a:pt x="338850" y="234971"/>
                    <a:pt x="333279" y="235527"/>
                  </a:cubicBezTo>
                  <a:cubicBezTo>
                    <a:pt x="328172" y="268342"/>
                    <a:pt x="301897" y="310056"/>
                    <a:pt x="260859" y="324888"/>
                  </a:cubicBezTo>
                  <a:cubicBezTo>
                    <a:pt x="243775" y="331006"/>
                    <a:pt x="224927" y="331006"/>
                    <a:pt x="207843" y="324981"/>
                  </a:cubicBezTo>
                  <a:cubicBezTo>
                    <a:pt x="165970" y="310242"/>
                    <a:pt x="140623" y="268342"/>
                    <a:pt x="135516" y="235527"/>
                  </a:cubicBezTo>
                  <a:cubicBezTo>
                    <a:pt x="129945" y="235156"/>
                    <a:pt x="122703" y="227370"/>
                    <a:pt x="114904" y="199653"/>
                  </a:cubicBezTo>
                  <a:cubicBezTo>
                    <a:pt x="104134" y="161739"/>
                    <a:pt x="115461" y="156177"/>
                    <a:pt x="125396" y="157012"/>
                  </a:cubicBezTo>
                  <a:cubicBezTo>
                    <a:pt x="123539" y="151821"/>
                    <a:pt x="122146" y="146630"/>
                    <a:pt x="121218" y="141438"/>
                  </a:cubicBezTo>
                  <a:cubicBezTo>
                    <a:pt x="117690" y="123733"/>
                    <a:pt x="116854" y="107326"/>
                    <a:pt x="120939" y="91660"/>
                  </a:cubicBezTo>
                  <a:cubicBezTo>
                    <a:pt x="125767" y="70524"/>
                    <a:pt x="137280" y="53653"/>
                    <a:pt x="150000" y="40583"/>
                  </a:cubicBezTo>
                  <a:cubicBezTo>
                    <a:pt x="158171" y="32055"/>
                    <a:pt x="167362" y="24546"/>
                    <a:pt x="177018" y="18335"/>
                  </a:cubicBezTo>
                  <a:cubicBezTo>
                    <a:pt x="184910" y="12866"/>
                    <a:pt x="193731" y="8231"/>
                    <a:pt x="203294" y="4987"/>
                  </a:cubicBezTo>
                  <a:cubicBezTo>
                    <a:pt x="210722" y="2391"/>
                    <a:pt x="218614" y="816"/>
                    <a:pt x="227063" y="4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11" name="组合 32"/>
          <p:cNvGrpSpPr/>
          <p:nvPr/>
        </p:nvGrpSpPr>
        <p:grpSpPr>
          <a:xfrm>
            <a:off x="5884920" y="2516040"/>
            <a:ext cx="2530080" cy="854280"/>
            <a:chOff x="5884920" y="2516040"/>
            <a:chExt cx="2530080" cy="854280"/>
          </a:xfrm>
        </p:grpSpPr>
        <p:sp>
          <p:nvSpPr>
            <p:cNvPr id="1912" name="五边形 33"/>
            <p:cNvSpPr/>
            <p:nvPr/>
          </p:nvSpPr>
          <p:spPr>
            <a:xfrm>
              <a:off x="5884920" y="2675880"/>
              <a:ext cx="821880" cy="527400"/>
            </a:xfrm>
            <a:custGeom>
              <a:avLst/>
              <a:gdLst>
                <a:gd name="textAreaLeft" fmla="*/ 0 w 821880"/>
                <a:gd name="textAreaRight" fmla="*/ 822240 w 821880"/>
                <a:gd name="textAreaTop" fmla="*/ 0 h 527400"/>
                <a:gd name="textAreaBottom" fmla="*/ 527760 h 52740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3" name="燕尾形箭头 34"/>
            <p:cNvSpPr/>
            <p:nvPr/>
          </p:nvSpPr>
          <p:spPr>
            <a:xfrm>
              <a:off x="6361200" y="2516040"/>
              <a:ext cx="2053800" cy="854280"/>
            </a:xfrm>
            <a:custGeom>
              <a:avLst/>
              <a:gdLst>
                <a:gd name="textAreaLeft" fmla="*/ 325800 w 2053800"/>
                <a:gd name="textAreaRight" fmla="*/ 1728000 w 2053800"/>
                <a:gd name="textAreaTop" fmla="*/ 0 h 854280"/>
                <a:gd name="textAreaBottom" fmla="*/ 854640 h 854280"/>
              </a:gdLst>
              <a:ahLst/>
              <a:rect l="textAreaLeft" t="textAreaTop" r="textAreaRight" b="textAreaBottom"/>
              <a:pathLst>
                <a:path w="21600" h="21600">
                  <a:moveTo>
                    <a:pt x="0" y="0"/>
                  </a:moveTo>
                  <a:lnTo>
                    <a:pt x="18174" y="0"/>
                  </a:lnTo>
                  <a:lnTo>
                    <a:pt x="18174" y="0"/>
                  </a:lnTo>
                  <a:lnTo>
                    <a:pt x="21600" y="10800"/>
                  </a:lnTo>
                  <a:lnTo>
                    <a:pt x="18174" y="21600"/>
                  </a:lnTo>
                  <a:lnTo>
                    <a:pt x="18174" y="21600"/>
                  </a:lnTo>
                  <a:lnTo>
                    <a:pt x="0" y="21600"/>
                  </a:lnTo>
                  <a:lnTo>
                    <a:pt x="3426" y="10800"/>
                  </a:lnTo>
                  <a:lnTo>
                    <a:pt x="0" y="0"/>
                  </a:lnTo>
                  <a:close/>
                </a:path>
              </a:pathLst>
            </a:custGeom>
            <a:solidFill>
              <a:srgbClr val="479e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4" name="椭圆 36"/>
            <p:cNvSpPr/>
            <p:nvPr/>
          </p:nvSpPr>
          <p:spPr>
            <a:xfrm>
              <a:off x="6981840" y="2697120"/>
              <a:ext cx="618480" cy="51480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5" name="任意多边形 37"/>
            <p:cNvSpPr/>
            <p:nvPr/>
          </p:nvSpPr>
          <p:spPr>
            <a:xfrm>
              <a:off x="7171200" y="2788200"/>
              <a:ext cx="285120" cy="305280"/>
            </a:xfrm>
            <a:custGeom>
              <a:avLst/>
              <a:gdLst/>
              <a:ahLst/>
              <a:rect l="l" t="t" r="r" b="b"/>
              <a:pathLst>
                <a:path w="409" h="451">
                  <a:moveTo>
                    <a:pt x="409" y="391"/>
                  </a:moveTo>
                  <a:lnTo>
                    <a:pt x="409" y="451"/>
                  </a:lnTo>
                  <a:lnTo>
                    <a:pt x="0" y="451"/>
                  </a:lnTo>
                  <a:lnTo>
                    <a:pt x="0" y="391"/>
                  </a:lnTo>
                  <a:cubicBezTo>
                    <a:pt x="0" y="363"/>
                    <a:pt x="25" y="328"/>
                    <a:pt x="54" y="314"/>
                  </a:cubicBezTo>
                  <a:lnTo>
                    <a:pt x="121" y="282"/>
                  </a:lnTo>
                  <a:lnTo>
                    <a:pt x="167" y="378"/>
                  </a:lnTo>
                  <a:lnTo>
                    <a:pt x="190" y="314"/>
                  </a:lnTo>
                  <a:cubicBezTo>
                    <a:pt x="195" y="315"/>
                    <a:pt x="200" y="316"/>
                    <a:pt x="205" y="316"/>
                  </a:cubicBezTo>
                  <a:cubicBezTo>
                    <a:pt x="209" y="316"/>
                    <a:pt x="214" y="315"/>
                    <a:pt x="219" y="314"/>
                  </a:cubicBezTo>
                  <a:lnTo>
                    <a:pt x="241" y="375"/>
                  </a:lnTo>
                  <a:lnTo>
                    <a:pt x="286" y="281"/>
                  </a:lnTo>
                  <a:lnTo>
                    <a:pt x="355" y="314"/>
                  </a:lnTo>
                  <a:cubicBezTo>
                    <a:pt x="385" y="328"/>
                    <a:pt x="409" y="363"/>
                    <a:pt x="409" y="391"/>
                  </a:cubicBezTo>
                  <a:close/>
                  <a:moveTo>
                    <a:pt x="60" y="181"/>
                  </a:moveTo>
                  <a:lnTo>
                    <a:pt x="60" y="137"/>
                  </a:lnTo>
                  <a:cubicBezTo>
                    <a:pt x="60" y="130"/>
                    <a:pt x="64" y="124"/>
                    <a:pt x="70" y="120"/>
                  </a:cubicBezTo>
                  <a:cubicBezTo>
                    <a:pt x="78" y="53"/>
                    <a:pt x="135" y="0"/>
                    <a:pt x="205" y="0"/>
                  </a:cubicBezTo>
                  <a:cubicBezTo>
                    <a:pt x="274" y="0"/>
                    <a:pt x="331" y="53"/>
                    <a:pt x="339" y="120"/>
                  </a:cubicBezTo>
                  <a:cubicBezTo>
                    <a:pt x="345" y="124"/>
                    <a:pt x="349" y="130"/>
                    <a:pt x="349" y="137"/>
                  </a:cubicBezTo>
                  <a:lnTo>
                    <a:pt x="349" y="181"/>
                  </a:lnTo>
                  <a:cubicBezTo>
                    <a:pt x="349" y="192"/>
                    <a:pt x="339" y="202"/>
                    <a:pt x="328" y="202"/>
                  </a:cubicBezTo>
                  <a:cubicBezTo>
                    <a:pt x="316" y="202"/>
                    <a:pt x="307" y="192"/>
                    <a:pt x="307" y="181"/>
                  </a:cubicBezTo>
                  <a:lnTo>
                    <a:pt x="307" y="172"/>
                  </a:lnTo>
                  <a:cubicBezTo>
                    <a:pt x="296" y="228"/>
                    <a:pt x="254" y="281"/>
                    <a:pt x="205" y="281"/>
                  </a:cubicBezTo>
                  <a:cubicBezTo>
                    <a:pt x="155" y="281"/>
                    <a:pt x="113" y="228"/>
                    <a:pt x="102" y="172"/>
                  </a:cubicBezTo>
                  <a:lnTo>
                    <a:pt x="102" y="181"/>
                  </a:lnTo>
                  <a:cubicBezTo>
                    <a:pt x="102" y="190"/>
                    <a:pt x="96" y="198"/>
                    <a:pt x="87" y="201"/>
                  </a:cubicBezTo>
                  <a:cubicBezTo>
                    <a:pt x="96" y="229"/>
                    <a:pt x="114" y="253"/>
                    <a:pt x="140" y="269"/>
                  </a:cubicBezTo>
                  <a:cubicBezTo>
                    <a:pt x="144" y="268"/>
                    <a:pt x="150" y="268"/>
                    <a:pt x="156" y="271"/>
                  </a:cubicBezTo>
                  <a:cubicBezTo>
                    <a:pt x="165" y="276"/>
                    <a:pt x="170" y="285"/>
                    <a:pt x="166" y="292"/>
                  </a:cubicBezTo>
                  <a:cubicBezTo>
                    <a:pt x="163" y="298"/>
                    <a:pt x="153" y="300"/>
                    <a:pt x="143" y="295"/>
                  </a:cubicBezTo>
                  <a:cubicBezTo>
                    <a:pt x="137" y="292"/>
                    <a:pt x="132" y="286"/>
                    <a:pt x="132" y="280"/>
                  </a:cubicBezTo>
                  <a:cubicBezTo>
                    <a:pt x="103" y="261"/>
                    <a:pt x="82" y="233"/>
                    <a:pt x="73" y="200"/>
                  </a:cubicBezTo>
                  <a:cubicBezTo>
                    <a:pt x="66" y="197"/>
                    <a:pt x="60" y="190"/>
                    <a:pt x="60" y="181"/>
                  </a:cubicBezTo>
                  <a:close/>
                  <a:moveTo>
                    <a:pt x="84" y="115"/>
                  </a:moveTo>
                  <a:cubicBezTo>
                    <a:pt x="85" y="115"/>
                    <a:pt x="85" y="115"/>
                    <a:pt x="86" y="115"/>
                  </a:cubicBezTo>
                  <a:cubicBezTo>
                    <a:pt x="88" y="116"/>
                    <a:pt x="89" y="117"/>
                    <a:pt x="89" y="118"/>
                  </a:cubicBezTo>
                  <a:cubicBezTo>
                    <a:pt x="94" y="120"/>
                    <a:pt x="98" y="124"/>
                    <a:pt x="100" y="128"/>
                  </a:cubicBezTo>
                  <a:cubicBezTo>
                    <a:pt x="106" y="70"/>
                    <a:pt x="150" y="40"/>
                    <a:pt x="205" y="40"/>
                  </a:cubicBezTo>
                  <a:cubicBezTo>
                    <a:pt x="259" y="40"/>
                    <a:pt x="303" y="70"/>
                    <a:pt x="309" y="128"/>
                  </a:cubicBezTo>
                  <a:cubicBezTo>
                    <a:pt x="312" y="122"/>
                    <a:pt x="318" y="118"/>
                    <a:pt x="325" y="117"/>
                  </a:cubicBezTo>
                  <a:cubicBezTo>
                    <a:pt x="316" y="58"/>
                    <a:pt x="266" y="13"/>
                    <a:pt x="205" y="13"/>
                  </a:cubicBezTo>
                  <a:cubicBezTo>
                    <a:pt x="144" y="13"/>
                    <a:pt x="94" y="57"/>
                    <a:pt x="84" y="11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16" name="组合 38"/>
          <p:cNvGrpSpPr/>
          <p:nvPr/>
        </p:nvGrpSpPr>
        <p:grpSpPr>
          <a:xfrm>
            <a:off x="8715240" y="2502000"/>
            <a:ext cx="2830680" cy="769680"/>
            <a:chOff x="8715240" y="2502000"/>
            <a:chExt cx="2830680" cy="769680"/>
          </a:xfrm>
        </p:grpSpPr>
        <p:sp>
          <p:nvSpPr>
            <p:cNvPr id="1917" name="五边形 39"/>
            <p:cNvSpPr/>
            <p:nvPr/>
          </p:nvSpPr>
          <p:spPr>
            <a:xfrm>
              <a:off x="8715240" y="2646000"/>
              <a:ext cx="919800" cy="475200"/>
            </a:xfrm>
            <a:custGeom>
              <a:avLst/>
              <a:gdLst>
                <a:gd name="textAreaLeft" fmla="*/ 0 w 919800"/>
                <a:gd name="textAreaRight" fmla="*/ 920160 w 919800"/>
                <a:gd name="textAreaTop" fmla="*/ 0 h 475200"/>
                <a:gd name="textAreaBottom" fmla="*/ 475560 h 47520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8" name="燕尾形箭头 40"/>
            <p:cNvSpPr/>
            <p:nvPr/>
          </p:nvSpPr>
          <p:spPr>
            <a:xfrm>
              <a:off x="9247680" y="2502000"/>
              <a:ext cx="2298240" cy="769680"/>
            </a:xfrm>
            <a:custGeom>
              <a:avLst/>
              <a:gdLst>
                <a:gd name="textAreaLeft" fmla="*/ 363960 w 2298240"/>
                <a:gd name="textAreaRight" fmla="*/ 1934280 w 2298240"/>
                <a:gd name="textAreaTop" fmla="*/ 0 h 769680"/>
                <a:gd name="textAreaBottom" fmla="*/ 770040 h 769680"/>
              </a:gdLst>
              <a:ahLst/>
              <a:rect l="textAreaLeft" t="textAreaTop" r="textAreaRight" b="textAreaBottom"/>
              <a:pathLst>
                <a:path w="21600" h="21600">
                  <a:moveTo>
                    <a:pt x="0" y="0"/>
                  </a:moveTo>
                  <a:lnTo>
                    <a:pt x="18177" y="0"/>
                  </a:lnTo>
                  <a:lnTo>
                    <a:pt x="18177" y="0"/>
                  </a:lnTo>
                  <a:lnTo>
                    <a:pt x="21600" y="10800"/>
                  </a:lnTo>
                  <a:lnTo>
                    <a:pt x="18177" y="21600"/>
                  </a:lnTo>
                  <a:lnTo>
                    <a:pt x="18177" y="21600"/>
                  </a:lnTo>
                  <a:lnTo>
                    <a:pt x="0" y="21600"/>
                  </a:lnTo>
                  <a:lnTo>
                    <a:pt x="3423" y="10800"/>
                  </a:lnTo>
                  <a:lnTo>
                    <a:pt x="0" y="0"/>
                  </a:lnTo>
                  <a:close/>
                </a:path>
              </a:pathLst>
            </a:cu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9" name="椭圆 42"/>
            <p:cNvSpPr/>
            <p:nvPr/>
          </p:nvSpPr>
          <p:spPr>
            <a:xfrm>
              <a:off x="9938520" y="2665080"/>
              <a:ext cx="691920" cy="46368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0" name="任意多边形 43"/>
            <p:cNvSpPr/>
            <p:nvPr/>
          </p:nvSpPr>
          <p:spPr>
            <a:xfrm>
              <a:off x="10113840" y="2747160"/>
              <a:ext cx="380880" cy="275040"/>
            </a:xfrm>
            <a:custGeom>
              <a:avLst/>
              <a:gdLst/>
              <a:ahLst/>
              <a:rect l="l" t="t" r="r" b="b"/>
              <a:pathLst>
                <a:path w="609156" h="561771">
                  <a:moveTo>
                    <a:pt x="392435" y="452324"/>
                  </a:moveTo>
                  <a:lnTo>
                    <a:pt x="427863" y="452324"/>
                  </a:lnTo>
                  <a:cubicBezTo>
                    <a:pt x="432070" y="452324"/>
                    <a:pt x="435529" y="455685"/>
                    <a:pt x="435435" y="459885"/>
                  </a:cubicBezTo>
                  <a:lnTo>
                    <a:pt x="435435" y="474634"/>
                  </a:lnTo>
                  <a:lnTo>
                    <a:pt x="435435" y="539321"/>
                  </a:lnTo>
                  <a:lnTo>
                    <a:pt x="435435" y="553976"/>
                  </a:lnTo>
                  <a:cubicBezTo>
                    <a:pt x="435435" y="558270"/>
                    <a:pt x="432070" y="561630"/>
                    <a:pt x="427863" y="561630"/>
                  </a:cubicBezTo>
                  <a:lnTo>
                    <a:pt x="392435" y="561630"/>
                  </a:lnTo>
                  <a:cubicBezTo>
                    <a:pt x="388228" y="561630"/>
                    <a:pt x="384863" y="558270"/>
                    <a:pt x="384863" y="553976"/>
                  </a:cubicBezTo>
                  <a:lnTo>
                    <a:pt x="384863" y="539321"/>
                  </a:lnTo>
                  <a:lnTo>
                    <a:pt x="384863" y="474634"/>
                  </a:lnTo>
                  <a:lnTo>
                    <a:pt x="384863" y="459885"/>
                  </a:lnTo>
                  <a:cubicBezTo>
                    <a:pt x="384863" y="455685"/>
                    <a:pt x="388228" y="452324"/>
                    <a:pt x="392435" y="452324"/>
                  </a:cubicBezTo>
                  <a:close/>
                  <a:moveTo>
                    <a:pt x="464152" y="409985"/>
                  </a:moveTo>
                  <a:lnTo>
                    <a:pt x="499488" y="409985"/>
                  </a:lnTo>
                  <a:cubicBezTo>
                    <a:pt x="503788" y="409985"/>
                    <a:pt x="507153" y="413348"/>
                    <a:pt x="507153" y="417551"/>
                  </a:cubicBezTo>
                  <a:lnTo>
                    <a:pt x="507153" y="474622"/>
                  </a:lnTo>
                  <a:lnTo>
                    <a:pt x="507153" y="496853"/>
                  </a:lnTo>
                  <a:lnTo>
                    <a:pt x="507153" y="553923"/>
                  </a:lnTo>
                  <a:cubicBezTo>
                    <a:pt x="507153" y="558127"/>
                    <a:pt x="503788" y="561489"/>
                    <a:pt x="499488" y="561489"/>
                  </a:cubicBezTo>
                  <a:lnTo>
                    <a:pt x="464152" y="561489"/>
                  </a:lnTo>
                  <a:cubicBezTo>
                    <a:pt x="459852" y="561489"/>
                    <a:pt x="456487" y="558127"/>
                    <a:pt x="456487" y="553923"/>
                  </a:cubicBezTo>
                  <a:lnTo>
                    <a:pt x="456487" y="496853"/>
                  </a:lnTo>
                  <a:lnTo>
                    <a:pt x="456487" y="474622"/>
                  </a:lnTo>
                  <a:lnTo>
                    <a:pt x="456487" y="417551"/>
                  </a:lnTo>
                  <a:cubicBezTo>
                    <a:pt x="456487" y="413348"/>
                    <a:pt x="459852" y="409985"/>
                    <a:pt x="464152" y="409985"/>
                  </a:cubicBezTo>
                  <a:close/>
                  <a:moveTo>
                    <a:pt x="553539" y="277886"/>
                  </a:moveTo>
                  <a:cubicBezTo>
                    <a:pt x="555408" y="277886"/>
                    <a:pt x="557277" y="278727"/>
                    <a:pt x="558399" y="280594"/>
                  </a:cubicBezTo>
                  <a:lnTo>
                    <a:pt x="608220" y="360717"/>
                  </a:lnTo>
                  <a:cubicBezTo>
                    <a:pt x="610743" y="364546"/>
                    <a:pt x="607846" y="369495"/>
                    <a:pt x="603359" y="369402"/>
                  </a:cubicBezTo>
                  <a:lnTo>
                    <a:pt x="578776" y="369402"/>
                  </a:lnTo>
                  <a:lnTo>
                    <a:pt x="578776" y="429074"/>
                  </a:lnTo>
                  <a:lnTo>
                    <a:pt x="578776" y="432529"/>
                  </a:lnTo>
                  <a:lnTo>
                    <a:pt x="578776" y="554674"/>
                  </a:lnTo>
                  <a:cubicBezTo>
                    <a:pt x="578589" y="558690"/>
                    <a:pt x="575224" y="561771"/>
                    <a:pt x="571205" y="561771"/>
                  </a:cubicBezTo>
                  <a:lnTo>
                    <a:pt x="535779" y="561771"/>
                  </a:lnTo>
                  <a:cubicBezTo>
                    <a:pt x="531573" y="561771"/>
                    <a:pt x="528208" y="558409"/>
                    <a:pt x="528208" y="554207"/>
                  </a:cubicBezTo>
                  <a:lnTo>
                    <a:pt x="528208" y="369495"/>
                  </a:lnTo>
                  <a:lnTo>
                    <a:pt x="503625" y="369495"/>
                  </a:lnTo>
                  <a:cubicBezTo>
                    <a:pt x="499138" y="369495"/>
                    <a:pt x="496427" y="364546"/>
                    <a:pt x="498764" y="360717"/>
                  </a:cubicBezTo>
                  <a:lnTo>
                    <a:pt x="548678" y="280594"/>
                  </a:lnTo>
                  <a:cubicBezTo>
                    <a:pt x="549800" y="278727"/>
                    <a:pt x="551669" y="277886"/>
                    <a:pt x="553539" y="277886"/>
                  </a:cubicBezTo>
                  <a:close/>
                  <a:moveTo>
                    <a:pt x="248743" y="0"/>
                  </a:moveTo>
                  <a:lnTo>
                    <a:pt x="260245" y="0"/>
                  </a:lnTo>
                  <a:lnTo>
                    <a:pt x="271654" y="0"/>
                  </a:lnTo>
                  <a:cubicBezTo>
                    <a:pt x="325049" y="0"/>
                    <a:pt x="368159" y="43234"/>
                    <a:pt x="368159" y="96367"/>
                  </a:cubicBezTo>
                  <a:lnTo>
                    <a:pt x="368159" y="203287"/>
                  </a:lnTo>
                  <a:cubicBezTo>
                    <a:pt x="368159" y="220002"/>
                    <a:pt x="359555" y="234849"/>
                    <a:pt x="346651" y="243440"/>
                  </a:cubicBezTo>
                  <a:lnTo>
                    <a:pt x="346651" y="346532"/>
                  </a:lnTo>
                  <a:cubicBezTo>
                    <a:pt x="346651" y="348399"/>
                    <a:pt x="347586" y="349987"/>
                    <a:pt x="349269" y="351014"/>
                  </a:cubicBezTo>
                  <a:cubicBezTo>
                    <a:pt x="359368" y="355869"/>
                    <a:pt x="396399" y="374545"/>
                    <a:pt x="440257" y="403493"/>
                  </a:cubicBezTo>
                  <a:cubicBezTo>
                    <a:pt x="437732" y="407602"/>
                    <a:pt x="436236" y="412457"/>
                    <a:pt x="436236" y="417687"/>
                  </a:cubicBezTo>
                  <a:lnTo>
                    <a:pt x="436236" y="433748"/>
                  </a:lnTo>
                  <a:cubicBezTo>
                    <a:pt x="433617" y="432908"/>
                    <a:pt x="430812" y="432441"/>
                    <a:pt x="427820" y="432441"/>
                  </a:cubicBezTo>
                  <a:lnTo>
                    <a:pt x="392378" y="432441"/>
                  </a:lnTo>
                  <a:cubicBezTo>
                    <a:pt x="377136" y="432441"/>
                    <a:pt x="364699" y="444767"/>
                    <a:pt x="364699" y="460081"/>
                  </a:cubicBezTo>
                  <a:lnTo>
                    <a:pt x="364699" y="474742"/>
                  </a:lnTo>
                  <a:lnTo>
                    <a:pt x="364699" y="539454"/>
                  </a:lnTo>
                  <a:lnTo>
                    <a:pt x="364699" y="554207"/>
                  </a:lnTo>
                  <a:cubicBezTo>
                    <a:pt x="364699" y="556822"/>
                    <a:pt x="365073" y="559250"/>
                    <a:pt x="365821" y="561771"/>
                  </a:cubicBezTo>
                  <a:lnTo>
                    <a:pt x="294471" y="561771"/>
                  </a:lnTo>
                  <a:lnTo>
                    <a:pt x="272215" y="459521"/>
                  </a:lnTo>
                  <a:cubicBezTo>
                    <a:pt x="317288" y="396676"/>
                    <a:pt x="268848" y="393688"/>
                    <a:pt x="260339" y="393595"/>
                  </a:cubicBezTo>
                  <a:cubicBezTo>
                    <a:pt x="251829" y="393688"/>
                    <a:pt x="203390" y="396676"/>
                    <a:pt x="248463" y="459521"/>
                  </a:cubicBezTo>
                  <a:lnTo>
                    <a:pt x="226207" y="561771"/>
                  </a:lnTo>
                  <a:lnTo>
                    <a:pt x="0" y="561771"/>
                  </a:lnTo>
                  <a:lnTo>
                    <a:pt x="0" y="488468"/>
                  </a:lnTo>
                  <a:cubicBezTo>
                    <a:pt x="0" y="472874"/>
                    <a:pt x="6826" y="458213"/>
                    <a:pt x="18796" y="448315"/>
                  </a:cubicBezTo>
                  <a:cubicBezTo>
                    <a:pt x="85190" y="393968"/>
                    <a:pt x="156633" y="357830"/>
                    <a:pt x="171221" y="350734"/>
                  </a:cubicBezTo>
                  <a:cubicBezTo>
                    <a:pt x="172811" y="349987"/>
                    <a:pt x="173840" y="348399"/>
                    <a:pt x="173840" y="346532"/>
                  </a:cubicBezTo>
                  <a:lnTo>
                    <a:pt x="173840" y="243440"/>
                  </a:lnTo>
                  <a:cubicBezTo>
                    <a:pt x="160841" y="234849"/>
                    <a:pt x="152238" y="220095"/>
                    <a:pt x="152238" y="203287"/>
                  </a:cubicBezTo>
                  <a:lnTo>
                    <a:pt x="152238" y="96367"/>
                  </a:lnTo>
                  <a:cubicBezTo>
                    <a:pt x="152238" y="43048"/>
                    <a:pt x="195534" y="0"/>
                    <a:pt x="24874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21" name="组合 28"/>
          <p:cNvGrpSpPr/>
          <p:nvPr/>
        </p:nvGrpSpPr>
        <p:grpSpPr>
          <a:xfrm>
            <a:off x="925560" y="0"/>
            <a:ext cx="10583280" cy="611280"/>
            <a:chOff x="925560" y="0"/>
            <a:chExt cx="10583280" cy="611280"/>
          </a:xfrm>
        </p:grpSpPr>
        <p:sp>
          <p:nvSpPr>
            <p:cNvPr id="1922" name="直接连接符 2"/>
            <p:cNvSpPr/>
            <p:nvPr/>
          </p:nvSpPr>
          <p:spPr>
            <a:xfrm flipV="1">
              <a:off x="925560" y="485280"/>
              <a:ext cx="161568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1" lang="en-US" sz="1800" spc="-1" strike="noStrike">
                <a:solidFill>
                  <a:srgbClr val="000000"/>
                </a:solidFill>
                <a:latin typeface="Arial"/>
              </a:endParaRPr>
            </a:p>
          </p:txBody>
        </p:sp>
        <p:sp>
          <p:nvSpPr>
            <p:cNvPr id="1923" name="直接连接符 3"/>
            <p:cNvSpPr/>
            <p:nvPr/>
          </p:nvSpPr>
          <p:spPr>
            <a:xfrm>
              <a:off x="9623160" y="451440"/>
              <a:ext cx="188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924" name="文本框 31" descr=""/>
            <p:cNvPicPr/>
            <p:nvPr/>
          </p:nvPicPr>
          <p:blipFill>
            <a:blip r:embed="rId1"/>
            <a:stretch/>
          </p:blipFill>
          <p:spPr>
            <a:xfrm>
              <a:off x="2072160" y="0"/>
              <a:ext cx="7668360" cy="611280"/>
            </a:xfrm>
            <a:prstGeom prst="rect">
              <a:avLst/>
            </a:prstGeom>
            <a:ln w="0">
              <a:noFill/>
            </a:ln>
          </p:spPr>
        </p:pic>
      </p:grpSp>
      <p:sp>
        <p:nvSpPr>
          <p:cNvPr id="1925" name="文本框 36"/>
          <p:cNvSpPr/>
          <p:nvPr/>
        </p:nvSpPr>
        <p:spPr>
          <a:xfrm>
            <a:off x="4630680" y="1012680"/>
            <a:ext cx="288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sp>
        <p:nvSpPr>
          <p:cNvPr id="1926" name="文本框 37"/>
          <p:cNvSpPr/>
          <p:nvPr/>
        </p:nvSpPr>
        <p:spPr>
          <a:xfrm>
            <a:off x="252360" y="3916440"/>
            <a:ext cx="2384640" cy="176220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e78"/>
                </a:solidFill>
                <a:latin typeface="Arial"/>
              </a:rPr>
              <a:t>1.</a:t>
            </a:r>
            <a:r>
              <a:rPr b="1" lang="zh-CN" sz="2000" spc="-1" strike="noStrike">
                <a:solidFill>
                  <a:srgbClr val="1f4e78"/>
                </a:solidFill>
                <a:latin typeface="Arial"/>
                <a:ea typeface="宋体"/>
              </a:rPr>
              <a:t>请购商品和劳务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仓库负责对需要</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购买的已列入存货。</a:t>
            </a:r>
            <a:endParaRPr b="1" lang="en-US" sz="2000" spc="-1" strike="noStrike">
              <a:solidFill>
                <a:srgbClr val="000000"/>
              </a:solidFill>
              <a:latin typeface="Arial"/>
            </a:endParaRPr>
          </a:p>
        </p:txBody>
      </p:sp>
      <p:sp>
        <p:nvSpPr>
          <p:cNvPr id="1927" name="文本框 43"/>
          <p:cNvSpPr/>
          <p:nvPr/>
        </p:nvSpPr>
        <p:spPr>
          <a:xfrm>
            <a:off x="2598840" y="3916440"/>
            <a:ext cx="3046320" cy="232416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e78"/>
                </a:solidFill>
                <a:latin typeface="Arial"/>
              </a:rPr>
              <a:t>2.</a:t>
            </a:r>
            <a:r>
              <a:rPr b="1" lang="zh-CN" sz="2000" spc="-1" strike="noStrike">
                <a:solidFill>
                  <a:srgbClr val="1f4e78"/>
                </a:solidFill>
                <a:latin typeface="Arial"/>
                <a:ea typeface="宋体"/>
              </a:rPr>
              <a:t>编制订购单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采购部门在收到请购单后，只能对经过批准的请购单发 出订购单。对每张订购单，采购部门应确定最佳的供应来源。</a:t>
            </a:r>
            <a:endParaRPr b="1" lang="en-US" sz="2000" spc="-1" strike="noStrike">
              <a:solidFill>
                <a:srgbClr val="000000"/>
              </a:solidFill>
              <a:latin typeface="Arial"/>
            </a:endParaRPr>
          </a:p>
        </p:txBody>
      </p:sp>
      <p:sp>
        <p:nvSpPr>
          <p:cNvPr id="1928" name="直接连接符 49"/>
          <p:cNvSpPr/>
          <p:nvPr/>
        </p:nvSpPr>
        <p:spPr>
          <a:xfrm flipH="1">
            <a:off x="7248600" y="3387600"/>
            <a:ext cx="7920" cy="381240"/>
          </a:xfrm>
          <a:prstGeom prst="line">
            <a:avLst/>
          </a:prstGeom>
          <a:ln cap="rnd" w="28440">
            <a:solidFill>
              <a:srgbClr val="5b9bd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29" name="直接连接符 50"/>
          <p:cNvSpPr/>
          <p:nvPr/>
        </p:nvSpPr>
        <p:spPr>
          <a:xfrm flipH="1">
            <a:off x="10293480" y="3290760"/>
            <a:ext cx="7920" cy="381240"/>
          </a:xfrm>
          <a:prstGeom prst="line">
            <a:avLst/>
          </a:prstGeom>
          <a:ln cap="rnd" w="28440">
            <a:solidFill>
              <a:srgbClr val="5b9bd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30" name="矩形 16"/>
          <p:cNvSpPr/>
          <p:nvPr/>
        </p:nvSpPr>
        <p:spPr>
          <a:xfrm>
            <a:off x="5824440" y="3909960"/>
            <a:ext cx="3189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e78"/>
                </a:solidFill>
                <a:latin typeface="Arial"/>
              </a:rPr>
              <a:t>3.</a:t>
            </a:r>
            <a:r>
              <a:rPr b="1" lang="zh-CN" sz="2000" spc="-1" strike="noStrike">
                <a:solidFill>
                  <a:srgbClr val="1f4e78"/>
                </a:solidFill>
                <a:latin typeface="Arial"/>
                <a:ea typeface="宋体"/>
              </a:rPr>
              <a:t>验收商品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验收部门验收时，首先应比较所收商品与订购单上的要求是否相符，如商品 的品名、说明、数量、到货时间等，再盘点商品并检查商品有无损坏。</a:t>
            </a:r>
            <a:endParaRPr b="1" lang="en-US" sz="2000" spc="-1" strike="noStrike">
              <a:solidFill>
                <a:srgbClr val="000000"/>
              </a:solidFill>
              <a:latin typeface="Arial"/>
            </a:endParaRPr>
          </a:p>
        </p:txBody>
      </p:sp>
      <p:sp>
        <p:nvSpPr>
          <p:cNvPr id="1931" name="文本框 51"/>
          <p:cNvSpPr/>
          <p:nvPr/>
        </p:nvSpPr>
        <p:spPr>
          <a:xfrm>
            <a:off x="9013680" y="3881520"/>
            <a:ext cx="3048120" cy="254484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e78"/>
                </a:solidFill>
                <a:latin typeface="Arial"/>
              </a:rPr>
              <a:t>4.</a:t>
            </a:r>
            <a:r>
              <a:rPr b="1" lang="zh-CN" sz="2000" spc="-1" strike="noStrike">
                <a:solidFill>
                  <a:srgbClr val="1f4e78"/>
                </a:solidFill>
                <a:latin typeface="Arial"/>
                <a:ea typeface="宋体"/>
              </a:rPr>
              <a:t>储存已验收的商品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将已验收商品的保管与采购的其他职责相分离，可减少未经授权的采购和盗 用商品的风险。存放商品的仓储区应相对独立，限制无关人员接近。</a:t>
            </a:r>
            <a:endParaRPr b="1"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ntr" presetID="42">
                                  <p:stCondLst>
                                    <p:cond delay="0"/>
                                  </p:stCondLst>
                                  <p:childTnLst>
                                    <p:set>
                                      <p:cBhvr>
                                        <p:cTn id="50" dur="1" fill="hold">
                                          <p:stCondLst>
                                            <p:cond delay="0"/>
                                          </p:stCondLst>
                                        </p:cTn>
                                        <p:tgtEl>
                                          <p:spTgt spid="1898"/>
                                        </p:tgtEl>
                                        <p:attrNameLst>
                                          <p:attrName>style.visibility</p:attrName>
                                        </p:attrNameLst>
                                      </p:cBhvr>
                                      <p:to>
                                        <p:strVal val="visible"/>
                                      </p:to>
                                    </p:set>
                                    <p:animEffect filter="fade" transition="in">
                                      <p:cBhvr additive="repl">
                                        <p:cTn id="51" dur="1000"/>
                                        <p:tgtEl>
                                          <p:spTgt spid="1898"/>
                                        </p:tgtEl>
                                      </p:cBhvr>
                                    </p:animEffect>
                                    <p:anim calcmode="lin" valueType="num">
                                      <p:cBhvr additive="repl">
                                        <p:cTn id="52" dur="1000" fill="hold"/>
                                        <p:tgtEl>
                                          <p:spTgt spid="1898"/>
                                        </p:tgtEl>
                                        <p:attrNameLst>
                                          <p:attrName>ppt_x</p:attrName>
                                        </p:attrNameLst>
                                      </p:cBhvr>
                                      <p:tavLst>
                                        <p:tav tm="0">
                                          <p:val>
                                            <p:strVal val="#ppt_x"/>
                                          </p:val>
                                        </p:tav>
                                        <p:tav tm="100000">
                                          <p:val>
                                            <p:strVal val="#ppt_x"/>
                                          </p:val>
                                        </p:tav>
                                      </p:tavLst>
                                    </p:anim>
                                    <p:anim calcmode="lin" valueType="num">
                                      <p:cBhvr additive="repl">
                                        <p:cTn id="53" dur="1000" fill="hold"/>
                                        <p:tgtEl>
                                          <p:spTgt spid="1898"/>
                                        </p:tgtEl>
                                        <p:attrNameLst>
                                          <p:attrName>ppt_y</p:attrName>
                                        </p:attrNameLst>
                                      </p:cBhvr>
                                      <p:tavLst>
                                        <p:tav tm="0">
                                          <p:val>
                                            <p:strVal val="#ppt_y+.1"/>
                                          </p:val>
                                        </p:tav>
                                        <p:tav tm="100000">
                                          <p:val>
                                            <p:strVal val="#ppt_y"/>
                                          </p:val>
                                        </p:tav>
                                      </p:tavLst>
                                    </p:anim>
                                  </p:childTnLst>
                                </p:cTn>
                              </p:par>
                            </p:childTnLst>
                          </p:cTn>
                        </p:par>
                        <p:par>
                          <p:cTn id="54" fill="hold">
                            <p:stCondLst>
                              <p:cond delay="1000"/>
                            </p:stCondLst>
                            <p:childTnLst>
                              <p:par>
                                <p:cTn id="55" dur="indefinite" nodeType="afterEffect" fill="hold" presetClass="entr" presetID="12" presetSubtype="8">
                                  <p:stCondLst>
                                    <p:cond delay="0"/>
                                  </p:stCondLst>
                                  <p:childTnLst>
                                    <p:set>
                                      <p:cBhvr>
                                        <p:cTn id="56" dur="1" fill="hold">
                                          <p:stCondLst>
                                            <p:cond delay="0"/>
                                          </p:stCondLst>
                                        </p:cTn>
                                        <p:tgtEl>
                                          <p:spTgt spid="1899"/>
                                        </p:tgtEl>
                                        <p:attrNameLst>
                                          <p:attrName>style.visibility</p:attrName>
                                        </p:attrNameLst>
                                      </p:cBhvr>
                                      <p:to>
                                        <p:strVal val="visible"/>
                                      </p:to>
                                    </p:set>
                                    <p:anim calcmode="lin" valueType="num">
                                      <p:cBhvr additive="repl">
                                        <p:cTn id="57" dur="500"/>
                                        <p:tgtEl>
                                          <p:spTgt spid="1899"/>
                                        </p:tgtEl>
                                        <p:attrNameLst>
                                          <p:attrName>ppt_x</p:attrName>
                                        </p:attrNameLst>
                                      </p:cBhvr>
                                      <p:tavLst>
                                        <p:tav tm="0">
                                          <p:val>
                                            <p:strVal val="#ppt_x-#ppt_w*1.125000"/>
                                          </p:val>
                                        </p:tav>
                                        <p:tav tm="100000">
                                          <p:val>
                                            <p:strVal val="#ppt_x"/>
                                          </p:val>
                                        </p:tav>
                                      </p:tavLst>
                                    </p:anim>
                                    <p:animEffect filter="wipe(right)" transition="in">
                                      <p:cBhvr additive="repl">
                                        <p:cTn id="58" dur="500"/>
                                        <p:tgtEl>
                                          <p:spTgt spid="1899"/>
                                        </p:tgtEl>
                                      </p:cBhvr>
                                    </p:animEffect>
                                  </p:childTnLst>
                                </p:cTn>
                              </p:par>
                            </p:childTnLst>
                          </p:cTn>
                        </p:par>
                        <p:par>
                          <p:cTn id="59" fill="hold">
                            <p:stCondLst>
                              <p:cond delay="1500"/>
                            </p:stCondLst>
                            <p:childTnLst>
                              <p:par>
                                <p:cTn id="60" dur="indefinite" nodeType="afterEffect" fill="hold" presetClass="entr" presetID="12" presetSubtype="8">
                                  <p:stCondLst>
                                    <p:cond delay="0"/>
                                  </p:stCondLst>
                                  <p:childTnLst>
                                    <p:set>
                                      <p:cBhvr>
                                        <p:cTn id="61" dur="1" fill="hold">
                                          <p:stCondLst>
                                            <p:cond delay="0"/>
                                          </p:stCondLst>
                                        </p:cTn>
                                        <p:tgtEl>
                                          <p:spTgt spid="1905"/>
                                        </p:tgtEl>
                                        <p:attrNameLst>
                                          <p:attrName>style.visibility</p:attrName>
                                        </p:attrNameLst>
                                      </p:cBhvr>
                                      <p:to>
                                        <p:strVal val="visible"/>
                                      </p:to>
                                    </p:set>
                                    <p:anim calcmode="lin" valueType="num">
                                      <p:cBhvr additive="repl">
                                        <p:cTn id="62" dur="500"/>
                                        <p:tgtEl>
                                          <p:spTgt spid="1905"/>
                                        </p:tgtEl>
                                        <p:attrNameLst>
                                          <p:attrName>ppt_x</p:attrName>
                                        </p:attrNameLst>
                                      </p:cBhvr>
                                      <p:tavLst>
                                        <p:tav tm="0">
                                          <p:val>
                                            <p:strVal val="#ppt_x-#ppt_w*1.125000"/>
                                          </p:val>
                                        </p:tav>
                                        <p:tav tm="100000">
                                          <p:val>
                                            <p:strVal val="#ppt_x"/>
                                          </p:val>
                                        </p:tav>
                                      </p:tavLst>
                                    </p:anim>
                                    <p:animEffect filter="wipe(right)" transition="in">
                                      <p:cBhvr additive="repl">
                                        <p:cTn id="63" dur="500"/>
                                        <p:tgtEl>
                                          <p:spTgt spid="1905"/>
                                        </p:tgtEl>
                                      </p:cBhvr>
                                    </p:animEffect>
                                  </p:childTnLst>
                                </p:cTn>
                              </p:par>
                            </p:childTnLst>
                          </p:cTn>
                        </p:par>
                        <p:par>
                          <p:cTn id="64" fill="hold">
                            <p:stCondLst>
                              <p:cond delay="2000"/>
                            </p:stCondLst>
                            <p:childTnLst>
                              <p:par>
                                <p:cTn id="65" dur="indefinite" nodeType="afterEffect" fill="hold" presetClass="entr" presetID="12" presetSubtype="8">
                                  <p:stCondLst>
                                    <p:cond delay="0"/>
                                  </p:stCondLst>
                                  <p:childTnLst>
                                    <p:set>
                                      <p:cBhvr>
                                        <p:cTn id="66" dur="1" fill="hold">
                                          <p:stCondLst>
                                            <p:cond delay="0"/>
                                          </p:stCondLst>
                                        </p:cTn>
                                        <p:tgtEl>
                                          <p:spTgt spid="1911"/>
                                        </p:tgtEl>
                                        <p:attrNameLst>
                                          <p:attrName>style.visibility</p:attrName>
                                        </p:attrNameLst>
                                      </p:cBhvr>
                                      <p:to>
                                        <p:strVal val="visible"/>
                                      </p:to>
                                    </p:set>
                                    <p:anim calcmode="lin" valueType="num">
                                      <p:cBhvr additive="repl">
                                        <p:cTn id="67" dur="500"/>
                                        <p:tgtEl>
                                          <p:spTgt spid="1911"/>
                                        </p:tgtEl>
                                        <p:attrNameLst>
                                          <p:attrName>ppt_x</p:attrName>
                                        </p:attrNameLst>
                                      </p:cBhvr>
                                      <p:tavLst>
                                        <p:tav tm="0">
                                          <p:val>
                                            <p:strVal val="#ppt_x-#ppt_w*1.125000"/>
                                          </p:val>
                                        </p:tav>
                                        <p:tav tm="100000">
                                          <p:val>
                                            <p:strVal val="#ppt_x"/>
                                          </p:val>
                                        </p:tav>
                                      </p:tavLst>
                                    </p:anim>
                                    <p:animEffect filter="wipe(right)" transition="in">
                                      <p:cBhvr additive="repl">
                                        <p:cTn id="68" dur="500"/>
                                        <p:tgtEl>
                                          <p:spTgt spid="1911"/>
                                        </p:tgtEl>
                                      </p:cBhvr>
                                    </p:animEffect>
                                  </p:childTnLst>
                                </p:cTn>
                              </p:par>
                            </p:childTnLst>
                          </p:cTn>
                        </p:par>
                        <p:par>
                          <p:cTn id="69" fill="hold">
                            <p:stCondLst>
                              <p:cond delay="2500"/>
                            </p:stCondLst>
                            <p:childTnLst>
                              <p:par>
                                <p:cTn id="70" dur="indefinite" nodeType="afterEffect" fill="hold" presetClass="entr" presetID="12" presetSubtype="8">
                                  <p:stCondLst>
                                    <p:cond delay="0"/>
                                  </p:stCondLst>
                                  <p:childTnLst>
                                    <p:set>
                                      <p:cBhvr>
                                        <p:cTn id="71" dur="1" fill="hold">
                                          <p:stCondLst>
                                            <p:cond delay="0"/>
                                          </p:stCondLst>
                                        </p:cTn>
                                        <p:tgtEl>
                                          <p:spTgt spid="1916"/>
                                        </p:tgtEl>
                                        <p:attrNameLst>
                                          <p:attrName>style.visibility</p:attrName>
                                        </p:attrNameLst>
                                      </p:cBhvr>
                                      <p:to>
                                        <p:strVal val="visible"/>
                                      </p:to>
                                    </p:set>
                                    <p:anim calcmode="lin" valueType="num">
                                      <p:cBhvr additive="repl">
                                        <p:cTn id="72" dur="500"/>
                                        <p:tgtEl>
                                          <p:spTgt spid="1916"/>
                                        </p:tgtEl>
                                        <p:attrNameLst>
                                          <p:attrName>ppt_x</p:attrName>
                                        </p:attrNameLst>
                                      </p:cBhvr>
                                      <p:tavLst>
                                        <p:tav tm="0">
                                          <p:val>
                                            <p:strVal val="#ppt_x-#ppt_w*1.125000"/>
                                          </p:val>
                                        </p:tav>
                                        <p:tav tm="100000">
                                          <p:val>
                                            <p:strVal val="#ppt_x"/>
                                          </p:val>
                                        </p:tav>
                                      </p:tavLst>
                                    </p:anim>
                                    <p:animEffect filter="wipe(right)" transition="in">
                                      <p:cBhvr additive="repl">
                                        <p:cTn id="73" dur="500"/>
                                        <p:tgtEl>
                                          <p:spTgt spid="1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文本框 1"/>
          <p:cNvSpPr/>
          <p:nvPr/>
        </p:nvSpPr>
        <p:spPr>
          <a:xfrm>
            <a:off x="596880" y="1457280"/>
            <a:ext cx="10766520" cy="627480"/>
          </a:xfrm>
          <a:prstGeom prst="rect">
            <a:avLst/>
          </a:prstGeom>
          <a:noFill/>
          <a:ln w="0">
            <a:noFill/>
          </a:ln>
        </p:spPr>
        <p:style>
          <a:lnRef idx="0"/>
          <a:fillRef idx="0"/>
          <a:effectRef idx="0"/>
          <a:fontRef idx="minor"/>
        </p:style>
        <p:txBody>
          <a:bodyPr lIns="71640" rIns="71640" tIns="36360" bIns="36360" anchor="t">
            <a:spAutoFit/>
          </a:bodyPr>
          <a:p>
            <a:pPr lvl="1" marL="7452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e78"/>
                </a:solidFill>
                <a:latin typeface="微软雅黑"/>
                <a:ea typeface="微软雅黑"/>
              </a:rPr>
              <a:t>一、采购与付款循环涉及的主要业务活动</a:t>
            </a:r>
            <a:endParaRPr b="1" lang="en-US" sz="2800" spc="-1" strike="noStrike">
              <a:solidFill>
                <a:srgbClr val="000000"/>
              </a:solidFill>
              <a:latin typeface="Arial"/>
            </a:endParaRPr>
          </a:p>
        </p:txBody>
      </p:sp>
      <p:grpSp>
        <p:nvGrpSpPr>
          <p:cNvPr id="1933" name="组合 24"/>
          <p:cNvGrpSpPr/>
          <p:nvPr/>
        </p:nvGrpSpPr>
        <p:grpSpPr>
          <a:xfrm>
            <a:off x="293760" y="2496960"/>
            <a:ext cx="2595600" cy="1243080"/>
            <a:chOff x="293760" y="2496960"/>
            <a:chExt cx="2595600" cy="1243080"/>
          </a:xfrm>
        </p:grpSpPr>
        <p:sp>
          <p:nvSpPr>
            <p:cNvPr id="1934" name="五边形 11"/>
            <p:cNvSpPr/>
            <p:nvPr/>
          </p:nvSpPr>
          <p:spPr>
            <a:xfrm>
              <a:off x="293760" y="2652480"/>
              <a:ext cx="843120" cy="513000"/>
            </a:xfrm>
            <a:custGeom>
              <a:avLst/>
              <a:gdLst>
                <a:gd name="textAreaLeft" fmla="*/ 0 w 843120"/>
                <a:gd name="textAreaRight" fmla="*/ 843480 w 843120"/>
                <a:gd name="textAreaTop" fmla="*/ 0 h 513000"/>
                <a:gd name="textAreaBottom" fmla="*/ 513360 h 51300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5" name="燕尾形箭头 21"/>
            <p:cNvSpPr/>
            <p:nvPr/>
          </p:nvSpPr>
          <p:spPr>
            <a:xfrm>
              <a:off x="782640" y="2496960"/>
              <a:ext cx="2106720" cy="831240"/>
            </a:xfrm>
            <a:custGeom>
              <a:avLst/>
              <a:gdLst>
                <a:gd name="textAreaLeft" fmla="*/ 333720 w 2106720"/>
                <a:gd name="textAreaRight" fmla="*/ 1773000 w 2106720"/>
                <a:gd name="textAreaTop" fmla="*/ 0 h 831240"/>
                <a:gd name="textAreaBottom" fmla="*/ 831600 h 831240"/>
              </a:gdLst>
              <a:ahLst/>
              <a:rect l="textAreaLeft" t="textAreaTop" r="textAreaRight" b="textAreaBottom"/>
              <a:pathLst>
                <a:path w="21600" h="21600">
                  <a:moveTo>
                    <a:pt x="0" y="0"/>
                  </a:moveTo>
                  <a:lnTo>
                    <a:pt x="18177" y="0"/>
                  </a:lnTo>
                  <a:lnTo>
                    <a:pt x="18177" y="0"/>
                  </a:lnTo>
                  <a:lnTo>
                    <a:pt x="21600" y="10800"/>
                  </a:lnTo>
                  <a:lnTo>
                    <a:pt x="18177" y="21600"/>
                  </a:lnTo>
                  <a:lnTo>
                    <a:pt x="18177" y="21600"/>
                  </a:lnTo>
                  <a:lnTo>
                    <a:pt x="0" y="21600"/>
                  </a:lnTo>
                  <a:lnTo>
                    <a:pt x="3423" y="10800"/>
                  </a:lnTo>
                  <a:lnTo>
                    <a:pt x="0" y="0"/>
                  </a:lnTo>
                  <a:close/>
                </a:path>
              </a:pathLst>
            </a:custGeom>
            <a:solidFill>
              <a:srgbClr val="2f75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6" name="直接连接符 45"/>
            <p:cNvSpPr/>
            <p:nvPr/>
          </p:nvSpPr>
          <p:spPr>
            <a:xfrm flipH="1">
              <a:off x="1825560" y="3346560"/>
              <a:ext cx="9720" cy="393480"/>
            </a:xfrm>
            <a:prstGeom prst="line">
              <a:avLst/>
            </a:prstGeom>
            <a:ln cap="rnd" w="28440">
              <a:solidFill>
                <a:srgbClr val="5b9bd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37" name="椭圆 22"/>
            <p:cNvSpPr/>
            <p:nvPr/>
          </p:nvSpPr>
          <p:spPr>
            <a:xfrm>
              <a:off x="1424520" y="2673000"/>
              <a:ext cx="635760" cy="50076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8" name="任意多边形 23"/>
            <p:cNvSpPr/>
            <p:nvPr/>
          </p:nvSpPr>
          <p:spPr>
            <a:xfrm>
              <a:off x="1581120" y="2761920"/>
              <a:ext cx="357120" cy="297000"/>
            </a:xfrm>
            <a:custGeom>
              <a:avLst/>
              <a:gdLst/>
              <a:ahLst/>
              <a:rect l="l" t="t" r="r" b="b"/>
              <a:pathLst>
                <a:path w="608344" h="548582">
                  <a:moveTo>
                    <a:pt x="521432" y="370453"/>
                  </a:moveTo>
                  <a:lnTo>
                    <a:pt x="465737" y="425787"/>
                  </a:lnTo>
                  <a:lnTo>
                    <a:pt x="442491" y="402479"/>
                  </a:lnTo>
                  <a:lnTo>
                    <a:pt x="418201" y="426545"/>
                  </a:lnTo>
                  <a:lnTo>
                    <a:pt x="441447" y="449948"/>
                  </a:lnTo>
                  <a:lnTo>
                    <a:pt x="465642" y="474204"/>
                  </a:lnTo>
                  <a:lnTo>
                    <a:pt x="489932" y="450043"/>
                  </a:lnTo>
                  <a:lnTo>
                    <a:pt x="545532" y="394709"/>
                  </a:lnTo>
                  <a:lnTo>
                    <a:pt x="521432" y="370453"/>
                  </a:lnTo>
                  <a:close/>
                  <a:moveTo>
                    <a:pt x="481962" y="296170"/>
                  </a:moveTo>
                  <a:cubicBezTo>
                    <a:pt x="551795" y="296170"/>
                    <a:pt x="608344" y="352641"/>
                    <a:pt x="608344" y="422376"/>
                  </a:cubicBezTo>
                  <a:cubicBezTo>
                    <a:pt x="608344" y="492111"/>
                    <a:pt x="551795" y="548582"/>
                    <a:pt x="481962" y="548582"/>
                  </a:cubicBezTo>
                  <a:cubicBezTo>
                    <a:pt x="412129" y="548582"/>
                    <a:pt x="355579" y="492111"/>
                    <a:pt x="355579" y="422376"/>
                  </a:cubicBezTo>
                  <a:cubicBezTo>
                    <a:pt x="355579" y="352641"/>
                    <a:pt x="412129" y="296170"/>
                    <a:pt x="481962" y="296170"/>
                  </a:cubicBezTo>
                  <a:close/>
                  <a:moveTo>
                    <a:pt x="255835" y="446"/>
                  </a:moveTo>
                  <a:cubicBezTo>
                    <a:pt x="282785" y="-1828"/>
                    <a:pt x="303187" y="4899"/>
                    <a:pt x="317801" y="13616"/>
                  </a:cubicBezTo>
                  <a:cubicBezTo>
                    <a:pt x="339721" y="25744"/>
                    <a:pt x="348072" y="41661"/>
                    <a:pt x="348072" y="41661"/>
                  </a:cubicBezTo>
                  <a:cubicBezTo>
                    <a:pt x="348072" y="41661"/>
                    <a:pt x="398176" y="45167"/>
                    <a:pt x="381190" y="146831"/>
                  </a:cubicBezTo>
                  <a:cubicBezTo>
                    <a:pt x="380621" y="149863"/>
                    <a:pt x="379862" y="153085"/>
                    <a:pt x="378913" y="156211"/>
                  </a:cubicBezTo>
                  <a:cubicBezTo>
                    <a:pt x="388592" y="156211"/>
                    <a:pt x="398271" y="163507"/>
                    <a:pt x="387833" y="200458"/>
                  </a:cubicBezTo>
                  <a:cubicBezTo>
                    <a:pt x="379672" y="229262"/>
                    <a:pt x="372080" y="237221"/>
                    <a:pt x="366387" y="237694"/>
                  </a:cubicBezTo>
                  <a:cubicBezTo>
                    <a:pt x="364394" y="250675"/>
                    <a:pt x="359175" y="265076"/>
                    <a:pt x="351393" y="278720"/>
                  </a:cubicBezTo>
                  <a:lnTo>
                    <a:pt x="351393" y="322873"/>
                  </a:lnTo>
                  <a:cubicBezTo>
                    <a:pt x="330232" y="350539"/>
                    <a:pt x="317611" y="385027"/>
                    <a:pt x="317611" y="422358"/>
                  </a:cubicBezTo>
                  <a:cubicBezTo>
                    <a:pt x="317611" y="472764"/>
                    <a:pt x="340480" y="518053"/>
                    <a:pt x="376635" y="548088"/>
                  </a:cubicBezTo>
                  <a:lnTo>
                    <a:pt x="26855" y="548088"/>
                  </a:lnTo>
                  <a:cubicBezTo>
                    <a:pt x="12052" y="548088"/>
                    <a:pt x="0" y="536055"/>
                    <a:pt x="0" y="521274"/>
                  </a:cubicBezTo>
                  <a:lnTo>
                    <a:pt x="0" y="473806"/>
                  </a:lnTo>
                  <a:cubicBezTo>
                    <a:pt x="0" y="457983"/>
                    <a:pt x="7212" y="443013"/>
                    <a:pt x="19453" y="432969"/>
                  </a:cubicBezTo>
                  <a:cubicBezTo>
                    <a:pt x="86638" y="377921"/>
                    <a:pt x="159043" y="341443"/>
                    <a:pt x="173751" y="334242"/>
                  </a:cubicBezTo>
                  <a:cubicBezTo>
                    <a:pt x="175365" y="333484"/>
                    <a:pt x="176408" y="331779"/>
                    <a:pt x="176408" y="329884"/>
                  </a:cubicBezTo>
                  <a:lnTo>
                    <a:pt x="176408" y="278720"/>
                  </a:lnTo>
                  <a:cubicBezTo>
                    <a:pt x="168437" y="265076"/>
                    <a:pt x="163313" y="250675"/>
                    <a:pt x="161320" y="237694"/>
                  </a:cubicBezTo>
                  <a:cubicBezTo>
                    <a:pt x="155627" y="237221"/>
                    <a:pt x="148035" y="229072"/>
                    <a:pt x="139969" y="200458"/>
                  </a:cubicBezTo>
                  <a:cubicBezTo>
                    <a:pt x="129531" y="164170"/>
                    <a:pt x="138925" y="156496"/>
                    <a:pt x="148320" y="156211"/>
                  </a:cubicBezTo>
                  <a:cubicBezTo>
                    <a:pt x="147371" y="153085"/>
                    <a:pt x="146612" y="149863"/>
                    <a:pt x="146042" y="146736"/>
                  </a:cubicBezTo>
                  <a:cubicBezTo>
                    <a:pt x="142436" y="128450"/>
                    <a:pt x="141487" y="111396"/>
                    <a:pt x="145758" y="95099"/>
                  </a:cubicBezTo>
                  <a:cubicBezTo>
                    <a:pt x="150787" y="73212"/>
                    <a:pt x="162744" y="55684"/>
                    <a:pt x="176029" y="42135"/>
                  </a:cubicBezTo>
                  <a:cubicBezTo>
                    <a:pt x="184379" y="33134"/>
                    <a:pt x="193869" y="25459"/>
                    <a:pt x="203928" y="19017"/>
                  </a:cubicBezTo>
                  <a:cubicBezTo>
                    <a:pt x="212183" y="13332"/>
                    <a:pt x="221293" y="8405"/>
                    <a:pt x="231162" y="5089"/>
                  </a:cubicBezTo>
                  <a:cubicBezTo>
                    <a:pt x="238849" y="2625"/>
                    <a:pt x="247105" y="825"/>
                    <a:pt x="255835" y="44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39" name="组合 25"/>
          <p:cNvGrpSpPr/>
          <p:nvPr/>
        </p:nvGrpSpPr>
        <p:grpSpPr>
          <a:xfrm>
            <a:off x="2989440" y="2496960"/>
            <a:ext cx="2574360" cy="1242720"/>
            <a:chOff x="2989440" y="2496960"/>
            <a:chExt cx="2574360" cy="1242720"/>
          </a:xfrm>
        </p:grpSpPr>
        <p:sp>
          <p:nvSpPr>
            <p:cNvPr id="1940" name="五边形 26"/>
            <p:cNvSpPr/>
            <p:nvPr/>
          </p:nvSpPr>
          <p:spPr>
            <a:xfrm>
              <a:off x="2989440" y="2680920"/>
              <a:ext cx="898200" cy="500040"/>
            </a:xfrm>
            <a:custGeom>
              <a:avLst/>
              <a:gdLst>
                <a:gd name="textAreaLeft" fmla="*/ 0 w 898200"/>
                <a:gd name="textAreaRight" fmla="*/ 898560 w 898200"/>
                <a:gd name="textAreaTop" fmla="*/ 0 h 500040"/>
                <a:gd name="textAreaBottom" fmla="*/ 500400 h 500040"/>
              </a:gdLst>
              <a:ahLst/>
              <a:rect l="textAreaLeft" t="textAreaTop" r="textAreaRight" b="textAreaBottom"/>
              <a:pathLst>
                <a:path w="21600" h="21600">
                  <a:moveTo>
                    <a:pt x="0" y="0"/>
                  </a:moveTo>
                  <a:lnTo>
                    <a:pt x="16634" y="0"/>
                  </a:lnTo>
                  <a:lnTo>
                    <a:pt x="21600" y="10800"/>
                  </a:lnTo>
                  <a:lnTo>
                    <a:pt x="16634"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1" name="燕尾形箭头 27"/>
            <p:cNvSpPr/>
            <p:nvPr/>
          </p:nvSpPr>
          <p:spPr>
            <a:xfrm>
              <a:off x="3463560" y="2496960"/>
              <a:ext cx="2100240" cy="809640"/>
            </a:xfrm>
            <a:custGeom>
              <a:avLst/>
              <a:gdLst>
                <a:gd name="textAreaLeft" fmla="*/ 332640 w 2100240"/>
                <a:gd name="textAreaRight" fmla="*/ 1767600 w 2100240"/>
                <a:gd name="textAreaTop" fmla="*/ 0 h 809640"/>
                <a:gd name="textAreaBottom" fmla="*/ 810000 h 809640"/>
              </a:gdLst>
              <a:ahLst/>
              <a:rect l="textAreaLeft" t="textAreaTop" r="textAreaRight" b="textAreaBottom"/>
              <a:pathLst>
                <a:path w="21600" h="21600">
                  <a:moveTo>
                    <a:pt x="0" y="0"/>
                  </a:moveTo>
                  <a:lnTo>
                    <a:pt x="18178" y="0"/>
                  </a:lnTo>
                  <a:lnTo>
                    <a:pt x="18178" y="0"/>
                  </a:lnTo>
                  <a:lnTo>
                    <a:pt x="21600" y="10800"/>
                  </a:lnTo>
                  <a:lnTo>
                    <a:pt x="18178" y="21600"/>
                  </a:lnTo>
                  <a:lnTo>
                    <a:pt x="18178" y="21600"/>
                  </a:lnTo>
                  <a:lnTo>
                    <a:pt x="0" y="21600"/>
                  </a:lnTo>
                  <a:lnTo>
                    <a:pt x="3422" y="10800"/>
                  </a:lnTo>
                  <a:lnTo>
                    <a:pt x="0" y="0"/>
                  </a:ln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2" name="直接连接符 46"/>
            <p:cNvSpPr/>
            <p:nvPr/>
          </p:nvSpPr>
          <p:spPr>
            <a:xfrm>
              <a:off x="4350960" y="3358800"/>
              <a:ext cx="0" cy="380880"/>
            </a:xfrm>
            <a:prstGeom prst="line">
              <a:avLst/>
            </a:prstGeom>
            <a:ln cap="rnd" w="28440">
              <a:solidFill>
                <a:srgbClr val="5b9bd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3" name="椭圆 29"/>
            <p:cNvSpPr/>
            <p:nvPr/>
          </p:nvSpPr>
          <p:spPr>
            <a:xfrm>
              <a:off x="4172760" y="2700720"/>
              <a:ext cx="632160" cy="48816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4" name="任意多边形 30"/>
            <p:cNvSpPr/>
            <p:nvPr/>
          </p:nvSpPr>
          <p:spPr>
            <a:xfrm>
              <a:off x="4332600" y="2769840"/>
              <a:ext cx="346320" cy="324000"/>
            </a:xfrm>
            <a:custGeom>
              <a:avLst/>
              <a:gdLst/>
              <a:ahLst/>
              <a:rect l="l" t="t" r="r" b="b"/>
              <a:pathLst>
                <a:path w="585107" h="605788">
                  <a:moveTo>
                    <a:pt x="459289" y="416179"/>
                  </a:moveTo>
                  <a:lnTo>
                    <a:pt x="459289" y="511030"/>
                  </a:lnTo>
                  <a:lnTo>
                    <a:pt x="554270" y="511030"/>
                  </a:lnTo>
                  <a:cubicBezTo>
                    <a:pt x="554270" y="563416"/>
                    <a:pt x="511654" y="605788"/>
                    <a:pt x="459289" y="605788"/>
                  </a:cubicBezTo>
                  <a:cubicBezTo>
                    <a:pt x="406831" y="605788"/>
                    <a:pt x="364308" y="563323"/>
                    <a:pt x="364308" y="511030"/>
                  </a:cubicBezTo>
                  <a:cubicBezTo>
                    <a:pt x="364308" y="458551"/>
                    <a:pt x="406924" y="416179"/>
                    <a:pt x="459289" y="416179"/>
                  </a:cubicBezTo>
                  <a:close/>
                  <a:moveTo>
                    <a:pt x="490126" y="385412"/>
                  </a:moveTo>
                  <a:cubicBezTo>
                    <a:pt x="542491" y="385412"/>
                    <a:pt x="584921" y="427779"/>
                    <a:pt x="585107" y="480252"/>
                  </a:cubicBezTo>
                  <a:lnTo>
                    <a:pt x="490126" y="480252"/>
                  </a:lnTo>
                  <a:lnTo>
                    <a:pt x="490126" y="385412"/>
                  </a:lnTo>
                  <a:close/>
                  <a:moveTo>
                    <a:pt x="151337" y="315411"/>
                  </a:moveTo>
                  <a:lnTo>
                    <a:pt x="188565" y="433251"/>
                  </a:lnTo>
                  <a:lnTo>
                    <a:pt x="195621" y="455410"/>
                  </a:lnTo>
                  <a:lnTo>
                    <a:pt x="195714" y="455132"/>
                  </a:lnTo>
                  <a:lnTo>
                    <a:pt x="201841" y="473953"/>
                  </a:lnTo>
                  <a:lnTo>
                    <a:pt x="221523" y="418138"/>
                  </a:lnTo>
                  <a:cubicBezTo>
                    <a:pt x="173061" y="350828"/>
                    <a:pt x="231271" y="351384"/>
                    <a:pt x="234521" y="351570"/>
                  </a:cubicBezTo>
                  <a:cubicBezTo>
                    <a:pt x="237677" y="351384"/>
                    <a:pt x="295887" y="350828"/>
                    <a:pt x="247518" y="418138"/>
                  </a:cubicBezTo>
                  <a:lnTo>
                    <a:pt x="267200" y="473953"/>
                  </a:lnTo>
                  <a:lnTo>
                    <a:pt x="273235" y="455132"/>
                  </a:lnTo>
                  <a:lnTo>
                    <a:pt x="273327" y="455410"/>
                  </a:lnTo>
                  <a:lnTo>
                    <a:pt x="280383" y="433251"/>
                  </a:lnTo>
                  <a:lnTo>
                    <a:pt x="317705" y="315411"/>
                  </a:lnTo>
                  <a:cubicBezTo>
                    <a:pt x="317705" y="315411"/>
                    <a:pt x="365610" y="349066"/>
                    <a:pt x="424377" y="363993"/>
                  </a:cubicBezTo>
                  <a:cubicBezTo>
                    <a:pt x="437653" y="367331"/>
                    <a:pt x="447030" y="374377"/>
                    <a:pt x="453714" y="383185"/>
                  </a:cubicBezTo>
                  <a:cubicBezTo>
                    <a:pt x="385849" y="386523"/>
                    <a:pt x="331630" y="442615"/>
                    <a:pt x="331630" y="511131"/>
                  </a:cubicBezTo>
                  <a:cubicBezTo>
                    <a:pt x="331630" y="523091"/>
                    <a:pt x="333302" y="534588"/>
                    <a:pt x="336365" y="545528"/>
                  </a:cubicBezTo>
                  <a:cubicBezTo>
                    <a:pt x="306935" y="551276"/>
                    <a:pt x="272770" y="555263"/>
                    <a:pt x="234521" y="555263"/>
                  </a:cubicBezTo>
                  <a:cubicBezTo>
                    <a:pt x="91177" y="555263"/>
                    <a:pt x="5486" y="499634"/>
                    <a:pt x="5486" y="499634"/>
                  </a:cubicBezTo>
                  <a:cubicBezTo>
                    <a:pt x="2980" y="484800"/>
                    <a:pt x="380" y="450774"/>
                    <a:pt x="380" y="450774"/>
                  </a:cubicBezTo>
                  <a:cubicBezTo>
                    <a:pt x="-1291" y="425741"/>
                    <a:pt x="751" y="375119"/>
                    <a:pt x="44572" y="363993"/>
                  </a:cubicBezTo>
                  <a:cubicBezTo>
                    <a:pt x="103524" y="349066"/>
                    <a:pt x="151337" y="315411"/>
                    <a:pt x="151337" y="315411"/>
                  </a:cubicBezTo>
                  <a:close/>
                  <a:moveTo>
                    <a:pt x="227063" y="445"/>
                  </a:moveTo>
                  <a:cubicBezTo>
                    <a:pt x="253060" y="-1780"/>
                    <a:pt x="272743" y="4616"/>
                    <a:pt x="286856" y="13052"/>
                  </a:cubicBezTo>
                  <a:cubicBezTo>
                    <a:pt x="307839" y="24639"/>
                    <a:pt x="315917" y="40120"/>
                    <a:pt x="315917" y="40120"/>
                  </a:cubicBezTo>
                  <a:cubicBezTo>
                    <a:pt x="315917" y="40120"/>
                    <a:pt x="364197" y="43549"/>
                    <a:pt x="347856" y="141531"/>
                  </a:cubicBezTo>
                  <a:cubicBezTo>
                    <a:pt x="346834" y="146722"/>
                    <a:pt x="345535" y="151913"/>
                    <a:pt x="343678" y="157104"/>
                  </a:cubicBezTo>
                  <a:cubicBezTo>
                    <a:pt x="353334" y="156177"/>
                    <a:pt x="364661" y="161832"/>
                    <a:pt x="353891" y="199653"/>
                  </a:cubicBezTo>
                  <a:cubicBezTo>
                    <a:pt x="346092" y="227370"/>
                    <a:pt x="338850" y="234971"/>
                    <a:pt x="333279" y="235527"/>
                  </a:cubicBezTo>
                  <a:cubicBezTo>
                    <a:pt x="328172" y="268342"/>
                    <a:pt x="301897" y="310056"/>
                    <a:pt x="260859" y="324888"/>
                  </a:cubicBezTo>
                  <a:cubicBezTo>
                    <a:pt x="243775" y="331006"/>
                    <a:pt x="224927" y="331006"/>
                    <a:pt x="207843" y="324981"/>
                  </a:cubicBezTo>
                  <a:cubicBezTo>
                    <a:pt x="165970" y="310242"/>
                    <a:pt x="140623" y="268342"/>
                    <a:pt x="135516" y="235527"/>
                  </a:cubicBezTo>
                  <a:cubicBezTo>
                    <a:pt x="129945" y="235156"/>
                    <a:pt x="122703" y="227370"/>
                    <a:pt x="114904" y="199653"/>
                  </a:cubicBezTo>
                  <a:cubicBezTo>
                    <a:pt x="104134" y="161739"/>
                    <a:pt x="115461" y="156177"/>
                    <a:pt x="125396" y="157012"/>
                  </a:cubicBezTo>
                  <a:cubicBezTo>
                    <a:pt x="123539" y="151821"/>
                    <a:pt x="122146" y="146630"/>
                    <a:pt x="121218" y="141438"/>
                  </a:cubicBezTo>
                  <a:cubicBezTo>
                    <a:pt x="117690" y="123733"/>
                    <a:pt x="116854" y="107326"/>
                    <a:pt x="120939" y="91660"/>
                  </a:cubicBezTo>
                  <a:cubicBezTo>
                    <a:pt x="125767" y="70524"/>
                    <a:pt x="137280" y="53653"/>
                    <a:pt x="150000" y="40583"/>
                  </a:cubicBezTo>
                  <a:cubicBezTo>
                    <a:pt x="158171" y="32055"/>
                    <a:pt x="167362" y="24546"/>
                    <a:pt x="177018" y="18335"/>
                  </a:cubicBezTo>
                  <a:cubicBezTo>
                    <a:pt x="184910" y="12866"/>
                    <a:pt x="193731" y="8231"/>
                    <a:pt x="203294" y="4987"/>
                  </a:cubicBezTo>
                  <a:cubicBezTo>
                    <a:pt x="210722" y="2391"/>
                    <a:pt x="218614" y="816"/>
                    <a:pt x="227063" y="4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45" name="组合 32"/>
          <p:cNvGrpSpPr/>
          <p:nvPr/>
        </p:nvGrpSpPr>
        <p:grpSpPr>
          <a:xfrm>
            <a:off x="5762520" y="2498760"/>
            <a:ext cx="2481480" cy="755640"/>
            <a:chOff x="5762520" y="2498760"/>
            <a:chExt cx="2481480" cy="755640"/>
          </a:xfrm>
        </p:grpSpPr>
        <p:sp>
          <p:nvSpPr>
            <p:cNvPr id="1946" name="五边形 33"/>
            <p:cNvSpPr/>
            <p:nvPr/>
          </p:nvSpPr>
          <p:spPr>
            <a:xfrm>
              <a:off x="5762520" y="2640240"/>
              <a:ext cx="806040" cy="466560"/>
            </a:xfrm>
            <a:custGeom>
              <a:avLst/>
              <a:gdLst>
                <a:gd name="textAreaLeft" fmla="*/ 0 w 806040"/>
                <a:gd name="textAreaRight" fmla="*/ 806400 w 806040"/>
                <a:gd name="textAreaTop" fmla="*/ 0 h 466560"/>
                <a:gd name="textAreaBottom" fmla="*/ 466920 h 46656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燕尾形箭头 34"/>
            <p:cNvSpPr/>
            <p:nvPr/>
          </p:nvSpPr>
          <p:spPr>
            <a:xfrm>
              <a:off x="6229080" y="2498760"/>
              <a:ext cx="2014920" cy="755640"/>
            </a:xfrm>
            <a:custGeom>
              <a:avLst/>
              <a:gdLst>
                <a:gd name="textAreaLeft" fmla="*/ 319320 w 2014920"/>
                <a:gd name="textAreaRight" fmla="*/ 1695600 w 2014920"/>
                <a:gd name="textAreaTop" fmla="*/ 0 h 755640"/>
                <a:gd name="textAreaBottom" fmla="*/ 756000 h 755640"/>
              </a:gdLst>
              <a:ahLst/>
              <a:rect l="textAreaLeft" t="textAreaTop" r="textAreaRight" b="textAreaBottom"/>
              <a:pathLst>
                <a:path w="21600" h="21600">
                  <a:moveTo>
                    <a:pt x="0" y="0"/>
                  </a:moveTo>
                  <a:lnTo>
                    <a:pt x="18175" y="0"/>
                  </a:lnTo>
                  <a:lnTo>
                    <a:pt x="18175" y="0"/>
                  </a:lnTo>
                  <a:lnTo>
                    <a:pt x="21600" y="10800"/>
                  </a:lnTo>
                  <a:lnTo>
                    <a:pt x="18175" y="21600"/>
                  </a:lnTo>
                  <a:lnTo>
                    <a:pt x="18175" y="21600"/>
                  </a:lnTo>
                  <a:lnTo>
                    <a:pt x="0" y="21600"/>
                  </a:lnTo>
                  <a:lnTo>
                    <a:pt x="3425" y="10800"/>
                  </a:lnTo>
                  <a:lnTo>
                    <a:pt x="0" y="0"/>
                  </a:lnTo>
                  <a:close/>
                </a:path>
              </a:pathLst>
            </a:custGeom>
            <a:solidFill>
              <a:srgbClr val="479e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8" name="椭圆 36"/>
            <p:cNvSpPr/>
            <p:nvPr/>
          </p:nvSpPr>
          <p:spPr>
            <a:xfrm>
              <a:off x="6838200" y="2658960"/>
              <a:ext cx="606600" cy="45540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9" name="任意多边形 37"/>
            <p:cNvSpPr/>
            <p:nvPr/>
          </p:nvSpPr>
          <p:spPr>
            <a:xfrm>
              <a:off x="7023960" y="2739600"/>
              <a:ext cx="279720" cy="270000"/>
            </a:xfrm>
            <a:custGeom>
              <a:avLst/>
              <a:gdLst/>
              <a:ahLst/>
              <a:rect l="l" t="t" r="r" b="b"/>
              <a:pathLst>
                <a:path w="409" h="451">
                  <a:moveTo>
                    <a:pt x="409" y="391"/>
                  </a:moveTo>
                  <a:lnTo>
                    <a:pt x="409" y="451"/>
                  </a:lnTo>
                  <a:lnTo>
                    <a:pt x="0" y="451"/>
                  </a:lnTo>
                  <a:lnTo>
                    <a:pt x="0" y="391"/>
                  </a:lnTo>
                  <a:cubicBezTo>
                    <a:pt x="0" y="363"/>
                    <a:pt x="25" y="328"/>
                    <a:pt x="54" y="314"/>
                  </a:cubicBezTo>
                  <a:lnTo>
                    <a:pt x="121" y="282"/>
                  </a:lnTo>
                  <a:lnTo>
                    <a:pt x="167" y="378"/>
                  </a:lnTo>
                  <a:lnTo>
                    <a:pt x="190" y="314"/>
                  </a:lnTo>
                  <a:cubicBezTo>
                    <a:pt x="195" y="315"/>
                    <a:pt x="200" y="316"/>
                    <a:pt x="205" y="316"/>
                  </a:cubicBezTo>
                  <a:cubicBezTo>
                    <a:pt x="209" y="316"/>
                    <a:pt x="214" y="315"/>
                    <a:pt x="219" y="314"/>
                  </a:cubicBezTo>
                  <a:lnTo>
                    <a:pt x="241" y="375"/>
                  </a:lnTo>
                  <a:lnTo>
                    <a:pt x="286" y="281"/>
                  </a:lnTo>
                  <a:lnTo>
                    <a:pt x="355" y="314"/>
                  </a:lnTo>
                  <a:cubicBezTo>
                    <a:pt x="385" y="328"/>
                    <a:pt x="409" y="363"/>
                    <a:pt x="409" y="391"/>
                  </a:cubicBezTo>
                  <a:close/>
                  <a:moveTo>
                    <a:pt x="60" y="181"/>
                  </a:moveTo>
                  <a:lnTo>
                    <a:pt x="60" y="137"/>
                  </a:lnTo>
                  <a:cubicBezTo>
                    <a:pt x="60" y="130"/>
                    <a:pt x="64" y="124"/>
                    <a:pt x="70" y="120"/>
                  </a:cubicBezTo>
                  <a:cubicBezTo>
                    <a:pt x="78" y="53"/>
                    <a:pt x="135" y="0"/>
                    <a:pt x="205" y="0"/>
                  </a:cubicBezTo>
                  <a:cubicBezTo>
                    <a:pt x="274" y="0"/>
                    <a:pt x="331" y="53"/>
                    <a:pt x="339" y="120"/>
                  </a:cubicBezTo>
                  <a:cubicBezTo>
                    <a:pt x="345" y="124"/>
                    <a:pt x="349" y="130"/>
                    <a:pt x="349" y="137"/>
                  </a:cubicBezTo>
                  <a:lnTo>
                    <a:pt x="349" y="181"/>
                  </a:lnTo>
                  <a:cubicBezTo>
                    <a:pt x="349" y="192"/>
                    <a:pt x="339" y="202"/>
                    <a:pt x="328" y="202"/>
                  </a:cubicBezTo>
                  <a:cubicBezTo>
                    <a:pt x="316" y="202"/>
                    <a:pt x="307" y="192"/>
                    <a:pt x="307" y="181"/>
                  </a:cubicBezTo>
                  <a:lnTo>
                    <a:pt x="307" y="172"/>
                  </a:lnTo>
                  <a:cubicBezTo>
                    <a:pt x="296" y="228"/>
                    <a:pt x="254" y="281"/>
                    <a:pt x="205" y="281"/>
                  </a:cubicBezTo>
                  <a:cubicBezTo>
                    <a:pt x="155" y="281"/>
                    <a:pt x="113" y="228"/>
                    <a:pt x="102" y="172"/>
                  </a:cubicBezTo>
                  <a:lnTo>
                    <a:pt x="102" y="181"/>
                  </a:lnTo>
                  <a:cubicBezTo>
                    <a:pt x="102" y="190"/>
                    <a:pt x="96" y="198"/>
                    <a:pt x="87" y="201"/>
                  </a:cubicBezTo>
                  <a:cubicBezTo>
                    <a:pt x="96" y="229"/>
                    <a:pt x="114" y="253"/>
                    <a:pt x="140" y="269"/>
                  </a:cubicBezTo>
                  <a:cubicBezTo>
                    <a:pt x="144" y="268"/>
                    <a:pt x="150" y="268"/>
                    <a:pt x="156" y="271"/>
                  </a:cubicBezTo>
                  <a:cubicBezTo>
                    <a:pt x="165" y="276"/>
                    <a:pt x="170" y="285"/>
                    <a:pt x="166" y="292"/>
                  </a:cubicBezTo>
                  <a:cubicBezTo>
                    <a:pt x="163" y="298"/>
                    <a:pt x="153" y="300"/>
                    <a:pt x="143" y="295"/>
                  </a:cubicBezTo>
                  <a:cubicBezTo>
                    <a:pt x="137" y="292"/>
                    <a:pt x="132" y="286"/>
                    <a:pt x="132" y="280"/>
                  </a:cubicBezTo>
                  <a:cubicBezTo>
                    <a:pt x="103" y="261"/>
                    <a:pt x="82" y="233"/>
                    <a:pt x="73" y="200"/>
                  </a:cubicBezTo>
                  <a:cubicBezTo>
                    <a:pt x="66" y="197"/>
                    <a:pt x="60" y="190"/>
                    <a:pt x="60" y="181"/>
                  </a:cubicBezTo>
                  <a:close/>
                  <a:moveTo>
                    <a:pt x="84" y="115"/>
                  </a:moveTo>
                  <a:cubicBezTo>
                    <a:pt x="85" y="115"/>
                    <a:pt x="85" y="115"/>
                    <a:pt x="86" y="115"/>
                  </a:cubicBezTo>
                  <a:cubicBezTo>
                    <a:pt x="88" y="116"/>
                    <a:pt x="89" y="117"/>
                    <a:pt x="89" y="118"/>
                  </a:cubicBezTo>
                  <a:cubicBezTo>
                    <a:pt x="94" y="120"/>
                    <a:pt x="98" y="124"/>
                    <a:pt x="100" y="128"/>
                  </a:cubicBezTo>
                  <a:cubicBezTo>
                    <a:pt x="106" y="70"/>
                    <a:pt x="150" y="40"/>
                    <a:pt x="205" y="40"/>
                  </a:cubicBezTo>
                  <a:cubicBezTo>
                    <a:pt x="259" y="40"/>
                    <a:pt x="303" y="70"/>
                    <a:pt x="309" y="128"/>
                  </a:cubicBezTo>
                  <a:cubicBezTo>
                    <a:pt x="312" y="122"/>
                    <a:pt x="318" y="118"/>
                    <a:pt x="325" y="117"/>
                  </a:cubicBezTo>
                  <a:cubicBezTo>
                    <a:pt x="316" y="58"/>
                    <a:pt x="266" y="13"/>
                    <a:pt x="205" y="13"/>
                  </a:cubicBezTo>
                  <a:cubicBezTo>
                    <a:pt x="144" y="13"/>
                    <a:pt x="94" y="57"/>
                    <a:pt x="84" y="11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50" name="组合 38"/>
          <p:cNvGrpSpPr/>
          <p:nvPr/>
        </p:nvGrpSpPr>
        <p:grpSpPr>
          <a:xfrm>
            <a:off x="8558280" y="2484360"/>
            <a:ext cx="2804760" cy="755640"/>
            <a:chOff x="8558280" y="2484360"/>
            <a:chExt cx="2804760" cy="755640"/>
          </a:xfrm>
        </p:grpSpPr>
        <p:sp>
          <p:nvSpPr>
            <p:cNvPr id="1951" name="五边形 39"/>
            <p:cNvSpPr/>
            <p:nvPr/>
          </p:nvSpPr>
          <p:spPr>
            <a:xfrm>
              <a:off x="8558280" y="2625840"/>
              <a:ext cx="911520" cy="466560"/>
            </a:xfrm>
            <a:custGeom>
              <a:avLst/>
              <a:gdLst>
                <a:gd name="textAreaLeft" fmla="*/ 0 w 911520"/>
                <a:gd name="textAreaRight" fmla="*/ 911880 w 911520"/>
                <a:gd name="textAreaTop" fmla="*/ 0 h 466560"/>
                <a:gd name="textAreaBottom" fmla="*/ 466920 h 46656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2" name="燕尾形箭头 40"/>
            <p:cNvSpPr/>
            <p:nvPr/>
          </p:nvSpPr>
          <p:spPr>
            <a:xfrm>
              <a:off x="9085680" y="2484360"/>
              <a:ext cx="2277360" cy="755640"/>
            </a:xfrm>
            <a:custGeom>
              <a:avLst/>
              <a:gdLst>
                <a:gd name="textAreaLeft" fmla="*/ 360720 w 2277360"/>
                <a:gd name="textAreaRight" fmla="*/ 1916640 w 2277360"/>
                <a:gd name="textAreaTop" fmla="*/ 0 h 755640"/>
                <a:gd name="textAreaBottom" fmla="*/ 756000 h 755640"/>
              </a:gdLst>
              <a:ahLst/>
              <a:rect l="textAreaLeft" t="textAreaTop" r="textAreaRight" b="textAreaBottom"/>
              <a:pathLst>
                <a:path w="21600" h="21600">
                  <a:moveTo>
                    <a:pt x="0" y="0"/>
                  </a:moveTo>
                  <a:lnTo>
                    <a:pt x="18177" y="0"/>
                  </a:lnTo>
                  <a:lnTo>
                    <a:pt x="18177" y="0"/>
                  </a:lnTo>
                  <a:lnTo>
                    <a:pt x="21600" y="10800"/>
                  </a:lnTo>
                  <a:lnTo>
                    <a:pt x="18177" y="21600"/>
                  </a:lnTo>
                  <a:lnTo>
                    <a:pt x="18177" y="21600"/>
                  </a:lnTo>
                  <a:lnTo>
                    <a:pt x="0" y="21600"/>
                  </a:lnTo>
                  <a:lnTo>
                    <a:pt x="3423" y="10800"/>
                  </a:lnTo>
                  <a:lnTo>
                    <a:pt x="0" y="0"/>
                  </a:lnTo>
                  <a:close/>
                </a:path>
              </a:pathLst>
            </a:cu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3" name="椭圆 42"/>
            <p:cNvSpPr/>
            <p:nvPr/>
          </p:nvSpPr>
          <p:spPr>
            <a:xfrm>
              <a:off x="9770760" y="2644560"/>
              <a:ext cx="685800" cy="45540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4" name="任意多边形 43"/>
            <p:cNvSpPr/>
            <p:nvPr/>
          </p:nvSpPr>
          <p:spPr>
            <a:xfrm>
              <a:off x="9944280" y="2725200"/>
              <a:ext cx="377280" cy="270000"/>
            </a:xfrm>
            <a:custGeom>
              <a:avLst/>
              <a:gdLst/>
              <a:ahLst/>
              <a:rect l="l" t="t" r="r" b="b"/>
              <a:pathLst>
                <a:path w="609156" h="561771">
                  <a:moveTo>
                    <a:pt x="392435" y="452324"/>
                  </a:moveTo>
                  <a:lnTo>
                    <a:pt x="427863" y="452324"/>
                  </a:lnTo>
                  <a:cubicBezTo>
                    <a:pt x="432070" y="452324"/>
                    <a:pt x="435529" y="455685"/>
                    <a:pt x="435435" y="459885"/>
                  </a:cubicBezTo>
                  <a:lnTo>
                    <a:pt x="435435" y="474634"/>
                  </a:lnTo>
                  <a:lnTo>
                    <a:pt x="435435" y="539321"/>
                  </a:lnTo>
                  <a:lnTo>
                    <a:pt x="435435" y="553976"/>
                  </a:lnTo>
                  <a:cubicBezTo>
                    <a:pt x="435435" y="558270"/>
                    <a:pt x="432070" y="561630"/>
                    <a:pt x="427863" y="561630"/>
                  </a:cubicBezTo>
                  <a:lnTo>
                    <a:pt x="392435" y="561630"/>
                  </a:lnTo>
                  <a:cubicBezTo>
                    <a:pt x="388228" y="561630"/>
                    <a:pt x="384863" y="558270"/>
                    <a:pt x="384863" y="553976"/>
                  </a:cubicBezTo>
                  <a:lnTo>
                    <a:pt x="384863" y="539321"/>
                  </a:lnTo>
                  <a:lnTo>
                    <a:pt x="384863" y="474634"/>
                  </a:lnTo>
                  <a:lnTo>
                    <a:pt x="384863" y="459885"/>
                  </a:lnTo>
                  <a:cubicBezTo>
                    <a:pt x="384863" y="455685"/>
                    <a:pt x="388228" y="452324"/>
                    <a:pt x="392435" y="452324"/>
                  </a:cubicBezTo>
                  <a:close/>
                  <a:moveTo>
                    <a:pt x="464152" y="409985"/>
                  </a:moveTo>
                  <a:lnTo>
                    <a:pt x="499488" y="409985"/>
                  </a:lnTo>
                  <a:cubicBezTo>
                    <a:pt x="503788" y="409985"/>
                    <a:pt x="507153" y="413348"/>
                    <a:pt x="507153" y="417551"/>
                  </a:cubicBezTo>
                  <a:lnTo>
                    <a:pt x="507153" y="474622"/>
                  </a:lnTo>
                  <a:lnTo>
                    <a:pt x="507153" y="496853"/>
                  </a:lnTo>
                  <a:lnTo>
                    <a:pt x="507153" y="553923"/>
                  </a:lnTo>
                  <a:cubicBezTo>
                    <a:pt x="507153" y="558127"/>
                    <a:pt x="503788" y="561489"/>
                    <a:pt x="499488" y="561489"/>
                  </a:cubicBezTo>
                  <a:lnTo>
                    <a:pt x="464152" y="561489"/>
                  </a:lnTo>
                  <a:cubicBezTo>
                    <a:pt x="459852" y="561489"/>
                    <a:pt x="456487" y="558127"/>
                    <a:pt x="456487" y="553923"/>
                  </a:cubicBezTo>
                  <a:lnTo>
                    <a:pt x="456487" y="496853"/>
                  </a:lnTo>
                  <a:lnTo>
                    <a:pt x="456487" y="474622"/>
                  </a:lnTo>
                  <a:lnTo>
                    <a:pt x="456487" y="417551"/>
                  </a:lnTo>
                  <a:cubicBezTo>
                    <a:pt x="456487" y="413348"/>
                    <a:pt x="459852" y="409985"/>
                    <a:pt x="464152" y="409985"/>
                  </a:cubicBezTo>
                  <a:close/>
                  <a:moveTo>
                    <a:pt x="553539" y="277886"/>
                  </a:moveTo>
                  <a:cubicBezTo>
                    <a:pt x="555408" y="277886"/>
                    <a:pt x="557277" y="278727"/>
                    <a:pt x="558399" y="280594"/>
                  </a:cubicBezTo>
                  <a:lnTo>
                    <a:pt x="608220" y="360717"/>
                  </a:lnTo>
                  <a:cubicBezTo>
                    <a:pt x="610743" y="364546"/>
                    <a:pt x="607846" y="369495"/>
                    <a:pt x="603359" y="369402"/>
                  </a:cubicBezTo>
                  <a:lnTo>
                    <a:pt x="578776" y="369402"/>
                  </a:lnTo>
                  <a:lnTo>
                    <a:pt x="578776" y="429074"/>
                  </a:lnTo>
                  <a:lnTo>
                    <a:pt x="578776" y="432529"/>
                  </a:lnTo>
                  <a:lnTo>
                    <a:pt x="578776" y="554674"/>
                  </a:lnTo>
                  <a:cubicBezTo>
                    <a:pt x="578589" y="558690"/>
                    <a:pt x="575224" y="561771"/>
                    <a:pt x="571205" y="561771"/>
                  </a:cubicBezTo>
                  <a:lnTo>
                    <a:pt x="535779" y="561771"/>
                  </a:lnTo>
                  <a:cubicBezTo>
                    <a:pt x="531573" y="561771"/>
                    <a:pt x="528208" y="558409"/>
                    <a:pt x="528208" y="554207"/>
                  </a:cubicBezTo>
                  <a:lnTo>
                    <a:pt x="528208" y="369495"/>
                  </a:lnTo>
                  <a:lnTo>
                    <a:pt x="503625" y="369495"/>
                  </a:lnTo>
                  <a:cubicBezTo>
                    <a:pt x="499138" y="369495"/>
                    <a:pt x="496427" y="364546"/>
                    <a:pt x="498764" y="360717"/>
                  </a:cubicBezTo>
                  <a:lnTo>
                    <a:pt x="548678" y="280594"/>
                  </a:lnTo>
                  <a:cubicBezTo>
                    <a:pt x="549800" y="278727"/>
                    <a:pt x="551669" y="277886"/>
                    <a:pt x="553539" y="277886"/>
                  </a:cubicBezTo>
                  <a:close/>
                  <a:moveTo>
                    <a:pt x="248743" y="0"/>
                  </a:moveTo>
                  <a:lnTo>
                    <a:pt x="260245" y="0"/>
                  </a:lnTo>
                  <a:lnTo>
                    <a:pt x="271654" y="0"/>
                  </a:lnTo>
                  <a:cubicBezTo>
                    <a:pt x="325049" y="0"/>
                    <a:pt x="368159" y="43234"/>
                    <a:pt x="368159" y="96367"/>
                  </a:cubicBezTo>
                  <a:lnTo>
                    <a:pt x="368159" y="203287"/>
                  </a:lnTo>
                  <a:cubicBezTo>
                    <a:pt x="368159" y="220002"/>
                    <a:pt x="359555" y="234849"/>
                    <a:pt x="346651" y="243440"/>
                  </a:cubicBezTo>
                  <a:lnTo>
                    <a:pt x="346651" y="346532"/>
                  </a:lnTo>
                  <a:cubicBezTo>
                    <a:pt x="346651" y="348399"/>
                    <a:pt x="347586" y="349987"/>
                    <a:pt x="349269" y="351014"/>
                  </a:cubicBezTo>
                  <a:cubicBezTo>
                    <a:pt x="359368" y="355869"/>
                    <a:pt x="396399" y="374545"/>
                    <a:pt x="440257" y="403493"/>
                  </a:cubicBezTo>
                  <a:cubicBezTo>
                    <a:pt x="437732" y="407602"/>
                    <a:pt x="436236" y="412457"/>
                    <a:pt x="436236" y="417687"/>
                  </a:cubicBezTo>
                  <a:lnTo>
                    <a:pt x="436236" y="433748"/>
                  </a:lnTo>
                  <a:cubicBezTo>
                    <a:pt x="433617" y="432908"/>
                    <a:pt x="430812" y="432441"/>
                    <a:pt x="427820" y="432441"/>
                  </a:cubicBezTo>
                  <a:lnTo>
                    <a:pt x="392378" y="432441"/>
                  </a:lnTo>
                  <a:cubicBezTo>
                    <a:pt x="377136" y="432441"/>
                    <a:pt x="364699" y="444767"/>
                    <a:pt x="364699" y="460081"/>
                  </a:cubicBezTo>
                  <a:lnTo>
                    <a:pt x="364699" y="474742"/>
                  </a:lnTo>
                  <a:lnTo>
                    <a:pt x="364699" y="539454"/>
                  </a:lnTo>
                  <a:lnTo>
                    <a:pt x="364699" y="554207"/>
                  </a:lnTo>
                  <a:cubicBezTo>
                    <a:pt x="364699" y="556822"/>
                    <a:pt x="365073" y="559250"/>
                    <a:pt x="365821" y="561771"/>
                  </a:cubicBezTo>
                  <a:lnTo>
                    <a:pt x="294471" y="561771"/>
                  </a:lnTo>
                  <a:lnTo>
                    <a:pt x="272215" y="459521"/>
                  </a:lnTo>
                  <a:cubicBezTo>
                    <a:pt x="317288" y="396676"/>
                    <a:pt x="268848" y="393688"/>
                    <a:pt x="260339" y="393595"/>
                  </a:cubicBezTo>
                  <a:cubicBezTo>
                    <a:pt x="251829" y="393688"/>
                    <a:pt x="203390" y="396676"/>
                    <a:pt x="248463" y="459521"/>
                  </a:cubicBezTo>
                  <a:lnTo>
                    <a:pt x="226207" y="561771"/>
                  </a:lnTo>
                  <a:lnTo>
                    <a:pt x="0" y="561771"/>
                  </a:lnTo>
                  <a:lnTo>
                    <a:pt x="0" y="488468"/>
                  </a:lnTo>
                  <a:cubicBezTo>
                    <a:pt x="0" y="472874"/>
                    <a:pt x="6826" y="458213"/>
                    <a:pt x="18796" y="448315"/>
                  </a:cubicBezTo>
                  <a:cubicBezTo>
                    <a:pt x="85190" y="393968"/>
                    <a:pt x="156633" y="357830"/>
                    <a:pt x="171221" y="350734"/>
                  </a:cubicBezTo>
                  <a:cubicBezTo>
                    <a:pt x="172811" y="349987"/>
                    <a:pt x="173840" y="348399"/>
                    <a:pt x="173840" y="346532"/>
                  </a:cubicBezTo>
                  <a:lnTo>
                    <a:pt x="173840" y="243440"/>
                  </a:lnTo>
                  <a:cubicBezTo>
                    <a:pt x="160841" y="234849"/>
                    <a:pt x="152238" y="220095"/>
                    <a:pt x="152238" y="203287"/>
                  </a:cubicBezTo>
                  <a:lnTo>
                    <a:pt x="152238" y="96367"/>
                  </a:lnTo>
                  <a:cubicBezTo>
                    <a:pt x="152238" y="43048"/>
                    <a:pt x="195534" y="0"/>
                    <a:pt x="24874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55" name="组合 28"/>
          <p:cNvGrpSpPr/>
          <p:nvPr/>
        </p:nvGrpSpPr>
        <p:grpSpPr>
          <a:xfrm>
            <a:off x="925560" y="0"/>
            <a:ext cx="10583280" cy="611280"/>
            <a:chOff x="925560" y="0"/>
            <a:chExt cx="10583280" cy="611280"/>
          </a:xfrm>
        </p:grpSpPr>
        <p:sp>
          <p:nvSpPr>
            <p:cNvPr id="1956" name="直接连接符 2"/>
            <p:cNvSpPr/>
            <p:nvPr/>
          </p:nvSpPr>
          <p:spPr>
            <a:xfrm flipV="1">
              <a:off x="925560" y="475920"/>
              <a:ext cx="161568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1" lang="en-US" sz="1800" spc="-1" strike="noStrike">
                <a:solidFill>
                  <a:srgbClr val="000000"/>
                </a:solidFill>
                <a:latin typeface="Arial"/>
              </a:endParaRPr>
            </a:p>
          </p:txBody>
        </p:sp>
        <p:sp>
          <p:nvSpPr>
            <p:cNvPr id="1957" name="直接连接符 3"/>
            <p:cNvSpPr/>
            <p:nvPr/>
          </p:nvSpPr>
          <p:spPr>
            <a:xfrm>
              <a:off x="9623160" y="443880"/>
              <a:ext cx="188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958" name="文本框 31" descr=""/>
            <p:cNvPicPr/>
            <p:nvPr/>
          </p:nvPicPr>
          <p:blipFill>
            <a:blip r:embed="rId1"/>
            <a:stretch/>
          </p:blipFill>
          <p:spPr>
            <a:xfrm>
              <a:off x="1615680" y="0"/>
              <a:ext cx="8611560" cy="611280"/>
            </a:xfrm>
            <a:prstGeom prst="rect">
              <a:avLst/>
            </a:prstGeom>
            <a:ln w="0">
              <a:noFill/>
            </a:ln>
          </p:spPr>
        </p:pic>
      </p:grpSp>
      <p:sp>
        <p:nvSpPr>
          <p:cNvPr id="1959" name="文本框 36"/>
          <p:cNvSpPr/>
          <p:nvPr/>
        </p:nvSpPr>
        <p:spPr>
          <a:xfrm>
            <a:off x="4630680" y="1012680"/>
            <a:ext cx="288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sp>
        <p:nvSpPr>
          <p:cNvPr id="1960" name="文本框 37"/>
          <p:cNvSpPr/>
          <p:nvPr/>
        </p:nvSpPr>
        <p:spPr>
          <a:xfrm>
            <a:off x="293760" y="3807000"/>
            <a:ext cx="2763720" cy="245880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e78"/>
                </a:solidFill>
                <a:latin typeface="微软雅黑"/>
                <a:ea typeface="微软雅黑"/>
              </a:rPr>
              <a:t>5.</a:t>
            </a:r>
            <a:r>
              <a:rPr b="1" lang="zh-CN" sz="2000" spc="-1" strike="noStrike">
                <a:solidFill>
                  <a:srgbClr val="1f4e78"/>
                </a:solidFill>
                <a:latin typeface="微软雅黑"/>
                <a:ea typeface="微软雅黑"/>
              </a:rPr>
              <a:t>编制付款凭单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记录采购交易之前，应付凭单部门应编制付款凭单。付款凭单应预先编号 </a:t>
            </a:r>
            <a:r>
              <a:rPr b="1" lang="en-US" sz="2000" spc="-1" strike="noStrike">
                <a:solidFill>
                  <a:srgbClr val="000000"/>
                </a:solidFill>
                <a:latin typeface="Arial"/>
              </a:rPr>
              <a:t>, </a:t>
            </a:r>
            <a:r>
              <a:rPr b="1" lang="zh-CN" sz="2000" spc="-1" strike="noStrike">
                <a:solidFill>
                  <a:srgbClr val="000000"/>
                </a:solidFill>
                <a:latin typeface="Arial"/>
                <a:ea typeface="宋体"/>
              </a:rPr>
              <a:t>并附上支持性凭证 </a:t>
            </a:r>
            <a:r>
              <a:rPr b="1" lang="en-US" sz="2000" spc="-1" strike="noStrike">
                <a:solidFill>
                  <a:srgbClr val="000000"/>
                </a:solidFill>
                <a:latin typeface="Arial"/>
              </a:rPr>
              <a:t>, </a:t>
            </a:r>
            <a:r>
              <a:rPr b="1" lang="zh-CN" sz="2000" spc="-1" strike="noStrike">
                <a:solidFill>
                  <a:srgbClr val="000000"/>
                </a:solidFill>
                <a:latin typeface="Arial"/>
                <a:ea typeface="宋体"/>
              </a:rPr>
              <a:t>如订购单、验收单和供应商发票等。</a:t>
            </a:r>
            <a:endParaRPr b="1" lang="en-US" sz="2000" spc="-1" strike="noStrike">
              <a:solidFill>
                <a:srgbClr val="000000"/>
              </a:solidFill>
              <a:latin typeface="Arial"/>
            </a:endParaRPr>
          </a:p>
        </p:txBody>
      </p:sp>
      <p:sp>
        <p:nvSpPr>
          <p:cNvPr id="1961" name="文本框 43"/>
          <p:cNvSpPr/>
          <p:nvPr/>
        </p:nvSpPr>
        <p:spPr>
          <a:xfrm>
            <a:off x="3117960" y="3714840"/>
            <a:ext cx="2557440" cy="232416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e78"/>
                </a:solidFill>
                <a:latin typeface="微软雅黑"/>
                <a:ea typeface="微软雅黑"/>
              </a:rPr>
              <a:t>6.</a:t>
            </a:r>
            <a:r>
              <a:rPr b="1" lang="zh-CN" sz="2000" spc="-1" strike="noStrike">
                <a:solidFill>
                  <a:srgbClr val="1f4e78"/>
                </a:solidFill>
                <a:latin typeface="微软雅黑"/>
                <a:ea typeface="微软雅黑"/>
              </a:rPr>
              <a:t>确认与记录负债 </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手工系统下，应将已批准的未付款凭单送达会计部门，据以编制有关记账 凭证和登记有关账簿</a:t>
            </a:r>
            <a:r>
              <a:rPr b="1" lang="zh-CN" sz="1800" spc="-1" strike="noStrike">
                <a:solidFill>
                  <a:srgbClr val="000000"/>
                </a:solidFill>
                <a:latin typeface="Arial"/>
                <a:ea typeface="宋体"/>
              </a:rPr>
              <a:t>。</a:t>
            </a:r>
            <a:endParaRPr b="1" lang="en-US" sz="1800" spc="-1" strike="noStrike">
              <a:solidFill>
                <a:srgbClr val="000000"/>
              </a:solidFill>
              <a:latin typeface="Arial"/>
            </a:endParaRPr>
          </a:p>
        </p:txBody>
      </p:sp>
      <p:sp>
        <p:nvSpPr>
          <p:cNvPr id="1962" name="直接连接符 49"/>
          <p:cNvSpPr/>
          <p:nvPr/>
        </p:nvSpPr>
        <p:spPr>
          <a:xfrm flipH="1">
            <a:off x="6980400" y="3306600"/>
            <a:ext cx="7920" cy="381240"/>
          </a:xfrm>
          <a:prstGeom prst="line">
            <a:avLst/>
          </a:prstGeom>
          <a:ln cap="rnd" w="28440">
            <a:solidFill>
              <a:srgbClr val="5b9bd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63" name="直接连接符 50"/>
          <p:cNvSpPr/>
          <p:nvPr/>
        </p:nvSpPr>
        <p:spPr>
          <a:xfrm flipH="1">
            <a:off x="10102320" y="3240000"/>
            <a:ext cx="8280" cy="381240"/>
          </a:xfrm>
          <a:prstGeom prst="line">
            <a:avLst/>
          </a:prstGeom>
          <a:ln cap="rnd" w="28440">
            <a:solidFill>
              <a:srgbClr val="5b9bd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64" name="矩形 16"/>
          <p:cNvSpPr/>
          <p:nvPr/>
        </p:nvSpPr>
        <p:spPr>
          <a:xfrm>
            <a:off x="5815080" y="3665520"/>
            <a:ext cx="284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e78"/>
                </a:solidFill>
                <a:latin typeface="微软雅黑"/>
                <a:ea typeface="微软雅黑"/>
              </a:rPr>
              <a:t>7.</a:t>
            </a:r>
            <a:r>
              <a:rPr b="1" lang="zh-CN" sz="2000" spc="-1" strike="noStrike">
                <a:solidFill>
                  <a:srgbClr val="1f4e78"/>
                </a:solidFill>
                <a:latin typeface="微软雅黑"/>
                <a:ea typeface="微软雅黑"/>
              </a:rPr>
              <a:t> </a:t>
            </a:r>
            <a:r>
              <a:rPr b="1" lang="zh-CN" sz="2000" spc="-1" strike="noStrike">
                <a:solidFill>
                  <a:srgbClr val="1f4e78"/>
                </a:solidFill>
                <a:latin typeface="微软雅黑"/>
                <a:ea typeface="微软雅黑"/>
              </a:rPr>
              <a:t>付款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通常由应付凭单部门负责确定未付凭单在到期日付款。企业在多种款项结算 方式中选择适当的方式进行付款 </a:t>
            </a:r>
            <a:r>
              <a:rPr b="1" lang="en-US" sz="2000" spc="-1" strike="noStrike">
                <a:solidFill>
                  <a:srgbClr val="000000"/>
                </a:solidFill>
                <a:latin typeface="Arial"/>
              </a:rPr>
              <a:t>, </a:t>
            </a:r>
            <a:r>
              <a:rPr b="1" lang="zh-CN" sz="2000" spc="-1" strike="noStrike">
                <a:solidFill>
                  <a:srgbClr val="000000"/>
                </a:solidFill>
                <a:latin typeface="Arial"/>
                <a:ea typeface="宋体"/>
              </a:rPr>
              <a:t>并编制相应凭证。 </a:t>
            </a:r>
            <a:endParaRPr b="1" lang="en-US" sz="2000" spc="-1" strike="noStrike">
              <a:solidFill>
                <a:srgbClr val="000000"/>
              </a:solidFill>
              <a:latin typeface="Arial"/>
            </a:endParaRPr>
          </a:p>
        </p:txBody>
      </p:sp>
      <p:sp>
        <p:nvSpPr>
          <p:cNvPr id="1965" name="文本框 51"/>
          <p:cNvSpPr/>
          <p:nvPr/>
        </p:nvSpPr>
        <p:spPr>
          <a:xfrm>
            <a:off x="8721720" y="3641760"/>
            <a:ext cx="3327480" cy="239724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e78"/>
                </a:solidFill>
                <a:latin typeface="Arial"/>
              </a:rPr>
              <a:t>8</a:t>
            </a:r>
            <a:r>
              <a:rPr b="1" lang="en-US" sz="2000" spc="-1" strike="noStrike">
                <a:solidFill>
                  <a:srgbClr val="1f4e78"/>
                </a:solidFill>
                <a:latin typeface="微软雅黑"/>
                <a:ea typeface="微软雅黑"/>
              </a:rPr>
              <a:t>.</a:t>
            </a:r>
            <a:r>
              <a:rPr b="1" lang="zh-CN" sz="2000" spc="-1" strike="noStrike">
                <a:solidFill>
                  <a:srgbClr val="1f4e78"/>
                </a:solidFill>
                <a:latin typeface="微软雅黑"/>
                <a:ea typeface="微软雅黑"/>
              </a:rPr>
              <a:t>记录现金、银行存款支出         </a:t>
            </a:r>
            <a:r>
              <a:rPr b="1" lang="zh-CN" sz="2000" spc="-1" strike="noStrike">
                <a:solidFill>
                  <a:srgbClr val="000000"/>
                </a:solidFill>
                <a:latin typeface="Arial"/>
                <a:ea typeface="宋体"/>
              </a:rPr>
              <a:t>以支票结算方式为例，在手工系统下，会计部门应根据已签发的支票编制付 款记账凭证，并据以登记银行存款日记账及其他相关账簿。</a:t>
            </a:r>
            <a:endParaRPr b="1" lang="en-US" sz="2000" spc="-1" strike="noStrike">
              <a:solidFill>
                <a:srgbClr val="000000"/>
              </a:solidFill>
              <a:latin typeface="Arial"/>
            </a:endParaRPr>
          </a:p>
        </p:txBody>
      </p:sp>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dur="indefinite" nodeType="afterEffect" fill="hold" presetClass="entr" presetID="42">
                                  <p:stCondLst>
                                    <p:cond delay="0"/>
                                  </p:stCondLst>
                                  <p:childTnLst>
                                    <p:set>
                                      <p:cBhvr>
                                        <p:cTn id="79" dur="1" fill="hold">
                                          <p:stCondLst>
                                            <p:cond delay="0"/>
                                          </p:stCondLst>
                                        </p:cTn>
                                        <p:tgtEl>
                                          <p:spTgt spid="1932"/>
                                        </p:tgtEl>
                                        <p:attrNameLst>
                                          <p:attrName>style.visibility</p:attrName>
                                        </p:attrNameLst>
                                      </p:cBhvr>
                                      <p:to>
                                        <p:strVal val="visible"/>
                                      </p:to>
                                    </p:set>
                                    <p:animEffect filter="fade" transition="in">
                                      <p:cBhvr additive="repl">
                                        <p:cTn id="80" dur="1000"/>
                                        <p:tgtEl>
                                          <p:spTgt spid="1932"/>
                                        </p:tgtEl>
                                      </p:cBhvr>
                                    </p:animEffect>
                                    <p:anim calcmode="lin" valueType="num">
                                      <p:cBhvr additive="repl">
                                        <p:cTn id="81" dur="1000" fill="hold"/>
                                        <p:tgtEl>
                                          <p:spTgt spid="1932"/>
                                        </p:tgtEl>
                                        <p:attrNameLst>
                                          <p:attrName>ppt_x</p:attrName>
                                        </p:attrNameLst>
                                      </p:cBhvr>
                                      <p:tavLst>
                                        <p:tav tm="0">
                                          <p:val>
                                            <p:strVal val="#ppt_x"/>
                                          </p:val>
                                        </p:tav>
                                        <p:tav tm="100000">
                                          <p:val>
                                            <p:strVal val="#ppt_x"/>
                                          </p:val>
                                        </p:tav>
                                      </p:tavLst>
                                    </p:anim>
                                    <p:anim calcmode="lin" valueType="num">
                                      <p:cBhvr additive="repl">
                                        <p:cTn id="82" dur="1000" fill="hold"/>
                                        <p:tgtEl>
                                          <p:spTgt spid="1932"/>
                                        </p:tgtEl>
                                        <p:attrNameLst>
                                          <p:attrName>ppt_y</p:attrName>
                                        </p:attrNameLst>
                                      </p:cBhvr>
                                      <p:tavLst>
                                        <p:tav tm="0">
                                          <p:val>
                                            <p:strVal val="#ppt_y+.1"/>
                                          </p:val>
                                        </p:tav>
                                        <p:tav tm="100000">
                                          <p:val>
                                            <p:strVal val="#ppt_y"/>
                                          </p:val>
                                        </p:tav>
                                      </p:tavLst>
                                    </p:anim>
                                  </p:childTnLst>
                                </p:cTn>
                              </p:par>
                            </p:childTnLst>
                          </p:cTn>
                        </p:par>
                        <p:par>
                          <p:cTn id="83" fill="hold">
                            <p:stCondLst>
                              <p:cond delay="1000"/>
                            </p:stCondLst>
                            <p:childTnLst>
                              <p:par>
                                <p:cTn id="84" dur="indefinite" nodeType="afterEffect" fill="hold" presetClass="entr" presetID="12" presetSubtype="8">
                                  <p:stCondLst>
                                    <p:cond delay="0"/>
                                  </p:stCondLst>
                                  <p:childTnLst>
                                    <p:set>
                                      <p:cBhvr>
                                        <p:cTn id="85" dur="1" fill="hold">
                                          <p:stCondLst>
                                            <p:cond delay="0"/>
                                          </p:stCondLst>
                                        </p:cTn>
                                        <p:tgtEl>
                                          <p:spTgt spid="1933"/>
                                        </p:tgtEl>
                                        <p:attrNameLst>
                                          <p:attrName>style.visibility</p:attrName>
                                        </p:attrNameLst>
                                      </p:cBhvr>
                                      <p:to>
                                        <p:strVal val="visible"/>
                                      </p:to>
                                    </p:set>
                                    <p:anim calcmode="lin" valueType="num">
                                      <p:cBhvr additive="repl">
                                        <p:cTn id="86" dur="500"/>
                                        <p:tgtEl>
                                          <p:spTgt spid="1933"/>
                                        </p:tgtEl>
                                        <p:attrNameLst>
                                          <p:attrName>ppt_x</p:attrName>
                                        </p:attrNameLst>
                                      </p:cBhvr>
                                      <p:tavLst>
                                        <p:tav tm="0">
                                          <p:val>
                                            <p:strVal val="#ppt_x-#ppt_w*1.125000"/>
                                          </p:val>
                                        </p:tav>
                                        <p:tav tm="100000">
                                          <p:val>
                                            <p:strVal val="#ppt_x"/>
                                          </p:val>
                                        </p:tav>
                                      </p:tavLst>
                                    </p:anim>
                                    <p:animEffect filter="wipe(right)" transition="in">
                                      <p:cBhvr additive="repl">
                                        <p:cTn id="87" dur="500"/>
                                        <p:tgtEl>
                                          <p:spTgt spid="1933"/>
                                        </p:tgtEl>
                                      </p:cBhvr>
                                    </p:animEffect>
                                  </p:childTnLst>
                                </p:cTn>
                              </p:par>
                            </p:childTnLst>
                          </p:cTn>
                        </p:par>
                        <p:par>
                          <p:cTn id="88" fill="hold">
                            <p:stCondLst>
                              <p:cond delay="1500"/>
                            </p:stCondLst>
                            <p:childTnLst>
                              <p:par>
                                <p:cTn id="89" dur="indefinite" nodeType="afterEffect" fill="hold" presetClass="entr" presetID="12" presetSubtype="8">
                                  <p:stCondLst>
                                    <p:cond delay="0"/>
                                  </p:stCondLst>
                                  <p:childTnLst>
                                    <p:set>
                                      <p:cBhvr>
                                        <p:cTn id="90" dur="1" fill="hold">
                                          <p:stCondLst>
                                            <p:cond delay="0"/>
                                          </p:stCondLst>
                                        </p:cTn>
                                        <p:tgtEl>
                                          <p:spTgt spid="1939"/>
                                        </p:tgtEl>
                                        <p:attrNameLst>
                                          <p:attrName>style.visibility</p:attrName>
                                        </p:attrNameLst>
                                      </p:cBhvr>
                                      <p:to>
                                        <p:strVal val="visible"/>
                                      </p:to>
                                    </p:set>
                                    <p:anim calcmode="lin" valueType="num">
                                      <p:cBhvr additive="repl">
                                        <p:cTn id="91" dur="500"/>
                                        <p:tgtEl>
                                          <p:spTgt spid="1939"/>
                                        </p:tgtEl>
                                        <p:attrNameLst>
                                          <p:attrName>ppt_x</p:attrName>
                                        </p:attrNameLst>
                                      </p:cBhvr>
                                      <p:tavLst>
                                        <p:tav tm="0">
                                          <p:val>
                                            <p:strVal val="#ppt_x-#ppt_w*1.125000"/>
                                          </p:val>
                                        </p:tav>
                                        <p:tav tm="100000">
                                          <p:val>
                                            <p:strVal val="#ppt_x"/>
                                          </p:val>
                                        </p:tav>
                                      </p:tavLst>
                                    </p:anim>
                                    <p:animEffect filter="wipe(right)" transition="in">
                                      <p:cBhvr additive="repl">
                                        <p:cTn id="92" dur="500"/>
                                        <p:tgtEl>
                                          <p:spTgt spid="1939"/>
                                        </p:tgtEl>
                                      </p:cBhvr>
                                    </p:animEffect>
                                  </p:childTnLst>
                                </p:cTn>
                              </p:par>
                            </p:childTnLst>
                          </p:cTn>
                        </p:par>
                        <p:par>
                          <p:cTn id="93" fill="hold">
                            <p:stCondLst>
                              <p:cond delay="2000"/>
                            </p:stCondLst>
                            <p:childTnLst>
                              <p:par>
                                <p:cTn id="94" dur="indefinite" nodeType="afterEffect" fill="hold" presetClass="entr" presetID="12" presetSubtype="8">
                                  <p:stCondLst>
                                    <p:cond delay="0"/>
                                  </p:stCondLst>
                                  <p:childTnLst>
                                    <p:set>
                                      <p:cBhvr>
                                        <p:cTn id="95" dur="1" fill="hold">
                                          <p:stCondLst>
                                            <p:cond delay="0"/>
                                          </p:stCondLst>
                                        </p:cTn>
                                        <p:tgtEl>
                                          <p:spTgt spid="1945"/>
                                        </p:tgtEl>
                                        <p:attrNameLst>
                                          <p:attrName>style.visibility</p:attrName>
                                        </p:attrNameLst>
                                      </p:cBhvr>
                                      <p:to>
                                        <p:strVal val="visible"/>
                                      </p:to>
                                    </p:set>
                                    <p:anim calcmode="lin" valueType="num">
                                      <p:cBhvr additive="repl">
                                        <p:cTn id="96" dur="500"/>
                                        <p:tgtEl>
                                          <p:spTgt spid="1945"/>
                                        </p:tgtEl>
                                        <p:attrNameLst>
                                          <p:attrName>ppt_x</p:attrName>
                                        </p:attrNameLst>
                                      </p:cBhvr>
                                      <p:tavLst>
                                        <p:tav tm="0">
                                          <p:val>
                                            <p:strVal val="#ppt_x-#ppt_w*1.125000"/>
                                          </p:val>
                                        </p:tav>
                                        <p:tav tm="100000">
                                          <p:val>
                                            <p:strVal val="#ppt_x"/>
                                          </p:val>
                                        </p:tav>
                                      </p:tavLst>
                                    </p:anim>
                                    <p:animEffect filter="wipe(right)" transition="in">
                                      <p:cBhvr additive="repl">
                                        <p:cTn id="97" dur="500"/>
                                        <p:tgtEl>
                                          <p:spTgt spid="1945"/>
                                        </p:tgtEl>
                                      </p:cBhvr>
                                    </p:animEffect>
                                  </p:childTnLst>
                                </p:cTn>
                              </p:par>
                            </p:childTnLst>
                          </p:cTn>
                        </p:par>
                        <p:par>
                          <p:cTn id="98" fill="hold">
                            <p:stCondLst>
                              <p:cond delay="2500"/>
                            </p:stCondLst>
                            <p:childTnLst>
                              <p:par>
                                <p:cTn id="99" dur="indefinite" nodeType="afterEffect" fill="hold" presetClass="entr" presetID="12" presetSubtype="8">
                                  <p:stCondLst>
                                    <p:cond delay="0"/>
                                  </p:stCondLst>
                                  <p:childTnLst>
                                    <p:set>
                                      <p:cBhvr>
                                        <p:cTn id="100" dur="1" fill="hold">
                                          <p:stCondLst>
                                            <p:cond delay="0"/>
                                          </p:stCondLst>
                                        </p:cTn>
                                        <p:tgtEl>
                                          <p:spTgt spid="1950"/>
                                        </p:tgtEl>
                                        <p:attrNameLst>
                                          <p:attrName>style.visibility</p:attrName>
                                        </p:attrNameLst>
                                      </p:cBhvr>
                                      <p:to>
                                        <p:strVal val="visible"/>
                                      </p:to>
                                    </p:set>
                                    <p:anim calcmode="lin" valueType="num">
                                      <p:cBhvr additive="repl">
                                        <p:cTn id="101" dur="500"/>
                                        <p:tgtEl>
                                          <p:spTgt spid="1950"/>
                                        </p:tgtEl>
                                        <p:attrNameLst>
                                          <p:attrName>ppt_x</p:attrName>
                                        </p:attrNameLst>
                                      </p:cBhvr>
                                      <p:tavLst>
                                        <p:tav tm="0">
                                          <p:val>
                                            <p:strVal val="#ppt_x-#ppt_w*1.125000"/>
                                          </p:val>
                                        </p:tav>
                                        <p:tav tm="100000">
                                          <p:val>
                                            <p:strVal val="#ppt_x"/>
                                          </p:val>
                                        </p:tav>
                                      </p:tavLst>
                                    </p:anim>
                                    <p:animEffect filter="wipe(right)" transition="in">
                                      <p:cBhvr additive="repl">
                                        <p:cTn id="102" dur="500"/>
                                        <p:tgtEl>
                                          <p:spTgt spid="1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6" name="圆角矩形 37"/>
          <p:cNvSpPr/>
          <p:nvPr/>
        </p:nvSpPr>
        <p:spPr>
          <a:xfrm>
            <a:off x="727200" y="1868400"/>
            <a:ext cx="11056680" cy="3984840"/>
          </a:xfrm>
          <a:prstGeom prst="roundRect">
            <a:avLst>
              <a:gd name="adj" fmla="val 0"/>
            </a:avLst>
          </a:prstGeom>
          <a:solidFill>
            <a:srgbClr val="e2f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7" name="Title 6"/>
          <p:cNvSpPr/>
          <p:nvPr/>
        </p:nvSpPr>
        <p:spPr>
          <a:xfrm>
            <a:off x="909720" y="2349360"/>
            <a:ext cx="5257800" cy="1388520"/>
          </a:xfrm>
          <a:prstGeom prst="rect">
            <a:avLst/>
          </a:prstGeom>
          <a:noFill/>
          <a:ln w="0">
            <a:noFill/>
          </a:ln>
        </p:spPr>
        <p:style>
          <a:lnRef idx="0"/>
          <a:fillRef idx="0"/>
          <a:effectRef idx="0"/>
          <a:fontRef idx="minor"/>
        </p:style>
        <p:txBody>
          <a:bodyPr lIns="72000" rIns="72000" tIns="36360" bIns="3636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e78"/>
                </a:solidFill>
                <a:latin typeface="微软雅黑"/>
                <a:ea typeface="微软雅黑"/>
              </a:rPr>
              <a:t>二、采购与付款循环的内部控制 </a:t>
            </a:r>
            <a:endParaRPr b="1" lang="en-US" sz="2800" spc="-1" strike="noStrike">
              <a:solidFill>
                <a:srgbClr val="000000"/>
              </a:solidFill>
              <a:latin typeface="Arial"/>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黑体"/>
              </a:rPr>
              <a:t>      </a:t>
            </a:r>
            <a:r>
              <a:rPr b="0" lang="zh-CN" sz="2400" spc="-1" strike="noStrike">
                <a:solidFill>
                  <a:srgbClr val="000000"/>
                </a:solidFill>
                <a:latin typeface="Arial Black"/>
                <a:ea typeface="黑体"/>
              </a:rPr>
              <a:t>通过业务分析，把握采购与付款业务的关键内部控制点和重要控制程序。</a:t>
            </a:r>
            <a:endParaRPr b="1" lang="en-US" sz="2400" spc="-1" strike="noStrike">
              <a:solidFill>
                <a:srgbClr val="000000"/>
              </a:solidFill>
              <a:latin typeface="Arial"/>
            </a:endParaRPr>
          </a:p>
        </p:txBody>
      </p:sp>
      <p:grpSp>
        <p:nvGrpSpPr>
          <p:cNvPr id="1968" name="组合 28"/>
          <p:cNvGrpSpPr/>
          <p:nvPr/>
        </p:nvGrpSpPr>
        <p:grpSpPr>
          <a:xfrm>
            <a:off x="738360" y="546120"/>
            <a:ext cx="10056240" cy="0"/>
            <a:chOff x="738360" y="546120"/>
            <a:chExt cx="10056240" cy="0"/>
          </a:xfrm>
        </p:grpSpPr>
        <p:sp>
          <p:nvSpPr>
            <p:cNvPr id="1969" name="直接连接符 52"/>
            <p:cNvSpPr/>
            <p:nvPr/>
          </p:nvSpPr>
          <p:spPr>
            <a:xfrm>
              <a:off x="738360" y="546120"/>
              <a:ext cx="1920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70" name="直接连接符 64"/>
            <p:cNvSpPr/>
            <p:nvPr/>
          </p:nvSpPr>
          <p:spPr>
            <a:xfrm>
              <a:off x="8872200" y="546120"/>
              <a:ext cx="192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pic>
        <p:nvPicPr>
          <p:cNvPr id="1971" name="图片 1" descr="&amp;pky8424501714&amp;"/>
          <p:cNvPicPr/>
          <p:nvPr/>
        </p:nvPicPr>
        <p:blipFill>
          <a:blip r:embed="rId1"/>
          <a:srcRect l="4047" t="12043" r="5789" b="7699"/>
          <a:stretch/>
        </p:blipFill>
        <p:spPr>
          <a:xfrm>
            <a:off x="6993000" y="2328840"/>
            <a:ext cx="4289400" cy="3357720"/>
          </a:xfrm>
          <a:prstGeom prst="rect">
            <a:avLst/>
          </a:prstGeom>
          <a:ln w="0">
            <a:noFill/>
          </a:ln>
        </p:spPr>
      </p:pic>
      <p:sp>
        <p:nvSpPr>
          <p:cNvPr id="1972" name="文本框 10"/>
          <p:cNvSpPr/>
          <p:nvPr/>
        </p:nvSpPr>
        <p:spPr>
          <a:xfrm>
            <a:off x="4367160" y="852480"/>
            <a:ext cx="293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grpSp>
        <p:nvGrpSpPr>
          <p:cNvPr id="1973" name="组合 28"/>
          <p:cNvGrpSpPr/>
          <p:nvPr/>
        </p:nvGrpSpPr>
        <p:grpSpPr>
          <a:xfrm>
            <a:off x="826920" y="-171360"/>
            <a:ext cx="10583640" cy="610920"/>
            <a:chOff x="826920" y="-171360"/>
            <a:chExt cx="10583640" cy="610920"/>
          </a:xfrm>
        </p:grpSpPr>
        <p:sp>
          <p:nvSpPr>
            <p:cNvPr id="1974" name="直接连接符 12"/>
            <p:cNvSpPr/>
            <p:nvPr/>
          </p:nvSpPr>
          <p:spPr>
            <a:xfrm flipV="1">
              <a:off x="826920" y="304200"/>
              <a:ext cx="161568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1" lang="en-US" sz="1800" spc="-1" strike="noStrike">
                <a:solidFill>
                  <a:srgbClr val="000000"/>
                </a:solidFill>
                <a:latin typeface="Arial"/>
              </a:endParaRPr>
            </a:p>
          </p:txBody>
        </p:sp>
        <p:sp>
          <p:nvSpPr>
            <p:cNvPr id="1975" name="直接连接符 13"/>
            <p:cNvSpPr/>
            <p:nvPr/>
          </p:nvSpPr>
          <p:spPr>
            <a:xfrm>
              <a:off x="9524880" y="272160"/>
              <a:ext cx="188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976" name="文本框 31" descr=""/>
            <p:cNvPicPr/>
            <p:nvPr/>
          </p:nvPicPr>
          <p:blipFill>
            <a:blip r:embed="rId2"/>
            <a:stretch/>
          </p:blipFill>
          <p:spPr>
            <a:xfrm>
              <a:off x="1517040" y="-171360"/>
              <a:ext cx="8611920" cy="610920"/>
            </a:xfrm>
            <a:prstGeom prst="rect">
              <a:avLst/>
            </a:prstGeom>
            <a:ln w="0">
              <a:noFill/>
            </a:ln>
          </p:spPr>
        </p:pic>
      </p:grpSp>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afterEffect" fill="hold" presetClass="entr" presetID="29">
                                  <p:stCondLst>
                                    <p:cond delay="0"/>
                                  </p:stCondLst>
                                  <p:childTnLst>
                                    <p:set>
                                      <p:cBhvr>
                                        <p:cTn id="108" dur="1" fill="hold">
                                          <p:stCondLst>
                                            <p:cond delay="0"/>
                                          </p:stCondLst>
                                        </p:cTn>
                                        <p:tgtEl>
                                          <p:spTgt spid="1967"/>
                                        </p:tgtEl>
                                        <p:attrNameLst>
                                          <p:attrName>style.visibility</p:attrName>
                                        </p:attrNameLst>
                                      </p:cBhvr>
                                      <p:to>
                                        <p:strVal val="visible"/>
                                      </p:to>
                                    </p:set>
                                    <p:anim calcmode="lin" valueType="num">
                                      <p:cBhvr additive="repl">
                                        <p:cTn id="109" dur="1000" fill="hold"/>
                                        <p:tgtEl>
                                          <p:spTgt spid="1967"/>
                                        </p:tgtEl>
                                        <p:attrNameLst>
                                          <p:attrName>ppt_x</p:attrName>
                                        </p:attrNameLst>
                                      </p:cBhvr>
                                      <p:tavLst>
                                        <p:tav tm="0">
                                          <p:val>
                                            <p:strVal val="#ppt_x-.2"/>
                                          </p:val>
                                        </p:tav>
                                        <p:tav tm="100000">
                                          <p:val>
                                            <p:strVal val="#ppt_x"/>
                                          </p:val>
                                        </p:tav>
                                      </p:tavLst>
                                    </p:anim>
                                    <p:anim calcmode="lin" valueType="num">
                                      <p:cBhvr additive="repl">
                                        <p:cTn id="110" dur="1000" fill="hold"/>
                                        <p:tgtEl>
                                          <p:spTgt spid="1967"/>
                                        </p:tgtEl>
                                        <p:attrNameLst>
                                          <p:attrName>ppt_y</p:attrName>
                                        </p:attrNameLst>
                                      </p:cBhvr>
                                      <p:tavLst>
                                        <p:tav tm="0">
                                          <p:val>
                                            <p:strVal val="#ppt_y"/>
                                          </p:val>
                                        </p:tav>
                                        <p:tav tm="100000">
                                          <p:val>
                                            <p:strVal val="#ppt_y"/>
                                          </p:val>
                                        </p:tav>
                                      </p:tavLst>
                                    </p:anim>
                                    <p:animEffect filter="wipe(right)" transition="in">
                                      <p:cBhvr additive="repl">
                                        <p:cTn id="111" dur="1000"/>
                                        <p:tgtEl>
                                          <p:spTgt spid="1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7" name="组合 28"/>
          <p:cNvGrpSpPr/>
          <p:nvPr/>
        </p:nvGrpSpPr>
        <p:grpSpPr>
          <a:xfrm>
            <a:off x="915840" y="476280"/>
            <a:ext cx="10359720" cy="0"/>
            <a:chOff x="915840" y="476280"/>
            <a:chExt cx="10359720" cy="0"/>
          </a:xfrm>
        </p:grpSpPr>
        <p:sp>
          <p:nvSpPr>
            <p:cNvPr id="1978" name="直接连接符 52"/>
            <p:cNvSpPr/>
            <p:nvPr/>
          </p:nvSpPr>
          <p:spPr>
            <a:xfrm>
              <a:off x="915840" y="4762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79" name="直接连接符 64"/>
            <p:cNvSpPr/>
            <p:nvPr/>
          </p:nvSpPr>
          <p:spPr>
            <a:xfrm>
              <a:off x="9295920" y="4762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980" name="组合 6"/>
          <p:cNvGrpSpPr/>
          <p:nvPr/>
        </p:nvGrpSpPr>
        <p:grpSpPr>
          <a:xfrm>
            <a:off x="4976640" y="2846520"/>
            <a:ext cx="2568600" cy="2439720"/>
            <a:chOff x="4976640" y="2846520"/>
            <a:chExt cx="2568600" cy="2439720"/>
          </a:xfrm>
        </p:grpSpPr>
        <p:sp>
          <p:nvSpPr>
            <p:cNvPr id="1981" name="PA-任意多边形 81"/>
            <p:cNvSpPr/>
            <p:nvPr/>
          </p:nvSpPr>
          <p:spPr>
            <a:xfrm>
              <a:off x="5185440" y="4714920"/>
              <a:ext cx="90360" cy="122760"/>
            </a:xfrm>
            <a:custGeom>
              <a:avLst/>
              <a:gdLst/>
              <a:ahLst/>
              <a:rect l="l" t="t" r="r" b="b"/>
              <a:pathLst>
                <a:path w="33" h="37">
                  <a:moveTo>
                    <a:pt x="6" y="4"/>
                  </a:moveTo>
                  <a:cubicBezTo>
                    <a:pt x="6" y="4"/>
                    <a:pt x="6" y="4"/>
                    <a:pt x="6" y="4"/>
                  </a:cubicBezTo>
                  <a:cubicBezTo>
                    <a:pt x="1" y="8"/>
                    <a:pt x="0" y="15"/>
                    <a:pt x="4" y="20"/>
                  </a:cubicBezTo>
                  <a:cubicBezTo>
                    <a:pt x="11" y="31"/>
                    <a:pt x="11" y="31"/>
                    <a:pt x="11" y="31"/>
                  </a:cubicBezTo>
                  <a:cubicBezTo>
                    <a:pt x="15" y="36"/>
                    <a:pt x="22" y="37"/>
                    <a:pt x="27" y="33"/>
                  </a:cubicBezTo>
                  <a:cubicBezTo>
                    <a:pt x="27" y="33"/>
                    <a:pt x="27" y="33"/>
                    <a:pt x="27" y="33"/>
                  </a:cubicBezTo>
                  <a:cubicBezTo>
                    <a:pt x="32" y="30"/>
                    <a:pt x="33" y="22"/>
                    <a:pt x="30" y="17"/>
                  </a:cubicBezTo>
                  <a:cubicBezTo>
                    <a:pt x="22" y="7"/>
                    <a:pt x="22" y="7"/>
                    <a:pt x="22" y="7"/>
                  </a:cubicBezTo>
                  <a:cubicBezTo>
                    <a:pt x="19" y="2"/>
                    <a:pt x="11" y="0"/>
                    <a:pt x="6" y="4"/>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2" name="PA-任意多边形 82"/>
            <p:cNvSpPr/>
            <p:nvPr/>
          </p:nvSpPr>
          <p:spPr>
            <a:xfrm>
              <a:off x="5045040" y="4730400"/>
              <a:ext cx="112320" cy="255240"/>
            </a:xfrm>
            <a:custGeom>
              <a:avLst/>
              <a:gdLst/>
              <a:ahLst/>
              <a:rect l="l" t="t" r="r" b="b"/>
              <a:pathLst>
                <a:path w="41" h="76">
                  <a:moveTo>
                    <a:pt x="30" y="76"/>
                  </a:moveTo>
                  <a:cubicBezTo>
                    <a:pt x="30" y="76"/>
                    <a:pt x="30" y="75"/>
                    <a:pt x="30" y="74"/>
                  </a:cubicBezTo>
                  <a:cubicBezTo>
                    <a:pt x="30" y="74"/>
                    <a:pt x="30" y="74"/>
                    <a:pt x="30" y="74"/>
                  </a:cubicBezTo>
                  <a:cubicBezTo>
                    <a:pt x="31" y="69"/>
                    <a:pt x="27" y="65"/>
                    <a:pt x="22" y="63"/>
                  </a:cubicBezTo>
                  <a:cubicBezTo>
                    <a:pt x="24" y="63"/>
                    <a:pt x="24" y="63"/>
                    <a:pt x="24" y="63"/>
                  </a:cubicBezTo>
                  <a:cubicBezTo>
                    <a:pt x="31" y="64"/>
                    <a:pt x="36" y="60"/>
                    <a:pt x="37" y="54"/>
                  </a:cubicBezTo>
                  <a:cubicBezTo>
                    <a:pt x="37" y="54"/>
                    <a:pt x="37" y="54"/>
                    <a:pt x="37" y="54"/>
                  </a:cubicBezTo>
                  <a:cubicBezTo>
                    <a:pt x="37" y="49"/>
                    <a:pt x="34" y="45"/>
                    <a:pt x="29" y="43"/>
                  </a:cubicBezTo>
                  <a:cubicBezTo>
                    <a:pt x="35" y="43"/>
                    <a:pt x="40" y="39"/>
                    <a:pt x="40" y="34"/>
                  </a:cubicBezTo>
                  <a:cubicBezTo>
                    <a:pt x="40" y="34"/>
                    <a:pt x="40" y="34"/>
                    <a:pt x="40" y="34"/>
                  </a:cubicBezTo>
                  <a:cubicBezTo>
                    <a:pt x="41" y="28"/>
                    <a:pt x="36" y="23"/>
                    <a:pt x="29" y="22"/>
                  </a:cubicBezTo>
                  <a:cubicBezTo>
                    <a:pt x="28" y="22"/>
                    <a:pt x="28" y="22"/>
                    <a:pt x="28" y="22"/>
                  </a:cubicBezTo>
                  <a:cubicBezTo>
                    <a:pt x="33" y="21"/>
                    <a:pt x="37" y="18"/>
                    <a:pt x="37" y="13"/>
                  </a:cubicBezTo>
                  <a:cubicBezTo>
                    <a:pt x="37" y="13"/>
                    <a:pt x="37" y="13"/>
                    <a:pt x="37" y="13"/>
                  </a:cubicBezTo>
                  <a:cubicBezTo>
                    <a:pt x="38" y="7"/>
                    <a:pt x="33" y="2"/>
                    <a:pt x="27" y="1"/>
                  </a:cubicBezTo>
                  <a:cubicBezTo>
                    <a:pt x="18" y="0"/>
                    <a:pt x="18" y="0"/>
                    <a:pt x="18" y="0"/>
                  </a:cubicBezTo>
                  <a:cubicBezTo>
                    <a:pt x="15" y="0"/>
                    <a:pt x="13" y="1"/>
                    <a:pt x="11" y="2"/>
                  </a:cubicBezTo>
                  <a:cubicBezTo>
                    <a:pt x="7" y="5"/>
                    <a:pt x="4" y="9"/>
                    <a:pt x="4" y="15"/>
                  </a:cubicBezTo>
                  <a:cubicBezTo>
                    <a:pt x="0" y="56"/>
                    <a:pt x="0" y="56"/>
                    <a:pt x="0" y="56"/>
                  </a:cubicBezTo>
                  <a:cubicBezTo>
                    <a:pt x="0" y="57"/>
                    <a:pt x="0" y="57"/>
                    <a:pt x="0" y="58"/>
                  </a:cubicBezTo>
                  <a:cubicBezTo>
                    <a:pt x="1" y="66"/>
                    <a:pt x="9" y="74"/>
                    <a:pt x="19" y="75"/>
                  </a:cubicBezTo>
                  <a:lnTo>
                    <a:pt x="30" y="76"/>
                  </a:ln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3" name="PA-任意多边形 86"/>
            <p:cNvSpPr/>
            <p:nvPr/>
          </p:nvSpPr>
          <p:spPr>
            <a:xfrm>
              <a:off x="4990320" y="4912560"/>
              <a:ext cx="128880" cy="73080"/>
            </a:xfrm>
            <a:custGeom>
              <a:avLst/>
              <a:gdLst/>
              <a:ahLst/>
              <a:rect l="l" t="t" r="r" b="b"/>
              <a:pathLst>
                <a:path w="47" h="22">
                  <a:moveTo>
                    <a:pt x="1" y="9"/>
                  </a:moveTo>
                  <a:cubicBezTo>
                    <a:pt x="1" y="9"/>
                    <a:pt x="1" y="9"/>
                    <a:pt x="1" y="9"/>
                  </a:cubicBezTo>
                  <a:cubicBezTo>
                    <a:pt x="0" y="22"/>
                    <a:pt x="17" y="19"/>
                    <a:pt x="25" y="20"/>
                  </a:cubicBezTo>
                  <a:cubicBezTo>
                    <a:pt x="35" y="21"/>
                    <a:pt x="46" y="22"/>
                    <a:pt x="47" y="15"/>
                  </a:cubicBezTo>
                  <a:cubicBezTo>
                    <a:pt x="47" y="15"/>
                    <a:pt x="47" y="15"/>
                    <a:pt x="47" y="15"/>
                  </a:cubicBezTo>
                  <a:cubicBezTo>
                    <a:pt x="47" y="10"/>
                    <a:pt x="43" y="5"/>
                    <a:pt x="38" y="4"/>
                  </a:cubicBezTo>
                  <a:cubicBezTo>
                    <a:pt x="12" y="1"/>
                    <a:pt x="12" y="1"/>
                    <a:pt x="12" y="1"/>
                  </a:cubicBezTo>
                  <a:cubicBezTo>
                    <a:pt x="6" y="0"/>
                    <a:pt x="2" y="4"/>
                    <a:pt x="1" y="9"/>
                  </a:cubicBezTo>
                  <a:close/>
                </a:path>
              </a:pathLst>
            </a:custGeom>
            <a:solidFill>
              <a:srgbClr val="fad9c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4" name="PA-任意多边形 87"/>
            <p:cNvSpPr/>
            <p:nvPr/>
          </p:nvSpPr>
          <p:spPr>
            <a:xfrm>
              <a:off x="5100840" y="4730400"/>
              <a:ext cx="32400" cy="60480"/>
            </a:xfrm>
            <a:custGeom>
              <a:avLst/>
              <a:gdLst/>
              <a:ahLst/>
              <a:rect l="l" t="t" r="r" b="b"/>
              <a:pathLst>
                <a:path w="12" h="18">
                  <a:moveTo>
                    <a:pt x="1" y="17"/>
                  </a:moveTo>
                  <a:cubicBezTo>
                    <a:pt x="1" y="17"/>
                    <a:pt x="1" y="17"/>
                    <a:pt x="1" y="17"/>
                  </a:cubicBezTo>
                  <a:cubicBezTo>
                    <a:pt x="7" y="18"/>
                    <a:pt x="11" y="15"/>
                    <a:pt x="12" y="10"/>
                  </a:cubicBezTo>
                  <a:cubicBezTo>
                    <a:pt x="12" y="10"/>
                    <a:pt x="12" y="10"/>
                    <a:pt x="12" y="10"/>
                  </a:cubicBezTo>
                  <a:cubicBezTo>
                    <a:pt x="12" y="5"/>
                    <a:pt x="8" y="1"/>
                    <a:pt x="3" y="0"/>
                  </a:cubicBezTo>
                  <a:cubicBezTo>
                    <a:pt x="2" y="0"/>
                    <a:pt x="2" y="0"/>
                    <a:pt x="2" y="0"/>
                  </a:cubicBezTo>
                  <a:cubicBezTo>
                    <a:pt x="1" y="2"/>
                    <a:pt x="1" y="5"/>
                    <a:pt x="0" y="8"/>
                  </a:cubicBezTo>
                  <a:cubicBezTo>
                    <a:pt x="0" y="11"/>
                    <a:pt x="0" y="14"/>
                    <a:pt x="1" y="17"/>
                  </a:cubicBezTo>
                  <a:close/>
                </a:path>
              </a:pathLst>
            </a:custGeom>
            <a:solidFill>
              <a:srgbClr val="fad9ca"/>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5" name="PA-任意多边形 88"/>
            <p:cNvSpPr/>
            <p:nvPr/>
          </p:nvSpPr>
          <p:spPr>
            <a:xfrm>
              <a:off x="5108760" y="4800960"/>
              <a:ext cx="32400" cy="60480"/>
            </a:xfrm>
            <a:custGeom>
              <a:avLst/>
              <a:gdLst/>
              <a:ahLst/>
              <a:rect l="l" t="t" r="r" b="b"/>
              <a:pathLst>
                <a:path w="12" h="18">
                  <a:moveTo>
                    <a:pt x="1" y="18"/>
                  </a:moveTo>
                  <a:cubicBezTo>
                    <a:pt x="1" y="18"/>
                    <a:pt x="1" y="18"/>
                    <a:pt x="1" y="18"/>
                  </a:cubicBezTo>
                  <a:cubicBezTo>
                    <a:pt x="7" y="18"/>
                    <a:pt x="11" y="15"/>
                    <a:pt x="12" y="10"/>
                  </a:cubicBezTo>
                  <a:cubicBezTo>
                    <a:pt x="12" y="10"/>
                    <a:pt x="12" y="10"/>
                    <a:pt x="12" y="10"/>
                  </a:cubicBezTo>
                  <a:cubicBezTo>
                    <a:pt x="12" y="5"/>
                    <a:pt x="8" y="1"/>
                    <a:pt x="3" y="0"/>
                  </a:cubicBezTo>
                  <a:cubicBezTo>
                    <a:pt x="2" y="0"/>
                    <a:pt x="2" y="0"/>
                    <a:pt x="2" y="0"/>
                  </a:cubicBezTo>
                  <a:cubicBezTo>
                    <a:pt x="1" y="3"/>
                    <a:pt x="1" y="5"/>
                    <a:pt x="0" y="8"/>
                  </a:cubicBezTo>
                  <a:cubicBezTo>
                    <a:pt x="0" y="11"/>
                    <a:pt x="0" y="14"/>
                    <a:pt x="1" y="18"/>
                  </a:cubicBezTo>
                  <a:close/>
                </a:path>
              </a:pathLst>
            </a:custGeom>
            <a:solidFill>
              <a:srgbClr val="fad9ca"/>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6" name="PA-任意多边形 89"/>
            <p:cNvSpPr/>
            <p:nvPr/>
          </p:nvSpPr>
          <p:spPr>
            <a:xfrm>
              <a:off x="5100840" y="4868640"/>
              <a:ext cx="32400" cy="56160"/>
            </a:xfrm>
            <a:custGeom>
              <a:avLst/>
              <a:gdLst/>
              <a:ahLst/>
              <a:rect l="l" t="t" r="r" b="b"/>
              <a:pathLst>
                <a:path w="12" h="17">
                  <a:moveTo>
                    <a:pt x="1" y="16"/>
                  </a:moveTo>
                  <a:cubicBezTo>
                    <a:pt x="1" y="16"/>
                    <a:pt x="1" y="16"/>
                    <a:pt x="1" y="16"/>
                  </a:cubicBezTo>
                  <a:cubicBezTo>
                    <a:pt x="7" y="17"/>
                    <a:pt x="11" y="14"/>
                    <a:pt x="12" y="9"/>
                  </a:cubicBezTo>
                  <a:cubicBezTo>
                    <a:pt x="12" y="9"/>
                    <a:pt x="12" y="9"/>
                    <a:pt x="12" y="9"/>
                  </a:cubicBezTo>
                  <a:cubicBezTo>
                    <a:pt x="12" y="5"/>
                    <a:pt x="8" y="1"/>
                    <a:pt x="3" y="0"/>
                  </a:cubicBezTo>
                  <a:cubicBezTo>
                    <a:pt x="2" y="0"/>
                    <a:pt x="2" y="0"/>
                    <a:pt x="2" y="0"/>
                  </a:cubicBezTo>
                  <a:cubicBezTo>
                    <a:pt x="1" y="3"/>
                    <a:pt x="1" y="5"/>
                    <a:pt x="0" y="7"/>
                  </a:cubicBezTo>
                  <a:cubicBezTo>
                    <a:pt x="0" y="10"/>
                    <a:pt x="0" y="13"/>
                    <a:pt x="1" y="16"/>
                  </a:cubicBezTo>
                  <a:close/>
                </a:path>
              </a:pathLst>
            </a:custGeom>
            <a:solidFill>
              <a:srgbClr val="fad9ca"/>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7" name="PA-任意多边形 90"/>
            <p:cNvSpPr/>
            <p:nvPr/>
          </p:nvSpPr>
          <p:spPr>
            <a:xfrm>
              <a:off x="5083200" y="4932360"/>
              <a:ext cx="41760" cy="49320"/>
            </a:xfrm>
            <a:custGeom>
              <a:avLst/>
              <a:gdLst/>
              <a:ahLst/>
              <a:rect l="l" t="t" r="r" b="b"/>
              <a:pathLst>
                <a:path w="15" h="15">
                  <a:moveTo>
                    <a:pt x="1" y="13"/>
                  </a:moveTo>
                  <a:cubicBezTo>
                    <a:pt x="1" y="13"/>
                    <a:pt x="1" y="13"/>
                    <a:pt x="1" y="13"/>
                  </a:cubicBezTo>
                  <a:cubicBezTo>
                    <a:pt x="14" y="15"/>
                    <a:pt x="15" y="1"/>
                    <a:pt x="2" y="0"/>
                  </a:cubicBezTo>
                  <a:cubicBezTo>
                    <a:pt x="2" y="0"/>
                    <a:pt x="2" y="0"/>
                    <a:pt x="2" y="0"/>
                  </a:cubicBezTo>
                  <a:cubicBezTo>
                    <a:pt x="1" y="1"/>
                    <a:pt x="0" y="3"/>
                    <a:pt x="0" y="5"/>
                  </a:cubicBezTo>
                  <a:cubicBezTo>
                    <a:pt x="0" y="8"/>
                    <a:pt x="0" y="11"/>
                    <a:pt x="1" y="13"/>
                  </a:cubicBezTo>
                  <a:close/>
                </a:path>
              </a:pathLst>
            </a:custGeom>
            <a:solidFill>
              <a:srgbClr val="fad9ca"/>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8" name="PA-任意多边形 92"/>
            <p:cNvSpPr/>
            <p:nvPr/>
          </p:nvSpPr>
          <p:spPr>
            <a:xfrm>
              <a:off x="5042520" y="4640040"/>
              <a:ext cx="156600" cy="84600"/>
            </a:xfrm>
            <a:custGeom>
              <a:avLst/>
              <a:gdLst/>
              <a:ahLst/>
              <a:rect l="l" t="t" r="r" b="b"/>
              <a:pathLst>
                <a:path w="57" h="25">
                  <a:moveTo>
                    <a:pt x="45" y="25"/>
                  </a:moveTo>
                  <a:cubicBezTo>
                    <a:pt x="51" y="25"/>
                    <a:pt x="56" y="24"/>
                    <a:pt x="56" y="18"/>
                  </a:cubicBezTo>
                  <a:cubicBezTo>
                    <a:pt x="56" y="18"/>
                    <a:pt x="56" y="18"/>
                    <a:pt x="56" y="18"/>
                  </a:cubicBezTo>
                  <a:cubicBezTo>
                    <a:pt x="57" y="12"/>
                    <a:pt x="52" y="6"/>
                    <a:pt x="46" y="5"/>
                  </a:cubicBezTo>
                  <a:cubicBezTo>
                    <a:pt x="23" y="3"/>
                    <a:pt x="23" y="3"/>
                    <a:pt x="23" y="3"/>
                  </a:cubicBezTo>
                  <a:cubicBezTo>
                    <a:pt x="0" y="0"/>
                    <a:pt x="14" y="25"/>
                    <a:pt x="45" y="25"/>
                  </a:cubicBezTo>
                  <a:close/>
                </a:path>
              </a:pathLst>
            </a:custGeom>
            <a:solidFill>
              <a:srgbClr val="f7c2ab"/>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9" name="PA-任意多边形 93"/>
            <p:cNvSpPr/>
            <p:nvPr/>
          </p:nvSpPr>
          <p:spPr>
            <a:xfrm>
              <a:off x="5075280" y="4647240"/>
              <a:ext cx="57960" cy="26640"/>
            </a:xfrm>
            <a:custGeom>
              <a:avLst/>
              <a:gdLst/>
              <a:ahLst/>
              <a:rect l="l" t="t" r="r" b="b"/>
              <a:pathLst>
                <a:path w="21" h="8">
                  <a:moveTo>
                    <a:pt x="21" y="2"/>
                  </a:moveTo>
                  <a:cubicBezTo>
                    <a:pt x="11" y="1"/>
                    <a:pt x="11" y="1"/>
                    <a:pt x="11" y="1"/>
                  </a:cubicBezTo>
                  <a:cubicBezTo>
                    <a:pt x="5" y="0"/>
                    <a:pt x="0" y="2"/>
                    <a:pt x="1" y="5"/>
                  </a:cubicBezTo>
                  <a:cubicBezTo>
                    <a:pt x="9" y="8"/>
                    <a:pt x="20" y="7"/>
                    <a:pt x="21" y="2"/>
                  </a:cubicBezTo>
                  <a:close/>
                </a:path>
              </a:pathLst>
            </a:custGeom>
            <a:solidFill>
              <a:srgbClr val="f7c2ab"/>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90" name="组合 16"/>
            <p:cNvGrpSpPr/>
            <p:nvPr/>
          </p:nvGrpSpPr>
          <p:grpSpPr>
            <a:xfrm>
              <a:off x="4976640" y="2846520"/>
              <a:ext cx="2568600" cy="2439720"/>
              <a:chOff x="4976640" y="2846520"/>
              <a:chExt cx="2568600" cy="2439720"/>
            </a:xfrm>
          </p:grpSpPr>
          <p:sp>
            <p:nvSpPr>
              <p:cNvPr id="1991" name="PA-矩形 120"/>
              <p:cNvSpPr/>
              <p:nvPr/>
            </p:nvSpPr>
            <p:spPr>
              <a:xfrm>
                <a:off x="5738400" y="3429000"/>
                <a:ext cx="1038240" cy="126036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2" name="PA-任意多边形 56"/>
              <p:cNvSpPr/>
              <p:nvPr/>
            </p:nvSpPr>
            <p:spPr>
              <a:xfrm>
                <a:off x="6248160" y="4115160"/>
                <a:ext cx="546840" cy="1171080"/>
              </a:xfrm>
              <a:custGeom>
                <a:avLst/>
                <a:gdLst/>
                <a:ahLst/>
                <a:rect l="l" t="t" r="r" b="b"/>
                <a:pathLst>
                  <a:path w="199" h="350">
                    <a:moveTo>
                      <a:pt x="149" y="350"/>
                    </a:moveTo>
                    <a:cubicBezTo>
                      <a:pt x="150" y="189"/>
                      <a:pt x="150" y="189"/>
                      <a:pt x="150" y="189"/>
                    </a:cubicBezTo>
                    <a:cubicBezTo>
                      <a:pt x="199" y="56"/>
                      <a:pt x="199" y="56"/>
                      <a:pt x="199" y="56"/>
                    </a:cubicBezTo>
                    <a:cubicBezTo>
                      <a:pt x="179" y="35"/>
                      <a:pt x="146" y="18"/>
                      <a:pt x="90" y="0"/>
                    </a:cubicBezTo>
                    <a:cubicBezTo>
                      <a:pt x="30" y="0"/>
                      <a:pt x="30" y="0"/>
                      <a:pt x="30" y="0"/>
                    </a:cubicBezTo>
                    <a:cubicBezTo>
                      <a:pt x="0" y="0"/>
                      <a:pt x="0" y="0"/>
                      <a:pt x="0" y="0"/>
                    </a:cubicBezTo>
                    <a:cubicBezTo>
                      <a:pt x="0" y="350"/>
                      <a:pt x="0" y="350"/>
                      <a:pt x="0" y="350"/>
                    </a:cubicBezTo>
                    <a:lnTo>
                      <a:pt x="149" y="350"/>
                    </a:ln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3" name="PA-任意多边形 57"/>
              <p:cNvSpPr/>
              <p:nvPr/>
            </p:nvSpPr>
            <p:spPr>
              <a:xfrm>
                <a:off x="6529320" y="4249080"/>
                <a:ext cx="463320" cy="880560"/>
              </a:xfrm>
              <a:custGeom>
                <a:avLst/>
                <a:gdLst/>
                <a:ahLst/>
                <a:rect l="l" t="t" r="r" b="b"/>
                <a:pathLst>
                  <a:path w="169" h="263">
                    <a:moveTo>
                      <a:pt x="4" y="15"/>
                    </a:moveTo>
                    <a:cubicBezTo>
                      <a:pt x="8" y="14"/>
                      <a:pt x="8" y="14"/>
                      <a:pt x="8" y="14"/>
                    </a:cubicBezTo>
                    <a:cubicBezTo>
                      <a:pt x="13" y="12"/>
                      <a:pt x="13" y="12"/>
                      <a:pt x="13" y="12"/>
                    </a:cubicBezTo>
                    <a:cubicBezTo>
                      <a:pt x="13" y="12"/>
                      <a:pt x="13" y="12"/>
                      <a:pt x="13" y="12"/>
                    </a:cubicBezTo>
                    <a:cubicBezTo>
                      <a:pt x="53" y="2"/>
                      <a:pt x="53" y="2"/>
                      <a:pt x="53" y="2"/>
                    </a:cubicBezTo>
                    <a:cubicBezTo>
                      <a:pt x="64" y="0"/>
                      <a:pt x="74" y="2"/>
                      <a:pt x="84" y="6"/>
                    </a:cubicBezTo>
                    <a:cubicBezTo>
                      <a:pt x="94" y="11"/>
                      <a:pt x="101" y="17"/>
                      <a:pt x="104" y="27"/>
                    </a:cubicBezTo>
                    <a:cubicBezTo>
                      <a:pt x="120" y="74"/>
                      <a:pt x="120" y="74"/>
                      <a:pt x="120" y="74"/>
                    </a:cubicBezTo>
                    <a:cubicBezTo>
                      <a:pt x="119" y="74"/>
                      <a:pt x="119" y="74"/>
                      <a:pt x="119" y="74"/>
                    </a:cubicBezTo>
                    <a:cubicBezTo>
                      <a:pt x="162" y="204"/>
                      <a:pt x="162" y="204"/>
                      <a:pt x="162" y="204"/>
                    </a:cubicBezTo>
                    <a:cubicBezTo>
                      <a:pt x="169" y="226"/>
                      <a:pt x="155" y="250"/>
                      <a:pt x="129" y="257"/>
                    </a:cubicBezTo>
                    <a:cubicBezTo>
                      <a:pt x="129" y="257"/>
                      <a:pt x="129" y="257"/>
                      <a:pt x="129" y="257"/>
                    </a:cubicBezTo>
                    <a:cubicBezTo>
                      <a:pt x="104" y="263"/>
                      <a:pt x="77" y="250"/>
                      <a:pt x="69" y="227"/>
                    </a:cubicBezTo>
                    <a:cubicBezTo>
                      <a:pt x="0" y="16"/>
                      <a:pt x="0" y="16"/>
                      <a:pt x="0" y="16"/>
                    </a:cubicBezTo>
                    <a:cubicBezTo>
                      <a:pt x="4" y="15"/>
                      <a:pt x="4" y="15"/>
                      <a:pt x="4" y="15"/>
                    </a:cubicBez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4" name="PA-任意多边形 58"/>
              <p:cNvSpPr/>
              <p:nvPr/>
            </p:nvSpPr>
            <p:spPr>
              <a:xfrm>
                <a:off x="6698880" y="4727520"/>
                <a:ext cx="579240" cy="392040"/>
              </a:xfrm>
              <a:custGeom>
                <a:avLst/>
                <a:gdLst/>
                <a:ahLst/>
                <a:rect l="l" t="t" r="r" b="b"/>
                <a:pathLst>
                  <a:path w="211" h="117">
                    <a:moveTo>
                      <a:pt x="1" y="31"/>
                    </a:moveTo>
                    <a:cubicBezTo>
                      <a:pt x="1" y="35"/>
                      <a:pt x="1" y="35"/>
                      <a:pt x="1" y="35"/>
                    </a:cubicBezTo>
                    <a:cubicBezTo>
                      <a:pt x="2" y="40"/>
                      <a:pt x="2" y="40"/>
                      <a:pt x="2" y="40"/>
                    </a:cubicBezTo>
                    <a:cubicBezTo>
                      <a:pt x="2" y="40"/>
                      <a:pt x="2" y="40"/>
                      <a:pt x="2" y="40"/>
                    </a:cubicBezTo>
                    <a:cubicBezTo>
                      <a:pt x="8" y="80"/>
                      <a:pt x="8" y="80"/>
                      <a:pt x="8" y="80"/>
                    </a:cubicBezTo>
                    <a:cubicBezTo>
                      <a:pt x="11" y="91"/>
                      <a:pt x="16" y="100"/>
                      <a:pt x="24" y="106"/>
                    </a:cubicBezTo>
                    <a:cubicBezTo>
                      <a:pt x="32" y="114"/>
                      <a:pt x="40" y="117"/>
                      <a:pt x="51" y="116"/>
                    </a:cubicBezTo>
                    <a:cubicBezTo>
                      <a:pt x="100" y="109"/>
                      <a:pt x="100" y="109"/>
                      <a:pt x="100" y="109"/>
                    </a:cubicBezTo>
                    <a:cubicBezTo>
                      <a:pt x="100" y="109"/>
                      <a:pt x="100" y="109"/>
                      <a:pt x="100" y="109"/>
                    </a:cubicBezTo>
                    <a:cubicBezTo>
                      <a:pt x="211" y="94"/>
                      <a:pt x="211" y="94"/>
                      <a:pt x="211" y="94"/>
                    </a:cubicBezTo>
                    <a:cubicBezTo>
                      <a:pt x="194" y="0"/>
                      <a:pt x="194" y="0"/>
                      <a:pt x="194" y="0"/>
                    </a:cubicBezTo>
                    <a:cubicBezTo>
                      <a:pt x="0" y="26"/>
                      <a:pt x="0" y="26"/>
                      <a:pt x="0" y="26"/>
                    </a:cubicBezTo>
                    <a:cubicBezTo>
                      <a:pt x="1" y="31"/>
                      <a:pt x="1" y="31"/>
                      <a:pt x="1" y="31"/>
                    </a:cubicBez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5" name="PA-任意多边形 59"/>
              <p:cNvSpPr/>
              <p:nvPr/>
            </p:nvSpPr>
            <p:spPr>
              <a:xfrm>
                <a:off x="6253920" y="2846520"/>
                <a:ext cx="469080" cy="1190880"/>
              </a:xfrm>
              <a:custGeom>
                <a:avLst/>
                <a:gdLst/>
                <a:ahLst/>
                <a:rect l="l" t="t" r="r" b="b"/>
                <a:pathLst>
                  <a:path w="171" h="356">
                    <a:moveTo>
                      <a:pt x="0" y="356"/>
                    </a:moveTo>
                    <a:cubicBezTo>
                      <a:pt x="69" y="348"/>
                      <a:pt x="135" y="294"/>
                      <a:pt x="156" y="203"/>
                    </a:cubicBezTo>
                    <a:cubicBezTo>
                      <a:pt x="169" y="145"/>
                      <a:pt x="171" y="93"/>
                      <a:pt x="150" y="59"/>
                    </a:cubicBezTo>
                    <a:cubicBezTo>
                      <a:pt x="122" y="11"/>
                      <a:pt x="59" y="1"/>
                      <a:pt x="0" y="0"/>
                    </a:cubicBezTo>
                    <a:lnTo>
                      <a:pt x="0" y="356"/>
                    </a:ln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6" name="PA-任意多边形 60"/>
              <p:cNvSpPr/>
              <p:nvPr/>
            </p:nvSpPr>
            <p:spPr>
              <a:xfrm>
                <a:off x="5726880" y="4115160"/>
                <a:ext cx="546840" cy="1171080"/>
              </a:xfrm>
              <a:custGeom>
                <a:avLst/>
                <a:gdLst/>
                <a:ahLst/>
                <a:rect l="l" t="t" r="r" b="b"/>
                <a:pathLst>
                  <a:path w="199" h="350">
                    <a:moveTo>
                      <a:pt x="51" y="350"/>
                    </a:moveTo>
                    <a:cubicBezTo>
                      <a:pt x="49" y="189"/>
                      <a:pt x="49" y="189"/>
                      <a:pt x="49" y="189"/>
                    </a:cubicBezTo>
                    <a:cubicBezTo>
                      <a:pt x="0" y="56"/>
                      <a:pt x="0" y="56"/>
                      <a:pt x="0" y="56"/>
                    </a:cubicBezTo>
                    <a:cubicBezTo>
                      <a:pt x="20" y="35"/>
                      <a:pt x="54" y="18"/>
                      <a:pt x="109" y="0"/>
                    </a:cubicBezTo>
                    <a:cubicBezTo>
                      <a:pt x="170" y="0"/>
                      <a:pt x="170" y="0"/>
                      <a:pt x="170" y="0"/>
                    </a:cubicBezTo>
                    <a:cubicBezTo>
                      <a:pt x="199" y="0"/>
                      <a:pt x="199" y="0"/>
                      <a:pt x="199" y="0"/>
                    </a:cubicBezTo>
                    <a:cubicBezTo>
                      <a:pt x="199" y="350"/>
                      <a:pt x="199" y="350"/>
                      <a:pt x="199" y="350"/>
                    </a:cubicBezTo>
                    <a:lnTo>
                      <a:pt x="51" y="350"/>
                    </a:ln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7" name="PA-任意多边形 61"/>
              <p:cNvSpPr/>
              <p:nvPr/>
            </p:nvSpPr>
            <p:spPr>
              <a:xfrm>
                <a:off x="6028560" y="3897720"/>
                <a:ext cx="460800" cy="993240"/>
              </a:xfrm>
              <a:custGeom>
                <a:avLst/>
                <a:gdLst/>
                <a:ahLst/>
                <a:rect l="l" t="t" r="r" b="b"/>
                <a:pathLst>
                  <a:path w="397" h="704">
                    <a:moveTo>
                      <a:pt x="397" y="154"/>
                    </a:moveTo>
                    <a:lnTo>
                      <a:pt x="203" y="704"/>
                    </a:lnTo>
                    <a:lnTo>
                      <a:pt x="0" y="154"/>
                    </a:lnTo>
                    <a:lnTo>
                      <a:pt x="71" y="152"/>
                    </a:lnTo>
                    <a:lnTo>
                      <a:pt x="71" y="0"/>
                    </a:lnTo>
                    <a:lnTo>
                      <a:pt x="331" y="0"/>
                    </a:lnTo>
                    <a:lnTo>
                      <a:pt x="331" y="152"/>
                    </a:lnTo>
                    <a:lnTo>
                      <a:pt x="397" y="154"/>
                    </a:lnTo>
                    <a:close/>
                  </a:path>
                </a:pathLst>
              </a:cu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8" name="PA-任意多边形 62"/>
              <p:cNvSpPr/>
              <p:nvPr/>
            </p:nvSpPr>
            <p:spPr>
              <a:xfrm>
                <a:off x="6100560" y="3897720"/>
                <a:ext cx="317880" cy="327240"/>
              </a:xfrm>
              <a:custGeom>
                <a:avLst/>
                <a:gdLst/>
                <a:ahLst/>
                <a:rect l="l" t="t" r="r" b="b"/>
                <a:pathLst>
                  <a:path w="116" h="98">
                    <a:moveTo>
                      <a:pt x="0" y="64"/>
                    </a:moveTo>
                    <a:cubicBezTo>
                      <a:pt x="4" y="64"/>
                      <a:pt x="4" y="64"/>
                      <a:pt x="4" y="64"/>
                    </a:cubicBezTo>
                    <a:cubicBezTo>
                      <a:pt x="4" y="0"/>
                      <a:pt x="4" y="0"/>
                      <a:pt x="4" y="0"/>
                    </a:cubicBezTo>
                    <a:cubicBezTo>
                      <a:pt x="114" y="0"/>
                      <a:pt x="114" y="0"/>
                      <a:pt x="114" y="0"/>
                    </a:cubicBezTo>
                    <a:cubicBezTo>
                      <a:pt x="114" y="64"/>
                      <a:pt x="114" y="64"/>
                      <a:pt x="114" y="64"/>
                    </a:cubicBezTo>
                    <a:cubicBezTo>
                      <a:pt x="116" y="64"/>
                      <a:pt x="116" y="64"/>
                      <a:pt x="116" y="64"/>
                    </a:cubicBezTo>
                    <a:cubicBezTo>
                      <a:pt x="103" y="81"/>
                      <a:pt x="83" y="98"/>
                      <a:pt x="60" y="98"/>
                    </a:cubicBezTo>
                    <a:cubicBezTo>
                      <a:pt x="36" y="98"/>
                      <a:pt x="14" y="81"/>
                      <a:pt x="0" y="64"/>
                    </a:cubicBezTo>
                    <a:close/>
                  </a:path>
                </a:pathLst>
              </a:custGeom>
              <a:solidFill>
                <a:srgbClr val="e0da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9" name="PA-任意多边形 63"/>
              <p:cNvSpPr/>
              <p:nvPr/>
            </p:nvSpPr>
            <p:spPr>
              <a:xfrm>
                <a:off x="6111000" y="3897720"/>
                <a:ext cx="301680" cy="234000"/>
              </a:xfrm>
              <a:custGeom>
                <a:avLst/>
                <a:gdLst/>
                <a:ahLst/>
                <a:rect l="l" t="t" r="r" b="b"/>
                <a:pathLst>
                  <a:path w="110" h="70">
                    <a:moveTo>
                      <a:pt x="0" y="62"/>
                    </a:moveTo>
                    <a:cubicBezTo>
                      <a:pt x="0" y="0"/>
                      <a:pt x="0" y="0"/>
                      <a:pt x="0" y="0"/>
                    </a:cubicBezTo>
                    <a:cubicBezTo>
                      <a:pt x="110" y="0"/>
                      <a:pt x="110" y="0"/>
                      <a:pt x="110" y="0"/>
                    </a:cubicBezTo>
                    <a:cubicBezTo>
                      <a:pt x="110" y="62"/>
                      <a:pt x="110" y="62"/>
                      <a:pt x="110" y="62"/>
                    </a:cubicBezTo>
                    <a:cubicBezTo>
                      <a:pt x="93" y="67"/>
                      <a:pt x="74" y="70"/>
                      <a:pt x="55" y="70"/>
                    </a:cubicBezTo>
                    <a:cubicBezTo>
                      <a:pt x="36" y="70"/>
                      <a:pt x="18" y="67"/>
                      <a:pt x="0" y="62"/>
                    </a:cubicBezTo>
                    <a:close/>
                  </a:path>
                </a:pathLst>
              </a:custGeom>
              <a:solidFill>
                <a:srgbClr val="cac59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0" name="PA-任意多边形 64"/>
              <p:cNvSpPr/>
              <p:nvPr/>
            </p:nvSpPr>
            <p:spPr>
              <a:xfrm>
                <a:off x="6070320" y="3897720"/>
                <a:ext cx="189000" cy="522000"/>
              </a:xfrm>
              <a:custGeom>
                <a:avLst/>
                <a:gdLst/>
                <a:ahLst/>
                <a:rect l="l" t="t" r="r" b="b"/>
                <a:pathLst>
                  <a:path w="163" h="370">
                    <a:moveTo>
                      <a:pt x="163" y="370"/>
                    </a:moveTo>
                    <a:lnTo>
                      <a:pt x="0" y="154"/>
                    </a:lnTo>
                    <a:lnTo>
                      <a:pt x="35" y="152"/>
                    </a:lnTo>
                    <a:lnTo>
                      <a:pt x="35" y="0"/>
                    </a:lnTo>
                    <a:lnTo>
                      <a:pt x="163" y="0"/>
                    </a:lnTo>
                    <a:lnTo>
                      <a:pt x="163" y="370"/>
                    </a:lnTo>
                    <a:close/>
                  </a:path>
                </a:pathLst>
              </a:cu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1" name="PA-任意多边形 65"/>
              <p:cNvSpPr/>
              <p:nvPr/>
            </p:nvSpPr>
            <p:spPr>
              <a:xfrm>
                <a:off x="6100560" y="3897720"/>
                <a:ext cx="158760" cy="331560"/>
              </a:xfrm>
              <a:custGeom>
                <a:avLst/>
                <a:gdLst/>
                <a:ahLst/>
                <a:rect l="l" t="t" r="r" b="b"/>
                <a:pathLst>
                  <a:path w="58" h="99">
                    <a:moveTo>
                      <a:pt x="0" y="64"/>
                    </a:moveTo>
                    <a:cubicBezTo>
                      <a:pt x="4" y="64"/>
                      <a:pt x="4" y="64"/>
                      <a:pt x="4" y="64"/>
                    </a:cubicBezTo>
                    <a:cubicBezTo>
                      <a:pt x="4" y="0"/>
                      <a:pt x="4" y="0"/>
                      <a:pt x="4" y="0"/>
                    </a:cubicBezTo>
                    <a:cubicBezTo>
                      <a:pt x="58" y="0"/>
                      <a:pt x="58" y="0"/>
                      <a:pt x="58" y="0"/>
                    </a:cubicBezTo>
                    <a:cubicBezTo>
                      <a:pt x="58" y="98"/>
                      <a:pt x="58" y="98"/>
                      <a:pt x="58" y="98"/>
                    </a:cubicBezTo>
                    <a:cubicBezTo>
                      <a:pt x="58" y="98"/>
                      <a:pt x="58" y="98"/>
                      <a:pt x="58" y="98"/>
                    </a:cubicBezTo>
                    <a:cubicBezTo>
                      <a:pt x="35" y="99"/>
                      <a:pt x="14" y="81"/>
                      <a:pt x="0" y="64"/>
                    </a:cubicBezTo>
                    <a:close/>
                  </a:path>
                </a:pathLst>
              </a:custGeom>
              <a:solidFill>
                <a:srgbClr val="eae5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PA-任意多边形 66"/>
              <p:cNvSpPr/>
              <p:nvPr/>
            </p:nvSpPr>
            <p:spPr>
              <a:xfrm>
                <a:off x="6111000" y="3897720"/>
                <a:ext cx="148320" cy="234000"/>
              </a:xfrm>
              <a:custGeom>
                <a:avLst/>
                <a:gdLst/>
                <a:ahLst/>
                <a:rect l="l" t="t" r="r" b="b"/>
                <a:pathLst>
                  <a:path w="54" h="70">
                    <a:moveTo>
                      <a:pt x="0" y="62"/>
                    </a:moveTo>
                    <a:cubicBezTo>
                      <a:pt x="0" y="0"/>
                      <a:pt x="0" y="0"/>
                      <a:pt x="0" y="0"/>
                    </a:cubicBezTo>
                    <a:cubicBezTo>
                      <a:pt x="54" y="0"/>
                      <a:pt x="54" y="0"/>
                      <a:pt x="54" y="0"/>
                    </a:cubicBezTo>
                    <a:cubicBezTo>
                      <a:pt x="54" y="70"/>
                      <a:pt x="54" y="70"/>
                      <a:pt x="54" y="70"/>
                    </a:cubicBezTo>
                    <a:cubicBezTo>
                      <a:pt x="36" y="70"/>
                      <a:pt x="17" y="67"/>
                      <a:pt x="0" y="62"/>
                    </a:cubicBezTo>
                    <a:close/>
                  </a:path>
                </a:pathLst>
              </a:custGeom>
              <a:solidFill>
                <a:srgbClr val="dad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3" name="PA-任意多边形 67"/>
              <p:cNvSpPr/>
              <p:nvPr/>
            </p:nvSpPr>
            <p:spPr>
              <a:xfrm>
                <a:off x="6139080" y="4225320"/>
                <a:ext cx="243720" cy="187560"/>
              </a:xfrm>
              <a:custGeom>
                <a:avLst/>
                <a:gdLst/>
                <a:ahLst/>
                <a:rect l="l" t="t" r="r" b="b"/>
                <a:pathLst>
                  <a:path w="210" h="133">
                    <a:moveTo>
                      <a:pt x="0" y="26"/>
                    </a:moveTo>
                    <a:lnTo>
                      <a:pt x="106" y="133"/>
                    </a:lnTo>
                    <a:lnTo>
                      <a:pt x="210" y="22"/>
                    </a:lnTo>
                    <a:lnTo>
                      <a:pt x="106" y="0"/>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4" name="PA-任意多边形 68"/>
              <p:cNvSpPr/>
              <p:nvPr/>
            </p:nvSpPr>
            <p:spPr>
              <a:xfrm>
                <a:off x="6203880" y="4293000"/>
                <a:ext cx="112320" cy="632160"/>
              </a:xfrm>
              <a:custGeom>
                <a:avLst/>
                <a:gdLst/>
                <a:ahLst/>
                <a:rect l="l" t="t" r="r" b="b"/>
                <a:pathLst>
                  <a:path w="97" h="448">
                    <a:moveTo>
                      <a:pt x="0" y="273"/>
                    </a:moveTo>
                    <a:lnTo>
                      <a:pt x="50" y="0"/>
                    </a:lnTo>
                    <a:lnTo>
                      <a:pt x="97" y="282"/>
                    </a:lnTo>
                    <a:lnTo>
                      <a:pt x="52" y="448"/>
                    </a:lnTo>
                    <a:lnTo>
                      <a:pt x="0" y="273"/>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5" name="PA-任意多边形 69"/>
              <p:cNvSpPr/>
              <p:nvPr/>
            </p:nvSpPr>
            <p:spPr>
              <a:xfrm>
                <a:off x="5795280" y="2846520"/>
                <a:ext cx="469080" cy="1190880"/>
              </a:xfrm>
              <a:custGeom>
                <a:avLst/>
                <a:gdLst/>
                <a:ahLst/>
                <a:rect l="l" t="t" r="r" b="b"/>
                <a:pathLst>
                  <a:path w="171" h="356">
                    <a:moveTo>
                      <a:pt x="171" y="356"/>
                    </a:moveTo>
                    <a:cubicBezTo>
                      <a:pt x="102" y="348"/>
                      <a:pt x="37" y="294"/>
                      <a:pt x="16" y="203"/>
                    </a:cubicBezTo>
                    <a:cubicBezTo>
                      <a:pt x="2" y="145"/>
                      <a:pt x="0" y="93"/>
                      <a:pt x="21" y="59"/>
                    </a:cubicBezTo>
                    <a:cubicBezTo>
                      <a:pt x="50" y="11"/>
                      <a:pt x="112" y="1"/>
                      <a:pt x="171" y="0"/>
                    </a:cubicBezTo>
                    <a:lnTo>
                      <a:pt x="171" y="356"/>
                    </a:ln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6" name="PA-任意多边形 70"/>
              <p:cNvSpPr/>
              <p:nvPr/>
            </p:nvSpPr>
            <p:spPr>
              <a:xfrm>
                <a:off x="5866200" y="3127320"/>
                <a:ext cx="777960" cy="1131480"/>
              </a:xfrm>
              <a:custGeom>
                <a:avLst/>
                <a:gdLst/>
                <a:ahLst/>
                <a:rect l="l" t="t" r="r" b="b"/>
                <a:pathLst>
                  <a:path w="283" h="338">
                    <a:moveTo>
                      <a:pt x="142" y="0"/>
                    </a:moveTo>
                    <a:cubicBezTo>
                      <a:pt x="145" y="0"/>
                      <a:pt x="148" y="0"/>
                      <a:pt x="151" y="0"/>
                    </a:cubicBezTo>
                    <a:cubicBezTo>
                      <a:pt x="246" y="0"/>
                      <a:pt x="246" y="0"/>
                      <a:pt x="246" y="0"/>
                    </a:cubicBezTo>
                    <a:cubicBezTo>
                      <a:pt x="253" y="33"/>
                      <a:pt x="253" y="33"/>
                      <a:pt x="253" y="33"/>
                    </a:cubicBezTo>
                    <a:cubicBezTo>
                      <a:pt x="282" y="67"/>
                      <a:pt x="282" y="67"/>
                      <a:pt x="282" y="67"/>
                    </a:cubicBezTo>
                    <a:cubicBezTo>
                      <a:pt x="282" y="93"/>
                      <a:pt x="283" y="118"/>
                      <a:pt x="282" y="143"/>
                    </a:cubicBezTo>
                    <a:cubicBezTo>
                      <a:pt x="268" y="338"/>
                      <a:pt x="21" y="336"/>
                      <a:pt x="3" y="141"/>
                    </a:cubicBezTo>
                    <a:cubicBezTo>
                      <a:pt x="0" y="105"/>
                      <a:pt x="4" y="67"/>
                      <a:pt x="4" y="32"/>
                    </a:cubicBezTo>
                    <a:cubicBezTo>
                      <a:pt x="25" y="0"/>
                      <a:pt x="25" y="0"/>
                      <a:pt x="25" y="0"/>
                    </a:cubicBezTo>
                    <a:cubicBezTo>
                      <a:pt x="133" y="0"/>
                      <a:pt x="133" y="0"/>
                      <a:pt x="133" y="0"/>
                    </a:cubicBezTo>
                    <a:cubicBezTo>
                      <a:pt x="136" y="0"/>
                      <a:pt x="139" y="0"/>
                      <a:pt x="142" y="0"/>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7" name="PA-任意多边形 71"/>
              <p:cNvSpPr/>
              <p:nvPr/>
            </p:nvSpPr>
            <p:spPr>
              <a:xfrm>
                <a:off x="5866200" y="3127320"/>
                <a:ext cx="398160" cy="968040"/>
              </a:xfrm>
              <a:custGeom>
                <a:avLst/>
                <a:gdLst/>
                <a:ahLst/>
                <a:rect l="l" t="t" r="r" b="b"/>
                <a:pathLst>
                  <a:path w="145" h="289">
                    <a:moveTo>
                      <a:pt x="142" y="0"/>
                    </a:moveTo>
                    <a:cubicBezTo>
                      <a:pt x="143" y="0"/>
                      <a:pt x="144" y="0"/>
                      <a:pt x="145" y="0"/>
                    </a:cubicBezTo>
                    <a:cubicBezTo>
                      <a:pt x="145" y="288"/>
                      <a:pt x="145" y="288"/>
                      <a:pt x="145" y="288"/>
                    </a:cubicBezTo>
                    <a:cubicBezTo>
                      <a:pt x="79" y="289"/>
                      <a:pt x="12" y="239"/>
                      <a:pt x="3" y="141"/>
                    </a:cubicBezTo>
                    <a:cubicBezTo>
                      <a:pt x="0" y="105"/>
                      <a:pt x="4" y="67"/>
                      <a:pt x="4" y="32"/>
                    </a:cubicBezTo>
                    <a:cubicBezTo>
                      <a:pt x="25" y="0"/>
                      <a:pt x="25" y="0"/>
                      <a:pt x="25" y="0"/>
                    </a:cubicBezTo>
                    <a:cubicBezTo>
                      <a:pt x="133" y="0"/>
                      <a:pt x="133" y="0"/>
                      <a:pt x="133" y="0"/>
                    </a:cubicBezTo>
                    <a:cubicBezTo>
                      <a:pt x="136" y="0"/>
                      <a:pt x="139" y="0"/>
                      <a:pt x="142" y="0"/>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8" name="PA-任意多边形 72"/>
              <p:cNvSpPr/>
              <p:nvPr/>
            </p:nvSpPr>
            <p:spPr>
              <a:xfrm>
                <a:off x="5815080" y="3036960"/>
                <a:ext cx="861480" cy="421920"/>
              </a:xfrm>
              <a:custGeom>
                <a:avLst/>
                <a:gdLst/>
                <a:ahLst/>
                <a:rect l="l" t="t" r="r" b="b"/>
                <a:pathLst>
                  <a:path w="314" h="126">
                    <a:moveTo>
                      <a:pt x="314" y="75"/>
                    </a:moveTo>
                    <a:cubicBezTo>
                      <a:pt x="304" y="113"/>
                      <a:pt x="304" y="113"/>
                      <a:pt x="304" y="113"/>
                    </a:cubicBezTo>
                    <a:cubicBezTo>
                      <a:pt x="187" y="126"/>
                      <a:pt x="41" y="0"/>
                      <a:pt x="21" y="119"/>
                    </a:cubicBezTo>
                    <a:cubicBezTo>
                      <a:pt x="20" y="89"/>
                      <a:pt x="0" y="90"/>
                      <a:pt x="14" y="45"/>
                    </a:cubicBezTo>
                    <a:cubicBezTo>
                      <a:pt x="28" y="63"/>
                      <a:pt x="23" y="15"/>
                      <a:pt x="60" y="15"/>
                    </a:cubicBezTo>
                    <a:cubicBezTo>
                      <a:pt x="164" y="16"/>
                      <a:pt x="164" y="16"/>
                      <a:pt x="164" y="16"/>
                    </a:cubicBezTo>
                    <a:cubicBezTo>
                      <a:pt x="166" y="16"/>
                      <a:pt x="166" y="16"/>
                      <a:pt x="166" y="16"/>
                    </a:cubicBezTo>
                    <a:cubicBezTo>
                      <a:pt x="166" y="15"/>
                      <a:pt x="166" y="15"/>
                      <a:pt x="166" y="15"/>
                    </a:cubicBezTo>
                    <a:cubicBezTo>
                      <a:pt x="219" y="15"/>
                      <a:pt x="219" y="15"/>
                      <a:pt x="219" y="15"/>
                    </a:cubicBezTo>
                    <a:cubicBezTo>
                      <a:pt x="219" y="15"/>
                      <a:pt x="219" y="15"/>
                      <a:pt x="219" y="15"/>
                    </a:cubicBezTo>
                    <a:cubicBezTo>
                      <a:pt x="235" y="15"/>
                      <a:pt x="235" y="15"/>
                      <a:pt x="235" y="15"/>
                    </a:cubicBezTo>
                    <a:cubicBezTo>
                      <a:pt x="282" y="15"/>
                      <a:pt x="313" y="41"/>
                      <a:pt x="314" y="73"/>
                    </a:cubicBezTo>
                    <a:cubicBezTo>
                      <a:pt x="314" y="75"/>
                      <a:pt x="314" y="75"/>
                      <a:pt x="314" y="75"/>
                    </a:cubicBez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9" name="PA-任意多边形 73"/>
              <p:cNvSpPr/>
              <p:nvPr/>
            </p:nvSpPr>
            <p:spPr>
              <a:xfrm>
                <a:off x="6195960" y="3439080"/>
                <a:ext cx="101880" cy="405000"/>
              </a:xfrm>
              <a:custGeom>
                <a:avLst/>
                <a:gdLst/>
                <a:ahLst/>
                <a:rect l="l" t="t" r="r" b="b"/>
                <a:pathLst>
                  <a:path w="88" h="287">
                    <a:moveTo>
                      <a:pt x="62" y="0"/>
                    </a:moveTo>
                    <a:lnTo>
                      <a:pt x="0" y="287"/>
                    </a:lnTo>
                    <a:lnTo>
                      <a:pt x="88" y="275"/>
                    </a:lnTo>
                    <a:lnTo>
                      <a:pt x="62" y="0"/>
                    </a:ln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0" name="PA-任意多边形 74"/>
              <p:cNvSpPr/>
              <p:nvPr/>
            </p:nvSpPr>
            <p:spPr>
              <a:xfrm>
                <a:off x="5533920" y="4249080"/>
                <a:ext cx="464400" cy="880560"/>
              </a:xfrm>
              <a:custGeom>
                <a:avLst/>
                <a:gdLst/>
                <a:ahLst/>
                <a:rect l="l" t="t" r="r" b="b"/>
                <a:pathLst>
                  <a:path w="169" h="263">
                    <a:moveTo>
                      <a:pt x="165" y="15"/>
                    </a:moveTo>
                    <a:cubicBezTo>
                      <a:pt x="161" y="14"/>
                      <a:pt x="161" y="14"/>
                      <a:pt x="161" y="14"/>
                    </a:cubicBezTo>
                    <a:cubicBezTo>
                      <a:pt x="156" y="12"/>
                      <a:pt x="156" y="12"/>
                      <a:pt x="156" y="12"/>
                    </a:cubicBezTo>
                    <a:cubicBezTo>
                      <a:pt x="156" y="12"/>
                      <a:pt x="156" y="12"/>
                      <a:pt x="156" y="12"/>
                    </a:cubicBezTo>
                    <a:cubicBezTo>
                      <a:pt x="116" y="2"/>
                      <a:pt x="116" y="2"/>
                      <a:pt x="116" y="2"/>
                    </a:cubicBezTo>
                    <a:cubicBezTo>
                      <a:pt x="105" y="0"/>
                      <a:pt x="95" y="2"/>
                      <a:pt x="85" y="6"/>
                    </a:cubicBezTo>
                    <a:cubicBezTo>
                      <a:pt x="75" y="11"/>
                      <a:pt x="68" y="17"/>
                      <a:pt x="65" y="27"/>
                    </a:cubicBezTo>
                    <a:cubicBezTo>
                      <a:pt x="49" y="74"/>
                      <a:pt x="49" y="74"/>
                      <a:pt x="49" y="74"/>
                    </a:cubicBezTo>
                    <a:cubicBezTo>
                      <a:pt x="50" y="74"/>
                      <a:pt x="50" y="74"/>
                      <a:pt x="50" y="74"/>
                    </a:cubicBezTo>
                    <a:cubicBezTo>
                      <a:pt x="7" y="204"/>
                      <a:pt x="7" y="204"/>
                      <a:pt x="7" y="204"/>
                    </a:cubicBezTo>
                    <a:cubicBezTo>
                      <a:pt x="0" y="226"/>
                      <a:pt x="15" y="250"/>
                      <a:pt x="40" y="257"/>
                    </a:cubicBezTo>
                    <a:cubicBezTo>
                      <a:pt x="40" y="257"/>
                      <a:pt x="40" y="257"/>
                      <a:pt x="40" y="257"/>
                    </a:cubicBezTo>
                    <a:cubicBezTo>
                      <a:pt x="65" y="263"/>
                      <a:pt x="92" y="250"/>
                      <a:pt x="100" y="227"/>
                    </a:cubicBezTo>
                    <a:cubicBezTo>
                      <a:pt x="169" y="16"/>
                      <a:pt x="169" y="16"/>
                      <a:pt x="169" y="16"/>
                    </a:cubicBezTo>
                    <a:cubicBezTo>
                      <a:pt x="165" y="15"/>
                      <a:pt x="165" y="15"/>
                      <a:pt x="165" y="15"/>
                    </a:cubicBez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1" name="PA-任意多边形 75"/>
              <p:cNvSpPr/>
              <p:nvPr/>
            </p:nvSpPr>
            <p:spPr>
              <a:xfrm>
                <a:off x="5243400" y="4727520"/>
                <a:ext cx="587520" cy="392040"/>
              </a:xfrm>
              <a:custGeom>
                <a:avLst/>
                <a:gdLst/>
                <a:ahLst/>
                <a:rect l="l" t="t" r="r" b="b"/>
                <a:pathLst>
                  <a:path w="214" h="117">
                    <a:moveTo>
                      <a:pt x="213" y="31"/>
                    </a:moveTo>
                    <a:cubicBezTo>
                      <a:pt x="212" y="35"/>
                      <a:pt x="212" y="35"/>
                      <a:pt x="212" y="35"/>
                    </a:cubicBezTo>
                    <a:cubicBezTo>
                      <a:pt x="212" y="40"/>
                      <a:pt x="212" y="40"/>
                      <a:pt x="212" y="40"/>
                    </a:cubicBezTo>
                    <a:cubicBezTo>
                      <a:pt x="212" y="40"/>
                      <a:pt x="212" y="40"/>
                      <a:pt x="212" y="40"/>
                    </a:cubicBezTo>
                    <a:cubicBezTo>
                      <a:pt x="206" y="80"/>
                      <a:pt x="206" y="80"/>
                      <a:pt x="206" y="80"/>
                    </a:cubicBezTo>
                    <a:cubicBezTo>
                      <a:pt x="203" y="91"/>
                      <a:pt x="198" y="100"/>
                      <a:pt x="190" y="106"/>
                    </a:cubicBezTo>
                    <a:cubicBezTo>
                      <a:pt x="181" y="114"/>
                      <a:pt x="173" y="117"/>
                      <a:pt x="163" y="116"/>
                    </a:cubicBezTo>
                    <a:cubicBezTo>
                      <a:pt x="114" y="109"/>
                      <a:pt x="114" y="109"/>
                      <a:pt x="114" y="109"/>
                    </a:cubicBezTo>
                    <a:cubicBezTo>
                      <a:pt x="114" y="109"/>
                      <a:pt x="114" y="109"/>
                      <a:pt x="114" y="109"/>
                    </a:cubicBezTo>
                    <a:cubicBezTo>
                      <a:pt x="0" y="93"/>
                      <a:pt x="0" y="93"/>
                      <a:pt x="0" y="93"/>
                    </a:cubicBezTo>
                    <a:cubicBezTo>
                      <a:pt x="17" y="0"/>
                      <a:pt x="17" y="0"/>
                      <a:pt x="17" y="0"/>
                    </a:cubicBezTo>
                    <a:cubicBezTo>
                      <a:pt x="214" y="26"/>
                      <a:pt x="214" y="26"/>
                      <a:pt x="214" y="26"/>
                    </a:cubicBezTo>
                    <a:cubicBezTo>
                      <a:pt x="213" y="31"/>
                      <a:pt x="213" y="31"/>
                      <a:pt x="213" y="31"/>
                    </a:cubicBez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2" name="PA-任意多边形 76"/>
              <p:cNvSpPr/>
              <p:nvPr/>
            </p:nvSpPr>
            <p:spPr>
              <a:xfrm>
                <a:off x="6026400" y="4088160"/>
                <a:ext cx="235440" cy="258120"/>
              </a:xfrm>
              <a:custGeom>
                <a:avLst/>
                <a:gdLst/>
                <a:ahLst/>
                <a:rect l="l" t="t" r="r" b="b"/>
                <a:pathLst>
                  <a:path w="203" h="183">
                    <a:moveTo>
                      <a:pt x="71" y="0"/>
                    </a:moveTo>
                    <a:lnTo>
                      <a:pt x="0" y="21"/>
                    </a:lnTo>
                    <a:lnTo>
                      <a:pt x="64" y="183"/>
                    </a:lnTo>
                    <a:lnTo>
                      <a:pt x="203" y="97"/>
                    </a:lnTo>
                    <a:lnTo>
                      <a:pt x="71"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3" name="PA-任意多边形 77"/>
              <p:cNvSpPr/>
              <p:nvPr/>
            </p:nvSpPr>
            <p:spPr>
              <a:xfrm>
                <a:off x="6262200" y="4095360"/>
                <a:ext cx="233280" cy="244080"/>
              </a:xfrm>
              <a:custGeom>
                <a:avLst/>
                <a:gdLst/>
                <a:ahLst/>
                <a:rect l="l" t="t" r="r" b="b"/>
                <a:pathLst>
                  <a:path w="201" h="173">
                    <a:moveTo>
                      <a:pt x="133" y="0"/>
                    </a:moveTo>
                    <a:lnTo>
                      <a:pt x="201" y="16"/>
                    </a:lnTo>
                    <a:lnTo>
                      <a:pt x="137" y="173"/>
                    </a:lnTo>
                    <a:lnTo>
                      <a:pt x="0" y="92"/>
                    </a:lnTo>
                    <a:lnTo>
                      <a:pt x="133"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4" name="PA-任意多边形 78"/>
              <p:cNvSpPr/>
              <p:nvPr/>
            </p:nvSpPr>
            <p:spPr>
              <a:xfrm>
                <a:off x="6256440" y="4115160"/>
                <a:ext cx="324000" cy="1097640"/>
              </a:xfrm>
              <a:custGeom>
                <a:avLst/>
                <a:gdLst/>
                <a:ahLst/>
                <a:rect l="l" t="t" r="r" b="b"/>
                <a:pathLst>
                  <a:path w="279" h="778">
                    <a:moveTo>
                      <a:pt x="206" y="0"/>
                    </a:moveTo>
                    <a:lnTo>
                      <a:pt x="279" y="259"/>
                    </a:lnTo>
                    <a:lnTo>
                      <a:pt x="159" y="249"/>
                    </a:lnTo>
                    <a:lnTo>
                      <a:pt x="251" y="399"/>
                    </a:lnTo>
                    <a:lnTo>
                      <a:pt x="3" y="778"/>
                    </a:lnTo>
                    <a:lnTo>
                      <a:pt x="0" y="522"/>
                    </a:lnTo>
                    <a:lnTo>
                      <a:pt x="206" y="0"/>
                    </a:lnTo>
                    <a:close/>
                  </a:path>
                </a:pathLst>
              </a:custGeom>
              <a:solidFill>
                <a:srgbClr val="4c4c4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5" name="PA-任意多边形 79"/>
              <p:cNvSpPr/>
              <p:nvPr/>
            </p:nvSpPr>
            <p:spPr>
              <a:xfrm>
                <a:off x="5940360" y="4115160"/>
                <a:ext cx="324000" cy="1097640"/>
              </a:xfrm>
              <a:custGeom>
                <a:avLst/>
                <a:gdLst/>
                <a:ahLst/>
                <a:rect l="l" t="t" r="r" b="b"/>
                <a:pathLst>
                  <a:path w="279" h="778">
                    <a:moveTo>
                      <a:pt x="74" y="0"/>
                    </a:moveTo>
                    <a:lnTo>
                      <a:pt x="0" y="259"/>
                    </a:lnTo>
                    <a:lnTo>
                      <a:pt x="121" y="249"/>
                    </a:lnTo>
                    <a:lnTo>
                      <a:pt x="29" y="399"/>
                    </a:lnTo>
                    <a:lnTo>
                      <a:pt x="275" y="778"/>
                    </a:lnTo>
                    <a:lnTo>
                      <a:pt x="279" y="522"/>
                    </a:lnTo>
                    <a:lnTo>
                      <a:pt x="74" y="0"/>
                    </a:lnTo>
                    <a:close/>
                  </a:path>
                </a:pathLst>
              </a:custGeom>
              <a:solidFill>
                <a:srgbClr val="5e5e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6" name="PA-任意多边形 80"/>
              <p:cNvSpPr/>
              <p:nvPr/>
            </p:nvSpPr>
            <p:spPr>
              <a:xfrm>
                <a:off x="5028840" y="4690800"/>
                <a:ext cx="253080" cy="324360"/>
              </a:xfrm>
              <a:custGeom>
                <a:avLst/>
                <a:gdLst/>
                <a:ahLst/>
                <a:rect l="l" t="t" r="r" b="b"/>
                <a:pathLst>
                  <a:path w="92" h="97">
                    <a:moveTo>
                      <a:pt x="8" y="25"/>
                    </a:moveTo>
                    <a:cubicBezTo>
                      <a:pt x="1" y="67"/>
                      <a:pt x="1" y="67"/>
                      <a:pt x="1" y="67"/>
                    </a:cubicBezTo>
                    <a:cubicBezTo>
                      <a:pt x="0" y="76"/>
                      <a:pt x="7" y="85"/>
                      <a:pt x="17" y="87"/>
                    </a:cubicBezTo>
                    <a:cubicBezTo>
                      <a:pt x="38" y="90"/>
                      <a:pt x="38" y="90"/>
                      <a:pt x="38" y="90"/>
                    </a:cubicBezTo>
                    <a:cubicBezTo>
                      <a:pt x="52" y="92"/>
                      <a:pt x="81" y="97"/>
                      <a:pt x="85" y="75"/>
                    </a:cubicBezTo>
                    <a:cubicBezTo>
                      <a:pt x="91" y="38"/>
                      <a:pt x="91" y="38"/>
                      <a:pt x="91" y="38"/>
                    </a:cubicBezTo>
                    <a:cubicBezTo>
                      <a:pt x="92" y="28"/>
                      <a:pt x="85" y="19"/>
                      <a:pt x="75" y="17"/>
                    </a:cubicBezTo>
                    <a:cubicBezTo>
                      <a:pt x="59" y="15"/>
                      <a:pt x="12" y="0"/>
                      <a:pt x="8"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7" name="PA-任意多边形 83"/>
              <p:cNvSpPr/>
              <p:nvPr/>
            </p:nvSpPr>
            <p:spPr>
              <a:xfrm>
                <a:off x="4998600" y="4710600"/>
                <a:ext cx="140400" cy="87480"/>
              </a:xfrm>
              <a:custGeom>
                <a:avLst/>
                <a:gdLst/>
                <a:ahLst/>
                <a:rect l="l" t="t" r="r" b="b"/>
                <a:pathLst>
                  <a:path w="51" h="26">
                    <a:moveTo>
                      <a:pt x="1" y="10"/>
                    </a:moveTo>
                    <a:cubicBezTo>
                      <a:pt x="1" y="10"/>
                      <a:pt x="1" y="10"/>
                      <a:pt x="1" y="10"/>
                    </a:cubicBezTo>
                    <a:cubicBezTo>
                      <a:pt x="0" y="15"/>
                      <a:pt x="5" y="21"/>
                      <a:pt x="11" y="21"/>
                    </a:cubicBezTo>
                    <a:cubicBezTo>
                      <a:pt x="39" y="25"/>
                      <a:pt x="39" y="25"/>
                      <a:pt x="39" y="25"/>
                    </a:cubicBezTo>
                    <a:cubicBezTo>
                      <a:pt x="45" y="26"/>
                      <a:pt x="50" y="22"/>
                      <a:pt x="51" y="16"/>
                    </a:cubicBezTo>
                    <a:cubicBezTo>
                      <a:pt x="51" y="16"/>
                      <a:pt x="51" y="16"/>
                      <a:pt x="51" y="16"/>
                    </a:cubicBezTo>
                    <a:cubicBezTo>
                      <a:pt x="51" y="11"/>
                      <a:pt x="47" y="5"/>
                      <a:pt x="41" y="5"/>
                    </a:cubicBezTo>
                    <a:cubicBezTo>
                      <a:pt x="12" y="1"/>
                      <a:pt x="12" y="1"/>
                      <a:pt x="12" y="1"/>
                    </a:cubicBezTo>
                    <a:cubicBezTo>
                      <a:pt x="7" y="0"/>
                      <a:pt x="1" y="4"/>
                      <a:pt x="1" y="10"/>
                    </a:cubicBezTo>
                    <a:close/>
                  </a:path>
                </a:pathLst>
              </a:custGeom>
              <a:solidFill>
                <a:srgbClr val="fad9c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8" name="PA-任意多边形 84"/>
              <p:cNvSpPr/>
              <p:nvPr/>
            </p:nvSpPr>
            <p:spPr>
              <a:xfrm>
                <a:off x="4976640" y="4778280"/>
                <a:ext cx="170640" cy="90000"/>
              </a:xfrm>
              <a:custGeom>
                <a:avLst/>
                <a:gdLst/>
                <a:ahLst/>
                <a:rect l="l" t="t" r="r" b="b"/>
                <a:pathLst>
                  <a:path w="62" h="27">
                    <a:moveTo>
                      <a:pt x="1" y="9"/>
                    </a:moveTo>
                    <a:cubicBezTo>
                      <a:pt x="1" y="9"/>
                      <a:pt x="1" y="9"/>
                      <a:pt x="1" y="9"/>
                    </a:cubicBezTo>
                    <a:cubicBezTo>
                      <a:pt x="0" y="15"/>
                      <a:pt x="5" y="20"/>
                      <a:pt x="12" y="21"/>
                    </a:cubicBezTo>
                    <a:cubicBezTo>
                      <a:pt x="49" y="26"/>
                      <a:pt x="49" y="26"/>
                      <a:pt x="49" y="26"/>
                    </a:cubicBezTo>
                    <a:cubicBezTo>
                      <a:pt x="56" y="27"/>
                      <a:pt x="61" y="23"/>
                      <a:pt x="62" y="17"/>
                    </a:cubicBezTo>
                    <a:cubicBezTo>
                      <a:pt x="62" y="17"/>
                      <a:pt x="62" y="17"/>
                      <a:pt x="62" y="17"/>
                    </a:cubicBezTo>
                    <a:cubicBezTo>
                      <a:pt x="62" y="12"/>
                      <a:pt x="57" y="6"/>
                      <a:pt x="51" y="5"/>
                    </a:cubicBezTo>
                    <a:cubicBezTo>
                      <a:pt x="14" y="0"/>
                      <a:pt x="14" y="0"/>
                      <a:pt x="14" y="0"/>
                    </a:cubicBezTo>
                    <a:cubicBezTo>
                      <a:pt x="7" y="0"/>
                      <a:pt x="1" y="3"/>
                      <a:pt x="1" y="9"/>
                    </a:cubicBezTo>
                    <a:close/>
                  </a:path>
                </a:pathLst>
              </a:custGeom>
              <a:solidFill>
                <a:srgbClr val="fad9ca"/>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9" name="PA-任意多边形 85"/>
              <p:cNvSpPr/>
              <p:nvPr/>
            </p:nvSpPr>
            <p:spPr>
              <a:xfrm>
                <a:off x="4982400" y="4844520"/>
                <a:ext cx="156600" cy="87480"/>
              </a:xfrm>
              <a:custGeom>
                <a:avLst/>
                <a:gdLst/>
                <a:ahLst/>
                <a:rect l="l" t="t" r="r" b="b"/>
                <a:pathLst>
                  <a:path w="57" h="26">
                    <a:moveTo>
                      <a:pt x="1" y="10"/>
                    </a:moveTo>
                    <a:cubicBezTo>
                      <a:pt x="1" y="10"/>
                      <a:pt x="1" y="10"/>
                      <a:pt x="1" y="10"/>
                    </a:cubicBezTo>
                    <a:cubicBezTo>
                      <a:pt x="0" y="25"/>
                      <a:pt x="28" y="22"/>
                      <a:pt x="38" y="24"/>
                    </a:cubicBezTo>
                    <a:cubicBezTo>
                      <a:pt x="48" y="26"/>
                      <a:pt x="56" y="25"/>
                      <a:pt x="57" y="18"/>
                    </a:cubicBezTo>
                    <a:cubicBezTo>
                      <a:pt x="57" y="18"/>
                      <a:pt x="57" y="18"/>
                      <a:pt x="57" y="18"/>
                    </a:cubicBezTo>
                    <a:cubicBezTo>
                      <a:pt x="57" y="12"/>
                      <a:pt x="52" y="7"/>
                      <a:pt x="46" y="6"/>
                    </a:cubicBezTo>
                    <a:cubicBezTo>
                      <a:pt x="13" y="1"/>
                      <a:pt x="13" y="1"/>
                      <a:pt x="13" y="1"/>
                    </a:cubicBezTo>
                    <a:cubicBezTo>
                      <a:pt x="7" y="0"/>
                      <a:pt x="2" y="4"/>
                      <a:pt x="1" y="10"/>
                    </a:cubicBezTo>
                    <a:close/>
                  </a:path>
                </a:pathLst>
              </a:custGeom>
              <a:solidFill>
                <a:srgbClr val="fad9c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0" name="PA-任意多边形 91"/>
              <p:cNvSpPr/>
              <p:nvPr/>
            </p:nvSpPr>
            <p:spPr>
              <a:xfrm>
                <a:off x="5133240" y="4654080"/>
                <a:ext cx="112320" cy="133920"/>
              </a:xfrm>
              <a:custGeom>
                <a:avLst/>
                <a:gdLst/>
                <a:ahLst/>
                <a:rect l="l" t="t" r="r" b="b"/>
                <a:pathLst>
                  <a:path w="41" h="40">
                    <a:moveTo>
                      <a:pt x="4" y="6"/>
                    </a:moveTo>
                    <a:cubicBezTo>
                      <a:pt x="4" y="6"/>
                      <a:pt x="4" y="6"/>
                      <a:pt x="4" y="6"/>
                    </a:cubicBezTo>
                    <a:cubicBezTo>
                      <a:pt x="0" y="11"/>
                      <a:pt x="1" y="18"/>
                      <a:pt x="6" y="23"/>
                    </a:cubicBezTo>
                    <a:cubicBezTo>
                      <a:pt x="21" y="36"/>
                      <a:pt x="21" y="36"/>
                      <a:pt x="21" y="36"/>
                    </a:cubicBezTo>
                    <a:cubicBezTo>
                      <a:pt x="26" y="40"/>
                      <a:pt x="33" y="39"/>
                      <a:pt x="37" y="34"/>
                    </a:cubicBezTo>
                    <a:cubicBezTo>
                      <a:pt x="37" y="34"/>
                      <a:pt x="37" y="34"/>
                      <a:pt x="37" y="34"/>
                    </a:cubicBezTo>
                    <a:cubicBezTo>
                      <a:pt x="41" y="29"/>
                      <a:pt x="40" y="22"/>
                      <a:pt x="35" y="18"/>
                    </a:cubicBezTo>
                    <a:cubicBezTo>
                      <a:pt x="20" y="4"/>
                      <a:pt x="20" y="4"/>
                      <a:pt x="20" y="4"/>
                    </a:cubicBezTo>
                    <a:cubicBezTo>
                      <a:pt x="15" y="0"/>
                      <a:pt x="8" y="1"/>
                      <a:pt x="4" y="6"/>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1" name="PA-任意多边形 94"/>
              <p:cNvSpPr/>
              <p:nvPr/>
            </p:nvSpPr>
            <p:spPr>
              <a:xfrm>
                <a:off x="7239960" y="4690800"/>
                <a:ext cx="255240" cy="324360"/>
              </a:xfrm>
              <a:custGeom>
                <a:avLst/>
                <a:gdLst/>
                <a:ahLst/>
                <a:rect l="l" t="t" r="r" b="b"/>
                <a:pathLst>
                  <a:path w="93" h="97">
                    <a:moveTo>
                      <a:pt x="85" y="25"/>
                    </a:moveTo>
                    <a:cubicBezTo>
                      <a:pt x="91" y="67"/>
                      <a:pt x="91" y="67"/>
                      <a:pt x="91" y="67"/>
                    </a:cubicBezTo>
                    <a:cubicBezTo>
                      <a:pt x="93" y="76"/>
                      <a:pt x="85" y="85"/>
                      <a:pt x="75" y="87"/>
                    </a:cubicBezTo>
                    <a:cubicBezTo>
                      <a:pt x="55" y="90"/>
                      <a:pt x="55" y="90"/>
                      <a:pt x="55" y="90"/>
                    </a:cubicBezTo>
                    <a:cubicBezTo>
                      <a:pt x="40" y="92"/>
                      <a:pt x="11" y="97"/>
                      <a:pt x="8" y="75"/>
                    </a:cubicBezTo>
                    <a:cubicBezTo>
                      <a:pt x="2" y="38"/>
                      <a:pt x="2" y="38"/>
                      <a:pt x="2" y="38"/>
                    </a:cubicBezTo>
                    <a:cubicBezTo>
                      <a:pt x="0" y="28"/>
                      <a:pt x="8" y="19"/>
                      <a:pt x="18" y="17"/>
                    </a:cubicBezTo>
                    <a:cubicBezTo>
                      <a:pt x="34" y="15"/>
                      <a:pt x="81" y="0"/>
                      <a:pt x="85"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2" name="PA-任意多边形 95"/>
              <p:cNvSpPr/>
              <p:nvPr/>
            </p:nvSpPr>
            <p:spPr>
              <a:xfrm>
                <a:off x="7245720" y="4714920"/>
                <a:ext cx="90360" cy="122760"/>
              </a:xfrm>
              <a:custGeom>
                <a:avLst/>
                <a:gdLst/>
                <a:ahLst/>
                <a:rect l="l" t="t" r="r" b="b"/>
                <a:pathLst>
                  <a:path w="33" h="37">
                    <a:moveTo>
                      <a:pt x="27" y="4"/>
                    </a:moveTo>
                    <a:cubicBezTo>
                      <a:pt x="27" y="4"/>
                      <a:pt x="27" y="4"/>
                      <a:pt x="27" y="4"/>
                    </a:cubicBezTo>
                    <a:cubicBezTo>
                      <a:pt x="32" y="8"/>
                      <a:pt x="33" y="15"/>
                      <a:pt x="30" y="20"/>
                    </a:cubicBezTo>
                    <a:cubicBezTo>
                      <a:pt x="22" y="31"/>
                      <a:pt x="22" y="31"/>
                      <a:pt x="22" y="31"/>
                    </a:cubicBezTo>
                    <a:cubicBezTo>
                      <a:pt x="19" y="36"/>
                      <a:pt x="11" y="37"/>
                      <a:pt x="6" y="33"/>
                    </a:cubicBezTo>
                    <a:cubicBezTo>
                      <a:pt x="6" y="33"/>
                      <a:pt x="6" y="33"/>
                      <a:pt x="6" y="33"/>
                    </a:cubicBezTo>
                    <a:cubicBezTo>
                      <a:pt x="1" y="30"/>
                      <a:pt x="0" y="22"/>
                      <a:pt x="4" y="17"/>
                    </a:cubicBezTo>
                    <a:cubicBezTo>
                      <a:pt x="11" y="7"/>
                      <a:pt x="11" y="7"/>
                      <a:pt x="11" y="7"/>
                    </a:cubicBezTo>
                    <a:cubicBezTo>
                      <a:pt x="15" y="2"/>
                      <a:pt x="22" y="0"/>
                      <a:pt x="27" y="4"/>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3" name="PA-任意多边形 96"/>
              <p:cNvSpPr/>
              <p:nvPr/>
            </p:nvSpPr>
            <p:spPr>
              <a:xfrm>
                <a:off x="7366680" y="4730400"/>
                <a:ext cx="110160" cy="255240"/>
              </a:xfrm>
              <a:custGeom>
                <a:avLst/>
                <a:gdLst/>
                <a:ahLst/>
                <a:rect l="l" t="t" r="r" b="b"/>
                <a:pathLst>
                  <a:path w="40" h="76">
                    <a:moveTo>
                      <a:pt x="11" y="76"/>
                    </a:moveTo>
                    <a:cubicBezTo>
                      <a:pt x="10" y="76"/>
                      <a:pt x="10" y="75"/>
                      <a:pt x="10" y="74"/>
                    </a:cubicBezTo>
                    <a:cubicBezTo>
                      <a:pt x="10" y="74"/>
                      <a:pt x="10" y="74"/>
                      <a:pt x="10" y="74"/>
                    </a:cubicBezTo>
                    <a:cubicBezTo>
                      <a:pt x="10" y="69"/>
                      <a:pt x="13" y="65"/>
                      <a:pt x="18" y="63"/>
                    </a:cubicBezTo>
                    <a:cubicBezTo>
                      <a:pt x="16" y="63"/>
                      <a:pt x="16" y="63"/>
                      <a:pt x="16" y="63"/>
                    </a:cubicBezTo>
                    <a:cubicBezTo>
                      <a:pt x="10" y="64"/>
                      <a:pt x="4" y="60"/>
                      <a:pt x="3" y="54"/>
                    </a:cubicBezTo>
                    <a:cubicBezTo>
                      <a:pt x="3" y="54"/>
                      <a:pt x="3" y="54"/>
                      <a:pt x="3" y="54"/>
                    </a:cubicBezTo>
                    <a:cubicBezTo>
                      <a:pt x="3" y="49"/>
                      <a:pt x="7" y="45"/>
                      <a:pt x="12" y="43"/>
                    </a:cubicBezTo>
                    <a:cubicBezTo>
                      <a:pt x="6" y="43"/>
                      <a:pt x="1" y="39"/>
                      <a:pt x="0" y="34"/>
                    </a:cubicBezTo>
                    <a:cubicBezTo>
                      <a:pt x="0" y="34"/>
                      <a:pt x="0" y="34"/>
                      <a:pt x="0" y="34"/>
                    </a:cubicBezTo>
                    <a:cubicBezTo>
                      <a:pt x="0" y="28"/>
                      <a:pt x="5" y="23"/>
                      <a:pt x="11" y="22"/>
                    </a:cubicBezTo>
                    <a:cubicBezTo>
                      <a:pt x="13" y="22"/>
                      <a:pt x="13" y="22"/>
                      <a:pt x="13" y="22"/>
                    </a:cubicBezTo>
                    <a:cubicBezTo>
                      <a:pt x="8" y="21"/>
                      <a:pt x="4" y="18"/>
                      <a:pt x="3" y="13"/>
                    </a:cubicBezTo>
                    <a:cubicBezTo>
                      <a:pt x="3" y="13"/>
                      <a:pt x="3" y="13"/>
                      <a:pt x="3" y="13"/>
                    </a:cubicBezTo>
                    <a:cubicBezTo>
                      <a:pt x="3" y="7"/>
                      <a:pt x="7" y="2"/>
                      <a:pt x="14" y="1"/>
                    </a:cubicBezTo>
                    <a:cubicBezTo>
                      <a:pt x="23" y="0"/>
                      <a:pt x="23" y="0"/>
                      <a:pt x="23" y="0"/>
                    </a:cubicBezTo>
                    <a:cubicBezTo>
                      <a:pt x="25" y="0"/>
                      <a:pt x="27" y="1"/>
                      <a:pt x="29" y="2"/>
                    </a:cubicBezTo>
                    <a:cubicBezTo>
                      <a:pt x="33" y="5"/>
                      <a:pt x="36" y="9"/>
                      <a:pt x="37" y="15"/>
                    </a:cubicBezTo>
                    <a:cubicBezTo>
                      <a:pt x="40" y="56"/>
                      <a:pt x="40" y="56"/>
                      <a:pt x="40" y="56"/>
                    </a:cubicBezTo>
                    <a:cubicBezTo>
                      <a:pt x="40" y="57"/>
                      <a:pt x="40" y="57"/>
                      <a:pt x="40" y="58"/>
                    </a:cubicBezTo>
                    <a:cubicBezTo>
                      <a:pt x="39" y="66"/>
                      <a:pt x="31" y="74"/>
                      <a:pt x="21" y="75"/>
                    </a:cubicBezTo>
                    <a:lnTo>
                      <a:pt x="11" y="76"/>
                    </a:ln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4" name="PA-任意多边形 97"/>
              <p:cNvSpPr/>
              <p:nvPr/>
            </p:nvSpPr>
            <p:spPr>
              <a:xfrm>
                <a:off x="7382880" y="4710600"/>
                <a:ext cx="140400" cy="87480"/>
              </a:xfrm>
              <a:custGeom>
                <a:avLst/>
                <a:gdLst/>
                <a:ahLst/>
                <a:rect l="l" t="t" r="r" b="b"/>
                <a:pathLst>
                  <a:path w="51" h="26">
                    <a:moveTo>
                      <a:pt x="50" y="10"/>
                    </a:moveTo>
                    <a:cubicBezTo>
                      <a:pt x="50" y="10"/>
                      <a:pt x="50" y="10"/>
                      <a:pt x="50" y="10"/>
                    </a:cubicBezTo>
                    <a:cubicBezTo>
                      <a:pt x="51" y="15"/>
                      <a:pt x="47" y="21"/>
                      <a:pt x="41" y="21"/>
                    </a:cubicBezTo>
                    <a:cubicBezTo>
                      <a:pt x="12" y="25"/>
                      <a:pt x="12" y="25"/>
                      <a:pt x="12" y="25"/>
                    </a:cubicBezTo>
                    <a:cubicBezTo>
                      <a:pt x="6" y="26"/>
                      <a:pt x="1" y="22"/>
                      <a:pt x="0" y="16"/>
                    </a:cubicBezTo>
                    <a:cubicBezTo>
                      <a:pt x="0" y="16"/>
                      <a:pt x="0" y="16"/>
                      <a:pt x="0" y="16"/>
                    </a:cubicBezTo>
                    <a:cubicBezTo>
                      <a:pt x="0" y="11"/>
                      <a:pt x="4" y="5"/>
                      <a:pt x="10" y="5"/>
                    </a:cubicBezTo>
                    <a:cubicBezTo>
                      <a:pt x="39" y="1"/>
                      <a:pt x="39" y="1"/>
                      <a:pt x="39" y="1"/>
                    </a:cubicBezTo>
                    <a:cubicBezTo>
                      <a:pt x="45" y="0"/>
                      <a:pt x="50" y="4"/>
                      <a:pt x="50" y="10"/>
                    </a:cubicBezTo>
                    <a:close/>
                  </a:path>
                </a:pathLst>
              </a:custGeom>
              <a:solidFill>
                <a:srgbClr val="fad9c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5" name="PA-任意多边形 98"/>
              <p:cNvSpPr/>
              <p:nvPr/>
            </p:nvSpPr>
            <p:spPr>
              <a:xfrm>
                <a:off x="7374600" y="4778280"/>
                <a:ext cx="170640" cy="90000"/>
              </a:xfrm>
              <a:custGeom>
                <a:avLst/>
                <a:gdLst/>
                <a:ahLst/>
                <a:rect l="l" t="t" r="r" b="b"/>
                <a:pathLst>
                  <a:path w="62" h="27">
                    <a:moveTo>
                      <a:pt x="61" y="9"/>
                    </a:moveTo>
                    <a:cubicBezTo>
                      <a:pt x="61" y="9"/>
                      <a:pt x="61" y="9"/>
                      <a:pt x="61" y="9"/>
                    </a:cubicBezTo>
                    <a:cubicBezTo>
                      <a:pt x="62" y="15"/>
                      <a:pt x="57" y="20"/>
                      <a:pt x="50" y="21"/>
                    </a:cubicBezTo>
                    <a:cubicBezTo>
                      <a:pt x="13" y="26"/>
                      <a:pt x="13" y="26"/>
                      <a:pt x="13" y="26"/>
                    </a:cubicBezTo>
                    <a:cubicBezTo>
                      <a:pt x="7" y="27"/>
                      <a:pt x="1" y="23"/>
                      <a:pt x="1" y="17"/>
                    </a:cubicBezTo>
                    <a:cubicBezTo>
                      <a:pt x="1" y="17"/>
                      <a:pt x="1" y="17"/>
                      <a:pt x="1" y="17"/>
                    </a:cubicBezTo>
                    <a:cubicBezTo>
                      <a:pt x="0" y="12"/>
                      <a:pt x="5" y="6"/>
                      <a:pt x="12" y="5"/>
                    </a:cubicBezTo>
                    <a:cubicBezTo>
                      <a:pt x="49" y="0"/>
                      <a:pt x="49" y="0"/>
                      <a:pt x="49" y="0"/>
                    </a:cubicBezTo>
                    <a:cubicBezTo>
                      <a:pt x="55" y="0"/>
                      <a:pt x="61" y="3"/>
                      <a:pt x="61" y="9"/>
                    </a:cubicBezTo>
                    <a:close/>
                  </a:path>
                </a:pathLst>
              </a:custGeom>
              <a:solidFill>
                <a:srgbClr val="fad9ca"/>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6" name="PA-任意多边形 99"/>
              <p:cNvSpPr/>
              <p:nvPr/>
            </p:nvSpPr>
            <p:spPr>
              <a:xfrm>
                <a:off x="7382880" y="4844520"/>
                <a:ext cx="158760" cy="87480"/>
              </a:xfrm>
              <a:custGeom>
                <a:avLst/>
                <a:gdLst/>
                <a:ahLst/>
                <a:rect l="l" t="t" r="r" b="b"/>
                <a:pathLst>
                  <a:path w="58" h="26">
                    <a:moveTo>
                      <a:pt x="56" y="10"/>
                    </a:moveTo>
                    <a:cubicBezTo>
                      <a:pt x="56" y="10"/>
                      <a:pt x="56" y="10"/>
                      <a:pt x="56" y="10"/>
                    </a:cubicBezTo>
                    <a:cubicBezTo>
                      <a:pt x="58" y="25"/>
                      <a:pt x="30" y="22"/>
                      <a:pt x="20" y="24"/>
                    </a:cubicBezTo>
                    <a:cubicBezTo>
                      <a:pt x="10" y="26"/>
                      <a:pt x="1" y="25"/>
                      <a:pt x="1" y="18"/>
                    </a:cubicBezTo>
                    <a:cubicBezTo>
                      <a:pt x="1" y="18"/>
                      <a:pt x="1" y="18"/>
                      <a:pt x="1" y="18"/>
                    </a:cubicBezTo>
                    <a:cubicBezTo>
                      <a:pt x="0" y="12"/>
                      <a:pt x="5" y="7"/>
                      <a:pt x="11" y="6"/>
                    </a:cubicBezTo>
                    <a:cubicBezTo>
                      <a:pt x="44" y="1"/>
                      <a:pt x="44" y="1"/>
                      <a:pt x="44" y="1"/>
                    </a:cubicBezTo>
                    <a:cubicBezTo>
                      <a:pt x="50" y="0"/>
                      <a:pt x="56" y="4"/>
                      <a:pt x="56" y="10"/>
                    </a:cubicBezTo>
                    <a:close/>
                  </a:path>
                </a:pathLst>
              </a:custGeom>
              <a:solidFill>
                <a:srgbClr val="fad9c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7" name="PA-任意多边形 100"/>
              <p:cNvSpPr/>
              <p:nvPr/>
            </p:nvSpPr>
            <p:spPr>
              <a:xfrm>
                <a:off x="7402680" y="4912560"/>
                <a:ext cx="128880" cy="73080"/>
              </a:xfrm>
              <a:custGeom>
                <a:avLst/>
                <a:gdLst/>
                <a:ahLst/>
                <a:rect l="l" t="t" r="r" b="b"/>
                <a:pathLst>
                  <a:path w="47" h="22">
                    <a:moveTo>
                      <a:pt x="46" y="9"/>
                    </a:moveTo>
                    <a:cubicBezTo>
                      <a:pt x="46" y="9"/>
                      <a:pt x="46" y="9"/>
                      <a:pt x="46" y="9"/>
                    </a:cubicBezTo>
                    <a:cubicBezTo>
                      <a:pt x="47" y="22"/>
                      <a:pt x="31" y="19"/>
                      <a:pt x="22" y="20"/>
                    </a:cubicBezTo>
                    <a:cubicBezTo>
                      <a:pt x="12" y="21"/>
                      <a:pt x="1" y="22"/>
                      <a:pt x="0" y="15"/>
                    </a:cubicBezTo>
                    <a:cubicBezTo>
                      <a:pt x="0" y="15"/>
                      <a:pt x="0" y="15"/>
                      <a:pt x="0" y="15"/>
                    </a:cubicBezTo>
                    <a:cubicBezTo>
                      <a:pt x="0" y="10"/>
                      <a:pt x="4" y="5"/>
                      <a:pt x="10" y="4"/>
                    </a:cubicBezTo>
                    <a:cubicBezTo>
                      <a:pt x="35" y="1"/>
                      <a:pt x="35" y="1"/>
                      <a:pt x="35" y="1"/>
                    </a:cubicBezTo>
                    <a:cubicBezTo>
                      <a:pt x="41" y="0"/>
                      <a:pt x="46" y="4"/>
                      <a:pt x="46" y="9"/>
                    </a:cubicBezTo>
                    <a:close/>
                  </a:path>
                </a:pathLst>
              </a:custGeom>
              <a:solidFill>
                <a:srgbClr val="fad9c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8" name="PA-任意多边形 101"/>
              <p:cNvSpPr/>
              <p:nvPr/>
            </p:nvSpPr>
            <p:spPr>
              <a:xfrm>
                <a:off x="7388640" y="4730400"/>
                <a:ext cx="32400" cy="60480"/>
              </a:xfrm>
              <a:custGeom>
                <a:avLst/>
                <a:gdLst/>
                <a:ahLst/>
                <a:rect l="l" t="t" r="r" b="b"/>
                <a:pathLst>
                  <a:path w="12" h="18">
                    <a:moveTo>
                      <a:pt x="11" y="17"/>
                    </a:moveTo>
                    <a:cubicBezTo>
                      <a:pt x="11" y="17"/>
                      <a:pt x="11" y="17"/>
                      <a:pt x="11" y="17"/>
                    </a:cubicBezTo>
                    <a:cubicBezTo>
                      <a:pt x="6" y="18"/>
                      <a:pt x="1" y="15"/>
                      <a:pt x="1" y="10"/>
                    </a:cubicBezTo>
                    <a:cubicBezTo>
                      <a:pt x="1" y="10"/>
                      <a:pt x="1" y="10"/>
                      <a:pt x="1" y="10"/>
                    </a:cubicBezTo>
                    <a:cubicBezTo>
                      <a:pt x="0" y="5"/>
                      <a:pt x="4" y="1"/>
                      <a:pt x="9" y="0"/>
                    </a:cubicBezTo>
                    <a:cubicBezTo>
                      <a:pt x="10" y="0"/>
                      <a:pt x="10" y="0"/>
                      <a:pt x="10" y="0"/>
                    </a:cubicBezTo>
                    <a:cubicBezTo>
                      <a:pt x="11" y="2"/>
                      <a:pt x="12" y="5"/>
                      <a:pt x="12" y="8"/>
                    </a:cubicBezTo>
                    <a:cubicBezTo>
                      <a:pt x="12" y="11"/>
                      <a:pt x="12" y="14"/>
                      <a:pt x="11" y="17"/>
                    </a:cubicBezTo>
                    <a:close/>
                  </a:path>
                </a:pathLst>
              </a:custGeom>
              <a:solidFill>
                <a:srgbClr val="fad9ca"/>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9" name="PA-任意多边形 102"/>
              <p:cNvSpPr/>
              <p:nvPr/>
            </p:nvSpPr>
            <p:spPr>
              <a:xfrm>
                <a:off x="7380360" y="4800960"/>
                <a:ext cx="32400" cy="60480"/>
              </a:xfrm>
              <a:custGeom>
                <a:avLst/>
                <a:gdLst/>
                <a:ahLst/>
                <a:rect l="l" t="t" r="r" b="b"/>
                <a:pathLst>
                  <a:path w="12" h="18">
                    <a:moveTo>
                      <a:pt x="11" y="18"/>
                    </a:moveTo>
                    <a:cubicBezTo>
                      <a:pt x="11" y="18"/>
                      <a:pt x="11" y="18"/>
                      <a:pt x="11" y="18"/>
                    </a:cubicBezTo>
                    <a:cubicBezTo>
                      <a:pt x="6" y="18"/>
                      <a:pt x="1" y="15"/>
                      <a:pt x="1" y="10"/>
                    </a:cubicBezTo>
                    <a:cubicBezTo>
                      <a:pt x="1" y="10"/>
                      <a:pt x="1" y="10"/>
                      <a:pt x="1" y="10"/>
                    </a:cubicBezTo>
                    <a:cubicBezTo>
                      <a:pt x="0" y="5"/>
                      <a:pt x="4" y="1"/>
                      <a:pt x="10" y="0"/>
                    </a:cubicBezTo>
                    <a:cubicBezTo>
                      <a:pt x="10" y="0"/>
                      <a:pt x="10" y="0"/>
                      <a:pt x="10" y="0"/>
                    </a:cubicBezTo>
                    <a:cubicBezTo>
                      <a:pt x="11" y="3"/>
                      <a:pt x="12" y="5"/>
                      <a:pt x="12" y="8"/>
                    </a:cubicBezTo>
                    <a:cubicBezTo>
                      <a:pt x="12" y="11"/>
                      <a:pt x="12" y="14"/>
                      <a:pt x="11" y="18"/>
                    </a:cubicBezTo>
                    <a:close/>
                  </a:path>
                </a:pathLst>
              </a:custGeom>
              <a:solidFill>
                <a:srgbClr val="fad9ca"/>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0" name="PA-任意多边形 103"/>
              <p:cNvSpPr/>
              <p:nvPr/>
            </p:nvSpPr>
            <p:spPr>
              <a:xfrm>
                <a:off x="7388640" y="4868640"/>
                <a:ext cx="32400" cy="56160"/>
              </a:xfrm>
              <a:custGeom>
                <a:avLst/>
                <a:gdLst/>
                <a:ahLst/>
                <a:rect l="l" t="t" r="r" b="b"/>
                <a:pathLst>
                  <a:path w="12" h="17">
                    <a:moveTo>
                      <a:pt x="11" y="16"/>
                    </a:moveTo>
                    <a:cubicBezTo>
                      <a:pt x="11" y="16"/>
                      <a:pt x="11" y="16"/>
                      <a:pt x="11" y="16"/>
                    </a:cubicBezTo>
                    <a:cubicBezTo>
                      <a:pt x="6" y="17"/>
                      <a:pt x="1" y="14"/>
                      <a:pt x="1" y="9"/>
                    </a:cubicBezTo>
                    <a:cubicBezTo>
                      <a:pt x="1" y="9"/>
                      <a:pt x="1" y="9"/>
                      <a:pt x="1" y="9"/>
                    </a:cubicBezTo>
                    <a:cubicBezTo>
                      <a:pt x="0" y="5"/>
                      <a:pt x="4" y="1"/>
                      <a:pt x="9" y="0"/>
                    </a:cubicBezTo>
                    <a:cubicBezTo>
                      <a:pt x="10" y="0"/>
                      <a:pt x="10" y="0"/>
                      <a:pt x="10" y="0"/>
                    </a:cubicBezTo>
                    <a:cubicBezTo>
                      <a:pt x="11" y="3"/>
                      <a:pt x="12" y="5"/>
                      <a:pt x="12" y="7"/>
                    </a:cubicBezTo>
                    <a:cubicBezTo>
                      <a:pt x="12" y="10"/>
                      <a:pt x="12" y="13"/>
                      <a:pt x="11" y="16"/>
                    </a:cubicBezTo>
                    <a:close/>
                  </a:path>
                </a:pathLst>
              </a:custGeom>
              <a:solidFill>
                <a:srgbClr val="fad9ca"/>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1" name="PA-任意多边形 104"/>
              <p:cNvSpPr/>
              <p:nvPr/>
            </p:nvSpPr>
            <p:spPr>
              <a:xfrm>
                <a:off x="7396920" y="4932360"/>
                <a:ext cx="43920" cy="49320"/>
              </a:xfrm>
              <a:custGeom>
                <a:avLst/>
                <a:gdLst/>
                <a:ahLst/>
                <a:rect l="l" t="t" r="r" b="b"/>
                <a:pathLst>
                  <a:path w="16" h="15">
                    <a:moveTo>
                      <a:pt x="15" y="13"/>
                    </a:moveTo>
                    <a:cubicBezTo>
                      <a:pt x="14" y="13"/>
                      <a:pt x="14" y="13"/>
                      <a:pt x="14" y="13"/>
                    </a:cubicBezTo>
                    <a:cubicBezTo>
                      <a:pt x="1" y="15"/>
                      <a:pt x="0" y="1"/>
                      <a:pt x="13" y="0"/>
                    </a:cubicBezTo>
                    <a:cubicBezTo>
                      <a:pt x="14" y="0"/>
                      <a:pt x="14" y="0"/>
                      <a:pt x="14" y="0"/>
                    </a:cubicBezTo>
                    <a:cubicBezTo>
                      <a:pt x="15" y="1"/>
                      <a:pt x="15" y="3"/>
                      <a:pt x="15" y="5"/>
                    </a:cubicBezTo>
                    <a:cubicBezTo>
                      <a:pt x="16" y="8"/>
                      <a:pt x="16" y="11"/>
                      <a:pt x="15" y="13"/>
                    </a:cubicBezTo>
                    <a:close/>
                  </a:path>
                </a:pathLst>
              </a:custGeom>
              <a:solidFill>
                <a:srgbClr val="fad9ca"/>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2" name="PA-任意多边形 105"/>
              <p:cNvSpPr/>
              <p:nvPr/>
            </p:nvSpPr>
            <p:spPr>
              <a:xfrm>
                <a:off x="7275960" y="4654080"/>
                <a:ext cx="112320" cy="133920"/>
              </a:xfrm>
              <a:custGeom>
                <a:avLst/>
                <a:gdLst/>
                <a:ahLst/>
                <a:rect l="l" t="t" r="r" b="b"/>
                <a:pathLst>
                  <a:path w="41" h="40">
                    <a:moveTo>
                      <a:pt x="38" y="6"/>
                    </a:moveTo>
                    <a:cubicBezTo>
                      <a:pt x="38" y="6"/>
                      <a:pt x="38" y="6"/>
                      <a:pt x="38" y="6"/>
                    </a:cubicBezTo>
                    <a:cubicBezTo>
                      <a:pt x="41" y="11"/>
                      <a:pt x="40" y="18"/>
                      <a:pt x="36" y="23"/>
                    </a:cubicBezTo>
                    <a:cubicBezTo>
                      <a:pt x="20" y="36"/>
                      <a:pt x="20" y="36"/>
                      <a:pt x="20" y="36"/>
                    </a:cubicBezTo>
                    <a:cubicBezTo>
                      <a:pt x="15" y="40"/>
                      <a:pt x="8" y="39"/>
                      <a:pt x="4" y="34"/>
                    </a:cubicBezTo>
                    <a:cubicBezTo>
                      <a:pt x="4" y="34"/>
                      <a:pt x="4" y="34"/>
                      <a:pt x="4" y="34"/>
                    </a:cubicBezTo>
                    <a:cubicBezTo>
                      <a:pt x="0" y="29"/>
                      <a:pt x="1" y="22"/>
                      <a:pt x="6" y="18"/>
                    </a:cubicBezTo>
                    <a:cubicBezTo>
                      <a:pt x="21" y="4"/>
                      <a:pt x="21" y="4"/>
                      <a:pt x="21" y="4"/>
                    </a:cubicBezTo>
                    <a:cubicBezTo>
                      <a:pt x="26" y="0"/>
                      <a:pt x="34" y="1"/>
                      <a:pt x="38" y="6"/>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3" name="PA-任意多边形 106"/>
              <p:cNvSpPr/>
              <p:nvPr/>
            </p:nvSpPr>
            <p:spPr>
              <a:xfrm>
                <a:off x="7322400" y="4640040"/>
                <a:ext cx="156600" cy="84600"/>
              </a:xfrm>
              <a:custGeom>
                <a:avLst/>
                <a:gdLst/>
                <a:ahLst/>
                <a:rect l="l" t="t" r="r" b="b"/>
                <a:pathLst>
                  <a:path w="57" h="25">
                    <a:moveTo>
                      <a:pt x="12" y="25"/>
                    </a:moveTo>
                    <a:cubicBezTo>
                      <a:pt x="6" y="25"/>
                      <a:pt x="2" y="24"/>
                      <a:pt x="1" y="18"/>
                    </a:cubicBezTo>
                    <a:cubicBezTo>
                      <a:pt x="1" y="18"/>
                      <a:pt x="1" y="18"/>
                      <a:pt x="1" y="18"/>
                    </a:cubicBezTo>
                    <a:cubicBezTo>
                      <a:pt x="0" y="12"/>
                      <a:pt x="5" y="6"/>
                      <a:pt x="11" y="5"/>
                    </a:cubicBezTo>
                    <a:cubicBezTo>
                      <a:pt x="34" y="3"/>
                      <a:pt x="34" y="3"/>
                      <a:pt x="34" y="3"/>
                    </a:cubicBezTo>
                    <a:cubicBezTo>
                      <a:pt x="57" y="0"/>
                      <a:pt x="44" y="25"/>
                      <a:pt x="12" y="25"/>
                    </a:cubicBezTo>
                    <a:close/>
                  </a:path>
                </a:pathLst>
              </a:custGeom>
              <a:solidFill>
                <a:srgbClr val="f7c2ab"/>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4" name="PA-任意多边形 107"/>
              <p:cNvSpPr/>
              <p:nvPr/>
            </p:nvSpPr>
            <p:spPr>
              <a:xfrm>
                <a:off x="7388640" y="4647240"/>
                <a:ext cx="60120" cy="26640"/>
              </a:xfrm>
              <a:custGeom>
                <a:avLst/>
                <a:gdLst/>
                <a:ahLst/>
                <a:rect l="l" t="t" r="r" b="b"/>
                <a:pathLst>
                  <a:path w="22" h="8">
                    <a:moveTo>
                      <a:pt x="0" y="2"/>
                    </a:moveTo>
                    <a:cubicBezTo>
                      <a:pt x="10" y="1"/>
                      <a:pt x="10" y="1"/>
                      <a:pt x="10" y="1"/>
                    </a:cubicBezTo>
                    <a:cubicBezTo>
                      <a:pt x="17" y="0"/>
                      <a:pt x="22" y="2"/>
                      <a:pt x="20" y="5"/>
                    </a:cubicBezTo>
                    <a:cubicBezTo>
                      <a:pt x="12" y="8"/>
                      <a:pt x="1" y="7"/>
                      <a:pt x="0" y="2"/>
                    </a:cubicBezTo>
                    <a:close/>
                  </a:path>
                </a:pathLst>
              </a:custGeom>
              <a:solidFill>
                <a:srgbClr val="f7c2ab"/>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5" name="PA-任意多边形 108"/>
              <p:cNvSpPr/>
              <p:nvPr/>
            </p:nvSpPr>
            <p:spPr>
              <a:xfrm>
                <a:off x="6282000" y="3290760"/>
                <a:ext cx="360000" cy="138240"/>
              </a:xfrm>
              <a:custGeom>
                <a:avLst/>
                <a:gdLst/>
                <a:ahLst/>
                <a:rect l="l" t="t" r="r" b="b"/>
                <a:pathLst>
                  <a:path w="131" h="41">
                    <a:moveTo>
                      <a:pt x="131" y="38"/>
                    </a:moveTo>
                    <a:cubicBezTo>
                      <a:pt x="125" y="41"/>
                      <a:pt x="120" y="38"/>
                      <a:pt x="114" y="37"/>
                    </a:cubicBezTo>
                    <a:cubicBezTo>
                      <a:pt x="75" y="32"/>
                      <a:pt x="26" y="4"/>
                      <a:pt x="0" y="3"/>
                    </a:cubicBezTo>
                    <a:cubicBezTo>
                      <a:pt x="14" y="0"/>
                      <a:pt x="35" y="5"/>
                      <a:pt x="53" y="11"/>
                    </a:cubicBezTo>
                    <a:cubicBezTo>
                      <a:pt x="79" y="20"/>
                      <a:pt x="101" y="29"/>
                      <a:pt x="131" y="29"/>
                    </a:cubicBezTo>
                    <a:lnTo>
                      <a:pt x="131" y="38"/>
                    </a:lnTo>
                    <a:close/>
                  </a:path>
                </a:pathLst>
              </a:custGeom>
              <a:solidFill>
                <a:srgbClr val="f0e9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036" name="组合 83"/>
          <p:cNvGrpSpPr/>
          <p:nvPr/>
        </p:nvGrpSpPr>
        <p:grpSpPr>
          <a:xfrm>
            <a:off x="4422600" y="3740040"/>
            <a:ext cx="3702240" cy="970200"/>
            <a:chOff x="4422600" y="3740040"/>
            <a:chExt cx="3702240" cy="970200"/>
          </a:xfrm>
        </p:grpSpPr>
        <p:grpSp>
          <p:nvGrpSpPr>
            <p:cNvPr id="2037" name="组合 81"/>
            <p:cNvGrpSpPr/>
            <p:nvPr/>
          </p:nvGrpSpPr>
          <p:grpSpPr>
            <a:xfrm>
              <a:off x="4422600" y="3744720"/>
              <a:ext cx="1007280" cy="965520"/>
              <a:chOff x="4422600" y="3744720"/>
              <a:chExt cx="1007280" cy="965520"/>
            </a:xfrm>
          </p:grpSpPr>
          <p:sp>
            <p:nvSpPr>
              <p:cNvPr id="2038" name="PA-椭圆 175"/>
              <p:cNvSpPr/>
              <p:nvPr/>
            </p:nvSpPr>
            <p:spPr>
              <a:xfrm flipH="1">
                <a:off x="4422600" y="3744720"/>
                <a:ext cx="1007280" cy="965520"/>
              </a:xfrm>
              <a:prstGeom prst="ellipse">
                <a:avLst/>
              </a:prstGeom>
              <a:solidFill>
                <a:srgbClr val="43d5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9" name="任意多边形: 形状 76"/>
              <p:cNvSpPr/>
              <p:nvPr/>
            </p:nvSpPr>
            <p:spPr>
              <a:xfrm flipH="1">
                <a:off x="4422600" y="3981240"/>
                <a:ext cx="1007280" cy="729000"/>
              </a:xfrm>
              <a:custGeom>
                <a:avLst/>
                <a:gdLst/>
                <a:ahLst/>
                <a:rect l="l" t="t" r="r" b="b"/>
                <a:pathLst>
                  <a:path w="965950" h="729325">
                    <a:moveTo>
                      <a:pt x="896322" y="0"/>
                    </a:moveTo>
                    <a:lnTo>
                      <a:pt x="69628" y="0"/>
                    </a:lnTo>
                    <a:lnTo>
                      <a:pt x="37955" y="58354"/>
                    </a:lnTo>
                    <a:cubicBezTo>
                      <a:pt x="13515" y="116137"/>
                      <a:pt x="0" y="179665"/>
                      <a:pt x="0" y="246350"/>
                    </a:cubicBezTo>
                    <a:cubicBezTo>
                      <a:pt x="0" y="513090"/>
                      <a:pt x="216235" y="729325"/>
                      <a:pt x="482975" y="729325"/>
                    </a:cubicBezTo>
                    <a:cubicBezTo>
                      <a:pt x="749715" y="729325"/>
                      <a:pt x="965950" y="513090"/>
                      <a:pt x="965950" y="246350"/>
                    </a:cubicBezTo>
                    <a:cubicBezTo>
                      <a:pt x="965950" y="179665"/>
                      <a:pt x="952436" y="116137"/>
                      <a:pt x="927996" y="58354"/>
                    </a:cubicBezTo>
                    <a:close/>
                  </a:path>
                </a:pathLst>
              </a:custGeom>
              <a:solidFill>
                <a:srgbClr val="cef4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0" name="PA-任意多边形 42"/>
              <p:cNvSpPr/>
              <p:nvPr/>
            </p:nvSpPr>
            <p:spPr>
              <a:xfrm>
                <a:off x="4642560" y="4062240"/>
                <a:ext cx="571680" cy="425520"/>
              </a:xfrm>
              <a:custGeom>
                <a:avLst/>
                <a:gdLst/>
                <a:ahLst/>
                <a:rect l="l" t="t" r="r" b="b"/>
                <a:pathLst>
                  <a:path w="20580" h="20758">
                    <a:moveTo>
                      <a:pt x="11316" y="15681"/>
                    </a:moveTo>
                    <a:cubicBezTo>
                      <a:pt x="10444" y="15681"/>
                      <a:pt x="9737" y="14763"/>
                      <a:pt x="9737" y="13632"/>
                    </a:cubicBezTo>
                    <a:cubicBezTo>
                      <a:pt x="9737" y="12501"/>
                      <a:pt x="10444" y="11585"/>
                      <a:pt x="11316" y="11585"/>
                    </a:cubicBezTo>
                    <a:cubicBezTo>
                      <a:pt x="12189" y="11585"/>
                      <a:pt x="12896" y="12501"/>
                      <a:pt x="12896" y="13632"/>
                    </a:cubicBezTo>
                    <a:cubicBezTo>
                      <a:pt x="12896" y="14763"/>
                      <a:pt x="12189" y="15681"/>
                      <a:pt x="11316" y="15681"/>
                    </a:cubicBezTo>
                    <a:close/>
                    <a:moveTo>
                      <a:pt x="18009" y="2956"/>
                    </a:moveTo>
                    <a:cubicBezTo>
                      <a:pt x="14750" y="138"/>
                      <a:pt x="11090" y="-836"/>
                      <a:pt x="6751" y="781"/>
                    </a:cubicBezTo>
                    <a:cubicBezTo>
                      <a:pt x="3364" y="2045"/>
                      <a:pt x="258" y="7054"/>
                      <a:pt x="18" y="11348"/>
                    </a:cubicBezTo>
                    <a:cubicBezTo>
                      <a:pt x="-265" y="16419"/>
                      <a:pt x="2772" y="20764"/>
                      <a:pt x="8123" y="20757"/>
                    </a:cubicBezTo>
                    <a:cubicBezTo>
                      <a:pt x="13892" y="20749"/>
                      <a:pt x="16051" y="17148"/>
                      <a:pt x="16098" y="16053"/>
                    </a:cubicBezTo>
                    <a:cubicBezTo>
                      <a:pt x="16146" y="14957"/>
                      <a:pt x="13849" y="12933"/>
                      <a:pt x="15327" y="10853"/>
                    </a:cubicBezTo>
                    <a:cubicBezTo>
                      <a:pt x="17179" y="8245"/>
                      <a:pt x="18829" y="10466"/>
                      <a:pt x="19829" y="10154"/>
                    </a:cubicBezTo>
                    <a:cubicBezTo>
                      <a:pt x="20829" y="9841"/>
                      <a:pt x="21335" y="5836"/>
                      <a:pt x="18009" y="295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41" name="组合 82"/>
            <p:cNvGrpSpPr/>
            <p:nvPr/>
          </p:nvGrpSpPr>
          <p:grpSpPr>
            <a:xfrm>
              <a:off x="7117560" y="3740040"/>
              <a:ext cx="1007280" cy="965520"/>
              <a:chOff x="7117560" y="3740040"/>
              <a:chExt cx="1007280" cy="965520"/>
            </a:xfrm>
          </p:grpSpPr>
          <p:sp>
            <p:nvSpPr>
              <p:cNvPr id="2042" name="PA-椭圆 43"/>
              <p:cNvSpPr/>
              <p:nvPr/>
            </p:nvSpPr>
            <p:spPr>
              <a:xfrm flipH="1">
                <a:off x="7117560" y="3740040"/>
                <a:ext cx="1007280" cy="965520"/>
              </a:xfrm>
              <a:prstGeom prst="ellipse">
                <a:avLst/>
              </a:prstGeom>
              <a:solidFill>
                <a:srgbClr val="ebf1de"/>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3" name="任意多边形: 形状 79"/>
              <p:cNvSpPr/>
              <p:nvPr/>
            </p:nvSpPr>
            <p:spPr>
              <a:xfrm flipH="1">
                <a:off x="7132680" y="4334040"/>
                <a:ext cx="977400" cy="371520"/>
              </a:xfrm>
              <a:custGeom>
                <a:avLst/>
                <a:gdLst/>
                <a:ahLst/>
                <a:rect l="l" t="t" r="r" b="b"/>
                <a:pathLst>
                  <a:path w="937376" h="371224">
                    <a:moveTo>
                      <a:pt x="937376" y="0"/>
                    </a:moveTo>
                    <a:lnTo>
                      <a:pt x="0" y="0"/>
                    </a:lnTo>
                    <a:lnTo>
                      <a:pt x="23668" y="76245"/>
                    </a:lnTo>
                    <a:cubicBezTo>
                      <a:pt x="96987" y="249592"/>
                      <a:pt x="268633" y="371224"/>
                      <a:pt x="468688" y="371224"/>
                    </a:cubicBezTo>
                    <a:cubicBezTo>
                      <a:pt x="668743" y="371224"/>
                      <a:pt x="840389" y="249592"/>
                      <a:pt x="913709" y="76245"/>
                    </a:cubicBezTo>
                    <a:close/>
                  </a:path>
                </a:pathLst>
              </a:custGeom>
              <a:solidFill>
                <a:srgbClr val="9bbb59"/>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4" name="任意多边形 38"/>
              <p:cNvSpPr/>
              <p:nvPr/>
            </p:nvSpPr>
            <p:spPr>
              <a:xfrm>
                <a:off x="7362360" y="4030560"/>
                <a:ext cx="503280" cy="384120"/>
              </a:xfrm>
              <a:custGeom>
                <a:avLst/>
                <a:gdLst/>
                <a:ahLst/>
                <a:rect l="l" t="t" r="r" b="b"/>
                <a:pathLst>
                  <a:path w="21492" h="21472">
                    <a:moveTo>
                      <a:pt x="21150" y="257"/>
                    </a:moveTo>
                    <a:lnTo>
                      <a:pt x="16075" y="10636"/>
                    </a:lnTo>
                    <a:cubicBezTo>
                      <a:pt x="15886" y="11021"/>
                      <a:pt x="15517" y="11084"/>
                      <a:pt x="15255" y="10776"/>
                    </a:cubicBezTo>
                    <a:lnTo>
                      <a:pt x="12800" y="7890"/>
                    </a:lnTo>
                    <a:cubicBezTo>
                      <a:pt x="12537" y="7582"/>
                      <a:pt x="12160" y="7637"/>
                      <a:pt x="11960" y="8014"/>
                    </a:cubicBezTo>
                    <a:lnTo>
                      <a:pt x="8514" y="14538"/>
                    </a:lnTo>
                    <a:cubicBezTo>
                      <a:pt x="8316" y="14916"/>
                      <a:pt x="7936" y="14974"/>
                      <a:pt x="7669" y="14670"/>
                    </a:cubicBezTo>
                    <a:lnTo>
                      <a:pt x="6063" y="12832"/>
                    </a:lnTo>
                    <a:cubicBezTo>
                      <a:pt x="5798" y="12529"/>
                      <a:pt x="5397" y="12567"/>
                      <a:pt x="5171" y="12920"/>
                    </a:cubicBezTo>
                    <a:lnTo>
                      <a:pt x="116" y="20831"/>
                    </a:lnTo>
                    <a:cubicBezTo>
                      <a:pt x="-108" y="21184"/>
                      <a:pt x="3" y="21472"/>
                      <a:pt x="361" y="21472"/>
                    </a:cubicBezTo>
                    <a:lnTo>
                      <a:pt x="21492" y="21472"/>
                    </a:lnTo>
                    <a:lnTo>
                      <a:pt x="21492" y="379"/>
                    </a:lnTo>
                    <a:cubicBezTo>
                      <a:pt x="21492" y="-73"/>
                      <a:pt x="21338" y="-128"/>
                      <a:pt x="21150" y="25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045" name="PA-文本框 115"/>
          <p:cNvSpPr/>
          <p:nvPr/>
        </p:nvSpPr>
        <p:spPr>
          <a:xfrm>
            <a:off x="8169120" y="2517840"/>
            <a:ext cx="3687840" cy="4854600"/>
          </a:xfrm>
          <a:prstGeom prst="rect">
            <a:avLst/>
          </a:prstGeom>
          <a:noFill/>
          <a:ln w="0">
            <a:noFill/>
          </a:ln>
        </p:spPr>
        <p:style>
          <a:lnRef idx="0"/>
          <a:fillRef idx="0"/>
          <a:effectRef idx="0"/>
          <a:fontRef idx="minor"/>
        </p:style>
        <p:txBody>
          <a:bodyPr lIns="90000" rIns="90000" tIns="0" bIns="46800" anchor="t">
            <a:no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e78"/>
                </a:solidFill>
                <a:latin typeface="微软雅黑"/>
                <a:ea typeface="微软雅黑"/>
              </a:rPr>
              <a:t>（二）采购与付款循环控制测试工作底稿的编制 </a:t>
            </a:r>
            <a:endParaRPr b="1" lang="en-US" sz="24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        </a:t>
            </a:r>
            <a:r>
              <a:rPr b="1" lang="zh-CN" sz="2200" spc="-1" strike="noStrike">
                <a:solidFill>
                  <a:srgbClr val="000000"/>
                </a:solidFill>
                <a:latin typeface="Arial"/>
                <a:ea typeface="宋体"/>
              </a:rPr>
              <a:t>采购与付款循环控制测试工作底稿包括“采购与付款循环调查问卷”“采购管 理测试表”“付款管理测试表”等。</a:t>
            </a:r>
            <a:endParaRPr b="1" lang="en-US" sz="2200" spc="-1" strike="noStrike">
              <a:solidFill>
                <a:srgbClr val="000000"/>
              </a:solidFill>
              <a:latin typeface="Arial"/>
            </a:endParaRPr>
          </a:p>
        </p:txBody>
      </p:sp>
      <p:sp>
        <p:nvSpPr>
          <p:cNvPr id="2046" name="PA-文本框 115"/>
          <p:cNvSpPr/>
          <p:nvPr/>
        </p:nvSpPr>
        <p:spPr>
          <a:xfrm>
            <a:off x="334800" y="2517840"/>
            <a:ext cx="3969000" cy="3935520"/>
          </a:xfrm>
          <a:prstGeom prst="rect">
            <a:avLst/>
          </a:prstGeom>
          <a:noFill/>
          <a:ln w="0">
            <a:noFill/>
          </a:ln>
        </p:spPr>
        <p:style>
          <a:lnRef idx="0"/>
          <a:fillRef idx="0"/>
          <a:effectRef idx="0"/>
          <a:fontRef idx="minor"/>
        </p:style>
        <p:txBody>
          <a:bodyPr lIns="90000" rIns="90000" tIns="0" bIns="46800" anchor="t">
            <a:noAutofit/>
          </a:bodyPr>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e78"/>
                </a:solidFill>
                <a:latin typeface="微软雅黑"/>
                <a:ea typeface="微软雅黑"/>
              </a:rPr>
              <a:t>（一）采购与付款循环控制测试程序</a:t>
            </a:r>
            <a:endParaRPr b="1" lang="en-US" sz="2400" spc="-1" strike="noStrike">
              <a:solidFill>
                <a:srgbClr val="000000"/>
              </a:solidFill>
              <a:latin typeface="Arial"/>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ea typeface="宋体"/>
              </a:rPr>
              <a:t>采购与付款循环控制测试要求审计人员可以根据具体情 况，专业判断增加和减少相应程序，并把对常规程序的修改 记录在审计程序表中。</a:t>
            </a:r>
            <a:endParaRPr b="1" lang="en-US" sz="2200" spc="-1" strike="noStrike">
              <a:solidFill>
                <a:srgbClr val="000000"/>
              </a:solidFill>
              <a:latin typeface="Arial"/>
            </a:endParaRPr>
          </a:p>
        </p:txBody>
      </p:sp>
      <p:sp>
        <p:nvSpPr>
          <p:cNvPr id="2047" name="矩形 1"/>
          <p:cNvSpPr/>
          <p:nvPr/>
        </p:nvSpPr>
        <p:spPr>
          <a:xfrm>
            <a:off x="3648240" y="925560"/>
            <a:ext cx="474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Arial"/>
                <a:ea typeface="微软雅黑"/>
              </a:rPr>
              <a:t>工作过程描述</a:t>
            </a:r>
            <a:endParaRPr b="1" lang="en-US" sz="3200" spc="-1" strike="noStrike">
              <a:solidFill>
                <a:srgbClr val="000000"/>
              </a:solidFill>
              <a:latin typeface="Arial"/>
            </a:endParaRPr>
          </a:p>
        </p:txBody>
      </p:sp>
      <p:pic>
        <p:nvPicPr>
          <p:cNvPr id="2048" name="文本框 31" descr=""/>
          <p:cNvPicPr/>
          <p:nvPr/>
        </p:nvPicPr>
        <p:blipFill>
          <a:blip r:embed="rId1"/>
          <a:stretch/>
        </p:blipFill>
        <p:spPr>
          <a:xfrm>
            <a:off x="2384280" y="108000"/>
            <a:ext cx="7918560" cy="652320"/>
          </a:xfrm>
          <a:prstGeom prst="rect">
            <a:avLst/>
          </a:prstGeom>
          <a:ln w="0">
            <a:noFill/>
          </a:ln>
        </p:spPr>
      </p:pic>
      <p:sp>
        <p:nvSpPr>
          <p:cNvPr id="2049" name="矩形 1"/>
          <p:cNvSpPr/>
          <p:nvPr/>
        </p:nvSpPr>
        <p:spPr>
          <a:xfrm>
            <a:off x="2895480" y="1673280"/>
            <a:ext cx="665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三、采购与付款循环的控制测试</a:t>
            </a:r>
            <a:endParaRPr b="1" lang="en-US" sz="2800" spc="-1" strike="noStrike">
              <a:solidFill>
                <a:srgbClr val="000000"/>
              </a:solidFill>
              <a:latin typeface="Arial"/>
            </a:endParaRPr>
          </a:p>
        </p:txBody>
      </p:sp>
    </p:spTree>
  </p:cSld>
  <p:transition spd="slow">
    <p:fad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dur="indefinite" nodeType="afterEffect" fill="hold" presetClass="entr" presetID="12" presetSubtype="4">
                                  <p:stCondLst>
                                    <p:cond delay="0"/>
                                  </p:stCondLst>
                                  <p:childTnLst>
                                    <p:set>
                                      <p:cBhvr>
                                        <p:cTn id="117" dur="1" fill="hold">
                                          <p:stCondLst>
                                            <p:cond delay="0"/>
                                          </p:stCondLst>
                                        </p:cTn>
                                        <p:tgtEl>
                                          <p:spTgt spid="2045"/>
                                        </p:tgtEl>
                                        <p:attrNameLst>
                                          <p:attrName>style.visibility</p:attrName>
                                        </p:attrNameLst>
                                      </p:cBhvr>
                                      <p:to>
                                        <p:strVal val="visible"/>
                                      </p:to>
                                    </p:set>
                                    <p:anim calcmode="lin" valueType="num">
                                      <p:cBhvr additive="repl">
                                        <p:cTn id="118" dur="500"/>
                                        <p:tgtEl>
                                          <p:spTgt spid="2045"/>
                                        </p:tgtEl>
                                        <p:attrNameLst>
                                          <p:attrName>ppt_y</p:attrName>
                                        </p:attrNameLst>
                                      </p:cBhvr>
                                      <p:tavLst>
                                        <p:tav tm="0">
                                          <p:val>
                                            <p:strVal val="#ppt_y+#ppt_h*1.125000"/>
                                          </p:val>
                                        </p:tav>
                                        <p:tav tm="100000">
                                          <p:val>
                                            <p:strVal val="#ppt_y"/>
                                          </p:val>
                                        </p:tav>
                                      </p:tavLst>
                                    </p:anim>
                                    <p:animEffect filter="wipe(up)" transition="in">
                                      <p:cBhvr additive="repl">
                                        <p:cTn id="119" dur="500"/>
                                        <p:tgtEl>
                                          <p:spTgt spid="2045"/>
                                        </p:tgtEl>
                                      </p:cBhvr>
                                    </p:animEffect>
                                  </p:childTnLst>
                                </p:cTn>
                              </p:par>
                            </p:childTnLst>
                          </p:cTn>
                        </p:par>
                        <p:par>
                          <p:cTn id="120" fill="hold">
                            <p:stCondLst>
                              <p:cond delay="500"/>
                            </p:stCondLst>
                            <p:childTnLst>
                              <p:par>
                                <p:cTn id="121" dur="indefinite" nodeType="afterEffect" fill="hold" presetClass="entr" presetID="12" presetSubtype="4">
                                  <p:stCondLst>
                                    <p:cond delay="0"/>
                                  </p:stCondLst>
                                  <p:childTnLst>
                                    <p:set>
                                      <p:cBhvr>
                                        <p:cTn id="122" dur="1" fill="hold">
                                          <p:stCondLst>
                                            <p:cond delay="0"/>
                                          </p:stCondLst>
                                        </p:cTn>
                                        <p:tgtEl>
                                          <p:spTgt spid="2046"/>
                                        </p:tgtEl>
                                        <p:attrNameLst>
                                          <p:attrName>style.visibility</p:attrName>
                                        </p:attrNameLst>
                                      </p:cBhvr>
                                      <p:to>
                                        <p:strVal val="visible"/>
                                      </p:to>
                                    </p:set>
                                    <p:anim calcmode="lin" valueType="num">
                                      <p:cBhvr additive="repl">
                                        <p:cTn id="123" dur="500"/>
                                        <p:tgtEl>
                                          <p:spTgt spid="2046"/>
                                        </p:tgtEl>
                                        <p:attrNameLst>
                                          <p:attrName>ppt_y</p:attrName>
                                        </p:attrNameLst>
                                      </p:cBhvr>
                                      <p:tavLst>
                                        <p:tav tm="0">
                                          <p:val>
                                            <p:strVal val="#ppt_y+#ppt_h*1.125000"/>
                                          </p:val>
                                        </p:tav>
                                        <p:tav tm="100000">
                                          <p:val>
                                            <p:strVal val="#ppt_y"/>
                                          </p:val>
                                        </p:tav>
                                      </p:tavLst>
                                    </p:anim>
                                    <p:animEffect filter="wipe(up)" transition="in">
                                      <p:cBhvr additive="repl">
                                        <p:cTn id="124" dur="500"/>
                                        <p:tgtEl>
                                          <p:spTgt spid="2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0" name="组合 91"/>
          <p:cNvGrpSpPr/>
          <p:nvPr/>
        </p:nvGrpSpPr>
        <p:grpSpPr>
          <a:xfrm>
            <a:off x="736560" y="549360"/>
            <a:ext cx="10360080" cy="0"/>
            <a:chOff x="736560" y="549360"/>
            <a:chExt cx="10360080" cy="0"/>
          </a:xfrm>
        </p:grpSpPr>
        <p:sp>
          <p:nvSpPr>
            <p:cNvPr id="2051" name="直接连接符 92"/>
            <p:cNvSpPr/>
            <p:nvPr/>
          </p:nvSpPr>
          <p:spPr>
            <a:xfrm>
              <a:off x="736560" y="5493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52" name="直接连接符 93"/>
            <p:cNvSpPr/>
            <p:nvPr/>
          </p:nvSpPr>
          <p:spPr>
            <a:xfrm>
              <a:off x="9117360" y="5493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053" name="圆角矩形 4"/>
          <p:cNvSpPr/>
          <p:nvPr/>
        </p:nvSpPr>
        <p:spPr>
          <a:xfrm>
            <a:off x="1144440" y="2589120"/>
            <a:ext cx="5019840" cy="936720"/>
          </a:xfrm>
          <a:prstGeom prst="roundRect">
            <a:avLst>
              <a:gd name="adj" fmla="val 17778"/>
            </a:avLst>
          </a:prstGeom>
          <a:solidFill>
            <a:srgbClr val="00a7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1.</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表 </a:t>
            </a:r>
            <a:r>
              <a:rPr b="1" lang="en-US" sz="2400" spc="-1" strike="noStrike">
                <a:solidFill>
                  <a:srgbClr val="ffffff"/>
                </a:solidFill>
                <a:latin typeface="Arial"/>
                <a:ea typeface="黑体"/>
              </a:rPr>
              <a:t>6-1</a:t>
            </a:r>
            <a:r>
              <a:rPr b="1" lang="zh-CN" sz="2400" spc="-1" strike="noStrike">
                <a:solidFill>
                  <a:srgbClr val="ffffff"/>
                </a:solidFill>
                <a:latin typeface="Arial"/>
                <a:ea typeface="黑体"/>
              </a:rPr>
              <a:t>　采购与付款业务的关键内部控制点和重要控制程序（</a:t>
            </a:r>
            <a:r>
              <a:rPr b="1" lang="en-US" sz="2400" spc="-1" strike="noStrike">
                <a:solidFill>
                  <a:srgbClr val="ffffff"/>
                </a:solidFill>
                <a:latin typeface="Arial"/>
                <a:ea typeface="黑体"/>
              </a:rPr>
              <a:t>P150</a:t>
            </a:r>
            <a:r>
              <a:rPr b="1" lang="zh-CN" sz="2400" spc="-1" strike="noStrike">
                <a:solidFill>
                  <a:srgbClr val="ffffff"/>
                </a:solidFill>
                <a:latin typeface="Arial"/>
                <a:ea typeface="黑体"/>
              </a:rPr>
              <a:t>）</a:t>
            </a:r>
            <a:endParaRPr b="1" lang="en-US" sz="2400" spc="-1" strike="noStrike">
              <a:solidFill>
                <a:srgbClr val="000000"/>
              </a:solidFill>
              <a:latin typeface="Arial"/>
            </a:endParaRPr>
          </a:p>
        </p:txBody>
      </p:sp>
      <p:sp>
        <p:nvSpPr>
          <p:cNvPr id="2054" name="圆角矩形 5"/>
          <p:cNvSpPr/>
          <p:nvPr/>
        </p:nvSpPr>
        <p:spPr>
          <a:xfrm>
            <a:off x="1200240" y="3986280"/>
            <a:ext cx="5040360" cy="743040"/>
          </a:xfrm>
          <a:prstGeom prst="roundRect">
            <a:avLst>
              <a:gd name="adj" fmla="val 24361"/>
            </a:avLst>
          </a:prstGeom>
          <a:solidFill>
            <a:srgbClr val="5b9bd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2.</a:t>
            </a:r>
            <a:r>
              <a:rPr b="1" lang="zh-CN" sz="2400" spc="-1" strike="noStrike">
                <a:solidFill>
                  <a:srgbClr val="ffffff"/>
                </a:solidFill>
                <a:latin typeface="Arial"/>
                <a:ea typeface="黑体"/>
              </a:rPr>
              <a:t>表 </a:t>
            </a:r>
            <a:r>
              <a:rPr b="1" lang="en-US" sz="2400" spc="-1" strike="noStrike">
                <a:solidFill>
                  <a:srgbClr val="ffffff"/>
                </a:solidFill>
                <a:latin typeface="Arial"/>
                <a:ea typeface="黑体"/>
              </a:rPr>
              <a:t>6-2</a:t>
            </a:r>
            <a:r>
              <a:rPr b="1" lang="zh-CN" sz="2400" spc="-1" strike="noStrike">
                <a:solidFill>
                  <a:srgbClr val="ffffff"/>
                </a:solidFill>
                <a:latin typeface="Arial"/>
                <a:ea typeface="黑体"/>
              </a:rPr>
              <a:t>　采购与付款循环控制测试程序表（</a:t>
            </a:r>
            <a:r>
              <a:rPr b="1" lang="en-US" sz="2400" spc="-1" strike="noStrike">
                <a:solidFill>
                  <a:srgbClr val="ffffff"/>
                </a:solidFill>
                <a:latin typeface="Arial"/>
                <a:ea typeface="黑体"/>
              </a:rPr>
              <a:t>P150-151</a:t>
            </a:r>
            <a:r>
              <a:rPr b="1" lang="zh-CN" sz="2400" spc="-1" strike="noStrike">
                <a:solidFill>
                  <a:srgbClr val="ffffff"/>
                </a:solidFill>
                <a:latin typeface="Arial"/>
                <a:ea typeface="黑体"/>
              </a:rPr>
              <a:t>）</a:t>
            </a:r>
            <a:endParaRPr b="1" lang="en-US" sz="2400" spc="-1" strike="noStrike">
              <a:solidFill>
                <a:srgbClr val="000000"/>
              </a:solidFill>
              <a:latin typeface="Arial"/>
            </a:endParaRPr>
          </a:p>
        </p:txBody>
      </p:sp>
      <p:sp>
        <p:nvSpPr>
          <p:cNvPr id="2055" name="圆角矩形 12"/>
          <p:cNvSpPr/>
          <p:nvPr/>
        </p:nvSpPr>
        <p:spPr>
          <a:xfrm>
            <a:off x="7202520" y="3930480"/>
            <a:ext cx="4699080" cy="914760"/>
          </a:xfrm>
          <a:prstGeom prst="roundRect">
            <a:avLst>
              <a:gd name="adj" fmla="val 16667"/>
            </a:avLst>
          </a:prstGeom>
          <a:solidFill>
            <a:srgbClr val="0099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5.</a:t>
            </a:r>
            <a:r>
              <a:rPr b="1" lang="zh-CN" sz="2400" spc="-1" strike="noStrike">
                <a:solidFill>
                  <a:srgbClr val="ffffff"/>
                </a:solidFill>
                <a:latin typeface="Arial"/>
                <a:ea typeface="黑体"/>
              </a:rPr>
              <a:t>表 </a:t>
            </a:r>
            <a:r>
              <a:rPr b="1" lang="en-US" sz="2400" spc="-1" strike="noStrike">
                <a:solidFill>
                  <a:srgbClr val="ffffff"/>
                </a:solidFill>
                <a:latin typeface="Arial"/>
                <a:ea typeface="黑体"/>
              </a:rPr>
              <a:t>6-5</a:t>
            </a:r>
            <a:r>
              <a:rPr b="1" lang="zh-CN" sz="2400" spc="-1" strike="noStrike">
                <a:solidFill>
                  <a:srgbClr val="ffffff"/>
                </a:solidFill>
                <a:latin typeface="Arial"/>
                <a:ea typeface="黑体"/>
              </a:rPr>
              <a:t>　采购与付款循环控制测试之二</a:t>
            </a:r>
            <a:r>
              <a:rPr b="1" lang="en-US" sz="2400" spc="-1" strike="noStrike">
                <a:solidFill>
                  <a:srgbClr val="ffffff"/>
                </a:solidFill>
                <a:latin typeface="Arial"/>
                <a:ea typeface="黑体"/>
              </a:rPr>
              <a:t>——</a:t>
            </a:r>
            <a:r>
              <a:rPr b="1" lang="zh-CN" sz="2400" spc="-1" strike="noStrike">
                <a:solidFill>
                  <a:srgbClr val="ffffff"/>
                </a:solidFill>
                <a:latin typeface="Arial"/>
                <a:ea typeface="黑体"/>
              </a:rPr>
              <a:t>付款管理（</a:t>
            </a:r>
            <a:r>
              <a:rPr b="1" lang="en-US" sz="2400" spc="-1" strike="noStrike">
                <a:solidFill>
                  <a:srgbClr val="ffffff"/>
                </a:solidFill>
                <a:latin typeface="Arial"/>
                <a:ea typeface="黑体"/>
              </a:rPr>
              <a:t>P154</a:t>
            </a:r>
            <a:r>
              <a:rPr b="1" lang="zh-CN" sz="2400" spc="-1" strike="noStrike">
                <a:solidFill>
                  <a:srgbClr val="ffffff"/>
                </a:solidFill>
                <a:latin typeface="Arial"/>
                <a:ea typeface="黑体"/>
              </a:rPr>
              <a:t>）</a:t>
            </a:r>
            <a:endParaRPr b="1" lang="en-US" sz="2400" spc="-1" strike="noStrike">
              <a:solidFill>
                <a:srgbClr val="000000"/>
              </a:solidFill>
              <a:latin typeface="Arial"/>
            </a:endParaRPr>
          </a:p>
        </p:txBody>
      </p:sp>
      <p:sp>
        <p:nvSpPr>
          <p:cNvPr id="2056" name="圆角矩形 6"/>
          <p:cNvSpPr/>
          <p:nvPr/>
        </p:nvSpPr>
        <p:spPr>
          <a:xfrm>
            <a:off x="1150920" y="5315040"/>
            <a:ext cx="4968720" cy="769680"/>
          </a:xfrm>
          <a:prstGeom prst="roundRect">
            <a:avLst>
              <a:gd name="adj" fmla="val 16667"/>
            </a:avLst>
          </a:prstGeom>
          <a:solidFill>
            <a:srgbClr val="914f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3.</a:t>
            </a:r>
            <a:r>
              <a:rPr b="1" lang="zh-CN" sz="2400" spc="-1" strike="noStrike">
                <a:solidFill>
                  <a:srgbClr val="ffffff"/>
                </a:solidFill>
                <a:latin typeface="Arial"/>
                <a:ea typeface="黑体"/>
              </a:rPr>
              <a:t>表 </a:t>
            </a:r>
            <a:r>
              <a:rPr b="1" lang="en-US" sz="2400" spc="-1" strike="noStrike">
                <a:solidFill>
                  <a:srgbClr val="ffffff"/>
                </a:solidFill>
                <a:latin typeface="Arial"/>
                <a:ea typeface="黑体"/>
              </a:rPr>
              <a:t>6-3</a:t>
            </a:r>
            <a:r>
              <a:rPr b="1" lang="zh-CN" sz="2400" spc="-1" strike="noStrike">
                <a:solidFill>
                  <a:srgbClr val="ffffff"/>
                </a:solidFill>
                <a:latin typeface="Arial"/>
                <a:ea typeface="黑体"/>
              </a:rPr>
              <a:t>　采购与付款循环调查问卷（</a:t>
            </a:r>
            <a:r>
              <a:rPr b="1" lang="en-US" sz="2400" spc="-1" strike="noStrike">
                <a:solidFill>
                  <a:srgbClr val="ffffff"/>
                </a:solidFill>
                <a:latin typeface="Arial"/>
                <a:ea typeface="黑体"/>
              </a:rPr>
              <a:t>P151-152</a:t>
            </a:r>
            <a:r>
              <a:rPr b="1" lang="zh-CN" sz="2400" spc="-1" strike="noStrike">
                <a:solidFill>
                  <a:srgbClr val="ffffff"/>
                </a:solidFill>
                <a:latin typeface="Arial"/>
                <a:ea typeface="黑体"/>
              </a:rPr>
              <a:t>）</a:t>
            </a:r>
            <a:endParaRPr b="1" lang="en-US" sz="2400" spc="-1" strike="noStrike">
              <a:solidFill>
                <a:srgbClr val="000000"/>
              </a:solidFill>
              <a:latin typeface="Arial"/>
            </a:endParaRPr>
          </a:p>
        </p:txBody>
      </p:sp>
      <p:sp>
        <p:nvSpPr>
          <p:cNvPr id="2057" name="圆角矩形 10"/>
          <p:cNvSpPr/>
          <p:nvPr/>
        </p:nvSpPr>
        <p:spPr>
          <a:xfrm>
            <a:off x="7089840" y="2529000"/>
            <a:ext cx="4699080" cy="1039680"/>
          </a:xfrm>
          <a:prstGeom prst="roundRect">
            <a:avLst>
              <a:gd name="adj" fmla="val 16667"/>
            </a:avLst>
          </a:prstGeom>
          <a:solidFill>
            <a:srgbClr val="99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4.</a:t>
            </a:r>
            <a:r>
              <a:rPr b="1" lang="zh-CN" sz="2400" spc="-1" strike="noStrike">
                <a:solidFill>
                  <a:srgbClr val="ffffff"/>
                </a:solidFill>
                <a:latin typeface="Arial"/>
                <a:ea typeface="黑体"/>
              </a:rPr>
              <a:t>表 </a:t>
            </a:r>
            <a:r>
              <a:rPr b="1" lang="en-US" sz="2400" spc="-1" strike="noStrike">
                <a:solidFill>
                  <a:srgbClr val="ffffff"/>
                </a:solidFill>
                <a:latin typeface="Arial"/>
                <a:ea typeface="黑体"/>
              </a:rPr>
              <a:t>6-4</a:t>
            </a:r>
            <a:r>
              <a:rPr b="1" lang="zh-CN" sz="2400" spc="-1" strike="noStrike">
                <a:solidFill>
                  <a:srgbClr val="ffffff"/>
                </a:solidFill>
                <a:latin typeface="Arial"/>
                <a:ea typeface="黑体"/>
              </a:rPr>
              <a:t>　采购与付款循环控制测试之一</a:t>
            </a:r>
            <a:r>
              <a:rPr b="1" lang="en-US" sz="2400" spc="-1" strike="noStrike">
                <a:solidFill>
                  <a:srgbClr val="ffffff"/>
                </a:solidFill>
                <a:latin typeface="Arial"/>
                <a:ea typeface="黑体"/>
              </a:rPr>
              <a:t>——</a:t>
            </a:r>
            <a:r>
              <a:rPr b="1" lang="zh-CN" sz="2400" spc="-1" strike="noStrike">
                <a:solidFill>
                  <a:srgbClr val="ffffff"/>
                </a:solidFill>
                <a:latin typeface="Arial"/>
                <a:ea typeface="黑体"/>
              </a:rPr>
              <a:t>采购管理 （</a:t>
            </a:r>
            <a:r>
              <a:rPr b="1" lang="en-US" sz="2400" spc="-1" strike="noStrike">
                <a:solidFill>
                  <a:srgbClr val="ffffff"/>
                </a:solidFill>
                <a:latin typeface="Arial"/>
                <a:ea typeface="黑体"/>
              </a:rPr>
              <a:t>P153</a:t>
            </a:r>
            <a:r>
              <a:rPr b="1" lang="zh-CN" sz="2400" spc="-1" strike="noStrike">
                <a:solidFill>
                  <a:srgbClr val="ffffff"/>
                </a:solidFill>
                <a:latin typeface="Arial"/>
                <a:ea typeface="黑体"/>
              </a:rPr>
              <a:t>）</a:t>
            </a:r>
            <a:endParaRPr b="1" lang="en-US" sz="2400" spc="-1" strike="noStrike">
              <a:solidFill>
                <a:srgbClr val="000000"/>
              </a:solidFill>
              <a:latin typeface="Arial"/>
            </a:endParaRPr>
          </a:p>
        </p:txBody>
      </p:sp>
      <p:sp>
        <p:nvSpPr>
          <p:cNvPr id="2058" name="文本框 31"/>
          <p:cNvSpPr/>
          <p:nvPr/>
        </p:nvSpPr>
        <p:spPr>
          <a:xfrm>
            <a:off x="3187800" y="284040"/>
            <a:ext cx="5862600" cy="524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9" name="Title 6"/>
          <p:cNvSpPr/>
          <p:nvPr/>
        </p:nvSpPr>
        <p:spPr>
          <a:xfrm>
            <a:off x="623880" y="1633680"/>
            <a:ext cx="10325160" cy="621720"/>
          </a:xfrm>
          <a:prstGeom prst="rect">
            <a:avLst/>
          </a:prstGeom>
          <a:noFill/>
          <a:ln w="0">
            <a:noFill/>
          </a:ln>
        </p:spPr>
        <p:style>
          <a:lnRef idx="0"/>
          <a:fillRef idx="0"/>
          <a:effectRef idx="0"/>
          <a:fontRef idx="minor"/>
        </p:style>
        <p:txBody>
          <a:bodyPr lIns="72000" rIns="72000" tIns="36360" bIns="3636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ea typeface="黑体"/>
              </a:rPr>
              <a:t>编制采购与付款业务的关键内部控制，如表 </a:t>
            </a:r>
            <a:r>
              <a:rPr b="0" lang="en-US" sz="2400" spc="-1" strike="noStrike">
                <a:solidFill>
                  <a:srgbClr val="000000"/>
                </a:solidFill>
                <a:latin typeface="Arial Black"/>
                <a:ea typeface="黑体"/>
              </a:rPr>
              <a:t>6-1 ~ 6-5</a:t>
            </a:r>
            <a:r>
              <a:rPr b="0" lang="zh-CN" sz="2400" spc="-1" strike="noStrike">
                <a:solidFill>
                  <a:srgbClr val="000000"/>
                </a:solidFill>
                <a:latin typeface="Arial Black"/>
                <a:ea typeface="黑体"/>
              </a:rPr>
              <a:t>所示。</a:t>
            </a:r>
            <a:endParaRPr b="1" lang="en-US" sz="2400" spc="-1" strike="noStrike">
              <a:solidFill>
                <a:srgbClr val="000000"/>
              </a:solidFill>
              <a:latin typeface="Arial"/>
            </a:endParaRPr>
          </a:p>
        </p:txBody>
      </p:sp>
      <p:sp>
        <p:nvSpPr>
          <p:cNvPr id="2060" name="箭头: 下 2"/>
          <p:cNvSpPr/>
          <p:nvPr/>
        </p:nvSpPr>
        <p:spPr>
          <a:xfrm flipH="1">
            <a:off x="3222000" y="3624120"/>
            <a:ext cx="431640" cy="338400"/>
          </a:xfrm>
          <a:prstGeom prst="downArrow">
            <a:avLst>
              <a:gd name="adj1" fmla="val 50000"/>
              <a:gd name="adj2" fmla="val 50000"/>
            </a:avLst>
          </a:prstGeom>
          <a:solidFill>
            <a:srgbClr val="914f96"/>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1" name="箭头: 下 32"/>
          <p:cNvSpPr/>
          <p:nvPr/>
        </p:nvSpPr>
        <p:spPr>
          <a:xfrm flipH="1">
            <a:off x="9119520" y="3568680"/>
            <a:ext cx="431640" cy="338040"/>
          </a:xfrm>
          <a:prstGeom prst="downArrow">
            <a:avLst>
              <a:gd name="adj1" fmla="val 50000"/>
              <a:gd name="adj2" fmla="val 50000"/>
            </a:avLst>
          </a:prstGeom>
          <a:solidFill>
            <a:srgbClr val="914f96"/>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2" name="箭头: 下 33"/>
          <p:cNvSpPr/>
          <p:nvPr/>
        </p:nvSpPr>
        <p:spPr>
          <a:xfrm flipH="1">
            <a:off x="3202920" y="4954680"/>
            <a:ext cx="431640" cy="338040"/>
          </a:xfrm>
          <a:prstGeom prst="downArrow">
            <a:avLst>
              <a:gd name="adj1" fmla="val 50000"/>
              <a:gd name="adj2" fmla="val 50000"/>
            </a:avLst>
          </a:prstGeom>
          <a:solidFill>
            <a:srgbClr val="914f96"/>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063" name="文本框 31" descr=""/>
          <p:cNvPicPr/>
          <p:nvPr/>
        </p:nvPicPr>
        <p:blipFill>
          <a:blip r:embed="rId1"/>
          <a:stretch/>
        </p:blipFill>
        <p:spPr>
          <a:xfrm>
            <a:off x="2066760" y="160200"/>
            <a:ext cx="8067960" cy="652680"/>
          </a:xfrm>
          <a:prstGeom prst="rect">
            <a:avLst/>
          </a:prstGeom>
          <a:ln w="0">
            <a:noFill/>
          </a:ln>
        </p:spPr>
      </p:pic>
      <p:sp>
        <p:nvSpPr>
          <p:cNvPr id="2064" name="矩形 1"/>
          <p:cNvSpPr/>
          <p:nvPr/>
        </p:nvSpPr>
        <p:spPr>
          <a:xfrm>
            <a:off x="3678120" y="928800"/>
            <a:ext cx="471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工作过程示范</a:t>
            </a:r>
            <a:endParaRPr b="1" lang="en-US" sz="3200" spc="-1" strike="noStrike">
              <a:solidFill>
                <a:srgbClr val="000000"/>
              </a:solidFill>
              <a:latin typeface="Arial"/>
            </a:endParaRPr>
          </a:p>
        </p:txBody>
      </p:sp>
    </p:spTree>
  </p:cSld>
  <p:transition>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dur="indefinite" nodeType="afterEffect" fill="hold" presetClass="entr" presetID="12" presetSubtype="8">
                                  <p:stCondLst>
                                    <p:cond delay="0"/>
                                  </p:stCondLst>
                                  <p:childTnLst>
                                    <p:set>
                                      <p:cBhvr>
                                        <p:cTn id="130" dur="1" fill="hold">
                                          <p:stCondLst>
                                            <p:cond delay="0"/>
                                          </p:stCondLst>
                                        </p:cTn>
                                        <p:tgtEl>
                                          <p:spTgt spid="2056"/>
                                        </p:tgtEl>
                                        <p:attrNameLst>
                                          <p:attrName>style.visibility</p:attrName>
                                        </p:attrNameLst>
                                      </p:cBhvr>
                                      <p:to>
                                        <p:strVal val="visible"/>
                                      </p:to>
                                    </p:set>
                                    <p:anim calcmode="lin" valueType="num">
                                      <p:cBhvr additive="repl">
                                        <p:cTn id="131" dur="500"/>
                                        <p:tgtEl>
                                          <p:spTgt spid="2056"/>
                                        </p:tgtEl>
                                        <p:attrNameLst>
                                          <p:attrName>ppt_x</p:attrName>
                                        </p:attrNameLst>
                                      </p:cBhvr>
                                      <p:tavLst>
                                        <p:tav tm="0">
                                          <p:val>
                                            <p:strVal val="#ppt_x-#ppt_w*1.125000"/>
                                          </p:val>
                                        </p:tav>
                                        <p:tav tm="100000">
                                          <p:val>
                                            <p:strVal val="#ppt_x"/>
                                          </p:val>
                                        </p:tav>
                                      </p:tavLst>
                                    </p:anim>
                                    <p:animEffect filter="wipe(right)" transition="in">
                                      <p:cBhvr additive="repl">
                                        <p:cTn id="132" dur="500"/>
                                        <p:tgtEl>
                                          <p:spTgt spid="2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65" name="组合 112"/>
          <p:cNvGrpSpPr/>
          <p:nvPr/>
        </p:nvGrpSpPr>
        <p:grpSpPr>
          <a:xfrm>
            <a:off x="336600" y="1851120"/>
            <a:ext cx="8121240" cy="5040000"/>
            <a:chOff x="336600" y="1851120"/>
            <a:chExt cx="8121240" cy="5040000"/>
          </a:xfrm>
        </p:grpSpPr>
        <p:sp>
          <p:nvSpPr>
            <p:cNvPr id="2066" name="圆角矩形 113"/>
            <p:cNvSpPr/>
            <p:nvPr/>
          </p:nvSpPr>
          <p:spPr>
            <a:xfrm>
              <a:off x="447120" y="2114280"/>
              <a:ext cx="7890120" cy="4534200"/>
            </a:xfrm>
            <a:prstGeom prst="roundRect">
              <a:avLst>
                <a:gd name="adj" fmla="val 0"/>
              </a:avLst>
            </a:prstGeom>
            <a:noFill/>
            <a:ln w="15840">
              <a:solidFill>
                <a:srgbClr val="bdd7e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67" name="组合 114"/>
            <p:cNvGrpSpPr/>
            <p:nvPr/>
          </p:nvGrpSpPr>
          <p:grpSpPr>
            <a:xfrm>
              <a:off x="336600" y="1851120"/>
              <a:ext cx="414720" cy="532080"/>
              <a:chOff x="336600" y="1851120"/>
              <a:chExt cx="414720" cy="532080"/>
            </a:xfrm>
          </p:grpSpPr>
          <p:sp>
            <p:nvSpPr>
              <p:cNvPr id="2068" name="菱形 115"/>
              <p:cNvSpPr/>
              <p:nvPr/>
            </p:nvSpPr>
            <p:spPr>
              <a:xfrm>
                <a:off x="336600" y="1851120"/>
                <a:ext cx="271800" cy="50688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9" name="菱形 116"/>
              <p:cNvSpPr/>
              <p:nvPr/>
            </p:nvSpPr>
            <p:spPr>
              <a:xfrm>
                <a:off x="530640" y="1872360"/>
                <a:ext cx="220680" cy="51084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70" name="组合 117"/>
            <p:cNvGrpSpPr/>
            <p:nvPr/>
          </p:nvGrpSpPr>
          <p:grpSpPr>
            <a:xfrm>
              <a:off x="336600" y="6383160"/>
              <a:ext cx="463320" cy="507960"/>
              <a:chOff x="336600" y="6383160"/>
              <a:chExt cx="463320" cy="507960"/>
            </a:xfrm>
          </p:grpSpPr>
          <p:sp>
            <p:nvSpPr>
              <p:cNvPr id="2071" name="菱形 118"/>
              <p:cNvSpPr/>
              <p:nvPr/>
            </p:nvSpPr>
            <p:spPr>
              <a:xfrm>
                <a:off x="336600" y="6383160"/>
                <a:ext cx="271080" cy="50796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2" name="菱形 119"/>
              <p:cNvSpPr/>
              <p:nvPr/>
            </p:nvSpPr>
            <p:spPr>
              <a:xfrm>
                <a:off x="530280" y="6383160"/>
                <a:ext cx="269640" cy="50796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73" name="组合 120"/>
            <p:cNvGrpSpPr/>
            <p:nvPr/>
          </p:nvGrpSpPr>
          <p:grpSpPr>
            <a:xfrm>
              <a:off x="7984800" y="6383160"/>
              <a:ext cx="472680" cy="507960"/>
              <a:chOff x="7984800" y="6383160"/>
              <a:chExt cx="472680" cy="507960"/>
            </a:xfrm>
          </p:grpSpPr>
          <p:sp>
            <p:nvSpPr>
              <p:cNvPr id="2074" name="菱形 121"/>
              <p:cNvSpPr/>
              <p:nvPr/>
            </p:nvSpPr>
            <p:spPr>
              <a:xfrm flipH="1">
                <a:off x="8176680" y="6383160"/>
                <a:ext cx="280440" cy="50796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5" name="菱形 122"/>
              <p:cNvSpPr/>
              <p:nvPr/>
            </p:nvSpPr>
            <p:spPr>
              <a:xfrm flipH="1">
                <a:off x="7984800" y="6383160"/>
                <a:ext cx="282240" cy="50796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76" name="组合 123"/>
            <p:cNvGrpSpPr/>
            <p:nvPr/>
          </p:nvGrpSpPr>
          <p:grpSpPr>
            <a:xfrm>
              <a:off x="7994520" y="1877400"/>
              <a:ext cx="463320" cy="508320"/>
              <a:chOff x="7994520" y="1877400"/>
              <a:chExt cx="463320" cy="508320"/>
            </a:xfrm>
          </p:grpSpPr>
          <p:sp>
            <p:nvSpPr>
              <p:cNvPr id="2077" name="菱形 124"/>
              <p:cNvSpPr/>
              <p:nvPr/>
            </p:nvSpPr>
            <p:spPr>
              <a:xfrm flipH="1">
                <a:off x="8186400" y="1877400"/>
                <a:ext cx="271080" cy="508320"/>
              </a:xfrm>
              <a:prstGeom prst="diamond">
                <a:avLst/>
              </a:prstGeom>
              <a:solidFill>
                <a:srgbClr val="5b9bd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8" name="菱形 125"/>
              <p:cNvSpPr/>
              <p:nvPr/>
            </p:nvSpPr>
            <p:spPr>
              <a:xfrm flipH="1">
                <a:off x="7994160" y="1877400"/>
                <a:ext cx="269640" cy="508320"/>
              </a:xfrm>
              <a:prstGeom prst="diamond">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079" name="组合 28"/>
          <p:cNvGrpSpPr/>
          <p:nvPr/>
        </p:nvGrpSpPr>
        <p:grpSpPr>
          <a:xfrm>
            <a:off x="871560" y="549360"/>
            <a:ext cx="10359720" cy="0"/>
            <a:chOff x="871560" y="549360"/>
            <a:chExt cx="10359720" cy="0"/>
          </a:xfrm>
        </p:grpSpPr>
        <p:sp>
          <p:nvSpPr>
            <p:cNvPr id="2080" name="直接连接符 52"/>
            <p:cNvSpPr/>
            <p:nvPr/>
          </p:nvSpPr>
          <p:spPr>
            <a:xfrm>
              <a:off x="871560" y="5493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81" name="直接连接符 64"/>
            <p:cNvSpPr/>
            <p:nvPr/>
          </p:nvSpPr>
          <p:spPr>
            <a:xfrm>
              <a:off x="9251640" y="5493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082" name="文本框 2"/>
          <p:cNvSpPr/>
          <p:nvPr/>
        </p:nvSpPr>
        <p:spPr>
          <a:xfrm>
            <a:off x="4451400" y="1197000"/>
            <a:ext cx="3319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      </a:t>
            </a: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sp>
        <p:nvSpPr>
          <p:cNvPr id="2083" name="矩形 1"/>
          <p:cNvSpPr/>
          <p:nvPr/>
        </p:nvSpPr>
        <p:spPr>
          <a:xfrm>
            <a:off x="522360" y="2270160"/>
            <a:ext cx="7767720" cy="3119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e78"/>
                </a:solidFill>
                <a:latin typeface="Arial"/>
                <a:ea typeface="微软雅黑"/>
              </a:rPr>
              <a:t>一、应付账款的审计目标</a:t>
            </a:r>
            <a:endParaRPr b="1" lang="en-US" sz="28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Arial"/>
                <a:ea typeface="微软雅黑"/>
              </a:rPr>
              <a:t> </a:t>
            </a:r>
            <a:r>
              <a:rPr b="1" lang="zh-CN" sz="2400" spc="-1" strike="noStrike">
                <a:solidFill>
                  <a:srgbClr val="262626"/>
                </a:solidFill>
                <a:latin typeface="Arial"/>
                <a:ea typeface="微软雅黑"/>
              </a:rPr>
              <a:t>应付账款的审计目标如下： </a:t>
            </a:r>
            <a:endParaRPr b="1" lang="en-US" sz="2400" spc="-1" strike="noStrike">
              <a:solidFill>
                <a:srgbClr val="000000"/>
              </a:solidFill>
              <a:latin typeface="Arial"/>
            </a:endParaRPr>
          </a:p>
          <a:p>
            <a:pPr marL="285840" indent="-285840" algn="just">
              <a:lnSpc>
                <a:spcPct val="150000"/>
              </a:lnSpc>
              <a:spcBef>
                <a:spcPts val="751"/>
              </a:spcBef>
              <a:buClr>
                <a:srgbClr val="1f4e7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1. </a:t>
            </a:r>
            <a:r>
              <a:rPr b="0" lang="zh-CN" sz="2400" spc="-1" strike="noStrike">
                <a:solidFill>
                  <a:srgbClr val="262626"/>
                </a:solidFill>
                <a:latin typeface="Arial"/>
                <a:ea typeface="微软雅黑"/>
              </a:rPr>
              <a:t>确定期末应付账款是否存在，是否为被审计单位应履行的偿还义务。 </a:t>
            </a:r>
            <a:r>
              <a:rPr b="0" lang="en-US" sz="2400" spc="-1" strike="noStrike">
                <a:solidFill>
                  <a:srgbClr val="262626"/>
                </a:solidFill>
                <a:latin typeface="Arial"/>
                <a:ea typeface="微软雅黑"/>
              </a:rPr>
              <a:t>2. </a:t>
            </a:r>
            <a:r>
              <a:rPr b="0" lang="zh-CN" sz="2400" spc="-1" strike="noStrike">
                <a:solidFill>
                  <a:srgbClr val="262626"/>
                </a:solidFill>
                <a:latin typeface="Arial"/>
                <a:ea typeface="微软雅黑"/>
              </a:rPr>
              <a:t>确定应付账款的发生、偿还、转销记录是否完整。 </a:t>
            </a:r>
            <a:r>
              <a:rPr b="0" lang="en-US" sz="2400" spc="-1" strike="noStrike">
                <a:solidFill>
                  <a:srgbClr val="262626"/>
                </a:solidFill>
                <a:latin typeface="Arial"/>
                <a:ea typeface="微软雅黑"/>
              </a:rPr>
              <a:t>3. </a:t>
            </a:r>
            <a:r>
              <a:rPr b="0" lang="zh-CN" sz="2400" spc="-1" strike="noStrike">
                <a:solidFill>
                  <a:srgbClr val="262626"/>
                </a:solidFill>
                <a:latin typeface="Arial"/>
                <a:ea typeface="微软雅黑"/>
              </a:rPr>
              <a:t>确定应付账款的期末余额是否正确。 </a:t>
            </a:r>
            <a:r>
              <a:rPr b="0" lang="en-US" sz="2400" spc="-1" strike="noStrike">
                <a:solidFill>
                  <a:srgbClr val="262626"/>
                </a:solidFill>
                <a:latin typeface="Arial"/>
                <a:ea typeface="微软雅黑"/>
              </a:rPr>
              <a:t>4. </a:t>
            </a:r>
            <a:r>
              <a:rPr b="0" lang="zh-CN" sz="2400" spc="-1" strike="noStrike">
                <a:solidFill>
                  <a:srgbClr val="262626"/>
                </a:solidFill>
                <a:latin typeface="Arial"/>
                <a:ea typeface="微软雅黑"/>
              </a:rPr>
              <a:t>确定应付账款在会计报表上的披露是否恰当。</a:t>
            </a:r>
            <a:endParaRPr b="1" lang="en-US" sz="2400" spc="-1" strike="noStrike">
              <a:solidFill>
                <a:srgbClr val="000000"/>
              </a:solidFill>
              <a:latin typeface="Arial"/>
            </a:endParaRPr>
          </a:p>
        </p:txBody>
      </p:sp>
      <p:pic>
        <p:nvPicPr>
          <p:cNvPr id="2084" name="文本框 31" descr=""/>
          <p:cNvPicPr/>
          <p:nvPr/>
        </p:nvPicPr>
        <p:blipFill>
          <a:blip r:embed="rId1"/>
          <a:stretch/>
        </p:blipFill>
        <p:spPr>
          <a:xfrm>
            <a:off x="3187800" y="177840"/>
            <a:ext cx="5862600" cy="652320"/>
          </a:xfrm>
          <a:prstGeom prst="rect">
            <a:avLst/>
          </a:prstGeom>
          <a:ln w="0">
            <a:noFill/>
          </a:ln>
        </p:spPr>
      </p:pic>
      <p:grpSp>
        <p:nvGrpSpPr>
          <p:cNvPr id="2085" name="组合 3"/>
          <p:cNvGrpSpPr/>
          <p:nvPr/>
        </p:nvGrpSpPr>
        <p:grpSpPr>
          <a:xfrm>
            <a:off x="8616960" y="2422440"/>
            <a:ext cx="3314520" cy="4103640"/>
            <a:chOff x="8616960" y="2422440"/>
            <a:chExt cx="3314520" cy="4103640"/>
          </a:xfrm>
        </p:grpSpPr>
        <p:pic>
          <p:nvPicPr>
            <p:cNvPr id="2086" name="图片 32" descr=""/>
            <p:cNvPicPr/>
            <p:nvPr/>
          </p:nvPicPr>
          <p:blipFill>
            <a:blip r:embed="rId2"/>
            <a:stretch/>
          </p:blipFill>
          <p:spPr>
            <a:xfrm>
              <a:off x="9294480" y="2517120"/>
              <a:ext cx="2310120" cy="3990600"/>
            </a:xfrm>
            <a:prstGeom prst="rect">
              <a:avLst/>
            </a:prstGeom>
            <a:ln w="0">
              <a:noFill/>
            </a:ln>
          </p:spPr>
        </p:pic>
        <p:sp>
          <p:nvSpPr>
            <p:cNvPr id="2087" name="Rectangle 3"/>
            <p:cNvSpPr/>
            <p:nvPr/>
          </p:nvSpPr>
          <p:spPr>
            <a:xfrm rot="18900000">
              <a:off x="10793880" y="3840120"/>
              <a:ext cx="776520" cy="1343160"/>
            </a:xfrm>
            <a:prstGeom prst="rect">
              <a:avLst/>
            </a:prstGeom>
            <a:solidFill>
              <a:srgbClr val="2196f3">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8" name="Diamond 5"/>
            <p:cNvSpPr/>
            <p:nvPr/>
          </p:nvSpPr>
          <p:spPr>
            <a:xfrm>
              <a:off x="10977480" y="4159080"/>
              <a:ext cx="407520" cy="708120"/>
            </a:xfrm>
            <a:prstGeom prst="diamond">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9" name="任意多边形: 形状 33"/>
            <p:cNvSpPr/>
            <p:nvPr/>
          </p:nvSpPr>
          <p:spPr>
            <a:xfrm>
              <a:off x="11099880" y="4370760"/>
              <a:ext cx="163800" cy="283680"/>
            </a:xfrm>
            <a:custGeom>
              <a:avLst/>
              <a:gdLst/>
              <a:ahLst/>
              <a:rect l="l" t="t" r="r" b="b"/>
              <a:pathLst>
                <a:path w="384214" h="384636">
                  <a:moveTo>
                    <a:pt x="54571" y="283927"/>
                  </a:moveTo>
                  <a:lnTo>
                    <a:pt x="66591" y="283927"/>
                  </a:lnTo>
                  <a:lnTo>
                    <a:pt x="66591" y="372616"/>
                  </a:lnTo>
                  <a:lnTo>
                    <a:pt x="325991" y="372616"/>
                  </a:lnTo>
                  <a:lnTo>
                    <a:pt x="325991" y="321574"/>
                  </a:lnTo>
                  <a:lnTo>
                    <a:pt x="338011" y="321574"/>
                  </a:lnTo>
                  <a:lnTo>
                    <a:pt x="338011" y="384636"/>
                  </a:lnTo>
                  <a:lnTo>
                    <a:pt x="54571" y="384636"/>
                  </a:lnTo>
                  <a:lnTo>
                    <a:pt x="54571" y="283927"/>
                  </a:lnTo>
                  <a:close/>
                  <a:moveTo>
                    <a:pt x="206048" y="221148"/>
                  </a:moveTo>
                  <a:cubicBezTo>
                    <a:pt x="209212" y="220144"/>
                    <a:pt x="212590" y="221896"/>
                    <a:pt x="213593" y="225060"/>
                  </a:cubicBezTo>
                  <a:cubicBezTo>
                    <a:pt x="214596" y="228224"/>
                    <a:pt x="212845" y="231602"/>
                    <a:pt x="209681" y="232606"/>
                  </a:cubicBezTo>
                  <a:lnTo>
                    <a:pt x="203107" y="234743"/>
                  </a:lnTo>
                  <a:cubicBezTo>
                    <a:pt x="202680" y="235130"/>
                    <a:pt x="202197" y="235451"/>
                    <a:pt x="201676" y="235696"/>
                  </a:cubicBezTo>
                  <a:lnTo>
                    <a:pt x="186404" y="241956"/>
                  </a:lnTo>
                  <a:cubicBezTo>
                    <a:pt x="185682" y="242253"/>
                    <a:pt x="184907" y="242407"/>
                    <a:pt x="184126" y="242408"/>
                  </a:cubicBezTo>
                  <a:cubicBezTo>
                    <a:pt x="181689" y="242406"/>
                    <a:pt x="179495" y="240933"/>
                    <a:pt x="178570" y="238678"/>
                  </a:cubicBezTo>
                  <a:cubicBezTo>
                    <a:pt x="177309" y="235606"/>
                    <a:pt x="178777" y="232093"/>
                    <a:pt x="181849" y="230833"/>
                  </a:cubicBezTo>
                  <a:lnTo>
                    <a:pt x="197086" y="224588"/>
                  </a:lnTo>
                  <a:cubicBezTo>
                    <a:pt x="197699" y="224042"/>
                    <a:pt x="198418" y="223629"/>
                    <a:pt x="199198" y="223373"/>
                  </a:cubicBezTo>
                  <a:lnTo>
                    <a:pt x="205972" y="221172"/>
                  </a:lnTo>
                  <a:cubicBezTo>
                    <a:pt x="205997" y="221164"/>
                    <a:pt x="206022" y="221156"/>
                    <a:pt x="206048" y="221148"/>
                  </a:cubicBezTo>
                  <a:close/>
                  <a:moveTo>
                    <a:pt x="279082" y="198325"/>
                  </a:moveTo>
                  <a:cubicBezTo>
                    <a:pt x="269129" y="198336"/>
                    <a:pt x="261063" y="206402"/>
                    <a:pt x="261052" y="216355"/>
                  </a:cubicBezTo>
                  <a:cubicBezTo>
                    <a:pt x="261052" y="226312"/>
                    <a:pt x="269124" y="234384"/>
                    <a:pt x="279082" y="234384"/>
                  </a:cubicBezTo>
                  <a:cubicBezTo>
                    <a:pt x="289039" y="234384"/>
                    <a:pt x="297111" y="226312"/>
                    <a:pt x="297111" y="216355"/>
                  </a:cubicBezTo>
                  <a:cubicBezTo>
                    <a:pt x="297111" y="206397"/>
                    <a:pt x="289039" y="198325"/>
                    <a:pt x="279082" y="198325"/>
                  </a:cubicBezTo>
                  <a:close/>
                  <a:moveTo>
                    <a:pt x="279082" y="186305"/>
                  </a:moveTo>
                  <a:cubicBezTo>
                    <a:pt x="295678" y="186305"/>
                    <a:pt x="309131" y="199759"/>
                    <a:pt x="309131" y="216355"/>
                  </a:cubicBezTo>
                  <a:cubicBezTo>
                    <a:pt x="309131" y="232951"/>
                    <a:pt x="295678" y="246404"/>
                    <a:pt x="279082" y="246404"/>
                  </a:cubicBezTo>
                  <a:cubicBezTo>
                    <a:pt x="262494" y="246385"/>
                    <a:pt x="249052" y="232942"/>
                    <a:pt x="249032" y="216355"/>
                  </a:cubicBezTo>
                  <a:cubicBezTo>
                    <a:pt x="249032" y="199759"/>
                    <a:pt x="262486" y="186305"/>
                    <a:pt x="279082" y="186305"/>
                  </a:cubicBezTo>
                  <a:close/>
                  <a:moveTo>
                    <a:pt x="105041" y="165197"/>
                  </a:moveTo>
                  <a:cubicBezTo>
                    <a:pt x="95083" y="165197"/>
                    <a:pt x="87011" y="173269"/>
                    <a:pt x="87011" y="183227"/>
                  </a:cubicBezTo>
                  <a:cubicBezTo>
                    <a:pt x="87011" y="193184"/>
                    <a:pt x="95083" y="201256"/>
                    <a:pt x="105041" y="201256"/>
                  </a:cubicBezTo>
                  <a:cubicBezTo>
                    <a:pt x="114994" y="201245"/>
                    <a:pt x="123059" y="193180"/>
                    <a:pt x="123070" y="183227"/>
                  </a:cubicBezTo>
                  <a:cubicBezTo>
                    <a:pt x="123070" y="173269"/>
                    <a:pt x="114998" y="165197"/>
                    <a:pt x="105041" y="165197"/>
                  </a:cubicBezTo>
                  <a:close/>
                  <a:moveTo>
                    <a:pt x="194726" y="156149"/>
                  </a:moveTo>
                  <a:cubicBezTo>
                    <a:pt x="197545" y="154395"/>
                    <a:pt x="201251" y="155259"/>
                    <a:pt x="203005" y="158077"/>
                  </a:cubicBezTo>
                  <a:cubicBezTo>
                    <a:pt x="204758" y="160895"/>
                    <a:pt x="203895" y="164602"/>
                    <a:pt x="201077" y="166355"/>
                  </a:cubicBezTo>
                  <a:lnTo>
                    <a:pt x="186316" y="175532"/>
                  </a:lnTo>
                  <a:cubicBezTo>
                    <a:pt x="185904" y="175787"/>
                    <a:pt x="185462" y="175992"/>
                    <a:pt x="185001" y="176142"/>
                  </a:cubicBezTo>
                  <a:lnTo>
                    <a:pt x="182859" y="176840"/>
                  </a:lnTo>
                  <a:cubicBezTo>
                    <a:pt x="183070" y="179082"/>
                    <a:pt x="183170" y="181178"/>
                    <a:pt x="183170" y="183238"/>
                  </a:cubicBezTo>
                  <a:cubicBezTo>
                    <a:pt x="183170" y="185271"/>
                    <a:pt x="183070" y="187340"/>
                    <a:pt x="182871" y="189547"/>
                  </a:cubicBezTo>
                  <a:lnTo>
                    <a:pt x="185019" y="190245"/>
                  </a:lnTo>
                  <a:cubicBezTo>
                    <a:pt x="185425" y="190377"/>
                    <a:pt x="185817" y="190551"/>
                    <a:pt x="186187" y="190765"/>
                  </a:cubicBezTo>
                  <a:lnTo>
                    <a:pt x="203172" y="200636"/>
                  </a:lnTo>
                  <a:cubicBezTo>
                    <a:pt x="206042" y="202306"/>
                    <a:pt x="207016" y="205986"/>
                    <a:pt x="205346" y="208856"/>
                  </a:cubicBezTo>
                  <a:cubicBezTo>
                    <a:pt x="203677" y="211726"/>
                    <a:pt x="199997" y="212700"/>
                    <a:pt x="197127" y="211031"/>
                  </a:cubicBezTo>
                  <a:lnTo>
                    <a:pt x="180699" y="201482"/>
                  </a:lnTo>
                  <a:lnTo>
                    <a:pt x="174454" y="199454"/>
                  </a:lnTo>
                  <a:cubicBezTo>
                    <a:pt x="171664" y="198550"/>
                    <a:pt x="169935" y="195764"/>
                    <a:pt x="170363" y="192863"/>
                  </a:cubicBezTo>
                  <a:cubicBezTo>
                    <a:pt x="171416" y="186462"/>
                    <a:pt x="171411" y="179932"/>
                    <a:pt x="170351" y="173533"/>
                  </a:cubicBezTo>
                  <a:cubicBezTo>
                    <a:pt x="169922" y="170634"/>
                    <a:pt x="171649" y="167848"/>
                    <a:pt x="174436" y="166942"/>
                  </a:cubicBezTo>
                  <a:lnTo>
                    <a:pt x="180588" y="164938"/>
                  </a:lnTo>
                  <a:lnTo>
                    <a:pt x="194726" y="156149"/>
                  </a:lnTo>
                  <a:close/>
                  <a:moveTo>
                    <a:pt x="105041" y="153177"/>
                  </a:moveTo>
                  <a:cubicBezTo>
                    <a:pt x="121628" y="153197"/>
                    <a:pt x="135071" y="166639"/>
                    <a:pt x="135090" y="183227"/>
                  </a:cubicBezTo>
                  <a:cubicBezTo>
                    <a:pt x="135090" y="199823"/>
                    <a:pt x="121637" y="213276"/>
                    <a:pt x="105041" y="213276"/>
                  </a:cubicBezTo>
                  <a:cubicBezTo>
                    <a:pt x="88445" y="213276"/>
                    <a:pt x="74991" y="199823"/>
                    <a:pt x="74991" y="183227"/>
                  </a:cubicBezTo>
                  <a:cubicBezTo>
                    <a:pt x="74991" y="166631"/>
                    <a:pt x="88445" y="153177"/>
                    <a:pt x="105041" y="153177"/>
                  </a:cubicBezTo>
                  <a:close/>
                  <a:moveTo>
                    <a:pt x="273125" y="108132"/>
                  </a:moveTo>
                  <a:lnTo>
                    <a:pt x="285145" y="108132"/>
                  </a:lnTo>
                  <a:cubicBezTo>
                    <a:pt x="287903" y="108131"/>
                    <a:pt x="290307" y="110010"/>
                    <a:pt x="290973" y="112686"/>
                  </a:cubicBezTo>
                  <a:lnTo>
                    <a:pt x="296977" y="136717"/>
                  </a:lnTo>
                  <a:cubicBezTo>
                    <a:pt x="297099" y="137193"/>
                    <a:pt x="297160" y="137682"/>
                    <a:pt x="297159" y="138173"/>
                  </a:cubicBezTo>
                  <a:lnTo>
                    <a:pt x="297159" y="140427"/>
                  </a:lnTo>
                  <a:cubicBezTo>
                    <a:pt x="301265" y="141400"/>
                    <a:pt x="305285" y="142706"/>
                    <a:pt x="309179" y="144333"/>
                  </a:cubicBezTo>
                  <a:lnTo>
                    <a:pt x="310505" y="142507"/>
                  </a:lnTo>
                  <a:cubicBezTo>
                    <a:pt x="310793" y="142111"/>
                    <a:pt x="311128" y="141751"/>
                    <a:pt x="311503" y="141436"/>
                  </a:cubicBezTo>
                  <a:lnTo>
                    <a:pt x="330484" y="125525"/>
                  </a:lnTo>
                  <a:cubicBezTo>
                    <a:pt x="332599" y="123756"/>
                    <a:pt x="335645" y="123650"/>
                    <a:pt x="337879" y="125267"/>
                  </a:cubicBezTo>
                  <a:lnTo>
                    <a:pt x="347604" y="132333"/>
                  </a:lnTo>
                  <a:cubicBezTo>
                    <a:pt x="349839" y="133959"/>
                    <a:pt x="350679" y="136899"/>
                    <a:pt x="349640" y="139461"/>
                  </a:cubicBezTo>
                  <a:lnTo>
                    <a:pt x="340314" y="162391"/>
                  </a:lnTo>
                  <a:cubicBezTo>
                    <a:pt x="340130" y="162838"/>
                    <a:pt x="339894" y="163262"/>
                    <a:pt x="339610" y="163653"/>
                  </a:cubicBezTo>
                  <a:lnTo>
                    <a:pt x="338307" y="165455"/>
                  </a:lnTo>
                  <a:cubicBezTo>
                    <a:pt x="341076" y="168676"/>
                    <a:pt x="343576" y="172118"/>
                    <a:pt x="345784" y="175747"/>
                  </a:cubicBezTo>
                  <a:lnTo>
                    <a:pt x="347921" y="175051"/>
                  </a:lnTo>
                  <a:cubicBezTo>
                    <a:pt x="348386" y="174898"/>
                    <a:pt x="348869" y="174805"/>
                    <a:pt x="349358" y="174772"/>
                  </a:cubicBezTo>
                  <a:lnTo>
                    <a:pt x="374073" y="173058"/>
                  </a:lnTo>
                  <a:cubicBezTo>
                    <a:pt x="376822" y="172882"/>
                    <a:pt x="379343" y="174584"/>
                    <a:pt x="380206" y="177199"/>
                  </a:cubicBezTo>
                  <a:lnTo>
                    <a:pt x="383915" y="188632"/>
                  </a:lnTo>
                  <a:cubicBezTo>
                    <a:pt x="384769" y="191260"/>
                    <a:pt x="383720" y="194131"/>
                    <a:pt x="381374" y="195590"/>
                  </a:cubicBezTo>
                  <a:lnTo>
                    <a:pt x="360357" y="208660"/>
                  </a:lnTo>
                  <a:cubicBezTo>
                    <a:pt x="359946" y="208918"/>
                    <a:pt x="359504" y="209124"/>
                    <a:pt x="359042" y="209274"/>
                  </a:cubicBezTo>
                  <a:lnTo>
                    <a:pt x="356900" y="209966"/>
                  </a:lnTo>
                  <a:cubicBezTo>
                    <a:pt x="357111" y="212208"/>
                    <a:pt x="357211" y="214306"/>
                    <a:pt x="357211" y="216363"/>
                  </a:cubicBezTo>
                  <a:cubicBezTo>
                    <a:pt x="357211" y="218397"/>
                    <a:pt x="357111" y="220469"/>
                    <a:pt x="356912" y="222676"/>
                  </a:cubicBezTo>
                  <a:lnTo>
                    <a:pt x="359060" y="223374"/>
                  </a:lnTo>
                  <a:cubicBezTo>
                    <a:pt x="359528" y="223526"/>
                    <a:pt x="359975" y="223735"/>
                    <a:pt x="360392" y="223996"/>
                  </a:cubicBezTo>
                  <a:lnTo>
                    <a:pt x="381392" y="237134"/>
                  </a:lnTo>
                  <a:cubicBezTo>
                    <a:pt x="383729" y="238597"/>
                    <a:pt x="384772" y="241463"/>
                    <a:pt x="383921" y="244086"/>
                  </a:cubicBezTo>
                  <a:lnTo>
                    <a:pt x="380206" y="255519"/>
                  </a:lnTo>
                  <a:cubicBezTo>
                    <a:pt x="379345" y="258144"/>
                    <a:pt x="376811" y="259848"/>
                    <a:pt x="374055" y="259657"/>
                  </a:cubicBezTo>
                  <a:lnTo>
                    <a:pt x="349364" y="257872"/>
                  </a:lnTo>
                  <a:cubicBezTo>
                    <a:pt x="348881" y="257837"/>
                    <a:pt x="348404" y="257743"/>
                    <a:pt x="347944" y="257594"/>
                  </a:cubicBezTo>
                  <a:lnTo>
                    <a:pt x="345825" y="256907"/>
                  </a:lnTo>
                  <a:cubicBezTo>
                    <a:pt x="343619" y="260538"/>
                    <a:pt x="341122" y="263983"/>
                    <a:pt x="338359" y="267210"/>
                  </a:cubicBezTo>
                  <a:lnTo>
                    <a:pt x="339674" y="269021"/>
                  </a:lnTo>
                  <a:cubicBezTo>
                    <a:pt x="339961" y="269419"/>
                    <a:pt x="340199" y="269849"/>
                    <a:pt x="340384" y="270303"/>
                  </a:cubicBezTo>
                  <a:lnTo>
                    <a:pt x="349651" y="293275"/>
                  </a:lnTo>
                  <a:cubicBezTo>
                    <a:pt x="350679" y="295833"/>
                    <a:pt x="349838" y="298762"/>
                    <a:pt x="347609" y="300385"/>
                  </a:cubicBezTo>
                  <a:lnTo>
                    <a:pt x="337885" y="307451"/>
                  </a:lnTo>
                  <a:cubicBezTo>
                    <a:pt x="335647" y="309073"/>
                    <a:pt x="332593" y="308963"/>
                    <a:pt x="330478" y="307184"/>
                  </a:cubicBezTo>
                  <a:lnTo>
                    <a:pt x="311550" y="291229"/>
                  </a:lnTo>
                  <a:cubicBezTo>
                    <a:pt x="311180" y="290917"/>
                    <a:pt x="310849" y="290561"/>
                    <a:pt x="310564" y="290170"/>
                  </a:cubicBezTo>
                  <a:lnTo>
                    <a:pt x="309255" y="288368"/>
                  </a:lnTo>
                  <a:cubicBezTo>
                    <a:pt x="305338" y="290009"/>
                    <a:pt x="301292" y="291325"/>
                    <a:pt x="297159" y="292303"/>
                  </a:cubicBezTo>
                  <a:lnTo>
                    <a:pt x="297159" y="294548"/>
                  </a:lnTo>
                  <a:cubicBezTo>
                    <a:pt x="297160" y="295039"/>
                    <a:pt x="297099" y="295528"/>
                    <a:pt x="296977" y="296004"/>
                  </a:cubicBezTo>
                  <a:lnTo>
                    <a:pt x="290973" y="320035"/>
                  </a:lnTo>
                  <a:cubicBezTo>
                    <a:pt x="290308" y="322711"/>
                    <a:pt x="287904" y="324590"/>
                    <a:pt x="285145" y="324589"/>
                  </a:cubicBezTo>
                  <a:lnTo>
                    <a:pt x="273125" y="324589"/>
                  </a:lnTo>
                  <a:cubicBezTo>
                    <a:pt x="270362" y="324588"/>
                    <a:pt x="267955" y="322703"/>
                    <a:pt x="267292" y="320020"/>
                  </a:cubicBezTo>
                  <a:lnTo>
                    <a:pt x="261358" y="295989"/>
                  </a:lnTo>
                  <a:cubicBezTo>
                    <a:pt x="261241" y="295520"/>
                    <a:pt x="261182" y="295038"/>
                    <a:pt x="261182" y="294554"/>
                  </a:cubicBezTo>
                  <a:lnTo>
                    <a:pt x="261182" y="292338"/>
                  </a:lnTo>
                  <a:cubicBezTo>
                    <a:pt x="257042" y="291368"/>
                    <a:pt x="252988" y="290059"/>
                    <a:pt x="249062" y="288424"/>
                  </a:cubicBezTo>
                  <a:lnTo>
                    <a:pt x="247765" y="290208"/>
                  </a:lnTo>
                  <a:cubicBezTo>
                    <a:pt x="247476" y="290607"/>
                    <a:pt x="247139" y="290970"/>
                    <a:pt x="246762" y="291288"/>
                  </a:cubicBezTo>
                  <a:lnTo>
                    <a:pt x="227769" y="307196"/>
                  </a:lnTo>
                  <a:cubicBezTo>
                    <a:pt x="225656" y="308970"/>
                    <a:pt x="222605" y="309075"/>
                    <a:pt x="220374" y="307451"/>
                  </a:cubicBezTo>
                  <a:lnTo>
                    <a:pt x="210649" y="300385"/>
                  </a:lnTo>
                  <a:cubicBezTo>
                    <a:pt x="208420" y="298762"/>
                    <a:pt x="207579" y="295833"/>
                    <a:pt x="208607" y="293275"/>
                  </a:cubicBezTo>
                  <a:lnTo>
                    <a:pt x="217874" y="270303"/>
                  </a:lnTo>
                  <a:cubicBezTo>
                    <a:pt x="218058" y="269847"/>
                    <a:pt x="218299" y="269415"/>
                    <a:pt x="218590" y="269018"/>
                  </a:cubicBezTo>
                  <a:lnTo>
                    <a:pt x="219864" y="267266"/>
                  </a:lnTo>
                  <a:cubicBezTo>
                    <a:pt x="217102" y="264052"/>
                    <a:pt x="214605" y="260619"/>
                    <a:pt x="212398" y="257001"/>
                  </a:cubicBezTo>
                  <a:lnTo>
                    <a:pt x="210344" y="257670"/>
                  </a:lnTo>
                  <a:cubicBezTo>
                    <a:pt x="209855" y="257828"/>
                    <a:pt x="209348" y="257923"/>
                    <a:pt x="208836" y="257955"/>
                  </a:cubicBezTo>
                  <a:lnTo>
                    <a:pt x="187983" y="259172"/>
                  </a:lnTo>
                  <a:cubicBezTo>
                    <a:pt x="184668" y="259367"/>
                    <a:pt x="181824" y="256838"/>
                    <a:pt x="181630" y="253524"/>
                  </a:cubicBezTo>
                  <a:cubicBezTo>
                    <a:pt x="181435" y="250209"/>
                    <a:pt x="183964" y="247365"/>
                    <a:pt x="187278" y="247170"/>
                  </a:cubicBezTo>
                  <a:lnTo>
                    <a:pt x="207362" y="245999"/>
                  </a:lnTo>
                  <a:lnTo>
                    <a:pt x="213343" y="244051"/>
                  </a:lnTo>
                  <a:cubicBezTo>
                    <a:pt x="216131" y="243142"/>
                    <a:pt x="219167" y="244379"/>
                    <a:pt x="220527" y="246977"/>
                  </a:cubicBezTo>
                  <a:cubicBezTo>
                    <a:pt x="223532" y="252719"/>
                    <a:pt x="227364" y="257989"/>
                    <a:pt x="231901" y="262618"/>
                  </a:cubicBezTo>
                  <a:cubicBezTo>
                    <a:pt x="233955" y="264713"/>
                    <a:pt x="234196" y="267986"/>
                    <a:pt x="232470" y="270359"/>
                  </a:cubicBezTo>
                  <a:lnTo>
                    <a:pt x="228743" y="275485"/>
                  </a:lnTo>
                  <a:lnTo>
                    <a:pt x="221513" y="293418"/>
                  </a:lnTo>
                  <a:lnTo>
                    <a:pt x="223643" y="294968"/>
                  </a:lnTo>
                  <a:lnTo>
                    <a:pt x="238468" y="282552"/>
                  </a:lnTo>
                  <a:lnTo>
                    <a:pt x="242213" y="277390"/>
                  </a:lnTo>
                  <a:cubicBezTo>
                    <a:pt x="243935" y="275011"/>
                    <a:pt x="247125" y="274226"/>
                    <a:pt x="249754" y="275535"/>
                  </a:cubicBezTo>
                  <a:cubicBezTo>
                    <a:pt x="255565" y="278419"/>
                    <a:pt x="261772" y="280426"/>
                    <a:pt x="268171" y="281489"/>
                  </a:cubicBezTo>
                  <a:cubicBezTo>
                    <a:pt x="271069" y="281969"/>
                    <a:pt x="273194" y="284474"/>
                    <a:pt x="273195" y="287411"/>
                  </a:cubicBezTo>
                  <a:lnTo>
                    <a:pt x="273201" y="293814"/>
                  </a:lnTo>
                  <a:lnTo>
                    <a:pt x="277832" y="312569"/>
                  </a:lnTo>
                  <a:lnTo>
                    <a:pt x="280450" y="312569"/>
                  </a:lnTo>
                  <a:lnTo>
                    <a:pt x="285139" y="293809"/>
                  </a:lnTo>
                  <a:lnTo>
                    <a:pt x="285139" y="287391"/>
                  </a:lnTo>
                  <a:cubicBezTo>
                    <a:pt x="285140" y="284457"/>
                    <a:pt x="287258" y="281952"/>
                    <a:pt x="290151" y="281463"/>
                  </a:cubicBezTo>
                  <a:cubicBezTo>
                    <a:pt x="296542" y="280391"/>
                    <a:pt x="302737" y="278375"/>
                    <a:pt x="308533" y="275480"/>
                  </a:cubicBezTo>
                  <a:cubicBezTo>
                    <a:pt x="311160" y="274162"/>
                    <a:pt x="314355" y="274941"/>
                    <a:pt x="316081" y="277319"/>
                  </a:cubicBezTo>
                  <a:lnTo>
                    <a:pt x="319855" y="282508"/>
                  </a:lnTo>
                  <a:lnTo>
                    <a:pt x="334627" y="294959"/>
                  </a:lnTo>
                  <a:lnTo>
                    <a:pt x="336746" y="293418"/>
                  </a:lnTo>
                  <a:lnTo>
                    <a:pt x="329509" y="275485"/>
                  </a:lnTo>
                  <a:lnTo>
                    <a:pt x="325747" y="270303"/>
                  </a:lnTo>
                  <a:cubicBezTo>
                    <a:pt x="324028" y="267931"/>
                    <a:pt x="324268" y="264665"/>
                    <a:pt x="326316" y="262571"/>
                  </a:cubicBezTo>
                  <a:cubicBezTo>
                    <a:pt x="330851" y="257930"/>
                    <a:pt x="334680" y="252648"/>
                    <a:pt x="337679" y="246894"/>
                  </a:cubicBezTo>
                  <a:cubicBezTo>
                    <a:pt x="339038" y="244296"/>
                    <a:pt x="342073" y="243056"/>
                    <a:pt x="344863" y="243960"/>
                  </a:cubicBezTo>
                  <a:lnTo>
                    <a:pt x="350961" y="245934"/>
                  </a:lnTo>
                  <a:lnTo>
                    <a:pt x="370229" y="247328"/>
                  </a:lnTo>
                  <a:lnTo>
                    <a:pt x="371039" y="244834"/>
                  </a:lnTo>
                  <a:lnTo>
                    <a:pt x="354647" y="234578"/>
                  </a:lnTo>
                  <a:lnTo>
                    <a:pt x="348496" y="232580"/>
                  </a:lnTo>
                  <a:cubicBezTo>
                    <a:pt x="345707" y="231674"/>
                    <a:pt x="343979" y="228889"/>
                    <a:pt x="344405" y="225989"/>
                  </a:cubicBezTo>
                  <a:cubicBezTo>
                    <a:pt x="345458" y="219588"/>
                    <a:pt x="345453" y="213058"/>
                    <a:pt x="344393" y="206659"/>
                  </a:cubicBezTo>
                  <a:cubicBezTo>
                    <a:pt x="343964" y="203759"/>
                    <a:pt x="345690" y="200972"/>
                    <a:pt x="348478" y="200065"/>
                  </a:cubicBezTo>
                  <a:lnTo>
                    <a:pt x="354629" y="198067"/>
                  </a:lnTo>
                  <a:lnTo>
                    <a:pt x="371033" y="187866"/>
                  </a:lnTo>
                  <a:lnTo>
                    <a:pt x="370223" y="185375"/>
                  </a:lnTo>
                  <a:lnTo>
                    <a:pt x="350931" y="186713"/>
                  </a:lnTo>
                  <a:lnTo>
                    <a:pt x="344827" y="188694"/>
                  </a:lnTo>
                  <a:cubicBezTo>
                    <a:pt x="342040" y="189601"/>
                    <a:pt x="339006" y="188363"/>
                    <a:pt x="337649" y="185765"/>
                  </a:cubicBezTo>
                  <a:cubicBezTo>
                    <a:pt x="334643" y="180016"/>
                    <a:pt x="330809" y="174740"/>
                    <a:pt x="326269" y="170106"/>
                  </a:cubicBezTo>
                  <a:cubicBezTo>
                    <a:pt x="324216" y="168013"/>
                    <a:pt x="323973" y="164744"/>
                    <a:pt x="325694" y="162371"/>
                  </a:cubicBezTo>
                  <a:lnTo>
                    <a:pt x="329450" y="157188"/>
                  </a:lnTo>
                  <a:lnTo>
                    <a:pt x="336728" y="139291"/>
                  </a:lnTo>
                  <a:lnTo>
                    <a:pt x="334609" y="137750"/>
                  </a:lnTo>
                  <a:lnTo>
                    <a:pt x="319790" y="150172"/>
                  </a:lnTo>
                  <a:lnTo>
                    <a:pt x="316010" y="155372"/>
                  </a:lnTo>
                  <a:cubicBezTo>
                    <a:pt x="314285" y="157743"/>
                    <a:pt x="311101" y="158524"/>
                    <a:pt x="308474" y="157221"/>
                  </a:cubicBezTo>
                  <a:cubicBezTo>
                    <a:pt x="302691" y="154344"/>
                    <a:pt x="296515" y="152336"/>
                    <a:pt x="290145" y="151261"/>
                  </a:cubicBezTo>
                  <a:cubicBezTo>
                    <a:pt x="287255" y="150771"/>
                    <a:pt x="285139" y="148268"/>
                    <a:pt x="285139" y="145336"/>
                  </a:cubicBezTo>
                  <a:lnTo>
                    <a:pt x="285139" y="138912"/>
                  </a:lnTo>
                  <a:lnTo>
                    <a:pt x="280449" y="120152"/>
                  </a:lnTo>
                  <a:lnTo>
                    <a:pt x="277814" y="120152"/>
                  </a:lnTo>
                  <a:lnTo>
                    <a:pt x="273119" y="138912"/>
                  </a:lnTo>
                  <a:lnTo>
                    <a:pt x="273125" y="145318"/>
                  </a:lnTo>
                  <a:cubicBezTo>
                    <a:pt x="273128" y="148257"/>
                    <a:pt x="271005" y="150767"/>
                    <a:pt x="268107" y="151252"/>
                  </a:cubicBezTo>
                  <a:cubicBezTo>
                    <a:pt x="261732" y="152317"/>
                    <a:pt x="255549" y="154318"/>
                    <a:pt x="249760" y="157191"/>
                  </a:cubicBezTo>
                  <a:cubicBezTo>
                    <a:pt x="247131" y="158506"/>
                    <a:pt x="243938" y="157720"/>
                    <a:pt x="242218" y="155337"/>
                  </a:cubicBezTo>
                  <a:lnTo>
                    <a:pt x="238468" y="150169"/>
                  </a:lnTo>
                  <a:lnTo>
                    <a:pt x="223649" y="137750"/>
                  </a:lnTo>
                  <a:lnTo>
                    <a:pt x="221518" y="139300"/>
                  </a:lnTo>
                  <a:lnTo>
                    <a:pt x="228749" y="157238"/>
                  </a:lnTo>
                  <a:lnTo>
                    <a:pt x="232470" y="162365"/>
                  </a:lnTo>
                  <a:cubicBezTo>
                    <a:pt x="234195" y="164738"/>
                    <a:pt x="233955" y="168011"/>
                    <a:pt x="231901" y="170106"/>
                  </a:cubicBezTo>
                  <a:cubicBezTo>
                    <a:pt x="227368" y="174736"/>
                    <a:pt x="223538" y="180005"/>
                    <a:pt x="220532" y="185744"/>
                  </a:cubicBezTo>
                  <a:lnTo>
                    <a:pt x="217304" y="192241"/>
                  </a:lnTo>
                  <a:cubicBezTo>
                    <a:pt x="217298" y="192253"/>
                    <a:pt x="217293" y="192265"/>
                    <a:pt x="217287" y="192277"/>
                  </a:cubicBezTo>
                  <a:cubicBezTo>
                    <a:pt x="215800" y="195244"/>
                    <a:pt x="212190" y="196445"/>
                    <a:pt x="209222" y="194959"/>
                  </a:cubicBezTo>
                  <a:cubicBezTo>
                    <a:pt x="206255" y="193473"/>
                    <a:pt x="205054" y="189862"/>
                    <a:pt x="206540" y="186895"/>
                  </a:cubicBezTo>
                  <a:lnTo>
                    <a:pt x="209827" y="180280"/>
                  </a:lnTo>
                  <a:cubicBezTo>
                    <a:pt x="212599" y="174975"/>
                    <a:pt x="215966" y="170002"/>
                    <a:pt x="219863" y="165458"/>
                  </a:cubicBezTo>
                  <a:lnTo>
                    <a:pt x="218590" y="163706"/>
                  </a:lnTo>
                  <a:cubicBezTo>
                    <a:pt x="218300" y="163308"/>
                    <a:pt x="218059" y="162877"/>
                    <a:pt x="217874" y="162421"/>
                  </a:cubicBezTo>
                  <a:lnTo>
                    <a:pt x="208612" y="139443"/>
                  </a:lnTo>
                  <a:cubicBezTo>
                    <a:pt x="207584" y="136885"/>
                    <a:pt x="208425" y="133955"/>
                    <a:pt x="210655" y="132333"/>
                  </a:cubicBezTo>
                  <a:lnTo>
                    <a:pt x="220380" y="125267"/>
                  </a:lnTo>
                  <a:cubicBezTo>
                    <a:pt x="222611" y="123644"/>
                    <a:pt x="225660" y="123750"/>
                    <a:pt x="227775" y="125522"/>
                  </a:cubicBezTo>
                  <a:lnTo>
                    <a:pt x="246761" y="141433"/>
                  </a:lnTo>
                  <a:cubicBezTo>
                    <a:pt x="247138" y="141751"/>
                    <a:pt x="247475" y="142113"/>
                    <a:pt x="247765" y="142513"/>
                  </a:cubicBezTo>
                  <a:lnTo>
                    <a:pt x="249062" y="144303"/>
                  </a:lnTo>
                  <a:cubicBezTo>
                    <a:pt x="252961" y="142679"/>
                    <a:pt x="256987" y="141377"/>
                    <a:pt x="261099" y="140409"/>
                  </a:cubicBezTo>
                  <a:lnTo>
                    <a:pt x="261099" y="138179"/>
                  </a:lnTo>
                  <a:cubicBezTo>
                    <a:pt x="261098" y="137685"/>
                    <a:pt x="261159" y="137193"/>
                    <a:pt x="261281" y="136714"/>
                  </a:cubicBezTo>
                  <a:lnTo>
                    <a:pt x="267297" y="112683"/>
                  </a:lnTo>
                  <a:cubicBezTo>
                    <a:pt x="267964" y="110008"/>
                    <a:pt x="270368" y="108131"/>
                    <a:pt x="273125" y="108132"/>
                  </a:cubicBezTo>
                  <a:close/>
                  <a:moveTo>
                    <a:pt x="99083" y="75004"/>
                  </a:moveTo>
                  <a:lnTo>
                    <a:pt x="111103" y="75004"/>
                  </a:lnTo>
                  <a:cubicBezTo>
                    <a:pt x="113862" y="75003"/>
                    <a:pt x="116266" y="76881"/>
                    <a:pt x="116931" y="79558"/>
                  </a:cubicBezTo>
                  <a:lnTo>
                    <a:pt x="122935" y="103592"/>
                  </a:lnTo>
                  <a:cubicBezTo>
                    <a:pt x="123057" y="104068"/>
                    <a:pt x="123118" y="104557"/>
                    <a:pt x="123117" y="105048"/>
                  </a:cubicBezTo>
                  <a:lnTo>
                    <a:pt x="123117" y="107301"/>
                  </a:lnTo>
                  <a:cubicBezTo>
                    <a:pt x="127223" y="108274"/>
                    <a:pt x="131243" y="109580"/>
                    <a:pt x="135137" y="111207"/>
                  </a:cubicBezTo>
                  <a:lnTo>
                    <a:pt x="136463" y="109382"/>
                  </a:lnTo>
                  <a:cubicBezTo>
                    <a:pt x="136750" y="108985"/>
                    <a:pt x="137086" y="108625"/>
                    <a:pt x="137461" y="108311"/>
                  </a:cubicBezTo>
                  <a:lnTo>
                    <a:pt x="156441" y="92397"/>
                  </a:lnTo>
                  <a:cubicBezTo>
                    <a:pt x="158558" y="90631"/>
                    <a:pt x="161602" y="90524"/>
                    <a:pt x="163836" y="92138"/>
                  </a:cubicBezTo>
                  <a:lnTo>
                    <a:pt x="173562" y="99205"/>
                  </a:lnTo>
                  <a:cubicBezTo>
                    <a:pt x="175798" y="100831"/>
                    <a:pt x="176638" y="103771"/>
                    <a:pt x="175598" y="106333"/>
                  </a:cubicBezTo>
                  <a:lnTo>
                    <a:pt x="166272" y="129263"/>
                  </a:lnTo>
                  <a:cubicBezTo>
                    <a:pt x="166088" y="129710"/>
                    <a:pt x="165852" y="130134"/>
                    <a:pt x="165568" y="130525"/>
                  </a:cubicBezTo>
                  <a:lnTo>
                    <a:pt x="164265" y="132327"/>
                  </a:lnTo>
                  <a:cubicBezTo>
                    <a:pt x="167034" y="135549"/>
                    <a:pt x="169535" y="138992"/>
                    <a:pt x="171742" y="142621"/>
                  </a:cubicBezTo>
                  <a:lnTo>
                    <a:pt x="173879" y="141926"/>
                  </a:lnTo>
                  <a:cubicBezTo>
                    <a:pt x="174345" y="141776"/>
                    <a:pt x="174828" y="141682"/>
                    <a:pt x="175317" y="141647"/>
                  </a:cubicBezTo>
                  <a:lnTo>
                    <a:pt x="193992" y="140350"/>
                  </a:lnTo>
                  <a:cubicBezTo>
                    <a:pt x="194024" y="140347"/>
                    <a:pt x="194057" y="140345"/>
                    <a:pt x="194089" y="140343"/>
                  </a:cubicBezTo>
                  <a:cubicBezTo>
                    <a:pt x="197402" y="140140"/>
                    <a:pt x="200253" y="142661"/>
                    <a:pt x="200456" y="145974"/>
                  </a:cubicBezTo>
                  <a:cubicBezTo>
                    <a:pt x="200659" y="149287"/>
                    <a:pt x="198138" y="152137"/>
                    <a:pt x="194825" y="152340"/>
                  </a:cubicBezTo>
                  <a:lnTo>
                    <a:pt x="176890" y="153588"/>
                  </a:lnTo>
                  <a:lnTo>
                    <a:pt x="170786" y="155568"/>
                  </a:lnTo>
                  <a:cubicBezTo>
                    <a:pt x="167999" y="156474"/>
                    <a:pt x="164966" y="155236"/>
                    <a:pt x="163608" y="152640"/>
                  </a:cubicBezTo>
                  <a:cubicBezTo>
                    <a:pt x="160601" y="146891"/>
                    <a:pt x="156767" y="141614"/>
                    <a:pt x="152228" y="136978"/>
                  </a:cubicBezTo>
                  <a:cubicBezTo>
                    <a:pt x="150175" y="134885"/>
                    <a:pt x="149932" y="131616"/>
                    <a:pt x="151653" y="129242"/>
                  </a:cubicBezTo>
                  <a:lnTo>
                    <a:pt x="155409" y="124060"/>
                  </a:lnTo>
                  <a:lnTo>
                    <a:pt x="162686" y="106163"/>
                  </a:lnTo>
                  <a:lnTo>
                    <a:pt x="160568" y="104622"/>
                  </a:lnTo>
                  <a:lnTo>
                    <a:pt x="145748" y="117047"/>
                  </a:lnTo>
                  <a:lnTo>
                    <a:pt x="141968" y="122247"/>
                  </a:lnTo>
                  <a:cubicBezTo>
                    <a:pt x="140239" y="124616"/>
                    <a:pt x="137055" y="125396"/>
                    <a:pt x="134427" y="124093"/>
                  </a:cubicBezTo>
                  <a:cubicBezTo>
                    <a:pt x="128646" y="121215"/>
                    <a:pt x="122471" y="119207"/>
                    <a:pt x="116103" y="118135"/>
                  </a:cubicBezTo>
                  <a:cubicBezTo>
                    <a:pt x="113213" y="117646"/>
                    <a:pt x="111098" y="115142"/>
                    <a:pt x="111097" y="112211"/>
                  </a:cubicBezTo>
                  <a:lnTo>
                    <a:pt x="111097" y="105787"/>
                  </a:lnTo>
                  <a:lnTo>
                    <a:pt x="106408" y="87024"/>
                  </a:lnTo>
                  <a:lnTo>
                    <a:pt x="103772" y="87024"/>
                  </a:lnTo>
                  <a:lnTo>
                    <a:pt x="99077" y="105787"/>
                  </a:lnTo>
                  <a:lnTo>
                    <a:pt x="99083" y="112190"/>
                  </a:lnTo>
                  <a:cubicBezTo>
                    <a:pt x="99086" y="115129"/>
                    <a:pt x="96964" y="117639"/>
                    <a:pt x="94065" y="118124"/>
                  </a:cubicBezTo>
                  <a:cubicBezTo>
                    <a:pt x="87688" y="119189"/>
                    <a:pt x="81504" y="121191"/>
                    <a:pt x="75712" y="124066"/>
                  </a:cubicBezTo>
                  <a:cubicBezTo>
                    <a:pt x="73087" y="125372"/>
                    <a:pt x="69902" y="124589"/>
                    <a:pt x="68182" y="122214"/>
                  </a:cubicBezTo>
                  <a:lnTo>
                    <a:pt x="64426" y="117047"/>
                  </a:lnTo>
                  <a:lnTo>
                    <a:pt x="49607" y="104622"/>
                  </a:lnTo>
                  <a:lnTo>
                    <a:pt x="47476" y="106171"/>
                  </a:lnTo>
                  <a:lnTo>
                    <a:pt x="54707" y="124111"/>
                  </a:lnTo>
                  <a:lnTo>
                    <a:pt x="58428" y="129237"/>
                  </a:lnTo>
                  <a:cubicBezTo>
                    <a:pt x="60153" y="131609"/>
                    <a:pt x="59915" y="134879"/>
                    <a:pt x="57865" y="136976"/>
                  </a:cubicBezTo>
                  <a:cubicBezTo>
                    <a:pt x="53330" y="141607"/>
                    <a:pt x="49497" y="146877"/>
                    <a:pt x="46491" y="152620"/>
                  </a:cubicBezTo>
                  <a:cubicBezTo>
                    <a:pt x="45130" y="155213"/>
                    <a:pt x="42098" y="156447"/>
                    <a:pt x="39313" y="155542"/>
                  </a:cubicBezTo>
                  <a:lnTo>
                    <a:pt x="33291" y="153588"/>
                  </a:lnTo>
                  <a:lnTo>
                    <a:pt x="13993" y="152250"/>
                  </a:lnTo>
                  <a:lnTo>
                    <a:pt x="13183" y="154753"/>
                  </a:lnTo>
                  <a:lnTo>
                    <a:pt x="29570" y="165018"/>
                  </a:lnTo>
                  <a:lnTo>
                    <a:pt x="35638" y="166984"/>
                  </a:lnTo>
                  <a:cubicBezTo>
                    <a:pt x="38428" y="167887"/>
                    <a:pt x="40157" y="170672"/>
                    <a:pt x="39729" y="173572"/>
                  </a:cubicBezTo>
                  <a:cubicBezTo>
                    <a:pt x="38673" y="179969"/>
                    <a:pt x="38673" y="186496"/>
                    <a:pt x="39729" y="192893"/>
                  </a:cubicBezTo>
                  <a:cubicBezTo>
                    <a:pt x="40156" y="195793"/>
                    <a:pt x="38427" y="198578"/>
                    <a:pt x="35638" y="199481"/>
                  </a:cubicBezTo>
                  <a:lnTo>
                    <a:pt x="29570" y="201450"/>
                  </a:lnTo>
                  <a:lnTo>
                    <a:pt x="13178" y="211709"/>
                  </a:lnTo>
                  <a:lnTo>
                    <a:pt x="13993" y="214215"/>
                  </a:lnTo>
                  <a:lnTo>
                    <a:pt x="33285" y="212880"/>
                  </a:lnTo>
                  <a:lnTo>
                    <a:pt x="39301" y="210923"/>
                  </a:lnTo>
                  <a:cubicBezTo>
                    <a:pt x="42089" y="210016"/>
                    <a:pt x="45124" y="211252"/>
                    <a:pt x="46485" y="213848"/>
                  </a:cubicBezTo>
                  <a:cubicBezTo>
                    <a:pt x="49489" y="219590"/>
                    <a:pt x="53319" y="224860"/>
                    <a:pt x="57853" y="229489"/>
                  </a:cubicBezTo>
                  <a:cubicBezTo>
                    <a:pt x="59906" y="231584"/>
                    <a:pt x="60149" y="234853"/>
                    <a:pt x="58428" y="237228"/>
                  </a:cubicBezTo>
                  <a:lnTo>
                    <a:pt x="54707" y="242354"/>
                  </a:lnTo>
                  <a:lnTo>
                    <a:pt x="47471" y="260293"/>
                  </a:lnTo>
                  <a:lnTo>
                    <a:pt x="49601" y="261840"/>
                  </a:lnTo>
                  <a:lnTo>
                    <a:pt x="64427" y="249421"/>
                  </a:lnTo>
                  <a:lnTo>
                    <a:pt x="68171" y="244259"/>
                  </a:lnTo>
                  <a:cubicBezTo>
                    <a:pt x="69895" y="241882"/>
                    <a:pt x="73084" y="241099"/>
                    <a:pt x="75712" y="242407"/>
                  </a:cubicBezTo>
                  <a:cubicBezTo>
                    <a:pt x="81522" y="245294"/>
                    <a:pt x="87729" y="247300"/>
                    <a:pt x="94130" y="248361"/>
                  </a:cubicBezTo>
                  <a:cubicBezTo>
                    <a:pt x="97028" y="248843"/>
                    <a:pt x="99154" y="251350"/>
                    <a:pt x="99154" y="254289"/>
                  </a:cubicBezTo>
                  <a:lnTo>
                    <a:pt x="99154" y="260689"/>
                  </a:lnTo>
                  <a:lnTo>
                    <a:pt x="103790" y="279444"/>
                  </a:lnTo>
                  <a:lnTo>
                    <a:pt x="106408" y="279444"/>
                  </a:lnTo>
                  <a:lnTo>
                    <a:pt x="111097" y="260680"/>
                  </a:lnTo>
                  <a:lnTo>
                    <a:pt x="111097" y="254265"/>
                  </a:lnTo>
                  <a:cubicBezTo>
                    <a:pt x="111098" y="251334"/>
                    <a:pt x="113213" y="248830"/>
                    <a:pt x="116103" y="248341"/>
                  </a:cubicBezTo>
                  <a:cubicBezTo>
                    <a:pt x="122495" y="247264"/>
                    <a:pt x="128691" y="245245"/>
                    <a:pt x="134491" y="242351"/>
                  </a:cubicBezTo>
                  <a:cubicBezTo>
                    <a:pt x="137118" y="241034"/>
                    <a:pt x="140313" y="241812"/>
                    <a:pt x="142039" y="244191"/>
                  </a:cubicBezTo>
                  <a:lnTo>
                    <a:pt x="145813" y="249379"/>
                  </a:lnTo>
                  <a:lnTo>
                    <a:pt x="160585" y="261834"/>
                  </a:lnTo>
                  <a:lnTo>
                    <a:pt x="162704" y="260293"/>
                  </a:lnTo>
                  <a:lnTo>
                    <a:pt x="155467" y="242357"/>
                  </a:lnTo>
                  <a:lnTo>
                    <a:pt x="151705" y="237175"/>
                  </a:lnTo>
                  <a:cubicBezTo>
                    <a:pt x="149985" y="234803"/>
                    <a:pt x="150226" y="231537"/>
                    <a:pt x="152274" y="229442"/>
                  </a:cubicBezTo>
                  <a:cubicBezTo>
                    <a:pt x="156808" y="224801"/>
                    <a:pt x="160637" y="219519"/>
                    <a:pt x="163637" y="213766"/>
                  </a:cubicBezTo>
                  <a:cubicBezTo>
                    <a:pt x="165173" y="210823"/>
                    <a:pt x="168805" y="209682"/>
                    <a:pt x="171748" y="211219"/>
                  </a:cubicBezTo>
                  <a:cubicBezTo>
                    <a:pt x="174691" y="212755"/>
                    <a:pt x="175831" y="216387"/>
                    <a:pt x="174295" y="219330"/>
                  </a:cubicBezTo>
                  <a:cubicBezTo>
                    <a:pt x="171538" y="224609"/>
                    <a:pt x="168191" y="229558"/>
                    <a:pt x="164317" y="234082"/>
                  </a:cubicBezTo>
                  <a:lnTo>
                    <a:pt x="165632" y="235892"/>
                  </a:lnTo>
                  <a:cubicBezTo>
                    <a:pt x="165919" y="236290"/>
                    <a:pt x="166157" y="236721"/>
                    <a:pt x="166342" y="237175"/>
                  </a:cubicBezTo>
                  <a:lnTo>
                    <a:pt x="175610" y="260149"/>
                  </a:lnTo>
                  <a:cubicBezTo>
                    <a:pt x="176638" y="262707"/>
                    <a:pt x="175797" y="265637"/>
                    <a:pt x="173567" y="267260"/>
                  </a:cubicBezTo>
                  <a:lnTo>
                    <a:pt x="163842" y="274323"/>
                  </a:lnTo>
                  <a:cubicBezTo>
                    <a:pt x="161605" y="275945"/>
                    <a:pt x="158550" y="275835"/>
                    <a:pt x="156435" y="274056"/>
                  </a:cubicBezTo>
                  <a:lnTo>
                    <a:pt x="137508" y="258101"/>
                  </a:lnTo>
                  <a:cubicBezTo>
                    <a:pt x="137138" y="257788"/>
                    <a:pt x="136807" y="257433"/>
                    <a:pt x="136522" y="257041"/>
                  </a:cubicBezTo>
                  <a:lnTo>
                    <a:pt x="135213" y="255239"/>
                  </a:lnTo>
                  <a:cubicBezTo>
                    <a:pt x="131295" y="256879"/>
                    <a:pt x="127249" y="258195"/>
                    <a:pt x="123117" y="259175"/>
                  </a:cubicBezTo>
                  <a:lnTo>
                    <a:pt x="123117" y="261420"/>
                  </a:lnTo>
                  <a:cubicBezTo>
                    <a:pt x="123118" y="261910"/>
                    <a:pt x="123057" y="262400"/>
                    <a:pt x="122935" y="262875"/>
                  </a:cubicBezTo>
                  <a:lnTo>
                    <a:pt x="116931" y="286909"/>
                  </a:lnTo>
                  <a:cubicBezTo>
                    <a:pt x="116265" y="289586"/>
                    <a:pt x="113861" y="291464"/>
                    <a:pt x="111103" y="291463"/>
                  </a:cubicBezTo>
                  <a:lnTo>
                    <a:pt x="99083" y="291463"/>
                  </a:lnTo>
                  <a:cubicBezTo>
                    <a:pt x="96319" y="291464"/>
                    <a:pt x="93911" y="289578"/>
                    <a:pt x="93249" y="286894"/>
                  </a:cubicBezTo>
                  <a:lnTo>
                    <a:pt x="87310" y="262860"/>
                  </a:lnTo>
                  <a:cubicBezTo>
                    <a:pt x="87192" y="262389"/>
                    <a:pt x="87133" y="261905"/>
                    <a:pt x="87134" y="261420"/>
                  </a:cubicBezTo>
                  <a:lnTo>
                    <a:pt x="87134" y="259213"/>
                  </a:lnTo>
                  <a:cubicBezTo>
                    <a:pt x="82993" y="258242"/>
                    <a:pt x="78940" y="256931"/>
                    <a:pt x="75014" y="255295"/>
                  </a:cubicBezTo>
                  <a:lnTo>
                    <a:pt x="73717" y="257082"/>
                  </a:lnTo>
                  <a:cubicBezTo>
                    <a:pt x="73426" y="257480"/>
                    <a:pt x="73089" y="257841"/>
                    <a:pt x="72713" y="258159"/>
                  </a:cubicBezTo>
                  <a:lnTo>
                    <a:pt x="53727" y="274068"/>
                  </a:lnTo>
                  <a:cubicBezTo>
                    <a:pt x="51612" y="275839"/>
                    <a:pt x="48564" y="275944"/>
                    <a:pt x="46332" y="274323"/>
                  </a:cubicBezTo>
                  <a:lnTo>
                    <a:pt x="36607" y="267260"/>
                  </a:lnTo>
                  <a:cubicBezTo>
                    <a:pt x="34377" y="265637"/>
                    <a:pt x="33536" y="262707"/>
                    <a:pt x="34564" y="260149"/>
                  </a:cubicBezTo>
                  <a:lnTo>
                    <a:pt x="43832" y="237175"/>
                  </a:lnTo>
                  <a:cubicBezTo>
                    <a:pt x="44017" y="236721"/>
                    <a:pt x="44255" y="236290"/>
                    <a:pt x="44542" y="235892"/>
                  </a:cubicBezTo>
                  <a:lnTo>
                    <a:pt x="45815" y="234141"/>
                  </a:lnTo>
                  <a:cubicBezTo>
                    <a:pt x="43053" y="230927"/>
                    <a:pt x="40559" y="227493"/>
                    <a:pt x="38356" y="223873"/>
                  </a:cubicBezTo>
                  <a:lnTo>
                    <a:pt x="36302" y="224542"/>
                  </a:lnTo>
                  <a:cubicBezTo>
                    <a:pt x="35834" y="224692"/>
                    <a:pt x="35349" y="224786"/>
                    <a:pt x="34858" y="224820"/>
                  </a:cubicBezTo>
                  <a:lnTo>
                    <a:pt x="10143" y="226528"/>
                  </a:lnTo>
                  <a:cubicBezTo>
                    <a:pt x="7387" y="226737"/>
                    <a:pt x="4849" y="225024"/>
                    <a:pt x="4010" y="222391"/>
                  </a:cubicBezTo>
                  <a:lnTo>
                    <a:pt x="295" y="210961"/>
                  </a:lnTo>
                  <a:cubicBezTo>
                    <a:pt x="-558" y="208337"/>
                    <a:pt x="485" y="205470"/>
                    <a:pt x="2825" y="204009"/>
                  </a:cubicBezTo>
                  <a:lnTo>
                    <a:pt x="23824" y="190868"/>
                  </a:lnTo>
                  <a:cubicBezTo>
                    <a:pt x="24241" y="190607"/>
                    <a:pt x="24689" y="190398"/>
                    <a:pt x="25157" y="190246"/>
                  </a:cubicBezTo>
                  <a:lnTo>
                    <a:pt x="27222" y="189574"/>
                  </a:lnTo>
                  <a:cubicBezTo>
                    <a:pt x="27017" y="187346"/>
                    <a:pt x="26917" y="185272"/>
                    <a:pt x="26917" y="183238"/>
                  </a:cubicBezTo>
                  <a:cubicBezTo>
                    <a:pt x="26917" y="181202"/>
                    <a:pt x="27017" y="179121"/>
                    <a:pt x="27222" y="176891"/>
                  </a:cubicBezTo>
                  <a:lnTo>
                    <a:pt x="25157" y="176222"/>
                  </a:lnTo>
                  <a:cubicBezTo>
                    <a:pt x="24689" y="176070"/>
                    <a:pt x="24241" y="175861"/>
                    <a:pt x="23824" y="175599"/>
                  </a:cubicBezTo>
                  <a:lnTo>
                    <a:pt x="2831" y="162453"/>
                  </a:lnTo>
                  <a:cubicBezTo>
                    <a:pt x="494" y="160990"/>
                    <a:pt x="-548" y="158126"/>
                    <a:pt x="301" y="155504"/>
                  </a:cubicBezTo>
                  <a:lnTo>
                    <a:pt x="4010" y="144074"/>
                  </a:lnTo>
                  <a:cubicBezTo>
                    <a:pt x="4850" y="141440"/>
                    <a:pt x="7387" y="139727"/>
                    <a:pt x="10143" y="139933"/>
                  </a:cubicBezTo>
                  <a:lnTo>
                    <a:pt x="34858" y="141647"/>
                  </a:lnTo>
                  <a:cubicBezTo>
                    <a:pt x="35347" y="141679"/>
                    <a:pt x="35830" y="141773"/>
                    <a:pt x="36296" y="141926"/>
                  </a:cubicBezTo>
                  <a:lnTo>
                    <a:pt x="38362" y="142595"/>
                  </a:lnTo>
                  <a:cubicBezTo>
                    <a:pt x="40565" y="138976"/>
                    <a:pt x="43060" y="135543"/>
                    <a:pt x="45822" y="132330"/>
                  </a:cubicBezTo>
                  <a:lnTo>
                    <a:pt x="44548" y="130578"/>
                  </a:lnTo>
                  <a:cubicBezTo>
                    <a:pt x="44258" y="130180"/>
                    <a:pt x="44018" y="129749"/>
                    <a:pt x="43832" y="129293"/>
                  </a:cubicBezTo>
                  <a:lnTo>
                    <a:pt x="34571" y="106315"/>
                  </a:lnTo>
                  <a:cubicBezTo>
                    <a:pt x="33542" y="103757"/>
                    <a:pt x="34384" y="100827"/>
                    <a:pt x="36613" y="99205"/>
                  </a:cubicBezTo>
                  <a:lnTo>
                    <a:pt x="46338" y="92138"/>
                  </a:lnTo>
                  <a:cubicBezTo>
                    <a:pt x="48570" y="90518"/>
                    <a:pt x="51619" y="90625"/>
                    <a:pt x="53733" y="92397"/>
                  </a:cubicBezTo>
                  <a:lnTo>
                    <a:pt x="72714" y="108311"/>
                  </a:lnTo>
                  <a:cubicBezTo>
                    <a:pt x="73089" y="108625"/>
                    <a:pt x="73424" y="108985"/>
                    <a:pt x="73711" y="109382"/>
                  </a:cubicBezTo>
                  <a:lnTo>
                    <a:pt x="75020" y="111178"/>
                  </a:lnTo>
                  <a:cubicBezTo>
                    <a:pt x="78919" y="109552"/>
                    <a:pt x="82945" y="108248"/>
                    <a:pt x="87058" y="107281"/>
                  </a:cubicBezTo>
                  <a:lnTo>
                    <a:pt x="87058" y="105053"/>
                  </a:lnTo>
                  <a:cubicBezTo>
                    <a:pt x="87056" y="104560"/>
                    <a:pt x="87117" y="104068"/>
                    <a:pt x="87239" y="103589"/>
                  </a:cubicBezTo>
                  <a:lnTo>
                    <a:pt x="93255" y="79555"/>
                  </a:lnTo>
                  <a:cubicBezTo>
                    <a:pt x="93923" y="76880"/>
                    <a:pt x="96326" y="75003"/>
                    <a:pt x="99083" y="75004"/>
                  </a:cubicBezTo>
                  <a:close/>
                  <a:moveTo>
                    <a:pt x="272678" y="20392"/>
                  </a:moveTo>
                  <a:lnTo>
                    <a:pt x="272678" y="65334"/>
                  </a:lnTo>
                  <a:lnTo>
                    <a:pt x="318174" y="65334"/>
                  </a:lnTo>
                  <a:lnTo>
                    <a:pt x="272678" y="20392"/>
                  </a:lnTo>
                  <a:close/>
                  <a:moveTo>
                    <a:pt x="54572" y="0"/>
                  </a:moveTo>
                  <a:lnTo>
                    <a:pt x="269133" y="0"/>
                  </a:lnTo>
                  <a:lnTo>
                    <a:pt x="270908" y="1753"/>
                  </a:lnTo>
                  <a:lnTo>
                    <a:pt x="270926" y="1771"/>
                  </a:lnTo>
                  <a:lnTo>
                    <a:pt x="338013" y="68035"/>
                  </a:lnTo>
                  <a:lnTo>
                    <a:pt x="338013" y="114122"/>
                  </a:lnTo>
                  <a:lnTo>
                    <a:pt x="325993" y="114122"/>
                  </a:lnTo>
                  <a:lnTo>
                    <a:pt x="325993" y="77355"/>
                  </a:lnTo>
                  <a:lnTo>
                    <a:pt x="266668" y="77355"/>
                  </a:lnTo>
                  <a:cubicBezTo>
                    <a:pt x="266667" y="77355"/>
                    <a:pt x="266666" y="77355"/>
                    <a:pt x="266665" y="77355"/>
                  </a:cubicBezTo>
                  <a:cubicBezTo>
                    <a:pt x="263347" y="77354"/>
                    <a:pt x="260657" y="74664"/>
                    <a:pt x="260658" y="71345"/>
                  </a:cubicBezTo>
                  <a:lnTo>
                    <a:pt x="260658" y="12020"/>
                  </a:lnTo>
                  <a:lnTo>
                    <a:pt x="66592" y="12020"/>
                  </a:lnTo>
                  <a:lnTo>
                    <a:pt x="66592" y="82681"/>
                  </a:lnTo>
                  <a:lnTo>
                    <a:pt x="54572" y="82681"/>
                  </a:lnTo>
                  <a:lnTo>
                    <a:pt x="54572" y="0"/>
                  </a:lnTo>
                  <a:close/>
                </a:path>
              </a:pathLst>
            </a:custGeom>
            <a:solidFill>
              <a:srgbClr val="2196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0" name="Diamond 2"/>
            <p:cNvSpPr/>
            <p:nvPr/>
          </p:nvSpPr>
          <p:spPr>
            <a:xfrm>
              <a:off x="8678520" y="2747520"/>
              <a:ext cx="1006560" cy="1739520"/>
            </a:xfrm>
            <a:prstGeom prst="diamond">
              <a:avLst/>
            </a:prstGeom>
            <a:noFill/>
            <a:ln w="38160">
              <a:solidFill>
                <a:srgbClr val="2196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1" name="Diamond 4"/>
            <p:cNvSpPr/>
            <p:nvPr/>
          </p:nvSpPr>
          <p:spPr>
            <a:xfrm>
              <a:off x="9386640" y="2422440"/>
              <a:ext cx="657000" cy="1133280"/>
            </a:xfrm>
            <a:prstGeom prst="diamond">
              <a:avLst/>
            </a:prstGeom>
            <a:solidFill>
              <a:srgbClr val="43434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2" name="Diamond 5"/>
            <p:cNvSpPr/>
            <p:nvPr/>
          </p:nvSpPr>
          <p:spPr>
            <a:xfrm>
              <a:off x="8616960" y="4578120"/>
              <a:ext cx="1128600" cy="1947960"/>
            </a:xfrm>
            <a:prstGeom prst="diamond">
              <a:avLst/>
            </a:prstGeom>
            <a:solidFill>
              <a:srgbClr val="43434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3" name="Diamond 6"/>
            <p:cNvSpPr/>
            <p:nvPr/>
          </p:nvSpPr>
          <p:spPr>
            <a:xfrm>
              <a:off x="9555120" y="5591160"/>
              <a:ext cx="433080" cy="747720"/>
            </a:xfrm>
            <a:prstGeom prst="diamond">
              <a:avLst/>
            </a:prstGeom>
            <a:noFill/>
            <a:ln w="38160">
              <a:solidFill>
                <a:srgbClr val="2196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任意形状 4"/>
          <p:cNvSpPr/>
          <p:nvPr/>
        </p:nvSpPr>
        <p:spPr>
          <a:xfrm flipH="1">
            <a:off x="5301360" y="3543480"/>
            <a:ext cx="747720" cy="817560"/>
          </a:xfrm>
          <a:custGeom>
            <a:avLst/>
            <a:gdLst/>
            <a:ahLst/>
            <a:rect l="l" t="t" r="r" b="b"/>
            <a:pathLst>
              <a:path w="1051560" h="1211580">
                <a:moveTo>
                  <a:pt x="4286" y="1210723"/>
                </a:moveTo>
                <a:lnTo>
                  <a:pt x="1049560" y="607219"/>
                </a:lnTo>
                <a:cubicBezTo>
                  <a:pt x="836390" y="250603"/>
                  <a:pt x="448913" y="10001"/>
                  <a:pt x="4286" y="4286"/>
                </a:cubicBezTo>
                <a:lnTo>
                  <a:pt x="4286" y="1210723"/>
                </a:ln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5" name="任意形状 5"/>
          <p:cNvSpPr/>
          <p:nvPr/>
        </p:nvSpPr>
        <p:spPr>
          <a:xfrm flipH="1">
            <a:off x="5175360" y="3989520"/>
            <a:ext cx="814320" cy="817560"/>
          </a:xfrm>
          <a:custGeom>
            <a:avLst/>
            <a:gdLst/>
            <a:ahLst/>
            <a:rect l="l" t="t" r="r" b="b"/>
            <a:pathLst>
              <a:path w="1205865" h="1211580">
                <a:moveTo>
                  <a:pt x="4286" y="607790"/>
                </a:moveTo>
                <a:lnTo>
                  <a:pt x="1049560" y="1211294"/>
                </a:lnTo>
                <a:cubicBezTo>
                  <a:pt x="1149572" y="1032986"/>
                  <a:pt x="1206722" y="827246"/>
                  <a:pt x="1206722" y="607790"/>
                </a:cubicBezTo>
                <a:cubicBezTo>
                  <a:pt x="1206722" y="388906"/>
                  <a:pt x="1149572" y="183166"/>
                  <a:pt x="1049560" y="4286"/>
                </a:cubicBezTo>
                <a:lnTo>
                  <a:pt x="4286" y="607790"/>
                </a:ln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6" name="任意形状 6"/>
          <p:cNvSpPr/>
          <p:nvPr/>
        </p:nvSpPr>
        <p:spPr>
          <a:xfrm flipH="1">
            <a:off x="5270400" y="4451400"/>
            <a:ext cx="711360" cy="817560"/>
          </a:xfrm>
          <a:custGeom>
            <a:avLst/>
            <a:gdLst/>
            <a:ahLst/>
            <a:rect l="l" t="t" r="r" b="b"/>
            <a:pathLst>
              <a:path w="1051560" h="1211580">
                <a:moveTo>
                  <a:pt x="4286" y="4286"/>
                </a:moveTo>
                <a:lnTo>
                  <a:pt x="4286" y="1210723"/>
                </a:lnTo>
                <a:cubicBezTo>
                  <a:pt x="448342" y="1204436"/>
                  <a:pt x="836390" y="964406"/>
                  <a:pt x="1049560" y="607790"/>
                </a:cubicBezTo>
                <a:lnTo>
                  <a:pt x="4286" y="4286"/>
                </a:lnTo>
                <a:close/>
              </a:path>
            </a:pathLst>
          </a:custGeom>
          <a:solidFill>
            <a:srgbClr val="9bbb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7" name="任意形状 4"/>
          <p:cNvSpPr/>
          <p:nvPr/>
        </p:nvSpPr>
        <p:spPr>
          <a:xfrm>
            <a:off x="6091200" y="3570120"/>
            <a:ext cx="709560" cy="849600"/>
          </a:xfrm>
          <a:custGeom>
            <a:avLst/>
            <a:gdLst/>
            <a:ahLst/>
            <a:rect l="l" t="t" r="r" b="b"/>
            <a:pathLst>
              <a:path w="1051560" h="1211580">
                <a:moveTo>
                  <a:pt x="4286" y="1210723"/>
                </a:moveTo>
                <a:lnTo>
                  <a:pt x="1049560" y="607219"/>
                </a:lnTo>
                <a:cubicBezTo>
                  <a:pt x="836390" y="250603"/>
                  <a:pt x="448913" y="10001"/>
                  <a:pt x="4286" y="4286"/>
                </a:cubicBezTo>
                <a:lnTo>
                  <a:pt x="4286" y="1210723"/>
                </a:ln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8" name="任意形状 5"/>
          <p:cNvSpPr/>
          <p:nvPr/>
        </p:nvSpPr>
        <p:spPr>
          <a:xfrm>
            <a:off x="6114960" y="4070520"/>
            <a:ext cx="808200" cy="731520"/>
          </a:xfrm>
          <a:custGeom>
            <a:avLst/>
            <a:gdLst/>
            <a:ahLst/>
            <a:rect l="l" t="t" r="r" b="b"/>
            <a:pathLst>
              <a:path w="1205865" h="1211580">
                <a:moveTo>
                  <a:pt x="4286" y="607790"/>
                </a:moveTo>
                <a:lnTo>
                  <a:pt x="1049560" y="1211294"/>
                </a:lnTo>
                <a:cubicBezTo>
                  <a:pt x="1149572" y="1032986"/>
                  <a:pt x="1206722" y="827246"/>
                  <a:pt x="1206722" y="607790"/>
                </a:cubicBezTo>
                <a:cubicBezTo>
                  <a:pt x="1206722" y="388906"/>
                  <a:pt x="1149572" y="183166"/>
                  <a:pt x="1049560" y="4286"/>
                </a:cubicBezTo>
                <a:lnTo>
                  <a:pt x="4286" y="607790"/>
                </a:lnTo>
                <a:close/>
              </a:path>
            </a:pathLst>
          </a:custGeom>
          <a:solidFill>
            <a:srgbClr val="69a35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9" name="任意形状 6"/>
          <p:cNvSpPr/>
          <p:nvPr/>
        </p:nvSpPr>
        <p:spPr>
          <a:xfrm>
            <a:off x="6053040" y="4421160"/>
            <a:ext cx="727200" cy="879480"/>
          </a:xfrm>
          <a:custGeom>
            <a:avLst/>
            <a:gdLst/>
            <a:ahLst/>
            <a:rect l="l" t="t" r="r" b="b"/>
            <a:pathLst>
              <a:path w="1051560" h="1211580">
                <a:moveTo>
                  <a:pt x="4286" y="4286"/>
                </a:moveTo>
                <a:lnTo>
                  <a:pt x="4286" y="1210723"/>
                </a:lnTo>
                <a:cubicBezTo>
                  <a:pt x="448342" y="1204436"/>
                  <a:pt x="836390" y="964406"/>
                  <a:pt x="1049560" y="607790"/>
                </a:cubicBezTo>
                <a:lnTo>
                  <a:pt x="4286" y="4286"/>
                </a:lnTo>
                <a:close/>
              </a:path>
            </a:pathLst>
          </a:cu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0" name="任意形状 7"/>
          <p:cNvSpPr/>
          <p:nvPr/>
        </p:nvSpPr>
        <p:spPr>
          <a:xfrm>
            <a:off x="5402160" y="3740040"/>
            <a:ext cx="1341720" cy="1325520"/>
          </a:xfrm>
          <a:custGeom>
            <a:avLst/>
            <a:gdLst/>
            <a:ahLst/>
            <a:rect l="l" t="t" r="r" b="b"/>
            <a:pathLst>
              <a:path w="2308860" h="2308860">
                <a:moveTo>
                  <a:pt x="2307431" y="1155859"/>
                </a:moveTo>
                <a:cubicBezTo>
                  <a:pt x="2307431" y="1791855"/>
                  <a:pt x="1791855" y="2307431"/>
                  <a:pt x="1155859" y="2307431"/>
                </a:cubicBezTo>
                <a:cubicBezTo>
                  <a:pt x="519863" y="2307431"/>
                  <a:pt x="4286" y="1791855"/>
                  <a:pt x="4286" y="1155859"/>
                </a:cubicBezTo>
                <a:cubicBezTo>
                  <a:pt x="4286" y="519863"/>
                  <a:pt x="519863" y="4286"/>
                  <a:pt x="1155859" y="4286"/>
                </a:cubicBezTo>
                <a:cubicBezTo>
                  <a:pt x="1791855" y="4286"/>
                  <a:pt x="2307431" y="519863"/>
                  <a:pt x="2307431" y="1155859"/>
                </a:cubicBezTo>
                <a:close/>
              </a:path>
            </a:pathLst>
          </a:custGeom>
          <a:solidFill>
            <a:srgbClr val="ffffff"/>
          </a:solidFill>
          <a:ln w="2556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1" name="任意形状 8"/>
          <p:cNvSpPr/>
          <p:nvPr/>
        </p:nvSpPr>
        <p:spPr>
          <a:xfrm>
            <a:off x="6691320" y="3405240"/>
            <a:ext cx="727200" cy="384120"/>
          </a:xfrm>
          <a:custGeom>
            <a:avLst/>
            <a:gdLst/>
            <a:ahLst/>
            <a:rect l="l" t="t" r="r" b="b"/>
            <a:pathLst>
              <a:path w="1377315" h="331470">
                <a:moveTo>
                  <a:pt x="17145" y="315468"/>
                </a:moveTo>
                <a:lnTo>
                  <a:pt x="623507" y="315468"/>
                </a:lnTo>
                <a:lnTo>
                  <a:pt x="921829" y="17145"/>
                </a:lnTo>
                <a:lnTo>
                  <a:pt x="1362456" y="17145"/>
                </a:lnTo>
              </a:path>
            </a:pathLst>
          </a:custGeom>
          <a:noFill/>
          <a:ln w="19080">
            <a:solidFill>
              <a:srgbClr val="3498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2" name="任意形状 9"/>
          <p:cNvSpPr/>
          <p:nvPr/>
        </p:nvSpPr>
        <p:spPr>
          <a:xfrm>
            <a:off x="6599160" y="3714840"/>
            <a:ext cx="104760" cy="110880"/>
          </a:xfrm>
          <a:custGeom>
            <a:avLst/>
            <a:gdLst/>
            <a:ahLst/>
            <a:rect l="l" t="t" r="r" b="b"/>
            <a:pathLst>
              <a:path w="165735" h="165735">
                <a:moveTo>
                  <a:pt x="152019" y="84582"/>
                </a:moveTo>
                <a:cubicBezTo>
                  <a:pt x="152019" y="121826"/>
                  <a:pt x="121826" y="152019"/>
                  <a:pt x="84582" y="152019"/>
                </a:cubicBezTo>
                <a:cubicBezTo>
                  <a:pt x="47338" y="152019"/>
                  <a:pt x="17145" y="121826"/>
                  <a:pt x="17145" y="84582"/>
                </a:cubicBezTo>
                <a:cubicBezTo>
                  <a:pt x="17145" y="47337"/>
                  <a:pt x="47338" y="17145"/>
                  <a:pt x="84582" y="17145"/>
                </a:cubicBezTo>
                <a:cubicBezTo>
                  <a:pt x="121826" y="17145"/>
                  <a:pt x="152019" y="47338"/>
                  <a:pt x="152019" y="84582"/>
                </a:cubicBezTo>
                <a:close/>
              </a:path>
            </a:pathLst>
          </a:custGeom>
          <a:noFill/>
          <a:ln w="19080">
            <a:solidFill>
              <a:srgbClr val="3498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3" name="任意形状 19"/>
          <p:cNvSpPr/>
          <p:nvPr/>
        </p:nvSpPr>
        <p:spPr>
          <a:xfrm>
            <a:off x="7375680" y="2824200"/>
            <a:ext cx="4294080" cy="120492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4" name="文本框 37"/>
          <p:cNvSpPr/>
          <p:nvPr/>
        </p:nvSpPr>
        <p:spPr>
          <a:xfrm>
            <a:off x="7510320" y="3092040"/>
            <a:ext cx="4138920" cy="532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三）实质性分析程序</a:t>
            </a:r>
            <a:endParaRPr b="1" lang="en-US" sz="2400" spc="-1" strike="noStrike">
              <a:solidFill>
                <a:srgbClr val="000000"/>
              </a:solidFill>
              <a:latin typeface="Arial"/>
            </a:endParaRPr>
          </a:p>
        </p:txBody>
      </p:sp>
      <p:sp>
        <p:nvSpPr>
          <p:cNvPr id="2105" name="任意形状 12"/>
          <p:cNvSpPr/>
          <p:nvPr/>
        </p:nvSpPr>
        <p:spPr>
          <a:xfrm>
            <a:off x="6568920" y="5024520"/>
            <a:ext cx="135000" cy="136440"/>
          </a:xfrm>
          <a:custGeom>
            <a:avLst/>
            <a:gdLst/>
            <a:ahLst/>
            <a:rect l="l" t="t" r="r" b="b"/>
            <a:pathLst>
              <a:path w="165735" h="165735">
                <a:moveTo>
                  <a:pt x="152019" y="84582"/>
                </a:moveTo>
                <a:cubicBezTo>
                  <a:pt x="152019" y="121826"/>
                  <a:pt x="121826" y="152019"/>
                  <a:pt x="84582" y="152019"/>
                </a:cubicBezTo>
                <a:cubicBezTo>
                  <a:pt x="47338" y="152019"/>
                  <a:pt x="17145" y="121826"/>
                  <a:pt x="17145" y="84582"/>
                </a:cubicBezTo>
                <a:cubicBezTo>
                  <a:pt x="17145" y="47337"/>
                  <a:pt x="47338" y="17145"/>
                  <a:pt x="84582" y="17145"/>
                </a:cubicBezTo>
                <a:cubicBezTo>
                  <a:pt x="121826" y="17145"/>
                  <a:pt x="152019" y="47337"/>
                  <a:pt x="152019" y="84582"/>
                </a:cubicBezTo>
                <a:close/>
              </a:path>
            </a:pathLst>
          </a:custGeom>
          <a:noFill/>
          <a:ln w="190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6" name="任意形状 11"/>
          <p:cNvSpPr/>
          <p:nvPr/>
        </p:nvSpPr>
        <p:spPr>
          <a:xfrm>
            <a:off x="6691320" y="5054760"/>
            <a:ext cx="704880" cy="309240"/>
          </a:xfrm>
          <a:custGeom>
            <a:avLst/>
            <a:gdLst/>
            <a:ahLst/>
            <a:rect l="l" t="t" r="r" b="b"/>
            <a:pathLst>
              <a:path w="1377315" h="331470">
                <a:moveTo>
                  <a:pt x="17145" y="17145"/>
                </a:moveTo>
                <a:lnTo>
                  <a:pt x="623507" y="17145"/>
                </a:lnTo>
                <a:lnTo>
                  <a:pt x="921829" y="315468"/>
                </a:lnTo>
                <a:lnTo>
                  <a:pt x="1362456" y="315468"/>
                </a:lnTo>
              </a:path>
            </a:pathLst>
          </a:custGeom>
          <a:noFill/>
          <a:ln w="190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7" name="任意形状 19"/>
          <p:cNvSpPr/>
          <p:nvPr/>
        </p:nvSpPr>
        <p:spPr>
          <a:xfrm>
            <a:off x="7396200" y="4692600"/>
            <a:ext cx="4253040" cy="124956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8" name="文本框 61"/>
          <p:cNvSpPr/>
          <p:nvPr/>
        </p:nvSpPr>
        <p:spPr>
          <a:xfrm>
            <a:off x="7446960" y="4975560"/>
            <a:ext cx="4309920" cy="532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400" spc="-1" strike="noStrike">
                <a:solidFill>
                  <a:srgbClr val="000000"/>
                </a:solidFill>
                <a:latin typeface="Arial"/>
                <a:ea typeface="宋体"/>
              </a:rPr>
              <a:t>（四）函证应付账款</a:t>
            </a:r>
            <a:endParaRPr b="1" lang="en-US" sz="2400" spc="-1" strike="noStrike">
              <a:solidFill>
                <a:srgbClr val="000000"/>
              </a:solidFill>
              <a:latin typeface="Arial"/>
            </a:endParaRPr>
          </a:p>
        </p:txBody>
      </p:sp>
      <p:sp>
        <p:nvSpPr>
          <p:cNvPr id="2109" name="任意形状 19"/>
          <p:cNvSpPr/>
          <p:nvPr/>
        </p:nvSpPr>
        <p:spPr>
          <a:xfrm>
            <a:off x="230040" y="2817720"/>
            <a:ext cx="4604040" cy="120168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0" name="文本框 66"/>
          <p:cNvSpPr/>
          <p:nvPr/>
        </p:nvSpPr>
        <p:spPr>
          <a:xfrm>
            <a:off x="351000" y="3085560"/>
            <a:ext cx="432432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一）</a:t>
            </a:r>
            <a:r>
              <a:rPr b="1" lang="zh-CN" sz="2400" spc="-1" strike="noStrike">
                <a:solidFill>
                  <a:srgbClr val="ffffff"/>
                </a:solidFill>
                <a:latin typeface="Arial"/>
                <a:ea typeface="宋体"/>
              </a:rPr>
              <a:t>获取或编制应付账款明细表</a:t>
            </a:r>
            <a:endParaRPr b="1" lang="en-US" sz="2400" spc="-1" strike="noStrike">
              <a:solidFill>
                <a:srgbClr val="000000"/>
              </a:solidFill>
              <a:latin typeface="Arial"/>
            </a:endParaRPr>
          </a:p>
        </p:txBody>
      </p:sp>
      <p:sp>
        <p:nvSpPr>
          <p:cNvPr id="2111" name="任意形状 8"/>
          <p:cNvSpPr/>
          <p:nvPr/>
        </p:nvSpPr>
        <p:spPr>
          <a:xfrm flipH="1">
            <a:off x="4772160" y="3365640"/>
            <a:ext cx="714240" cy="357120"/>
          </a:xfrm>
          <a:custGeom>
            <a:avLst/>
            <a:gdLst/>
            <a:ahLst/>
            <a:rect l="l" t="t" r="r" b="b"/>
            <a:pathLst>
              <a:path w="1377315" h="331470">
                <a:moveTo>
                  <a:pt x="17145" y="315468"/>
                </a:moveTo>
                <a:lnTo>
                  <a:pt x="623507" y="315468"/>
                </a:lnTo>
                <a:lnTo>
                  <a:pt x="921829" y="17145"/>
                </a:lnTo>
                <a:lnTo>
                  <a:pt x="1362456" y="17145"/>
                </a:lnTo>
              </a:path>
            </a:pathLst>
          </a:custGeom>
          <a:noFill/>
          <a:ln w="19080">
            <a:solidFill>
              <a:srgbClr val="1f74a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任意形状 9"/>
          <p:cNvSpPr/>
          <p:nvPr/>
        </p:nvSpPr>
        <p:spPr>
          <a:xfrm flipH="1">
            <a:off x="5477760" y="3635280"/>
            <a:ext cx="104760" cy="136800"/>
          </a:xfrm>
          <a:custGeom>
            <a:avLst/>
            <a:gdLst/>
            <a:ahLst/>
            <a:rect l="l" t="t" r="r" b="b"/>
            <a:pathLst>
              <a:path w="165735" h="165735">
                <a:moveTo>
                  <a:pt x="152019" y="84582"/>
                </a:moveTo>
                <a:cubicBezTo>
                  <a:pt x="152019" y="121826"/>
                  <a:pt x="121826" y="152019"/>
                  <a:pt x="84582" y="152019"/>
                </a:cubicBezTo>
                <a:cubicBezTo>
                  <a:pt x="47338" y="152019"/>
                  <a:pt x="17145" y="121826"/>
                  <a:pt x="17145" y="84582"/>
                </a:cubicBezTo>
                <a:cubicBezTo>
                  <a:pt x="17145" y="47337"/>
                  <a:pt x="47338" y="17145"/>
                  <a:pt x="84582" y="17145"/>
                </a:cubicBezTo>
                <a:cubicBezTo>
                  <a:pt x="121826" y="17145"/>
                  <a:pt x="152019" y="47338"/>
                  <a:pt x="152019" y="84582"/>
                </a:cubicBezTo>
                <a:close/>
              </a:path>
            </a:pathLst>
          </a:custGeom>
          <a:noFill/>
          <a:ln w="19080">
            <a:solidFill>
              <a:srgbClr val="1f74a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3" name="任意形状 19"/>
          <p:cNvSpPr/>
          <p:nvPr/>
        </p:nvSpPr>
        <p:spPr>
          <a:xfrm>
            <a:off x="369720" y="4692600"/>
            <a:ext cx="4253040" cy="116208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9bbb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4" name="文本框 70"/>
          <p:cNvSpPr/>
          <p:nvPr/>
        </p:nvSpPr>
        <p:spPr>
          <a:xfrm>
            <a:off x="477720" y="5043960"/>
            <a:ext cx="360216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二）</a:t>
            </a:r>
            <a:r>
              <a:rPr b="1" lang="zh-CN" sz="2400" spc="-1" strike="noStrike">
                <a:solidFill>
                  <a:srgbClr val="000000"/>
                </a:solidFill>
                <a:latin typeface="Arial"/>
                <a:ea typeface="宋体"/>
              </a:rPr>
              <a:t>实质性分析程序</a:t>
            </a:r>
            <a:endParaRPr b="1" lang="en-US" sz="2400" spc="-1" strike="noStrike">
              <a:solidFill>
                <a:srgbClr val="000000"/>
              </a:solidFill>
              <a:latin typeface="Arial"/>
            </a:endParaRPr>
          </a:p>
        </p:txBody>
      </p:sp>
      <p:sp>
        <p:nvSpPr>
          <p:cNvPr id="2115" name="任意形状 11"/>
          <p:cNvSpPr/>
          <p:nvPr/>
        </p:nvSpPr>
        <p:spPr>
          <a:xfrm flipH="1">
            <a:off x="4562640" y="5041800"/>
            <a:ext cx="799920" cy="330480"/>
          </a:xfrm>
          <a:custGeom>
            <a:avLst/>
            <a:gdLst/>
            <a:ahLst/>
            <a:rect l="l" t="t" r="r" b="b"/>
            <a:pathLst>
              <a:path w="1377315" h="331470">
                <a:moveTo>
                  <a:pt x="17145" y="17145"/>
                </a:moveTo>
                <a:lnTo>
                  <a:pt x="623507" y="17145"/>
                </a:lnTo>
                <a:lnTo>
                  <a:pt x="921829" y="315468"/>
                </a:lnTo>
                <a:lnTo>
                  <a:pt x="1362456" y="315468"/>
                </a:lnTo>
              </a:path>
            </a:pathLst>
          </a:custGeom>
          <a:noFill/>
          <a:ln w="1908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6" name="任意形状 12"/>
          <p:cNvSpPr/>
          <p:nvPr/>
        </p:nvSpPr>
        <p:spPr>
          <a:xfrm flipH="1">
            <a:off x="5312520" y="4938840"/>
            <a:ext cx="135000" cy="136440"/>
          </a:xfrm>
          <a:custGeom>
            <a:avLst/>
            <a:gdLst/>
            <a:ahLst/>
            <a:rect l="l" t="t" r="r" b="b"/>
            <a:pathLst>
              <a:path w="165735" h="165735">
                <a:moveTo>
                  <a:pt x="152019" y="84582"/>
                </a:moveTo>
                <a:cubicBezTo>
                  <a:pt x="152019" y="121826"/>
                  <a:pt x="121826" y="152019"/>
                  <a:pt x="84582" y="152019"/>
                </a:cubicBezTo>
                <a:cubicBezTo>
                  <a:pt x="47338" y="152019"/>
                  <a:pt x="17145" y="121826"/>
                  <a:pt x="17145" y="84582"/>
                </a:cubicBezTo>
                <a:cubicBezTo>
                  <a:pt x="17145" y="47337"/>
                  <a:pt x="47338" y="17145"/>
                  <a:pt x="84582" y="17145"/>
                </a:cubicBezTo>
                <a:cubicBezTo>
                  <a:pt x="121826" y="17145"/>
                  <a:pt x="152019" y="47337"/>
                  <a:pt x="152019" y="84582"/>
                </a:cubicBezTo>
                <a:close/>
              </a:path>
            </a:pathLst>
          </a:custGeom>
          <a:noFill/>
          <a:ln w="1908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17" name="组合 28"/>
          <p:cNvGrpSpPr/>
          <p:nvPr/>
        </p:nvGrpSpPr>
        <p:grpSpPr>
          <a:xfrm>
            <a:off x="922320" y="450720"/>
            <a:ext cx="10359720" cy="0"/>
            <a:chOff x="922320" y="450720"/>
            <a:chExt cx="10359720" cy="0"/>
          </a:xfrm>
        </p:grpSpPr>
        <p:sp>
          <p:nvSpPr>
            <p:cNvPr id="2118" name="直接连接符 58"/>
            <p:cNvSpPr/>
            <p:nvPr/>
          </p:nvSpPr>
          <p:spPr>
            <a:xfrm>
              <a:off x="922320" y="45072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19" name="直接连接符 59"/>
            <p:cNvSpPr/>
            <p:nvPr/>
          </p:nvSpPr>
          <p:spPr>
            <a:xfrm>
              <a:off x="9302400" y="45072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120" name="文本框 7"/>
          <p:cNvSpPr/>
          <p:nvPr/>
        </p:nvSpPr>
        <p:spPr>
          <a:xfrm>
            <a:off x="5313240" y="4241880"/>
            <a:ext cx="1514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实质性程序</a:t>
            </a:r>
            <a:endParaRPr b="1" lang="en-US" sz="2000" spc="-1" strike="noStrike">
              <a:solidFill>
                <a:srgbClr val="000000"/>
              </a:solidFill>
              <a:latin typeface="Arial"/>
            </a:endParaRPr>
          </a:p>
        </p:txBody>
      </p:sp>
      <p:pic>
        <p:nvPicPr>
          <p:cNvPr id="2121" name="文本框 31" descr=""/>
          <p:cNvPicPr/>
          <p:nvPr/>
        </p:nvPicPr>
        <p:blipFill>
          <a:blip r:embed="rId1"/>
          <a:stretch/>
        </p:blipFill>
        <p:spPr>
          <a:xfrm>
            <a:off x="2925720" y="73080"/>
            <a:ext cx="5862600" cy="652320"/>
          </a:xfrm>
          <a:prstGeom prst="rect">
            <a:avLst/>
          </a:prstGeom>
          <a:ln w="0">
            <a:noFill/>
          </a:ln>
        </p:spPr>
      </p:pic>
      <p:sp>
        <p:nvSpPr>
          <p:cNvPr id="2122" name="文本框 39"/>
          <p:cNvSpPr/>
          <p:nvPr/>
        </p:nvSpPr>
        <p:spPr>
          <a:xfrm>
            <a:off x="4213080" y="812880"/>
            <a:ext cx="3678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      </a:t>
            </a: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sp>
        <p:nvSpPr>
          <p:cNvPr id="2123" name="矩形 1"/>
          <p:cNvSpPr/>
          <p:nvPr/>
        </p:nvSpPr>
        <p:spPr>
          <a:xfrm>
            <a:off x="477720" y="1376280"/>
            <a:ext cx="88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e78"/>
                </a:solidFill>
                <a:latin typeface="微软雅黑"/>
                <a:ea typeface="微软雅黑"/>
              </a:rPr>
              <a:t>二、应付账款审计的实质性程序</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e78"/>
                </a:solidFill>
                <a:latin typeface="Arial"/>
                <a:ea typeface="宋体"/>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应付账款审计的实质性程序一般包括以下程序。</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任意形状 4"/>
          <p:cNvSpPr/>
          <p:nvPr/>
        </p:nvSpPr>
        <p:spPr>
          <a:xfrm flipH="1">
            <a:off x="5315760" y="3570120"/>
            <a:ext cx="714600" cy="819360"/>
          </a:xfrm>
          <a:custGeom>
            <a:avLst/>
            <a:gdLst/>
            <a:ahLst/>
            <a:rect l="l" t="t" r="r" b="b"/>
            <a:pathLst>
              <a:path w="1051560" h="1211580">
                <a:moveTo>
                  <a:pt x="4286" y="1210723"/>
                </a:moveTo>
                <a:lnTo>
                  <a:pt x="1049560" y="607219"/>
                </a:lnTo>
                <a:cubicBezTo>
                  <a:pt x="836390" y="250603"/>
                  <a:pt x="448913" y="10001"/>
                  <a:pt x="4286" y="4286"/>
                </a:cubicBezTo>
                <a:lnTo>
                  <a:pt x="4286" y="1210723"/>
                </a:ln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5" name="任意形状 5"/>
          <p:cNvSpPr/>
          <p:nvPr/>
        </p:nvSpPr>
        <p:spPr>
          <a:xfrm flipH="1">
            <a:off x="5175360" y="3989520"/>
            <a:ext cx="814320" cy="817560"/>
          </a:xfrm>
          <a:custGeom>
            <a:avLst/>
            <a:gdLst/>
            <a:ahLst/>
            <a:rect l="l" t="t" r="r" b="b"/>
            <a:pathLst>
              <a:path w="1205865" h="1211580">
                <a:moveTo>
                  <a:pt x="4286" y="607790"/>
                </a:moveTo>
                <a:lnTo>
                  <a:pt x="1049560" y="1211294"/>
                </a:lnTo>
                <a:cubicBezTo>
                  <a:pt x="1149572" y="1032986"/>
                  <a:pt x="1206722" y="827246"/>
                  <a:pt x="1206722" y="607790"/>
                </a:cubicBezTo>
                <a:cubicBezTo>
                  <a:pt x="1206722" y="388906"/>
                  <a:pt x="1149572" y="183166"/>
                  <a:pt x="1049560" y="4286"/>
                </a:cubicBezTo>
                <a:lnTo>
                  <a:pt x="4286" y="607790"/>
                </a:ln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6" name="任意形状 6"/>
          <p:cNvSpPr/>
          <p:nvPr/>
        </p:nvSpPr>
        <p:spPr>
          <a:xfrm flipH="1">
            <a:off x="5270400" y="4451400"/>
            <a:ext cx="711360" cy="817560"/>
          </a:xfrm>
          <a:custGeom>
            <a:avLst/>
            <a:gdLst/>
            <a:ahLst/>
            <a:rect l="l" t="t" r="r" b="b"/>
            <a:pathLst>
              <a:path w="1051560" h="1211580">
                <a:moveTo>
                  <a:pt x="4286" y="4286"/>
                </a:moveTo>
                <a:lnTo>
                  <a:pt x="4286" y="1210723"/>
                </a:lnTo>
                <a:cubicBezTo>
                  <a:pt x="448342" y="1204436"/>
                  <a:pt x="836390" y="964406"/>
                  <a:pt x="1049560" y="607790"/>
                </a:cubicBezTo>
                <a:lnTo>
                  <a:pt x="4286" y="4286"/>
                </a:lnTo>
                <a:close/>
              </a:path>
            </a:pathLst>
          </a:custGeom>
          <a:solidFill>
            <a:srgbClr val="9bbb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7" name="任意形状 4"/>
          <p:cNvSpPr/>
          <p:nvPr/>
        </p:nvSpPr>
        <p:spPr>
          <a:xfrm>
            <a:off x="6059520" y="3579840"/>
            <a:ext cx="709560" cy="849240"/>
          </a:xfrm>
          <a:custGeom>
            <a:avLst/>
            <a:gdLst/>
            <a:ahLst/>
            <a:rect l="l" t="t" r="r" b="b"/>
            <a:pathLst>
              <a:path w="1051560" h="1211580">
                <a:moveTo>
                  <a:pt x="4286" y="1210723"/>
                </a:moveTo>
                <a:lnTo>
                  <a:pt x="1049560" y="607219"/>
                </a:lnTo>
                <a:cubicBezTo>
                  <a:pt x="836390" y="250603"/>
                  <a:pt x="448913" y="10001"/>
                  <a:pt x="4286" y="4286"/>
                </a:cubicBezTo>
                <a:lnTo>
                  <a:pt x="4286" y="1210723"/>
                </a:ln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8" name="任意形状 5"/>
          <p:cNvSpPr/>
          <p:nvPr/>
        </p:nvSpPr>
        <p:spPr>
          <a:xfrm>
            <a:off x="6114960" y="4070520"/>
            <a:ext cx="814320" cy="817560"/>
          </a:xfrm>
          <a:custGeom>
            <a:avLst/>
            <a:gdLst/>
            <a:ahLst/>
            <a:rect l="l" t="t" r="r" b="b"/>
            <a:pathLst>
              <a:path w="1205865" h="1211580">
                <a:moveTo>
                  <a:pt x="4286" y="607790"/>
                </a:moveTo>
                <a:lnTo>
                  <a:pt x="1049560" y="1211294"/>
                </a:lnTo>
                <a:cubicBezTo>
                  <a:pt x="1149572" y="1032986"/>
                  <a:pt x="1206722" y="827246"/>
                  <a:pt x="1206722" y="607790"/>
                </a:cubicBezTo>
                <a:cubicBezTo>
                  <a:pt x="1206722" y="388906"/>
                  <a:pt x="1149572" y="183166"/>
                  <a:pt x="1049560" y="4286"/>
                </a:cubicBezTo>
                <a:lnTo>
                  <a:pt x="4286" y="607790"/>
                </a:lnTo>
                <a:close/>
              </a:path>
            </a:pathLst>
          </a:custGeom>
          <a:solidFill>
            <a:srgbClr val="69a35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9" name="任意形状 6"/>
          <p:cNvSpPr/>
          <p:nvPr/>
        </p:nvSpPr>
        <p:spPr>
          <a:xfrm>
            <a:off x="6059520" y="4527720"/>
            <a:ext cx="693720" cy="793440"/>
          </a:xfrm>
          <a:custGeom>
            <a:avLst/>
            <a:gdLst/>
            <a:ahLst/>
            <a:rect l="l" t="t" r="r" b="b"/>
            <a:pathLst>
              <a:path w="1051560" h="1211580">
                <a:moveTo>
                  <a:pt x="4286" y="4286"/>
                </a:moveTo>
                <a:lnTo>
                  <a:pt x="4286" y="1210723"/>
                </a:lnTo>
                <a:cubicBezTo>
                  <a:pt x="448342" y="1204436"/>
                  <a:pt x="836390" y="964406"/>
                  <a:pt x="1049560" y="607790"/>
                </a:cubicBezTo>
                <a:lnTo>
                  <a:pt x="4286" y="4286"/>
                </a:lnTo>
                <a:close/>
              </a:path>
            </a:pathLst>
          </a:cu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0" name="任意形状 7"/>
          <p:cNvSpPr/>
          <p:nvPr/>
        </p:nvSpPr>
        <p:spPr>
          <a:xfrm>
            <a:off x="5380200" y="3751200"/>
            <a:ext cx="1314360" cy="1325520"/>
          </a:xfrm>
          <a:custGeom>
            <a:avLst/>
            <a:gdLst/>
            <a:ahLst/>
            <a:rect l="l" t="t" r="r" b="b"/>
            <a:pathLst>
              <a:path w="2308860" h="2308860">
                <a:moveTo>
                  <a:pt x="2307431" y="1155859"/>
                </a:moveTo>
                <a:cubicBezTo>
                  <a:pt x="2307431" y="1791855"/>
                  <a:pt x="1791855" y="2307431"/>
                  <a:pt x="1155859" y="2307431"/>
                </a:cubicBezTo>
                <a:cubicBezTo>
                  <a:pt x="519863" y="2307431"/>
                  <a:pt x="4286" y="1791855"/>
                  <a:pt x="4286" y="1155859"/>
                </a:cubicBezTo>
                <a:cubicBezTo>
                  <a:pt x="4286" y="519863"/>
                  <a:pt x="519863" y="4286"/>
                  <a:pt x="1155859" y="4286"/>
                </a:cubicBezTo>
                <a:cubicBezTo>
                  <a:pt x="1791855" y="4286"/>
                  <a:pt x="2307431" y="519863"/>
                  <a:pt x="2307431" y="1155859"/>
                </a:cubicBezTo>
                <a:close/>
              </a:path>
            </a:pathLst>
          </a:custGeom>
          <a:solidFill>
            <a:srgbClr val="ffffff"/>
          </a:solidFill>
          <a:ln w="2556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1" name="任意形状 8"/>
          <p:cNvSpPr/>
          <p:nvPr/>
        </p:nvSpPr>
        <p:spPr>
          <a:xfrm>
            <a:off x="6707160" y="3481560"/>
            <a:ext cx="1042920" cy="338040"/>
          </a:xfrm>
          <a:custGeom>
            <a:avLst/>
            <a:gdLst/>
            <a:ahLst/>
            <a:rect l="l" t="t" r="r" b="b"/>
            <a:pathLst>
              <a:path w="1377315" h="331470">
                <a:moveTo>
                  <a:pt x="17145" y="315468"/>
                </a:moveTo>
                <a:lnTo>
                  <a:pt x="623507" y="315468"/>
                </a:lnTo>
                <a:lnTo>
                  <a:pt x="921829" y="17145"/>
                </a:lnTo>
                <a:lnTo>
                  <a:pt x="1362456" y="17145"/>
                </a:lnTo>
              </a:path>
            </a:pathLst>
          </a:custGeom>
          <a:noFill/>
          <a:ln w="19080">
            <a:solidFill>
              <a:srgbClr val="3498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2" name="任意形状 9"/>
          <p:cNvSpPr/>
          <p:nvPr/>
        </p:nvSpPr>
        <p:spPr>
          <a:xfrm>
            <a:off x="6634080" y="3762360"/>
            <a:ext cx="104760" cy="111240"/>
          </a:xfrm>
          <a:custGeom>
            <a:avLst/>
            <a:gdLst/>
            <a:ahLst/>
            <a:rect l="l" t="t" r="r" b="b"/>
            <a:pathLst>
              <a:path w="165735" h="165735">
                <a:moveTo>
                  <a:pt x="152019" y="84582"/>
                </a:moveTo>
                <a:cubicBezTo>
                  <a:pt x="152019" y="121826"/>
                  <a:pt x="121826" y="152019"/>
                  <a:pt x="84582" y="152019"/>
                </a:cubicBezTo>
                <a:cubicBezTo>
                  <a:pt x="47338" y="152019"/>
                  <a:pt x="17145" y="121826"/>
                  <a:pt x="17145" y="84582"/>
                </a:cubicBezTo>
                <a:cubicBezTo>
                  <a:pt x="17145" y="47337"/>
                  <a:pt x="47338" y="17145"/>
                  <a:pt x="84582" y="17145"/>
                </a:cubicBezTo>
                <a:cubicBezTo>
                  <a:pt x="121826" y="17145"/>
                  <a:pt x="152019" y="47338"/>
                  <a:pt x="152019" y="84582"/>
                </a:cubicBezTo>
                <a:close/>
              </a:path>
            </a:pathLst>
          </a:custGeom>
          <a:noFill/>
          <a:ln w="19080">
            <a:solidFill>
              <a:srgbClr val="3498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3" name="任意形状 19"/>
          <p:cNvSpPr/>
          <p:nvPr/>
        </p:nvSpPr>
        <p:spPr>
          <a:xfrm>
            <a:off x="7750080" y="3052800"/>
            <a:ext cx="3811680" cy="109692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4" name="文本框 37"/>
          <p:cNvSpPr/>
          <p:nvPr/>
        </p:nvSpPr>
        <p:spPr>
          <a:xfrm>
            <a:off x="7780320" y="3299400"/>
            <a:ext cx="3755880" cy="532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七）检查现金折扣</a:t>
            </a:r>
            <a:endParaRPr b="1" lang="en-US" sz="2400" spc="-1" strike="noStrike">
              <a:solidFill>
                <a:srgbClr val="000000"/>
              </a:solidFill>
              <a:latin typeface="Arial"/>
            </a:endParaRPr>
          </a:p>
        </p:txBody>
      </p:sp>
      <p:sp>
        <p:nvSpPr>
          <p:cNvPr id="2135" name="任意形状 12"/>
          <p:cNvSpPr/>
          <p:nvPr/>
        </p:nvSpPr>
        <p:spPr>
          <a:xfrm>
            <a:off x="6597720" y="5016600"/>
            <a:ext cx="135000" cy="136440"/>
          </a:xfrm>
          <a:custGeom>
            <a:avLst/>
            <a:gdLst/>
            <a:ahLst/>
            <a:rect l="l" t="t" r="r" b="b"/>
            <a:pathLst>
              <a:path w="165735" h="165735">
                <a:moveTo>
                  <a:pt x="152019" y="84582"/>
                </a:moveTo>
                <a:cubicBezTo>
                  <a:pt x="152019" y="121826"/>
                  <a:pt x="121826" y="152019"/>
                  <a:pt x="84582" y="152019"/>
                </a:cubicBezTo>
                <a:cubicBezTo>
                  <a:pt x="47338" y="152019"/>
                  <a:pt x="17145" y="121826"/>
                  <a:pt x="17145" y="84582"/>
                </a:cubicBezTo>
                <a:cubicBezTo>
                  <a:pt x="17145" y="47337"/>
                  <a:pt x="47338" y="17145"/>
                  <a:pt x="84582" y="17145"/>
                </a:cubicBezTo>
                <a:cubicBezTo>
                  <a:pt x="121826" y="17145"/>
                  <a:pt x="152019" y="47337"/>
                  <a:pt x="152019" y="84582"/>
                </a:cubicBezTo>
                <a:close/>
              </a:path>
            </a:pathLst>
          </a:custGeom>
          <a:noFill/>
          <a:ln w="190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6" name="任意形状 11"/>
          <p:cNvSpPr/>
          <p:nvPr/>
        </p:nvSpPr>
        <p:spPr>
          <a:xfrm>
            <a:off x="6672240" y="5076720"/>
            <a:ext cx="1109520" cy="362160"/>
          </a:xfrm>
          <a:custGeom>
            <a:avLst/>
            <a:gdLst/>
            <a:ahLst/>
            <a:rect l="l" t="t" r="r" b="b"/>
            <a:pathLst>
              <a:path w="1377315" h="331470">
                <a:moveTo>
                  <a:pt x="17145" y="17145"/>
                </a:moveTo>
                <a:lnTo>
                  <a:pt x="623507" y="17145"/>
                </a:lnTo>
                <a:lnTo>
                  <a:pt x="921829" y="315468"/>
                </a:lnTo>
                <a:lnTo>
                  <a:pt x="1362456" y="315468"/>
                </a:lnTo>
              </a:path>
            </a:pathLst>
          </a:custGeom>
          <a:noFill/>
          <a:ln w="190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7" name="任意形状 19"/>
          <p:cNvSpPr/>
          <p:nvPr/>
        </p:nvSpPr>
        <p:spPr>
          <a:xfrm>
            <a:off x="7777080" y="4705200"/>
            <a:ext cx="4122720" cy="109548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8" name="文本框 61"/>
          <p:cNvSpPr/>
          <p:nvPr/>
        </p:nvSpPr>
        <p:spPr>
          <a:xfrm>
            <a:off x="7902720" y="4973760"/>
            <a:ext cx="3770280" cy="532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八）确定应付账款的披露是否恰当</a:t>
            </a:r>
            <a:endParaRPr b="1" lang="en-US" sz="2400" spc="-1" strike="noStrike">
              <a:solidFill>
                <a:srgbClr val="000000"/>
              </a:solidFill>
              <a:latin typeface="Arial"/>
            </a:endParaRPr>
          </a:p>
        </p:txBody>
      </p:sp>
      <p:sp>
        <p:nvSpPr>
          <p:cNvPr id="2139" name="任意形状 19"/>
          <p:cNvSpPr/>
          <p:nvPr/>
        </p:nvSpPr>
        <p:spPr>
          <a:xfrm>
            <a:off x="291960" y="3076560"/>
            <a:ext cx="3954600" cy="97776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0" name="文本框 66"/>
          <p:cNvSpPr/>
          <p:nvPr/>
        </p:nvSpPr>
        <p:spPr>
          <a:xfrm>
            <a:off x="395280" y="3268800"/>
            <a:ext cx="356400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五）检查是否存在未入账的应付账款</a:t>
            </a:r>
            <a:endParaRPr b="1" lang="en-US" sz="2400" spc="-1" strike="noStrike">
              <a:solidFill>
                <a:srgbClr val="000000"/>
              </a:solidFill>
              <a:latin typeface="Arial"/>
            </a:endParaRPr>
          </a:p>
        </p:txBody>
      </p:sp>
      <p:sp>
        <p:nvSpPr>
          <p:cNvPr id="2141" name="任意形状 8"/>
          <p:cNvSpPr/>
          <p:nvPr/>
        </p:nvSpPr>
        <p:spPr>
          <a:xfrm flipH="1">
            <a:off x="4149720" y="3573360"/>
            <a:ext cx="1122480" cy="295200"/>
          </a:xfrm>
          <a:custGeom>
            <a:avLst/>
            <a:gdLst/>
            <a:ahLst/>
            <a:rect l="l" t="t" r="r" b="b"/>
            <a:pathLst>
              <a:path w="1377315" h="331470">
                <a:moveTo>
                  <a:pt x="17145" y="315468"/>
                </a:moveTo>
                <a:lnTo>
                  <a:pt x="623507" y="315468"/>
                </a:lnTo>
                <a:lnTo>
                  <a:pt x="921829" y="17145"/>
                </a:lnTo>
                <a:lnTo>
                  <a:pt x="1362456" y="17145"/>
                </a:lnTo>
              </a:path>
            </a:pathLst>
          </a:custGeom>
          <a:noFill/>
          <a:ln w="19080">
            <a:solidFill>
              <a:srgbClr val="1f74a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2" name="任意形状 9"/>
          <p:cNvSpPr/>
          <p:nvPr/>
        </p:nvSpPr>
        <p:spPr>
          <a:xfrm flipH="1">
            <a:off x="5263560" y="3795840"/>
            <a:ext cx="88920" cy="136440"/>
          </a:xfrm>
          <a:custGeom>
            <a:avLst/>
            <a:gdLst/>
            <a:ahLst/>
            <a:rect l="l" t="t" r="r" b="b"/>
            <a:pathLst>
              <a:path w="165735" h="165735">
                <a:moveTo>
                  <a:pt x="152019" y="84582"/>
                </a:moveTo>
                <a:cubicBezTo>
                  <a:pt x="152019" y="121826"/>
                  <a:pt x="121826" y="152019"/>
                  <a:pt x="84582" y="152019"/>
                </a:cubicBezTo>
                <a:cubicBezTo>
                  <a:pt x="47338" y="152019"/>
                  <a:pt x="17145" y="121826"/>
                  <a:pt x="17145" y="84582"/>
                </a:cubicBezTo>
                <a:cubicBezTo>
                  <a:pt x="17145" y="47337"/>
                  <a:pt x="47338" y="17145"/>
                  <a:pt x="84582" y="17145"/>
                </a:cubicBezTo>
                <a:cubicBezTo>
                  <a:pt x="121826" y="17145"/>
                  <a:pt x="152019" y="47338"/>
                  <a:pt x="152019" y="84582"/>
                </a:cubicBezTo>
                <a:close/>
              </a:path>
            </a:pathLst>
          </a:custGeom>
          <a:noFill/>
          <a:ln w="19080">
            <a:solidFill>
              <a:srgbClr val="1f74a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3" name="任意形状 19"/>
          <p:cNvSpPr/>
          <p:nvPr/>
        </p:nvSpPr>
        <p:spPr>
          <a:xfrm>
            <a:off x="291960" y="4637160"/>
            <a:ext cx="3946680" cy="116352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9bbb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4" name="文本框 70"/>
          <p:cNvSpPr/>
          <p:nvPr/>
        </p:nvSpPr>
        <p:spPr>
          <a:xfrm>
            <a:off x="351000" y="4932720"/>
            <a:ext cx="360180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六）</a:t>
            </a:r>
            <a:r>
              <a:rPr b="1" lang="zh-CN" sz="2400" spc="-1" strike="noStrike">
                <a:solidFill>
                  <a:srgbClr val="000000"/>
                </a:solidFill>
                <a:latin typeface="Arial"/>
                <a:ea typeface="宋体"/>
              </a:rPr>
              <a:t>实施截止测试</a:t>
            </a:r>
            <a:endParaRPr b="1" lang="en-US" sz="2400" spc="-1" strike="noStrike">
              <a:solidFill>
                <a:srgbClr val="000000"/>
              </a:solidFill>
              <a:latin typeface="Arial"/>
            </a:endParaRPr>
          </a:p>
        </p:txBody>
      </p:sp>
      <p:sp>
        <p:nvSpPr>
          <p:cNvPr id="2145" name="任意形状 11"/>
          <p:cNvSpPr/>
          <p:nvPr/>
        </p:nvSpPr>
        <p:spPr>
          <a:xfrm flipH="1">
            <a:off x="4246560" y="4979880"/>
            <a:ext cx="1038240" cy="295560"/>
          </a:xfrm>
          <a:custGeom>
            <a:avLst/>
            <a:gdLst/>
            <a:ahLst/>
            <a:rect l="l" t="t" r="r" b="b"/>
            <a:pathLst>
              <a:path w="1377315" h="331470">
                <a:moveTo>
                  <a:pt x="17145" y="17145"/>
                </a:moveTo>
                <a:lnTo>
                  <a:pt x="623507" y="17145"/>
                </a:lnTo>
                <a:lnTo>
                  <a:pt x="921829" y="315468"/>
                </a:lnTo>
                <a:lnTo>
                  <a:pt x="1362456" y="315468"/>
                </a:lnTo>
              </a:path>
            </a:pathLst>
          </a:custGeom>
          <a:noFill/>
          <a:ln w="1908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6" name="任意形状 12"/>
          <p:cNvSpPr/>
          <p:nvPr/>
        </p:nvSpPr>
        <p:spPr>
          <a:xfrm flipH="1">
            <a:off x="5252400" y="4952880"/>
            <a:ext cx="82440" cy="84240"/>
          </a:xfrm>
          <a:custGeom>
            <a:avLst/>
            <a:gdLst/>
            <a:ahLst/>
            <a:rect l="l" t="t" r="r" b="b"/>
            <a:pathLst>
              <a:path w="165735" h="165735">
                <a:moveTo>
                  <a:pt x="152019" y="84582"/>
                </a:moveTo>
                <a:cubicBezTo>
                  <a:pt x="152019" y="121826"/>
                  <a:pt x="121826" y="152019"/>
                  <a:pt x="84582" y="152019"/>
                </a:cubicBezTo>
                <a:cubicBezTo>
                  <a:pt x="47338" y="152019"/>
                  <a:pt x="17145" y="121826"/>
                  <a:pt x="17145" y="84582"/>
                </a:cubicBezTo>
                <a:cubicBezTo>
                  <a:pt x="17145" y="47337"/>
                  <a:pt x="47338" y="17145"/>
                  <a:pt x="84582" y="17145"/>
                </a:cubicBezTo>
                <a:cubicBezTo>
                  <a:pt x="121826" y="17145"/>
                  <a:pt x="152019" y="47337"/>
                  <a:pt x="152019" y="84582"/>
                </a:cubicBezTo>
                <a:close/>
              </a:path>
            </a:pathLst>
          </a:custGeom>
          <a:noFill/>
          <a:ln w="19080">
            <a:solidFill>
              <a:srgbClr val="9bbb59"/>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47" name="组合 28"/>
          <p:cNvGrpSpPr/>
          <p:nvPr/>
        </p:nvGrpSpPr>
        <p:grpSpPr>
          <a:xfrm>
            <a:off x="922320" y="450720"/>
            <a:ext cx="10359720" cy="0"/>
            <a:chOff x="922320" y="450720"/>
            <a:chExt cx="10359720" cy="0"/>
          </a:xfrm>
        </p:grpSpPr>
        <p:sp>
          <p:nvSpPr>
            <p:cNvPr id="2148" name="直接连接符 58"/>
            <p:cNvSpPr/>
            <p:nvPr/>
          </p:nvSpPr>
          <p:spPr>
            <a:xfrm>
              <a:off x="922320" y="45072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9" name="直接连接符 59"/>
            <p:cNvSpPr/>
            <p:nvPr/>
          </p:nvSpPr>
          <p:spPr>
            <a:xfrm>
              <a:off x="9302400" y="45072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150" name="文本框 7"/>
          <p:cNvSpPr/>
          <p:nvPr/>
        </p:nvSpPr>
        <p:spPr>
          <a:xfrm>
            <a:off x="5316480" y="4221000"/>
            <a:ext cx="151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实质性程序</a:t>
            </a:r>
            <a:endParaRPr b="1" lang="en-US" sz="2000" spc="-1" strike="noStrike">
              <a:solidFill>
                <a:srgbClr val="000000"/>
              </a:solidFill>
              <a:latin typeface="Arial"/>
            </a:endParaRPr>
          </a:p>
        </p:txBody>
      </p:sp>
      <p:pic>
        <p:nvPicPr>
          <p:cNvPr id="2151" name="文本框 31" descr=""/>
          <p:cNvPicPr/>
          <p:nvPr/>
        </p:nvPicPr>
        <p:blipFill>
          <a:blip r:embed="rId1"/>
          <a:stretch/>
        </p:blipFill>
        <p:spPr>
          <a:xfrm>
            <a:off x="3133800" y="82440"/>
            <a:ext cx="5860800" cy="652680"/>
          </a:xfrm>
          <a:prstGeom prst="rect">
            <a:avLst/>
          </a:prstGeom>
          <a:ln w="0">
            <a:noFill/>
          </a:ln>
        </p:spPr>
      </p:pic>
      <p:sp>
        <p:nvSpPr>
          <p:cNvPr id="2152" name="文本框 39"/>
          <p:cNvSpPr/>
          <p:nvPr/>
        </p:nvSpPr>
        <p:spPr>
          <a:xfrm>
            <a:off x="4583160" y="915840"/>
            <a:ext cx="3319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      </a:t>
            </a: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sp>
        <p:nvSpPr>
          <p:cNvPr id="2153" name="矩形 1"/>
          <p:cNvSpPr/>
          <p:nvPr/>
        </p:nvSpPr>
        <p:spPr>
          <a:xfrm>
            <a:off x="417600" y="1508040"/>
            <a:ext cx="983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e78"/>
                </a:solidFill>
                <a:latin typeface="微软雅黑"/>
                <a:ea typeface="微软雅黑"/>
              </a:rPr>
              <a:t>二、应付账款审计的实质性程序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应付账款审计的程序一般包括以下程序。</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4" name="组合 28"/>
          <p:cNvGrpSpPr/>
          <p:nvPr/>
        </p:nvGrpSpPr>
        <p:grpSpPr>
          <a:xfrm>
            <a:off x="814320" y="382680"/>
            <a:ext cx="10562760" cy="0"/>
            <a:chOff x="814320" y="382680"/>
            <a:chExt cx="10562760" cy="0"/>
          </a:xfrm>
        </p:grpSpPr>
        <p:sp>
          <p:nvSpPr>
            <p:cNvPr id="2155" name="直接连接符 52"/>
            <p:cNvSpPr/>
            <p:nvPr/>
          </p:nvSpPr>
          <p:spPr>
            <a:xfrm>
              <a:off x="814320" y="382680"/>
              <a:ext cx="201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56" name="直接连接符 64"/>
            <p:cNvSpPr/>
            <p:nvPr/>
          </p:nvSpPr>
          <p:spPr>
            <a:xfrm>
              <a:off x="9357840" y="382680"/>
              <a:ext cx="2019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157" name="Title 6"/>
          <p:cNvSpPr/>
          <p:nvPr/>
        </p:nvSpPr>
        <p:spPr>
          <a:xfrm>
            <a:off x="258840" y="826920"/>
            <a:ext cx="11453760" cy="883440"/>
          </a:xfrm>
          <a:prstGeom prst="rect">
            <a:avLst/>
          </a:prstGeom>
          <a:noFill/>
          <a:ln w="0">
            <a:noFill/>
          </a:ln>
        </p:spPr>
        <p:style>
          <a:lnRef idx="0"/>
          <a:fillRef idx="0"/>
          <a:effectRef idx="0"/>
          <a:fontRef idx="minor"/>
        </p:style>
        <p:txBody>
          <a:bodyPr lIns="72000" rIns="7200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75b4"/>
                </a:solidFill>
                <a:latin typeface="Arial"/>
                <a:ea typeface="微软雅黑"/>
              </a:rPr>
              <a:t>三、应付账款审计工作底稿的编制                         </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8" name="矩形 2"/>
          <p:cNvSpPr/>
          <p:nvPr/>
        </p:nvSpPr>
        <p:spPr>
          <a:xfrm>
            <a:off x="371520" y="1539720"/>
            <a:ext cx="555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       </a:t>
            </a:r>
            <a:r>
              <a:rPr b="0" lang="zh-CN" sz="2400" spc="-1" strike="noStrike">
                <a:solidFill>
                  <a:srgbClr val="262626"/>
                </a:solidFill>
                <a:latin typeface="Arial"/>
                <a:ea typeface="微软雅黑"/>
              </a:rPr>
              <a:t>应付账款审计工作底稿主要包括“应付账款审计程序表”“应付账款检查 表”“应付账款审定表”等。</a:t>
            </a:r>
            <a:endParaRPr b="1" lang="en-US" sz="2400" spc="-1" strike="noStrike">
              <a:solidFill>
                <a:srgbClr val="000000"/>
              </a:solidFill>
              <a:latin typeface="Arial"/>
            </a:endParaRPr>
          </a:p>
        </p:txBody>
      </p:sp>
      <p:pic>
        <p:nvPicPr>
          <p:cNvPr id="2159" name="文本框 31" descr=""/>
          <p:cNvPicPr/>
          <p:nvPr/>
        </p:nvPicPr>
        <p:blipFill>
          <a:blip r:embed="rId1"/>
          <a:stretch/>
        </p:blipFill>
        <p:spPr>
          <a:xfrm>
            <a:off x="3133800" y="82440"/>
            <a:ext cx="5860800" cy="652680"/>
          </a:xfrm>
          <a:prstGeom prst="rect">
            <a:avLst/>
          </a:prstGeom>
          <a:ln w="0">
            <a:noFill/>
          </a:ln>
        </p:spPr>
      </p:pic>
      <p:sp>
        <p:nvSpPr>
          <p:cNvPr id="2160" name="矩形 2"/>
          <p:cNvSpPr/>
          <p:nvPr/>
        </p:nvSpPr>
        <p:spPr>
          <a:xfrm flipV="1" rot="10800000">
            <a:off x="371160" y="3223080"/>
            <a:ext cx="555300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75b4"/>
                </a:solidFill>
                <a:latin typeface="Arial"/>
                <a:ea typeface="微软雅黑"/>
              </a:rPr>
              <a:t>工作过程示范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a:t>
            </a:r>
            <a:r>
              <a:rPr b="0" lang="zh-CN" sz="2400" spc="-1" strike="noStrike">
                <a:solidFill>
                  <a:srgbClr val="262626"/>
                </a:solidFill>
                <a:latin typeface="Arial"/>
                <a:ea typeface="微软雅黑"/>
              </a:rPr>
              <a:t>例 </a:t>
            </a:r>
            <a:r>
              <a:rPr b="0" lang="en-US" sz="2400" spc="-1" strike="noStrike">
                <a:solidFill>
                  <a:srgbClr val="262626"/>
                </a:solidFill>
                <a:latin typeface="Arial"/>
                <a:ea typeface="微软雅黑"/>
              </a:rPr>
              <a:t>6-1</a:t>
            </a:r>
            <a:r>
              <a:rPr b="0" lang="en-US" sz="2400" spc="-1" strike="noStrike">
                <a:solidFill>
                  <a:srgbClr val="262626"/>
                </a:solidFill>
                <a:latin typeface="Arial"/>
                <a:ea typeface="微软雅黑"/>
              </a:rPr>
              <a:t>】</a:t>
            </a:r>
            <a:r>
              <a:rPr b="0" lang="en-US" sz="2400" spc="-1" strike="noStrike">
                <a:solidFill>
                  <a:srgbClr val="262626"/>
                </a:solidFill>
                <a:latin typeface="Arial"/>
                <a:ea typeface="微软雅黑"/>
              </a:rPr>
              <a:t>2020 </a:t>
            </a:r>
            <a:r>
              <a:rPr b="0" lang="zh-CN" sz="2400" spc="-1" strike="noStrike">
                <a:solidFill>
                  <a:srgbClr val="262626"/>
                </a:solidFill>
                <a:latin typeface="Arial"/>
                <a:ea typeface="微软雅黑"/>
              </a:rPr>
              <a:t>年 </a:t>
            </a:r>
            <a:r>
              <a:rPr b="0" lang="en-US" sz="2400" spc="-1" strike="noStrike">
                <a:solidFill>
                  <a:srgbClr val="262626"/>
                </a:solidFill>
                <a:latin typeface="Arial"/>
                <a:ea typeface="微软雅黑"/>
              </a:rPr>
              <a:t>3 </a:t>
            </a:r>
            <a:r>
              <a:rPr b="0" lang="zh-CN" sz="2400" spc="-1" strike="noStrike">
                <a:solidFill>
                  <a:srgbClr val="262626"/>
                </a:solidFill>
                <a:latin typeface="Arial"/>
                <a:ea typeface="微软雅黑"/>
              </a:rPr>
              <a:t>月 </a:t>
            </a:r>
            <a:r>
              <a:rPr b="0" lang="en-US" sz="2400" spc="-1" strike="noStrike">
                <a:solidFill>
                  <a:srgbClr val="262626"/>
                </a:solidFill>
                <a:latin typeface="Arial"/>
                <a:ea typeface="微软雅黑"/>
              </a:rPr>
              <a:t>12 </a:t>
            </a:r>
            <a:r>
              <a:rPr b="0" lang="zh-CN" sz="2400" spc="-1" strike="noStrike">
                <a:solidFill>
                  <a:srgbClr val="262626"/>
                </a:solidFill>
                <a:latin typeface="Arial"/>
                <a:ea typeface="微软雅黑"/>
              </a:rPr>
              <a:t>日，审计人员张三对光华公司 </a:t>
            </a:r>
            <a:r>
              <a:rPr b="0" lang="en-US" sz="2400" spc="-1" strike="noStrike">
                <a:solidFill>
                  <a:srgbClr val="262626"/>
                </a:solidFill>
                <a:latin typeface="Arial"/>
                <a:ea typeface="微软雅黑"/>
              </a:rPr>
              <a:t>2019 </a:t>
            </a:r>
            <a:r>
              <a:rPr b="0" lang="zh-CN" sz="2400" spc="-1" strike="noStrike">
                <a:solidFill>
                  <a:srgbClr val="262626"/>
                </a:solidFill>
                <a:latin typeface="Arial"/>
                <a:ea typeface="微软雅黑"/>
              </a:rPr>
              <a:t>年 </a:t>
            </a:r>
            <a:r>
              <a:rPr b="0" lang="en-US" sz="2400" spc="-1" strike="noStrike">
                <a:solidFill>
                  <a:srgbClr val="262626"/>
                </a:solidFill>
                <a:latin typeface="Arial"/>
                <a:ea typeface="微软雅黑"/>
              </a:rPr>
              <a:t>12 </a:t>
            </a:r>
            <a:r>
              <a:rPr b="0" lang="zh-CN" sz="2400" spc="-1" strike="noStrike">
                <a:solidFill>
                  <a:srgbClr val="262626"/>
                </a:solidFill>
                <a:latin typeface="Arial"/>
                <a:ea typeface="微软雅黑"/>
              </a:rPr>
              <a:t>月 </a:t>
            </a:r>
            <a:r>
              <a:rPr b="0" lang="en-US" sz="2400" spc="-1" strike="noStrike">
                <a:solidFill>
                  <a:srgbClr val="262626"/>
                </a:solidFill>
                <a:latin typeface="Arial"/>
                <a:ea typeface="微软雅黑"/>
              </a:rPr>
              <a:t>31 </a:t>
            </a:r>
            <a:r>
              <a:rPr b="0" lang="zh-CN" sz="2400" spc="-1" strike="noStrike">
                <a:solidFill>
                  <a:srgbClr val="262626"/>
                </a:solidFill>
                <a:latin typeface="Arial"/>
                <a:ea typeface="微软雅黑"/>
              </a:rPr>
              <a:t>日 的应付账款项目进行审计时，查阅相关资料得知光华公司应付账款明细账户情况 如表 </a:t>
            </a:r>
            <a:r>
              <a:rPr b="0" lang="en-US" sz="2400" spc="-1" strike="noStrike">
                <a:solidFill>
                  <a:srgbClr val="262626"/>
                </a:solidFill>
                <a:latin typeface="Arial"/>
                <a:ea typeface="微软雅黑"/>
              </a:rPr>
              <a:t>6-6 </a:t>
            </a:r>
            <a:r>
              <a:rPr b="0" lang="zh-CN" sz="2400" spc="-1" strike="noStrike">
                <a:solidFill>
                  <a:srgbClr val="262626"/>
                </a:solidFill>
                <a:latin typeface="Arial"/>
                <a:ea typeface="微软雅黑"/>
              </a:rPr>
              <a:t>和</a:t>
            </a:r>
            <a:r>
              <a:rPr b="0" lang="en-US" sz="2400" spc="-1" strike="noStrike">
                <a:solidFill>
                  <a:srgbClr val="262626"/>
                </a:solidFill>
                <a:latin typeface="Arial"/>
                <a:ea typeface="微软雅黑"/>
              </a:rPr>
              <a:t>6-7</a:t>
            </a:r>
            <a:r>
              <a:rPr b="0" lang="zh-CN" sz="2400" spc="-1" strike="noStrike">
                <a:solidFill>
                  <a:srgbClr val="262626"/>
                </a:solidFill>
                <a:latin typeface="Arial"/>
                <a:ea typeface="微软雅黑"/>
              </a:rPr>
              <a:t>所示。</a:t>
            </a:r>
            <a:endParaRPr b="1" lang="en-US" sz="2400" spc="-1" strike="noStrike">
              <a:solidFill>
                <a:srgbClr val="000000"/>
              </a:solidFill>
              <a:latin typeface="Arial"/>
            </a:endParaRPr>
          </a:p>
        </p:txBody>
      </p:sp>
      <p:pic>
        <p:nvPicPr>
          <p:cNvPr id="2161" name="图片 1" descr="&amp;pky8424501714&amp;"/>
          <p:cNvPicPr/>
          <p:nvPr/>
        </p:nvPicPr>
        <p:blipFill>
          <a:blip r:embed="rId2"/>
          <a:srcRect l="4047" t="12043" r="5789" b="7699"/>
          <a:stretch/>
        </p:blipFill>
        <p:spPr>
          <a:xfrm>
            <a:off x="7842240" y="1198440"/>
            <a:ext cx="2984400" cy="51372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3" name="组合 78"/>
          <p:cNvGrpSpPr/>
          <p:nvPr/>
        </p:nvGrpSpPr>
        <p:grpSpPr>
          <a:xfrm>
            <a:off x="3575160" y="2125800"/>
            <a:ext cx="8035920" cy="594720"/>
            <a:chOff x="3575160" y="2125800"/>
            <a:chExt cx="8035920" cy="594720"/>
          </a:xfrm>
        </p:grpSpPr>
        <p:sp>
          <p:nvSpPr>
            <p:cNvPr id="1814" name="矩形 51"/>
            <p:cNvSpPr/>
            <p:nvPr/>
          </p:nvSpPr>
          <p:spPr>
            <a:xfrm>
              <a:off x="4352760" y="2139480"/>
              <a:ext cx="3240000" cy="581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注册会计师执业准则</a:t>
              </a:r>
              <a:endParaRPr b="1" lang="en-US" sz="2400" spc="-1" strike="noStrike">
                <a:solidFill>
                  <a:srgbClr val="000000"/>
                </a:solidFill>
                <a:latin typeface="Arial"/>
              </a:endParaRPr>
            </a:p>
          </p:txBody>
        </p:sp>
        <p:sp>
          <p:nvSpPr>
            <p:cNvPr id="1815" name="圆角矩形 55"/>
            <p:cNvSpPr/>
            <p:nvPr/>
          </p:nvSpPr>
          <p:spPr>
            <a:xfrm>
              <a:off x="3575160" y="2211480"/>
              <a:ext cx="576360" cy="46800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a:t>
              </a:r>
              <a:endParaRPr b="1" lang="en-US" sz="2400" spc="-1" strike="noStrike">
                <a:solidFill>
                  <a:srgbClr val="000000"/>
                </a:solidFill>
                <a:latin typeface="Arial"/>
              </a:endParaRPr>
            </a:p>
          </p:txBody>
        </p:sp>
        <p:sp>
          <p:nvSpPr>
            <p:cNvPr id="1816" name="矩形 34"/>
            <p:cNvSpPr/>
            <p:nvPr/>
          </p:nvSpPr>
          <p:spPr>
            <a:xfrm>
              <a:off x="8371080" y="2125800"/>
              <a:ext cx="3240000" cy="581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存货与仓储循环审计</a:t>
              </a:r>
              <a:endParaRPr b="1" lang="en-US" sz="2400" spc="-1" strike="noStrike">
                <a:solidFill>
                  <a:srgbClr val="000000"/>
                </a:solidFill>
                <a:latin typeface="Arial"/>
              </a:endParaRPr>
            </a:p>
          </p:txBody>
        </p:sp>
        <p:sp>
          <p:nvSpPr>
            <p:cNvPr id="1817" name="圆角矩形 35"/>
            <p:cNvSpPr/>
            <p:nvPr/>
          </p:nvSpPr>
          <p:spPr>
            <a:xfrm>
              <a:off x="7593120" y="2195640"/>
              <a:ext cx="576360" cy="468000"/>
            </a:xfrm>
            <a:prstGeom prst="roundRect">
              <a:avLst>
                <a:gd name="adj" fmla="val 16667"/>
              </a:avLst>
            </a:prstGeom>
            <a:solidFill>
              <a:srgbClr val="5555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7</a:t>
              </a:r>
              <a:endParaRPr b="1" lang="en-US" sz="2400" spc="-1" strike="noStrike">
                <a:solidFill>
                  <a:srgbClr val="000000"/>
                </a:solidFill>
                <a:latin typeface="Arial"/>
              </a:endParaRPr>
            </a:p>
          </p:txBody>
        </p:sp>
      </p:grpSp>
      <p:grpSp>
        <p:nvGrpSpPr>
          <p:cNvPr id="1818" name="组合 71"/>
          <p:cNvGrpSpPr/>
          <p:nvPr/>
        </p:nvGrpSpPr>
        <p:grpSpPr>
          <a:xfrm>
            <a:off x="3575160" y="2809800"/>
            <a:ext cx="8035920" cy="595080"/>
            <a:chOff x="3575160" y="2809800"/>
            <a:chExt cx="8035920" cy="595080"/>
          </a:xfrm>
        </p:grpSpPr>
        <p:sp>
          <p:nvSpPr>
            <p:cNvPr id="1819" name="矩形 57"/>
            <p:cNvSpPr/>
            <p:nvPr/>
          </p:nvSpPr>
          <p:spPr>
            <a:xfrm>
              <a:off x="4352760" y="282348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业务的承接</a:t>
              </a:r>
              <a:endParaRPr b="1" lang="en-US" sz="2400" spc="-1" strike="noStrike">
                <a:solidFill>
                  <a:srgbClr val="000000"/>
                </a:solidFill>
                <a:latin typeface="Arial"/>
              </a:endParaRPr>
            </a:p>
          </p:txBody>
        </p:sp>
        <p:sp>
          <p:nvSpPr>
            <p:cNvPr id="1820" name="圆角矩形 74"/>
            <p:cNvSpPr/>
            <p:nvPr/>
          </p:nvSpPr>
          <p:spPr>
            <a:xfrm>
              <a:off x="3575160" y="2895480"/>
              <a:ext cx="576360" cy="4683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3</a:t>
              </a:r>
              <a:endParaRPr b="1" lang="en-US" sz="2400" spc="-1" strike="noStrike">
                <a:solidFill>
                  <a:srgbClr val="000000"/>
                </a:solidFill>
                <a:latin typeface="Arial"/>
              </a:endParaRPr>
            </a:p>
          </p:txBody>
        </p:sp>
        <p:sp>
          <p:nvSpPr>
            <p:cNvPr id="1821" name="矩形 37"/>
            <p:cNvSpPr/>
            <p:nvPr/>
          </p:nvSpPr>
          <p:spPr>
            <a:xfrm>
              <a:off x="8371080" y="280980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筹资与投资循环审计</a:t>
              </a:r>
              <a:endParaRPr b="1" lang="en-US" sz="2400" spc="-1" strike="noStrike">
                <a:solidFill>
                  <a:srgbClr val="000000"/>
                </a:solidFill>
                <a:latin typeface="Arial"/>
              </a:endParaRPr>
            </a:p>
          </p:txBody>
        </p:sp>
        <p:sp>
          <p:nvSpPr>
            <p:cNvPr id="1822" name="圆角矩形 38"/>
            <p:cNvSpPr/>
            <p:nvPr/>
          </p:nvSpPr>
          <p:spPr>
            <a:xfrm>
              <a:off x="7593120" y="2879640"/>
              <a:ext cx="576360" cy="468360"/>
            </a:xfrm>
            <a:prstGeom prst="roundRect">
              <a:avLst>
                <a:gd name="adj" fmla="val 16667"/>
              </a:avLst>
            </a:prstGeom>
            <a:solidFill>
              <a:srgbClr val="00b0f0"/>
            </a:solidFill>
            <a:ln w="38160">
              <a:solidFill>
                <a:srgbClr val="5b9b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8</a:t>
              </a:r>
              <a:endParaRPr b="1" lang="en-US" sz="2400" spc="-1" strike="noStrike">
                <a:solidFill>
                  <a:srgbClr val="000000"/>
                </a:solidFill>
                <a:latin typeface="Arial"/>
              </a:endParaRPr>
            </a:p>
          </p:txBody>
        </p:sp>
      </p:grpSp>
      <p:grpSp>
        <p:nvGrpSpPr>
          <p:cNvPr id="1823" name="组合 72"/>
          <p:cNvGrpSpPr/>
          <p:nvPr/>
        </p:nvGrpSpPr>
        <p:grpSpPr>
          <a:xfrm>
            <a:off x="3575160" y="3549600"/>
            <a:ext cx="8123040" cy="595080"/>
            <a:chOff x="3575160" y="3549600"/>
            <a:chExt cx="8123040" cy="595080"/>
          </a:xfrm>
        </p:grpSpPr>
        <p:sp>
          <p:nvSpPr>
            <p:cNvPr id="1824" name="矩形 76"/>
            <p:cNvSpPr/>
            <p:nvPr/>
          </p:nvSpPr>
          <p:spPr>
            <a:xfrm>
              <a:off x="4360680" y="3563280"/>
              <a:ext cx="327672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计划工作</a:t>
              </a:r>
              <a:endParaRPr b="1" lang="en-US" sz="2400" spc="-1" strike="noStrike">
                <a:solidFill>
                  <a:srgbClr val="000000"/>
                </a:solidFill>
                <a:latin typeface="Arial"/>
              </a:endParaRPr>
            </a:p>
          </p:txBody>
        </p:sp>
        <p:sp>
          <p:nvSpPr>
            <p:cNvPr id="1825" name="圆角矩形 100"/>
            <p:cNvSpPr/>
            <p:nvPr/>
          </p:nvSpPr>
          <p:spPr>
            <a:xfrm>
              <a:off x="3575160" y="3635280"/>
              <a:ext cx="58248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a:t>
              </a:r>
              <a:endParaRPr b="1" lang="en-US" sz="2400" spc="-1" strike="noStrike">
                <a:solidFill>
                  <a:srgbClr val="000000"/>
                </a:solidFill>
                <a:latin typeface="Arial"/>
              </a:endParaRPr>
            </a:p>
          </p:txBody>
        </p:sp>
        <p:sp>
          <p:nvSpPr>
            <p:cNvPr id="1826" name="矩形 40"/>
            <p:cNvSpPr/>
            <p:nvPr/>
          </p:nvSpPr>
          <p:spPr>
            <a:xfrm>
              <a:off x="8423640" y="3549600"/>
              <a:ext cx="327456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货币资金审计</a:t>
              </a:r>
              <a:endParaRPr b="1" lang="en-US" sz="2400" spc="-1" strike="noStrike">
                <a:solidFill>
                  <a:srgbClr val="000000"/>
                </a:solidFill>
                <a:latin typeface="Arial"/>
              </a:endParaRPr>
            </a:p>
          </p:txBody>
        </p:sp>
        <p:sp>
          <p:nvSpPr>
            <p:cNvPr id="1827" name="圆角矩形 41"/>
            <p:cNvSpPr/>
            <p:nvPr/>
          </p:nvSpPr>
          <p:spPr>
            <a:xfrm>
              <a:off x="7637400" y="3619440"/>
              <a:ext cx="582480" cy="468360"/>
            </a:xfrm>
            <a:prstGeom prst="roundRect">
              <a:avLst>
                <a:gd name="adj" fmla="val 16667"/>
              </a:avLst>
            </a:prstGeom>
            <a:solidFill>
              <a:srgbClr val="2f75b4"/>
            </a:solidFill>
            <a:ln w="38160">
              <a:solidFill>
                <a:srgbClr val="5b9b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9</a:t>
              </a:r>
              <a:endParaRPr b="1" lang="en-US" sz="2400" spc="-1" strike="noStrike">
                <a:solidFill>
                  <a:srgbClr val="000000"/>
                </a:solidFill>
                <a:latin typeface="Arial"/>
              </a:endParaRPr>
            </a:p>
          </p:txBody>
        </p:sp>
      </p:grpSp>
      <p:grpSp>
        <p:nvGrpSpPr>
          <p:cNvPr id="1828" name="组合 69"/>
          <p:cNvGrpSpPr/>
          <p:nvPr/>
        </p:nvGrpSpPr>
        <p:grpSpPr>
          <a:xfrm>
            <a:off x="3562200" y="1371600"/>
            <a:ext cx="8035560" cy="595080"/>
            <a:chOff x="3562200" y="1371600"/>
            <a:chExt cx="8035560" cy="595080"/>
          </a:xfrm>
        </p:grpSpPr>
        <p:sp>
          <p:nvSpPr>
            <p:cNvPr id="1829" name="矩形 27"/>
            <p:cNvSpPr/>
            <p:nvPr/>
          </p:nvSpPr>
          <p:spPr>
            <a:xfrm>
              <a:off x="4339800" y="138528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总论</a:t>
              </a:r>
              <a:endParaRPr b="1" lang="en-US" sz="2400" spc="-1" strike="noStrike">
                <a:solidFill>
                  <a:srgbClr val="000000"/>
                </a:solidFill>
                <a:latin typeface="Arial"/>
              </a:endParaRPr>
            </a:p>
          </p:txBody>
        </p:sp>
        <p:sp>
          <p:nvSpPr>
            <p:cNvPr id="1830" name="圆角矩形 28"/>
            <p:cNvSpPr/>
            <p:nvPr/>
          </p:nvSpPr>
          <p:spPr>
            <a:xfrm>
              <a:off x="3562200" y="1457280"/>
              <a:ext cx="5763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1</a:t>
              </a:r>
              <a:endParaRPr b="1" lang="en-US" sz="2400" spc="-1" strike="noStrike">
                <a:solidFill>
                  <a:srgbClr val="000000"/>
                </a:solidFill>
                <a:latin typeface="Arial"/>
              </a:endParaRPr>
            </a:p>
          </p:txBody>
        </p:sp>
        <p:sp>
          <p:nvSpPr>
            <p:cNvPr id="1831" name="矩形 43"/>
            <p:cNvSpPr/>
            <p:nvPr/>
          </p:nvSpPr>
          <p:spPr>
            <a:xfrm>
              <a:off x="8357760" y="137160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0d4"/>
                  </a:solidFill>
                  <a:latin typeface="微软雅黑"/>
                  <a:ea typeface="微软雅黑"/>
                </a:rPr>
                <a:t>采购与付款循环审计</a:t>
              </a:r>
              <a:endParaRPr b="1" lang="en-US" sz="2400" spc="-1" strike="noStrike">
                <a:solidFill>
                  <a:srgbClr val="000000"/>
                </a:solidFill>
                <a:latin typeface="Arial"/>
              </a:endParaRPr>
            </a:p>
          </p:txBody>
        </p:sp>
        <p:sp>
          <p:nvSpPr>
            <p:cNvPr id="1832" name="圆角矩形 44"/>
            <p:cNvSpPr/>
            <p:nvPr/>
          </p:nvSpPr>
          <p:spPr>
            <a:xfrm>
              <a:off x="7580160" y="1441440"/>
              <a:ext cx="576360" cy="468360"/>
            </a:xfrm>
            <a:prstGeom prst="roundRect">
              <a:avLst>
                <a:gd name="adj" fmla="val 16667"/>
              </a:avLst>
            </a:prstGeom>
            <a:solidFill>
              <a:srgbClr val="8e10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6</a:t>
              </a:r>
              <a:endParaRPr b="1" lang="en-US" sz="2400" spc="-1" strike="noStrike">
                <a:solidFill>
                  <a:srgbClr val="000000"/>
                </a:solidFill>
                <a:latin typeface="Arial"/>
              </a:endParaRPr>
            </a:p>
          </p:txBody>
        </p:sp>
      </p:grpSp>
      <p:grpSp>
        <p:nvGrpSpPr>
          <p:cNvPr id="1833" name="组合 73"/>
          <p:cNvGrpSpPr/>
          <p:nvPr/>
        </p:nvGrpSpPr>
        <p:grpSpPr>
          <a:xfrm>
            <a:off x="3575160" y="4289400"/>
            <a:ext cx="8123040" cy="595080"/>
            <a:chOff x="3575160" y="4289400"/>
            <a:chExt cx="8123040" cy="595080"/>
          </a:xfrm>
        </p:grpSpPr>
        <p:sp>
          <p:nvSpPr>
            <p:cNvPr id="1834" name="矩形 29"/>
            <p:cNvSpPr/>
            <p:nvPr/>
          </p:nvSpPr>
          <p:spPr>
            <a:xfrm>
              <a:off x="4360680" y="4303080"/>
              <a:ext cx="327672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销售与收款循环审计</a:t>
              </a:r>
              <a:endParaRPr b="1" lang="en-US" sz="2400" spc="-1" strike="noStrike">
                <a:solidFill>
                  <a:srgbClr val="000000"/>
                </a:solidFill>
                <a:latin typeface="Arial"/>
              </a:endParaRPr>
            </a:p>
          </p:txBody>
        </p:sp>
        <p:sp>
          <p:nvSpPr>
            <p:cNvPr id="1835" name="圆角矩形 30"/>
            <p:cNvSpPr/>
            <p:nvPr/>
          </p:nvSpPr>
          <p:spPr>
            <a:xfrm>
              <a:off x="3575160" y="4375080"/>
              <a:ext cx="58248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5</a:t>
              </a:r>
              <a:endParaRPr b="1" lang="en-US" sz="2400" spc="-1" strike="noStrike">
                <a:solidFill>
                  <a:srgbClr val="000000"/>
                </a:solidFill>
                <a:latin typeface="Arial"/>
              </a:endParaRPr>
            </a:p>
          </p:txBody>
        </p:sp>
        <p:sp>
          <p:nvSpPr>
            <p:cNvPr id="1836" name="矩形 45"/>
            <p:cNvSpPr/>
            <p:nvPr/>
          </p:nvSpPr>
          <p:spPr>
            <a:xfrm>
              <a:off x="8423640" y="4289400"/>
              <a:ext cx="327456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审计报告的编制</a:t>
              </a:r>
              <a:endParaRPr b="1" lang="en-US" sz="2400" spc="-1" strike="noStrike">
                <a:solidFill>
                  <a:srgbClr val="000000"/>
                </a:solidFill>
                <a:latin typeface="Arial"/>
              </a:endParaRPr>
            </a:p>
          </p:txBody>
        </p:sp>
        <p:sp>
          <p:nvSpPr>
            <p:cNvPr id="1837" name="圆角矩形 46"/>
            <p:cNvSpPr/>
            <p:nvPr/>
          </p:nvSpPr>
          <p:spPr>
            <a:xfrm>
              <a:off x="7593120" y="4359240"/>
              <a:ext cx="6267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0</a:t>
              </a:r>
              <a:endParaRPr b="1" lang="en-US" sz="2400" spc="-1" strike="noStrike">
                <a:solidFill>
                  <a:srgbClr val="000000"/>
                </a:solidFill>
                <a:latin typeface="Arial"/>
              </a:endParaRPr>
            </a:p>
          </p:txBody>
        </p:sp>
      </p:grpSp>
      <p:grpSp>
        <p:nvGrpSpPr>
          <p:cNvPr id="1838" name="组合 64"/>
          <p:cNvGrpSpPr/>
          <p:nvPr/>
        </p:nvGrpSpPr>
        <p:grpSpPr>
          <a:xfrm>
            <a:off x="384120" y="2317680"/>
            <a:ext cx="2640240" cy="1785960"/>
            <a:chOff x="384120" y="2317680"/>
            <a:chExt cx="2640240" cy="1785960"/>
          </a:xfrm>
        </p:grpSpPr>
        <p:sp>
          <p:nvSpPr>
            <p:cNvPr id="1839" name="Freeform 6"/>
            <p:cNvSpPr/>
            <p:nvPr/>
          </p:nvSpPr>
          <p:spPr>
            <a:xfrm>
              <a:off x="384120" y="2317680"/>
              <a:ext cx="2640240" cy="1785960"/>
            </a:xfrm>
            <a:prstGeom prst="rect">
              <a:avLst/>
            </a:prstGeom>
            <a:solidFill>
              <a:srgbClr val="eaf1f7"/>
            </a:solidFill>
            <a:ln w="0">
              <a:noFill/>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0" name="文本框 62"/>
            <p:cNvSpPr/>
            <p:nvPr/>
          </p:nvSpPr>
          <p:spPr>
            <a:xfrm>
              <a:off x="577800" y="2640960"/>
              <a:ext cx="2254680" cy="111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75094"/>
                  </a:solidFill>
                  <a:latin typeface="微软雅黑"/>
                  <a:ea typeface="微软雅黑"/>
                </a:rPr>
                <a:t>目录</a:t>
              </a:r>
              <a:endParaRPr b="1" lang="en-US" sz="6000" spc="-1" strike="noStrike">
                <a:solidFill>
                  <a:srgbClr val="000000"/>
                </a:solidFill>
                <a:latin typeface="Arial"/>
              </a:endParaRPr>
            </a:p>
          </p:txBody>
        </p:sp>
        <p:sp>
          <p:nvSpPr>
            <p:cNvPr id="1841" name="Freeform 11"/>
            <p:cNvSpPr/>
            <p:nvPr/>
          </p:nvSpPr>
          <p:spPr>
            <a:xfrm>
              <a:off x="530280" y="2477880"/>
              <a:ext cx="2355840" cy="1484280"/>
            </a:xfrm>
            <a:prstGeom prst="rect">
              <a:avLst/>
            </a:prstGeom>
            <a:noFill/>
            <a:ln w="19080">
              <a:solidFill>
                <a:srgbClr val="7aaedc"/>
              </a:solidFill>
              <a:round/>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dur="indefinite" nodeType="afterEffect" fill="hold" presetClass="entr" presetID="12" presetSubtype="4">
                                  <p:stCondLst>
                                    <p:cond delay="0"/>
                                  </p:stCondLst>
                                  <p:childTnLst>
                                    <p:set>
                                      <p:cBhvr>
                                        <p:cTn id="15" dur="1" fill="hold">
                                          <p:stCondLst>
                                            <p:cond delay="0"/>
                                          </p:stCondLst>
                                        </p:cTn>
                                        <p:tgtEl>
                                          <p:spTgt spid="1828"/>
                                        </p:tgtEl>
                                        <p:attrNameLst>
                                          <p:attrName>style.visibility</p:attrName>
                                        </p:attrNameLst>
                                      </p:cBhvr>
                                      <p:to>
                                        <p:strVal val="visible"/>
                                      </p:to>
                                    </p:set>
                                    <p:anim calcmode="lin" valueType="num">
                                      <p:cBhvr additive="repl">
                                        <p:cTn id="16" dur="500"/>
                                        <p:tgtEl>
                                          <p:spTgt spid="1828"/>
                                        </p:tgtEl>
                                        <p:attrNameLst>
                                          <p:attrName>ppt_y</p:attrName>
                                        </p:attrNameLst>
                                      </p:cBhvr>
                                      <p:tavLst>
                                        <p:tav tm="0">
                                          <p:val>
                                            <p:strVal val="#ppt_y+#ppt_h*1.125000"/>
                                          </p:val>
                                        </p:tav>
                                        <p:tav tm="100000">
                                          <p:val>
                                            <p:strVal val="#ppt_y"/>
                                          </p:val>
                                        </p:tav>
                                      </p:tavLst>
                                    </p:anim>
                                    <p:animEffect filter="wipe(up)" transition="in">
                                      <p:cBhvr additive="repl">
                                        <p:cTn id="17" dur="500"/>
                                        <p:tgtEl>
                                          <p:spTgt spid="1828"/>
                                        </p:tgtEl>
                                      </p:cBhvr>
                                    </p:animEffect>
                                  </p:childTnLst>
                                </p:cTn>
                              </p:par>
                            </p:childTnLst>
                          </p:cTn>
                        </p:par>
                        <p:par>
                          <p:cTn id="18" fill="hold">
                            <p:stCondLst>
                              <p:cond delay="500"/>
                            </p:stCondLst>
                            <p:childTnLst>
                              <p:par>
                                <p:cTn id="19" dur="indefinite" nodeType="afterEffect" fill="hold" presetClass="entr" presetID="12" presetSubtype="4">
                                  <p:stCondLst>
                                    <p:cond delay="0"/>
                                  </p:stCondLst>
                                  <p:childTnLst>
                                    <p:set>
                                      <p:cBhvr>
                                        <p:cTn id="20" dur="1" fill="hold">
                                          <p:stCondLst>
                                            <p:cond delay="0"/>
                                          </p:stCondLst>
                                        </p:cTn>
                                        <p:tgtEl>
                                          <p:spTgt spid="1813"/>
                                        </p:tgtEl>
                                        <p:attrNameLst>
                                          <p:attrName>style.visibility</p:attrName>
                                        </p:attrNameLst>
                                      </p:cBhvr>
                                      <p:to>
                                        <p:strVal val="visible"/>
                                      </p:to>
                                    </p:set>
                                    <p:anim calcmode="lin" valueType="num">
                                      <p:cBhvr additive="repl">
                                        <p:cTn id="21" dur="500"/>
                                        <p:tgtEl>
                                          <p:spTgt spid="1813"/>
                                        </p:tgtEl>
                                        <p:attrNameLst>
                                          <p:attrName>ppt_y</p:attrName>
                                        </p:attrNameLst>
                                      </p:cBhvr>
                                      <p:tavLst>
                                        <p:tav tm="0">
                                          <p:val>
                                            <p:strVal val="#ppt_y+#ppt_h*1.125000"/>
                                          </p:val>
                                        </p:tav>
                                        <p:tav tm="100000">
                                          <p:val>
                                            <p:strVal val="#ppt_y"/>
                                          </p:val>
                                        </p:tav>
                                      </p:tavLst>
                                    </p:anim>
                                    <p:animEffect filter="wipe(up)" transition="in">
                                      <p:cBhvr additive="repl">
                                        <p:cTn id="22" dur="500"/>
                                        <p:tgtEl>
                                          <p:spTgt spid="1813"/>
                                        </p:tgtEl>
                                      </p:cBhvr>
                                    </p:animEffect>
                                  </p:childTnLst>
                                </p:cTn>
                              </p:par>
                            </p:childTnLst>
                          </p:cTn>
                        </p:par>
                        <p:par>
                          <p:cTn id="23" fill="hold">
                            <p:stCondLst>
                              <p:cond delay="1000"/>
                            </p:stCondLst>
                            <p:childTnLst>
                              <p:par>
                                <p:cTn id="24" dur="indefinite" nodeType="afterEffect" fill="hold" presetClass="entr" presetID="12" presetSubtype="4">
                                  <p:stCondLst>
                                    <p:cond delay="0"/>
                                  </p:stCondLst>
                                  <p:childTnLst>
                                    <p:set>
                                      <p:cBhvr>
                                        <p:cTn id="25" dur="1" fill="hold">
                                          <p:stCondLst>
                                            <p:cond delay="0"/>
                                          </p:stCondLst>
                                        </p:cTn>
                                        <p:tgtEl>
                                          <p:spTgt spid="1818"/>
                                        </p:tgtEl>
                                        <p:attrNameLst>
                                          <p:attrName>style.visibility</p:attrName>
                                        </p:attrNameLst>
                                      </p:cBhvr>
                                      <p:to>
                                        <p:strVal val="visible"/>
                                      </p:to>
                                    </p:set>
                                    <p:anim calcmode="lin" valueType="num">
                                      <p:cBhvr additive="repl">
                                        <p:cTn id="26" dur="500"/>
                                        <p:tgtEl>
                                          <p:spTgt spid="1818"/>
                                        </p:tgtEl>
                                        <p:attrNameLst>
                                          <p:attrName>ppt_y</p:attrName>
                                        </p:attrNameLst>
                                      </p:cBhvr>
                                      <p:tavLst>
                                        <p:tav tm="0">
                                          <p:val>
                                            <p:strVal val="#ppt_y+#ppt_h*1.125000"/>
                                          </p:val>
                                        </p:tav>
                                        <p:tav tm="100000">
                                          <p:val>
                                            <p:strVal val="#ppt_y"/>
                                          </p:val>
                                        </p:tav>
                                      </p:tavLst>
                                    </p:anim>
                                    <p:animEffect filter="wipe(up)" transition="in">
                                      <p:cBhvr additive="repl">
                                        <p:cTn id="27" dur="500"/>
                                        <p:tgtEl>
                                          <p:spTgt spid="1818"/>
                                        </p:tgtEl>
                                      </p:cBhvr>
                                    </p:animEffect>
                                  </p:childTnLst>
                                </p:cTn>
                              </p:par>
                            </p:childTnLst>
                          </p:cTn>
                        </p:par>
                        <p:par>
                          <p:cTn id="28" fill="hold">
                            <p:stCondLst>
                              <p:cond delay="1500"/>
                            </p:stCondLst>
                            <p:childTnLst>
                              <p:par>
                                <p:cTn id="29" dur="indefinite" nodeType="afterEffect" fill="hold" presetClass="entr" presetID="12" presetSubtype="4">
                                  <p:stCondLst>
                                    <p:cond delay="0"/>
                                  </p:stCondLst>
                                  <p:childTnLst>
                                    <p:set>
                                      <p:cBhvr>
                                        <p:cTn id="30" dur="1" fill="hold">
                                          <p:stCondLst>
                                            <p:cond delay="0"/>
                                          </p:stCondLst>
                                        </p:cTn>
                                        <p:tgtEl>
                                          <p:spTgt spid="1823"/>
                                        </p:tgtEl>
                                        <p:attrNameLst>
                                          <p:attrName>style.visibility</p:attrName>
                                        </p:attrNameLst>
                                      </p:cBhvr>
                                      <p:to>
                                        <p:strVal val="visible"/>
                                      </p:to>
                                    </p:set>
                                    <p:anim calcmode="lin" valueType="num">
                                      <p:cBhvr additive="repl">
                                        <p:cTn id="31" dur="500"/>
                                        <p:tgtEl>
                                          <p:spTgt spid="1823"/>
                                        </p:tgtEl>
                                        <p:attrNameLst>
                                          <p:attrName>ppt_y</p:attrName>
                                        </p:attrNameLst>
                                      </p:cBhvr>
                                      <p:tavLst>
                                        <p:tav tm="0">
                                          <p:val>
                                            <p:strVal val="#ppt_y+#ppt_h*1.125000"/>
                                          </p:val>
                                        </p:tav>
                                        <p:tav tm="100000">
                                          <p:val>
                                            <p:strVal val="#ppt_y"/>
                                          </p:val>
                                        </p:tav>
                                      </p:tavLst>
                                    </p:anim>
                                    <p:animEffect filter="wipe(up)" transition="in">
                                      <p:cBhvr additive="repl">
                                        <p:cTn id="32" dur="500"/>
                                        <p:tgtEl>
                                          <p:spTgt spid="1823"/>
                                        </p:tgtEl>
                                      </p:cBhvr>
                                    </p:animEffect>
                                  </p:childTnLst>
                                </p:cTn>
                              </p:par>
                            </p:childTnLst>
                          </p:cTn>
                        </p:par>
                        <p:par>
                          <p:cTn id="33" fill="hold">
                            <p:stCondLst>
                              <p:cond delay="2000"/>
                            </p:stCondLst>
                            <p:childTnLst>
                              <p:par>
                                <p:cTn id="34" dur="indefinite" nodeType="afterEffect" fill="hold" presetClass="entr" presetID="12" presetSubtype="4">
                                  <p:stCondLst>
                                    <p:cond delay="0"/>
                                  </p:stCondLst>
                                  <p:childTnLst>
                                    <p:set>
                                      <p:cBhvr>
                                        <p:cTn id="35" dur="1" fill="hold">
                                          <p:stCondLst>
                                            <p:cond delay="0"/>
                                          </p:stCondLst>
                                        </p:cTn>
                                        <p:tgtEl>
                                          <p:spTgt spid="1833"/>
                                        </p:tgtEl>
                                        <p:attrNameLst>
                                          <p:attrName>style.visibility</p:attrName>
                                        </p:attrNameLst>
                                      </p:cBhvr>
                                      <p:to>
                                        <p:strVal val="visible"/>
                                      </p:to>
                                    </p:set>
                                    <p:anim calcmode="lin" valueType="num">
                                      <p:cBhvr additive="repl">
                                        <p:cTn id="36" dur="500"/>
                                        <p:tgtEl>
                                          <p:spTgt spid="1833"/>
                                        </p:tgtEl>
                                        <p:attrNameLst>
                                          <p:attrName>ppt_y</p:attrName>
                                        </p:attrNameLst>
                                      </p:cBhvr>
                                      <p:tavLst>
                                        <p:tav tm="0">
                                          <p:val>
                                            <p:strVal val="#ppt_y+#ppt_h*1.125000"/>
                                          </p:val>
                                        </p:tav>
                                        <p:tav tm="100000">
                                          <p:val>
                                            <p:strVal val="#ppt_y"/>
                                          </p:val>
                                        </p:tav>
                                      </p:tavLst>
                                    </p:anim>
                                    <p:animEffect filter="wipe(up)" transition="in">
                                      <p:cBhvr additive="repl">
                                        <p:cTn id="37" dur="500"/>
                                        <p:tgtEl>
                                          <p:spTgt spid="1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2" name="组合 28"/>
          <p:cNvGrpSpPr/>
          <p:nvPr/>
        </p:nvGrpSpPr>
        <p:grpSpPr>
          <a:xfrm>
            <a:off x="814320" y="382680"/>
            <a:ext cx="10562760" cy="0"/>
            <a:chOff x="814320" y="382680"/>
            <a:chExt cx="10562760" cy="0"/>
          </a:xfrm>
        </p:grpSpPr>
        <p:sp>
          <p:nvSpPr>
            <p:cNvPr id="2163" name="直接连接符 52"/>
            <p:cNvSpPr/>
            <p:nvPr/>
          </p:nvSpPr>
          <p:spPr>
            <a:xfrm>
              <a:off x="814320" y="382680"/>
              <a:ext cx="201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64" name="直接连接符 64"/>
            <p:cNvSpPr/>
            <p:nvPr/>
          </p:nvSpPr>
          <p:spPr>
            <a:xfrm>
              <a:off x="9357840" y="382680"/>
              <a:ext cx="2019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165" name="Title 6"/>
          <p:cNvSpPr/>
          <p:nvPr/>
        </p:nvSpPr>
        <p:spPr>
          <a:xfrm>
            <a:off x="258840" y="826920"/>
            <a:ext cx="11453760" cy="1310040"/>
          </a:xfrm>
          <a:prstGeom prst="rect">
            <a:avLst/>
          </a:prstGeom>
          <a:noFill/>
          <a:ln w="0">
            <a:noFill/>
          </a:ln>
        </p:spPr>
        <p:style>
          <a:lnRef idx="0"/>
          <a:fillRef idx="0"/>
          <a:effectRef idx="0"/>
          <a:fontRef idx="minor"/>
        </p:style>
        <p:txBody>
          <a:bodyPr lIns="72000" rIns="7200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75b4"/>
                </a:solidFill>
                <a:latin typeface="Arial"/>
                <a:ea typeface="微软雅黑"/>
              </a:rPr>
              <a:t>三、应付账款审计工作底稿的编制                         工作过程示范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166" name="文本框 31" descr=""/>
          <p:cNvPicPr/>
          <p:nvPr/>
        </p:nvPicPr>
        <p:blipFill>
          <a:blip r:embed="rId1"/>
          <a:stretch/>
        </p:blipFill>
        <p:spPr>
          <a:xfrm>
            <a:off x="3133800" y="82440"/>
            <a:ext cx="5860800" cy="652680"/>
          </a:xfrm>
          <a:prstGeom prst="rect">
            <a:avLst/>
          </a:prstGeom>
          <a:ln w="0">
            <a:noFill/>
          </a:ln>
        </p:spPr>
      </p:pic>
      <p:pic>
        <p:nvPicPr>
          <p:cNvPr id="2167" name="图片 1" descr="&amp;pky8424501714&amp;"/>
          <p:cNvPicPr/>
          <p:nvPr/>
        </p:nvPicPr>
        <p:blipFill>
          <a:blip r:embed="rId2"/>
          <a:srcRect l="4047" t="12043" r="5789" b="7699"/>
          <a:stretch/>
        </p:blipFill>
        <p:spPr>
          <a:xfrm>
            <a:off x="492120" y="1484280"/>
            <a:ext cx="3524400" cy="5137200"/>
          </a:xfrm>
          <a:prstGeom prst="rect">
            <a:avLst/>
          </a:prstGeom>
          <a:ln w="0">
            <a:noFill/>
          </a:ln>
        </p:spPr>
      </p:pic>
      <p:sp>
        <p:nvSpPr>
          <p:cNvPr id="2168" name="矩形 2"/>
          <p:cNvSpPr/>
          <p:nvPr/>
        </p:nvSpPr>
        <p:spPr>
          <a:xfrm flipV="1" rot="10800000">
            <a:off x="4333680" y="1837080"/>
            <a:ext cx="7699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a:t>
            </a:r>
            <a:r>
              <a:rPr b="0" lang="zh-CN" sz="2400" spc="-1" strike="noStrike">
                <a:solidFill>
                  <a:srgbClr val="262626"/>
                </a:solidFill>
                <a:latin typeface="Arial"/>
                <a:ea typeface="微软雅黑"/>
              </a:rPr>
              <a:t>例 </a:t>
            </a:r>
            <a:r>
              <a:rPr b="0" lang="en-US" sz="2400" spc="-1" strike="noStrike">
                <a:solidFill>
                  <a:srgbClr val="262626"/>
                </a:solidFill>
                <a:latin typeface="Arial"/>
                <a:ea typeface="微软雅黑"/>
              </a:rPr>
              <a:t>6-2</a:t>
            </a:r>
            <a:r>
              <a:rPr b="0" lang="en-US" sz="2400" spc="-1" strike="noStrike">
                <a:solidFill>
                  <a:srgbClr val="262626"/>
                </a:solidFill>
                <a:latin typeface="Arial"/>
                <a:ea typeface="微软雅黑"/>
              </a:rPr>
              <a:t>】</a:t>
            </a:r>
            <a:r>
              <a:rPr b="0" lang="zh-CN" sz="2400" spc="-1" strike="noStrike">
                <a:solidFill>
                  <a:srgbClr val="262626"/>
                </a:solidFill>
                <a:latin typeface="Arial"/>
                <a:ea typeface="微软雅黑"/>
              </a:rPr>
              <a:t>承</a:t>
            </a:r>
            <a:r>
              <a:rPr b="0" lang="en-US" sz="2400" spc="-1" strike="noStrike">
                <a:solidFill>
                  <a:srgbClr val="262626"/>
                </a:solidFill>
                <a:latin typeface="Arial"/>
                <a:ea typeface="微软雅黑"/>
              </a:rPr>
              <a:t>【</a:t>
            </a:r>
            <a:r>
              <a:rPr b="0" lang="zh-CN" sz="2400" spc="-1" strike="noStrike">
                <a:solidFill>
                  <a:srgbClr val="262626"/>
                </a:solidFill>
                <a:latin typeface="Arial"/>
                <a:ea typeface="微软雅黑"/>
              </a:rPr>
              <a:t>例 </a:t>
            </a:r>
            <a:r>
              <a:rPr b="0" lang="en-US" sz="2400" spc="-1" strike="noStrike">
                <a:solidFill>
                  <a:srgbClr val="262626"/>
                </a:solidFill>
                <a:latin typeface="Arial"/>
                <a:ea typeface="微软雅黑"/>
              </a:rPr>
              <a:t>6-1</a:t>
            </a:r>
            <a:r>
              <a:rPr b="0" lang="en-US" sz="2400" spc="-1" strike="noStrike">
                <a:solidFill>
                  <a:srgbClr val="262626"/>
                </a:solidFill>
                <a:latin typeface="Arial"/>
                <a:ea typeface="微软雅黑"/>
              </a:rPr>
              <a:t>】</a:t>
            </a:r>
            <a:r>
              <a:rPr b="0" lang="zh-CN" sz="2400" spc="-1" strike="noStrike">
                <a:solidFill>
                  <a:srgbClr val="262626"/>
                </a:solidFill>
                <a:latin typeface="Arial"/>
                <a:ea typeface="微软雅黑"/>
              </a:rPr>
              <a:t>，审计人员张三通过翻查相关资料，确定对其中两家 公司进行函证：</a:t>
            </a:r>
            <a:r>
              <a:rPr b="0" lang="en-US" sz="2400" spc="-1" strike="noStrike">
                <a:solidFill>
                  <a:srgbClr val="262626"/>
                </a:solidFill>
                <a:latin typeface="Arial"/>
                <a:ea typeface="微软雅黑"/>
              </a:rPr>
              <a:t>1. </a:t>
            </a:r>
            <a:r>
              <a:rPr b="0" lang="zh-CN" sz="2400" spc="-1" strike="noStrike">
                <a:solidFill>
                  <a:srgbClr val="262626"/>
                </a:solidFill>
                <a:latin typeface="Arial"/>
                <a:ea typeface="微软雅黑"/>
              </a:rPr>
              <a:t>名苑公司，理由：交易频繁，数额较大。</a:t>
            </a:r>
            <a:r>
              <a:rPr b="0" lang="en-US" sz="2400" spc="-1" strike="noStrike">
                <a:solidFill>
                  <a:srgbClr val="262626"/>
                </a:solidFill>
                <a:latin typeface="Arial"/>
                <a:ea typeface="微软雅黑"/>
              </a:rPr>
              <a:t>2. </a:t>
            </a:r>
            <a:r>
              <a:rPr b="0" lang="zh-CN" sz="2400" spc="-1" strike="noStrike">
                <a:solidFill>
                  <a:srgbClr val="262626"/>
                </a:solidFill>
                <a:latin typeface="Arial"/>
                <a:ea typeface="微软雅黑"/>
              </a:rPr>
              <a:t>兴隆公司，理由：出 现异常借方金额。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a:t>
            </a:r>
            <a:r>
              <a:rPr b="0" lang="zh-CN" sz="2400" spc="-1" strike="noStrike">
                <a:solidFill>
                  <a:srgbClr val="262626"/>
                </a:solidFill>
                <a:latin typeface="Arial"/>
                <a:ea typeface="微软雅黑"/>
              </a:rPr>
              <a:t>例 </a:t>
            </a:r>
            <a:r>
              <a:rPr b="0" lang="en-US" sz="2400" spc="-1" strike="noStrike">
                <a:solidFill>
                  <a:srgbClr val="262626"/>
                </a:solidFill>
                <a:latin typeface="Arial"/>
                <a:ea typeface="微软雅黑"/>
              </a:rPr>
              <a:t>6-3</a:t>
            </a:r>
            <a:r>
              <a:rPr b="0" lang="en-US" sz="2400" spc="-1" strike="noStrike">
                <a:solidFill>
                  <a:srgbClr val="262626"/>
                </a:solidFill>
                <a:latin typeface="Arial"/>
                <a:ea typeface="微软雅黑"/>
              </a:rPr>
              <a:t>】</a:t>
            </a:r>
            <a:r>
              <a:rPr b="0" lang="zh-CN" sz="2400" spc="-1" strike="noStrike">
                <a:solidFill>
                  <a:srgbClr val="262626"/>
                </a:solidFill>
                <a:latin typeface="Arial"/>
                <a:ea typeface="微软雅黑"/>
              </a:rPr>
              <a:t>光华公司资产负债表“应付账款”项目列示数额为 </a:t>
            </a:r>
            <a:r>
              <a:rPr b="0" lang="en-US" sz="2400" spc="-1" strike="noStrike">
                <a:solidFill>
                  <a:srgbClr val="262626"/>
                </a:solidFill>
                <a:latin typeface="Arial"/>
                <a:ea typeface="微软雅黑"/>
              </a:rPr>
              <a:t>815 200 </a:t>
            </a:r>
            <a:r>
              <a:rPr b="0" lang="zh-CN" sz="2400" spc="-1" strike="noStrike">
                <a:solidFill>
                  <a:srgbClr val="262626"/>
                </a:solidFill>
                <a:latin typeface="Arial"/>
                <a:ea typeface="微软雅黑"/>
              </a:rPr>
              <a:t>元。审 计中发现以下事项须进行调整：</a:t>
            </a:r>
            <a:r>
              <a:rPr b="0" lang="en-US" sz="2400" spc="-1" strike="noStrike">
                <a:solidFill>
                  <a:srgbClr val="262626"/>
                </a:solidFill>
                <a:latin typeface="Arial"/>
                <a:ea typeface="微软雅黑"/>
              </a:rPr>
              <a:t>2018 </a:t>
            </a:r>
            <a:r>
              <a:rPr b="0" lang="zh-CN" sz="2400" spc="-1" strike="noStrike">
                <a:solidFill>
                  <a:srgbClr val="262626"/>
                </a:solidFill>
                <a:latin typeface="Arial"/>
                <a:ea typeface="微软雅黑"/>
              </a:rPr>
              <a:t>年 </a:t>
            </a:r>
            <a:r>
              <a:rPr b="0" lang="en-US" sz="2400" spc="-1" strike="noStrike">
                <a:solidFill>
                  <a:srgbClr val="262626"/>
                </a:solidFill>
                <a:latin typeface="Arial"/>
                <a:ea typeface="微软雅黑"/>
              </a:rPr>
              <a:t>12 </a:t>
            </a:r>
            <a:r>
              <a:rPr b="0" lang="zh-CN" sz="2400" spc="-1" strike="noStrike">
                <a:solidFill>
                  <a:srgbClr val="262626"/>
                </a:solidFill>
                <a:latin typeface="Arial"/>
                <a:ea typeface="微软雅黑"/>
              </a:rPr>
              <a:t>月 </a:t>
            </a:r>
            <a:r>
              <a:rPr b="0" lang="en-US" sz="2400" spc="-1" strike="noStrike">
                <a:solidFill>
                  <a:srgbClr val="262626"/>
                </a:solidFill>
                <a:latin typeface="Arial"/>
                <a:ea typeface="微软雅黑"/>
              </a:rPr>
              <a:t>15 </a:t>
            </a:r>
            <a:r>
              <a:rPr b="0" lang="zh-CN" sz="2400" spc="-1" strike="noStrike">
                <a:solidFill>
                  <a:srgbClr val="262626"/>
                </a:solidFill>
                <a:latin typeface="Arial"/>
                <a:ea typeface="微软雅黑"/>
              </a:rPr>
              <a:t>日从兴隆公司处购进原材料一批 </a:t>
            </a:r>
            <a:r>
              <a:rPr b="0" lang="en-US" sz="2400" spc="-1" strike="noStrike">
                <a:solidFill>
                  <a:srgbClr val="262626"/>
                </a:solidFill>
                <a:latin typeface="Arial"/>
                <a:ea typeface="微软雅黑"/>
              </a:rPr>
              <a:t>30 </a:t>
            </a:r>
            <a:r>
              <a:rPr b="0" lang="zh-CN" sz="2400" spc="-1" strike="noStrike">
                <a:solidFill>
                  <a:srgbClr val="262626"/>
                </a:solidFill>
                <a:latin typeface="Arial"/>
                <a:ea typeface="微软雅黑"/>
              </a:rPr>
              <a:t>吨，单价 </a:t>
            </a:r>
            <a:r>
              <a:rPr b="0" lang="en-US" sz="2400" spc="-1" strike="noStrike">
                <a:solidFill>
                  <a:srgbClr val="262626"/>
                </a:solidFill>
                <a:latin typeface="Arial"/>
                <a:ea typeface="微软雅黑"/>
              </a:rPr>
              <a:t>4 500 </a:t>
            </a:r>
            <a:r>
              <a:rPr b="0" lang="zh-CN" sz="2400" spc="-1" strike="noStrike">
                <a:solidFill>
                  <a:srgbClr val="262626"/>
                </a:solidFill>
                <a:latin typeface="Arial"/>
                <a:ea typeface="微软雅黑"/>
              </a:rPr>
              <a:t>元，原材料已入库，但应付款项及材料均未做确认。 根据以上情况编制审计工作底稿（表 </a:t>
            </a:r>
            <a:r>
              <a:rPr b="0" lang="en-US" sz="2400" spc="-1" strike="noStrike">
                <a:solidFill>
                  <a:srgbClr val="262626"/>
                </a:solidFill>
                <a:latin typeface="Arial"/>
                <a:ea typeface="微软雅黑"/>
              </a:rPr>
              <a:t>6-8 </a:t>
            </a:r>
            <a:r>
              <a:rPr b="0" lang="zh-CN" sz="2400" spc="-1" strike="noStrike">
                <a:solidFill>
                  <a:srgbClr val="262626"/>
                </a:solidFill>
                <a:latin typeface="Arial"/>
                <a:ea typeface="微软雅黑"/>
              </a:rPr>
              <a:t>和表 </a:t>
            </a:r>
            <a:r>
              <a:rPr b="0" lang="en-US" sz="2400" spc="-1" strike="noStrike">
                <a:solidFill>
                  <a:srgbClr val="262626"/>
                </a:solidFill>
                <a:latin typeface="Arial"/>
                <a:ea typeface="微软雅黑"/>
              </a:rPr>
              <a:t>6-9</a:t>
            </a:r>
            <a:r>
              <a:rPr b="0" lang="zh-CN" sz="2400" spc="-1" strike="noStrike">
                <a:solidFill>
                  <a:srgbClr val="262626"/>
                </a:solidFill>
                <a:latin typeface="Arial"/>
                <a:ea typeface="微软雅黑"/>
              </a:rPr>
              <a:t>）。（“应付账款审计程序 表”略）</a:t>
            </a:r>
            <a:endParaRPr b="1"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文本框 14"/>
          <p:cNvSpPr/>
          <p:nvPr/>
        </p:nvSpPr>
        <p:spPr>
          <a:xfrm>
            <a:off x="1004760" y="858960"/>
            <a:ext cx="9120240" cy="1309320"/>
          </a:xfrm>
          <a:prstGeom prst="rect">
            <a:avLst/>
          </a:prstGeom>
          <a:noFill/>
          <a:ln w="0">
            <a:noFill/>
          </a:ln>
        </p:spPr>
        <p:style>
          <a:lnRef idx="0"/>
          <a:fillRef idx="0"/>
          <a:effectRef idx="0"/>
          <a:fontRef idx="minor"/>
        </p:style>
        <p:txBody>
          <a:bodyPr lIns="71640" rIns="71640" tIns="36360" bIns="3636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f75b4"/>
                </a:solidFill>
                <a:latin typeface="微软雅黑"/>
                <a:ea typeface="微软雅黑"/>
              </a:rPr>
              <a:t>二、工作过程描述</a:t>
            </a:r>
            <a:endParaRPr b="1" lang="en-US" sz="28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微软雅黑"/>
              </a:rPr>
              <a:t>一、固定资产与累计折旧的审计目标</a:t>
            </a:r>
            <a:endParaRPr b="1" lang="en-US" sz="2400" spc="-1" strike="noStrike">
              <a:solidFill>
                <a:srgbClr val="000000"/>
              </a:solidFill>
              <a:latin typeface="Arial"/>
            </a:endParaRPr>
          </a:p>
        </p:txBody>
      </p:sp>
      <p:pic>
        <p:nvPicPr>
          <p:cNvPr id="2170" name="组合 2" descr=""/>
          <p:cNvPicPr/>
          <p:nvPr/>
        </p:nvPicPr>
        <p:blipFill>
          <a:blip r:embed="rId1"/>
          <a:stretch/>
        </p:blipFill>
        <p:spPr>
          <a:xfrm>
            <a:off x="196920" y="4022640"/>
            <a:ext cx="896760" cy="889200"/>
          </a:xfrm>
          <a:prstGeom prst="rect">
            <a:avLst/>
          </a:prstGeom>
          <a:ln w="0">
            <a:noFill/>
          </a:ln>
        </p:spPr>
      </p:pic>
      <p:grpSp>
        <p:nvGrpSpPr>
          <p:cNvPr id="2171" name="组合 4"/>
          <p:cNvGrpSpPr/>
          <p:nvPr/>
        </p:nvGrpSpPr>
        <p:grpSpPr>
          <a:xfrm>
            <a:off x="196920" y="2212920"/>
            <a:ext cx="9122760" cy="3314520"/>
            <a:chOff x="196920" y="2212920"/>
            <a:chExt cx="9122760" cy="3314520"/>
          </a:xfrm>
        </p:grpSpPr>
        <p:sp>
          <p:nvSpPr>
            <p:cNvPr id="2172" name="Google Shape;1645;p48"/>
            <p:cNvSpPr/>
            <p:nvPr/>
          </p:nvSpPr>
          <p:spPr>
            <a:xfrm flipH="1" rot="10800000">
              <a:off x="7218000" y="4186440"/>
              <a:ext cx="152856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009587"/>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73" name="Google Shape;1648;p48"/>
            <p:cNvSpPr/>
            <p:nvPr/>
          </p:nvSpPr>
          <p:spPr>
            <a:xfrm>
              <a:off x="1088640" y="3591000"/>
              <a:ext cx="1066680" cy="6123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74" name="Google Shape;1654;p48"/>
            <p:cNvSpPr/>
            <p:nvPr/>
          </p:nvSpPr>
          <p:spPr>
            <a:xfrm>
              <a:off x="3246480" y="3622320"/>
              <a:ext cx="140004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75" name="Google Shape;1660;p48"/>
            <p:cNvSpPr/>
            <p:nvPr/>
          </p:nvSpPr>
          <p:spPr>
            <a:xfrm>
              <a:off x="5937120" y="3629160"/>
              <a:ext cx="1379520" cy="57420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76" name="Google Shape;1666;p48"/>
            <p:cNvSpPr/>
            <p:nvPr/>
          </p:nvSpPr>
          <p:spPr>
            <a:xfrm flipH="1" rot="10800000">
              <a:off x="2084760" y="4152600"/>
              <a:ext cx="1280880" cy="53640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009587"/>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77" name="Google Shape;1672;p48"/>
            <p:cNvSpPr/>
            <p:nvPr/>
          </p:nvSpPr>
          <p:spPr>
            <a:xfrm flipH="1" rot="10800000">
              <a:off x="4632120" y="4152600"/>
              <a:ext cx="126648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009587"/>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78" name="文本框 20"/>
            <p:cNvSpPr/>
            <p:nvPr/>
          </p:nvSpPr>
          <p:spPr>
            <a:xfrm>
              <a:off x="196920" y="2452320"/>
              <a:ext cx="2930400" cy="1390680"/>
            </a:xfrm>
            <a:prstGeom prst="rect">
              <a:avLst/>
            </a:prstGeom>
            <a:noFill/>
            <a:ln w="0">
              <a:noFill/>
            </a:ln>
          </p:spPr>
          <p:style>
            <a:lnRef idx="0"/>
            <a:fillRef idx="0"/>
            <a:effectRef idx="0"/>
            <a:fontRef idx="minor"/>
          </p:style>
          <p:txBody>
            <a:bodyPr lIns="90000" rIns="90000" tIns="46800" bIns="46800" anchor="b">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1. </a:t>
              </a:r>
              <a:r>
                <a:rPr b="1" lang="zh-CN" sz="2000" spc="-1" strike="noStrike">
                  <a:solidFill>
                    <a:srgbClr val="000000"/>
                  </a:solidFill>
                  <a:latin typeface="Arial"/>
                  <a:ea typeface="宋体"/>
                </a:rPr>
                <a:t>确定资产负债表中记录的固定资产是否存在并由被审计单位所有或控制</a:t>
              </a:r>
              <a:endParaRPr b="1" lang="en-US" sz="2000" spc="-1" strike="noStrike">
                <a:solidFill>
                  <a:srgbClr val="000000"/>
                </a:solidFill>
                <a:latin typeface="Arial"/>
              </a:endParaRPr>
            </a:p>
          </p:txBody>
        </p:sp>
        <p:sp>
          <p:nvSpPr>
            <p:cNvPr id="2179" name="文本框 1"/>
            <p:cNvSpPr/>
            <p:nvPr/>
          </p:nvSpPr>
          <p:spPr>
            <a:xfrm>
              <a:off x="1524240" y="4943520"/>
              <a:ext cx="2307960" cy="4716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 </a:t>
              </a:r>
              <a:r>
                <a:rPr b="1" lang="zh-CN" sz="2000" spc="-1" strike="noStrike">
                  <a:solidFill>
                    <a:srgbClr val="000000"/>
                  </a:solidFill>
                  <a:latin typeface="Arial"/>
                  <a:ea typeface="宋体"/>
                </a:rPr>
                <a:t>确定固定资产的计价方法是否恰当</a:t>
              </a:r>
              <a:endParaRPr b="1" lang="en-US" sz="2000" spc="-1" strike="noStrike">
                <a:solidFill>
                  <a:srgbClr val="000000"/>
                </a:solidFill>
                <a:latin typeface="Arial"/>
              </a:endParaRPr>
            </a:p>
          </p:txBody>
        </p:sp>
        <p:sp>
          <p:nvSpPr>
            <p:cNvPr id="2180" name="文本框 3"/>
            <p:cNvSpPr/>
            <p:nvPr/>
          </p:nvSpPr>
          <p:spPr>
            <a:xfrm>
              <a:off x="3935160" y="4945320"/>
              <a:ext cx="2508120" cy="5572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4. </a:t>
              </a:r>
              <a:r>
                <a:rPr b="1" lang="zh-CN" sz="2000" spc="-1" strike="noStrike">
                  <a:solidFill>
                    <a:srgbClr val="000000"/>
                  </a:solidFill>
                  <a:latin typeface="Arial"/>
                  <a:ea typeface="宋体"/>
                </a:rPr>
                <a:t>确定折旧费用的分摊是否合理、一贯。</a:t>
              </a:r>
              <a:endParaRPr b="1" lang="en-US" sz="2000" spc="-1" strike="noStrike">
                <a:solidFill>
                  <a:srgbClr val="000000"/>
                </a:solidFill>
                <a:latin typeface="Arial"/>
              </a:endParaRPr>
            </a:p>
          </p:txBody>
        </p:sp>
        <p:sp>
          <p:nvSpPr>
            <p:cNvPr id="2181" name="文本框 5"/>
            <p:cNvSpPr/>
            <p:nvPr/>
          </p:nvSpPr>
          <p:spPr>
            <a:xfrm>
              <a:off x="6546960" y="4921200"/>
              <a:ext cx="2772720" cy="6062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6. </a:t>
              </a:r>
              <a:r>
                <a:rPr b="1" lang="zh-CN" sz="2000" spc="-1" strike="noStrike">
                  <a:solidFill>
                    <a:srgbClr val="000000"/>
                  </a:solidFill>
                  <a:latin typeface="Arial"/>
                  <a:ea typeface="宋体"/>
                </a:rPr>
                <a:t>确定固定资产、累计折旧和固定资产减值准备的记录是否完整。</a:t>
              </a:r>
              <a:endParaRPr b="1" lang="en-US" sz="2000" spc="-1" strike="noStrike">
                <a:solidFill>
                  <a:srgbClr val="000000"/>
                </a:solidFill>
                <a:latin typeface="Arial"/>
              </a:endParaRPr>
            </a:p>
          </p:txBody>
        </p:sp>
        <p:sp>
          <p:nvSpPr>
            <p:cNvPr id="2182" name="文本框 24"/>
            <p:cNvSpPr/>
            <p:nvPr/>
          </p:nvSpPr>
          <p:spPr>
            <a:xfrm>
              <a:off x="3070440" y="2212920"/>
              <a:ext cx="2319480" cy="89856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3. </a:t>
              </a:r>
              <a:r>
                <a:rPr b="1" lang="zh-CN" sz="2000" spc="-1" strike="noStrike">
                  <a:solidFill>
                    <a:srgbClr val="000000"/>
                  </a:solidFill>
                  <a:latin typeface="Arial"/>
                  <a:ea typeface="宋体"/>
                </a:rPr>
                <a:t>确定固定资产的折旧政策是否恰当。</a:t>
              </a:r>
              <a:endParaRPr b="1" lang="en-US" sz="2000" spc="-1" strike="noStrike">
                <a:solidFill>
                  <a:srgbClr val="000000"/>
                </a:solidFill>
                <a:latin typeface="Arial"/>
              </a:endParaRPr>
            </a:p>
          </p:txBody>
        </p:sp>
        <p:sp>
          <p:nvSpPr>
            <p:cNvPr id="2183" name="文本框 7"/>
            <p:cNvSpPr/>
            <p:nvPr/>
          </p:nvSpPr>
          <p:spPr>
            <a:xfrm>
              <a:off x="5590800" y="2855520"/>
              <a:ext cx="2563560" cy="60804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5. </a:t>
              </a:r>
              <a:r>
                <a:rPr b="1" lang="zh-CN" sz="2000" spc="-1" strike="noStrike">
                  <a:solidFill>
                    <a:srgbClr val="000000"/>
                  </a:solidFill>
                  <a:latin typeface="Arial"/>
                  <a:ea typeface="宋体"/>
                </a:rPr>
                <a:t>确定固定资产减值准备的计提是否充分、完整，方法是否恰当</a:t>
              </a:r>
              <a:endParaRPr b="1" lang="en-US" sz="2000" spc="-1" strike="noStrike">
                <a:solidFill>
                  <a:srgbClr val="000000"/>
                </a:solidFill>
                <a:latin typeface="Arial"/>
              </a:endParaRPr>
            </a:p>
          </p:txBody>
        </p:sp>
        <p:sp>
          <p:nvSpPr>
            <p:cNvPr id="2184" name="Google Shape;1645;p48"/>
            <p:cNvSpPr/>
            <p:nvPr/>
          </p:nvSpPr>
          <p:spPr>
            <a:xfrm flipH="1" rot="10800000">
              <a:off x="7224840" y="4175280"/>
              <a:ext cx="1528560" cy="599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85" name="Google Shape;1666;p48"/>
            <p:cNvSpPr/>
            <p:nvPr/>
          </p:nvSpPr>
          <p:spPr>
            <a:xfrm flipH="1" rot="10800000">
              <a:off x="2187360" y="4152240"/>
              <a:ext cx="1185840" cy="5187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86" name="Google Shape;1672;p48"/>
            <p:cNvSpPr/>
            <p:nvPr/>
          </p:nvSpPr>
          <p:spPr>
            <a:xfrm flipH="1" rot="10800000">
              <a:off x="4489920" y="4152600"/>
              <a:ext cx="1414440" cy="55728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grpSp>
      <p:grpSp>
        <p:nvGrpSpPr>
          <p:cNvPr id="2187" name="组合 28"/>
          <p:cNvGrpSpPr/>
          <p:nvPr/>
        </p:nvGrpSpPr>
        <p:grpSpPr>
          <a:xfrm>
            <a:off x="939960" y="620640"/>
            <a:ext cx="10359720" cy="0"/>
            <a:chOff x="939960" y="620640"/>
            <a:chExt cx="10359720" cy="0"/>
          </a:xfrm>
        </p:grpSpPr>
        <p:sp>
          <p:nvSpPr>
            <p:cNvPr id="2188" name="直接连接符 52"/>
            <p:cNvSpPr/>
            <p:nvPr/>
          </p:nvSpPr>
          <p:spPr>
            <a:xfrm>
              <a:off x="939960" y="6206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89" name="直接连接符 64"/>
            <p:cNvSpPr/>
            <p:nvPr/>
          </p:nvSpPr>
          <p:spPr>
            <a:xfrm>
              <a:off x="9320400" y="620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pic>
        <p:nvPicPr>
          <p:cNvPr id="2190" name="文本框 31" descr=""/>
          <p:cNvPicPr/>
          <p:nvPr/>
        </p:nvPicPr>
        <p:blipFill>
          <a:blip r:embed="rId2"/>
          <a:stretch/>
        </p:blipFill>
        <p:spPr>
          <a:xfrm>
            <a:off x="3187800" y="307800"/>
            <a:ext cx="5946840" cy="557280"/>
          </a:xfrm>
          <a:prstGeom prst="rect">
            <a:avLst/>
          </a:prstGeom>
          <a:ln w="0">
            <a:noFill/>
          </a:ln>
        </p:spPr>
      </p:pic>
      <p:sp>
        <p:nvSpPr>
          <p:cNvPr id="2191" name="Google Shape;1660;p48"/>
          <p:cNvSpPr/>
          <p:nvPr/>
        </p:nvSpPr>
        <p:spPr>
          <a:xfrm>
            <a:off x="8597880" y="3798720"/>
            <a:ext cx="1528920" cy="60012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43d5ff"/>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92" name="Google Shape;1645;p48"/>
          <p:cNvSpPr/>
          <p:nvPr/>
        </p:nvSpPr>
        <p:spPr>
          <a:xfrm flipH="1" rot="10800000">
            <a:off x="10125000" y="4201920"/>
            <a:ext cx="1325520" cy="709560"/>
          </a:xfrm>
          <a:custGeom>
            <a:avLst/>
            <a:gdLst/>
            <a:ahLst/>
            <a:rect l="l" t="t" r="r" b="b"/>
            <a:pathLst>
              <a:path w="21534" h="21599">
                <a:moveTo>
                  <a:pt x="18068" y="0"/>
                </a:moveTo>
                <a:cubicBezTo>
                  <a:pt x="17919" y="-1"/>
                  <a:pt x="17772" y="110"/>
                  <a:pt x="17662" y="332"/>
                </a:cubicBezTo>
                <a:lnTo>
                  <a:pt x="14753" y="6023"/>
                </a:lnTo>
                <a:cubicBezTo>
                  <a:pt x="14528" y="6463"/>
                  <a:pt x="14528" y="7177"/>
                  <a:pt x="14753" y="7617"/>
                </a:cubicBezTo>
                <a:cubicBezTo>
                  <a:pt x="14978" y="8057"/>
                  <a:pt x="15343" y="8057"/>
                  <a:pt x="15568" y="7617"/>
                </a:cubicBezTo>
                <a:lnTo>
                  <a:pt x="17507" y="3823"/>
                </a:lnTo>
                <a:lnTo>
                  <a:pt x="17507" y="15982"/>
                </a:lnTo>
                <a:cubicBezTo>
                  <a:pt x="17539" y="16819"/>
                  <a:pt x="17391" y="17643"/>
                  <a:pt x="17098" y="18256"/>
                </a:cubicBezTo>
                <a:cubicBezTo>
                  <a:pt x="16780" y="18923"/>
                  <a:pt x="16325" y="19271"/>
                  <a:pt x="15860" y="19205"/>
                </a:cubicBezTo>
                <a:lnTo>
                  <a:pt x="533" y="19296"/>
                </a:lnTo>
                <a:cubicBezTo>
                  <a:pt x="238" y="19351"/>
                  <a:pt x="10" y="19826"/>
                  <a:pt x="0" y="20406"/>
                </a:cubicBezTo>
                <a:cubicBezTo>
                  <a:pt x="-10" y="21016"/>
                  <a:pt x="223" y="21537"/>
                  <a:pt x="533" y="21599"/>
                </a:cubicBezTo>
                <a:lnTo>
                  <a:pt x="16315" y="21508"/>
                </a:lnTo>
                <a:cubicBezTo>
                  <a:pt x="16973" y="21408"/>
                  <a:pt x="17583" y="20801"/>
                  <a:pt x="18012" y="19822"/>
                </a:cubicBezTo>
                <a:cubicBezTo>
                  <a:pt x="18355" y="19041"/>
                  <a:pt x="18560" y="18066"/>
                  <a:pt x="18599" y="17039"/>
                </a:cubicBezTo>
                <a:lnTo>
                  <a:pt x="18599" y="3800"/>
                </a:lnTo>
                <a:lnTo>
                  <a:pt x="20550" y="7617"/>
                </a:lnTo>
                <a:cubicBezTo>
                  <a:pt x="20775" y="8057"/>
                  <a:pt x="21140" y="8057"/>
                  <a:pt x="21365" y="7617"/>
                </a:cubicBezTo>
                <a:cubicBezTo>
                  <a:pt x="21590" y="7177"/>
                  <a:pt x="21590" y="6463"/>
                  <a:pt x="21365" y="6023"/>
                </a:cubicBezTo>
                <a:lnTo>
                  <a:pt x="18477" y="332"/>
                </a:lnTo>
                <a:cubicBezTo>
                  <a:pt x="18368" y="119"/>
                  <a:pt x="18221" y="2"/>
                  <a:pt x="18068" y="0"/>
                </a:cubicBezTo>
                <a:close/>
              </a:path>
            </a:pathLst>
          </a:custGeom>
          <a:solidFill>
            <a:srgbClr val="5b9bd4"/>
          </a:solidFill>
          <a:ln w="0">
            <a:noFill/>
          </a:ln>
        </p:spPr>
        <p:style>
          <a:lnRef idx="0"/>
          <a:fillRef idx="0"/>
          <a:effectRef idx="0"/>
          <a:fontRef idx="minor"/>
        </p:style>
        <p: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2193" name="文本框 28"/>
          <p:cNvSpPr/>
          <p:nvPr/>
        </p:nvSpPr>
        <p:spPr>
          <a:xfrm>
            <a:off x="8358120" y="2482920"/>
            <a:ext cx="3092400" cy="100152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7. </a:t>
            </a:r>
            <a:r>
              <a:rPr b="1" lang="zh-CN" sz="2000" spc="-1" strike="noStrike">
                <a:solidFill>
                  <a:srgbClr val="000000"/>
                </a:solidFill>
                <a:latin typeface="Arial"/>
                <a:ea typeface="宋体"/>
              </a:rPr>
              <a:t>确定固定资产、累计折旧和固定资产减值准备的期末余额是否正确</a:t>
            </a:r>
            <a:endParaRPr b="1" lang="en-US" sz="2000" spc="-1" strike="noStrike">
              <a:solidFill>
                <a:srgbClr val="000000"/>
              </a:solidFill>
              <a:latin typeface="Arial"/>
            </a:endParaRPr>
          </a:p>
        </p:txBody>
      </p:sp>
      <p:sp>
        <p:nvSpPr>
          <p:cNvPr id="2194" name="文本框 29"/>
          <p:cNvSpPr/>
          <p:nvPr/>
        </p:nvSpPr>
        <p:spPr>
          <a:xfrm>
            <a:off x="9269280" y="4152960"/>
            <a:ext cx="2773440" cy="1838160"/>
          </a:xfrm>
          <a:prstGeom prst="rect">
            <a:avLst/>
          </a:prstGeom>
          <a:noFill/>
          <a:ln w="0">
            <a:noFill/>
          </a:ln>
        </p:spPr>
        <p:style>
          <a:lnRef idx="0"/>
          <a:fillRef idx="0"/>
          <a:effectRef idx="0"/>
          <a:fontRef idx="minor"/>
        </p:style>
        <p:txBody>
          <a:bodyPr lIns="90000" rIns="90000" tIns="46800" bIns="46800" anchor="b">
            <a:no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8. </a:t>
            </a:r>
            <a:r>
              <a:rPr b="1" lang="zh-CN" sz="2000" spc="-1" strike="noStrike">
                <a:solidFill>
                  <a:srgbClr val="000000"/>
                </a:solidFill>
                <a:latin typeface="Arial"/>
                <a:ea typeface="宋体"/>
              </a:rPr>
              <a:t>确定固定资产、累计折旧和固定资产减值准备的披露是否恰当。</a:t>
            </a:r>
            <a:endParaRPr b="1" lang="en-US" sz="2000" spc="-1" strike="noStrike">
              <a:solidFill>
                <a:srgbClr val="000000"/>
              </a:solidFill>
              <a:latin typeface="Arial"/>
            </a:endParaRPr>
          </a:p>
        </p:txBody>
      </p:sp>
      <p:grpSp>
        <p:nvGrpSpPr>
          <p:cNvPr id="2195" name="组合 28"/>
          <p:cNvGrpSpPr/>
          <p:nvPr/>
        </p:nvGrpSpPr>
        <p:grpSpPr>
          <a:xfrm>
            <a:off x="868320" y="549360"/>
            <a:ext cx="10359720" cy="0"/>
            <a:chOff x="868320" y="549360"/>
            <a:chExt cx="10359720" cy="0"/>
          </a:xfrm>
        </p:grpSpPr>
        <p:sp>
          <p:nvSpPr>
            <p:cNvPr id="2196" name="直接连接符 31"/>
            <p:cNvSpPr/>
            <p:nvPr/>
          </p:nvSpPr>
          <p:spPr>
            <a:xfrm>
              <a:off x="868320" y="5493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97" name="直接连接符 32"/>
            <p:cNvSpPr/>
            <p:nvPr/>
          </p:nvSpPr>
          <p:spPr>
            <a:xfrm>
              <a:off x="9248400" y="5493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p:transition spd="slow">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Title 6"/>
          <p:cNvSpPr/>
          <p:nvPr/>
        </p:nvSpPr>
        <p:spPr>
          <a:xfrm>
            <a:off x="1552680" y="1031760"/>
            <a:ext cx="8172360" cy="609120"/>
          </a:xfrm>
          <a:prstGeom prst="rect">
            <a:avLst/>
          </a:prstGeom>
          <a:noFill/>
          <a:ln w="0">
            <a:noFill/>
          </a:ln>
        </p:spPr>
        <p:style>
          <a:lnRef idx="0"/>
          <a:fillRef idx="0"/>
          <a:effectRef idx="0"/>
          <a:fontRef idx="minor"/>
        </p:style>
        <p:txBody>
          <a:bodyPr lIns="72000" rIns="72000" tIns="36360" bIns="36360" anchor="t">
            <a:spAutoFit/>
          </a:bodyPr>
          <a:p>
            <a:pPr algn="just">
              <a:lnSpc>
                <a:spcPct val="11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2f75b4"/>
                </a:solidFill>
                <a:latin typeface="微软雅黑"/>
                <a:ea typeface="微软雅黑"/>
              </a:rPr>
              <a:t>二、固定资产与累计折旧审计的实质性程序</a:t>
            </a:r>
            <a:endParaRPr b="1" lang="en-US" sz="3200" spc="-1" strike="noStrike">
              <a:solidFill>
                <a:srgbClr val="000000"/>
              </a:solidFill>
              <a:latin typeface="Arial"/>
            </a:endParaRPr>
          </a:p>
        </p:txBody>
      </p:sp>
      <p:grpSp>
        <p:nvGrpSpPr>
          <p:cNvPr id="2199" name="组合 91"/>
          <p:cNvGrpSpPr/>
          <p:nvPr/>
        </p:nvGrpSpPr>
        <p:grpSpPr>
          <a:xfrm>
            <a:off x="982800" y="476280"/>
            <a:ext cx="10359720" cy="0"/>
            <a:chOff x="982800" y="476280"/>
            <a:chExt cx="10359720" cy="0"/>
          </a:xfrm>
        </p:grpSpPr>
        <p:sp>
          <p:nvSpPr>
            <p:cNvPr id="2200" name="直接连接符 92"/>
            <p:cNvSpPr/>
            <p:nvPr/>
          </p:nvSpPr>
          <p:spPr>
            <a:xfrm>
              <a:off x="982800" y="4762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01" name="直接连接符 93"/>
            <p:cNvSpPr/>
            <p:nvPr/>
          </p:nvSpPr>
          <p:spPr>
            <a:xfrm>
              <a:off x="9362880" y="4762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202" name="组合 124"/>
          <p:cNvGrpSpPr/>
          <p:nvPr/>
        </p:nvGrpSpPr>
        <p:grpSpPr>
          <a:xfrm>
            <a:off x="4094280" y="1949400"/>
            <a:ext cx="6932520" cy="576360"/>
            <a:chOff x="4094280" y="1949400"/>
            <a:chExt cx="6932520" cy="576360"/>
          </a:xfrm>
        </p:grpSpPr>
        <p:sp>
          <p:nvSpPr>
            <p:cNvPr id="2203" name="任意多边形 1"/>
            <p:cNvSpPr/>
            <p:nvPr/>
          </p:nvSpPr>
          <p:spPr>
            <a:xfrm>
              <a:off x="4094280" y="1949400"/>
              <a:ext cx="614520" cy="576360"/>
            </a:xfrm>
            <a:prstGeom prst="pie">
              <a:avLst/>
            </a:pr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a:t>
              </a:r>
              <a:endParaRPr b="1" lang="en-US" sz="2400" spc="-1" strike="noStrike">
                <a:solidFill>
                  <a:srgbClr val="000000"/>
                </a:solidFill>
                <a:latin typeface="Arial"/>
              </a:endParaRPr>
            </a:p>
          </p:txBody>
        </p:sp>
        <p:sp>
          <p:nvSpPr>
            <p:cNvPr id="2204" name="矩形 2"/>
            <p:cNvSpPr/>
            <p:nvPr/>
          </p:nvSpPr>
          <p:spPr>
            <a:xfrm>
              <a:off x="4895280" y="1950840"/>
              <a:ext cx="6131520" cy="45756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获取或编制固定资产和累计折旧分类汇总表</a:t>
              </a:r>
              <a:endParaRPr b="1" lang="en-US" sz="2400" spc="-1" strike="noStrike">
                <a:solidFill>
                  <a:srgbClr val="000000"/>
                </a:solidFill>
                <a:latin typeface="Arial"/>
              </a:endParaRPr>
            </a:p>
          </p:txBody>
        </p:sp>
      </p:grpSp>
      <p:grpSp>
        <p:nvGrpSpPr>
          <p:cNvPr id="2205" name="组合 125"/>
          <p:cNvGrpSpPr/>
          <p:nvPr/>
        </p:nvGrpSpPr>
        <p:grpSpPr>
          <a:xfrm>
            <a:off x="4135320" y="2633760"/>
            <a:ext cx="4977000" cy="804600"/>
            <a:chOff x="4135320" y="2633760"/>
            <a:chExt cx="4977000" cy="804600"/>
          </a:xfrm>
        </p:grpSpPr>
        <p:sp>
          <p:nvSpPr>
            <p:cNvPr id="2206" name="任意多边形 3"/>
            <p:cNvSpPr/>
            <p:nvPr/>
          </p:nvSpPr>
          <p:spPr>
            <a:xfrm>
              <a:off x="4135320" y="2855160"/>
              <a:ext cx="628560" cy="577800"/>
            </a:xfrm>
            <a:prstGeom prst="pie">
              <a:avLst/>
            </a:prstGeom>
            <a:solidFill>
              <a:srgbClr val="914f96"/>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a:t>
              </a:r>
              <a:endParaRPr b="1" lang="en-US" sz="2400" spc="-1" strike="noStrike">
                <a:solidFill>
                  <a:srgbClr val="000000"/>
                </a:solidFill>
                <a:latin typeface="Arial"/>
              </a:endParaRPr>
            </a:p>
          </p:txBody>
        </p:sp>
        <p:sp>
          <p:nvSpPr>
            <p:cNvPr id="2207" name="矩形 12"/>
            <p:cNvSpPr/>
            <p:nvPr/>
          </p:nvSpPr>
          <p:spPr>
            <a:xfrm>
              <a:off x="4917240" y="2633760"/>
              <a:ext cx="4195080" cy="80460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实质性分析程序</a:t>
              </a:r>
              <a:endParaRPr b="1" lang="en-US" sz="2400" spc="-1" strike="noStrike">
                <a:solidFill>
                  <a:srgbClr val="000000"/>
                </a:solidFill>
                <a:latin typeface="Arial"/>
              </a:endParaRPr>
            </a:p>
          </p:txBody>
        </p:sp>
      </p:grpSp>
      <p:grpSp>
        <p:nvGrpSpPr>
          <p:cNvPr id="2208" name="组合 127"/>
          <p:cNvGrpSpPr/>
          <p:nvPr/>
        </p:nvGrpSpPr>
        <p:grpSpPr>
          <a:xfrm>
            <a:off x="4079880" y="4648320"/>
            <a:ext cx="5837040" cy="741240"/>
            <a:chOff x="4079880" y="4648320"/>
            <a:chExt cx="5837040" cy="741240"/>
          </a:xfrm>
        </p:grpSpPr>
        <p:sp>
          <p:nvSpPr>
            <p:cNvPr id="2209" name="任意多边形 30"/>
            <p:cNvSpPr/>
            <p:nvPr/>
          </p:nvSpPr>
          <p:spPr>
            <a:xfrm>
              <a:off x="4079880" y="4775400"/>
              <a:ext cx="612360" cy="58680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a:t>
              </a:r>
              <a:endParaRPr b="1" lang="en-US" sz="2400" spc="-1" strike="noStrike">
                <a:solidFill>
                  <a:srgbClr val="000000"/>
                </a:solidFill>
                <a:latin typeface="Arial"/>
              </a:endParaRPr>
            </a:p>
          </p:txBody>
        </p:sp>
        <p:sp>
          <p:nvSpPr>
            <p:cNvPr id="2210" name="矩形 31"/>
            <p:cNvSpPr/>
            <p:nvPr/>
          </p:nvSpPr>
          <p:spPr>
            <a:xfrm>
              <a:off x="4945680" y="4648320"/>
              <a:ext cx="4971240" cy="74124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确定固定资产是否归企业所有</a:t>
              </a:r>
              <a:endParaRPr b="1" lang="en-US" sz="2400" spc="-1" strike="noStrike">
                <a:solidFill>
                  <a:srgbClr val="000000"/>
                </a:solidFill>
                <a:latin typeface="Arial"/>
              </a:endParaRPr>
            </a:p>
          </p:txBody>
        </p:sp>
      </p:grpSp>
      <p:grpSp>
        <p:nvGrpSpPr>
          <p:cNvPr id="2211" name="组合 128"/>
          <p:cNvGrpSpPr/>
          <p:nvPr/>
        </p:nvGrpSpPr>
        <p:grpSpPr>
          <a:xfrm>
            <a:off x="4079880" y="5568840"/>
            <a:ext cx="5837400" cy="838440"/>
            <a:chOff x="4079880" y="5568840"/>
            <a:chExt cx="5837400" cy="838440"/>
          </a:xfrm>
        </p:grpSpPr>
        <p:sp>
          <p:nvSpPr>
            <p:cNvPr id="2212" name="任意多边形 63"/>
            <p:cNvSpPr/>
            <p:nvPr/>
          </p:nvSpPr>
          <p:spPr>
            <a:xfrm>
              <a:off x="4079880" y="5692680"/>
              <a:ext cx="663120" cy="566640"/>
            </a:xfrm>
            <a:prstGeom prst="pie">
              <a:avLst/>
            </a:prstGeom>
            <a:solidFill>
              <a:srgbClr val="00a09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5</a:t>
              </a:r>
              <a:endParaRPr b="1" lang="en-US" sz="2400" spc="-1" strike="noStrike">
                <a:solidFill>
                  <a:srgbClr val="000000"/>
                </a:solidFill>
                <a:latin typeface="Arial"/>
              </a:endParaRPr>
            </a:p>
          </p:txBody>
        </p:sp>
        <p:sp>
          <p:nvSpPr>
            <p:cNvPr id="2213" name="矩形 35"/>
            <p:cNvSpPr/>
            <p:nvPr/>
          </p:nvSpPr>
          <p:spPr>
            <a:xfrm>
              <a:off x="4924440" y="5568840"/>
              <a:ext cx="4992840" cy="83844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检查本期增加及减少的固定资产</a:t>
              </a:r>
              <a:endParaRPr b="1" lang="en-US" sz="2400" spc="-1" strike="noStrike">
                <a:solidFill>
                  <a:srgbClr val="000000"/>
                </a:solidFill>
                <a:latin typeface="Arial"/>
              </a:endParaRPr>
            </a:p>
          </p:txBody>
        </p:sp>
      </p:grpSp>
      <p:grpSp>
        <p:nvGrpSpPr>
          <p:cNvPr id="2214" name="组合 273"/>
          <p:cNvGrpSpPr/>
          <p:nvPr/>
        </p:nvGrpSpPr>
        <p:grpSpPr>
          <a:xfrm>
            <a:off x="695160" y="2133720"/>
            <a:ext cx="3097080" cy="4132080"/>
            <a:chOff x="695160" y="2133720"/>
            <a:chExt cx="3097080" cy="4132080"/>
          </a:xfrm>
        </p:grpSpPr>
        <p:sp>
          <p:nvSpPr>
            <p:cNvPr id="2215" name="任意多边形 261"/>
            <p:cNvSpPr/>
            <p:nvPr/>
          </p:nvSpPr>
          <p:spPr>
            <a:xfrm flipH="1">
              <a:off x="2322360" y="3376080"/>
              <a:ext cx="497160" cy="51624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6" name="任意多边形 262"/>
            <p:cNvSpPr/>
            <p:nvPr/>
          </p:nvSpPr>
          <p:spPr>
            <a:xfrm flipH="1">
              <a:off x="1234440" y="3434760"/>
              <a:ext cx="2021760" cy="276480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7" name="任意多边形 263"/>
            <p:cNvSpPr/>
            <p:nvPr/>
          </p:nvSpPr>
          <p:spPr>
            <a:xfrm flipH="1">
              <a:off x="695160" y="3762360"/>
              <a:ext cx="704160" cy="730440"/>
            </a:xfrm>
            <a:custGeom>
              <a:avLst/>
              <a:gdLst/>
              <a:ahLst/>
              <a:rect l="l" t="t" r="r" b="b"/>
              <a:pathLst>
                <a:path w="120000" h="120000">
                  <a:moveTo>
                    <a:pt x="120000" y="60038"/>
                  </a:moveTo>
                  <a:lnTo>
                    <a:pt x="119923" y="63127"/>
                  </a:lnTo>
                  <a:lnTo>
                    <a:pt x="119693" y="66177"/>
                  </a:lnTo>
                  <a:lnTo>
                    <a:pt x="119309" y="69189"/>
                  </a:lnTo>
                  <a:lnTo>
                    <a:pt x="118772" y="72123"/>
                  </a:lnTo>
                  <a:lnTo>
                    <a:pt x="118120" y="75057"/>
                  </a:lnTo>
                  <a:lnTo>
                    <a:pt x="117276" y="77915"/>
                  </a:lnTo>
                  <a:lnTo>
                    <a:pt x="116355" y="80694"/>
                  </a:lnTo>
                  <a:lnTo>
                    <a:pt x="115281" y="83397"/>
                  </a:lnTo>
                  <a:lnTo>
                    <a:pt x="114053" y="86023"/>
                  </a:lnTo>
                  <a:lnTo>
                    <a:pt x="112749" y="88610"/>
                  </a:lnTo>
                  <a:lnTo>
                    <a:pt x="111329" y="91119"/>
                  </a:lnTo>
                  <a:lnTo>
                    <a:pt x="109718" y="93590"/>
                  </a:lnTo>
                  <a:lnTo>
                    <a:pt x="108069" y="95907"/>
                  </a:lnTo>
                  <a:lnTo>
                    <a:pt x="106304" y="98185"/>
                  </a:lnTo>
                  <a:lnTo>
                    <a:pt x="104424" y="100386"/>
                  </a:lnTo>
                  <a:lnTo>
                    <a:pt x="102429" y="102432"/>
                  </a:lnTo>
                  <a:lnTo>
                    <a:pt x="100319" y="104440"/>
                  </a:lnTo>
                  <a:lnTo>
                    <a:pt x="98171" y="106332"/>
                  </a:lnTo>
                  <a:lnTo>
                    <a:pt x="95907" y="108108"/>
                  </a:lnTo>
                  <a:lnTo>
                    <a:pt x="93529" y="109768"/>
                  </a:lnTo>
                  <a:lnTo>
                    <a:pt x="91112" y="111312"/>
                  </a:lnTo>
                  <a:lnTo>
                    <a:pt x="88618" y="112779"/>
                  </a:lnTo>
                  <a:lnTo>
                    <a:pt x="86010" y="114131"/>
                  </a:lnTo>
                  <a:lnTo>
                    <a:pt x="83363" y="115289"/>
                  </a:lnTo>
                  <a:lnTo>
                    <a:pt x="80639" y="116370"/>
                  </a:lnTo>
                  <a:lnTo>
                    <a:pt x="77838" y="117335"/>
                  </a:lnTo>
                  <a:lnTo>
                    <a:pt x="75000" y="118146"/>
                  </a:lnTo>
                  <a:lnTo>
                    <a:pt x="72084" y="118803"/>
                  </a:lnTo>
                  <a:lnTo>
                    <a:pt x="69168" y="119343"/>
                  </a:lnTo>
                  <a:lnTo>
                    <a:pt x="66138" y="119729"/>
                  </a:lnTo>
                  <a:lnTo>
                    <a:pt x="63107" y="119922"/>
                  </a:lnTo>
                  <a:lnTo>
                    <a:pt x="60000" y="119999"/>
                  </a:lnTo>
                  <a:lnTo>
                    <a:pt x="56930" y="119922"/>
                  </a:lnTo>
                  <a:lnTo>
                    <a:pt x="53861" y="119729"/>
                  </a:lnTo>
                  <a:lnTo>
                    <a:pt x="50869" y="119343"/>
                  </a:lnTo>
                  <a:lnTo>
                    <a:pt x="47915" y="118803"/>
                  </a:lnTo>
                  <a:lnTo>
                    <a:pt x="45038" y="118146"/>
                  </a:lnTo>
                  <a:lnTo>
                    <a:pt x="42161" y="117335"/>
                  </a:lnTo>
                  <a:lnTo>
                    <a:pt x="39360" y="116370"/>
                  </a:lnTo>
                  <a:lnTo>
                    <a:pt x="36636" y="115289"/>
                  </a:lnTo>
                  <a:lnTo>
                    <a:pt x="33951" y="114131"/>
                  </a:lnTo>
                  <a:lnTo>
                    <a:pt x="31381" y="112779"/>
                  </a:lnTo>
                  <a:lnTo>
                    <a:pt x="28887" y="111312"/>
                  </a:lnTo>
                  <a:lnTo>
                    <a:pt x="26432" y="109768"/>
                  </a:lnTo>
                  <a:lnTo>
                    <a:pt x="24053" y="108108"/>
                  </a:lnTo>
                  <a:lnTo>
                    <a:pt x="21828" y="106332"/>
                  </a:lnTo>
                  <a:lnTo>
                    <a:pt x="19641" y="104440"/>
                  </a:lnTo>
                  <a:lnTo>
                    <a:pt x="17570" y="102432"/>
                  </a:lnTo>
                  <a:lnTo>
                    <a:pt x="15537" y="100386"/>
                  </a:lnTo>
                  <a:lnTo>
                    <a:pt x="13657" y="98185"/>
                  </a:lnTo>
                  <a:lnTo>
                    <a:pt x="11930" y="95907"/>
                  </a:lnTo>
                  <a:lnTo>
                    <a:pt x="10242" y="93590"/>
                  </a:lnTo>
                  <a:lnTo>
                    <a:pt x="8670" y="91119"/>
                  </a:lnTo>
                  <a:lnTo>
                    <a:pt x="7212" y="88610"/>
                  </a:lnTo>
                  <a:lnTo>
                    <a:pt x="5907" y="86023"/>
                  </a:lnTo>
                  <a:lnTo>
                    <a:pt x="4680" y="83397"/>
                  </a:lnTo>
                  <a:lnTo>
                    <a:pt x="3606" y="80694"/>
                  </a:lnTo>
                  <a:lnTo>
                    <a:pt x="2685" y="77915"/>
                  </a:lnTo>
                  <a:lnTo>
                    <a:pt x="1879" y="75057"/>
                  </a:lnTo>
                  <a:lnTo>
                    <a:pt x="1189" y="72123"/>
                  </a:lnTo>
                  <a:lnTo>
                    <a:pt x="690" y="69189"/>
                  </a:lnTo>
                  <a:lnTo>
                    <a:pt x="268" y="66177"/>
                  </a:lnTo>
                  <a:lnTo>
                    <a:pt x="76" y="63127"/>
                  </a:lnTo>
                  <a:lnTo>
                    <a:pt x="0" y="60038"/>
                  </a:lnTo>
                  <a:lnTo>
                    <a:pt x="76" y="56949"/>
                  </a:lnTo>
                  <a:lnTo>
                    <a:pt x="268" y="53899"/>
                  </a:lnTo>
                  <a:lnTo>
                    <a:pt x="690" y="50888"/>
                  </a:lnTo>
                  <a:lnTo>
                    <a:pt x="1189" y="47953"/>
                  </a:lnTo>
                  <a:lnTo>
                    <a:pt x="1879" y="45057"/>
                  </a:lnTo>
                  <a:lnTo>
                    <a:pt x="2685" y="42200"/>
                  </a:lnTo>
                  <a:lnTo>
                    <a:pt x="3606" y="39420"/>
                  </a:lnTo>
                  <a:lnTo>
                    <a:pt x="4680" y="36718"/>
                  </a:lnTo>
                  <a:lnTo>
                    <a:pt x="5907" y="34015"/>
                  </a:lnTo>
                  <a:lnTo>
                    <a:pt x="7212" y="31428"/>
                  </a:lnTo>
                  <a:lnTo>
                    <a:pt x="8670" y="28957"/>
                  </a:lnTo>
                  <a:lnTo>
                    <a:pt x="10242" y="26486"/>
                  </a:lnTo>
                  <a:lnTo>
                    <a:pt x="11930" y="24131"/>
                  </a:lnTo>
                  <a:lnTo>
                    <a:pt x="13657" y="21891"/>
                  </a:lnTo>
                  <a:lnTo>
                    <a:pt x="15537" y="19729"/>
                  </a:lnTo>
                  <a:lnTo>
                    <a:pt x="17570" y="17644"/>
                  </a:lnTo>
                  <a:lnTo>
                    <a:pt x="19641" y="15637"/>
                  </a:lnTo>
                  <a:lnTo>
                    <a:pt x="21828" y="13745"/>
                  </a:lnTo>
                  <a:lnTo>
                    <a:pt x="24053" y="11969"/>
                  </a:lnTo>
                  <a:lnTo>
                    <a:pt x="26432" y="10270"/>
                  </a:lnTo>
                  <a:lnTo>
                    <a:pt x="28887" y="8725"/>
                  </a:lnTo>
                  <a:lnTo>
                    <a:pt x="31381" y="7297"/>
                  </a:lnTo>
                  <a:lnTo>
                    <a:pt x="33951" y="5945"/>
                  </a:lnTo>
                  <a:lnTo>
                    <a:pt x="36636" y="4749"/>
                  </a:lnTo>
                  <a:lnTo>
                    <a:pt x="39360" y="3706"/>
                  </a:lnTo>
                  <a:lnTo>
                    <a:pt x="42161" y="2741"/>
                  </a:lnTo>
                  <a:lnTo>
                    <a:pt x="45038" y="1930"/>
                  </a:lnTo>
                  <a:lnTo>
                    <a:pt x="47915" y="1274"/>
                  </a:lnTo>
                  <a:lnTo>
                    <a:pt x="50869" y="733"/>
                  </a:lnTo>
                  <a:lnTo>
                    <a:pt x="53861" y="347"/>
                  </a:lnTo>
                  <a:lnTo>
                    <a:pt x="56930" y="115"/>
                  </a:lnTo>
                  <a:lnTo>
                    <a:pt x="60000" y="0"/>
                  </a:lnTo>
                  <a:lnTo>
                    <a:pt x="63107" y="115"/>
                  </a:lnTo>
                  <a:lnTo>
                    <a:pt x="66138" y="347"/>
                  </a:lnTo>
                  <a:lnTo>
                    <a:pt x="69168" y="733"/>
                  </a:lnTo>
                  <a:lnTo>
                    <a:pt x="72084" y="1274"/>
                  </a:lnTo>
                  <a:lnTo>
                    <a:pt x="75000" y="1930"/>
                  </a:lnTo>
                  <a:lnTo>
                    <a:pt x="77838" y="2741"/>
                  </a:lnTo>
                  <a:lnTo>
                    <a:pt x="80639" y="3706"/>
                  </a:lnTo>
                  <a:lnTo>
                    <a:pt x="83363" y="4749"/>
                  </a:lnTo>
                  <a:lnTo>
                    <a:pt x="86010" y="5945"/>
                  </a:lnTo>
                  <a:lnTo>
                    <a:pt x="88618" y="7297"/>
                  </a:lnTo>
                  <a:lnTo>
                    <a:pt x="91112" y="8725"/>
                  </a:lnTo>
                  <a:lnTo>
                    <a:pt x="93529" y="10270"/>
                  </a:lnTo>
                  <a:lnTo>
                    <a:pt x="95907" y="11969"/>
                  </a:lnTo>
                  <a:lnTo>
                    <a:pt x="98171" y="13745"/>
                  </a:lnTo>
                  <a:lnTo>
                    <a:pt x="100319" y="15637"/>
                  </a:lnTo>
                  <a:lnTo>
                    <a:pt x="102429" y="17644"/>
                  </a:lnTo>
                  <a:lnTo>
                    <a:pt x="104424" y="19729"/>
                  </a:lnTo>
                  <a:lnTo>
                    <a:pt x="106304" y="21891"/>
                  </a:lnTo>
                  <a:lnTo>
                    <a:pt x="108069" y="24131"/>
                  </a:lnTo>
                  <a:lnTo>
                    <a:pt x="109718" y="26486"/>
                  </a:lnTo>
                  <a:lnTo>
                    <a:pt x="111329" y="28957"/>
                  </a:lnTo>
                  <a:lnTo>
                    <a:pt x="112749" y="31428"/>
                  </a:lnTo>
                  <a:lnTo>
                    <a:pt x="114053" y="34015"/>
                  </a:lnTo>
                  <a:lnTo>
                    <a:pt x="115281" y="36718"/>
                  </a:lnTo>
                  <a:lnTo>
                    <a:pt x="116355" y="39420"/>
                  </a:lnTo>
                  <a:lnTo>
                    <a:pt x="117276" y="42200"/>
                  </a:lnTo>
                  <a:lnTo>
                    <a:pt x="118120" y="45057"/>
                  </a:lnTo>
                  <a:lnTo>
                    <a:pt x="118772" y="47953"/>
                  </a:lnTo>
                  <a:lnTo>
                    <a:pt x="119309" y="50888"/>
                  </a:lnTo>
                  <a:lnTo>
                    <a:pt x="119693" y="53899"/>
                  </a:lnTo>
                  <a:lnTo>
                    <a:pt x="119923" y="56949"/>
                  </a:lnTo>
                  <a:lnTo>
                    <a:pt x="120000" y="60038"/>
                  </a:lnTo>
                  <a:close/>
                </a:path>
              </a:pathLst>
            </a:custGeom>
            <a:solidFill>
              <a:srgbClr val="5e5c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8" name="任意多边形 264"/>
            <p:cNvSpPr/>
            <p:nvPr/>
          </p:nvSpPr>
          <p:spPr>
            <a:xfrm flipH="1">
              <a:off x="1244880" y="3282480"/>
              <a:ext cx="497160" cy="516240"/>
            </a:xfrm>
            <a:custGeom>
              <a:avLst/>
              <a:gdLst/>
              <a:ahLst/>
              <a:rect l="l" t="t" r="r" b="b"/>
              <a:pathLst>
                <a:path w="120000" h="120000">
                  <a:moveTo>
                    <a:pt x="120000" y="59972"/>
                  </a:moveTo>
                  <a:lnTo>
                    <a:pt x="119945" y="63088"/>
                  </a:lnTo>
                  <a:lnTo>
                    <a:pt x="119674" y="66095"/>
                  </a:lnTo>
                  <a:lnTo>
                    <a:pt x="119294" y="69157"/>
                  </a:lnTo>
                  <a:lnTo>
                    <a:pt x="118751" y="72109"/>
                  </a:lnTo>
                  <a:lnTo>
                    <a:pt x="118100" y="75006"/>
                  </a:lnTo>
                  <a:lnTo>
                    <a:pt x="117286" y="77904"/>
                  </a:lnTo>
                  <a:lnTo>
                    <a:pt x="116309" y="80637"/>
                  </a:lnTo>
                  <a:lnTo>
                    <a:pt x="115278" y="83371"/>
                  </a:lnTo>
                  <a:lnTo>
                    <a:pt x="114084" y="86050"/>
                  </a:lnTo>
                  <a:lnTo>
                    <a:pt x="112727" y="88619"/>
                  </a:lnTo>
                  <a:lnTo>
                    <a:pt x="111316" y="91134"/>
                  </a:lnTo>
                  <a:lnTo>
                    <a:pt x="109687" y="93594"/>
                  </a:lnTo>
                  <a:lnTo>
                    <a:pt x="108059" y="95890"/>
                  </a:lnTo>
                  <a:lnTo>
                    <a:pt x="106268" y="98186"/>
                  </a:lnTo>
                  <a:lnTo>
                    <a:pt x="104369" y="100373"/>
                  </a:lnTo>
                  <a:lnTo>
                    <a:pt x="102360" y="102451"/>
                  </a:lnTo>
                  <a:lnTo>
                    <a:pt x="100298" y="104419"/>
                  </a:lnTo>
                  <a:lnTo>
                    <a:pt x="98127" y="106332"/>
                  </a:lnTo>
                  <a:lnTo>
                    <a:pt x="95902" y="108082"/>
                  </a:lnTo>
                  <a:lnTo>
                    <a:pt x="93514" y="109776"/>
                  </a:lnTo>
                  <a:lnTo>
                    <a:pt x="91126" y="111307"/>
                  </a:lnTo>
                  <a:lnTo>
                    <a:pt x="88575" y="112783"/>
                  </a:lnTo>
                  <a:lnTo>
                    <a:pt x="85970" y="114095"/>
                  </a:lnTo>
                  <a:lnTo>
                    <a:pt x="83310" y="115298"/>
                  </a:lnTo>
                  <a:lnTo>
                    <a:pt x="80597" y="116337"/>
                  </a:lnTo>
                  <a:lnTo>
                    <a:pt x="77829" y="117321"/>
                  </a:lnTo>
                  <a:lnTo>
                    <a:pt x="74952" y="118141"/>
                  </a:lnTo>
                  <a:lnTo>
                    <a:pt x="72075" y="118797"/>
                  </a:lnTo>
                  <a:lnTo>
                    <a:pt x="69145" y="119289"/>
                  </a:lnTo>
                  <a:lnTo>
                    <a:pt x="66105" y="119726"/>
                  </a:lnTo>
                  <a:lnTo>
                    <a:pt x="63066" y="119945"/>
                  </a:lnTo>
                  <a:lnTo>
                    <a:pt x="59972" y="120000"/>
                  </a:lnTo>
                  <a:lnTo>
                    <a:pt x="56933" y="119945"/>
                  </a:lnTo>
                  <a:lnTo>
                    <a:pt x="53839" y="119726"/>
                  </a:lnTo>
                  <a:lnTo>
                    <a:pt x="50800" y="119289"/>
                  </a:lnTo>
                  <a:lnTo>
                    <a:pt x="47869" y="118797"/>
                  </a:lnTo>
                  <a:lnTo>
                    <a:pt x="44993" y="118141"/>
                  </a:lnTo>
                  <a:lnTo>
                    <a:pt x="42116" y="117321"/>
                  </a:lnTo>
                  <a:lnTo>
                    <a:pt x="39348" y="116337"/>
                  </a:lnTo>
                  <a:lnTo>
                    <a:pt x="36635" y="115298"/>
                  </a:lnTo>
                  <a:lnTo>
                    <a:pt x="33921" y="114095"/>
                  </a:lnTo>
                  <a:lnTo>
                    <a:pt x="31370" y="112783"/>
                  </a:lnTo>
                  <a:lnTo>
                    <a:pt x="28873" y="111307"/>
                  </a:lnTo>
                  <a:lnTo>
                    <a:pt x="26431" y="109776"/>
                  </a:lnTo>
                  <a:lnTo>
                    <a:pt x="24097" y="108082"/>
                  </a:lnTo>
                  <a:lnTo>
                    <a:pt x="21818" y="106332"/>
                  </a:lnTo>
                  <a:lnTo>
                    <a:pt x="19647" y="104419"/>
                  </a:lnTo>
                  <a:lnTo>
                    <a:pt x="17584" y="102451"/>
                  </a:lnTo>
                  <a:lnTo>
                    <a:pt x="15576" y="100373"/>
                  </a:lnTo>
                  <a:lnTo>
                    <a:pt x="13677" y="98186"/>
                  </a:lnTo>
                  <a:lnTo>
                    <a:pt x="11886" y="95890"/>
                  </a:lnTo>
                  <a:lnTo>
                    <a:pt x="10257" y="93594"/>
                  </a:lnTo>
                  <a:lnTo>
                    <a:pt x="8629" y="91134"/>
                  </a:lnTo>
                  <a:lnTo>
                    <a:pt x="7218" y="88619"/>
                  </a:lnTo>
                  <a:lnTo>
                    <a:pt x="5861" y="86050"/>
                  </a:lnTo>
                  <a:lnTo>
                    <a:pt x="4721" y="83371"/>
                  </a:lnTo>
                  <a:lnTo>
                    <a:pt x="3636" y="80637"/>
                  </a:lnTo>
                  <a:lnTo>
                    <a:pt x="2713" y="77904"/>
                  </a:lnTo>
                  <a:lnTo>
                    <a:pt x="1845" y="75006"/>
                  </a:lnTo>
                  <a:lnTo>
                    <a:pt x="1194" y="72109"/>
                  </a:lnTo>
                  <a:lnTo>
                    <a:pt x="705" y="69157"/>
                  </a:lnTo>
                  <a:lnTo>
                    <a:pt x="271" y="66095"/>
                  </a:lnTo>
                  <a:lnTo>
                    <a:pt x="54" y="63088"/>
                  </a:lnTo>
                  <a:lnTo>
                    <a:pt x="0" y="59972"/>
                  </a:lnTo>
                  <a:lnTo>
                    <a:pt x="54" y="56911"/>
                  </a:lnTo>
                  <a:lnTo>
                    <a:pt x="271" y="53904"/>
                  </a:lnTo>
                  <a:lnTo>
                    <a:pt x="705" y="50897"/>
                  </a:lnTo>
                  <a:lnTo>
                    <a:pt x="1194" y="47945"/>
                  </a:lnTo>
                  <a:lnTo>
                    <a:pt x="1845" y="45047"/>
                  </a:lnTo>
                  <a:lnTo>
                    <a:pt x="2713" y="42150"/>
                  </a:lnTo>
                  <a:lnTo>
                    <a:pt x="3636" y="39362"/>
                  </a:lnTo>
                  <a:lnTo>
                    <a:pt x="4721" y="36628"/>
                  </a:lnTo>
                  <a:lnTo>
                    <a:pt x="5861" y="33949"/>
                  </a:lnTo>
                  <a:lnTo>
                    <a:pt x="7218" y="31380"/>
                  </a:lnTo>
                  <a:lnTo>
                    <a:pt x="8629" y="28865"/>
                  </a:lnTo>
                  <a:lnTo>
                    <a:pt x="10257" y="26460"/>
                  </a:lnTo>
                  <a:lnTo>
                    <a:pt x="11886" y="24109"/>
                  </a:lnTo>
                  <a:lnTo>
                    <a:pt x="13677" y="21813"/>
                  </a:lnTo>
                  <a:lnTo>
                    <a:pt x="15576" y="19681"/>
                  </a:lnTo>
                  <a:lnTo>
                    <a:pt x="17584" y="17548"/>
                  </a:lnTo>
                  <a:lnTo>
                    <a:pt x="19647" y="15580"/>
                  </a:lnTo>
                  <a:lnTo>
                    <a:pt x="21818" y="13722"/>
                  </a:lnTo>
                  <a:lnTo>
                    <a:pt x="24097" y="11917"/>
                  </a:lnTo>
                  <a:lnTo>
                    <a:pt x="26431" y="10223"/>
                  </a:lnTo>
                  <a:lnTo>
                    <a:pt x="28873" y="8692"/>
                  </a:lnTo>
                  <a:lnTo>
                    <a:pt x="31370" y="7216"/>
                  </a:lnTo>
                  <a:lnTo>
                    <a:pt x="33921" y="5904"/>
                  </a:lnTo>
                  <a:lnTo>
                    <a:pt x="36635" y="4701"/>
                  </a:lnTo>
                  <a:lnTo>
                    <a:pt x="39348" y="3662"/>
                  </a:lnTo>
                  <a:lnTo>
                    <a:pt x="42116" y="2733"/>
                  </a:lnTo>
                  <a:lnTo>
                    <a:pt x="44993" y="1913"/>
                  </a:lnTo>
                  <a:lnTo>
                    <a:pt x="47869" y="1257"/>
                  </a:lnTo>
                  <a:lnTo>
                    <a:pt x="50800" y="710"/>
                  </a:lnTo>
                  <a:lnTo>
                    <a:pt x="53839" y="273"/>
                  </a:lnTo>
                  <a:lnTo>
                    <a:pt x="56933" y="54"/>
                  </a:lnTo>
                  <a:lnTo>
                    <a:pt x="59972" y="0"/>
                  </a:lnTo>
                  <a:lnTo>
                    <a:pt x="63066" y="54"/>
                  </a:lnTo>
                  <a:lnTo>
                    <a:pt x="66105" y="273"/>
                  </a:lnTo>
                  <a:lnTo>
                    <a:pt x="69145" y="710"/>
                  </a:lnTo>
                  <a:lnTo>
                    <a:pt x="72075" y="1257"/>
                  </a:lnTo>
                  <a:lnTo>
                    <a:pt x="74952" y="1913"/>
                  </a:lnTo>
                  <a:lnTo>
                    <a:pt x="77829" y="2733"/>
                  </a:lnTo>
                  <a:lnTo>
                    <a:pt x="80597" y="3662"/>
                  </a:lnTo>
                  <a:lnTo>
                    <a:pt x="83310" y="4701"/>
                  </a:lnTo>
                  <a:lnTo>
                    <a:pt x="85970" y="5904"/>
                  </a:lnTo>
                  <a:lnTo>
                    <a:pt x="88575" y="7216"/>
                  </a:lnTo>
                  <a:lnTo>
                    <a:pt x="91126" y="8692"/>
                  </a:lnTo>
                  <a:lnTo>
                    <a:pt x="93514" y="10223"/>
                  </a:lnTo>
                  <a:lnTo>
                    <a:pt x="95902" y="11917"/>
                  </a:lnTo>
                  <a:lnTo>
                    <a:pt x="98127" y="13722"/>
                  </a:lnTo>
                  <a:lnTo>
                    <a:pt x="100298" y="15580"/>
                  </a:lnTo>
                  <a:lnTo>
                    <a:pt x="102360" y="17548"/>
                  </a:lnTo>
                  <a:lnTo>
                    <a:pt x="104369" y="19681"/>
                  </a:lnTo>
                  <a:lnTo>
                    <a:pt x="106268" y="21813"/>
                  </a:lnTo>
                  <a:lnTo>
                    <a:pt x="108059" y="24109"/>
                  </a:lnTo>
                  <a:lnTo>
                    <a:pt x="109687" y="26460"/>
                  </a:lnTo>
                  <a:lnTo>
                    <a:pt x="111316" y="28865"/>
                  </a:lnTo>
                  <a:lnTo>
                    <a:pt x="112727" y="31380"/>
                  </a:lnTo>
                  <a:lnTo>
                    <a:pt x="114084" y="33949"/>
                  </a:lnTo>
                  <a:lnTo>
                    <a:pt x="115278" y="36628"/>
                  </a:lnTo>
                  <a:lnTo>
                    <a:pt x="116309" y="39362"/>
                  </a:lnTo>
                  <a:lnTo>
                    <a:pt x="117286" y="42150"/>
                  </a:lnTo>
                  <a:lnTo>
                    <a:pt x="118100" y="45047"/>
                  </a:lnTo>
                  <a:lnTo>
                    <a:pt x="118751" y="47945"/>
                  </a:lnTo>
                  <a:lnTo>
                    <a:pt x="119294" y="50897"/>
                  </a:lnTo>
                  <a:lnTo>
                    <a:pt x="119674" y="53904"/>
                  </a:lnTo>
                  <a:lnTo>
                    <a:pt x="119945" y="56911"/>
                  </a:lnTo>
                  <a:lnTo>
                    <a:pt x="120000" y="59972"/>
                  </a:lnTo>
                  <a:close/>
                </a:path>
              </a:pathLst>
            </a:custGeom>
            <a:solidFill>
              <a:srgbClr val="0020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9" name="任意多边形 265"/>
            <p:cNvSpPr/>
            <p:nvPr/>
          </p:nvSpPr>
          <p:spPr>
            <a:xfrm flipH="1">
              <a:off x="1625040" y="2133720"/>
              <a:ext cx="1029960" cy="1069560"/>
            </a:xfrm>
            <a:custGeom>
              <a:avLst/>
              <a:gdLst/>
              <a:ahLst/>
              <a:rect l="l" t="t" r="r" b="b"/>
              <a:pathLst>
                <a:path w="120000" h="120000">
                  <a:moveTo>
                    <a:pt x="120000" y="59973"/>
                  </a:moveTo>
                  <a:lnTo>
                    <a:pt x="119921" y="63059"/>
                  </a:lnTo>
                  <a:lnTo>
                    <a:pt x="119685" y="66118"/>
                  </a:lnTo>
                  <a:lnTo>
                    <a:pt x="119318" y="69098"/>
                  </a:lnTo>
                  <a:lnTo>
                    <a:pt x="118768" y="72079"/>
                  </a:lnTo>
                  <a:lnTo>
                    <a:pt x="118113" y="74980"/>
                  </a:lnTo>
                  <a:lnTo>
                    <a:pt x="117327" y="77828"/>
                  </a:lnTo>
                  <a:lnTo>
                    <a:pt x="116358" y="80624"/>
                  </a:lnTo>
                  <a:lnTo>
                    <a:pt x="115283" y="83340"/>
                  </a:lnTo>
                  <a:lnTo>
                    <a:pt x="114104" y="85978"/>
                  </a:lnTo>
                  <a:lnTo>
                    <a:pt x="112768" y="88562"/>
                  </a:lnTo>
                  <a:lnTo>
                    <a:pt x="111301" y="91094"/>
                  </a:lnTo>
                  <a:lnTo>
                    <a:pt x="109755" y="93547"/>
                  </a:lnTo>
                  <a:lnTo>
                    <a:pt x="108078" y="95868"/>
                  </a:lnTo>
                  <a:lnTo>
                    <a:pt x="106323" y="98162"/>
                  </a:lnTo>
                  <a:lnTo>
                    <a:pt x="104410" y="100325"/>
                  </a:lnTo>
                  <a:lnTo>
                    <a:pt x="102445" y="102408"/>
                  </a:lnTo>
                  <a:lnTo>
                    <a:pt x="100349" y="104386"/>
                  </a:lnTo>
                  <a:lnTo>
                    <a:pt x="98148" y="106285"/>
                  </a:lnTo>
                  <a:lnTo>
                    <a:pt x="95895" y="108079"/>
                  </a:lnTo>
                  <a:lnTo>
                    <a:pt x="93537" y="109740"/>
                  </a:lnTo>
                  <a:lnTo>
                    <a:pt x="91126" y="111296"/>
                  </a:lnTo>
                  <a:lnTo>
                    <a:pt x="88611" y="112747"/>
                  </a:lnTo>
                  <a:lnTo>
                    <a:pt x="86017" y="114065"/>
                  </a:lnTo>
                  <a:lnTo>
                    <a:pt x="83371" y="115252"/>
                  </a:lnTo>
                  <a:lnTo>
                    <a:pt x="80620" y="116334"/>
                  </a:lnTo>
                  <a:lnTo>
                    <a:pt x="77842" y="117283"/>
                  </a:lnTo>
                  <a:lnTo>
                    <a:pt x="75013" y="118074"/>
                  </a:lnTo>
                  <a:lnTo>
                    <a:pt x="72104" y="118760"/>
                  </a:lnTo>
                  <a:lnTo>
                    <a:pt x="69144" y="119287"/>
                  </a:lnTo>
                  <a:lnTo>
                    <a:pt x="66131" y="119683"/>
                  </a:lnTo>
                  <a:lnTo>
                    <a:pt x="63091" y="119894"/>
                  </a:lnTo>
                  <a:lnTo>
                    <a:pt x="60000" y="120000"/>
                  </a:lnTo>
                  <a:lnTo>
                    <a:pt x="56908" y="119894"/>
                  </a:lnTo>
                  <a:lnTo>
                    <a:pt x="53842" y="119683"/>
                  </a:lnTo>
                  <a:lnTo>
                    <a:pt x="50855" y="119287"/>
                  </a:lnTo>
                  <a:lnTo>
                    <a:pt x="47921" y="118760"/>
                  </a:lnTo>
                  <a:lnTo>
                    <a:pt x="45013" y="118074"/>
                  </a:lnTo>
                  <a:lnTo>
                    <a:pt x="42157" y="117283"/>
                  </a:lnTo>
                  <a:lnTo>
                    <a:pt x="39379" y="116334"/>
                  </a:lnTo>
                  <a:lnTo>
                    <a:pt x="36628" y="115252"/>
                  </a:lnTo>
                  <a:lnTo>
                    <a:pt x="33982" y="114065"/>
                  </a:lnTo>
                  <a:lnTo>
                    <a:pt x="31388" y="112747"/>
                  </a:lnTo>
                  <a:lnTo>
                    <a:pt x="28873" y="111296"/>
                  </a:lnTo>
                  <a:lnTo>
                    <a:pt x="26462" y="109740"/>
                  </a:lnTo>
                  <a:lnTo>
                    <a:pt x="24078" y="108079"/>
                  </a:lnTo>
                  <a:lnTo>
                    <a:pt x="21825" y="106285"/>
                  </a:lnTo>
                  <a:lnTo>
                    <a:pt x="19676" y="104386"/>
                  </a:lnTo>
                  <a:lnTo>
                    <a:pt x="17554" y="102408"/>
                  </a:lnTo>
                  <a:lnTo>
                    <a:pt x="15589" y="100325"/>
                  </a:lnTo>
                  <a:lnTo>
                    <a:pt x="13703" y="98162"/>
                  </a:lnTo>
                  <a:lnTo>
                    <a:pt x="11921" y="95868"/>
                  </a:lnTo>
                  <a:lnTo>
                    <a:pt x="10218" y="93547"/>
                  </a:lnTo>
                  <a:lnTo>
                    <a:pt x="8698" y="91094"/>
                  </a:lnTo>
                  <a:lnTo>
                    <a:pt x="7231" y="88562"/>
                  </a:lnTo>
                  <a:lnTo>
                    <a:pt x="5895" y="85978"/>
                  </a:lnTo>
                  <a:lnTo>
                    <a:pt x="4689" y="83340"/>
                  </a:lnTo>
                  <a:lnTo>
                    <a:pt x="3641" y="80624"/>
                  </a:lnTo>
                  <a:lnTo>
                    <a:pt x="2698" y="77828"/>
                  </a:lnTo>
                  <a:lnTo>
                    <a:pt x="1886" y="74980"/>
                  </a:lnTo>
                  <a:lnTo>
                    <a:pt x="1231" y="72079"/>
                  </a:lnTo>
                  <a:lnTo>
                    <a:pt x="681" y="69098"/>
                  </a:lnTo>
                  <a:lnTo>
                    <a:pt x="314" y="66118"/>
                  </a:lnTo>
                  <a:lnTo>
                    <a:pt x="78" y="63059"/>
                  </a:lnTo>
                  <a:lnTo>
                    <a:pt x="0" y="59973"/>
                  </a:lnTo>
                  <a:lnTo>
                    <a:pt x="78" y="56914"/>
                  </a:lnTo>
                  <a:lnTo>
                    <a:pt x="314" y="53854"/>
                  </a:lnTo>
                  <a:lnTo>
                    <a:pt x="681" y="50821"/>
                  </a:lnTo>
                  <a:lnTo>
                    <a:pt x="1231" y="47894"/>
                  </a:lnTo>
                  <a:lnTo>
                    <a:pt x="1886" y="44993"/>
                  </a:lnTo>
                  <a:lnTo>
                    <a:pt x="2698" y="42145"/>
                  </a:lnTo>
                  <a:lnTo>
                    <a:pt x="3641" y="39349"/>
                  </a:lnTo>
                  <a:lnTo>
                    <a:pt x="4689" y="36632"/>
                  </a:lnTo>
                  <a:lnTo>
                    <a:pt x="5895" y="33969"/>
                  </a:lnTo>
                  <a:lnTo>
                    <a:pt x="7231" y="31384"/>
                  </a:lnTo>
                  <a:lnTo>
                    <a:pt x="8698" y="28879"/>
                  </a:lnTo>
                  <a:lnTo>
                    <a:pt x="10218" y="26426"/>
                  </a:lnTo>
                  <a:lnTo>
                    <a:pt x="11921" y="24079"/>
                  </a:lnTo>
                  <a:lnTo>
                    <a:pt x="13703" y="21810"/>
                  </a:lnTo>
                  <a:lnTo>
                    <a:pt x="15589" y="19648"/>
                  </a:lnTo>
                  <a:lnTo>
                    <a:pt x="17554" y="17564"/>
                  </a:lnTo>
                  <a:lnTo>
                    <a:pt x="19650" y="15560"/>
                  </a:lnTo>
                  <a:lnTo>
                    <a:pt x="21825" y="13687"/>
                  </a:lnTo>
                  <a:lnTo>
                    <a:pt x="24078" y="11920"/>
                  </a:lnTo>
                  <a:lnTo>
                    <a:pt x="26462" y="10232"/>
                  </a:lnTo>
                  <a:lnTo>
                    <a:pt x="28873" y="8703"/>
                  </a:lnTo>
                  <a:lnTo>
                    <a:pt x="31388" y="7252"/>
                  </a:lnTo>
                  <a:lnTo>
                    <a:pt x="33982" y="5907"/>
                  </a:lnTo>
                  <a:lnTo>
                    <a:pt x="36628" y="4694"/>
                  </a:lnTo>
                  <a:lnTo>
                    <a:pt x="39379" y="3639"/>
                  </a:lnTo>
                  <a:lnTo>
                    <a:pt x="42157" y="2716"/>
                  </a:lnTo>
                  <a:lnTo>
                    <a:pt x="45013" y="1872"/>
                  </a:lnTo>
                  <a:lnTo>
                    <a:pt x="47921" y="1213"/>
                  </a:lnTo>
                  <a:lnTo>
                    <a:pt x="50855" y="685"/>
                  </a:lnTo>
                  <a:lnTo>
                    <a:pt x="53842" y="316"/>
                  </a:lnTo>
                  <a:lnTo>
                    <a:pt x="56908" y="79"/>
                  </a:lnTo>
                  <a:lnTo>
                    <a:pt x="60000" y="0"/>
                  </a:lnTo>
                  <a:lnTo>
                    <a:pt x="63091" y="79"/>
                  </a:lnTo>
                  <a:lnTo>
                    <a:pt x="66131" y="316"/>
                  </a:lnTo>
                  <a:lnTo>
                    <a:pt x="69144" y="685"/>
                  </a:lnTo>
                  <a:lnTo>
                    <a:pt x="72104" y="1213"/>
                  </a:lnTo>
                  <a:lnTo>
                    <a:pt x="75013" y="1872"/>
                  </a:lnTo>
                  <a:lnTo>
                    <a:pt x="77842" y="2716"/>
                  </a:lnTo>
                  <a:lnTo>
                    <a:pt x="80620" y="3639"/>
                  </a:lnTo>
                  <a:lnTo>
                    <a:pt x="83371" y="4694"/>
                  </a:lnTo>
                  <a:lnTo>
                    <a:pt x="86017" y="5907"/>
                  </a:lnTo>
                  <a:lnTo>
                    <a:pt x="88611" y="7252"/>
                  </a:lnTo>
                  <a:lnTo>
                    <a:pt x="91126" y="8703"/>
                  </a:lnTo>
                  <a:lnTo>
                    <a:pt x="93537" y="10232"/>
                  </a:lnTo>
                  <a:lnTo>
                    <a:pt x="95895" y="11920"/>
                  </a:lnTo>
                  <a:lnTo>
                    <a:pt x="98148" y="13687"/>
                  </a:lnTo>
                  <a:lnTo>
                    <a:pt x="100349" y="15560"/>
                  </a:lnTo>
                  <a:lnTo>
                    <a:pt x="102445" y="17564"/>
                  </a:lnTo>
                  <a:lnTo>
                    <a:pt x="104410" y="19648"/>
                  </a:lnTo>
                  <a:lnTo>
                    <a:pt x="106323" y="21810"/>
                  </a:lnTo>
                  <a:lnTo>
                    <a:pt x="108078" y="24079"/>
                  </a:lnTo>
                  <a:lnTo>
                    <a:pt x="109755" y="26426"/>
                  </a:lnTo>
                  <a:lnTo>
                    <a:pt x="111301" y="28879"/>
                  </a:lnTo>
                  <a:lnTo>
                    <a:pt x="112768" y="31384"/>
                  </a:lnTo>
                  <a:lnTo>
                    <a:pt x="114104" y="33969"/>
                  </a:lnTo>
                  <a:lnTo>
                    <a:pt x="115283" y="36632"/>
                  </a:lnTo>
                  <a:lnTo>
                    <a:pt x="116358" y="39349"/>
                  </a:lnTo>
                  <a:lnTo>
                    <a:pt x="117327" y="42145"/>
                  </a:lnTo>
                  <a:lnTo>
                    <a:pt x="118113" y="44993"/>
                  </a:lnTo>
                  <a:lnTo>
                    <a:pt x="118768" y="47894"/>
                  </a:lnTo>
                  <a:lnTo>
                    <a:pt x="119318" y="50821"/>
                  </a:lnTo>
                  <a:lnTo>
                    <a:pt x="119685" y="53854"/>
                  </a:lnTo>
                  <a:lnTo>
                    <a:pt x="119921" y="56914"/>
                  </a:lnTo>
                  <a:lnTo>
                    <a:pt x="120000" y="59973"/>
                  </a:lnTo>
                  <a:close/>
                </a:path>
              </a:pathLst>
            </a:custGeom>
            <a:solidFill>
              <a:srgbClr val="4276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0" name="任意多边形 266"/>
            <p:cNvSpPr/>
            <p:nvPr/>
          </p:nvSpPr>
          <p:spPr>
            <a:xfrm flipH="1">
              <a:off x="1036080" y="2672280"/>
              <a:ext cx="515520" cy="534960"/>
            </a:xfrm>
            <a:custGeom>
              <a:avLst/>
              <a:gdLst/>
              <a:ahLst/>
              <a:rect l="l" t="t" r="r" b="b"/>
              <a:pathLst>
                <a:path w="120000" h="120000">
                  <a:moveTo>
                    <a:pt x="120000" y="60052"/>
                  </a:moveTo>
                  <a:lnTo>
                    <a:pt x="119895" y="63107"/>
                  </a:lnTo>
                  <a:lnTo>
                    <a:pt x="119686" y="66110"/>
                  </a:lnTo>
                  <a:lnTo>
                    <a:pt x="119267" y="69165"/>
                  </a:lnTo>
                  <a:lnTo>
                    <a:pt x="118744" y="72115"/>
                  </a:lnTo>
                  <a:lnTo>
                    <a:pt x="118063" y="75013"/>
                  </a:lnTo>
                  <a:lnTo>
                    <a:pt x="117278" y="77857"/>
                  </a:lnTo>
                  <a:lnTo>
                    <a:pt x="116336" y="80649"/>
                  </a:lnTo>
                  <a:lnTo>
                    <a:pt x="115290" y="83388"/>
                  </a:lnTo>
                  <a:lnTo>
                    <a:pt x="114086" y="86022"/>
                  </a:lnTo>
                  <a:lnTo>
                    <a:pt x="112725" y="88604"/>
                  </a:lnTo>
                  <a:lnTo>
                    <a:pt x="111312" y="91132"/>
                  </a:lnTo>
                  <a:lnTo>
                    <a:pt x="109742" y="93503"/>
                  </a:lnTo>
                  <a:lnTo>
                    <a:pt x="108068" y="95926"/>
                  </a:lnTo>
                  <a:lnTo>
                    <a:pt x="106288" y="98191"/>
                  </a:lnTo>
                  <a:lnTo>
                    <a:pt x="104404" y="100351"/>
                  </a:lnTo>
                  <a:lnTo>
                    <a:pt x="102416" y="102405"/>
                  </a:lnTo>
                  <a:lnTo>
                    <a:pt x="100322" y="104407"/>
                  </a:lnTo>
                  <a:lnTo>
                    <a:pt x="98124" y="106251"/>
                  </a:lnTo>
                  <a:lnTo>
                    <a:pt x="95874" y="108094"/>
                  </a:lnTo>
                  <a:lnTo>
                    <a:pt x="93519" y="109727"/>
                  </a:lnTo>
                  <a:lnTo>
                    <a:pt x="91059" y="111255"/>
                  </a:lnTo>
                  <a:lnTo>
                    <a:pt x="88547" y="112783"/>
                  </a:lnTo>
                  <a:lnTo>
                    <a:pt x="85983" y="114047"/>
                  </a:lnTo>
                  <a:lnTo>
                    <a:pt x="83314" y="115258"/>
                  </a:lnTo>
                  <a:lnTo>
                    <a:pt x="80593" y="116365"/>
                  </a:lnTo>
                  <a:lnTo>
                    <a:pt x="77819" y="117313"/>
                  </a:lnTo>
                  <a:lnTo>
                    <a:pt x="74941" y="118103"/>
                  </a:lnTo>
                  <a:lnTo>
                    <a:pt x="72062" y="118788"/>
                  </a:lnTo>
                  <a:lnTo>
                    <a:pt x="69132" y="119315"/>
                  </a:lnTo>
                  <a:lnTo>
                    <a:pt x="66149" y="119683"/>
                  </a:lnTo>
                  <a:lnTo>
                    <a:pt x="63061" y="119947"/>
                  </a:lnTo>
                  <a:lnTo>
                    <a:pt x="59973" y="120000"/>
                  </a:lnTo>
                  <a:lnTo>
                    <a:pt x="56886" y="119947"/>
                  </a:lnTo>
                  <a:lnTo>
                    <a:pt x="53850" y="119683"/>
                  </a:lnTo>
                  <a:lnTo>
                    <a:pt x="50867" y="119315"/>
                  </a:lnTo>
                  <a:lnTo>
                    <a:pt x="47937" y="118788"/>
                  </a:lnTo>
                  <a:lnTo>
                    <a:pt x="45006" y="118103"/>
                  </a:lnTo>
                  <a:lnTo>
                    <a:pt x="42180" y="117313"/>
                  </a:lnTo>
                  <a:lnTo>
                    <a:pt x="39354" y="116365"/>
                  </a:lnTo>
                  <a:lnTo>
                    <a:pt x="36633" y="115258"/>
                  </a:lnTo>
                  <a:lnTo>
                    <a:pt x="33964" y="114047"/>
                  </a:lnTo>
                  <a:lnTo>
                    <a:pt x="31399" y="112783"/>
                  </a:lnTo>
                  <a:lnTo>
                    <a:pt x="28887" y="111255"/>
                  </a:lnTo>
                  <a:lnTo>
                    <a:pt x="26428" y="109727"/>
                  </a:lnTo>
                  <a:lnTo>
                    <a:pt x="24125" y="108094"/>
                  </a:lnTo>
                  <a:lnTo>
                    <a:pt x="21822" y="106251"/>
                  </a:lnTo>
                  <a:lnTo>
                    <a:pt x="19677" y="104407"/>
                  </a:lnTo>
                  <a:lnTo>
                    <a:pt x="17583" y="102405"/>
                  </a:lnTo>
                  <a:lnTo>
                    <a:pt x="15542" y="100351"/>
                  </a:lnTo>
                  <a:lnTo>
                    <a:pt x="13711" y="98191"/>
                  </a:lnTo>
                  <a:lnTo>
                    <a:pt x="11931" y="95926"/>
                  </a:lnTo>
                  <a:lnTo>
                    <a:pt x="10257" y="93503"/>
                  </a:lnTo>
                  <a:lnTo>
                    <a:pt x="8687" y="91132"/>
                  </a:lnTo>
                  <a:lnTo>
                    <a:pt x="7274" y="88604"/>
                  </a:lnTo>
                  <a:lnTo>
                    <a:pt x="5965" y="86022"/>
                  </a:lnTo>
                  <a:lnTo>
                    <a:pt x="4762" y="83336"/>
                  </a:lnTo>
                  <a:lnTo>
                    <a:pt x="3663" y="80649"/>
                  </a:lnTo>
                  <a:lnTo>
                    <a:pt x="2721" y="77857"/>
                  </a:lnTo>
                  <a:lnTo>
                    <a:pt x="1883" y="75013"/>
                  </a:lnTo>
                  <a:lnTo>
                    <a:pt x="1203" y="72115"/>
                  </a:lnTo>
                  <a:lnTo>
                    <a:pt x="680" y="69165"/>
                  </a:lnTo>
                  <a:lnTo>
                    <a:pt x="366" y="66110"/>
                  </a:lnTo>
                  <a:lnTo>
                    <a:pt x="52" y="63107"/>
                  </a:lnTo>
                  <a:lnTo>
                    <a:pt x="0" y="60052"/>
                  </a:lnTo>
                  <a:lnTo>
                    <a:pt x="52" y="56944"/>
                  </a:lnTo>
                  <a:lnTo>
                    <a:pt x="366" y="53889"/>
                  </a:lnTo>
                  <a:lnTo>
                    <a:pt x="680" y="50886"/>
                  </a:lnTo>
                  <a:lnTo>
                    <a:pt x="1203" y="47884"/>
                  </a:lnTo>
                  <a:lnTo>
                    <a:pt x="1883" y="44986"/>
                  </a:lnTo>
                  <a:lnTo>
                    <a:pt x="2721" y="42142"/>
                  </a:lnTo>
                  <a:lnTo>
                    <a:pt x="3663" y="39402"/>
                  </a:lnTo>
                  <a:lnTo>
                    <a:pt x="4762" y="36663"/>
                  </a:lnTo>
                  <a:lnTo>
                    <a:pt x="5965" y="34029"/>
                  </a:lnTo>
                  <a:lnTo>
                    <a:pt x="7274" y="31448"/>
                  </a:lnTo>
                  <a:lnTo>
                    <a:pt x="8687" y="28867"/>
                  </a:lnTo>
                  <a:lnTo>
                    <a:pt x="10257" y="26496"/>
                  </a:lnTo>
                  <a:lnTo>
                    <a:pt x="11931" y="24126"/>
                  </a:lnTo>
                  <a:lnTo>
                    <a:pt x="13711" y="21861"/>
                  </a:lnTo>
                  <a:lnTo>
                    <a:pt x="15542" y="19648"/>
                  </a:lnTo>
                  <a:lnTo>
                    <a:pt x="17583" y="17594"/>
                  </a:lnTo>
                  <a:lnTo>
                    <a:pt x="19677" y="15592"/>
                  </a:lnTo>
                  <a:lnTo>
                    <a:pt x="21822" y="13748"/>
                  </a:lnTo>
                  <a:lnTo>
                    <a:pt x="24125" y="11957"/>
                  </a:lnTo>
                  <a:lnTo>
                    <a:pt x="26428" y="10272"/>
                  </a:lnTo>
                  <a:lnTo>
                    <a:pt x="28887" y="8744"/>
                  </a:lnTo>
                  <a:lnTo>
                    <a:pt x="31399" y="7269"/>
                  </a:lnTo>
                  <a:lnTo>
                    <a:pt x="33964" y="5952"/>
                  </a:lnTo>
                  <a:lnTo>
                    <a:pt x="36633" y="4741"/>
                  </a:lnTo>
                  <a:lnTo>
                    <a:pt x="39354" y="3634"/>
                  </a:lnTo>
                  <a:lnTo>
                    <a:pt x="42180" y="2739"/>
                  </a:lnTo>
                  <a:lnTo>
                    <a:pt x="45006" y="1896"/>
                  </a:lnTo>
                  <a:lnTo>
                    <a:pt x="47937" y="1264"/>
                  </a:lnTo>
                  <a:lnTo>
                    <a:pt x="50867" y="684"/>
                  </a:lnTo>
                  <a:lnTo>
                    <a:pt x="53850" y="368"/>
                  </a:lnTo>
                  <a:lnTo>
                    <a:pt x="56886" y="105"/>
                  </a:lnTo>
                  <a:lnTo>
                    <a:pt x="59973" y="0"/>
                  </a:lnTo>
                  <a:lnTo>
                    <a:pt x="63061" y="105"/>
                  </a:lnTo>
                  <a:lnTo>
                    <a:pt x="66149" y="368"/>
                  </a:lnTo>
                  <a:lnTo>
                    <a:pt x="69132" y="684"/>
                  </a:lnTo>
                  <a:lnTo>
                    <a:pt x="72062" y="1264"/>
                  </a:lnTo>
                  <a:lnTo>
                    <a:pt x="74941" y="1896"/>
                  </a:lnTo>
                  <a:lnTo>
                    <a:pt x="77819" y="2739"/>
                  </a:lnTo>
                  <a:lnTo>
                    <a:pt x="80593" y="3634"/>
                  </a:lnTo>
                  <a:lnTo>
                    <a:pt x="83314" y="4741"/>
                  </a:lnTo>
                  <a:lnTo>
                    <a:pt x="85983" y="5952"/>
                  </a:lnTo>
                  <a:lnTo>
                    <a:pt x="88547" y="7269"/>
                  </a:lnTo>
                  <a:lnTo>
                    <a:pt x="91059" y="8744"/>
                  </a:lnTo>
                  <a:lnTo>
                    <a:pt x="93519" y="10272"/>
                  </a:lnTo>
                  <a:lnTo>
                    <a:pt x="95874" y="11957"/>
                  </a:lnTo>
                  <a:lnTo>
                    <a:pt x="98124" y="13748"/>
                  </a:lnTo>
                  <a:lnTo>
                    <a:pt x="100322" y="15592"/>
                  </a:lnTo>
                  <a:lnTo>
                    <a:pt x="102416" y="17594"/>
                  </a:lnTo>
                  <a:lnTo>
                    <a:pt x="104404" y="19648"/>
                  </a:lnTo>
                  <a:lnTo>
                    <a:pt x="106288" y="21861"/>
                  </a:lnTo>
                  <a:lnTo>
                    <a:pt x="108068" y="24126"/>
                  </a:lnTo>
                  <a:lnTo>
                    <a:pt x="109742" y="26496"/>
                  </a:lnTo>
                  <a:lnTo>
                    <a:pt x="111312" y="28867"/>
                  </a:lnTo>
                  <a:lnTo>
                    <a:pt x="112725" y="31448"/>
                  </a:lnTo>
                  <a:lnTo>
                    <a:pt x="114086" y="34029"/>
                  </a:lnTo>
                  <a:lnTo>
                    <a:pt x="115290" y="36663"/>
                  </a:lnTo>
                  <a:lnTo>
                    <a:pt x="116336" y="39402"/>
                  </a:lnTo>
                  <a:lnTo>
                    <a:pt x="117278" y="42142"/>
                  </a:lnTo>
                  <a:lnTo>
                    <a:pt x="118063" y="44986"/>
                  </a:lnTo>
                  <a:lnTo>
                    <a:pt x="118744" y="47884"/>
                  </a:lnTo>
                  <a:lnTo>
                    <a:pt x="119267" y="50886"/>
                  </a:lnTo>
                  <a:lnTo>
                    <a:pt x="119686" y="53889"/>
                  </a:lnTo>
                  <a:lnTo>
                    <a:pt x="119895" y="56944"/>
                  </a:lnTo>
                  <a:lnTo>
                    <a:pt x="120000" y="60052"/>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1" name="任意多边形 267"/>
            <p:cNvSpPr/>
            <p:nvPr/>
          </p:nvSpPr>
          <p:spPr>
            <a:xfrm flipH="1">
              <a:off x="2739600" y="2245320"/>
              <a:ext cx="453600" cy="470520"/>
            </a:xfrm>
            <a:custGeom>
              <a:avLst/>
              <a:gdLst/>
              <a:ahLst/>
              <a:rect l="l" t="t" r="r" b="b"/>
              <a:pathLst>
                <a:path w="120000" h="120000">
                  <a:moveTo>
                    <a:pt x="120000" y="60029"/>
                  </a:moveTo>
                  <a:lnTo>
                    <a:pt x="119940" y="63085"/>
                  </a:lnTo>
                  <a:lnTo>
                    <a:pt x="119643" y="66140"/>
                  </a:lnTo>
                  <a:lnTo>
                    <a:pt x="119345" y="69136"/>
                  </a:lnTo>
                  <a:lnTo>
                    <a:pt x="118751" y="72131"/>
                  </a:lnTo>
                  <a:lnTo>
                    <a:pt x="118097" y="75007"/>
                  </a:lnTo>
                  <a:lnTo>
                    <a:pt x="117324" y="77883"/>
                  </a:lnTo>
                  <a:lnTo>
                    <a:pt x="116372" y="80639"/>
                  </a:lnTo>
                  <a:lnTo>
                    <a:pt x="115242" y="83394"/>
                  </a:lnTo>
                  <a:lnTo>
                    <a:pt x="114112" y="86030"/>
                  </a:lnTo>
                  <a:lnTo>
                    <a:pt x="112745" y="88607"/>
                  </a:lnTo>
                  <a:lnTo>
                    <a:pt x="111318" y="91063"/>
                  </a:lnTo>
                  <a:lnTo>
                    <a:pt x="109772" y="93579"/>
                  </a:lnTo>
                  <a:lnTo>
                    <a:pt x="108107" y="95856"/>
                  </a:lnTo>
                  <a:lnTo>
                    <a:pt x="106263" y="98132"/>
                  </a:lnTo>
                  <a:lnTo>
                    <a:pt x="104420" y="100349"/>
                  </a:lnTo>
                  <a:lnTo>
                    <a:pt x="102457" y="102446"/>
                  </a:lnTo>
                  <a:lnTo>
                    <a:pt x="100317" y="104423"/>
                  </a:lnTo>
                  <a:lnTo>
                    <a:pt x="98176" y="106280"/>
                  </a:lnTo>
                  <a:lnTo>
                    <a:pt x="95916" y="108137"/>
                  </a:lnTo>
                  <a:lnTo>
                    <a:pt x="93538" y="109755"/>
                  </a:lnTo>
                  <a:lnTo>
                    <a:pt x="91159" y="111313"/>
                  </a:lnTo>
                  <a:lnTo>
                    <a:pt x="88602" y="112810"/>
                  </a:lnTo>
                  <a:lnTo>
                    <a:pt x="86045" y="114068"/>
                  </a:lnTo>
                  <a:lnTo>
                    <a:pt x="83369" y="115327"/>
                  </a:lnTo>
                  <a:lnTo>
                    <a:pt x="80634" y="116345"/>
                  </a:lnTo>
                  <a:lnTo>
                    <a:pt x="77898" y="117304"/>
                  </a:lnTo>
                  <a:lnTo>
                    <a:pt x="75044" y="118082"/>
                  </a:lnTo>
                  <a:lnTo>
                    <a:pt x="72130" y="118801"/>
                  </a:lnTo>
                  <a:lnTo>
                    <a:pt x="69157" y="119340"/>
                  </a:lnTo>
                  <a:lnTo>
                    <a:pt x="66184" y="119700"/>
                  </a:lnTo>
                  <a:lnTo>
                    <a:pt x="63092" y="119880"/>
                  </a:lnTo>
                  <a:lnTo>
                    <a:pt x="60000" y="120000"/>
                  </a:lnTo>
                  <a:lnTo>
                    <a:pt x="56907" y="119880"/>
                  </a:lnTo>
                  <a:lnTo>
                    <a:pt x="53875" y="119700"/>
                  </a:lnTo>
                  <a:lnTo>
                    <a:pt x="50901" y="119340"/>
                  </a:lnTo>
                  <a:lnTo>
                    <a:pt x="47928" y="118801"/>
                  </a:lnTo>
                  <a:lnTo>
                    <a:pt x="45014" y="118082"/>
                  </a:lnTo>
                  <a:lnTo>
                    <a:pt x="42160" y="117304"/>
                  </a:lnTo>
                  <a:lnTo>
                    <a:pt x="39365" y="116345"/>
                  </a:lnTo>
                  <a:lnTo>
                    <a:pt x="36630" y="115327"/>
                  </a:lnTo>
                  <a:lnTo>
                    <a:pt x="34013" y="114068"/>
                  </a:lnTo>
                  <a:lnTo>
                    <a:pt x="31397" y="112810"/>
                  </a:lnTo>
                  <a:lnTo>
                    <a:pt x="28899" y="111313"/>
                  </a:lnTo>
                  <a:lnTo>
                    <a:pt x="26521" y="109755"/>
                  </a:lnTo>
                  <a:lnTo>
                    <a:pt x="24083" y="108137"/>
                  </a:lnTo>
                  <a:lnTo>
                    <a:pt x="21823" y="106280"/>
                  </a:lnTo>
                  <a:lnTo>
                    <a:pt x="19682" y="104423"/>
                  </a:lnTo>
                  <a:lnTo>
                    <a:pt x="17542" y="102446"/>
                  </a:lnTo>
                  <a:lnTo>
                    <a:pt x="15639" y="100349"/>
                  </a:lnTo>
                  <a:lnTo>
                    <a:pt x="13736" y="98132"/>
                  </a:lnTo>
                  <a:lnTo>
                    <a:pt x="11952" y="95856"/>
                  </a:lnTo>
                  <a:lnTo>
                    <a:pt x="10227" y="93579"/>
                  </a:lnTo>
                  <a:lnTo>
                    <a:pt x="8681" y="91063"/>
                  </a:lnTo>
                  <a:lnTo>
                    <a:pt x="7254" y="88607"/>
                  </a:lnTo>
                  <a:lnTo>
                    <a:pt x="5887" y="86030"/>
                  </a:lnTo>
                  <a:lnTo>
                    <a:pt x="4757" y="83394"/>
                  </a:lnTo>
                  <a:lnTo>
                    <a:pt x="3627" y="80639"/>
                  </a:lnTo>
                  <a:lnTo>
                    <a:pt x="2735" y="77883"/>
                  </a:lnTo>
                  <a:lnTo>
                    <a:pt x="1902" y="75007"/>
                  </a:lnTo>
                  <a:lnTo>
                    <a:pt x="1248" y="72131"/>
                  </a:lnTo>
                  <a:lnTo>
                    <a:pt x="713" y="69136"/>
                  </a:lnTo>
                  <a:lnTo>
                    <a:pt x="356" y="66140"/>
                  </a:lnTo>
                  <a:lnTo>
                    <a:pt x="118" y="63085"/>
                  </a:lnTo>
                  <a:lnTo>
                    <a:pt x="0" y="60029"/>
                  </a:lnTo>
                  <a:lnTo>
                    <a:pt x="118" y="56914"/>
                  </a:lnTo>
                  <a:lnTo>
                    <a:pt x="356" y="53859"/>
                  </a:lnTo>
                  <a:lnTo>
                    <a:pt x="713" y="50863"/>
                  </a:lnTo>
                  <a:lnTo>
                    <a:pt x="1248" y="47868"/>
                  </a:lnTo>
                  <a:lnTo>
                    <a:pt x="1902" y="44992"/>
                  </a:lnTo>
                  <a:lnTo>
                    <a:pt x="2735" y="42116"/>
                  </a:lnTo>
                  <a:lnTo>
                    <a:pt x="3627" y="39360"/>
                  </a:lnTo>
                  <a:lnTo>
                    <a:pt x="4757" y="36605"/>
                  </a:lnTo>
                  <a:lnTo>
                    <a:pt x="5887" y="33969"/>
                  </a:lnTo>
                  <a:lnTo>
                    <a:pt x="7254" y="31392"/>
                  </a:lnTo>
                  <a:lnTo>
                    <a:pt x="8681" y="28876"/>
                  </a:lnTo>
                  <a:lnTo>
                    <a:pt x="10227" y="26420"/>
                  </a:lnTo>
                  <a:lnTo>
                    <a:pt x="11952" y="24083"/>
                  </a:lnTo>
                  <a:lnTo>
                    <a:pt x="13736" y="21807"/>
                  </a:lnTo>
                  <a:lnTo>
                    <a:pt x="15639" y="19590"/>
                  </a:lnTo>
                  <a:lnTo>
                    <a:pt x="17542" y="17493"/>
                  </a:lnTo>
                  <a:lnTo>
                    <a:pt x="19682" y="15576"/>
                  </a:lnTo>
                  <a:lnTo>
                    <a:pt x="21823" y="13659"/>
                  </a:lnTo>
                  <a:lnTo>
                    <a:pt x="24083" y="11862"/>
                  </a:lnTo>
                  <a:lnTo>
                    <a:pt x="26521" y="10184"/>
                  </a:lnTo>
                  <a:lnTo>
                    <a:pt x="28899" y="8627"/>
                  </a:lnTo>
                  <a:lnTo>
                    <a:pt x="31397" y="7249"/>
                  </a:lnTo>
                  <a:lnTo>
                    <a:pt x="34013" y="5871"/>
                  </a:lnTo>
                  <a:lnTo>
                    <a:pt x="36630" y="4613"/>
                  </a:lnTo>
                  <a:lnTo>
                    <a:pt x="39365" y="3594"/>
                  </a:lnTo>
                  <a:lnTo>
                    <a:pt x="42160" y="2636"/>
                  </a:lnTo>
                  <a:lnTo>
                    <a:pt x="45014" y="1857"/>
                  </a:lnTo>
                  <a:lnTo>
                    <a:pt x="47928" y="1198"/>
                  </a:lnTo>
                  <a:lnTo>
                    <a:pt x="50901" y="599"/>
                  </a:lnTo>
                  <a:lnTo>
                    <a:pt x="53875" y="239"/>
                  </a:lnTo>
                  <a:lnTo>
                    <a:pt x="56907" y="59"/>
                  </a:lnTo>
                  <a:lnTo>
                    <a:pt x="60000" y="0"/>
                  </a:lnTo>
                  <a:lnTo>
                    <a:pt x="63092" y="59"/>
                  </a:lnTo>
                  <a:lnTo>
                    <a:pt x="66184" y="239"/>
                  </a:lnTo>
                  <a:lnTo>
                    <a:pt x="69157" y="599"/>
                  </a:lnTo>
                  <a:lnTo>
                    <a:pt x="72130" y="1198"/>
                  </a:lnTo>
                  <a:lnTo>
                    <a:pt x="75044" y="1857"/>
                  </a:lnTo>
                  <a:lnTo>
                    <a:pt x="77898" y="2636"/>
                  </a:lnTo>
                  <a:lnTo>
                    <a:pt x="80634" y="3594"/>
                  </a:lnTo>
                  <a:lnTo>
                    <a:pt x="83369" y="4613"/>
                  </a:lnTo>
                  <a:lnTo>
                    <a:pt x="86045" y="5871"/>
                  </a:lnTo>
                  <a:lnTo>
                    <a:pt x="88602" y="7249"/>
                  </a:lnTo>
                  <a:lnTo>
                    <a:pt x="91159" y="8627"/>
                  </a:lnTo>
                  <a:lnTo>
                    <a:pt x="93538" y="10184"/>
                  </a:lnTo>
                  <a:lnTo>
                    <a:pt x="95916" y="11862"/>
                  </a:lnTo>
                  <a:lnTo>
                    <a:pt x="98176" y="13659"/>
                  </a:lnTo>
                  <a:lnTo>
                    <a:pt x="100317" y="15576"/>
                  </a:lnTo>
                  <a:lnTo>
                    <a:pt x="102457" y="17493"/>
                  </a:lnTo>
                  <a:lnTo>
                    <a:pt x="104420" y="19590"/>
                  </a:lnTo>
                  <a:lnTo>
                    <a:pt x="106263" y="21807"/>
                  </a:lnTo>
                  <a:lnTo>
                    <a:pt x="108107" y="24083"/>
                  </a:lnTo>
                  <a:lnTo>
                    <a:pt x="109772" y="26420"/>
                  </a:lnTo>
                  <a:lnTo>
                    <a:pt x="111318" y="28876"/>
                  </a:lnTo>
                  <a:lnTo>
                    <a:pt x="112745" y="31392"/>
                  </a:lnTo>
                  <a:lnTo>
                    <a:pt x="114112" y="33969"/>
                  </a:lnTo>
                  <a:lnTo>
                    <a:pt x="115242" y="36605"/>
                  </a:lnTo>
                  <a:lnTo>
                    <a:pt x="116372" y="39360"/>
                  </a:lnTo>
                  <a:lnTo>
                    <a:pt x="117324" y="42116"/>
                  </a:lnTo>
                  <a:lnTo>
                    <a:pt x="118097" y="44992"/>
                  </a:lnTo>
                  <a:lnTo>
                    <a:pt x="118751" y="47868"/>
                  </a:lnTo>
                  <a:lnTo>
                    <a:pt x="119345" y="50863"/>
                  </a:lnTo>
                  <a:lnTo>
                    <a:pt x="119643" y="53859"/>
                  </a:lnTo>
                  <a:lnTo>
                    <a:pt x="119940" y="56914"/>
                  </a:lnTo>
                  <a:lnTo>
                    <a:pt x="120000" y="60029"/>
                  </a:lnTo>
                  <a:close/>
                </a:path>
              </a:pathLst>
            </a:custGeom>
            <a:solidFill>
              <a:srgbClr val="1891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2" name="任意多边形 268"/>
            <p:cNvSpPr/>
            <p:nvPr/>
          </p:nvSpPr>
          <p:spPr>
            <a:xfrm flipH="1">
              <a:off x="2979000" y="2697120"/>
              <a:ext cx="777600" cy="807120"/>
            </a:xfrm>
            <a:custGeom>
              <a:avLst/>
              <a:gdLst/>
              <a:ahLst/>
              <a:rect l="l" t="t" r="r" b="b"/>
              <a:pathLst>
                <a:path w="120000" h="120000">
                  <a:moveTo>
                    <a:pt x="120000" y="60017"/>
                  </a:moveTo>
                  <a:lnTo>
                    <a:pt x="119930" y="63128"/>
                  </a:lnTo>
                  <a:lnTo>
                    <a:pt x="119687" y="66169"/>
                  </a:lnTo>
                  <a:lnTo>
                    <a:pt x="119270" y="69175"/>
                  </a:lnTo>
                  <a:lnTo>
                    <a:pt x="118784" y="72111"/>
                  </a:lnTo>
                  <a:lnTo>
                    <a:pt x="118125" y="75013"/>
                  </a:lnTo>
                  <a:lnTo>
                    <a:pt x="117291" y="77844"/>
                  </a:lnTo>
                  <a:lnTo>
                    <a:pt x="116319" y="80640"/>
                  </a:lnTo>
                  <a:lnTo>
                    <a:pt x="115277" y="83367"/>
                  </a:lnTo>
                  <a:lnTo>
                    <a:pt x="114062" y="86058"/>
                  </a:lnTo>
                  <a:lnTo>
                    <a:pt x="112743" y="88610"/>
                  </a:lnTo>
                  <a:lnTo>
                    <a:pt x="111319" y="91162"/>
                  </a:lnTo>
                  <a:lnTo>
                    <a:pt x="109756" y="93574"/>
                  </a:lnTo>
                  <a:lnTo>
                    <a:pt x="108055" y="95916"/>
                  </a:lnTo>
                  <a:lnTo>
                    <a:pt x="106284" y="98188"/>
                  </a:lnTo>
                  <a:lnTo>
                    <a:pt x="104409" y="100355"/>
                  </a:lnTo>
                  <a:lnTo>
                    <a:pt x="102430" y="102452"/>
                  </a:lnTo>
                  <a:lnTo>
                    <a:pt x="100347" y="104410"/>
                  </a:lnTo>
                  <a:lnTo>
                    <a:pt x="98159" y="106297"/>
                  </a:lnTo>
                  <a:lnTo>
                    <a:pt x="95902" y="108115"/>
                  </a:lnTo>
                  <a:lnTo>
                    <a:pt x="93541" y="109793"/>
                  </a:lnTo>
                  <a:lnTo>
                    <a:pt x="91111" y="111331"/>
                  </a:lnTo>
                  <a:lnTo>
                    <a:pt x="88611" y="112764"/>
                  </a:lnTo>
                  <a:lnTo>
                    <a:pt x="86006" y="114092"/>
                  </a:lnTo>
                  <a:lnTo>
                    <a:pt x="83333" y="115281"/>
                  </a:lnTo>
                  <a:lnTo>
                    <a:pt x="80625" y="116399"/>
                  </a:lnTo>
                  <a:lnTo>
                    <a:pt x="77847" y="117343"/>
                  </a:lnTo>
                  <a:lnTo>
                    <a:pt x="75000" y="118112"/>
                  </a:lnTo>
                  <a:lnTo>
                    <a:pt x="72083" y="118811"/>
                  </a:lnTo>
                  <a:lnTo>
                    <a:pt x="69131" y="119335"/>
                  </a:lnTo>
                  <a:lnTo>
                    <a:pt x="66111" y="119720"/>
                  </a:lnTo>
                  <a:lnTo>
                    <a:pt x="63090" y="119930"/>
                  </a:lnTo>
                  <a:lnTo>
                    <a:pt x="60000" y="120000"/>
                  </a:lnTo>
                  <a:lnTo>
                    <a:pt x="56909" y="119930"/>
                  </a:lnTo>
                  <a:lnTo>
                    <a:pt x="53888" y="119720"/>
                  </a:lnTo>
                  <a:lnTo>
                    <a:pt x="50868" y="119335"/>
                  </a:lnTo>
                  <a:lnTo>
                    <a:pt x="47916" y="118811"/>
                  </a:lnTo>
                  <a:lnTo>
                    <a:pt x="45000" y="118112"/>
                  </a:lnTo>
                  <a:lnTo>
                    <a:pt x="42152" y="117343"/>
                  </a:lnTo>
                  <a:lnTo>
                    <a:pt x="39375" y="116399"/>
                  </a:lnTo>
                  <a:lnTo>
                    <a:pt x="36666" y="115281"/>
                  </a:lnTo>
                  <a:lnTo>
                    <a:pt x="33958" y="114092"/>
                  </a:lnTo>
                  <a:lnTo>
                    <a:pt x="31388" y="112764"/>
                  </a:lnTo>
                  <a:lnTo>
                    <a:pt x="28854" y="111331"/>
                  </a:lnTo>
                  <a:lnTo>
                    <a:pt x="26458" y="109793"/>
                  </a:lnTo>
                  <a:lnTo>
                    <a:pt x="24097" y="108115"/>
                  </a:lnTo>
                  <a:lnTo>
                    <a:pt x="21840" y="106297"/>
                  </a:lnTo>
                  <a:lnTo>
                    <a:pt x="19652" y="104410"/>
                  </a:lnTo>
                  <a:lnTo>
                    <a:pt x="17569" y="102452"/>
                  </a:lnTo>
                  <a:lnTo>
                    <a:pt x="15555" y="100355"/>
                  </a:lnTo>
                  <a:lnTo>
                    <a:pt x="13680" y="98188"/>
                  </a:lnTo>
                  <a:lnTo>
                    <a:pt x="11909" y="95916"/>
                  </a:lnTo>
                  <a:lnTo>
                    <a:pt x="10243" y="93574"/>
                  </a:lnTo>
                  <a:lnTo>
                    <a:pt x="8680" y="91162"/>
                  </a:lnTo>
                  <a:lnTo>
                    <a:pt x="7256" y="88610"/>
                  </a:lnTo>
                  <a:lnTo>
                    <a:pt x="5902" y="86058"/>
                  </a:lnTo>
                  <a:lnTo>
                    <a:pt x="4722" y="83367"/>
                  </a:lnTo>
                  <a:lnTo>
                    <a:pt x="3611" y="80640"/>
                  </a:lnTo>
                  <a:lnTo>
                    <a:pt x="2673" y="77844"/>
                  </a:lnTo>
                  <a:lnTo>
                    <a:pt x="1875" y="75013"/>
                  </a:lnTo>
                  <a:lnTo>
                    <a:pt x="1215" y="72111"/>
                  </a:lnTo>
                  <a:lnTo>
                    <a:pt x="694" y="69175"/>
                  </a:lnTo>
                  <a:lnTo>
                    <a:pt x="312" y="66169"/>
                  </a:lnTo>
                  <a:lnTo>
                    <a:pt x="69" y="63128"/>
                  </a:lnTo>
                  <a:lnTo>
                    <a:pt x="0" y="60017"/>
                  </a:lnTo>
                  <a:lnTo>
                    <a:pt x="69" y="56941"/>
                  </a:lnTo>
                  <a:lnTo>
                    <a:pt x="312" y="53900"/>
                  </a:lnTo>
                  <a:lnTo>
                    <a:pt x="694" y="50859"/>
                  </a:lnTo>
                  <a:lnTo>
                    <a:pt x="1215" y="47923"/>
                  </a:lnTo>
                  <a:lnTo>
                    <a:pt x="1875" y="45021"/>
                  </a:lnTo>
                  <a:lnTo>
                    <a:pt x="2673" y="42190"/>
                  </a:lnTo>
                  <a:lnTo>
                    <a:pt x="3611" y="39394"/>
                  </a:lnTo>
                  <a:lnTo>
                    <a:pt x="4722" y="36667"/>
                  </a:lnTo>
                  <a:lnTo>
                    <a:pt x="5902" y="34011"/>
                  </a:lnTo>
                  <a:lnTo>
                    <a:pt x="7256" y="31424"/>
                  </a:lnTo>
                  <a:lnTo>
                    <a:pt x="8680" y="28907"/>
                  </a:lnTo>
                  <a:lnTo>
                    <a:pt x="10243" y="26460"/>
                  </a:lnTo>
                  <a:lnTo>
                    <a:pt x="11909" y="24118"/>
                  </a:lnTo>
                  <a:lnTo>
                    <a:pt x="13680" y="21846"/>
                  </a:lnTo>
                  <a:lnTo>
                    <a:pt x="15555" y="19644"/>
                  </a:lnTo>
                  <a:lnTo>
                    <a:pt x="17569" y="17582"/>
                  </a:lnTo>
                  <a:lnTo>
                    <a:pt x="19652" y="15624"/>
                  </a:lnTo>
                  <a:lnTo>
                    <a:pt x="21840" y="13737"/>
                  </a:lnTo>
                  <a:lnTo>
                    <a:pt x="24097" y="11954"/>
                  </a:lnTo>
                  <a:lnTo>
                    <a:pt x="26458" y="10241"/>
                  </a:lnTo>
                  <a:lnTo>
                    <a:pt x="28854" y="8703"/>
                  </a:lnTo>
                  <a:lnTo>
                    <a:pt x="31388" y="7270"/>
                  </a:lnTo>
                  <a:lnTo>
                    <a:pt x="33958" y="5942"/>
                  </a:lnTo>
                  <a:lnTo>
                    <a:pt x="36666" y="4753"/>
                  </a:lnTo>
                  <a:lnTo>
                    <a:pt x="39375" y="3635"/>
                  </a:lnTo>
                  <a:lnTo>
                    <a:pt x="42152" y="2691"/>
                  </a:lnTo>
                  <a:lnTo>
                    <a:pt x="45000" y="1887"/>
                  </a:lnTo>
                  <a:lnTo>
                    <a:pt x="47916" y="1223"/>
                  </a:lnTo>
                  <a:lnTo>
                    <a:pt x="50868" y="699"/>
                  </a:lnTo>
                  <a:lnTo>
                    <a:pt x="53888" y="314"/>
                  </a:lnTo>
                  <a:lnTo>
                    <a:pt x="56909" y="104"/>
                  </a:lnTo>
                  <a:lnTo>
                    <a:pt x="60000" y="0"/>
                  </a:lnTo>
                  <a:lnTo>
                    <a:pt x="63090" y="104"/>
                  </a:lnTo>
                  <a:lnTo>
                    <a:pt x="66111" y="314"/>
                  </a:lnTo>
                  <a:lnTo>
                    <a:pt x="69131" y="699"/>
                  </a:lnTo>
                  <a:lnTo>
                    <a:pt x="72083" y="1223"/>
                  </a:lnTo>
                  <a:lnTo>
                    <a:pt x="75000" y="1887"/>
                  </a:lnTo>
                  <a:lnTo>
                    <a:pt x="77847" y="2691"/>
                  </a:lnTo>
                  <a:lnTo>
                    <a:pt x="80625" y="3635"/>
                  </a:lnTo>
                  <a:lnTo>
                    <a:pt x="83333" y="4753"/>
                  </a:lnTo>
                  <a:lnTo>
                    <a:pt x="86006" y="5942"/>
                  </a:lnTo>
                  <a:lnTo>
                    <a:pt x="88611" y="7270"/>
                  </a:lnTo>
                  <a:lnTo>
                    <a:pt x="91111" y="8703"/>
                  </a:lnTo>
                  <a:lnTo>
                    <a:pt x="93541" y="10241"/>
                  </a:lnTo>
                  <a:lnTo>
                    <a:pt x="95902" y="11954"/>
                  </a:lnTo>
                  <a:lnTo>
                    <a:pt x="98159" y="13737"/>
                  </a:lnTo>
                  <a:lnTo>
                    <a:pt x="100347" y="15624"/>
                  </a:lnTo>
                  <a:lnTo>
                    <a:pt x="102430" y="17582"/>
                  </a:lnTo>
                  <a:lnTo>
                    <a:pt x="104409" y="19644"/>
                  </a:lnTo>
                  <a:lnTo>
                    <a:pt x="106284" y="21846"/>
                  </a:lnTo>
                  <a:lnTo>
                    <a:pt x="108055" y="24118"/>
                  </a:lnTo>
                  <a:lnTo>
                    <a:pt x="109756" y="26460"/>
                  </a:lnTo>
                  <a:lnTo>
                    <a:pt x="111319" y="28907"/>
                  </a:lnTo>
                  <a:lnTo>
                    <a:pt x="112743" y="31424"/>
                  </a:lnTo>
                  <a:lnTo>
                    <a:pt x="114062" y="34011"/>
                  </a:lnTo>
                  <a:lnTo>
                    <a:pt x="115277" y="36667"/>
                  </a:lnTo>
                  <a:lnTo>
                    <a:pt x="116319" y="39394"/>
                  </a:lnTo>
                  <a:lnTo>
                    <a:pt x="117291" y="42190"/>
                  </a:lnTo>
                  <a:lnTo>
                    <a:pt x="118125" y="45021"/>
                  </a:lnTo>
                  <a:lnTo>
                    <a:pt x="118784" y="47923"/>
                  </a:lnTo>
                  <a:lnTo>
                    <a:pt x="119270" y="50859"/>
                  </a:lnTo>
                  <a:lnTo>
                    <a:pt x="119687" y="53900"/>
                  </a:lnTo>
                  <a:lnTo>
                    <a:pt x="119930" y="56941"/>
                  </a:lnTo>
                  <a:lnTo>
                    <a:pt x="120000" y="60017"/>
                  </a:lnTo>
                  <a:close/>
                </a:path>
              </a:pathLst>
            </a:custGeom>
            <a:solidFill>
              <a:srgbClr val="5268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3" name="任意多边形 269"/>
            <p:cNvSpPr/>
            <p:nvPr/>
          </p:nvSpPr>
          <p:spPr>
            <a:xfrm flipH="1">
              <a:off x="3400560" y="3611160"/>
              <a:ext cx="391680" cy="406080"/>
            </a:xfrm>
            <a:custGeom>
              <a:avLst/>
              <a:gdLst/>
              <a:ahLst/>
              <a:rect l="l" t="t" r="r" b="b"/>
              <a:pathLst>
                <a:path w="120000" h="120000">
                  <a:moveTo>
                    <a:pt x="120000" y="60000"/>
                  </a:moveTo>
                  <a:lnTo>
                    <a:pt x="119930" y="63125"/>
                  </a:lnTo>
                  <a:lnTo>
                    <a:pt x="119723" y="66111"/>
                  </a:lnTo>
                  <a:lnTo>
                    <a:pt x="119309" y="69166"/>
                  </a:lnTo>
                  <a:lnTo>
                    <a:pt x="118826" y="72152"/>
                  </a:lnTo>
                  <a:lnTo>
                    <a:pt x="118136" y="75069"/>
                  </a:lnTo>
                  <a:lnTo>
                    <a:pt x="117308" y="77847"/>
                  </a:lnTo>
                  <a:lnTo>
                    <a:pt x="116342" y="80694"/>
                  </a:lnTo>
                  <a:lnTo>
                    <a:pt x="115238" y="83402"/>
                  </a:lnTo>
                  <a:lnTo>
                    <a:pt x="114065" y="85972"/>
                  </a:lnTo>
                  <a:lnTo>
                    <a:pt x="112823" y="88611"/>
                  </a:lnTo>
                  <a:lnTo>
                    <a:pt x="111305" y="91111"/>
                  </a:lnTo>
                  <a:lnTo>
                    <a:pt x="109787" y="93611"/>
                  </a:lnTo>
                  <a:lnTo>
                    <a:pt x="108062" y="95902"/>
                  </a:lnTo>
                  <a:lnTo>
                    <a:pt x="106336" y="98194"/>
                  </a:lnTo>
                  <a:lnTo>
                    <a:pt x="104404" y="100347"/>
                  </a:lnTo>
                  <a:lnTo>
                    <a:pt x="102403" y="102430"/>
                  </a:lnTo>
                  <a:lnTo>
                    <a:pt x="100333" y="104375"/>
                  </a:lnTo>
                  <a:lnTo>
                    <a:pt x="98125" y="106319"/>
                  </a:lnTo>
                  <a:lnTo>
                    <a:pt x="95917" y="108055"/>
                  </a:lnTo>
                  <a:lnTo>
                    <a:pt x="93571" y="109791"/>
                  </a:lnTo>
                  <a:lnTo>
                    <a:pt x="91086" y="111319"/>
                  </a:lnTo>
                  <a:lnTo>
                    <a:pt x="88602" y="112777"/>
                  </a:lnTo>
                  <a:lnTo>
                    <a:pt x="85980" y="114097"/>
                  </a:lnTo>
                  <a:lnTo>
                    <a:pt x="83358" y="115277"/>
                  </a:lnTo>
                  <a:lnTo>
                    <a:pt x="80667" y="116388"/>
                  </a:lnTo>
                  <a:lnTo>
                    <a:pt x="77906" y="117291"/>
                  </a:lnTo>
                  <a:lnTo>
                    <a:pt x="75008" y="118125"/>
                  </a:lnTo>
                  <a:lnTo>
                    <a:pt x="72110" y="118819"/>
                  </a:lnTo>
                  <a:lnTo>
                    <a:pt x="69143" y="119305"/>
                  </a:lnTo>
                  <a:lnTo>
                    <a:pt x="66175" y="119722"/>
                  </a:lnTo>
                  <a:lnTo>
                    <a:pt x="63070" y="119930"/>
                  </a:lnTo>
                  <a:lnTo>
                    <a:pt x="60034" y="120000"/>
                  </a:lnTo>
                  <a:lnTo>
                    <a:pt x="56929" y="119930"/>
                  </a:lnTo>
                  <a:lnTo>
                    <a:pt x="53824" y="119722"/>
                  </a:lnTo>
                  <a:lnTo>
                    <a:pt x="50856" y="119305"/>
                  </a:lnTo>
                  <a:lnTo>
                    <a:pt x="47889" y="118819"/>
                  </a:lnTo>
                  <a:lnTo>
                    <a:pt x="44991" y="118125"/>
                  </a:lnTo>
                  <a:lnTo>
                    <a:pt x="42162" y="117291"/>
                  </a:lnTo>
                  <a:lnTo>
                    <a:pt x="39332" y="116388"/>
                  </a:lnTo>
                  <a:lnTo>
                    <a:pt x="36641" y="115277"/>
                  </a:lnTo>
                  <a:lnTo>
                    <a:pt x="33950" y="114097"/>
                  </a:lnTo>
                  <a:lnTo>
                    <a:pt x="31397" y="112777"/>
                  </a:lnTo>
                  <a:lnTo>
                    <a:pt x="28844" y="111319"/>
                  </a:lnTo>
                  <a:lnTo>
                    <a:pt x="26428" y="109791"/>
                  </a:lnTo>
                  <a:lnTo>
                    <a:pt x="24082" y="108055"/>
                  </a:lnTo>
                  <a:lnTo>
                    <a:pt x="21805" y="106319"/>
                  </a:lnTo>
                  <a:lnTo>
                    <a:pt x="19597" y="104375"/>
                  </a:lnTo>
                  <a:lnTo>
                    <a:pt x="17596" y="102430"/>
                  </a:lnTo>
                  <a:lnTo>
                    <a:pt x="15526" y="100347"/>
                  </a:lnTo>
                  <a:lnTo>
                    <a:pt x="13663" y="98194"/>
                  </a:lnTo>
                  <a:lnTo>
                    <a:pt x="11868" y="95902"/>
                  </a:lnTo>
                  <a:lnTo>
                    <a:pt x="10212" y="93611"/>
                  </a:lnTo>
                  <a:lnTo>
                    <a:pt x="8625" y="91111"/>
                  </a:lnTo>
                  <a:lnTo>
                    <a:pt x="7245" y="88611"/>
                  </a:lnTo>
                  <a:lnTo>
                    <a:pt x="5865" y="85972"/>
                  </a:lnTo>
                  <a:lnTo>
                    <a:pt x="4761" y="83402"/>
                  </a:lnTo>
                  <a:lnTo>
                    <a:pt x="3588" y="80694"/>
                  </a:lnTo>
                  <a:lnTo>
                    <a:pt x="2691" y="77847"/>
                  </a:lnTo>
                  <a:lnTo>
                    <a:pt x="1863" y="75069"/>
                  </a:lnTo>
                  <a:lnTo>
                    <a:pt x="1242" y="72152"/>
                  </a:lnTo>
                  <a:lnTo>
                    <a:pt x="690" y="69166"/>
                  </a:lnTo>
                  <a:lnTo>
                    <a:pt x="276" y="66111"/>
                  </a:lnTo>
                  <a:lnTo>
                    <a:pt x="69" y="63125"/>
                  </a:lnTo>
                  <a:lnTo>
                    <a:pt x="0" y="60000"/>
                  </a:lnTo>
                  <a:lnTo>
                    <a:pt x="69" y="56944"/>
                  </a:lnTo>
                  <a:lnTo>
                    <a:pt x="276" y="53888"/>
                  </a:lnTo>
                  <a:lnTo>
                    <a:pt x="690" y="50902"/>
                  </a:lnTo>
                  <a:lnTo>
                    <a:pt x="1242" y="47916"/>
                  </a:lnTo>
                  <a:lnTo>
                    <a:pt x="1863" y="45000"/>
                  </a:lnTo>
                  <a:lnTo>
                    <a:pt x="2691" y="42152"/>
                  </a:lnTo>
                  <a:lnTo>
                    <a:pt x="3588" y="39375"/>
                  </a:lnTo>
                  <a:lnTo>
                    <a:pt x="4761" y="36666"/>
                  </a:lnTo>
                  <a:lnTo>
                    <a:pt x="5865" y="33958"/>
                  </a:lnTo>
                  <a:lnTo>
                    <a:pt x="7245" y="31458"/>
                  </a:lnTo>
                  <a:lnTo>
                    <a:pt x="8625" y="28888"/>
                  </a:lnTo>
                  <a:lnTo>
                    <a:pt x="10212" y="26458"/>
                  </a:lnTo>
                  <a:lnTo>
                    <a:pt x="11868" y="24097"/>
                  </a:lnTo>
                  <a:lnTo>
                    <a:pt x="13663" y="21805"/>
                  </a:lnTo>
                  <a:lnTo>
                    <a:pt x="15526" y="19652"/>
                  </a:lnTo>
                  <a:lnTo>
                    <a:pt x="17596" y="17569"/>
                  </a:lnTo>
                  <a:lnTo>
                    <a:pt x="19597" y="15625"/>
                  </a:lnTo>
                  <a:lnTo>
                    <a:pt x="21805" y="13750"/>
                  </a:lnTo>
                  <a:lnTo>
                    <a:pt x="24082" y="11944"/>
                  </a:lnTo>
                  <a:lnTo>
                    <a:pt x="26428" y="10277"/>
                  </a:lnTo>
                  <a:lnTo>
                    <a:pt x="28844" y="8680"/>
                  </a:lnTo>
                  <a:lnTo>
                    <a:pt x="31397" y="7291"/>
                  </a:lnTo>
                  <a:lnTo>
                    <a:pt x="33950" y="5902"/>
                  </a:lnTo>
                  <a:lnTo>
                    <a:pt x="36641" y="4722"/>
                  </a:lnTo>
                  <a:lnTo>
                    <a:pt x="39332" y="3680"/>
                  </a:lnTo>
                  <a:lnTo>
                    <a:pt x="42162" y="2708"/>
                  </a:lnTo>
                  <a:lnTo>
                    <a:pt x="44991" y="1875"/>
                  </a:lnTo>
                  <a:lnTo>
                    <a:pt x="47889" y="1180"/>
                  </a:lnTo>
                  <a:lnTo>
                    <a:pt x="50856" y="625"/>
                  </a:lnTo>
                  <a:lnTo>
                    <a:pt x="53824" y="277"/>
                  </a:lnTo>
                  <a:lnTo>
                    <a:pt x="56929" y="69"/>
                  </a:lnTo>
                  <a:lnTo>
                    <a:pt x="60034" y="0"/>
                  </a:lnTo>
                  <a:lnTo>
                    <a:pt x="63070" y="69"/>
                  </a:lnTo>
                  <a:lnTo>
                    <a:pt x="66175" y="277"/>
                  </a:lnTo>
                  <a:lnTo>
                    <a:pt x="69143" y="625"/>
                  </a:lnTo>
                  <a:lnTo>
                    <a:pt x="72110" y="1180"/>
                  </a:lnTo>
                  <a:lnTo>
                    <a:pt x="75008" y="1875"/>
                  </a:lnTo>
                  <a:lnTo>
                    <a:pt x="77906" y="2708"/>
                  </a:lnTo>
                  <a:lnTo>
                    <a:pt x="80667" y="3680"/>
                  </a:lnTo>
                  <a:lnTo>
                    <a:pt x="83358" y="4722"/>
                  </a:lnTo>
                  <a:lnTo>
                    <a:pt x="85980" y="5902"/>
                  </a:lnTo>
                  <a:lnTo>
                    <a:pt x="88602" y="7291"/>
                  </a:lnTo>
                  <a:lnTo>
                    <a:pt x="91086" y="8680"/>
                  </a:lnTo>
                  <a:lnTo>
                    <a:pt x="93571" y="10277"/>
                  </a:lnTo>
                  <a:lnTo>
                    <a:pt x="95917" y="11944"/>
                  </a:lnTo>
                  <a:lnTo>
                    <a:pt x="98125" y="13750"/>
                  </a:lnTo>
                  <a:lnTo>
                    <a:pt x="100333" y="15625"/>
                  </a:lnTo>
                  <a:lnTo>
                    <a:pt x="102403" y="17569"/>
                  </a:lnTo>
                  <a:lnTo>
                    <a:pt x="104404" y="19652"/>
                  </a:lnTo>
                  <a:lnTo>
                    <a:pt x="106336" y="21805"/>
                  </a:lnTo>
                  <a:lnTo>
                    <a:pt x="108062" y="24097"/>
                  </a:lnTo>
                  <a:lnTo>
                    <a:pt x="109787" y="26458"/>
                  </a:lnTo>
                  <a:lnTo>
                    <a:pt x="111305" y="28888"/>
                  </a:lnTo>
                  <a:lnTo>
                    <a:pt x="112823" y="31458"/>
                  </a:lnTo>
                  <a:lnTo>
                    <a:pt x="114065" y="33958"/>
                  </a:lnTo>
                  <a:lnTo>
                    <a:pt x="115238" y="36666"/>
                  </a:lnTo>
                  <a:lnTo>
                    <a:pt x="116342" y="39375"/>
                  </a:lnTo>
                  <a:lnTo>
                    <a:pt x="117308" y="42152"/>
                  </a:lnTo>
                  <a:lnTo>
                    <a:pt x="118136" y="45000"/>
                  </a:lnTo>
                  <a:lnTo>
                    <a:pt x="118826" y="47916"/>
                  </a:lnTo>
                  <a:lnTo>
                    <a:pt x="119309" y="50902"/>
                  </a:lnTo>
                  <a:lnTo>
                    <a:pt x="119723" y="53888"/>
                  </a:lnTo>
                  <a:lnTo>
                    <a:pt x="119930" y="56944"/>
                  </a:lnTo>
                  <a:lnTo>
                    <a:pt x="120000" y="60000"/>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4" name="任意多边形 270"/>
            <p:cNvSpPr/>
            <p:nvPr/>
          </p:nvSpPr>
          <p:spPr>
            <a:xfrm>
              <a:off x="3162240" y="2900160"/>
              <a:ext cx="430920" cy="420480"/>
            </a:xfrm>
            <a:custGeom>
              <a:avLst/>
              <a:gdLst/>
              <a:ahLst/>
              <a:rect l="l" t="t" r="r" b="b"/>
              <a:pathLst>
                <a:path w="597921" h="598324">
                  <a:moveTo>
                    <a:pt x="297615" y="96957"/>
                  </a:moveTo>
                  <a:cubicBezTo>
                    <a:pt x="311959" y="96957"/>
                    <a:pt x="323434" y="108416"/>
                    <a:pt x="323434" y="122740"/>
                  </a:cubicBezTo>
                  <a:lnTo>
                    <a:pt x="323434" y="289852"/>
                  </a:lnTo>
                  <a:lnTo>
                    <a:pt x="462572" y="289852"/>
                  </a:lnTo>
                  <a:cubicBezTo>
                    <a:pt x="476438" y="289852"/>
                    <a:pt x="487913" y="301311"/>
                    <a:pt x="487913" y="315157"/>
                  </a:cubicBezTo>
                  <a:cubicBezTo>
                    <a:pt x="487913" y="329004"/>
                    <a:pt x="476438" y="340463"/>
                    <a:pt x="462572" y="340463"/>
                  </a:cubicBezTo>
                  <a:lnTo>
                    <a:pt x="297615" y="340463"/>
                  </a:lnTo>
                  <a:cubicBezTo>
                    <a:pt x="283749" y="340463"/>
                    <a:pt x="272274" y="329004"/>
                    <a:pt x="272274" y="315157"/>
                  </a:cubicBezTo>
                  <a:lnTo>
                    <a:pt x="272274" y="122740"/>
                  </a:lnTo>
                  <a:cubicBezTo>
                    <a:pt x="272274" y="108416"/>
                    <a:pt x="283749" y="96957"/>
                    <a:pt x="297615" y="96957"/>
                  </a:cubicBezTo>
                  <a:close/>
                  <a:moveTo>
                    <a:pt x="298127" y="0"/>
                  </a:moveTo>
                  <a:cubicBezTo>
                    <a:pt x="463564" y="0"/>
                    <a:pt x="597921" y="134181"/>
                    <a:pt x="597921" y="299401"/>
                  </a:cubicBezTo>
                  <a:cubicBezTo>
                    <a:pt x="597921" y="464143"/>
                    <a:pt x="463564" y="598324"/>
                    <a:pt x="298127" y="598324"/>
                  </a:cubicBezTo>
                  <a:cubicBezTo>
                    <a:pt x="188155" y="598324"/>
                    <a:pt x="87268" y="538635"/>
                    <a:pt x="35150" y="442177"/>
                  </a:cubicBezTo>
                  <a:cubicBezTo>
                    <a:pt x="33238" y="438835"/>
                    <a:pt x="32760" y="435492"/>
                    <a:pt x="34194" y="432149"/>
                  </a:cubicBezTo>
                  <a:cubicBezTo>
                    <a:pt x="35150" y="428807"/>
                    <a:pt x="37541" y="425942"/>
                    <a:pt x="40410" y="424509"/>
                  </a:cubicBezTo>
                  <a:lnTo>
                    <a:pt x="74836" y="407796"/>
                  </a:lnTo>
                  <a:cubicBezTo>
                    <a:pt x="81052" y="404931"/>
                    <a:pt x="88702" y="407319"/>
                    <a:pt x="91571" y="413049"/>
                  </a:cubicBezTo>
                  <a:cubicBezTo>
                    <a:pt x="133169" y="488018"/>
                    <a:pt x="212540" y="534815"/>
                    <a:pt x="298127" y="534815"/>
                  </a:cubicBezTo>
                  <a:cubicBezTo>
                    <a:pt x="428181" y="534815"/>
                    <a:pt x="534328" y="429284"/>
                    <a:pt x="534328" y="299401"/>
                  </a:cubicBezTo>
                  <a:cubicBezTo>
                    <a:pt x="534328" y="169517"/>
                    <a:pt x="428181" y="63509"/>
                    <a:pt x="298127" y="63509"/>
                  </a:cubicBezTo>
                  <a:cubicBezTo>
                    <a:pt x="242185" y="63509"/>
                    <a:pt x="187677" y="83565"/>
                    <a:pt x="145123" y="120333"/>
                  </a:cubicBezTo>
                  <a:lnTo>
                    <a:pt x="200587" y="142299"/>
                  </a:lnTo>
                  <a:cubicBezTo>
                    <a:pt x="204890" y="144209"/>
                    <a:pt x="207759" y="148029"/>
                    <a:pt x="208237" y="152327"/>
                  </a:cubicBezTo>
                  <a:cubicBezTo>
                    <a:pt x="208715" y="157102"/>
                    <a:pt x="207281" y="161399"/>
                    <a:pt x="203456" y="164265"/>
                  </a:cubicBezTo>
                  <a:lnTo>
                    <a:pt x="48060" y="285553"/>
                  </a:lnTo>
                  <a:cubicBezTo>
                    <a:pt x="44235" y="288418"/>
                    <a:pt x="39454" y="289373"/>
                    <a:pt x="35150" y="287463"/>
                  </a:cubicBezTo>
                  <a:cubicBezTo>
                    <a:pt x="31325" y="285553"/>
                    <a:pt x="27978" y="281733"/>
                    <a:pt x="27500" y="277435"/>
                  </a:cubicBezTo>
                  <a:lnTo>
                    <a:pt x="246" y="82132"/>
                  </a:lnTo>
                  <a:cubicBezTo>
                    <a:pt x="-710" y="77835"/>
                    <a:pt x="1203" y="73060"/>
                    <a:pt x="4550" y="70194"/>
                  </a:cubicBezTo>
                  <a:cubicBezTo>
                    <a:pt x="8375" y="67807"/>
                    <a:pt x="13156" y="66852"/>
                    <a:pt x="17459" y="68762"/>
                  </a:cubicBezTo>
                  <a:lnTo>
                    <a:pt x="80574" y="94070"/>
                  </a:lnTo>
                  <a:cubicBezTo>
                    <a:pt x="137472" y="33426"/>
                    <a:pt x="214931" y="0"/>
                    <a:pt x="29812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5" name="任意多边形 271"/>
            <p:cNvSpPr/>
            <p:nvPr/>
          </p:nvSpPr>
          <p:spPr>
            <a:xfrm>
              <a:off x="1824840" y="2346840"/>
              <a:ext cx="628560" cy="614160"/>
            </a:xfrm>
            <a:custGeom>
              <a:avLst/>
              <a:gdLst/>
              <a:ahLst/>
              <a:rect l="l" t="t" r="r" b="b"/>
              <a:pathLst>
                <a:path w="6827" h="5912">
                  <a:moveTo>
                    <a:pt x="3413" y="0"/>
                  </a:moveTo>
                  <a:lnTo>
                    <a:pt x="0" y="5912"/>
                  </a:lnTo>
                  <a:lnTo>
                    <a:pt x="6827" y="5912"/>
                  </a:lnTo>
                  <a:lnTo>
                    <a:pt x="3413" y="0"/>
                  </a:lnTo>
                  <a:close/>
                  <a:moveTo>
                    <a:pt x="3413" y="972"/>
                  </a:moveTo>
                  <a:lnTo>
                    <a:pt x="4489" y="2835"/>
                  </a:lnTo>
                  <a:lnTo>
                    <a:pt x="2338" y="2835"/>
                  </a:lnTo>
                  <a:lnTo>
                    <a:pt x="3413" y="972"/>
                  </a:lnTo>
                  <a:close/>
                  <a:moveTo>
                    <a:pt x="842" y="5426"/>
                  </a:moveTo>
                  <a:lnTo>
                    <a:pt x="1917" y="3564"/>
                  </a:lnTo>
                  <a:lnTo>
                    <a:pt x="2993" y="5426"/>
                  </a:lnTo>
                  <a:lnTo>
                    <a:pt x="842" y="5426"/>
                  </a:lnTo>
                  <a:close/>
                  <a:moveTo>
                    <a:pt x="2338" y="3321"/>
                  </a:moveTo>
                  <a:lnTo>
                    <a:pt x="4489" y="3321"/>
                  </a:lnTo>
                  <a:lnTo>
                    <a:pt x="3413" y="5183"/>
                  </a:lnTo>
                  <a:lnTo>
                    <a:pt x="2338" y="3321"/>
                  </a:lnTo>
                  <a:close/>
                  <a:moveTo>
                    <a:pt x="4910" y="3564"/>
                  </a:moveTo>
                  <a:lnTo>
                    <a:pt x="5985" y="5426"/>
                  </a:lnTo>
                  <a:lnTo>
                    <a:pt x="3834" y="5426"/>
                  </a:lnTo>
                  <a:lnTo>
                    <a:pt x="4910" y="35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6" name="任意多边形 272"/>
            <p:cNvSpPr/>
            <p:nvPr/>
          </p:nvSpPr>
          <p:spPr>
            <a:xfrm>
              <a:off x="862920" y="3947400"/>
              <a:ext cx="367920" cy="359640"/>
            </a:xfrm>
            <a:custGeom>
              <a:avLst/>
              <a:gdLst/>
              <a:ahLst/>
              <a:rect l="l" t="t" r="r" b="b"/>
              <a:pathLst>
                <a:path w="582235" h="606722">
                  <a:moveTo>
                    <a:pt x="0" y="404481"/>
                  </a:moveTo>
                  <a:lnTo>
                    <a:pt x="101261" y="404481"/>
                  </a:lnTo>
                  <a:lnTo>
                    <a:pt x="101261" y="606722"/>
                  </a:lnTo>
                  <a:lnTo>
                    <a:pt x="0" y="606722"/>
                  </a:lnTo>
                  <a:lnTo>
                    <a:pt x="0" y="404481"/>
                  </a:lnTo>
                  <a:close/>
                  <a:moveTo>
                    <a:pt x="151927" y="328623"/>
                  </a:moveTo>
                  <a:lnTo>
                    <a:pt x="253188" y="328623"/>
                  </a:lnTo>
                  <a:lnTo>
                    <a:pt x="253188" y="606722"/>
                  </a:lnTo>
                  <a:lnTo>
                    <a:pt x="151927" y="606722"/>
                  </a:lnTo>
                  <a:lnTo>
                    <a:pt x="151927" y="328623"/>
                  </a:lnTo>
                  <a:close/>
                  <a:moveTo>
                    <a:pt x="303855" y="252766"/>
                  </a:moveTo>
                  <a:lnTo>
                    <a:pt x="405046" y="252766"/>
                  </a:lnTo>
                  <a:lnTo>
                    <a:pt x="405046" y="606722"/>
                  </a:lnTo>
                  <a:lnTo>
                    <a:pt x="303855" y="606722"/>
                  </a:lnTo>
                  <a:lnTo>
                    <a:pt x="303855" y="252766"/>
                  </a:lnTo>
                  <a:close/>
                  <a:moveTo>
                    <a:pt x="455711" y="202241"/>
                  </a:moveTo>
                  <a:lnTo>
                    <a:pt x="556972" y="202241"/>
                  </a:lnTo>
                  <a:lnTo>
                    <a:pt x="556972" y="606722"/>
                  </a:lnTo>
                  <a:lnTo>
                    <a:pt x="455711" y="606722"/>
                  </a:lnTo>
                  <a:lnTo>
                    <a:pt x="455711" y="202241"/>
                  </a:lnTo>
                  <a:close/>
                  <a:moveTo>
                    <a:pt x="455697" y="0"/>
                  </a:moveTo>
                  <a:lnTo>
                    <a:pt x="556785" y="0"/>
                  </a:lnTo>
                  <a:lnTo>
                    <a:pt x="556874" y="0"/>
                  </a:lnTo>
                  <a:lnTo>
                    <a:pt x="556963" y="0"/>
                  </a:lnTo>
                  <a:cubicBezTo>
                    <a:pt x="557230" y="0"/>
                    <a:pt x="557408" y="0"/>
                    <a:pt x="557675" y="0"/>
                  </a:cubicBezTo>
                  <a:cubicBezTo>
                    <a:pt x="558298" y="89"/>
                    <a:pt x="558832" y="89"/>
                    <a:pt x="559366" y="89"/>
                  </a:cubicBezTo>
                  <a:cubicBezTo>
                    <a:pt x="559811" y="178"/>
                    <a:pt x="560256" y="267"/>
                    <a:pt x="560611" y="267"/>
                  </a:cubicBezTo>
                  <a:cubicBezTo>
                    <a:pt x="561056" y="356"/>
                    <a:pt x="561412" y="444"/>
                    <a:pt x="561857" y="444"/>
                  </a:cubicBezTo>
                  <a:cubicBezTo>
                    <a:pt x="562302" y="533"/>
                    <a:pt x="562747" y="711"/>
                    <a:pt x="563192" y="800"/>
                  </a:cubicBezTo>
                  <a:cubicBezTo>
                    <a:pt x="563548" y="889"/>
                    <a:pt x="563904" y="978"/>
                    <a:pt x="564171" y="1067"/>
                  </a:cubicBezTo>
                  <a:cubicBezTo>
                    <a:pt x="564616" y="1156"/>
                    <a:pt x="565061" y="1333"/>
                    <a:pt x="565506" y="1511"/>
                  </a:cubicBezTo>
                  <a:cubicBezTo>
                    <a:pt x="565862" y="1600"/>
                    <a:pt x="566218" y="1778"/>
                    <a:pt x="566574" y="1867"/>
                  </a:cubicBezTo>
                  <a:cubicBezTo>
                    <a:pt x="566929" y="2044"/>
                    <a:pt x="567285" y="2222"/>
                    <a:pt x="567730" y="2400"/>
                  </a:cubicBezTo>
                  <a:cubicBezTo>
                    <a:pt x="568086" y="2578"/>
                    <a:pt x="568442" y="2755"/>
                    <a:pt x="568798" y="2933"/>
                  </a:cubicBezTo>
                  <a:cubicBezTo>
                    <a:pt x="569154" y="3111"/>
                    <a:pt x="569421" y="3289"/>
                    <a:pt x="569777" y="3467"/>
                  </a:cubicBezTo>
                  <a:cubicBezTo>
                    <a:pt x="570133" y="3733"/>
                    <a:pt x="570578" y="4000"/>
                    <a:pt x="570934" y="4178"/>
                  </a:cubicBezTo>
                  <a:cubicBezTo>
                    <a:pt x="571201" y="4444"/>
                    <a:pt x="571557" y="4622"/>
                    <a:pt x="571824" y="4800"/>
                  </a:cubicBezTo>
                  <a:cubicBezTo>
                    <a:pt x="572180" y="5155"/>
                    <a:pt x="572536" y="5422"/>
                    <a:pt x="572891" y="5689"/>
                  </a:cubicBezTo>
                  <a:cubicBezTo>
                    <a:pt x="573247" y="5955"/>
                    <a:pt x="573514" y="6222"/>
                    <a:pt x="573781" y="6489"/>
                  </a:cubicBezTo>
                  <a:cubicBezTo>
                    <a:pt x="574137" y="6755"/>
                    <a:pt x="574493" y="7022"/>
                    <a:pt x="574760" y="7289"/>
                  </a:cubicBezTo>
                  <a:cubicBezTo>
                    <a:pt x="575205" y="7733"/>
                    <a:pt x="575561" y="8178"/>
                    <a:pt x="575917" y="8533"/>
                  </a:cubicBezTo>
                  <a:cubicBezTo>
                    <a:pt x="576095" y="8711"/>
                    <a:pt x="576273" y="8889"/>
                    <a:pt x="576451" y="9066"/>
                  </a:cubicBezTo>
                  <a:cubicBezTo>
                    <a:pt x="576451" y="9155"/>
                    <a:pt x="576451" y="9155"/>
                    <a:pt x="576451" y="9155"/>
                  </a:cubicBezTo>
                  <a:cubicBezTo>
                    <a:pt x="576985" y="9777"/>
                    <a:pt x="577519" y="10489"/>
                    <a:pt x="577964" y="11200"/>
                  </a:cubicBezTo>
                  <a:cubicBezTo>
                    <a:pt x="577964" y="11200"/>
                    <a:pt x="578053" y="11289"/>
                    <a:pt x="578053" y="11289"/>
                  </a:cubicBezTo>
                  <a:cubicBezTo>
                    <a:pt x="578498" y="12000"/>
                    <a:pt x="578854" y="12622"/>
                    <a:pt x="579209" y="13244"/>
                  </a:cubicBezTo>
                  <a:cubicBezTo>
                    <a:pt x="579387" y="13600"/>
                    <a:pt x="579565" y="13955"/>
                    <a:pt x="579743" y="14222"/>
                  </a:cubicBezTo>
                  <a:cubicBezTo>
                    <a:pt x="579921" y="14666"/>
                    <a:pt x="580099" y="15111"/>
                    <a:pt x="580277" y="15555"/>
                  </a:cubicBezTo>
                  <a:cubicBezTo>
                    <a:pt x="580455" y="15911"/>
                    <a:pt x="580633" y="16266"/>
                    <a:pt x="580722" y="16711"/>
                  </a:cubicBezTo>
                  <a:cubicBezTo>
                    <a:pt x="580900" y="17066"/>
                    <a:pt x="581078" y="17422"/>
                    <a:pt x="581167" y="17866"/>
                  </a:cubicBezTo>
                  <a:cubicBezTo>
                    <a:pt x="581256" y="18311"/>
                    <a:pt x="581434" y="18755"/>
                    <a:pt x="581523" y="19199"/>
                  </a:cubicBezTo>
                  <a:cubicBezTo>
                    <a:pt x="581612" y="19555"/>
                    <a:pt x="581701" y="19910"/>
                    <a:pt x="581790" y="20266"/>
                  </a:cubicBezTo>
                  <a:cubicBezTo>
                    <a:pt x="581879" y="20977"/>
                    <a:pt x="582057" y="21777"/>
                    <a:pt x="582146" y="22488"/>
                  </a:cubicBezTo>
                  <a:cubicBezTo>
                    <a:pt x="582146" y="22577"/>
                    <a:pt x="582146" y="22666"/>
                    <a:pt x="582146" y="22666"/>
                  </a:cubicBezTo>
                  <a:cubicBezTo>
                    <a:pt x="582235" y="23555"/>
                    <a:pt x="582235" y="24355"/>
                    <a:pt x="582235" y="25244"/>
                  </a:cubicBezTo>
                  <a:lnTo>
                    <a:pt x="582235" y="126396"/>
                  </a:lnTo>
                  <a:cubicBezTo>
                    <a:pt x="582235" y="140351"/>
                    <a:pt x="570934" y="151728"/>
                    <a:pt x="556963" y="151728"/>
                  </a:cubicBezTo>
                  <a:cubicBezTo>
                    <a:pt x="542992" y="151728"/>
                    <a:pt x="531691" y="140351"/>
                    <a:pt x="531691" y="126396"/>
                  </a:cubicBezTo>
                  <a:lnTo>
                    <a:pt x="531691" y="79286"/>
                  </a:lnTo>
                  <a:lnTo>
                    <a:pt x="421260" y="171106"/>
                  </a:lnTo>
                  <a:cubicBezTo>
                    <a:pt x="410582" y="180083"/>
                    <a:pt x="394564" y="178572"/>
                    <a:pt x="385666" y="167906"/>
                  </a:cubicBezTo>
                  <a:cubicBezTo>
                    <a:pt x="376678" y="157150"/>
                    <a:pt x="378191" y="141240"/>
                    <a:pt x="388869" y="132262"/>
                  </a:cubicBezTo>
                  <a:lnTo>
                    <a:pt x="487020" y="50576"/>
                  </a:lnTo>
                  <a:lnTo>
                    <a:pt x="455697" y="50576"/>
                  </a:lnTo>
                  <a:cubicBezTo>
                    <a:pt x="441727" y="50576"/>
                    <a:pt x="430425" y="39288"/>
                    <a:pt x="430425" y="25244"/>
                  </a:cubicBezTo>
                  <a:cubicBezTo>
                    <a:pt x="430425" y="11289"/>
                    <a:pt x="441727" y="0"/>
                    <a:pt x="45569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7" name="任意多边形 277"/>
            <p:cNvSpPr/>
            <p:nvPr/>
          </p:nvSpPr>
          <p:spPr>
            <a:xfrm flipH="1">
              <a:off x="2319840" y="3441600"/>
              <a:ext cx="497160" cy="51696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914f9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8" name="任意多边形 278"/>
            <p:cNvSpPr/>
            <p:nvPr/>
          </p:nvSpPr>
          <p:spPr>
            <a:xfrm flipH="1">
              <a:off x="1231920" y="3501000"/>
              <a:ext cx="2021760" cy="276480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9dc3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29" name="组合 40"/>
          <p:cNvGrpSpPr/>
          <p:nvPr/>
        </p:nvGrpSpPr>
        <p:grpSpPr>
          <a:xfrm>
            <a:off x="4079880" y="3687840"/>
            <a:ext cx="6848640" cy="574560"/>
            <a:chOff x="4079880" y="3687840"/>
            <a:chExt cx="6848640" cy="574560"/>
          </a:xfrm>
        </p:grpSpPr>
        <p:sp>
          <p:nvSpPr>
            <p:cNvPr id="2230" name="任意多边形 19"/>
            <p:cNvSpPr/>
            <p:nvPr/>
          </p:nvSpPr>
          <p:spPr>
            <a:xfrm>
              <a:off x="4079880" y="3687840"/>
              <a:ext cx="628560" cy="574560"/>
            </a:xfrm>
            <a:prstGeom prst="pie">
              <a:avLst/>
            </a:prstGeom>
            <a:solidFill>
              <a:srgbClr val="5e5ca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3</a:t>
              </a:r>
              <a:endParaRPr b="1" lang="en-US" sz="2400" spc="-1" strike="noStrike">
                <a:solidFill>
                  <a:srgbClr val="000000"/>
                </a:solidFill>
                <a:latin typeface="Arial"/>
              </a:endParaRPr>
            </a:p>
          </p:txBody>
        </p:sp>
        <p:sp>
          <p:nvSpPr>
            <p:cNvPr id="2231" name="矩形 42"/>
            <p:cNvSpPr/>
            <p:nvPr/>
          </p:nvSpPr>
          <p:spPr>
            <a:xfrm>
              <a:off x="4874040" y="3834720"/>
              <a:ext cx="6054480" cy="11880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实地检查重要固定资产，确定是否实际存在</a:t>
              </a:r>
              <a:endParaRPr b="1" lang="en-US" sz="2400" spc="-1" strike="noStrike">
                <a:solidFill>
                  <a:srgbClr val="000000"/>
                </a:solidFill>
                <a:latin typeface="Arial"/>
              </a:endParaRPr>
            </a:p>
          </p:txBody>
        </p:sp>
      </p:grpSp>
      <p:pic>
        <p:nvPicPr>
          <p:cNvPr id="2232" name="文本框 31" descr=""/>
          <p:cNvPicPr/>
          <p:nvPr/>
        </p:nvPicPr>
        <p:blipFill>
          <a:blip r:embed="rId1"/>
          <a:stretch/>
        </p:blipFill>
        <p:spPr>
          <a:xfrm>
            <a:off x="2473200" y="177840"/>
            <a:ext cx="7404120" cy="687240"/>
          </a:xfrm>
          <a:prstGeom prst="rect">
            <a:avLst/>
          </a:prstGeom>
          <a:ln w="0">
            <a:noFill/>
          </a:ln>
        </p:spPr>
      </p:pic>
    </p:spTree>
  </p:cSld>
  <p:transition>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dur="indefinite" nodeType="afterEffect" fill="hold" presetClass="entr" presetID="2" presetSubtype="4">
                                  <p:stCondLst>
                                    <p:cond delay="0"/>
                                  </p:stCondLst>
                                  <p:childTnLst>
                                    <p:set>
                                      <p:cBhvr>
                                        <p:cTn id="138" dur="1" fill="hold">
                                          <p:stCondLst>
                                            <p:cond delay="0"/>
                                          </p:stCondLst>
                                        </p:cTn>
                                        <p:tgtEl>
                                          <p:spTgt spid="2202"/>
                                        </p:tgtEl>
                                        <p:attrNameLst>
                                          <p:attrName>style.visibility</p:attrName>
                                        </p:attrNameLst>
                                      </p:cBhvr>
                                      <p:to>
                                        <p:strVal val="visible"/>
                                      </p:to>
                                    </p:set>
                                    <p:anim calcmode="lin" valueType="num">
                                      <p:cBhvr additive="repl">
                                        <p:cTn id="139" dur="500" fill="hold"/>
                                        <p:tgtEl>
                                          <p:spTgt spid="2202"/>
                                        </p:tgtEl>
                                        <p:attrNameLst>
                                          <p:attrName>ppt_x</p:attrName>
                                        </p:attrNameLst>
                                      </p:cBhvr>
                                      <p:tavLst>
                                        <p:tav tm="0">
                                          <p:val>
                                            <p:strVal val="#ppt_x"/>
                                          </p:val>
                                        </p:tav>
                                        <p:tav tm="100000">
                                          <p:val>
                                            <p:strVal val="#ppt_x"/>
                                          </p:val>
                                        </p:tav>
                                      </p:tavLst>
                                    </p:anim>
                                    <p:anim calcmode="lin" valueType="num">
                                      <p:cBhvr additive="repl">
                                        <p:cTn id="140" dur="500" fill="hold"/>
                                        <p:tgtEl>
                                          <p:spTgt spid="2202"/>
                                        </p:tgtEl>
                                        <p:attrNameLst>
                                          <p:attrName>ppt_y</p:attrName>
                                        </p:attrNameLst>
                                      </p:cBhvr>
                                      <p:tavLst>
                                        <p:tav tm="0">
                                          <p:val>
                                            <p:strVal val="1+#ppt_h/2"/>
                                          </p:val>
                                        </p:tav>
                                        <p:tav tm="100000">
                                          <p:val>
                                            <p:strVal val="#ppt_y"/>
                                          </p:val>
                                        </p:tav>
                                      </p:tavLst>
                                    </p:anim>
                                  </p:childTnLst>
                                </p:cTn>
                              </p:par>
                            </p:childTnLst>
                          </p:cTn>
                        </p:par>
                        <p:par>
                          <p:cTn id="141" fill="hold">
                            <p:stCondLst>
                              <p:cond delay="500"/>
                            </p:stCondLst>
                            <p:childTnLst>
                              <p:par>
                                <p:cTn id="142" dur="indefinite" nodeType="afterEffect" fill="hold" presetClass="entr" presetID="2" presetSubtype="4">
                                  <p:stCondLst>
                                    <p:cond delay="0"/>
                                  </p:stCondLst>
                                  <p:childTnLst>
                                    <p:set>
                                      <p:cBhvr>
                                        <p:cTn id="143" dur="1" fill="hold">
                                          <p:stCondLst>
                                            <p:cond delay="0"/>
                                          </p:stCondLst>
                                        </p:cTn>
                                        <p:tgtEl>
                                          <p:spTgt spid="2205"/>
                                        </p:tgtEl>
                                        <p:attrNameLst>
                                          <p:attrName>style.visibility</p:attrName>
                                        </p:attrNameLst>
                                      </p:cBhvr>
                                      <p:to>
                                        <p:strVal val="visible"/>
                                      </p:to>
                                    </p:set>
                                    <p:anim calcmode="lin" valueType="num">
                                      <p:cBhvr additive="repl">
                                        <p:cTn id="144" dur="500" fill="hold"/>
                                        <p:tgtEl>
                                          <p:spTgt spid="2205"/>
                                        </p:tgtEl>
                                        <p:attrNameLst>
                                          <p:attrName>ppt_x</p:attrName>
                                        </p:attrNameLst>
                                      </p:cBhvr>
                                      <p:tavLst>
                                        <p:tav tm="0">
                                          <p:val>
                                            <p:strVal val="#ppt_x"/>
                                          </p:val>
                                        </p:tav>
                                        <p:tav tm="100000">
                                          <p:val>
                                            <p:strVal val="#ppt_x"/>
                                          </p:val>
                                        </p:tav>
                                      </p:tavLst>
                                    </p:anim>
                                    <p:anim calcmode="lin" valueType="num">
                                      <p:cBhvr additive="repl">
                                        <p:cTn id="145" dur="500" fill="hold"/>
                                        <p:tgtEl>
                                          <p:spTgt spid="2205"/>
                                        </p:tgtEl>
                                        <p:attrNameLst>
                                          <p:attrName>ppt_y</p:attrName>
                                        </p:attrNameLst>
                                      </p:cBhvr>
                                      <p:tavLst>
                                        <p:tav tm="0">
                                          <p:val>
                                            <p:strVal val="1+#ppt_h/2"/>
                                          </p:val>
                                        </p:tav>
                                        <p:tav tm="100000">
                                          <p:val>
                                            <p:strVal val="#ppt_y"/>
                                          </p:val>
                                        </p:tav>
                                      </p:tavLst>
                                    </p:anim>
                                  </p:childTnLst>
                                </p:cTn>
                              </p:par>
                            </p:childTnLst>
                          </p:cTn>
                        </p:par>
                        <p:par>
                          <p:cTn id="146" fill="hold">
                            <p:stCondLst>
                              <p:cond delay="1000"/>
                            </p:stCondLst>
                            <p:childTnLst>
                              <p:par>
                                <p:cTn id="147" dur="indefinite" nodeType="afterEffect" fill="hold" presetClass="entr" presetID="2" presetSubtype="4">
                                  <p:stCondLst>
                                    <p:cond delay="0"/>
                                  </p:stCondLst>
                                  <p:childTnLst>
                                    <p:set>
                                      <p:cBhvr>
                                        <p:cTn id="148" dur="1" fill="hold">
                                          <p:stCondLst>
                                            <p:cond delay="0"/>
                                          </p:stCondLst>
                                        </p:cTn>
                                        <p:tgtEl>
                                          <p:spTgt spid="2208"/>
                                        </p:tgtEl>
                                        <p:attrNameLst>
                                          <p:attrName>style.visibility</p:attrName>
                                        </p:attrNameLst>
                                      </p:cBhvr>
                                      <p:to>
                                        <p:strVal val="visible"/>
                                      </p:to>
                                    </p:set>
                                    <p:anim calcmode="lin" valueType="num">
                                      <p:cBhvr additive="repl">
                                        <p:cTn id="149" dur="500" fill="hold"/>
                                        <p:tgtEl>
                                          <p:spTgt spid="2208"/>
                                        </p:tgtEl>
                                        <p:attrNameLst>
                                          <p:attrName>ppt_x</p:attrName>
                                        </p:attrNameLst>
                                      </p:cBhvr>
                                      <p:tavLst>
                                        <p:tav tm="0">
                                          <p:val>
                                            <p:strVal val="#ppt_x"/>
                                          </p:val>
                                        </p:tav>
                                        <p:tav tm="100000">
                                          <p:val>
                                            <p:strVal val="#ppt_x"/>
                                          </p:val>
                                        </p:tav>
                                      </p:tavLst>
                                    </p:anim>
                                    <p:anim calcmode="lin" valueType="num">
                                      <p:cBhvr additive="repl">
                                        <p:cTn id="150" dur="500" fill="hold"/>
                                        <p:tgtEl>
                                          <p:spTgt spid="2208"/>
                                        </p:tgtEl>
                                        <p:attrNameLst>
                                          <p:attrName>ppt_y</p:attrName>
                                        </p:attrNameLst>
                                      </p:cBhvr>
                                      <p:tavLst>
                                        <p:tav tm="0">
                                          <p:val>
                                            <p:strVal val="1+#ppt_h/2"/>
                                          </p:val>
                                        </p:tav>
                                        <p:tav tm="100000">
                                          <p:val>
                                            <p:strVal val="#ppt_y"/>
                                          </p:val>
                                        </p:tav>
                                      </p:tavLst>
                                    </p:anim>
                                  </p:childTnLst>
                                </p:cTn>
                              </p:par>
                            </p:childTnLst>
                          </p:cTn>
                        </p:par>
                        <p:par>
                          <p:cTn id="151" fill="hold">
                            <p:stCondLst>
                              <p:cond delay="1500"/>
                            </p:stCondLst>
                            <p:childTnLst>
                              <p:par>
                                <p:cTn id="152" dur="indefinite" nodeType="afterEffect" fill="hold" presetClass="entr" presetID="2" presetSubtype="4">
                                  <p:stCondLst>
                                    <p:cond delay="0"/>
                                  </p:stCondLst>
                                  <p:childTnLst>
                                    <p:set>
                                      <p:cBhvr>
                                        <p:cTn id="153" dur="1" fill="hold">
                                          <p:stCondLst>
                                            <p:cond delay="0"/>
                                          </p:stCondLst>
                                        </p:cTn>
                                        <p:tgtEl>
                                          <p:spTgt spid="2211"/>
                                        </p:tgtEl>
                                        <p:attrNameLst>
                                          <p:attrName>style.visibility</p:attrName>
                                        </p:attrNameLst>
                                      </p:cBhvr>
                                      <p:to>
                                        <p:strVal val="visible"/>
                                      </p:to>
                                    </p:set>
                                    <p:anim calcmode="lin" valueType="num">
                                      <p:cBhvr additive="repl">
                                        <p:cTn id="154" dur="500" fill="hold"/>
                                        <p:tgtEl>
                                          <p:spTgt spid="2211"/>
                                        </p:tgtEl>
                                        <p:attrNameLst>
                                          <p:attrName>ppt_x</p:attrName>
                                        </p:attrNameLst>
                                      </p:cBhvr>
                                      <p:tavLst>
                                        <p:tav tm="0">
                                          <p:val>
                                            <p:strVal val="#ppt_x"/>
                                          </p:val>
                                        </p:tav>
                                        <p:tav tm="100000">
                                          <p:val>
                                            <p:strVal val="#ppt_x"/>
                                          </p:val>
                                        </p:tav>
                                      </p:tavLst>
                                    </p:anim>
                                    <p:anim calcmode="lin" valueType="num">
                                      <p:cBhvr additive="repl">
                                        <p:cTn id="155" dur="500" fill="hold"/>
                                        <p:tgtEl>
                                          <p:spTgt spid="2211"/>
                                        </p:tgtEl>
                                        <p:attrNameLst>
                                          <p:attrName>ppt_y</p:attrName>
                                        </p:attrNameLst>
                                      </p:cBhvr>
                                      <p:tavLst>
                                        <p:tav tm="0">
                                          <p:val>
                                            <p:strVal val="1+#ppt_h/2"/>
                                          </p:val>
                                        </p:tav>
                                        <p:tav tm="100000">
                                          <p:val>
                                            <p:strVal val="#ppt_y"/>
                                          </p:val>
                                        </p:tav>
                                      </p:tavLst>
                                    </p:anim>
                                  </p:childTnLst>
                                </p:cTn>
                              </p:par>
                            </p:childTnLst>
                          </p:cTn>
                        </p:par>
                        <p:par>
                          <p:cTn id="156" fill="hold">
                            <p:stCondLst>
                              <p:cond delay="2000"/>
                            </p:stCondLst>
                            <p:childTnLst>
                              <p:par>
                                <p:cTn id="157" dur="indefinite" nodeType="afterEffect" fill="hold" presetClass="entr" presetID="2" presetSubtype="4">
                                  <p:stCondLst>
                                    <p:cond delay="0"/>
                                  </p:stCondLst>
                                  <p:childTnLst>
                                    <p:set>
                                      <p:cBhvr>
                                        <p:cTn id="158" dur="1" fill="hold">
                                          <p:stCondLst>
                                            <p:cond delay="0"/>
                                          </p:stCondLst>
                                        </p:cTn>
                                        <p:tgtEl>
                                          <p:spTgt spid="2229"/>
                                        </p:tgtEl>
                                        <p:attrNameLst>
                                          <p:attrName>style.visibility</p:attrName>
                                        </p:attrNameLst>
                                      </p:cBhvr>
                                      <p:to>
                                        <p:strVal val="visible"/>
                                      </p:to>
                                    </p:set>
                                    <p:anim calcmode="lin" valueType="num">
                                      <p:cBhvr additive="repl">
                                        <p:cTn id="159" dur="500" fill="hold"/>
                                        <p:tgtEl>
                                          <p:spTgt spid="2229"/>
                                        </p:tgtEl>
                                        <p:attrNameLst>
                                          <p:attrName>ppt_x</p:attrName>
                                        </p:attrNameLst>
                                      </p:cBhvr>
                                      <p:tavLst>
                                        <p:tav tm="0">
                                          <p:val>
                                            <p:strVal val="#ppt_x"/>
                                          </p:val>
                                        </p:tav>
                                        <p:tav tm="100000">
                                          <p:val>
                                            <p:strVal val="#ppt_x"/>
                                          </p:val>
                                        </p:tav>
                                      </p:tavLst>
                                    </p:anim>
                                    <p:anim calcmode="lin" valueType="num">
                                      <p:cBhvr additive="repl">
                                        <p:cTn id="160" dur="500" fill="hold"/>
                                        <p:tgtEl>
                                          <p:spTgt spid="2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Title 6"/>
          <p:cNvSpPr/>
          <p:nvPr/>
        </p:nvSpPr>
        <p:spPr>
          <a:xfrm>
            <a:off x="1293840" y="1239840"/>
            <a:ext cx="9461520" cy="609120"/>
          </a:xfrm>
          <a:prstGeom prst="rect">
            <a:avLst/>
          </a:prstGeom>
          <a:noFill/>
          <a:ln w="0">
            <a:noFill/>
          </a:ln>
        </p:spPr>
        <p:style>
          <a:lnRef idx="0"/>
          <a:fillRef idx="0"/>
          <a:effectRef idx="0"/>
          <a:fontRef idx="minor"/>
        </p:style>
        <p:txBody>
          <a:bodyPr lIns="72000" rIns="72000" tIns="36360" bIns="36360" anchor="t">
            <a:spAutoFit/>
          </a:bodyPr>
          <a:p>
            <a:pPr algn="just">
              <a:lnSpc>
                <a:spcPct val="11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2f75b4"/>
                </a:solidFill>
                <a:latin typeface="微软雅黑"/>
                <a:ea typeface="微软雅黑"/>
              </a:rPr>
              <a:t>二、固定资产与累计折旧审计的实质性程序</a:t>
            </a:r>
            <a:endParaRPr b="1" lang="en-US" sz="3200" spc="-1" strike="noStrike">
              <a:solidFill>
                <a:srgbClr val="000000"/>
              </a:solidFill>
              <a:latin typeface="Arial"/>
            </a:endParaRPr>
          </a:p>
        </p:txBody>
      </p:sp>
      <p:grpSp>
        <p:nvGrpSpPr>
          <p:cNvPr id="2234" name="组合 91"/>
          <p:cNvGrpSpPr/>
          <p:nvPr/>
        </p:nvGrpSpPr>
        <p:grpSpPr>
          <a:xfrm>
            <a:off x="982800" y="476280"/>
            <a:ext cx="10359720" cy="0"/>
            <a:chOff x="982800" y="476280"/>
            <a:chExt cx="10359720" cy="0"/>
          </a:xfrm>
        </p:grpSpPr>
        <p:sp>
          <p:nvSpPr>
            <p:cNvPr id="2235" name="直接连接符 92"/>
            <p:cNvSpPr/>
            <p:nvPr/>
          </p:nvSpPr>
          <p:spPr>
            <a:xfrm>
              <a:off x="982800" y="4762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36" name="直接连接符 93"/>
            <p:cNvSpPr/>
            <p:nvPr/>
          </p:nvSpPr>
          <p:spPr>
            <a:xfrm>
              <a:off x="9362880" y="4762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237" name="组合 14"/>
          <p:cNvGrpSpPr/>
          <p:nvPr/>
        </p:nvGrpSpPr>
        <p:grpSpPr>
          <a:xfrm>
            <a:off x="4572000" y="3517920"/>
            <a:ext cx="7327800" cy="814320"/>
            <a:chOff x="4572000" y="3517920"/>
            <a:chExt cx="7327800" cy="814320"/>
          </a:xfrm>
        </p:grpSpPr>
        <p:sp>
          <p:nvSpPr>
            <p:cNvPr id="2238" name="任意多边形 19"/>
            <p:cNvSpPr/>
            <p:nvPr/>
          </p:nvSpPr>
          <p:spPr>
            <a:xfrm>
              <a:off x="4572000" y="3625920"/>
              <a:ext cx="494640" cy="530280"/>
            </a:xfrm>
            <a:prstGeom prst="pie">
              <a:avLst/>
            </a:prstGeom>
            <a:solidFill>
              <a:srgbClr val="5e5ca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7</a:t>
              </a:r>
              <a:endParaRPr b="1" lang="en-US" sz="2400" spc="-1" strike="noStrike">
                <a:solidFill>
                  <a:srgbClr val="000000"/>
                </a:solidFill>
                <a:latin typeface="Arial"/>
              </a:endParaRPr>
            </a:p>
          </p:txBody>
        </p:sp>
        <p:sp>
          <p:nvSpPr>
            <p:cNvPr id="2239" name="矩形 20"/>
            <p:cNvSpPr/>
            <p:nvPr/>
          </p:nvSpPr>
          <p:spPr>
            <a:xfrm>
              <a:off x="5213880" y="3517920"/>
              <a:ext cx="6685920" cy="81432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检查累计折旧金额是否正确、折旧政策和方法是否符合相关规定及折旧费 用的分配是否合理</a:t>
              </a:r>
              <a:endParaRPr b="1" lang="en-US" sz="2400" spc="-1" strike="noStrike">
                <a:solidFill>
                  <a:srgbClr val="000000"/>
                </a:solidFill>
                <a:latin typeface="Arial"/>
              </a:endParaRPr>
            </a:p>
          </p:txBody>
        </p:sp>
      </p:grpSp>
      <p:grpSp>
        <p:nvGrpSpPr>
          <p:cNvPr id="2240" name="组合 273"/>
          <p:cNvGrpSpPr/>
          <p:nvPr/>
        </p:nvGrpSpPr>
        <p:grpSpPr>
          <a:xfrm>
            <a:off x="695160" y="2133720"/>
            <a:ext cx="3097080" cy="4132080"/>
            <a:chOff x="695160" y="2133720"/>
            <a:chExt cx="3097080" cy="4132080"/>
          </a:xfrm>
        </p:grpSpPr>
        <p:sp>
          <p:nvSpPr>
            <p:cNvPr id="2241" name="任意多边形 261"/>
            <p:cNvSpPr/>
            <p:nvPr/>
          </p:nvSpPr>
          <p:spPr>
            <a:xfrm flipH="1">
              <a:off x="2322360" y="3376080"/>
              <a:ext cx="497160" cy="51624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2" name="任意多边形 262"/>
            <p:cNvSpPr/>
            <p:nvPr/>
          </p:nvSpPr>
          <p:spPr>
            <a:xfrm flipH="1">
              <a:off x="1234440" y="3434760"/>
              <a:ext cx="2021760" cy="276480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3" name="任意多边形 263"/>
            <p:cNvSpPr/>
            <p:nvPr/>
          </p:nvSpPr>
          <p:spPr>
            <a:xfrm flipH="1">
              <a:off x="695160" y="3762360"/>
              <a:ext cx="704160" cy="730440"/>
            </a:xfrm>
            <a:custGeom>
              <a:avLst/>
              <a:gdLst/>
              <a:ahLst/>
              <a:rect l="l" t="t" r="r" b="b"/>
              <a:pathLst>
                <a:path w="120000" h="120000">
                  <a:moveTo>
                    <a:pt x="120000" y="60038"/>
                  </a:moveTo>
                  <a:lnTo>
                    <a:pt x="119923" y="63127"/>
                  </a:lnTo>
                  <a:lnTo>
                    <a:pt x="119693" y="66177"/>
                  </a:lnTo>
                  <a:lnTo>
                    <a:pt x="119309" y="69189"/>
                  </a:lnTo>
                  <a:lnTo>
                    <a:pt x="118772" y="72123"/>
                  </a:lnTo>
                  <a:lnTo>
                    <a:pt x="118120" y="75057"/>
                  </a:lnTo>
                  <a:lnTo>
                    <a:pt x="117276" y="77915"/>
                  </a:lnTo>
                  <a:lnTo>
                    <a:pt x="116355" y="80694"/>
                  </a:lnTo>
                  <a:lnTo>
                    <a:pt x="115281" y="83397"/>
                  </a:lnTo>
                  <a:lnTo>
                    <a:pt x="114053" y="86023"/>
                  </a:lnTo>
                  <a:lnTo>
                    <a:pt x="112749" y="88610"/>
                  </a:lnTo>
                  <a:lnTo>
                    <a:pt x="111329" y="91119"/>
                  </a:lnTo>
                  <a:lnTo>
                    <a:pt x="109718" y="93590"/>
                  </a:lnTo>
                  <a:lnTo>
                    <a:pt x="108069" y="95907"/>
                  </a:lnTo>
                  <a:lnTo>
                    <a:pt x="106304" y="98185"/>
                  </a:lnTo>
                  <a:lnTo>
                    <a:pt x="104424" y="100386"/>
                  </a:lnTo>
                  <a:lnTo>
                    <a:pt x="102429" y="102432"/>
                  </a:lnTo>
                  <a:lnTo>
                    <a:pt x="100319" y="104440"/>
                  </a:lnTo>
                  <a:lnTo>
                    <a:pt x="98171" y="106332"/>
                  </a:lnTo>
                  <a:lnTo>
                    <a:pt x="95907" y="108108"/>
                  </a:lnTo>
                  <a:lnTo>
                    <a:pt x="93529" y="109768"/>
                  </a:lnTo>
                  <a:lnTo>
                    <a:pt x="91112" y="111312"/>
                  </a:lnTo>
                  <a:lnTo>
                    <a:pt x="88618" y="112779"/>
                  </a:lnTo>
                  <a:lnTo>
                    <a:pt x="86010" y="114131"/>
                  </a:lnTo>
                  <a:lnTo>
                    <a:pt x="83363" y="115289"/>
                  </a:lnTo>
                  <a:lnTo>
                    <a:pt x="80639" y="116370"/>
                  </a:lnTo>
                  <a:lnTo>
                    <a:pt x="77838" y="117335"/>
                  </a:lnTo>
                  <a:lnTo>
                    <a:pt x="75000" y="118146"/>
                  </a:lnTo>
                  <a:lnTo>
                    <a:pt x="72084" y="118803"/>
                  </a:lnTo>
                  <a:lnTo>
                    <a:pt x="69168" y="119343"/>
                  </a:lnTo>
                  <a:lnTo>
                    <a:pt x="66138" y="119729"/>
                  </a:lnTo>
                  <a:lnTo>
                    <a:pt x="63107" y="119922"/>
                  </a:lnTo>
                  <a:lnTo>
                    <a:pt x="60000" y="119999"/>
                  </a:lnTo>
                  <a:lnTo>
                    <a:pt x="56930" y="119922"/>
                  </a:lnTo>
                  <a:lnTo>
                    <a:pt x="53861" y="119729"/>
                  </a:lnTo>
                  <a:lnTo>
                    <a:pt x="50869" y="119343"/>
                  </a:lnTo>
                  <a:lnTo>
                    <a:pt x="47915" y="118803"/>
                  </a:lnTo>
                  <a:lnTo>
                    <a:pt x="45038" y="118146"/>
                  </a:lnTo>
                  <a:lnTo>
                    <a:pt x="42161" y="117335"/>
                  </a:lnTo>
                  <a:lnTo>
                    <a:pt x="39360" y="116370"/>
                  </a:lnTo>
                  <a:lnTo>
                    <a:pt x="36636" y="115289"/>
                  </a:lnTo>
                  <a:lnTo>
                    <a:pt x="33951" y="114131"/>
                  </a:lnTo>
                  <a:lnTo>
                    <a:pt x="31381" y="112779"/>
                  </a:lnTo>
                  <a:lnTo>
                    <a:pt x="28887" y="111312"/>
                  </a:lnTo>
                  <a:lnTo>
                    <a:pt x="26432" y="109768"/>
                  </a:lnTo>
                  <a:lnTo>
                    <a:pt x="24053" y="108108"/>
                  </a:lnTo>
                  <a:lnTo>
                    <a:pt x="21828" y="106332"/>
                  </a:lnTo>
                  <a:lnTo>
                    <a:pt x="19641" y="104440"/>
                  </a:lnTo>
                  <a:lnTo>
                    <a:pt x="17570" y="102432"/>
                  </a:lnTo>
                  <a:lnTo>
                    <a:pt x="15537" y="100386"/>
                  </a:lnTo>
                  <a:lnTo>
                    <a:pt x="13657" y="98185"/>
                  </a:lnTo>
                  <a:lnTo>
                    <a:pt x="11930" y="95907"/>
                  </a:lnTo>
                  <a:lnTo>
                    <a:pt x="10242" y="93590"/>
                  </a:lnTo>
                  <a:lnTo>
                    <a:pt x="8670" y="91119"/>
                  </a:lnTo>
                  <a:lnTo>
                    <a:pt x="7212" y="88610"/>
                  </a:lnTo>
                  <a:lnTo>
                    <a:pt x="5907" y="86023"/>
                  </a:lnTo>
                  <a:lnTo>
                    <a:pt x="4680" y="83397"/>
                  </a:lnTo>
                  <a:lnTo>
                    <a:pt x="3606" y="80694"/>
                  </a:lnTo>
                  <a:lnTo>
                    <a:pt x="2685" y="77915"/>
                  </a:lnTo>
                  <a:lnTo>
                    <a:pt x="1879" y="75057"/>
                  </a:lnTo>
                  <a:lnTo>
                    <a:pt x="1189" y="72123"/>
                  </a:lnTo>
                  <a:lnTo>
                    <a:pt x="690" y="69189"/>
                  </a:lnTo>
                  <a:lnTo>
                    <a:pt x="268" y="66177"/>
                  </a:lnTo>
                  <a:lnTo>
                    <a:pt x="76" y="63127"/>
                  </a:lnTo>
                  <a:lnTo>
                    <a:pt x="0" y="60038"/>
                  </a:lnTo>
                  <a:lnTo>
                    <a:pt x="76" y="56949"/>
                  </a:lnTo>
                  <a:lnTo>
                    <a:pt x="268" y="53899"/>
                  </a:lnTo>
                  <a:lnTo>
                    <a:pt x="690" y="50888"/>
                  </a:lnTo>
                  <a:lnTo>
                    <a:pt x="1189" y="47953"/>
                  </a:lnTo>
                  <a:lnTo>
                    <a:pt x="1879" y="45057"/>
                  </a:lnTo>
                  <a:lnTo>
                    <a:pt x="2685" y="42200"/>
                  </a:lnTo>
                  <a:lnTo>
                    <a:pt x="3606" y="39420"/>
                  </a:lnTo>
                  <a:lnTo>
                    <a:pt x="4680" y="36718"/>
                  </a:lnTo>
                  <a:lnTo>
                    <a:pt x="5907" y="34015"/>
                  </a:lnTo>
                  <a:lnTo>
                    <a:pt x="7212" y="31428"/>
                  </a:lnTo>
                  <a:lnTo>
                    <a:pt x="8670" y="28957"/>
                  </a:lnTo>
                  <a:lnTo>
                    <a:pt x="10242" y="26486"/>
                  </a:lnTo>
                  <a:lnTo>
                    <a:pt x="11930" y="24131"/>
                  </a:lnTo>
                  <a:lnTo>
                    <a:pt x="13657" y="21891"/>
                  </a:lnTo>
                  <a:lnTo>
                    <a:pt x="15537" y="19729"/>
                  </a:lnTo>
                  <a:lnTo>
                    <a:pt x="17570" y="17644"/>
                  </a:lnTo>
                  <a:lnTo>
                    <a:pt x="19641" y="15637"/>
                  </a:lnTo>
                  <a:lnTo>
                    <a:pt x="21828" y="13745"/>
                  </a:lnTo>
                  <a:lnTo>
                    <a:pt x="24053" y="11969"/>
                  </a:lnTo>
                  <a:lnTo>
                    <a:pt x="26432" y="10270"/>
                  </a:lnTo>
                  <a:lnTo>
                    <a:pt x="28887" y="8725"/>
                  </a:lnTo>
                  <a:lnTo>
                    <a:pt x="31381" y="7297"/>
                  </a:lnTo>
                  <a:lnTo>
                    <a:pt x="33951" y="5945"/>
                  </a:lnTo>
                  <a:lnTo>
                    <a:pt x="36636" y="4749"/>
                  </a:lnTo>
                  <a:lnTo>
                    <a:pt x="39360" y="3706"/>
                  </a:lnTo>
                  <a:lnTo>
                    <a:pt x="42161" y="2741"/>
                  </a:lnTo>
                  <a:lnTo>
                    <a:pt x="45038" y="1930"/>
                  </a:lnTo>
                  <a:lnTo>
                    <a:pt x="47915" y="1274"/>
                  </a:lnTo>
                  <a:lnTo>
                    <a:pt x="50869" y="733"/>
                  </a:lnTo>
                  <a:lnTo>
                    <a:pt x="53861" y="347"/>
                  </a:lnTo>
                  <a:lnTo>
                    <a:pt x="56930" y="115"/>
                  </a:lnTo>
                  <a:lnTo>
                    <a:pt x="60000" y="0"/>
                  </a:lnTo>
                  <a:lnTo>
                    <a:pt x="63107" y="115"/>
                  </a:lnTo>
                  <a:lnTo>
                    <a:pt x="66138" y="347"/>
                  </a:lnTo>
                  <a:lnTo>
                    <a:pt x="69168" y="733"/>
                  </a:lnTo>
                  <a:lnTo>
                    <a:pt x="72084" y="1274"/>
                  </a:lnTo>
                  <a:lnTo>
                    <a:pt x="75000" y="1930"/>
                  </a:lnTo>
                  <a:lnTo>
                    <a:pt x="77838" y="2741"/>
                  </a:lnTo>
                  <a:lnTo>
                    <a:pt x="80639" y="3706"/>
                  </a:lnTo>
                  <a:lnTo>
                    <a:pt x="83363" y="4749"/>
                  </a:lnTo>
                  <a:lnTo>
                    <a:pt x="86010" y="5945"/>
                  </a:lnTo>
                  <a:lnTo>
                    <a:pt x="88618" y="7297"/>
                  </a:lnTo>
                  <a:lnTo>
                    <a:pt x="91112" y="8725"/>
                  </a:lnTo>
                  <a:lnTo>
                    <a:pt x="93529" y="10270"/>
                  </a:lnTo>
                  <a:lnTo>
                    <a:pt x="95907" y="11969"/>
                  </a:lnTo>
                  <a:lnTo>
                    <a:pt x="98171" y="13745"/>
                  </a:lnTo>
                  <a:lnTo>
                    <a:pt x="100319" y="15637"/>
                  </a:lnTo>
                  <a:lnTo>
                    <a:pt x="102429" y="17644"/>
                  </a:lnTo>
                  <a:lnTo>
                    <a:pt x="104424" y="19729"/>
                  </a:lnTo>
                  <a:lnTo>
                    <a:pt x="106304" y="21891"/>
                  </a:lnTo>
                  <a:lnTo>
                    <a:pt x="108069" y="24131"/>
                  </a:lnTo>
                  <a:lnTo>
                    <a:pt x="109718" y="26486"/>
                  </a:lnTo>
                  <a:lnTo>
                    <a:pt x="111329" y="28957"/>
                  </a:lnTo>
                  <a:lnTo>
                    <a:pt x="112749" y="31428"/>
                  </a:lnTo>
                  <a:lnTo>
                    <a:pt x="114053" y="34015"/>
                  </a:lnTo>
                  <a:lnTo>
                    <a:pt x="115281" y="36718"/>
                  </a:lnTo>
                  <a:lnTo>
                    <a:pt x="116355" y="39420"/>
                  </a:lnTo>
                  <a:lnTo>
                    <a:pt x="117276" y="42200"/>
                  </a:lnTo>
                  <a:lnTo>
                    <a:pt x="118120" y="45057"/>
                  </a:lnTo>
                  <a:lnTo>
                    <a:pt x="118772" y="47953"/>
                  </a:lnTo>
                  <a:lnTo>
                    <a:pt x="119309" y="50888"/>
                  </a:lnTo>
                  <a:lnTo>
                    <a:pt x="119693" y="53899"/>
                  </a:lnTo>
                  <a:lnTo>
                    <a:pt x="119923" y="56949"/>
                  </a:lnTo>
                  <a:lnTo>
                    <a:pt x="120000" y="60038"/>
                  </a:lnTo>
                  <a:close/>
                </a:path>
              </a:pathLst>
            </a:custGeom>
            <a:solidFill>
              <a:srgbClr val="5e5c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4" name="任意多边形 264"/>
            <p:cNvSpPr/>
            <p:nvPr/>
          </p:nvSpPr>
          <p:spPr>
            <a:xfrm flipH="1">
              <a:off x="1244880" y="3282480"/>
              <a:ext cx="497160" cy="516240"/>
            </a:xfrm>
            <a:custGeom>
              <a:avLst/>
              <a:gdLst/>
              <a:ahLst/>
              <a:rect l="l" t="t" r="r" b="b"/>
              <a:pathLst>
                <a:path w="120000" h="120000">
                  <a:moveTo>
                    <a:pt x="120000" y="59972"/>
                  </a:moveTo>
                  <a:lnTo>
                    <a:pt x="119945" y="63088"/>
                  </a:lnTo>
                  <a:lnTo>
                    <a:pt x="119674" y="66095"/>
                  </a:lnTo>
                  <a:lnTo>
                    <a:pt x="119294" y="69157"/>
                  </a:lnTo>
                  <a:lnTo>
                    <a:pt x="118751" y="72109"/>
                  </a:lnTo>
                  <a:lnTo>
                    <a:pt x="118100" y="75006"/>
                  </a:lnTo>
                  <a:lnTo>
                    <a:pt x="117286" y="77904"/>
                  </a:lnTo>
                  <a:lnTo>
                    <a:pt x="116309" y="80637"/>
                  </a:lnTo>
                  <a:lnTo>
                    <a:pt x="115278" y="83371"/>
                  </a:lnTo>
                  <a:lnTo>
                    <a:pt x="114084" y="86050"/>
                  </a:lnTo>
                  <a:lnTo>
                    <a:pt x="112727" y="88619"/>
                  </a:lnTo>
                  <a:lnTo>
                    <a:pt x="111316" y="91134"/>
                  </a:lnTo>
                  <a:lnTo>
                    <a:pt x="109687" y="93594"/>
                  </a:lnTo>
                  <a:lnTo>
                    <a:pt x="108059" y="95890"/>
                  </a:lnTo>
                  <a:lnTo>
                    <a:pt x="106268" y="98186"/>
                  </a:lnTo>
                  <a:lnTo>
                    <a:pt x="104369" y="100373"/>
                  </a:lnTo>
                  <a:lnTo>
                    <a:pt x="102360" y="102451"/>
                  </a:lnTo>
                  <a:lnTo>
                    <a:pt x="100298" y="104419"/>
                  </a:lnTo>
                  <a:lnTo>
                    <a:pt x="98127" y="106332"/>
                  </a:lnTo>
                  <a:lnTo>
                    <a:pt x="95902" y="108082"/>
                  </a:lnTo>
                  <a:lnTo>
                    <a:pt x="93514" y="109776"/>
                  </a:lnTo>
                  <a:lnTo>
                    <a:pt x="91126" y="111307"/>
                  </a:lnTo>
                  <a:lnTo>
                    <a:pt x="88575" y="112783"/>
                  </a:lnTo>
                  <a:lnTo>
                    <a:pt x="85970" y="114095"/>
                  </a:lnTo>
                  <a:lnTo>
                    <a:pt x="83310" y="115298"/>
                  </a:lnTo>
                  <a:lnTo>
                    <a:pt x="80597" y="116337"/>
                  </a:lnTo>
                  <a:lnTo>
                    <a:pt x="77829" y="117321"/>
                  </a:lnTo>
                  <a:lnTo>
                    <a:pt x="74952" y="118141"/>
                  </a:lnTo>
                  <a:lnTo>
                    <a:pt x="72075" y="118797"/>
                  </a:lnTo>
                  <a:lnTo>
                    <a:pt x="69145" y="119289"/>
                  </a:lnTo>
                  <a:lnTo>
                    <a:pt x="66105" y="119726"/>
                  </a:lnTo>
                  <a:lnTo>
                    <a:pt x="63066" y="119945"/>
                  </a:lnTo>
                  <a:lnTo>
                    <a:pt x="59972" y="120000"/>
                  </a:lnTo>
                  <a:lnTo>
                    <a:pt x="56933" y="119945"/>
                  </a:lnTo>
                  <a:lnTo>
                    <a:pt x="53839" y="119726"/>
                  </a:lnTo>
                  <a:lnTo>
                    <a:pt x="50800" y="119289"/>
                  </a:lnTo>
                  <a:lnTo>
                    <a:pt x="47869" y="118797"/>
                  </a:lnTo>
                  <a:lnTo>
                    <a:pt x="44993" y="118141"/>
                  </a:lnTo>
                  <a:lnTo>
                    <a:pt x="42116" y="117321"/>
                  </a:lnTo>
                  <a:lnTo>
                    <a:pt x="39348" y="116337"/>
                  </a:lnTo>
                  <a:lnTo>
                    <a:pt x="36635" y="115298"/>
                  </a:lnTo>
                  <a:lnTo>
                    <a:pt x="33921" y="114095"/>
                  </a:lnTo>
                  <a:lnTo>
                    <a:pt x="31370" y="112783"/>
                  </a:lnTo>
                  <a:lnTo>
                    <a:pt x="28873" y="111307"/>
                  </a:lnTo>
                  <a:lnTo>
                    <a:pt x="26431" y="109776"/>
                  </a:lnTo>
                  <a:lnTo>
                    <a:pt x="24097" y="108082"/>
                  </a:lnTo>
                  <a:lnTo>
                    <a:pt x="21818" y="106332"/>
                  </a:lnTo>
                  <a:lnTo>
                    <a:pt x="19647" y="104419"/>
                  </a:lnTo>
                  <a:lnTo>
                    <a:pt x="17584" y="102451"/>
                  </a:lnTo>
                  <a:lnTo>
                    <a:pt x="15576" y="100373"/>
                  </a:lnTo>
                  <a:lnTo>
                    <a:pt x="13677" y="98186"/>
                  </a:lnTo>
                  <a:lnTo>
                    <a:pt x="11886" y="95890"/>
                  </a:lnTo>
                  <a:lnTo>
                    <a:pt x="10257" y="93594"/>
                  </a:lnTo>
                  <a:lnTo>
                    <a:pt x="8629" y="91134"/>
                  </a:lnTo>
                  <a:lnTo>
                    <a:pt x="7218" y="88619"/>
                  </a:lnTo>
                  <a:lnTo>
                    <a:pt x="5861" y="86050"/>
                  </a:lnTo>
                  <a:lnTo>
                    <a:pt x="4721" y="83371"/>
                  </a:lnTo>
                  <a:lnTo>
                    <a:pt x="3636" y="80637"/>
                  </a:lnTo>
                  <a:lnTo>
                    <a:pt x="2713" y="77904"/>
                  </a:lnTo>
                  <a:lnTo>
                    <a:pt x="1845" y="75006"/>
                  </a:lnTo>
                  <a:lnTo>
                    <a:pt x="1194" y="72109"/>
                  </a:lnTo>
                  <a:lnTo>
                    <a:pt x="705" y="69157"/>
                  </a:lnTo>
                  <a:lnTo>
                    <a:pt x="271" y="66095"/>
                  </a:lnTo>
                  <a:lnTo>
                    <a:pt x="54" y="63088"/>
                  </a:lnTo>
                  <a:lnTo>
                    <a:pt x="0" y="59972"/>
                  </a:lnTo>
                  <a:lnTo>
                    <a:pt x="54" y="56911"/>
                  </a:lnTo>
                  <a:lnTo>
                    <a:pt x="271" y="53904"/>
                  </a:lnTo>
                  <a:lnTo>
                    <a:pt x="705" y="50897"/>
                  </a:lnTo>
                  <a:lnTo>
                    <a:pt x="1194" y="47945"/>
                  </a:lnTo>
                  <a:lnTo>
                    <a:pt x="1845" y="45047"/>
                  </a:lnTo>
                  <a:lnTo>
                    <a:pt x="2713" y="42150"/>
                  </a:lnTo>
                  <a:lnTo>
                    <a:pt x="3636" y="39362"/>
                  </a:lnTo>
                  <a:lnTo>
                    <a:pt x="4721" y="36628"/>
                  </a:lnTo>
                  <a:lnTo>
                    <a:pt x="5861" y="33949"/>
                  </a:lnTo>
                  <a:lnTo>
                    <a:pt x="7218" y="31380"/>
                  </a:lnTo>
                  <a:lnTo>
                    <a:pt x="8629" y="28865"/>
                  </a:lnTo>
                  <a:lnTo>
                    <a:pt x="10257" y="26460"/>
                  </a:lnTo>
                  <a:lnTo>
                    <a:pt x="11886" y="24109"/>
                  </a:lnTo>
                  <a:lnTo>
                    <a:pt x="13677" y="21813"/>
                  </a:lnTo>
                  <a:lnTo>
                    <a:pt x="15576" y="19681"/>
                  </a:lnTo>
                  <a:lnTo>
                    <a:pt x="17584" y="17548"/>
                  </a:lnTo>
                  <a:lnTo>
                    <a:pt x="19647" y="15580"/>
                  </a:lnTo>
                  <a:lnTo>
                    <a:pt x="21818" y="13722"/>
                  </a:lnTo>
                  <a:lnTo>
                    <a:pt x="24097" y="11917"/>
                  </a:lnTo>
                  <a:lnTo>
                    <a:pt x="26431" y="10223"/>
                  </a:lnTo>
                  <a:lnTo>
                    <a:pt x="28873" y="8692"/>
                  </a:lnTo>
                  <a:lnTo>
                    <a:pt x="31370" y="7216"/>
                  </a:lnTo>
                  <a:lnTo>
                    <a:pt x="33921" y="5904"/>
                  </a:lnTo>
                  <a:lnTo>
                    <a:pt x="36635" y="4701"/>
                  </a:lnTo>
                  <a:lnTo>
                    <a:pt x="39348" y="3662"/>
                  </a:lnTo>
                  <a:lnTo>
                    <a:pt x="42116" y="2733"/>
                  </a:lnTo>
                  <a:lnTo>
                    <a:pt x="44993" y="1913"/>
                  </a:lnTo>
                  <a:lnTo>
                    <a:pt x="47869" y="1257"/>
                  </a:lnTo>
                  <a:lnTo>
                    <a:pt x="50800" y="710"/>
                  </a:lnTo>
                  <a:lnTo>
                    <a:pt x="53839" y="273"/>
                  </a:lnTo>
                  <a:lnTo>
                    <a:pt x="56933" y="54"/>
                  </a:lnTo>
                  <a:lnTo>
                    <a:pt x="59972" y="0"/>
                  </a:lnTo>
                  <a:lnTo>
                    <a:pt x="63066" y="54"/>
                  </a:lnTo>
                  <a:lnTo>
                    <a:pt x="66105" y="273"/>
                  </a:lnTo>
                  <a:lnTo>
                    <a:pt x="69145" y="710"/>
                  </a:lnTo>
                  <a:lnTo>
                    <a:pt x="72075" y="1257"/>
                  </a:lnTo>
                  <a:lnTo>
                    <a:pt x="74952" y="1913"/>
                  </a:lnTo>
                  <a:lnTo>
                    <a:pt x="77829" y="2733"/>
                  </a:lnTo>
                  <a:lnTo>
                    <a:pt x="80597" y="3662"/>
                  </a:lnTo>
                  <a:lnTo>
                    <a:pt x="83310" y="4701"/>
                  </a:lnTo>
                  <a:lnTo>
                    <a:pt x="85970" y="5904"/>
                  </a:lnTo>
                  <a:lnTo>
                    <a:pt x="88575" y="7216"/>
                  </a:lnTo>
                  <a:lnTo>
                    <a:pt x="91126" y="8692"/>
                  </a:lnTo>
                  <a:lnTo>
                    <a:pt x="93514" y="10223"/>
                  </a:lnTo>
                  <a:lnTo>
                    <a:pt x="95902" y="11917"/>
                  </a:lnTo>
                  <a:lnTo>
                    <a:pt x="98127" y="13722"/>
                  </a:lnTo>
                  <a:lnTo>
                    <a:pt x="100298" y="15580"/>
                  </a:lnTo>
                  <a:lnTo>
                    <a:pt x="102360" y="17548"/>
                  </a:lnTo>
                  <a:lnTo>
                    <a:pt x="104369" y="19681"/>
                  </a:lnTo>
                  <a:lnTo>
                    <a:pt x="106268" y="21813"/>
                  </a:lnTo>
                  <a:lnTo>
                    <a:pt x="108059" y="24109"/>
                  </a:lnTo>
                  <a:lnTo>
                    <a:pt x="109687" y="26460"/>
                  </a:lnTo>
                  <a:lnTo>
                    <a:pt x="111316" y="28865"/>
                  </a:lnTo>
                  <a:lnTo>
                    <a:pt x="112727" y="31380"/>
                  </a:lnTo>
                  <a:lnTo>
                    <a:pt x="114084" y="33949"/>
                  </a:lnTo>
                  <a:lnTo>
                    <a:pt x="115278" y="36628"/>
                  </a:lnTo>
                  <a:lnTo>
                    <a:pt x="116309" y="39362"/>
                  </a:lnTo>
                  <a:lnTo>
                    <a:pt x="117286" y="42150"/>
                  </a:lnTo>
                  <a:lnTo>
                    <a:pt x="118100" y="45047"/>
                  </a:lnTo>
                  <a:lnTo>
                    <a:pt x="118751" y="47945"/>
                  </a:lnTo>
                  <a:lnTo>
                    <a:pt x="119294" y="50897"/>
                  </a:lnTo>
                  <a:lnTo>
                    <a:pt x="119674" y="53904"/>
                  </a:lnTo>
                  <a:lnTo>
                    <a:pt x="119945" y="56911"/>
                  </a:lnTo>
                  <a:lnTo>
                    <a:pt x="120000" y="59972"/>
                  </a:lnTo>
                  <a:close/>
                </a:path>
              </a:pathLst>
            </a:custGeom>
            <a:solidFill>
              <a:srgbClr val="0020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5" name="任意多边形 265"/>
            <p:cNvSpPr/>
            <p:nvPr/>
          </p:nvSpPr>
          <p:spPr>
            <a:xfrm flipH="1">
              <a:off x="1625040" y="2133720"/>
              <a:ext cx="1029960" cy="1069560"/>
            </a:xfrm>
            <a:custGeom>
              <a:avLst/>
              <a:gdLst/>
              <a:ahLst/>
              <a:rect l="l" t="t" r="r" b="b"/>
              <a:pathLst>
                <a:path w="120000" h="120000">
                  <a:moveTo>
                    <a:pt x="120000" y="59973"/>
                  </a:moveTo>
                  <a:lnTo>
                    <a:pt x="119921" y="63059"/>
                  </a:lnTo>
                  <a:lnTo>
                    <a:pt x="119685" y="66118"/>
                  </a:lnTo>
                  <a:lnTo>
                    <a:pt x="119318" y="69098"/>
                  </a:lnTo>
                  <a:lnTo>
                    <a:pt x="118768" y="72079"/>
                  </a:lnTo>
                  <a:lnTo>
                    <a:pt x="118113" y="74980"/>
                  </a:lnTo>
                  <a:lnTo>
                    <a:pt x="117327" y="77828"/>
                  </a:lnTo>
                  <a:lnTo>
                    <a:pt x="116358" y="80624"/>
                  </a:lnTo>
                  <a:lnTo>
                    <a:pt x="115283" y="83340"/>
                  </a:lnTo>
                  <a:lnTo>
                    <a:pt x="114104" y="85978"/>
                  </a:lnTo>
                  <a:lnTo>
                    <a:pt x="112768" y="88562"/>
                  </a:lnTo>
                  <a:lnTo>
                    <a:pt x="111301" y="91094"/>
                  </a:lnTo>
                  <a:lnTo>
                    <a:pt x="109755" y="93547"/>
                  </a:lnTo>
                  <a:lnTo>
                    <a:pt x="108078" y="95868"/>
                  </a:lnTo>
                  <a:lnTo>
                    <a:pt x="106323" y="98162"/>
                  </a:lnTo>
                  <a:lnTo>
                    <a:pt x="104410" y="100325"/>
                  </a:lnTo>
                  <a:lnTo>
                    <a:pt x="102445" y="102408"/>
                  </a:lnTo>
                  <a:lnTo>
                    <a:pt x="100349" y="104386"/>
                  </a:lnTo>
                  <a:lnTo>
                    <a:pt x="98148" y="106285"/>
                  </a:lnTo>
                  <a:lnTo>
                    <a:pt x="95895" y="108079"/>
                  </a:lnTo>
                  <a:lnTo>
                    <a:pt x="93537" y="109740"/>
                  </a:lnTo>
                  <a:lnTo>
                    <a:pt x="91126" y="111296"/>
                  </a:lnTo>
                  <a:lnTo>
                    <a:pt x="88611" y="112747"/>
                  </a:lnTo>
                  <a:lnTo>
                    <a:pt x="86017" y="114065"/>
                  </a:lnTo>
                  <a:lnTo>
                    <a:pt x="83371" y="115252"/>
                  </a:lnTo>
                  <a:lnTo>
                    <a:pt x="80620" y="116334"/>
                  </a:lnTo>
                  <a:lnTo>
                    <a:pt x="77842" y="117283"/>
                  </a:lnTo>
                  <a:lnTo>
                    <a:pt x="75013" y="118074"/>
                  </a:lnTo>
                  <a:lnTo>
                    <a:pt x="72104" y="118760"/>
                  </a:lnTo>
                  <a:lnTo>
                    <a:pt x="69144" y="119287"/>
                  </a:lnTo>
                  <a:lnTo>
                    <a:pt x="66131" y="119683"/>
                  </a:lnTo>
                  <a:lnTo>
                    <a:pt x="63091" y="119894"/>
                  </a:lnTo>
                  <a:lnTo>
                    <a:pt x="60000" y="120000"/>
                  </a:lnTo>
                  <a:lnTo>
                    <a:pt x="56908" y="119894"/>
                  </a:lnTo>
                  <a:lnTo>
                    <a:pt x="53842" y="119683"/>
                  </a:lnTo>
                  <a:lnTo>
                    <a:pt x="50855" y="119287"/>
                  </a:lnTo>
                  <a:lnTo>
                    <a:pt x="47921" y="118760"/>
                  </a:lnTo>
                  <a:lnTo>
                    <a:pt x="45013" y="118074"/>
                  </a:lnTo>
                  <a:lnTo>
                    <a:pt x="42157" y="117283"/>
                  </a:lnTo>
                  <a:lnTo>
                    <a:pt x="39379" y="116334"/>
                  </a:lnTo>
                  <a:lnTo>
                    <a:pt x="36628" y="115252"/>
                  </a:lnTo>
                  <a:lnTo>
                    <a:pt x="33982" y="114065"/>
                  </a:lnTo>
                  <a:lnTo>
                    <a:pt x="31388" y="112747"/>
                  </a:lnTo>
                  <a:lnTo>
                    <a:pt x="28873" y="111296"/>
                  </a:lnTo>
                  <a:lnTo>
                    <a:pt x="26462" y="109740"/>
                  </a:lnTo>
                  <a:lnTo>
                    <a:pt x="24078" y="108079"/>
                  </a:lnTo>
                  <a:lnTo>
                    <a:pt x="21825" y="106285"/>
                  </a:lnTo>
                  <a:lnTo>
                    <a:pt x="19676" y="104386"/>
                  </a:lnTo>
                  <a:lnTo>
                    <a:pt x="17554" y="102408"/>
                  </a:lnTo>
                  <a:lnTo>
                    <a:pt x="15589" y="100325"/>
                  </a:lnTo>
                  <a:lnTo>
                    <a:pt x="13703" y="98162"/>
                  </a:lnTo>
                  <a:lnTo>
                    <a:pt x="11921" y="95868"/>
                  </a:lnTo>
                  <a:lnTo>
                    <a:pt x="10218" y="93547"/>
                  </a:lnTo>
                  <a:lnTo>
                    <a:pt x="8698" y="91094"/>
                  </a:lnTo>
                  <a:lnTo>
                    <a:pt x="7231" y="88562"/>
                  </a:lnTo>
                  <a:lnTo>
                    <a:pt x="5895" y="85978"/>
                  </a:lnTo>
                  <a:lnTo>
                    <a:pt x="4689" y="83340"/>
                  </a:lnTo>
                  <a:lnTo>
                    <a:pt x="3641" y="80624"/>
                  </a:lnTo>
                  <a:lnTo>
                    <a:pt x="2698" y="77828"/>
                  </a:lnTo>
                  <a:lnTo>
                    <a:pt x="1886" y="74980"/>
                  </a:lnTo>
                  <a:lnTo>
                    <a:pt x="1231" y="72079"/>
                  </a:lnTo>
                  <a:lnTo>
                    <a:pt x="681" y="69098"/>
                  </a:lnTo>
                  <a:lnTo>
                    <a:pt x="314" y="66118"/>
                  </a:lnTo>
                  <a:lnTo>
                    <a:pt x="78" y="63059"/>
                  </a:lnTo>
                  <a:lnTo>
                    <a:pt x="0" y="59973"/>
                  </a:lnTo>
                  <a:lnTo>
                    <a:pt x="78" y="56914"/>
                  </a:lnTo>
                  <a:lnTo>
                    <a:pt x="314" y="53854"/>
                  </a:lnTo>
                  <a:lnTo>
                    <a:pt x="681" y="50821"/>
                  </a:lnTo>
                  <a:lnTo>
                    <a:pt x="1231" y="47894"/>
                  </a:lnTo>
                  <a:lnTo>
                    <a:pt x="1886" y="44993"/>
                  </a:lnTo>
                  <a:lnTo>
                    <a:pt x="2698" y="42145"/>
                  </a:lnTo>
                  <a:lnTo>
                    <a:pt x="3641" y="39349"/>
                  </a:lnTo>
                  <a:lnTo>
                    <a:pt x="4689" y="36632"/>
                  </a:lnTo>
                  <a:lnTo>
                    <a:pt x="5895" y="33969"/>
                  </a:lnTo>
                  <a:lnTo>
                    <a:pt x="7231" y="31384"/>
                  </a:lnTo>
                  <a:lnTo>
                    <a:pt x="8698" y="28879"/>
                  </a:lnTo>
                  <a:lnTo>
                    <a:pt x="10218" y="26426"/>
                  </a:lnTo>
                  <a:lnTo>
                    <a:pt x="11921" y="24079"/>
                  </a:lnTo>
                  <a:lnTo>
                    <a:pt x="13703" y="21810"/>
                  </a:lnTo>
                  <a:lnTo>
                    <a:pt x="15589" y="19648"/>
                  </a:lnTo>
                  <a:lnTo>
                    <a:pt x="17554" y="17564"/>
                  </a:lnTo>
                  <a:lnTo>
                    <a:pt x="19650" y="15560"/>
                  </a:lnTo>
                  <a:lnTo>
                    <a:pt x="21825" y="13687"/>
                  </a:lnTo>
                  <a:lnTo>
                    <a:pt x="24078" y="11920"/>
                  </a:lnTo>
                  <a:lnTo>
                    <a:pt x="26462" y="10232"/>
                  </a:lnTo>
                  <a:lnTo>
                    <a:pt x="28873" y="8703"/>
                  </a:lnTo>
                  <a:lnTo>
                    <a:pt x="31388" y="7252"/>
                  </a:lnTo>
                  <a:lnTo>
                    <a:pt x="33982" y="5907"/>
                  </a:lnTo>
                  <a:lnTo>
                    <a:pt x="36628" y="4694"/>
                  </a:lnTo>
                  <a:lnTo>
                    <a:pt x="39379" y="3639"/>
                  </a:lnTo>
                  <a:lnTo>
                    <a:pt x="42157" y="2716"/>
                  </a:lnTo>
                  <a:lnTo>
                    <a:pt x="45013" y="1872"/>
                  </a:lnTo>
                  <a:lnTo>
                    <a:pt x="47921" y="1213"/>
                  </a:lnTo>
                  <a:lnTo>
                    <a:pt x="50855" y="685"/>
                  </a:lnTo>
                  <a:lnTo>
                    <a:pt x="53842" y="316"/>
                  </a:lnTo>
                  <a:lnTo>
                    <a:pt x="56908" y="79"/>
                  </a:lnTo>
                  <a:lnTo>
                    <a:pt x="60000" y="0"/>
                  </a:lnTo>
                  <a:lnTo>
                    <a:pt x="63091" y="79"/>
                  </a:lnTo>
                  <a:lnTo>
                    <a:pt x="66131" y="316"/>
                  </a:lnTo>
                  <a:lnTo>
                    <a:pt x="69144" y="685"/>
                  </a:lnTo>
                  <a:lnTo>
                    <a:pt x="72104" y="1213"/>
                  </a:lnTo>
                  <a:lnTo>
                    <a:pt x="75013" y="1872"/>
                  </a:lnTo>
                  <a:lnTo>
                    <a:pt x="77842" y="2716"/>
                  </a:lnTo>
                  <a:lnTo>
                    <a:pt x="80620" y="3639"/>
                  </a:lnTo>
                  <a:lnTo>
                    <a:pt x="83371" y="4694"/>
                  </a:lnTo>
                  <a:lnTo>
                    <a:pt x="86017" y="5907"/>
                  </a:lnTo>
                  <a:lnTo>
                    <a:pt x="88611" y="7252"/>
                  </a:lnTo>
                  <a:lnTo>
                    <a:pt x="91126" y="8703"/>
                  </a:lnTo>
                  <a:lnTo>
                    <a:pt x="93537" y="10232"/>
                  </a:lnTo>
                  <a:lnTo>
                    <a:pt x="95895" y="11920"/>
                  </a:lnTo>
                  <a:lnTo>
                    <a:pt x="98148" y="13687"/>
                  </a:lnTo>
                  <a:lnTo>
                    <a:pt x="100349" y="15560"/>
                  </a:lnTo>
                  <a:lnTo>
                    <a:pt x="102445" y="17564"/>
                  </a:lnTo>
                  <a:lnTo>
                    <a:pt x="104410" y="19648"/>
                  </a:lnTo>
                  <a:lnTo>
                    <a:pt x="106323" y="21810"/>
                  </a:lnTo>
                  <a:lnTo>
                    <a:pt x="108078" y="24079"/>
                  </a:lnTo>
                  <a:lnTo>
                    <a:pt x="109755" y="26426"/>
                  </a:lnTo>
                  <a:lnTo>
                    <a:pt x="111301" y="28879"/>
                  </a:lnTo>
                  <a:lnTo>
                    <a:pt x="112768" y="31384"/>
                  </a:lnTo>
                  <a:lnTo>
                    <a:pt x="114104" y="33969"/>
                  </a:lnTo>
                  <a:lnTo>
                    <a:pt x="115283" y="36632"/>
                  </a:lnTo>
                  <a:lnTo>
                    <a:pt x="116358" y="39349"/>
                  </a:lnTo>
                  <a:lnTo>
                    <a:pt x="117327" y="42145"/>
                  </a:lnTo>
                  <a:lnTo>
                    <a:pt x="118113" y="44993"/>
                  </a:lnTo>
                  <a:lnTo>
                    <a:pt x="118768" y="47894"/>
                  </a:lnTo>
                  <a:lnTo>
                    <a:pt x="119318" y="50821"/>
                  </a:lnTo>
                  <a:lnTo>
                    <a:pt x="119685" y="53854"/>
                  </a:lnTo>
                  <a:lnTo>
                    <a:pt x="119921" y="56914"/>
                  </a:lnTo>
                  <a:lnTo>
                    <a:pt x="120000" y="59973"/>
                  </a:lnTo>
                  <a:close/>
                </a:path>
              </a:pathLst>
            </a:custGeom>
            <a:solidFill>
              <a:srgbClr val="4276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6" name="任意多边形 266"/>
            <p:cNvSpPr/>
            <p:nvPr/>
          </p:nvSpPr>
          <p:spPr>
            <a:xfrm flipH="1">
              <a:off x="1036080" y="2672280"/>
              <a:ext cx="515520" cy="534960"/>
            </a:xfrm>
            <a:custGeom>
              <a:avLst/>
              <a:gdLst/>
              <a:ahLst/>
              <a:rect l="l" t="t" r="r" b="b"/>
              <a:pathLst>
                <a:path w="120000" h="120000">
                  <a:moveTo>
                    <a:pt x="120000" y="60052"/>
                  </a:moveTo>
                  <a:lnTo>
                    <a:pt x="119895" y="63107"/>
                  </a:lnTo>
                  <a:lnTo>
                    <a:pt x="119686" y="66110"/>
                  </a:lnTo>
                  <a:lnTo>
                    <a:pt x="119267" y="69165"/>
                  </a:lnTo>
                  <a:lnTo>
                    <a:pt x="118744" y="72115"/>
                  </a:lnTo>
                  <a:lnTo>
                    <a:pt x="118063" y="75013"/>
                  </a:lnTo>
                  <a:lnTo>
                    <a:pt x="117278" y="77857"/>
                  </a:lnTo>
                  <a:lnTo>
                    <a:pt x="116336" y="80649"/>
                  </a:lnTo>
                  <a:lnTo>
                    <a:pt x="115290" y="83388"/>
                  </a:lnTo>
                  <a:lnTo>
                    <a:pt x="114086" y="86022"/>
                  </a:lnTo>
                  <a:lnTo>
                    <a:pt x="112725" y="88604"/>
                  </a:lnTo>
                  <a:lnTo>
                    <a:pt x="111312" y="91132"/>
                  </a:lnTo>
                  <a:lnTo>
                    <a:pt x="109742" y="93503"/>
                  </a:lnTo>
                  <a:lnTo>
                    <a:pt x="108068" y="95926"/>
                  </a:lnTo>
                  <a:lnTo>
                    <a:pt x="106288" y="98191"/>
                  </a:lnTo>
                  <a:lnTo>
                    <a:pt x="104404" y="100351"/>
                  </a:lnTo>
                  <a:lnTo>
                    <a:pt x="102416" y="102405"/>
                  </a:lnTo>
                  <a:lnTo>
                    <a:pt x="100322" y="104407"/>
                  </a:lnTo>
                  <a:lnTo>
                    <a:pt x="98124" y="106251"/>
                  </a:lnTo>
                  <a:lnTo>
                    <a:pt x="95874" y="108094"/>
                  </a:lnTo>
                  <a:lnTo>
                    <a:pt x="93519" y="109727"/>
                  </a:lnTo>
                  <a:lnTo>
                    <a:pt x="91059" y="111255"/>
                  </a:lnTo>
                  <a:lnTo>
                    <a:pt x="88547" y="112783"/>
                  </a:lnTo>
                  <a:lnTo>
                    <a:pt x="85983" y="114047"/>
                  </a:lnTo>
                  <a:lnTo>
                    <a:pt x="83314" y="115258"/>
                  </a:lnTo>
                  <a:lnTo>
                    <a:pt x="80593" y="116365"/>
                  </a:lnTo>
                  <a:lnTo>
                    <a:pt x="77819" y="117313"/>
                  </a:lnTo>
                  <a:lnTo>
                    <a:pt x="74941" y="118103"/>
                  </a:lnTo>
                  <a:lnTo>
                    <a:pt x="72062" y="118788"/>
                  </a:lnTo>
                  <a:lnTo>
                    <a:pt x="69132" y="119315"/>
                  </a:lnTo>
                  <a:lnTo>
                    <a:pt x="66149" y="119683"/>
                  </a:lnTo>
                  <a:lnTo>
                    <a:pt x="63061" y="119947"/>
                  </a:lnTo>
                  <a:lnTo>
                    <a:pt x="59973" y="120000"/>
                  </a:lnTo>
                  <a:lnTo>
                    <a:pt x="56886" y="119947"/>
                  </a:lnTo>
                  <a:lnTo>
                    <a:pt x="53850" y="119683"/>
                  </a:lnTo>
                  <a:lnTo>
                    <a:pt x="50867" y="119315"/>
                  </a:lnTo>
                  <a:lnTo>
                    <a:pt x="47937" y="118788"/>
                  </a:lnTo>
                  <a:lnTo>
                    <a:pt x="45006" y="118103"/>
                  </a:lnTo>
                  <a:lnTo>
                    <a:pt x="42180" y="117313"/>
                  </a:lnTo>
                  <a:lnTo>
                    <a:pt x="39354" y="116365"/>
                  </a:lnTo>
                  <a:lnTo>
                    <a:pt x="36633" y="115258"/>
                  </a:lnTo>
                  <a:lnTo>
                    <a:pt x="33964" y="114047"/>
                  </a:lnTo>
                  <a:lnTo>
                    <a:pt x="31399" y="112783"/>
                  </a:lnTo>
                  <a:lnTo>
                    <a:pt x="28887" y="111255"/>
                  </a:lnTo>
                  <a:lnTo>
                    <a:pt x="26428" y="109727"/>
                  </a:lnTo>
                  <a:lnTo>
                    <a:pt x="24125" y="108094"/>
                  </a:lnTo>
                  <a:lnTo>
                    <a:pt x="21822" y="106251"/>
                  </a:lnTo>
                  <a:lnTo>
                    <a:pt x="19677" y="104407"/>
                  </a:lnTo>
                  <a:lnTo>
                    <a:pt x="17583" y="102405"/>
                  </a:lnTo>
                  <a:lnTo>
                    <a:pt x="15542" y="100351"/>
                  </a:lnTo>
                  <a:lnTo>
                    <a:pt x="13711" y="98191"/>
                  </a:lnTo>
                  <a:lnTo>
                    <a:pt x="11931" y="95926"/>
                  </a:lnTo>
                  <a:lnTo>
                    <a:pt x="10257" y="93503"/>
                  </a:lnTo>
                  <a:lnTo>
                    <a:pt x="8687" y="91132"/>
                  </a:lnTo>
                  <a:lnTo>
                    <a:pt x="7274" y="88604"/>
                  </a:lnTo>
                  <a:lnTo>
                    <a:pt x="5965" y="86022"/>
                  </a:lnTo>
                  <a:lnTo>
                    <a:pt x="4762" y="83336"/>
                  </a:lnTo>
                  <a:lnTo>
                    <a:pt x="3663" y="80649"/>
                  </a:lnTo>
                  <a:lnTo>
                    <a:pt x="2721" y="77857"/>
                  </a:lnTo>
                  <a:lnTo>
                    <a:pt x="1883" y="75013"/>
                  </a:lnTo>
                  <a:lnTo>
                    <a:pt x="1203" y="72115"/>
                  </a:lnTo>
                  <a:lnTo>
                    <a:pt x="680" y="69165"/>
                  </a:lnTo>
                  <a:lnTo>
                    <a:pt x="366" y="66110"/>
                  </a:lnTo>
                  <a:lnTo>
                    <a:pt x="52" y="63107"/>
                  </a:lnTo>
                  <a:lnTo>
                    <a:pt x="0" y="60052"/>
                  </a:lnTo>
                  <a:lnTo>
                    <a:pt x="52" y="56944"/>
                  </a:lnTo>
                  <a:lnTo>
                    <a:pt x="366" y="53889"/>
                  </a:lnTo>
                  <a:lnTo>
                    <a:pt x="680" y="50886"/>
                  </a:lnTo>
                  <a:lnTo>
                    <a:pt x="1203" y="47884"/>
                  </a:lnTo>
                  <a:lnTo>
                    <a:pt x="1883" y="44986"/>
                  </a:lnTo>
                  <a:lnTo>
                    <a:pt x="2721" y="42142"/>
                  </a:lnTo>
                  <a:lnTo>
                    <a:pt x="3663" y="39402"/>
                  </a:lnTo>
                  <a:lnTo>
                    <a:pt x="4762" y="36663"/>
                  </a:lnTo>
                  <a:lnTo>
                    <a:pt x="5965" y="34029"/>
                  </a:lnTo>
                  <a:lnTo>
                    <a:pt x="7274" y="31448"/>
                  </a:lnTo>
                  <a:lnTo>
                    <a:pt x="8687" y="28867"/>
                  </a:lnTo>
                  <a:lnTo>
                    <a:pt x="10257" y="26496"/>
                  </a:lnTo>
                  <a:lnTo>
                    <a:pt x="11931" y="24126"/>
                  </a:lnTo>
                  <a:lnTo>
                    <a:pt x="13711" y="21861"/>
                  </a:lnTo>
                  <a:lnTo>
                    <a:pt x="15542" y="19648"/>
                  </a:lnTo>
                  <a:lnTo>
                    <a:pt x="17583" y="17594"/>
                  </a:lnTo>
                  <a:lnTo>
                    <a:pt x="19677" y="15592"/>
                  </a:lnTo>
                  <a:lnTo>
                    <a:pt x="21822" y="13748"/>
                  </a:lnTo>
                  <a:lnTo>
                    <a:pt x="24125" y="11957"/>
                  </a:lnTo>
                  <a:lnTo>
                    <a:pt x="26428" y="10272"/>
                  </a:lnTo>
                  <a:lnTo>
                    <a:pt x="28887" y="8744"/>
                  </a:lnTo>
                  <a:lnTo>
                    <a:pt x="31399" y="7269"/>
                  </a:lnTo>
                  <a:lnTo>
                    <a:pt x="33964" y="5952"/>
                  </a:lnTo>
                  <a:lnTo>
                    <a:pt x="36633" y="4741"/>
                  </a:lnTo>
                  <a:lnTo>
                    <a:pt x="39354" y="3634"/>
                  </a:lnTo>
                  <a:lnTo>
                    <a:pt x="42180" y="2739"/>
                  </a:lnTo>
                  <a:lnTo>
                    <a:pt x="45006" y="1896"/>
                  </a:lnTo>
                  <a:lnTo>
                    <a:pt x="47937" y="1264"/>
                  </a:lnTo>
                  <a:lnTo>
                    <a:pt x="50867" y="684"/>
                  </a:lnTo>
                  <a:lnTo>
                    <a:pt x="53850" y="368"/>
                  </a:lnTo>
                  <a:lnTo>
                    <a:pt x="56886" y="105"/>
                  </a:lnTo>
                  <a:lnTo>
                    <a:pt x="59973" y="0"/>
                  </a:lnTo>
                  <a:lnTo>
                    <a:pt x="63061" y="105"/>
                  </a:lnTo>
                  <a:lnTo>
                    <a:pt x="66149" y="368"/>
                  </a:lnTo>
                  <a:lnTo>
                    <a:pt x="69132" y="684"/>
                  </a:lnTo>
                  <a:lnTo>
                    <a:pt x="72062" y="1264"/>
                  </a:lnTo>
                  <a:lnTo>
                    <a:pt x="74941" y="1896"/>
                  </a:lnTo>
                  <a:lnTo>
                    <a:pt x="77819" y="2739"/>
                  </a:lnTo>
                  <a:lnTo>
                    <a:pt x="80593" y="3634"/>
                  </a:lnTo>
                  <a:lnTo>
                    <a:pt x="83314" y="4741"/>
                  </a:lnTo>
                  <a:lnTo>
                    <a:pt x="85983" y="5952"/>
                  </a:lnTo>
                  <a:lnTo>
                    <a:pt x="88547" y="7269"/>
                  </a:lnTo>
                  <a:lnTo>
                    <a:pt x="91059" y="8744"/>
                  </a:lnTo>
                  <a:lnTo>
                    <a:pt x="93519" y="10272"/>
                  </a:lnTo>
                  <a:lnTo>
                    <a:pt x="95874" y="11957"/>
                  </a:lnTo>
                  <a:lnTo>
                    <a:pt x="98124" y="13748"/>
                  </a:lnTo>
                  <a:lnTo>
                    <a:pt x="100322" y="15592"/>
                  </a:lnTo>
                  <a:lnTo>
                    <a:pt x="102416" y="17594"/>
                  </a:lnTo>
                  <a:lnTo>
                    <a:pt x="104404" y="19648"/>
                  </a:lnTo>
                  <a:lnTo>
                    <a:pt x="106288" y="21861"/>
                  </a:lnTo>
                  <a:lnTo>
                    <a:pt x="108068" y="24126"/>
                  </a:lnTo>
                  <a:lnTo>
                    <a:pt x="109742" y="26496"/>
                  </a:lnTo>
                  <a:lnTo>
                    <a:pt x="111312" y="28867"/>
                  </a:lnTo>
                  <a:lnTo>
                    <a:pt x="112725" y="31448"/>
                  </a:lnTo>
                  <a:lnTo>
                    <a:pt x="114086" y="34029"/>
                  </a:lnTo>
                  <a:lnTo>
                    <a:pt x="115290" y="36663"/>
                  </a:lnTo>
                  <a:lnTo>
                    <a:pt x="116336" y="39402"/>
                  </a:lnTo>
                  <a:lnTo>
                    <a:pt x="117278" y="42142"/>
                  </a:lnTo>
                  <a:lnTo>
                    <a:pt x="118063" y="44986"/>
                  </a:lnTo>
                  <a:lnTo>
                    <a:pt x="118744" y="47884"/>
                  </a:lnTo>
                  <a:lnTo>
                    <a:pt x="119267" y="50886"/>
                  </a:lnTo>
                  <a:lnTo>
                    <a:pt x="119686" y="53889"/>
                  </a:lnTo>
                  <a:lnTo>
                    <a:pt x="119895" y="56944"/>
                  </a:lnTo>
                  <a:lnTo>
                    <a:pt x="120000" y="60052"/>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7" name="任意多边形 267"/>
            <p:cNvSpPr/>
            <p:nvPr/>
          </p:nvSpPr>
          <p:spPr>
            <a:xfrm flipH="1">
              <a:off x="2739600" y="2245320"/>
              <a:ext cx="453600" cy="470520"/>
            </a:xfrm>
            <a:custGeom>
              <a:avLst/>
              <a:gdLst/>
              <a:ahLst/>
              <a:rect l="l" t="t" r="r" b="b"/>
              <a:pathLst>
                <a:path w="120000" h="120000">
                  <a:moveTo>
                    <a:pt x="120000" y="60029"/>
                  </a:moveTo>
                  <a:lnTo>
                    <a:pt x="119940" y="63085"/>
                  </a:lnTo>
                  <a:lnTo>
                    <a:pt x="119643" y="66140"/>
                  </a:lnTo>
                  <a:lnTo>
                    <a:pt x="119345" y="69136"/>
                  </a:lnTo>
                  <a:lnTo>
                    <a:pt x="118751" y="72131"/>
                  </a:lnTo>
                  <a:lnTo>
                    <a:pt x="118097" y="75007"/>
                  </a:lnTo>
                  <a:lnTo>
                    <a:pt x="117324" y="77883"/>
                  </a:lnTo>
                  <a:lnTo>
                    <a:pt x="116372" y="80639"/>
                  </a:lnTo>
                  <a:lnTo>
                    <a:pt x="115242" y="83394"/>
                  </a:lnTo>
                  <a:lnTo>
                    <a:pt x="114112" y="86030"/>
                  </a:lnTo>
                  <a:lnTo>
                    <a:pt x="112745" y="88607"/>
                  </a:lnTo>
                  <a:lnTo>
                    <a:pt x="111318" y="91063"/>
                  </a:lnTo>
                  <a:lnTo>
                    <a:pt x="109772" y="93579"/>
                  </a:lnTo>
                  <a:lnTo>
                    <a:pt x="108107" y="95856"/>
                  </a:lnTo>
                  <a:lnTo>
                    <a:pt x="106263" y="98132"/>
                  </a:lnTo>
                  <a:lnTo>
                    <a:pt x="104420" y="100349"/>
                  </a:lnTo>
                  <a:lnTo>
                    <a:pt x="102457" y="102446"/>
                  </a:lnTo>
                  <a:lnTo>
                    <a:pt x="100317" y="104423"/>
                  </a:lnTo>
                  <a:lnTo>
                    <a:pt x="98176" y="106280"/>
                  </a:lnTo>
                  <a:lnTo>
                    <a:pt x="95916" y="108137"/>
                  </a:lnTo>
                  <a:lnTo>
                    <a:pt x="93538" y="109755"/>
                  </a:lnTo>
                  <a:lnTo>
                    <a:pt x="91159" y="111313"/>
                  </a:lnTo>
                  <a:lnTo>
                    <a:pt x="88602" y="112810"/>
                  </a:lnTo>
                  <a:lnTo>
                    <a:pt x="86045" y="114068"/>
                  </a:lnTo>
                  <a:lnTo>
                    <a:pt x="83369" y="115327"/>
                  </a:lnTo>
                  <a:lnTo>
                    <a:pt x="80634" y="116345"/>
                  </a:lnTo>
                  <a:lnTo>
                    <a:pt x="77898" y="117304"/>
                  </a:lnTo>
                  <a:lnTo>
                    <a:pt x="75044" y="118082"/>
                  </a:lnTo>
                  <a:lnTo>
                    <a:pt x="72130" y="118801"/>
                  </a:lnTo>
                  <a:lnTo>
                    <a:pt x="69157" y="119340"/>
                  </a:lnTo>
                  <a:lnTo>
                    <a:pt x="66184" y="119700"/>
                  </a:lnTo>
                  <a:lnTo>
                    <a:pt x="63092" y="119880"/>
                  </a:lnTo>
                  <a:lnTo>
                    <a:pt x="60000" y="120000"/>
                  </a:lnTo>
                  <a:lnTo>
                    <a:pt x="56907" y="119880"/>
                  </a:lnTo>
                  <a:lnTo>
                    <a:pt x="53875" y="119700"/>
                  </a:lnTo>
                  <a:lnTo>
                    <a:pt x="50901" y="119340"/>
                  </a:lnTo>
                  <a:lnTo>
                    <a:pt x="47928" y="118801"/>
                  </a:lnTo>
                  <a:lnTo>
                    <a:pt x="45014" y="118082"/>
                  </a:lnTo>
                  <a:lnTo>
                    <a:pt x="42160" y="117304"/>
                  </a:lnTo>
                  <a:lnTo>
                    <a:pt x="39365" y="116345"/>
                  </a:lnTo>
                  <a:lnTo>
                    <a:pt x="36630" y="115327"/>
                  </a:lnTo>
                  <a:lnTo>
                    <a:pt x="34013" y="114068"/>
                  </a:lnTo>
                  <a:lnTo>
                    <a:pt x="31397" y="112810"/>
                  </a:lnTo>
                  <a:lnTo>
                    <a:pt x="28899" y="111313"/>
                  </a:lnTo>
                  <a:lnTo>
                    <a:pt x="26521" y="109755"/>
                  </a:lnTo>
                  <a:lnTo>
                    <a:pt x="24083" y="108137"/>
                  </a:lnTo>
                  <a:lnTo>
                    <a:pt x="21823" y="106280"/>
                  </a:lnTo>
                  <a:lnTo>
                    <a:pt x="19682" y="104423"/>
                  </a:lnTo>
                  <a:lnTo>
                    <a:pt x="17542" y="102446"/>
                  </a:lnTo>
                  <a:lnTo>
                    <a:pt x="15639" y="100349"/>
                  </a:lnTo>
                  <a:lnTo>
                    <a:pt x="13736" y="98132"/>
                  </a:lnTo>
                  <a:lnTo>
                    <a:pt x="11952" y="95856"/>
                  </a:lnTo>
                  <a:lnTo>
                    <a:pt x="10227" y="93579"/>
                  </a:lnTo>
                  <a:lnTo>
                    <a:pt x="8681" y="91063"/>
                  </a:lnTo>
                  <a:lnTo>
                    <a:pt x="7254" y="88607"/>
                  </a:lnTo>
                  <a:lnTo>
                    <a:pt x="5887" y="86030"/>
                  </a:lnTo>
                  <a:lnTo>
                    <a:pt x="4757" y="83394"/>
                  </a:lnTo>
                  <a:lnTo>
                    <a:pt x="3627" y="80639"/>
                  </a:lnTo>
                  <a:lnTo>
                    <a:pt x="2735" y="77883"/>
                  </a:lnTo>
                  <a:lnTo>
                    <a:pt x="1902" y="75007"/>
                  </a:lnTo>
                  <a:lnTo>
                    <a:pt x="1248" y="72131"/>
                  </a:lnTo>
                  <a:lnTo>
                    <a:pt x="713" y="69136"/>
                  </a:lnTo>
                  <a:lnTo>
                    <a:pt x="356" y="66140"/>
                  </a:lnTo>
                  <a:lnTo>
                    <a:pt x="118" y="63085"/>
                  </a:lnTo>
                  <a:lnTo>
                    <a:pt x="0" y="60029"/>
                  </a:lnTo>
                  <a:lnTo>
                    <a:pt x="118" y="56914"/>
                  </a:lnTo>
                  <a:lnTo>
                    <a:pt x="356" y="53859"/>
                  </a:lnTo>
                  <a:lnTo>
                    <a:pt x="713" y="50863"/>
                  </a:lnTo>
                  <a:lnTo>
                    <a:pt x="1248" y="47868"/>
                  </a:lnTo>
                  <a:lnTo>
                    <a:pt x="1902" y="44992"/>
                  </a:lnTo>
                  <a:lnTo>
                    <a:pt x="2735" y="42116"/>
                  </a:lnTo>
                  <a:lnTo>
                    <a:pt x="3627" y="39360"/>
                  </a:lnTo>
                  <a:lnTo>
                    <a:pt x="4757" y="36605"/>
                  </a:lnTo>
                  <a:lnTo>
                    <a:pt x="5887" y="33969"/>
                  </a:lnTo>
                  <a:lnTo>
                    <a:pt x="7254" y="31392"/>
                  </a:lnTo>
                  <a:lnTo>
                    <a:pt x="8681" y="28876"/>
                  </a:lnTo>
                  <a:lnTo>
                    <a:pt x="10227" y="26420"/>
                  </a:lnTo>
                  <a:lnTo>
                    <a:pt x="11952" y="24083"/>
                  </a:lnTo>
                  <a:lnTo>
                    <a:pt x="13736" y="21807"/>
                  </a:lnTo>
                  <a:lnTo>
                    <a:pt x="15639" y="19590"/>
                  </a:lnTo>
                  <a:lnTo>
                    <a:pt x="17542" y="17493"/>
                  </a:lnTo>
                  <a:lnTo>
                    <a:pt x="19682" y="15576"/>
                  </a:lnTo>
                  <a:lnTo>
                    <a:pt x="21823" y="13659"/>
                  </a:lnTo>
                  <a:lnTo>
                    <a:pt x="24083" y="11862"/>
                  </a:lnTo>
                  <a:lnTo>
                    <a:pt x="26521" y="10184"/>
                  </a:lnTo>
                  <a:lnTo>
                    <a:pt x="28899" y="8627"/>
                  </a:lnTo>
                  <a:lnTo>
                    <a:pt x="31397" y="7249"/>
                  </a:lnTo>
                  <a:lnTo>
                    <a:pt x="34013" y="5871"/>
                  </a:lnTo>
                  <a:lnTo>
                    <a:pt x="36630" y="4613"/>
                  </a:lnTo>
                  <a:lnTo>
                    <a:pt x="39365" y="3594"/>
                  </a:lnTo>
                  <a:lnTo>
                    <a:pt x="42160" y="2636"/>
                  </a:lnTo>
                  <a:lnTo>
                    <a:pt x="45014" y="1857"/>
                  </a:lnTo>
                  <a:lnTo>
                    <a:pt x="47928" y="1198"/>
                  </a:lnTo>
                  <a:lnTo>
                    <a:pt x="50901" y="599"/>
                  </a:lnTo>
                  <a:lnTo>
                    <a:pt x="53875" y="239"/>
                  </a:lnTo>
                  <a:lnTo>
                    <a:pt x="56907" y="59"/>
                  </a:lnTo>
                  <a:lnTo>
                    <a:pt x="60000" y="0"/>
                  </a:lnTo>
                  <a:lnTo>
                    <a:pt x="63092" y="59"/>
                  </a:lnTo>
                  <a:lnTo>
                    <a:pt x="66184" y="239"/>
                  </a:lnTo>
                  <a:lnTo>
                    <a:pt x="69157" y="599"/>
                  </a:lnTo>
                  <a:lnTo>
                    <a:pt x="72130" y="1198"/>
                  </a:lnTo>
                  <a:lnTo>
                    <a:pt x="75044" y="1857"/>
                  </a:lnTo>
                  <a:lnTo>
                    <a:pt x="77898" y="2636"/>
                  </a:lnTo>
                  <a:lnTo>
                    <a:pt x="80634" y="3594"/>
                  </a:lnTo>
                  <a:lnTo>
                    <a:pt x="83369" y="4613"/>
                  </a:lnTo>
                  <a:lnTo>
                    <a:pt x="86045" y="5871"/>
                  </a:lnTo>
                  <a:lnTo>
                    <a:pt x="88602" y="7249"/>
                  </a:lnTo>
                  <a:lnTo>
                    <a:pt x="91159" y="8627"/>
                  </a:lnTo>
                  <a:lnTo>
                    <a:pt x="93538" y="10184"/>
                  </a:lnTo>
                  <a:lnTo>
                    <a:pt x="95916" y="11862"/>
                  </a:lnTo>
                  <a:lnTo>
                    <a:pt x="98176" y="13659"/>
                  </a:lnTo>
                  <a:lnTo>
                    <a:pt x="100317" y="15576"/>
                  </a:lnTo>
                  <a:lnTo>
                    <a:pt x="102457" y="17493"/>
                  </a:lnTo>
                  <a:lnTo>
                    <a:pt x="104420" y="19590"/>
                  </a:lnTo>
                  <a:lnTo>
                    <a:pt x="106263" y="21807"/>
                  </a:lnTo>
                  <a:lnTo>
                    <a:pt x="108107" y="24083"/>
                  </a:lnTo>
                  <a:lnTo>
                    <a:pt x="109772" y="26420"/>
                  </a:lnTo>
                  <a:lnTo>
                    <a:pt x="111318" y="28876"/>
                  </a:lnTo>
                  <a:lnTo>
                    <a:pt x="112745" y="31392"/>
                  </a:lnTo>
                  <a:lnTo>
                    <a:pt x="114112" y="33969"/>
                  </a:lnTo>
                  <a:lnTo>
                    <a:pt x="115242" y="36605"/>
                  </a:lnTo>
                  <a:lnTo>
                    <a:pt x="116372" y="39360"/>
                  </a:lnTo>
                  <a:lnTo>
                    <a:pt x="117324" y="42116"/>
                  </a:lnTo>
                  <a:lnTo>
                    <a:pt x="118097" y="44992"/>
                  </a:lnTo>
                  <a:lnTo>
                    <a:pt x="118751" y="47868"/>
                  </a:lnTo>
                  <a:lnTo>
                    <a:pt x="119345" y="50863"/>
                  </a:lnTo>
                  <a:lnTo>
                    <a:pt x="119643" y="53859"/>
                  </a:lnTo>
                  <a:lnTo>
                    <a:pt x="119940" y="56914"/>
                  </a:lnTo>
                  <a:lnTo>
                    <a:pt x="120000" y="60029"/>
                  </a:lnTo>
                  <a:close/>
                </a:path>
              </a:pathLst>
            </a:custGeom>
            <a:solidFill>
              <a:srgbClr val="1891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8" name="任意多边形 268"/>
            <p:cNvSpPr/>
            <p:nvPr/>
          </p:nvSpPr>
          <p:spPr>
            <a:xfrm flipH="1">
              <a:off x="2979000" y="2697120"/>
              <a:ext cx="777600" cy="807120"/>
            </a:xfrm>
            <a:custGeom>
              <a:avLst/>
              <a:gdLst/>
              <a:ahLst/>
              <a:rect l="l" t="t" r="r" b="b"/>
              <a:pathLst>
                <a:path w="120000" h="120000">
                  <a:moveTo>
                    <a:pt x="120000" y="60017"/>
                  </a:moveTo>
                  <a:lnTo>
                    <a:pt x="119930" y="63128"/>
                  </a:lnTo>
                  <a:lnTo>
                    <a:pt x="119687" y="66169"/>
                  </a:lnTo>
                  <a:lnTo>
                    <a:pt x="119270" y="69175"/>
                  </a:lnTo>
                  <a:lnTo>
                    <a:pt x="118784" y="72111"/>
                  </a:lnTo>
                  <a:lnTo>
                    <a:pt x="118125" y="75013"/>
                  </a:lnTo>
                  <a:lnTo>
                    <a:pt x="117291" y="77844"/>
                  </a:lnTo>
                  <a:lnTo>
                    <a:pt x="116319" y="80640"/>
                  </a:lnTo>
                  <a:lnTo>
                    <a:pt x="115277" y="83367"/>
                  </a:lnTo>
                  <a:lnTo>
                    <a:pt x="114062" y="86058"/>
                  </a:lnTo>
                  <a:lnTo>
                    <a:pt x="112743" y="88610"/>
                  </a:lnTo>
                  <a:lnTo>
                    <a:pt x="111319" y="91162"/>
                  </a:lnTo>
                  <a:lnTo>
                    <a:pt x="109756" y="93574"/>
                  </a:lnTo>
                  <a:lnTo>
                    <a:pt x="108055" y="95916"/>
                  </a:lnTo>
                  <a:lnTo>
                    <a:pt x="106284" y="98188"/>
                  </a:lnTo>
                  <a:lnTo>
                    <a:pt x="104409" y="100355"/>
                  </a:lnTo>
                  <a:lnTo>
                    <a:pt x="102430" y="102452"/>
                  </a:lnTo>
                  <a:lnTo>
                    <a:pt x="100347" y="104410"/>
                  </a:lnTo>
                  <a:lnTo>
                    <a:pt x="98159" y="106297"/>
                  </a:lnTo>
                  <a:lnTo>
                    <a:pt x="95902" y="108115"/>
                  </a:lnTo>
                  <a:lnTo>
                    <a:pt x="93541" y="109793"/>
                  </a:lnTo>
                  <a:lnTo>
                    <a:pt x="91111" y="111331"/>
                  </a:lnTo>
                  <a:lnTo>
                    <a:pt x="88611" y="112764"/>
                  </a:lnTo>
                  <a:lnTo>
                    <a:pt x="86006" y="114092"/>
                  </a:lnTo>
                  <a:lnTo>
                    <a:pt x="83333" y="115281"/>
                  </a:lnTo>
                  <a:lnTo>
                    <a:pt x="80625" y="116399"/>
                  </a:lnTo>
                  <a:lnTo>
                    <a:pt x="77847" y="117343"/>
                  </a:lnTo>
                  <a:lnTo>
                    <a:pt x="75000" y="118112"/>
                  </a:lnTo>
                  <a:lnTo>
                    <a:pt x="72083" y="118811"/>
                  </a:lnTo>
                  <a:lnTo>
                    <a:pt x="69131" y="119335"/>
                  </a:lnTo>
                  <a:lnTo>
                    <a:pt x="66111" y="119720"/>
                  </a:lnTo>
                  <a:lnTo>
                    <a:pt x="63090" y="119930"/>
                  </a:lnTo>
                  <a:lnTo>
                    <a:pt x="60000" y="120000"/>
                  </a:lnTo>
                  <a:lnTo>
                    <a:pt x="56909" y="119930"/>
                  </a:lnTo>
                  <a:lnTo>
                    <a:pt x="53888" y="119720"/>
                  </a:lnTo>
                  <a:lnTo>
                    <a:pt x="50868" y="119335"/>
                  </a:lnTo>
                  <a:lnTo>
                    <a:pt x="47916" y="118811"/>
                  </a:lnTo>
                  <a:lnTo>
                    <a:pt x="45000" y="118112"/>
                  </a:lnTo>
                  <a:lnTo>
                    <a:pt x="42152" y="117343"/>
                  </a:lnTo>
                  <a:lnTo>
                    <a:pt x="39375" y="116399"/>
                  </a:lnTo>
                  <a:lnTo>
                    <a:pt x="36666" y="115281"/>
                  </a:lnTo>
                  <a:lnTo>
                    <a:pt x="33958" y="114092"/>
                  </a:lnTo>
                  <a:lnTo>
                    <a:pt x="31388" y="112764"/>
                  </a:lnTo>
                  <a:lnTo>
                    <a:pt x="28854" y="111331"/>
                  </a:lnTo>
                  <a:lnTo>
                    <a:pt x="26458" y="109793"/>
                  </a:lnTo>
                  <a:lnTo>
                    <a:pt x="24097" y="108115"/>
                  </a:lnTo>
                  <a:lnTo>
                    <a:pt x="21840" y="106297"/>
                  </a:lnTo>
                  <a:lnTo>
                    <a:pt x="19652" y="104410"/>
                  </a:lnTo>
                  <a:lnTo>
                    <a:pt x="17569" y="102452"/>
                  </a:lnTo>
                  <a:lnTo>
                    <a:pt x="15555" y="100355"/>
                  </a:lnTo>
                  <a:lnTo>
                    <a:pt x="13680" y="98188"/>
                  </a:lnTo>
                  <a:lnTo>
                    <a:pt x="11909" y="95916"/>
                  </a:lnTo>
                  <a:lnTo>
                    <a:pt x="10243" y="93574"/>
                  </a:lnTo>
                  <a:lnTo>
                    <a:pt x="8680" y="91162"/>
                  </a:lnTo>
                  <a:lnTo>
                    <a:pt x="7256" y="88610"/>
                  </a:lnTo>
                  <a:lnTo>
                    <a:pt x="5902" y="86058"/>
                  </a:lnTo>
                  <a:lnTo>
                    <a:pt x="4722" y="83367"/>
                  </a:lnTo>
                  <a:lnTo>
                    <a:pt x="3611" y="80640"/>
                  </a:lnTo>
                  <a:lnTo>
                    <a:pt x="2673" y="77844"/>
                  </a:lnTo>
                  <a:lnTo>
                    <a:pt x="1875" y="75013"/>
                  </a:lnTo>
                  <a:lnTo>
                    <a:pt x="1215" y="72111"/>
                  </a:lnTo>
                  <a:lnTo>
                    <a:pt x="694" y="69175"/>
                  </a:lnTo>
                  <a:lnTo>
                    <a:pt x="312" y="66169"/>
                  </a:lnTo>
                  <a:lnTo>
                    <a:pt x="69" y="63128"/>
                  </a:lnTo>
                  <a:lnTo>
                    <a:pt x="0" y="60017"/>
                  </a:lnTo>
                  <a:lnTo>
                    <a:pt x="69" y="56941"/>
                  </a:lnTo>
                  <a:lnTo>
                    <a:pt x="312" y="53900"/>
                  </a:lnTo>
                  <a:lnTo>
                    <a:pt x="694" y="50859"/>
                  </a:lnTo>
                  <a:lnTo>
                    <a:pt x="1215" y="47923"/>
                  </a:lnTo>
                  <a:lnTo>
                    <a:pt x="1875" y="45021"/>
                  </a:lnTo>
                  <a:lnTo>
                    <a:pt x="2673" y="42190"/>
                  </a:lnTo>
                  <a:lnTo>
                    <a:pt x="3611" y="39394"/>
                  </a:lnTo>
                  <a:lnTo>
                    <a:pt x="4722" y="36667"/>
                  </a:lnTo>
                  <a:lnTo>
                    <a:pt x="5902" y="34011"/>
                  </a:lnTo>
                  <a:lnTo>
                    <a:pt x="7256" y="31424"/>
                  </a:lnTo>
                  <a:lnTo>
                    <a:pt x="8680" y="28907"/>
                  </a:lnTo>
                  <a:lnTo>
                    <a:pt x="10243" y="26460"/>
                  </a:lnTo>
                  <a:lnTo>
                    <a:pt x="11909" y="24118"/>
                  </a:lnTo>
                  <a:lnTo>
                    <a:pt x="13680" y="21846"/>
                  </a:lnTo>
                  <a:lnTo>
                    <a:pt x="15555" y="19644"/>
                  </a:lnTo>
                  <a:lnTo>
                    <a:pt x="17569" y="17582"/>
                  </a:lnTo>
                  <a:lnTo>
                    <a:pt x="19652" y="15624"/>
                  </a:lnTo>
                  <a:lnTo>
                    <a:pt x="21840" y="13737"/>
                  </a:lnTo>
                  <a:lnTo>
                    <a:pt x="24097" y="11954"/>
                  </a:lnTo>
                  <a:lnTo>
                    <a:pt x="26458" y="10241"/>
                  </a:lnTo>
                  <a:lnTo>
                    <a:pt x="28854" y="8703"/>
                  </a:lnTo>
                  <a:lnTo>
                    <a:pt x="31388" y="7270"/>
                  </a:lnTo>
                  <a:lnTo>
                    <a:pt x="33958" y="5942"/>
                  </a:lnTo>
                  <a:lnTo>
                    <a:pt x="36666" y="4753"/>
                  </a:lnTo>
                  <a:lnTo>
                    <a:pt x="39375" y="3635"/>
                  </a:lnTo>
                  <a:lnTo>
                    <a:pt x="42152" y="2691"/>
                  </a:lnTo>
                  <a:lnTo>
                    <a:pt x="45000" y="1887"/>
                  </a:lnTo>
                  <a:lnTo>
                    <a:pt x="47916" y="1223"/>
                  </a:lnTo>
                  <a:lnTo>
                    <a:pt x="50868" y="699"/>
                  </a:lnTo>
                  <a:lnTo>
                    <a:pt x="53888" y="314"/>
                  </a:lnTo>
                  <a:lnTo>
                    <a:pt x="56909" y="104"/>
                  </a:lnTo>
                  <a:lnTo>
                    <a:pt x="60000" y="0"/>
                  </a:lnTo>
                  <a:lnTo>
                    <a:pt x="63090" y="104"/>
                  </a:lnTo>
                  <a:lnTo>
                    <a:pt x="66111" y="314"/>
                  </a:lnTo>
                  <a:lnTo>
                    <a:pt x="69131" y="699"/>
                  </a:lnTo>
                  <a:lnTo>
                    <a:pt x="72083" y="1223"/>
                  </a:lnTo>
                  <a:lnTo>
                    <a:pt x="75000" y="1887"/>
                  </a:lnTo>
                  <a:lnTo>
                    <a:pt x="77847" y="2691"/>
                  </a:lnTo>
                  <a:lnTo>
                    <a:pt x="80625" y="3635"/>
                  </a:lnTo>
                  <a:lnTo>
                    <a:pt x="83333" y="4753"/>
                  </a:lnTo>
                  <a:lnTo>
                    <a:pt x="86006" y="5942"/>
                  </a:lnTo>
                  <a:lnTo>
                    <a:pt x="88611" y="7270"/>
                  </a:lnTo>
                  <a:lnTo>
                    <a:pt x="91111" y="8703"/>
                  </a:lnTo>
                  <a:lnTo>
                    <a:pt x="93541" y="10241"/>
                  </a:lnTo>
                  <a:lnTo>
                    <a:pt x="95902" y="11954"/>
                  </a:lnTo>
                  <a:lnTo>
                    <a:pt x="98159" y="13737"/>
                  </a:lnTo>
                  <a:lnTo>
                    <a:pt x="100347" y="15624"/>
                  </a:lnTo>
                  <a:lnTo>
                    <a:pt x="102430" y="17582"/>
                  </a:lnTo>
                  <a:lnTo>
                    <a:pt x="104409" y="19644"/>
                  </a:lnTo>
                  <a:lnTo>
                    <a:pt x="106284" y="21846"/>
                  </a:lnTo>
                  <a:lnTo>
                    <a:pt x="108055" y="24118"/>
                  </a:lnTo>
                  <a:lnTo>
                    <a:pt x="109756" y="26460"/>
                  </a:lnTo>
                  <a:lnTo>
                    <a:pt x="111319" y="28907"/>
                  </a:lnTo>
                  <a:lnTo>
                    <a:pt x="112743" y="31424"/>
                  </a:lnTo>
                  <a:lnTo>
                    <a:pt x="114062" y="34011"/>
                  </a:lnTo>
                  <a:lnTo>
                    <a:pt x="115277" y="36667"/>
                  </a:lnTo>
                  <a:lnTo>
                    <a:pt x="116319" y="39394"/>
                  </a:lnTo>
                  <a:lnTo>
                    <a:pt x="117291" y="42190"/>
                  </a:lnTo>
                  <a:lnTo>
                    <a:pt x="118125" y="45021"/>
                  </a:lnTo>
                  <a:lnTo>
                    <a:pt x="118784" y="47923"/>
                  </a:lnTo>
                  <a:lnTo>
                    <a:pt x="119270" y="50859"/>
                  </a:lnTo>
                  <a:lnTo>
                    <a:pt x="119687" y="53900"/>
                  </a:lnTo>
                  <a:lnTo>
                    <a:pt x="119930" y="56941"/>
                  </a:lnTo>
                  <a:lnTo>
                    <a:pt x="120000" y="60017"/>
                  </a:lnTo>
                  <a:close/>
                </a:path>
              </a:pathLst>
            </a:custGeom>
            <a:solidFill>
              <a:srgbClr val="5268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9" name="任意多边形 269"/>
            <p:cNvSpPr/>
            <p:nvPr/>
          </p:nvSpPr>
          <p:spPr>
            <a:xfrm flipH="1">
              <a:off x="3400560" y="3611160"/>
              <a:ext cx="391680" cy="406080"/>
            </a:xfrm>
            <a:custGeom>
              <a:avLst/>
              <a:gdLst/>
              <a:ahLst/>
              <a:rect l="l" t="t" r="r" b="b"/>
              <a:pathLst>
                <a:path w="120000" h="120000">
                  <a:moveTo>
                    <a:pt x="120000" y="60000"/>
                  </a:moveTo>
                  <a:lnTo>
                    <a:pt x="119930" y="63125"/>
                  </a:lnTo>
                  <a:lnTo>
                    <a:pt x="119723" y="66111"/>
                  </a:lnTo>
                  <a:lnTo>
                    <a:pt x="119309" y="69166"/>
                  </a:lnTo>
                  <a:lnTo>
                    <a:pt x="118826" y="72152"/>
                  </a:lnTo>
                  <a:lnTo>
                    <a:pt x="118136" y="75069"/>
                  </a:lnTo>
                  <a:lnTo>
                    <a:pt x="117308" y="77847"/>
                  </a:lnTo>
                  <a:lnTo>
                    <a:pt x="116342" y="80694"/>
                  </a:lnTo>
                  <a:lnTo>
                    <a:pt x="115238" y="83402"/>
                  </a:lnTo>
                  <a:lnTo>
                    <a:pt x="114065" y="85972"/>
                  </a:lnTo>
                  <a:lnTo>
                    <a:pt x="112823" y="88611"/>
                  </a:lnTo>
                  <a:lnTo>
                    <a:pt x="111305" y="91111"/>
                  </a:lnTo>
                  <a:lnTo>
                    <a:pt x="109787" y="93611"/>
                  </a:lnTo>
                  <a:lnTo>
                    <a:pt x="108062" y="95902"/>
                  </a:lnTo>
                  <a:lnTo>
                    <a:pt x="106336" y="98194"/>
                  </a:lnTo>
                  <a:lnTo>
                    <a:pt x="104404" y="100347"/>
                  </a:lnTo>
                  <a:lnTo>
                    <a:pt x="102403" y="102430"/>
                  </a:lnTo>
                  <a:lnTo>
                    <a:pt x="100333" y="104375"/>
                  </a:lnTo>
                  <a:lnTo>
                    <a:pt x="98125" y="106319"/>
                  </a:lnTo>
                  <a:lnTo>
                    <a:pt x="95917" y="108055"/>
                  </a:lnTo>
                  <a:lnTo>
                    <a:pt x="93571" y="109791"/>
                  </a:lnTo>
                  <a:lnTo>
                    <a:pt x="91086" y="111319"/>
                  </a:lnTo>
                  <a:lnTo>
                    <a:pt x="88602" y="112777"/>
                  </a:lnTo>
                  <a:lnTo>
                    <a:pt x="85980" y="114097"/>
                  </a:lnTo>
                  <a:lnTo>
                    <a:pt x="83358" y="115277"/>
                  </a:lnTo>
                  <a:lnTo>
                    <a:pt x="80667" y="116388"/>
                  </a:lnTo>
                  <a:lnTo>
                    <a:pt x="77906" y="117291"/>
                  </a:lnTo>
                  <a:lnTo>
                    <a:pt x="75008" y="118125"/>
                  </a:lnTo>
                  <a:lnTo>
                    <a:pt x="72110" y="118819"/>
                  </a:lnTo>
                  <a:lnTo>
                    <a:pt x="69143" y="119305"/>
                  </a:lnTo>
                  <a:lnTo>
                    <a:pt x="66175" y="119722"/>
                  </a:lnTo>
                  <a:lnTo>
                    <a:pt x="63070" y="119930"/>
                  </a:lnTo>
                  <a:lnTo>
                    <a:pt x="60034" y="120000"/>
                  </a:lnTo>
                  <a:lnTo>
                    <a:pt x="56929" y="119930"/>
                  </a:lnTo>
                  <a:lnTo>
                    <a:pt x="53824" y="119722"/>
                  </a:lnTo>
                  <a:lnTo>
                    <a:pt x="50856" y="119305"/>
                  </a:lnTo>
                  <a:lnTo>
                    <a:pt x="47889" y="118819"/>
                  </a:lnTo>
                  <a:lnTo>
                    <a:pt x="44991" y="118125"/>
                  </a:lnTo>
                  <a:lnTo>
                    <a:pt x="42162" y="117291"/>
                  </a:lnTo>
                  <a:lnTo>
                    <a:pt x="39332" y="116388"/>
                  </a:lnTo>
                  <a:lnTo>
                    <a:pt x="36641" y="115277"/>
                  </a:lnTo>
                  <a:lnTo>
                    <a:pt x="33950" y="114097"/>
                  </a:lnTo>
                  <a:lnTo>
                    <a:pt x="31397" y="112777"/>
                  </a:lnTo>
                  <a:lnTo>
                    <a:pt x="28844" y="111319"/>
                  </a:lnTo>
                  <a:lnTo>
                    <a:pt x="26428" y="109791"/>
                  </a:lnTo>
                  <a:lnTo>
                    <a:pt x="24082" y="108055"/>
                  </a:lnTo>
                  <a:lnTo>
                    <a:pt x="21805" y="106319"/>
                  </a:lnTo>
                  <a:lnTo>
                    <a:pt x="19597" y="104375"/>
                  </a:lnTo>
                  <a:lnTo>
                    <a:pt x="17596" y="102430"/>
                  </a:lnTo>
                  <a:lnTo>
                    <a:pt x="15526" y="100347"/>
                  </a:lnTo>
                  <a:lnTo>
                    <a:pt x="13663" y="98194"/>
                  </a:lnTo>
                  <a:lnTo>
                    <a:pt x="11868" y="95902"/>
                  </a:lnTo>
                  <a:lnTo>
                    <a:pt x="10212" y="93611"/>
                  </a:lnTo>
                  <a:lnTo>
                    <a:pt x="8625" y="91111"/>
                  </a:lnTo>
                  <a:lnTo>
                    <a:pt x="7245" y="88611"/>
                  </a:lnTo>
                  <a:lnTo>
                    <a:pt x="5865" y="85972"/>
                  </a:lnTo>
                  <a:lnTo>
                    <a:pt x="4761" y="83402"/>
                  </a:lnTo>
                  <a:lnTo>
                    <a:pt x="3588" y="80694"/>
                  </a:lnTo>
                  <a:lnTo>
                    <a:pt x="2691" y="77847"/>
                  </a:lnTo>
                  <a:lnTo>
                    <a:pt x="1863" y="75069"/>
                  </a:lnTo>
                  <a:lnTo>
                    <a:pt x="1242" y="72152"/>
                  </a:lnTo>
                  <a:lnTo>
                    <a:pt x="690" y="69166"/>
                  </a:lnTo>
                  <a:lnTo>
                    <a:pt x="276" y="66111"/>
                  </a:lnTo>
                  <a:lnTo>
                    <a:pt x="69" y="63125"/>
                  </a:lnTo>
                  <a:lnTo>
                    <a:pt x="0" y="60000"/>
                  </a:lnTo>
                  <a:lnTo>
                    <a:pt x="69" y="56944"/>
                  </a:lnTo>
                  <a:lnTo>
                    <a:pt x="276" y="53888"/>
                  </a:lnTo>
                  <a:lnTo>
                    <a:pt x="690" y="50902"/>
                  </a:lnTo>
                  <a:lnTo>
                    <a:pt x="1242" y="47916"/>
                  </a:lnTo>
                  <a:lnTo>
                    <a:pt x="1863" y="45000"/>
                  </a:lnTo>
                  <a:lnTo>
                    <a:pt x="2691" y="42152"/>
                  </a:lnTo>
                  <a:lnTo>
                    <a:pt x="3588" y="39375"/>
                  </a:lnTo>
                  <a:lnTo>
                    <a:pt x="4761" y="36666"/>
                  </a:lnTo>
                  <a:lnTo>
                    <a:pt x="5865" y="33958"/>
                  </a:lnTo>
                  <a:lnTo>
                    <a:pt x="7245" y="31458"/>
                  </a:lnTo>
                  <a:lnTo>
                    <a:pt x="8625" y="28888"/>
                  </a:lnTo>
                  <a:lnTo>
                    <a:pt x="10212" y="26458"/>
                  </a:lnTo>
                  <a:lnTo>
                    <a:pt x="11868" y="24097"/>
                  </a:lnTo>
                  <a:lnTo>
                    <a:pt x="13663" y="21805"/>
                  </a:lnTo>
                  <a:lnTo>
                    <a:pt x="15526" y="19652"/>
                  </a:lnTo>
                  <a:lnTo>
                    <a:pt x="17596" y="17569"/>
                  </a:lnTo>
                  <a:lnTo>
                    <a:pt x="19597" y="15625"/>
                  </a:lnTo>
                  <a:lnTo>
                    <a:pt x="21805" y="13750"/>
                  </a:lnTo>
                  <a:lnTo>
                    <a:pt x="24082" y="11944"/>
                  </a:lnTo>
                  <a:lnTo>
                    <a:pt x="26428" y="10277"/>
                  </a:lnTo>
                  <a:lnTo>
                    <a:pt x="28844" y="8680"/>
                  </a:lnTo>
                  <a:lnTo>
                    <a:pt x="31397" y="7291"/>
                  </a:lnTo>
                  <a:lnTo>
                    <a:pt x="33950" y="5902"/>
                  </a:lnTo>
                  <a:lnTo>
                    <a:pt x="36641" y="4722"/>
                  </a:lnTo>
                  <a:lnTo>
                    <a:pt x="39332" y="3680"/>
                  </a:lnTo>
                  <a:lnTo>
                    <a:pt x="42162" y="2708"/>
                  </a:lnTo>
                  <a:lnTo>
                    <a:pt x="44991" y="1875"/>
                  </a:lnTo>
                  <a:lnTo>
                    <a:pt x="47889" y="1180"/>
                  </a:lnTo>
                  <a:lnTo>
                    <a:pt x="50856" y="625"/>
                  </a:lnTo>
                  <a:lnTo>
                    <a:pt x="53824" y="277"/>
                  </a:lnTo>
                  <a:lnTo>
                    <a:pt x="56929" y="69"/>
                  </a:lnTo>
                  <a:lnTo>
                    <a:pt x="60034" y="0"/>
                  </a:lnTo>
                  <a:lnTo>
                    <a:pt x="63070" y="69"/>
                  </a:lnTo>
                  <a:lnTo>
                    <a:pt x="66175" y="277"/>
                  </a:lnTo>
                  <a:lnTo>
                    <a:pt x="69143" y="625"/>
                  </a:lnTo>
                  <a:lnTo>
                    <a:pt x="72110" y="1180"/>
                  </a:lnTo>
                  <a:lnTo>
                    <a:pt x="75008" y="1875"/>
                  </a:lnTo>
                  <a:lnTo>
                    <a:pt x="77906" y="2708"/>
                  </a:lnTo>
                  <a:lnTo>
                    <a:pt x="80667" y="3680"/>
                  </a:lnTo>
                  <a:lnTo>
                    <a:pt x="83358" y="4722"/>
                  </a:lnTo>
                  <a:lnTo>
                    <a:pt x="85980" y="5902"/>
                  </a:lnTo>
                  <a:lnTo>
                    <a:pt x="88602" y="7291"/>
                  </a:lnTo>
                  <a:lnTo>
                    <a:pt x="91086" y="8680"/>
                  </a:lnTo>
                  <a:lnTo>
                    <a:pt x="93571" y="10277"/>
                  </a:lnTo>
                  <a:lnTo>
                    <a:pt x="95917" y="11944"/>
                  </a:lnTo>
                  <a:lnTo>
                    <a:pt x="98125" y="13750"/>
                  </a:lnTo>
                  <a:lnTo>
                    <a:pt x="100333" y="15625"/>
                  </a:lnTo>
                  <a:lnTo>
                    <a:pt x="102403" y="17569"/>
                  </a:lnTo>
                  <a:lnTo>
                    <a:pt x="104404" y="19652"/>
                  </a:lnTo>
                  <a:lnTo>
                    <a:pt x="106336" y="21805"/>
                  </a:lnTo>
                  <a:lnTo>
                    <a:pt x="108062" y="24097"/>
                  </a:lnTo>
                  <a:lnTo>
                    <a:pt x="109787" y="26458"/>
                  </a:lnTo>
                  <a:lnTo>
                    <a:pt x="111305" y="28888"/>
                  </a:lnTo>
                  <a:lnTo>
                    <a:pt x="112823" y="31458"/>
                  </a:lnTo>
                  <a:lnTo>
                    <a:pt x="114065" y="33958"/>
                  </a:lnTo>
                  <a:lnTo>
                    <a:pt x="115238" y="36666"/>
                  </a:lnTo>
                  <a:lnTo>
                    <a:pt x="116342" y="39375"/>
                  </a:lnTo>
                  <a:lnTo>
                    <a:pt x="117308" y="42152"/>
                  </a:lnTo>
                  <a:lnTo>
                    <a:pt x="118136" y="45000"/>
                  </a:lnTo>
                  <a:lnTo>
                    <a:pt x="118826" y="47916"/>
                  </a:lnTo>
                  <a:lnTo>
                    <a:pt x="119309" y="50902"/>
                  </a:lnTo>
                  <a:lnTo>
                    <a:pt x="119723" y="53888"/>
                  </a:lnTo>
                  <a:lnTo>
                    <a:pt x="119930" y="56944"/>
                  </a:lnTo>
                  <a:lnTo>
                    <a:pt x="120000" y="60000"/>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0" name="任意多边形 270"/>
            <p:cNvSpPr/>
            <p:nvPr/>
          </p:nvSpPr>
          <p:spPr>
            <a:xfrm>
              <a:off x="3162240" y="2900160"/>
              <a:ext cx="430920" cy="420480"/>
            </a:xfrm>
            <a:custGeom>
              <a:avLst/>
              <a:gdLst/>
              <a:ahLst/>
              <a:rect l="l" t="t" r="r" b="b"/>
              <a:pathLst>
                <a:path w="597921" h="598324">
                  <a:moveTo>
                    <a:pt x="297615" y="96957"/>
                  </a:moveTo>
                  <a:cubicBezTo>
                    <a:pt x="311959" y="96957"/>
                    <a:pt x="323434" y="108416"/>
                    <a:pt x="323434" y="122740"/>
                  </a:cubicBezTo>
                  <a:lnTo>
                    <a:pt x="323434" y="289852"/>
                  </a:lnTo>
                  <a:lnTo>
                    <a:pt x="462572" y="289852"/>
                  </a:lnTo>
                  <a:cubicBezTo>
                    <a:pt x="476438" y="289852"/>
                    <a:pt x="487913" y="301311"/>
                    <a:pt x="487913" y="315157"/>
                  </a:cubicBezTo>
                  <a:cubicBezTo>
                    <a:pt x="487913" y="329004"/>
                    <a:pt x="476438" y="340463"/>
                    <a:pt x="462572" y="340463"/>
                  </a:cubicBezTo>
                  <a:lnTo>
                    <a:pt x="297615" y="340463"/>
                  </a:lnTo>
                  <a:cubicBezTo>
                    <a:pt x="283749" y="340463"/>
                    <a:pt x="272274" y="329004"/>
                    <a:pt x="272274" y="315157"/>
                  </a:cubicBezTo>
                  <a:lnTo>
                    <a:pt x="272274" y="122740"/>
                  </a:lnTo>
                  <a:cubicBezTo>
                    <a:pt x="272274" y="108416"/>
                    <a:pt x="283749" y="96957"/>
                    <a:pt x="297615" y="96957"/>
                  </a:cubicBezTo>
                  <a:close/>
                  <a:moveTo>
                    <a:pt x="298127" y="0"/>
                  </a:moveTo>
                  <a:cubicBezTo>
                    <a:pt x="463564" y="0"/>
                    <a:pt x="597921" y="134181"/>
                    <a:pt x="597921" y="299401"/>
                  </a:cubicBezTo>
                  <a:cubicBezTo>
                    <a:pt x="597921" y="464143"/>
                    <a:pt x="463564" y="598324"/>
                    <a:pt x="298127" y="598324"/>
                  </a:cubicBezTo>
                  <a:cubicBezTo>
                    <a:pt x="188155" y="598324"/>
                    <a:pt x="87268" y="538635"/>
                    <a:pt x="35150" y="442177"/>
                  </a:cubicBezTo>
                  <a:cubicBezTo>
                    <a:pt x="33238" y="438835"/>
                    <a:pt x="32760" y="435492"/>
                    <a:pt x="34194" y="432149"/>
                  </a:cubicBezTo>
                  <a:cubicBezTo>
                    <a:pt x="35150" y="428807"/>
                    <a:pt x="37541" y="425942"/>
                    <a:pt x="40410" y="424509"/>
                  </a:cubicBezTo>
                  <a:lnTo>
                    <a:pt x="74836" y="407796"/>
                  </a:lnTo>
                  <a:cubicBezTo>
                    <a:pt x="81052" y="404931"/>
                    <a:pt x="88702" y="407319"/>
                    <a:pt x="91571" y="413049"/>
                  </a:cubicBezTo>
                  <a:cubicBezTo>
                    <a:pt x="133169" y="488018"/>
                    <a:pt x="212540" y="534815"/>
                    <a:pt x="298127" y="534815"/>
                  </a:cubicBezTo>
                  <a:cubicBezTo>
                    <a:pt x="428181" y="534815"/>
                    <a:pt x="534328" y="429284"/>
                    <a:pt x="534328" y="299401"/>
                  </a:cubicBezTo>
                  <a:cubicBezTo>
                    <a:pt x="534328" y="169517"/>
                    <a:pt x="428181" y="63509"/>
                    <a:pt x="298127" y="63509"/>
                  </a:cubicBezTo>
                  <a:cubicBezTo>
                    <a:pt x="242185" y="63509"/>
                    <a:pt x="187677" y="83565"/>
                    <a:pt x="145123" y="120333"/>
                  </a:cubicBezTo>
                  <a:lnTo>
                    <a:pt x="200587" y="142299"/>
                  </a:lnTo>
                  <a:cubicBezTo>
                    <a:pt x="204890" y="144209"/>
                    <a:pt x="207759" y="148029"/>
                    <a:pt x="208237" y="152327"/>
                  </a:cubicBezTo>
                  <a:cubicBezTo>
                    <a:pt x="208715" y="157102"/>
                    <a:pt x="207281" y="161399"/>
                    <a:pt x="203456" y="164265"/>
                  </a:cubicBezTo>
                  <a:lnTo>
                    <a:pt x="48060" y="285553"/>
                  </a:lnTo>
                  <a:cubicBezTo>
                    <a:pt x="44235" y="288418"/>
                    <a:pt x="39454" y="289373"/>
                    <a:pt x="35150" y="287463"/>
                  </a:cubicBezTo>
                  <a:cubicBezTo>
                    <a:pt x="31325" y="285553"/>
                    <a:pt x="27978" y="281733"/>
                    <a:pt x="27500" y="277435"/>
                  </a:cubicBezTo>
                  <a:lnTo>
                    <a:pt x="246" y="82132"/>
                  </a:lnTo>
                  <a:cubicBezTo>
                    <a:pt x="-710" y="77835"/>
                    <a:pt x="1203" y="73060"/>
                    <a:pt x="4550" y="70194"/>
                  </a:cubicBezTo>
                  <a:cubicBezTo>
                    <a:pt x="8375" y="67807"/>
                    <a:pt x="13156" y="66852"/>
                    <a:pt x="17459" y="68762"/>
                  </a:cubicBezTo>
                  <a:lnTo>
                    <a:pt x="80574" y="94070"/>
                  </a:lnTo>
                  <a:cubicBezTo>
                    <a:pt x="137472" y="33426"/>
                    <a:pt x="214931" y="0"/>
                    <a:pt x="29812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1" name="任意多边形 271"/>
            <p:cNvSpPr/>
            <p:nvPr/>
          </p:nvSpPr>
          <p:spPr>
            <a:xfrm>
              <a:off x="1824840" y="2346840"/>
              <a:ext cx="628560" cy="614160"/>
            </a:xfrm>
            <a:custGeom>
              <a:avLst/>
              <a:gdLst/>
              <a:ahLst/>
              <a:rect l="l" t="t" r="r" b="b"/>
              <a:pathLst>
                <a:path w="6827" h="5912">
                  <a:moveTo>
                    <a:pt x="3413" y="0"/>
                  </a:moveTo>
                  <a:lnTo>
                    <a:pt x="0" y="5912"/>
                  </a:lnTo>
                  <a:lnTo>
                    <a:pt x="6827" y="5912"/>
                  </a:lnTo>
                  <a:lnTo>
                    <a:pt x="3413" y="0"/>
                  </a:lnTo>
                  <a:close/>
                  <a:moveTo>
                    <a:pt x="3413" y="972"/>
                  </a:moveTo>
                  <a:lnTo>
                    <a:pt x="4489" y="2835"/>
                  </a:lnTo>
                  <a:lnTo>
                    <a:pt x="2338" y="2835"/>
                  </a:lnTo>
                  <a:lnTo>
                    <a:pt x="3413" y="972"/>
                  </a:lnTo>
                  <a:close/>
                  <a:moveTo>
                    <a:pt x="842" y="5426"/>
                  </a:moveTo>
                  <a:lnTo>
                    <a:pt x="1917" y="3564"/>
                  </a:lnTo>
                  <a:lnTo>
                    <a:pt x="2993" y="5426"/>
                  </a:lnTo>
                  <a:lnTo>
                    <a:pt x="842" y="5426"/>
                  </a:lnTo>
                  <a:close/>
                  <a:moveTo>
                    <a:pt x="2338" y="3321"/>
                  </a:moveTo>
                  <a:lnTo>
                    <a:pt x="4489" y="3321"/>
                  </a:lnTo>
                  <a:lnTo>
                    <a:pt x="3413" y="5183"/>
                  </a:lnTo>
                  <a:lnTo>
                    <a:pt x="2338" y="3321"/>
                  </a:lnTo>
                  <a:close/>
                  <a:moveTo>
                    <a:pt x="4910" y="3564"/>
                  </a:moveTo>
                  <a:lnTo>
                    <a:pt x="5985" y="5426"/>
                  </a:lnTo>
                  <a:lnTo>
                    <a:pt x="3834" y="5426"/>
                  </a:lnTo>
                  <a:lnTo>
                    <a:pt x="4910" y="35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2" name="任意多边形 272"/>
            <p:cNvSpPr/>
            <p:nvPr/>
          </p:nvSpPr>
          <p:spPr>
            <a:xfrm>
              <a:off x="862920" y="3947400"/>
              <a:ext cx="367920" cy="359640"/>
            </a:xfrm>
            <a:custGeom>
              <a:avLst/>
              <a:gdLst/>
              <a:ahLst/>
              <a:rect l="l" t="t" r="r" b="b"/>
              <a:pathLst>
                <a:path w="582235" h="606722">
                  <a:moveTo>
                    <a:pt x="0" y="404481"/>
                  </a:moveTo>
                  <a:lnTo>
                    <a:pt x="101261" y="404481"/>
                  </a:lnTo>
                  <a:lnTo>
                    <a:pt x="101261" y="606722"/>
                  </a:lnTo>
                  <a:lnTo>
                    <a:pt x="0" y="606722"/>
                  </a:lnTo>
                  <a:lnTo>
                    <a:pt x="0" y="404481"/>
                  </a:lnTo>
                  <a:close/>
                  <a:moveTo>
                    <a:pt x="151927" y="328623"/>
                  </a:moveTo>
                  <a:lnTo>
                    <a:pt x="253188" y="328623"/>
                  </a:lnTo>
                  <a:lnTo>
                    <a:pt x="253188" y="606722"/>
                  </a:lnTo>
                  <a:lnTo>
                    <a:pt x="151927" y="606722"/>
                  </a:lnTo>
                  <a:lnTo>
                    <a:pt x="151927" y="328623"/>
                  </a:lnTo>
                  <a:close/>
                  <a:moveTo>
                    <a:pt x="303855" y="252766"/>
                  </a:moveTo>
                  <a:lnTo>
                    <a:pt x="405046" y="252766"/>
                  </a:lnTo>
                  <a:lnTo>
                    <a:pt x="405046" y="606722"/>
                  </a:lnTo>
                  <a:lnTo>
                    <a:pt x="303855" y="606722"/>
                  </a:lnTo>
                  <a:lnTo>
                    <a:pt x="303855" y="252766"/>
                  </a:lnTo>
                  <a:close/>
                  <a:moveTo>
                    <a:pt x="455711" y="202241"/>
                  </a:moveTo>
                  <a:lnTo>
                    <a:pt x="556972" y="202241"/>
                  </a:lnTo>
                  <a:lnTo>
                    <a:pt x="556972" y="606722"/>
                  </a:lnTo>
                  <a:lnTo>
                    <a:pt x="455711" y="606722"/>
                  </a:lnTo>
                  <a:lnTo>
                    <a:pt x="455711" y="202241"/>
                  </a:lnTo>
                  <a:close/>
                  <a:moveTo>
                    <a:pt x="455697" y="0"/>
                  </a:moveTo>
                  <a:lnTo>
                    <a:pt x="556785" y="0"/>
                  </a:lnTo>
                  <a:lnTo>
                    <a:pt x="556874" y="0"/>
                  </a:lnTo>
                  <a:lnTo>
                    <a:pt x="556963" y="0"/>
                  </a:lnTo>
                  <a:cubicBezTo>
                    <a:pt x="557230" y="0"/>
                    <a:pt x="557408" y="0"/>
                    <a:pt x="557675" y="0"/>
                  </a:cubicBezTo>
                  <a:cubicBezTo>
                    <a:pt x="558298" y="89"/>
                    <a:pt x="558832" y="89"/>
                    <a:pt x="559366" y="89"/>
                  </a:cubicBezTo>
                  <a:cubicBezTo>
                    <a:pt x="559811" y="178"/>
                    <a:pt x="560256" y="267"/>
                    <a:pt x="560611" y="267"/>
                  </a:cubicBezTo>
                  <a:cubicBezTo>
                    <a:pt x="561056" y="356"/>
                    <a:pt x="561412" y="444"/>
                    <a:pt x="561857" y="444"/>
                  </a:cubicBezTo>
                  <a:cubicBezTo>
                    <a:pt x="562302" y="533"/>
                    <a:pt x="562747" y="711"/>
                    <a:pt x="563192" y="800"/>
                  </a:cubicBezTo>
                  <a:cubicBezTo>
                    <a:pt x="563548" y="889"/>
                    <a:pt x="563904" y="978"/>
                    <a:pt x="564171" y="1067"/>
                  </a:cubicBezTo>
                  <a:cubicBezTo>
                    <a:pt x="564616" y="1156"/>
                    <a:pt x="565061" y="1333"/>
                    <a:pt x="565506" y="1511"/>
                  </a:cubicBezTo>
                  <a:cubicBezTo>
                    <a:pt x="565862" y="1600"/>
                    <a:pt x="566218" y="1778"/>
                    <a:pt x="566574" y="1867"/>
                  </a:cubicBezTo>
                  <a:cubicBezTo>
                    <a:pt x="566929" y="2044"/>
                    <a:pt x="567285" y="2222"/>
                    <a:pt x="567730" y="2400"/>
                  </a:cubicBezTo>
                  <a:cubicBezTo>
                    <a:pt x="568086" y="2578"/>
                    <a:pt x="568442" y="2755"/>
                    <a:pt x="568798" y="2933"/>
                  </a:cubicBezTo>
                  <a:cubicBezTo>
                    <a:pt x="569154" y="3111"/>
                    <a:pt x="569421" y="3289"/>
                    <a:pt x="569777" y="3467"/>
                  </a:cubicBezTo>
                  <a:cubicBezTo>
                    <a:pt x="570133" y="3733"/>
                    <a:pt x="570578" y="4000"/>
                    <a:pt x="570934" y="4178"/>
                  </a:cubicBezTo>
                  <a:cubicBezTo>
                    <a:pt x="571201" y="4444"/>
                    <a:pt x="571557" y="4622"/>
                    <a:pt x="571824" y="4800"/>
                  </a:cubicBezTo>
                  <a:cubicBezTo>
                    <a:pt x="572180" y="5155"/>
                    <a:pt x="572536" y="5422"/>
                    <a:pt x="572891" y="5689"/>
                  </a:cubicBezTo>
                  <a:cubicBezTo>
                    <a:pt x="573247" y="5955"/>
                    <a:pt x="573514" y="6222"/>
                    <a:pt x="573781" y="6489"/>
                  </a:cubicBezTo>
                  <a:cubicBezTo>
                    <a:pt x="574137" y="6755"/>
                    <a:pt x="574493" y="7022"/>
                    <a:pt x="574760" y="7289"/>
                  </a:cubicBezTo>
                  <a:cubicBezTo>
                    <a:pt x="575205" y="7733"/>
                    <a:pt x="575561" y="8178"/>
                    <a:pt x="575917" y="8533"/>
                  </a:cubicBezTo>
                  <a:cubicBezTo>
                    <a:pt x="576095" y="8711"/>
                    <a:pt x="576273" y="8889"/>
                    <a:pt x="576451" y="9066"/>
                  </a:cubicBezTo>
                  <a:cubicBezTo>
                    <a:pt x="576451" y="9155"/>
                    <a:pt x="576451" y="9155"/>
                    <a:pt x="576451" y="9155"/>
                  </a:cubicBezTo>
                  <a:cubicBezTo>
                    <a:pt x="576985" y="9777"/>
                    <a:pt x="577519" y="10489"/>
                    <a:pt x="577964" y="11200"/>
                  </a:cubicBezTo>
                  <a:cubicBezTo>
                    <a:pt x="577964" y="11200"/>
                    <a:pt x="578053" y="11289"/>
                    <a:pt x="578053" y="11289"/>
                  </a:cubicBezTo>
                  <a:cubicBezTo>
                    <a:pt x="578498" y="12000"/>
                    <a:pt x="578854" y="12622"/>
                    <a:pt x="579209" y="13244"/>
                  </a:cubicBezTo>
                  <a:cubicBezTo>
                    <a:pt x="579387" y="13600"/>
                    <a:pt x="579565" y="13955"/>
                    <a:pt x="579743" y="14222"/>
                  </a:cubicBezTo>
                  <a:cubicBezTo>
                    <a:pt x="579921" y="14666"/>
                    <a:pt x="580099" y="15111"/>
                    <a:pt x="580277" y="15555"/>
                  </a:cubicBezTo>
                  <a:cubicBezTo>
                    <a:pt x="580455" y="15911"/>
                    <a:pt x="580633" y="16266"/>
                    <a:pt x="580722" y="16711"/>
                  </a:cubicBezTo>
                  <a:cubicBezTo>
                    <a:pt x="580900" y="17066"/>
                    <a:pt x="581078" y="17422"/>
                    <a:pt x="581167" y="17866"/>
                  </a:cubicBezTo>
                  <a:cubicBezTo>
                    <a:pt x="581256" y="18311"/>
                    <a:pt x="581434" y="18755"/>
                    <a:pt x="581523" y="19199"/>
                  </a:cubicBezTo>
                  <a:cubicBezTo>
                    <a:pt x="581612" y="19555"/>
                    <a:pt x="581701" y="19910"/>
                    <a:pt x="581790" y="20266"/>
                  </a:cubicBezTo>
                  <a:cubicBezTo>
                    <a:pt x="581879" y="20977"/>
                    <a:pt x="582057" y="21777"/>
                    <a:pt x="582146" y="22488"/>
                  </a:cubicBezTo>
                  <a:cubicBezTo>
                    <a:pt x="582146" y="22577"/>
                    <a:pt x="582146" y="22666"/>
                    <a:pt x="582146" y="22666"/>
                  </a:cubicBezTo>
                  <a:cubicBezTo>
                    <a:pt x="582235" y="23555"/>
                    <a:pt x="582235" y="24355"/>
                    <a:pt x="582235" y="25244"/>
                  </a:cubicBezTo>
                  <a:lnTo>
                    <a:pt x="582235" y="126396"/>
                  </a:lnTo>
                  <a:cubicBezTo>
                    <a:pt x="582235" y="140351"/>
                    <a:pt x="570934" y="151728"/>
                    <a:pt x="556963" y="151728"/>
                  </a:cubicBezTo>
                  <a:cubicBezTo>
                    <a:pt x="542992" y="151728"/>
                    <a:pt x="531691" y="140351"/>
                    <a:pt x="531691" y="126396"/>
                  </a:cubicBezTo>
                  <a:lnTo>
                    <a:pt x="531691" y="79286"/>
                  </a:lnTo>
                  <a:lnTo>
                    <a:pt x="421260" y="171106"/>
                  </a:lnTo>
                  <a:cubicBezTo>
                    <a:pt x="410582" y="180083"/>
                    <a:pt x="394564" y="178572"/>
                    <a:pt x="385666" y="167906"/>
                  </a:cubicBezTo>
                  <a:cubicBezTo>
                    <a:pt x="376678" y="157150"/>
                    <a:pt x="378191" y="141240"/>
                    <a:pt x="388869" y="132262"/>
                  </a:cubicBezTo>
                  <a:lnTo>
                    <a:pt x="487020" y="50576"/>
                  </a:lnTo>
                  <a:lnTo>
                    <a:pt x="455697" y="50576"/>
                  </a:lnTo>
                  <a:cubicBezTo>
                    <a:pt x="441727" y="50576"/>
                    <a:pt x="430425" y="39288"/>
                    <a:pt x="430425" y="25244"/>
                  </a:cubicBezTo>
                  <a:cubicBezTo>
                    <a:pt x="430425" y="11289"/>
                    <a:pt x="441727" y="0"/>
                    <a:pt x="45569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3" name="任意多边形 277"/>
            <p:cNvSpPr/>
            <p:nvPr/>
          </p:nvSpPr>
          <p:spPr>
            <a:xfrm flipH="1">
              <a:off x="2319840" y="3441600"/>
              <a:ext cx="497160" cy="51696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914f9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4" name="任意多边形 278"/>
            <p:cNvSpPr/>
            <p:nvPr/>
          </p:nvSpPr>
          <p:spPr>
            <a:xfrm flipH="1">
              <a:off x="1231920" y="3501000"/>
              <a:ext cx="2021760" cy="276480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9dc3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55" name="组合 37"/>
          <p:cNvGrpSpPr/>
          <p:nvPr/>
        </p:nvGrpSpPr>
        <p:grpSpPr>
          <a:xfrm>
            <a:off x="4573440" y="2131920"/>
            <a:ext cx="7445160" cy="696960"/>
            <a:chOff x="4573440" y="2131920"/>
            <a:chExt cx="7445160" cy="696960"/>
          </a:xfrm>
        </p:grpSpPr>
        <p:sp>
          <p:nvSpPr>
            <p:cNvPr id="2256" name="任意多边形 19"/>
            <p:cNvSpPr/>
            <p:nvPr/>
          </p:nvSpPr>
          <p:spPr>
            <a:xfrm>
              <a:off x="4573440" y="2211120"/>
              <a:ext cx="529920" cy="576360"/>
            </a:xfrm>
            <a:prstGeom prst="pie">
              <a:avLst/>
            </a:prstGeom>
            <a:solidFill>
              <a:srgbClr val="914f96"/>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6</a:t>
              </a:r>
              <a:endParaRPr b="1" lang="en-US" sz="2400" spc="-1" strike="noStrike">
                <a:solidFill>
                  <a:srgbClr val="000000"/>
                </a:solidFill>
                <a:latin typeface="Arial"/>
              </a:endParaRPr>
            </a:p>
          </p:txBody>
        </p:sp>
        <p:sp>
          <p:nvSpPr>
            <p:cNvPr id="2257" name="矩形 39"/>
            <p:cNvSpPr/>
            <p:nvPr/>
          </p:nvSpPr>
          <p:spPr>
            <a:xfrm>
              <a:off x="5238720" y="2131920"/>
              <a:ext cx="6779880" cy="69696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检查固定资产后续支出的核算是否符合规定，区分资本性支出和收益性支出</a:t>
              </a:r>
              <a:endParaRPr b="1" lang="en-US" sz="2400" spc="-1" strike="noStrike">
                <a:solidFill>
                  <a:srgbClr val="000000"/>
                </a:solidFill>
                <a:latin typeface="Arial"/>
              </a:endParaRPr>
            </a:p>
          </p:txBody>
        </p:sp>
      </p:grpSp>
      <p:grpSp>
        <p:nvGrpSpPr>
          <p:cNvPr id="2258" name="组合 43"/>
          <p:cNvGrpSpPr/>
          <p:nvPr/>
        </p:nvGrpSpPr>
        <p:grpSpPr>
          <a:xfrm>
            <a:off x="4573440" y="4915080"/>
            <a:ext cx="7142040" cy="599760"/>
            <a:chOff x="4573440" y="4915080"/>
            <a:chExt cx="7142040" cy="599760"/>
          </a:xfrm>
        </p:grpSpPr>
        <p:sp>
          <p:nvSpPr>
            <p:cNvPr id="2259" name="任意多边形 1"/>
            <p:cNvSpPr/>
            <p:nvPr/>
          </p:nvSpPr>
          <p:spPr>
            <a:xfrm>
              <a:off x="4573440" y="4927680"/>
              <a:ext cx="501120" cy="488520"/>
            </a:xfrm>
            <a:prstGeom prst="pie">
              <a:avLst/>
            </a:pr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8</a:t>
              </a:r>
              <a:endParaRPr b="1" lang="en-US" sz="2400" spc="-1" strike="noStrike">
                <a:solidFill>
                  <a:srgbClr val="000000"/>
                </a:solidFill>
                <a:latin typeface="Arial"/>
              </a:endParaRPr>
            </a:p>
          </p:txBody>
        </p:sp>
        <p:sp>
          <p:nvSpPr>
            <p:cNvPr id="2260" name="矩形 45"/>
            <p:cNvSpPr/>
            <p:nvPr/>
          </p:nvSpPr>
          <p:spPr>
            <a:xfrm>
              <a:off x="5277960" y="4915080"/>
              <a:ext cx="6437520" cy="59976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确定固定资产及累计折旧的披露是否恰当</a:t>
              </a:r>
              <a:endParaRPr b="1" lang="en-US" sz="2400" spc="-1" strike="noStrike">
                <a:solidFill>
                  <a:srgbClr val="000000"/>
                </a:solidFill>
                <a:latin typeface="Arial"/>
              </a:endParaRPr>
            </a:p>
          </p:txBody>
        </p:sp>
      </p:grpSp>
      <p:pic>
        <p:nvPicPr>
          <p:cNvPr id="2261" name="文本框 31" descr=""/>
          <p:cNvPicPr/>
          <p:nvPr/>
        </p:nvPicPr>
        <p:blipFill>
          <a:blip r:embed="rId1"/>
          <a:stretch/>
        </p:blipFill>
        <p:spPr>
          <a:xfrm>
            <a:off x="2473200" y="177840"/>
            <a:ext cx="7404120" cy="687240"/>
          </a:xfrm>
          <a:prstGeom prst="rect">
            <a:avLst/>
          </a:prstGeom>
          <a:ln w="0">
            <a:noFill/>
          </a:ln>
        </p:spPr>
      </p:pic>
    </p:spTree>
  </p:cSld>
  <p:transition>
    <p:fad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dur="indefinite" nodeType="afterEffect" fill="hold" presetClass="entr" presetID="2" presetSubtype="4">
                                  <p:stCondLst>
                                    <p:cond delay="0"/>
                                  </p:stCondLst>
                                  <p:childTnLst>
                                    <p:set>
                                      <p:cBhvr>
                                        <p:cTn id="166" dur="1" fill="hold">
                                          <p:stCondLst>
                                            <p:cond delay="0"/>
                                          </p:stCondLst>
                                        </p:cTn>
                                        <p:tgtEl>
                                          <p:spTgt spid="2237"/>
                                        </p:tgtEl>
                                        <p:attrNameLst>
                                          <p:attrName>style.visibility</p:attrName>
                                        </p:attrNameLst>
                                      </p:cBhvr>
                                      <p:to>
                                        <p:strVal val="visible"/>
                                      </p:to>
                                    </p:set>
                                    <p:anim calcmode="lin" valueType="num">
                                      <p:cBhvr additive="repl">
                                        <p:cTn id="167" dur="500" fill="hold"/>
                                        <p:tgtEl>
                                          <p:spTgt spid="2237"/>
                                        </p:tgtEl>
                                        <p:attrNameLst>
                                          <p:attrName>ppt_x</p:attrName>
                                        </p:attrNameLst>
                                      </p:cBhvr>
                                      <p:tavLst>
                                        <p:tav tm="0">
                                          <p:val>
                                            <p:strVal val="#ppt_x"/>
                                          </p:val>
                                        </p:tav>
                                        <p:tav tm="100000">
                                          <p:val>
                                            <p:strVal val="#ppt_x"/>
                                          </p:val>
                                        </p:tav>
                                      </p:tavLst>
                                    </p:anim>
                                    <p:anim calcmode="lin" valueType="num">
                                      <p:cBhvr additive="repl">
                                        <p:cTn id="168" dur="500" fill="hold"/>
                                        <p:tgtEl>
                                          <p:spTgt spid="2237"/>
                                        </p:tgtEl>
                                        <p:attrNameLst>
                                          <p:attrName>ppt_y</p:attrName>
                                        </p:attrNameLst>
                                      </p:cBhvr>
                                      <p:tavLst>
                                        <p:tav tm="0">
                                          <p:val>
                                            <p:strVal val="1+#ppt_h/2"/>
                                          </p:val>
                                        </p:tav>
                                        <p:tav tm="100000">
                                          <p:val>
                                            <p:strVal val="#ppt_y"/>
                                          </p:val>
                                        </p:tav>
                                      </p:tavLst>
                                    </p:anim>
                                  </p:childTnLst>
                                </p:cTn>
                              </p:par>
                            </p:childTnLst>
                          </p:cTn>
                        </p:par>
                        <p:par>
                          <p:cTn id="169" fill="hold">
                            <p:stCondLst>
                              <p:cond delay="500"/>
                            </p:stCondLst>
                            <p:childTnLst>
                              <p:par>
                                <p:cTn id="170" dur="indefinite" nodeType="afterEffect" fill="hold" presetClass="entr" presetID="2" presetSubtype="4">
                                  <p:stCondLst>
                                    <p:cond delay="0"/>
                                  </p:stCondLst>
                                  <p:childTnLst>
                                    <p:set>
                                      <p:cBhvr>
                                        <p:cTn id="171" dur="1" fill="hold">
                                          <p:stCondLst>
                                            <p:cond delay="0"/>
                                          </p:stCondLst>
                                        </p:cTn>
                                        <p:tgtEl>
                                          <p:spTgt spid="2255"/>
                                        </p:tgtEl>
                                        <p:attrNameLst>
                                          <p:attrName>style.visibility</p:attrName>
                                        </p:attrNameLst>
                                      </p:cBhvr>
                                      <p:to>
                                        <p:strVal val="visible"/>
                                      </p:to>
                                    </p:set>
                                    <p:anim calcmode="lin" valueType="num">
                                      <p:cBhvr additive="repl">
                                        <p:cTn id="172" dur="500" fill="hold"/>
                                        <p:tgtEl>
                                          <p:spTgt spid="2255"/>
                                        </p:tgtEl>
                                        <p:attrNameLst>
                                          <p:attrName>ppt_x</p:attrName>
                                        </p:attrNameLst>
                                      </p:cBhvr>
                                      <p:tavLst>
                                        <p:tav tm="0">
                                          <p:val>
                                            <p:strVal val="#ppt_x"/>
                                          </p:val>
                                        </p:tav>
                                        <p:tav tm="100000">
                                          <p:val>
                                            <p:strVal val="#ppt_x"/>
                                          </p:val>
                                        </p:tav>
                                      </p:tavLst>
                                    </p:anim>
                                    <p:anim calcmode="lin" valueType="num">
                                      <p:cBhvr additive="repl">
                                        <p:cTn id="173" dur="500" fill="hold"/>
                                        <p:tgtEl>
                                          <p:spTgt spid="2255"/>
                                        </p:tgtEl>
                                        <p:attrNameLst>
                                          <p:attrName>ppt_y</p:attrName>
                                        </p:attrNameLst>
                                      </p:cBhvr>
                                      <p:tavLst>
                                        <p:tav tm="0">
                                          <p:val>
                                            <p:strVal val="1+#ppt_h/2"/>
                                          </p:val>
                                        </p:tav>
                                        <p:tav tm="100000">
                                          <p:val>
                                            <p:strVal val="#ppt_y"/>
                                          </p:val>
                                        </p:tav>
                                      </p:tavLst>
                                    </p:anim>
                                  </p:childTnLst>
                                </p:cTn>
                              </p:par>
                            </p:childTnLst>
                          </p:cTn>
                        </p:par>
                        <p:par>
                          <p:cTn id="174" fill="hold">
                            <p:stCondLst>
                              <p:cond delay="1000"/>
                            </p:stCondLst>
                            <p:childTnLst>
                              <p:par>
                                <p:cTn id="175" dur="indefinite" nodeType="afterEffect" fill="hold" presetClass="entr" presetID="2" presetSubtype="4">
                                  <p:stCondLst>
                                    <p:cond delay="0"/>
                                  </p:stCondLst>
                                  <p:childTnLst>
                                    <p:set>
                                      <p:cBhvr>
                                        <p:cTn id="176" dur="1" fill="hold">
                                          <p:stCondLst>
                                            <p:cond delay="0"/>
                                          </p:stCondLst>
                                        </p:cTn>
                                        <p:tgtEl>
                                          <p:spTgt spid="2258"/>
                                        </p:tgtEl>
                                        <p:attrNameLst>
                                          <p:attrName>style.visibility</p:attrName>
                                        </p:attrNameLst>
                                      </p:cBhvr>
                                      <p:to>
                                        <p:strVal val="visible"/>
                                      </p:to>
                                    </p:set>
                                    <p:anim calcmode="lin" valueType="num">
                                      <p:cBhvr additive="repl">
                                        <p:cTn id="177" dur="500" fill="hold"/>
                                        <p:tgtEl>
                                          <p:spTgt spid="2258"/>
                                        </p:tgtEl>
                                        <p:attrNameLst>
                                          <p:attrName>ppt_x</p:attrName>
                                        </p:attrNameLst>
                                      </p:cBhvr>
                                      <p:tavLst>
                                        <p:tav tm="0">
                                          <p:val>
                                            <p:strVal val="#ppt_x"/>
                                          </p:val>
                                        </p:tav>
                                        <p:tav tm="100000">
                                          <p:val>
                                            <p:strVal val="#ppt_x"/>
                                          </p:val>
                                        </p:tav>
                                      </p:tavLst>
                                    </p:anim>
                                    <p:anim calcmode="lin" valueType="num">
                                      <p:cBhvr additive="repl">
                                        <p:cTn id="178" dur="500" fill="hold"/>
                                        <p:tgtEl>
                                          <p:spTgt spid="2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Title 6"/>
          <p:cNvSpPr/>
          <p:nvPr/>
        </p:nvSpPr>
        <p:spPr>
          <a:xfrm>
            <a:off x="225360" y="798480"/>
            <a:ext cx="10476000" cy="987480"/>
          </a:xfrm>
          <a:prstGeom prst="rect">
            <a:avLst/>
          </a:prstGeom>
          <a:noFill/>
          <a:ln w="0">
            <a:noFill/>
          </a:ln>
        </p:spPr>
        <p:style>
          <a:lnRef idx="0"/>
          <a:fillRef idx="0"/>
          <a:effectRef idx="0"/>
          <a:fontRef idx="minor"/>
        </p:style>
        <p:txBody>
          <a:bodyPr lIns="72000" rIns="72000" tIns="36360" bIns="3636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      </a:t>
            </a:r>
            <a:r>
              <a:rPr b="0" lang="zh-CN" sz="2000" spc="-1" strike="noStrike">
                <a:solidFill>
                  <a:srgbClr val="000000"/>
                </a:solidFill>
                <a:latin typeface="Arial Black"/>
                <a:ea typeface="黑体"/>
              </a:rPr>
              <a:t>固定资产与累计折旧审计工作底稿主要包括“固定资产与累计折旧程序 表”“固定资产与累计折旧审定表”“固定资产增加 </a:t>
            </a:r>
            <a:r>
              <a:rPr b="0" lang="en-US" sz="2000" spc="-1" strike="noStrike">
                <a:solidFill>
                  <a:srgbClr val="000000"/>
                </a:solidFill>
                <a:latin typeface="Arial Black"/>
                <a:ea typeface="黑体"/>
              </a:rPr>
              <a:t>/ </a:t>
            </a:r>
            <a:r>
              <a:rPr b="0" lang="zh-CN" sz="2000" spc="-1" strike="noStrike">
                <a:solidFill>
                  <a:srgbClr val="000000"/>
                </a:solidFill>
                <a:latin typeface="Arial Black"/>
                <a:ea typeface="黑体"/>
              </a:rPr>
              <a:t>减少审定表”“固定资产抽查 表”等。下面以案例说明以上审计工作底稿的编制。</a:t>
            </a:r>
            <a:endParaRPr b="1" lang="en-US" sz="2000" spc="-1" strike="noStrike">
              <a:solidFill>
                <a:srgbClr val="000000"/>
              </a:solidFill>
              <a:latin typeface="Arial"/>
            </a:endParaRPr>
          </a:p>
        </p:txBody>
      </p:sp>
      <p:grpSp>
        <p:nvGrpSpPr>
          <p:cNvPr id="2263" name="组合 28"/>
          <p:cNvGrpSpPr/>
          <p:nvPr/>
        </p:nvGrpSpPr>
        <p:grpSpPr>
          <a:xfrm>
            <a:off x="955800" y="476280"/>
            <a:ext cx="10360080" cy="0"/>
            <a:chOff x="955800" y="476280"/>
            <a:chExt cx="10360080" cy="0"/>
          </a:xfrm>
        </p:grpSpPr>
        <p:sp>
          <p:nvSpPr>
            <p:cNvPr id="2264" name="直接连接符 52"/>
            <p:cNvSpPr/>
            <p:nvPr/>
          </p:nvSpPr>
          <p:spPr>
            <a:xfrm>
              <a:off x="955800" y="4762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65" name="直接连接符 64"/>
            <p:cNvSpPr/>
            <p:nvPr/>
          </p:nvSpPr>
          <p:spPr>
            <a:xfrm>
              <a:off x="9336600" y="4762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266" name="组合 1"/>
          <p:cNvGrpSpPr/>
          <p:nvPr/>
        </p:nvGrpSpPr>
        <p:grpSpPr>
          <a:xfrm>
            <a:off x="-68400" y="2198520"/>
            <a:ext cx="3144960" cy="4326120"/>
            <a:chOff x="-68400" y="2198520"/>
            <a:chExt cx="3144960" cy="4326120"/>
          </a:xfrm>
        </p:grpSpPr>
        <p:sp>
          <p:nvSpPr>
            <p:cNvPr id="2267" name="任意多边形 21"/>
            <p:cNvSpPr/>
            <p:nvPr/>
          </p:nvSpPr>
          <p:spPr>
            <a:xfrm>
              <a:off x="825120" y="2702160"/>
              <a:ext cx="2209320" cy="3822480"/>
            </a:xfrm>
            <a:custGeom>
              <a:avLst/>
              <a:gdLst/>
              <a:ahLst/>
              <a:rect l="l" t="t" r="r" b="b"/>
              <a:pathLst>
                <a:path w="424" h="536">
                  <a:moveTo>
                    <a:pt x="9" y="0"/>
                  </a:moveTo>
                  <a:cubicBezTo>
                    <a:pt x="3" y="6"/>
                    <a:pt x="0" y="15"/>
                    <a:pt x="0" y="25"/>
                  </a:cubicBezTo>
                  <a:cubicBezTo>
                    <a:pt x="0" y="497"/>
                    <a:pt x="0" y="497"/>
                    <a:pt x="0" y="497"/>
                  </a:cubicBezTo>
                  <a:cubicBezTo>
                    <a:pt x="0" y="519"/>
                    <a:pt x="18" y="536"/>
                    <a:pt x="39" y="536"/>
                  </a:cubicBezTo>
                  <a:cubicBezTo>
                    <a:pt x="391" y="536"/>
                    <a:pt x="391" y="536"/>
                    <a:pt x="391" y="536"/>
                  </a:cubicBezTo>
                  <a:cubicBezTo>
                    <a:pt x="405" y="536"/>
                    <a:pt x="416" y="530"/>
                    <a:pt x="424" y="519"/>
                  </a:cubicBezTo>
                  <a:cubicBezTo>
                    <a:pt x="416" y="528"/>
                    <a:pt x="405" y="534"/>
                    <a:pt x="393" y="534"/>
                  </a:cubicBezTo>
                  <a:cubicBezTo>
                    <a:pt x="42" y="534"/>
                    <a:pt x="42" y="534"/>
                    <a:pt x="42" y="534"/>
                  </a:cubicBezTo>
                  <a:cubicBezTo>
                    <a:pt x="20" y="534"/>
                    <a:pt x="2" y="516"/>
                    <a:pt x="2" y="494"/>
                  </a:cubicBezTo>
                  <a:cubicBezTo>
                    <a:pt x="2" y="22"/>
                    <a:pt x="2" y="22"/>
                    <a:pt x="2" y="22"/>
                  </a:cubicBezTo>
                  <a:cubicBezTo>
                    <a:pt x="2" y="14"/>
                    <a:pt x="5" y="6"/>
                    <a:pt x="9" y="0"/>
                  </a:cubicBezTo>
                </a:path>
              </a:pathLst>
            </a:custGeom>
            <a:solidFill>
              <a:srgbClr val="93959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8" name="任意多边形 22"/>
            <p:cNvSpPr/>
            <p:nvPr/>
          </p:nvSpPr>
          <p:spPr>
            <a:xfrm>
              <a:off x="835920" y="2582640"/>
              <a:ext cx="2240640" cy="3927960"/>
            </a:xfrm>
            <a:custGeom>
              <a:avLst/>
              <a:gdLst/>
              <a:ahLst/>
              <a:rect l="l" t="t" r="r" b="b"/>
              <a:pathLst>
                <a:path w="430" h="551">
                  <a:moveTo>
                    <a:pt x="430" y="511"/>
                  </a:moveTo>
                  <a:cubicBezTo>
                    <a:pt x="430" y="533"/>
                    <a:pt x="413" y="551"/>
                    <a:pt x="391" y="551"/>
                  </a:cubicBezTo>
                  <a:cubicBezTo>
                    <a:pt x="40" y="551"/>
                    <a:pt x="40" y="551"/>
                    <a:pt x="40" y="551"/>
                  </a:cubicBezTo>
                  <a:cubicBezTo>
                    <a:pt x="18" y="551"/>
                    <a:pt x="0" y="533"/>
                    <a:pt x="0" y="511"/>
                  </a:cubicBezTo>
                  <a:cubicBezTo>
                    <a:pt x="0" y="39"/>
                    <a:pt x="0" y="39"/>
                    <a:pt x="0" y="39"/>
                  </a:cubicBezTo>
                  <a:cubicBezTo>
                    <a:pt x="0" y="17"/>
                    <a:pt x="18" y="0"/>
                    <a:pt x="40" y="0"/>
                  </a:cubicBezTo>
                  <a:cubicBezTo>
                    <a:pt x="391" y="0"/>
                    <a:pt x="391" y="0"/>
                    <a:pt x="391" y="0"/>
                  </a:cubicBezTo>
                  <a:cubicBezTo>
                    <a:pt x="413" y="0"/>
                    <a:pt x="430" y="17"/>
                    <a:pt x="430" y="39"/>
                  </a:cubicBezTo>
                  <a:cubicBezTo>
                    <a:pt x="430" y="511"/>
                    <a:pt x="430" y="511"/>
                    <a:pt x="430" y="511"/>
                  </a:cubicBezTo>
                </a:path>
              </a:pathLst>
            </a:custGeom>
            <a:solidFill>
              <a:srgbClr val="d9dde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9" name="任意多边形 23"/>
            <p:cNvSpPr/>
            <p:nvPr/>
          </p:nvSpPr>
          <p:spPr>
            <a:xfrm>
              <a:off x="939960" y="2809440"/>
              <a:ext cx="2021400" cy="3529080"/>
            </a:xfrm>
            <a:custGeom>
              <a:avLst/>
              <a:gdLst/>
              <a:ahLst/>
              <a:rect l="l" t="t" r="r" b="b"/>
              <a:pathLst>
                <a:path w="1549" h="1974">
                  <a:moveTo>
                    <a:pt x="1549" y="0"/>
                  </a:moveTo>
                  <a:lnTo>
                    <a:pt x="1541" y="0"/>
                  </a:lnTo>
                  <a:lnTo>
                    <a:pt x="1541" y="1962"/>
                  </a:lnTo>
                  <a:lnTo>
                    <a:pt x="355" y="1962"/>
                  </a:lnTo>
                  <a:lnTo>
                    <a:pt x="0" y="1619"/>
                  </a:lnTo>
                  <a:lnTo>
                    <a:pt x="363" y="1974"/>
                  </a:lnTo>
                  <a:lnTo>
                    <a:pt x="1549" y="1974"/>
                  </a:lnTo>
                  <a:lnTo>
                    <a:pt x="1549" y="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0" name="任意多边形 24"/>
            <p:cNvSpPr/>
            <p:nvPr/>
          </p:nvSpPr>
          <p:spPr>
            <a:xfrm>
              <a:off x="924480" y="2795040"/>
              <a:ext cx="2026800" cy="3521880"/>
            </a:xfrm>
            <a:custGeom>
              <a:avLst/>
              <a:gdLst/>
              <a:ahLst/>
              <a:rect l="l" t="t" r="r" b="b"/>
              <a:pathLst>
                <a:path w="1553" h="1970">
                  <a:moveTo>
                    <a:pt x="367" y="1970"/>
                  </a:moveTo>
                  <a:lnTo>
                    <a:pt x="1553" y="1970"/>
                  </a:lnTo>
                  <a:lnTo>
                    <a:pt x="1553" y="0"/>
                  </a:lnTo>
                  <a:lnTo>
                    <a:pt x="0" y="0"/>
                  </a:lnTo>
                  <a:lnTo>
                    <a:pt x="0" y="1619"/>
                  </a:lnTo>
                  <a:lnTo>
                    <a:pt x="367" y="197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1" name="任意多边形 25"/>
            <p:cNvSpPr/>
            <p:nvPr/>
          </p:nvSpPr>
          <p:spPr>
            <a:xfrm>
              <a:off x="1025640" y="2933640"/>
              <a:ext cx="2026800" cy="3521880"/>
            </a:xfrm>
            <a:custGeom>
              <a:avLst/>
              <a:gdLst/>
              <a:ahLst/>
              <a:rect l="l" t="t" r="r" b="b"/>
              <a:pathLst>
                <a:path w="1553" h="1970">
                  <a:moveTo>
                    <a:pt x="367" y="1970"/>
                  </a:moveTo>
                  <a:lnTo>
                    <a:pt x="1553" y="1970"/>
                  </a:lnTo>
                  <a:lnTo>
                    <a:pt x="1553" y="0"/>
                  </a:lnTo>
                  <a:lnTo>
                    <a:pt x="0" y="0"/>
                  </a:lnTo>
                  <a:lnTo>
                    <a:pt x="0" y="1619"/>
                  </a:lnTo>
                  <a:lnTo>
                    <a:pt x="367" y="197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2" name="矩形 68"/>
            <p:cNvSpPr/>
            <p:nvPr/>
          </p:nvSpPr>
          <p:spPr>
            <a:xfrm>
              <a:off x="2003400" y="5854320"/>
              <a:ext cx="713880" cy="121320"/>
            </a:xfrm>
            <a:prstGeom prst="rect">
              <a:avLst/>
            </a:prstGeom>
            <a:solidFill>
              <a:srgbClr val="8d98a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3" name="矩形 69"/>
            <p:cNvSpPr/>
            <p:nvPr/>
          </p:nvSpPr>
          <p:spPr>
            <a:xfrm>
              <a:off x="1169640" y="3673440"/>
              <a:ext cx="1547640" cy="56520"/>
            </a:xfrm>
            <a:prstGeom prst="rect">
              <a:avLst/>
            </a:prstGeom>
            <a:solidFill>
              <a:srgbClr val="b3bac8"/>
            </a:solidFill>
            <a:ln w="0">
              <a:noFill/>
            </a:ln>
          </p:spPr>
          <p:style>
            <a:lnRef idx="0"/>
            <a:fillRef idx="0"/>
            <a:effectRef idx="0"/>
            <a:fontRef idx="minor"/>
          </p:style>
          <p:txBody>
            <a:bodyPr lIns="90000" rIns="90000" tIns="9720" bIns="972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4" name="矩形 70"/>
            <p:cNvSpPr/>
            <p:nvPr/>
          </p:nvSpPr>
          <p:spPr>
            <a:xfrm>
              <a:off x="1169640" y="3892680"/>
              <a:ext cx="1547640" cy="64440"/>
            </a:xfrm>
            <a:prstGeom prst="rect">
              <a:avLst/>
            </a:prstGeom>
            <a:solidFill>
              <a:srgbClr val="b3bac8"/>
            </a:solidFill>
            <a:ln w="0">
              <a:noFill/>
            </a:ln>
          </p:spPr>
          <p:style>
            <a:lnRef idx="0"/>
            <a:fillRef idx="0"/>
            <a:effectRef idx="0"/>
            <a:fontRef idx="minor"/>
          </p:style>
          <p:txBody>
            <a:bodyPr lIns="90000" rIns="90000" tIns="17640" bIns="176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5" name="矩形 71"/>
            <p:cNvSpPr/>
            <p:nvPr/>
          </p:nvSpPr>
          <p:spPr>
            <a:xfrm>
              <a:off x="1169640" y="4121640"/>
              <a:ext cx="1547640" cy="56880"/>
            </a:xfrm>
            <a:prstGeom prst="rect">
              <a:avLst/>
            </a:prstGeom>
            <a:solidFill>
              <a:srgbClr val="b3bac8"/>
            </a:solidFill>
            <a:ln w="0">
              <a:noFill/>
            </a:ln>
          </p:spPr>
          <p:style>
            <a:lnRef idx="0"/>
            <a:fillRef idx="0"/>
            <a:effectRef idx="0"/>
            <a:fontRef idx="minor"/>
          </p:style>
          <p:txBody>
            <a:bodyPr lIns="90000" rIns="90000" tIns="10080" bIns="100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6" name="矩形 72"/>
            <p:cNvSpPr/>
            <p:nvPr/>
          </p:nvSpPr>
          <p:spPr>
            <a:xfrm>
              <a:off x="1169640" y="4343760"/>
              <a:ext cx="1547640" cy="64440"/>
            </a:xfrm>
            <a:prstGeom prst="rect">
              <a:avLst/>
            </a:prstGeom>
            <a:solidFill>
              <a:srgbClr val="b3bac8"/>
            </a:solidFill>
            <a:ln w="0">
              <a:noFill/>
            </a:ln>
          </p:spPr>
          <p:style>
            <a:lnRef idx="0"/>
            <a:fillRef idx="0"/>
            <a:effectRef idx="0"/>
            <a:fontRef idx="minor"/>
          </p:style>
          <p:txBody>
            <a:bodyPr lIns="90000" rIns="90000" tIns="17640" bIns="176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矩形 13"/>
            <p:cNvSpPr/>
            <p:nvPr/>
          </p:nvSpPr>
          <p:spPr>
            <a:xfrm>
              <a:off x="1169640" y="4570560"/>
              <a:ext cx="1547640" cy="64440"/>
            </a:xfrm>
            <a:prstGeom prst="rect">
              <a:avLst/>
            </a:prstGeom>
            <a:solidFill>
              <a:srgbClr val="b3bac8"/>
            </a:solidFill>
            <a:ln w="0">
              <a:noFill/>
            </a:ln>
          </p:spPr>
          <p:style>
            <a:lnRef idx="0"/>
            <a:fillRef idx="0"/>
            <a:effectRef idx="0"/>
            <a:fontRef idx="minor"/>
          </p:style>
          <p:txBody>
            <a:bodyPr lIns="90000" rIns="90000" tIns="17640" bIns="176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8" name="矩形 14"/>
            <p:cNvSpPr/>
            <p:nvPr/>
          </p:nvSpPr>
          <p:spPr>
            <a:xfrm>
              <a:off x="1169640" y="4799880"/>
              <a:ext cx="1547640" cy="56520"/>
            </a:xfrm>
            <a:prstGeom prst="rect">
              <a:avLst/>
            </a:prstGeom>
            <a:solidFill>
              <a:srgbClr val="b3bac8"/>
            </a:solidFill>
            <a:ln w="0">
              <a:noFill/>
            </a:ln>
          </p:spPr>
          <p:style>
            <a:lnRef idx="0"/>
            <a:fillRef idx="0"/>
            <a:effectRef idx="0"/>
            <a:fontRef idx="minor"/>
          </p:style>
          <p:txBody>
            <a:bodyPr lIns="90000" rIns="90000" tIns="9720" bIns="972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9" name="矩形 16"/>
            <p:cNvSpPr/>
            <p:nvPr/>
          </p:nvSpPr>
          <p:spPr>
            <a:xfrm>
              <a:off x="1169640" y="5019480"/>
              <a:ext cx="1547640" cy="64440"/>
            </a:xfrm>
            <a:prstGeom prst="rect">
              <a:avLst/>
            </a:prstGeom>
            <a:solidFill>
              <a:srgbClr val="b3bac8"/>
            </a:solidFill>
            <a:ln w="0">
              <a:noFill/>
            </a:ln>
          </p:spPr>
          <p:style>
            <a:lnRef idx="0"/>
            <a:fillRef idx="0"/>
            <a:effectRef idx="0"/>
            <a:fontRef idx="minor"/>
          </p:style>
          <p:txBody>
            <a:bodyPr lIns="90000" rIns="90000" tIns="17640" bIns="1764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0" name="矩形 19"/>
            <p:cNvSpPr/>
            <p:nvPr/>
          </p:nvSpPr>
          <p:spPr>
            <a:xfrm>
              <a:off x="1169640" y="5248800"/>
              <a:ext cx="1547640" cy="56520"/>
            </a:xfrm>
            <a:prstGeom prst="rect">
              <a:avLst/>
            </a:prstGeom>
            <a:solidFill>
              <a:srgbClr val="b3bac8"/>
            </a:solidFill>
            <a:ln w="0">
              <a:noFill/>
            </a:ln>
          </p:spPr>
          <p:style>
            <a:lnRef idx="0"/>
            <a:fillRef idx="0"/>
            <a:effectRef idx="0"/>
            <a:fontRef idx="minor"/>
          </p:style>
          <p:txBody>
            <a:bodyPr lIns="90000" rIns="90000" tIns="9720" bIns="972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1" name="矩形 20"/>
            <p:cNvSpPr/>
            <p:nvPr/>
          </p:nvSpPr>
          <p:spPr>
            <a:xfrm>
              <a:off x="1169640" y="5476680"/>
              <a:ext cx="1547640" cy="56880"/>
            </a:xfrm>
            <a:prstGeom prst="rect">
              <a:avLst/>
            </a:prstGeom>
            <a:solidFill>
              <a:srgbClr val="b3bac8"/>
            </a:solidFill>
            <a:ln w="0">
              <a:noFill/>
            </a:ln>
          </p:spPr>
          <p:style>
            <a:lnRef idx="0"/>
            <a:fillRef idx="0"/>
            <a:effectRef idx="0"/>
            <a:fontRef idx="minor"/>
          </p:style>
          <p:txBody>
            <a:bodyPr lIns="90000" rIns="90000" tIns="10080" bIns="100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2" name="矩形 22"/>
            <p:cNvSpPr/>
            <p:nvPr/>
          </p:nvSpPr>
          <p:spPr>
            <a:xfrm>
              <a:off x="1413720" y="3202920"/>
              <a:ext cx="1089720" cy="119880"/>
            </a:xfrm>
            <a:prstGeom prst="rect">
              <a:avLst/>
            </a:prstGeom>
            <a:solidFill>
              <a:srgbClr val="b3bac8"/>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3" name="任意多边形 37"/>
            <p:cNvSpPr/>
            <p:nvPr/>
          </p:nvSpPr>
          <p:spPr>
            <a:xfrm>
              <a:off x="924480" y="5689800"/>
              <a:ext cx="489240" cy="627120"/>
            </a:xfrm>
            <a:custGeom>
              <a:avLst/>
              <a:gdLst/>
              <a:ahLst/>
              <a:rect l="l" t="t" r="r" b="b"/>
              <a:pathLst>
                <a:path w="375" h="351">
                  <a:moveTo>
                    <a:pt x="375" y="0"/>
                  </a:moveTo>
                  <a:lnTo>
                    <a:pt x="0" y="0"/>
                  </a:lnTo>
                  <a:lnTo>
                    <a:pt x="367" y="351"/>
                  </a:lnTo>
                  <a:lnTo>
                    <a:pt x="375" y="0"/>
                  </a:lnTo>
                  <a:close/>
                </a:path>
              </a:pathLst>
            </a:custGeom>
            <a:solidFill>
              <a:srgbClr val="bcbcb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4" name="任意多边形 38"/>
            <p:cNvSpPr/>
            <p:nvPr/>
          </p:nvSpPr>
          <p:spPr>
            <a:xfrm>
              <a:off x="1025640" y="5828760"/>
              <a:ext cx="489240" cy="627120"/>
            </a:xfrm>
            <a:custGeom>
              <a:avLst/>
              <a:gdLst/>
              <a:ahLst/>
              <a:rect l="l" t="t" r="r" b="b"/>
              <a:pathLst>
                <a:path w="375" h="351">
                  <a:moveTo>
                    <a:pt x="375" y="0"/>
                  </a:moveTo>
                  <a:lnTo>
                    <a:pt x="0" y="0"/>
                  </a:lnTo>
                  <a:lnTo>
                    <a:pt x="367" y="351"/>
                  </a:lnTo>
                  <a:lnTo>
                    <a:pt x="375" y="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5" name="任意多边形 39"/>
            <p:cNvSpPr/>
            <p:nvPr/>
          </p:nvSpPr>
          <p:spPr>
            <a:xfrm>
              <a:off x="924480" y="5689800"/>
              <a:ext cx="478440" cy="627120"/>
            </a:xfrm>
            <a:custGeom>
              <a:avLst/>
              <a:gdLst/>
              <a:ahLst/>
              <a:rect l="l" t="t" r="r" b="b"/>
              <a:pathLst>
                <a:path w="367" h="351">
                  <a:moveTo>
                    <a:pt x="351" y="20"/>
                  </a:moveTo>
                  <a:lnTo>
                    <a:pt x="0" y="0"/>
                  </a:lnTo>
                  <a:lnTo>
                    <a:pt x="367" y="351"/>
                  </a:lnTo>
                  <a:lnTo>
                    <a:pt x="351" y="20"/>
                  </a:lnTo>
                  <a:close/>
                </a:path>
              </a:pathLst>
            </a:custGeom>
            <a:solidFill>
              <a:srgbClr val="b3bac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6" name="矩形 26"/>
            <p:cNvSpPr/>
            <p:nvPr/>
          </p:nvSpPr>
          <p:spPr>
            <a:xfrm>
              <a:off x="1554480" y="2482200"/>
              <a:ext cx="776520" cy="327240"/>
            </a:xfrm>
            <a:prstGeom prst="rect">
              <a:avLst/>
            </a:prstGeom>
            <a:solidFill>
              <a:srgbClr val="4d576b"/>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7" name="任意多边形 19"/>
            <p:cNvSpPr/>
            <p:nvPr/>
          </p:nvSpPr>
          <p:spPr>
            <a:xfrm>
              <a:off x="1542600" y="2198520"/>
              <a:ext cx="788760" cy="585360"/>
            </a:xfrm>
            <a:custGeom>
              <a:avLst/>
              <a:gdLst/>
              <a:ahLst/>
              <a:rect l="l" t="t" r="r" b="b"/>
              <a:pathLst>
                <a:path w="167" h="88">
                  <a:moveTo>
                    <a:pt x="115" y="42"/>
                  </a:moveTo>
                  <a:cubicBezTo>
                    <a:pt x="116" y="39"/>
                    <a:pt x="117" y="36"/>
                    <a:pt x="117" y="33"/>
                  </a:cubicBezTo>
                  <a:cubicBezTo>
                    <a:pt x="117" y="15"/>
                    <a:pt x="102" y="0"/>
                    <a:pt x="83" y="0"/>
                  </a:cubicBezTo>
                  <a:cubicBezTo>
                    <a:pt x="65" y="0"/>
                    <a:pt x="50" y="15"/>
                    <a:pt x="50" y="33"/>
                  </a:cubicBezTo>
                  <a:cubicBezTo>
                    <a:pt x="50" y="36"/>
                    <a:pt x="51" y="39"/>
                    <a:pt x="51" y="42"/>
                  </a:cubicBezTo>
                  <a:cubicBezTo>
                    <a:pt x="0" y="42"/>
                    <a:pt x="0" y="42"/>
                    <a:pt x="0" y="42"/>
                  </a:cubicBezTo>
                  <a:cubicBezTo>
                    <a:pt x="0" y="88"/>
                    <a:pt x="0" y="88"/>
                    <a:pt x="0" y="88"/>
                  </a:cubicBezTo>
                  <a:cubicBezTo>
                    <a:pt x="167" y="88"/>
                    <a:pt x="167" y="88"/>
                    <a:pt x="167" y="88"/>
                  </a:cubicBezTo>
                  <a:cubicBezTo>
                    <a:pt x="167" y="42"/>
                    <a:pt x="167" y="42"/>
                    <a:pt x="167" y="42"/>
                  </a:cubicBezTo>
                  <a:lnTo>
                    <a:pt x="115" y="42"/>
                  </a:lnTo>
                  <a:close/>
                </a:path>
              </a:pathLst>
            </a:custGeom>
            <a:solidFill>
              <a:srgbClr val="914f9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8" name="椭圆 31"/>
            <p:cNvSpPr/>
            <p:nvPr/>
          </p:nvSpPr>
          <p:spPr>
            <a:xfrm>
              <a:off x="1845000" y="2291040"/>
              <a:ext cx="190440" cy="260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9" name="任意多边形 13"/>
            <p:cNvSpPr/>
            <p:nvPr/>
          </p:nvSpPr>
          <p:spPr>
            <a:xfrm rot="1080600">
              <a:off x="1473480" y="4178880"/>
              <a:ext cx="453600" cy="381600"/>
            </a:xfrm>
            <a:custGeom>
              <a:avLst/>
              <a:gdLst/>
              <a:ahLst/>
              <a:rect l="l" t="t" r="r" b="b"/>
              <a:pathLst>
                <a:path w="117" h="71">
                  <a:moveTo>
                    <a:pt x="6" y="29"/>
                  </a:moveTo>
                  <a:cubicBezTo>
                    <a:pt x="0" y="58"/>
                    <a:pt x="0" y="58"/>
                    <a:pt x="0" y="58"/>
                  </a:cubicBezTo>
                  <a:cubicBezTo>
                    <a:pt x="63" y="71"/>
                    <a:pt x="63" y="71"/>
                    <a:pt x="63" y="71"/>
                  </a:cubicBezTo>
                  <a:cubicBezTo>
                    <a:pt x="76" y="58"/>
                    <a:pt x="95" y="51"/>
                    <a:pt x="115" y="55"/>
                  </a:cubicBezTo>
                  <a:cubicBezTo>
                    <a:pt x="115" y="55"/>
                    <a:pt x="115" y="55"/>
                    <a:pt x="115" y="55"/>
                  </a:cubicBezTo>
                  <a:cubicBezTo>
                    <a:pt x="115" y="53"/>
                    <a:pt x="115" y="53"/>
                    <a:pt x="115" y="53"/>
                  </a:cubicBezTo>
                  <a:cubicBezTo>
                    <a:pt x="68" y="43"/>
                    <a:pt x="68" y="43"/>
                    <a:pt x="68" y="43"/>
                  </a:cubicBezTo>
                  <a:cubicBezTo>
                    <a:pt x="67" y="45"/>
                    <a:pt x="64" y="47"/>
                    <a:pt x="62" y="46"/>
                  </a:cubicBezTo>
                  <a:cubicBezTo>
                    <a:pt x="59" y="45"/>
                    <a:pt x="57" y="42"/>
                    <a:pt x="57" y="39"/>
                  </a:cubicBezTo>
                  <a:cubicBezTo>
                    <a:pt x="58" y="36"/>
                    <a:pt x="61" y="34"/>
                    <a:pt x="64" y="35"/>
                  </a:cubicBezTo>
                  <a:cubicBezTo>
                    <a:pt x="67" y="36"/>
                    <a:pt x="68" y="38"/>
                    <a:pt x="68" y="40"/>
                  </a:cubicBezTo>
                  <a:cubicBezTo>
                    <a:pt x="116" y="50"/>
                    <a:pt x="116" y="50"/>
                    <a:pt x="116" y="50"/>
                  </a:cubicBezTo>
                  <a:cubicBezTo>
                    <a:pt x="117" y="48"/>
                    <a:pt x="117" y="48"/>
                    <a:pt x="117" y="48"/>
                  </a:cubicBezTo>
                  <a:cubicBezTo>
                    <a:pt x="117" y="48"/>
                    <a:pt x="117" y="48"/>
                    <a:pt x="117" y="48"/>
                  </a:cubicBezTo>
                  <a:cubicBezTo>
                    <a:pt x="97" y="44"/>
                    <a:pt x="82" y="30"/>
                    <a:pt x="75" y="13"/>
                  </a:cubicBezTo>
                  <a:cubicBezTo>
                    <a:pt x="12" y="0"/>
                    <a:pt x="12" y="0"/>
                    <a:pt x="12" y="0"/>
                  </a:cubicBezTo>
                  <a:lnTo>
                    <a:pt x="6" y="29"/>
                  </a:lnTo>
                  <a:close/>
                </a:path>
              </a:pathLst>
            </a:custGeom>
            <a:solidFill>
              <a:srgbClr val="63b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0" name="任意多边形 14"/>
            <p:cNvSpPr/>
            <p:nvPr/>
          </p:nvSpPr>
          <p:spPr>
            <a:xfrm rot="1080600">
              <a:off x="320400" y="3475800"/>
              <a:ext cx="1357200" cy="740880"/>
            </a:xfrm>
            <a:custGeom>
              <a:avLst/>
              <a:gdLst/>
              <a:ahLst/>
              <a:rect l="l" t="t" r="r" b="b"/>
              <a:pathLst>
                <a:path w="2111" h="841">
                  <a:moveTo>
                    <a:pt x="2111" y="420"/>
                  </a:moveTo>
                  <a:lnTo>
                    <a:pt x="2027" y="841"/>
                  </a:lnTo>
                  <a:lnTo>
                    <a:pt x="0" y="426"/>
                  </a:lnTo>
                  <a:lnTo>
                    <a:pt x="84" y="0"/>
                  </a:lnTo>
                  <a:lnTo>
                    <a:pt x="2111" y="420"/>
                  </a:ln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1" name="任意多边形 15"/>
            <p:cNvSpPr/>
            <p:nvPr/>
          </p:nvSpPr>
          <p:spPr>
            <a:xfrm rot="1080600">
              <a:off x="271080" y="3436920"/>
              <a:ext cx="1357560" cy="745560"/>
            </a:xfrm>
            <a:custGeom>
              <a:avLst/>
              <a:gdLst/>
              <a:ahLst/>
              <a:rect l="l" t="t" r="r" b="b"/>
              <a:pathLst>
                <a:path w="2112" h="847">
                  <a:moveTo>
                    <a:pt x="2112" y="421"/>
                  </a:moveTo>
                  <a:lnTo>
                    <a:pt x="2027" y="847"/>
                  </a:lnTo>
                  <a:lnTo>
                    <a:pt x="0" y="427"/>
                  </a:lnTo>
                  <a:lnTo>
                    <a:pt x="85" y="0"/>
                  </a:lnTo>
                  <a:lnTo>
                    <a:pt x="2112" y="421"/>
                  </a:lnTo>
                  <a:close/>
                </a:path>
              </a:pathLst>
            </a:custGeom>
            <a:solidFill>
              <a:srgbClr val="cbe5f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2" name="任意多边形 16"/>
            <p:cNvSpPr/>
            <p:nvPr/>
          </p:nvSpPr>
          <p:spPr>
            <a:xfrm rot="1080600">
              <a:off x="0" y="2925000"/>
              <a:ext cx="217080" cy="477720"/>
            </a:xfrm>
            <a:custGeom>
              <a:avLst/>
              <a:gdLst/>
              <a:ahLst/>
              <a:rect l="l" t="t" r="r" b="b"/>
              <a:pathLst>
                <a:path w="56" h="89">
                  <a:moveTo>
                    <a:pt x="37" y="88"/>
                  </a:moveTo>
                  <a:cubicBezTo>
                    <a:pt x="39" y="89"/>
                    <a:pt x="39" y="89"/>
                    <a:pt x="39" y="89"/>
                  </a:cubicBezTo>
                  <a:cubicBezTo>
                    <a:pt x="56" y="5"/>
                    <a:pt x="56" y="5"/>
                    <a:pt x="56" y="5"/>
                  </a:cubicBezTo>
                  <a:cubicBezTo>
                    <a:pt x="54" y="4"/>
                    <a:pt x="54" y="4"/>
                    <a:pt x="54" y="4"/>
                  </a:cubicBezTo>
                  <a:cubicBezTo>
                    <a:pt x="32" y="0"/>
                    <a:pt x="10" y="15"/>
                    <a:pt x="5" y="38"/>
                  </a:cubicBezTo>
                  <a:cubicBezTo>
                    <a:pt x="0" y="61"/>
                    <a:pt x="15" y="83"/>
                    <a:pt x="37" y="88"/>
                  </a:cubicBezTo>
                  <a:close/>
                </a:path>
              </a:pathLst>
            </a:custGeom>
            <a:solidFill>
              <a:srgbClr val="cbe5f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3" name="任意多边形 17"/>
            <p:cNvSpPr/>
            <p:nvPr/>
          </p:nvSpPr>
          <p:spPr>
            <a:xfrm rot="1080600">
              <a:off x="126360" y="2988000"/>
              <a:ext cx="845280" cy="761760"/>
            </a:xfrm>
            <a:custGeom>
              <a:avLst/>
              <a:gdLst/>
              <a:ahLst/>
              <a:rect l="l" t="t" r="r" b="b"/>
              <a:pathLst>
                <a:path w="218" h="142">
                  <a:moveTo>
                    <a:pt x="17" y="30"/>
                  </a:moveTo>
                  <a:cubicBezTo>
                    <a:pt x="0" y="114"/>
                    <a:pt x="0" y="114"/>
                    <a:pt x="0" y="114"/>
                  </a:cubicBezTo>
                  <a:cubicBezTo>
                    <a:pt x="137" y="142"/>
                    <a:pt x="137" y="142"/>
                    <a:pt x="137" y="142"/>
                  </a:cubicBezTo>
                  <a:cubicBezTo>
                    <a:pt x="140" y="142"/>
                    <a:pt x="144" y="140"/>
                    <a:pt x="145" y="136"/>
                  </a:cubicBezTo>
                  <a:cubicBezTo>
                    <a:pt x="159" y="65"/>
                    <a:pt x="159" y="65"/>
                    <a:pt x="159" y="65"/>
                  </a:cubicBezTo>
                  <a:cubicBezTo>
                    <a:pt x="160" y="62"/>
                    <a:pt x="158" y="58"/>
                    <a:pt x="154" y="58"/>
                  </a:cubicBezTo>
                  <a:cubicBezTo>
                    <a:pt x="31" y="32"/>
                    <a:pt x="31" y="32"/>
                    <a:pt x="31" y="32"/>
                  </a:cubicBezTo>
                  <a:cubicBezTo>
                    <a:pt x="33" y="22"/>
                    <a:pt x="44" y="15"/>
                    <a:pt x="54" y="18"/>
                  </a:cubicBezTo>
                  <a:cubicBezTo>
                    <a:pt x="206" y="49"/>
                    <a:pt x="206" y="49"/>
                    <a:pt x="206" y="49"/>
                  </a:cubicBezTo>
                  <a:cubicBezTo>
                    <a:pt x="206" y="49"/>
                    <a:pt x="206" y="49"/>
                    <a:pt x="206" y="49"/>
                  </a:cubicBezTo>
                  <a:cubicBezTo>
                    <a:pt x="210" y="49"/>
                    <a:pt x="215" y="47"/>
                    <a:pt x="216" y="44"/>
                  </a:cubicBezTo>
                  <a:cubicBezTo>
                    <a:pt x="216" y="44"/>
                    <a:pt x="216" y="44"/>
                    <a:pt x="216" y="44"/>
                  </a:cubicBezTo>
                  <a:cubicBezTo>
                    <a:pt x="218" y="36"/>
                    <a:pt x="218" y="36"/>
                    <a:pt x="218" y="36"/>
                  </a:cubicBezTo>
                  <a:cubicBezTo>
                    <a:pt x="57" y="3"/>
                    <a:pt x="57" y="3"/>
                    <a:pt x="57" y="3"/>
                  </a:cubicBezTo>
                  <a:cubicBezTo>
                    <a:pt x="39" y="0"/>
                    <a:pt x="21" y="11"/>
                    <a:pt x="17" y="30"/>
                  </a:cubicBez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4" name="任意多边形 18"/>
            <p:cNvSpPr/>
            <p:nvPr/>
          </p:nvSpPr>
          <p:spPr>
            <a:xfrm rot="1080600">
              <a:off x="189720" y="3031920"/>
              <a:ext cx="138960" cy="471600"/>
            </a:xfrm>
            <a:custGeom>
              <a:avLst/>
              <a:gdLst/>
              <a:ahLst/>
              <a:rect l="l" t="t" r="r" b="b"/>
              <a:pathLst>
                <a:path w="217" h="536">
                  <a:moveTo>
                    <a:pt x="114" y="536"/>
                  </a:moveTo>
                  <a:lnTo>
                    <a:pt x="217" y="24"/>
                  </a:lnTo>
                  <a:lnTo>
                    <a:pt x="102" y="0"/>
                  </a:lnTo>
                  <a:lnTo>
                    <a:pt x="0" y="512"/>
                  </a:lnTo>
                  <a:lnTo>
                    <a:pt x="114" y="536"/>
                  </a:lnTo>
                  <a:close/>
                </a:path>
              </a:pathLst>
            </a:custGeom>
            <a:solidFill>
              <a:srgbClr val="97ca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295" name="文本框 48"/>
          <p:cNvSpPr/>
          <p:nvPr/>
        </p:nvSpPr>
        <p:spPr>
          <a:xfrm flipV="1" rot="10800000">
            <a:off x="4457880" y="5232240"/>
            <a:ext cx="7673760" cy="1509840"/>
          </a:xfrm>
          <a:prstGeom prst="rect">
            <a:avLst/>
          </a:prstGeom>
          <a:noFill/>
          <a:ln w="9360">
            <a:solidFill>
              <a:srgbClr val="479eff"/>
            </a:solidFill>
            <a:round/>
          </a:ln>
        </p:spPr>
        <p:style>
          <a:lnRef idx="0"/>
          <a:fillRef idx="0"/>
          <a:effectRef idx="0"/>
          <a:fontRef idx="minor"/>
        </p:style>
        <p:txBody>
          <a:bodyPr lIns="90000" rIns="90000" tIns="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根据以上情况编制审计工作底稿（表 </a:t>
            </a:r>
            <a:r>
              <a:rPr b="1" lang="en-US" sz="2000" spc="-1" strike="noStrike">
                <a:solidFill>
                  <a:srgbClr val="000000"/>
                </a:solidFill>
                <a:latin typeface="Arial"/>
              </a:rPr>
              <a:t>6-11</a:t>
            </a:r>
            <a:r>
              <a:rPr b="1" lang="zh-CN" sz="2000" spc="-1" strike="noStrike">
                <a:solidFill>
                  <a:srgbClr val="000000"/>
                </a:solidFill>
                <a:latin typeface="Arial"/>
                <a:ea typeface="宋体"/>
              </a:rPr>
              <a:t>～表 </a:t>
            </a:r>
            <a:r>
              <a:rPr b="1" lang="en-US" sz="2000" spc="-1" strike="noStrike">
                <a:solidFill>
                  <a:srgbClr val="000000"/>
                </a:solidFill>
                <a:latin typeface="Arial"/>
              </a:rPr>
              <a:t>6-14</a:t>
            </a:r>
            <a:r>
              <a:rPr b="1" lang="zh-CN" sz="2000" spc="-1" strike="noStrike">
                <a:solidFill>
                  <a:srgbClr val="000000"/>
                </a:solidFill>
                <a:latin typeface="Arial"/>
                <a:ea typeface="宋体"/>
              </a:rPr>
              <a:t>）。（“固定资产与累计折 旧程序表”略）表 </a:t>
            </a:r>
            <a:r>
              <a:rPr b="1" lang="en-US" sz="2000" spc="-1" strike="noStrike">
                <a:solidFill>
                  <a:srgbClr val="000000"/>
                </a:solidFill>
                <a:latin typeface="Arial"/>
              </a:rPr>
              <a:t>6-11</a:t>
            </a:r>
            <a:r>
              <a:rPr b="1" lang="zh-CN" sz="2000" spc="-1" strike="noStrike">
                <a:solidFill>
                  <a:srgbClr val="000000"/>
                </a:solidFill>
                <a:latin typeface="Arial"/>
                <a:ea typeface="宋体"/>
              </a:rPr>
              <a:t>　固定资产与累计折旧审定表（ </a:t>
            </a:r>
            <a:r>
              <a:rPr b="1" lang="en-US" sz="2000" spc="-1" strike="noStrike">
                <a:solidFill>
                  <a:srgbClr val="000000"/>
                </a:solidFill>
                <a:latin typeface="Arial"/>
              </a:rPr>
              <a:t>P162</a:t>
            </a:r>
            <a:r>
              <a:rPr b="1" lang="zh-CN" sz="2000" spc="-1" strike="noStrike">
                <a:solidFill>
                  <a:srgbClr val="000000"/>
                </a:solidFill>
                <a:latin typeface="Arial"/>
                <a:ea typeface="宋体"/>
              </a:rPr>
              <a:t>）表 </a:t>
            </a:r>
            <a:r>
              <a:rPr b="1" lang="en-US" sz="2000" spc="-1" strike="noStrike">
                <a:solidFill>
                  <a:srgbClr val="000000"/>
                </a:solidFill>
                <a:latin typeface="Arial"/>
              </a:rPr>
              <a:t>6-12</a:t>
            </a:r>
            <a:r>
              <a:rPr b="1" lang="zh-CN" sz="2000" spc="-1" strike="noStrike">
                <a:solidFill>
                  <a:srgbClr val="000000"/>
                </a:solidFill>
                <a:latin typeface="Arial"/>
                <a:ea typeface="宋体"/>
              </a:rPr>
              <a:t>　固定资产增加审定表表 （</a:t>
            </a:r>
            <a:r>
              <a:rPr b="1" lang="en-US" sz="2000" spc="-1" strike="noStrike">
                <a:solidFill>
                  <a:srgbClr val="000000"/>
                </a:solidFill>
                <a:latin typeface="Arial"/>
              </a:rPr>
              <a:t>P163</a:t>
            </a:r>
            <a:r>
              <a:rPr b="1" lang="zh-CN" sz="2000" spc="-1" strike="noStrike">
                <a:solidFill>
                  <a:srgbClr val="000000"/>
                </a:solidFill>
                <a:latin typeface="Arial"/>
                <a:ea typeface="宋体"/>
              </a:rPr>
              <a:t>）</a:t>
            </a:r>
            <a:r>
              <a:rPr b="1" lang="en-US" sz="2000" spc="-1" strike="noStrike">
                <a:solidFill>
                  <a:srgbClr val="000000"/>
                </a:solidFill>
                <a:latin typeface="Arial"/>
              </a:rPr>
              <a:t> </a:t>
            </a:r>
            <a:r>
              <a:rPr b="1" lang="zh-CN" sz="2000" spc="-1" strike="noStrike">
                <a:solidFill>
                  <a:srgbClr val="000000"/>
                </a:solidFill>
                <a:latin typeface="Arial"/>
                <a:ea typeface="宋体"/>
              </a:rPr>
              <a:t>表 </a:t>
            </a:r>
            <a:r>
              <a:rPr b="1" lang="en-US" sz="2000" spc="-1" strike="noStrike">
                <a:solidFill>
                  <a:srgbClr val="000000"/>
                </a:solidFill>
                <a:latin typeface="Arial"/>
              </a:rPr>
              <a:t>6-13</a:t>
            </a:r>
            <a:r>
              <a:rPr b="1" lang="zh-CN" sz="2000" spc="-1" strike="noStrike">
                <a:solidFill>
                  <a:srgbClr val="000000"/>
                </a:solidFill>
                <a:latin typeface="Arial"/>
                <a:ea typeface="宋体"/>
              </a:rPr>
              <a:t>　固定资产减少审定表（</a:t>
            </a:r>
            <a:r>
              <a:rPr b="1" lang="en-US" sz="2000" spc="-1" strike="noStrike">
                <a:solidFill>
                  <a:srgbClr val="000000"/>
                </a:solidFill>
                <a:latin typeface="Arial"/>
              </a:rPr>
              <a:t>P164 </a:t>
            </a:r>
            <a:r>
              <a:rPr b="1" lang="zh-CN" sz="2000" spc="-1" strike="noStrike">
                <a:solidFill>
                  <a:srgbClr val="000000"/>
                </a:solidFill>
                <a:latin typeface="Arial"/>
                <a:ea typeface="宋体"/>
              </a:rPr>
              <a:t>）</a:t>
            </a:r>
            <a:r>
              <a:rPr b="1" lang="en-US" sz="2000" spc="-1" strike="noStrike">
                <a:solidFill>
                  <a:srgbClr val="000000"/>
                </a:solidFill>
                <a:latin typeface="Arial"/>
              </a:rPr>
              <a:t>   </a:t>
            </a:r>
            <a:r>
              <a:rPr b="1" lang="zh-CN" sz="2000" spc="-1" strike="noStrike">
                <a:solidFill>
                  <a:srgbClr val="000000"/>
                </a:solidFill>
                <a:latin typeface="Arial"/>
                <a:ea typeface="宋体"/>
              </a:rPr>
              <a:t>表 </a:t>
            </a:r>
            <a:r>
              <a:rPr b="1" lang="en-US" sz="2000" spc="-1" strike="noStrike">
                <a:solidFill>
                  <a:srgbClr val="000000"/>
                </a:solidFill>
                <a:latin typeface="Arial"/>
              </a:rPr>
              <a:t>6-14</a:t>
            </a:r>
            <a:r>
              <a:rPr b="1" lang="zh-CN" sz="2000" spc="-1" strike="noStrike">
                <a:solidFill>
                  <a:srgbClr val="000000"/>
                </a:solidFill>
                <a:latin typeface="Arial"/>
                <a:ea typeface="宋体"/>
              </a:rPr>
              <a:t>　固定资产抽查表（</a:t>
            </a:r>
            <a:r>
              <a:rPr b="1" lang="en-US" sz="2000" spc="-1" strike="noStrike">
                <a:solidFill>
                  <a:srgbClr val="000000"/>
                </a:solidFill>
                <a:latin typeface="Arial"/>
              </a:rPr>
              <a:t>P165</a:t>
            </a:r>
            <a:r>
              <a:rPr b="1" lang="zh-CN" sz="2000" spc="-1" strike="noStrike">
                <a:solidFill>
                  <a:srgbClr val="000000"/>
                </a:solidFill>
                <a:latin typeface="Arial"/>
                <a:ea typeface="宋体"/>
              </a:rPr>
              <a:t>）</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296" name="文本框 98"/>
          <p:cNvSpPr/>
          <p:nvPr/>
        </p:nvSpPr>
        <p:spPr>
          <a:xfrm>
            <a:off x="4457880" y="3178080"/>
            <a:ext cx="7673760" cy="1895400"/>
          </a:xfrm>
          <a:prstGeom prst="rect">
            <a:avLst/>
          </a:prstGeom>
          <a:noFill/>
          <a:ln w="9360">
            <a:solidFill>
              <a:srgbClr val="914f96"/>
            </a:solidFill>
            <a:round/>
          </a:ln>
        </p:spPr>
        <p:style>
          <a:lnRef idx="0"/>
          <a:fillRef idx="0"/>
          <a:effectRef idx="0"/>
          <a:fontRef idx="minor"/>
        </p:style>
        <p:txBody>
          <a:bodyPr lIns="90000" rIns="90000" tIns="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zh-CN" sz="2000" spc="-1" strike="noStrike">
                <a:solidFill>
                  <a:srgbClr val="000000"/>
                </a:solidFill>
                <a:latin typeface="Arial"/>
                <a:ea typeface="宋体"/>
              </a:rPr>
              <a:t>例 </a:t>
            </a:r>
            <a:r>
              <a:rPr b="1" lang="en-US" sz="2000" spc="-1" strike="noStrike">
                <a:solidFill>
                  <a:srgbClr val="000000"/>
                </a:solidFill>
                <a:latin typeface="Arial"/>
              </a:rPr>
              <a:t>6-5</a:t>
            </a:r>
            <a:r>
              <a:rPr b="1" lang="en-US" sz="2000" spc="-1" strike="noStrike">
                <a:solidFill>
                  <a:srgbClr val="000000"/>
                </a:solidFill>
                <a:latin typeface="Arial"/>
              </a:rPr>
              <a:t>】</a:t>
            </a:r>
            <a:r>
              <a:rPr b="1" lang="zh-CN" sz="2000" spc="-1" strike="noStrike">
                <a:solidFill>
                  <a:srgbClr val="000000"/>
                </a:solidFill>
                <a:latin typeface="Arial"/>
                <a:ea typeface="宋体"/>
              </a:rPr>
              <a:t>承</a:t>
            </a:r>
            <a:r>
              <a:rPr b="1" lang="en-US" sz="2000" spc="-1" strike="noStrike">
                <a:solidFill>
                  <a:srgbClr val="000000"/>
                </a:solidFill>
                <a:latin typeface="Arial"/>
              </a:rPr>
              <a:t>【</a:t>
            </a:r>
            <a:r>
              <a:rPr b="1" lang="zh-CN" sz="2000" spc="-1" strike="noStrike">
                <a:solidFill>
                  <a:srgbClr val="000000"/>
                </a:solidFill>
                <a:latin typeface="Arial"/>
                <a:ea typeface="宋体"/>
              </a:rPr>
              <a:t>例 </a:t>
            </a:r>
            <a:r>
              <a:rPr b="1" lang="en-US" sz="2000" spc="-1" strike="noStrike">
                <a:solidFill>
                  <a:srgbClr val="000000"/>
                </a:solidFill>
                <a:latin typeface="Arial"/>
              </a:rPr>
              <a:t>6-4</a:t>
            </a:r>
            <a:r>
              <a:rPr b="1" lang="en-US" sz="2000" spc="-1" strike="noStrike">
                <a:solidFill>
                  <a:srgbClr val="000000"/>
                </a:solidFill>
                <a:latin typeface="Arial"/>
              </a:rPr>
              <a:t>】</a:t>
            </a:r>
            <a:r>
              <a:rPr b="1" lang="zh-CN" sz="2000" spc="-1" strike="noStrike">
                <a:solidFill>
                  <a:srgbClr val="000000"/>
                </a:solidFill>
                <a:latin typeface="Arial"/>
                <a:ea typeface="宋体"/>
              </a:rPr>
              <a:t>张三审计过程中通过抽盘发现情况如下：</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en-US" sz="2000" spc="-1" strike="noStrike">
                <a:solidFill>
                  <a:srgbClr val="000000"/>
                </a:solidFill>
                <a:latin typeface="Arial"/>
              </a:rPr>
              <a:t>1. </a:t>
            </a:r>
            <a:r>
              <a:rPr b="1" lang="zh-CN" sz="2000" spc="-1" strike="noStrike">
                <a:solidFill>
                  <a:srgbClr val="000000"/>
                </a:solidFill>
                <a:latin typeface="Arial"/>
                <a:ea typeface="宋体"/>
              </a:rPr>
              <a:t>公司 </a:t>
            </a:r>
            <a:r>
              <a:rPr b="1" lang="en-US" sz="2000" spc="-1" strike="noStrike">
                <a:solidFill>
                  <a:srgbClr val="000000"/>
                </a:solidFill>
                <a:latin typeface="Arial"/>
              </a:rPr>
              <a:t>2019 </a:t>
            </a:r>
            <a:r>
              <a:rPr b="1" lang="zh-CN" sz="2000" spc="-1" strike="noStrike">
                <a:solidFill>
                  <a:srgbClr val="000000"/>
                </a:solidFill>
                <a:latin typeface="Arial"/>
                <a:ea typeface="宋体"/>
              </a:rPr>
              <a:t>年 </a:t>
            </a:r>
            <a:r>
              <a:rPr b="1" lang="en-US" sz="2000" spc="-1" strike="noStrike">
                <a:solidFill>
                  <a:srgbClr val="000000"/>
                </a:solidFill>
                <a:latin typeface="Arial"/>
              </a:rPr>
              <a:t>6 </a:t>
            </a:r>
            <a:r>
              <a:rPr b="1" lang="zh-CN" sz="2000" spc="-1" strike="noStrike">
                <a:solidFill>
                  <a:srgbClr val="000000"/>
                </a:solidFill>
                <a:latin typeface="Arial"/>
                <a:ea typeface="宋体"/>
              </a:rPr>
              <a:t>月 </a:t>
            </a:r>
            <a:r>
              <a:rPr b="1" lang="en-US" sz="2000" spc="-1" strike="noStrike">
                <a:solidFill>
                  <a:srgbClr val="000000"/>
                </a:solidFill>
                <a:latin typeface="Arial"/>
              </a:rPr>
              <a:t>20 </a:t>
            </a:r>
            <a:r>
              <a:rPr b="1" lang="zh-CN" sz="2000" spc="-1" strike="noStrike">
                <a:solidFill>
                  <a:srgbClr val="000000"/>
                </a:solidFill>
                <a:latin typeface="Arial"/>
                <a:ea typeface="宋体"/>
              </a:rPr>
              <a:t>日新购进一个仓库，价值 </a:t>
            </a:r>
            <a:r>
              <a:rPr b="1" lang="en-US" sz="2000" spc="-1" strike="noStrike">
                <a:solidFill>
                  <a:srgbClr val="000000"/>
                </a:solidFill>
                <a:latin typeface="Arial"/>
              </a:rPr>
              <a:t>300 000 </a:t>
            </a:r>
            <a:r>
              <a:rPr b="1" lang="zh-CN" sz="2000" spc="-1" strike="noStrike">
                <a:solidFill>
                  <a:srgbClr val="000000"/>
                </a:solidFill>
                <a:latin typeface="Arial"/>
                <a:ea typeface="宋体"/>
              </a:rPr>
              <a:t>元，但账面并没有 记录。 </a:t>
            </a:r>
            <a:r>
              <a:rPr b="1" lang="en-US" sz="2000" spc="-1" strike="noStrike">
                <a:solidFill>
                  <a:srgbClr val="000000"/>
                </a:solidFill>
                <a:latin typeface="Arial"/>
              </a:rPr>
              <a:t>2. </a:t>
            </a:r>
            <a:r>
              <a:rPr b="1" lang="zh-CN" sz="2000" spc="-1" strike="noStrike">
                <a:solidFill>
                  <a:srgbClr val="000000"/>
                </a:solidFill>
                <a:latin typeface="Arial"/>
                <a:ea typeface="宋体"/>
              </a:rPr>
              <a:t>公司 </a:t>
            </a:r>
            <a:r>
              <a:rPr b="1" lang="en-US" sz="2000" spc="-1" strike="noStrike">
                <a:solidFill>
                  <a:srgbClr val="000000"/>
                </a:solidFill>
                <a:latin typeface="Arial"/>
              </a:rPr>
              <a:t>2019 </a:t>
            </a:r>
            <a:r>
              <a:rPr b="1" lang="zh-CN" sz="2000" spc="-1" strike="noStrike">
                <a:solidFill>
                  <a:srgbClr val="000000"/>
                </a:solidFill>
                <a:latin typeface="Arial"/>
                <a:ea typeface="宋体"/>
              </a:rPr>
              <a:t>年 </a:t>
            </a:r>
            <a:r>
              <a:rPr b="1" lang="en-US" sz="2000" spc="-1" strike="noStrike">
                <a:solidFill>
                  <a:srgbClr val="000000"/>
                </a:solidFill>
                <a:latin typeface="Arial"/>
              </a:rPr>
              <a:t>3 </a:t>
            </a:r>
            <a:r>
              <a:rPr b="1" lang="zh-CN" sz="2000" spc="-1" strike="noStrike">
                <a:solidFill>
                  <a:srgbClr val="000000"/>
                </a:solidFill>
                <a:latin typeface="Arial"/>
                <a:ea typeface="宋体"/>
              </a:rPr>
              <a:t>月，以专用设备向 </a:t>
            </a:r>
            <a:r>
              <a:rPr b="1" lang="en-US" sz="2000" spc="-1" strike="noStrike">
                <a:solidFill>
                  <a:srgbClr val="000000"/>
                </a:solidFill>
                <a:latin typeface="Arial"/>
              </a:rPr>
              <a:t>N </a:t>
            </a:r>
            <a:r>
              <a:rPr b="1" lang="zh-CN" sz="2000" spc="-1" strike="noStrike">
                <a:solidFill>
                  <a:srgbClr val="000000"/>
                </a:solidFill>
                <a:latin typeface="Arial"/>
                <a:ea typeface="宋体"/>
              </a:rPr>
              <a:t>公司投资，设备原值 </a:t>
            </a:r>
            <a:r>
              <a:rPr b="1" lang="en-US" sz="2000" spc="-1" strike="noStrike">
                <a:solidFill>
                  <a:srgbClr val="000000"/>
                </a:solidFill>
                <a:latin typeface="Arial"/>
              </a:rPr>
              <a:t>200 000 </a:t>
            </a:r>
            <a:r>
              <a:rPr b="1" lang="zh-CN" sz="2000" spc="-1" strike="noStrike">
                <a:solidFill>
                  <a:srgbClr val="000000"/>
                </a:solidFill>
                <a:latin typeface="Arial"/>
                <a:ea typeface="宋体"/>
              </a:rPr>
              <a:t>元，净 值 </a:t>
            </a:r>
            <a:r>
              <a:rPr b="1" lang="en-US" sz="2000" spc="-1" strike="noStrike">
                <a:solidFill>
                  <a:srgbClr val="000000"/>
                </a:solidFill>
                <a:latin typeface="Arial"/>
              </a:rPr>
              <a:t>150 000 </a:t>
            </a:r>
            <a:r>
              <a:rPr b="1" lang="zh-CN" sz="2000" spc="-1" strike="noStrike">
                <a:solidFill>
                  <a:srgbClr val="000000"/>
                </a:solidFill>
                <a:latin typeface="Arial"/>
                <a:ea typeface="宋体"/>
              </a:rPr>
              <a:t>元，评估价 </a:t>
            </a:r>
            <a:r>
              <a:rPr b="1" lang="en-US" sz="2000" spc="-1" strike="noStrike">
                <a:solidFill>
                  <a:srgbClr val="000000"/>
                </a:solidFill>
                <a:latin typeface="Arial"/>
              </a:rPr>
              <a:t>160 000 </a:t>
            </a:r>
            <a:r>
              <a:rPr b="1" lang="zh-CN" sz="2000" spc="-1" strike="noStrike">
                <a:solidFill>
                  <a:srgbClr val="000000"/>
                </a:solidFill>
                <a:latin typeface="Arial"/>
                <a:ea typeface="宋体"/>
              </a:rPr>
              <a:t>元。但在公司的账面中未发现该设备的减少记录， 也未发现该项投资。</a:t>
            </a:r>
            <a:endParaRPr b="1" lang="en-US" sz="2000" spc="-1" strike="noStrike">
              <a:solidFill>
                <a:srgbClr val="000000"/>
              </a:solidFill>
              <a:latin typeface="Arial"/>
            </a:endParaRPr>
          </a:p>
        </p:txBody>
      </p:sp>
      <p:sp>
        <p:nvSpPr>
          <p:cNvPr id="2297" name="文本框 103"/>
          <p:cNvSpPr/>
          <p:nvPr/>
        </p:nvSpPr>
        <p:spPr>
          <a:xfrm>
            <a:off x="4457880" y="1844640"/>
            <a:ext cx="7673760" cy="1144800"/>
          </a:xfrm>
          <a:prstGeom prst="rect">
            <a:avLst/>
          </a:prstGeom>
          <a:noFill/>
          <a:ln w="9360">
            <a:solidFill>
              <a:srgbClr val="0070c0"/>
            </a:solidFill>
            <a:round/>
          </a:ln>
        </p:spPr>
        <p:style>
          <a:lnRef idx="0"/>
          <a:fillRef idx="0"/>
          <a:effectRef idx="0"/>
          <a:fontRef idx="minor"/>
        </p:style>
        <p:txBody>
          <a:bodyPr lIns="90000" rIns="90000" tIns="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zh-CN" sz="2000" spc="-1" strike="noStrike">
                <a:solidFill>
                  <a:srgbClr val="000000"/>
                </a:solidFill>
                <a:latin typeface="Arial"/>
                <a:ea typeface="宋体"/>
              </a:rPr>
              <a:t>例 </a:t>
            </a:r>
            <a:r>
              <a:rPr b="1" lang="en-US" sz="2000" spc="-1" strike="noStrike">
                <a:solidFill>
                  <a:srgbClr val="000000"/>
                </a:solidFill>
                <a:latin typeface="Arial"/>
              </a:rPr>
              <a:t>6-4</a:t>
            </a:r>
            <a:r>
              <a:rPr b="1" lang="en-US" sz="2000" spc="-1" strike="noStrike">
                <a:solidFill>
                  <a:srgbClr val="000000"/>
                </a:solidFill>
                <a:latin typeface="Arial"/>
              </a:rPr>
              <a:t>】</a:t>
            </a:r>
            <a:r>
              <a:rPr b="1" lang="en-US" sz="2000" spc="-1" strike="noStrike">
                <a:solidFill>
                  <a:srgbClr val="000000"/>
                </a:solidFill>
                <a:latin typeface="Arial"/>
              </a:rPr>
              <a:t>2019 </a:t>
            </a:r>
            <a:r>
              <a:rPr b="1" lang="zh-CN" sz="2000" spc="-1" strike="noStrike">
                <a:solidFill>
                  <a:srgbClr val="000000"/>
                </a:solidFill>
                <a:latin typeface="Arial"/>
                <a:ea typeface="宋体"/>
              </a:rPr>
              <a:t>年 </a:t>
            </a:r>
            <a:r>
              <a:rPr b="1" lang="en-US" sz="2000" spc="-1" strike="noStrike">
                <a:solidFill>
                  <a:srgbClr val="000000"/>
                </a:solidFill>
                <a:latin typeface="Arial"/>
              </a:rPr>
              <a:t>3 </a:t>
            </a:r>
            <a:r>
              <a:rPr b="1" lang="zh-CN" sz="2000" spc="-1" strike="noStrike">
                <a:solidFill>
                  <a:srgbClr val="000000"/>
                </a:solidFill>
                <a:latin typeface="Arial"/>
                <a:ea typeface="宋体"/>
              </a:rPr>
              <a:t>月 </a:t>
            </a:r>
            <a:r>
              <a:rPr b="1" lang="en-US" sz="2000" spc="-1" strike="noStrike">
                <a:solidFill>
                  <a:srgbClr val="000000"/>
                </a:solidFill>
                <a:latin typeface="Arial"/>
              </a:rPr>
              <a:t>10 </a:t>
            </a:r>
            <a:r>
              <a:rPr b="1" lang="zh-CN" sz="2000" spc="-1" strike="noStrike">
                <a:solidFill>
                  <a:srgbClr val="000000"/>
                </a:solidFill>
                <a:latin typeface="Arial"/>
                <a:ea typeface="宋体"/>
              </a:rPr>
              <a:t>日，审计人员张三受托对光华公司 </a:t>
            </a:r>
            <a:r>
              <a:rPr b="1" lang="en-US" sz="2000" spc="-1" strike="noStrike">
                <a:solidFill>
                  <a:srgbClr val="000000"/>
                </a:solidFill>
                <a:latin typeface="Arial"/>
              </a:rPr>
              <a:t>2018 </a:t>
            </a:r>
            <a:r>
              <a:rPr b="1" lang="zh-CN" sz="2000" spc="-1" strike="noStrike">
                <a:solidFill>
                  <a:srgbClr val="000000"/>
                </a:solidFill>
                <a:latin typeface="Arial"/>
                <a:ea typeface="宋体"/>
              </a:rPr>
              <a:t>年 </a:t>
            </a:r>
            <a:r>
              <a:rPr b="1" lang="en-US" sz="2000" spc="-1" strike="noStrike">
                <a:solidFill>
                  <a:srgbClr val="000000"/>
                </a:solidFill>
                <a:latin typeface="Arial"/>
              </a:rPr>
              <a:t>12 </a:t>
            </a:r>
            <a:r>
              <a:rPr b="1" lang="zh-CN" sz="2000" spc="-1" strike="noStrike">
                <a:solidFill>
                  <a:srgbClr val="000000"/>
                </a:solidFill>
                <a:latin typeface="Arial"/>
                <a:ea typeface="宋体"/>
              </a:rPr>
              <a:t>月 </a:t>
            </a:r>
            <a:r>
              <a:rPr b="1" lang="en-US" sz="2000" spc="-1" strike="noStrike">
                <a:solidFill>
                  <a:srgbClr val="000000"/>
                </a:solidFill>
                <a:latin typeface="Arial"/>
              </a:rPr>
              <a:t>31 </a:t>
            </a:r>
            <a:r>
              <a:rPr b="1" lang="zh-CN" sz="2000" spc="-1" strike="noStrike">
                <a:solidFill>
                  <a:srgbClr val="000000"/>
                </a:solidFill>
                <a:latin typeface="Arial"/>
                <a:ea typeface="宋体"/>
              </a:rPr>
              <a:t>日会计报表项目</a:t>
            </a:r>
            <a:r>
              <a:rPr b="1" lang="en-US" sz="2000" spc="-1" strike="noStrike">
                <a:solidFill>
                  <a:srgbClr val="000000"/>
                </a:solidFill>
                <a:latin typeface="Arial"/>
              </a:rPr>
              <a:t>——</a:t>
            </a:r>
            <a:r>
              <a:rPr b="1" lang="zh-CN" sz="2000" spc="-1" strike="noStrike">
                <a:solidFill>
                  <a:srgbClr val="000000"/>
                </a:solidFill>
                <a:latin typeface="Arial"/>
                <a:ea typeface="宋体"/>
              </a:rPr>
              <a:t>固定资产进行审计，索取相关明细账后，复核相关数据，填 制明细表如表 </a:t>
            </a:r>
            <a:r>
              <a:rPr b="1" lang="en-US" sz="2000" spc="-1" strike="noStrike">
                <a:solidFill>
                  <a:srgbClr val="000000"/>
                </a:solidFill>
                <a:latin typeface="Arial"/>
              </a:rPr>
              <a:t>6-10 </a:t>
            </a:r>
            <a:r>
              <a:rPr b="1" lang="zh-CN" sz="2000" spc="-1" strike="noStrike">
                <a:solidFill>
                  <a:srgbClr val="000000"/>
                </a:solidFill>
                <a:latin typeface="Arial"/>
                <a:ea typeface="宋体"/>
              </a:rPr>
              <a:t>所示。</a:t>
            </a:r>
            <a:r>
              <a:rPr b="1" lang="en-US" sz="2000" spc="-1" strike="noStrike">
                <a:solidFill>
                  <a:srgbClr val="000000"/>
                </a:solidFill>
                <a:latin typeface="Arial"/>
              </a:rPr>
              <a:t>P161</a:t>
            </a:r>
            <a:endParaRPr b="1" lang="en-US" sz="2000" spc="-1" strike="noStrike">
              <a:solidFill>
                <a:srgbClr val="000000"/>
              </a:solidFill>
              <a:latin typeface="Arial"/>
            </a:endParaRPr>
          </a:p>
        </p:txBody>
      </p:sp>
      <p:grpSp>
        <p:nvGrpSpPr>
          <p:cNvPr id="2298" name="组合 53"/>
          <p:cNvGrpSpPr/>
          <p:nvPr/>
        </p:nvGrpSpPr>
        <p:grpSpPr>
          <a:xfrm>
            <a:off x="3305160" y="5302080"/>
            <a:ext cx="700200" cy="725760"/>
            <a:chOff x="3305160" y="5302080"/>
            <a:chExt cx="700200" cy="725760"/>
          </a:xfrm>
        </p:grpSpPr>
        <p:sp>
          <p:nvSpPr>
            <p:cNvPr id="2299" name="椭圆 54"/>
            <p:cNvSpPr/>
            <p:nvPr/>
          </p:nvSpPr>
          <p:spPr>
            <a:xfrm>
              <a:off x="3305160" y="5302080"/>
              <a:ext cx="700200" cy="725760"/>
            </a:xfrm>
            <a:prstGeom prst="ellipse">
              <a:avLst/>
            </a:prstGeom>
            <a:solidFill>
              <a:srgbClr val="1aa3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0" name="任意多边形 46"/>
            <p:cNvSpPr/>
            <p:nvPr/>
          </p:nvSpPr>
          <p:spPr>
            <a:xfrm>
              <a:off x="3490920" y="5502600"/>
              <a:ext cx="328320" cy="323280"/>
            </a:xfrm>
            <a:custGeom>
              <a:avLst/>
              <a:gdLst/>
              <a:ahLst/>
              <a:rect l="l" t="t" r="r" b="b"/>
              <a:pathLst>
                <a:path w="461" h="443">
                  <a:moveTo>
                    <a:pt x="363" y="336"/>
                  </a:moveTo>
                  <a:lnTo>
                    <a:pt x="363" y="336"/>
                  </a:lnTo>
                  <a:cubicBezTo>
                    <a:pt x="301" y="310"/>
                    <a:pt x="284" y="292"/>
                    <a:pt x="284" y="248"/>
                  </a:cubicBezTo>
                  <a:cubicBezTo>
                    <a:pt x="284" y="230"/>
                    <a:pt x="301" y="239"/>
                    <a:pt x="310" y="195"/>
                  </a:cubicBezTo>
                  <a:cubicBezTo>
                    <a:pt x="310" y="176"/>
                    <a:pt x="328" y="195"/>
                    <a:pt x="328" y="151"/>
                  </a:cubicBezTo>
                  <a:cubicBezTo>
                    <a:pt x="328" y="132"/>
                    <a:pt x="319" y="132"/>
                    <a:pt x="319" y="132"/>
                  </a:cubicBezTo>
                  <a:cubicBezTo>
                    <a:pt x="319" y="132"/>
                    <a:pt x="328" y="106"/>
                    <a:pt x="328" y="88"/>
                  </a:cubicBezTo>
                  <a:cubicBezTo>
                    <a:pt x="328" y="61"/>
                    <a:pt x="319" y="0"/>
                    <a:pt x="230" y="0"/>
                  </a:cubicBezTo>
                  <a:cubicBezTo>
                    <a:pt x="141" y="0"/>
                    <a:pt x="132" y="61"/>
                    <a:pt x="132" y="88"/>
                  </a:cubicBezTo>
                  <a:cubicBezTo>
                    <a:pt x="132" y="106"/>
                    <a:pt x="141" y="132"/>
                    <a:pt x="141" y="132"/>
                  </a:cubicBezTo>
                  <a:cubicBezTo>
                    <a:pt x="141" y="132"/>
                    <a:pt x="132" y="132"/>
                    <a:pt x="132" y="151"/>
                  </a:cubicBezTo>
                  <a:cubicBezTo>
                    <a:pt x="132" y="195"/>
                    <a:pt x="150" y="176"/>
                    <a:pt x="150" y="195"/>
                  </a:cubicBezTo>
                  <a:cubicBezTo>
                    <a:pt x="159" y="239"/>
                    <a:pt x="177" y="230"/>
                    <a:pt x="177" y="248"/>
                  </a:cubicBezTo>
                  <a:cubicBezTo>
                    <a:pt x="177" y="292"/>
                    <a:pt x="159" y="310"/>
                    <a:pt x="97" y="336"/>
                  </a:cubicBezTo>
                  <a:cubicBezTo>
                    <a:pt x="35" y="354"/>
                    <a:pt x="0" y="380"/>
                    <a:pt x="0" y="398"/>
                  </a:cubicBezTo>
                  <a:cubicBezTo>
                    <a:pt x="0" y="407"/>
                    <a:pt x="0" y="442"/>
                    <a:pt x="0" y="442"/>
                  </a:cubicBezTo>
                  <a:cubicBezTo>
                    <a:pt x="230" y="442"/>
                    <a:pt x="230" y="442"/>
                    <a:pt x="230" y="442"/>
                  </a:cubicBezTo>
                  <a:cubicBezTo>
                    <a:pt x="460" y="442"/>
                    <a:pt x="460" y="442"/>
                    <a:pt x="460" y="442"/>
                  </a:cubicBezTo>
                  <a:cubicBezTo>
                    <a:pt x="460" y="442"/>
                    <a:pt x="460" y="407"/>
                    <a:pt x="460" y="398"/>
                  </a:cubicBezTo>
                  <a:cubicBezTo>
                    <a:pt x="460" y="380"/>
                    <a:pt x="425" y="354"/>
                    <a:pt x="363" y="336"/>
                  </a:cubicBez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01" name="组合 56"/>
          <p:cNvGrpSpPr/>
          <p:nvPr/>
        </p:nvGrpSpPr>
        <p:grpSpPr>
          <a:xfrm>
            <a:off x="3330720" y="3610080"/>
            <a:ext cx="730080" cy="725400"/>
            <a:chOff x="3330720" y="3610080"/>
            <a:chExt cx="730080" cy="725400"/>
          </a:xfrm>
        </p:grpSpPr>
        <p:sp>
          <p:nvSpPr>
            <p:cNvPr id="2302" name="椭圆 57"/>
            <p:cNvSpPr/>
            <p:nvPr/>
          </p:nvSpPr>
          <p:spPr>
            <a:xfrm>
              <a:off x="3330720" y="3610080"/>
              <a:ext cx="730080" cy="725400"/>
            </a:xfrm>
            <a:prstGeom prst="ellipse">
              <a:avLst/>
            </a:prstGeom>
            <a:solidFill>
              <a:srgbClr val="914f96"/>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3" name="任意多边形 42"/>
            <p:cNvSpPr/>
            <p:nvPr/>
          </p:nvSpPr>
          <p:spPr>
            <a:xfrm>
              <a:off x="3537360" y="3846960"/>
              <a:ext cx="316440" cy="252360"/>
            </a:xfrm>
            <a:custGeom>
              <a:avLst/>
              <a:gdLst/>
              <a:ahLst/>
              <a:rect l="l" t="t" r="r" b="b"/>
              <a:pathLst>
                <a:path w="497" h="400">
                  <a:moveTo>
                    <a:pt x="443" y="0"/>
                  </a:moveTo>
                  <a:lnTo>
                    <a:pt x="443" y="0"/>
                  </a:lnTo>
                  <a:cubicBezTo>
                    <a:pt x="53" y="0"/>
                    <a:pt x="53" y="0"/>
                    <a:pt x="53" y="0"/>
                  </a:cubicBezTo>
                  <a:cubicBezTo>
                    <a:pt x="17" y="0"/>
                    <a:pt x="0" y="18"/>
                    <a:pt x="0" y="44"/>
                  </a:cubicBezTo>
                  <a:cubicBezTo>
                    <a:pt x="0" y="346"/>
                    <a:pt x="0" y="346"/>
                    <a:pt x="0" y="346"/>
                  </a:cubicBezTo>
                  <a:cubicBezTo>
                    <a:pt x="0" y="373"/>
                    <a:pt x="17" y="399"/>
                    <a:pt x="53" y="399"/>
                  </a:cubicBezTo>
                  <a:cubicBezTo>
                    <a:pt x="443" y="399"/>
                    <a:pt x="443" y="399"/>
                    <a:pt x="443" y="399"/>
                  </a:cubicBezTo>
                  <a:cubicBezTo>
                    <a:pt x="470" y="399"/>
                    <a:pt x="496" y="373"/>
                    <a:pt x="496" y="346"/>
                  </a:cubicBezTo>
                  <a:cubicBezTo>
                    <a:pt x="496" y="44"/>
                    <a:pt x="496" y="44"/>
                    <a:pt x="496" y="44"/>
                  </a:cubicBezTo>
                  <a:cubicBezTo>
                    <a:pt x="496" y="18"/>
                    <a:pt x="470" y="0"/>
                    <a:pt x="443" y="0"/>
                  </a:cubicBezTo>
                  <a:close/>
                  <a:moveTo>
                    <a:pt x="443" y="346"/>
                  </a:moveTo>
                  <a:lnTo>
                    <a:pt x="443" y="346"/>
                  </a:lnTo>
                  <a:cubicBezTo>
                    <a:pt x="53" y="346"/>
                    <a:pt x="53" y="346"/>
                    <a:pt x="53" y="346"/>
                  </a:cubicBezTo>
                  <a:cubicBezTo>
                    <a:pt x="53" y="44"/>
                    <a:pt x="53" y="44"/>
                    <a:pt x="53" y="44"/>
                  </a:cubicBezTo>
                  <a:cubicBezTo>
                    <a:pt x="443" y="44"/>
                    <a:pt x="443" y="44"/>
                    <a:pt x="443" y="44"/>
                  </a:cubicBezTo>
                  <a:lnTo>
                    <a:pt x="443" y="346"/>
                  </a:lnTo>
                  <a:close/>
                  <a:moveTo>
                    <a:pt x="222" y="249"/>
                  </a:moveTo>
                  <a:lnTo>
                    <a:pt x="222" y="249"/>
                  </a:lnTo>
                  <a:cubicBezTo>
                    <a:pt x="97" y="249"/>
                    <a:pt x="97" y="249"/>
                    <a:pt x="97" y="249"/>
                  </a:cubicBezTo>
                  <a:cubicBezTo>
                    <a:pt x="97" y="293"/>
                    <a:pt x="97" y="293"/>
                    <a:pt x="97" y="293"/>
                  </a:cubicBezTo>
                  <a:cubicBezTo>
                    <a:pt x="222" y="293"/>
                    <a:pt x="222" y="293"/>
                    <a:pt x="222" y="293"/>
                  </a:cubicBezTo>
                  <a:lnTo>
                    <a:pt x="222" y="249"/>
                  </a:lnTo>
                  <a:close/>
                  <a:moveTo>
                    <a:pt x="222" y="178"/>
                  </a:moveTo>
                  <a:lnTo>
                    <a:pt x="222" y="178"/>
                  </a:lnTo>
                  <a:cubicBezTo>
                    <a:pt x="97" y="178"/>
                    <a:pt x="97" y="178"/>
                    <a:pt x="97" y="178"/>
                  </a:cubicBezTo>
                  <a:cubicBezTo>
                    <a:pt x="97" y="222"/>
                    <a:pt x="97" y="222"/>
                    <a:pt x="97" y="222"/>
                  </a:cubicBezTo>
                  <a:cubicBezTo>
                    <a:pt x="222" y="222"/>
                    <a:pt x="222" y="222"/>
                    <a:pt x="222" y="222"/>
                  </a:cubicBezTo>
                  <a:lnTo>
                    <a:pt x="222" y="178"/>
                  </a:lnTo>
                  <a:close/>
                  <a:moveTo>
                    <a:pt x="222" y="98"/>
                  </a:moveTo>
                  <a:lnTo>
                    <a:pt x="222" y="98"/>
                  </a:lnTo>
                  <a:cubicBezTo>
                    <a:pt x="97" y="98"/>
                    <a:pt x="97" y="98"/>
                    <a:pt x="97" y="98"/>
                  </a:cubicBezTo>
                  <a:cubicBezTo>
                    <a:pt x="97" y="143"/>
                    <a:pt x="97" y="143"/>
                    <a:pt x="97" y="143"/>
                  </a:cubicBezTo>
                  <a:cubicBezTo>
                    <a:pt x="222" y="143"/>
                    <a:pt x="222" y="143"/>
                    <a:pt x="222" y="143"/>
                  </a:cubicBezTo>
                  <a:lnTo>
                    <a:pt x="222" y="98"/>
                  </a:lnTo>
                  <a:close/>
                  <a:moveTo>
                    <a:pt x="389" y="257"/>
                  </a:moveTo>
                  <a:lnTo>
                    <a:pt x="389" y="257"/>
                  </a:lnTo>
                  <a:cubicBezTo>
                    <a:pt x="389" y="257"/>
                    <a:pt x="354" y="249"/>
                    <a:pt x="354" y="231"/>
                  </a:cubicBezTo>
                  <a:cubicBezTo>
                    <a:pt x="354" y="204"/>
                    <a:pt x="381" y="196"/>
                    <a:pt x="381" y="151"/>
                  </a:cubicBezTo>
                  <a:cubicBezTo>
                    <a:pt x="381" y="125"/>
                    <a:pt x="372" y="98"/>
                    <a:pt x="336" y="98"/>
                  </a:cubicBezTo>
                  <a:cubicBezTo>
                    <a:pt x="301" y="98"/>
                    <a:pt x="292" y="125"/>
                    <a:pt x="292" y="151"/>
                  </a:cubicBezTo>
                  <a:cubicBezTo>
                    <a:pt x="292" y="196"/>
                    <a:pt x="319" y="204"/>
                    <a:pt x="319" y="231"/>
                  </a:cubicBezTo>
                  <a:cubicBezTo>
                    <a:pt x="319" y="249"/>
                    <a:pt x="275" y="257"/>
                    <a:pt x="275" y="257"/>
                  </a:cubicBezTo>
                  <a:lnTo>
                    <a:pt x="275" y="293"/>
                  </a:lnTo>
                  <a:cubicBezTo>
                    <a:pt x="398" y="293"/>
                    <a:pt x="398" y="293"/>
                    <a:pt x="398" y="293"/>
                  </a:cubicBezTo>
                  <a:cubicBezTo>
                    <a:pt x="398" y="293"/>
                    <a:pt x="398" y="257"/>
                    <a:pt x="389" y="25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04" name="组合 60"/>
          <p:cNvGrpSpPr/>
          <p:nvPr/>
        </p:nvGrpSpPr>
        <p:grpSpPr>
          <a:xfrm>
            <a:off x="3282840" y="2173320"/>
            <a:ext cx="684360" cy="655560"/>
            <a:chOff x="3282840" y="2173320"/>
            <a:chExt cx="684360" cy="655560"/>
          </a:xfrm>
        </p:grpSpPr>
        <p:sp>
          <p:nvSpPr>
            <p:cNvPr id="2305" name="椭圆 61"/>
            <p:cNvSpPr/>
            <p:nvPr/>
          </p:nvSpPr>
          <p:spPr>
            <a:xfrm>
              <a:off x="3282840" y="2173320"/>
              <a:ext cx="684360" cy="655560"/>
            </a:xfrm>
            <a:prstGeom prst="ellipse">
              <a:avLst/>
            </a:prstGeom>
            <a:solidFill>
              <a:srgbClr val="1f74a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6" name="任意多边形 44"/>
            <p:cNvSpPr/>
            <p:nvPr/>
          </p:nvSpPr>
          <p:spPr>
            <a:xfrm>
              <a:off x="3439440" y="2358000"/>
              <a:ext cx="370800" cy="285480"/>
            </a:xfrm>
            <a:custGeom>
              <a:avLst/>
              <a:gdLst/>
              <a:ahLst/>
              <a:rect l="l" t="t" r="r" b="b"/>
              <a:pathLst>
                <a:path w="497" h="400">
                  <a:moveTo>
                    <a:pt x="169" y="196"/>
                  </a:moveTo>
                  <a:lnTo>
                    <a:pt x="169" y="196"/>
                  </a:lnTo>
                  <a:cubicBezTo>
                    <a:pt x="169" y="240"/>
                    <a:pt x="204" y="275"/>
                    <a:pt x="248" y="275"/>
                  </a:cubicBezTo>
                  <a:cubicBezTo>
                    <a:pt x="292" y="275"/>
                    <a:pt x="328" y="240"/>
                    <a:pt x="328" y="196"/>
                  </a:cubicBezTo>
                  <a:cubicBezTo>
                    <a:pt x="328" y="151"/>
                    <a:pt x="292" y="116"/>
                    <a:pt x="248" y="116"/>
                  </a:cubicBezTo>
                  <a:cubicBezTo>
                    <a:pt x="204" y="116"/>
                    <a:pt x="169" y="151"/>
                    <a:pt x="169" y="196"/>
                  </a:cubicBezTo>
                  <a:close/>
                  <a:moveTo>
                    <a:pt x="116" y="169"/>
                  </a:moveTo>
                  <a:lnTo>
                    <a:pt x="116" y="169"/>
                  </a:lnTo>
                  <a:cubicBezTo>
                    <a:pt x="124" y="107"/>
                    <a:pt x="186" y="63"/>
                    <a:pt x="248" y="63"/>
                  </a:cubicBezTo>
                  <a:cubicBezTo>
                    <a:pt x="284" y="63"/>
                    <a:pt x="319" y="71"/>
                    <a:pt x="345" y="98"/>
                  </a:cubicBezTo>
                  <a:cubicBezTo>
                    <a:pt x="354" y="107"/>
                    <a:pt x="381" y="107"/>
                    <a:pt x="390" y="98"/>
                  </a:cubicBezTo>
                  <a:cubicBezTo>
                    <a:pt x="399" y="89"/>
                    <a:pt x="399" y="71"/>
                    <a:pt x="390" y="54"/>
                  </a:cubicBezTo>
                  <a:cubicBezTo>
                    <a:pt x="354" y="18"/>
                    <a:pt x="301" y="0"/>
                    <a:pt x="248" y="0"/>
                  </a:cubicBezTo>
                  <a:cubicBezTo>
                    <a:pt x="160" y="0"/>
                    <a:pt x="80" y="54"/>
                    <a:pt x="62" y="143"/>
                  </a:cubicBezTo>
                  <a:cubicBezTo>
                    <a:pt x="0" y="143"/>
                    <a:pt x="0" y="143"/>
                    <a:pt x="0" y="143"/>
                  </a:cubicBezTo>
                  <a:cubicBezTo>
                    <a:pt x="0" y="196"/>
                    <a:pt x="0" y="196"/>
                    <a:pt x="0" y="196"/>
                  </a:cubicBezTo>
                  <a:cubicBezTo>
                    <a:pt x="80" y="196"/>
                    <a:pt x="80" y="196"/>
                    <a:pt x="80" y="196"/>
                  </a:cubicBezTo>
                  <a:cubicBezTo>
                    <a:pt x="107" y="196"/>
                    <a:pt x="107" y="178"/>
                    <a:pt x="116" y="169"/>
                  </a:cubicBezTo>
                  <a:close/>
                  <a:moveTo>
                    <a:pt x="416" y="196"/>
                  </a:moveTo>
                  <a:lnTo>
                    <a:pt x="416" y="196"/>
                  </a:lnTo>
                  <a:cubicBezTo>
                    <a:pt x="390" y="196"/>
                    <a:pt x="390" y="222"/>
                    <a:pt x="381" y="231"/>
                  </a:cubicBezTo>
                  <a:cubicBezTo>
                    <a:pt x="372" y="293"/>
                    <a:pt x="319" y="337"/>
                    <a:pt x="248" y="337"/>
                  </a:cubicBezTo>
                  <a:cubicBezTo>
                    <a:pt x="213" y="337"/>
                    <a:pt x="177" y="319"/>
                    <a:pt x="151" y="293"/>
                  </a:cubicBezTo>
                  <a:cubicBezTo>
                    <a:pt x="142" y="284"/>
                    <a:pt x="116" y="284"/>
                    <a:pt x="107" y="293"/>
                  </a:cubicBezTo>
                  <a:cubicBezTo>
                    <a:pt x="97" y="310"/>
                    <a:pt x="97" y="328"/>
                    <a:pt x="107" y="337"/>
                  </a:cubicBezTo>
                  <a:cubicBezTo>
                    <a:pt x="142" y="373"/>
                    <a:pt x="195" y="399"/>
                    <a:pt x="248" y="399"/>
                  </a:cubicBezTo>
                  <a:cubicBezTo>
                    <a:pt x="337" y="399"/>
                    <a:pt x="416" y="337"/>
                    <a:pt x="435" y="257"/>
                  </a:cubicBezTo>
                  <a:cubicBezTo>
                    <a:pt x="496" y="257"/>
                    <a:pt x="496" y="257"/>
                    <a:pt x="496" y="257"/>
                  </a:cubicBezTo>
                  <a:cubicBezTo>
                    <a:pt x="496" y="196"/>
                    <a:pt x="496" y="196"/>
                    <a:pt x="496" y="196"/>
                  </a:cubicBezTo>
                  <a:lnTo>
                    <a:pt x="416" y="19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307" name="文本框 31" descr=""/>
          <p:cNvPicPr/>
          <p:nvPr/>
        </p:nvPicPr>
        <p:blipFill>
          <a:blip r:embed="rId1"/>
          <a:stretch/>
        </p:blipFill>
        <p:spPr>
          <a:xfrm>
            <a:off x="2479680" y="177840"/>
            <a:ext cx="7392960" cy="687240"/>
          </a:xfrm>
          <a:prstGeom prst="rect">
            <a:avLst/>
          </a:prstGeom>
          <a:ln w="0">
            <a:noFill/>
          </a:ln>
        </p:spPr>
      </p:pic>
      <p:sp>
        <p:nvSpPr>
          <p:cNvPr id="2308" name="箭头: 右 1"/>
          <p:cNvSpPr/>
          <p:nvPr/>
        </p:nvSpPr>
        <p:spPr>
          <a:xfrm>
            <a:off x="4027320" y="2340000"/>
            <a:ext cx="339840" cy="304920"/>
          </a:xfrm>
          <a:prstGeom prst="rightArrow">
            <a:avLst>
              <a:gd name="adj1" fmla="val 35157"/>
              <a:gd name="adj2" fmla="val 49993"/>
            </a:avLst>
          </a:prstGeom>
          <a:solidFill>
            <a:srgbClr val="5b9bd4"/>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9" name="箭头: 右 50"/>
          <p:cNvSpPr/>
          <p:nvPr/>
        </p:nvSpPr>
        <p:spPr>
          <a:xfrm>
            <a:off x="4081320" y="3787920"/>
            <a:ext cx="339840" cy="304560"/>
          </a:xfrm>
          <a:prstGeom prst="rightArrow">
            <a:avLst>
              <a:gd name="adj1" fmla="val 35157"/>
              <a:gd name="adj2" fmla="val 50052"/>
            </a:avLst>
          </a:prstGeom>
          <a:solidFill>
            <a:srgbClr val="914f96"/>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0" name="箭头: 右 51"/>
          <p:cNvSpPr/>
          <p:nvPr/>
        </p:nvSpPr>
        <p:spPr>
          <a:xfrm>
            <a:off x="4027320" y="5553000"/>
            <a:ext cx="339840" cy="304920"/>
          </a:xfrm>
          <a:prstGeom prst="rightArrow">
            <a:avLst>
              <a:gd name="adj1" fmla="val 35157"/>
              <a:gd name="adj2" fmla="val 49993"/>
            </a:avLst>
          </a:prstGeom>
          <a:solidFill>
            <a:srgbClr val="5b9bd4"/>
          </a:solidFill>
          <a:ln w="12600">
            <a:solidFill>
              <a:srgbClr val="4171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dur="indefinite" nodeType="afterEffect" fill="hold" presetClass="entr" presetID="29">
                                  <p:stCondLst>
                                    <p:cond delay="0"/>
                                  </p:stCondLst>
                                  <p:childTnLst>
                                    <p:set>
                                      <p:cBhvr>
                                        <p:cTn id="184" dur="1" fill="hold">
                                          <p:stCondLst>
                                            <p:cond delay="0"/>
                                          </p:stCondLst>
                                        </p:cTn>
                                        <p:tgtEl>
                                          <p:spTgt spid="2262"/>
                                        </p:tgtEl>
                                        <p:attrNameLst>
                                          <p:attrName>style.visibility</p:attrName>
                                        </p:attrNameLst>
                                      </p:cBhvr>
                                      <p:to>
                                        <p:strVal val="visible"/>
                                      </p:to>
                                    </p:set>
                                    <p:anim calcmode="lin" valueType="num">
                                      <p:cBhvr additive="repl">
                                        <p:cTn id="185" dur="1000" fill="hold"/>
                                        <p:tgtEl>
                                          <p:spTgt spid="2262"/>
                                        </p:tgtEl>
                                        <p:attrNameLst>
                                          <p:attrName>ppt_x</p:attrName>
                                        </p:attrNameLst>
                                      </p:cBhvr>
                                      <p:tavLst>
                                        <p:tav tm="0">
                                          <p:val>
                                            <p:strVal val="#ppt_x-.2"/>
                                          </p:val>
                                        </p:tav>
                                        <p:tav tm="100000">
                                          <p:val>
                                            <p:strVal val="#ppt_x"/>
                                          </p:val>
                                        </p:tav>
                                      </p:tavLst>
                                    </p:anim>
                                    <p:anim calcmode="lin" valueType="num">
                                      <p:cBhvr additive="repl">
                                        <p:cTn id="186" dur="1000" fill="hold"/>
                                        <p:tgtEl>
                                          <p:spTgt spid="2262"/>
                                        </p:tgtEl>
                                        <p:attrNameLst>
                                          <p:attrName>ppt_y</p:attrName>
                                        </p:attrNameLst>
                                      </p:cBhvr>
                                      <p:tavLst>
                                        <p:tav tm="0">
                                          <p:val>
                                            <p:strVal val="#ppt_y"/>
                                          </p:val>
                                        </p:tav>
                                        <p:tav tm="100000">
                                          <p:val>
                                            <p:strVal val="#ppt_y"/>
                                          </p:val>
                                        </p:tav>
                                      </p:tavLst>
                                    </p:anim>
                                    <p:animEffect filter="wipe(right)" transition="in">
                                      <p:cBhvr additive="repl">
                                        <p:cTn id="187" dur="1000"/>
                                        <p:tgtEl>
                                          <p:spTgt spid="2262"/>
                                        </p:tgtEl>
                                      </p:cBhvr>
                                    </p:animEffect>
                                  </p:childTnLst>
                                </p:cTn>
                              </p:par>
                            </p:childTnLst>
                          </p:cTn>
                        </p:par>
                        <p:par>
                          <p:cTn id="188" fill="hold">
                            <p:stCondLst>
                              <p:cond delay="1000"/>
                            </p:stCondLst>
                            <p:childTnLst>
                              <p:par>
                                <p:cTn id="189" dur="indefinite" nodeType="afterEffect" fill="hold" presetClass="entr" presetID="12" presetSubtype="8">
                                  <p:stCondLst>
                                    <p:cond delay="0"/>
                                  </p:stCondLst>
                                  <p:childTnLst>
                                    <p:set>
                                      <p:cBhvr>
                                        <p:cTn id="190" dur="1000" fill="hold">
                                          <p:stCondLst>
                                            <p:cond delay="0"/>
                                          </p:stCondLst>
                                        </p:cTn>
                                        <p:tgtEl>
                                          <p:spTgt spid="2297"/>
                                        </p:tgtEl>
                                        <p:attrNameLst>
                                          <p:attrName>style.visibility</p:attrName>
                                        </p:attrNameLst>
                                      </p:cBhvr>
                                      <p:to>
                                        <p:strVal val="visible"/>
                                      </p:to>
                                    </p:set>
                                    <p:anim calcmode="lin" valueType="num">
                                      <p:cBhvr additive="repl">
                                        <p:cTn id="191" dur="1000"/>
                                        <p:tgtEl>
                                          <p:spTgt spid="2297"/>
                                        </p:tgtEl>
                                        <p:attrNameLst>
                                          <p:attrName>ppt_x</p:attrName>
                                        </p:attrNameLst>
                                      </p:cBhvr>
                                      <p:tavLst>
                                        <p:tav tm="0">
                                          <p:val>
                                            <p:strVal val="#ppt_x-#ppt_w*1.125000"/>
                                          </p:val>
                                        </p:tav>
                                        <p:tav tm="100000">
                                          <p:val>
                                            <p:strVal val="#ppt_x"/>
                                          </p:val>
                                        </p:tav>
                                      </p:tavLst>
                                    </p:anim>
                                    <p:animEffect filter="wipe(right)" transition="in">
                                      <p:cBhvr additive="repl">
                                        <p:cTn id="192" dur="1000"/>
                                        <p:tgtEl>
                                          <p:spTgt spid="2297"/>
                                        </p:tgtEl>
                                      </p:cBhvr>
                                    </p:animEffect>
                                  </p:childTnLst>
                                </p:cTn>
                              </p:par>
                            </p:childTnLst>
                          </p:cTn>
                        </p:par>
                        <p:par>
                          <p:cTn id="193" fill="hold">
                            <p:stCondLst>
                              <p:cond delay="2000"/>
                            </p:stCondLst>
                            <p:childTnLst>
                              <p:par>
                                <p:cTn id="194" dur="indefinite" nodeType="afterEffect" fill="hold" presetClass="entr" presetID="12" presetSubtype="8">
                                  <p:stCondLst>
                                    <p:cond delay="0"/>
                                  </p:stCondLst>
                                  <p:childTnLst>
                                    <p:set>
                                      <p:cBhvr>
                                        <p:cTn id="195" dur="1000" fill="hold">
                                          <p:stCondLst>
                                            <p:cond delay="0"/>
                                          </p:stCondLst>
                                        </p:cTn>
                                        <p:tgtEl>
                                          <p:spTgt spid="2296"/>
                                        </p:tgtEl>
                                        <p:attrNameLst>
                                          <p:attrName>style.visibility</p:attrName>
                                        </p:attrNameLst>
                                      </p:cBhvr>
                                      <p:to>
                                        <p:strVal val="visible"/>
                                      </p:to>
                                    </p:set>
                                    <p:anim calcmode="lin" valueType="num">
                                      <p:cBhvr additive="repl">
                                        <p:cTn id="196" dur="1000"/>
                                        <p:tgtEl>
                                          <p:spTgt spid="2296"/>
                                        </p:tgtEl>
                                        <p:attrNameLst>
                                          <p:attrName>ppt_x</p:attrName>
                                        </p:attrNameLst>
                                      </p:cBhvr>
                                      <p:tavLst>
                                        <p:tav tm="0">
                                          <p:val>
                                            <p:strVal val="#ppt_x-#ppt_w*1.125000"/>
                                          </p:val>
                                        </p:tav>
                                        <p:tav tm="100000">
                                          <p:val>
                                            <p:strVal val="#ppt_x"/>
                                          </p:val>
                                        </p:tav>
                                      </p:tavLst>
                                    </p:anim>
                                    <p:animEffect filter="wipe(right)" transition="in">
                                      <p:cBhvr additive="repl">
                                        <p:cTn id="197" dur="1000"/>
                                        <p:tgtEl>
                                          <p:spTgt spid="2296"/>
                                        </p:tgtEl>
                                      </p:cBhvr>
                                    </p:animEffect>
                                  </p:childTnLst>
                                </p:cTn>
                              </p:par>
                            </p:childTnLst>
                          </p:cTn>
                        </p:par>
                        <p:par>
                          <p:cTn id="198" fill="hold">
                            <p:stCondLst>
                              <p:cond delay="3000"/>
                            </p:stCondLst>
                            <p:childTnLst>
                              <p:par>
                                <p:cTn id="199" dur="indefinite" nodeType="afterEffect" fill="hold" presetClass="entr" presetID="12" presetSubtype="8">
                                  <p:stCondLst>
                                    <p:cond delay="0"/>
                                  </p:stCondLst>
                                  <p:childTnLst>
                                    <p:set>
                                      <p:cBhvr>
                                        <p:cTn id="200" dur="1000" fill="hold">
                                          <p:stCondLst>
                                            <p:cond delay="0"/>
                                          </p:stCondLst>
                                        </p:cTn>
                                        <p:tgtEl>
                                          <p:spTgt spid="2295"/>
                                        </p:tgtEl>
                                        <p:attrNameLst>
                                          <p:attrName>style.visibility</p:attrName>
                                        </p:attrNameLst>
                                      </p:cBhvr>
                                      <p:to>
                                        <p:strVal val="visible"/>
                                      </p:to>
                                    </p:set>
                                    <p:anim calcmode="lin" valueType="num">
                                      <p:cBhvr additive="repl">
                                        <p:cTn id="201" dur="1000"/>
                                        <p:tgtEl>
                                          <p:spTgt spid="2295"/>
                                        </p:tgtEl>
                                        <p:attrNameLst>
                                          <p:attrName>ppt_x</p:attrName>
                                        </p:attrNameLst>
                                      </p:cBhvr>
                                      <p:tavLst>
                                        <p:tav tm="0">
                                          <p:val>
                                            <p:strVal val="#ppt_x-#ppt_w*1.125000"/>
                                          </p:val>
                                        </p:tav>
                                        <p:tav tm="100000">
                                          <p:val>
                                            <p:strVal val="#ppt_x"/>
                                          </p:val>
                                        </p:tav>
                                      </p:tavLst>
                                    </p:anim>
                                    <p:animEffect filter="wipe(right)" transition="in">
                                      <p:cBhvr additive="repl">
                                        <p:cTn id="202" dur="1000"/>
                                        <p:tgtEl>
                                          <p:spTgt spid="2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文本框 1"/>
          <p:cNvSpPr/>
          <p:nvPr/>
        </p:nvSpPr>
        <p:spPr>
          <a:xfrm>
            <a:off x="1055520" y="793800"/>
            <a:ext cx="10334880" cy="706680"/>
          </a:xfrm>
          <a:prstGeom prst="rect">
            <a:avLst/>
          </a:prstGeom>
          <a:noFill/>
          <a:ln w="0">
            <a:noFill/>
          </a:ln>
        </p:spPr>
        <p:style>
          <a:lnRef idx="0"/>
          <a:fillRef idx="0"/>
          <a:effectRef idx="0"/>
          <a:fontRef idx="minor"/>
        </p:style>
        <p:txBody>
          <a:bodyPr lIns="71640" rIns="71640" tIns="36360" bIns="36360" anchor="t">
            <a:spAutoFit/>
          </a:bodyPr>
          <a:p>
            <a:pPr lvl="1" marL="7452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grpSp>
        <p:nvGrpSpPr>
          <p:cNvPr id="2312" name="组合 24"/>
          <p:cNvGrpSpPr/>
          <p:nvPr/>
        </p:nvGrpSpPr>
        <p:grpSpPr>
          <a:xfrm>
            <a:off x="839880" y="1735200"/>
            <a:ext cx="5508000" cy="979200"/>
            <a:chOff x="839880" y="1735200"/>
            <a:chExt cx="5508000" cy="979200"/>
          </a:xfrm>
        </p:grpSpPr>
        <p:sp>
          <p:nvSpPr>
            <p:cNvPr id="2313" name="五边形 11"/>
            <p:cNvSpPr/>
            <p:nvPr/>
          </p:nvSpPr>
          <p:spPr>
            <a:xfrm>
              <a:off x="839880" y="1860480"/>
              <a:ext cx="1508040" cy="535320"/>
            </a:xfrm>
            <a:custGeom>
              <a:avLst/>
              <a:gdLst>
                <a:gd name="textAreaLeft" fmla="*/ 0 w 1508040"/>
                <a:gd name="textAreaRight" fmla="*/ 1508400 w 1508040"/>
                <a:gd name="textAreaTop" fmla="*/ 0 h 535320"/>
                <a:gd name="textAreaBottom" fmla="*/ 535680 h 535320"/>
              </a:gdLst>
              <a:ahLst/>
              <a:rect l="textAreaLeft" t="textAreaTop" r="textAreaRight" b="textAreaBottom"/>
              <a:pathLst>
                <a:path w="21600" h="21600">
                  <a:moveTo>
                    <a:pt x="0" y="0"/>
                  </a:moveTo>
                  <a:lnTo>
                    <a:pt x="15162" y="0"/>
                  </a:lnTo>
                  <a:lnTo>
                    <a:pt x="21600" y="10800"/>
                  </a:lnTo>
                  <a:lnTo>
                    <a:pt x="15162"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Arial"/>
                  <a:ea typeface="微软雅黑"/>
                </a:rPr>
                <a:t>一</a:t>
              </a:r>
              <a:endParaRPr b="1" lang="en-US" sz="2400" spc="-1" strike="noStrike">
                <a:solidFill>
                  <a:srgbClr val="000000"/>
                </a:solidFill>
                <a:latin typeface="Arial"/>
              </a:endParaRPr>
            </a:p>
          </p:txBody>
        </p:sp>
        <p:sp>
          <p:nvSpPr>
            <p:cNvPr id="2314" name="燕尾形箭头 21"/>
            <p:cNvSpPr/>
            <p:nvPr/>
          </p:nvSpPr>
          <p:spPr>
            <a:xfrm>
              <a:off x="1779840" y="1735200"/>
              <a:ext cx="4568040" cy="706320"/>
            </a:xfrm>
            <a:custGeom>
              <a:avLst/>
              <a:gdLst>
                <a:gd name="textAreaLeft" fmla="*/ 589680 w 4568040"/>
                <a:gd name="textAreaRight" fmla="*/ 3978360 w 4568040"/>
                <a:gd name="textAreaTop" fmla="*/ 0 h 706320"/>
                <a:gd name="textAreaBottom" fmla="*/ 706680 h 706320"/>
              </a:gdLst>
              <a:ahLst/>
              <a:rect l="textAreaLeft" t="textAreaTop" r="textAreaRight" b="textAreaBottom"/>
              <a:pathLst>
                <a:path w="21600" h="21600">
                  <a:moveTo>
                    <a:pt x="0" y="0"/>
                  </a:moveTo>
                  <a:lnTo>
                    <a:pt x="18811" y="0"/>
                  </a:lnTo>
                  <a:lnTo>
                    <a:pt x="18811" y="0"/>
                  </a:lnTo>
                  <a:lnTo>
                    <a:pt x="21600" y="10800"/>
                  </a:lnTo>
                  <a:lnTo>
                    <a:pt x="18811" y="21600"/>
                  </a:lnTo>
                  <a:lnTo>
                    <a:pt x="18811" y="21600"/>
                  </a:lnTo>
                  <a:lnTo>
                    <a:pt x="0" y="21600"/>
                  </a:lnTo>
                  <a:lnTo>
                    <a:pt x="2789" y="10800"/>
                  </a:lnTo>
                  <a:lnTo>
                    <a:pt x="0" y="0"/>
                  </a:lnTo>
                  <a:close/>
                </a:path>
              </a:pathLst>
            </a:custGeom>
            <a:solidFill>
              <a:srgbClr val="2f75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5" name="直接连接符 45"/>
            <p:cNvSpPr/>
            <p:nvPr/>
          </p:nvSpPr>
          <p:spPr>
            <a:xfrm>
              <a:off x="3882240" y="2432160"/>
              <a:ext cx="0" cy="282240"/>
            </a:xfrm>
            <a:prstGeom prst="line">
              <a:avLst/>
            </a:prstGeom>
            <a:ln cap="rnd" w="28440">
              <a:solidFill>
                <a:srgbClr val="2f75b4"/>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16" name="椭圆 22"/>
            <p:cNvSpPr/>
            <p:nvPr/>
          </p:nvSpPr>
          <p:spPr>
            <a:xfrm>
              <a:off x="3166920" y="1819440"/>
              <a:ext cx="1260360" cy="53532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7" name="任意多边形 23"/>
            <p:cNvSpPr/>
            <p:nvPr/>
          </p:nvSpPr>
          <p:spPr>
            <a:xfrm>
              <a:off x="3467880" y="1920240"/>
              <a:ext cx="774720" cy="309960"/>
            </a:xfrm>
            <a:custGeom>
              <a:avLst/>
              <a:gdLst/>
              <a:ahLst/>
              <a:rect l="l" t="t" r="r" b="b"/>
              <a:pathLst>
                <a:path w="608344" h="548582">
                  <a:moveTo>
                    <a:pt x="521432" y="370453"/>
                  </a:moveTo>
                  <a:lnTo>
                    <a:pt x="465737" y="425787"/>
                  </a:lnTo>
                  <a:lnTo>
                    <a:pt x="442491" y="402479"/>
                  </a:lnTo>
                  <a:lnTo>
                    <a:pt x="418201" y="426545"/>
                  </a:lnTo>
                  <a:lnTo>
                    <a:pt x="441447" y="449948"/>
                  </a:lnTo>
                  <a:lnTo>
                    <a:pt x="465642" y="474204"/>
                  </a:lnTo>
                  <a:lnTo>
                    <a:pt x="489932" y="450043"/>
                  </a:lnTo>
                  <a:lnTo>
                    <a:pt x="545532" y="394709"/>
                  </a:lnTo>
                  <a:lnTo>
                    <a:pt x="521432" y="370453"/>
                  </a:lnTo>
                  <a:close/>
                  <a:moveTo>
                    <a:pt x="481962" y="296170"/>
                  </a:moveTo>
                  <a:cubicBezTo>
                    <a:pt x="551795" y="296170"/>
                    <a:pt x="608344" y="352641"/>
                    <a:pt x="608344" y="422376"/>
                  </a:cubicBezTo>
                  <a:cubicBezTo>
                    <a:pt x="608344" y="492111"/>
                    <a:pt x="551795" y="548582"/>
                    <a:pt x="481962" y="548582"/>
                  </a:cubicBezTo>
                  <a:cubicBezTo>
                    <a:pt x="412129" y="548582"/>
                    <a:pt x="355579" y="492111"/>
                    <a:pt x="355579" y="422376"/>
                  </a:cubicBezTo>
                  <a:cubicBezTo>
                    <a:pt x="355579" y="352641"/>
                    <a:pt x="412129" y="296170"/>
                    <a:pt x="481962" y="296170"/>
                  </a:cubicBezTo>
                  <a:close/>
                  <a:moveTo>
                    <a:pt x="255835" y="446"/>
                  </a:moveTo>
                  <a:cubicBezTo>
                    <a:pt x="282785" y="-1828"/>
                    <a:pt x="303187" y="4899"/>
                    <a:pt x="317801" y="13616"/>
                  </a:cubicBezTo>
                  <a:cubicBezTo>
                    <a:pt x="339721" y="25744"/>
                    <a:pt x="348072" y="41661"/>
                    <a:pt x="348072" y="41661"/>
                  </a:cubicBezTo>
                  <a:cubicBezTo>
                    <a:pt x="348072" y="41661"/>
                    <a:pt x="398176" y="45167"/>
                    <a:pt x="381190" y="146831"/>
                  </a:cubicBezTo>
                  <a:cubicBezTo>
                    <a:pt x="380621" y="149863"/>
                    <a:pt x="379862" y="153085"/>
                    <a:pt x="378913" y="156211"/>
                  </a:cubicBezTo>
                  <a:cubicBezTo>
                    <a:pt x="388592" y="156211"/>
                    <a:pt x="398271" y="163507"/>
                    <a:pt x="387833" y="200458"/>
                  </a:cubicBezTo>
                  <a:cubicBezTo>
                    <a:pt x="379672" y="229262"/>
                    <a:pt x="372080" y="237221"/>
                    <a:pt x="366387" y="237694"/>
                  </a:cubicBezTo>
                  <a:cubicBezTo>
                    <a:pt x="364394" y="250675"/>
                    <a:pt x="359175" y="265076"/>
                    <a:pt x="351393" y="278720"/>
                  </a:cubicBezTo>
                  <a:lnTo>
                    <a:pt x="351393" y="322873"/>
                  </a:lnTo>
                  <a:cubicBezTo>
                    <a:pt x="330232" y="350539"/>
                    <a:pt x="317611" y="385027"/>
                    <a:pt x="317611" y="422358"/>
                  </a:cubicBezTo>
                  <a:cubicBezTo>
                    <a:pt x="317611" y="472764"/>
                    <a:pt x="340480" y="518053"/>
                    <a:pt x="376635" y="548088"/>
                  </a:cubicBezTo>
                  <a:lnTo>
                    <a:pt x="26855" y="548088"/>
                  </a:lnTo>
                  <a:cubicBezTo>
                    <a:pt x="12052" y="548088"/>
                    <a:pt x="0" y="536055"/>
                    <a:pt x="0" y="521274"/>
                  </a:cubicBezTo>
                  <a:lnTo>
                    <a:pt x="0" y="473806"/>
                  </a:lnTo>
                  <a:cubicBezTo>
                    <a:pt x="0" y="457983"/>
                    <a:pt x="7212" y="443013"/>
                    <a:pt x="19453" y="432969"/>
                  </a:cubicBezTo>
                  <a:cubicBezTo>
                    <a:pt x="86638" y="377921"/>
                    <a:pt x="159043" y="341443"/>
                    <a:pt x="173751" y="334242"/>
                  </a:cubicBezTo>
                  <a:cubicBezTo>
                    <a:pt x="175365" y="333484"/>
                    <a:pt x="176408" y="331779"/>
                    <a:pt x="176408" y="329884"/>
                  </a:cubicBezTo>
                  <a:lnTo>
                    <a:pt x="176408" y="278720"/>
                  </a:lnTo>
                  <a:cubicBezTo>
                    <a:pt x="168437" y="265076"/>
                    <a:pt x="163313" y="250675"/>
                    <a:pt x="161320" y="237694"/>
                  </a:cubicBezTo>
                  <a:cubicBezTo>
                    <a:pt x="155627" y="237221"/>
                    <a:pt x="148035" y="229072"/>
                    <a:pt x="139969" y="200458"/>
                  </a:cubicBezTo>
                  <a:cubicBezTo>
                    <a:pt x="129531" y="164170"/>
                    <a:pt x="138925" y="156496"/>
                    <a:pt x="148320" y="156211"/>
                  </a:cubicBezTo>
                  <a:cubicBezTo>
                    <a:pt x="147371" y="153085"/>
                    <a:pt x="146612" y="149863"/>
                    <a:pt x="146042" y="146736"/>
                  </a:cubicBezTo>
                  <a:cubicBezTo>
                    <a:pt x="142436" y="128450"/>
                    <a:pt x="141487" y="111396"/>
                    <a:pt x="145758" y="95099"/>
                  </a:cubicBezTo>
                  <a:cubicBezTo>
                    <a:pt x="150787" y="73212"/>
                    <a:pt x="162744" y="55684"/>
                    <a:pt x="176029" y="42135"/>
                  </a:cubicBezTo>
                  <a:cubicBezTo>
                    <a:pt x="184379" y="33134"/>
                    <a:pt x="193869" y="25459"/>
                    <a:pt x="203928" y="19017"/>
                  </a:cubicBezTo>
                  <a:cubicBezTo>
                    <a:pt x="212183" y="13332"/>
                    <a:pt x="221293" y="8405"/>
                    <a:pt x="231162" y="5089"/>
                  </a:cubicBezTo>
                  <a:cubicBezTo>
                    <a:pt x="238849" y="2625"/>
                    <a:pt x="247105" y="825"/>
                    <a:pt x="255835" y="44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18" name="组合 25"/>
          <p:cNvGrpSpPr/>
          <p:nvPr/>
        </p:nvGrpSpPr>
        <p:grpSpPr>
          <a:xfrm>
            <a:off x="6959520" y="1781280"/>
            <a:ext cx="5135400" cy="1195200"/>
            <a:chOff x="6959520" y="1781280"/>
            <a:chExt cx="5135400" cy="1195200"/>
          </a:xfrm>
        </p:grpSpPr>
        <p:sp>
          <p:nvSpPr>
            <p:cNvPr id="2319" name="五边形 26"/>
            <p:cNvSpPr/>
            <p:nvPr/>
          </p:nvSpPr>
          <p:spPr>
            <a:xfrm>
              <a:off x="6959520" y="1866600"/>
              <a:ext cx="1482840" cy="573120"/>
            </a:xfrm>
            <a:custGeom>
              <a:avLst/>
              <a:gdLst>
                <a:gd name="textAreaLeft" fmla="*/ 0 w 1482840"/>
                <a:gd name="textAreaRight" fmla="*/ 1483200 w 1482840"/>
                <a:gd name="textAreaTop" fmla="*/ 0 h 573120"/>
                <a:gd name="textAreaBottom" fmla="*/ 573480 h 57312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2f75b4"/>
                  </a:solidFill>
                  <a:latin typeface="Arial"/>
                  <a:ea typeface="微软雅黑"/>
                </a:rPr>
                <a:t>二</a:t>
              </a:r>
              <a:endParaRPr b="1" lang="en-US" sz="2400" spc="-1" strike="noStrike">
                <a:solidFill>
                  <a:srgbClr val="000000"/>
                </a:solidFill>
                <a:latin typeface="Arial"/>
              </a:endParaRPr>
            </a:p>
          </p:txBody>
        </p:sp>
        <p:sp>
          <p:nvSpPr>
            <p:cNvPr id="2320" name="燕尾形箭头 27"/>
            <p:cNvSpPr/>
            <p:nvPr/>
          </p:nvSpPr>
          <p:spPr>
            <a:xfrm>
              <a:off x="8030160" y="1781280"/>
              <a:ext cx="4064760" cy="747720"/>
            </a:xfrm>
            <a:custGeom>
              <a:avLst/>
              <a:gdLst>
                <a:gd name="textAreaLeft" fmla="*/ 473040 w 4064760"/>
                <a:gd name="textAreaRight" fmla="*/ 3591720 w 4064760"/>
                <a:gd name="textAreaTop" fmla="*/ 0 h 747720"/>
                <a:gd name="textAreaBottom" fmla="*/ 748080 h 747720"/>
              </a:gdLst>
              <a:ahLst/>
              <a:rect l="textAreaLeft" t="textAreaTop" r="textAreaRight" b="textAreaBottom"/>
              <a:pathLst>
                <a:path w="21600" h="21600">
                  <a:moveTo>
                    <a:pt x="0" y="0"/>
                  </a:moveTo>
                  <a:lnTo>
                    <a:pt x="19085" y="0"/>
                  </a:lnTo>
                  <a:lnTo>
                    <a:pt x="19085" y="0"/>
                  </a:lnTo>
                  <a:lnTo>
                    <a:pt x="21600" y="10800"/>
                  </a:lnTo>
                  <a:lnTo>
                    <a:pt x="19085" y="21600"/>
                  </a:lnTo>
                  <a:lnTo>
                    <a:pt x="19085" y="21600"/>
                  </a:lnTo>
                  <a:lnTo>
                    <a:pt x="0" y="21600"/>
                  </a:lnTo>
                  <a:lnTo>
                    <a:pt x="2515" y="10800"/>
                  </a:lnTo>
                  <a:lnTo>
                    <a:pt x="0" y="0"/>
                  </a:ln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1" name="直接连接符 46"/>
            <p:cNvSpPr/>
            <p:nvPr/>
          </p:nvSpPr>
          <p:spPr>
            <a:xfrm flipH="1">
              <a:off x="9573840" y="2405160"/>
              <a:ext cx="118080" cy="571320"/>
            </a:xfrm>
            <a:prstGeom prst="line">
              <a:avLst/>
            </a:prstGeom>
            <a:ln cap="rnd" w="28440">
              <a:solidFill>
                <a:srgbClr val="479eff"/>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22" name="椭圆 29"/>
            <p:cNvSpPr/>
            <p:nvPr/>
          </p:nvSpPr>
          <p:spPr>
            <a:xfrm>
              <a:off x="9164160" y="1912320"/>
              <a:ext cx="1056600" cy="49212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3" name="任意多边形 30"/>
            <p:cNvSpPr/>
            <p:nvPr/>
          </p:nvSpPr>
          <p:spPr>
            <a:xfrm>
              <a:off x="9430560" y="1967040"/>
              <a:ext cx="611640" cy="371520"/>
            </a:xfrm>
            <a:custGeom>
              <a:avLst/>
              <a:gdLst/>
              <a:ahLst/>
              <a:rect l="l" t="t" r="r" b="b"/>
              <a:pathLst>
                <a:path w="585107" h="605788">
                  <a:moveTo>
                    <a:pt x="459289" y="416179"/>
                  </a:moveTo>
                  <a:lnTo>
                    <a:pt x="459289" y="511030"/>
                  </a:lnTo>
                  <a:lnTo>
                    <a:pt x="554270" y="511030"/>
                  </a:lnTo>
                  <a:cubicBezTo>
                    <a:pt x="554270" y="563416"/>
                    <a:pt x="511654" y="605788"/>
                    <a:pt x="459289" y="605788"/>
                  </a:cubicBezTo>
                  <a:cubicBezTo>
                    <a:pt x="406831" y="605788"/>
                    <a:pt x="364308" y="563323"/>
                    <a:pt x="364308" y="511030"/>
                  </a:cubicBezTo>
                  <a:cubicBezTo>
                    <a:pt x="364308" y="458551"/>
                    <a:pt x="406924" y="416179"/>
                    <a:pt x="459289" y="416179"/>
                  </a:cubicBezTo>
                  <a:close/>
                  <a:moveTo>
                    <a:pt x="490126" y="385412"/>
                  </a:moveTo>
                  <a:cubicBezTo>
                    <a:pt x="542491" y="385412"/>
                    <a:pt x="584921" y="427779"/>
                    <a:pt x="585107" y="480252"/>
                  </a:cubicBezTo>
                  <a:lnTo>
                    <a:pt x="490126" y="480252"/>
                  </a:lnTo>
                  <a:lnTo>
                    <a:pt x="490126" y="385412"/>
                  </a:lnTo>
                  <a:close/>
                  <a:moveTo>
                    <a:pt x="151337" y="315411"/>
                  </a:moveTo>
                  <a:lnTo>
                    <a:pt x="188565" y="433251"/>
                  </a:lnTo>
                  <a:lnTo>
                    <a:pt x="195621" y="455410"/>
                  </a:lnTo>
                  <a:lnTo>
                    <a:pt x="195714" y="455132"/>
                  </a:lnTo>
                  <a:lnTo>
                    <a:pt x="201841" y="473953"/>
                  </a:lnTo>
                  <a:lnTo>
                    <a:pt x="221523" y="418138"/>
                  </a:lnTo>
                  <a:cubicBezTo>
                    <a:pt x="173061" y="350828"/>
                    <a:pt x="231271" y="351384"/>
                    <a:pt x="234521" y="351570"/>
                  </a:cubicBezTo>
                  <a:cubicBezTo>
                    <a:pt x="237677" y="351384"/>
                    <a:pt x="295887" y="350828"/>
                    <a:pt x="247518" y="418138"/>
                  </a:cubicBezTo>
                  <a:lnTo>
                    <a:pt x="267200" y="473953"/>
                  </a:lnTo>
                  <a:lnTo>
                    <a:pt x="273235" y="455132"/>
                  </a:lnTo>
                  <a:lnTo>
                    <a:pt x="273327" y="455410"/>
                  </a:lnTo>
                  <a:lnTo>
                    <a:pt x="280383" y="433251"/>
                  </a:lnTo>
                  <a:lnTo>
                    <a:pt x="317705" y="315411"/>
                  </a:lnTo>
                  <a:cubicBezTo>
                    <a:pt x="317705" y="315411"/>
                    <a:pt x="365610" y="349066"/>
                    <a:pt x="424377" y="363993"/>
                  </a:cubicBezTo>
                  <a:cubicBezTo>
                    <a:pt x="437653" y="367331"/>
                    <a:pt x="447030" y="374377"/>
                    <a:pt x="453714" y="383185"/>
                  </a:cubicBezTo>
                  <a:cubicBezTo>
                    <a:pt x="385849" y="386523"/>
                    <a:pt x="331630" y="442615"/>
                    <a:pt x="331630" y="511131"/>
                  </a:cubicBezTo>
                  <a:cubicBezTo>
                    <a:pt x="331630" y="523091"/>
                    <a:pt x="333302" y="534588"/>
                    <a:pt x="336365" y="545528"/>
                  </a:cubicBezTo>
                  <a:cubicBezTo>
                    <a:pt x="306935" y="551276"/>
                    <a:pt x="272770" y="555263"/>
                    <a:pt x="234521" y="555263"/>
                  </a:cubicBezTo>
                  <a:cubicBezTo>
                    <a:pt x="91177" y="555263"/>
                    <a:pt x="5486" y="499634"/>
                    <a:pt x="5486" y="499634"/>
                  </a:cubicBezTo>
                  <a:cubicBezTo>
                    <a:pt x="2980" y="484800"/>
                    <a:pt x="380" y="450774"/>
                    <a:pt x="380" y="450774"/>
                  </a:cubicBezTo>
                  <a:cubicBezTo>
                    <a:pt x="-1291" y="425741"/>
                    <a:pt x="751" y="375119"/>
                    <a:pt x="44572" y="363993"/>
                  </a:cubicBezTo>
                  <a:cubicBezTo>
                    <a:pt x="103524" y="349066"/>
                    <a:pt x="151337" y="315411"/>
                    <a:pt x="151337" y="315411"/>
                  </a:cubicBezTo>
                  <a:close/>
                  <a:moveTo>
                    <a:pt x="227063" y="445"/>
                  </a:moveTo>
                  <a:cubicBezTo>
                    <a:pt x="253060" y="-1780"/>
                    <a:pt x="272743" y="4616"/>
                    <a:pt x="286856" y="13052"/>
                  </a:cubicBezTo>
                  <a:cubicBezTo>
                    <a:pt x="307839" y="24639"/>
                    <a:pt x="315917" y="40120"/>
                    <a:pt x="315917" y="40120"/>
                  </a:cubicBezTo>
                  <a:cubicBezTo>
                    <a:pt x="315917" y="40120"/>
                    <a:pt x="364197" y="43549"/>
                    <a:pt x="347856" y="141531"/>
                  </a:cubicBezTo>
                  <a:cubicBezTo>
                    <a:pt x="346834" y="146722"/>
                    <a:pt x="345535" y="151913"/>
                    <a:pt x="343678" y="157104"/>
                  </a:cubicBezTo>
                  <a:cubicBezTo>
                    <a:pt x="353334" y="156177"/>
                    <a:pt x="364661" y="161832"/>
                    <a:pt x="353891" y="199653"/>
                  </a:cubicBezTo>
                  <a:cubicBezTo>
                    <a:pt x="346092" y="227370"/>
                    <a:pt x="338850" y="234971"/>
                    <a:pt x="333279" y="235527"/>
                  </a:cubicBezTo>
                  <a:cubicBezTo>
                    <a:pt x="328172" y="268342"/>
                    <a:pt x="301897" y="310056"/>
                    <a:pt x="260859" y="324888"/>
                  </a:cubicBezTo>
                  <a:cubicBezTo>
                    <a:pt x="243775" y="331006"/>
                    <a:pt x="224927" y="331006"/>
                    <a:pt x="207843" y="324981"/>
                  </a:cubicBezTo>
                  <a:cubicBezTo>
                    <a:pt x="165970" y="310242"/>
                    <a:pt x="140623" y="268342"/>
                    <a:pt x="135516" y="235527"/>
                  </a:cubicBezTo>
                  <a:cubicBezTo>
                    <a:pt x="129945" y="235156"/>
                    <a:pt x="122703" y="227370"/>
                    <a:pt x="114904" y="199653"/>
                  </a:cubicBezTo>
                  <a:cubicBezTo>
                    <a:pt x="104134" y="161739"/>
                    <a:pt x="115461" y="156177"/>
                    <a:pt x="125396" y="157012"/>
                  </a:cubicBezTo>
                  <a:cubicBezTo>
                    <a:pt x="123539" y="151821"/>
                    <a:pt x="122146" y="146630"/>
                    <a:pt x="121218" y="141438"/>
                  </a:cubicBezTo>
                  <a:cubicBezTo>
                    <a:pt x="117690" y="123733"/>
                    <a:pt x="116854" y="107326"/>
                    <a:pt x="120939" y="91660"/>
                  </a:cubicBezTo>
                  <a:cubicBezTo>
                    <a:pt x="125767" y="70524"/>
                    <a:pt x="137280" y="53653"/>
                    <a:pt x="150000" y="40583"/>
                  </a:cubicBezTo>
                  <a:cubicBezTo>
                    <a:pt x="158171" y="32055"/>
                    <a:pt x="167362" y="24546"/>
                    <a:pt x="177018" y="18335"/>
                  </a:cubicBezTo>
                  <a:cubicBezTo>
                    <a:pt x="184910" y="12866"/>
                    <a:pt x="193731" y="8231"/>
                    <a:pt x="203294" y="4987"/>
                  </a:cubicBezTo>
                  <a:cubicBezTo>
                    <a:pt x="210722" y="2391"/>
                    <a:pt x="218614" y="816"/>
                    <a:pt x="227063" y="4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24" name="组合 28"/>
          <p:cNvGrpSpPr/>
          <p:nvPr/>
        </p:nvGrpSpPr>
        <p:grpSpPr>
          <a:xfrm>
            <a:off x="1190520" y="250920"/>
            <a:ext cx="10360080" cy="625320"/>
            <a:chOff x="1190520" y="250920"/>
            <a:chExt cx="10360080" cy="625320"/>
          </a:xfrm>
        </p:grpSpPr>
        <p:sp>
          <p:nvSpPr>
            <p:cNvPr id="2325" name="直接连接符 2"/>
            <p:cNvSpPr/>
            <p:nvPr/>
          </p:nvSpPr>
          <p:spPr>
            <a:xfrm>
              <a:off x="1190520" y="5889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26" name="直接连接符 3"/>
            <p:cNvSpPr/>
            <p:nvPr/>
          </p:nvSpPr>
          <p:spPr>
            <a:xfrm>
              <a:off x="9571320" y="5889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327" name="文本框 31" descr=""/>
            <p:cNvPicPr/>
            <p:nvPr/>
          </p:nvPicPr>
          <p:blipFill>
            <a:blip r:embed="rId1"/>
            <a:stretch/>
          </p:blipFill>
          <p:spPr>
            <a:xfrm>
              <a:off x="3416040" y="250920"/>
              <a:ext cx="6040800" cy="625320"/>
            </a:xfrm>
            <a:prstGeom prst="rect">
              <a:avLst/>
            </a:prstGeom>
            <a:ln w="0">
              <a:noFill/>
            </a:ln>
          </p:spPr>
        </p:pic>
      </p:grpSp>
      <p:sp>
        <p:nvSpPr>
          <p:cNvPr id="2328" name="文本框 36"/>
          <p:cNvSpPr/>
          <p:nvPr/>
        </p:nvSpPr>
        <p:spPr>
          <a:xfrm>
            <a:off x="279360" y="2714760"/>
            <a:ext cx="6680160" cy="161424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Arial"/>
                <a:ea typeface="宋体"/>
              </a:rPr>
              <a:t>一、固定资产清理（减值准备）审计</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固定资产减值准备审计的实质性程序一般包括：获取或编制固定资产清理（减 值准备）明细表，复核加计是否正确，并与总账和明细账合计核对是否相符；检查 固定资产清理（减值准备）的发生是否有正当理由，是否经有关技术部门鉴定，是 否经授权批准，相应的会计处理是否正确；由对外投资、非货币性资产交换、债 务重组等原因转出产生固定资产清理的，检查相关的合同协议以及股东（大）会、 董事会的决定，确定或协议规定的价值是否公允，会计处理是否正确；检查固定资产清理是否长期挂账；检查固定资产清理（减值准备）的披露是否恰当。</a:t>
            </a:r>
            <a:endParaRPr b="1" lang="en-US" sz="2000" spc="-1" strike="noStrike">
              <a:solidFill>
                <a:srgbClr val="000000"/>
              </a:solidFill>
              <a:latin typeface="Arial"/>
            </a:endParaRPr>
          </a:p>
        </p:txBody>
      </p:sp>
      <p:sp>
        <p:nvSpPr>
          <p:cNvPr id="2329" name="文本框 39"/>
          <p:cNvSpPr/>
          <p:nvPr/>
        </p:nvSpPr>
        <p:spPr>
          <a:xfrm flipV="1" rot="10800000">
            <a:off x="7194240" y="2803680"/>
            <a:ext cx="4753080" cy="111888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Arial"/>
                <a:ea typeface="宋体"/>
              </a:rPr>
              <a:t>二、预付款项审计</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预付款项审计的实质性程序一般包括：获取或编制预付账款的明细表；分析 预付账款账龄及余额构成；函证预付账款的重要项目；检查资产负债日后的预付账 款明细账，分析资产负债日预付账款的真实性和完整性；检查坏账准备是否正确； 检查预付账款的披露是否正确。</a:t>
            </a:r>
            <a:endParaRPr b="1" lang="en-US" sz="2000" spc="-1" strike="noStrike">
              <a:solidFill>
                <a:srgbClr val="000000"/>
              </a:solidFill>
              <a:latin typeface="Arial"/>
            </a:endParaRPr>
          </a:p>
        </p:txBody>
      </p:sp>
    </p:spTree>
  </p:cSld>
  <p:transition>
    <p:fade/>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dur="indefinite" nodeType="afterEffect" fill="hold" presetClass="entr" presetID="42">
                                  <p:stCondLst>
                                    <p:cond delay="0"/>
                                  </p:stCondLst>
                                  <p:childTnLst>
                                    <p:set>
                                      <p:cBhvr>
                                        <p:cTn id="208" dur="1" fill="hold">
                                          <p:stCondLst>
                                            <p:cond delay="0"/>
                                          </p:stCondLst>
                                        </p:cTn>
                                        <p:tgtEl>
                                          <p:spTgt spid="2311"/>
                                        </p:tgtEl>
                                        <p:attrNameLst>
                                          <p:attrName>style.visibility</p:attrName>
                                        </p:attrNameLst>
                                      </p:cBhvr>
                                      <p:to>
                                        <p:strVal val="visible"/>
                                      </p:to>
                                    </p:set>
                                    <p:animEffect filter="fade" transition="in">
                                      <p:cBhvr additive="repl">
                                        <p:cTn id="209" dur="1000"/>
                                        <p:tgtEl>
                                          <p:spTgt spid="2311"/>
                                        </p:tgtEl>
                                      </p:cBhvr>
                                    </p:animEffect>
                                    <p:anim calcmode="lin" valueType="num">
                                      <p:cBhvr additive="repl">
                                        <p:cTn id="210" dur="1000" fill="hold"/>
                                        <p:tgtEl>
                                          <p:spTgt spid="2311"/>
                                        </p:tgtEl>
                                        <p:attrNameLst>
                                          <p:attrName>ppt_x</p:attrName>
                                        </p:attrNameLst>
                                      </p:cBhvr>
                                      <p:tavLst>
                                        <p:tav tm="0">
                                          <p:val>
                                            <p:strVal val="#ppt_x"/>
                                          </p:val>
                                        </p:tav>
                                        <p:tav tm="100000">
                                          <p:val>
                                            <p:strVal val="#ppt_x"/>
                                          </p:val>
                                        </p:tav>
                                      </p:tavLst>
                                    </p:anim>
                                    <p:anim calcmode="lin" valueType="num">
                                      <p:cBhvr additive="repl">
                                        <p:cTn id="211" dur="1000" fill="hold"/>
                                        <p:tgtEl>
                                          <p:spTgt spid="2311"/>
                                        </p:tgtEl>
                                        <p:attrNameLst>
                                          <p:attrName>ppt_y</p:attrName>
                                        </p:attrNameLst>
                                      </p:cBhvr>
                                      <p:tavLst>
                                        <p:tav tm="0">
                                          <p:val>
                                            <p:strVal val="#ppt_y+.1"/>
                                          </p:val>
                                        </p:tav>
                                        <p:tav tm="100000">
                                          <p:val>
                                            <p:strVal val="#ppt_y"/>
                                          </p:val>
                                        </p:tav>
                                      </p:tavLst>
                                    </p:anim>
                                  </p:childTnLst>
                                </p:cTn>
                              </p:par>
                            </p:childTnLst>
                          </p:cTn>
                        </p:par>
                        <p:par>
                          <p:cTn id="212" fill="hold">
                            <p:stCondLst>
                              <p:cond delay="1000"/>
                            </p:stCondLst>
                            <p:childTnLst>
                              <p:par>
                                <p:cTn id="213" dur="indefinite" nodeType="afterEffect" fill="hold" presetClass="entr" presetID="12" presetSubtype="8">
                                  <p:stCondLst>
                                    <p:cond delay="0"/>
                                  </p:stCondLst>
                                  <p:childTnLst>
                                    <p:set>
                                      <p:cBhvr>
                                        <p:cTn id="214" dur="1" fill="hold">
                                          <p:stCondLst>
                                            <p:cond delay="0"/>
                                          </p:stCondLst>
                                        </p:cTn>
                                        <p:tgtEl>
                                          <p:spTgt spid="2312"/>
                                        </p:tgtEl>
                                        <p:attrNameLst>
                                          <p:attrName>style.visibility</p:attrName>
                                        </p:attrNameLst>
                                      </p:cBhvr>
                                      <p:to>
                                        <p:strVal val="visible"/>
                                      </p:to>
                                    </p:set>
                                    <p:anim calcmode="lin" valueType="num">
                                      <p:cBhvr additive="repl">
                                        <p:cTn id="215" dur="500"/>
                                        <p:tgtEl>
                                          <p:spTgt spid="2312"/>
                                        </p:tgtEl>
                                        <p:attrNameLst>
                                          <p:attrName>ppt_x</p:attrName>
                                        </p:attrNameLst>
                                      </p:cBhvr>
                                      <p:tavLst>
                                        <p:tav tm="0">
                                          <p:val>
                                            <p:strVal val="#ppt_x-#ppt_w*1.125000"/>
                                          </p:val>
                                        </p:tav>
                                        <p:tav tm="100000">
                                          <p:val>
                                            <p:strVal val="#ppt_x"/>
                                          </p:val>
                                        </p:tav>
                                      </p:tavLst>
                                    </p:anim>
                                    <p:animEffect filter="wipe(right)" transition="in">
                                      <p:cBhvr additive="repl">
                                        <p:cTn id="216" dur="500"/>
                                        <p:tgtEl>
                                          <p:spTgt spid="2312"/>
                                        </p:tgtEl>
                                      </p:cBhvr>
                                    </p:animEffect>
                                  </p:childTnLst>
                                </p:cTn>
                              </p:par>
                            </p:childTnLst>
                          </p:cTn>
                        </p:par>
                        <p:par>
                          <p:cTn id="217" fill="hold">
                            <p:stCondLst>
                              <p:cond delay="1500"/>
                            </p:stCondLst>
                            <p:childTnLst>
                              <p:par>
                                <p:cTn id="218" dur="indefinite" nodeType="afterEffect" fill="hold" presetClass="entr" presetID="12" presetSubtype="8">
                                  <p:stCondLst>
                                    <p:cond delay="0"/>
                                  </p:stCondLst>
                                  <p:childTnLst>
                                    <p:set>
                                      <p:cBhvr>
                                        <p:cTn id="219" dur="1" fill="hold">
                                          <p:stCondLst>
                                            <p:cond delay="0"/>
                                          </p:stCondLst>
                                        </p:cTn>
                                        <p:tgtEl>
                                          <p:spTgt spid="2318"/>
                                        </p:tgtEl>
                                        <p:attrNameLst>
                                          <p:attrName>style.visibility</p:attrName>
                                        </p:attrNameLst>
                                      </p:cBhvr>
                                      <p:to>
                                        <p:strVal val="visible"/>
                                      </p:to>
                                    </p:set>
                                    <p:anim calcmode="lin" valueType="num">
                                      <p:cBhvr additive="repl">
                                        <p:cTn id="220" dur="500"/>
                                        <p:tgtEl>
                                          <p:spTgt spid="2318"/>
                                        </p:tgtEl>
                                        <p:attrNameLst>
                                          <p:attrName>ppt_x</p:attrName>
                                        </p:attrNameLst>
                                      </p:cBhvr>
                                      <p:tavLst>
                                        <p:tav tm="0">
                                          <p:val>
                                            <p:strVal val="#ppt_x-#ppt_w*1.125000"/>
                                          </p:val>
                                        </p:tav>
                                        <p:tav tm="100000">
                                          <p:val>
                                            <p:strVal val="#ppt_x"/>
                                          </p:val>
                                        </p:tav>
                                      </p:tavLst>
                                    </p:anim>
                                    <p:animEffect filter="wipe(right)" transition="in">
                                      <p:cBhvr additive="repl">
                                        <p:cTn id="221" dur="500"/>
                                        <p:tgtEl>
                                          <p:spTgt spid="2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文本框 1"/>
          <p:cNvSpPr/>
          <p:nvPr/>
        </p:nvSpPr>
        <p:spPr>
          <a:xfrm>
            <a:off x="928800" y="979560"/>
            <a:ext cx="10334520" cy="706680"/>
          </a:xfrm>
          <a:prstGeom prst="rect">
            <a:avLst/>
          </a:prstGeom>
          <a:noFill/>
          <a:ln w="0">
            <a:noFill/>
          </a:ln>
        </p:spPr>
        <p:style>
          <a:lnRef idx="0"/>
          <a:fillRef idx="0"/>
          <a:effectRef idx="0"/>
          <a:fontRef idx="minor"/>
        </p:style>
        <p:txBody>
          <a:bodyPr lIns="71640" rIns="71640" tIns="36360" bIns="36360" anchor="t">
            <a:spAutoFit/>
          </a:bodyPr>
          <a:p>
            <a:pPr lvl="1" marL="7452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工作过程描述</a:t>
            </a:r>
            <a:endParaRPr b="1" lang="en-US" sz="3200" spc="-1" strike="noStrike">
              <a:solidFill>
                <a:srgbClr val="000000"/>
              </a:solidFill>
              <a:latin typeface="Arial"/>
            </a:endParaRPr>
          </a:p>
        </p:txBody>
      </p:sp>
      <p:grpSp>
        <p:nvGrpSpPr>
          <p:cNvPr id="2331" name="组合 32"/>
          <p:cNvGrpSpPr/>
          <p:nvPr/>
        </p:nvGrpSpPr>
        <p:grpSpPr>
          <a:xfrm>
            <a:off x="222120" y="2016000"/>
            <a:ext cx="5565600" cy="1079280"/>
            <a:chOff x="222120" y="2016000"/>
            <a:chExt cx="5565600" cy="1079280"/>
          </a:xfrm>
        </p:grpSpPr>
        <p:sp>
          <p:nvSpPr>
            <p:cNvPr id="2332" name="五边形 33"/>
            <p:cNvSpPr/>
            <p:nvPr/>
          </p:nvSpPr>
          <p:spPr>
            <a:xfrm>
              <a:off x="222120" y="2152440"/>
              <a:ext cx="1754280" cy="438120"/>
            </a:xfrm>
            <a:custGeom>
              <a:avLst/>
              <a:gdLst>
                <a:gd name="textAreaLeft" fmla="*/ 0 w 1754280"/>
                <a:gd name="textAreaRight" fmla="*/ 1754640 w 1754280"/>
                <a:gd name="textAreaTop" fmla="*/ 0 h 438120"/>
                <a:gd name="textAreaBottom" fmla="*/ 438480 h 43812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2f75b4"/>
                  </a:solidFill>
                  <a:latin typeface="Arial"/>
                  <a:ea typeface="微软雅黑"/>
                </a:rPr>
                <a:t>三</a:t>
              </a:r>
              <a:endParaRPr b="1" lang="en-US" sz="2400" spc="-1" strike="noStrike">
                <a:solidFill>
                  <a:srgbClr val="000000"/>
                </a:solidFill>
                <a:latin typeface="Arial"/>
              </a:endParaRPr>
            </a:p>
          </p:txBody>
        </p:sp>
        <p:sp>
          <p:nvSpPr>
            <p:cNvPr id="2333" name="燕尾形箭头 34"/>
            <p:cNvSpPr/>
            <p:nvPr/>
          </p:nvSpPr>
          <p:spPr>
            <a:xfrm>
              <a:off x="1220040" y="2016000"/>
              <a:ext cx="4567680" cy="768240"/>
            </a:xfrm>
            <a:custGeom>
              <a:avLst/>
              <a:gdLst>
                <a:gd name="textAreaLeft" fmla="*/ 752760 w 4567680"/>
                <a:gd name="textAreaRight" fmla="*/ 3814920 w 4567680"/>
                <a:gd name="textAreaTop" fmla="*/ 0 h 768240"/>
                <a:gd name="textAreaBottom" fmla="*/ 768600 h 768240"/>
              </a:gdLst>
              <a:ahLst/>
              <a:rect l="textAreaLeft" t="textAreaTop" r="textAreaRight" b="textAreaBottom"/>
              <a:pathLst>
                <a:path w="21600" h="21600">
                  <a:moveTo>
                    <a:pt x="0" y="0"/>
                  </a:moveTo>
                  <a:lnTo>
                    <a:pt x="18040" y="0"/>
                  </a:lnTo>
                  <a:lnTo>
                    <a:pt x="18040" y="0"/>
                  </a:lnTo>
                  <a:lnTo>
                    <a:pt x="21600" y="10800"/>
                  </a:lnTo>
                  <a:lnTo>
                    <a:pt x="18040" y="21600"/>
                  </a:lnTo>
                  <a:lnTo>
                    <a:pt x="18040" y="21600"/>
                  </a:lnTo>
                  <a:lnTo>
                    <a:pt x="0" y="21600"/>
                  </a:lnTo>
                  <a:lnTo>
                    <a:pt x="3560" y="10800"/>
                  </a:lnTo>
                  <a:lnTo>
                    <a:pt x="0" y="0"/>
                  </a:lnTo>
                  <a:close/>
                </a:path>
              </a:pathLst>
            </a:custGeom>
            <a:solidFill>
              <a:srgbClr val="914f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4" name="直接连接符 47"/>
            <p:cNvSpPr/>
            <p:nvPr/>
          </p:nvSpPr>
          <p:spPr>
            <a:xfrm flipV="1">
              <a:off x="3246480" y="2744280"/>
              <a:ext cx="0" cy="351000"/>
            </a:xfrm>
            <a:prstGeom prst="line">
              <a:avLst/>
            </a:prstGeom>
            <a:ln cap="rnd" w="28440">
              <a:solidFill>
                <a:srgbClr val="c292c5"/>
              </a:solidFill>
              <a:custDash>
                <a:ds d="499000" sp="201000"/>
              </a:custDash>
              <a:round/>
              <a:head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35" name="椭圆 36"/>
            <p:cNvSpPr/>
            <p:nvPr/>
          </p:nvSpPr>
          <p:spPr>
            <a:xfrm>
              <a:off x="2563200" y="2169360"/>
              <a:ext cx="1319760" cy="42732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6" name="任意多边形 37"/>
            <p:cNvSpPr/>
            <p:nvPr/>
          </p:nvSpPr>
          <p:spPr>
            <a:xfrm>
              <a:off x="2966760" y="2244960"/>
              <a:ext cx="608760" cy="253440"/>
            </a:xfrm>
            <a:custGeom>
              <a:avLst/>
              <a:gdLst/>
              <a:ahLst/>
              <a:rect l="l" t="t" r="r" b="b"/>
              <a:pathLst>
                <a:path w="409" h="451">
                  <a:moveTo>
                    <a:pt x="409" y="391"/>
                  </a:moveTo>
                  <a:lnTo>
                    <a:pt x="409" y="451"/>
                  </a:lnTo>
                  <a:lnTo>
                    <a:pt x="0" y="451"/>
                  </a:lnTo>
                  <a:lnTo>
                    <a:pt x="0" y="391"/>
                  </a:lnTo>
                  <a:cubicBezTo>
                    <a:pt x="0" y="363"/>
                    <a:pt x="25" y="328"/>
                    <a:pt x="54" y="314"/>
                  </a:cubicBezTo>
                  <a:lnTo>
                    <a:pt x="121" y="282"/>
                  </a:lnTo>
                  <a:lnTo>
                    <a:pt x="167" y="378"/>
                  </a:lnTo>
                  <a:lnTo>
                    <a:pt x="190" y="314"/>
                  </a:lnTo>
                  <a:cubicBezTo>
                    <a:pt x="195" y="315"/>
                    <a:pt x="200" y="316"/>
                    <a:pt x="205" y="316"/>
                  </a:cubicBezTo>
                  <a:cubicBezTo>
                    <a:pt x="209" y="316"/>
                    <a:pt x="214" y="315"/>
                    <a:pt x="219" y="314"/>
                  </a:cubicBezTo>
                  <a:lnTo>
                    <a:pt x="241" y="375"/>
                  </a:lnTo>
                  <a:lnTo>
                    <a:pt x="286" y="281"/>
                  </a:lnTo>
                  <a:lnTo>
                    <a:pt x="355" y="314"/>
                  </a:lnTo>
                  <a:cubicBezTo>
                    <a:pt x="385" y="328"/>
                    <a:pt x="409" y="363"/>
                    <a:pt x="409" y="391"/>
                  </a:cubicBezTo>
                  <a:close/>
                  <a:moveTo>
                    <a:pt x="60" y="181"/>
                  </a:moveTo>
                  <a:lnTo>
                    <a:pt x="60" y="137"/>
                  </a:lnTo>
                  <a:cubicBezTo>
                    <a:pt x="60" y="130"/>
                    <a:pt x="64" y="124"/>
                    <a:pt x="70" y="120"/>
                  </a:cubicBezTo>
                  <a:cubicBezTo>
                    <a:pt x="78" y="53"/>
                    <a:pt x="135" y="0"/>
                    <a:pt x="205" y="0"/>
                  </a:cubicBezTo>
                  <a:cubicBezTo>
                    <a:pt x="274" y="0"/>
                    <a:pt x="331" y="53"/>
                    <a:pt x="339" y="120"/>
                  </a:cubicBezTo>
                  <a:cubicBezTo>
                    <a:pt x="345" y="124"/>
                    <a:pt x="349" y="130"/>
                    <a:pt x="349" y="137"/>
                  </a:cubicBezTo>
                  <a:lnTo>
                    <a:pt x="349" y="181"/>
                  </a:lnTo>
                  <a:cubicBezTo>
                    <a:pt x="349" y="192"/>
                    <a:pt x="339" y="202"/>
                    <a:pt x="328" y="202"/>
                  </a:cubicBezTo>
                  <a:cubicBezTo>
                    <a:pt x="316" y="202"/>
                    <a:pt x="307" y="192"/>
                    <a:pt x="307" y="181"/>
                  </a:cubicBezTo>
                  <a:lnTo>
                    <a:pt x="307" y="172"/>
                  </a:lnTo>
                  <a:cubicBezTo>
                    <a:pt x="296" y="228"/>
                    <a:pt x="254" y="281"/>
                    <a:pt x="205" y="281"/>
                  </a:cubicBezTo>
                  <a:cubicBezTo>
                    <a:pt x="155" y="281"/>
                    <a:pt x="113" y="228"/>
                    <a:pt x="102" y="172"/>
                  </a:cubicBezTo>
                  <a:lnTo>
                    <a:pt x="102" y="181"/>
                  </a:lnTo>
                  <a:cubicBezTo>
                    <a:pt x="102" y="190"/>
                    <a:pt x="96" y="198"/>
                    <a:pt x="87" y="201"/>
                  </a:cubicBezTo>
                  <a:cubicBezTo>
                    <a:pt x="96" y="229"/>
                    <a:pt x="114" y="253"/>
                    <a:pt x="140" y="269"/>
                  </a:cubicBezTo>
                  <a:cubicBezTo>
                    <a:pt x="144" y="268"/>
                    <a:pt x="150" y="268"/>
                    <a:pt x="156" y="271"/>
                  </a:cubicBezTo>
                  <a:cubicBezTo>
                    <a:pt x="165" y="276"/>
                    <a:pt x="170" y="285"/>
                    <a:pt x="166" y="292"/>
                  </a:cubicBezTo>
                  <a:cubicBezTo>
                    <a:pt x="163" y="298"/>
                    <a:pt x="153" y="300"/>
                    <a:pt x="143" y="295"/>
                  </a:cubicBezTo>
                  <a:cubicBezTo>
                    <a:pt x="137" y="292"/>
                    <a:pt x="132" y="286"/>
                    <a:pt x="132" y="280"/>
                  </a:cubicBezTo>
                  <a:cubicBezTo>
                    <a:pt x="103" y="261"/>
                    <a:pt x="82" y="233"/>
                    <a:pt x="73" y="200"/>
                  </a:cubicBezTo>
                  <a:cubicBezTo>
                    <a:pt x="66" y="197"/>
                    <a:pt x="60" y="190"/>
                    <a:pt x="60" y="181"/>
                  </a:cubicBezTo>
                  <a:close/>
                  <a:moveTo>
                    <a:pt x="84" y="115"/>
                  </a:moveTo>
                  <a:cubicBezTo>
                    <a:pt x="85" y="115"/>
                    <a:pt x="85" y="115"/>
                    <a:pt x="86" y="115"/>
                  </a:cubicBezTo>
                  <a:cubicBezTo>
                    <a:pt x="88" y="116"/>
                    <a:pt x="89" y="117"/>
                    <a:pt x="89" y="118"/>
                  </a:cubicBezTo>
                  <a:cubicBezTo>
                    <a:pt x="94" y="120"/>
                    <a:pt x="98" y="124"/>
                    <a:pt x="100" y="128"/>
                  </a:cubicBezTo>
                  <a:cubicBezTo>
                    <a:pt x="106" y="70"/>
                    <a:pt x="150" y="40"/>
                    <a:pt x="205" y="40"/>
                  </a:cubicBezTo>
                  <a:cubicBezTo>
                    <a:pt x="259" y="40"/>
                    <a:pt x="303" y="70"/>
                    <a:pt x="309" y="128"/>
                  </a:cubicBezTo>
                  <a:cubicBezTo>
                    <a:pt x="312" y="122"/>
                    <a:pt x="318" y="118"/>
                    <a:pt x="325" y="117"/>
                  </a:cubicBezTo>
                  <a:cubicBezTo>
                    <a:pt x="316" y="58"/>
                    <a:pt x="266" y="13"/>
                    <a:pt x="205" y="13"/>
                  </a:cubicBezTo>
                  <a:cubicBezTo>
                    <a:pt x="144" y="13"/>
                    <a:pt x="94" y="57"/>
                    <a:pt x="84" y="11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37" name="组合 38"/>
          <p:cNvGrpSpPr/>
          <p:nvPr/>
        </p:nvGrpSpPr>
        <p:grpSpPr>
          <a:xfrm>
            <a:off x="6134040" y="2008080"/>
            <a:ext cx="5506920" cy="3260520"/>
            <a:chOff x="6134040" y="2008080"/>
            <a:chExt cx="5506920" cy="3260520"/>
          </a:xfrm>
        </p:grpSpPr>
        <p:sp>
          <p:nvSpPr>
            <p:cNvPr id="2338" name="五边形 39"/>
            <p:cNvSpPr/>
            <p:nvPr/>
          </p:nvSpPr>
          <p:spPr>
            <a:xfrm>
              <a:off x="6198840" y="2192400"/>
              <a:ext cx="1593360" cy="511200"/>
            </a:xfrm>
            <a:custGeom>
              <a:avLst/>
              <a:gdLst>
                <a:gd name="textAreaLeft" fmla="*/ 0 w 1593360"/>
                <a:gd name="textAreaRight" fmla="*/ 1593720 w 1593360"/>
                <a:gd name="textAreaTop" fmla="*/ 0 h 511200"/>
                <a:gd name="textAreaBottom" fmla="*/ 511560 h 511200"/>
              </a:gdLst>
              <a:ahLst/>
              <a:rect l="textAreaLeft" t="textAreaTop" r="textAreaRight" b="textAreaBottom"/>
              <a:pathLst>
                <a:path w="21600" h="21600">
                  <a:moveTo>
                    <a:pt x="0" y="0"/>
                  </a:moveTo>
                  <a:lnTo>
                    <a:pt x="16284" y="0"/>
                  </a:lnTo>
                  <a:lnTo>
                    <a:pt x="21600" y="10800"/>
                  </a:lnTo>
                  <a:lnTo>
                    <a:pt x="16284"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2f75b4"/>
                  </a:solidFill>
                  <a:latin typeface="Arial"/>
                  <a:ea typeface="微软雅黑"/>
                </a:rPr>
                <a:t>四</a:t>
              </a:r>
              <a:endParaRPr b="1" lang="en-US" sz="2400" spc="-1" strike="noStrike">
                <a:solidFill>
                  <a:srgbClr val="000000"/>
                </a:solidFill>
                <a:latin typeface="Arial"/>
              </a:endParaRPr>
            </a:p>
          </p:txBody>
        </p:sp>
        <p:sp>
          <p:nvSpPr>
            <p:cNvPr id="2339" name="燕尾形箭头 40"/>
            <p:cNvSpPr/>
            <p:nvPr/>
          </p:nvSpPr>
          <p:spPr>
            <a:xfrm>
              <a:off x="7325280" y="2008080"/>
              <a:ext cx="4157280" cy="798480"/>
            </a:xfrm>
            <a:custGeom>
              <a:avLst/>
              <a:gdLst>
                <a:gd name="textAreaLeft" fmla="*/ 608760 w 4157280"/>
                <a:gd name="textAreaRight" fmla="*/ 3548520 w 4157280"/>
                <a:gd name="textAreaTop" fmla="*/ 0 h 798480"/>
                <a:gd name="textAreaBottom" fmla="*/ 798840 h 798480"/>
              </a:gdLst>
              <a:ahLst/>
              <a:rect l="textAreaLeft" t="textAreaTop" r="textAreaRight" b="textAreaBottom"/>
              <a:pathLst>
                <a:path w="21600" h="21600">
                  <a:moveTo>
                    <a:pt x="0" y="0"/>
                  </a:moveTo>
                  <a:lnTo>
                    <a:pt x="18436" y="0"/>
                  </a:lnTo>
                  <a:lnTo>
                    <a:pt x="18436" y="0"/>
                  </a:lnTo>
                  <a:lnTo>
                    <a:pt x="21600" y="10800"/>
                  </a:lnTo>
                  <a:lnTo>
                    <a:pt x="18436" y="21600"/>
                  </a:lnTo>
                  <a:lnTo>
                    <a:pt x="18436" y="21600"/>
                  </a:lnTo>
                  <a:lnTo>
                    <a:pt x="0" y="21600"/>
                  </a:lnTo>
                  <a:lnTo>
                    <a:pt x="3164" y="10800"/>
                  </a:lnTo>
                  <a:lnTo>
                    <a:pt x="0" y="0"/>
                  </a:lnTo>
                  <a:close/>
                </a:path>
              </a:pathLst>
            </a:custGeom>
            <a:solidFill>
              <a:srgbClr val="9999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0" name="文本框 41"/>
            <p:cNvSpPr/>
            <p:nvPr/>
          </p:nvSpPr>
          <p:spPr>
            <a:xfrm>
              <a:off x="6134040" y="3234960"/>
              <a:ext cx="5506920" cy="203364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微软雅黑"/>
                </a:rPr>
                <a:t>四、应付票据的审计</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付票据审计的实质性程序一般包括：获取或编制应付票据的明细表；检查 应付票据的备查簿；函证应付票据的重要项目；查明逾期未兑付票据的原因；复核 带息应付票据利息是否足额计提，其会计处理是否正确；检查应付票据的披露是 否正确。</a:t>
              </a:r>
              <a:endParaRPr b="1" lang="en-US" sz="2000" spc="-1" strike="noStrike">
                <a:solidFill>
                  <a:srgbClr val="000000"/>
                </a:solidFill>
                <a:latin typeface="Arial"/>
              </a:endParaRPr>
            </a:p>
          </p:txBody>
        </p:sp>
        <p:sp>
          <p:nvSpPr>
            <p:cNvPr id="2341" name="直接连接符 48"/>
            <p:cNvSpPr/>
            <p:nvPr/>
          </p:nvSpPr>
          <p:spPr>
            <a:xfrm flipV="1">
              <a:off x="9041760" y="2797200"/>
              <a:ext cx="0" cy="298080"/>
            </a:xfrm>
            <a:prstGeom prst="line">
              <a:avLst/>
            </a:prstGeom>
            <a:ln cap="rnd" w="28440">
              <a:solidFill>
                <a:srgbClr val="9dc3e5"/>
              </a:solidFill>
              <a:custDash>
                <a:ds d="499000" sp="201000"/>
              </a:custDash>
              <a:round/>
              <a:head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42" name="椭圆 42"/>
            <p:cNvSpPr/>
            <p:nvPr/>
          </p:nvSpPr>
          <p:spPr>
            <a:xfrm>
              <a:off x="8610120" y="2186280"/>
              <a:ext cx="1198440" cy="49824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3" name="任意多边形 43"/>
            <p:cNvSpPr/>
            <p:nvPr/>
          </p:nvSpPr>
          <p:spPr>
            <a:xfrm>
              <a:off x="8874000" y="2319840"/>
              <a:ext cx="853200" cy="255240"/>
            </a:xfrm>
            <a:custGeom>
              <a:avLst/>
              <a:gdLst/>
              <a:ahLst/>
              <a:rect l="l" t="t" r="r" b="b"/>
              <a:pathLst>
                <a:path w="609156" h="561771">
                  <a:moveTo>
                    <a:pt x="392435" y="452324"/>
                  </a:moveTo>
                  <a:lnTo>
                    <a:pt x="427863" y="452324"/>
                  </a:lnTo>
                  <a:cubicBezTo>
                    <a:pt x="432070" y="452324"/>
                    <a:pt x="435529" y="455685"/>
                    <a:pt x="435435" y="459885"/>
                  </a:cubicBezTo>
                  <a:lnTo>
                    <a:pt x="435435" y="474634"/>
                  </a:lnTo>
                  <a:lnTo>
                    <a:pt x="435435" y="539321"/>
                  </a:lnTo>
                  <a:lnTo>
                    <a:pt x="435435" y="553976"/>
                  </a:lnTo>
                  <a:cubicBezTo>
                    <a:pt x="435435" y="558270"/>
                    <a:pt x="432070" y="561630"/>
                    <a:pt x="427863" y="561630"/>
                  </a:cubicBezTo>
                  <a:lnTo>
                    <a:pt x="392435" y="561630"/>
                  </a:lnTo>
                  <a:cubicBezTo>
                    <a:pt x="388228" y="561630"/>
                    <a:pt x="384863" y="558270"/>
                    <a:pt x="384863" y="553976"/>
                  </a:cubicBezTo>
                  <a:lnTo>
                    <a:pt x="384863" y="539321"/>
                  </a:lnTo>
                  <a:lnTo>
                    <a:pt x="384863" y="474634"/>
                  </a:lnTo>
                  <a:lnTo>
                    <a:pt x="384863" y="459885"/>
                  </a:lnTo>
                  <a:cubicBezTo>
                    <a:pt x="384863" y="455685"/>
                    <a:pt x="388228" y="452324"/>
                    <a:pt x="392435" y="452324"/>
                  </a:cubicBezTo>
                  <a:close/>
                  <a:moveTo>
                    <a:pt x="464152" y="409985"/>
                  </a:moveTo>
                  <a:lnTo>
                    <a:pt x="499488" y="409985"/>
                  </a:lnTo>
                  <a:cubicBezTo>
                    <a:pt x="503788" y="409985"/>
                    <a:pt x="507153" y="413348"/>
                    <a:pt x="507153" y="417551"/>
                  </a:cubicBezTo>
                  <a:lnTo>
                    <a:pt x="507153" y="474622"/>
                  </a:lnTo>
                  <a:lnTo>
                    <a:pt x="507153" y="496853"/>
                  </a:lnTo>
                  <a:lnTo>
                    <a:pt x="507153" y="553923"/>
                  </a:lnTo>
                  <a:cubicBezTo>
                    <a:pt x="507153" y="558127"/>
                    <a:pt x="503788" y="561489"/>
                    <a:pt x="499488" y="561489"/>
                  </a:cubicBezTo>
                  <a:lnTo>
                    <a:pt x="464152" y="561489"/>
                  </a:lnTo>
                  <a:cubicBezTo>
                    <a:pt x="459852" y="561489"/>
                    <a:pt x="456487" y="558127"/>
                    <a:pt x="456487" y="553923"/>
                  </a:cubicBezTo>
                  <a:lnTo>
                    <a:pt x="456487" y="496853"/>
                  </a:lnTo>
                  <a:lnTo>
                    <a:pt x="456487" y="474622"/>
                  </a:lnTo>
                  <a:lnTo>
                    <a:pt x="456487" y="417551"/>
                  </a:lnTo>
                  <a:cubicBezTo>
                    <a:pt x="456487" y="413348"/>
                    <a:pt x="459852" y="409985"/>
                    <a:pt x="464152" y="409985"/>
                  </a:cubicBezTo>
                  <a:close/>
                  <a:moveTo>
                    <a:pt x="553539" y="277886"/>
                  </a:moveTo>
                  <a:cubicBezTo>
                    <a:pt x="555408" y="277886"/>
                    <a:pt x="557277" y="278727"/>
                    <a:pt x="558399" y="280594"/>
                  </a:cubicBezTo>
                  <a:lnTo>
                    <a:pt x="608220" y="360717"/>
                  </a:lnTo>
                  <a:cubicBezTo>
                    <a:pt x="610743" y="364546"/>
                    <a:pt x="607846" y="369495"/>
                    <a:pt x="603359" y="369402"/>
                  </a:cubicBezTo>
                  <a:lnTo>
                    <a:pt x="578776" y="369402"/>
                  </a:lnTo>
                  <a:lnTo>
                    <a:pt x="578776" y="429074"/>
                  </a:lnTo>
                  <a:lnTo>
                    <a:pt x="578776" y="432529"/>
                  </a:lnTo>
                  <a:lnTo>
                    <a:pt x="578776" y="554674"/>
                  </a:lnTo>
                  <a:cubicBezTo>
                    <a:pt x="578589" y="558690"/>
                    <a:pt x="575224" y="561771"/>
                    <a:pt x="571205" y="561771"/>
                  </a:cubicBezTo>
                  <a:lnTo>
                    <a:pt x="535779" y="561771"/>
                  </a:lnTo>
                  <a:cubicBezTo>
                    <a:pt x="531573" y="561771"/>
                    <a:pt x="528208" y="558409"/>
                    <a:pt x="528208" y="554207"/>
                  </a:cubicBezTo>
                  <a:lnTo>
                    <a:pt x="528208" y="369495"/>
                  </a:lnTo>
                  <a:lnTo>
                    <a:pt x="503625" y="369495"/>
                  </a:lnTo>
                  <a:cubicBezTo>
                    <a:pt x="499138" y="369495"/>
                    <a:pt x="496427" y="364546"/>
                    <a:pt x="498764" y="360717"/>
                  </a:cubicBezTo>
                  <a:lnTo>
                    <a:pt x="548678" y="280594"/>
                  </a:lnTo>
                  <a:cubicBezTo>
                    <a:pt x="549800" y="278727"/>
                    <a:pt x="551669" y="277886"/>
                    <a:pt x="553539" y="277886"/>
                  </a:cubicBezTo>
                  <a:close/>
                  <a:moveTo>
                    <a:pt x="248743" y="0"/>
                  </a:moveTo>
                  <a:lnTo>
                    <a:pt x="260245" y="0"/>
                  </a:lnTo>
                  <a:lnTo>
                    <a:pt x="271654" y="0"/>
                  </a:lnTo>
                  <a:cubicBezTo>
                    <a:pt x="325049" y="0"/>
                    <a:pt x="368159" y="43234"/>
                    <a:pt x="368159" y="96367"/>
                  </a:cubicBezTo>
                  <a:lnTo>
                    <a:pt x="368159" y="203287"/>
                  </a:lnTo>
                  <a:cubicBezTo>
                    <a:pt x="368159" y="220002"/>
                    <a:pt x="359555" y="234849"/>
                    <a:pt x="346651" y="243440"/>
                  </a:cubicBezTo>
                  <a:lnTo>
                    <a:pt x="346651" y="346532"/>
                  </a:lnTo>
                  <a:cubicBezTo>
                    <a:pt x="346651" y="348399"/>
                    <a:pt x="347586" y="349987"/>
                    <a:pt x="349269" y="351014"/>
                  </a:cubicBezTo>
                  <a:cubicBezTo>
                    <a:pt x="359368" y="355869"/>
                    <a:pt x="396399" y="374545"/>
                    <a:pt x="440257" y="403493"/>
                  </a:cubicBezTo>
                  <a:cubicBezTo>
                    <a:pt x="437732" y="407602"/>
                    <a:pt x="436236" y="412457"/>
                    <a:pt x="436236" y="417687"/>
                  </a:cubicBezTo>
                  <a:lnTo>
                    <a:pt x="436236" y="433748"/>
                  </a:lnTo>
                  <a:cubicBezTo>
                    <a:pt x="433617" y="432908"/>
                    <a:pt x="430812" y="432441"/>
                    <a:pt x="427820" y="432441"/>
                  </a:cubicBezTo>
                  <a:lnTo>
                    <a:pt x="392378" y="432441"/>
                  </a:lnTo>
                  <a:cubicBezTo>
                    <a:pt x="377136" y="432441"/>
                    <a:pt x="364699" y="444767"/>
                    <a:pt x="364699" y="460081"/>
                  </a:cubicBezTo>
                  <a:lnTo>
                    <a:pt x="364699" y="474742"/>
                  </a:lnTo>
                  <a:lnTo>
                    <a:pt x="364699" y="539454"/>
                  </a:lnTo>
                  <a:lnTo>
                    <a:pt x="364699" y="554207"/>
                  </a:lnTo>
                  <a:cubicBezTo>
                    <a:pt x="364699" y="556822"/>
                    <a:pt x="365073" y="559250"/>
                    <a:pt x="365821" y="561771"/>
                  </a:cubicBezTo>
                  <a:lnTo>
                    <a:pt x="294471" y="561771"/>
                  </a:lnTo>
                  <a:lnTo>
                    <a:pt x="272215" y="459521"/>
                  </a:lnTo>
                  <a:cubicBezTo>
                    <a:pt x="317288" y="396676"/>
                    <a:pt x="268848" y="393688"/>
                    <a:pt x="260339" y="393595"/>
                  </a:cubicBezTo>
                  <a:cubicBezTo>
                    <a:pt x="251829" y="393688"/>
                    <a:pt x="203390" y="396676"/>
                    <a:pt x="248463" y="459521"/>
                  </a:cubicBezTo>
                  <a:lnTo>
                    <a:pt x="226207" y="561771"/>
                  </a:lnTo>
                  <a:lnTo>
                    <a:pt x="0" y="561771"/>
                  </a:lnTo>
                  <a:lnTo>
                    <a:pt x="0" y="488468"/>
                  </a:lnTo>
                  <a:cubicBezTo>
                    <a:pt x="0" y="472874"/>
                    <a:pt x="6826" y="458213"/>
                    <a:pt x="18796" y="448315"/>
                  </a:cubicBezTo>
                  <a:cubicBezTo>
                    <a:pt x="85190" y="393968"/>
                    <a:pt x="156633" y="357830"/>
                    <a:pt x="171221" y="350734"/>
                  </a:cubicBezTo>
                  <a:cubicBezTo>
                    <a:pt x="172811" y="349987"/>
                    <a:pt x="173840" y="348399"/>
                    <a:pt x="173840" y="346532"/>
                  </a:cubicBezTo>
                  <a:lnTo>
                    <a:pt x="173840" y="243440"/>
                  </a:lnTo>
                  <a:cubicBezTo>
                    <a:pt x="160841" y="234849"/>
                    <a:pt x="152238" y="220095"/>
                    <a:pt x="152238" y="203287"/>
                  </a:cubicBezTo>
                  <a:lnTo>
                    <a:pt x="152238" y="96367"/>
                  </a:lnTo>
                  <a:cubicBezTo>
                    <a:pt x="152238" y="43048"/>
                    <a:pt x="195534" y="0"/>
                    <a:pt x="24874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44" name="组合 28"/>
          <p:cNvGrpSpPr/>
          <p:nvPr/>
        </p:nvGrpSpPr>
        <p:grpSpPr>
          <a:xfrm>
            <a:off x="1190520" y="250920"/>
            <a:ext cx="10360080" cy="625320"/>
            <a:chOff x="1190520" y="250920"/>
            <a:chExt cx="10360080" cy="625320"/>
          </a:xfrm>
        </p:grpSpPr>
        <p:sp>
          <p:nvSpPr>
            <p:cNvPr id="2345" name="直接连接符 2"/>
            <p:cNvSpPr/>
            <p:nvPr/>
          </p:nvSpPr>
          <p:spPr>
            <a:xfrm>
              <a:off x="1190520" y="5889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46" name="直接连接符 3"/>
            <p:cNvSpPr/>
            <p:nvPr/>
          </p:nvSpPr>
          <p:spPr>
            <a:xfrm>
              <a:off x="9571320" y="5889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347" name="文本框 31" descr=""/>
            <p:cNvPicPr/>
            <p:nvPr/>
          </p:nvPicPr>
          <p:blipFill>
            <a:blip r:embed="rId1"/>
            <a:stretch/>
          </p:blipFill>
          <p:spPr>
            <a:xfrm>
              <a:off x="3416040" y="250920"/>
              <a:ext cx="6040800" cy="625320"/>
            </a:xfrm>
            <a:prstGeom prst="rect">
              <a:avLst/>
            </a:prstGeom>
            <a:ln w="0">
              <a:noFill/>
            </a:ln>
          </p:spPr>
        </p:pic>
      </p:grpSp>
      <p:sp>
        <p:nvSpPr>
          <p:cNvPr id="2348" name="文本框 43"/>
          <p:cNvSpPr/>
          <p:nvPr/>
        </p:nvSpPr>
        <p:spPr>
          <a:xfrm>
            <a:off x="550800" y="3284640"/>
            <a:ext cx="5113440" cy="280836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2f75b4"/>
                </a:solidFill>
                <a:latin typeface="微软雅黑"/>
                <a:ea typeface="微软雅黑"/>
              </a:rPr>
              <a:t>三</a:t>
            </a:r>
            <a:r>
              <a:rPr b="0" lang="zh-CN" sz="2400" spc="-1" strike="noStrike">
                <a:solidFill>
                  <a:srgbClr val="2f75b4"/>
                </a:solidFill>
                <a:latin typeface="微软雅黑"/>
                <a:ea typeface="微软雅黑"/>
              </a:rPr>
              <a:t>、</a:t>
            </a:r>
            <a:r>
              <a:rPr b="1" lang="zh-CN" sz="2400" spc="-1" strike="noStrike">
                <a:solidFill>
                  <a:srgbClr val="2f75b4"/>
                </a:solidFill>
                <a:latin typeface="微软雅黑"/>
                <a:ea typeface="微软雅黑"/>
              </a:rPr>
              <a:t>在建工程审计</a:t>
            </a:r>
            <a:endParaRPr b="1" lang="en-US" sz="2400" spc="-1" strike="noStrike">
              <a:solidFill>
                <a:srgbClr val="000000"/>
              </a:solidFill>
              <a:latin typeface="Arial"/>
            </a:endParaRPr>
          </a:p>
          <a:p>
            <a:pP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ea typeface="宋体"/>
              </a:rPr>
              <a:t>在建工程审计的实质性程序一般包括：获取或编制在建工程明细表；实施分 析程序；检查本期增加及减少的在建工程；检查利息资本化是否正确；实地检查在 建工程；检查在建工程减值准备，关注停建工程；检查在建工程的披露是否正确。</a:t>
            </a:r>
            <a:endParaRPr b="1" lang="en-US" sz="2000" spc="-1" strike="noStrike">
              <a:solidFill>
                <a:srgbClr val="000000"/>
              </a:solidFill>
              <a:latin typeface="Arial"/>
            </a:endParaRPr>
          </a:p>
        </p:txBody>
      </p:sp>
    </p:spTree>
  </p:cSld>
  <p:transition>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dur="indefinite" nodeType="afterEffect" fill="hold" presetClass="entr" presetID="42">
                                  <p:stCondLst>
                                    <p:cond delay="0"/>
                                  </p:stCondLst>
                                  <p:childTnLst>
                                    <p:set>
                                      <p:cBhvr>
                                        <p:cTn id="227" dur="1" fill="hold">
                                          <p:stCondLst>
                                            <p:cond delay="0"/>
                                          </p:stCondLst>
                                        </p:cTn>
                                        <p:tgtEl>
                                          <p:spTgt spid="2330"/>
                                        </p:tgtEl>
                                        <p:attrNameLst>
                                          <p:attrName>style.visibility</p:attrName>
                                        </p:attrNameLst>
                                      </p:cBhvr>
                                      <p:to>
                                        <p:strVal val="visible"/>
                                      </p:to>
                                    </p:set>
                                    <p:animEffect filter="fade" transition="in">
                                      <p:cBhvr additive="repl">
                                        <p:cTn id="228" dur="1000"/>
                                        <p:tgtEl>
                                          <p:spTgt spid="2330"/>
                                        </p:tgtEl>
                                      </p:cBhvr>
                                    </p:animEffect>
                                    <p:anim calcmode="lin" valueType="num">
                                      <p:cBhvr additive="repl">
                                        <p:cTn id="229" dur="1000" fill="hold"/>
                                        <p:tgtEl>
                                          <p:spTgt spid="2330"/>
                                        </p:tgtEl>
                                        <p:attrNameLst>
                                          <p:attrName>ppt_x</p:attrName>
                                        </p:attrNameLst>
                                      </p:cBhvr>
                                      <p:tavLst>
                                        <p:tav tm="0">
                                          <p:val>
                                            <p:strVal val="#ppt_x"/>
                                          </p:val>
                                        </p:tav>
                                        <p:tav tm="100000">
                                          <p:val>
                                            <p:strVal val="#ppt_x"/>
                                          </p:val>
                                        </p:tav>
                                      </p:tavLst>
                                    </p:anim>
                                    <p:anim calcmode="lin" valueType="num">
                                      <p:cBhvr additive="repl">
                                        <p:cTn id="230" dur="1000" fill="hold"/>
                                        <p:tgtEl>
                                          <p:spTgt spid="2330"/>
                                        </p:tgtEl>
                                        <p:attrNameLst>
                                          <p:attrName>ppt_y</p:attrName>
                                        </p:attrNameLst>
                                      </p:cBhvr>
                                      <p:tavLst>
                                        <p:tav tm="0">
                                          <p:val>
                                            <p:strVal val="#ppt_y+.1"/>
                                          </p:val>
                                        </p:tav>
                                        <p:tav tm="100000">
                                          <p:val>
                                            <p:strVal val="#ppt_y"/>
                                          </p:val>
                                        </p:tav>
                                      </p:tavLst>
                                    </p:anim>
                                  </p:childTnLst>
                                </p:cTn>
                              </p:par>
                            </p:childTnLst>
                          </p:cTn>
                        </p:par>
                        <p:par>
                          <p:cTn id="231" fill="hold">
                            <p:stCondLst>
                              <p:cond delay="1000"/>
                            </p:stCondLst>
                            <p:childTnLst>
                              <p:par>
                                <p:cTn id="232" dur="indefinite" nodeType="afterEffect" fill="hold" presetClass="entr" presetID="12" presetSubtype="8">
                                  <p:stCondLst>
                                    <p:cond delay="0"/>
                                  </p:stCondLst>
                                  <p:childTnLst>
                                    <p:set>
                                      <p:cBhvr>
                                        <p:cTn id="233" dur="1" fill="hold">
                                          <p:stCondLst>
                                            <p:cond delay="0"/>
                                          </p:stCondLst>
                                        </p:cTn>
                                        <p:tgtEl>
                                          <p:spTgt spid="2331"/>
                                        </p:tgtEl>
                                        <p:attrNameLst>
                                          <p:attrName>style.visibility</p:attrName>
                                        </p:attrNameLst>
                                      </p:cBhvr>
                                      <p:to>
                                        <p:strVal val="visible"/>
                                      </p:to>
                                    </p:set>
                                    <p:anim calcmode="lin" valueType="num">
                                      <p:cBhvr additive="repl">
                                        <p:cTn id="234" dur="500"/>
                                        <p:tgtEl>
                                          <p:spTgt spid="2331"/>
                                        </p:tgtEl>
                                        <p:attrNameLst>
                                          <p:attrName>ppt_x</p:attrName>
                                        </p:attrNameLst>
                                      </p:cBhvr>
                                      <p:tavLst>
                                        <p:tav tm="0">
                                          <p:val>
                                            <p:strVal val="#ppt_x-#ppt_w*1.125000"/>
                                          </p:val>
                                        </p:tav>
                                        <p:tav tm="100000">
                                          <p:val>
                                            <p:strVal val="#ppt_x"/>
                                          </p:val>
                                        </p:tav>
                                      </p:tavLst>
                                    </p:anim>
                                    <p:animEffect filter="wipe(right)" transition="in">
                                      <p:cBhvr additive="repl">
                                        <p:cTn id="235" dur="500"/>
                                        <p:tgtEl>
                                          <p:spTgt spid="2331"/>
                                        </p:tgtEl>
                                      </p:cBhvr>
                                    </p:animEffect>
                                  </p:childTnLst>
                                </p:cTn>
                              </p:par>
                            </p:childTnLst>
                          </p:cTn>
                        </p:par>
                        <p:par>
                          <p:cTn id="236" fill="hold">
                            <p:stCondLst>
                              <p:cond delay="1500"/>
                            </p:stCondLst>
                            <p:childTnLst>
                              <p:par>
                                <p:cTn id="237" dur="indefinite" nodeType="afterEffect" fill="hold" presetClass="entr" presetID="12" presetSubtype="8">
                                  <p:stCondLst>
                                    <p:cond delay="0"/>
                                  </p:stCondLst>
                                  <p:childTnLst>
                                    <p:set>
                                      <p:cBhvr>
                                        <p:cTn id="238" dur="1" fill="hold">
                                          <p:stCondLst>
                                            <p:cond delay="0"/>
                                          </p:stCondLst>
                                        </p:cTn>
                                        <p:tgtEl>
                                          <p:spTgt spid="2337"/>
                                        </p:tgtEl>
                                        <p:attrNameLst>
                                          <p:attrName>style.visibility</p:attrName>
                                        </p:attrNameLst>
                                      </p:cBhvr>
                                      <p:to>
                                        <p:strVal val="visible"/>
                                      </p:to>
                                    </p:set>
                                    <p:anim calcmode="lin" valueType="num">
                                      <p:cBhvr additive="repl">
                                        <p:cTn id="239" dur="500"/>
                                        <p:tgtEl>
                                          <p:spTgt spid="2337"/>
                                        </p:tgtEl>
                                        <p:attrNameLst>
                                          <p:attrName>ppt_x</p:attrName>
                                        </p:attrNameLst>
                                      </p:cBhvr>
                                      <p:tavLst>
                                        <p:tav tm="0">
                                          <p:val>
                                            <p:strVal val="#ppt_x-#ppt_w*1.125000"/>
                                          </p:val>
                                        </p:tav>
                                        <p:tav tm="100000">
                                          <p:val>
                                            <p:strVal val="#ppt_x"/>
                                          </p:val>
                                        </p:tav>
                                      </p:tavLst>
                                    </p:anim>
                                    <p:animEffect filter="wipe(right)" transition="in">
                                      <p:cBhvr additive="repl">
                                        <p:cTn id="240" dur="500"/>
                                        <p:tgtEl>
                                          <p:spTgt spid="2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title"/>
          </p:nvPr>
        </p:nvSpPr>
        <p:spPr>
          <a:xfrm>
            <a:off x="5665320" y="2612520"/>
            <a:ext cx="5978520" cy="15462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5b9bd4"/>
                </a:solidFill>
                <a:latin typeface="Bodoni MT Black"/>
              </a:rPr>
              <a:t>THANKS</a:t>
            </a:r>
            <a:endParaRPr b="1" lang="en-US" sz="8800" spc="-1" strike="noStrike">
              <a:solidFill>
                <a:srgbClr val="262626"/>
              </a:solidFill>
              <a:latin typeface="Arial"/>
            </a:endParaRPr>
          </a:p>
        </p:txBody>
      </p:sp>
    </p:spTree>
  </p:cSld>
  <p:transition>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dur="indefinite" nodeType="withEffect" fill="hold" presetClass="entr" presetID="0">
                                  <p:stCondLst>
                                    <p:cond delay="0"/>
                                  </p:stCondLst>
                                  <p:iterate type="lt">
                                    <p:tmAbs val="100"/>
                                  </p:iterate>
                                  <p:childTnLst>
                                    <p:set>
                                      <p:cBhvr>
                                        <p:cTn id="246" dur="1" fill="hold">
                                          <p:stCondLst>
                                            <p:cond delay="0"/>
                                          </p:stCondLst>
                                        </p:cTn>
                                        <p:tgtEl>
                                          <p:spTgt spid="2349"/>
                                        </p:tgtEl>
                                        <p:attrNameLst>
                                          <p:attrName>style.visibility</p:attrName>
                                        </p:attrNameLst>
                                      </p:cBhvr>
                                      <p:to>
                                        <p:strVal val="visible"/>
                                      </p:to>
                                    </p:set>
                                    <p:anim calcmode="lin" valueType="num">
                                      <p:cBhvr additive="repl">
                                        <p:cTn id="247" dur="833" fill="hold">
                                          <p:stCondLst>
                                            <p:cond delay="167"/>
                                          </p:stCondLst>
                                        </p:cTn>
                                        <p:tgtEl>
                                          <p:spTgt spid="2349"/>
                                        </p:tgtEl>
                                        <p:attrNameLst>
                                          <p:attrName>ppt_h</p:attrName>
                                        </p:attrNameLst>
                                      </p:cBhvr>
                                      <p:tavLst>
                                        <p:tav fmla="height*(1+0.4*sin(2.5*pi*$)*(1-$)^3)" tm="0">
                                          <p:val>
                                            <p:fltVal val="0"/>
                                          </p:val>
                                        </p:tav>
                                        <p:tav fmla="height*(1+0.4*sin(2.5*pi*$)*(1-$)^3)" tm="100000">
                                          <p:val>
                                            <p:fltVal val="1"/>
                                          </p:val>
                                        </p:tav>
                                      </p:tavLst>
                                    </p:anim>
                                    <p:anim calcmode="lin" valueType="num">
                                      <p:cBhvr additive="repl">
                                        <p:cTn id="248" dur="1000" fill="hold">
                                          <p:stCondLst>
                                            <p:cond delay="0"/>
                                          </p:stCondLst>
                                        </p:cTn>
                                        <p:tgtEl>
                                          <p:spTgt spid="2349"/>
                                        </p:tgtEl>
                                        <p:attrNameLst>
                                          <p:attrName>ppt_y</p:attrName>
                                        </p:attrNameLst>
                                      </p:cBhvr>
                                      <p:tavLst>
                                        <p:tav fmla="y-0.5*height+0.5*height" tm="0">
                                          <p:val>
                                            <p:fltVal val="0"/>
                                          </p:val>
                                        </p:tav>
                                        <p:tav fmla="y-0.5*height+0.5*height" tm="100000">
                                          <p:val>
                                            <p:fltVal val="1"/>
                                          </p:val>
                                        </p:tav>
                                      </p:tavLst>
                                    </p:anim>
                                    <p:anim calcmode="lin" valueType="num">
                                      <p:cBhvr additive="repl">
                                        <p:cTn id="249" dur="167" fill="hold">
                                          <p:stCondLst>
                                            <p:cond delay="0"/>
                                          </p:stCondLst>
                                        </p:cTn>
                                        <p:tgtEl>
                                          <p:spTgt spid="2349"/>
                                        </p:tgtEl>
                                        <p:attrNameLst>
                                          <p:attrName>ppt_h</p:attrName>
                                        </p:attrNameLst>
                                      </p:cBhvr>
                                      <p:tavLst>
                                        <p:tav fmla="$^2*height" tm="0">
                                          <p:val>
                                            <p:fltVal val="0"/>
                                          </p:val>
                                        </p:tav>
                                        <p:tav fmla="$^2*height"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文本框 2"/>
          <p:cNvSpPr/>
          <p:nvPr/>
        </p:nvSpPr>
        <p:spPr>
          <a:xfrm>
            <a:off x="77760" y="2784600"/>
            <a:ext cx="221148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843" name="组合 7"/>
          <p:cNvGrpSpPr/>
          <p:nvPr/>
        </p:nvGrpSpPr>
        <p:grpSpPr>
          <a:xfrm>
            <a:off x="2338560" y="260280"/>
            <a:ext cx="9775800" cy="6174000"/>
            <a:chOff x="2338560" y="260280"/>
            <a:chExt cx="9775800" cy="6174000"/>
          </a:xfrm>
        </p:grpSpPr>
        <p:sp>
          <p:nvSpPr>
            <p:cNvPr id="1844" name="矩形 3"/>
            <p:cNvSpPr/>
            <p:nvPr/>
          </p:nvSpPr>
          <p:spPr>
            <a:xfrm>
              <a:off x="2338560" y="260280"/>
              <a:ext cx="9775800" cy="617400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5" name="矩形: 剪去对角 4"/>
            <p:cNvSpPr/>
            <p:nvPr/>
          </p:nvSpPr>
          <p:spPr>
            <a:xfrm>
              <a:off x="2619360" y="582480"/>
              <a:ext cx="9155160" cy="5563080"/>
            </a:xfrm>
            <a:custGeom>
              <a:avLst/>
              <a:gdLst/>
              <a:ahLst/>
              <a:rect l="l" t="t" r="r" b="b"/>
              <a:pathLst>
                <a:path w="11299" h="8959">
                  <a:moveTo>
                    <a:pt x="754" y="0"/>
                  </a:moveTo>
                  <a:lnTo>
                    <a:pt x="11299" y="0"/>
                  </a:lnTo>
                  <a:lnTo>
                    <a:pt x="11299" y="0"/>
                  </a:lnTo>
                  <a:lnTo>
                    <a:pt x="11299" y="8204"/>
                  </a:lnTo>
                  <a:lnTo>
                    <a:pt x="10544" y="8959"/>
                  </a:lnTo>
                  <a:lnTo>
                    <a:pt x="0" y="8959"/>
                  </a:lnTo>
                  <a:lnTo>
                    <a:pt x="0" y="8959"/>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46" name="图片 8" descr=""/>
          <p:cNvPicPr/>
          <p:nvPr/>
        </p:nvPicPr>
        <p:blipFill>
          <a:blip r:embed="rId2"/>
          <a:stretch/>
        </p:blipFill>
        <p:spPr>
          <a:xfrm rot="6720000">
            <a:off x="3204720" y="900000"/>
            <a:ext cx="838440" cy="682560"/>
          </a:xfrm>
          <a:prstGeom prst="rect">
            <a:avLst/>
          </a:prstGeom>
          <a:ln w="0">
            <a:noFill/>
          </a:ln>
        </p:spPr>
      </p:pic>
      <p:pic>
        <p:nvPicPr>
          <p:cNvPr id="1847" name="图片 9" descr=""/>
          <p:cNvPicPr/>
          <p:nvPr/>
        </p:nvPicPr>
        <p:blipFill>
          <a:blip r:embed="rId3"/>
          <a:stretch/>
        </p:blipFill>
        <p:spPr>
          <a:xfrm>
            <a:off x="10834560" y="5362560"/>
            <a:ext cx="733680" cy="673200"/>
          </a:xfrm>
          <a:prstGeom prst="rect">
            <a:avLst/>
          </a:prstGeom>
          <a:ln w="0">
            <a:noFill/>
          </a:ln>
        </p:spPr>
      </p:pic>
      <p:sp>
        <p:nvSpPr>
          <p:cNvPr id="1848" name="文本框 11"/>
          <p:cNvSpPr/>
          <p:nvPr/>
        </p:nvSpPr>
        <p:spPr>
          <a:xfrm>
            <a:off x="2584440" y="1766880"/>
            <a:ext cx="849636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知识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了解采购与付款循环审计主要业务活动。</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rPr>
              <a:t>2. </a:t>
            </a:r>
            <a:r>
              <a:rPr b="1" lang="zh-CN" sz="2800" spc="-1" strike="noStrike">
                <a:solidFill>
                  <a:srgbClr val="000000"/>
                </a:solidFill>
                <a:latin typeface="Arial"/>
                <a:ea typeface="宋体"/>
              </a:rPr>
              <a:t>理解采购与付款循环的关键控制。 </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 </a:t>
            </a:r>
            <a:r>
              <a:rPr b="1" lang="zh-CN" sz="2800" spc="-1" strike="noStrike">
                <a:solidFill>
                  <a:srgbClr val="000000"/>
                </a:solidFill>
                <a:latin typeface="Arial"/>
                <a:ea typeface="宋体"/>
              </a:rPr>
              <a:t>掌握采购与付款循环审计的目标。</a:t>
            </a:r>
            <a:endParaRPr b="1" lang="en-US" sz="2800" spc="-1" strike="noStrike">
              <a:solidFill>
                <a:srgbClr val="000000"/>
              </a:solidFill>
              <a:latin typeface="Arial"/>
            </a:endParaRPr>
          </a:p>
        </p:txBody>
      </p:sp>
      <p:pic>
        <p:nvPicPr>
          <p:cNvPr id="1849" name="图片 7" descr="&amp;pky8040249173&amp;"/>
          <p:cNvPicPr/>
          <p:nvPr/>
        </p:nvPicPr>
        <p:blipFill>
          <a:blip r:embed="rId4"/>
          <a:srcRect l="5404" t="13137" r="53113" b="0"/>
          <a:stretch/>
        </p:blipFill>
        <p:spPr>
          <a:xfrm>
            <a:off x="127080" y="3716280"/>
            <a:ext cx="1947960" cy="246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文本框 2"/>
          <p:cNvSpPr/>
          <p:nvPr/>
        </p:nvSpPr>
        <p:spPr>
          <a:xfrm>
            <a:off x="77760" y="2784600"/>
            <a:ext cx="221148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851" name="组合 7"/>
          <p:cNvGrpSpPr/>
          <p:nvPr/>
        </p:nvGrpSpPr>
        <p:grpSpPr>
          <a:xfrm>
            <a:off x="2208240" y="260280"/>
            <a:ext cx="9906120" cy="6553440"/>
            <a:chOff x="2208240" y="260280"/>
            <a:chExt cx="9906120" cy="6553440"/>
          </a:xfrm>
        </p:grpSpPr>
        <p:sp>
          <p:nvSpPr>
            <p:cNvPr id="1852" name="矩形 3"/>
            <p:cNvSpPr/>
            <p:nvPr/>
          </p:nvSpPr>
          <p:spPr>
            <a:xfrm>
              <a:off x="2208240" y="260280"/>
              <a:ext cx="9906120" cy="655344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3" name="矩形: 剪去对角 4"/>
            <p:cNvSpPr/>
            <p:nvPr/>
          </p:nvSpPr>
          <p:spPr>
            <a:xfrm>
              <a:off x="2492280" y="601560"/>
              <a:ext cx="9277200" cy="5905800"/>
            </a:xfrm>
            <a:custGeom>
              <a:avLst/>
              <a:gdLst/>
              <a:ahLst/>
              <a:rect l="l" t="t" r="r" b="b"/>
              <a:pathLst>
                <a:path w="11299" h="8960">
                  <a:moveTo>
                    <a:pt x="754" y="0"/>
                  </a:moveTo>
                  <a:lnTo>
                    <a:pt x="11299" y="0"/>
                  </a:lnTo>
                  <a:lnTo>
                    <a:pt x="11299" y="0"/>
                  </a:lnTo>
                  <a:lnTo>
                    <a:pt x="11299" y="8205"/>
                  </a:lnTo>
                  <a:lnTo>
                    <a:pt x="10544" y="8960"/>
                  </a:lnTo>
                  <a:lnTo>
                    <a:pt x="0" y="8960"/>
                  </a:lnTo>
                  <a:lnTo>
                    <a:pt x="0" y="8960"/>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54" name="图片 8" descr=""/>
          <p:cNvPicPr/>
          <p:nvPr/>
        </p:nvPicPr>
        <p:blipFill>
          <a:blip r:embed="rId2"/>
          <a:stretch/>
        </p:blipFill>
        <p:spPr>
          <a:xfrm rot="6720000">
            <a:off x="3204720" y="900000"/>
            <a:ext cx="838440" cy="682560"/>
          </a:xfrm>
          <a:prstGeom prst="rect">
            <a:avLst/>
          </a:prstGeom>
          <a:ln w="0">
            <a:noFill/>
          </a:ln>
        </p:spPr>
      </p:pic>
      <p:pic>
        <p:nvPicPr>
          <p:cNvPr id="1855" name="图片 9" descr=""/>
          <p:cNvPicPr/>
          <p:nvPr/>
        </p:nvPicPr>
        <p:blipFill>
          <a:blip r:embed="rId3"/>
          <a:stretch/>
        </p:blipFill>
        <p:spPr>
          <a:xfrm>
            <a:off x="10834560" y="5362560"/>
            <a:ext cx="733680" cy="673200"/>
          </a:xfrm>
          <a:prstGeom prst="rect">
            <a:avLst/>
          </a:prstGeom>
          <a:ln w="0">
            <a:noFill/>
          </a:ln>
        </p:spPr>
      </p:pic>
      <p:sp>
        <p:nvSpPr>
          <p:cNvPr id="1856" name="文本框 5"/>
          <p:cNvSpPr/>
          <p:nvPr/>
        </p:nvSpPr>
        <p:spPr>
          <a:xfrm>
            <a:off x="2711520" y="1341360"/>
            <a:ext cx="928836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能力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能开展采购与付款循环的控制测试，会区分资本性支出和收益性    支出的书面标准。 </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 </a:t>
            </a:r>
            <a:r>
              <a:rPr b="1" lang="zh-CN" sz="2800" spc="-1" strike="noStrike">
                <a:solidFill>
                  <a:srgbClr val="000000"/>
                </a:solidFill>
                <a:latin typeface="Arial"/>
                <a:ea typeface="宋体"/>
              </a:rPr>
              <a:t>能按月与客户核对应付账款余额，对不符合情况应及时处理。</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ea typeface="宋体"/>
              </a:rPr>
              <a:t>     </a:t>
            </a:r>
            <a:r>
              <a:rPr b="1" lang="en-US" sz="2800" spc="-1" strike="noStrike">
                <a:solidFill>
                  <a:srgbClr val="000000"/>
                </a:solidFill>
                <a:latin typeface="Arial"/>
              </a:rPr>
              <a:t>3. </a:t>
            </a:r>
            <a:r>
              <a:rPr b="1" lang="zh-CN" sz="2800" spc="-1" strike="noStrike">
                <a:solidFill>
                  <a:srgbClr val="000000"/>
                </a:solidFill>
                <a:latin typeface="Arial"/>
                <a:ea typeface="宋体"/>
              </a:rPr>
              <a:t>能熟练掌握采购与付款业务循环审计的要点、方法和程序。</a:t>
            </a:r>
            <a:endParaRPr b="1" lang="en-US" sz="2800" spc="-1" strike="noStrike">
              <a:solidFill>
                <a:srgbClr val="000000"/>
              </a:solidFill>
              <a:latin typeface="Arial"/>
            </a:endParaRPr>
          </a:p>
        </p:txBody>
      </p:sp>
      <p:pic>
        <p:nvPicPr>
          <p:cNvPr id="1857" name="图片 7" descr="&amp;pky8040249173&amp;"/>
          <p:cNvPicPr/>
          <p:nvPr/>
        </p:nvPicPr>
        <p:blipFill>
          <a:blip r:embed="rId4"/>
          <a:srcRect l="5404" t="13137" r="53113" b="0"/>
          <a:stretch/>
        </p:blipFill>
        <p:spPr>
          <a:xfrm>
            <a:off x="127080" y="3716280"/>
            <a:ext cx="1947960" cy="246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文本框 2"/>
          <p:cNvSpPr/>
          <p:nvPr/>
        </p:nvSpPr>
        <p:spPr>
          <a:xfrm>
            <a:off x="77760" y="2784600"/>
            <a:ext cx="221148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859" name="组合 7"/>
          <p:cNvGrpSpPr/>
          <p:nvPr/>
        </p:nvGrpSpPr>
        <p:grpSpPr>
          <a:xfrm>
            <a:off x="2152800" y="592200"/>
            <a:ext cx="9920160" cy="5817960"/>
            <a:chOff x="2152800" y="592200"/>
            <a:chExt cx="9920160" cy="5817960"/>
          </a:xfrm>
        </p:grpSpPr>
        <p:sp>
          <p:nvSpPr>
            <p:cNvPr id="1860" name="矩形 3"/>
            <p:cNvSpPr/>
            <p:nvPr/>
          </p:nvSpPr>
          <p:spPr>
            <a:xfrm>
              <a:off x="2152800" y="592200"/>
              <a:ext cx="9920160" cy="581796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1" name="矩形: 剪去对角 4"/>
            <p:cNvSpPr/>
            <p:nvPr/>
          </p:nvSpPr>
          <p:spPr>
            <a:xfrm>
              <a:off x="2437200" y="895680"/>
              <a:ext cx="9290880" cy="5242320"/>
            </a:xfrm>
            <a:custGeom>
              <a:avLst/>
              <a:gdLst/>
              <a:ahLst/>
              <a:rect l="l" t="t" r="r" b="b"/>
              <a:pathLst>
                <a:path w="11300" h="8959">
                  <a:moveTo>
                    <a:pt x="754" y="0"/>
                  </a:moveTo>
                  <a:lnTo>
                    <a:pt x="11300" y="0"/>
                  </a:lnTo>
                  <a:lnTo>
                    <a:pt x="11300" y="0"/>
                  </a:lnTo>
                  <a:lnTo>
                    <a:pt x="11300" y="8204"/>
                  </a:lnTo>
                  <a:lnTo>
                    <a:pt x="10545" y="8959"/>
                  </a:lnTo>
                  <a:lnTo>
                    <a:pt x="0" y="8959"/>
                  </a:lnTo>
                  <a:lnTo>
                    <a:pt x="0" y="8959"/>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62" name="图片 8" descr=""/>
          <p:cNvPicPr/>
          <p:nvPr/>
        </p:nvPicPr>
        <p:blipFill>
          <a:blip r:embed="rId2"/>
          <a:stretch/>
        </p:blipFill>
        <p:spPr>
          <a:xfrm rot="6720000">
            <a:off x="2923920" y="608040"/>
            <a:ext cx="838080" cy="682560"/>
          </a:xfrm>
          <a:prstGeom prst="rect">
            <a:avLst/>
          </a:prstGeom>
          <a:ln w="0">
            <a:noFill/>
          </a:ln>
        </p:spPr>
      </p:pic>
      <p:pic>
        <p:nvPicPr>
          <p:cNvPr id="1863" name="图片 9" descr=""/>
          <p:cNvPicPr/>
          <p:nvPr/>
        </p:nvPicPr>
        <p:blipFill>
          <a:blip r:embed="rId3"/>
          <a:stretch/>
        </p:blipFill>
        <p:spPr>
          <a:xfrm>
            <a:off x="10834560" y="5362560"/>
            <a:ext cx="733680" cy="673200"/>
          </a:xfrm>
          <a:prstGeom prst="rect">
            <a:avLst/>
          </a:prstGeom>
          <a:ln w="0">
            <a:noFill/>
          </a:ln>
        </p:spPr>
      </p:pic>
      <p:sp>
        <p:nvSpPr>
          <p:cNvPr id="1864" name="文本框 6"/>
          <p:cNvSpPr/>
          <p:nvPr/>
        </p:nvSpPr>
        <p:spPr>
          <a:xfrm>
            <a:off x="2584440" y="1757520"/>
            <a:ext cx="9488520" cy="191772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素养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培养学生树立新时代经济监督的使命感，勇于维护国家和企业的经 济权益。       </a:t>
            </a:r>
            <a:r>
              <a:rPr b="1" lang="en-US" sz="2800" spc="-1" strike="noStrike">
                <a:solidFill>
                  <a:srgbClr val="000000"/>
                </a:solidFill>
                <a:latin typeface="Arial"/>
              </a:rPr>
              <a:t>         </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ea typeface="宋体"/>
              </a:rPr>
              <a:t>培养学生团队合作意识，强化合作意识，提高审计效率。</a:t>
            </a:r>
            <a:endParaRPr b="1" lang="en-US" sz="2800" spc="-1" strike="noStrike">
              <a:solidFill>
                <a:srgbClr val="000000"/>
              </a:solidFill>
              <a:latin typeface="Arial"/>
            </a:endParaRPr>
          </a:p>
        </p:txBody>
      </p:sp>
      <p:pic>
        <p:nvPicPr>
          <p:cNvPr id="1865" name="图片 7" descr="&amp;pky8040249173&amp;"/>
          <p:cNvPicPr/>
          <p:nvPr/>
        </p:nvPicPr>
        <p:blipFill>
          <a:blip r:embed="rId4"/>
          <a:srcRect l="5404" t="13137" r="53113" b="0"/>
          <a:stretch/>
        </p:blipFill>
        <p:spPr>
          <a:xfrm>
            <a:off x="127080" y="3716280"/>
            <a:ext cx="1947960" cy="246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文本框 2"/>
          <p:cNvSpPr/>
          <p:nvPr/>
        </p:nvSpPr>
        <p:spPr>
          <a:xfrm>
            <a:off x="119160" y="2736720"/>
            <a:ext cx="2593800" cy="138456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引例</a:t>
            </a:r>
            <a:endParaRPr b="1" lang="en-US" sz="3600" spc="-1" strike="noStrike">
              <a:solidFill>
                <a:srgbClr val="000000"/>
              </a:solidFill>
              <a:latin typeface="Arial"/>
            </a:endParaRPr>
          </a:p>
        </p:txBody>
      </p:sp>
      <p:grpSp>
        <p:nvGrpSpPr>
          <p:cNvPr id="1867" name="组合 7"/>
          <p:cNvGrpSpPr/>
          <p:nvPr/>
        </p:nvGrpSpPr>
        <p:grpSpPr>
          <a:xfrm>
            <a:off x="2293920" y="260280"/>
            <a:ext cx="9401040" cy="6500880"/>
            <a:chOff x="2293920" y="260280"/>
            <a:chExt cx="9401040" cy="6500880"/>
          </a:xfrm>
        </p:grpSpPr>
        <p:sp>
          <p:nvSpPr>
            <p:cNvPr id="1868" name="矩形 3"/>
            <p:cNvSpPr/>
            <p:nvPr/>
          </p:nvSpPr>
          <p:spPr>
            <a:xfrm>
              <a:off x="2293920" y="260280"/>
              <a:ext cx="9401040" cy="650088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9" name="矩形: 剪去对角 4"/>
            <p:cNvSpPr/>
            <p:nvPr/>
          </p:nvSpPr>
          <p:spPr>
            <a:xfrm>
              <a:off x="2633040" y="888120"/>
              <a:ext cx="8752680" cy="5334480"/>
            </a:xfrm>
            <a:prstGeom prst="pie">
              <a:avLst/>
            </a:pr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1870" name="图片 8" descr=""/>
          <p:cNvPicPr/>
          <p:nvPr/>
        </p:nvPicPr>
        <p:blipFill>
          <a:blip r:embed="rId2"/>
          <a:stretch/>
        </p:blipFill>
        <p:spPr>
          <a:xfrm rot="6720000">
            <a:off x="3215880" y="1816200"/>
            <a:ext cx="838080" cy="682560"/>
          </a:xfrm>
          <a:prstGeom prst="rect">
            <a:avLst/>
          </a:prstGeom>
          <a:ln w="0">
            <a:noFill/>
          </a:ln>
        </p:spPr>
      </p:pic>
      <p:pic>
        <p:nvPicPr>
          <p:cNvPr id="1871" name="图片 9" descr=""/>
          <p:cNvPicPr/>
          <p:nvPr/>
        </p:nvPicPr>
        <p:blipFill>
          <a:blip r:embed="rId3"/>
          <a:stretch/>
        </p:blipFill>
        <p:spPr>
          <a:xfrm>
            <a:off x="10769760" y="4371840"/>
            <a:ext cx="733320" cy="673200"/>
          </a:xfrm>
          <a:prstGeom prst="rect">
            <a:avLst/>
          </a:prstGeom>
          <a:ln w="0">
            <a:noFill/>
          </a:ln>
        </p:spPr>
      </p:pic>
      <p:sp>
        <p:nvSpPr>
          <p:cNvPr id="1872" name="文本框 5"/>
          <p:cNvSpPr/>
          <p:nvPr/>
        </p:nvSpPr>
        <p:spPr>
          <a:xfrm>
            <a:off x="2816280" y="1098720"/>
            <a:ext cx="8134200" cy="491472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Arial"/>
                <a:ea typeface="微软雅黑"/>
              </a:rPr>
              <a:t>       </a:t>
            </a:r>
            <a:r>
              <a:rPr b="0" lang="zh-CN" sz="2400" spc="-1" strike="noStrike">
                <a:solidFill>
                  <a:srgbClr val="262626"/>
                </a:solidFill>
                <a:latin typeface="Arial"/>
                <a:ea typeface="微软雅黑"/>
              </a:rPr>
              <a:t>审计人员对某厂 </a:t>
            </a:r>
            <a:r>
              <a:rPr b="0" lang="en-US" sz="2400" spc="-1" strike="noStrike">
                <a:solidFill>
                  <a:srgbClr val="262626"/>
                </a:solidFill>
                <a:latin typeface="Arial"/>
                <a:ea typeface="微软雅黑"/>
              </a:rPr>
              <a:t>20×× </a:t>
            </a:r>
            <a:r>
              <a:rPr b="0" lang="zh-CN" sz="2400" spc="-1" strike="noStrike">
                <a:solidFill>
                  <a:srgbClr val="262626"/>
                </a:solidFill>
                <a:latin typeface="Arial"/>
                <a:ea typeface="微软雅黑"/>
              </a:rPr>
              <a:t>年度财务结算进行审计，发现</a:t>
            </a:r>
            <a:r>
              <a:rPr b="0" lang="en-US" sz="2400" spc="-1" strike="noStrike">
                <a:solidFill>
                  <a:srgbClr val="262626"/>
                </a:solidFill>
                <a:latin typeface="Arial"/>
                <a:ea typeface="微软雅黑"/>
              </a:rPr>
              <a:t>20×× </a:t>
            </a:r>
            <a:r>
              <a:rPr b="0" lang="zh-CN" sz="2400" spc="-1" strike="noStrike">
                <a:solidFill>
                  <a:srgbClr val="262626"/>
                </a:solidFill>
                <a:latin typeface="Arial"/>
                <a:ea typeface="微软雅黑"/>
              </a:rPr>
              <a:t>年固定资产购入业务有下列疑点：</a:t>
            </a:r>
            <a:endParaRPr b="1" lang="en-US" sz="24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       </a:t>
            </a:r>
            <a:r>
              <a:rPr b="0" lang="en-US" sz="2400" spc="-1" strike="noStrike">
                <a:solidFill>
                  <a:srgbClr val="262626"/>
                </a:solidFill>
                <a:latin typeface="Arial"/>
                <a:ea typeface="微软雅黑"/>
              </a:rPr>
              <a:t>1.20×× </a:t>
            </a:r>
            <a:r>
              <a:rPr b="0" lang="zh-CN" sz="2400" spc="-1" strike="noStrike">
                <a:solidFill>
                  <a:srgbClr val="262626"/>
                </a:solidFill>
                <a:latin typeface="Arial"/>
                <a:ea typeface="微软雅黑"/>
              </a:rPr>
              <a:t>年 </a:t>
            </a:r>
            <a:r>
              <a:rPr b="0" lang="en-US" sz="2400" spc="-1" strike="noStrike">
                <a:solidFill>
                  <a:srgbClr val="262626"/>
                </a:solidFill>
                <a:latin typeface="Arial"/>
                <a:ea typeface="微软雅黑"/>
              </a:rPr>
              <a:t>3 </a:t>
            </a:r>
            <a:r>
              <a:rPr b="0" lang="zh-CN" sz="2400" spc="-1" strike="noStrike">
                <a:solidFill>
                  <a:srgbClr val="262626"/>
                </a:solidFill>
                <a:latin typeface="Arial"/>
                <a:ea typeface="微软雅黑"/>
              </a:rPr>
              <a:t>月购入不需要安装的设备一台，调出单位的账面原价为 </a:t>
            </a:r>
            <a:r>
              <a:rPr b="0" lang="en-US" sz="2400" spc="-1" strike="noStrike">
                <a:solidFill>
                  <a:srgbClr val="262626"/>
                </a:solidFill>
                <a:latin typeface="Arial"/>
                <a:ea typeface="微软雅黑"/>
              </a:rPr>
              <a:t>90 000 </a:t>
            </a:r>
            <a:r>
              <a:rPr b="0" lang="zh-CN" sz="2400" spc="-1" strike="noStrike">
                <a:solidFill>
                  <a:srgbClr val="262626"/>
                </a:solidFill>
                <a:latin typeface="Arial"/>
                <a:ea typeface="微软雅黑"/>
              </a:rPr>
              <a:t>元，已提折旧 </a:t>
            </a:r>
            <a:r>
              <a:rPr b="0" lang="en-US" sz="2400" spc="-1" strike="noStrike">
                <a:solidFill>
                  <a:srgbClr val="262626"/>
                </a:solidFill>
                <a:latin typeface="Arial"/>
                <a:ea typeface="微软雅黑"/>
              </a:rPr>
              <a:t>20 000 </a:t>
            </a:r>
            <a:r>
              <a:rPr b="0" lang="zh-CN" sz="2400" spc="-1" strike="noStrike">
                <a:solidFill>
                  <a:srgbClr val="262626"/>
                </a:solidFill>
                <a:latin typeface="Arial"/>
                <a:ea typeface="微软雅黑"/>
              </a:rPr>
              <a:t>元，经双方协商确定价款为 </a:t>
            </a:r>
            <a:r>
              <a:rPr b="0" lang="en-US" sz="2400" spc="-1" strike="noStrike">
                <a:solidFill>
                  <a:srgbClr val="262626"/>
                </a:solidFill>
                <a:latin typeface="Arial"/>
                <a:ea typeface="微软雅黑"/>
              </a:rPr>
              <a:t>80 000 </a:t>
            </a:r>
            <a:r>
              <a:rPr b="0" lang="zh-CN" sz="2400" spc="-1" strike="noStrike">
                <a:solidFill>
                  <a:srgbClr val="262626"/>
                </a:solidFill>
                <a:latin typeface="Arial"/>
                <a:ea typeface="微软雅黑"/>
              </a:rPr>
              <a:t>元，该厂除以银行存款支付 </a:t>
            </a:r>
            <a:r>
              <a:rPr b="0" lang="en-US" sz="2400" spc="-1" strike="noStrike">
                <a:solidFill>
                  <a:srgbClr val="262626"/>
                </a:solidFill>
                <a:latin typeface="Arial"/>
                <a:ea typeface="微软雅黑"/>
              </a:rPr>
              <a:t>80 000 </a:t>
            </a:r>
            <a:r>
              <a:rPr b="0" lang="zh-CN" sz="2400" spc="-1" strike="noStrike">
                <a:solidFill>
                  <a:srgbClr val="262626"/>
                </a:solidFill>
                <a:latin typeface="Arial"/>
                <a:ea typeface="微软雅黑"/>
              </a:rPr>
              <a:t>元价款外，还支付包装费 </a:t>
            </a:r>
            <a:r>
              <a:rPr b="0" lang="en-US" sz="2400" spc="-1" strike="noStrike">
                <a:solidFill>
                  <a:srgbClr val="262626"/>
                </a:solidFill>
                <a:latin typeface="Arial"/>
                <a:ea typeface="微软雅黑"/>
              </a:rPr>
              <a:t>300 </a:t>
            </a:r>
            <a:r>
              <a:rPr b="0" lang="zh-CN" sz="2400" spc="-1" strike="noStrike">
                <a:solidFill>
                  <a:srgbClr val="262626"/>
                </a:solidFill>
                <a:latin typeface="Arial"/>
                <a:ea typeface="微软雅黑"/>
              </a:rPr>
              <a:t>元，运输费 </a:t>
            </a:r>
            <a:r>
              <a:rPr b="0" lang="en-US" sz="2400" spc="-1" strike="noStrike">
                <a:solidFill>
                  <a:srgbClr val="262626"/>
                </a:solidFill>
                <a:latin typeface="Arial"/>
                <a:ea typeface="微软雅黑"/>
              </a:rPr>
              <a:t>700 </a:t>
            </a:r>
            <a:r>
              <a:rPr b="0" lang="zh-CN" sz="2400" spc="-1" strike="noStrike">
                <a:solidFill>
                  <a:srgbClr val="262626"/>
                </a:solidFill>
                <a:latin typeface="Arial"/>
                <a:ea typeface="微软雅黑"/>
              </a:rPr>
              <a:t>元。</a:t>
            </a:r>
            <a:endParaRPr b="1" lang="en-US" sz="2400" spc="-1" strike="noStrike">
              <a:solidFill>
                <a:srgbClr val="000000"/>
              </a:solidFill>
              <a:latin typeface="Arial"/>
            </a:endParaRPr>
          </a:p>
        </p:txBody>
      </p:sp>
      <p:pic>
        <p:nvPicPr>
          <p:cNvPr id="1873" name="图片 7" descr="&amp;pky8040249173&amp;"/>
          <p:cNvPicPr/>
          <p:nvPr/>
        </p:nvPicPr>
        <p:blipFill>
          <a:blip r:embed="rId4"/>
          <a:srcRect l="5404" t="13137" r="53113" b="0"/>
          <a:stretch/>
        </p:blipFill>
        <p:spPr>
          <a:xfrm>
            <a:off x="127080" y="3787920"/>
            <a:ext cx="1947960" cy="246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文本框 2"/>
          <p:cNvSpPr/>
          <p:nvPr/>
        </p:nvSpPr>
        <p:spPr>
          <a:xfrm>
            <a:off x="119160" y="2836800"/>
            <a:ext cx="2593800" cy="13842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引例</a:t>
            </a:r>
            <a:endParaRPr b="1" lang="en-US" sz="3600" spc="-1" strike="noStrike">
              <a:solidFill>
                <a:srgbClr val="000000"/>
              </a:solidFill>
              <a:latin typeface="Arial"/>
            </a:endParaRPr>
          </a:p>
        </p:txBody>
      </p:sp>
      <p:grpSp>
        <p:nvGrpSpPr>
          <p:cNvPr id="1875" name="组合 7"/>
          <p:cNvGrpSpPr/>
          <p:nvPr/>
        </p:nvGrpSpPr>
        <p:grpSpPr>
          <a:xfrm>
            <a:off x="2712960" y="166680"/>
            <a:ext cx="8979120" cy="6524640"/>
            <a:chOff x="2712960" y="166680"/>
            <a:chExt cx="8979120" cy="6524640"/>
          </a:xfrm>
        </p:grpSpPr>
        <p:sp>
          <p:nvSpPr>
            <p:cNvPr id="1876" name="矩形 3"/>
            <p:cNvSpPr/>
            <p:nvPr/>
          </p:nvSpPr>
          <p:spPr>
            <a:xfrm>
              <a:off x="2712960" y="166680"/>
              <a:ext cx="8979120" cy="652464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7" name="矩形: 剪去对角 4"/>
            <p:cNvSpPr/>
            <p:nvPr/>
          </p:nvSpPr>
          <p:spPr>
            <a:xfrm>
              <a:off x="3036960" y="797040"/>
              <a:ext cx="8359200" cy="5353920"/>
            </a:xfrm>
            <a:prstGeom prst="pie">
              <a:avLst/>
            </a:pr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1878" name="图片 8" descr=""/>
          <p:cNvPicPr/>
          <p:nvPr/>
        </p:nvPicPr>
        <p:blipFill>
          <a:blip r:embed="rId2"/>
          <a:stretch/>
        </p:blipFill>
        <p:spPr>
          <a:xfrm rot="6720000">
            <a:off x="3215880" y="1816200"/>
            <a:ext cx="838080" cy="682560"/>
          </a:xfrm>
          <a:prstGeom prst="rect">
            <a:avLst/>
          </a:prstGeom>
          <a:ln w="0">
            <a:noFill/>
          </a:ln>
        </p:spPr>
      </p:pic>
      <p:pic>
        <p:nvPicPr>
          <p:cNvPr id="1879" name="图片 9" descr=""/>
          <p:cNvPicPr/>
          <p:nvPr/>
        </p:nvPicPr>
        <p:blipFill>
          <a:blip r:embed="rId3"/>
          <a:stretch/>
        </p:blipFill>
        <p:spPr>
          <a:xfrm>
            <a:off x="10769760" y="4371840"/>
            <a:ext cx="733320" cy="673200"/>
          </a:xfrm>
          <a:prstGeom prst="rect">
            <a:avLst/>
          </a:prstGeom>
          <a:ln w="0">
            <a:noFill/>
          </a:ln>
        </p:spPr>
      </p:pic>
      <p:sp>
        <p:nvSpPr>
          <p:cNvPr id="1880" name="文本框 5"/>
          <p:cNvSpPr/>
          <p:nvPr/>
        </p:nvSpPr>
        <p:spPr>
          <a:xfrm>
            <a:off x="3692520" y="1357200"/>
            <a:ext cx="7704000" cy="482148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经查，该厂已按下列会计分录入账。</a:t>
            </a:r>
            <a:endParaRPr b="1" lang="en-US" sz="24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借：固定资产 </a:t>
            </a:r>
            <a:r>
              <a:rPr b="0" lang="en-US" sz="2400" spc="-1" strike="noStrike">
                <a:solidFill>
                  <a:srgbClr val="262626"/>
                </a:solidFill>
                <a:latin typeface="Arial"/>
                <a:ea typeface="微软雅黑"/>
              </a:rPr>
              <a:t>90 000 </a:t>
            </a:r>
            <a:r>
              <a:rPr b="0" lang="zh-CN" sz="2400" spc="-1" strike="noStrike">
                <a:solidFill>
                  <a:srgbClr val="262626"/>
                </a:solidFill>
                <a:latin typeface="Arial"/>
                <a:ea typeface="微软雅黑"/>
              </a:rPr>
              <a:t>　</a:t>
            </a:r>
            <a:endParaRPr b="1" lang="en-US" sz="24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    </a:t>
            </a:r>
            <a:r>
              <a:rPr b="0" lang="zh-CN" sz="2400" spc="-1" strike="noStrike">
                <a:solidFill>
                  <a:srgbClr val="262626"/>
                </a:solidFill>
                <a:latin typeface="Arial"/>
                <a:ea typeface="微软雅黑"/>
              </a:rPr>
              <a:t>贷：实收资本 </a:t>
            </a:r>
            <a:r>
              <a:rPr b="0" lang="en-US" sz="2400" spc="-1" strike="noStrike">
                <a:solidFill>
                  <a:srgbClr val="262626"/>
                </a:solidFill>
                <a:latin typeface="Arial"/>
                <a:ea typeface="微软雅黑"/>
              </a:rPr>
              <a:t>70 000 </a:t>
            </a:r>
            <a:r>
              <a:rPr b="0" lang="zh-CN" sz="2400" spc="-1" strike="noStrike">
                <a:solidFill>
                  <a:srgbClr val="262626"/>
                </a:solidFill>
                <a:latin typeface="Arial"/>
                <a:ea typeface="微软雅黑"/>
              </a:rPr>
              <a:t>　　　</a:t>
            </a:r>
            <a:endParaRPr b="1" lang="en-US" sz="24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          </a:t>
            </a:r>
            <a:r>
              <a:rPr b="0" lang="zh-CN" sz="2400" spc="-1" strike="noStrike">
                <a:solidFill>
                  <a:srgbClr val="262626"/>
                </a:solidFill>
                <a:latin typeface="Arial"/>
                <a:ea typeface="微软雅黑"/>
              </a:rPr>
              <a:t>累计折旧 </a:t>
            </a:r>
            <a:r>
              <a:rPr b="0" lang="en-US" sz="2400" spc="-1" strike="noStrike">
                <a:solidFill>
                  <a:srgbClr val="262626"/>
                </a:solidFill>
                <a:latin typeface="Arial"/>
                <a:ea typeface="微软雅黑"/>
              </a:rPr>
              <a:t>20 000 </a:t>
            </a:r>
            <a:endParaRPr b="1" lang="en-US" sz="24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借：盈余公积 </a:t>
            </a:r>
            <a:r>
              <a:rPr b="0" lang="en-US" sz="2400" spc="-1" strike="noStrike">
                <a:solidFill>
                  <a:srgbClr val="262626"/>
                </a:solidFill>
                <a:latin typeface="Arial"/>
                <a:ea typeface="微软雅黑"/>
              </a:rPr>
              <a:t>80 000 </a:t>
            </a:r>
            <a:r>
              <a:rPr b="0" lang="zh-CN" sz="2400" spc="-1" strike="noStrike">
                <a:solidFill>
                  <a:srgbClr val="262626"/>
                </a:solidFill>
                <a:latin typeface="Arial"/>
                <a:ea typeface="微软雅黑"/>
              </a:rPr>
              <a:t>　</a:t>
            </a:r>
            <a:endParaRPr b="1" lang="en-US" sz="24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    </a:t>
            </a:r>
            <a:r>
              <a:rPr b="0" lang="zh-CN" sz="2400" spc="-1" strike="noStrike">
                <a:solidFill>
                  <a:srgbClr val="262626"/>
                </a:solidFill>
                <a:latin typeface="Arial"/>
                <a:ea typeface="微软雅黑"/>
              </a:rPr>
              <a:t>贷：银行存款 </a:t>
            </a:r>
            <a:r>
              <a:rPr b="0" lang="en-US" sz="2400" spc="-1" strike="noStrike">
                <a:solidFill>
                  <a:srgbClr val="262626"/>
                </a:solidFill>
                <a:latin typeface="Arial"/>
                <a:ea typeface="微软雅黑"/>
              </a:rPr>
              <a:t>80 000 </a:t>
            </a:r>
            <a:endParaRPr b="1" lang="en-US" sz="24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借：管理费用 </a:t>
            </a:r>
            <a:r>
              <a:rPr b="0" lang="en-US" sz="2400" spc="-1" strike="noStrike">
                <a:solidFill>
                  <a:srgbClr val="262626"/>
                </a:solidFill>
                <a:latin typeface="Arial"/>
                <a:ea typeface="微软雅黑"/>
              </a:rPr>
              <a:t>1 000 </a:t>
            </a:r>
            <a:r>
              <a:rPr b="0" lang="zh-CN" sz="2400" spc="-1" strike="noStrike">
                <a:solidFill>
                  <a:srgbClr val="262626"/>
                </a:solidFill>
                <a:latin typeface="Arial"/>
                <a:ea typeface="微软雅黑"/>
              </a:rPr>
              <a:t>　</a:t>
            </a:r>
            <a:endParaRPr b="1" lang="en-US" sz="24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    </a:t>
            </a:r>
            <a:r>
              <a:rPr b="0" lang="zh-CN" sz="2400" spc="-1" strike="noStrike">
                <a:solidFill>
                  <a:srgbClr val="262626"/>
                </a:solidFill>
                <a:latin typeface="Arial"/>
                <a:ea typeface="微软雅黑"/>
              </a:rPr>
              <a:t>贷：银行存款 </a:t>
            </a:r>
            <a:r>
              <a:rPr b="0" lang="en-US" sz="2400" spc="-1" strike="noStrike">
                <a:solidFill>
                  <a:srgbClr val="262626"/>
                </a:solidFill>
                <a:latin typeface="Arial"/>
                <a:ea typeface="微软雅黑"/>
              </a:rPr>
              <a:t>1 000</a:t>
            </a:r>
            <a:endParaRPr b="1" lang="en-US" sz="2400" spc="-1" strike="noStrike">
              <a:solidFill>
                <a:srgbClr val="000000"/>
              </a:solidFill>
              <a:latin typeface="Arial"/>
            </a:endParaRPr>
          </a:p>
        </p:txBody>
      </p:sp>
      <p:pic>
        <p:nvPicPr>
          <p:cNvPr id="1881" name="图片 7" descr="&amp;pky8040249173&amp;"/>
          <p:cNvPicPr/>
          <p:nvPr/>
        </p:nvPicPr>
        <p:blipFill>
          <a:blip r:embed="rId4"/>
          <a:srcRect l="5404" t="13137" r="53113" b="0"/>
          <a:stretch/>
        </p:blipFill>
        <p:spPr>
          <a:xfrm>
            <a:off x="127080" y="3716280"/>
            <a:ext cx="1947960" cy="246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文本框 2"/>
          <p:cNvSpPr/>
          <p:nvPr/>
        </p:nvSpPr>
        <p:spPr>
          <a:xfrm>
            <a:off x="119160" y="2836800"/>
            <a:ext cx="2593800" cy="13842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引例</a:t>
            </a:r>
            <a:endParaRPr b="1" lang="en-US" sz="3600" spc="-1" strike="noStrike">
              <a:solidFill>
                <a:srgbClr val="000000"/>
              </a:solidFill>
              <a:latin typeface="Arial"/>
            </a:endParaRPr>
          </a:p>
        </p:txBody>
      </p:sp>
      <p:grpSp>
        <p:nvGrpSpPr>
          <p:cNvPr id="1883" name="组合 7"/>
          <p:cNvGrpSpPr/>
          <p:nvPr/>
        </p:nvGrpSpPr>
        <p:grpSpPr>
          <a:xfrm>
            <a:off x="2476440" y="176040"/>
            <a:ext cx="9360000" cy="6342120"/>
            <a:chOff x="2476440" y="176040"/>
            <a:chExt cx="9360000" cy="6342120"/>
          </a:xfrm>
        </p:grpSpPr>
        <p:sp>
          <p:nvSpPr>
            <p:cNvPr id="1884" name="矩形 3"/>
            <p:cNvSpPr/>
            <p:nvPr/>
          </p:nvSpPr>
          <p:spPr>
            <a:xfrm>
              <a:off x="2476440" y="176040"/>
              <a:ext cx="9360000" cy="634212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5" name="矩形: 剪去对角 4"/>
            <p:cNvSpPr/>
            <p:nvPr/>
          </p:nvSpPr>
          <p:spPr>
            <a:xfrm>
              <a:off x="2814120" y="788760"/>
              <a:ext cx="8713800" cy="5204160"/>
            </a:xfrm>
            <a:prstGeom prst="pie">
              <a:avLst/>
            </a:pr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1886" name="图片 8" descr=""/>
          <p:cNvPicPr/>
          <p:nvPr/>
        </p:nvPicPr>
        <p:blipFill>
          <a:blip r:embed="rId2"/>
          <a:stretch/>
        </p:blipFill>
        <p:spPr>
          <a:xfrm rot="6720000">
            <a:off x="3215880" y="1816200"/>
            <a:ext cx="838080" cy="682560"/>
          </a:xfrm>
          <a:prstGeom prst="rect">
            <a:avLst/>
          </a:prstGeom>
          <a:ln w="0">
            <a:noFill/>
          </a:ln>
        </p:spPr>
      </p:pic>
      <p:pic>
        <p:nvPicPr>
          <p:cNvPr id="1887" name="图片 9" descr=""/>
          <p:cNvPicPr/>
          <p:nvPr/>
        </p:nvPicPr>
        <p:blipFill>
          <a:blip r:embed="rId3"/>
          <a:stretch/>
        </p:blipFill>
        <p:spPr>
          <a:xfrm>
            <a:off x="10769760" y="4371840"/>
            <a:ext cx="733320" cy="673200"/>
          </a:xfrm>
          <a:prstGeom prst="rect">
            <a:avLst/>
          </a:prstGeom>
          <a:ln w="0">
            <a:noFill/>
          </a:ln>
        </p:spPr>
      </p:pic>
      <p:sp>
        <p:nvSpPr>
          <p:cNvPr id="1888" name="文本框 5"/>
          <p:cNvSpPr/>
          <p:nvPr/>
        </p:nvSpPr>
        <p:spPr>
          <a:xfrm>
            <a:off x="2967120" y="1031760"/>
            <a:ext cx="8378640" cy="463248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ea typeface="微软雅黑"/>
              </a:rPr>
              <a:t>        </a:t>
            </a:r>
            <a:r>
              <a:rPr b="0" lang="en-US" sz="2400" spc="-1" strike="noStrike">
                <a:solidFill>
                  <a:srgbClr val="262626"/>
                </a:solidFill>
                <a:latin typeface="Arial"/>
                <a:ea typeface="微软雅黑"/>
              </a:rPr>
              <a:t>2. </a:t>
            </a:r>
            <a:r>
              <a:rPr b="0" lang="zh-CN" sz="2400" spc="-1" strike="noStrike">
                <a:solidFill>
                  <a:srgbClr val="262626"/>
                </a:solidFill>
                <a:latin typeface="Arial"/>
                <a:ea typeface="微软雅黑"/>
              </a:rPr>
              <a:t>在清查该厂房屋建筑物时，发现固定资产上记录的二层楼办 公室，却是一栋三层的楼房，系该厂利用本厂材料委托农村基建队扩 建，共计开支工料费 </a:t>
            </a:r>
            <a:r>
              <a:rPr b="0" lang="en-US" sz="2400" spc="-1" strike="noStrike">
                <a:solidFill>
                  <a:srgbClr val="262626"/>
                </a:solidFill>
                <a:latin typeface="Arial"/>
                <a:ea typeface="微软雅黑"/>
              </a:rPr>
              <a:t>60 000 </a:t>
            </a:r>
            <a:r>
              <a:rPr b="0" lang="zh-CN" sz="2400" spc="-1" strike="noStrike">
                <a:solidFill>
                  <a:srgbClr val="262626"/>
                </a:solidFill>
                <a:latin typeface="Arial"/>
                <a:ea typeface="微软雅黑"/>
              </a:rPr>
              <a:t>元（其中材料款 </a:t>
            </a:r>
            <a:r>
              <a:rPr b="0" lang="en-US" sz="2400" spc="-1" strike="noStrike">
                <a:solidFill>
                  <a:srgbClr val="262626"/>
                </a:solidFill>
                <a:latin typeface="Arial"/>
                <a:ea typeface="微软雅黑"/>
              </a:rPr>
              <a:t>40 000 </a:t>
            </a:r>
            <a:r>
              <a:rPr b="0" lang="zh-CN" sz="2400" spc="-1" strike="noStrike">
                <a:solidFill>
                  <a:srgbClr val="262626"/>
                </a:solidFill>
                <a:latin typeface="Arial"/>
                <a:ea typeface="微软雅黑"/>
              </a:rPr>
              <a:t>元），均作为待摊 费用，分两年摊销，</a:t>
            </a:r>
            <a:r>
              <a:rPr b="0" lang="en-US" sz="2400" spc="-1" strike="noStrike">
                <a:solidFill>
                  <a:srgbClr val="262626"/>
                </a:solidFill>
                <a:latin typeface="Arial"/>
                <a:ea typeface="微软雅黑"/>
              </a:rPr>
              <a:t>20×× </a:t>
            </a:r>
            <a:r>
              <a:rPr b="0" lang="zh-CN" sz="2400" spc="-1" strike="noStrike">
                <a:solidFill>
                  <a:srgbClr val="262626"/>
                </a:solidFill>
                <a:latin typeface="Arial"/>
                <a:ea typeface="微软雅黑"/>
              </a:rPr>
              <a:t>年 </a:t>
            </a:r>
            <a:r>
              <a:rPr b="0" lang="en-US" sz="2400" spc="-1" strike="noStrike">
                <a:solidFill>
                  <a:srgbClr val="262626"/>
                </a:solidFill>
                <a:latin typeface="Arial"/>
                <a:ea typeface="微软雅黑"/>
              </a:rPr>
              <a:t>8 </a:t>
            </a:r>
            <a:r>
              <a:rPr b="0" lang="zh-CN" sz="2400" spc="-1" strike="noStrike">
                <a:solidFill>
                  <a:srgbClr val="262626"/>
                </a:solidFill>
                <a:latin typeface="Arial"/>
                <a:ea typeface="微软雅黑"/>
              </a:rPr>
              <a:t>月份完工，自 </a:t>
            </a:r>
            <a:r>
              <a:rPr b="0" lang="en-US" sz="2400" spc="-1" strike="noStrike">
                <a:solidFill>
                  <a:srgbClr val="262626"/>
                </a:solidFill>
                <a:latin typeface="Arial"/>
                <a:ea typeface="微软雅黑"/>
              </a:rPr>
              <a:t>9 </a:t>
            </a:r>
            <a:r>
              <a:rPr b="0" lang="zh-CN" sz="2400" spc="-1" strike="noStrike">
                <a:solidFill>
                  <a:srgbClr val="262626"/>
                </a:solidFill>
                <a:latin typeface="Arial"/>
                <a:ea typeface="微软雅黑"/>
              </a:rPr>
              <a:t>月至 </a:t>
            </a:r>
            <a:r>
              <a:rPr b="0" lang="en-US" sz="2400" spc="-1" strike="noStrike">
                <a:solidFill>
                  <a:srgbClr val="262626"/>
                </a:solidFill>
                <a:latin typeface="Arial"/>
                <a:ea typeface="微软雅黑"/>
              </a:rPr>
              <a:t>12 </a:t>
            </a:r>
            <a:r>
              <a:rPr b="0" lang="zh-CN" sz="2400" spc="-1" strike="noStrike">
                <a:solidFill>
                  <a:srgbClr val="262626"/>
                </a:solidFill>
                <a:latin typeface="Arial"/>
                <a:ea typeface="微软雅黑"/>
              </a:rPr>
              <a:t>月已摊入生 产成本 </a:t>
            </a:r>
            <a:r>
              <a:rPr b="0" lang="en-US" sz="2400" spc="-1" strike="noStrike">
                <a:solidFill>
                  <a:srgbClr val="262626"/>
                </a:solidFill>
                <a:latin typeface="Arial"/>
                <a:ea typeface="微软雅黑"/>
              </a:rPr>
              <a:t>10 000 </a:t>
            </a:r>
            <a:r>
              <a:rPr b="0" lang="zh-CN" sz="2400" spc="-1" strike="noStrike">
                <a:solidFill>
                  <a:srgbClr val="262626"/>
                </a:solidFill>
                <a:latin typeface="Arial"/>
                <a:ea typeface="微软雅黑"/>
              </a:rPr>
              <a:t>元。 </a:t>
            </a:r>
            <a:r>
              <a:rPr b="0" lang="en-US" sz="2400" spc="-1" strike="noStrike">
                <a:solidFill>
                  <a:srgbClr val="262626"/>
                </a:solidFill>
                <a:latin typeface="Arial"/>
                <a:ea typeface="微软雅黑"/>
              </a:rPr>
              <a:t>3. 20×× </a:t>
            </a:r>
            <a:r>
              <a:rPr b="0" lang="zh-CN" sz="2400" spc="-1" strike="noStrike">
                <a:solidFill>
                  <a:srgbClr val="262626"/>
                </a:solidFill>
                <a:latin typeface="Arial"/>
                <a:ea typeface="微软雅黑"/>
              </a:rPr>
              <a:t>年 </a:t>
            </a:r>
            <a:r>
              <a:rPr b="0" lang="en-US" sz="2400" spc="-1" strike="noStrike">
                <a:solidFill>
                  <a:srgbClr val="262626"/>
                </a:solidFill>
                <a:latin typeface="Arial"/>
                <a:ea typeface="微软雅黑"/>
              </a:rPr>
              <a:t>8 </a:t>
            </a:r>
            <a:r>
              <a:rPr b="0" lang="zh-CN" sz="2400" spc="-1" strike="noStrike">
                <a:solidFill>
                  <a:srgbClr val="262626"/>
                </a:solidFill>
                <a:latin typeface="Arial"/>
                <a:ea typeface="微软雅黑"/>
              </a:rPr>
              <a:t>月购入电动机 </a:t>
            </a:r>
            <a:r>
              <a:rPr b="0" lang="en-US" sz="2400" spc="-1" strike="noStrike">
                <a:solidFill>
                  <a:srgbClr val="262626"/>
                </a:solidFill>
                <a:latin typeface="Arial"/>
                <a:ea typeface="微软雅黑"/>
              </a:rPr>
              <a:t>3 </a:t>
            </a:r>
            <a:r>
              <a:rPr b="0" lang="zh-CN" sz="2400" spc="-1" strike="noStrike">
                <a:solidFill>
                  <a:srgbClr val="262626"/>
                </a:solidFill>
                <a:latin typeface="Arial"/>
                <a:ea typeface="微软雅黑"/>
              </a:rPr>
              <a:t>台，计价 </a:t>
            </a:r>
            <a:r>
              <a:rPr b="0" lang="en-US" sz="2400" spc="-1" strike="noStrike">
                <a:solidFill>
                  <a:srgbClr val="262626"/>
                </a:solidFill>
                <a:latin typeface="Arial"/>
                <a:ea typeface="微软雅黑"/>
              </a:rPr>
              <a:t>8 580 </a:t>
            </a:r>
            <a:r>
              <a:rPr b="0" lang="zh-CN" sz="2400" spc="-1" strike="noStrike">
                <a:solidFill>
                  <a:srgbClr val="262626"/>
                </a:solidFill>
                <a:latin typeface="Arial"/>
                <a:ea typeface="微软雅黑"/>
              </a:rPr>
              <a:t>元（含已付增值 税），当即列入“待摊费用”账户，并已全部摊入当年生产成本，经到 生产车间核对，并调阅原始凭证，证实所购物品确属在用固定资产</a:t>
            </a:r>
            <a:r>
              <a:rPr b="0" lang="zh-CN" sz="2800" spc="-1" strike="noStrike">
                <a:solidFill>
                  <a:srgbClr val="262626"/>
                </a:solidFill>
                <a:latin typeface="Arial"/>
                <a:ea typeface="微软雅黑"/>
              </a:rPr>
              <a:t>。</a:t>
            </a:r>
            <a:endParaRPr b="1" lang="en-US" sz="2800" spc="-1" strike="noStrike">
              <a:solidFill>
                <a:srgbClr val="000000"/>
              </a:solidFill>
              <a:latin typeface="Arial"/>
            </a:endParaRPr>
          </a:p>
        </p:txBody>
      </p:sp>
      <p:pic>
        <p:nvPicPr>
          <p:cNvPr id="1889" name="图片 7" descr="&amp;pky8040249173&amp;"/>
          <p:cNvPicPr/>
          <p:nvPr/>
        </p:nvPicPr>
        <p:blipFill>
          <a:blip r:embed="rId4"/>
          <a:srcRect l="5404" t="13137" r="53113" b="0"/>
          <a:stretch/>
        </p:blipFill>
        <p:spPr>
          <a:xfrm>
            <a:off x="127080" y="3716280"/>
            <a:ext cx="1947960" cy="246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0" name="组合 216"/>
          <p:cNvGrpSpPr/>
          <p:nvPr/>
        </p:nvGrpSpPr>
        <p:grpSpPr>
          <a:xfrm>
            <a:off x="2349360" y="316080"/>
            <a:ext cx="9660240" cy="6408720"/>
            <a:chOff x="2349360" y="316080"/>
            <a:chExt cx="9660240" cy="6408720"/>
          </a:xfrm>
        </p:grpSpPr>
        <p:sp>
          <p:nvSpPr>
            <p:cNvPr id="1891" name="矩形 217"/>
            <p:cNvSpPr/>
            <p:nvPr/>
          </p:nvSpPr>
          <p:spPr>
            <a:xfrm>
              <a:off x="2349720" y="316800"/>
              <a:ext cx="9659880" cy="6408000"/>
            </a:xfrm>
            <a:prstGeom prst="rect">
              <a:avLst/>
            </a:prstGeom>
            <a:blipFill rotWithShape="0">
              <a:blip r:embed="rId1"/>
              <a:srcRect/>
              <a:tile tx="0" ty="0" sx="100000" sy="100000" algn="ctr"/>
            </a:blipFill>
            <a:ln w="25560">
              <a:solidFill>
                <a:srgbClr val="8e10d4"/>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提出提出问题： （</a:t>
              </a:r>
              <a:r>
                <a:rPr b="1" lang="en-US" sz="1800" spc="-1" strike="noStrike">
                  <a:solidFill>
                    <a:srgbClr val="ffffff"/>
                  </a:solidFill>
                  <a:latin typeface="Arial"/>
                  <a:ea typeface="黑体"/>
                </a:rPr>
                <a:t>1</a:t>
              </a:r>
              <a:r>
                <a:rPr b="1" lang="zh-CN" sz="1800" spc="-1" strike="noStrike">
                  <a:solidFill>
                    <a:srgbClr val="ffffff"/>
                  </a:solidFill>
                  <a:latin typeface="Arial"/>
                  <a:ea typeface="黑体"/>
                </a:rPr>
                <a:t>）审计工作涉及哪些业务？ （</a:t>
              </a:r>
              <a:r>
                <a:rPr b="1" lang="en-US" sz="1800" spc="-1" strike="noStrike">
                  <a:solidFill>
                    <a:srgbClr val="ffffff"/>
                  </a:solidFill>
                  <a:latin typeface="Arial"/>
                  <a:ea typeface="黑体"/>
                </a:rPr>
                <a:t>2</a:t>
              </a:r>
              <a:r>
                <a:rPr b="1" lang="zh-CN" sz="1800" spc="-1" strike="noStrike">
                  <a:solidFill>
                    <a:srgbClr val="ffffff"/>
                  </a:solidFill>
                  <a:latin typeface="Arial"/>
                  <a:ea typeface="黑体"/>
                </a:rPr>
                <a:t>）审计时一定要 认真复核具体数据，需要取证的是否可以忽略？ （</a:t>
              </a:r>
              <a:r>
                <a:rPr b="1" lang="en-US" sz="1800" spc="-1" strike="noStrike">
                  <a:solidFill>
                    <a:srgbClr val="ffffff"/>
                  </a:solidFill>
                  <a:latin typeface="Arial"/>
                  <a:ea typeface="黑体"/>
                </a:rPr>
                <a:t>3</a:t>
              </a:r>
              <a:r>
                <a:rPr b="1" lang="zh-CN" sz="1800" spc="-1" strike="noStrike">
                  <a:solidFill>
                    <a:srgbClr val="ffffff"/>
                  </a:solidFill>
                  <a:latin typeface="Arial"/>
                  <a:ea typeface="黑体"/>
                </a:rPr>
                <a:t>）审计时，是否允许注册会计师接触与编制财务报表相关的所有 信息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如记录、文件和其他事项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 （</a:t>
              </a:r>
              <a:r>
                <a:rPr b="1" lang="en-US" sz="1800" spc="-1" strike="noStrike">
                  <a:solidFill>
                    <a:srgbClr val="ffffff"/>
                  </a:solidFill>
                  <a:latin typeface="Arial"/>
                  <a:ea typeface="黑体"/>
                </a:rPr>
                <a:t>4</a:t>
              </a:r>
              <a:r>
                <a:rPr b="1" lang="zh-CN" sz="1800" spc="-1" strike="noStrike">
                  <a:solidFill>
                    <a:srgbClr val="ffffff"/>
                  </a:solidFill>
                  <a:latin typeface="Arial"/>
                  <a:ea typeface="黑体"/>
                </a:rPr>
                <a:t>）注册会计师在发表审计意见时，是否可以保持独立性而不受到 干扰？ 带着这些问题，让我们进入本项目的学习领域。问题： （</a:t>
              </a:r>
              <a:r>
                <a:rPr b="1" lang="en-US" sz="1800" spc="-1" strike="noStrike">
                  <a:solidFill>
                    <a:srgbClr val="ffffff"/>
                  </a:solidFill>
                  <a:latin typeface="Arial"/>
                  <a:ea typeface="黑体"/>
                </a:rPr>
                <a:t>1</a:t>
              </a:r>
              <a:r>
                <a:rPr b="1" lang="zh-CN" sz="1800" spc="-1" strike="noStrike">
                  <a:solidFill>
                    <a:srgbClr val="ffffff"/>
                  </a:solidFill>
                  <a:latin typeface="Arial"/>
                  <a:ea typeface="黑体"/>
                </a:rPr>
                <a:t>）审计工作涉及哪些业务？ （</a:t>
              </a:r>
              <a:r>
                <a:rPr b="1" lang="en-US" sz="1800" spc="-1" strike="noStrike">
                  <a:solidFill>
                    <a:srgbClr val="ffffff"/>
                  </a:solidFill>
                  <a:latin typeface="Arial"/>
                  <a:ea typeface="黑体"/>
                </a:rPr>
                <a:t>2</a:t>
              </a:r>
              <a:r>
                <a:rPr b="1" lang="zh-CN" sz="1800" spc="-1" strike="noStrike">
                  <a:solidFill>
                    <a:srgbClr val="ffffff"/>
                  </a:solidFill>
                  <a:latin typeface="Arial"/>
                  <a:ea typeface="黑体"/>
                </a:rPr>
                <a:t>）审计时一定要 认真复核具体数据，需要取证的是否可以忽略？ （</a:t>
              </a:r>
              <a:r>
                <a:rPr b="1" lang="en-US" sz="1800" spc="-1" strike="noStrike">
                  <a:solidFill>
                    <a:srgbClr val="ffffff"/>
                  </a:solidFill>
                  <a:latin typeface="Arial"/>
                  <a:ea typeface="黑体"/>
                </a:rPr>
                <a:t>3</a:t>
              </a:r>
              <a:r>
                <a:rPr b="1" lang="zh-CN" sz="1800" spc="-1" strike="noStrike">
                  <a:solidFill>
                    <a:srgbClr val="ffffff"/>
                  </a:solidFill>
                  <a:latin typeface="Arial"/>
                  <a:ea typeface="黑体"/>
                </a:rPr>
                <a:t>）审计时，是否允许注册会计师接触与编制财务报表相关的所有 信息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如记录、文件和其他事项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 （</a:t>
              </a:r>
              <a:r>
                <a:rPr b="1" lang="en-US" sz="1800" spc="-1" strike="noStrike">
                  <a:solidFill>
                    <a:srgbClr val="ffffff"/>
                  </a:solidFill>
                  <a:latin typeface="Arial"/>
                  <a:ea typeface="黑体"/>
                </a:rPr>
                <a:t>4</a:t>
              </a:r>
              <a:r>
                <a:rPr b="1" lang="zh-CN" sz="1800" spc="-1" strike="noStrike">
                  <a:solidFill>
                    <a:srgbClr val="ffffff"/>
                  </a:solidFill>
                  <a:latin typeface="Arial"/>
                  <a:ea typeface="黑体"/>
                </a:rPr>
                <a:t>）注册会计师在发表审计意见时，是否可以保持独立性而不受到 干扰？ 带着这些问题，让我们进入本项目的学习领域。</a:t>
              </a:r>
              <a:endParaRPr b="1" lang="en-US" sz="1800" spc="-1" strike="noStrike">
                <a:solidFill>
                  <a:srgbClr val="000000"/>
                </a:solidFill>
                <a:latin typeface="Arial"/>
              </a:endParaRPr>
            </a:p>
          </p:txBody>
        </p:sp>
        <p:sp>
          <p:nvSpPr>
            <p:cNvPr id="1892" name="斜纹 218"/>
            <p:cNvSpPr/>
            <p:nvPr/>
          </p:nvSpPr>
          <p:spPr>
            <a:xfrm rot="5400000">
              <a:off x="11371320" y="405360"/>
              <a:ext cx="726840" cy="547920"/>
            </a:xfrm>
            <a:custGeom>
              <a:avLst/>
              <a:gdLst/>
              <a:ahLst/>
              <a:rect l="l" t="t" r="r" b="b"/>
              <a:pathLst>
                <a:path w="895" h="897">
                  <a:moveTo>
                    <a:pt x="0" y="347"/>
                  </a:moveTo>
                  <a:lnTo>
                    <a:pt x="347" y="0"/>
                  </a:lnTo>
                  <a:lnTo>
                    <a:pt x="895" y="0"/>
                  </a:lnTo>
                  <a:lnTo>
                    <a:pt x="0" y="897"/>
                  </a:lnTo>
                  <a:close/>
                </a:path>
              </a:pathLst>
            </a:custGeom>
            <a:solidFill>
              <a:srgbClr val="bdd7ee"/>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3" name="斜纹 219"/>
            <p:cNvSpPr/>
            <p:nvPr/>
          </p:nvSpPr>
          <p:spPr>
            <a:xfrm rot="16200000">
              <a:off x="2259720" y="6087240"/>
              <a:ext cx="725400" cy="546480"/>
            </a:xfrm>
            <a:custGeom>
              <a:avLst/>
              <a:gdLst/>
              <a:ahLst/>
              <a:rect l="l" t="t" r="r" b="b"/>
              <a:pathLst>
                <a:path w="893" h="895">
                  <a:moveTo>
                    <a:pt x="0" y="347"/>
                  </a:moveTo>
                  <a:lnTo>
                    <a:pt x="346" y="0"/>
                  </a:lnTo>
                  <a:lnTo>
                    <a:pt x="893" y="0"/>
                  </a:lnTo>
                  <a:lnTo>
                    <a:pt x="0" y="895"/>
                  </a:lnTo>
                  <a:close/>
                </a:path>
              </a:pathLst>
            </a:custGeom>
            <a:solidFill>
              <a:srgbClr val="bdd7ee"/>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94" name="文本框 6"/>
          <p:cNvSpPr/>
          <p:nvPr/>
        </p:nvSpPr>
        <p:spPr>
          <a:xfrm>
            <a:off x="109440" y="2906640"/>
            <a:ext cx="2549520" cy="6746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引例分析</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95" name="矩形 1"/>
          <p:cNvSpPr/>
          <p:nvPr/>
        </p:nvSpPr>
        <p:spPr>
          <a:xfrm>
            <a:off x="2349360" y="620640"/>
            <a:ext cx="9361800" cy="3801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要求：根据上述资料，分析指出所查明的各个问题的性质。 分析： </a:t>
            </a:r>
            <a:endParaRPr b="1" lang="en-US" sz="24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1. </a:t>
            </a:r>
            <a:r>
              <a:rPr b="0" lang="zh-CN" sz="2400" spc="-1" strike="noStrike">
                <a:solidFill>
                  <a:srgbClr val="262626"/>
                </a:solidFill>
                <a:latin typeface="Arial"/>
                <a:ea typeface="微软雅黑"/>
              </a:rPr>
              <a:t>企业购入设备及支付价款和有关费用的处理存在以下问题： </a:t>
            </a:r>
            <a:endParaRPr b="1" lang="en-US" sz="24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a:t>
            </a:r>
            <a:r>
              <a:rPr b="0" lang="en-US" sz="2400" spc="-1" strike="noStrike">
                <a:solidFill>
                  <a:srgbClr val="262626"/>
                </a:solidFill>
                <a:latin typeface="Arial"/>
                <a:ea typeface="微软雅黑"/>
              </a:rPr>
              <a:t>1</a:t>
            </a:r>
            <a:r>
              <a:rPr b="0" lang="zh-CN" sz="2400" spc="-1" strike="noStrike">
                <a:solidFill>
                  <a:srgbClr val="262626"/>
                </a:solidFill>
                <a:latin typeface="Arial"/>
                <a:ea typeface="微软雅黑"/>
              </a:rPr>
              <a:t>）虚增实收资本，人为冲减盈余公积； </a:t>
            </a:r>
            <a:endParaRPr b="1" lang="en-US" sz="24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a:t>
            </a:r>
            <a:r>
              <a:rPr b="0" lang="en-US" sz="2400" spc="-1" strike="noStrike">
                <a:solidFill>
                  <a:srgbClr val="262626"/>
                </a:solidFill>
                <a:latin typeface="Arial"/>
                <a:ea typeface="微软雅黑"/>
              </a:rPr>
              <a:t>2</a:t>
            </a:r>
            <a:r>
              <a:rPr b="0" lang="zh-CN" sz="2400" spc="-1" strike="noStrike">
                <a:solidFill>
                  <a:srgbClr val="262626"/>
                </a:solidFill>
                <a:latin typeface="Arial"/>
                <a:ea typeface="微软雅黑"/>
              </a:rPr>
              <a:t>）未能如实反映固定资产的价值及累计折旧，虚增费用，虚减 当年的利润，属于违反企业会计准则的行为。 </a:t>
            </a:r>
            <a:endParaRPr b="1" lang="en-US" sz="24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2. </a:t>
            </a:r>
            <a:r>
              <a:rPr b="0" lang="zh-CN" sz="2400" spc="-1" strike="noStrike">
                <a:solidFill>
                  <a:srgbClr val="262626"/>
                </a:solidFill>
                <a:latin typeface="Arial"/>
                <a:ea typeface="微软雅黑"/>
              </a:rPr>
              <a:t>改扩建支出应列入固定资产价值，该厂将其列入待摊费用，混 淆了收益性支出和资本性支出的界限，虚增费用，少计固定资产价值。 </a:t>
            </a:r>
            <a:endParaRPr b="1" lang="en-US" sz="24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ea typeface="微软雅黑"/>
              </a:rPr>
              <a:t>3. </a:t>
            </a:r>
            <a:r>
              <a:rPr b="0" lang="zh-CN" sz="2400" spc="-1" strike="noStrike">
                <a:solidFill>
                  <a:srgbClr val="262626"/>
                </a:solidFill>
                <a:latin typeface="Arial"/>
                <a:ea typeface="微软雅黑"/>
              </a:rPr>
              <a:t>购入的电动机 </a:t>
            </a:r>
            <a:r>
              <a:rPr b="0" lang="en-US" sz="2400" spc="-1" strike="noStrike">
                <a:solidFill>
                  <a:srgbClr val="262626"/>
                </a:solidFill>
                <a:latin typeface="Arial"/>
                <a:ea typeface="微软雅黑"/>
              </a:rPr>
              <a:t>3 </a:t>
            </a:r>
            <a:r>
              <a:rPr b="0" lang="zh-CN" sz="2400" spc="-1" strike="noStrike">
                <a:solidFill>
                  <a:srgbClr val="262626"/>
                </a:solidFill>
                <a:latin typeface="Arial"/>
                <a:ea typeface="微软雅黑"/>
              </a:rPr>
              <a:t>台，计价 </a:t>
            </a:r>
            <a:r>
              <a:rPr b="0" lang="en-US" sz="2400" spc="-1" strike="noStrike">
                <a:solidFill>
                  <a:srgbClr val="262626"/>
                </a:solidFill>
                <a:latin typeface="Arial"/>
                <a:ea typeface="微软雅黑"/>
              </a:rPr>
              <a:t>8 580 </a:t>
            </a:r>
            <a:r>
              <a:rPr b="0" lang="zh-CN" sz="2400" spc="-1" strike="noStrike">
                <a:solidFill>
                  <a:srgbClr val="262626"/>
                </a:solidFill>
                <a:latin typeface="Arial"/>
                <a:ea typeface="微软雅黑"/>
              </a:rPr>
              <a:t>元，已证实属于固定资产，企 业将其列入待摊费用，混淆了资本性支出和收益性支出的界限，少计 固定资产价值。</a:t>
            </a:r>
            <a:endParaRPr b="1" lang="en-US" sz="2400" spc="-1" strike="noStrike">
              <a:solidFill>
                <a:srgbClr val="000000"/>
              </a:solidFill>
              <a:latin typeface="Arial"/>
            </a:endParaRPr>
          </a:p>
        </p:txBody>
      </p:sp>
      <p:pic>
        <p:nvPicPr>
          <p:cNvPr id="1896" name="图片 7" descr="&amp;pky8040249173&amp;"/>
          <p:cNvPicPr/>
          <p:nvPr/>
        </p:nvPicPr>
        <p:blipFill>
          <a:blip r:embed="rId2"/>
          <a:srcRect l="5404" t="13137" r="53113" b="0"/>
          <a:stretch/>
        </p:blipFill>
        <p:spPr>
          <a:xfrm>
            <a:off x="119160" y="3516480"/>
            <a:ext cx="1947600" cy="24606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0:16:11Z</dcterms:created>
  <dc:creator>微软用户</dc:creator>
  <dc:description/>
  <dc:language>en-US</dc:language>
  <cp:lastModifiedBy>武静影</cp:lastModifiedBy>
  <dcterms:modified xsi:type="dcterms:W3CDTF">2021-02-20T01:30:11Z</dcterms:modified>
  <cp:revision>353</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ies>
</file>