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2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7.wmf" ContentType="image/x-wmf"/>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6.wmf" ContentType="image/x-wmf"/>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EE728-7B0E-45E2-9B82-6EFAF1CB0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2EB3-575B-480B-B3F7-3BA9506B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28239-9E72-4774-98B1-7CCC0A5875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15127-1CD2-4889-AF42-1D2D85354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8D95BD-891A-410F-88D0-C61C2D728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B8212-9CF3-48F1-BC1E-CBDFCB114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48760-7BEC-41AE-AE13-922E8836D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610AB-2B20-4E6E-9E8C-1DB495FE0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A39BF9-A905-4C8E-AC62-230F06C64C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1961DF-ADA5-44FC-B7C5-7D7B6D416F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5B3E0-2F20-429B-901D-703357DD64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F6DE11-841D-4051-AAD1-06B9A99390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05D3-EC38-4F77-AEE3-670D5CBBE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3E9A44-C07F-4FDD-A0F0-E0CE857B85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92E2E5-4CE5-4747-B84D-326158F8EF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1ACC7D-42DF-4B81-BFC9-75DE5DC199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A066B8-DE14-49A0-B9E1-FE55D0F3FC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C05621-51C7-401B-B5ED-14C678CFBA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34ACAE-A4A9-4319-AC62-B0D70C0416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AE559A-EB9D-435F-BEA6-4F25FC18C9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A7EB59-F3FB-49E7-9891-4FC8110322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4C15B1-2D85-452F-8ABC-674DB0DC09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70CE41-9DD7-43D8-A1D4-844122E854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430D0-D433-492D-B65E-7F8C8EE0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D385F2-3DE1-4D7F-8A33-7DC8BFE492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7DD4B2-E2B5-4CBD-8C19-D5934FFA6B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FC4AF9-FD9D-4F23-894E-F807A2CF9A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F64617-D7C2-4928-894F-D72276F4DE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F90AE5-5E84-45F7-B2C8-0AF2C7DE37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CD7007-0B5E-4FD7-A2E5-87FB14DD0A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BDA89C-A7EA-4DEF-8791-DAFC7EBE9F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6B5574-1EED-4B40-A8E5-4C0ED80B6E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CB9469-21F4-4C75-BB96-DD3774F8D7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D7BD63-8746-4B71-850A-B3DB2BFA48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766DE-3813-4B77-ABF4-A81A14150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E6F00-B321-4183-900D-636C591277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1968FF-FCFA-4AB9-8F13-AAC0D63538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416405-8A08-417C-9A38-43B5AABD81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31BF7B-19A3-4CAD-A9CD-4AFEBC69E0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1FF286-8BFD-4020-B31F-DE88F5A976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3FE19D-079B-42CB-AAE7-6C1C597208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7A41F2-D52F-4180-820C-AA1815CD5B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463209-EAFF-4412-B388-D7FC897FD4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B04D13-6B8E-4E6B-A93D-910761CB29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8D9B8D-EABD-4108-B7E5-DAA971D09E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3FEC-5B34-4500-9D38-AB184AFFB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DE54F-9CE4-4DF6-A15B-E202B855AC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11C6FB-C158-45D6-9E2F-0948507701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B38ED1-6A28-4F57-A468-E5965ABB5A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1D91FD-0B7F-4942-8379-8C21D0CCCC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D04970-73B2-4E09-BCE5-0DB8B77365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BB61D7-6EE6-473A-A28A-5719247E15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EBA7E2-5F27-4171-BF9D-4D8B09A588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DF4149-4880-4E9E-9016-10C6D92730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EC3FDC-DBF5-41C4-A7E8-02F6A5FA2A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2BDA11-5E36-4C5D-93A2-8D1E463079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CDAFA-4661-413C-856A-B98D63ECD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F375D8-B61F-4E69-A0F6-691A17E98D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D64ADE-125E-43EB-876B-2BE778CE20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ADABAF-8DE4-4207-AF0F-145EF82413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829597-A354-4AA9-9505-46C49939B8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37FD4F-EA90-447D-82F0-3F589EDF4C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EF1D29F-AA21-4F08-B919-A3E894082D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55C877-E4C6-4012-91AA-7E6019BBDB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701BEF-A3F6-4993-B977-902084A86E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B95D3B-DDED-4F58-A04C-D6C0966F19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B445A8-1A70-4B49-8F14-DA3FD19088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C6A26-28D8-4371-883F-F3321A21F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4F94B4-B053-4E1A-AEE3-217C4CCCF6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1F3534-E5FA-42A4-92A6-B28BC79EAC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9E8618-A19C-4140-91AE-CBEF018DA5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0475D3-B0B1-4F18-886D-FDE542AC89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176D99-EE80-4016-96BF-DD06654EE6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278205-ADD0-4C9A-9522-56496614BA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E4FD7B-357B-43C3-868B-718F053B6E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DA3D969-6DB4-4152-8D5B-E27A882EEF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98B04C-2E28-40DA-97EC-357DD77267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6170D4-D6EA-49DA-B751-00A3BD8CEEB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96145-27B2-4D06-9B46-0E8FBE95D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A5A5E3-8E55-4F94-B58E-DAE9B6E494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FF31A3C-B328-421C-9137-F34D8653A7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F5E3C9-939A-406C-9744-0D96E05852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54F177-3C0C-4FEB-8CE3-51CF356077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2C0291-40FC-4857-BFC4-9CB09E7409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381BF0-F236-4581-B3BA-DF298C3ECF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127112-F6BF-4F0F-AAE5-8B3362630F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0FE789-38D8-45F9-9413-6FB4E84746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062396-B564-4D08-AB00-093413B7C8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63F8A74-9B05-4005-BFC1-92A9A2D5BA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20D5C-8D72-473F-B656-046BF75DD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B9A9E7-B2CF-45D2-A9B0-86A17D96C4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33E0BEB-BE3C-4BD7-9EAD-8EF345B2E6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972A5C-DA07-4CC2-AF74-9D706CA33F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ACF4D4-07B4-43B8-96BF-934C06BDDA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974863-14F3-40D0-8D9D-499F9B52EF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7DE8BA-4FA8-4AB9-B72D-4F5839C4C3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DA143CF-AC0F-4F28-AA3E-71278652D8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1DD0ED-47DA-41FA-9823-1CCCCFF468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C58E12-84C3-460B-81F0-5C0BBB4C6A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9ECBC8-DDB2-4F18-AD57-A803B8E99B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4F88-D887-4390-8F7A-4383D0D51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059B38-3454-4A65-A774-3405A98306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6D8F09-7E2F-4FB7-9E31-D89D1C833FF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3E485E6-66B8-4D64-9F97-AF73BDFD66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91A3BD-40BF-46A0-9E54-EE05EB456A1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696251-7102-4AFF-9A35-AEB5EE6081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34046B-281C-4BFE-B576-EAB89D5E5C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A5E809-3CC5-416C-9E72-84E710DA9A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5887C24-FA21-4AF0-A1E1-D9C303D768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3322BA-8F59-4ADA-B47F-B658B0AB3E0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C517D7-BF57-41C8-9231-62B134A694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2F92-EE81-4B95-A3AB-A5C9CE62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3624C-D958-4980-A4AF-DD9A8013A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EFD1D7-3C88-4C46-9FDE-DD60852E64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A56A5B-96A1-482D-9E04-8E8E3B83F6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8B12A3-9DC3-46DC-8952-69C0992592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AF2084B-1FDA-48E6-8001-0E4D75F42A3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D5CF252-3345-434F-AE4B-FFE8A353B2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D412C9-FEDC-4254-9340-EC57D71D11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92BC54-F0CF-4990-A2FE-7986292B97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F6D8A9D-9D3A-4041-A678-67AD3FDDF35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2A0843-CF84-41BE-9F88-5495B443AC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8159B7-5E99-4F2E-8E79-2945C93629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78648-9B61-497C-BBDE-7C74D0D68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E2C8EB9-464D-4F4A-B4C4-80C0DE59B1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3CA1A2-59C2-46C9-9567-D1661D05F8D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9048A1-9FFE-41B6-87CE-0A7E1AA4C0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9F308C-389D-40F0-97C1-E9D3C50C3D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DC6174-777D-42CB-9CB3-BA4EE99767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03660FB-2E41-482B-8BB4-636542991F3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59FE5BC-3E26-4032-B669-FB012E665D1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92D1B34-E8DD-47A6-88BC-D2DDD65E2F6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023FDA-8653-4BA4-8C84-B80B47E319D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E554B69-EDC0-4299-ADA5-3C07A7470C0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CF774-0F18-42E8-9C0D-E964A570D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8A274C-6D94-4045-A26B-63A14A82542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15F79C1-C040-4149-B39E-0B846DA8609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C47C65-7DF8-47C7-8734-A998CDDC243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D6FCD1-EB6E-47D0-BF1B-4AAA0FCD1E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143EE8-5937-4051-BE08-FD50D7C951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3125A09-145B-4503-A4B4-402E7127FF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B74653A-B1A2-4443-B07C-9125ADB1D2C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9E059A7-25E9-4440-9D8B-30C517B9B20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59639E-111D-49DD-B40D-99ABC70A24B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59B46C6-6F69-444E-82E1-6415EEA510F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DABDF-0BA0-45AD-93B0-E25282491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06BCF23-2076-4A3C-A74E-61A81210CC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76F13A7-EFB9-410F-B121-8937D0E1E3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41F355D-7929-4078-93E8-5DE8A37B04F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0BCB2B-FD4D-4086-86DB-148CF8B3C05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7A5C15-171F-40C7-945E-39E4A77F4F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A7ED34F-4C0C-4EF1-8E46-D60FD42BE7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348EED0-94EC-46DB-8743-131C31970C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18CA09-C82B-4FF6-A8AA-6DB83B9A71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F3F29E-E9FC-4F85-97D6-9B2F158F488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3E025DD-063D-4BFA-93F8-09346803104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00417-75DE-41C1-8732-47A642B17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DF01F0D-EAA6-4B0A-8B51-F886BC6655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183D54F-0CFE-4489-876C-B173465837B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CD5DCEB-FEB5-437D-AEFF-E6E71008DCD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004821F-E4D2-409A-B712-1D7EC6C8D70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1E1A22B-7B4F-4B86-B388-56BF1B187A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BDBD890-68FE-496B-8A8C-DA8DF670A5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904F411-7B6E-4F29-8F61-7431CED775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A85D72-079B-4528-9E90-F8BBD4FCA1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28616B-617B-458D-820C-6B86E6360B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8A16A3-6ABA-420A-97D4-BF105540951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64E196-9F11-49B8-9607-A11DD5FBD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1E2A99-FB73-4C96-9964-ACEC747988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27CAFD1-747B-4E32-943C-A76BC2AECAB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D21121E-2244-47A9-AB92-825A6F1C6C8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4408A0A-15FE-46DC-89E2-722D4A53CF7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F207BE8-1FF8-4300-B36F-9B3394B38A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20E261-A078-4911-9769-1D76E7A2BBA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86DCC0E-FF68-4113-93BB-115A42CE45C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166688E-A8A3-468C-B78A-791D57575B6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8B1F73-7EF3-42CC-9B59-CA7C6F8B604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42C5CA-CEF7-4C28-BC7C-213163CC132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91557-F07A-4579-B2E8-4CBE1BCF0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9A613A-0016-4169-8BF4-041E9BAC45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F5FEF4-90AB-43D2-9CCF-053CBBECE1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C1CC99F-D4DB-4620-87F7-1E5204FDB7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20D57FA-AC83-4878-AF35-ED3BC7367E3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6DF2BC2-4FEE-46BD-9C70-A51D7BA86C5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AA19C9A-AF4F-4C54-B966-8BD65AB968D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9BBCE9F-C2EC-4350-A443-214936BA33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3031434-57B3-4029-B872-8532745F5C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8894E61-DE9C-4BF0-9AF9-0953D5FD5E9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B07991D-5679-4FB0-BD95-9C88B0A690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26691-F30A-4A9D-B66E-9636C8D293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0B2649-886E-42A6-8E31-AC2C553284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929985-7943-4468-9164-F02371DAD23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2ECFE1-354C-4845-9737-EF15A0A0BAD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CDC1B9-01C8-4D5B-943F-3D2A8992EF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5AA0FB1-247E-4772-889D-8C7DEF71020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3402C69-6F25-4A37-B658-9D1517669BE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6355823-C97F-42B5-9715-9487FD372C9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8CE1EDC-91CB-441B-BF26-29BC209873A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A6F2C8-2FB0-49D3-BF71-F4093BF11EB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9998FE4-13B2-40E0-91E7-6FEFD207A9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12A2D-4CCC-4959-A6DE-693890E9D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A115E39-D45A-410A-992E-7807BB9AA49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D77E95C-1B1A-4AA1-A7FD-F0F739F62B6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9253877-592A-438A-A253-BA7F7A9B864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B93AF05-8BEB-475B-9597-118304AFF5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85FED6F-0BC7-47C4-B99C-ED1A23D99A9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88D8CE-2EA3-43A4-8616-D3CC8B11F3D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E331594-24E3-4710-9730-5DBF563F86E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E386F11-D572-46E0-AB77-0A3C5BDC7BF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F0DE3C5-A1EC-4595-9A6B-02DE4577C76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3A12FA5-E585-43B8-A105-374306402BD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1A6D6-F24B-4B9B-99D6-9A47312A8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1E031C7-4889-4634-9EE6-70C264C8FCC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57AEE7-C943-49CC-9593-8458A006F0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5AC0A91-C703-468B-86C1-8F7D75A17A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5C2B1F2-90DD-426B-B55C-CAB31054502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E798849-1731-440B-9055-7C3A817990E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218DEA-72EF-4A53-A2F1-4695CE226B8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FAB5A3-6BA0-4521-A0A5-C8D6481A7A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4069A38-8FDA-47B5-BE08-BD778300EC4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9597C2E-A9A7-4538-9A10-72FB0B6CAF6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E1ED546-2B09-46F5-969E-DF1C273F6CD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189C-B8EA-4E30-8E21-0027627E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3E5BE-3EB0-465D-B200-5063964F4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E9CEC3D-8DB4-4F91-82C7-1ED0B4F13BF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A9D9122-F12C-43E2-94A1-167E2D6C69F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AF4040A-62CD-40CD-9C38-983802B3495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0F2D84F-C00C-45C8-96EF-D5BA64ACC80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D6B506D-6B57-4230-81AF-DF82BAA759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5D46F2E-55FB-4711-B8E9-9DCB23162A4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CB408DE-B0B4-42E8-A981-BBBF9D6B95F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352FB9B-9FE3-4C4D-B376-DB46211D79C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BDA862C-362D-4A99-A7A6-7415727562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CD3EF8C-F17D-4C87-87F2-4D4A30FFAD0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A6A87-DBCA-4B71-ACAB-CEF30253B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08C6A70-4762-4090-8FB0-8E0CE10F681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0107AB7-A6C3-43E3-AEE8-AFDFC3B7060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F460F72-B72E-4E46-A7DE-A9220F00DD1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C2FADE1-BBBE-4AB0-9F01-FE4C27312D1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E5593B9-D989-4F80-89D5-44C262498ED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F9A32DA-AEF2-4F0F-8EAA-F3AFAD6DF20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6958FC5-6027-4E19-8622-BEF3A46DC53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7411679-6EEF-477C-B169-8878243DEB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5F431D0-3792-45DD-A5F9-15FA676B1A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1329BDC-5820-4569-B7A2-26E170A4CD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80FE1-BA8A-4A90-AC08-050C3AE76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1C88CF-9F0B-4E53-A2D2-D91CE063CE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1DBC6B6-21FA-4B0B-9EFE-2B650705F1F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8C8B36D-41E4-485E-A553-3B8DA25DA4B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B2FC63F-F274-436F-8CBD-75938C94E96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EB4FDAF-3A0C-4E28-BC12-8145654B346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6E2103C-A0C2-4FA8-849D-46147245064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A41F98A-5767-4612-A091-6F1B52C21B1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BA325F9-4A79-487A-86F7-D330AF4679E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F44EF78-52BF-4FBE-AED1-D79E363EF0A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7F88F8C-63F4-4347-993E-1C7D142535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9DBBB-F2E4-4B06-947A-5E19E1763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0A5CC67-09F2-4711-AE47-1E32D58EC38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7D3B8BA-89AE-4F23-9F21-03899DBB65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0B6CDE-9840-4C9E-BE18-8F1063FD816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C4163D3-78B2-4A5D-A9C4-67259BB7D4F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B546CA7-ED8B-4C04-9886-0C75840C9F3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09ACC64-70B8-4F8D-A559-5FC8E456EAD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A2819F2-5D25-40A2-9356-B3F7A56BF53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E54CCE3-1664-459A-93F8-7FB5BE5A9AB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F97890B-736C-495B-953D-ECF43B07F37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4016471-C6AC-4046-A407-0B6BB09E966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B8597-ACF4-4B9D-820D-3B5B57F29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44F4FE-61EC-4420-856C-9636FF5BECE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E199001-073B-451F-99B6-0AAC031FA69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D449687-6906-492E-A6E9-34D2F221FBA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0F090FE-416C-4DAF-9AB2-ED4A037599C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372019E-E1B7-4C3C-A3DC-9755C3AF04E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4C6D18A-081E-4611-A84A-BB45E587BD2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E1DEA3C-992B-4C1C-93BF-D1E607A9676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737618C-803C-4BFC-B391-7E69DBC55C9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9BF0462-C9C6-4833-A730-723240059F5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9EA8C42-D513-48BA-B651-78C3D9A76A4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4D2E5A-B9E6-4E64-BB99-EAA67162D2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42557D7-EDC8-46C5-AF6F-086B364C6FA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3EF401C-6D32-4ACA-8FBF-3E577835676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D69BE69-1677-4AB8-B816-26F60122BBF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83284C2-DB64-4EA5-8D79-59580903062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45A9746-6250-4A83-97BC-7EF37160802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01B0AF-2B3A-45B1-8C7D-151180FE0E0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A2298A4-D47E-4E0F-A37B-E2A8E906F65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B328A51-3F7E-4704-BE85-4E1372EAD2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981F2FE-DD44-43B7-B102-D94F758D8B7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7A41FAB-2353-4164-819C-569BF4DD774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C8925-8F76-4FE4-8554-BCF9FEA04B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9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018685D-AB4F-447A-914F-6AE12168D1A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4093CBE-DD69-4E10-86F8-C19ACB3D38A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7F54711-DA5D-4A1E-8839-4B37F4A774F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7AAC7BF-6BEB-4D54-BAE3-B1F899D5DFD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AA7F176-F254-4B82-8E79-F267705B2C6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99B1A5D-E95C-4FED-A5C6-69D36D423D6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20F4EB0-AF0E-49BA-83EE-C0239E37687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C8860A4-AB1D-4AE0-93C0-B6EEB19D025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E72BBEF-DDB8-4F94-96E9-3D512728F56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1C4204-2FDC-47EE-B0B5-9245484159B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FE992-7B23-478D-ABEA-B0E0E32354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D560BB5-9A47-451F-A3C2-5363E5B77FA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91F7591-5617-4C03-8CF7-BD5B0000DE1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C7A649F-272B-444D-8949-32C4D17F90A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37C6676-8B80-4F8E-AFB3-1B53599FE9B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63F04BA-85A2-4019-8E7C-08AC9EBCA20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BEB23B0-2939-44C5-8100-37FFA7F87B8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BB50CDB-6338-49E2-83FB-462BF267BCA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7B41644-36C1-4DF9-AC60-58F8A645826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A635CAE-6B6A-4960-99CE-B1495F5CFDD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AFF1A7D-63C7-4C9F-B270-F2C5A8C278A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06CE1-2BD5-4AA0-BDB0-B160AFBE5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6DEEF2A-CF4B-4A30-800B-327D49B9F8D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F31386-DED9-4DB2-87D8-8B61B449A86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2356DE6-EDD8-42A7-8F88-30FA8CE74B5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BC16444-8CCA-42F2-A366-9DF602D5982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3405FF8-2A9C-415A-BBE1-7246101C00C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CB542C1-729D-42BC-8FD9-AF94457C9AC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9A61384-627B-4E9F-81D9-55BD80ED661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CBC0ECD-FA53-40F8-9596-63160BD67D1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90135F2-58CA-40E3-9EFC-B5B5E935CB1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9CB213D-BB45-42D1-B6A3-02840EF1EF0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010CE-5BB0-4C11-AF34-469FB9C48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D9A1BDA-52FB-4D85-95B3-1C3A51171E4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4D5D7A2-B889-4FB1-A5D6-0F185792D74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A268291-E5A8-4318-8191-D94E92E9790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460550-8B1D-4F13-A6E0-1BD410B8FA7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78104DF-42A5-4CFD-AAFD-A938F7B2C6D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244EABB-9BE8-4C29-9DC4-298E77D7CAD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5DF0ED2-58F9-4A69-83FE-E7A424CE00F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D7D34CF-075A-4799-821D-83308738741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88F67C7-A8AB-4509-BB1E-04348949B43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BD936E7-6B91-4F39-9462-3644CDEADF3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B2A36-41D1-49D0-A4C0-92A4EA25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1FC4F-5C15-49B4-B71F-2E7656E3E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403D08C-3998-44B3-9282-33E026619A5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830830F-BE37-49DB-B38D-805138A401E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7993921-65FE-46C3-BACF-58592437144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B76B224-65EA-424F-9D9B-E8A65613C81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15F1FFD-C978-43A4-B930-636CE83506D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F53251F-BB1A-4AD9-89FF-0DE21A3FDE2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33B7E5-6BFC-4876-980A-E3F73F44A88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565FB87-C56F-4181-AB9C-D72CE182AA4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632D34D-BF0E-49EA-9D77-ADFA8C89735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118BA8C-DADB-4117-BCD4-1A06A310126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2B13A-49C1-42EA-A405-B3A664D76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11D50DA-FD47-457B-8356-20C7A770546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6265405-F1FB-4344-80F4-5A56450DD9A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FEC18C5-E318-4318-BCB1-8D891426F38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1E4D6F4-EF55-4B31-A779-C835E086F2B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D84A234-7841-4F27-95F5-828581D4881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0D37A63-D287-4983-86FA-16387DE6017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3A143D0-8DAC-48E6-B622-84169E31BB5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6CB3748-6581-4F34-928C-C20EEB7D791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B3EAEC6-E1ED-4B13-8CC4-5F0AF51797E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9681782-E999-4226-A6B5-0A9EF11F32A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46D01-35ED-42F7-AA65-1F79DBEB6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7977ACF-325A-4D23-90D6-BF3BB35A1A4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EBEC8F5-1FDB-4E23-BD63-75183D36281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D07EC2B-B5F0-49F5-B7B1-1C78C0CFA64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BF312A6-4425-4F8D-AA62-7341E5C0ED9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E18F095-C79C-47B9-AE15-A31EF26427B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53285D6-BBBF-44BC-AF44-3F123C30F50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F5AF901-F7E6-4BE1-B888-4FDE0FA8F41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3DB250B-2C6E-4F98-A63F-7A9922C5BDE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38A949E-89E7-444B-8AA1-5681DD49B5F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59AA79E-BD79-4D0A-ACED-31D956D3323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EE641-F8B6-4603-88EE-B43D182F5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A353E8A-DB6B-427B-8C12-1F8B642B093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F112854-C61E-4CB6-A4F9-EC4A8D15ABA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582C571-3051-4386-A43D-E74BD29A981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158CF07-D343-4414-A4F7-E4766B18257A}"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3F0AC96-97DC-4C6A-AE42-F93ADBCB6B1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B2D6A0D-8E43-4321-A180-C26C195DAD5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64BCBFE-136F-4098-8250-BFAD1B96FA2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85647FC-A899-4A57-BA9B-7DF0D0889A8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EDFB90F-81DA-46E4-B085-7F33BFE28EC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DED587D-C186-454F-BA75-AA3266EACFC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07FB4-A5CC-42AE-89A5-1B65104EE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3E868C4-3866-4FC5-BA03-3DD9A397768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00A77DB-97E5-4781-ACE3-5C10034A03B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33695E6-8908-486D-8B8F-7921ABA5B7E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2DF9BED4-7348-46B4-B1F2-14148190316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5413299-A69B-4011-A114-72AC8AE0EA4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E7438EE-951A-4050-89F5-4DE76B6CD30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44DE04D-7D0B-4683-B29C-422FA9BF116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4873600-433B-41BA-A18F-882F6C1828F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7E47AB3-C744-4861-AD61-26190F33FC6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B851FB1-F366-4388-8967-D8177D6A6BD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76F43-46F6-4CD1-9339-F7298042E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F290D1C-4641-4D60-86CE-B93554BF4D7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46CE7D5-5457-4384-85CB-1F8FDD3E4E0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CC1296E-109E-4C4B-AE51-DE016E38F4C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00DF260-0843-40BB-91FF-FFCC90CBCA9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9DCFC57-1EF7-47C6-A825-1D67902D488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3C77412-462E-4115-9196-121546B8206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7FDE7C6-2D59-4B86-8566-9F44D34154B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13F7135-80D0-417D-A1A5-CAE66C5EE1E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A528366-173D-46D8-9A38-3343AB395F2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0DF7E2E-4509-46AA-A349-76EBE2C069D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0FA04-12A4-43A6-854C-D0B9040EF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DAF1024-DD42-453F-8914-E948F55C928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143A056-AE49-4F91-9FA5-38C873C07A2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4559761-7AA8-4F54-B9FC-A55AE9333D0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1B3B430-560E-4400-A44C-BBBC3F7624C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944A035-8D6C-4493-BBC0-F78D4659704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4A649C2-1B76-4C48-ABDE-CEA86673A30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4A4D26D-A86C-4F1D-9639-AFEC3C50DEB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16E7504-4DAE-4248-997F-3CB52260471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72FD7E8-9F25-48B1-8926-6FCF1B924A09}"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B3613-06C8-4D29-BE37-26A7A6358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EA6E1-49C2-44CE-B9DB-A003B78F18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F6221D-4327-4FCC-92EE-38301F4C60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055B-71DB-425D-94A0-1D3525E2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01926-0240-4C3A-A3F4-D44E5F236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B8E8B-3660-40F0-9C53-FD8A7E39C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8D0190-E670-4BED-9C3D-C703C5118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CFD0A-8B22-4143-8689-1C7A0DA6B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9F6F8-ABBC-40EB-B8BF-A1A17BF50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324BA-FFD1-4C24-A9FF-2BCA608FA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6D6AB-B280-49C2-BFEC-18C32A597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700AB-0134-4F60-9A83-218A719D0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17937-1C32-4C93-8A15-690C4FEBF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275894-CF39-4E7C-BB25-9370ABDAD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EC4BB-3E2C-439E-BFAF-AF1EFB761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081C42-BCEE-4AE2-9085-E0B04807C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423041-C6D6-48E4-A729-C1C150703B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70A470-38AE-48C3-A38D-4BA372AC96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C32E63-730F-477E-86F6-44419FD54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3E91F-98BF-4906-AD55-02908341F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9B56C-4906-459D-BF18-E15906912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2F016-639F-41B3-A927-2AFDAEEFB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7389D-FDD8-4FA5-99F3-1D8F05E04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83543-E2D3-4112-AD77-258A8AC7B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15DCC-E0DE-42D2-8271-45D2890F83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13BE-2DC0-40FB-B53B-8767719A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578DB-1B8E-4C2F-A62E-78C5148909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C07B7-A1A4-403C-87C3-866AA9BB0C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9092C7-3259-4603-9F7A-7C92E09815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1C16A3-9297-47D0-924D-861BB0959C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AB0D5-9517-4C61-8465-B04F221C4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72690-10F3-4E2A-8DC0-304F514C5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F33330-C188-4539-BD1E-C1AE5CD6A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B7DF4-2D67-43B4-A229-1B10701F6F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B72EDB-189B-4922-B069-E0E38124D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25BAC-FB4F-4330-B04C-5890FA09B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71827-0950-4A7F-A909-F1F19C11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AE621-040E-4C71-A4D5-B9B3EB3C9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E9674-E795-4739-BD69-179F83770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7F57D-63FE-455F-BE4A-BF9501DD3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46884-08DE-4461-BAA3-0CCE05D60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584700-61BE-41B5-B65C-B80B23F520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FD4E9-1D69-4041-8CDF-49B80F57D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E4CB5-43B4-420B-A9B6-3F460E0A6F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56A04-82D7-462F-B992-A20375358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19B9D-EA66-462D-A9FE-699175485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CF05E-8F97-4F7E-80BB-4E849615E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DAD8-D786-46C8-B4A0-89F57C02E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E8193-C0AC-4F74-B2BE-44B00C940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4D4FD-CBFC-4008-8920-4C89BA91B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AE707-5A91-4ED3-825A-2DC4FB45A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D3DD6-8448-420D-A85D-CEFC06F0C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B219F-A81D-42C9-9377-074060BE05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E2BCE7-F48B-4A9D-ACC4-C7C4B8D1AA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EEFDAE-7DAF-403E-9180-8135FB143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F7D314-DABB-4C96-9B3C-C9669AADC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5548F2-CEF0-4CB6-9E14-56D049B68F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CB33B-4899-4240-952A-0B6CC1F5A1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7.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01.xml"/><Relationship Id="rId12" Type="http://schemas.openxmlformats.org/officeDocument/2006/relationships/slideLayout" Target="../slideLayouts/slideLayout302.xml"/><Relationship Id="rId13" Type="http://schemas.openxmlformats.org/officeDocument/2006/relationships/slideLayout" Target="../slideLayouts/slideLayout303.xml"/><Relationship Id="rId14" Type="http://schemas.openxmlformats.org/officeDocument/2006/relationships/slideLayout" Target="../slideLayouts/slideLayout304.xml"/><Relationship Id="rId15" Type="http://schemas.openxmlformats.org/officeDocument/2006/relationships/slideLayout" Target="../slideLayouts/slideLayout305.xml"/><Relationship Id="rId16" Type="http://schemas.openxmlformats.org/officeDocument/2006/relationships/slideLayout" Target="../slideLayouts/slideLayout306.xml"/><Relationship Id="rId17" Type="http://schemas.openxmlformats.org/officeDocument/2006/relationships/slideLayout" Target="../slideLayouts/slideLayout307.xml"/><Relationship Id="rId18" Type="http://schemas.openxmlformats.org/officeDocument/2006/relationships/slideLayout" Target="../slideLayouts/slideLayout308.xml"/><Relationship Id="rId19" Type="http://schemas.openxmlformats.org/officeDocument/2006/relationships/slideLayout" Target="../slideLayouts/slideLayout309.xml"/><Relationship Id="rId20" Type="http://schemas.openxmlformats.org/officeDocument/2006/relationships/slideLayout" Target="../slideLayouts/slideLayout310.xml"/><Relationship Id="rId21" Type="http://schemas.openxmlformats.org/officeDocument/2006/relationships/slideLayout" Target="../slideLayouts/slideLayout311.xml"/><Relationship Id="rId22"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7.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61.xml"/><Relationship Id="rId8" Type="http://schemas.openxmlformats.org/officeDocument/2006/relationships/slideLayout" Target="../slideLayouts/slideLayout362.xml"/><Relationship Id="rId9" Type="http://schemas.openxmlformats.org/officeDocument/2006/relationships/slideLayout" Target="../slideLayouts/slideLayout363.xml"/><Relationship Id="rId10" Type="http://schemas.openxmlformats.org/officeDocument/2006/relationships/slideLayout" Target="../slideLayouts/slideLayout364.xml"/><Relationship Id="rId11" Type="http://schemas.openxmlformats.org/officeDocument/2006/relationships/slideLayout" Target="../slideLayouts/slideLayout365.xml"/><Relationship Id="rId12" Type="http://schemas.openxmlformats.org/officeDocument/2006/relationships/slideLayout" Target="../slideLayouts/slideLayout366.xml"/><Relationship Id="rId13" Type="http://schemas.openxmlformats.org/officeDocument/2006/relationships/slideLayout" Target="../slideLayouts/slideLayout367.xml"/><Relationship Id="rId14" Type="http://schemas.openxmlformats.org/officeDocument/2006/relationships/slideLayout" Target="../slideLayouts/slideLayout368.xml"/><Relationship Id="rId15" Type="http://schemas.openxmlformats.org/officeDocument/2006/relationships/slideLayout" Target="../slideLayouts/slideLayout369.xml"/><Relationship Id="rId16" Type="http://schemas.openxmlformats.org/officeDocument/2006/relationships/slideLayout" Target="../slideLayouts/slideLayout370.xml"/><Relationship Id="rId17" Type="http://schemas.openxmlformats.org/officeDocument/2006/relationships/slideLayout" Target="../slideLayouts/slideLayout371.xml"/><Relationship Id="rId18"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7.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F6A8-6EED-47C2-A44B-74FA41113EF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B758-B9D7-4BC8-BA6B-9343B26DDB5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7" name="图片 7" descr=""/>
          <p:cNvPicPr/>
          <p:nvPr/>
        </p:nvPicPr>
        <p:blipFill>
          <a:blip r:embed="rId2"/>
          <a:stretch/>
        </p:blipFill>
        <p:spPr>
          <a:xfrm>
            <a:off x="10899720" y="5443560"/>
            <a:ext cx="1292400" cy="1414440"/>
          </a:xfrm>
          <a:prstGeom prst="rect">
            <a:avLst/>
          </a:prstGeom>
          <a:ln w="0">
            <a:noFill/>
          </a:ln>
        </p:spPr>
      </p:pic>
      <p:pic>
        <p:nvPicPr>
          <p:cNvPr id="408" name="图片 8" descr=""/>
          <p:cNvPicPr/>
          <p:nvPr/>
        </p:nvPicPr>
        <p:blipFill>
          <a:blip r:embed="rId3"/>
          <a:stretch/>
        </p:blipFill>
        <p:spPr>
          <a:xfrm>
            <a:off x="311040" y="6194520"/>
            <a:ext cx="507960" cy="431640"/>
          </a:xfrm>
          <a:prstGeom prst="rect">
            <a:avLst/>
          </a:prstGeom>
          <a:ln w="0">
            <a:noFill/>
          </a:ln>
        </p:spPr>
      </p:pic>
      <p:pic>
        <p:nvPicPr>
          <p:cNvPr id="409" name="图片 9" descr=""/>
          <p:cNvPicPr/>
          <p:nvPr/>
        </p:nvPicPr>
        <p:blipFill>
          <a:blip r:embed="rId4"/>
          <a:stretch/>
        </p:blipFill>
        <p:spPr>
          <a:xfrm>
            <a:off x="10291680" y="6410160"/>
            <a:ext cx="354240" cy="336600"/>
          </a:xfrm>
          <a:prstGeom prst="rect">
            <a:avLst/>
          </a:prstGeom>
          <a:ln w="0">
            <a:noFill/>
          </a:ln>
        </p:spPr>
      </p:pic>
      <p:pic>
        <p:nvPicPr>
          <p:cNvPr id="410" name="图片 10" descr=""/>
          <p:cNvPicPr/>
          <p:nvPr/>
        </p:nvPicPr>
        <p:blipFill>
          <a:blip r:embed="rId5"/>
          <a:stretch/>
        </p:blipFill>
        <p:spPr>
          <a:xfrm>
            <a:off x="260280" y="114480"/>
            <a:ext cx="546120" cy="534960"/>
          </a:xfrm>
          <a:prstGeom prst="rect">
            <a:avLst/>
          </a:prstGeom>
          <a:ln w="0">
            <a:noFill/>
          </a:ln>
        </p:spPr>
      </p:pic>
      <p:pic>
        <p:nvPicPr>
          <p:cNvPr id="411" name="图片 11" descr=""/>
          <p:cNvPicPr/>
          <p:nvPr/>
        </p:nvPicPr>
        <p:blipFill>
          <a:blip r:embed="rId6"/>
          <a:stretch/>
        </p:blipFill>
        <p:spPr>
          <a:xfrm>
            <a:off x="11442600" y="54000"/>
            <a:ext cx="615960" cy="608040"/>
          </a:xfrm>
          <a:prstGeom prst="rect">
            <a:avLst/>
          </a:prstGeom>
          <a:ln w="0">
            <a:noFill/>
          </a:ln>
        </p:spPr>
      </p:pic>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4"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A774-4C32-400D-8EDB-7B7ED07CA17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5"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4090-77BC-49A1-BBDB-64612BCFB0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4" name="图片 7" descr=""/>
          <p:cNvPicPr/>
          <p:nvPr/>
        </p:nvPicPr>
        <p:blipFill>
          <a:blip r:embed="rId2"/>
          <a:stretch/>
        </p:blipFill>
        <p:spPr>
          <a:xfrm>
            <a:off x="10899720" y="5443560"/>
            <a:ext cx="1292400" cy="1414440"/>
          </a:xfrm>
          <a:prstGeom prst="rect">
            <a:avLst/>
          </a:prstGeom>
          <a:ln w="0">
            <a:noFill/>
          </a:ln>
        </p:spPr>
      </p:pic>
      <p:pic>
        <p:nvPicPr>
          <p:cNvPr id="455" name="图片 8" descr=""/>
          <p:cNvPicPr/>
          <p:nvPr/>
        </p:nvPicPr>
        <p:blipFill>
          <a:blip r:embed="rId3"/>
          <a:stretch/>
        </p:blipFill>
        <p:spPr>
          <a:xfrm>
            <a:off x="311040" y="6194520"/>
            <a:ext cx="507960" cy="431640"/>
          </a:xfrm>
          <a:prstGeom prst="rect">
            <a:avLst/>
          </a:prstGeom>
          <a:ln w="0">
            <a:noFill/>
          </a:ln>
        </p:spPr>
      </p:pic>
      <p:pic>
        <p:nvPicPr>
          <p:cNvPr id="456" name="图片 9" descr=""/>
          <p:cNvPicPr/>
          <p:nvPr/>
        </p:nvPicPr>
        <p:blipFill>
          <a:blip r:embed="rId4"/>
          <a:stretch/>
        </p:blipFill>
        <p:spPr>
          <a:xfrm>
            <a:off x="10291680" y="6410160"/>
            <a:ext cx="354240" cy="336600"/>
          </a:xfrm>
          <a:prstGeom prst="rect">
            <a:avLst/>
          </a:prstGeom>
          <a:ln w="0">
            <a:noFill/>
          </a:ln>
        </p:spPr>
      </p:pic>
      <p:pic>
        <p:nvPicPr>
          <p:cNvPr id="457" name="图片 10" descr=""/>
          <p:cNvPicPr/>
          <p:nvPr/>
        </p:nvPicPr>
        <p:blipFill>
          <a:blip r:embed="rId5"/>
          <a:stretch/>
        </p:blipFill>
        <p:spPr>
          <a:xfrm>
            <a:off x="260280" y="114480"/>
            <a:ext cx="546120" cy="534960"/>
          </a:xfrm>
          <a:prstGeom prst="rect">
            <a:avLst/>
          </a:prstGeom>
          <a:ln w="0">
            <a:noFill/>
          </a:ln>
        </p:spPr>
      </p:pic>
      <p:pic>
        <p:nvPicPr>
          <p:cNvPr id="458" name="图片 11" descr=""/>
          <p:cNvPicPr/>
          <p:nvPr/>
        </p:nvPicPr>
        <p:blipFill>
          <a:blip r:embed="rId6"/>
          <a:stretch/>
        </p:blipFill>
        <p:spPr>
          <a:xfrm>
            <a:off x="11442600" y="54000"/>
            <a:ext cx="615960" cy="608040"/>
          </a:xfrm>
          <a:prstGeom prst="rect">
            <a:avLst/>
          </a:prstGeom>
          <a:ln w="0">
            <a:noFill/>
          </a:ln>
        </p:spPr>
      </p:pic>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1"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19A7-43ED-4852-B101-6B6566B46EA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2"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CB4B-9B41-45D8-A755-BE7935AEE7A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1" name="图片 6" descr=""/>
          <p:cNvPicPr/>
          <p:nvPr/>
        </p:nvPicPr>
        <p:blipFill>
          <a:blip r:embed="rId2"/>
          <a:stretch/>
        </p:blipFill>
        <p:spPr>
          <a:xfrm>
            <a:off x="10899720" y="5443560"/>
            <a:ext cx="1292400" cy="1414440"/>
          </a:xfrm>
          <a:prstGeom prst="rect">
            <a:avLst/>
          </a:prstGeom>
          <a:ln w="0">
            <a:noFill/>
          </a:ln>
        </p:spPr>
      </p:pic>
      <p:pic>
        <p:nvPicPr>
          <p:cNvPr id="502" name="图片 7" descr=""/>
          <p:cNvPicPr/>
          <p:nvPr/>
        </p:nvPicPr>
        <p:blipFill>
          <a:blip r:embed="rId3"/>
          <a:stretch/>
        </p:blipFill>
        <p:spPr>
          <a:xfrm>
            <a:off x="311040" y="6194520"/>
            <a:ext cx="507960" cy="431640"/>
          </a:xfrm>
          <a:prstGeom prst="rect">
            <a:avLst/>
          </a:prstGeom>
          <a:ln w="0">
            <a:noFill/>
          </a:ln>
        </p:spPr>
      </p:pic>
      <p:pic>
        <p:nvPicPr>
          <p:cNvPr id="503" name="图片 8" descr=""/>
          <p:cNvPicPr/>
          <p:nvPr/>
        </p:nvPicPr>
        <p:blipFill>
          <a:blip r:embed="rId4"/>
          <a:stretch/>
        </p:blipFill>
        <p:spPr>
          <a:xfrm>
            <a:off x="10291680" y="6410160"/>
            <a:ext cx="354240" cy="336600"/>
          </a:xfrm>
          <a:prstGeom prst="rect">
            <a:avLst/>
          </a:prstGeom>
          <a:ln w="0">
            <a:noFill/>
          </a:ln>
        </p:spPr>
      </p:pic>
      <p:pic>
        <p:nvPicPr>
          <p:cNvPr id="504" name="图片 9" descr=""/>
          <p:cNvPicPr/>
          <p:nvPr/>
        </p:nvPicPr>
        <p:blipFill>
          <a:blip r:embed="rId5"/>
          <a:stretch/>
        </p:blipFill>
        <p:spPr>
          <a:xfrm>
            <a:off x="260280" y="114480"/>
            <a:ext cx="546120" cy="534960"/>
          </a:xfrm>
          <a:prstGeom prst="rect">
            <a:avLst/>
          </a:prstGeom>
          <a:ln w="0">
            <a:noFill/>
          </a:ln>
        </p:spPr>
      </p:pic>
      <p:pic>
        <p:nvPicPr>
          <p:cNvPr id="505" name="图片 10" descr=""/>
          <p:cNvPicPr/>
          <p:nvPr/>
        </p:nvPicPr>
        <p:blipFill>
          <a:blip r:embed="rId6"/>
          <a:stretch/>
        </p:blipFill>
        <p:spPr>
          <a:xfrm>
            <a:off x="11442600" y="54000"/>
            <a:ext cx="615960" cy="608040"/>
          </a:xfrm>
          <a:prstGeom prst="rect">
            <a:avLst/>
          </a:prstGeom>
          <a:ln w="0">
            <a:noFill/>
          </a:ln>
        </p:spPr>
      </p:pic>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8"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3C3A-6636-4B38-A803-EE1C95E4F51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9"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DDF4-FBD5-414C-8969-51AB81BE11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8" name="图片 5" descr=""/>
          <p:cNvPicPr/>
          <p:nvPr/>
        </p:nvPicPr>
        <p:blipFill>
          <a:blip r:embed="rId2"/>
          <a:stretch/>
        </p:blipFill>
        <p:spPr>
          <a:xfrm>
            <a:off x="10899720" y="5443560"/>
            <a:ext cx="1292400" cy="1414440"/>
          </a:xfrm>
          <a:prstGeom prst="rect">
            <a:avLst/>
          </a:prstGeom>
          <a:ln w="0">
            <a:noFill/>
          </a:ln>
        </p:spPr>
      </p:pic>
      <p:pic>
        <p:nvPicPr>
          <p:cNvPr id="549" name="图片 7" descr=""/>
          <p:cNvPicPr/>
          <p:nvPr/>
        </p:nvPicPr>
        <p:blipFill>
          <a:blip r:embed="rId3"/>
          <a:stretch/>
        </p:blipFill>
        <p:spPr>
          <a:xfrm>
            <a:off x="311040" y="6194520"/>
            <a:ext cx="507960" cy="431640"/>
          </a:xfrm>
          <a:prstGeom prst="rect">
            <a:avLst/>
          </a:prstGeom>
          <a:ln w="0">
            <a:noFill/>
          </a:ln>
        </p:spPr>
      </p:pic>
      <p:pic>
        <p:nvPicPr>
          <p:cNvPr id="550" name="图片 8" descr=""/>
          <p:cNvPicPr/>
          <p:nvPr/>
        </p:nvPicPr>
        <p:blipFill>
          <a:blip r:embed="rId4"/>
          <a:stretch/>
        </p:blipFill>
        <p:spPr>
          <a:xfrm>
            <a:off x="10291680" y="6410160"/>
            <a:ext cx="354240" cy="336600"/>
          </a:xfrm>
          <a:prstGeom prst="rect">
            <a:avLst/>
          </a:prstGeom>
          <a:ln w="0">
            <a:noFill/>
          </a:ln>
        </p:spPr>
      </p:pic>
      <p:pic>
        <p:nvPicPr>
          <p:cNvPr id="551" name="图片 9" descr=""/>
          <p:cNvPicPr/>
          <p:nvPr/>
        </p:nvPicPr>
        <p:blipFill>
          <a:blip r:embed="rId5"/>
          <a:stretch/>
        </p:blipFill>
        <p:spPr>
          <a:xfrm>
            <a:off x="260280" y="114480"/>
            <a:ext cx="546120" cy="534960"/>
          </a:xfrm>
          <a:prstGeom prst="rect">
            <a:avLst/>
          </a:prstGeom>
          <a:ln w="0">
            <a:noFill/>
          </a:ln>
        </p:spPr>
      </p:pic>
      <p:pic>
        <p:nvPicPr>
          <p:cNvPr id="552" name="图片 10" descr=""/>
          <p:cNvPicPr/>
          <p:nvPr/>
        </p:nvPicPr>
        <p:blipFill>
          <a:blip r:embed="rId6"/>
          <a:stretch/>
        </p:blipFill>
        <p:spPr>
          <a:xfrm>
            <a:off x="11442600" y="54000"/>
            <a:ext cx="615960" cy="608040"/>
          </a:xfrm>
          <a:prstGeom prst="rect">
            <a:avLst/>
          </a:prstGeom>
          <a:ln w="0">
            <a:noFill/>
          </a:ln>
        </p:spPr>
      </p:pic>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5"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4474-3247-4FA9-9EC7-CF2B720054C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6"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679E-A878-4D7E-A6FF-3DA96ABCEE9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5" name="图片 5" descr=""/>
          <p:cNvPicPr/>
          <p:nvPr/>
        </p:nvPicPr>
        <p:blipFill>
          <a:blip r:embed="rId2"/>
          <a:stretch/>
        </p:blipFill>
        <p:spPr>
          <a:xfrm>
            <a:off x="2868480" y="3490920"/>
            <a:ext cx="2543400" cy="3108240"/>
          </a:xfrm>
          <a:prstGeom prst="rect">
            <a:avLst/>
          </a:prstGeom>
          <a:ln w="0">
            <a:noFill/>
          </a:ln>
        </p:spPr>
      </p:pic>
      <p:pic>
        <p:nvPicPr>
          <p:cNvPr id="596" name="图片 6" descr=""/>
          <p:cNvPicPr/>
          <p:nvPr/>
        </p:nvPicPr>
        <p:blipFill>
          <a:blip r:embed="rId3"/>
          <a:stretch/>
        </p:blipFill>
        <p:spPr>
          <a:xfrm>
            <a:off x="6480" y="1612800"/>
            <a:ext cx="3257280" cy="5243760"/>
          </a:xfrm>
          <a:prstGeom prst="rect">
            <a:avLst/>
          </a:prstGeom>
          <a:ln w="0">
            <a:noFill/>
          </a:ln>
        </p:spPr>
      </p:pic>
      <p:pic>
        <p:nvPicPr>
          <p:cNvPr id="597" name="图片 6" descr=""/>
          <p:cNvPicPr/>
          <p:nvPr/>
        </p:nvPicPr>
        <p:blipFill>
          <a:blip r:embed="rId4"/>
          <a:stretch/>
        </p:blipFill>
        <p:spPr>
          <a:xfrm rot="17330400">
            <a:off x="3570480" y="5589000"/>
            <a:ext cx="568440" cy="542880"/>
          </a:xfrm>
          <a:prstGeom prst="rect">
            <a:avLst/>
          </a:prstGeom>
          <a:ln w="0">
            <a:noFill/>
          </a:ln>
        </p:spPr>
      </p:pic>
      <p:pic>
        <p:nvPicPr>
          <p:cNvPr id="598" name="图片 5" descr=""/>
          <p:cNvPicPr/>
          <p:nvPr/>
        </p:nvPicPr>
        <p:blipFill>
          <a:blip r:embed="rId5"/>
          <a:stretch/>
        </p:blipFill>
        <p:spPr>
          <a:xfrm rot="20422800">
            <a:off x="1217160" y="5847840"/>
            <a:ext cx="563760" cy="536760"/>
          </a:xfrm>
          <a:prstGeom prst="rect">
            <a:avLst/>
          </a:prstGeom>
          <a:ln w="0">
            <a:noFill/>
          </a:ln>
        </p:spPr>
      </p:pic>
      <p:pic>
        <p:nvPicPr>
          <p:cNvPr id="599" name="图片 9" descr=""/>
          <p:cNvPicPr/>
          <p:nvPr/>
        </p:nvPicPr>
        <p:blipFill>
          <a:blip r:embed="rId6"/>
          <a:stretch/>
        </p:blipFill>
        <p:spPr>
          <a:xfrm>
            <a:off x="4964040" y="4621320"/>
            <a:ext cx="1830600" cy="2236680"/>
          </a:xfrm>
          <a:prstGeom prst="rect">
            <a:avLst/>
          </a:prstGeom>
          <a:ln w="0">
            <a:noFill/>
          </a:ln>
        </p:spPr>
      </p:pic>
      <p:pic>
        <p:nvPicPr>
          <p:cNvPr id="600" name="图片 10" descr=""/>
          <p:cNvPicPr/>
          <p:nvPr/>
        </p:nvPicPr>
        <p:blipFill>
          <a:blip r:embed="rId7"/>
          <a:stretch/>
        </p:blipFill>
        <p:spPr>
          <a:xfrm>
            <a:off x="3616200" y="369720"/>
            <a:ext cx="2659320" cy="3116520"/>
          </a:xfrm>
          <a:prstGeom prst="rect">
            <a:avLst/>
          </a:prstGeom>
          <a:ln w="0">
            <a:noFill/>
          </a:ln>
        </p:spPr>
      </p:pic>
      <p:pic>
        <p:nvPicPr>
          <p:cNvPr id="601" name="图片 3" descr=""/>
          <p:cNvPicPr/>
          <p:nvPr/>
        </p:nvPicPr>
        <p:blipFill>
          <a:blip r:embed="rId8"/>
          <a:stretch/>
        </p:blipFill>
        <p:spPr>
          <a:xfrm flipH="1" rot="20731200">
            <a:off x="10271880" y="1108080"/>
            <a:ext cx="1067040" cy="1046160"/>
          </a:xfrm>
          <a:prstGeom prst="rect">
            <a:avLst/>
          </a:prstGeom>
          <a:ln w="0">
            <a:noFill/>
          </a:ln>
        </p:spPr>
      </p:pic>
      <p:pic>
        <p:nvPicPr>
          <p:cNvPr id="602" name="图片 4" descr=""/>
          <p:cNvPicPr/>
          <p:nvPr/>
        </p:nvPicPr>
        <p:blipFill>
          <a:blip r:embed="rId9"/>
          <a:stretch/>
        </p:blipFill>
        <p:spPr>
          <a:xfrm>
            <a:off x="8472600" y="5543640"/>
            <a:ext cx="558720" cy="533160"/>
          </a:xfrm>
          <a:prstGeom prst="rect">
            <a:avLst/>
          </a:prstGeom>
          <a:ln w="0">
            <a:noFill/>
          </a:ln>
        </p:spPr>
      </p:pic>
      <p:pic>
        <p:nvPicPr>
          <p:cNvPr id="603" name="图片 3" descr=""/>
          <p:cNvPicPr/>
          <p:nvPr/>
        </p:nvPicPr>
        <p:blipFill>
          <a:blip r:embed="rId10"/>
          <a:stretch/>
        </p:blipFill>
        <p:spPr>
          <a:xfrm>
            <a:off x="2421000" y="1197000"/>
            <a:ext cx="950760" cy="933480"/>
          </a:xfrm>
          <a:prstGeom prst="rect">
            <a:avLst/>
          </a:prstGeom>
          <a:ln w="0">
            <a:noFill/>
          </a:ln>
        </p:spPr>
      </p:pic>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6" name="PlaceHolder 3"/>
          <p:cNvSpPr>
            <a:spLocks noGrp="1"/>
          </p:cNvSpPr>
          <p:nvPr>
            <p:ph type="dt" idx="40"/>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32D8-CD33-4DC4-8EB4-D8FC668E0BC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7"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3411-BBBC-43A5-A8ED-08859EDF0F3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9"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9F60-D36C-45F7-8721-16DD3E59D17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C6C1-3DDC-40CC-86F6-8D6292FD55D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9" name="图片 5" descr=""/>
          <p:cNvPicPr/>
          <p:nvPr/>
        </p:nvPicPr>
        <p:blipFill>
          <a:blip r:embed="rId2"/>
          <a:stretch/>
        </p:blipFill>
        <p:spPr>
          <a:xfrm rot="19920000">
            <a:off x="1331640" y="5760720"/>
            <a:ext cx="709560" cy="676080"/>
          </a:xfrm>
          <a:prstGeom prst="rect">
            <a:avLst/>
          </a:prstGeom>
          <a:ln w="0">
            <a:noFill/>
          </a:ln>
        </p:spPr>
      </p:pic>
      <p:pic>
        <p:nvPicPr>
          <p:cNvPr id="690" name="图片 6" descr=""/>
          <p:cNvPicPr/>
          <p:nvPr/>
        </p:nvPicPr>
        <p:blipFill>
          <a:blip r:embed="rId3"/>
          <a:stretch/>
        </p:blipFill>
        <p:spPr>
          <a:xfrm rot="17330400">
            <a:off x="3751200" y="5588640"/>
            <a:ext cx="568440" cy="543240"/>
          </a:xfrm>
          <a:prstGeom prst="rect">
            <a:avLst/>
          </a:prstGeom>
          <a:ln w="0">
            <a:noFill/>
          </a:ln>
        </p:spPr>
      </p:pic>
      <p:pic>
        <p:nvPicPr>
          <p:cNvPr id="691" name="图片 4" descr=""/>
          <p:cNvPicPr/>
          <p:nvPr/>
        </p:nvPicPr>
        <p:blipFill>
          <a:blip r:embed="rId4"/>
          <a:stretch/>
        </p:blipFill>
        <p:spPr>
          <a:xfrm>
            <a:off x="609480" y="693720"/>
            <a:ext cx="560520" cy="534960"/>
          </a:xfrm>
          <a:prstGeom prst="rect">
            <a:avLst/>
          </a:prstGeom>
          <a:ln w="0">
            <a:noFill/>
          </a:ln>
        </p:spPr>
      </p:pic>
      <p:pic>
        <p:nvPicPr>
          <p:cNvPr id="692" name="图片 3" descr=""/>
          <p:cNvPicPr/>
          <p:nvPr/>
        </p:nvPicPr>
        <p:blipFill>
          <a:blip r:embed="rId5"/>
          <a:stretch/>
        </p:blipFill>
        <p:spPr>
          <a:xfrm>
            <a:off x="2606760" y="1195560"/>
            <a:ext cx="950760" cy="933120"/>
          </a:xfrm>
          <a:prstGeom prst="rect">
            <a:avLst/>
          </a:prstGeom>
          <a:ln w="0">
            <a:noFill/>
          </a:ln>
        </p:spPr>
      </p:pic>
      <p:pic>
        <p:nvPicPr>
          <p:cNvPr id="693" name="图片 2" descr=""/>
          <p:cNvPicPr/>
          <p:nvPr/>
        </p:nvPicPr>
        <p:blipFill>
          <a:blip r:embed="rId6"/>
          <a:stretch/>
        </p:blipFill>
        <p:spPr>
          <a:xfrm>
            <a:off x="5986440" y="1724040"/>
            <a:ext cx="5950080" cy="4987800"/>
          </a:xfrm>
          <a:prstGeom prst="rect">
            <a:avLst/>
          </a:prstGeom>
          <a:ln w="0">
            <a:noFill/>
          </a:ln>
        </p:spPr>
      </p:pic>
      <p:pic>
        <p:nvPicPr>
          <p:cNvPr id="694" name="图片 1" descr=""/>
          <p:cNvPicPr/>
          <p:nvPr/>
        </p:nvPicPr>
        <p:blipFill>
          <a:blip r:embed="rId7"/>
          <a:stretch/>
        </p:blipFill>
        <p:spPr>
          <a:xfrm>
            <a:off x="10969560" y="1963800"/>
            <a:ext cx="1013040" cy="1003320"/>
          </a:xfrm>
          <a:prstGeom prst="rect">
            <a:avLst/>
          </a:prstGeom>
          <a:ln w="0">
            <a:noFill/>
          </a:ln>
        </p:spPr>
      </p:pic>
      <p:sp>
        <p:nvSpPr>
          <p:cNvPr id="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7"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3C09-36F6-4EBD-8CE9-A68D1FD7654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98"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845A-EB74-47EF-8CF8-44E266FAEA6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7" name="图片 6" descr=""/>
          <p:cNvPicPr/>
          <p:nvPr/>
        </p:nvPicPr>
        <p:blipFill>
          <a:blip r:embed="rId2"/>
          <a:stretch/>
        </p:blipFill>
        <p:spPr>
          <a:xfrm>
            <a:off x="10899720" y="5443560"/>
            <a:ext cx="1292400" cy="1414440"/>
          </a:xfrm>
          <a:prstGeom prst="rect">
            <a:avLst/>
          </a:prstGeom>
          <a:ln w="0">
            <a:noFill/>
          </a:ln>
        </p:spPr>
      </p:pic>
      <p:pic>
        <p:nvPicPr>
          <p:cNvPr id="738" name="图片 7" descr=""/>
          <p:cNvPicPr/>
          <p:nvPr/>
        </p:nvPicPr>
        <p:blipFill>
          <a:blip r:embed="rId3"/>
          <a:stretch/>
        </p:blipFill>
        <p:spPr>
          <a:xfrm>
            <a:off x="311040" y="6194520"/>
            <a:ext cx="507960" cy="431640"/>
          </a:xfrm>
          <a:prstGeom prst="rect">
            <a:avLst/>
          </a:prstGeom>
          <a:ln w="0">
            <a:noFill/>
          </a:ln>
        </p:spPr>
      </p:pic>
      <p:pic>
        <p:nvPicPr>
          <p:cNvPr id="739" name="图片 8" descr=""/>
          <p:cNvPicPr/>
          <p:nvPr/>
        </p:nvPicPr>
        <p:blipFill>
          <a:blip r:embed="rId4"/>
          <a:stretch/>
        </p:blipFill>
        <p:spPr>
          <a:xfrm>
            <a:off x="10291680" y="6410160"/>
            <a:ext cx="354240" cy="336600"/>
          </a:xfrm>
          <a:prstGeom prst="rect">
            <a:avLst/>
          </a:prstGeom>
          <a:ln w="0">
            <a:noFill/>
          </a:ln>
        </p:spPr>
      </p:pic>
      <p:pic>
        <p:nvPicPr>
          <p:cNvPr id="740" name="图片 9" descr=""/>
          <p:cNvPicPr/>
          <p:nvPr/>
        </p:nvPicPr>
        <p:blipFill>
          <a:blip r:embed="rId5"/>
          <a:stretch/>
        </p:blipFill>
        <p:spPr>
          <a:xfrm>
            <a:off x="260280" y="114480"/>
            <a:ext cx="546120" cy="534960"/>
          </a:xfrm>
          <a:prstGeom prst="rect">
            <a:avLst/>
          </a:prstGeom>
          <a:ln w="0">
            <a:noFill/>
          </a:ln>
        </p:spPr>
      </p:pic>
      <p:pic>
        <p:nvPicPr>
          <p:cNvPr id="741" name="图片 10" descr=""/>
          <p:cNvPicPr/>
          <p:nvPr/>
        </p:nvPicPr>
        <p:blipFill>
          <a:blip r:embed="rId6"/>
          <a:stretch/>
        </p:blipFill>
        <p:spPr>
          <a:xfrm>
            <a:off x="11442600" y="54000"/>
            <a:ext cx="615960" cy="608040"/>
          </a:xfrm>
          <a:prstGeom prst="rect">
            <a:avLst/>
          </a:prstGeom>
          <a:ln w="0">
            <a:noFill/>
          </a:ln>
        </p:spPr>
      </p:pic>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4"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1B9E-56A2-4063-A507-D144E3AC185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5"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BCD1-D16F-45AC-BADA-D5E2D7125BE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4" name="图片 7" descr=""/>
          <p:cNvPicPr/>
          <p:nvPr/>
        </p:nvPicPr>
        <p:blipFill>
          <a:blip r:embed="rId2"/>
          <a:stretch/>
        </p:blipFill>
        <p:spPr>
          <a:xfrm flipH="1" rot="20731200">
            <a:off x="9333720" y="2427120"/>
            <a:ext cx="1067040" cy="1046160"/>
          </a:xfrm>
          <a:prstGeom prst="rect">
            <a:avLst/>
          </a:prstGeom>
          <a:ln w="0">
            <a:noFill/>
          </a:ln>
        </p:spPr>
      </p:pic>
      <p:pic>
        <p:nvPicPr>
          <p:cNvPr id="785" name="图片 3" descr=""/>
          <p:cNvPicPr/>
          <p:nvPr/>
        </p:nvPicPr>
        <p:blipFill>
          <a:blip r:embed="rId3"/>
          <a:stretch/>
        </p:blipFill>
        <p:spPr>
          <a:xfrm>
            <a:off x="2212920" y="2452680"/>
            <a:ext cx="951120" cy="933480"/>
          </a:xfrm>
          <a:prstGeom prst="rect">
            <a:avLst/>
          </a:prstGeom>
          <a:ln w="0">
            <a:noFill/>
          </a:ln>
        </p:spPr>
      </p:pic>
      <p:pic>
        <p:nvPicPr>
          <p:cNvPr id="786" name="图片 8" descr=""/>
          <p:cNvPicPr/>
          <p:nvPr/>
        </p:nvPicPr>
        <p:blipFill>
          <a:blip r:embed="rId4"/>
          <a:stretch/>
        </p:blipFill>
        <p:spPr>
          <a:xfrm>
            <a:off x="4859280" y="-30240"/>
            <a:ext cx="1836720" cy="2237040"/>
          </a:xfrm>
          <a:prstGeom prst="rect">
            <a:avLst/>
          </a:prstGeom>
          <a:ln w="0">
            <a:noFill/>
          </a:ln>
        </p:spPr>
      </p:pic>
      <p:pic>
        <p:nvPicPr>
          <p:cNvPr id="787" name="图片 9" descr=""/>
          <p:cNvPicPr/>
          <p:nvPr/>
        </p:nvPicPr>
        <p:blipFill>
          <a:blip r:embed="rId5"/>
          <a:stretch/>
        </p:blipFill>
        <p:spPr>
          <a:xfrm>
            <a:off x="5068800" y="4519440"/>
            <a:ext cx="2060640" cy="2325960"/>
          </a:xfrm>
          <a:prstGeom prst="rect">
            <a:avLst/>
          </a:prstGeom>
          <a:ln w="0">
            <a:noFill/>
          </a:ln>
        </p:spPr>
      </p:pic>
      <p:sp>
        <p:nvSpPr>
          <p:cNvPr id="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0"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0452-ED71-430C-949E-93D4FFEEE97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1"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7B09-9C21-4221-9D68-49E3E85E1E4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0" name="图片 7" descr=""/>
          <p:cNvPicPr/>
          <p:nvPr/>
        </p:nvPicPr>
        <p:blipFill>
          <a:blip r:embed="rId2"/>
          <a:stretch/>
        </p:blipFill>
        <p:spPr>
          <a:xfrm>
            <a:off x="10899720" y="5443560"/>
            <a:ext cx="1292400" cy="1414440"/>
          </a:xfrm>
          <a:prstGeom prst="rect">
            <a:avLst/>
          </a:prstGeom>
          <a:ln w="0">
            <a:noFill/>
          </a:ln>
        </p:spPr>
      </p:pic>
      <p:pic>
        <p:nvPicPr>
          <p:cNvPr id="831" name="图片 8" descr=""/>
          <p:cNvPicPr/>
          <p:nvPr/>
        </p:nvPicPr>
        <p:blipFill>
          <a:blip r:embed="rId3"/>
          <a:stretch/>
        </p:blipFill>
        <p:spPr>
          <a:xfrm>
            <a:off x="311040" y="6194520"/>
            <a:ext cx="507960" cy="431640"/>
          </a:xfrm>
          <a:prstGeom prst="rect">
            <a:avLst/>
          </a:prstGeom>
          <a:ln w="0">
            <a:noFill/>
          </a:ln>
        </p:spPr>
      </p:pic>
      <p:pic>
        <p:nvPicPr>
          <p:cNvPr id="832" name="图片 9" descr=""/>
          <p:cNvPicPr/>
          <p:nvPr/>
        </p:nvPicPr>
        <p:blipFill>
          <a:blip r:embed="rId4"/>
          <a:stretch/>
        </p:blipFill>
        <p:spPr>
          <a:xfrm>
            <a:off x="10291680" y="6410160"/>
            <a:ext cx="354240" cy="336600"/>
          </a:xfrm>
          <a:prstGeom prst="rect">
            <a:avLst/>
          </a:prstGeom>
          <a:ln w="0">
            <a:noFill/>
          </a:ln>
        </p:spPr>
      </p:pic>
      <p:pic>
        <p:nvPicPr>
          <p:cNvPr id="833" name="图片 10" descr=""/>
          <p:cNvPicPr/>
          <p:nvPr/>
        </p:nvPicPr>
        <p:blipFill>
          <a:blip r:embed="rId5"/>
          <a:stretch/>
        </p:blipFill>
        <p:spPr>
          <a:xfrm>
            <a:off x="260280" y="114480"/>
            <a:ext cx="546120" cy="534960"/>
          </a:xfrm>
          <a:prstGeom prst="rect">
            <a:avLst/>
          </a:prstGeom>
          <a:ln w="0">
            <a:noFill/>
          </a:ln>
        </p:spPr>
      </p:pic>
      <p:pic>
        <p:nvPicPr>
          <p:cNvPr id="834" name="图片 11" descr=""/>
          <p:cNvPicPr/>
          <p:nvPr/>
        </p:nvPicPr>
        <p:blipFill>
          <a:blip r:embed="rId6"/>
          <a:stretch/>
        </p:blipFill>
        <p:spPr>
          <a:xfrm>
            <a:off x="11442600" y="54000"/>
            <a:ext cx="615960" cy="608040"/>
          </a:xfrm>
          <a:prstGeom prst="rect">
            <a:avLst/>
          </a:prstGeom>
          <a:ln w="0">
            <a:noFill/>
          </a:ln>
        </p:spPr>
      </p:pic>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7"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8E10-B370-4C51-8386-CE993D33913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8"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A8B8-52FC-4BE8-9F13-DD2F10AAFC1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4ACF-B3DF-4A1E-A1BD-8A255C18F66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2C94-91F1-464D-8749-191D847D60F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7" name="图片 9" descr=""/>
          <p:cNvPicPr/>
          <p:nvPr/>
        </p:nvPicPr>
        <p:blipFill>
          <a:blip r:embed="rId2"/>
          <a:stretch/>
        </p:blipFill>
        <p:spPr>
          <a:xfrm>
            <a:off x="10899720" y="5443560"/>
            <a:ext cx="1292400" cy="1414440"/>
          </a:xfrm>
          <a:prstGeom prst="rect">
            <a:avLst/>
          </a:prstGeom>
          <a:ln w="0">
            <a:noFill/>
          </a:ln>
        </p:spPr>
      </p:pic>
      <p:pic>
        <p:nvPicPr>
          <p:cNvPr id="878" name="图片 10" descr=""/>
          <p:cNvPicPr/>
          <p:nvPr/>
        </p:nvPicPr>
        <p:blipFill>
          <a:blip r:embed="rId3"/>
          <a:stretch/>
        </p:blipFill>
        <p:spPr>
          <a:xfrm>
            <a:off x="311040" y="6194520"/>
            <a:ext cx="507960" cy="431640"/>
          </a:xfrm>
          <a:prstGeom prst="rect">
            <a:avLst/>
          </a:prstGeom>
          <a:ln w="0">
            <a:noFill/>
          </a:ln>
        </p:spPr>
      </p:pic>
      <p:pic>
        <p:nvPicPr>
          <p:cNvPr id="879" name="图片 11" descr=""/>
          <p:cNvPicPr/>
          <p:nvPr/>
        </p:nvPicPr>
        <p:blipFill>
          <a:blip r:embed="rId4"/>
          <a:stretch/>
        </p:blipFill>
        <p:spPr>
          <a:xfrm>
            <a:off x="10291680" y="6410160"/>
            <a:ext cx="354240" cy="336600"/>
          </a:xfrm>
          <a:prstGeom prst="rect">
            <a:avLst/>
          </a:prstGeom>
          <a:ln w="0">
            <a:noFill/>
          </a:ln>
        </p:spPr>
      </p:pic>
      <p:pic>
        <p:nvPicPr>
          <p:cNvPr id="880" name="图片 12" descr=""/>
          <p:cNvPicPr/>
          <p:nvPr/>
        </p:nvPicPr>
        <p:blipFill>
          <a:blip r:embed="rId5"/>
          <a:stretch/>
        </p:blipFill>
        <p:spPr>
          <a:xfrm>
            <a:off x="260280" y="114480"/>
            <a:ext cx="546120" cy="534960"/>
          </a:xfrm>
          <a:prstGeom prst="rect">
            <a:avLst/>
          </a:prstGeom>
          <a:ln w="0">
            <a:noFill/>
          </a:ln>
        </p:spPr>
      </p:pic>
      <p:pic>
        <p:nvPicPr>
          <p:cNvPr id="881" name="图片 13" descr=""/>
          <p:cNvPicPr/>
          <p:nvPr/>
        </p:nvPicPr>
        <p:blipFill>
          <a:blip r:embed="rId6"/>
          <a:stretch/>
        </p:blipFill>
        <p:spPr>
          <a:xfrm>
            <a:off x="11442600" y="54000"/>
            <a:ext cx="615960" cy="608040"/>
          </a:xfrm>
          <a:prstGeom prst="rect">
            <a:avLst/>
          </a:prstGeom>
          <a:ln w="0">
            <a:noFill/>
          </a:ln>
        </p:spPr>
      </p:pic>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4"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720B-8DD8-420A-8147-AED035CFC93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4482-C422-4B7D-8FB6-00A99342102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4" name="图片 5" descr=""/>
          <p:cNvPicPr/>
          <p:nvPr/>
        </p:nvPicPr>
        <p:blipFill>
          <a:blip r:embed="rId2"/>
          <a:stretch/>
        </p:blipFill>
        <p:spPr>
          <a:xfrm>
            <a:off x="10899720" y="5443560"/>
            <a:ext cx="1292400" cy="1414440"/>
          </a:xfrm>
          <a:prstGeom prst="rect">
            <a:avLst/>
          </a:prstGeom>
          <a:ln w="0">
            <a:noFill/>
          </a:ln>
        </p:spPr>
      </p:pic>
      <p:pic>
        <p:nvPicPr>
          <p:cNvPr id="925" name="图片 8" descr=""/>
          <p:cNvPicPr/>
          <p:nvPr/>
        </p:nvPicPr>
        <p:blipFill>
          <a:blip r:embed="rId3"/>
          <a:stretch/>
        </p:blipFill>
        <p:spPr>
          <a:xfrm>
            <a:off x="260280" y="114480"/>
            <a:ext cx="546120" cy="534960"/>
          </a:xfrm>
          <a:prstGeom prst="rect">
            <a:avLst/>
          </a:prstGeom>
          <a:ln w="0">
            <a:noFill/>
          </a:ln>
        </p:spPr>
      </p:pic>
      <p:pic>
        <p:nvPicPr>
          <p:cNvPr id="926" name="图片 9" descr=""/>
          <p:cNvPicPr/>
          <p:nvPr/>
        </p:nvPicPr>
        <p:blipFill>
          <a:blip r:embed="rId4"/>
          <a:stretch/>
        </p:blipFill>
        <p:spPr>
          <a:xfrm>
            <a:off x="11442600" y="54000"/>
            <a:ext cx="615960" cy="608040"/>
          </a:xfrm>
          <a:prstGeom prst="rect">
            <a:avLst/>
          </a:prstGeom>
          <a:ln w="0">
            <a:noFill/>
          </a:ln>
        </p:spPr>
      </p:pic>
      <p:sp>
        <p:nvSpPr>
          <p:cNvPr id="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9"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1FE3-35FB-440C-BB6A-22B648F85FF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0"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3A6E-7EE1-4FC9-A2B9-37759E77FAF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9" name="图片 7" descr=""/>
          <p:cNvPicPr/>
          <p:nvPr/>
        </p:nvPicPr>
        <p:blipFill>
          <a:blip r:embed="rId2"/>
          <a:stretch/>
        </p:blipFill>
        <p:spPr>
          <a:xfrm>
            <a:off x="10899720" y="5443560"/>
            <a:ext cx="1292400" cy="1414440"/>
          </a:xfrm>
          <a:prstGeom prst="rect">
            <a:avLst/>
          </a:prstGeom>
          <a:ln w="0">
            <a:noFill/>
          </a:ln>
        </p:spPr>
      </p:pic>
      <p:pic>
        <p:nvPicPr>
          <p:cNvPr id="970" name="图片 8" descr=""/>
          <p:cNvPicPr/>
          <p:nvPr/>
        </p:nvPicPr>
        <p:blipFill>
          <a:blip r:embed="rId3"/>
          <a:stretch/>
        </p:blipFill>
        <p:spPr>
          <a:xfrm>
            <a:off x="311040" y="6194520"/>
            <a:ext cx="507960" cy="431640"/>
          </a:xfrm>
          <a:prstGeom prst="rect">
            <a:avLst/>
          </a:prstGeom>
          <a:ln w="0">
            <a:noFill/>
          </a:ln>
        </p:spPr>
      </p:pic>
      <p:pic>
        <p:nvPicPr>
          <p:cNvPr id="971" name="图片 9" descr=""/>
          <p:cNvPicPr/>
          <p:nvPr/>
        </p:nvPicPr>
        <p:blipFill>
          <a:blip r:embed="rId4"/>
          <a:stretch/>
        </p:blipFill>
        <p:spPr>
          <a:xfrm>
            <a:off x="10291680" y="6410160"/>
            <a:ext cx="354240" cy="336600"/>
          </a:xfrm>
          <a:prstGeom prst="rect">
            <a:avLst/>
          </a:prstGeom>
          <a:ln w="0">
            <a:noFill/>
          </a:ln>
        </p:spPr>
      </p:pic>
      <p:pic>
        <p:nvPicPr>
          <p:cNvPr id="972" name="图片 10" descr=""/>
          <p:cNvPicPr/>
          <p:nvPr/>
        </p:nvPicPr>
        <p:blipFill>
          <a:blip r:embed="rId5"/>
          <a:stretch/>
        </p:blipFill>
        <p:spPr>
          <a:xfrm>
            <a:off x="260280" y="114480"/>
            <a:ext cx="546120" cy="534960"/>
          </a:xfrm>
          <a:prstGeom prst="rect">
            <a:avLst/>
          </a:prstGeom>
          <a:ln w="0">
            <a:noFill/>
          </a:ln>
        </p:spPr>
      </p:pic>
      <p:pic>
        <p:nvPicPr>
          <p:cNvPr id="973" name="图片 11" descr=""/>
          <p:cNvPicPr/>
          <p:nvPr/>
        </p:nvPicPr>
        <p:blipFill>
          <a:blip r:embed="rId6"/>
          <a:stretch/>
        </p:blipFill>
        <p:spPr>
          <a:xfrm>
            <a:off x="11442600" y="54000"/>
            <a:ext cx="615960" cy="608040"/>
          </a:xfrm>
          <a:prstGeom prst="rect">
            <a:avLst/>
          </a:prstGeom>
          <a:ln w="0">
            <a:noFill/>
          </a:ln>
        </p:spPr>
      </p:pic>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6"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4DB5-4D8E-446B-A9E0-A51D3383474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7"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5FC2-32CC-4227-A59D-10F4431DFD0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6" name="图片 7" descr=""/>
          <p:cNvPicPr/>
          <p:nvPr/>
        </p:nvPicPr>
        <p:blipFill>
          <a:blip r:embed="rId2"/>
          <a:stretch/>
        </p:blipFill>
        <p:spPr>
          <a:xfrm>
            <a:off x="10899720" y="5443560"/>
            <a:ext cx="1292400" cy="1414440"/>
          </a:xfrm>
          <a:prstGeom prst="rect">
            <a:avLst/>
          </a:prstGeom>
          <a:ln w="0">
            <a:noFill/>
          </a:ln>
        </p:spPr>
      </p:pic>
      <p:pic>
        <p:nvPicPr>
          <p:cNvPr id="1017" name="图片 8" descr=""/>
          <p:cNvPicPr/>
          <p:nvPr/>
        </p:nvPicPr>
        <p:blipFill>
          <a:blip r:embed="rId3"/>
          <a:stretch/>
        </p:blipFill>
        <p:spPr>
          <a:xfrm>
            <a:off x="311040" y="6194520"/>
            <a:ext cx="507960" cy="431640"/>
          </a:xfrm>
          <a:prstGeom prst="rect">
            <a:avLst/>
          </a:prstGeom>
          <a:ln w="0">
            <a:noFill/>
          </a:ln>
        </p:spPr>
      </p:pic>
      <p:pic>
        <p:nvPicPr>
          <p:cNvPr id="1018" name="图片 9" descr=""/>
          <p:cNvPicPr/>
          <p:nvPr/>
        </p:nvPicPr>
        <p:blipFill>
          <a:blip r:embed="rId4"/>
          <a:stretch/>
        </p:blipFill>
        <p:spPr>
          <a:xfrm>
            <a:off x="10291680" y="6410160"/>
            <a:ext cx="354240" cy="336600"/>
          </a:xfrm>
          <a:prstGeom prst="rect">
            <a:avLst/>
          </a:prstGeom>
          <a:ln w="0">
            <a:noFill/>
          </a:ln>
        </p:spPr>
      </p:pic>
      <p:pic>
        <p:nvPicPr>
          <p:cNvPr id="1019" name="图片 10" descr=""/>
          <p:cNvPicPr/>
          <p:nvPr/>
        </p:nvPicPr>
        <p:blipFill>
          <a:blip r:embed="rId5"/>
          <a:stretch/>
        </p:blipFill>
        <p:spPr>
          <a:xfrm>
            <a:off x="260280" y="114480"/>
            <a:ext cx="546120" cy="534960"/>
          </a:xfrm>
          <a:prstGeom prst="rect">
            <a:avLst/>
          </a:prstGeom>
          <a:ln w="0">
            <a:noFill/>
          </a:ln>
        </p:spPr>
      </p:pic>
      <p:pic>
        <p:nvPicPr>
          <p:cNvPr id="1020" name="图片 11" descr=""/>
          <p:cNvPicPr/>
          <p:nvPr/>
        </p:nvPicPr>
        <p:blipFill>
          <a:blip r:embed="rId6"/>
          <a:stretch/>
        </p:blipFill>
        <p:spPr>
          <a:xfrm>
            <a:off x="11442600" y="54000"/>
            <a:ext cx="615960" cy="608040"/>
          </a:xfrm>
          <a:prstGeom prst="rect">
            <a:avLst/>
          </a:prstGeom>
          <a:ln w="0">
            <a:noFill/>
          </a:ln>
        </p:spPr>
      </p:pic>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3"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12A6-FA6A-4DF8-990B-2756DE5916D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4"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FDE8-FCC2-4274-B9A4-E5D2DD2EF52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3" name="图片 6" descr=""/>
          <p:cNvPicPr/>
          <p:nvPr/>
        </p:nvPicPr>
        <p:blipFill>
          <a:blip r:embed="rId2"/>
          <a:stretch/>
        </p:blipFill>
        <p:spPr>
          <a:xfrm>
            <a:off x="10899720" y="5443560"/>
            <a:ext cx="1292400" cy="1414440"/>
          </a:xfrm>
          <a:prstGeom prst="rect">
            <a:avLst/>
          </a:prstGeom>
          <a:ln w="0">
            <a:noFill/>
          </a:ln>
        </p:spPr>
      </p:pic>
      <p:pic>
        <p:nvPicPr>
          <p:cNvPr id="1064" name="图片 7" descr=""/>
          <p:cNvPicPr/>
          <p:nvPr/>
        </p:nvPicPr>
        <p:blipFill>
          <a:blip r:embed="rId3"/>
          <a:stretch/>
        </p:blipFill>
        <p:spPr>
          <a:xfrm>
            <a:off x="311040" y="6194520"/>
            <a:ext cx="507960" cy="431640"/>
          </a:xfrm>
          <a:prstGeom prst="rect">
            <a:avLst/>
          </a:prstGeom>
          <a:ln w="0">
            <a:noFill/>
          </a:ln>
        </p:spPr>
      </p:pic>
      <p:pic>
        <p:nvPicPr>
          <p:cNvPr id="1065" name="图片 8" descr=""/>
          <p:cNvPicPr/>
          <p:nvPr/>
        </p:nvPicPr>
        <p:blipFill>
          <a:blip r:embed="rId4"/>
          <a:stretch/>
        </p:blipFill>
        <p:spPr>
          <a:xfrm>
            <a:off x="10291680" y="6410160"/>
            <a:ext cx="354240" cy="336600"/>
          </a:xfrm>
          <a:prstGeom prst="rect">
            <a:avLst/>
          </a:prstGeom>
          <a:ln w="0">
            <a:noFill/>
          </a:ln>
        </p:spPr>
      </p:pic>
      <p:pic>
        <p:nvPicPr>
          <p:cNvPr id="1066" name="图片 9" descr=""/>
          <p:cNvPicPr/>
          <p:nvPr/>
        </p:nvPicPr>
        <p:blipFill>
          <a:blip r:embed="rId5"/>
          <a:stretch/>
        </p:blipFill>
        <p:spPr>
          <a:xfrm>
            <a:off x="260280" y="114480"/>
            <a:ext cx="546120" cy="534960"/>
          </a:xfrm>
          <a:prstGeom prst="rect">
            <a:avLst/>
          </a:prstGeom>
          <a:ln w="0">
            <a:noFill/>
          </a:ln>
        </p:spPr>
      </p:pic>
      <p:pic>
        <p:nvPicPr>
          <p:cNvPr id="1067" name="图片 10" descr=""/>
          <p:cNvPicPr/>
          <p:nvPr/>
        </p:nvPicPr>
        <p:blipFill>
          <a:blip r:embed="rId6"/>
          <a:stretch/>
        </p:blipFill>
        <p:spPr>
          <a:xfrm>
            <a:off x="11442600" y="54000"/>
            <a:ext cx="615960" cy="608040"/>
          </a:xfrm>
          <a:prstGeom prst="rect">
            <a:avLst/>
          </a:prstGeom>
          <a:ln w="0">
            <a:noFill/>
          </a:ln>
        </p:spPr>
      </p:pic>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0"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F9EE-8B39-4997-BBDF-74FAD27ECE5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C6C4-1A15-4D32-91AC-4555D071FA9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0" name="图片 5" descr=""/>
          <p:cNvPicPr/>
          <p:nvPr/>
        </p:nvPicPr>
        <p:blipFill>
          <a:blip r:embed="rId2"/>
          <a:stretch/>
        </p:blipFill>
        <p:spPr>
          <a:xfrm>
            <a:off x="10899720" y="5443560"/>
            <a:ext cx="1292400" cy="1414440"/>
          </a:xfrm>
          <a:prstGeom prst="rect">
            <a:avLst/>
          </a:prstGeom>
          <a:ln w="0">
            <a:noFill/>
          </a:ln>
        </p:spPr>
      </p:pic>
      <p:pic>
        <p:nvPicPr>
          <p:cNvPr id="1111" name="图片 7" descr=""/>
          <p:cNvPicPr/>
          <p:nvPr/>
        </p:nvPicPr>
        <p:blipFill>
          <a:blip r:embed="rId3"/>
          <a:stretch/>
        </p:blipFill>
        <p:spPr>
          <a:xfrm>
            <a:off x="311040" y="6194520"/>
            <a:ext cx="507960" cy="431640"/>
          </a:xfrm>
          <a:prstGeom prst="rect">
            <a:avLst/>
          </a:prstGeom>
          <a:ln w="0">
            <a:noFill/>
          </a:ln>
        </p:spPr>
      </p:pic>
      <p:pic>
        <p:nvPicPr>
          <p:cNvPr id="1112" name="图片 8" descr=""/>
          <p:cNvPicPr/>
          <p:nvPr/>
        </p:nvPicPr>
        <p:blipFill>
          <a:blip r:embed="rId4"/>
          <a:stretch/>
        </p:blipFill>
        <p:spPr>
          <a:xfrm>
            <a:off x="10291680" y="6410160"/>
            <a:ext cx="354240" cy="336600"/>
          </a:xfrm>
          <a:prstGeom prst="rect">
            <a:avLst/>
          </a:prstGeom>
          <a:ln w="0">
            <a:noFill/>
          </a:ln>
        </p:spPr>
      </p:pic>
      <p:pic>
        <p:nvPicPr>
          <p:cNvPr id="1113" name="图片 9" descr=""/>
          <p:cNvPicPr/>
          <p:nvPr/>
        </p:nvPicPr>
        <p:blipFill>
          <a:blip r:embed="rId5"/>
          <a:stretch/>
        </p:blipFill>
        <p:spPr>
          <a:xfrm>
            <a:off x="260280" y="114480"/>
            <a:ext cx="546120" cy="534960"/>
          </a:xfrm>
          <a:prstGeom prst="rect">
            <a:avLst/>
          </a:prstGeom>
          <a:ln w="0">
            <a:noFill/>
          </a:ln>
        </p:spPr>
      </p:pic>
      <p:pic>
        <p:nvPicPr>
          <p:cNvPr id="1114" name="图片 10" descr=""/>
          <p:cNvPicPr/>
          <p:nvPr/>
        </p:nvPicPr>
        <p:blipFill>
          <a:blip r:embed="rId6"/>
          <a:stretch/>
        </p:blipFill>
        <p:spPr>
          <a:xfrm>
            <a:off x="11442600" y="54000"/>
            <a:ext cx="615960" cy="608040"/>
          </a:xfrm>
          <a:prstGeom prst="rect">
            <a:avLst/>
          </a:prstGeom>
          <a:ln w="0">
            <a:noFill/>
          </a:ln>
        </p:spPr>
      </p:pic>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7"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0192-8023-432D-BD41-9CE85DF9DA5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8"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0ED7-8183-494A-AEED-A09A3905E99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7" name="图片 5" descr=""/>
          <p:cNvPicPr/>
          <p:nvPr/>
        </p:nvPicPr>
        <p:blipFill>
          <a:blip r:embed="rId2"/>
          <a:stretch/>
        </p:blipFill>
        <p:spPr>
          <a:xfrm>
            <a:off x="2868480" y="3490920"/>
            <a:ext cx="2543400" cy="3108240"/>
          </a:xfrm>
          <a:prstGeom prst="rect">
            <a:avLst/>
          </a:prstGeom>
          <a:ln w="0">
            <a:noFill/>
          </a:ln>
        </p:spPr>
      </p:pic>
      <p:pic>
        <p:nvPicPr>
          <p:cNvPr id="1158" name="图片 6" descr=""/>
          <p:cNvPicPr/>
          <p:nvPr/>
        </p:nvPicPr>
        <p:blipFill>
          <a:blip r:embed="rId3"/>
          <a:stretch/>
        </p:blipFill>
        <p:spPr>
          <a:xfrm>
            <a:off x="6480" y="1612800"/>
            <a:ext cx="3257280" cy="5243760"/>
          </a:xfrm>
          <a:prstGeom prst="rect">
            <a:avLst/>
          </a:prstGeom>
          <a:ln w="0">
            <a:noFill/>
          </a:ln>
        </p:spPr>
      </p:pic>
      <p:pic>
        <p:nvPicPr>
          <p:cNvPr id="1159" name="图片 6" descr=""/>
          <p:cNvPicPr/>
          <p:nvPr/>
        </p:nvPicPr>
        <p:blipFill>
          <a:blip r:embed="rId4"/>
          <a:stretch/>
        </p:blipFill>
        <p:spPr>
          <a:xfrm rot="17330400">
            <a:off x="3570480" y="5589000"/>
            <a:ext cx="568440" cy="542880"/>
          </a:xfrm>
          <a:prstGeom prst="rect">
            <a:avLst/>
          </a:prstGeom>
          <a:ln w="0">
            <a:noFill/>
          </a:ln>
        </p:spPr>
      </p:pic>
      <p:pic>
        <p:nvPicPr>
          <p:cNvPr id="1160" name="图片 5" descr=""/>
          <p:cNvPicPr/>
          <p:nvPr/>
        </p:nvPicPr>
        <p:blipFill>
          <a:blip r:embed="rId5"/>
          <a:stretch/>
        </p:blipFill>
        <p:spPr>
          <a:xfrm rot="20422800">
            <a:off x="1217160" y="5847840"/>
            <a:ext cx="563760" cy="536760"/>
          </a:xfrm>
          <a:prstGeom prst="rect">
            <a:avLst/>
          </a:prstGeom>
          <a:ln w="0">
            <a:noFill/>
          </a:ln>
        </p:spPr>
      </p:pic>
      <p:pic>
        <p:nvPicPr>
          <p:cNvPr id="1161" name="图片 9" descr=""/>
          <p:cNvPicPr/>
          <p:nvPr/>
        </p:nvPicPr>
        <p:blipFill>
          <a:blip r:embed="rId6"/>
          <a:stretch/>
        </p:blipFill>
        <p:spPr>
          <a:xfrm>
            <a:off x="4964040" y="4621320"/>
            <a:ext cx="1830600" cy="2236680"/>
          </a:xfrm>
          <a:prstGeom prst="rect">
            <a:avLst/>
          </a:prstGeom>
          <a:ln w="0">
            <a:noFill/>
          </a:ln>
        </p:spPr>
      </p:pic>
      <p:pic>
        <p:nvPicPr>
          <p:cNvPr id="1162" name="图片 10" descr=""/>
          <p:cNvPicPr/>
          <p:nvPr/>
        </p:nvPicPr>
        <p:blipFill>
          <a:blip r:embed="rId7"/>
          <a:stretch/>
        </p:blipFill>
        <p:spPr>
          <a:xfrm>
            <a:off x="3616200" y="369720"/>
            <a:ext cx="2659320" cy="3116520"/>
          </a:xfrm>
          <a:prstGeom prst="rect">
            <a:avLst/>
          </a:prstGeom>
          <a:ln w="0">
            <a:noFill/>
          </a:ln>
        </p:spPr>
      </p:pic>
      <p:pic>
        <p:nvPicPr>
          <p:cNvPr id="1163" name="图片 3" descr=""/>
          <p:cNvPicPr/>
          <p:nvPr/>
        </p:nvPicPr>
        <p:blipFill>
          <a:blip r:embed="rId8"/>
          <a:stretch/>
        </p:blipFill>
        <p:spPr>
          <a:xfrm flipH="1" rot="20731200">
            <a:off x="10271880" y="1108080"/>
            <a:ext cx="1067040" cy="1046160"/>
          </a:xfrm>
          <a:prstGeom prst="rect">
            <a:avLst/>
          </a:prstGeom>
          <a:ln w="0">
            <a:noFill/>
          </a:ln>
        </p:spPr>
      </p:pic>
      <p:pic>
        <p:nvPicPr>
          <p:cNvPr id="1164" name="图片 4" descr=""/>
          <p:cNvPicPr/>
          <p:nvPr/>
        </p:nvPicPr>
        <p:blipFill>
          <a:blip r:embed="rId9"/>
          <a:stretch/>
        </p:blipFill>
        <p:spPr>
          <a:xfrm>
            <a:off x="8472600" y="5543640"/>
            <a:ext cx="558720" cy="533160"/>
          </a:xfrm>
          <a:prstGeom prst="rect">
            <a:avLst/>
          </a:prstGeom>
          <a:ln w="0">
            <a:noFill/>
          </a:ln>
        </p:spPr>
      </p:pic>
      <p:pic>
        <p:nvPicPr>
          <p:cNvPr id="1165" name="图片 3" descr=""/>
          <p:cNvPicPr/>
          <p:nvPr/>
        </p:nvPicPr>
        <p:blipFill>
          <a:blip r:embed="rId10"/>
          <a:stretch/>
        </p:blipFill>
        <p:spPr>
          <a:xfrm>
            <a:off x="2421000" y="1197000"/>
            <a:ext cx="950760" cy="933480"/>
          </a:xfrm>
          <a:prstGeom prst="rect">
            <a:avLst/>
          </a:prstGeom>
          <a:ln w="0">
            <a:noFill/>
          </a:ln>
        </p:spPr>
      </p:pic>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8" name="PlaceHolder 3"/>
          <p:cNvSpPr>
            <a:spLocks noGrp="1"/>
          </p:cNvSpPr>
          <p:nvPr>
            <p:ph type="dt" idx="76"/>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F101-7BB6-4EE1-B582-979EBE5201E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9"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E33D-1BCB-4D4A-80CE-6459D11F384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11"/>
    <p:sldLayoutId id="2147483975" r:id="rId12"/>
    <p:sldLayoutId id="2147483976" r:id="rId13"/>
    <p:sldLayoutId id="2147483977" r:id="rId14"/>
    <p:sldLayoutId id="2147483978" r:id="rId15"/>
    <p:sldLayoutId id="2147483979" r:id="rId16"/>
    <p:sldLayoutId id="2147483980" r:id="rId17"/>
    <p:sldLayoutId id="2147483981" r:id="rId18"/>
    <p:sldLayoutId id="2147483982" r:id="rId19"/>
    <p:sldLayoutId id="2147483983" r:id="rId20"/>
    <p:sldLayoutId id="2147483984" r:id="rId21"/>
    <p:sldLayoutId id="2147483985" r:id="rId22"/>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1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1" name="PlaceHolder 3"/>
          <p:cNvSpPr>
            <a:spLocks noGrp="1"/>
          </p:cNvSpPr>
          <p:nvPr>
            <p:ph type="dt" idx="7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E6A6-F7E3-4DE9-9024-9B928BE4350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2"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673B-F809-4934-A8DD-C6C744DE9EE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1" name="图片 5" descr=""/>
          <p:cNvPicPr/>
          <p:nvPr/>
        </p:nvPicPr>
        <p:blipFill>
          <a:blip r:embed="rId2"/>
          <a:stretch/>
        </p:blipFill>
        <p:spPr>
          <a:xfrm rot="19920000">
            <a:off x="1331640" y="5760720"/>
            <a:ext cx="709560" cy="676080"/>
          </a:xfrm>
          <a:prstGeom prst="rect">
            <a:avLst/>
          </a:prstGeom>
          <a:ln w="0">
            <a:noFill/>
          </a:ln>
        </p:spPr>
      </p:pic>
      <p:pic>
        <p:nvPicPr>
          <p:cNvPr id="1252" name="图片 6" descr=""/>
          <p:cNvPicPr/>
          <p:nvPr/>
        </p:nvPicPr>
        <p:blipFill>
          <a:blip r:embed="rId3"/>
          <a:stretch/>
        </p:blipFill>
        <p:spPr>
          <a:xfrm rot="17330400">
            <a:off x="3751200" y="5588640"/>
            <a:ext cx="568440" cy="543240"/>
          </a:xfrm>
          <a:prstGeom prst="rect">
            <a:avLst/>
          </a:prstGeom>
          <a:ln w="0">
            <a:noFill/>
          </a:ln>
        </p:spPr>
      </p:pic>
      <p:pic>
        <p:nvPicPr>
          <p:cNvPr id="1253" name="图片 4" descr=""/>
          <p:cNvPicPr/>
          <p:nvPr/>
        </p:nvPicPr>
        <p:blipFill>
          <a:blip r:embed="rId4"/>
          <a:stretch/>
        </p:blipFill>
        <p:spPr>
          <a:xfrm>
            <a:off x="609480" y="693720"/>
            <a:ext cx="560520" cy="534960"/>
          </a:xfrm>
          <a:prstGeom prst="rect">
            <a:avLst/>
          </a:prstGeom>
          <a:ln w="0">
            <a:noFill/>
          </a:ln>
        </p:spPr>
      </p:pic>
      <p:pic>
        <p:nvPicPr>
          <p:cNvPr id="1254" name="图片 3" descr=""/>
          <p:cNvPicPr/>
          <p:nvPr/>
        </p:nvPicPr>
        <p:blipFill>
          <a:blip r:embed="rId5"/>
          <a:stretch/>
        </p:blipFill>
        <p:spPr>
          <a:xfrm>
            <a:off x="2606760" y="1195560"/>
            <a:ext cx="950760" cy="933120"/>
          </a:xfrm>
          <a:prstGeom prst="rect">
            <a:avLst/>
          </a:prstGeom>
          <a:ln w="0">
            <a:noFill/>
          </a:ln>
        </p:spPr>
      </p:pic>
      <p:pic>
        <p:nvPicPr>
          <p:cNvPr id="1255" name="图片 2" descr=""/>
          <p:cNvPicPr/>
          <p:nvPr/>
        </p:nvPicPr>
        <p:blipFill>
          <a:blip r:embed="rId6"/>
          <a:stretch/>
        </p:blipFill>
        <p:spPr>
          <a:xfrm>
            <a:off x="5986440" y="1724040"/>
            <a:ext cx="5950080" cy="4987800"/>
          </a:xfrm>
          <a:prstGeom prst="rect">
            <a:avLst/>
          </a:prstGeom>
          <a:ln w="0">
            <a:noFill/>
          </a:ln>
        </p:spPr>
      </p:pic>
      <p:pic>
        <p:nvPicPr>
          <p:cNvPr id="1256" name="图片 1" descr=""/>
          <p:cNvPicPr/>
          <p:nvPr/>
        </p:nvPicPr>
        <p:blipFill>
          <a:blip r:embed="rId7"/>
          <a:stretch/>
        </p:blipFill>
        <p:spPr>
          <a:xfrm>
            <a:off x="10969560" y="1963800"/>
            <a:ext cx="1013040" cy="1003320"/>
          </a:xfrm>
          <a:prstGeom prst="rect">
            <a:avLst/>
          </a:prstGeom>
          <a:ln w="0">
            <a:noFill/>
          </a:ln>
        </p:spPr>
      </p:pic>
      <p:sp>
        <p:nvSpPr>
          <p:cNvPr id="1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9"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3B18-FB0B-4218-9EB3-D41F50C5E26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60"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EF0A-7DDA-4E33-B8D7-A081AC0A71C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9" name="图片 6" descr=""/>
          <p:cNvPicPr/>
          <p:nvPr/>
        </p:nvPicPr>
        <p:blipFill>
          <a:blip r:embed="rId2"/>
          <a:stretch/>
        </p:blipFill>
        <p:spPr>
          <a:xfrm>
            <a:off x="10899720" y="5443560"/>
            <a:ext cx="1292400" cy="1414440"/>
          </a:xfrm>
          <a:prstGeom prst="rect">
            <a:avLst/>
          </a:prstGeom>
          <a:ln w="0">
            <a:noFill/>
          </a:ln>
        </p:spPr>
      </p:pic>
      <p:pic>
        <p:nvPicPr>
          <p:cNvPr id="1300" name="图片 7" descr=""/>
          <p:cNvPicPr/>
          <p:nvPr/>
        </p:nvPicPr>
        <p:blipFill>
          <a:blip r:embed="rId3"/>
          <a:stretch/>
        </p:blipFill>
        <p:spPr>
          <a:xfrm>
            <a:off x="311040" y="6194520"/>
            <a:ext cx="507960" cy="431640"/>
          </a:xfrm>
          <a:prstGeom prst="rect">
            <a:avLst/>
          </a:prstGeom>
          <a:ln w="0">
            <a:noFill/>
          </a:ln>
        </p:spPr>
      </p:pic>
      <p:pic>
        <p:nvPicPr>
          <p:cNvPr id="1301" name="图片 8" descr=""/>
          <p:cNvPicPr/>
          <p:nvPr/>
        </p:nvPicPr>
        <p:blipFill>
          <a:blip r:embed="rId4"/>
          <a:stretch/>
        </p:blipFill>
        <p:spPr>
          <a:xfrm>
            <a:off x="10291680" y="6410160"/>
            <a:ext cx="354240" cy="336600"/>
          </a:xfrm>
          <a:prstGeom prst="rect">
            <a:avLst/>
          </a:prstGeom>
          <a:ln w="0">
            <a:noFill/>
          </a:ln>
        </p:spPr>
      </p:pic>
      <p:pic>
        <p:nvPicPr>
          <p:cNvPr id="1302" name="图片 9" descr=""/>
          <p:cNvPicPr/>
          <p:nvPr/>
        </p:nvPicPr>
        <p:blipFill>
          <a:blip r:embed="rId5"/>
          <a:stretch/>
        </p:blipFill>
        <p:spPr>
          <a:xfrm>
            <a:off x="260280" y="114480"/>
            <a:ext cx="546120" cy="534960"/>
          </a:xfrm>
          <a:prstGeom prst="rect">
            <a:avLst/>
          </a:prstGeom>
          <a:ln w="0">
            <a:noFill/>
          </a:ln>
        </p:spPr>
      </p:pic>
      <p:pic>
        <p:nvPicPr>
          <p:cNvPr id="1303" name="图片 10" descr=""/>
          <p:cNvPicPr/>
          <p:nvPr/>
        </p:nvPicPr>
        <p:blipFill>
          <a:blip r:embed="rId6"/>
          <a:stretch/>
        </p:blipFill>
        <p:spPr>
          <a:xfrm>
            <a:off x="11442600" y="54000"/>
            <a:ext cx="615960" cy="608040"/>
          </a:xfrm>
          <a:prstGeom prst="rect">
            <a:avLst/>
          </a:prstGeom>
          <a:ln w="0">
            <a:noFill/>
          </a:ln>
        </p:spPr>
      </p:pic>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6"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DDC5-56A7-4C6E-B2D6-380DE919996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7"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C3BB-38E8-4126-ADC9-8BA0733333C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8B8D-C294-44FC-AE43-134E9277359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BC55-C874-4BB3-A5FF-A42E1A7E1DE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6" name="图片 7" descr=""/>
          <p:cNvPicPr/>
          <p:nvPr/>
        </p:nvPicPr>
        <p:blipFill>
          <a:blip r:embed="rId2"/>
          <a:stretch/>
        </p:blipFill>
        <p:spPr>
          <a:xfrm flipH="1" rot="20731200">
            <a:off x="9333720" y="2427120"/>
            <a:ext cx="1067040" cy="1046160"/>
          </a:xfrm>
          <a:prstGeom prst="rect">
            <a:avLst/>
          </a:prstGeom>
          <a:ln w="0">
            <a:noFill/>
          </a:ln>
        </p:spPr>
      </p:pic>
      <p:pic>
        <p:nvPicPr>
          <p:cNvPr id="1347" name="图片 3" descr=""/>
          <p:cNvPicPr/>
          <p:nvPr/>
        </p:nvPicPr>
        <p:blipFill>
          <a:blip r:embed="rId3"/>
          <a:stretch/>
        </p:blipFill>
        <p:spPr>
          <a:xfrm>
            <a:off x="2212920" y="2452680"/>
            <a:ext cx="951120" cy="933480"/>
          </a:xfrm>
          <a:prstGeom prst="rect">
            <a:avLst/>
          </a:prstGeom>
          <a:ln w="0">
            <a:noFill/>
          </a:ln>
        </p:spPr>
      </p:pic>
      <p:pic>
        <p:nvPicPr>
          <p:cNvPr id="1348" name="图片 8" descr=""/>
          <p:cNvPicPr/>
          <p:nvPr/>
        </p:nvPicPr>
        <p:blipFill>
          <a:blip r:embed="rId4"/>
          <a:stretch/>
        </p:blipFill>
        <p:spPr>
          <a:xfrm>
            <a:off x="4859280" y="-30240"/>
            <a:ext cx="1836720" cy="2237040"/>
          </a:xfrm>
          <a:prstGeom prst="rect">
            <a:avLst/>
          </a:prstGeom>
          <a:ln w="0">
            <a:noFill/>
          </a:ln>
        </p:spPr>
      </p:pic>
      <p:pic>
        <p:nvPicPr>
          <p:cNvPr id="1349" name="图片 9" descr=""/>
          <p:cNvPicPr/>
          <p:nvPr/>
        </p:nvPicPr>
        <p:blipFill>
          <a:blip r:embed="rId5"/>
          <a:stretch/>
        </p:blipFill>
        <p:spPr>
          <a:xfrm>
            <a:off x="5068800" y="4519440"/>
            <a:ext cx="2060640" cy="2325960"/>
          </a:xfrm>
          <a:prstGeom prst="rect">
            <a:avLst/>
          </a:prstGeom>
          <a:ln w="0">
            <a:noFill/>
          </a:ln>
        </p:spPr>
      </p:pic>
      <p:sp>
        <p:nvSpPr>
          <p:cNvPr id="1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5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2"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01D6-36FE-468E-B4A5-B0966A3ED2B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53"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8FFC-1A83-4337-A445-E522F455198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92" name="图片 7" descr=""/>
          <p:cNvPicPr/>
          <p:nvPr/>
        </p:nvPicPr>
        <p:blipFill>
          <a:blip r:embed="rId2"/>
          <a:stretch/>
        </p:blipFill>
        <p:spPr>
          <a:xfrm>
            <a:off x="10899720" y="5443560"/>
            <a:ext cx="1292400" cy="1414440"/>
          </a:xfrm>
          <a:prstGeom prst="rect">
            <a:avLst/>
          </a:prstGeom>
          <a:ln w="0">
            <a:noFill/>
          </a:ln>
        </p:spPr>
      </p:pic>
      <p:pic>
        <p:nvPicPr>
          <p:cNvPr id="1393" name="图片 8" descr=""/>
          <p:cNvPicPr/>
          <p:nvPr/>
        </p:nvPicPr>
        <p:blipFill>
          <a:blip r:embed="rId3"/>
          <a:stretch/>
        </p:blipFill>
        <p:spPr>
          <a:xfrm>
            <a:off x="311040" y="6194520"/>
            <a:ext cx="507960" cy="431640"/>
          </a:xfrm>
          <a:prstGeom prst="rect">
            <a:avLst/>
          </a:prstGeom>
          <a:ln w="0">
            <a:noFill/>
          </a:ln>
        </p:spPr>
      </p:pic>
      <p:pic>
        <p:nvPicPr>
          <p:cNvPr id="1394" name="图片 9" descr=""/>
          <p:cNvPicPr/>
          <p:nvPr/>
        </p:nvPicPr>
        <p:blipFill>
          <a:blip r:embed="rId4"/>
          <a:stretch/>
        </p:blipFill>
        <p:spPr>
          <a:xfrm>
            <a:off x="10291680" y="6410160"/>
            <a:ext cx="354240" cy="336600"/>
          </a:xfrm>
          <a:prstGeom prst="rect">
            <a:avLst/>
          </a:prstGeom>
          <a:ln w="0">
            <a:noFill/>
          </a:ln>
        </p:spPr>
      </p:pic>
      <p:pic>
        <p:nvPicPr>
          <p:cNvPr id="1395" name="图片 10" descr=""/>
          <p:cNvPicPr/>
          <p:nvPr/>
        </p:nvPicPr>
        <p:blipFill>
          <a:blip r:embed="rId5"/>
          <a:stretch/>
        </p:blipFill>
        <p:spPr>
          <a:xfrm>
            <a:off x="260280" y="114480"/>
            <a:ext cx="546120" cy="534960"/>
          </a:xfrm>
          <a:prstGeom prst="rect">
            <a:avLst/>
          </a:prstGeom>
          <a:ln w="0">
            <a:noFill/>
          </a:ln>
        </p:spPr>
      </p:pic>
      <p:pic>
        <p:nvPicPr>
          <p:cNvPr id="1396" name="图片 11" descr=""/>
          <p:cNvPicPr/>
          <p:nvPr/>
        </p:nvPicPr>
        <p:blipFill>
          <a:blip r:embed="rId6"/>
          <a:stretch/>
        </p:blipFill>
        <p:spPr>
          <a:xfrm>
            <a:off x="11442600" y="54000"/>
            <a:ext cx="615960" cy="608040"/>
          </a:xfrm>
          <a:prstGeom prst="rect">
            <a:avLst/>
          </a:prstGeom>
          <a:ln w="0">
            <a:noFill/>
          </a:ln>
        </p:spPr>
      </p:pic>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9"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5BFD-91A8-4C26-B861-206823194BC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00"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44FC-1B40-41F4-AAAC-FD126F8390B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7"/>
    <p:sldLayoutId id="2147484040" r:id="rId8"/>
    <p:sldLayoutId id="2147484041" r:id="rId9"/>
    <p:sldLayoutId id="2147484042" r:id="rId10"/>
    <p:sldLayoutId id="2147484043" r:id="rId11"/>
    <p:sldLayoutId id="2147484044" r:id="rId12"/>
    <p:sldLayoutId id="2147484045" r:id="rId13"/>
    <p:sldLayoutId id="2147484046" r:id="rId14"/>
    <p:sldLayoutId id="2147484047" r:id="rId15"/>
    <p:sldLayoutId id="2147484048" r:id="rId16"/>
    <p:sldLayoutId id="2147484049" r:id="rId17"/>
    <p:sldLayoutId id="2147484050" r:id="rId18"/>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9" name="图片 9" descr=""/>
          <p:cNvPicPr/>
          <p:nvPr/>
        </p:nvPicPr>
        <p:blipFill>
          <a:blip r:embed="rId2"/>
          <a:stretch/>
        </p:blipFill>
        <p:spPr>
          <a:xfrm>
            <a:off x="10899720" y="5443560"/>
            <a:ext cx="1292400" cy="1414440"/>
          </a:xfrm>
          <a:prstGeom prst="rect">
            <a:avLst/>
          </a:prstGeom>
          <a:ln w="0">
            <a:noFill/>
          </a:ln>
        </p:spPr>
      </p:pic>
      <p:pic>
        <p:nvPicPr>
          <p:cNvPr id="1440" name="图片 10" descr=""/>
          <p:cNvPicPr/>
          <p:nvPr/>
        </p:nvPicPr>
        <p:blipFill>
          <a:blip r:embed="rId3"/>
          <a:stretch/>
        </p:blipFill>
        <p:spPr>
          <a:xfrm>
            <a:off x="311040" y="6194520"/>
            <a:ext cx="507960" cy="431640"/>
          </a:xfrm>
          <a:prstGeom prst="rect">
            <a:avLst/>
          </a:prstGeom>
          <a:ln w="0">
            <a:noFill/>
          </a:ln>
        </p:spPr>
      </p:pic>
      <p:pic>
        <p:nvPicPr>
          <p:cNvPr id="1441" name="图片 11" descr=""/>
          <p:cNvPicPr/>
          <p:nvPr/>
        </p:nvPicPr>
        <p:blipFill>
          <a:blip r:embed="rId4"/>
          <a:stretch/>
        </p:blipFill>
        <p:spPr>
          <a:xfrm>
            <a:off x="10291680" y="6410160"/>
            <a:ext cx="354240" cy="336600"/>
          </a:xfrm>
          <a:prstGeom prst="rect">
            <a:avLst/>
          </a:prstGeom>
          <a:ln w="0">
            <a:noFill/>
          </a:ln>
        </p:spPr>
      </p:pic>
      <p:pic>
        <p:nvPicPr>
          <p:cNvPr id="1442" name="图片 12" descr=""/>
          <p:cNvPicPr/>
          <p:nvPr/>
        </p:nvPicPr>
        <p:blipFill>
          <a:blip r:embed="rId5"/>
          <a:stretch/>
        </p:blipFill>
        <p:spPr>
          <a:xfrm>
            <a:off x="260280" y="114480"/>
            <a:ext cx="546120" cy="534960"/>
          </a:xfrm>
          <a:prstGeom prst="rect">
            <a:avLst/>
          </a:prstGeom>
          <a:ln w="0">
            <a:noFill/>
          </a:ln>
        </p:spPr>
      </p:pic>
      <p:pic>
        <p:nvPicPr>
          <p:cNvPr id="1443" name="图片 13" descr=""/>
          <p:cNvPicPr/>
          <p:nvPr/>
        </p:nvPicPr>
        <p:blipFill>
          <a:blip r:embed="rId6"/>
          <a:stretch/>
        </p:blipFill>
        <p:spPr>
          <a:xfrm>
            <a:off x="11442600" y="54000"/>
            <a:ext cx="615960" cy="608040"/>
          </a:xfrm>
          <a:prstGeom prst="rect">
            <a:avLst/>
          </a:prstGeom>
          <a:ln w="0">
            <a:noFill/>
          </a:ln>
        </p:spPr>
      </p:pic>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6"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A8AB-A3C2-4442-B468-30A7F201483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7"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F98D-03A1-4F70-8B6C-3F63234C15F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6" name="图片 5" descr=""/>
          <p:cNvPicPr/>
          <p:nvPr/>
        </p:nvPicPr>
        <p:blipFill>
          <a:blip r:embed="rId2"/>
          <a:stretch/>
        </p:blipFill>
        <p:spPr>
          <a:xfrm>
            <a:off x="10899720" y="5443560"/>
            <a:ext cx="1292400" cy="1414440"/>
          </a:xfrm>
          <a:prstGeom prst="rect">
            <a:avLst/>
          </a:prstGeom>
          <a:ln w="0">
            <a:noFill/>
          </a:ln>
        </p:spPr>
      </p:pic>
      <p:pic>
        <p:nvPicPr>
          <p:cNvPr id="1487" name="图片 8" descr=""/>
          <p:cNvPicPr/>
          <p:nvPr/>
        </p:nvPicPr>
        <p:blipFill>
          <a:blip r:embed="rId3"/>
          <a:stretch/>
        </p:blipFill>
        <p:spPr>
          <a:xfrm>
            <a:off x="260280" y="114480"/>
            <a:ext cx="546120" cy="534960"/>
          </a:xfrm>
          <a:prstGeom prst="rect">
            <a:avLst/>
          </a:prstGeom>
          <a:ln w="0">
            <a:noFill/>
          </a:ln>
        </p:spPr>
      </p:pic>
      <p:pic>
        <p:nvPicPr>
          <p:cNvPr id="1488" name="图片 9" descr=""/>
          <p:cNvPicPr/>
          <p:nvPr/>
        </p:nvPicPr>
        <p:blipFill>
          <a:blip r:embed="rId4"/>
          <a:stretch/>
        </p:blipFill>
        <p:spPr>
          <a:xfrm>
            <a:off x="11442600" y="54000"/>
            <a:ext cx="615960" cy="608040"/>
          </a:xfrm>
          <a:prstGeom prst="rect">
            <a:avLst/>
          </a:prstGeom>
          <a:ln w="0">
            <a:noFill/>
          </a:ln>
        </p:spPr>
      </p:pic>
      <p:sp>
        <p:nvSpPr>
          <p:cNvPr id="1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91"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87FC-8C09-4AE6-B4EC-FF7150B2C07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92"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3"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F75C-8C0D-41E6-8EB3-A746D48C4ED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31" name="图片 7" descr=""/>
          <p:cNvPicPr/>
          <p:nvPr/>
        </p:nvPicPr>
        <p:blipFill>
          <a:blip r:embed="rId2"/>
          <a:stretch/>
        </p:blipFill>
        <p:spPr>
          <a:xfrm>
            <a:off x="10899720" y="5443560"/>
            <a:ext cx="1292400" cy="1414440"/>
          </a:xfrm>
          <a:prstGeom prst="rect">
            <a:avLst/>
          </a:prstGeom>
          <a:ln w="0">
            <a:noFill/>
          </a:ln>
        </p:spPr>
      </p:pic>
      <p:pic>
        <p:nvPicPr>
          <p:cNvPr id="1532" name="图片 8" descr=""/>
          <p:cNvPicPr/>
          <p:nvPr/>
        </p:nvPicPr>
        <p:blipFill>
          <a:blip r:embed="rId3"/>
          <a:stretch/>
        </p:blipFill>
        <p:spPr>
          <a:xfrm>
            <a:off x="311040" y="6194520"/>
            <a:ext cx="507960" cy="431640"/>
          </a:xfrm>
          <a:prstGeom prst="rect">
            <a:avLst/>
          </a:prstGeom>
          <a:ln w="0">
            <a:noFill/>
          </a:ln>
        </p:spPr>
      </p:pic>
      <p:pic>
        <p:nvPicPr>
          <p:cNvPr id="1533" name="图片 9" descr=""/>
          <p:cNvPicPr/>
          <p:nvPr/>
        </p:nvPicPr>
        <p:blipFill>
          <a:blip r:embed="rId4"/>
          <a:stretch/>
        </p:blipFill>
        <p:spPr>
          <a:xfrm>
            <a:off x="10291680" y="6410160"/>
            <a:ext cx="354240" cy="336600"/>
          </a:xfrm>
          <a:prstGeom prst="rect">
            <a:avLst/>
          </a:prstGeom>
          <a:ln w="0">
            <a:noFill/>
          </a:ln>
        </p:spPr>
      </p:pic>
      <p:pic>
        <p:nvPicPr>
          <p:cNvPr id="1534" name="图片 10" descr=""/>
          <p:cNvPicPr/>
          <p:nvPr/>
        </p:nvPicPr>
        <p:blipFill>
          <a:blip r:embed="rId5"/>
          <a:stretch/>
        </p:blipFill>
        <p:spPr>
          <a:xfrm>
            <a:off x="260280" y="114480"/>
            <a:ext cx="546120" cy="534960"/>
          </a:xfrm>
          <a:prstGeom prst="rect">
            <a:avLst/>
          </a:prstGeom>
          <a:ln w="0">
            <a:noFill/>
          </a:ln>
        </p:spPr>
      </p:pic>
      <p:pic>
        <p:nvPicPr>
          <p:cNvPr id="1535" name="图片 11" descr=""/>
          <p:cNvPicPr/>
          <p:nvPr/>
        </p:nvPicPr>
        <p:blipFill>
          <a:blip r:embed="rId6"/>
          <a:stretch/>
        </p:blipFill>
        <p:spPr>
          <a:xfrm>
            <a:off x="11442600" y="54000"/>
            <a:ext cx="615960" cy="608040"/>
          </a:xfrm>
          <a:prstGeom prst="rect">
            <a:avLst/>
          </a:prstGeom>
          <a:ln w="0">
            <a:noFill/>
          </a:ln>
        </p:spPr>
      </p:pic>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8"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11C8-BAD7-439B-AB61-4815D1A5603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9"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8910-49E8-4E34-AF83-421C62CC994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8" name="图片 7" descr=""/>
          <p:cNvPicPr/>
          <p:nvPr/>
        </p:nvPicPr>
        <p:blipFill>
          <a:blip r:embed="rId2"/>
          <a:stretch/>
        </p:blipFill>
        <p:spPr>
          <a:xfrm>
            <a:off x="10899720" y="5443560"/>
            <a:ext cx="1292400" cy="1414440"/>
          </a:xfrm>
          <a:prstGeom prst="rect">
            <a:avLst/>
          </a:prstGeom>
          <a:ln w="0">
            <a:noFill/>
          </a:ln>
        </p:spPr>
      </p:pic>
      <p:pic>
        <p:nvPicPr>
          <p:cNvPr id="1579" name="图片 8" descr=""/>
          <p:cNvPicPr/>
          <p:nvPr/>
        </p:nvPicPr>
        <p:blipFill>
          <a:blip r:embed="rId3"/>
          <a:stretch/>
        </p:blipFill>
        <p:spPr>
          <a:xfrm>
            <a:off x="311040" y="6194520"/>
            <a:ext cx="507960" cy="431640"/>
          </a:xfrm>
          <a:prstGeom prst="rect">
            <a:avLst/>
          </a:prstGeom>
          <a:ln w="0">
            <a:noFill/>
          </a:ln>
        </p:spPr>
      </p:pic>
      <p:pic>
        <p:nvPicPr>
          <p:cNvPr id="1580" name="图片 9" descr=""/>
          <p:cNvPicPr/>
          <p:nvPr/>
        </p:nvPicPr>
        <p:blipFill>
          <a:blip r:embed="rId4"/>
          <a:stretch/>
        </p:blipFill>
        <p:spPr>
          <a:xfrm>
            <a:off x="10291680" y="6410160"/>
            <a:ext cx="354240" cy="336600"/>
          </a:xfrm>
          <a:prstGeom prst="rect">
            <a:avLst/>
          </a:prstGeom>
          <a:ln w="0">
            <a:noFill/>
          </a:ln>
        </p:spPr>
      </p:pic>
      <p:pic>
        <p:nvPicPr>
          <p:cNvPr id="1581" name="图片 10" descr=""/>
          <p:cNvPicPr/>
          <p:nvPr/>
        </p:nvPicPr>
        <p:blipFill>
          <a:blip r:embed="rId5"/>
          <a:stretch/>
        </p:blipFill>
        <p:spPr>
          <a:xfrm>
            <a:off x="260280" y="114480"/>
            <a:ext cx="546120" cy="534960"/>
          </a:xfrm>
          <a:prstGeom prst="rect">
            <a:avLst/>
          </a:prstGeom>
          <a:ln w="0">
            <a:noFill/>
          </a:ln>
        </p:spPr>
      </p:pic>
      <p:pic>
        <p:nvPicPr>
          <p:cNvPr id="1582" name="图片 11" descr=""/>
          <p:cNvPicPr/>
          <p:nvPr/>
        </p:nvPicPr>
        <p:blipFill>
          <a:blip r:embed="rId6"/>
          <a:stretch/>
        </p:blipFill>
        <p:spPr>
          <a:xfrm>
            <a:off x="11442600" y="54000"/>
            <a:ext cx="615960" cy="608040"/>
          </a:xfrm>
          <a:prstGeom prst="rect">
            <a:avLst/>
          </a:prstGeom>
          <a:ln w="0">
            <a:noFill/>
          </a:ln>
        </p:spPr>
      </p:pic>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8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5"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682E-E943-4077-BDF3-7D4FC5AC669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6"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796A-0EE2-4346-9242-5980576F5CB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5" name="图片 6" descr=""/>
          <p:cNvPicPr/>
          <p:nvPr/>
        </p:nvPicPr>
        <p:blipFill>
          <a:blip r:embed="rId2"/>
          <a:stretch/>
        </p:blipFill>
        <p:spPr>
          <a:xfrm>
            <a:off x="10899720" y="5443560"/>
            <a:ext cx="1292400" cy="1414440"/>
          </a:xfrm>
          <a:prstGeom prst="rect">
            <a:avLst/>
          </a:prstGeom>
          <a:ln w="0">
            <a:noFill/>
          </a:ln>
        </p:spPr>
      </p:pic>
      <p:pic>
        <p:nvPicPr>
          <p:cNvPr id="1626" name="图片 7" descr=""/>
          <p:cNvPicPr/>
          <p:nvPr/>
        </p:nvPicPr>
        <p:blipFill>
          <a:blip r:embed="rId3"/>
          <a:stretch/>
        </p:blipFill>
        <p:spPr>
          <a:xfrm>
            <a:off x="311040" y="6194520"/>
            <a:ext cx="507960" cy="431640"/>
          </a:xfrm>
          <a:prstGeom prst="rect">
            <a:avLst/>
          </a:prstGeom>
          <a:ln w="0">
            <a:noFill/>
          </a:ln>
        </p:spPr>
      </p:pic>
      <p:pic>
        <p:nvPicPr>
          <p:cNvPr id="1627" name="图片 8" descr=""/>
          <p:cNvPicPr/>
          <p:nvPr/>
        </p:nvPicPr>
        <p:blipFill>
          <a:blip r:embed="rId4"/>
          <a:stretch/>
        </p:blipFill>
        <p:spPr>
          <a:xfrm>
            <a:off x="10291680" y="6410160"/>
            <a:ext cx="354240" cy="336600"/>
          </a:xfrm>
          <a:prstGeom prst="rect">
            <a:avLst/>
          </a:prstGeom>
          <a:ln w="0">
            <a:noFill/>
          </a:ln>
        </p:spPr>
      </p:pic>
      <p:pic>
        <p:nvPicPr>
          <p:cNvPr id="1628" name="图片 9" descr=""/>
          <p:cNvPicPr/>
          <p:nvPr/>
        </p:nvPicPr>
        <p:blipFill>
          <a:blip r:embed="rId5"/>
          <a:stretch/>
        </p:blipFill>
        <p:spPr>
          <a:xfrm>
            <a:off x="260280" y="114480"/>
            <a:ext cx="546120" cy="534960"/>
          </a:xfrm>
          <a:prstGeom prst="rect">
            <a:avLst/>
          </a:prstGeom>
          <a:ln w="0">
            <a:noFill/>
          </a:ln>
        </p:spPr>
      </p:pic>
      <p:pic>
        <p:nvPicPr>
          <p:cNvPr id="1629" name="图片 10" descr=""/>
          <p:cNvPicPr/>
          <p:nvPr/>
        </p:nvPicPr>
        <p:blipFill>
          <a:blip r:embed="rId6"/>
          <a:stretch/>
        </p:blipFill>
        <p:spPr>
          <a:xfrm>
            <a:off x="11442600" y="54000"/>
            <a:ext cx="615960" cy="608040"/>
          </a:xfrm>
          <a:prstGeom prst="rect">
            <a:avLst/>
          </a:prstGeom>
          <a:ln w="0">
            <a:noFill/>
          </a:ln>
        </p:spPr>
      </p:pic>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32"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5287-57C4-4CE7-A38F-468AEBB935B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33"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BDCA-44D9-40BC-B3B5-CDABD4F1924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2" name="图片 5" descr=""/>
          <p:cNvPicPr/>
          <p:nvPr/>
        </p:nvPicPr>
        <p:blipFill>
          <a:blip r:embed="rId2"/>
          <a:stretch/>
        </p:blipFill>
        <p:spPr>
          <a:xfrm>
            <a:off x="10899720" y="5443560"/>
            <a:ext cx="1292400" cy="1414440"/>
          </a:xfrm>
          <a:prstGeom prst="rect">
            <a:avLst/>
          </a:prstGeom>
          <a:ln w="0">
            <a:noFill/>
          </a:ln>
        </p:spPr>
      </p:pic>
      <p:pic>
        <p:nvPicPr>
          <p:cNvPr id="1673" name="图片 7" descr=""/>
          <p:cNvPicPr/>
          <p:nvPr/>
        </p:nvPicPr>
        <p:blipFill>
          <a:blip r:embed="rId3"/>
          <a:stretch/>
        </p:blipFill>
        <p:spPr>
          <a:xfrm>
            <a:off x="311040" y="6194520"/>
            <a:ext cx="507960" cy="431640"/>
          </a:xfrm>
          <a:prstGeom prst="rect">
            <a:avLst/>
          </a:prstGeom>
          <a:ln w="0">
            <a:noFill/>
          </a:ln>
        </p:spPr>
      </p:pic>
      <p:pic>
        <p:nvPicPr>
          <p:cNvPr id="1674" name="图片 8" descr=""/>
          <p:cNvPicPr/>
          <p:nvPr/>
        </p:nvPicPr>
        <p:blipFill>
          <a:blip r:embed="rId4"/>
          <a:stretch/>
        </p:blipFill>
        <p:spPr>
          <a:xfrm>
            <a:off x="10291680" y="6410160"/>
            <a:ext cx="354240" cy="336600"/>
          </a:xfrm>
          <a:prstGeom prst="rect">
            <a:avLst/>
          </a:prstGeom>
          <a:ln w="0">
            <a:noFill/>
          </a:ln>
        </p:spPr>
      </p:pic>
      <p:pic>
        <p:nvPicPr>
          <p:cNvPr id="1675" name="图片 9" descr=""/>
          <p:cNvPicPr/>
          <p:nvPr/>
        </p:nvPicPr>
        <p:blipFill>
          <a:blip r:embed="rId5"/>
          <a:stretch/>
        </p:blipFill>
        <p:spPr>
          <a:xfrm>
            <a:off x="260280" y="114480"/>
            <a:ext cx="546120" cy="534960"/>
          </a:xfrm>
          <a:prstGeom prst="rect">
            <a:avLst/>
          </a:prstGeom>
          <a:ln w="0">
            <a:noFill/>
          </a:ln>
        </p:spPr>
      </p:pic>
      <p:pic>
        <p:nvPicPr>
          <p:cNvPr id="1676" name="图片 10" descr=""/>
          <p:cNvPicPr/>
          <p:nvPr/>
        </p:nvPicPr>
        <p:blipFill>
          <a:blip r:embed="rId6"/>
          <a:stretch/>
        </p:blipFill>
        <p:spPr>
          <a:xfrm>
            <a:off x="11442600" y="54000"/>
            <a:ext cx="615960" cy="608040"/>
          </a:xfrm>
          <a:prstGeom prst="rect">
            <a:avLst/>
          </a:prstGeom>
          <a:ln w="0">
            <a:noFill/>
          </a:ln>
        </p:spPr>
      </p:pic>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9"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530B-E6D6-4785-8472-74C6391DFDA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80"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1"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DD3D-BA6F-45DC-87C1-F850F6076B4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9" name="图片 5" descr=""/>
          <p:cNvPicPr/>
          <p:nvPr/>
        </p:nvPicPr>
        <p:blipFill>
          <a:blip r:embed="rId2"/>
          <a:stretch/>
        </p:blipFill>
        <p:spPr>
          <a:xfrm>
            <a:off x="2868480" y="3490920"/>
            <a:ext cx="2543400" cy="3108240"/>
          </a:xfrm>
          <a:prstGeom prst="rect">
            <a:avLst/>
          </a:prstGeom>
          <a:ln w="0">
            <a:noFill/>
          </a:ln>
        </p:spPr>
      </p:pic>
      <p:pic>
        <p:nvPicPr>
          <p:cNvPr id="1720" name="图片 6" descr=""/>
          <p:cNvPicPr/>
          <p:nvPr/>
        </p:nvPicPr>
        <p:blipFill>
          <a:blip r:embed="rId3"/>
          <a:stretch/>
        </p:blipFill>
        <p:spPr>
          <a:xfrm>
            <a:off x="6480" y="1612800"/>
            <a:ext cx="3257280" cy="5243760"/>
          </a:xfrm>
          <a:prstGeom prst="rect">
            <a:avLst/>
          </a:prstGeom>
          <a:ln w="0">
            <a:noFill/>
          </a:ln>
        </p:spPr>
      </p:pic>
      <p:pic>
        <p:nvPicPr>
          <p:cNvPr id="1721" name="图片 6" descr=""/>
          <p:cNvPicPr/>
          <p:nvPr/>
        </p:nvPicPr>
        <p:blipFill>
          <a:blip r:embed="rId4"/>
          <a:stretch/>
        </p:blipFill>
        <p:spPr>
          <a:xfrm rot="17330400">
            <a:off x="3570480" y="5589000"/>
            <a:ext cx="568440" cy="542880"/>
          </a:xfrm>
          <a:prstGeom prst="rect">
            <a:avLst/>
          </a:prstGeom>
          <a:ln w="0">
            <a:noFill/>
          </a:ln>
        </p:spPr>
      </p:pic>
      <p:pic>
        <p:nvPicPr>
          <p:cNvPr id="1722" name="图片 5" descr=""/>
          <p:cNvPicPr/>
          <p:nvPr/>
        </p:nvPicPr>
        <p:blipFill>
          <a:blip r:embed="rId5"/>
          <a:stretch/>
        </p:blipFill>
        <p:spPr>
          <a:xfrm rot="20422800">
            <a:off x="1217160" y="5847840"/>
            <a:ext cx="563760" cy="536760"/>
          </a:xfrm>
          <a:prstGeom prst="rect">
            <a:avLst/>
          </a:prstGeom>
          <a:ln w="0">
            <a:noFill/>
          </a:ln>
        </p:spPr>
      </p:pic>
      <p:pic>
        <p:nvPicPr>
          <p:cNvPr id="1723" name="图片 9" descr=""/>
          <p:cNvPicPr/>
          <p:nvPr/>
        </p:nvPicPr>
        <p:blipFill>
          <a:blip r:embed="rId6"/>
          <a:stretch/>
        </p:blipFill>
        <p:spPr>
          <a:xfrm>
            <a:off x="4964040" y="4621320"/>
            <a:ext cx="1830600" cy="2236680"/>
          </a:xfrm>
          <a:prstGeom prst="rect">
            <a:avLst/>
          </a:prstGeom>
          <a:ln w="0">
            <a:noFill/>
          </a:ln>
        </p:spPr>
      </p:pic>
      <p:pic>
        <p:nvPicPr>
          <p:cNvPr id="1724" name="图片 10" descr=""/>
          <p:cNvPicPr/>
          <p:nvPr/>
        </p:nvPicPr>
        <p:blipFill>
          <a:blip r:embed="rId7"/>
          <a:stretch/>
        </p:blipFill>
        <p:spPr>
          <a:xfrm>
            <a:off x="3616200" y="369720"/>
            <a:ext cx="2659320" cy="3116520"/>
          </a:xfrm>
          <a:prstGeom prst="rect">
            <a:avLst/>
          </a:prstGeom>
          <a:ln w="0">
            <a:noFill/>
          </a:ln>
        </p:spPr>
      </p:pic>
      <p:pic>
        <p:nvPicPr>
          <p:cNvPr id="1725" name="图片 3" descr=""/>
          <p:cNvPicPr/>
          <p:nvPr/>
        </p:nvPicPr>
        <p:blipFill>
          <a:blip r:embed="rId8"/>
          <a:stretch/>
        </p:blipFill>
        <p:spPr>
          <a:xfrm flipH="1" rot="20731200">
            <a:off x="10271880" y="1108080"/>
            <a:ext cx="1067040" cy="1046160"/>
          </a:xfrm>
          <a:prstGeom prst="rect">
            <a:avLst/>
          </a:prstGeom>
          <a:ln w="0">
            <a:noFill/>
          </a:ln>
        </p:spPr>
      </p:pic>
      <p:pic>
        <p:nvPicPr>
          <p:cNvPr id="1726" name="图片 4" descr=""/>
          <p:cNvPicPr/>
          <p:nvPr/>
        </p:nvPicPr>
        <p:blipFill>
          <a:blip r:embed="rId9"/>
          <a:stretch/>
        </p:blipFill>
        <p:spPr>
          <a:xfrm>
            <a:off x="8472600" y="5543640"/>
            <a:ext cx="558720" cy="533160"/>
          </a:xfrm>
          <a:prstGeom prst="rect">
            <a:avLst/>
          </a:prstGeom>
          <a:ln w="0">
            <a:noFill/>
          </a:ln>
        </p:spPr>
      </p:pic>
      <p:pic>
        <p:nvPicPr>
          <p:cNvPr id="1727" name="图片 3" descr=""/>
          <p:cNvPicPr/>
          <p:nvPr/>
        </p:nvPicPr>
        <p:blipFill>
          <a:blip r:embed="rId10"/>
          <a:stretch/>
        </p:blipFill>
        <p:spPr>
          <a:xfrm>
            <a:off x="2421000" y="1197000"/>
            <a:ext cx="950760" cy="933480"/>
          </a:xfrm>
          <a:prstGeom prst="rect">
            <a:avLst/>
          </a:prstGeom>
          <a:ln w="0">
            <a:noFill/>
          </a:ln>
        </p:spPr>
      </p:pic>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30" name="PlaceHolder 3"/>
          <p:cNvSpPr>
            <a:spLocks noGrp="1"/>
          </p:cNvSpPr>
          <p:nvPr>
            <p:ph type="dt" idx="112"/>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4436-238B-48D3-A2FC-F1265DF64BA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31"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2"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63F4-F992-4FAF-82AF-0100A2E7295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3" name="PlaceHolder 3"/>
          <p:cNvSpPr>
            <a:spLocks noGrp="1"/>
          </p:cNvSpPr>
          <p:nvPr>
            <p:ph type="dt" idx="11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F651-DD89-4FEA-8A8E-7D71B806095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4"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5"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2BDE-9E5A-4267-88D3-288B827C426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7" name="图片 5" descr=""/>
          <p:cNvPicPr/>
          <p:nvPr/>
        </p:nvPicPr>
        <p:blipFill>
          <a:blip r:embed="rId2"/>
          <a:stretch/>
        </p:blipFill>
        <p:spPr>
          <a:xfrm rot="19920000">
            <a:off x="1331640" y="5760720"/>
            <a:ext cx="709560" cy="676080"/>
          </a:xfrm>
          <a:prstGeom prst="rect">
            <a:avLst/>
          </a:prstGeom>
          <a:ln w="0">
            <a:noFill/>
          </a:ln>
        </p:spPr>
      </p:pic>
      <p:pic>
        <p:nvPicPr>
          <p:cNvPr id="128" name="图片 6" descr=""/>
          <p:cNvPicPr/>
          <p:nvPr/>
        </p:nvPicPr>
        <p:blipFill>
          <a:blip r:embed="rId3"/>
          <a:stretch/>
        </p:blipFill>
        <p:spPr>
          <a:xfrm rot="17330400">
            <a:off x="3751200" y="5588640"/>
            <a:ext cx="568440" cy="543240"/>
          </a:xfrm>
          <a:prstGeom prst="rect">
            <a:avLst/>
          </a:prstGeom>
          <a:ln w="0">
            <a:noFill/>
          </a:ln>
        </p:spPr>
      </p:pic>
      <p:pic>
        <p:nvPicPr>
          <p:cNvPr id="129" name="图片 4" descr=""/>
          <p:cNvPicPr/>
          <p:nvPr/>
        </p:nvPicPr>
        <p:blipFill>
          <a:blip r:embed="rId4"/>
          <a:stretch/>
        </p:blipFill>
        <p:spPr>
          <a:xfrm>
            <a:off x="609480" y="693720"/>
            <a:ext cx="560520" cy="534960"/>
          </a:xfrm>
          <a:prstGeom prst="rect">
            <a:avLst/>
          </a:prstGeom>
          <a:ln w="0">
            <a:noFill/>
          </a:ln>
        </p:spPr>
      </p:pic>
      <p:pic>
        <p:nvPicPr>
          <p:cNvPr id="130" name="图片 3" descr=""/>
          <p:cNvPicPr/>
          <p:nvPr/>
        </p:nvPicPr>
        <p:blipFill>
          <a:blip r:embed="rId5"/>
          <a:stretch/>
        </p:blipFill>
        <p:spPr>
          <a:xfrm>
            <a:off x="2606760" y="1195560"/>
            <a:ext cx="950760" cy="933120"/>
          </a:xfrm>
          <a:prstGeom prst="rect">
            <a:avLst/>
          </a:prstGeom>
          <a:ln w="0">
            <a:noFill/>
          </a:ln>
        </p:spPr>
      </p:pic>
      <p:pic>
        <p:nvPicPr>
          <p:cNvPr id="131" name="图片 2" descr=""/>
          <p:cNvPicPr/>
          <p:nvPr/>
        </p:nvPicPr>
        <p:blipFill>
          <a:blip r:embed="rId6"/>
          <a:stretch/>
        </p:blipFill>
        <p:spPr>
          <a:xfrm>
            <a:off x="5986440" y="1724040"/>
            <a:ext cx="5950080" cy="4987800"/>
          </a:xfrm>
          <a:prstGeom prst="rect">
            <a:avLst/>
          </a:prstGeom>
          <a:ln w="0">
            <a:noFill/>
          </a:ln>
        </p:spPr>
      </p:pic>
      <p:pic>
        <p:nvPicPr>
          <p:cNvPr id="132" name="图片 1" descr=""/>
          <p:cNvPicPr/>
          <p:nvPr/>
        </p:nvPicPr>
        <p:blipFill>
          <a:blip r:embed="rId7"/>
          <a:stretch/>
        </p:blipFill>
        <p:spPr>
          <a:xfrm>
            <a:off x="10969560" y="1963800"/>
            <a:ext cx="1013040" cy="1003320"/>
          </a:xfrm>
          <a:prstGeom prst="rect">
            <a:avLst/>
          </a:prstGeom>
          <a:ln w="0">
            <a:noFill/>
          </a:ln>
        </p:spPr>
      </p:pic>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FA37-1EFC-47FE-9D3A-73FA9A4CFF7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E290-2EF5-40F1-AE76-765EF667B1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5" name="图片 6" descr=""/>
          <p:cNvPicPr/>
          <p:nvPr/>
        </p:nvPicPr>
        <p:blipFill>
          <a:blip r:embed="rId2"/>
          <a:stretch/>
        </p:blipFill>
        <p:spPr>
          <a:xfrm>
            <a:off x="10899720" y="5443560"/>
            <a:ext cx="1292400" cy="1414440"/>
          </a:xfrm>
          <a:prstGeom prst="rect">
            <a:avLst/>
          </a:prstGeom>
          <a:ln w="0">
            <a:noFill/>
          </a:ln>
        </p:spPr>
      </p:pic>
      <p:pic>
        <p:nvPicPr>
          <p:cNvPr id="176" name="图片 7" descr=""/>
          <p:cNvPicPr/>
          <p:nvPr/>
        </p:nvPicPr>
        <p:blipFill>
          <a:blip r:embed="rId3"/>
          <a:stretch/>
        </p:blipFill>
        <p:spPr>
          <a:xfrm>
            <a:off x="311040" y="6194520"/>
            <a:ext cx="507960" cy="431640"/>
          </a:xfrm>
          <a:prstGeom prst="rect">
            <a:avLst/>
          </a:prstGeom>
          <a:ln w="0">
            <a:noFill/>
          </a:ln>
        </p:spPr>
      </p:pic>
      <p:pic>
        <p:nvPicPr>
          <p:cNvPr id="177" name="图片 8" descr=""/>
          <p:cNvPicPr/>
          <p:nvPr/>
        </p:nvPicPr>
        <p:blipFill>
          <a:blip r:embed="rId4"/>
          <a:stretch/>
        </p:blipFill>
        <p:spPr>
          <a:xfrm>
            <a:off x="10291680" y="6410160"/>
            <a:ext cx="354240" cy="336600"/>
          </a:xfrm>
          <a:prstGeom prst="rect">
            <a:avLst/>
          </a:prstGeom>
          <a:ln w="0">
            <a:noFill/>
          </a:ln>
        </p:spPr>
      </p:pic>
      <p:pic>
        <p:nvPicPr>
          <p:cNvPr id="178" name="图片 9" descr=""/>
          <p:cNvPicPr/>
          <p:nvPr/>
        </p:nvPicPr>
        <p:blipFill>
          <a:blip r:embed="rId5"/>
          <a:stretch/>
        </p:blipFill>
        <p:spPr>
          <a:xfrm>
            <a:off x="260280" y="114480"/>
            <a:ext cx="546120" cy="534960"/>
          </a:xfrm>
          <a:prstGeom prst="rect">
            <a:avLst/>
          </a:prstGeom>
          <a:ln w="0">
            <a:noFill/>
          </a:ln>
        </p:spPr>
      </p:pic>
      <p:pic>
        <p:nvPicPr>
          <p:cNvPr id="179" name="图片 10" descr=""/>
          <p:cNvPicPr/>
          <p:nvPr/>
        </p:nvPicPr>
        <p:blipFill>
          <a:blip r:embed="rId6"/>
          <a:stretch/>
        </p:blipFill>
        <p:spPr>
          <a:xfrm>
            <a:off x="11442600" y="54000"/>
            <a:ext cx="615960" cy="608040"/>
          </a:xfrm>
          <a:prstGeom prst="rect">
            <a:avLst/>
          </a:prstGeom>
          <a:ln w="0">
            <a:noFill/>
          </a:ln>
        </p:spPr>
      </p:pic>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2"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0590-EB78-49CB-8AD3-5B2F40846BF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F60E-EFB5-4867-A29F-BA228E1C9FB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 name="图片 7" descr=""/>
          <p:cNvPicPr/>
          <p:nvPr/>
        </p:nvPicPr>
        <p:blipFill>
          <a:blip r:embed="rId2"/>
          <a:stretch/>
        </p:blipFill>
        <p:spPr>
          <a:xfrm flipH="1" rot="20731200">
            <a:off x="9333720" y="2427120"/>
            <a:ext cx="1067040" cy="1046160"/>
          </a:xfrm>
          <a:prstGeom prst="rect">
            <a:avLst/>
          </a:prstGeom>
          <a:ln w="0">
            <a:noFill/>
          </a:ln>
        </p:spPr>
      </p:pic>
      <p:pic>
        <p:nvPicPr>
          <p:cNvPr id="223" name="图片 3" descr=""/>
          <p:cNvPicPr/>
          <p:nvPr/>
        </p:nvPicPr>
        <p:blipFill>
          <a:blip r:embed="rId3"/>
          <a:stretch/>
        </p:blipFill>
        <p:spPr>
          <a:xfrm>
            <a:off x="2212920" y="2452680"/>
            <a:ext cx="951120" cy="933480"/>
          </a:xfrm>
          <a:prstGeom prst="rect">
            <a:avLst/>
          </a:prstGeom>
          <a:ln w="0">
            <a:noFill/>
          </a:ln>
        </p:spPr>
      </p:pic>
      <p:pic>
        <p:nvPicPr>
          <p:cNvPr id="224" name="图片 8" descr=""/>
          <p:cNvPicPr/>
          <p:nvPr/>
        </p:nvPicPr>
        <p:blipFill>
          <a:blip r:embed="rId4"/>
          <a:stretch/>
        </p:blipFill>
        <p:spPr>
          <a:xfrm>
            <a:off x="4859280" y="-30240"/>
            <a:ext cx="1836720" cy="2237040"/>
          </a:xfrm>
          <a:prstGeom prst="rect">
            <a:avLst/>
          </a:prstGeom>
          <a:ln w="0">
            <a:noFill/>
          </a:ln>
        </p:spPr>
      </p:pic>
      <p:pic>
        <p:nvPicPr>
          <p:cNvPr id="225" name="图片 9" descr=""/>
          <p:cNvPicPr/>
          <p:nvPr/>
        </p:nvPicPr>
        <p:blipFill>
          <a:blip r:embed="rId5"/>
          <a:stretch/>
        </p:blipFill>
        <p:spPr>
          <a:xfrm>
            <a:off x="5068800" y="4519440"/>
            <a:ext cx="2060640" cy="2325960"/>
          </a:xfrm>
          <a:prstGeom prst="rect">
            <a:avLst/>
          </a:prstGeom>
          <a:ln w="0">
            <a:noFill/>
          </a:ln>
        </p:spPr>
      </p:pic>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F958-F5C1-4E55-84F0-584FBEBEA9F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9"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FB95-9BEF-42FA-804E-8AD707C5AF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8" name="图片 7" descr=""/>
          <p:cNvPicPr/>
          <p:nvPr/>
        </p:nvPicPr>
        <p:blipFill>
          <a:blip r:embed="rId2"/>
          <a:stretch/>
        </p:blipFill>
        <p:spPr>
          <a:xfrm>
            <a:off x="10899720" y="5443560"/>
            <a:ext cx="1292400" cy="1414440"/>
          </a:xfrm>
          <a:prstGeom prst="rect">
            <a:avLst/>
          </a:prstGeom>
          <a:ln w="0">
            <a:noFill/>
          </a:ln>
        </p:spPr>
      </p:pic>
      <p:pic>
        <p:nvPicPr>
          <p:cNvPr id="269" name="图片 8" descr=""/>
          <p:cNvPicPr/>
          <p:nvPr/>
        </p:nvPicPr>
        <p:blipFill>
          <a:blip r:embed="rId3"/>
          <a:stretch/>
        </p:blipFill>
        <p:spPr>
          <a:xfrm>
            <a:off x="311040" y="6194520"/>
            <a:ext cx="507960" cy="431640"/>
          </a:xfrm>
          <a:prstGeom prst="rect">
            <a:avLst/>
          </a:prstGeom>
          <a:ln w="0">
            <a:noFill/>
          </a:ln>
        </p:spPr>
      </p:pic>
      <p:pic>
        <p:nvPicPr>
          <p:cNvPr id="270" name="图片 9" descr=""/>
          <p:cNvPicPr/>
          <p:nvPr/>
        </p:nvPicPr>
        <p:blipFill>
          <a:blip r:embed="rId4"/>
          <a:stretch/>
        </p:blipFill>
        <p:spPr>
          <a:xfrm>
            <a:off x="10291680" y="6410160"/>
            <a:ext cx="354240" cy="336600"/>
          </a:xfrm>
          <a:prstGeom prst="rect">
            <a:avLst/>
          </a:prstGeom>
          <a:ln w="0">
            <a:noFill/>
          </a:ln>
        </p:spPr>
      </p:pic>
      <p:pic>
        <p:nvPicPr>
          <p:cNvPr id="271" name="图片 10" descr=""/>
          <p:cNvPicPr/>
          <p:nvPr/>
        </p:nvPicPr>
        <p:blipFill>
          <a:blip r:embed="rId5"/>
          <a:stretch/>
        </p:blipFill>
        <p:spPr>
          <a:xfrm>
            <a:off x="260280" y="114480"/>
            <a:ext cx="546120" cy="534960"/>
          </a:xfrm>
          <a:prstGeom prst="rect">
            <a:avLst/>
          </a:prstGeom>
          <a:ln w="0">
            <a:noFill/>
          </a:ln>
        </p:spPr>
      </p:pic>
      <p:pic>
        <p:nvPicPr>
          <p:cNvPr id="272" name="图片 11" descr=""/>
          <p:cNvPicPr/>
          <p:nvPr/>
        </p:nvPicPr>
        <p:blipFill>
          <a:blip r:embed="rId6"/>
          <a:stretch/>
        </p:blipFill>
        <p:spPr>
          <a:xfrm>
            <a:off x="11442600" y="54000"/>
            <a:ext cx="615960" cy="608040"/>
          </a:xfrm>
          <a:prstGeom prst="rect">
            <a:avLst/>
          </a:prstGeom>
          <a:ln w="0">
            <a:noFill/>
          </a:ln>
        </p:spPr>
      </p:pic>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5"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E57C-5A02-4877-98F4-98C43FE8B1C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D787-DADD-43C4-BF70-87A8FEB3DE5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图片 9" descr=""/>
          <p:cNvPicPr/>
          <p:nvPr/>
        </p:nvPicPr>
        <p:blipFill>
          <a:blip r:embed="rId2"/>
          <a:stretch/>
        </p:blipFill>
        <p:spPr>
          <a:xfrm>
            <a:off x="10899720" y="5443560"/>
            <a:ext cx="1292400" cy="1414440"/>
          </a:xfrm>
          <a:prstGeom prst="rect">
            <a:avLst/>
          </a:prstGeom>
          <a:ln w="0">
            <a:noFill/>
          </a:ln>
        </p:spPr>
      </p:pic>
      <p:pic>
        <p:nvPicPr>
          <p:cNvPr id="316" name="图片 10" descr=""/>
          <p:cNvPicPr/>
          <p:nvPr/>
        </p:nvPicPr>
        <p:blipFill>
          <a:blip r:embed="rId3"/>
          <a:stretch/>
        </p:blipFill>
        <p:spPr>
          <a:xfrm>
            <a:off x="311040" y="6194520"/>
            <a:ext cx="507960" cy="431640"/>
          </a:xfrm>
          <a:prstGeom prst="rect">
            <a:avLst/>
          </a:prstGeom>
          <a:ln w="0">
            <a:noFill/>
          </a:ln>
        </p:spPr>
      </p:pic>
      <p:pic>
        <p:nvPicPr>
          <p:cNvPr id="317" name="图片 11" descr=""/>
          <p:cNvPicPr/>
          <p:nvPr/>
        </p:nvPicPr>
        <p:blipFill>
          <a:blip r:embed="rId4"/>
          <a:stretch/>
        </p:blipFill>
        <p:spPr>
          <a:xfrm>
            <a:off x="10291680" y="6410160"/>
            <a:ext cx="354240" cy="336600"/>
          </a:xfrm>
          <a:prstGeom prst="rect">
            <a:avLst/>
          </a:prstGeom>
          <a:ln w="0">
            <a:noFill/>
          </a:ln>
        </p:spPr>
      </p:pic>
      <p:pic>
        <p:nvPicPr>
          <p:cNvPr id="318" name="图片 12" descr=""/>
          <p:cNvPicPr/>
          <p:nvPr/>
        </p:nvPicPr>
        <p:blipFill>
          <a:blip r:embed="rId5"/>
          <a:stretch/>
        </p:blipFill>
        <p:spPr>
          <a:xfrm>
            <a:off x="260280" y="114480"/>
            <a:ext cx="546120" cy="534960"/>
          </a:xfrm>
          <a:prstGeom prst="rect">
            <a:avLst/>
          </a:prstGeom>
          <a:ln w="0">
            <a:noFill/>
          </a:ln>
        </p:spPr>
      </p:pic>
      <p:pic>
        <p:nvPicPr>
          <p:cNvPr id="319" name="图片 13" descr=""/>
          <p:cNvPicPr/>
          <p:nvPr/>
        </p:nvPicPr>
        <p:blipFill>
          <a:blip r:embed="rId6"/>
          <a:stretch/>
        </p:blipFill>
        <p:spPr>
          <a:xfrm>
            <a:off x="11442600" y="54000"/>
            <a:ext cx="615960" cy="608040"/>
          </a:xfrm>
          <a:prstGeom prst="rect">
            <a:avLst/>
          </a:prstGeom>
          <a:ln w="0">
            <a:noFill/>
          </a:ln>
        </p:spPr>
      </p:pic>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2"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03AA-24A8-4792-8D59-524793F5939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EE95-B291-4EA4-8C2E-9E96712AAA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2" name="图片 5" descr=""/>
          <p:cNvPicPr/>
          <p:nvPr/>
        </p:nvPicPr>
        <p:blipFill>
          <a:blip r:embed="rId2"/>
          <a:stretch/>
        </p:blipFill>
        <p:spPr>
          <a:xfrm>
            <a:off x="10899720" y="5443560"/>
            <a:ext cx="1292400" cy="1414440"/>
          </a:xfrm>
          <a:prstGeom prst="rect">
            <a:avLst/>
          </a:prstGeom>
          <a:ln w="0">
            <a:noFill/>
          </a:ln>
        </p:spPr>
      </p:pic>
      <p:pic>
        <p:nvPicPr>
          <p:cNvPr id="363" name="图片 8" descr=""/>
          <p:cNvPicPr/>
          <p:nvPr/>
        </p:nvPicPr>
        <p:blipFill>
          <a:blip r:embed="rId3"/>
          <a:stretch/>
        </p:blipFill>
        <p:spPr>
          <a:xfrm>
            <a:off x="260280" y="114480"/>
            <a:ext cx="546120" cy="534960"/>
          </a:xfrm>
          <a:prstGeom prst="rect">
            <a:avLst/>
          </a:prstGeom>
          <a:ln w="0">
            <a:noFill/>
          </a:ln>
        </p:spPr>
      </p:pic>
      <p:pic>
        <p:nvPicPr>
          <p:cNvPr id="364" name="图片 9" descr=""/>
          <p:cNvPicPr/>
          <p:nvPr/>
        </p:nvPicPr>
        <p:blipFill>
          <a:blip r:embed="rId4"/>
          <a:stretch/>
        </p:blipFill>
        <p:spPr>
          <a:xfrm>
            <a:off x="11442600" y="54000"/>
            <a:ext cx="615960" cy="608040"/>
          </a:xfrm>
          <a:prstGeom prst="rect">
            <a:avLst/>
          </a:prstGeom>
          <a:ln w="0">
            <a:noFill/>
          </a:ln>
        </p:spPr>
      </p:pic>
      <p:sp>
        <p:nvSpPr>
          <p:cNvPr id="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7"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A055-CC6A-4153-9580-ABECE3CC3AF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9F59-BE64-4A7C-9FDA-2D9FB38EDC0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4.png"/><Relationship Id="rId6"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4.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4.png"/><Relationship Id="rId3"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4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3142800" y="1989000"/>
            <a:ext cx="6481800" cy="19130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f75b4"/>
                </a:solidFill>
                <a:latin typeface="Bodoni MT Black"/>
              </a:rPr>
              <a:t>      </a:t>
            </a:r>
            <a:r>
              <a:rPr b="1" lang="zh-CN" sz="6000" spc="-1" strike="noStrike">
                <a:solidFill>
                  <a:srgbClr val="8e10d4"/>
                </a:solidFill>
                <a:latin typeface="Bodoni MT Black"/>
              </a:rPr>
              <a:t>项目十 </a:t>
            </a:r>
            <a:br>
              <a:rPr sz="6000"/>
            </a:br>
            <a:r>
              <a:rPr b="1" lang="zh-CN" sz="6000" spc="-1" strike="noStrike">
                <a:solidFill>
                  <a:srgbClr val="8e10d4"/>
                </a:solidFill>
                <a:latin typeface="Bodoni MT Black"/>
              </a:rPr>
              <a:t>审计报告的编制</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812"/>
                                        </p:tgtEl>
                                        <p:attrNameLst>
                                          <p:attrName>style.visibility</p:attrName>
                                        </p:attrNameLst>
                                      </p:cBhvr>
                                      <p:to>
                                        <p:strVal val="visible"/>
                                      </p:to>
                                    </p:set>
                                    <p:anim calcmode="lin" valueType="num">
                                      <p:cBhvr additive="repl">
                                        <p:cTn id="7" dur="700" fill="hold">
                                          <p:stCondLst>
                                            <p:cond delay="0"/>
                                          </p:stCondLst>
                                        </p:cTn>
                                        <p:tgtEl>
                                          <p:spTgt spid="1812"/>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812"/>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Freeform 8"/>
          <p:cNvSpPr/>
          <p:nvPr/>
        </p:nvSpPr>
        <p:spPr>
          <a:xfrm>
            <a:off x="4492800" y="2809800"/>
            <a:ext cx="1670040" cy="1503360"/>
          </a:xfrm>
          <a:prstGeom prst="ellipse">
            <a:avLst/>
          </a:prstGeom>
          <a:solidFill>
            <a:srgbClr val="2ea6eb"/>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1" name="Freeform 9"/>
          <p:cNvSpPr/>
          <p:nvPr/>
        </p:nvSpPr>
        <p:spPr>
          <a:xfrm>
            <a:off x="6326280" y="3340080"/>
            <a:ext cx="1500120" cy="1449360"/>
          </a:xfrm>
          <a:prstGeom prst="ellipse">
            <a:avLst/>
          </a:prstGeom>
          <a:solidFill>
            <a:srgbClr val="f4ebf4"/>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2" name="Freeform 10"/>
          <p:cNvSpPr/>
          <p:nvPr/>
        </p:nvSpPr>
        <p:spPr>
          <a:xfrm>
            <a:off x="4465800" y="5519880"/>
            <a:ext cx="865080" cy="839520"/>
          </a:xfrm>
          <a:prstGeom prst="ellipse">
            <a:avLst/>
          </a:prstGeom>
          <a:solidFill>
            <a:srgbClr val="aeedff"/>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3" name="Freeform 11"/>
          <p:cNvSpPr/>
          <p:nvPr/>
        </p:nvSpPr>
        <p:spPr>
          <a:xfrm>
            <a:off x="3700440" y="3573360"/>
            <a:ext cx="839880" cy="816120"/>
          </a:xfrm>
          <a:prstGeom prst="ellipse">
            <a:avLst/>
          </a:prstGeom>
          <a:solidFill>
            <a:srgbClr val="aeedff"/>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4" name="Freeform 12"/>
          <p:cNvSpPr/>
          <p:nvPr/>
        </p:nvSpPr>
        <p:spPr>
          <a:xfrm>
            <a:off x="6191280" y="2368440"/>
            <a:ext cx="909720" cy="882720"/>
          </a:xfrm>
          <a:prstGeom prst="ellipse">
            <a:avLst/>
          </a:prstGeom>
          <a:solidFill>
            <a:srgbClr val="fe9b0c"/>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5" name="Freeform 13"/>
          <p:cNvSpPr/>
          <p:nvPr/>
        </p:nvSpPr>
        <p:spPr>
          <a:xfrm>
            <a:off x="5222880" y="4562640"/>
            <a:ext cx="1120680" cy="1130040"/>
          </a:xfrm>
          <a:prstGeom prst="ellipse">
            <a:avLst/>
          </a:prstGeom>
          <a:solidFill>
            <a:srgbClr val="fdc01a"/>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6" name="Group 14"/>
          <p:cNvGrpSpPr/>
          <p:nvPr/>
        </p:nvGrpSpPr>
        <p:grpSpPr>
          <a:xfrm>
            <a:off x="5526000" y="4917960"/>
            <a:ext cx="336240" cy="355320"/>
            <a:chOff x="5526000" y="4917960"/>
            <a:chExt cx="336240" cy="355320"/>
          </a:xfrm>
        </p:grpSpPr>
        <p:sp>
          <p:nvSpPr>
            <p:cNvPr id="1897" name="Freeform 15"/>
            <p:cNvSpPr/>
            <p:nvPr/>
          </p:nvSpPr>
          <p:spPr>
            <a:xfrm>
              <a:off x="5794560" y="5002200"/>
              <a:ext cx="27360" cy="271080"/>
            </a:xfrm>
            <a:custGeom>
              <a:avLst/>
              <a:gdLst/>
              <a:ahLst/>
              <a:rect l="l" t="t" r="r" b="b"/>
              <a:pathLst>
                <a:path w="7" h="67">
                  <a:moveTo>
                    <a:pt x="4" y="0"/>
                  </a:moveTo>
                  <a:cubicBezTo>
                    <a:pt x="2" y="0"/>
                    <a:pt x="0" y="1"/>
                    <a:pt x="0" y="3"/>
                  </a:cubicBezTo>
                  <a:cubicBezTo>
                    <a:pt x="0" y="63"/>
                    <a:pt x="0" y="63"/>
                    <a:pt x="0" y="63"/>
                  </a:cubicBezTo>
                  <a:cubicBezTo>
                    <a:pt x="0" y="65"/>
                    <a:pt x="2" y="67"/>
                    <a:pt x="4" y="67"/>
                  </a:cubicBezTo>
                  <a:cubicBezTo>
                    <a:pt x="6" y="67"/>
                    <a:pt x="7" y="65"/>
                    <a:pt x="7" y="63"/>
                  </a:cubicBezTo>
                  <a:cubicBezTo>
                    <a:pt x="7" y="3"/>
                    <a:pt x="7" y="3"/>
                    <a:pt x="7" y="3"/>
                  </a:cubicBezTo>
                  <a:cubicBezTo>
                    <a:pt x="7" y="1"/>
                    <a:pt x="6" y="0"/>
                    <a:pt x="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8" name="Freeform 16"/>
            <p:cNvSpPr/>
            <p:nvPr/>
          </p:nvSpPr>
          <p:spPr>
            <a:xfrm>
              <a:off x="5834880" y="5046840"/>
              <a:ext cx="27360" cy="226440"/>
            </a:xfrm>
            <a:custGeom>
              <a:avLst/>
              <a:gdLst/>
              <a:ahLst/>
              <a:rect l="l" t="t" r="r" b="b"/>
              <a:pathLst>
                <a:path w="7" h="56">
                  <a:moveTo>
                    <a:pt x="3" y="0"/>
                  </a:moveTo>
                  <a:cubicBezTo>
                    <a:pt x="1" y="0"/>
                    <a:pt x="0" y="2"/>
                    <a:pt x="0" y="4"/>
                  </a:cubicBezTo>
                  <a:cubicBezTo>
                    <a:pt x="0" y="52"/>
                    <a:pt x="0" y="52"/>
                    <a:pt x="0" y="52"/>
                  </a:cubicBezTo>
                  <a:cubicBezTo>
                    <a:pt x="0" y="54"/>
                    <a:pt x="1" y="56"/>
                    <a:pt x="3" y="56"/>
                  </a:cubicBezTo>
                  <a:cubicBezTo>
                    <a:pt x="5" y="56"/>
                    <a:pt x="7" y="54"/>
                    <a:pt x="7" y="52"/>
                  </a:cubicBezTo>
                  <a:cubicBezTo>
                    <a:pt x="7" y="4"/>
                    <a:pt x="7" y="4"/>
                    <a:pt x="7" y="4"/>
                  </a:cubicBezTo>
                  <a:cubicBezTo>
                    <a:pt x="7" y="2"/>
                    <a:pt x="5" y="0"/>
                    <a:pt x="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9" name="Freeform 17"/>
            <p:cNvSpPr/>
            <p:nvPr/>
          </p:nvSpPr>
          <p:spPr>
            <a:xfrm>
              <a:off x="5591520" y="5019480"/>
              <a:ext cx="120240" cy="31320"/>
            </a:xfrm>
            <a:custGeom>
              <a:avLst/>
              <a:gdLst/>
              <a:ahLst/>
              <a:rect l="l" t="t" r="r" b="b"/>
              <a:pathLst>
                <a:path w="30" h="8">
                  <a:moveTo>
                    <a:pt x="27" y="0"/>
                  </a:moveTo>
                  <a:cubicBezTo>
                    <a:pt x="4" y="0"/>
                    <a:pt x="4" y="0"/>
                    <a:pt x="4" y="0"/>
                  </a:cubicBezTo>
                  <a:cubicBezTo>
                    <a:pt x="2" y="0"/>
                    <a:pt x="0" y="2"/>
                    <a:pt x="0" y="4"/>
                  </a:cubicBezTo>
                  <a:cubicBezTo>
                    <a:pt x="0" y="6"/>
                    <a:pt x="2" y="8"/>
                    <a:pt x="4" y="8"/>
                  </a:cubicBezTo>
                  <a:cubicBezTo>
                    <a:pt x="27" y="8"/>
                    <a:pt x="27" y="8"/>
                    <a:pt x="27" y="8"/>
                  </a:cubicBezTo>
                  <a:cubicBezTo>
                    <a:pt x="29" y="8"/>
                    <a:pt x="30" y="6"/>
                    <a:pt x="30" y="4"/>
                  </a:cubicBezTo>
                  <a:cubicBezTo>
                    <a:pt x="30" y="2"/>
                    <a:pt x="29" y="0"/>
                    <a:pt x="27" y="0"/>
                  </a:cubicBez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0" name="Freeform 18"/>
            <p:cNvSpPr/>
            <p:nvPr/>
          </p:nvSpPr>
          <p:spPr>
            <a:xfrm>
              <a:off x="5591520" y="5081040"/>
              <a:ext cx="120240" cy="27000"/>
            </a:xfrm>
            <a:custGeom>
              <a:avLst/>
              <a:gdLst/>
              <a:ahLst/>
              <a:rect l="l" t="t" r="r" b="b"/>
              <a:pathLst>
                <a:path w="30" h="7">
                  <a:moveTo>
                    <a:pt x="27" y="0"/>
                  </a:moveTo>
                  <a:cubicBezTo>
                    <a:pt x="4" y="0"/>
                    <a:pt x="4" y="0"/>
                    <a:pt x="4" y="0"/>
                  </a:cubicBezTo>
                  <a:cubicBezTo>
                    <a:pt x="2" y="0"/>
                    <a:pt x="0" y="2"/>
                    <a:pt x="0" y="4"/>
                  </a:cubicBezTo>
                  <a:cubicBezTo>
                    <a:pt x="0" y="6"/>
                    <a:pt x="2" y="7"/>
                    <a:pt x="4" y="7"/>
                  </a:cubicBezTo>
                  <a:cubicBezTo>
                    <a:pt x="27" y="7"/>
                    <a:pt x="27" y="7"/>
                    <a:pt x="27" y="7"/>
                  </a:cubicBezTo>
                  <a:cubicBezTo>
                    <a:pt x="29" y="7"/>
                    <a:pt x="30" y="6"/>
                    <a:pt x="30" y="4"/>
                  </a:cubicBezTo>
                  <a:cubicBezTo>
                    <a:pt x="30" y="2"/>
                    <a:pt x="29" y="0"/>
                    <a:pt x="27" y="0"/>
                  </a:cubicBezTo>
                  <a:close/>
                </a:path>
              </a:pathLst>
            </a:custGeom>
            <a:solidFill>
              <a:srgbClr val="fffff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1" name="Freeform 19"/>
            <p:cNvSpPr/>
            <p:nvPr/>
          </p:nvSpPr>
          <p:spPr>
            <a:xfrm>
              <a:off x="5591520" y="5140080"/>
              <a:ext cx="92880" cy="29520"/>
            </a:xfrm>
            <a:custGeom>
              <a:avLst/>
              <a:gdLst/>
              <a:ahLst/>
              <a:rect l="l" t="t" r="r" b="b"/>
              <a:pathLst>
                <a:path w="23" h="7">
                  <a:moveTo>
                    <a:pt x="19" y="0"/>
                  </a:moveTo>
                  <a:cubicBezTo>
                    <a:pt x="4" y="0"/>
                    <a:pt x="4" y="0"/>
                    <a:pt x="4" y="0"/>
                  </a:cubicBezTo>
                  <a:cubicBezTo>
                    <a:pt x="2" y="0"/>
                    <a:pt x="0" y="1"/>
                    <a:pt x="0" y="3"/>
                  </a:cubicBezTo>
                  <a:cubicBezTo>
                    <a:pt x="0" y="5"/>
                    <a:pt x="2" y="7"/>
                    <a:pt x="4" y="7"/>
                  </a:cubicBezTo>
                  <a:cubicBezTo>
                    <a:pt x="19" y="7"/>
                    <a:pt x="19" y="7"/>
                    <a:pt x="19" y="7"/>
                  </a:cubicBezTo>
                  <a:cubicBezTo>
                    <a:pt x="22" y="7"/>
                    <a:pt x="23" y="5"/>
                    <a:pt x="23" y="3"/>
                  </a:cubicBezTo>
                  <a:cubicBezTo>
                    <a:pt x="23" y="1"/>
                    <a:pt x="22" y="0"/>
                    <a:pt x="19" y="0"/>
                  </a:cubicBez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2" name="Freeform 20"/>
            <p:cNvSpPr/>
            <p:nvPr/>
          </p:nvSpPr>
          <p:spPr>
            <a:xfrm>
              <a:off x="5526000" y="4917960"/>
              <a:ext cx="256320" cy="355320"/>
            </a:xfrm>
            <a:custGeom>
              <a:avLst/>
              <a:gdLst/>
              <a:ahLst/>
              <a:rect l="l" t="t" r="r" b="b"/>
              <a:pathLst>
                <a:path w="63" h="88">
                  <a:moveTo>
                    <a:pt x="55" y="0"/>
                  </a:moveTo>
                  <a:cubicBezTo>
                    <a:pt x="9" y="0"/>
                    <a:pt x="9" y="0"/>
                    <a:pt x="9" y="0"/>
                  </a:cubicBezTo>
                  <a:cubicBezTo>
                    <a:pt x="4" y="0"/>
                    <a:pt x="0" y="3"/>
                    <a:pt x="0" y="8"/>
                  </a:cubicBezTo>
                  <a:cubicBezTo>
                    <a:pt x="0" y="79"/>
                    <a:pt x="0" y="79"/>
                    <a:pt x="0" y="79"/>
                  </a:cubicBezTo>
                  <a:cubicBezTo>
                    <a:pt x="0" y="84"/>
                    <a:pt x="4" y="88"/>
                    <a:pt x="9" y="88"/>
                  </a:cubicBezTo>
                  <a:cubicBezTo>
                    <a:pt x="55" y="88"/>
                    <a:pt x="55" y="88"/>
                    <a:pt x="55" y="88"/>
                  </a:cubicBezTo>
                  <a:cubicBezTo>
                    <a:pt x="59" y="88"/>
                    <a:pt x="63" y="84"/>
                    <a:pt x="63" y="79"/>
                  </a:cubicBezTo>
                  <a:cubicBezTo>
                    <a:pt x="63" y="8"/>
                    <a:pt x="63" y="8"/>
                    <a:pt x="63" y="8"/>
                  </a:cubicBezTo>
                  <a:cubicBezTo>
                    <a:pt x="63" y="3"/>
                    <a:pt x="59" y="0"/>
                    <a:pt x="55" y="0"/>
                  </a:cubicBezTo>
                  <a:close/>
                  <a:moveTo>
                    <a:pt x="55" y="79"/>
                  </a:moveTo>
                  <a:cubicBezTo>
                    <a:pt x="55" y="80"/>
                    <a:pt x="55" y="80"/>
                    <a:pt x="55" y="80"/>
                  </a:cubicBezTo>
                  <a:cubicBezTo>
                    <a:pt x="9" y="80"/>
                    <a:pt x="9" y="80"/>
                    <a:pt x="9" y="80"/>
                  </a:cubicBezTo>
                  <a:cubicBezTo>
                    <a:pt x="8" y="80"/>
                    <a:pt x="8" y="80"/>
                    <a:pt x="8" y="79"/>
                  </a:cubicBezTo>
                  <a:cubicBezTo>
                    <a:pt x="8" y="8"/>
                    <a:pt x="8" y="8"/>
                    <a:pt x="8" y="8"/>
                  </a:cubicBezTo>
                  <a:cubicBezTo>
                    <a:pt x="8" y="8"/>
                    <a:pt x="8" y="7"/>
                    <a:pt x="9" y="7"/>
                  </a:cubicBezTo>
                  <a:cubicBezTo>
                    <a:pt x="55" y="7"/>
                    <a:pt x="55" y="7"/>
                    <a:pt x="55" y="7"/>
                  </a:cubicBezTo>
                  <a:cubicBezTo>
                    <a:pt x="55" y="7"/>
                    <a:pt x="55" y="8"/>
                    <a:pt x="55" y="8"/>
                  </a:cubicBezTo>
                  <a:lnTo>
                    <a:pt x="55" y="7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3" name="Group 21"/>
          <p:cNvGrpSpPr/>
          <p:nvPr/>
        </p:nvGrpSpPr>
        <p:grpSpPr>
          <a:xfrm>
            <a:off x="3944880" y="3795840"/>
            <a:ext cx="355320" cy="354960"/>
            <a:chOff x="3944880" y="3795840"/>
            <a:chExt cx="355320" cy="354960"/>
          </a:xfrm>
        </p:grpSpPr>
        <p:sp>
          <p:nvSpPr>
            <p:cNvPr id="1904" name="Freeform 22"/>
            <p:cNvSpPr/>
            <p:nvPr/>
          </p:nvSpPr>
          <p:spPr>
            <a:xfrm>
              <a:off x="3944880" y="3795840"/>
              <a:ext cx="355320" cy="354960"/>
            </a:xfrm>
            <a:custGeom>
              <a:avLst/>
              <a:gdLst/>
              <a:ahLst/>
              <a:rect l="l" t="t" r="r" b="b"/>
              <a:pathLst>
                <a:path w="88" h="88">
                  <a:moveTo>
                    <a:pt x="44" y="0"/>
                  </a:moveTo>
                  <a:cubicBezTo>
                    <a:pt x="20" y="0"/>
                    <a:pt x="0" y="20"/>
                    <a:pt x="0" y="44"/>
                  </a:cubicBezTo>
                  <a:cubicBezTo>
                    <a:pt x="0" y="68"/>
                    <a:pt x="20" y="88"/>
                    <a:pt x="44" y="88"/>
                  </a:cubicBezTo>
                  <a:cubicBezTo>
                    <a:pt x="68" y="88"/>
                    <a:pt x="88" y="68"/>
                    <a:pt x="88" y="44"/>
                  </a:cubicBezTo>
                  <a:cubicBezTo>
                    <a:pt x="88" y="20"/>
                    <a:pt x="68" y="0"/>
                    <a:pt x="44" y="0"/>
                  </a:cubicBezTo>
                  <a:close/>
                  <a:moveTo>
                    <a:pt x="44" y="80"/>
                  </a:moveTo>
                  <a:cubicBezTo>
                    <a:pt x="24" y="80"/>
                    <a:pt x="8" y="64"/>
                    <a:pt x="8" y="44"/>
                  </a:cubicBezTo>
                  <a:cubicBezTo>
                    <a:pt x="8" y="24"/>
                    <a:pt x="24" y="7"/>
                    <a:pt x="44" y="7"/>
                  </a:cubicBezTo>
                  <a:cubicBezTo>
                    <a:pt x="64" y="7"/>
                    <a:pt x="80" y="24"/>
                    <a:pt x="80" y="44"/>
                  </a:cubicBezTo>
                  <a:cubicBezTo>
                    <a:pt x="80" y="64"/>
                    <a:pt x="64" y="80"/>
                    <a:pt x="44" y="8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5" name="Freeform 23"/>
            <p:cNvSpPr/>
            <p:nvPr/>
          </p:nvSpPr>
          <p:spPr>
            <a:xfrm>
              <a:off x="4054680" y="3913920"/>
              <a:ext cx="164880" cy="133200"/>
            </a:xfrm>
            <a:custGeom>
              <a:avLst/>
              <a:gdLst/>
              <a:ahLst/>
              <a:rect l="l" t="t" r="r" b="b"/>
              <a:pathLst>
                <a:path w="41" h="33">
                  <a:moveTo>
                    <a:pt x="39" y="1"/>
                  </a:moveTo>
                  <a:cubicBezTo>
                    <a:pt x="38" y="0"/>
                    <a:pt x="35" y="0"/>
                    <a:pt x="34" y="2"/>
                  </a:cubicBezTo>
                  <a:cubicBezTo>
                    <a:pt x="17" y="23"/>
                    <a:pt x="17" y="23"/>
                    <a:pt x="17" y="23"/>
                  </a:cubicBezTo>
                  <a:cubicBezTo>
                    <a:pt x="6" y="12"/>
                    <a:pt x="6" y="12"/>
                    <a:pt x="6" y="12"/>
                  </a:cubicBezTo>
                  <a:cubicBezTo>
                    <a:pt x="5" y="11"/>
                    <a:pt x="3" y="11"/>
                    <a:pt x="1" y="12"/>
                  </a:cubicBezTo>
                  <a:cubicBezTo>
                    <a:pt x="0" y="14"/>
                    <a:pt x="0" y="16"/>
                    <a:pt x="1" y="17"/>
                  </a:cubicBezTo>
                  <a:cubicBezTo>
                    <a:pt x="14" y="32"/>
                    <a:pt x="14" y="32"/>
                    <a:pt x="14" y="32"/>
                  </a:cubicBezTo>
                  <a:cubicBezTo>
                    <a:pt x="15" y="32"/>
                    <a:pt x="16" y="33"/>
                    <a:pt x="17" y="33"/>
                  </a:cubicBezTo>
                  <a:cubicBezTo>
                    <a:pt x="17" y="33"/>
                    <a:pt x="17" y="33"/>
                    <a:pt x="17" y="33"/>
                  </a:cubicBezTo>
                  <a:cubicBezTo>
                    <a:pt x="18" y="33"/>
                    <a:pt x="19" y="32"/>
                    <a:pt x="20" y="31"/>
                  </a:cubicBezTo>
                  <a:cubicBezTo>
                    <a:pt x="40" y="6"/>
                    <a:pt x="40" y="6"/>
                    <a:pt x="40" y="6"/>
                  </a:cubicBezTo>
                  <a:cubicBezTo>
                    <a:pt x="41" y="5"/>
                    <a:pt x="41" y="2"/>
                    <a:pt x="3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6" name="Group 24"/>
          <p:cNvGrpSpPr/>
          <p:nvPr/>
        </p:nvGrpSpPr>
        <p:grpSpPr>
          <a:xfrm>
            <a:off x="4740120" y="5738760"/>
            <a:ext cx="276120" cy="355320"/>
            <a:chOff x="4740120" y="5738760"/>
            <a:chExt cx="276120" cy="355320"/>
          </a:xfrm>
        </p:grpSpPr>
        <p:sp>
          <p:nvSpPr>
            <p:cNvPr id="1907" name="Freeform 25"/>
            <p:cNvSpPr/>
            <p:nvPr/>
          </p:nvSpPr>
          <p:spPr>
            <a:xfrm>
              <a:off x="4740120" y="5738760"/>
              <a:ext cx="276120" cy="355320"/>
            </a:xfrm>
            <a:custGeom>
              <a:avLst/>
              <a:gdLst/>
              <a:ahLst/>
              <a:rect l="l" t="t" r="r" b="b"/>
              <a:pathLst>
                <a:path w="68" h="88">
                  <a:moveTo>
                    <a:pt x="15" y="81"/>
                  </a:moveTo>
                  <a:cubicBezTo>
                    <a:pt x="8" y="81"/>
                    <a:pt x="8" y="81"/>
                    <a:pt x="8" y="81"/>
                  </a:cubicBezTo>
                  <a:cubicBezTo>
                    <a:pt x="8" y="8"/>
                    <a:pt x="8" y="8"/>
                    <a:pt x="8" y="8"/>
                  </a:cubicBezTo>
                  <a:cubicBezTo>
                    <a:pt x="65" y="8"/>
                    <a:pt x="65" y="8"/>
                    <a:pt x="65" y="8"/>
                  </a:cubicBezTo>
                  <a:cubicBezTo>
                    <a:pt x="67" y="8"/>
                    <a:pt x="68" y="6"/>
                    <a:pt x="68" y="4"/>
                  </a:cubicBezTo>
                  <a:cubicBezTo>
                    <a:pt x="68" y="2"/>
                    <a:pt x="67" y="0"/>
                    <a:pt x="65" y="0"/>
                  </a:cubicBezTo>
                  <a:cubicBezTo>
                    <a:pt x="4" y="0"/>
                    <a:pt x="4" y="0"/>
                    <a:pt x="4" y="0"/>
                  </a:cubicBezTo>
                  <a:cubicBezTo>
                    <a:pt x="2" y="0"/>
                    <a:pt x="0" y="2"/>
                    <a:pt x="0" y="4"/>
                  </a:cubicBezTo>
                  <a:cubicBezTo>
                    <a:pt x="0" y="84"/>
                    <a:pt x="0" y="84"/>
                    <a:pt x="0" y="84"/>
                  </a:cubicBezTo>
                  <a:cubicBezTo>
                    <a:pt x="0" y="87"/>
                    <a:pt x="2" y="88"/>
                    <a:pt x="4" y="88"/>
                  </a:cubicBezTo>
                  <a:cubicBezTo>
                    <a:pt x="15" y="88"/>
                    <a:pt x="15" y="88"/>
                    <a:pt x="15" y="88"/>
                  </a:cubicBezTo>
                  <a:cubicBezTo>
                    <a:pt x="17" y="88"/>
                    <a:pt x="19" y="87"/>
                    <a:pt x="19" y="84"/>
                  </a:cubicBezTo>
                  <a:cubicBezTo>
                    <a:pt x="19" y="82"/>
                    <a:pt x="17" y="81"/>
                    <a:pt x="1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8" name="Freeform 26"/>
            <p:cNvSpPr/>
            <p:nvPr/>
          </p:nvSpPr>
          <p:spPr>
            <a:xfrm>
              <a:off x="4916520" y="5948280"/>
              <a:ext cx="99720" cy="145800"/>
            </a:xfrm>
            <a:custGeom>
              <a:avLst/>
              <a:gdLst/>
              <a:ahLst/>
              <a:rect l="l" t="t" r="r" b="b"/>
              <a:pathLst>
                <a:path w="25" h="36">
                  <a:moveTo>
                    <a:pt x="22" y="0"/>
                  </a:moveTo>
                  <a:cubicBezTo>
                    <a:pt x="20" y="0"/>
                    <a:pt x="18" y="1"/>
                    <a:pt x="18" y="4"/>
                  </a:cubicBezTo>
                  <a:cubicBezTo>
                    <a:pt x="18" y="29"/>
                    <a:pt x="18" y="29"/>
                    <a:pt x="18" y="29"/>
                  </a:cubicBezTo>
                  <a:cubicBezTo>
                    <a:pt x="4" y="29"/>
                    <a:pt x="4" y="29"/>
                    <a:pt x="4" y="29"/>
                  </a:cubicBezTo>
                  <a:cubicBezTo>
                    <a:pt x="2" y="29"/>
                    <a:pt x="0" y="30"/>
                    <a:pt x="0" y="32"/>
                  </a:cubicBezTo>
                  <a:cubicBezTo>
                    <a:pt x="0" y="35"/>
                    <a:pt x="2" y="36"/>
                    <a:pt x="4" y="36"/>
                  </a:cubicBezTo>
                  <a:cubicBezTo>
                    <a:pt x="22" y="36"/>
                    <a:pt x="22" y="36"/>
                    <a:pt x="22" y="36"/>
                  </a:cubicBezTo>
                  <a:cubicBezTo>
                    <a:pt x="23" y="36"/>
                    <a:pt x="24" y="36"/>
                    <a:pt x="24" y="35"/>
                  </a:cubicBezTo>
                  <a:cubicBezTo>
                    <a:pt x="25" y="34"/>
                    <a:pt x="25" y="33"/>
                    <a:pt x="25" y="32"/>
                  </a:cubicBezTo>
                  <a:cubicBezTo>
                    <a:pt x="25" y="4"/>
                    <a:pt x="25" y="4"/>
                    <a:pt x="25" y="4"/>
                  </a:cubicBezTo>
                  <a:cubicBezTo>
                    <a:pt x="25" y="1"/>
                    <a:pt x="24" y="0"/>
                    <a:pt x="2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9" name="Freeform 27"/>
            <p:cNvSpPr/>
            <p:nvPr/>
          </p:nvSpPr>
          <p:spPr>
            <a:xfrm>
              <a:off x="4842360" y="5814720"/>
              <a:ext cx="169560" cy="251640"/>
            </a:xfrm>
            <a:custGeom>
              <a:avLst/>
              <a:gdLst/>
              <a:ahLst/>
              <a:rect l="l" t="t" r="r" b="b"/>
              <a:pathLst>
                <a:path w="42" h="62">
                  <a:moveTo>
                    <a:pt x="37" y="1"/>
                  </a:moveTo>
                  <a:cubicBezTo>
                    <a:pt x="35" y="0"/>
                    <a:pt x="34" y="0"/>
                    <a:pt x="32" y="0"/>
                  </a:cubicBezTo>
                  <a:cubicBezTo>
                    <a:pt x="29" y="0"/>
                    <a:pt x="26" y="1"/>
                    <a:pt x="24" y="4"/>
                  </a:cubicBezTo>
                  <a:cubicBezTo>
                    <a:pt x="0" y="46"/>
                    <a:pt x="0" y="46"/>
                    <a:pt x="0" y="46"/>
                  </a:cubicBezTo>
                  <a:cubicBezTo>
                    <a:pt x="0" y="47"/>
                    <a:pt x="0" y="48"/>
                    <a:pt x="0" y="48"/>
                  </a:cubicBezTo>
                  <a:cubicBezTo>
                    <a:pt x="0" y="58"/>
                    <a:pt x="0" y="58"/>
                    <a:pt x="0" y="58"/>
                  </a:cubicBezTo>
                  <a:cubicBezTo>
                    <a:pt x="0" y="59"/>
                    <a:pt x="1" y="60"/>
                    <a:pt x="2" y="61"/>
                  </a:cubicBezTo>
                  <a:cubicBezTo>
                    <a:pt x="2" y="61"/>
                    <a:pt x="3" y="62"/>
                    <a:pt x="4" y="62"/>
                  </a:cubicBezTo>
                  <a:cubicBezTo>
                    <a:pt x="4" y="62"/>
                    <a:pt x="5" y="61"/>
                    <a:pt x="5" y="61"/>
                  </a:cubicBezTo>
                  <a:cubicBezTo>
                    <a:pt x="14" y="57"/>
                    <a:pt x="14" y="57"/>
                    <a:pt x="14" y="57"/>
                  </a:cubicBezTo>
                  <a:cubicBezTo>
                    <a:pt x="15" y="56"/>
                    <a:pt x="15" y="56"/>
                    <a:pt x="15" y="55"/>
                  </a:cubicBezTo>
                  <a:cubicBezTo>
                    <a:pt x="40" y="13"/>
                    <a:pt x="40" y="13"/>
                    <a:pt x="40" y="13"/>
                  </a:cubicBezTo>
                  <a:cubicBezTo>
                    <a:pt x="42" y="9"/>
                    <a:pt x="41" y="3"/>
                    <a:pt x="37" y="1"/>
                  </a:cubicBezTo>
                  <a:close/>
                  <a:moveTo>
                    <a:pt x="33" y="9"/>
                  </a:moveTo>
                  <a:cubicBezTo>
                    <a:pt x="9" y="50"/>
                    <a:pt x="9" y="50"/>
                    <a:pt x="9" y="50"/>
                  </a:cubicBezTo>
                  <a:cubicBezTo>
                    <a:pt x="7" y="52"/>
                    <a:pt x="7" y="52"/>
                    <a:pt x="7" y="52"/>
                  </a:cubicBezTo>
                  <a:cubicBezTo>
                    <a:pt x="7" y="49"/>
                    <a:pt x="7" y="49"/>
                    <a:pt x="7" y="49"/>
                  </a:cubicBezTo>
                  <a:cubicBezTo>
                    <a:pt x="31" y="8"/>
                    <a:pt x="31" y="8"/>
                    <a:pt x="31" y="8"/>
                  </a:cubicBezTo>
                  <a:cubicBezTo>
                    <a:pt x="31" y="7"/>
                    <a:pt x="32" y="7"/>
                    <a:pt x="33" y="7"/>
                  </a:cubicBezTo>
                  <a:cubicBezTo>
                    <a:pt x="33" y="8"/>
                    <a:pt x="34" y="9"/>
                    <a:pt x="33"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0" name="Freeform 28"/>
            <p:cNvSpPr/>
            <p:nvPr/>
          </p:nvSpPr>
          <p:spPr>
            <a:xfrm>
              <a:off x="4793040" y="5840280"/>
              <a:ext cx="106560" cy="31320"/>
            </a:xfrm>
            <a:custGeom>
              <a:avLst/>
              <a:gdLst/>
              <a:ahLst/>
              <a:rect l="l" t="t" r="r" b="b"/>
              <a:pathLst>
                <a:path w="26" h="8">
                  <a:moveTo>
                    <a:pt x="26" y="4"/>
                  </a:moveTo>
                  <a:cubicBezTo>
                    <a:pt x="26" y="2"/>
                    <a:pt x="25" y="0"/>
                    <a:pt x="23" y="0"/>
                  </a:cubicBezTo>
                  <a:cubicBezTo>
                    <a:pt x="4" y="0"/>
                    <a:pt x="4" y="0"/>
                    <a:pt x="4" y="0"/>
                  </a:cubicBezTo>
                  <a:cubicBezTo>
                    <a:pt x="2" y="0"/>
                    <a:pt x="0" y="2"/>
                    <a:pt x="0" y="4"/>
                  </a:cubicBezTo>
                  <a:cubicBezTo>
                    <a:pt x="0" y="6"/>
                    <a:pt x="2" y="8"/>
                    <a:pt x="4" y="8"/>
                  </a:cubicBezTo>
                  <a:cubicBezTo>
                    <a:pt x="23" y="8"/>
                    <a:pt x="23" y="8"/>
                    <a:pt x="23" y="8"/>
                  </a:cubicBezTo>
                  <a:cubicBezTo>
                    <a:pt x="25" y="8"/>
                    <a:pt x="26" y="6"/>
                    <a:pt x="26" y="4"/>
                  </a:cubicBez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1" name="Freeform 29"/>
            <p:cNvSpPr/>
            <p:nvPr/>
          </p:nvSpPr>
          <p:spPr>
            <a:xfrm>
              <a:off x="4793040" y="5899320"/>
              <a:ext cx="70200" cy="31320"/>
            </a:xfrm>
            <a:custGeom>
              <a:avLst/>
              <a:gdLst/>
              <a:ahLst/>
              <a:rect l="l" t="t" r="r" b="b"/>
              <a:pathLst>
                <a:path w="17" h="8">
                  <a:moveTo>
                    <a:pt x="4" y="0"/>
                  </a:moveTo>
                  <a:cubicBezTo>
                    <a:pt x="2" y="0"/>
                    <a:pt x="0" y="2"/>
                    <a:pt x="0" y="4"/>
                  </a:cubicBezTo>
                  <a:cubicBezTo>
                    <a:pt x="0" y="6"/>
                    <a:pt x="2" y="8"/>
                    <a:pt x="4" y="8"/>
                  </a:cubicBezTo>
                  <a:cubicBezTo>
                    <a:pt x="13" y="8"/>
                    <a:pt x="13" y="8"/>
                    <a:pt x="13" y="8"/>
                  </a:cubicBezTo>
                  <a:cubicBezTo>
                    <a:pt x="15" y="8"/>
                    <a:pt x="17" y="6"/>
                    <a:pt x="17" y="4"/>
                  </a:cubicBezTo>
                  <a:cubicBezTo>
                    <a:pt x="17" y="2"/>
                    <a:pt x="15" y="0"/>
                    <a:pt x="13" y="0"/>
                  </a:cubicBezTo>
                  <a:lnTo>
                    <a:pt x="4" y="0"/>
                  </a:ln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2" name="Group 30"/>
          <p:cNvGrpSpPr/>
          <p:nvPr/>
        </p:nvGrpSpPr>
        <p:grpSpPr>
          <a:xfrm>
            <a:off x="6850080" y="3841920"/>
            <a:ext cx="573840" cy="474120"/>
            <a:chOff x="6850080" y="3841920"/>
            <a:chExt cx="573840" cy="474120"/>
          </a:xfrm>
        </p:grpSpPr>
        <p:sp>
          <p:nvSpPr>
            <p:cNvPr id="1913" name="Freeform 31"/>
            <p:cNvSpPr/>
            <p:nvPr/>
          </p:nvSpPr>
          <p:spPr>
            <a:xfrm>
              <a:off x="6850080" y="3841920"/>
              <a:ext cx="573840" cy="474120"/>
            </a:xfrm>
            <a:custGeom>
              <a:avLst/>
              <a:gdLst/>
              <a:ahLst/>
              <a:rect l="l" t="t" r="r" b="b"/>
              <a:pathLst>
                <a:path w="87" h="88">
                  <a:moveTo>
                    <a:pt x="87" y="37"/>
                  </a:moveTo>
                  <a:cubicBezTo>
                    <a:pt x="87" y="36"/>
                    <a:pt x="86" y="35"/>
                    <a:pt x="84" y="34"/>
                  </a:cubicBezTo>
                  <a:cubicBezTo>
                    <a:pt x="77" y="32"/>
                    <a:pt x="77" y="32"/>
                    <a:pt x="77" y="32"/>
                  </a:cubicBezTo>
                  <a:cubicBezTo>
                    <a:pt x="77" y="31"/>
                    <a:pt x="77" y="29"/>
                    <a:pt x="76" y="28"/>
                  </a:cubicBezTo>
                  <a:cubicBezTo>
                    <a:pt x="79" y="22"/>
                    <a:pt x="79" y="22"/>
                    <a:pt x="79" y="22"/>
                  </a:cubicBezTo>
                  <a:cubicBezTo>
                    <a:pt x="80" y="20"/>
                    <a:pt x="80" y="19"/>
                    <a:pt x="79" y="18"/>
                  </a:cubicBezTo>
                  <a:cubicBezTo>
                    <a:pt x="76" y="14"/>
                    <a:pt x="73" y="11"/>
                    <a:pt x="69" y="8"/>
                  </a:cubicBezTo>
                  <a:cubicBezTo>
                    <a:pt x="68" y="8"/>
                    <a:pt x="67" y="7"/>
                    <a:pt x="66" y="8"/>
                  </a:cubicBezTo>
                  <a:cubicBezTo>
                    <a:pt x="59" y="11"/>
                    <a:pt x="59" y="11"/>
                    <a:pt x="59" y="11"/>
                  </a:cubicBezTo>
                  <a:cubicBezTo>
                    <a:pt x="58" y="11"/>
                    <a:pt x="57" y="10"/>
                    <a:pt x="56" y="10"/>
                  </a:cubicBezTo>
                  <a:cubicBezTo>
                    <a:pt x="53" y="3"/>
                    <a:pt x="53" y="3"/>
                    <a:pt x="53" y="3"/>
                  </a:cubicBezTo>
                  <a:cubicBezTo>
                    <a:pt x="53" y="2"/>
                    <a:pt x="52" y="1"/>
                    <a:pt x="50" y="0"/>
                  </a:cubicBezTo>
                  <a:cubicBezTo>
                    <a:pt x="45" y="0"/>
                    <a:pt x="42" y="0"/>
                    <a:pt x="37" y="0"/>
                  </a:cubicBezTo>
                  <a:cubicBezTo>
                    <a:pt x="35" y="1"/>
                    <a:pt x="34" y="2"/>
                    <a:pt x="34" y="3"/>
                  </a:cubicBezTo>
                  <a:cubicBezTo>
                    <a:pt x="31" y="10"/>
                    <a:pt x="31" y="10"/>
                    <a:pt x="31" y="10"/>
                  </a:cubicBezTo>
                  <a:cubicBezTo>
                    <a:pt x="30" y="10"/>
                    <a:pt x="29" y="11"/>
                    <a:pt x="28" y="11"/>
                  </a:cubicBezTo>
                  <a:cubicBezTo>
                    <a:pt x="21" y="8"/>
                    <a:pt x="21" y="8"/>
                    <a:pt x="21" y="8"/>
                  </a:cubicBezTo>
                  <a:cubicBezTo>
                    <a:pt x="20" y="7"/>
                    <a:pt x="19" y="8"/>
                    <a:pt x="18" y="8"/>
                  </a:cubicBezTo>
                  <a:cubicBezTo>
                    <a:pt x="14" y="11"/>
                    <a:pt x="11" y="14"/>
                    <a:pt x="8" y="18"/>
                  </a:cubicBezTo>
                  <a:cubicBezTo>
                    <a:pt x="7" y="19"/>
                    <a:pt x="7" y="20"/>
                    <a:pt x="8" y="22"/>
                  </a:cubicBezTo>
                  <a:cubicBezTo>
                    <a:pt x="11" y="28"/>
                    <a:pt x="11" y="28"/>
                    <a:pt x="11" y="28"/>
                  </a:cubicBezTo>
                  <a:cubicBezTo>
                    <a:pt x="10" y="29"/>
                    <a:pt x="10" y="31"/>
                    <a:pt x="9" y="32"/>
                  </a:cubicBezTo>
                  <a:cubicBezTo>
                    <a:pt x="3" y="34"/>
                    <a:pt x="3" y="34"/>
                    <a:pt x="3" y="34"/>
                  </a:cubicBezTo>
                  <a:cubicBezTo>
                    <a:pt x="1" y="35"/>
                    <a:pt x="0" y="36"/>
                    <a:pt x="0" y="37"/>
                  </a:cubicBezTo>
                  <a:cubicBezTo>
                    <a:pt x="0" y="40"/>
                    <a:pt x="0" y="42"/>
                    <a:pt x="0" y="44"/>
                  </a:cubicBezTo>
                  <a:cubicBezTo>
                    <a:pt x="0" y="46"/>
                    <a:pt x="0" y="48"/>
                    <a:pt x="0" y="50"/>
                  </a:cubicBezTo>
                  <a:cubicBezTo>
                    <a:pt x="0" y="52"/>
                    <a:pt x="1" y="53"/>
                    <a:pt x="3" y="53"/>
                  </a:cubicBezTo>
                  <a:cubicBezTo>
                    <a:pt x="9" y="56"/>
                    <a:pt x="9" y="56"/>
                    <a:pt x="9" y="56"/>
                  </a:cubicBezTo>
                  <a:cubicBezTo>
                    <a:pt x="10" y="57"/>
                    <a:pt x="10" y="58"/>
                    <a:pt x="11" y="59"/>
                  </a:cubicBezTo>
                  <a:cubicBezTo>
                    <a:pt x="8" y="66"/>
                    <a:pt x="8" y="66"/>
                    <a:pt x="8" y="66"/>
                  </a:cubicBezTo>
                  <a:cubicBezTo>
                    <a:pt x="7" y="67"/>
                    <a:pt x="7" y="69"/>
                    <a:pt x="8" y="70"/>
                  </a:cubicBezTo>
                  <a:cubicBezTo>
                    <a:pt x="11" y="73"/>
                    <a:pt x="14" y="77"/>
                    <a:pt x="18" y="79"/>
                  </a:cubicBezTo>
                  <a:cubicBezTo>
                    <a:pt x="19" y="80"/>
                    <a:pt x="20" y="80"/>
                    <a:pt x="21" y="80"/>
                  </a:cubicBezTo>
                  <a:cubicBezTo>
                    <a:pt x="28" y="76"/>
                    <a:pt x="28" y="76"/>
                    <a:pt x="28" y="76"/>
                  </a:cubicBezTo>
                  <a:cubicBezTo>
                    <a:pt x="29" y="77"/>
                    <a:pt x="30" y="77"/>
                    <a:pt x="31" y="78"/>
                  </a:cubicBezTo>
                  <a:cubicBezTo>
                    <a:pt x="34" y="85"/>
                    <a:pt x="34" y="85"/>
                    <a:pt x="34" y="85"/>
                  </a:cubicBezTo>
                  <a:cubicBezTo>
                    <a:pt x="34" y="86"/>
                    <a:pt x="35" y="87"/>
                    <a:pt x="37" y="87"/>
                  </a:cubicBezTo>
                  <a:cubicBezTo>
                    <a:pt x="39" y="88"/>
                    <a:pt x="41" y="88"/>
                    <a:pt x="43" y="88"/>
                  </a:cubicBezTo>
                  <a:cubicBezTo>
                    <a:pt x="46" y="88"/>
                    <a:pt x="48" y="88"/>
                    <a:pt x="50" y="87"/>
                  </a:cubicBezTo>
                  <a:cubicBezTo>
                    <a:pt x="52" y="87"/>
                    <a:pt x="53" y="86"/>
                    <a:pt x="53" y="85"/>
                  </a:cubicBezTo>
                  <a:cubicBezTo>
                    <a:pt x="56" y="78"/>
                    <a:pt x="56" y="78"/>
                    <a:pt x="56" y="78"/>
                  </a:cubicBezTo>
                  <a:cubicBezTo>
                    <a:pt x="57" y="77"/>
                    <a:pt x="58" y="77"/>
                    <a:pt x="59" y="76"/>
                  </a:cubicBezTo>
                  <a:cubicBezTo>
                    <a:pt x="66" y="80"/>
                    <a:pt x="66" y="80"/>
                    <a:pt x="66" y="80"/>
                  </a:cubicBezTo>
                  <a:cubicBezTo>
                    <a:pt x="67" y="80"/>
                    <a:pt x="68" y="80"/>
                    <a:pt x="69" y="79"/>
                  </a:cubicBezTo>
                  <a:cubicBezTo>
                    <a:pt x="73" y="77"/>
                    <a:pt x="76" y="73"/>
                    <a:pt x="79" y="70"/>
                  </a:cubicBezTo>
                  <a:cubicBezTo>
                    <a:pt x="80" y="69"/>
                    <a:pt x="80" y="67"/>
                    <a:pt x="79" y="66"/>
                  </a:cubicBezTo>
                  <a:cubicBezTo>
                    <a:pt x="76" y="59"/>
                    <a:pt x="76" y="59"/>
                    <a:pt x="76" y="59"/>
                  </a:cubicBezTo>
                  <a:cubicBezTo>
                    <a:pt x="77" y="58"/>
                    <a:pt x="77" y="57"/>
                    <a:pt x="77" y="56"/>
                  </a:cubicBezTo>
                  <a:cubicBezTo>
                    <a:pt x="84" y="53"/>
                    <a:pt x="84" y="53"/>
                    <a:pt x="84" y="53"/>
                  </a:cubicBezTo>
                  <a:cubicBezTo>
                    <a:pt x="86" y="53"/>
                    <a:pt x="87" y="52"/>
                    <a:pt x="87" y="50"/>
                  </a:cubicBezTo>
                  <a:cubicBezTo>
                    <a:pt x="87" y="48"/>
                    <a:pt x="87" y="46"/>
                    <a:pt x="87" y="44"/>
                  </a:cubicBezTo>
                  <a:cubicBezTo>
                    <a:pt x="87" y="42"/>
                    <a:pt x="87" y="40"/>
                    <a:pt x="87" y="37"/>
                  </a:cubicBezTo>
                  <a:close/>
                  <a:moveTo>
                    <a:pt x="80" y="47"/>
                  </a:moveTo>
                  <a:cubicBezTo>
                    <a:pt x="73" y="49"/>
                    <a:pt x="73" y="49"/>
                    <a:pt x="73" y="49"/>
                  </a:cubicBezTo>
                  <a:cubicBezTo>
                    <a:pt x="72" y="50"/>
                    <a:pt x="71" y="51"/>
                    <a:pt x="71" y="52"/>
                  </a:cubicBezTo>
                  <a:cubicBezTo>
                    <a:pt x="70" y="54"/>
                    <a:pt x="70" y="56"/>
                    <a:pt x="69" y="57"/>
                  </a:cubicBezTo>
                  <a:cubicBezTo>
                    <a:pt x="68" y="58"/>
                    <a:pt x="68" y="60"/>
                    <a:pt x="68" y="61"/>
                  </a:cubicBezTo>
                  <a:cubicBezTo>
                    <a:pt x="71" y="67"/>
                    <a:pt x="71" y="67"/>
                    <a:pt x="71" y="67"/>
                  </a:cubicBezTo>
                  <a:cubicBezTo>
                    <a:pt x="70" y="69"/>
                    <a:pt x="68" y="70"/>
                    <a:pt x="67" y="72"/>
                  </a:cubicBezTo>
                  <a:cubicBezTo>
                    <a:pt x="61" y="69"/>
                    <a:pt x="61" y="69"/>
                    <a:pt x="61" y="69"/>
                  </a:cubicBezTo>
                  <a:cubicBezTo>
                    <a:pt x="59" y="68"/>
                    <a:pt x="58" y="68"/>
                    <a:pt x="57" y="69"/>
                  </a:cubicBezTo>
                  <a:cubicBezTo>
                    <a:pt x="55" y="70"/>
                    <a:pt x="54" y="71"/>
                    <a:pt x="52" y="71"/>
                  </a:cubicBezTo>
                  <a:cubicBezTo>
                    <a:pt x="50" y="71"/>
                    <a:pt x="50" y="72"/>
                    <a:pt x="49" y="74"/>
                  </a:cubicBezTo>
                  <a:cubicBezTo>
                    <a:pt x="47" y="80"/>
                    <a:pt x="47" y="80"/>
                    <a:pt x="47" y="80"/>
                  </a:cubicBezTo>
                  <a:cubicBezTo>
                    <a:pt x="44" y="80"/>
                    <a:pt x="43" y="80"/>
                    <a:pt x="40" y="80"/>
                  </a:cubicBezTo>
                  <a:cubicBezTo>
                    <a:pt x="38" y="74"/>
                    <a:pt x="38" y="74"/>
                    <a:pt x="38" y="74"/>
                  </a:cubicBezTo>
                  <a:cubicBezTo>
                    <a:pt x="37" y="72"/>
                    <a:pt x="37" y="71"/>
                    <a:pt x="35" y="71"/>
                  </a:cubicBezTo>
                  <a:cubicBezTo>
                    <a:pt x="33" y="71"/>
                    <a:pt x="32" y="70"/>
                    <a:pt x="30" y="69"/>
                  </a:cubicBezTo>
                  <a:cubicBezTo>
                    <a:pt x="29" y="68"/>
                    <a:pt x="28" y="68"/>
                    <a:pt x="26" y="69"/>
                  </a:cubicBezTo>
                  <a:cubicBezTo>
                    <a:pt x="20" y="72"/>
                    <a:pt x="20" y="72"/>
                    <a:pt x="20" y="72"/>
                  </a:cubicBezTo>
                  <a:cubicBezTo>
                    <a:pt x="19" y="70"/>
                    <a:pt x="17" y="69"/>
                    <a:pt x="16" y="67"/>
                  </a:cubicBezTo>
                  <a:cubicBezTo>
                    <a:pt x="18" y="61"/>
                    <a:pt x="18" y="61"/>
                    <a:pt x="18" y="61"/>
                  </a:cubicBezTo>
                  <a:cubicBezTo>
                    <a:pt x="19" y="60"/>
                    <a:pt x="19" y="58"/>
                    <a:pt x="18" y="57"/>
                  </a:cubicBezTo>
                  <a:cubicBezTo>
                    <a:pt x="17" y="56"/>
                    <a:pt x="17" y="54"/>
                    <a:pt x="16" y="52"/>
                  </a:cubicBezTo>
                  <a:cubicBezTo>
                    <a:pt x="16" y="51"/>
                    <a:pt x="15" y="50"/>
                    <a:pt x="14" y="49"/>
                  </a:cubicBezTo>
                  <a:cubicBezTo>
                    <a:pt x="7" y="47"/>
                    <a:pt x="7" y="47"/>
                    <a:pt x="7" y="47"/>
                  </a:cubicBezTo>
                  <a:cubicBezTo>
                    <a:pt x="7" y="46"/>
                    <a:pt x="7" y="45"/>
                    <a:pt x="7" y="44"/>
                  </a:cubicBezTo>
                  <a:cubicBezTo>
                    <a:pt x="7" y="43"/>
                    <a:pt x="7" y="42"/>
                    <a:pt x="7" y="40"/>
                  </a:cubicBezTo>
                  <a:cubicBezTo>
                    <a:pt x="14" y="38"/>
                    <a:pt x="14" y="38"/>
                    <a:pt x="14" y="38"/>
                  </a:cubicBezTo>
                  <a:cubicBezTo>
                    <a:pt x="15" y="38"/>
                    <a:pt x="16" y="37"/>
                    <a:pt x="16" y="36"/>
                  </a:cubicBezTo>
                  <a:cubicBezTo>
                    <a:pt x="17" y="34"/>
                    <a:pt x="17" y="32"/>
                    <a:pt x="18" y="30"/>
                  </a:cubicBezTo>
                  <a:cubicBezTo>
                    <a:pt x="19" y="29"/>
                    <a:pt x="19" y="28"/>
                    <a:pt x="18" y="27"/>
                  </a:cubicBezTo>
                  <a:cubicBezTo>
                    <a:pt x="16" y="21"/>
                    <a:pt x="16" y="21"/>
                    <a:pt x="16" y="21"/>
                  </a:cubicBezTo>
                  <a:cubicBezTo>
                    <a:pt x="17" y="19"/>
                    <a:pt x="19" y="17"/>
                    <a:pt x="20" y="16"/>
                  </a:cubicBezTo>
                  <a:cubicBezTo>
                    <a:pt x="26" y="19"/>
                    <a:pt x="26" y="19"/>
                    <a:pt x="26" y="19"/>
                  </a:cubicBezTo>
                  <a:cubicBezTo>
                    <a:pt x="28" y="19"/>
                    <a:pt x="29" y="19"/>
                    <a:pt x="30" y="19"/>
                  </a:cubicBezTo>
                  <a:cubicBezTo>
                    <a:pt x="32" y="18"/>
                    <a:pt x="33" y="17"/>
                    <a:pt x="35" y="16"/>
                  </a:cubicBezTo>
                  <a:cubicBezTo>
                    <a:pt x="37" y="16"/>
                    <a:pt x="37" y="15"/>
                    <a:pt x="38" y="14"/>
                  </a:cubicBezTo>
                  <a:cubicBezTo>
                    <a:pt x="40" y="8"/>
                    <a:pt x="40" y="8"/>
                    <a:pt x="40" y="8"/>
                  </a:cubicBezTo>
                  <a:cubicBezTo>
                    <a:pt x="42" y="7"/>
                    <a:pt x="44" y="7"/>
                    <a:pt x="47" y="8"/>
                  </a:cubicBezTo>
                  <a:cubicBezTo>
                    <a:pt x="49" y="14"/>
                    <a:pt x="49" y="14"/>
                    <a:pt x="49" y="14"/>
                  </a:cubicBezTo>
                  <a:cubicBezTo>
                    <a:pt x="50" y="15"/>
                    <a:pt x="50" y="16"/>
                    <a:pt x="52" y="16"/>
                  </a:cubicBezTo>
                  <a:cubicBezTo>
                    <a:pt x="54" y="17"/>
                    <a:pt x="55" y="18"/>
                    <a:pt x="57" y="19"/>
                  </a:cubicBezTo>
                  <a:cubicBezTo>
                    <a:pt x="58" y="19"/>
                    <a:pt x="59" y="19"/>
                    <a:pt x="61" y="19"/>
                  </a:cubicBezTo>
                  <a:cubicBezTo>
                    <a:pt x="67" y="16"/>
                    <a:pt x="67" y="16"/>
                    <a:pt x="67" y="16"/>
                  </a:cubicBezTo>
                  <a:cubicBezTo>
                    <a:pt x="68" y="17"/>
                    <a:pt x="70" y="19"/>
                    <a:pt x="71" y="21"/>
                  </a:cubicBezTo>
                  <a:cubicBezTo>
                    <a:pt x="68" y="27"/>
                    <a:pt x="68" y="27"/>
                    <a:pt x="68" y="27"/>
                  </a:cubicBezTo>
                  <a:cubicBezTo>
                    <a:pt x="68" y="28"/>
                    <a:pt x="68" y="29"/>
                    <a:pt x="69" y="30"/>
                  </a:cubicBezTo>
                  <a:cubicBezTo>
                    <a:pt x="70" y="32"/>
                    <a:pt x="70" y="34"/>
                    <a:pt x="71" y="36"/>
                  </a:cubicBezTo>
                  <a:cubicBezTo>
                    <a:pt x="71" y="37"/>
                    <a:pt x="72" y="38"/>
                    <a:pt x="73" y="38"/>
                  </a:cubicBezTo>
                  <a:cubicBezTo>
                    <a:pt x="80" y="40"/>
                    <a:pt x="80" y="40"/>
                    <a:pt x="80" y="40"/>
                  </a:cubicBezTo>
                  <a:cubicBezTo>
                    <a:pt x="80" y="42"/>
                    <a:pt x="80" y="43"/>
                    <a:pt x="80" y="44"/>
                  </a:cubicBezTo>
                  <a:cubicBezTo>
                    <a:pt x="80" y="45"/>
                    <a:pt x="80" y="46"/>
                    <a:pt x="80"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4" name="Freeform 32"/>
            <p:cNvSpPr/>
            <p:nvPr/>
          </p:nvSpPr>
          <p:spPr>
            <a:xfrm>
              <a:off x="7021440" y="3977280"/>
              <a:ext cx="230760" cy="188640"/>
            </a:xfrm>
            <a:custGeom>
              <a:avLst/>
              <a:gdLst/>
              <a:ahLst/>
              <a:rect l="l" t="t" r="r" b="b"/>
              <a:pathLst>
                <a:path w="35" h="35">
                  <a:moveTo>
                    <a:pt x="17" y="0"/>
                  </a:moveTo>
                  <a:cubicBezTo>
                    <a:pt x="8" y="0"/>
                    <a:pt x="0" y="8"/>
                    <a:pt x="0" y="18"/>
                  </a:cubicBezTo>
                  <a:cubicBezTo>
                    <a:pt x="0" y="28"/>
                    <a:pt x="8" y="35"/>
                    <a:pt x="17" y="35"/>
                  </a:cubicBezTo>
                  <a:cubicBezTo>
                    <a:pt x="27" y="35"/>
                    <a:pt x="35" y="28"/>
                    <a:pt x="35" y="18"/>
                  </a:cubicBezTo>
                  <a:cubicBezTo>
                    <a:pt x="35" y="8"/>
                    <a:pt x="27" y="0"/>
                    <a:pt x="17" y="0"/>
                  </a:cubicBezTo>
                  <a:close/>
                  <a:moveTo>
                    <a:pt x="17" y="28"/>
                  </a:moveTo>
                  <a:cubicBezTo>
                    <a:pt x="12" y="28"/>
                    <a:pt x="8" y="23"/>
                    <a:pt x="8" y="18"/>
                  </a:cubicBezTo>
                  <a:cubicBezTo>
                    <a:pt x="8" y="12"/>
                    <a:pt x="12" y="8"/>
                    <a:pt x="17" y="8"/>
                  </a:cubicBezTo>
                  <a:cubicBezTo>
                    <a:pt x="23" y="8"/>
                    <a:pt x="27" y="12"/>
                    <a:pt x="27" y="18"/>
                  </a:cubicBezTo>
                  <a:cubicBezTo>
                    <a:pt x="27" y="23"/>
                    <a:pt x="23" y="28"/>
                    <a:pt x="17"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5" name="Group 33"/>
          <p:cNvGrpSpPr/>
          <p:nvPr/>
        </p:nvGrpSpPr>
        <p:grpSpPr>
          <a:xfrm>
            <a:off x="6465960" y="2664000"/>
            <a:ext cx="360000" cy="354600"/>
            <a:chOff x="6465960" y="2664000"/>
            <a:chExt cx="360000" cy="354600"/>
          </a:xfrm>
        </p:grpSpPr>
        <p:sp>
          <p:nvSpPr>
            <p:cNvPr id="1916" name="Freeform 34"/>
            <p:cNvSpPr/>
            <p:nvPr/>
          </p:nvSpPr>
          <p:spPr>
            <a:xfrm>
              <a:off x="6465960" y="2664000"/>
              <a:ext cx="360000" cy="253440"/>
            </a:xfrm>
            <a:custGeom>
              <a:avLst/>
              <a:gdLst/>
              <a:ahLst/>
              <a:rect l="l" t="t" r="r" b="b"/>
              <a:pathLst>
                <a:path w="87" h="63">
                  <a:moveTo>
                    <a:pt x="67" y="23"/>
                  </a:moveTo>
                  <a:cubicBezTo>
                    <a:pt x="65" y="23"/>
                    <a:pt x="64" y="24"/>
                    <a:pt x="63" y="24"/>
                  </a:cubicBezTo>
                  <a:cubicBezTo>
                    <a:pt x="63" y="23"/>
                    <a:pt x="63" y="23"/>
                    <a:pt x="63" y="22"/>
                  </a:cubicBezTo>
                  <a:cubicBezTo>
                    <a:pt x="63" y="10"/>
                    <a:pt x="53" y="0"/>
                    <a:pt x="41" y="0"/>
                  </a:cubicBezTo>
                  <a:cubicBezTo>
                    <a:pt x="31" y="0"/>
                    <a:pt x="22" y="8"/>
                    <a:pt x="20" y="18"/>
                  </a:cubicBezTo>
                  <a:cubicBezTo>
                    <a:pt x="18" y="18"/>
                    <a:pt x="16" y="18"/>
                    <a:pt x="14" y="19"/>
                  </a:cubicBezTo>
                  <a:cubicBezTo>
                    <a:pt x="14" y="19"/>
                    <a:pt x="14" y="19"/>
                    <a:pt x="14" y="19"/>
                  </a:cubicBezTo>
                  <a:cubicBezTo>
                    <a:pt x="9" y="21"/>
                    <a:pt x="5" y="26"/>
                    <a:pt x="5" y="32"/>
                  </a:cubicBezTo>
                  <a:cubicBezTo>
                    <a:pt x="5" y="34"/>
                    <a:pt x="6" y="36"/>
                    <a:pt x="6" y="38"/>
                  </a:cubicBezTo>
                  <a:cubicBezTo>
                    <a:pt x="3" y="41"/>
                    <a:pt x="0" y="45"/>
                    <a:pt x="0" y="50"/>
                  </a:cubicBezTo>
                  <a:cubicBezTo>
                    <a:pt x="0" y="57"/>
                    <a:pt x="6" y="63"/>
                    <a:pt x="14" y="63"/>
                  </a:cubicBezTo>
                  <a:cubicBezTo>
                    <a:pt x="28" y="63"/>
                    <a:pt x="28" y="63"/>
                    <a:pt x="28" y="63"/>
                  </a:cubicBezTo>
                  <a:cubicBezTo>
                    <a:pt x="30" y="63"/>
                    <a:pt x="32" y="62"/>
                    <a:pt x="32" y="60"/>
                  </a:cubicBezTo>
                  <a:cubicBezTo>
                    <a:pt x="32" y="58"/>
                    <a:pt x="30" y="56"/>
                    <a:pt x="28" y="56"/>
                  </a:cubicBezTo>
                  <a:cubicBezTo>
                    <a:pt x="14" y="56"/>
                    <a:pt x="14" y="56"/>
                    <a:pt x="14" y="56"/>
                  </a:cubicBezTo>
                  <a:cubicBezTo>
                    <a:pt x="10" y="56"/>
                    <a:pt x="8" y="53"/>
                    <a:pt x="8" y="50"/>
                  </a:cubicBezTo>
                  <a:cubicBezTo>
                    <a:pt x="8" y="47"/>
                    <a:pt x="10" y="44"/>
                    <a:pt x="13" y="43"/>
                  </a:cubicBezTo>
                  <a:cubicBezTo>
                    <a:pt x="15" y="43"/>
                    <a:pt x="16" y="42"/>
                    <a:pt x="16" y="41"/>
                  </a:cubicBezTo>
                  <a:cubicBezTo>
                    <a:pt x="17" y="39"/>
                    <a:pt x="16" y="38"/>
                    <a:pt x="15" y="37"/>
                  </a:cubicBezTo>
                  <a:cubicBezTo>
                    <a:pt x="13" y="36"/>
                    <a:pt x="13" y="34"/>
                    <a:pt x="13" y="32"/>
                  </a:cubicBezTo>
                  <a:cubicBezTo>
                    <a:pt x="13" y="29"/>
                    <a:pt x="14" y="27"/>
                    <a:pt x="17" y="26"/>
                  </a:cubicBezTo>
                  <a:cubicBezTo>
                    <a:pt x="17" y="26"/>
                    <a:pt x="17" y="26"/>
                    <a:pt x="17" y="26"/>
                  </a:cubicBezTo>
                  <a:cubicBezTo>
                    <a:pt x="18" y="25"/>
                    <a:pt x="20" y="26"/>
                    <a:pt x="22" y="27"/>
                  </a:cubicBezTo>
                  <a:cubicBezTo>
                    <a:pt x="23" y="27"/>
                    <a:pt x="25" y="27"/>
                    <a:pt x="26" y="26"/>
                  </a:cubicBezTo>
                  <a:cubicBezTo>
                    <a:pt x="27" y="26"/>
                    <a:pt x="28" y="24"/>
                    <a:pt x="28" y="23"/>
                  </a:cubicBezTo>
                  <a:cubicBezTo>
                    <a:pt x="27" y="23"/>
                    <a:pt x="27" y="22"/>
                    <a:pt x="27" y="22"/>
                  </a:cubicBezTo>
                  <a:cubicBezTo>
                    <a:pt x="27" y="22"/>
                    <a:pt x="27" y="22"/>
                    <a:pt x="27" y="22"/>
                  </a:cubicBezTo>
                  <a:cubicBezTo>
                    <a:pt x="27" y="14"/>
                    <a:pt x="34" y="8"/>
                    <a:pt x="41" y="8"/>
                  </a:cubicBezTo>
                  <a:cubicBezTo>
                    <a:pt x="49" y="8"/>
                    <a:pt x="55" y="14"/>
                    <a:pt x="55" y="22"/>
                  </a:cubicBezTo>
                  <a:cubicBezTo>
                    <a:pt x="55" y="24"/>
                    <a:pt x="55" y="27"/>
                    <a:pt x="53" y="29"/>
                  </a:cubicBezTo>
                  <a:cubicBezTo>
                    <a:pt x="52" y="31"/>
                    <a:pt x="53" y="33"/>
                    <a:pt x="54" y="34"/>
                  </a:cubicBezTo>
                  <a:cubicBezTo>
                    <a:pt x="55" y="35"/>
                    <a:pt x="57" y="35"/>
                    <a:pt x="59" y="34"/>
                  </a:cubicBezTo>
                  <a:cubicBezTo>
                    <a:pt x="60" y="33"/>
                    <a:pt x="63" y="31"/>
                    <a:pt x="67" y="31"/>
                  </a:cubicBezTo>
                  <a:cubicBezTo>
                    <a:pt x="74" y="31"/>
                    <a:pt x="79" y="37"/>
                    <a:pt x="79" y="43"/>
                  </a:cubicBezTo>
                  <a:cubicBezTo>
                    <a:pt x="79" y="50"/>
                    <a:pt x="74" y="56"/>
                    <a:pt x="67" y="56"/>
                  </a:cubicBezTo>
                  <a:cubicBezTo>
                    <a:pt x="59" y="56"/>
                    <a:pt x="59" y="56"/>
                    <a:pt x="59" y="56"/>
                  </a:cubicBezTo>
                  <a:cubicBezTo>
                    <a:pt x="56" y="56"/>
                    <a:pt x="55" y="58"/>
                    <a:pt x="55" y="60"/>
                  </a:cubicBezTo>
                  <a:cubicBezTo>
                    <a:pt x="55" y="62"/>
                    <a:pt x="56" y="63"/>
                    <a:pt x="59" y="63"/>
                  </a:cubicBezTo>
                  <a:cubicBezTo>
                    <a:pt x="67" y="63"/>
                    <a:pt x="67" y="63"/>
                    <a:pt x="67" y="63"/>
                  </a:cubicBezTo>
                  <a:cubicBezTo>
                    <a:pt x="78" y="63"/>
                    <a:pt x="87" y="54"/>
                    <a:pt x="87" y="43"/>
                  </a:cubicBezTo>
                  <a:cubicBezTo>
                    <a:pt x="87" y="32"/>
                    <a:pt x="78" y="23"/>
                    <a:pt x="67"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7" name="Freeform 35"/>
            <p:cNvSpPr/>
            <p:nvPr/>
          </p:nvSpPr>
          <p:spPr>
            <a:xfrm>
              <a:off x="6576480" y="2809440"/>
              <a:ext cx="136800" cy="209160"/>
            </a:xfrm>
            <a:custGeom>
              <a:avLst/>
              <a:gdLst/>
              <a:ahLst/>
              <a:rect l="l" t="t" r="r" b="b"/>
              <a:pathLst>
                <a:path w="33" h="52">
                  <a:moveTo>
                    <a:pt x="27" y="33"/>
                  </a:moveTo>
                  <a:cubicBezTo>
                    <a:pt x="20" y="39"/>
                    <a:pt x="20" y="39"/>
                    <a:pt x="20" y="39"/>
                  </a:cubicBezTo>
                  <a:cubicBezTo>
                    <a:pt x="20" y="3"/>
                    <a:pt x="20" y="3"/>
                    <a:pt x="20" y="3"/>
                  </a:cubicBezTo>
                  <a:cubicBezTo>
                    <a:pt x="20" y="1"/>
                    <a:pt x="19" y="0"/>
                    <a:pt x="16" y="0"/>
                  </a:cubicBezTo>
                  <a:cubicBezTo>
                    <a:pt x="14" y="0"/>
                    <a:pt x="13" y="1"/>
                    <a:pt x="13" y="3"/>
                  </a:cubicBezTo>
                  <a:cubicBezTo>
                    <a:pt x="13" y="39"/>
                    <a:pt x="13" y="39"/>
                    <a:pt x="13" y="39"/>
                  </a:cubicBezTo>
                  <a:cubicBezTo>
                    <a:pt x="6" y="33"/>
                    <a:pt x="6" y="33"/>
                    <a:pt x="6" y="33"/>
                  </a:cubicBezTo>
                  <a:cubicBezTo>
                    <a:pt x="5" y="32"/>
                    <a:pt x="2" y="32"/>
                    <a:pt x="1" y="33"/>
                  </a:cubicBezTo>
                  <a:cubicBezTo>
                    <a:pt x="0" y="34"/>
                    <a:pt x="0" y="37"/>
                    <a:pt x="1" y="38"/>
                  </a:cubicBezTo>
                  <a:cubicBezTo>
                    <a:pt x="14" y="51"/>
                    <a:pt x="14" y="51"/>
                    <a:pt x="14" y="51"/>
                  </a:cubicBezTo>
                  <a:cubicBezTo>
                    <a:pt x="15" y="52"/>
                    <a:pt x="15" y="52"/>
                    <a:pt x="16" y="52"/>
                  </a:cubicBezTo>
                  <a:cubicBezTo>
                    <a:pt x="17" y="52"/>
                    <a:pt x="18" y="52"/>
                    <a:pt x="19" y="51"/>
                  </a:cubicBezTo>
                  <a:cubicBezTo>
                    <a:pt x="32" y="38"/>
                    <a:pt x="32" y="38"/>
                    <a:pt x="32" y="38"/>
                  </a:cubicBezTo>
                  <a:cubicBezTo>
                    <a:pt x="33" y="37"/>
                    <a:pt x="33" y="34"/>
                    <a:pt x="32" y="33"/>
                  </a:cubicBezTo>
                  <a:cubicBezTo>
                    <a:pt x="30" y="32"/>
                    <a:pt x="28" y="32"/>
                    <a:pt x="27"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8" name="Freeform 36"/>
          <p:cNvSpPr/>
          <p:nvPr/>
        </p:nvSpPr>
        <p:spPr>
          <a:xfrm>
            <a:off x="5148360" y="3449520"/>
            <a:ext cx="357120" cy="247680"/>
          </a:xfrm>
          <a:custGeom>
            <a:avLst/>
            <a:gdLst/>
            <a:ahLst/>
            <a:rect l="l" t="t" r="r" b="b"/>
            <a:pathLst>
              <a:path w="88" h="61">
                <a:moveTo>
                  <a:pt x="84" y="7"/>
                </a:moveTo>
                <a:cubicBezTo>
                  <a:pt x="82" y="5"/>
                  <a:pt x="79" y="4"/>
                  <a:pt x="76" y="4"/>
                </a:cubicBezTo>
                <a:cubicBezTo>
                  <a:pt x="73" y="4"/>
                  <a:pt x="70" y="5"/>
                  <a:pt x="68" y="7"/>
                </a:cubicBezTo>
                <a:cubicBezTo>
                  <a:pt x="65" y="9"/>
                  <a:pt x="64" y="12"/>
                  <a:pt x="64" y="15"/>
                </a:cubicBezTo>
                <a:cubicBezTo>
                  <a:pt x="64" y="17"/>
                  <a:pt x="65" y="19"/>
                  <a:pt x="65" y="20"/>
                </a:cubicBezTo>
                <a:cubicBezTo>
                  <a:pt x="51" y="33"/>
                  <a:pt x="51" y="33"/>
                  <a:pt x="51" y="33"/>
                </a:cubicBezTo>
                <a:cubicBezTo>
                  <a:pt x="48" y="32"/>
                  <a:pt x="46" y="31"/>
                  <a:pt x="43" y="31"/>
                </a:cubicBezTo>
                <a:cubicBezTo>
                  <a:pt x="40" y="31"/>
                  <a:pt x="38" y="32"/>
                  <a:pt x="36" y="33"/>
                </a:cubicBezTo>
                <a:cubicBezTo>
                  <a:pt x="25" y="21"/>
                  <a:pt x="25" y="21"/>
                  <a:pt x="25" y="21"/>
                </a:cubicBezTo>
                <a:cubicBezTo>
                  <a:pt x="28" y="15"/>
                  <a:pt x="28" y="8"/>
                  <a:pt x="23" y="4"/>
                </a:cubicBezTo>
                <a:cubicBezTo>
                  <a:pt x="21" y="1"/>
                  <a:pt x="17" y="0"/>
                  <a:pt x="14" y="0"/>
                </a:cubicBezTo>
                <a:cubicBezTo>
                  <a:pt x="10" y="0"/>
                  <a:pt x="6" y="1"/>
                  <a:pt x="4" y="4"/>
                </a:cubicBezTo>
                <a:cubicBezTo>
                  <a:pt x="1" y="7"/>
                  <a:pt x="0" y="10"/>
                  <a:pt x="0" y="14"/>
                </a:cubicBezTo>
                <a:cubicBezTo>
                  <a:pt x="0" y="17"/>
                  <a:pt x="1" y="21"/>
                  <a:pt x="4" y="23"/>
                </a:cubicBezTo>
                <a:cubicBezTo>
                  <a:pt x="6" y="26"/>
                  <a:pt x="10" y="27"/>
                  <a:pt x="14" y="27"/>
                </a:cubicBezTo>
                <a:cubicBezTo>
                  <a:pt x="16" y="27"/>
                  <a:pt x="18" y="27"/>
                  <a:pt x="20" y="26"/>
                </a:cubicBezTo>
                <a:cubicBezTo>
                  <a:pt x="30" y="38"/>
                  <a:pt x="30" y="38"/>
                  <a:pt x="30" y="38"/>
                </a:cubicBezTo>
                <a:cubicBezTo>
                  <a:pt x="27" y="44"/>
                  <a:pt x="28" y="51"/>
                  <a:pt x="33" y="56"/>
                </a:cubicBezTo>
                <a:cubicBezTo>
                  <a:pt x="35" y="59"/>
                  <a:pt x="39" y="61"/>
                  <a:pt x="43" y="61"/>
                </a:cubicBezTo>
                <a:cubicBezTo>
                  <a:pt x="47" y="61"/>
                  <a:pt x="51" y="59"/>
                  <a:pt x="54" y="56"/>
                </a:cubicBezTo>
                <a:cubicBezTo>
                  <a:pt x="58" y="51"/>
                  <a:pt x="59" y="44"/>
                  <a:pt x="56" y="38"/>
                </a:cubicBezTo>
                <a:cubicBezTo>
                  <a:pt x="71" y="26"/>
                  <a:pt x="71" y="26"/>
                  <a:pt x="71" y="26"/>
                </a:cubicBezTo>
                <a:cubicBezTo>
                  <a:pt x="72" y="27"/>
                  <a:pt x="74" y="27"/>
                  <a:pt x="76" y="27"/>
                </a:cubicBezTo>
                <a:cubicBezTo>
                  <a:pt x="79" y="27"/>
                  <a:pt x="82" y="26"/>
                  <a:pt x="84" y="24"/>
                </a:cubicBezTo>
                <a:cubicBezTo>
                  <a:pt x="87" y="21"/>
                  <a:pt x="88" y="18"/>
                  <a:pt x="88" y="15"/>
                </a:cubicBezTo>
                <a:cubicBezTo>
                  <a:pt x="88" y="12"/>
                  <a:pt x="87" y="9"/>
                  <a:pt x="84" y="7"/>
                </a:cubicBezTo>
                <a:close/>
                <a:moveTo>
                  <a:pt x="9" y="18"/>
                </a:moveTo>
                <a:cubicBezTo>
                  <a:pt x="8" y="17"/>
                  <a:pt x="7" y="15"/>
                  <a:pt x="7" y="14"/>
                </a:cubicBezTo>
                <a:cubicBezTo>
                  <a:pt x="7" y="12"/>
                  <a:pt x="8" y="11"/>
                  <a:pt x="9" y="9"/>
                </a:cubicBezTo>
                <a:cubicBezTo>
                  <a:pt x="10" y="8"/>
                  <a:pt x="12" y="8"/>
                  <a:pt x="14" y="8"/>
                </a:cubicBezTo>
                <a:cubicBezTo>
                  <a:pt x="15" y="8"/>
                  <a:pt x="17" y="8"/>
                  <a:pt x="18" y="9"/>
                </a:cubicBezTo>
                <a:cubicBezTo>
                  <a:pt x="20" y="12"/>
                  <a:pt x="20" y="16"/>
                  <a:pt x="18" y="18"/>
                </a:cubicBezTo>
                <a:cubicBezTo>
                  <a:pt x="16" y="20"/>
                  <a:pt x="12" y="20"/>
                  <a:pt x="9" y="18"/>
                </a:cubicBezTo>
                <a:close/>
                <a:moveTo>
                  <a:pt x="79" y="18"/>
                </a:moveTo>
                <a:cubicBezTo>
                  <a:pt x="77" y="20"/>
                  <a:pt x="75" y="20"/>
                  <a:pt x="73" y="18"/>
                </a:cubicBezTo>
                <a:cubicBezTo>
                  <a:pt x="72" y="18"/>
                  <a:pt x="72" y="16"/>
                  <a:pt x="72" y="15"/>
                </a:cubicBezTo>
                <a:cubicBezTo>
                  <a:pt x="72" y="14"/>
                  <a:pt x="72" y="13"/>
                  <a:pt x="73" y="12"/>
                </a:cubicBezTo>
                <a:cubicBezTo>
                  <a:pt x="74" y="12"/>
                  <a:pt x="75" y="11"/>
                  <a:pt x="76" y="11"/>
                </a:cubicBezTo>
                <a:cubicBezTo>
                  <a:pt x="77" y="11"/>
                  <a:pt x="78" y="12"/>
                  <a:pt x="79" y="12"/>
                </a:cubicBezTo>
                <a:cubicBezTo>
                  <a:pt x="80" y="13"/>
                  <a:pt x="80" y="14"/>
                  <a:pt x="80" y="15"/>
                </a:cubicBezTo>
                <a:cubicBezTo>
                  <a:pt x="80" y="16"/>
                  <a:pt x="80" y="18"/>
                  <a:pt x="79" y="1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9" name="Freeform 42"/>
          <p:cNvSpPr/>
          <p:nvPr/>
        </p:nvSpPr>
        <p:spPr>
          <a:xfrm flipV="1">
            <a:off x="7321680" y="3042360"/>
            <a:ext cx="1095120" cy="909720"/>
          </a:xfrm>
          <a:custGeom>
            <a:avLst/>
            <a:gdLst/>
            <a:ahLst/>
            <a:rect l="l" t="t" r="r" b="b"/>
            <a:pathLst>
              <a:path w="729" h="487">
                <a:moveTo>
                  <a:pt x="159" y="0"/>
                </a:moveTo>
                <a:lnTo>
                  <a:pt x="0" y="0"/>
                </a:lnTo>
                <a:lnTo>
                  <a:pt x="0" y="487"/>
                </a:lnTo>
                <a:lnTo>
                  <a:pt x="729" y="487"/>
                </a:lnTo>
              </a:path>
            </a:pathLst>
          </a:custGeom>
          <a:noFill/>
          <a:ln w="6480">
            <a:solidFill>
              <a:srgbClr val="f4ebf4"/>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0" name="Rectangle 48"/>
          <p:cNvSpPr/>
          <p:nvPr/>
        </p:nvSpPr>
        <p:spPr>
          <a:xfrm>
            <a:off x="334800" y="2403360"/>
            <a:ext cx="4537080" cy="73188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1</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编制审计差异汇总表和试算平衡表</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21" name="组合 28"/>
          <p:cNvGrpSpPr/>
          <p:nvPr/>
        </p:nvGrpSpPr>
        <p:grpSpPr>
          <a:xfrm>
            <a:off x="927000" y="284040"/>
            <a:ext cx="10360080" cy="524160"/>
            <a:chOff x="927000" y="284040"/>
            <a:chExt cx="10360080" cy="524160"/>
          </a:xfrm>
        </p:grpSpPr>
        <p:sp>
          <p:nvSpPr>
            <p:cNvPr id="1922" name="直接连接符 52"/>
            <p:cNvSpPr/>
            <p:nvPr/>
          </p:nvSpPr>
          <p:spPr>
            <a:xfrm>
              <a:off x="927000" y="5464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3" name="直接连接符 2"/>
            <p:cNvSpPr/>
            <p:nvPr/>
          </p:nvSpPr>
          <p:spPr>
            <a:xfrm>
              <a:off x="9307800" y="5464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24" name="文本框 31" descr=""/>
            <p:cNvPicPr/>
            <p:nvPr/>
          </p:nvPicPr>
          <p:blipFill>
            <a:blip r:embed="rId1"/>
            <a:stretch/>
          </p:blipFill>
          <p:spPr>
            <a:xfrm>
              <a:off x="2487600" y="284040"/>
              <a:ext cx="7560360" cy="524160"/>
            </a:xfrm>
            <a:prstGeom prst="rect">
              <a:avLst/>
            </a:prstGeom>
            <a:ln w="0">
              <a:noFill/>
            </a:ln>
          </p:spPr>
        </p:pic>
      </p:grpSp>
      <p:sp>
        <p:nvSpPr>
          <p:cNvPr id="1925" name="矩形 41"/>
          <p:cNvSpPr/>
          <p:nvPr/>
        </p:nvSpPr>
        <p:spPr>
          <a:xfrm>
            <a:off x="4349880" y="792000"/>
            <a:ext cx="3074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 </a:t>
            </a: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cxnSp>
        <p:nvCxnSpPr>
          <p:cNvPr id="1926" name="连接符: 肘形 6"/>
          <p:cNvCxnSpPr/>
          <p:nvPr/>
        </p:nvCxnSpPr>
        <p:spPr>
          <a:xfrm>
            <a:off x="8504640" y="1144080"/>
            <a:ext cx="50040" cy="73800"/>
          </a:xfrm>
          <a:prstGeom prst="straightConnector1">
            <a:avLst/>
          </a:prstGeom>
          <a:ln w="6480">
            <a:solidFill>
              <a:srgbClr val="5b9bd4"/>
            </a:solidFill>
            <a:miter/>
          </a:ln>
        </p:spPr>
      </p:cxnSp>
      <p:cxnSp>
        <p:nvCxnSpPr>
          <p:cNvPr id="1927" name="连接符: 肘形 10"/>
          <p:cNvCxnSpPr/>
          <p:nvPr/>
        </p:nvCxnSpPr>
        <p:spPr>
          <a:xfrm>
            <a:off x="4134960" y="4770360"/>
            <a:ext cx="1096200" cy="435600"/>
          </a:xfrm>
          <a:prstGeom prst="straightConnector1">
            <a:avLst/>
          </a:prstGeom>
          <a:ln w="6480">
            <a:solidFill>
              <a:srgbClr val="5b9bd4"/>
            </a:solidFill>
            <a:miter/>
          </a:ln>
        </p:spPr>
      </p:cxnSp>
      <p:cxnSp>
        <p:nvCxnSpPr>
          <p:cNvPr id="1928" name="连接符: 肘形 12"/>
          <p:cNvCxnSpPr/>
          <p:nvPr/>
        </p:nvCxnSpPr>
        <p:spPr>
          <a:xfrm>
            <a:off x="3595680" y="5856120"/>
            <a:ext cx="1024560" cy="254880"/>
          </a:xfrm>
          <a:prstGeom prst="straightConnector1">
            <a:avLst/>
          </a:prstGeom>
          <a:ln w="6480">
            <a:solidFill>
              <a:srgbClr val="5b9bd4"/>
            </a:solidFill>
            <a:miter/>
          </a:ln>
        </p:spPr>
      </p:cxnSp>
      <p:cxnSp>
        <p:nvCxnSpPr>
          <p:cNvPr id="1929" name="连接符: 肘形 14"/>
          <p:cNvCxnSpPr/>
          <p:nvPr/>
        </p:nvCxnSpPr>
        <p:spPr>
          <a:xfrm flipH="1" flipV="1">
            <a:off x="3303000" y="3337920"/>
            <a:ext cx="826200" cy="562680"/>
          </a:xfrm>
          <a:prstGeom prst="straightConnector1">
            <a:avLst/>
          </a:prstGeom>
          <a:ln w="6480">
            <a:solidFill>
              <a:srgbClr val="5b9bd4"/>
            </a:solidFill>
            <a:miter/>
          </a:ln>
        </p:spPr>
      </p:cxnSp>
      <p:cxnSp>
        <p:nvCxnSpPr>
          <p:cNvPr id="1930" name="连接符: 肘形 16"/>
          <p:cNvCxnSpPr/>
          <p:nvPr/>
        </p:nvCxnSpPr>
        <p:spPr>
          <a:xfrm flipV="1">
            <a:off x="8187840" y="5422320"/>
            <a:ext cx="731160" cy="291240"/>
          </a:xfrm>
          <a:prstGeom prst="straightConnector1">
            <a:avLst/>
          </a:prstGeom>
          <a:ln w="6480">
            <a:solidFill>
              <a:srgbClr val="5b9bd4"/>
            </a:solidFill>
            <a:miter/>
          </a:ln>
        </p:spPr>
      </p:cxnSp>
      <p:cxnSp>
        <p:nvCxnSpPr>
          <p:cNvPr id="1931" name="连接符: 肘形 20"/>
          <p:cNvCxnSpPr/>
          <p:nvPr/>
        </p:nvCxnSpPr>
        <p:spPr>
          <a:xfrm flipV="1">
            <a:off x="8758800" y="4833360"/>
            <a:ext cx="29160" cy="37080"/>
          </a:xfrm>
          <a:prstGeom prst="straightConnector1">
            <a:avLst/>
          </a:prstGeom>
          <a:ln w="6480">
            <a:solidFill>
              <a:srgbClr val="5b9bd4"/>
            </a:solidFill>
            <a:miter/>
          </a:ln>
        </p:spPr>
      </p:cxnSp>
      <p:cxnSp>
        <p:nvCxnSpPr>
          <p:cNvPr id="1932" name="连接符: 肘形 22"/>
          <p:cNvCxnSpPr/>
          <p:nvPr/>
        </p:nvCxnSpPr>
        <p:spPr>
          <a:xfrm flipV="1">
            <a:off x="7354800" y="3104640"/>
            <a:ext cx="1069200" cy="551520"/>
          </a:xfrm>
          <a:prstGeom prst="straightConnector1">
            <a:avLst/>
          </a:prstGeom>
          <a:ln w="6480">
            <a:solidFill>
              <a:srgbClr val="5b9bd4"/>
            </a:solidFill>
            <a:miter/>
          </a:ln>
        </p:spPr>
      </p:cxnSp>
      <p:cxnSp>
        <p:nvCxnSpPr>
          <p:cNvPr id="1933" name="连接符: 肘形 72"/>
          <p:cNvCxnSpPr/>
          <p:nvPr/>
        </p:nvCxnSpPr>
        <p:spPr>
          <a:xfrm flipH="1" flipV="1">
            <a:off x="4733280" y="2542680"/>
            <a:ext cx="662760" cy="511920"/>
          </a:xfrm>
          <a:prstGeom prst="straightConnector1">
            <a:avLst/>
          </a:prstGeom>
          <a:ln w="6480">
            <a:solidFill>
              <a:srgbClr val="5b9bd4"/>
            </a:solidFill>
            <a:miter/>
          </a:ln>
        </p:spPr>
      </p:cxnSp>
      <p:sp>
        <p:nvSpPr>
          <p:cNvPr id="1934" name="矩形 47"/>
          <p:cNvSpPr/>
          <p:nvPr/>
        </p:nvSpPr>
        <p:spPr>
          <a:xfrm>
            <a:off x="479520" y="1459080"/>
            <a:ext cx="5491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 </a:t>
            </a:r>
            <a:r>
              <a:rPr b="1" lang="zh-CN" sz="2800" spc="-1" strike="noStrike">
                <a:solidFill>
                  <a:srgbClr val="2f75b4"/>
                </a:solidFill>
                <a:latin typeface="微软雅黑"/>
                <a:ea typeface="微软雅黑"/>
              </a:rPr>
              <a:t>审计报告阶段的主要工作包括：</a:t>
            </a:r>
            <a:endParaRPr b="1" lang="en-US" sz="2800" spc="-1" strike="noStrike">
              <a:solidFill>
                <a:srgbClr val="000000"/>
              </a:solidFill>
              <a:latin typeface="Arial"/>
            </a:endParaRPr>
          </a:p>
        </p:txBody>
      </p:sp>
      <p:sp>
        <p:nvSpPr>
          <p:cNvPr id="1935" name="Rectangle 47"/>
          <p:cNvSpPr/>
          <p:nvPr/>
        </p:nvSpPr>
        <p:spPr>
          <a:xfrm flipV="1" rot="10800000">
            <a:off x="460440" y="3240720"/>
            <a:ext cx="31701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zh-CN" sz="2000" spc="-1" strike="noStrike">
                <a:solidFill>
                  <a:srgbClr val="595959"/>
                </a:solidFill>
                <a:latin typeface="思源黑体"/>
                <a:ea typeface="思源黑体"/>
              </a:rPr>
              <a:t>2</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取得管理层声明书</a:t>
            </a:r>
            <a:endParaRPr b="1" lang="en-US" sz="2000" spc="-1" strike="noStrike">
              <a:solidFill>
                <a:srgbClr val="000000"/>
              </a:solidFill>
              <a:latin typeface="Arial"/>
            </a:endParaRPr>
          </a:p>
        </p:txBody>
      </p:sp>
      <p:sp>
        <p:nvSpPr>
          <p:cNvPr id="1936" name="Rectangle 47"/>
          <p:cNvSpPr/>
          <p:nvPr/>
        </p:nvSpPr>
        <p:spPr>
          <a:xfrm flipV="1" rot="10800000">
            <a:off x="262080" y="4460040"/>
            <a:ext cx="3549600" cy="122472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3</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整理和分析审计工作底稿，撰写审计工作总结</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937" name="连接符: 肘形 91"/>
          <p:cNvCxnSpPr/>
          <p:nvPr/>
        </p:nvCxnSpPr>
        <p:spPr>
          <a:xfrm flipH="1">
            <a:off x="6976440" y="2206800"/>
            <a:ext cx="849960" cy="352800"/>
          </a:xfrm>
          <a:prstGeom prst="straightConnector1">
            <a:avLst/>
          </a:prstGeom>
          <a:ln w="6480">
            <a:solidFill>
              <a:srgbClr val="5b9bd4"/>
            </a:solidFill>
            <a:miter/>
          </a:ln>
        </p:spPr>
      </p:cxnSp>
      <p:sp>
        <p:nvSpPr>
          <p:cNvPr id="1938" name="Rectangle 47"/>
          <p:cNvSpPr/>
          <p:nvPr/>
        </p:nvSpPr>
        <p:spPr>
          <a:xfrm>
            <a:off x="262080" y="5692680"/>
            <a:ext cx="3441600" cy="7318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4</a:t>
            </a:r>
            <a:r>
              <a:rPr b="0"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完成项目质量控制复核</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9" name="Freeform 8"/>
          <p:cNvSpPr/>
          <p:nvPr/>
        </p:nvSpPr>
        <p:spPr>
          <a:xfrm>
            <a:off x="7035840" y="4856040"/>
            <a:ext cx="1279440" cy="1173240"/>
          </a:xfrm>
          <a:prstGeom prst="ellipse">
            <a:avLst/>
          </a:prstGeom>
          <a:solidFill>
            <a:srgbClr val="2ea6eb"/>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0" name="Group 33"/>
          <p:cNvGrpSpPr/>
          <p:nvPr/>
        </p:nvGrpSpPr>
        <p:grpSpPr>
          <a:xfrm>
            <a:off x="7527960" y="5256360"/>
            <a:ext cx="360000" cy="354600"/>
            <a:chOff x="7527960" y="5256360"/>
            <a:chExt cx="360000" cy="354600"/>
          </a:xfrm>
        </p:grpSpPr>
        <p:sp>
          <p:nvSpPr>
            <p:cNvPr id="1941" name="Freeform 34"/>
            <p:cNvSpPr/>
            <p:nvPr/>
          </p:nvSpPr>
          <p:spPr>
            <a:xfrm>
              <a:off x="7527960" y="5256360"/>
              <a:ext cx="360000" cy="253440"/>
            </a:xfrm>
            <a:custGeom>
              <a:avLst/>
              <a:gdLst/>
              <a:ahLst/>
              <a:rect l="l" t="t" r="r" b="b"/>
              <a:pathLst>
                <a:path w="87" h="63">
                  <a:moveTo>
                    <a:pt x="67" y="23"/>
                  </a:moveTo>
                  <a:cubicBezTo>
                    <a:pt x="65" y="23"/>
                    <a:pt x="64" y="24"/>
                    <a:pt x="63" y="24"/>
                  </a:cubicBezTo>
                  <a:cubicBezTo>
                    <a:pt x="63" y="23"/>
                    <a:pt x="63" y="23"/>
                    <a:pt x="63" y="22"/>
                  </a:cubicBezTo>
                  <a:cubicBezTo>
                    <a:pt x="63" y="10"/>
                    <a:pt x="53" y="0"/>
                    <a:pt x="41" y="0"/>
                  </a:cubicBezTo>
                  <a:cubicBezTo>
                    <a:pt x="31" y="0"/>
                    <a:pt x="22" y="8"/>
                    <a:pt x="20" y="18"/>
                  </a:cubicBezTo>
                  <a:cubicBezTo>
                    <a:pt x="18" y="18"/>
                    <a:pt x="16" y="18"/>
                    <a:pt x="14" y="19"/>
                  </a:cubicBezTo>
                  <a:cubicBezTo>
                    <a:pt x="14" y="19"/>
                    <a:pt x="14" y="19"/>
                    <a:pt x="14" y="19"/>
                  </a:cubicBezTo>
                  <a:cubicBezTo>
                    <a:pt x="9" y="21"/>
                    <a:pt x="5" y="26"/>
                    <a:pt x="5" y="32"/>
                  </a:cubicBezTo>
                  <a:cubicBezTo>
                    <a:pt x="5" y="34"/>
                    <a:pt x="6" y="36"/>
                    <a:pt x="6" y="38"/>
                  </a:cubicBezTo>
                  <a:cubicBezTo>
                    <a:pt x="3" y="41"/>
                    <a:pt x="0" y="45"/>
                    <a:pt x="0" y="50"/>
                  </a:cubicBezTo>
                  <a:cubicBezTo>
                    <a:pt x="0" y="57"/>
                    <a:pt x="6" y="63"/>
                    <a:pt x="14" y="63"/>
                  </a:cubicBezTo>
                  <a:cubicBezTo>
                    <a:pt x="28" y="63"/>
                    <a:pt x="28" y="63"/>
                    <a:pt x="28" y="63"/>
                  </a:cubicBezTo>
                  <a:cubicBezTo>
                    <a:pt x="30" y="63"/>
                    <a:pt x="32" y="62"/>
                    <a:pt x="32" y="60"/>
                  </a:cubicBezTo>
                  <a:cubicBezTo>
                    <a:pt x="32" y="58"/>
                    <a:pt x="30" y="56"/>
                    <a:pt x="28" y="56"/>
                  </a:cubicBezTo>
                  <a:cubicBezTo>
                    <a:pt x="14" y="56"/>
                    <a:pt x="14" y="56"/>
                    <a:pt x="14" y="56"/>
                  </a:cubicBezTo>
                  <a:cubicBezTo>
                    <a:pt x="10" y="56"/>
                    <a:pt x="8" y="53"/>
                    <a:pt x="8" y="50"/>
                  </a:cubicBezTo>
                  <a:cubicBezTo>
                    <a:pt x="8" y="47"/>
                    <a:pt x="10" y="44"/>
                    <a:pt x="13" y="43"/>
                  </a:cubicBezTo>
                  <a:cubicBezTo>
                    <a:pt x="15" y="43"/>
                    <a:pt x="16" y="42"/>
                    <a:pt x="16" y="41"/>
                  </a:cubicBezTo>
                  <a:cubicBezTo>
                    <a:pt x="17" y="39"/>
                    <a:pt x="16" y="38"/>
                    <a:pt x="15" y="37"/>
                  </a:cubicBezTo>
                  <a:cubicBezTo>
                    <a:pt x="13" y="36"/>
                    <a:pt x="13" y="34"/>
                    <a:pt x="13" y="32"/>
                  </a:cubicBezTo>
                  <a:cubicBezTo>
                    <a:pt x="13" y="29"/>
                    <a:pt x="14" y="27"/>
                    <a:pt x="17" y="26"/>
                  </a:cubicBezTo>
                  <a:cubicBezTo>
                    <a:pt x="17" y="26"/>
                    <a:pt x="17" y="26"/>
                    <a:pt x="17" y="26"/>
                  </a:cubicBezTo>
                  <a:cubicBezTo>
                    <a:pt x="18" y="25"/>
                    <a:pt x="20" y="26"/>
                    <a:pt x="22" y="27"/>
                  </a:cubicBezTo>
                  <a:cubicBezTo>
                    <a:pt x="23" y="27"/>
                    <a:pt x="25" y="27"/>
                    <a:pt x="26" y="26"/>
                  </a:cubicBezTo>
                  <a:cubicBezTo>
                    <a:pt x="27" y="26"/>
                    <a:pt x="28" y="24"/>
                    <a:pt x="28" y="23"/>
                  </a:cubicBezTo>
                  <a:cubicBezTo>
                    <a:pt x="27" y="23"/>
                    <a:pt x="27" y="22"/>
                    <a:pt x="27" y="22"/>
                  </a:cubicBezTo>
                  <a:cubicBezTo>
                    <a:pt x="27" y="22"/>
                    <a:pt x="27" y="22"/>
                    <a:pt x="27" y="22"/>
                  </a:cubicBezTo>
                  <a:cubicBezTo>
                    <a:pt x="27" y="14"/>
                    <a:pt x="34" y="8"/>
                    <a:pt x="41" y="8"/>
                  </a:cubicBezTo>
                  <a:cubicBezTo>
                    <a:pt x="49" y="8"/>
                    <a:pt x="55" y="14"/>
                    <a:pt x="55" y="22"/>
                  </a:cubicBezTo>
                  <a:cubicBezTo>
                    <a:pt x="55" y="24"/>
                    <a:pt x="55" y="27"/>
                    <a:pt x="53" y="29"/>
                  </a:cubicBezTo>
                  <a:cubicBezTo>
                    <a:pt x="52" y="31"/>
                    <a:pt x="53" y="33"/>
                    <a:pt x="54" y="34"/>
                  </a:cubicBezTo>
                  <a:cubicBezTo>
                    <a:pt x="55" y="35"/>
                    <a:pt x="57" y="35"/>
                    <a:pt x="59" y="34"/>
                  </a:cubicBezTo>
                  <a:cubicBezTo>
                    <a:pt x="60" y="33"/>
                    <a:pt x="63" y="31"/>
                    <a:pt x="67" y="31"/>
                  </a:cubicBezTo>
                  <a:cubicBezTo>
                    <a:pt x="74" y="31"/>
                    <a:pt x="79" y="37"/>
                    <a:pt x="79" y="43"/>
                  </a:cubicBezTo>
                  <a:cubicBezTo>
                    <a:pt x="79" y="50"/>
                    <a:pt x="74" y="56"/>
                    <a:pt x="67" y="56"/>
                  </a:cubicBezTo>
                  <a:cubicBezTo>
                    <a:pt x="59" y="56"/>
                    <a:pt x="59" y="56"/>
                    <a:pt x="59" y="56"/>
                  </a:cubicBezTo>
                  <a:cubicBezTo>
                    <a:pt x="56" y="56"/>
                    <a:pt x="55" y="58"/>
                    <a:pt x="55" y="60"/>
                  </a:cubicBezTo>
                  <a:cubicBezTo>
                    <a:pt x="55" y="62"/>
                    <a:pt x="56" y="63"/>
                    <a:pt x="59" y="63"/>
                  </a:cubicBezTo>
                  <a:cubicBezTo>
                    <a:pt x="67" y="63"/>
                    <a:pt x="67" y="63"/>
                    <a:pt x="67" y="63"/>
                  </a:cubicBezTo>
                  <a:cubicBezTo>
                    <a:pt x="78" y="63"/>
                    <a:pt x="87" y="54"/>
                    <a:pt x="87" y="43"/>
                  </a:cubicBezTo>
                  <a:cubicBezTo>
                    <a:pt x="87" y="32"/>
                    <a:pt x="78" y="23"/>
                    <a:pt x="67"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2" name="Freeform 35"/>
            <p:cNvSpPr/>
            <p:nvPr/>
          </p:nvSpPr>
          <p:spPr>
            <a:xfrm>
              <a:off x="7638480" y="5401800"/>
              <a:ext cx="136800" cy="209160"/>
            </a:xfrm>
            <a:custGeom>
              <a:avLst/>
              <a:gdLst/>
              <a:ahLst/>
              <a:rect l="l" t="t" r="r" b="b"/>
              <a:pathLst>
                <a:path w="33" h="52">
                  <a:moveTo>
                    <a:pt x="27" y="33"/>
                  </a:moveTo>
                  <a:cubicBezTo>
                    <a:pt x="20" y="39"/>
                    <a:pt x="20" y="39"/>
                    <a:pt x="20" y="39"/>
                  </a:cubicBezTo>
                  <a:cubicBezTo>
                    <a:pt x="20" y="3"/>
                    <a:pt x="20" y="3"/>
                    <a:pt x="20" y="3"/>
                  </a:cubicBezTo>
                  <a:cubicBezTo>
                    <a:pt x="20" y="1"/>
                    <a:pt x="19" y="0"/>
                    <a:pt x="16" y="0"/>
                  </a:cubicBezTo>
                  <a:cubicBezTo>
                    <a:pt x="14" y="0"/>
                    <a:pt x="13" y="1"/>
                    <a:pt x="13" y="3"/>
                  </a:cubicBezTo>
                  <a:cubicBezTo>
                    <a:pt x="13" y="39"/>
                    <a:pt x="13" y="39"/>
                    <a:pt x="13" y="39"/>
                  </a:cubicBezTo>
                  <a:cubicBezTo>
                    <a:pt x="6" y="33"/>
                    <a:pt x="6" y="33"/>
                    <a:pt x="6" y="33"/>
                  </a:cubicBezTo>
                  <a:cubicBezTo>
                    <a:pt x="5" y="32"/>
                    <a:pt x="2" y="32"/>
                    <a:pt x="1" y="33"/>
                  </a:cubicBezTo>
                  <a:cubicBezTo>
                    <a:pt x="0" y="34"/>
                    <a:pt x="0" y="37"/>
                    <a:pt x="1" y="38"/>
                  </a:cubicBezTo>
                  <a:cubicBezTo>
                    <a:pt x="14" y="51"/>
                    <a:pt x="14" y="51"/>
                    <a:pt x="14" y="51"/>
                  </a:cubicBezTo>
                  <a:cubicBezTo>
                    <a:pt x="15" y="52"/>
                    <a:pt x="15" y="52"/>
                    <a:pt x="16" y="52"/>
                  </a:cubicBezTo>
                  <a:cubicBezTo>
                    <a:pt x="17" y="52"/>
                    <a:pt x="18" y="52"/>
                    <a:pt x="19" y="51"/>
                  </a:cubicBezTo>
                  <a:cubicBezTo>
                    <a:pt x="32" y="38"/>
                    <a:pt x="32" y="38"/>
                    <a:pt x="32" y="38"/>
                  </a:cubicBezTo>
                  <a:cubicBezTo>
                    <a:pt x="33" y="37"/>
                    <a:pt x="33" y="34"/>
                    <a:pt x="32" y="33"/>
                  </a:cubicBezTo>
                  <a:cubicBezTo>
                    <a:pt x="30" y="32"/>
                    <a:pt x="28" y="32"/>
                    <a:pt x="27"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43" name="Rectangle 47"/>
          <p:cNvSpPr/>
          <p:nvPr/>
        </p:nvSpPr>
        <p:spPr>
          <a:xfrm flipV="1" rot="10800000">
            <a:off x="7775640" y="2017080"/>
            <a:ext cx="3295440" cy="85896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5</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评价审计结果</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4" name="Rectangle 47"/>
          <p:cNvSpPr/>
          <p:nvPr/>
        </p:nvSpPr>
        <p:spPr>
          <a:xfrm flipH="1" flipV="1" rot="10800000">
            <a:off x="8373960" y="2907720"/>
            <a:ext cx="3283200" cy="85896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6</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就审计结果、需调整事项、审计报告意见类型等有关事项与被 审计单位管理层、治理层进行沟通</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5" name="Rectangle 47"/>
          <p:cNvSpPr/>
          <p:nvPr/>
        </p:nvSpPr>
        <p:spPr>
          <a:xfrm flipH="1" flipV="1" rot="10800000">
            <a:off x="8806320" y="5252040"/>
            <a:ext cx="328284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7</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编制与出具审计报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6" name="组合 112"/>
          <p:cNvGrpSpPr/>
          <p:nvPr/>
        </p:nvGrpSpPr>
        <p:grpSpPr>
          <a:xfrm>
            <a:off x="2173320" y="1325520"/>
            <a:ext cx="10115280" cy="5848200"/>
            <a:chOff x="2173320" y="1325520"/>
            <a:chExt cx="10115280" cy="5848200"/>
          </a:xfrm>
        </p:grpSpPr>
        <p:sp>
          <p:nvSpPr>
            <p:cNvPr id="1947" name="圆角矩形 113"/>
            <p:cNvSpPr/>
            <p:nvPr/>
          </p:nvSpPr>
          <p:spPr>
            <a:xfrm>
              <a:off x="2312640" y="1630800"/>
              <a:ext cx="9826560" cy="523908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8" name="组合 114"/>
            <p:cNvGrpSpPr/>
            <p:nvPr/>
          </p:nvGrpSpPr>
          <p:grpSpPr>
            <a:xfrm>
              <a:off x="2173320" y="1325520"/>
              <a:ext cx="577800" cy="587520"/>
              <a:chOff x="2173320" y="1325520"/>
              <a:chExt cx="577800" cy="587520"/>
            </a:xfrm>
          </p:grpSpPr>
          <p:sp>
            <p:nvSpPr>
              <p:cNvPr id="1949" name="菱形 115"/>
              <p:cNvSpPr/>
              <p:nvPr/>
            </p:nvSpPr>
            <p:spPr>
              <a:xfrm>
                <a:off x="2173320" y="1325520"/>
                <a:ext cx="336240" cy="587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0" name="菱形 116"/>
              <p:cNvSpPr/>
              <p:nvPr/>
            </p:nvSpPr>
            <p:spPr>
              <a:xfrm>
                <a:off x="2414880" y="1325520"/>
                <a:ext cx="336240" cy="587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1" name="组合 117"/>
            <p:cNvGrpSpPr/>
            <p:nvPr/>
          </p:nvGrpSpPr>
          <p:grpSpPr>
            <a:xfrm>
              <a:off x="2180160" y="6558840"/>
              <a:ext cx="569880" cy="614880"/>
              <a:chOff x="2180160" y="6558840"/>
              <a:chExt cx="569880" cy="614880"/>
            </a:xfrm>
          </p:grpSpPr>
          <p:sp>
            <p:nvSpPr>
              <p:cNvPr id="1952" name="菱形 118"/>
              <p:cNvSpPr/>
              <p:nvPr/>
            </p:nvSpPr>
            <p:spPr>
              <a:xfrm>
                <a:off x="2180160" y="6585120"/>
                <a:ext cx="336240" cy="58860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菱形 119"/>
              <p:cNvSpPr/>
              <p:nvPr/>
            </p:nvSpPr>
            <p:spPr>
              <a:xfrm>
                <a:off x="2413800" y="6558840"/>
                <a:ext cx="336240" cy="58860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4" name="组合 120"/>
            <p:cNvGrpSpPr/>
            <p:nvPr/>
          </p:nvGrpSpPr>
          <p:grpSpPr>
            <a:xfrm>
              <a:off x="11700000" y="6561720"/>
              <a:ext cx="588600" cy="587160"/>
              <a:chOff x="11700000" y="6561720"/>
              <a:chExt cx="588600" cy="587160"/>
            </a:xfrm>
          </p:grpSpPr>
          <p:sp>
            <p:nvSpPr>
              <p:cNvPr id="1955" name="菱形 121"/>
              <p:cNvSpPr/>
              <p:nvPr/>
            </p:nvSpPr>
            <p:spPr>
              <a:xfrm flipH="1">
                <a:off x="11940840" y="6561720"/>
                <a:ext cx="347760" cy="587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6" name="菱形 122"/>
              <p:cNvSpPr/>
              <p:nvPr/>
            </p:nvSpPr>
            <p:spPr>
              <a:xfrm flipH="1">
                <a:off x="11699640" y="6561720"/>
                <a:ext cx="348840" cy="587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7" name="组合 123"/>
            <p:cNvGrpSpPr/>
            <p:nvPr/>
          </p:nvGrpSpPr>
          <p:grpSpPr>
            <a:xfrm>
              <a:off x="11710800" y="1356120"/>
              <a:ext cx="577800" cy="587520"/>
              <a:chOff x="11710800" y="1356120"/>
              <a:chExt cx="577800" cy="587520"/>
            </a:xfrm>
          </p:grpSpPr>
          <p:sp>
            <p:nvSpPr>
              <p:cNvPr id="1958" name="菱形 124"/>
              <p:cNvSpPr/>
              <p:nvPr/>
            </p:nvSpPr>
            <p:spPr>
              <a:xfrm flipH="1">
                <a:off x="11952360" y="1356120"/>
                <a:ext cx="336240" cy="587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9" name="菱形 125"/>
              <p:cNvSpPr/>
              <p:nvPr/>
            </p:nvSpPr>
            <p:spPr>
              <a:xfrm flipH="1">
                <a:off x="11710800" y="1356120"/>
                <a:ext cx="336240" cy="587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960" name="Title 6"/>
          <p:cNvSpPr/>
          <p:nvPr/>
        </p:nvSpPr>
        <p:spPr>
          <a:xfrm>
            <a:off x="2266920" y="1523880"/>
            <a:ext cx="9755280" cy="2188080"/>
          </a:xfrm>
          <a:prstGeom prst="rect">
            <a:avLst/>
          </a:prstGeom>
          <a:noFill/>
          <a:ln w="0">
            <a:noFill/>
          </a:ln>
        </p:spPr>
        <p:style>
          <a:lnRef idx="0"/>
          <a:fillRef idx="0"/>
          <a:effectRef idx="0"/>
          <a:fontRef idx="minor"/>
        </p:style>
        <p:txBody>
          <a:bodyPr lIns="72000" rIns="72000" tIns="36360" bIns="3636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审计人员在审计过程中发现的被审计单位的会计处理方法与有关会计准则的不一致即为审计差异，其按是否需要调整账户记录可分为核算误差和重分类误差。 </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核算误差是因企业对经济业务进行了不正确的会计核算而引起的误差，根据审计 重要性原则，这些核算误差可分为建议调整的不符事项和不建议调整的不符事项 （未调整不符事项）。</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重分类误差是因企业未按有关会计准则、会计制度规定编制 会计报表而引起的误差，重分类误差不管金额大小都要调整。 </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对审计中发现的核算误差，如何运用审计重要性原则来划分建议调整的不符 事项与未调整不符事项，是正确编制审计差异调整表的关键。审计重要性原则具 有数量和质量两个方面的特征。因此，注册会计师在划分建议调整不符事项和未 调整不符事项时，应当考虑核算误差的金额和性质两个因素。</a:t>
            </a:r>
            <a:endParaRPr b="1" lang="en-US" sz="2000" spc="-1" strike="noStrike">
              <a:solidFill>
                <a:srgbClr val="000000"/>
              </a:solidFill>
              <a:latin typeface="Arial"/>
            </a:endParaRPr>
          </a:p>
        </p:txBody>
      </p:sp>
      <p:grpSp>
        <p:nvGrpSpPr>
          <p:cNvPr id="1961" name="组合 28"/>
          <p:cNvGrpSpPr/>
          <p:nvPr/>
        </p:nvGrpSpPr>
        <p:grpSpPr>
          <a:xfrm>
            <a:off x="927000" y="341280"/>
            <a:ext cx="10360080" cy="523800"/>
            <a:chOff x="927000" y="341280"/>
            <a:chExt cx="10360080" cy="523800"/>
          </a:xfrm>
        </p:grpSpPr>
        <p:sp>
          <p:nvSpPr>
            <p:cNvPr id="1962" name="直接连接符 52"/>
            <p:cNvSpPr/>
            <p:nvPr/>
          </p:nvSpPr>
          <p:spPr>
            <a:xfrm>
              <a:off x="927000" y="603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3" name="直接连接符 64"/>
            <p:cNvSpPr/>
            <p:nvPr/>
          </p:nvSpPr>
          <p:spPr>
            <a:xfrm>
              <a:off x="9307800" y="603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64" name="文本框 31" descr=""/>
            <p:cNvPicPr/>
            <p:nvPr/>
          </p:nvPicPr>
          <p:blipFill>
            <a:blip r:embed="rId1"/>
            <a:stretch/>
          </p:blipFill>
          <p:spPr>
            <a:xfrm>
              <a:off x="2487600" y="341280"/>
              <a:ext cx="7560360" cy="523800"/>
            </a:xfrm>
            <a:prstGeom prst="rect">
              <a:avLst/>
            </a:prstGeom>
            <a:ln w="0">
              <a:noFill/>
            </a:ln>
          </p:spPr>
        </p:pic>
      </p:grpSp>
      <p:sp>
        <p:nvSpPr>
          <p:cNvPr id="1965" name="文本框 2"/>
          <p:cNvSpPr/>
          <p:nvPr/>
        </p:nvSpPr>
        <p:spPr>
          <a:xfrm>
            <a:off x="2763720" y="907920"/>
            <a:ext cx="736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一、编制审计差异汇总表和试算平衡表 </a:t>
            </a:r>
            <a:endParaRPr b="1" lang="en-US" sz="3200" spc="-1" strike="noStrike">
              <a:solidFill>
                <a:srgbClr val="000000"/>
              </a:solidFill>
              <a:latin typeface="Arial"/>
            </a:endParaRPr>
          </a:p>
        </p:txBody>
      </p:sp>
      <p:grpSp>
        <p:nvGrpSpPr>
          <p:cNvPr id="1966" name="组合 1"/>
          <p:cNvGrpSpPr/>
          <p:nvPr/>
        </p:nvGrpSpPr>
        <p:grpSpPr>
          <a:xfrm>
            <a:off x="-223200" y="2276640"/>
            <a:ext cx="2472480" cy="3466800"/>
            <a:chOff x="-223200" y="2276640"/>
            <a:chExt cx="2472480" cy="3466800"/>
          </a:xfrm>
        </p:grpSpPr>
        <p:sp>
          <p:nvSpPr>
            <p:cNvPr id="1967" name="任意多边形 21"/>
            <p:cNvSpPr/>
            <p:nvPr/>
          </p:nvSpPr>
          <p:spPr>
            <a:xfrm>
              <a:off x="480240" y="2680200"/>
              <a:ext cx="1736280" cy="306324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8" name="任意多边形 22"/>
            <p:cNvSpPr/>
            <p:nvPr/>
          </p:nvSpPr>
          <p:spPr>
            <a:xfrm>
              <a:off x="488520" y="2584440"/>
              <a:ext cx="1760760" cy="314784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9" name="任意多边形 23"/>
            <p:cNvSpPr/>
            <p:nvPr/>
          </p:nvSpPr>
          <p:spPr>
            <a:xfrm>
              <a:off x="570600" y="2766240"/>
              <a:ext cx="1588680" cy="282816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0" name="任意多边形 24"/>
            <p:cNvSpPr/>
            <p:nvPr/>
          </p:nvSpPr>
          <p:spPr>
            <a:xfrm>
              <a:off x="558360" y="2754720"/>
              <a:ext cx="1593000" cy="282240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1" name="任意多边形 25"/>
            <p:cNvSpPr/>
            <p:nvPr/>
          </p:nvSpPr>
          <p:spPr>
            <a:xfrm>
              <a:off x="637920" y="2865960"/>
              <a:ext cx="1593000" cy="282240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2" name="矩形 68"/>
            <p:cNvSpPr/>
            <p:nvPr/>
          </p:nvSpPr>
          <p:spPr>
            <a:xfrm>
              <a:off x="1406520" y="5206320"/>
              <a:ext cx="560880" cy="97200"/>
            </a:xfrm>
            <a:prstGeom prst="rect">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3" name="矩形 69"/>
            <p:cNvSpPr/>
            <p:nvPr/>
          </p:nvSpPr>
          <p:spPr>
            <a:xfrm>
              <a:off x="750960" y="345852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4" name="矩形 70"/>
            <p:cNvSpPr/>
            <p:nvPr/>
          </p:nvSpPr>
          <p:spPr>
            <a:xfrm>
              <a:off x="750960" y="363420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5" name="矩形 71"/>
            <p:cNvSpPr/>
            <p:nvPr/>
          </p:nvSpPr>
          <p:spPr>
            <a:xfrm>
              <a:off x="750960" y="381780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6" name="矩形 72"/>
            <p:cNvSpPr/>
            <p:nvPr/>
          </p:nvSpPr>
          <p:spPr>
            <a:xfrm>
              <a:off x="750960" y="39956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7" name="矩形 13"/>
            <p:cNvSpPr/>
            <p:nvPr/>
          </p:nvSpPr>
          <p:spPr>
            <a:xfrm>
              <a:off x="750960" y="41774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8" name="矩形 14"/>
            <p:cNvSpPr/>
            <p:nvPr/>
          </p:nvSpPr>
          <p:spPr>
            <a:xfrm>
              <a:off x="750960" y="436104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9" name="矩形 16"/>
            <p:cNvSpPr/>
            <p:nvPr/>
          </p:nvSpPr>
          <p:spPr>
            <a:xfrm>
              <a:off x="750960" y="45374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0" name="矩形 19"/>
            <p:cNvSpPr/>
            <p:nvPr/>
          </p:nvSpPr>
          <p:spPr>
            <a:xfrm>
              <a:off x="750960" y="472104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1" name="矩形 20"/>
            <p:cNvSpPr/>
            <p:nvPr/>
          </p:nvSpPr>
          <p:spPr>
            <a:xfrm>
              <a:off x="750960" y="490392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2" name="矩形 22"/>
            <p:cNvSpPr/>
            <p:nvPr/>
          </p:nvSpPr>
          <p:spPr>
            <a:xfrm>
              <a:off x="942840" y="3081600"/>
              <a:ext cx="856440" cy="96120"/>
            </a:xfrm>
            <a:prstGeom prst="rect">
              <a:avLst/>
            </a:prstGeom>
            <a:solidFill>
              <a:srgbClr val="b3bac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3" name="任意多边形 37"/>
            <p:cNvSpPr/>
            <p:nvPr/>
          </p:nvSpPr>
          <p:spPr>
            <a:xfrm>
              <a:off x="558360" y="5074560"/>
              <a:ext cx="384480" cy="50256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4" name="任意多边形 38"/>
            <p:cNvSpPr/>
            <p:nvPr/>
          </p:nvSpPr>
          <p:spPr>
            <a:xfrm>
              <a:off x="637920" y="5185800"/>
              <a:ext cx="384480" cy="50256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5" name="任意多边形 39"/>
            <p:cNvSpPr/>
            <p:nvPr/>
          </p:nvSpPr>
          <p:spPr>
            <a:xfrm>
              <a:off x="558360" y="5074560"/>
              <a:ext cx="376200" cy="50256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6" name="矩形 26"/>
            <p:cNvSpPr/>
            <p:nvPr/>
          </p:nvSpPr>
          <p:spPr>
            <a:xfrm>
              <a:off x="1053720" y="2503800"/>
              <a:ext cx="610200" cy="26208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7" name="任意多边形 19"/>
            <p:cNvSpPr/>
            <p:nvPr/>
          </p:nvSpPr>
          <p:spPr>
            <a:xfrm>
              <a:off x="1044000" y="2276640"/>
              <a:ext cx="620640" cy="46908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8d98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8" name="椭圆 31"/>
            <p:cNvSpPr/>
            <p:nvPr/>
          </p:nvSpPr>
          <p:spPr>
            <a:xfrm>
              <a:off x="1281960" y="2350800"/>
              <a:ext cx="149400" cy="208800"/>
            </a:xfrm>
            <a:prstGeom prst="ellipse">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9" name="任意多边形 13"/>
            <p:cNvSpPr/>
            <p:nvPr/>
          </p:nvSpPr>
          <p:spPr>
            <a:xfrm rot="1080600">
              <a:off x="989640" y="3863880"/>
              <a:ext cx="356400" cy="30564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0" name="任意多边形 14"/>
            <p:cNvSpPr/>
            <p:nvPr/>
          </p:nvSpPr>
          <p:spPr>
            <a:xfrm rot="1080600">
              <a:off x="83520" y="3299760"/>
              <a:ext cx="1066680" cy="59364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1" name="任意多边形 15"/>
            <p:cNvSpPr/>
            <p:nvPr/>
          </p:nvSpPr>
          <p:spPr>
            <a:xfrm rot="1080600">
              <a:off x="44640" y="3268800"/>
              <a:ext cx="1067040" cy="59760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2" name="任意多边形 16"/>
            <p:cNvSpPr/>
            <p:nvPr/>
          </p:nvSpPr>
          <p:spPr>
            <a:xfrm rot="1080600">
              <a:off x="-168120" y="2859120"/>
              <a:ext cx="170640" cy="38304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3" name="任意多边形 17"/>
            <p:cNvSpPr/>
            <p:nvPr/>
          </p:nvSpPr>
          <p:spPr>
            <a:xfrm rot="1080600">
              <a:off x="-68400" y="2908800"/>
              <a:ext cx="664200" cy="61056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4" name="任意多边形 18"/>
            <p:cNvSpPr/>
            <p:nvPr/>
          </p:nvSpPr>
          <p:spPr>
            <a:xfrm rot="1080600">
              <a:off x="-18360" y="2944800"/>
              <a:ext cx="109080" cy="37800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9">
                                  <p:stCondLst>
                                    <p:cond delay="0"/>
                                  </p:stCondLst>
                                  <p:childTnLst>
                                    <p:set>
                                      <p:cBhvr>
                                        <p:cTn id="64" dur="1" fill="hold">
                                          <p:stCondLst>
                                            <p:cond delay="0"/>
                                          </p:stCondLst>
                                        </p:cTn>
                                        <p:tgtEl>
                                          <p:spTgt spid="1960"/>
                                        </p:tgtEl>
                                        <p:attrNameLst>
                                          <p:attrName>style.visibility</p:attrName>
                                        </p:attrNameLst>
                                      </p:cBhvr>
                                      <p:to>
                                        <p:strVal val="visible"/>
                                      </p:to>
                                    </p:set>
                                    <p:anim calcmode="lin" valueType="num">
                                      <p:cBhvr additive="repl">
                                        <p:cTn id="65" dur="1000" fill="hold"/>
                                        <p:tgtEl>
                                          <p:spTgt spid="1960"/>
                                        </p:tgtEl>
                                        <p:attrNameLst>
                                          <p:attrName>ppt_x</p:attrName>
                                        </p:attrNameLst>
                                      </p:cBhvr>
                                      <p:tavLst>
                                        <p:tav tm="0">
                                          <p:val>
                                            <p:strVal val="#ppt_x-.2"/>
                                          </p:val>
                                        </p:tav>
                                        <p:tav tm="100000">
                                          <p:val>
                                            <p:strVal val="#ppt_x"/>
                                          </p:val>
                                        </p:tav>
                                      </p:tavLst>
                                    </p:anim>
                                    <p:anim calcmode="lin" valueType="num">
                                      <p:cBhvr additive="repl">
                                        <p:cTn id="66" dur="1000" fill="hold"/>
                                        <p:tgtEl>
                                          <p:spTgt spid="1960"/>
                                        </p:tgtEl>
                                        <p:attrNameLst>
                                          <p:attrName>ppt_y</p:attrName>
                                        </p:attrNameLst>
                                      </p:cBhvr>
                                      <p:tavLst>
                                        <p:tav tm="0">
                                          <p:val>
                                            <p:strVal val="#ppt_y"/>
                                          </p:val>
                                        </p:tav>
                                        <p:tav tm="100000">
                                          <p:val>
                                            <p:strVal val="#ppt_y"/>
                                          </p:val>
                                        </p:tav>
                                      </p:tavLst>
                                    </p:anim>
                                    <p:animEffect filter="wipe(right)" transition="in">
                                      <p:cBhvr additive="repl">
                                        <p:cTn id="67" dur="10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6"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7"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8"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1"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2"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3" name="任意多边形 32"/>
          <p:cNvSpPr/>
          <p:nvPr/>
        </p:nvSpPr>
        <p:spPr>
          <a:xfrm>
            <a:off x="4689360" y="27543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4"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任意多边形 15"/>
          <p:cNvSpPr/>
          <p:nvPr/>
        </p:nvSpPr>
        <p:spPr>
          <a:xfrm flipH="1">
            <a:off x="4887360" y="3024360"/>
            <a:ext cx="2339640" cy="382248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6"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7" name="任意多边形 29"/>
          <p:cNvSpPr/>
          <p:nvPr/>
        </p:nvSpPr>
        <p:spPr>
          <a:xfrm>
            <a:off x="5072040" y="329256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8"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0" name="任意多边形 20"/>
          <p:cNvSpPr/>
          <p:nvPr/>
        </p:nvSpPr>
        <p:spPr>
          <a:xfrm>
            <a:off x="4843440" y="2649600"/>
            <a:ext cx="23184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1" name="任意多边形 21"/>
          <p:cNvSpPr/>
          <p:nvPr/>
        </p:nvSpPr>
        <p:spPr>
          <a:xfrm>
            <a:off x="6126120" y="2529000"/>
            <a:ext cx="235080" cy="23796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2"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任意多边形 23"/>
          <p:cNvSpPr/>
          <p:nvPr/>
        </p:nvSpPr>
        <p:spPr>
          <a:xfrm>
            <a:off x="7039080" y="362592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4" name="任意多边形 18"/>
          <p:cNvSpPr/>
          <p:nvPr/>
        </p:nvSpPr>
        <p:spPr>
          <a:xfrm>
            <a:off x="6095880" y="2671920"/>
            <a:ext cx="828720" cy="89208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5" name="椭圆 26"/>
          <p:cNvSpPr/>
          <p:nvPr/>
        </p:nvSpPr>
        <p:spPr>
          <a:xfrm>
            <a:off x="5276880" y="2496960"/>
            <a:ext cx="814320" cy="79884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6" name="任意多边形 27"/>
          <p:cNvSpPr/>
          <p:nvPr/>
        </p:nvSpPr>
        <p:spPr>
          <a:xfrm>
            <a:off x="5857920" y="3157560"/>
            <a:ext cx="1217520" cy="112860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7"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8" name="任意多边形 25"/>
          <p:cNvSpPr/>
          <p:nvPr/>
        </p:nvSpPr>
        <p:spPr>
          <a:xfrm>
            <a:off x="5322960" y="414648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9"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直接连接符 41"/>
          <p:cNvSpPr/>
          <p:nvPr/>
        </p:nvSpPr>
        <p:spPr>
          <a:xfrm>
            <a:off x="3695760" y="3830760"/>
            <a:ext cx="1395360" cy="0"/>
          </a:xfrm>
          <a:prstGeom prst="line">
            <a:avLst/>
          </a:prstGeom>
          <a:ln w="1260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1" name="椭圆 42"/>
          <p:cNvSpPr/>
          <p:nvPr/>
        </p:nvSpPr>
        <p:spPr>
          <a:xfrm flipH="1" flipV="1" rot="16200000">
            <a:off x="3697200" y="3797280"/>
            <a:ext cx="46080" cy="46080"/>
          </a:xfrm>
          <a:prstGeom prst="ellipse">
            <a:avLst/>
          </a:prstGeom>
          <a:solidFill>
            <a:srgbClr val="178aa1"/>
          </a:solidFill>
          <a:ln w="12600">
            <a:solidFill>
              <a:srgbClr val="178aa1"/>
            </a:solidFill>
            <a:miter/>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2" name="椭圆 45"/>
          <p:cNvSpPr/>
          <p:nvPr/>
        </p:nvSpPr>
        <p:spPr>
          <a:xfrm rot="5400000">
            <a:off x="8051400" y="3797280"/>
            <a:ext cx="47520" cy="44280"/>
          </a:xfrm>
          <a:prstGeom prst="ellipse">
            <a:avLst/>
          </a:prstGeom>
          <a:solidFill>
            <a:srgbClr val="4276aa"/>
          </a:solidFill>
          <a:ln w="12600">
            <a:solidFill>
              <a:srgbClr val="4276aa"/>
            </a:solidFill>
            <a:miter/>
          </a:ln>
        </p:spPr>
        <p:style>
          <a:lnRef idx="0"/>
          <a:fillRef idx="0"/>
          <a:effectRef idx="0"/>
          <a:fontRef idx="minor"/>
        </p:style>
        <p:txBody>
          <a:bodyPr lIns="90000" rIns="90000" tIns="-15480" bIns="-154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文本框 50"/>
          <p:cNvSpPr/>
          <p:nvPr/>
        </p:nvSpPr>
        <p:spPr>
          <a:xfrm>
            <a:off x="595440" y="3481560"/>
            <a:ext cx="3125520" cy="5223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是明确管理层对财务报表的责任。</a:t>
            </a:r>
            <a:endParaRPr b="1" lang="en-US" sz="2400" spc="-1" strike="noStrike">
              <a:solidFill>
                <a:srgbClr val="000000"/>
              </a:solidFill>
              <a:latin typeface="Arial"/>
            </a:endParaRPr>
          </a:p>
        </p:txBody>
      </p:sp>
      <p:sp>
        <p:nvSpPr>
          <p:cNvPr id="2024" name="直接连接符 61"/>
          <p:cNvSpPr/>
          <p:nvPr/>
        </p:nvSpPr>
        <p:spPr>
          <a:xfrm flipH="1">
            <a:off x="6980400" y="3819600"/>
            <a:ext cx="10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5" name="文本框 43"/>
          <p:cNvSpPr/>
          <p:nvPr/>
        </p:nvSpPr>
        <p:spPr>
          <a:xfrm>
            <a:off x="8182080" y="3473280"/>
            <a:ext cx="3686040" cy="14727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是提供审计证据。被审计单位管理层声明书将管理层审计人员的询问所做的答复 以书面的方式予以记录，可作为书面证据</a:t>
            </a:r>
            <a:r>
              <a:rPr b="0" lang="zh-CN" sz="2000" spc="-1" strike="noStrike">
                <a:solidFill>
                  <a:srgbClr val="000000"/>
                </a:solidFill>
                <a:latin typeface="Arial"/>
                <a:ea typeface="微软雅黑"/>
              </a:rPr>
              <a:t>。</a:t>
            </a:r>
            <a:endParaRPr b="1" lang="en-US" sz="2000" spc="-1" strike="noStrike">
              <a:solidFill>
                <a:srgbClr val="000000"/>
              </a:solidFill>
              <a:latin typeface="Arial"/>
            </a:endParaRPr>
          </a:p>
        </p:txBody>
      </p:sp>
      <p:grpSp>
        <p:nvGrpSpPr>
          <p:cNvPr id="2026" name="组合 28"/>
          <p:cNvGrpSpPr/>
          <p:nvPr/>
        </p:nvGrpSpPr>
        <p:grpSpPr>
          <a:xfrm>
            <a:off x="797040" y="149400"/>
            <a:ext cx="10490040" cy="523800"/>
            <a:chOff x="797040" y="149400"/>
            <a:chExt cx="10490040" cy="523800"/>
          </a:xfrm>
        </p:grpSpPr>
        <p:sp>
          <p:nvSpPr>
            <p:cNvPr id="2027" name="直接连接符 2"/>
            <p:cNvSpPr/>
            <p:nvPr/>
          </p:nvSpPr>
          <p:spPr>
            <a:xfrm>
              <a:off x="797040" y="4730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8" name="直接连接符 3"/>
            <p:cNvSpPr/>
            <p:nvPr/>
          </p:nvSpPr>
          <p:spPr>
            <a:xfrm>
              <a:off x="9307800" y="56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029" name="文本框 31" descr=""/>
            <p:cNvPicPr/>
            <p:nvPr/>
          </p:nvPicPr>
          <p:blipFill>
            <a:blip r:embed="rId1"/>
            <a:stretch/>
          </p:blipFill>
          <p:spPr>
            <a:xfrm>
              <a:off x="2564640" y="149400"/>
              <a:ext cx="7560360" cy="523800"/>
            </a:xfrm>
            <a:prstGeom prst="rect">
              <a:avLst/>
            </a:prstGeom>
            <a:ln w="0">
              <a:noFill/>
            </a:ln>
          </p:spPr>
        </p:pic>
      </p:grpSp>
      <p:sp>
        <p:nvSpPr>
          <p:cNvPr id="2030" name="文本框 4"/>
          <p:cNvSpPr/>
          <p:nvPr/>
        </p:nvSpPr>
        <p:spPr>
          <a:xfrm>
            <a:off x="3575160" y="806400"/>
            <a:ext cx="42814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取得管理层声明</a:t>
            </a:r>
            <a:endParaRPr b="1" lang="en-US" sz="3200" spc="-1" strike="noStrike">
              <a:solidFill>
                <a:srgbClr val="000000"/>
              </a:solidFill>
              <a:latin typeface="Arial"/>
            </a:endParaRPr>
          </a:p>
        </p:txBody>
      </p:sp>
      <p:sp>
        <p:nvSpPr>
          <p:cNvPr id="2031" name="文本框 44"/>
          <p:cNvSpPr/>
          <p:nvPr/>
        </p:nvSpPr>
        <p:spPr>
          <a:xfrm>
            <a:off x="504720" y="1400040"/>
            <a:ext cx="1152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声明是指被审计单位管理层向审计人员提供的关于财务报表的各项陈 述。获取管理层声明书是顺利开展审计工作的必要条件，是审计工作必不可少的 一部分。</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声明书具有如下两项作用：</a:t>
            </a:r>
            <a:endParaRPr b="1" lang="en-US" sz="2400" spc="-1" strike="noStrike">
              <a:solidFill>
                <a:srgbClr val="000000"/>
              </a:solidFill>
              <a:latin typeface="Arial"/>
            </a:endParaRPr>
          </a:p>
        </p:txBody>
      </p:sp>
      <p:grpSp>
        <p:nvGrpSpPr>
          <p:cNvPr id="2032" name="组合 112"/>
          <p:cNvGrpSpPr/>
          <p:nvPr/>
        </p:nvGrpSpPr>
        <p:grpSpPr>
          <a:xfrm>
            <a:off x="192240" y="1241280"/>
            <a:ext cx="11999520" cy="1444680"/>
            <a:chOff x="192240" y="1241280"/>
            <a:chExt cx="11999520" cy="1444680"/>
          </a:xfrm>
        </p:grpSpPr>
        <p:sp>
          <p:nvSpPr>
            <p:cNvPr id="2033" name="圆角矩形 113"/>
            <p:cNvSpPr/>
            <p:nvPr/>
          </p:nvSpPr>
          <p:spPr>
            <a:xfrm>
              <a:off x="282240" y="1299600"/>
              <a:ext cx="11657520" cy="13010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34" name="组合 114"/>
            <p:cNvGrpSpPr/>
            <p:nvPr/>
          </p:nvGrpSpPr>
          <p:grpSpPr>
            <a:xfrm>
              <a:off x="192240" y="1241280"/>
              <a:ext cx="684720" cy="145440"/>
              <a:chOff x="192240" y="1241280"/>
              <a:chExt cx="684720" cy="145440"/>
            </a:xfrm>
          </p:grpSpPr>
          <p:sp>
            <p:nvSpPr>
              <p:cNvPr id="2035" name="菱形 60"/>
              <p:cNvSpPr/>
              <p:nvPr/>
            </p:nvSpPr>
            <p:spPr>
              <a:xfrm>
                <a:off x="192240" y="124128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6" name="菱形 62"/>
              <p:cNvSpPr/>
              <p:nvPr/>
            </p:nvSpPr>
            <p:spPr>
              <a:xfrm>
                <a:off x="478440" y="124128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37" name="组合 117"/>
            <p:cNvGrpSpPr/>
            <p:nvPr/>
          </p:nvGrpSpPr>
          <p:grpSpPr>
            <a:xfrm>
              <a:off x="192240" y="2540520"/>
              <a:ext cx="684720" cy="145440"/>
              <a:chOff x="192240" y="2540520"/>
              <a:chExt cx="684720" cy="145440"/>
            </a:xfrm>
          </p:grpSpPr>
          <p:sp>
            <p:nvSpPr>
              <p:cNvPr id="2038" name="菱形 58"/>
              <p:cNvSpPr/>
              <p:nvPr/>
            </p:nvSpPr>
            <p:spPr>
              <a:xfrm>
                <a:off x="192240" y="254052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9" name="菱形 59"/>
              <p:cNvSpPr/>
              <p:nvPr/>
            </p:nvSpPr>
            <p:spPr>
              <a:xfrm>
                <a:off x="478440" y="254052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0" name="组合 120"/>
            <p:cNvGrpSpPr/>
            <p:nvPr/>
          </p:nvGrpSpPr>
          <p:grpSpPr>
            <a:xfrm>
              <a:off x="11493360" y="2540520"/>
              <a:ext cx="698400" cy="145440"/>
              <a:chOff x="11493360" y="2540520"/>
              <a:chExt cx="698400" cy="145440"/>
            </a:xfrm>
          </p:grpSpPr>
          <p:sp>
            <p:nvSpPr>
              <p:cNvPr id="2041" name="菱形 55"/>
              <p:cNvSpPr/>
              <p:nvPr/>
            </p:nvSpPr>
            <p:spPr>
              <a:xfrm flipH="1">
                <a:off x="11777040" y="2540520"/>
                <a:ext cx="41436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2" name="菱形 56"/>
              <p:cNvSpPr/>
              <p:nvPr/>
            </p:nvSpPr>
            <p:spPr>
              <a:xfrm flipH="1">
                <a:off x="11493000" y="2540520"/>
                <a:ext cx="41436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3" name="组合 123"/>
            <p:cNvGrpSpPr/>
            <p:nvPr/>
          </p:nvGrpSpPr>
          <p:grpSpPr>
            <a:xfrm>
              <a:off x="11506680" y="1248840"/>
              <a:ext cx="684720" cy="145440"/>
              <a:chOff x="11506680" y="1248840"/>
              <a:chExt cx="684720" cy="145440"/>
            </a:xfrm>
          </p:grpSpPr>
          <p:sp>
            <p:nvSpPr>
              <p:cNvPr id="2044" name="菱形 53"/>
              <p:cNvSpPr/>
              <p:nvPr/>
            </p:nvSpPr>
            <p:spPr>
              <a:xfrm flipH="1">
                <a:off x="11792520" y="124884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5" name="菱形 54"/>
              <p:cNvSpPr/>
              <p:nvPr/>
            </p:nvSpPr>
            <p:spPr>
              <a:xfrm flipH="1">
                <a:off x="11506320" y="124884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直接连接符 31"/>
          <p:cNvSpPr/>
          <p:nvPr/>
        </p:nvSpPr>
        <p:spPr>
          <a:xfrm flipV="1">
            <a:off x="9435960" y="3885840"/>
            <a:ext cx="0" cy="436680"/>
          </a:xfrm>
          <a:prstGeom prst="line">
            <a:avLst/>
          </a:prstGeom>
          <a:ln w="1908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7" name="直接连接符 16"/>
          <p:cNvSpPr/>
          <p:nvPr/>
        </p:nvSpPr>
        <p:spPr>
          <a:xfrm flipV="1">
            <a:off x="3144960" y="3865680"/>
            <a:ext cx="0" cy="691920"/>
          </a:xfrm>
          <a:prstGeom prst="line">
            <a:avLst/>
          </a:prstGeom>
          <a:ln w="1908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8" name="直接连接符 5"/>
          <p:cNvSpPr/>
          <p:nvPr/>
        </p:nvSpPr>
        <p:spPr>
          <a:xfrm>
            <a:off x="1519200" y="3592440"/>
            <a:ext cx="9906120" cy="0"/>
          </a:xfrm>
          <a:prstGeom prst="line">
            <a:avLst/>
          </a:prstGeom>
          <a:ln cap="rnd" w="5076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9" name="椭圆 12"/>
          <p:cNvSpPr/>
          <p:nvPr/>
        </p:nvSpPr>
        <p:spPr>
          <a:xfrm>
            <a:off x="3078000" y="4459320"/>
            <a:ext cx="157320" cy="1569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0" name="直接连接符 25"/>
          <p:cNvSpPr/>
          <p:nvPr/>
        </p:nvSpPr>
        <p:spPr>
          <a:xfrm flipV="1">
            <a:off x="6102360" y="3726000"/>
            <a:ext cx="42840" cy="666720"/>
          </a:xfrm>
          <a:prstGeom prst="line">
            <a:avLst/>
          </a:prstGeom>
          <a:ln w="19080">
            <a:solidFill>
              <a:srgbClr val="00206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1" name="任意多边形 55"/>
          <p:cNvSpPr/>
          <p:nvPr/>
        </p:nvSpPr>
        <p:spPr>
          <a:xfrm flipH="1" rot="8100000">
            <a:off x="2399760" y="2907720"/>
            <a:ext cx="1407600" cy="14461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2" name="文本框 18"/>
          <p:cNvSpPr/>
          <p:nvPr/>
        </p:nvSpPr>
        <p:spPr>
          <a:xfrm>
            <a:off x="2573280" y="3481560"/>
            <a:ext cx="115560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2053" name="文本框 5"/>
          <p:cNvSpPr/>
          <p:nvPr/>
        </p:nvSpPr>
        <p:spPr>
          <a:xfrm>
            <a:off x="1905120" y="4567320"/>
            <a:ext cx="2341440" cy="668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项目负责</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人进行讨论</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4" name="椭圆 24"/>
          <p:cNvSpPr/>
          <p:nvPr/>
        </p:nvSpPr>
        <p:spPr>
          <a:xfrm>
            <a:off x="6035760" y="4475160"/>
            <a:ext cx="155520" cy="15732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5" name="任意多边形 55"/>
          <p:cNvSpPr/>
          <p:nvPr/>
        </p:nvSpPr>
        <p:spPr>
          <a:xfrm flipH="1" rot="8100000">
            <a:off x="5397120" y="2887200"/>
            <a:ext cx="1414440" cy="14396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6" name="文本框 27"/>
          <p:cNvSpPr/>
          <p:nvPr/>
        </p:nvSpPr>
        <p:spPr>
          <a:xfrm>
            <a:off x="5564160" y="3538440"/>
            <a:ext cx="1123920" cy="10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2057" name="文本框 5"/>
          <p:cNvSpPr/>
          <p:nvPr/>
        </p:nvSpPr>
        <p:spPr>
          <a:xfrm>
            <a:off x="4525920" y="4556160"/>
            <a:ext cx="3240000" cy="1360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复核财务报表或其他 业务对象信息及报告，尤其考虑报告是否适当</a:t>
            </a:r>
            <a:endParaRPr b="1" lang="en-US" sz="2000" spc="-1" strike="noStrike">
              <a:solidFill>
                <a:srgbClr val="000000"/>
              </a:solidFill>
              <a:latin typeface="Arial"/>
            </a:endParaRPr>
          </a:p>
        </p:txBody>
      </p:sp>
      <p:sp>
        <p:nvSpPr>
          <p:cNvPr id="2058" name="椭圆 30"/>
          <p:cNvSpPr/>
          <p:nvPr/>
        </p:nvSpPr>
        <p:spPr>
          <a:xfrm>
            <a:off x="9358200" y="4362480"/>
            <a:ext cx="155520" cy="156960"/>
          </a:xfrm>
          <a:prstGeom prst="ellipse">
            <a:avLst/>
          </a:pr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9" name="任意多边形 55"/>
          <p:cNvSpPr/>
          <p:nvPr/>
        </p:nvSpPr>
        <p:spPr>
          <a:xfrm flipH="1" rot="8100000">
            <a:off x="8762040" y="2944080"/>
            <a:ext cx="1359000" cy="133056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0" name="文本框 34"/>
          <p:cNvSpPr/>
          <p:nvPr/>
        </p:nvSpPr>
        <p:spPr>
          <a:xfrm>
            <a:off x="8486640" y="3305160"/>
            <a:ext cx="19004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1" lang="en-US" sz="2400" spc="-1" strike="noStrike">
              <a:solidFill>
                <a:srgbClr val="000000"/>
              </a:solidFill>
              <a:latin typeface="Arial"/>
            </a:endParaRPr>
          </a:p>
        </p:txBody>
      </p:sp>
      <p:sp>
        <p:nvSpPr>
          <p:cNvPr id="2061" name="文本框 5"/>
          <p:cNvSpPr/>
          <p:nvPr/>
        </p:nvSpPr>
        <p:spPr>
          <a:xfrm>
            <a:off x="8096400" y="4556160"/>
            <a:ext cx="3328920" cy="1436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选取与项目组做出重大判断及形 成结论有关的工作底稿进行复核</a:t>
            </a:r>
            <a:endParaRPr b="1" lang="en-US" sz="2000" spc="-1" strike="noStrike">
              <a:solidFill>
                <a:srgbClr val="000000"/>
              </a:solidFill>
              <a:latin typeface="Arial"/>
            </a:endParaRPr>
          </a:p>
        </p:txBody>
      </p:sp>
      <p:sp>
        <p:nvSpPr>
          <p:cNvPr id="2062" name="文本框 2"/>
          <p:cNvSpPr/>
          <p:nvPr/>
        </p:nvSpPr>
        <p:spPr>
          <a:xfrm>
            <a:off x="687240" y="1390680"/>
            <a:ext cx="10507680" cy="115056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项目质量控制复核是指在出具审计报告前，项目质量控制复核人员对项目组 做出的重大判断和准备审计报告时得出的结论进行客观评价的过程。</a:t>
            </a:r>
            <a:endParaRPr b="1" lang="en-US" sz="2400" spc="-1" strike="noStrike">
              <a:solidFill>
                <a:srgbClr val="000000"/>
              </a:solidFill>
              <a:latin typeface="Arial"/>
            </a:endParaRPr>
          </a:p>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项目质量控制复核通常包括：</a:t>
            </a:r>
            <a:endParaRPr b="1" lang="en-US" sz="2400" spc="-1" strike="noStrike">
              <a:solidFill>
                <a:srgbClr val="000000"/>
              </a:solidFill>
              <a:latin typeface="Arial"/>
            </a:endParaRPr>
          </a:p>
        </p:txBody>
      </p:sp>
      <p:grpSp>
        <p:nvGrpSpPr>
          <p:cNvPr id="2063" name="组合 28"/>
          <p:cNvGrpSpPr/>
          <p:nvPr/>
        </p:nvGrpSpPr>
        <p:grpSpPr>
          <a:xfrm>
            <a:off x="870120" y="404640"/>
            <a:ext cx="10359360" cy="0"/>
            <a:chOff x="870120" y="404640"/>
            <a:chExt cx="10359360" cy="0"/>
          </a:xfrm>
        </p:grpSpPr>
        <p:sp>
          <p:nvSpPr>
            <p:cNvPr id="2064" name="直接连接符 52"/>
            <p:cNvSpPr/>
            <p:nvPr/>
          </p:nvSpPr>
          <p:spPr>
            <a:xfrm>
              <a:off x="870120" y="404640"/>
              <a:ext cx="145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5" name="直接连接符 64"/>
            <p:cNvSpPr/>
            <p:nvPr/>
          </p:nvSpPr>
          <p:spPr>
            <a:xfrm>
              <a:off x="9672840" y="404640"/>
              <a:ext cx="155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66" name="文本框 31"/>
          <p:cNvSpPr/>
          <p:nvPr/>
        </p:nvSpPr>
        <p:spPr>
          <a:xfrm flipV="1" rot="10800000">
            <a:off x="3187440" y="865080"/>
            <a:ext cx="58626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7" name="文本框 28"/>
          <p:cNvSpPr/>
          <p:nvPr/>
        </p:nvSpPr>
        <p:spPr>
          <a:xfrm>
            <a:off x="3503520" y="78732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三、完成项目质量控制复核</a:t>
            </a:r>
            <a:endParaRPr b="1" lang="en-US" sz="3200" spc="-1" strike="noStrike">
              <a:solidFill>
                <a:srgbClr val="000000"/>
              </a:solidFill>
              <a:latin typeface="Arial"/>
            </a:endParaRPr>
          </a:p>
        </p:txBody>
      </p:sp>
      <p:sp>
        <p:nvSpPr>
          <p:cNvPr id="2068" name="矩形 3"/>
          <p:cNvSpPr/>
          <p:nvPr/>
        </p:nvSpPr>
        <p:spPr>
          <a:xfrm>
            <a:off x="2522520" y="87480"/>
            <a:ext cx="683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审计报告阶段的主要工作</a:t>
            </a:r>
            <a:endParaRPr b="1" lang="en-US" sz="3600" spc="-1" strike="noStrike">
              <a:solidFill>
                <a:srgbClr val="000000"/>
              </a:solidFill>
              <a:latin typeface="Arial"/>
            </a:endParaRPr>
          </a:p>
        </p:txBody>
      </p:sp>
      <p:grpSp>
        <p:nvGrpSpPr>
          <p:cNvPr id="2069" name="组合 112"/>
          <p:cNvGrpSpPr/>
          <p:nvPr/>
        </p:nvGrpSpPr>
        <p:grpSpPr>
          <a:xfrm>
            <a:off x="293760" y="1332000"/>
            <a:ext cx="11795040" cy="1790640"/>
            <a:chOff x="293760" y="1332000"/>
            <a:chExt cx="11795040" cy="1790640"/>
          </a:xfrm>
        </p:grpSpPr>
        <p:sp>
          <p:nvSpPr>
            <p:cNvPr id="2070" name="圆角矩形 113"/>
            <p:cNvSpPr/>
            <p:nvPr/>
          </p:nvSpPr>
          <p:spPr>
            <a:xfrm>
              <a:off x="381960" y="1404720"/>
              <a:ext cx="11458440" cy="16124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71" name="组合 114"/>
            <p:cNvGrpSpPr/>
            <p:nvPr/>
          </p:nvGrpSpPr>
          <p:grpSpPr>
            <a:xfrm>
              <a:off x="293760" y="1332000"/>
              <a:ext cx="673560" cy="180360"/>
              <a:chOff x="293760" y="1332000"/>
              <a:chExt cx="673560" cy="180360"/>
            </a:xfrm>
          </p:grpSpPr>
          <p:sp>
            <p:nvSpPr>
              <p:cNvPr id="2072" name="菱形 46"/>
              <p:cNvSpPr/>
              <p:nvPr/>
            </p:nvSpPr>
            <p:spPr>
              <a:xfrm>
                <a:off x="293760" y="133200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3" name="菱形 47"/>
              <p:cNvSpPr/>
              <p:nvPr/>
            </p:nvSpPr>
            <p:spPr>
              <a:xfrm>
                <a:off x="575280" y="133200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4" name="组合 117"/>
            <p:cNvGrpSpPr/>
            <p:nvPr/>
          </p:nvGrpSpPr>
          <p:grpSpPr>
            <a:xfrm>
              <a:off x="293760" y="2942280"/>
              <a:ext cx="673560" cy="180360"/>
              <a:chOff x="293760" y="2942280"/>
              <a:chExt cx="673560" cy="180360"/>
            </a:xfrm>
          </p:grpSpPr>
          <p:sp>
            <p:nvSpPr>
              <p:cNvPr id="2075" name="菱形 44"/>
              <p:cNvSpPr/>
              <p:nvPr/>
            </p:nvSpPr>
            <p:spPr>
              <a:xfrm>
                <a:off x="293760" y="294228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6" name="菱形 45"/>
              <p:cNvSpPr/>
              <p:nvPr/>
            </p:nvSpPr>
            <p:spPr>
              <a:xfrm>
                <a:off x="575280" y="294228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7" name="组合 120"/>
            <p:cNvGrpSpPr/>
            <p:nvPr/>
          </p:nvGrpSpPr>
          <p:grpSpPr>
            <a:xfrm>
              <a:off x="11401920" y="2942280"/>
              <a:ext cx="686880" cy="180360"/>
              <a:chOff x="11401920" y="2942280"/>
              <a:chExt cx="686880" cy="180360"/>
            </a:xfrm>
          </p:grpSpPr>
          <p:sp>
            <p:nvSpPr>
              <p:cNvPr id="2078" name="菱形 42"/>
              <p:cNvSpPr/>
              <p:nvPr/>
            </p:nvSpPr>
            <p:spPr>
              <a:xfrm flipH="1">
                <a:off x="11681280" y="2942280"/>
                <a:ext cx="40752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9" name="菱形 43"/>
              <p:cNvSpPr/>
              <p:nvPr/>
            </p:nvSpPr>
            <p:spPr>
              <a:xfrm flipH="1">
                <a:off x="11401920" y="2942280"/>
                <a:ext cx="40752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0" name="组合 123"/>
            <p:cNvGrpSpPr/>
            <p:nvPr/>
          </p:nvGrpSpPr>
          <p:grpSpPr>
            <a:xfrm>
              <a:off x="11414520" y="1341360"/>
              <a:ext cx="673560" cy="180360"/>
              <a:chOff x="11414520" y="1341360"/>
              <a:chExt cx="673560" cy="180360"/>
            </a:xfrm>
          </p:grpSpPr>
          <p:sp>
            <p:nvSpPr>
              <p:cNvPr id="2081" name="菱形 40"/>
              <p:cNvSpPr/>
              <p:nvPr/>
            </p:nvSpPr>
            <p:spPr>
              <a:xfrm flipH="1">
                <a:off x="11695680" y="134136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2" name="菱形 41"/>
              <p:cNvSpPr/>
              <p:nvPr/>
            </p:nvSpPr>
            <p:spPr>
              <a:xfrm flipH="1">
                <a:off x="11414160" y="134136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42">
                                  <p:stCondLst>
                                    <p:cond delay="0"/>
                                  </p:stCondLst>
                                  <p:childTnLst>
                                    <p:set>
                                      <p:cBhvr>
                                        <p:cTn id="73" dur="1" fill="hold">
                                          <p:stCondLst>
                                            <p:cond delay="0"/>
                                          </p:stCondLst>
                                        </p:cTn>
                                        <p:tgtEl>
                                          <p:spTgt spid="2062"/>
                                        </p:tgtEl>
                                        <p:attrNameLst>
                                          <p:attrName>style.visibility</p:attrName>
                                        </p:attrNameLst>
                                      </p:cBhvr>
                                      <p:to>
                                        <p:strVal val="visible"/>
                                      </p:to>
                                    </p:set>
                                    <p:animEffect filter="fade" transition="in">
                                      <p:cBhvr additive="repl">
                                        <p:cTn id="74" dur="1000"/>
                                        <p:tgtEl>
                                          <p:spTgt spid="2062"/>
                                        </p:tgtEl>
                                      </p:cBhvr>
                                    </p:animEffect>
                                    <p:anim calcmode="lin" valueType="num">
                                      <p:cBhvr additive="repl">
                                        <p:cTn id="75" dur="1000" fill="hold"/>
                                        <p:tgtEl>
                                          <p:spTgt spid="2062"/>
                                        </p:tgtEl>
                                        <p:attrNameLst>
                                          <p:attrName>ppt_x</p:attrName>
                                        </p:attrNameLst>
                                      </p:cBhvr>
                                      <p:tavLst>
                                        <p:tav tm="0">
                                          <p:val>
                                            <p:strVal val="#ppt_x"/>
                                          </p:val>
                                        </p:tav>
                                        <p:tav tm="100000">
                                          <p:val>
                                            <p:strVal val="#ppt_x"/>
                                          </p:val>
                                        </p:tav>
                                      </p:tavLst>
                                    </p:anim>
                                    <p:anim calcmode="lin" valueType="num">
                                      <p:cBhvr additive="repl">
                                        <p:cTn id="76" dur="1000" fill="hold"/>
                                        <p:tgtEl>
                                          <p:spTgt spid="2062"/>
                                        </p:tgtEl>
                                        <p:attrNameLst>
                                          <p:attrName>ppt_y</p:attrName>
                                        </p:attrNameLst>
                                      </p:cBhvr>
                                      <p:tavLst>
                                        <p:tav tm="0">
                                          <p:val>
                                            <p:strVal val="#ppt_y+.1"/>
                                          </p:val>
                                        </p:tav>
                                        <p:tav tm="100000">
                                          <p:val>
                                            <p:strVal val="#ppt_y"/>
                                          </p:val>
                                        </p:tav>
                                      </p:tavLst>
                                    </p:anim>
                                  </p:childTnLst>
                                </p:cTn>
                              </p:par>
                            </p:childTnLst>
                          </p:cTn>
                        </p:par>
                        <p:par>
                          <p:cTn id="77" fill="hold">
                            <p:stCondLst>
                              <p:cond delay="1000"/>
                            </p:stCondLst>
                            <p:childTnLst>
                              <p:par>
                                <p:cTn id="78" dur="indefinite" nodeType="afterEffect" fill="hold" presetClass="entr" presetID="37">
                                  <p:stCondLst>
                                    <p:cond delay="0"/>
                                  </p:stCondLst>
                                  <p:childTnLst>
                                    <p:set>
                                      <p:cBhvr>
                                        <p:cTn id="79" dur="1" fill="hold">
                                          <p:stCondLst>
                                            <p:cond delay="0"/>
                                          </p:stCondLst>
                                        </p:cTn>
                                        <p:tgtEl>
                                          <p:spTgt spid="2053"/>
                                        </p:tgtEl>
                                        <p:attrNameLst>
                                          <p:attrName>style.visibility</p:attrName>
                                        </p:attrNameLst>
                                      </p:cBhvr>
                                      <p:to>
                                        <p:strVal val="visible"/>
                                      </p:to>
                                    </p:set>
                                    <p:animEffect filter="fade" transition="in">
                                      <p:cBhvr additive="repl">
                                        <p:cTn id="80" dur="1000"/>
                                        <p:tgtEl>
                                          <p:spTgt spid="2053"/>
                                        </p:tgtEl>
                                      </p:cBhvr>
                                    </p:animEffect>
                                    <p:anim calcmode="lin" valueType="num">
                                      <p:cBhvr additive="repl">
                                        <p:cTn id="81" dur="1000" fill="hold"/>
                                        <p:tgtEl>
                                          <p:spTgt spid="2053"/>
                                        </p:tgtEl>
                                        <p:attrNameLst>
                                          <p:attrName>ppt_x</p:attrName>
                                        </p:attrNameLst>
                                      </p:cBhvr>
                                      <p:tavLst>
                                        <p:tav tm="0">
                                          <p:val>
                                            <p:strVal val="#ppt_x"/>
                                          </p:val>
                                        </p:tav>
                                        <p:tav tm="100000">
                                          <p:val>
                                            <p:strVal val="#ppt_x"/>
                                          </p:val>
                                        </p:tav>
                                      </p:tavLst>
                                    </p:anim>
                                    <p:anim calcmode="lin" valueType="num">
                                      <p:cBhvr additive="repl">
                                        <p:cTn id="82" dur="900" fill="hold"/>
                                        <p:tgtEl>
                                          <p:spTgt spid="2053"/>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2053"/>
                                        </p:tgtEl>
                                        <p:attrNameLst>
                                          <p:attrName>ppt_y</p:attrName>
                                        </p:attrNameLst>
                                      </p:cBhvr>
                                      <p:tavLst>
                                        <p:tav tm="0">
                                          <p:val>
                                            <p:strVal val="#ppt_y-.03"/>
                                          </p:val>
                                        </p:tav>
                                        <p:tav tm="100000">
                                          <p:val>
                                            <p:strVal val="#ppt_y"/>
                                          </p:val>
                                        </p:tav>
                                      </p:tavLst>
                                    </p:anim>
                                  </p:childTnLst>
                                </p:cTn>
                              </p:par>
                            </p:childTnLst>
                          </p:cTn>
                        </p:par>
                        <p:par>
                          <p:cTn id="84" fill="hold">
                            <p:stCondLst>
                              <p:cond delay="2000"/>
                            </p:stCondLst>
                            <p:childTnLst>
                              <p:par>
                                <p:cTn id="85" dur="indefinite" nodeType="afterEffect" fill="hold" presetClass="entr" presetID="37">
                                  <p:stCondLst>
                                    <p:cond delay="0"/>
                                  </p:stCondLst>
                                  <p:childTnLst>
                                    <p:set>
                                      <p:cBhvr>
                                        <p:cTn id="86" dur="1" fill="hold">
                                          <p:stCondLst>
                                            <p:cond delay="0"/>
                                          </p:stCondLst>
                                        </p:cTn>
                                        <p:tgtEl>
                                          <p:spTgt spid="2057"/>
                                        </p:tgtEl>
                                        <p:attrNameLst>
                                          <p:attrName>style.visibility</p:attrName>
                                        </p:attrNameLst>
                                      </p:cBhvr>
                                      <p:to>
                                        <p:strVal val="visible"/>
                                      </p:to>
                                    </p:set>
                                    <p:animEffect filter="fade" transition="in">
                                      <p:cBhvr additive="repl">
                                        <p:cTn id="87" dur="1000"/>
                                        <p:tgtEl>
                                          <p:spTgt spid="2057"/>
                                        </p:tgtEl>
                                      </p:cBhvr>
                                    </p:animEffect>
                                    <p:anim calcmode="lin" valueType="num">
                                      <p:cBhvr additive="repl">
                                        <p:cTn id="88" dur="1000" fill="hold"/>
                                        <p:tgtEl>
                                          <p:spTgt spid="2057"/>
                                        </p:tgtEl>
                                        <p:attrNameLst>
                                          <p:attrName>ppt_x</p:attrName>
                                        </p:attrNameLst>
                                      </p:cBhvr>
                                      <p:tavLst>
                                        <p:tav tm="0">
                                          <p:val>
                                            <p:strVal val="#ppt_x"/>
                                          </p:val>
                                        </p:tav>
                                        <p:tav tm="100000">
                                          <p:val>
                                            <p:strVal val="#ppt_x"/>
                                          </p:val>
                                        </p:tav>
                                      </p:tavLst>
                                    </p:anim>
                                    <p:anim calcmode="lin" valueType="num">
                                      <p:cBhvr additive="repl">
                                        <p:cTn id="89" dur="900" fill="hold"/>
                                        <p:tgtEl>
                                          <p:spTgt spid="2057"/>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057"/>
                                        </p:tgtEl>
                                        <p:attrNameLst>
                                          <p:attrName>ppt_y</p:attrName>
                                        </p:attrNameLst>
                                      </p:cBhvr>
                                      <p:tavLst>
                                        <p:tav tm="0">
                                          <p:val>
                                            <p:strVal val="#ppt_y-.03"/>
                                          </p:val>
                                        </p:tav>
                                        <p:tav tm="100000">
                                          <p:val>
                                            <p:strVal val="#ppt_y"/>
                                          </p:val>
                                        </p:tav>
                                      </p:tavLst>
                                    </p:anim>
                                  </p:childTnLst>
                                </p:cTn>
                              </p:par>
                            </p:childTnLst>
                          </p:cTn>
                        </p:par>
                        <p:par>
                          <p:cTn id="91" fill="hold">
                            <p:stCondLst>
                              <p:cond delay="3000"/>
                            </p:stCondLst>
                            <p:childTnLst>
                              <p:par>
                                <p:cTn id="92" dur="indefinite" nodeType="afterEffect" fill="hold" presetClass="entr" presetID="37">
                                  <p:stCondLst>
                                    <p:cond delay="0"/>
                                  </p:stCondLst>
                                  <p:childTnLst>
                                    <p:set>
                                      <p:cBhvr>
                                        <p:cTn id="93" dur="1" fill="hold">
                                          <p:stCondLst>
                                            <p:cond delay="0"/>
                                          </p:stCondLst>
                                        </p:cTn>
                                        <p:tgtEl>
                                          <p:spTgt spid="2061"/>
                                        </p:tgtEl>
                                        <p:attrNameLst>
                                          <p:attrName>style.visibility</p:attrName>
                                        </p:attrNameLst>
                                      </p:cBhvr>
                                      <p:to>
                                        <p:strVal val="visible"/>
                                      </p:to>
                                    </p:set>
                                    <p:animEffect filter="fade" transition="in">
                                      <p:cBhvr additive="repl">
                                        <p:cTn id="94" dur="1000"/>
                                        <p:tgtEl>
                                          <p:spTgt spid="2061"/>
                                        </p:tgtEl>
                                      </p:cBhvr>
                                    </p:animEffect>
                                    <p:anim calcmode="lin" valueType="num">
                                      <p:cBhvr additive="repl">
                                        <p:cTn id="95" dur="1000" fill="hold"/>
                                        <p:tgtEl>
                                          <p:spTgt spid="2061"/>
                                        </p:tgtEl>
                                        <p:attrNameLst>
                                          <p:attrName>ppt_x</p:attrName>
                                        </p:attrNameLst>
                                      </p:cBhvr>
                                      <p:tavLst>
                                        <p:tav tm="0">
                                          <p:val>
                                            <p:strVal val="#ppt_x"/>
                                          </p:val>
                                        </p:tav>
                                        <p:tav tm="100000">
                                          <p:val>
                                            <p:strVal val="#ppt_x"/>
                                          </p:val>
                                        </p:tav>
                                      </p:tavLst>
                                    </p:anim>
                                    <p:anim calcmode="lin" valueType="num">
                                      <p:cBhvr additive="repl">
                                        <p:cTn id="96" dur="900" fill="hold"/>
                                        <p:tgtEl>
                                          <p:spTgt spid="2061"/>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20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3" name="组合 28"/>
          <p:cNvGrpSpPr/>
          <p:nvPr/>
        </p:nvGrpSpPr>
        <p:grpSpPr>
          <a:xfrm>
            <a:off x="944640" y="476280"/>
            <a:ext cx="10360080" cy="0"/>
            <a:chOff x="944640" y="476280"/>
            <a:chExt cx="10360080" cy="0"/>
          </a:xfrm>
        </p:grpSpPr>
        <p:sp>
          <p:nvSpPr>
            <p:cNvPr id="2084" name="直接连接符 52"/>
            <p:cNvSpPr/>
            <p:nvPr/>
          </p:nvSpPr>
          <p:spPr>
            <a:xfrm>
              <a:off x="944640" y="476280"/>
              <a:ext cx="11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5" name="直接连接符 64"/>
            <p:cNvSpPr/>
            <p:nvPr/>
          </p:nvSpPr>
          <p:spPr>
            <a:xfrm>
              <a:off x="9939600" y="476280"/>
              <a:ext cx="13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86" name="文本框 2"/>
          <p:cNvSpPr/>
          <p:nvPr/>
        </p:nvSpPr>
        <p:spPr>
          <a:xfrm>
            <a:off x="4052880" y="668160"/>
            <a:ext cx="3952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四、评价审计结果</a:t>
            </a:r>
            <a:endParaRPr b="1" lang="en-US" sz="3200" spc="-1" strike="noStrike">
              <a:solidFill>
                <a:srgbClr val="000000"/>
              </a:solidFill>
              <a:latin typeface="Arial"/>
            </a:endParaRPr>
          </a:p>
        </p:txBody>
      </p:sp>
      <p:sp>
        <p:nvSpPr>
          <p:cNvPr id="2087" name="Title 6"/>
          <p:cNvSpPr/>
          <p:nvPr/>
        </p:nvSpPr>
        <p:spPr>
          <a:xfrm>
            <a:off x="66600" y="1141560"/>
            <a:ext cx="12284280" cy="2246400"/>
          </a:xfrm>
          <a:prstGeom prst="rect">
            <a:avLst/>
          </a:prstGeom>
          <a:noFill/>
          <a:ln w="0">
            <a:noFill/>
          </a:ln>
        </p:spPr>
        <p:style>
          <a:lnRef idx="0"/>
          <a:fillRef idx="0"/>
          <a:effectRef idx="0"/>
          <a:fontRef idx="minor"/>
        </p:style>
        <p:txBody>
          <a:bodyPr lIns="72000" rIns="72000" tIns="36360" bIns="3636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注册会计师评价审计结果，主要为了确定将要发表的审计意见的类型以及在 整个审计</a:t>
            </a:r>
            <a:endParaRPr b="1"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黑体"/>
              </a:rPr>
              <a:t>  </a:t>
            </a:r>
            <a:r>
              <a:rPr b="0" lang="zh-CN" sz="2400" spc="-1" strike="noStrike">
                <a:solidFill>
                  <a:srgbClr val="000000"/>
                </a:solidFill>
                <a:latin typeface="Arial Black"/>
                <a:ea typeface="黑体"/>
              </a:rPr>
              <a:t>工作中是否遵循了审计准则。主要包括以下工作内容：</a:t>
            </a:r>
            <a:endParaRPr b="1" lang="en-US" sz="24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75b4"/>
                </a:solidFill>
                <a:latin typeface="微软雅黑"/>
                <a:ea typeface="微软雅黑"/>
              </a:rPr>
              <a:t>（一）对重要性和审计风险进行最终的评价 （二）对被审计单位已审计财务报表形成审计意见并草拟审计报告</a:t>
            </a:r>
            <a:endParaRPr b="1" lang="en-US" sz="20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8" name="直接连接符 143"/>
          <p:cNvSpPr/>
          <p:nvPr/>
        </p:nvSpPr>
        <p:spPr>
          <a:xfrm>
            <a:off x="6164280" y="5456160"/>
            <a:ext cx="0" cy="1077840"/>
          </a:xfrm>
          <a:prstGeom prst="line">
            <a:avLst/>
          </a:prstGeom>
          <a:ln w="41400">
            <a:solidFill>
              <a:srgbClr val="f2f2f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089" name="组合 69"/>
          <p:cNvGrpSpPr/>
          <p:nvPr/>
        </p:nvGrpSpPr>
        <p:grpSpPr>
          <a:xfrm>
            <a:off x="5483160" y="3633840"/>
            <a:ext cx="2335320" cy="2022480"/>
            <a:chOff x="5483160" y="3633840"/>
            <a:chExt cx="2335320" cy="2022480"/>
          </a:xfrm>
        </p:grpSpPr>
        <p:sp>
          <p:nvSpPr>
            <p:cNvPr id="2090" name="PA-任意多边形 81"/>
            <p:cNvSpPr/>
            <p:nvPr/>
          </p:nvSpPr>
          <p:spPr>
            <a:xfrm>
              <a:off x="5672880" y="5182560"/>
              <a:ext cx="82080" cy="10152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1" name="PA-任意多边形 82"/>
            <p:cNvSpPr/>
            <p:nvPr/>
          </p:nvSpPr>
          <p:spPr>
            <a:xfrm>
              <a:off x="5545440" y="5195520"/>
              <a:ext cx="102240" cy="21168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2" name="PA-任意多边形 86"/>
            <p:cNvSpPr/>
            <p:nvPr/>
          </p:nvSpPr>
          <p:spPr>
            <a:xfrm>
              <a:off x="5495760" y="5346360"/>
              <a:ext cx="117000" cy="6048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3" name="PA-任意多边形 87"/>
            <p:cNvSpPr/>
            <p:nvPr/>
          </p:nvSpPr>
          <p:spPr>
            <a:xfrm>
              <a:off x="5595840" y="5195520"/>
              <a:ext cx="29520" cy="5004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4" name="PA-任意多边形 88"/>
            <p:cNvSpPr/>
            <p:nvPr/>
          </p:nvSpPr>
          <p:spPr>
            <a:xfrm>
              <a:off x="5603400" y="5254200"/>
              <a:ext cx="29520" cy="5004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5" name="PA-任意多边形 89"/>
            <p:cNvSpPr/>
            <p:nvPr/>
          </p:nvSpPr>
          <p:spPr>
            <a:xfrm>
              <a:off x="5595840" y="5310360"/>
              <a:ext cx="29520" cy="4644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6" name="PA-任意多边形 90"/>
            <p:cNvSpPr/>
            <p:nvPr/>
          </p:nvSpPr>
          <p:spPr>
            <a:xfrm>
              <a:off x="5580000" y="5362920"/>
              <a:ext cx="37800" cy="4068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PA-任意多边形 92"/>
            <p:cNvSpPr/>
            <p:nvPr/>
          </p:nvSpPr>
          <p:spPr>
            <a:xfrm>
              <a:off x="5543280" y="5120640"/>
              <a:ext cx="142200" cy="6984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8" name="PA-任意多边形 93"/>
            <p:cNvSpPr/>
            <p:nvPr/>
          </p:nvSpPr>
          <p:spPr>
            <a:xfrm>
              <a:off x="5572800" y="5126400"/>
              <a:ext cx="52560" cy="2196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99" name="组合 96"/>
            <p:cNvGrpSpPr/>
            <p:nvPr/>
          </p:nvGrpSpPr>
          <p:grpSpPr>
            <a:xfrm>
              <a:off x="5483160" y="3633840"/>
              <a:ext cx="2335320" cy="2022480"/>
              <a:chOff x="5483160" y="3633840"/>
              <a:chExt cx="2335320" cy="2022480"/>
            </a:xfrm>
          </p:grpSpPr>
          <p:sp>
            <p:nvSpPr>
              <p:cNvPr id="2100" name="PA-矩形 120"/>
              <p:cNvSpPr/>
              <p:nvPr/>
            </p:nvSpPr>
            <p:spPr>
              <a:xfrm>
                <a:off x="6175800" y="4116240"/>
                <a:ext cx="942840" cy="10450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1" name="PA-任意多边形 56"/>
              <p:cNvSpPr/>
              <p:nvPr/>
            </p:nvSpPr>
            <p:spPr>
              <a:xfrm>
                <a:off x="6639120" y="4685400"/>
                <a:ext cx="497160" cy="97092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2" name="PA-任意多边形 57"/>
              <p:cNvSpPr/>
              <p:nvPr/>
            </p:nvSpPr>
            <p:spPr>
              <a:xfrm>
                <a:off x="6894720" y="4796640"/>
                <a:ext cx="421200" cy="72972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3" name="PA-任意多边形 58"/>
              <p:cNvSpPr/>
              <p:nvPr/>
            </p:nvSpPr>
            <p:spPr>
              <a:xfrm>
                <a:off x="7048800" y="5193360"/>
                <a:ext cx="526680" cy="32508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4" name="PA-任意多边形 59"/>
              <p:cNvSpPr/>
              <p:nvPr/>
            </p:nvSpPr>
            <p:spPr>
              <a:xfrm>
                <a:off x="6644520" y="3633840"/>
                <a:ext cx="426240" cy="98712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5" name="PA-任意多边形 60"/>
              <p:cNvSpPr/>
              <p:nvPr/>
            </p:nvSpPr>
            <p:spPr>
              <a:xfrm>
                <a:off x="6165000" y="4685400"/>
                <a:ext cx="497160" cy="97092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6" name="PA-任意多边形 61"/>
              <p:cNvSpPr/>
              <p:nvPr/>
            </p:nvSpPr>
            <p:spPr>
              <a:xfrm>
                <a:off x="6439680" y="4505400"/>
                <a:ext cx="419040" cy="82332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7" name="PA-任意多边形 62"/>
              <p:cNvSpPr/>
              <p:nvPr/>
            </p:nvSpPr>
            <p:spPr>
              <a:xfrm>
                <a:off x="6505200" y="4505400"/>
                <a:ext cx="289080" cy="27108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8" name="PA-任意多边形 63"/>
              <p:cNvSpPr/>
              <p:nvPr/>
            </p:nvSpPr>
            <p:spPr>
              <a:xfrm>
                <a:off x="6514560" y="4505400"/>
                <a:ext cx="274320" cy="19404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9" name="PA-任意多边形 64"/>
              <p:cNvSpPr/>
              <p:nvPr/>
            </p:nvSpPr>
            <p:spPr>
              <a:xfrm>
                <a:off x="6477480" y="4505400"/>
                <a:ext cx="172080" cy="43272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PA-任意多边形 65"/>
              <p:cNvSpPr/>
              <p:nvPr/>
            </p:nvSpPr>
            <p:spPr>
              <a:xfrm>
                <a:off x="6505200" y="4505400"/>
                <a:ext cx="144360" cy="27468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1" name="PA-任意多边形 66"/>
              <p:cNvSpPr/>
              <p:nvPr/>
            </p:nvSpPr>
            <p:spPr>
              <a:xfrm>
                <a:off x="6514560" y="4505400"/>
                <a:ext cx="135000" cy="19404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PA-任意多边形 67"/>
              <p:cNvSpPr/>
              <p:nvPr/>
            </p:nvSpPr>
            <p:spPr>
              <a:xfrm>
                <a:off x="6540120" y="4776840"/>
                <a:ext cx="221400" cy="15552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3" name="PA-任意多边形 68"/>
              <p:cNvSpPr/>
              <p:nvPr/>
            </p:nvSpPr>
            <p:spPr>
              <a:xfrm>
                <a:off x="6599160" y="4833000"/>
                <a:ext cx="102240" cy="52380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4" name="PA-任意多边形 69"/>
              <p:cNvSpPr/>
              <p:nvPr/>
            </p:nvSpPr>
            <p:spPr>
              <a:xfrm>
                <a:off x="6227280" y="3633840"/>
                <a:ext cx="426240" cy="98712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5" name="PA-任意多边形 70"/>
              <p:cNvSpPr/>
              <p:nvPr/>
            </p:nvSpPr>
            <p:spPr>
              <a:xfrm>
                <a:off x="6291720" y="3866400"/>
                <a:ext cx="707400" cy="93816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6" name="PA-任意多边形 71"/>
              <p:cNvSpPr/>
              <p:nvPr/>
            </p:nvSpPr>
            <p:spPr>
              <a:xfrm>
                <a:off x="6291720" y="3866400"/>
                <a:ext cx="362160" cy="80244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7" name="PA-任意多边形 72"/>
              <p:cNvSpPr/>
              <p:nvPr/>
            </p:nvSpPr>
            <p:spPr>
              <a:xfrm>
                <a:off x="6245280" y="3791520"/>
                <a:ext cx="783360" cy="34956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8" name="PA-任意多边形 73"/>
              <p:cNvSpPr/>
              <p:nvPr/>
            </p:nvSpPr>
            <p:spPr>
              <a:xfrm>
                <a:off x="6591600" y="4124880"/>
                <a:ext cx="92880" cy="33552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9" name="PA-任意多边形 74"/>
              <p:cNvSpPr/>
              <p:nvPr/>
            </p:nvSpPr>
            <p:spPr>
              <a:xfrm>
                <a:off x="5989680" y="4796640"/>
                <a:ext cx="422280" cy="72972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0" name="PA-任意多边形 75"/>
              <p:cNvSpPr/>
              <p:nvPr/>
            </p:nvSpPr>
            <p:spPr>
              <a:xfrm>
                <a:off x="5725800" y="5193360"/>
                <a:ext cx="534240" cy="32508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1" name="PA-任意多边形 76"/>
              <p:cNvSpPr/>
              <p:nvPr/>
            </p:nvSpPr>
            <p:spPr>
              <a:xfrm>
                <a:off x="6437520" y="4663080"/>
                <a:ext cx="214200" cy="21384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2" name="PA-任意多边形 77"/>
              <p:cNvSpPr/>
              <p:nvPr/>
            </p:nvSpPr>
            <p:spPr>
              <a:xfrm>
                <a:off x="6651720" y="4669200"/>
                <a:ext cx="212040" cy="20232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3" name="PA-任意多边形 78"/>
              <p:cNvSpPr/>
              <p:nvPr/>
            </p:nvSpPr>
            <p:spPr>
              <a:xfrm>
                <a:off x="6646680" y="4685400"/>
                <a:ext cx="294480" cy="91008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4" name="PA-任意多边形 79"/>
              <p:cNvSpPr/>
              <p:nvPr/>
            </p:nvSpPr>
            <p:spPr>
              <a:xfrm>
                <a:off x="6359400" y="4685400"/>
                <a:ext cx="294480" cy="91008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5" name="PA-任意多边形 80"/>
              <p:cNvSpPr/>
              <p:nvPr/>
            </p:nvSpPr>
            <p:spPr>
              <a:xfrm>
                <a:off x="5530320" y="5162760"/>
                <a:ext cx="230040" cy="26892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6" name="PA-任意多边形 83"/>
              <p:cNvSpPr/>
              <p:nvPr/>
            </p:nvSpPr>
            <p:spPr>
              <a:xfrm>
                <a:off x="5502960" y="5179320"/>
                <a:ext cx="127440" cy="7236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7" name="PA-任意多边形 84"/>
              <p:cNvSpPr/>
              <p:nvPr/>
            </p:nvSpPr>
            <p:spPr>
              <a:xfrm>
                <a:off x="5483160" y="5235480"/>
                <a:ext cx="155160" cy="7452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8" name="PA-任意多边形 85"/>
              <p:cNvSpPr/>
              <p:nvPr/>
            </p:nvSpPr>
            <p:spPr>
              <a:xfrm>
                <a:off x="5488200" y="5290200"/>
                <a:ext cx="142200" cy="7236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9" name="PA-任意多边形 91"/>
              <p:cNvSpPr/>
              <p:nvPr/>
            </p:nvSpPr>
            <p:spPr>
              <a:xfrm>
                <a:off x="5625360" y="5132520"/>
                <a:ext cx="102240" cy="11088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0" name="PA-任意多边形 94"/>
              <p:cNvSpPr/>
              <p:nvPr/>
            </p:nvSpPr>
            <p:spPr>
              <a:xfrm>
                <a:off x="7540920" y="5162760"/>
                <a:ext cx="232200" cy="26892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1" name="PA-任意多边形 95"/>
              <p:cNvSpPr/>
              <p:nvPr/>
            </p:nvSpPr>
            <p:spPr>
              <a:xfrm>
                <a:off x="7546320" y="5182560"/>
                <a:ext cx="82080" cy="10152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2" name="PA-任意多边形 96"/>
              <p:cNvSpPr/>
              <p:nvPr/>
            </p:nvSpPr>
            <p:spPr>
              <a:xfrm>
                <a:off x="7656120" y="5195520"/>
                <a:ext cx="100080" cy="21168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3" name="PA-任意多边形 97"/>
              <p:cNvSpPr/>
              <p:nvPr/>
            </p:nvSpPr>
            <p:spPr>
              <a:xfrm>
                <a:off x="7670880" y="5179320"/>
                <a:ext cx="127440" cy="7236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4" name="PA-任意多边形 98"/>
              <p:cNvSpPr/>
              <p:nvPr/>
            </p:nvSpPr>
            <p:spPr>
              <a:xfrm>
                <a:off x="7663320" y="5235480"/>
                <a:ext cx="155160" cy="7452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5" name="PA-任意多边形 99"/>
              <p:cNvSpPr/>
              <p:nvPr/>
            </p:nvSpPr>
            <p:spPr>
              <a:xfrm>
                <a:off x="7670880" y="5290200"/>
                <a:ext cx="144360" cy="7236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6" name="PA-任意多边形 100"/>
              <p:cNvSpPr/>
              <p:nvPr/>
            </p:nvSpPr>
            <p:spPr>
              <a:xfrm>
                <a:off x="7688880" y="5346360"/>
                <a:ext cx="117000" cy="6048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7" name="PA-任意多边形 101"/>
              <p:cNvSpPr/>
              <p:nvPr/>
            </p:nvSpPr>
            <p:spPr>
              <a:xfrm>
                <a:off x="7676280" y="5195520"/>
                <a:ext cx="29520" cy="5004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8" name="PA-任意多边形 102"/>
              <p:cNvSpPr/>
              <p:nvPr/>
            </p:nvSpPr>
            <p:spPr>
              <a:xfrm>
                <a:off x="7668720" y="5254200"/>
                <a:ext cx="29520" cy="5004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9" name="PA-任意多边形 103"/>
              <p:cNvSpPr/>
              <p:nvPr/>
            </p:nvSpPr>
            <p:spPr>
              <a:xfrm>
                <a:off x="7676280" y="5310360"/>
                <a:ext cx="29520" cy="4644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0" name="PA-任意多边形 104"/>
              <p:cNvSpPr/>
              <p:nvPr/>
            </p:nvSpPr>
            <p:spPr>
              <a:xfrm>
                <a:off x="7683480" y="5362920"/>
                <a:ext cx="39960" cy="4068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1" name="PA-任意多边形 105"/>
              <p:cNvSpPr/>
              <p:nvPr/>
            </p:nvSpPr>
            <p:spPr>
              <a:xfrm>
                <a:off x="7573680" y="5132520"/>
                <a:ext cx="102240" cy="11088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2" name="PA-任意多边形 106"/>
              <p:cNvSpPr/>
              <p:nvPr/>
            </p:nvSpPr>
            <p:spPr>
              <a:xfrm>
                <a:off x="7615800" y="5120640"/>
                <a:ext cx="142200" cy="6984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3" name="PA-任意多边形 107"/>
              <p:cNvSpPr/>
              <p:nvPr/>
            </p:nvSpPr>
            <p:spPr>
              <a:xfrm>
                <a:off x="7676280" y="5126400"/>
                <a:ext cx="54720" cy="2196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PA-任意多边形 108"/>
              <p:cNvSpPr/>
              <p:nvPr/>
            </p:nvSpPr>
            <p:spPr>
              <a:xfrm>
                <a:off x="6669720" y="4002120"/>
                <a:ext cx="327240" cy="11448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145" name="椭圆 145"/>
          <p:cNvSpPr/>
          <p:nvPr/>
        </p:nvSpPr>
        <p:spPr>
          <a:xfrm>
            <a:off x="6099120" y="5311800"/>
            <a:ext cx="131760" cy="1411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6" name="组合 146"/>
          <p:cNvGrpSpPr/>
          <p:nvPr/>
        </p:nvGrpSpPr>
        <p:grpSpPr>
          <a:xfrm>
            <a:off x="5156280" y="4257720"/>
            <a:ext cx="3146400" cy="912600"/>
            <a:chOff x="5156280" y="4257720"/>
            <a:chExt cx="3146400" cy="912600"/>
          </a:xfrm>
        </p:grpSpPr>
        <p:grpSp>
          <p:nvGrpSpPr>
            <p:cNvPr id="2147" name="组合 147"/>
            <p:cNvGrpSpPr/>
            <p:nvPr/>
          </p:nvGrpSpPr>
          <p:grpSpPr>
            <a:xfrm>
              <a:off x="5156280" y="4262040"/>
              <a:ext cx="856080" cy="908280"/>
              <a:chOff x="5156280" y="4262040"/>
              <a:chExt cx="856080" cy="908280"/>
            </a:xfrm>
          </p:grpSpPr>
          <p:sp>
            <p:nvSpPr>
              <p:cNvPr id="2148" name="PA-椭圆 175"/>
              <p:cNvSpPr/>
              <p:nvPr/>
            </p:nvSpPr>
            <p:spPr>
              <a:xfrm flipH="1">
                <a:off x="5156280" y="4262040"/>
                <a:ext cx="856080" cy="908280"/>
              </a:xfrm>
              <a:prstGeom prst="ellipse">
                <a:avLst/>
              </a:prstGeom>
              <a:solidFill>
                <a:srgbClr val="d6eaf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9" name="任意多边形: 形状 76"/>
              <p:cNvSpPr/>
              <p:nvPr/>
            </p:nvSpPr>
            <p:spPr>
              <a:xfrm flipH="1">
                <a:off x="5156280" y="4484160"/>
                <a:ext cx="856080" cy="68616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3498d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0" name="PA-任意多边形 42"/>
              <p:cNvSpPr/>
              <p:nvPr/>
            </p:nvSpPr>
            <p:spPr>
              <a:xfrm>
                <a:off x="5343480" y="4560480"/>
                <a:ext cx="486720" cy="4003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51" name="组合 151"/>
            <p:cNvGrpSpPr/>
            <p:nvPr/>
          </p:nvGrpSpPr>
          <p:grpSpPr>
            <a:xfrm>
              <a:off x="7398360" y="4257720"/>
              <a:ext cx="904320" cy="907920"/>
              <a:chOff x="7398360" y="4257720"/>
              <a:chExt cx="904320" cy="907920"/>
            </a:xfrm>
          </p:grpSpPr>
          <p:sp>
            <p:nvSpPr>
              <p:cNvPr id="2152" name="PA-椭圆 43"/>
              <p:cNvSpPr/>
              <p:nvPr/>
            </p:nvSpPr>
            <p:spPr>
              <a:xfrm flipH="1">
                <a:off x="7398360" y="4257720"/>
                <a:ext cx="904320" cy="907920"/>
              </a:xfrm>
              <a:prstGeom prst="ellipse">
                <a:avLst/>
              </a:prstGeom>
              <a:solidFill>
                <a:srgbClr val="deebf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3" name="任意多边形: 形状 79"/>
              <p:cNvSpPr/>
              <p:nvPr/>
            </p:nvSpPr>
            <p:spPr>
              <a:xfrm flipH="1">
                <a:off x="7459200" y="4816440"/>
                <a:ext cx="829800" cy="34920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5b9bd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4" name="任意多边形 38"/>
              <p:cNvSpPr/>
              <p:nvPr/>
            </p:nvSpPr>
            <p:spPr>
              <a:xfrm>
                <a:off x="7654680" y="4530960"/>
                <a:ext cx="427680" cy="36144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155" name="PA-文本框 115"/>
          <p:cNvSpPr/>
          <p:nvPr/>
        </p:nvSpPr>
        <p:spPr>
          <a:xfrm>
            <a:off x="320760" y="3160800"/>
            <a:ext cx="4784760" cy="329256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对重要性和审计风险进行最终评价，是注册会计师决定发表何种审计意见的 必要过程。该过程可通过以下两个步骤完成。 </a:t>
            </a:r>
            <a:endParaRPr b="1"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确定可能错报金额。可能错报金额包括已经识别的具体错报和推断误差。</a:t>
            </a:r>
            <a:endParaRPr b="1"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rPr>
              <a:t>2. </a:t>
            </a:r>
            <a:r>
              <a:rPr b="1" lang="zh-CN" sz="2000" spc="-1" strike="noStrike">
                <a:solidFill>
                  <a:srgbClr val="000000"/>
                </a:solidFill>
                <a:latin typeface="Arial"/>
                <a:ea typeface="宋体"/>
              </a:rPr>
              <a:t>根据财务报表层次重要性水平，确定可能的错报金额的汇总数对财务报表 的影响程度。</a:t>
            </a:r>
            <a:endParaRPr b="1" lang="en-US" sz="2000" spc="-1" strike="noStrike">
              <a:solidFill>
                <a:srgbClr val="000000"/>
              </a:solidFill>
              <a:latin typeface="Arial"/>
            </a:endParaRPr>
          </a:p>
        </p:txBody>
      </p:sp>
      <p:sp>
        <p:nvSpPr>
          <p:cNvPr id="2156" name="PA-文本框 115"/>
          <p:cNvSpPr/>
          <p:nvPr/>
        </p:nvSpPr>
        <p:spPr>
          <a:xfrm>
            <a:off x="7970760" y="3198960"/>
            <a:ext cx="4154400" cy="2946240"/>
          </a:xfrm>
          <a:prstGeom prst="rect">
            <a:avLst/>
          </a:prstGeom>
          <a:noFill/>
          <a:ln w="0">
            <a:noFill/>
          </a:ln>
        </p:spPr>
        <p:style>
          <a:lnRef idx="0"/>
          <a:fillRef idx="0"/>
          <a:effectRef idx="0"/>
          <a:fontRef idx="minor"/>
        </p:style>
        <p:txBody>
          <a:bodyPr lIns="90000" rIns="90000" tIns="0" bIns="46800" anchor="t">
            <a:noAutofit/>
          </a:bodyPr>
          <a:p>
            <a:pPr marL="285840" indent="-285840" algn="just">
              <a:lnSpc>
                <a:spcPct val="14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审计过程中，要实施各种测试。这些测试通常由参加审计工作的审计项目组成员共同执行，而每个成员所执行的测试可能只限于某几个领域或账项。因此， 在每个功能领域或报表项目的测试都完成之后，审计项目经理应汇总所有审计组 成员的审计结果</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2157" name="矩形 80"/>
          <p:cNvSpPr/>
          <p:nvPr/>
        </p:nvSpPr>
        <p:spPr>
          <a:xfrm>
            <a:off x="1932120" y="88920"/>
            <a:ext cx="811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158" name="箭头: 下 3"/>
          <p:cNvSpPr/>
          <p:nvPr/>
        </p:nvSpPr>
        <p:spPr>
          <a:xfrm>
            <a:off x="9942480" y="2982960"/>
            <a:ext cx="216000" cy="282600"/>
          </a:xfrm>
          <a:prstGeom prst="downArrow">
            <a:avLst>
              <a:gd name="adj1" fmla="val 50000"/>
              <a:gd name="adj2" fmla="val 49977"/>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9" name="箭头: 下 4"/>
          <p:cNvSpPr/>
          <p:nvPr/>
        </p:nvSpPr>
        <p:spPr>
          <a:xfrm flipH="1">
            <a:off x="2496960" y="2982960"/>
            <a:ext cx="216000" cy="282600"/>
          </a:xfrm>
          <a:prstGeom prst="downArrow">
            <a:avLst>
              <a:gd name="adj1" fmla="val 50000"/>
              <a:gd name="adj2" fmla="val 49977"/>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ntr" presetID="12" presetSubtype="8">
                                  <p:stCondLst>
                                    <p:cond delay="0"/>
                                  </p:stCondLst>
                                  <p:childTnLst>
                                    <p:set>
                                      <p:cBhvr>
                                        <p:cTn id="103" dur="1000" fill="hold">
                                          <p:stCondLst>
                                            <p:cond delay="0"/>
                                          </p:stCondLst>
                                        </p:cTn>
                                        <p:tgtEl>
                                          <p:spTgt spid="2155"/>
                                        </p:tgtEl>
                                        <p:attrNameLst>
                                          <p:attrName>style.visibility</p:attrName>
                                        </p:attrNameLst>
                                      </p:cBhvr>
                                      <p:to>
                                        <p:strVal val="visible"/>
                                      </p:to>
                                    </p:set>
                                    <p:anim calcmode="lin" valueType="num">
                                      <p:cBhvr additive="repl">
                                        <p:cTn id="104" dur="1000"/>
                                        <p:tgtEl>
                                          <p:spTgt spid="2155"/>
                                        </p:tgtEl>
                                        <p:attrNameLst>
                                          <p:attrName>ppt_x</p:attrName>
                                        </p:attrNameLst>
                                      </p:cBhvr>
                                      <p:tavLst>
                                        <p:tav tm="0">
                                          <p:val>
                                            <p:strVal val="#ppt_x-#ppt_w*1.125000"/>
                                          </p:val>
                                        </p:tav>
                                        <p:tav tm="100000">
                                          <p:val>
                                            <p:strVal val="#ppt_x"/>
                                          </p:val>
                                        </p:tav>
                                      </p:tavLst>
                                    </p:anim>
                                    <p:animEffect filter="wipe(right)" transition="in">
                                      <p:cBhvr additive="repl">
                                        <p:cTn id="105" dur="1000"/>
                                        <p:tgtEl>
                                          <p:spTgt spid="2155"/>
                                        </p:tgtEl>
                                      </p:cBhvr>
                                    </p:animEffect>
                                  </p:childTnLst>
                                </p:cTn>
                              </p:par>
                            </p:childTnLst>
                          </p:cTn>
                        </p:par>
                        <p:par>
                          <p:cTn id="106" fill="hold">
                            <p:stCondLst>
                              <p:cond delay="1000"/>
                            </p:stCondLst>
                            <p:childTnLst>
                              <p:par>
                                <p:cTn id="107" dur="indefinite" nodeType="afterEffect" fill="hold" presetClass="entr" presetID="12" presetSubtype="2">
                                  <p:stCondLst>
                                    <p:cond delay="0"/>
                                  </p:stCondLst>
                                  <p:childTnLst>
                                    <p:set>
                                      <p:cBhvr>
                                        <p:cTn id="108" dur="1000" fill="hold">
                                          <p:stCondLst>
                                            <p:cond delay="0"/>
                                          </p:stCondLst>
                                        </p:cTn>
                                        <p:tgtEl>
                                          <p:spTgt spid="2156"/>
                                        </p:tgtEl>
                                        <p:attrNameLst>
                                          <p:attrName>style.visibility</p:attrName>
                                        </p:attrNameLst>
                                      </p:cBhvr>
                                      <p:to>
                                        <p:strVal val="visible"/>
                                      </p:to>
                                    </p:set>
                                    <p:anim calcmode="lin" valueType="num">
                                      <p:cBhvr additive="repl">
                                        <p:cTn id="109" dur="1000"/>
                                        <p:tgtEl>
                                          <p:spTgt spid="2156"/>
                                        </p:tgtEl>
                                        <p:attrNameLst>
                                          <p:attrName>ppt_x</p:attrName>
                                        </p:attrNameLst>
                                      </p:cBhvr>
                                      <p:tavLst>
                                        <p:tav tm="0">
                                          <p:val>
                                            <p:strVal val="#ppt_x+#ppt_w*1.125000"/>
                                          </p:val>
                                        </p:tav>
                                        <p:tav tm="100000">
                                          <p:val>
                                            <p:strVal val="#ppt_x"/>
                                          </p:val>
                                        </p:tav>
                                      </p:tavLst>
                                    </p:anim>
                                    <p:animEffect filter="wipe(left)" transition="in">
                                      <p:cBhvr additive="repl">
                                        <p:cTn id="110" dur="10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Line 51"/>
          <p:cNvSpPr/>
          <p:nvPr/>
        </p:nvSpPr>
        <p:spPr>
          <a:xfrm flipH="1" flipV="1">
            <a:off x="5817960" y="2290680"/>
            <a:ext cx="4680" cy="308448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1" name="Freeform 52"/>
          <p:cNvSpPr/>
          <p:nvPr/>
        </p:nvSpPr>
        <p:spPr>
          <a:xfrm>
            <a:off x="6126120" y="4809960"/>
            <a:ext cx="612720" cy="576360"/>
          </a:xfrm>
          <a:custGeom>
            <a:avLst/>
            <a:gdLst/>
            <a:ahLst/>
            <a:rect l="l" t="t" r="r" b="b"/>
            <a:pathLst>
              <a:path w="343" h="322">
                <a:moveTo>
                  <a:pt x="0" y="322"/>
                </a:moveTo>
                <a:cubicBezTo>
                  <a:pt x="0" y="120"/>
                  <a:pt x="0" y="120"/>
                  <a:pt x="0" y="120"/>
                </a:cubicBezTo>
                <a:cubicBezTo>
                  <a:pt x="0" y="54"/>
                  <a:pt x="54" y="0"/>
                  <a:pt x="120" y="0"/>
                </a:cubicBezTo>
                <a:cubicBezTo>
                  <a:pt x="343" y="0"/>
                  <a:pt x="343" y="0"/>
                  <a:pt x="343"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2" name="Freeform 53"/>
          <p:cNvSpPr/>
          <p:nvPr/>
        </p:nvSpPr>
        <p:spPr>
          <a:xfrm>
            <a:off x="6040440" y="3843360"/>
            <a:ext cx="914400" cy="1243080"/>
          </a:xfrm>
          <a:custGeom>
            <a:avLst/>
            <a:gdLst/>
            <a:ahLst/>
            <a:rect l="l" t="t" r="r" b="b"/>
            <a:pathLst>
              <a:path w="905" h="633">
                <a:moveTo>
                  <a:pt x="0" y="633"/>
                </a:moveTo>
                <a:cubicBezTo>
                  <a:pt x="0" y="120"/>
                  <a:pt x="0" y="120"/>
                  <a:pt x="0" y="120"/>
                </a:cubicBezTo>
                <a:cubicBezTo>
                  <a:pt x="0" y="54"/>
                  <a:pt x="54" y="0"/>
                  <a:pt x="120" y="0"/>
                </a:cubicBezTo>
                <a:cubicBezTo>
                  <a:pt x="905" y="0"/>
                  <a:pt x="905" y="0"/>
                  <a:pt x="905"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3" name="Freeform 54"/>
          <p:cNvSpPr/>
          <p:nvPr/>
        </p:nvSpPr>
        <p:spPr>
          <a:xfrm>
            <a:off x="4548240" y="3932280"/>
            <a:ext cx="1049400" cy="1419120"/>
          </a:xfrm>
          <a:custGeom>
            <a:avLst/>
            <a:gdLst/>
            <a:ahLst/>
            <a:rect l="l" t="t" r="r" b="b"/>
            <a:pathLst>
              <a:path w="587" h="792">
                <a:moveTo>
                  <a:pt x="587" y="792"/>
                </a:moveTo>
                <a:cubicBezTo>
                  <a:pt x="587" y="120"/>
                  <a:pt x="587" y="120"/>
                  <a:pt x="587" y="120"/>
                </a:cubicBezTo>
                <a:cubicBezTo>
                  <a:pt x="587" y="54"/>
                  <a:pt x="533" y="0"/>
                  <a:pt x="467"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4" name="Freeform 55"/>
          <p:cNvSpPr/>
          <p:nvPr/>
        </p:nvSpPr>
        <p:spPr>
          <a:xfrm>
            <a:off x="3968640" y="4681440"/>
            <a:ext cx="1525680" cy="1086120"/>
          </a:xfrm>
          <a:custGeom>
            <a:avLst/>
            <a:gdLst/>
            <a:ahLst/>
            <a:rect l="l" t="t" r="r" b="b"/>
            <a:pathLst>
              <a:path w="853" h="607">
                <a:moveTo>
                  <a:pt x="853" y="607"/>
                </a:moveTo>
                <a:cubicBezTo>
                  <a:pt x="853" y="120"/>
                  <a:pt x="853" y="120"/>
                  <a:pt x="853" y="120"/>
                </a:cubicBezTo>
                <a:cubicBezTo>
                  <a:pt x="853" y="54"/>
                  <a:pt x="799" y="0"/>
                  <a:pt x="733"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5" name="Freeform 56"/>
          <p:cNvSpPr/>
          <p:nvPr/>
        </p:nvSpPr>
        <p:spPr>
          <a:xfrm>
            <a:off x="5940360" y="2727360"/>
            <a:ext cx="976320" cy="2359080"/>
          </a:xfrm>
          <a:custGeom>
            <a:avLst/>
            <a:gdLst/>
            <a:ahLst/>
            <a:rect l="l" t="t" r="r" b="b"/>
            <a:pathLst>
              <a:path w="558" h="634">
                <a:moveTo>
                  <a:pt x="0" y="634"/>
                </a:moveTo>
                <a:cubicBezTo>
                  <a:pt x="0" y="120"/>
                  <a:pt x="0" y="120"/>
                  <a:pt x="0" y="120"/>
                </a:cubicBezTo>
                <a:cubicBezTo>
                  <a:pt x="0" y="54"/>
                  <a:pt x="54" y="0"/>
                  <a:pt x="120" y="0"/>
                </a:cubicBezTo>
                <a:cubicBezTo>
                  <a:pt x="558" y="0"/>
                  <a:pt x="558" y="0"/>
                  <a:pt x="558"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6" name="Freeform 57"/>
          <p:cNvSpPr/>
          <p:nvPr/>
        </p:nvSpPr>
        <p:spPr>
          <a:xfrm>
            <a:off x="4579920" y="2719440"/>
            <a:ext cx="1138320" cy="2717640"/>
          </a:xfrm>
          <a:custGeom>
            <a:avLst/>
            <a:gdLst/>
            <a:ahLst/>
            <a:rect l="l" t="t" r="r" b="b"/>
            <a:pathLst>
              <a:path w="659" h="1322">
                <a:moveTo>
                  <a:pt x="659" y="1322"/>
                </a:moveTo>
                <a:cubicBezTo>
                  <a:pt x="659" y="120"/>
                  <a:pt x="659" y="120"/>
                  <a:pt x="659" y="120"/>
                </a:cubicBezTo>
                <a:cubicBezTo>
                  <a:pt x="659" y="54"/>
                  <a:pt x="605" y="0"/>
                  <a:pt x="540"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Oval 58"/>
          <p:cNvSpPr/>
          <p:nvPr/>
        </p:nvSpPr>
        <p:spPr>
          <a:xfrm>
            <a:off x="5180040" y="5019840"/>
            <a:ext cx="1322280" cy="1323720"/>
          </a:xfrm>
          <a:prstGeom prst="ellipse">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8" name="Oval 66"/>
          <p:cNvSpPr/>
          <p:nvPr/>
        </p:nvSpPr>
        <p:spPr>
          <a:xfrm>
            <a:off x="6172200" y="2708280"/>
            <a:ext cx="103320" cy="103320"/>
          </a:xfrm>
          <a:prstGeom prst="ellipse">
            <a:avLst/>
          </a:prstGeom>
          <a:solidFill>
            <a:srgbClr val="c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9" name="Oval 67"/>
          <p:cNvSpPr/>
          <p:nvPr/>
        </p:nvSpPr>
        <p:spPr>
          <a:xfrm>
            <a:off x="6230880" y="3773520"/>
            <a:ext cx="101520" cy="103320"/>
          </a:xfrm>
          <a:prstGeom prst="ellipse">
            <a:avLst/>
          </a:prstGeom>
          <a:solidFill>
            <a:srgbClr val="92d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0" name="Oval 68"/>
          <p:cNvSpPr/>
          <p:nvPr/>
        </p:nvSpPr>
        <p:spPr>
          <a:xfrm>
            <a:off x="6159600" y="4809960"/>
            <a:ext cx="1000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1" name="Oval 69"/>
          <p:cNvSpPr/>
          <p:nvPr/>
        </p:nvSpPr>
        <p:spPr>
          <a:xfrm>
            <a:off x="5757840" y="4000680"/>
            <a:ext cx="10008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2" name="Oval 70"/>
          <p:cNvSpPr/>
          <p:nvPr/>
        </p:nvSpPr>
        <p:spPr>
          <a:xfrm>
            <a:off x="6004080" y="4264200"/>
            <a:ext cx="10152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3" name="Oval 71"/>
          <p:cNvSpPr/>
          <p:nvPr/>
        </p:nvSpPr>
        <p:spPr>
          <a:xfrm>
            <a:off x="6545160" y="4879800"/>
            <a:ext cx="1018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4" name="Oval 72"/>
          <p:cNvSpPr/>
          <p:nvPr/>
        </p:nvSpPr>
        <p:spPr>
          <a:xfrm>
            <a:off x="5772240" y="2630520"/>
            <a:ext cx="98280" cy="103320"/>
          </a:xfrm>
          <a:prstGeom prst="ellipse">
            <a:avLst/>
          </a:prstGeom>
          <a:solidFill>
            <a:srgbClr val="00b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5" name="Oval 73"/>
          <p:cNvSpPr/>
          <p:nvPr/>
        </p:nvSpPr>
        <p:spPr>
          <a:xfrm>
            <a:off x="5446800" y="2681280"/>
            <a:ext cx="100080" cy="100080"/>
          </a:xfrm>
          <a:prstGeom prst="ellipse">
            <a:avLst/>
          </a:prstGeom>
          <a:solidFill>
            <a:srgbClr val="5555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6" name="Oval 74"/>
          <p:cNvSpPr/>
          <p:nvPr/>
        </p:nvSpPr>
        <p:spPr>
          <a:xfrm>
            <a:off x="5375160" y="3909960"/>
            <a:ext cx="100080" cy="103320"/>
          </a:xfrm>
          <a:prstGeom prst="ellipse">
            <a:avLst/>
          </a:prstGeom>
          <a:solidFill>
            <a:srgbClr val="ffc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7" name="Oval 75"/>
          <p:cNvSpPr/>
          <p:nvPr/>
        </p:nvSpPr>
        <p:spPr>
          <a:xfrm>
            <a:off x="4965840" y="4664160"/>
            <a:ext cx="99720" cy="100080"/>
          </a:xfrm>
          <a:prstGeom prst="ellipse">
            <a:avLst/>
          </a:prstGeom>
          <a:solidFill>
            <a:srgbClr val="5b9bd4"/>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8" name="Oval 76"/>
          <p:cNvSpPr/>
          <p:nvPr/>
        </p:nvSpPr>
        <p:spPr>
          <a:xfrm>
            <a:off x="5770440" y="5048280"/>
            <a:ext cx="103320" cy="101520"/>
          </a:xfrm>
          <a:prstGeom prst="ellipse">
            <a:avLst/>
          </a:prstGeom>
          <a:solidFill>
            <a:srgbClr val="bfbfb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9" name="Freeform 27"/>
          <p:cNvSpPr/>
          <p:nvPr/>
        </p:nvSpPr>
        <p:spPr>
          <a:xfrm>
            <a:off x="5494320" y="5176800"/>
            <a:ext cx="642960" cy="798480"/>
          </a:xfrm>
          <a:custGeom>
            <a:avLst/>
            <a:gdLst/>
            <a:ahLst/>
            <a:rect l="l" t="t" r="r" b="b"/>
            <a:pathLst>
              <a:path w="2659" h="3500">
                <a:moveTo>
                  <a:pt x="769" y="2381"/>
                </a:moveTo>
                <a:lnTo>
                  <a:pt x="739" y="2394"/>
                </a:lnTo>
                <a:lnTo>
                  <a:pt x="707" y="2403"/>
                </a:lnTo>
                <a:lnTo>
                  <a:pt x="676" y="2412"/>
                </a:lnTo>
                <a:lnTo>
                  <a:pt x="647" y="2418"/>
                </a:lnTo>
                <a:lnTo>
                  <a:pt x="618" y="2422"/>
                </a:lnTo>
                <a:lnTo>
                  <a:pt x="593" y="2426"/>
                </a:lnTo>
                <a:lnTo>
                  <a:pt x="572" y="2428"/>
                </a:lnTo>
                <a:lnTo>
                  <a:pt x="556" y="2429"/>
                </a:lnTo>
                <a:lnTo>
                  <a:pt x="544" y="2430"/>
                </a:lnTo>
                <a:lnTo>
                  <a:pt x="540" y="2430"/>
                </a:lnTo>
                <a:lnTo>
                  <a:pt x="492" y="2433"/>
                </a:lnTo>
                <a:lnTo>
                  <a:pt x="446" y="2442"/>
                </a:lnTo>
                <a:lnTo>
                  <a:pt x="402" y="2455"/>
                </a:lnTo>
                <a:lnTo>
                  <a:pt x="360" y="2474"/>
                </a:lnTo>
                <a:lnTo>
                  <a:pt x="322" y="2499"/>
                </a:lnTo>
                <a:lnTo>
                  <a:pt x="286" y="2526"/>
                </a:lnTo>
                <a:lnTo>
                  <a:pt x="254" y="2559"/>
                </a:lnTo>
                <a:lnTo>
                  <a:pt x="226" y="2594"/>
                </a:lnTo>
                <a:lnTo>
                  <a:pt x="202" y="2633"/>
                </a:lnTo>
                <a:lnTo>
                  <a:pt x="183" y="2675"/>
                </a:lnTo>
                <a:lnTo>
                  <a:pt x="169" y="2719"/>
                </a:lnTo>
                <a:lnTo>
                  <a:pt x="161" y="2765"/>
                </a:lnTo>
                <a:lnTo>
                  <a:pt x="158" y="2813"/>
                </a:lnTo>
                <a:lnTo>
                  <a:pt x="158" y="3342"/>
                </a:lnTo>
                <a:lnTo>
                  <a:pt x="2502" y="3342"/>
                </a:lnTo>
                <a:lnTo>
                  <a:pt x="2502" y="2813"/>
                </a:lnTo>
                <a:lnTo>
                  <a:pt x="2499" y="2765"/>
                </a:lnTo>
                <a:lnTo>
                  <a:pt x="2491" y="2719"/>
                </a:lnTo>
                <a:lnTo>
                  <a:pt x="2476" y="2675"/>
                </a:lnTo>
                <a:lnTo>
                  <a:pt x="2457" y="2633"/>
                </a:lnTo>
                <a:lnTo>
                  <a:pt x="2433" y="2594"/>
                </a:lnTo>
                <a:lnTo>
                  <a:pt x="2405" y="2559"/>
                </a:lnTo>
                <a:lnTo>
                  <a:pt x="2373" y="2526"/>
                </a:lnTo>
                <a:lnTo>
                  <a:pt x="2338" y="2499"/>
                </a:lnTo>
                <a:lnTo>
                  <a:pt x="2299" y="2474"/>
                </a:lnTo>
                <a:lnTo>
                  <a:pt x="2258" y="2455"/>
                </a:lnTo>
                <a:lnTo>
                  <a:pt x="2213" y="2442"/>
                </a:lnTo>
                <a:lnTo>
                  <a:pt x="2167" y="2433"/>
                </a:lnTo>
                <a:lnTo>
                  <a:pt x="2119" y="2430"/>
                </a:lnTo>
                <a:lnTo>
                  <a:pt x="2115" y="2430"/>
                </a:lnTo>
                <a:lnTo>
                  <a:pt x="2102" y="2430"/>
                </a:lnTo>
                <a:lnTo>
                  <a:pt x="2084" y="2428"/>
                </a:lnTo>
                <a:lnTo>
                  <a:pt x="2060" y="2426"/>
                </a:lnTo>
                <a:lnTo>
                  <a:pt x="2031" y="2421"/>
                </a:lnTo>
                <a:lnTo>
                  <a:pt x="1999" y="2415"/>
                </a:lnTo>
                <a:lnTo>
                  <a:pt x="1965" y="2407"/>
                </a:lnTo>
                <a:lnTo>
                  <a:pt x="1927" y="2396"/>
                </a:lnTo>
                <a:lnTo>
                  <a:pt x="1890" y="2381"/>
                </a:lnTo>
                <a:lnTo>
                  <a:pt x="1469" y="2981"/>
                </a:lnTo>
                <a:lnTo>
                  <a:pt x="1452" y="3003"/>
                </a:lnTo>
                <a:lnTo>
                  <a:pt x="1431" y="3021"/>
                </a:lnTo>
                <a:lnTo>
                  <a:pt x="1409" y="3034"/>
                </a:lnTo>
                <a:lnTo>
                  <a:pt x="1383" y="3045"/>
                </a:lnTo>
                <a:lnTo>
                  <a:pt x="1357" y="3051"/>
                </a:lnTo>
                <a:lnTo>
                  <a:pt x="1329" y="3055"/>
                </a:lnTo>
                <a:lnTo>
                  <a:pt x="1302" y="3051"/>
                </a:lnTo>
                <a:lnTo>
                  <a:pt x="1275" y="3045"/>
                </a:lnTo>
                <a:lnTo>
                  <a:pt x="1251" y="3034"/>
                </a:lnTo>
                <a:lnTo>
                  <a:pt x="1228" y="3021"/>
                </a:lnTo>
                <a:lnTo>
                  <a:pt x="1208" y="3003"/>
                </a:lnTo>
                <a:lnTo>
                  <a:pt x="1190" y="2981"/>
                </a:lnTo>
                <a:lnTo>
                  <a:pt x="769" y="2381"/>
                </a:lnTo>
                <a:close/>
                <a:moveTo>
                  <a:pt x="1135" y="1929"/>
                </a:moveTo>
                <a:lnTo>
                  <a:pt x="1121" y="1984"/>
                </a:lnTo>
                <a:lnTo>
                  <a:pt x="1103" y="2038"/>
                </a:lnTo>
                <a:lnTo>
                  <a:pt x="1080" y="2089"/>
                </a:lnTo>
                <a:lnTo>
                  <a:pt x="1053" y="2138"/>
                </a:lnTo>
                <a:lnTo>
                  <a:pt x="1021" y="2184"/>
                </a:lnTo>
                <a:lnTo>
                  <a:pt x="986" y="2226"/>
                </a:lnTo>
                <a:lnTo>
                  <a:pt x="947" y="2265"/>
                </a:lnTo>
                <a:lnTo>
                  <a:pt x="906" y="2302"/>
                </a:lnTo>
                <a:lnTo>
                  <a:pt x="1319" y="2890"/>
                </a:lnTo>
                <a:lnTo>
                  <a:pt x="1322" y="2893"/>
                </a:lnTo>
                <a:lnTo>
                  <a:pt x="1325" y="2895"/>
                </a:lnTo>
                <a:lnTo>
                  <a:pt x="1329" y="2897"/>
                </a:lnTo>
                <a:lnTo>
                  <a:pt x="1334" y="2895"/>
                </a:lnTo>
                <a:lnTo>
                  <a:pt x="1338" y="2893"/>
                </a:lnTo>
                <a:lnTo>
                  <a:pt x="1341" y="2890"/>
                </a:lnTo>
                <a:lnTo>
                  <a:pt x="1754" y="2302"/>
                </a:lnTo>
                <a:lnTo>
                  <a:pt x="1712" y="2265"/>
                </a:lnTo>
                <a:lnTo>
                  <a:pt x="1673" y="2226"/>
                </a:lnTo>
                <a:lnTo>
                  <a:pt x="1637" y="2184"/>
                </a:lnTo>
                <a:lnTo>
                  <a:pt x="1607" y="2138"/>
                </a:lnTo>
                <a:lnTo>
                  <a:pt x="1579" y="2089"/>
                </a:lnTo>
                <a:lnTo>
                  <a:pt x="1557" y="2038"/>
                </a:lnTo>
                <a:lnTo>
                  <a:pt x="1538" y="1985"/>
                </a:lnTo>
                <a:lnTo>
                  <a:pt x="1525" y="1929"/>
                </a:lnTo>
                <a:lnTo>
                  <a:pt x="1478" y="1945"/>
                </a:lnTo>
                <a:lnTo>
                  <a:pt x="1429" y="1956"/>
                </a:lnTo>
                <a:lnTo>
                  <a:pt x="1380" y="1962"/>
                </a:lnTo>
                <a:lnTo>
                  <a:pt x="1329" y="1964"/>
                </a:lnTo>
                <a:lnTo>
                  <a:pt x="1280" y="1962"/>
                </a:lnTo>
                <a:lnTo>
                  <a:pt x="1230" y="1955"/>
                </a:lnTo>
                <a:lnTo>
                  <a:pt x="1181" y="1944"/>
                </a:lnTo>
                <a:lnTo>
                  <a:pt x="1135" y="1929"/>
                </a:lnTo>
                <a:close/>
                <a:moveTo>
                  <a:pt x="992" y="806"/>
                </a:moveTo>
                <a:lnTo>
                  <a:pt x="964" y="867"/>
                </a:lnTo>
                <a:lnTo>
                  <a:pt x="931" y="925"/>
                </a:lnTo>
                <a:lnTo>
                  <a:pt x="895" y="980"/>
                </a:lnTo>
                <a:lnTo>
                  <a:pt x="855" y="1032"/>
                </a:lnTo>
                <a:lnTo>
                  <a:pt x="811" y="1082"/>
                </a:lnTo>
                <a:lnTo>
                  <a:pt x="763" y="1127"/>
                </a:lnTo>
                <a:lnTo>
                  <a:pt x="773" y="1196"/>
                </a:lnTo>
                <a:lnTo>
                  <a:pt x="787" y="1263"/>
                </a:lnTo>
                <a:lnTo>
                  <a:pt x="805" y="1328"/>
                </a:lnTo>
                <a:lnTo>
                  <a:pt x="828" y="1390"/>
                </a:lnTo>
                <a:lnTo>
                  <a:pt x="854" y="1450"/>
                </a:lnTo>
                <a:lnTo>
                  <a:pt x="884" y="1506"/>
                </a:lnTo>
                <a:lnTo>
                  <a:pt x="917" y="1558"/>
                </a:lnTo>
                <a:lnTo>
                  <a:pt x="954" y="1608"/>
                </a:lnTo>
                <a:lnTo>
                  <a:pt x="994" y="1652"/>
                </a:lnTo>
                <a:lnTo>
                  <a:pt x="1037" y="1693"/>
                </a:lnTo>
                <a:lnTo>
                  <a:pt x="1082" y="1727"/>
                </a:lnTo>
                <a:lnTo>
                  <a:pt x="1129" y="1755"/>
                </a:lnTo>
                <a:lnTo>
                  <a:pt x="1178" y="1778"/>
                </a:lnTo>
                <a:lnTo>
                  <a:pt x="1228" y="1793"/>
                </a:lnTo>
                <a:lnTo>
                  <a:pt x="1279" y="1803"/>
                </a:lnTo>
                <a:lnTo>
                  <a:pt x="1329" y="1806"/>
                </a:lnTo>
                <a:lnTo>
                  <a:pt x="1382" y="1803"/>
                </a:lnTo>
                <a:lnTo>
                  <a:pt x="1433" y="1793"/>
                </a:lnTo>
                <a:lnTo>
                  <a:pt x="1482" y="1778"/>
                </a:lnTo>
                <a:lnTo>
                  <a:pt x="1529" y="1756"/>
                </a:lnTo>
                <a:lnTo>
                  <a:pt x="1576" y="1729"/>
                </a:lnTo>
                <a:lnTo>
                  <a:pt x="1619" y="1696"/>
                </a:lnTo>
                <a:lnTo>
                  <a:pt x="1661" y="1659"/>
                </a:lnTo>
                <a:lnTo>
                  <a:pt x="1700" y="1616"/>
                </a:lnTo>
                <a:lnTo>
                  <a:pt x="1736" y="1570"/>
                </a:lnTo>
                <a:lnTo>
                  <a:pt x="1769" y="1519"/>
                </a:lnTo>
                <a:lnTo>
                  <a:pt x="1798" y="1465"/>
                </a:lnTo>
                <a:lnTo>
                  <a:pt x="1826" y="1406"/>
                </a:lnTo>
                <a:lnTo>
                  <a:pt x="1849" y="1345"/>
                </a:lnTo>
                <a:lnTo>
                  <a:pt x="1868" y="1281"/>
                </a:lnTo>
                <a:lnTo>
                  <a:pt x="1883" y="1213"/>
                </a:lnTo>
                <a:lnTo>
                  <a:pt x="1895" y="1144"/>
                </a:lnTo>
                <a:lnTo>
                  <a:pt x="1902" y="1073"/>
                </a:lnTo>
                <a:lnTo>
                  <a:pt x="1904" y="999"/>
                </a:lnTo>
                <a:lnTo>
                  <a:pt x="1904" y="998"/>
                </a:lnTo>
                <a:lnTo>
                  <a:pt x="1889" y="972"/>
                </a:lnTo>
                <a:lnTo>
                  <a:pt x="1870" y="947"/>
                </a:lnTo>
                <a:lnTo>
                  <a:pt x="1849" y="927"/>
                </a:lnTo>
                <a:lnTo>
                  <a:pt x="1824" y="910"/>
                </a:lnTo>
                <a:lnTo>
                  <a:pt x="1795" y="897"/>
                </a:lnTo>
                <a:lnTo>
                  <a:pt x="1766" y="890"/>
                </a:lnTo>
                <a:lnTo>
                  <a:pt x="1734" y="887"/>
                </a:lnTo>
                <a:lnTo>
                  <a:pt x="1198" y="887"/>
                </a:lnTo>
                <a:lnTo>
                  <a:pt x="1158" y="885"/>
                </a:lnTo>
                <a:lnTo>
                  <a:pt x="1121" y="877"/>
                </a:lnTo>
                <a:lnTo>
                  <a:pt x="1084" y="865"/>
                </a:lnTo>
                <a:lnTo>
                  <a:pt x="1049" y="848"/>
                </a:lnTo>
                <a:lnTo>
                  <a:pt x="1016" y="827"/>
                </a:lnTo>
                <a:lnTo>
                  <a:pt x="992" y="806"/>
                </a:lnTo>
                <a:close/>
                <a:moveTo>
                  <a:pt x="1396" y="158"/>
                </a:moveTo>
                <a:lnTo>
                  <a:pt x="1344" y="160"/>
                </a:lnTo>
                <a:lnTo>
                  <a:pt x="1293" y="168"/>
                </a:lnTo>
                <a:lnTo>
                  <a:pt x="1243" y="180"/>
                </a:lnTo>
                <a:lnTo>
                  <a:pt x="1193" y="198"/>
                </a:lnTo>
                <a:lnTo>
                  <a:pt x="1145" y="221"/>
                </a:lnTo>
                <a:lnTo>
                  <a:pt x="1129" y="227"/>
                </a:lnTo>
                <a:lnTo>
                  <a:pt x="1112" y="230"/>
                </a:lnTo>
                <a:lnTo>
                  <a:pt x="1066" y="234"/>
                </a:lnTo>
                <a:lnTo>
                  <a:pt x="1021" y="244"/>
                </a:lnTo>
                <a:lnTo>
                  <a:pt x="978" y="260"/>
                </a:lnTo>
                <a:lnTo>
                  <a:pt x="936" y="281"/>
                </a:lnTo>
                <a:lnTo>
                  <a:pt x="896" y="305"/>
                </a:lnTo>
                <a:lnTo>
                  <a:pt x="860" y="335"/>
                </a:lnTo>
                <a:lnTo>
                  <a:pt x="828" y="368"/>
                </a:lnTo>
                <a:lnTo>
                  <a:pt x="797" y="405"/>
                </a:lnTo>
                <a:lnTo>
                  <a:pt x="769" y="445"/>
                </a:lnTo>
                <a:lnTo>
                  <a:pt x="746" y="489"/>
                </a:lnTo>
                <a:lnTo>
                  <a:pt x="725" y="536"/>
                </a:lnTo>
                <a:lnTo>
                  <a:pt x="708" y="584"/>
                </a:lnTo>
                <a:lnTo>
                  <a:pt x="695" y="635"/>
                </a:lnTo>
                <a:lnTo>
                  <a:pt x="686" y="688"/>
                </a:lnTo>
                <a:lnTo>
                  <a:pt x="681" y="742"/>
                </a:lnTo>
                <a:lnTo>
                  <a:pt x="679" y="798"/>
                </a:lnTo>
                <a:lnTo>
                  <a:pt x="682" y="854"/>
                </a:lnTo>
                <a:lnTo>
                  <a:pt x="689" y="911"/>
                </a:lnTo>
                <a:lnTo>
                  <a:pt x="701" y="968"/>
                </a:lnTo>
                <a:lnTo>
                  <a:pt x="742" y="923"/>
                </a:lnTo>
                <a:lnTo>
                  <a:pt x="778" y="873"/>
                </a:lnTo>
                <a:lnTo>
                  <a:pt x="810" y="821"/>
                </a:lnTo>
                <a:lnTo>
                  <a:pt x="838" y="766"/>
                </a:lnTo>
                <a:lnTo>
                  <a:pt x="860" y="708"/>
                </a:lnTo>
                <a:lnTo>
                  <a:pt x="878" y="649"/>
                </a:lnTo>
                <a:lnTo>
                  <a:pt x="886" y="630"/>
                </a:lnTo>
                <a:lnTo>
                  <a:pt x="896" y="613"/>
                </a:lnTo>
                <a:lnTo>
                  <a:pt x="911" y="599"/>
                </a:lnTo>
                <a:lnTo>
                  <a:pt x="927" y="589"/>
                </a:lnTo>
                <a:lnTo>
                  <a:pt x="946" y="581"/>
                </a:lnTo>
                <a:lnTo>
                  <a:pt x="966" y="577"/>
                </a:lnTo>
                <a:lnTo>
                  <a:pt x="986" y="578"/>
                </a:lnTo>
                <a:lnTo>
                  <a:pt x="1007" y="583"/>
                </a:lnTo>
                <a:lnTo>
                  <a:pt x="1024" y="592"/>
                </a:lnTo>
                <a:lnTo>
                  <a:pt x="1039" y="605"/>
                </a:lnTo>
                <a:lnTo>
                  <a:pt x="1052" y="619"/>
                </a:lnTo>
                <a:lnTo>
                  <a:pt x="1062" y="637"/>
                </a:lnTo>
                <a:lnTo>
                  <a:pt x="1074" y="662"/>
                </a:lnTo>
                <a:lnTo>
                  <a:pt x="1090" y="683"/>
                </a:lnTo>
                <a:lnTo>
                  <a:pt x="1110" y="700"/>
                </a:lnTo>
                <a:lnTo>
                  <a:pt x="1130" y="713"/>
                </a:lnTo>
                <a:lnTo>
                  <a:pt x="1152" y="722"/>
                </a:lnTo>
                <a:lnTo>
                  <a:pt x="1174" y="728"/>
                </a:lnTo>
                <a:lnTo>
                  <a:pt x="1198" y="730"/>
                </a:lnTo>
                <a:lnTo>
                  <a:pt x="1734" y="730"/>
                </a:lnTo>
                <a:lnTo>
                  <a:pt x="1780" y="733"/>
                </a:lnTo>
                <a:lnTo>
                  <a:pt x="1826" y="742"/>
                </a:lnTo>
                <a:lnTo>
                  <a:pt x="1868" y="757"/>
                </a:lnTo>
                <a:lnTo>
                  <a:pt x="1908" y="777"/>
                </a:lnTo>
                <a:lnTo>
                  <a:pt x="1945" y="803"/>
                </a:lnTo>
                <a:lnTo>
                  <a:pt x="1978" y="833"/>
                </a:lnTo>
                <a:lnTo>
                  <a:pt x="1979" y="801"/>
                </a:lnTo>
                <a:lnTo>
                  <a:pt x="1976" y="735"/>
                </a:lnTo>
                <a:lnTo>
                  <a:pt x="1968" y="671"/>
                </a:lnTo>
                <a:lnTo>
                  <a:pt x="1953" y="610"/>
                </a:lnTo>
                <a:lnTo>
                  <a:pt x="1934" y="550"/>
                </a:lnTo>
                <a:lnTo>
                  <a:pt x="1908" y="494"/>
                </a:lnTo>
                <a:lnTo>
                  <a:pt x="1880" y="441"/>
                </a:lnTo>
                <a:lnTo>
                  <a:pt x="1846" y="391"/>
                </a:lnTo>
                <a:lnTo>
                  <a:pt x="1808" y="346"/>
                </a:lnTo>
                <a:lnTo>
                  <a:pt x="1767" y="304"/>
                </a:lnTo>
                <a:lnTo>
                  <a:pt x="1722" y="267"/>
                </a:lnTo>
                <a:lnTo>
                  <a:pt x="1673" y="235"/>
                </a:lnTo>
                <a:lnTo>
                  <a:pt x="1623" y="208"/>
                </a:lnTo>
                <a:lnTo>
                  <a:pt x="1569" y="187"/>
                </a:lnTo>
                <a:lnTo>
                  <a:pt x="1514" y="171"/>
                </a:lnTo>
                <a:lnTo>
                  <a:pt x="1455" y="161"/>
                </a:lnTo>
                <a:lnTo>
                  <a:pt x="1396" y="158"/>
                </a:lnTo>
                <a:close/>
                <a:moveTo>
                  <a:pt x="1396" y="0"/>
                </a:moveTo>
                <a:lnTo>
                  <a:pt x="1463" y="3"/>
                </a:lnTo>
                <a:lnTo>
                  <a:pt x="1528" y="13"/>
                </a:lnTo>
                <a:lnTo>
                  <a:pt x="1593" y="29"/>
                </a:lnTo>
                <a:lnTo>
                  <a:pt x="1654" y="50"/>
                </a:lnTo>
                <a:lnTo>
                  <a:pt x="1713" y="77"/>
                </a:lnTo>
                <a:lnTo>
                  <a:pt x="1770" y="109"/>
                </a:lnTo>
                <a:lnTo>
                  <a:pt x="1823" y="146"/>
                </a:lnTo>
                <a:lnTo>
                  <a:pt x="1872" y="189"/>
                </a:lnTo>
                <a:lnTo>
                  <a:pt x="1919" y="234"/>
                </a:lnTo>
                <a:lnTo>
                  <a:pt x="1962" y="285"/>
                </a:lnTo>
                <a:lnTo>
                  <a:pt x="2000" y="339"/>
                </a:lnTo>
                <a:lnTo>
                  <a:pt x="2035" y="397"/>
                </a:lnTo>
                <a:lnTo>
                  <a:pt x="2065" y="458"/>
                </a:lnTo>
                <a:lnTo>
                  <a:pt x="2090" y="522"/>
                </a:lnTo>
                <a:lnTo>
                  <a:pt x="2111" y="589"/>
                </a:lnTo>
                <a:lnTo>
                  <a:pt x="2124" y="657"/>
                </a:lnTo>
                <a:lnTo>
                  <a:pt x="2134" y="728"/>
                </a:lnTo>
                <a:lnTo>
                  <a:pt x="2137" y="801"/>
                </a:lnTo>
                <a:lnTo>
                  <a:pt x="2134" y="870"/>
                </a:lnTo>
                <a:lnTo>
                  <a:pt x="2126" y="937"/>
                </a:lnTo>
                <a:lnTo>
                  <a:pt x="2113" y="1003"/>
                </a:lnTo>
                <a:lnTo>
                  <a:pt x="2095" y="1068"/>
                </a:lnTo>
                <a:lnTo>
                  <a:pt x="2071" y="1131"/>
                </a:lnTo>
                <a:lnTo>
                  <a:pt x="2063" y="1147"/>
                </a:lnTo>
                <a:lnTo>
                  <a:pt x="2051" y="1158"/>
                </a:lnTo>
                <a:lnTo>
                  <a:pt x="2041" y="1230"/>
                </a:lnTo>
                <a:lnTo>
                  <a:pt x="2025" y="1300"/>
                </a:lnTo>
                <a:lnTo>
                  <a:pt x="2006" y="1368"/>
                </a:lnTo>
                <a:lnTo>
                  <a:pt x="1984" y="1435"/>
                </a:lnTo>
                <a:lnTo>
                  <a:pt x="1957" y="1499"/>
                </a:lnTo>
                <a:lnTo>
                  <a:pt x="1926" y="1559"/>
                </a:lnTo>
                <a:lnTo>
                  <a:pt x="1893" y="1617"/>
                </a:lnTo>
                <a:lnTo>
                  <a:pt x="1854" y="1673"/>
                </a:lnTo>
                <a:lnTo>
                  <a:pt x="1813" y="1726"/>
                </a:lnTo>
                <a:lnTo>
                  <a:pt x="1769" y="1772"/>
                </a:lnTo>
                <a:lnTo>
                  <a:pt x="1722" y="1815"/>
                </a:lnTo>
                <a:lnTo>
                  <a:pt x="1673" y="1853"/>
                </a:lnTo>
                <a:lnTo>
                  <a:pt x="1682" y="1904"/>
                </a:lnTo>
                <a:lnTo>
                  <a:pt x="1695" y="1952"/>
                </a:lnTo>
                <a:lnTo>
                  <a:pt x="1710" y="1995"/>
                </a:lnTo>
                <a:lnTo>
                  <a:pt x="1728" y="2033"/>
                </a:lnTo>
                <a:lnTo>
                  <a:pt x="1749" y="2069"/>
                </a:lnTo>
                <a:lnTo>
                  <a:pt x="1771" y="2100"/>
                </a:lnTo>
                <a:lnTo>
                  <a:pt x="1794" y="2129"/>
                </a:lnTo>
                <a:lnTo>
                  <a:pt x="1819" y="2153"/>
                </a:lnTo>
                <a:lnTo>
                  <a:pt x="1846" y="2175"/>
                </a:lnTo>
                <a:lnTo>
                  <a:pt x="1872" y="2194"/>
                </a:lnTo>
                <a:lnTo>
                  <a:pt x="1900" y="2210"/>
                </a:lnTo>
                <a:lnTo>
                  <a:pt x="1926" y="2224"/>
                </a:lnTo>
                <a:lnTo>
                  <a:pt x="1954" y="2236"/>
                </a:lnTo>
                <a:lnTo>
                  <a:pt x="1980" y="2245"/>
                </a:lnTo>
                <a:lnTo>
                  <a:pt x="2005" y="2254"/>
                </a:lnTo>
                <a:lnTo>
                  <a:pt x="2029" y="2259"/>
                </a:lnTo>
                <a:lnTo>
                  <a:pt x="2051" y="2264"/>
                </a:lnTo>
                <a:lnTo>
                  <a:pt x="2072" y="2268"/>
                </a:lnTo>
                <a:lnTo>
                  <a:pt x="2090" y="2270"/>
                </a:lnTo>
                <a:lnTo>
                  <a:pt x="2106" y="2272"/>
                </a:lnTo>
                <a:lnTo>
                  <a:pt x="2119" y="2272"/>
                </a:lnTo>
                <a:lnTo>
                  <a:pt x="2130" y="2273"/>
                </a:lnTo>
                <a:lnTo>
                  <a:pt x="2135" y="2273"/>
                </a:lnTo>
                <a:lnTo>
                  <a:pt x="2138" y="2273"/>
                </a:lnTo>
                <a:lnTo>
                  <a:pt x="2195" y="2278"/>
                </a:lnTo>
                <a:lnTo>
                  <a:pt x="2250" y="2289"/>
                </a:lnTo>
                <a:lnTo>
                  <a:pt x="2303" y="2305"/>
                </a:lnTo>
                <a:lnTo>
                  <a:pt x="2354" y="2326"/>
                </a:lnTo>
                <a:lnTo>
                  <a:pt x="2402" y="2352"/>
                </a:lnTo>
                <a:lnTo>
                  <a:pt x="2446" y="2383"/>
                </a:lnTo>
                <a:lnTo>
                  <a:pt x="2487" y="2418"/>
                </a:lnTo>
                <a:lnTo>
                  <a:pt x="2526" y="2457"/>
                </a:lnTo>
                <a:lnTo>
                  <a:pt x="2558" y="2500"/>
                </a:lnTo>
                <a:lnTo>
                  <a:pt x="2588" y="2545"/>
                </a:lnTo>
                <a:lnTo>
                  <a:pt x="2613" y="2594"/>
                </a:lnTo>
                <a:lnTo>
                  <a:pt x="2632" y="2646"/>
                </a:lnTo>
                <a:lnTo>
                  <a:pt x="2647" y="2699"/>
                </a:lnTo>
                <a:lnTo>
                  <a:pt x="2656" y="2755"/>
                </a:lnTo>
                <a:lnTo>
                  <a:pt x="2659" y="2813"/>
                </a:lnTo>
                <a:lnTo>
                  <a:pt x="2659" y="3422"/>
                </a:lnTo>
                <a:lnTo>
                  <a:pt x="2657" y="3442"/>
                </a:lnTo>
                <a:lnTo>
                  <a:pt x="2648" y="3461"/>
                </a:lnTo>
                <a:lnTo>
                  <a:pt x="2636" y="3477"/>
                </a:lnTo>
                <a:lnTo>
                  <a:pt x="2620" y="3489"/>
                </a:lnTo>
                <a:lnTo>
                  <a:pt x="2602" y="3497"/>
                </a:lnTo>
                <a:lnTo>
                  <a:pt x="2581" y="3500"/>
                </a:lnTo>
                <a:lnTo>
                  <a:pt x="78" y="3500"/>
                </a:lnTo>
                <a:lnTo>
                  <a:pt x="58" y="3497"/>
                </a:lnTo>
                <a:lnTo>
                  <a:pt x="39" y="3489"/>
                </a:lnTo>
                <a:lnTo>
                  <a:pt x="23" y="3477"/>
                </a:lnTo>
                <a:lnTo>
                  <a:pt x="11" y="3461"/>
                </a:lnTo>
                <a:lnTo>
                  <a:pt x="3" y="3442"/>
                </a:lnTo>
                <a:lnTo>
                  <a:pt x="0" y="3422"/>
                </a:lnTo>
                <a:lnTo>
                  <a:pt x="0" y="2813"/>
                </a:lnTo>
                <a:lnTo>
                  <a:pt x="3" y="2755"/>
                </a:lnTo>
                <a:lnTo>
                  <a:pt x="12" y="2699"/>
                </a:lnTo>
                <a:lnTo>
                  <a:pt x="26" y="2646"/>
                </a:lnTo>
                <a:lnTo>
                  <a:pt x="47" y="2594"/>
                </a:lnTo>
                <a:lnTo>
                  <a:pt x="71" y="2545"/>
                </a:lnTo>
                <a:lnTo>
                  <a:pt x="100" y="2500"/>
                </a:lnTo>
                <a:lnTo>
                  <a:pt x="134" y="2457"/>
                </a:lnTo>
                <a:lnTo>
                  <a:pt x="171" y="2418"/>
                </a:lnTo>
                <a:lnTo>
                  <a:pt x="213" y="2383"/>
                </a:lnTo>
                <a:lnTo>
                  <a:pt x="258" y="2352"/>
                </a:lnTo>
                <a:lnTo>
                  <a:pt x="306" y="2326"/>
                </a:lnTo>
                <a:lnTo>
                  <a:pt x="357" y="2305"/>
                </a:lnTo>
                <a:lnTo>
                  <a:pt x="410" y="2289"/>
                </a:lnTo>
                <a:lnTo>
                  <a:pt x="465" y="2278"/>
                </a:lnTo>
                <a:lnTo>
                  <a:pt x="522" y="2273"/>
                </a:lnTo>
                <a:lnTo>
                  <a:pt x="524" y="2273"/>
                </a:lnTo>
                <a:lnTo>
                  <a:pt x="530" y="2273"/>
                </a:lnTo>
                <a:lnTo>
                  <a:pt x="540" y="2272"/>
                </a:lnTo>
                <a:lnTo>
                  <a:pt x="552" y="2272"/>
                </a:lnTo>
                <a:lnTo>
                  <a:pt x="568" y="2270"/>
                </a:lnTo>
                <a:lnTo>
                  <a:pt x="586" y="2268"/>
                </a:lnTo>
                <a:lnTo>
                  <a:pt x="608" y="2264"/>
                </a:lnTo>
                <a:lnTo>
                  <a:pt x="630" y="2259"/>
                </a:lnTo>
                <a:lnTo>
                  <a:pt x="654" y="2254"/>
                </a:lnTo>
                <a:lnTo>
                  <a:pt x="679" y="2245"/>
                </a:lnTo>
                <a:lnTo>
                  <a:pt x="706" y="2236"/>
                </a:lnTo>
                <a:lnTo>
                  <a:pt x="732" y="2224"/>
                </a:lnTo>
                <a:lnTo>
                  <a:pt x="760" y="2210"/>
                </a:lnTo>
                <a:lnTo>
                  <a:pt x="786" y="2194"/>
                </a:lnTo>
                <a:lnTo>
                  <a:pt x="814" y="2175"/>
                </a:lnTo>
                <a:lnTo>
                  <a:pt x="839" y="2153"/>
                </a:lnTo>
                <a:lnTo>
                  <a:pt x="865" y="2129"/>
                </a:lnTo>
                <a:lnTo>
                  <a:pt x="889" y="2100"/>
                </a:lnTo>
                <a:lnTo>
                  <a:pt x="911" y="2068"/>
                </a:lnTo>
                <a:lnTo>
                  <a:pt x="931" y="2033"/>
                </a:lnTo>
                <a:lnTo>
                  <a:pt x="949" y="1994"/>
                </a:lnTo>
                <a:lnTo>
                  <a:pt x="964" y="1952"/>
                </a:lnTo>
                <a:lnTo>
                  <a:pt x="977" y="1904"/>
                </a:lnTo>
                <a:lnTo>
                  <a:pt x="986" y="1852"/>
                </a:lnTo>
                <a:lnTo>
                  <a:pt x="935" y="1812"/>
                </a:lnTo>
                <a:lnTo>
                  <a:pt x="885" y="1767"/>
                </a:lnTo>
                <a:lnTo>
                  <a:pt x="839" y="1716"/>
                </a:lnTo>
                <a:lnTo>
                  <a:pt x="796" y="1661"/>
                </a:lnTo>
                <a:lnTo>
                  <a:pt x="757" y="1602"/>
                </a:lnTo>
                <a:lnTo>
                  <a:pt x="722" y="1538"/>
                </a:lnTo>
                <a:lnTo>
                  <a:pt x="690" y="1470"/>
                </a:lnTo>
                <a:lnTo>
                  <a:pt x="663" y="1398"/>
                </a:lnTo>
                <a:lnTo>
                  <a:pt x="640" y="1324"/>
                </a:lnTo>
                <a:lnTo>
                  <a:pt x="622" y="1245"/>
                </a:lnTo>
                <a:lnTo>
                  <a:pt x="609" y="1165"/>
                </a:lnTo>
                <a:lnTo>
                  <a:pt x="598" y="1152"/>
                </a:lnTo>
                <a:lnTo>
                  <a:pt x="591" y="1137"/>
                </a:lnTo>
                <a:lnTo>
                  <a:pt x="568" y="1078"/>
                </a:lnTo>
                <a:lnTo>
                  <a:pt x="550" y="1016"/>
                </a:lnTo>
                <a:lnTo>
                  <a:pt x="537" y="950"/>
                </a:lnTo>
                <a:lnTo>
                  <a:pt x="527" y="885"/>
                </a:lnTo>
                <a:lnTo>
                  <a:pt x="522" y="819"/>
                </a:lnTo>
                <a:lnTo>
                  <a:pt x="523" y="754"/>
                </a:lnTo>
                <a:lnTo>
                  <a:pt x="527" y="689"/>
                </a:lnTo>
                <a:lnTo>
                  <a:pt x="537" y="626"/>
                </a:lnTo>
                <a:lnTo>
                  <a:pt x="551" y="563"/>
                </a:lnTo>
                <a:lnTo>
                  <a:pt x="570" y="503"/>
                </a:lnTo>
                <a:lnTo>
                  <a:pt x="594" y="444"/>
                </a:lnTo>
                <a:lnTo>
                  <a:pt x="622" y="387"/>
                </a:lnTo>
                <a:lnTo>
                  <a:pt x="655" y="334"/>
                </a:lnTo>
                <a:lnTo>
                  <a:pt x="692" y="285"/>
                </a:lnTo>
                <a:lnTo>
                  <a:pt x="731" y="241"/>
                </a:lnTo>
                <a:lnTo>
                  <a:pt x="775" y="200"/>
                </a:lnTo>
                <a:lnTo>
                  <a:pt x="821" y="167"/>
                </a:lnTo>
                <a:lnTo>
                  <a:pt x="871" y="137"/>
                </a:lnTo>
                <a:lnTo>
                  <a:pt x="923" y="112"/>
                </a:lnTo>
                <a:lnTo>
                  <a:pt x="978" y="93"/>
                </a:lnTo>
                <a:lnTo>
                  <a:pt x="1032" y="81"/>
                </a:lnTo>
                <a:lnTo>
                  <a:pt x="1087" y="73"/>
                </a:lnTo>
                <a:lnTo>
                  <a:pt x="1146" y="47"/>
                </a:lnTo>
                <a:lnTo>
                  <a:pt x="1208" y="27"/>
                </a:lnTo>
                <a:lnTo>
                  <a:pt x="1269" y="12"/>
                </a:lnTo>
                <a:lnTo>
                  <a:pt x="1332" y="3"/>
                </a:lnTo>
                <a:lnTo>
                  <a:pt x="139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0" name="Inhaltsplatzhalter 4"/>
          <p:cNvSpPr/>
          <p:nvPr/>
        </p:nvSpPr>
        <p:spPr>
          <a:xfrm>
            <a:off x="243000" y="2664000"/>
            <a:ext cx="3871800" cy="853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1199"/>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注册会计师的责任。</a:t>
            </a:r>
            <a:endParaRPr b="1" lang="en-US" sz="2400" spc="-1" strike="noStrike">
              <a:solidFill>
                <a:srgbClr val="000000"/>
              </a:solidFill>
              <a:latin typeface="Arial"/>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即注册会计师、被审计单位治理层对财务报表各自所 承担的责任，以及注册会计师与治理层沟通的责任。</a:t>
            </a:r>
            <a:endParaRPr b="1" lang="en-US" sz="2200" spc="-1" strike="noStrike">
              <a:solidFill>
                <a:srgbClr val="000000"/>
              </a:solidFill>
              <a:latin typeface="Arial"/>
            </a:endParaRPr>
          </a:p>
        </p:txBody>
      </p:sp>
      <p:grpSp>
        <p:nvGrpSpPr>
          <p:cNvPr id="2181" name="Group 5"/>
          <p:cNvGrpSpPr/>
          <p:nvPr/>
        </p:nvGrpSpPr>
        <p:grpSpPr>
          <a:xfrm>
            <a:off x="4300560" y="3557520"/>
            <a:ext cx="709560" cy="750960"/>
            <a:chOff x="4300560" y="3557520"/>
            <a:chExt cx="709560" cy="750960"/>
          </a:xfrm>
        </p:grpSpPr>
        <p:sp>
          <p:nvSpPr>
            <p:cNvPr id="2182" name="Oval 64"/>
            <p:cNvSpPr/>
            <p:nvPr/>
          </p:nvSpPr>
          <p:spPr>
            <a:xfrm>
              <a:off x="4300560" y="3557520"/>
              <a:ext cx="709560" cy="750960"/>
            </a:xfrm>
            <a:prstGeom prst="ellipse">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83" name="Group 64"/>
            <p:cNvGrpSpPr/>
            <p:nvPr/>
          </p:nvGrpSpPr>
          <p:grpSpPr>
            <a:xfrm>
              <a:off x="0" y="0"/>
              <a:ext cx="0" cy="0"/>
              <a:chOff x="0" y="0"/>
              <a:chExt cx="0" cy="0"/>
            </a:xfrm>
          </p:grpSpPr>
        </p:grpSp>
      </p:grpSp>
      <p:grpSp>
        <p:nvGrpSpPr>
          <p:cNvPr id="2184" name="Group 9"/>
          <p:cNvGrpSpPr/>
          <p:nvPr/>
        </p:nvGrpSpPr>
        <p:grpSpPr>
          <a:xfrm>
            <a:off x="4471920" y="2460600"/>
            <a:ext cx="723960" cy="684360"/>
            <a:chOff x="4471920" y="2460600"/>
            <a:chExt cx="723960" cy="684360"/>
          </a:xfrm>
        </p:grpSpPr>
        <p:sp>
          <p:nvSpPr>
            <p:cNvPr id="2185" name="Oval 63"/>
            <p:cNvSpPr/>
            <p:nvPr/>
          </p:nvSpPr>
          <p:spPr>
            <a:xfrm>
              <a:off x="4471920" y="2460600"/>
              <a:ext cx="723960" cy="68436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6" name="Freeform 19"/>
            <p:cNvSpPr/>
            <p:nvPr/>
          </p:nvSpPr>
          <p:spPr>
            <a:xfrm>
              <a:off x="4605120" y="2608200"/>
              <a:ext cx="378360" cy="379080"/>
            </a:xfrm>
            <a:custGeom>
              <a:avLst/>
              <a:gdLst/>
              <a:ahLst/>
              <a:rect l="l" t="t" r="r" b="b"/>
              <a:pathLst>
                <a:path w="3184" h="3385">
                  <a:moveTo>
                    <a:pt x="2579" y="2364"/>
                  </a:moveTo>
                  <a:lnTo>
                    <a:pt x="2528" y="2367"/>
                  </a:lnTo>
                  <a:lnTo>
                    <a:pt x="2478" y="2377"/>
                  </a:lnTo>
                  <a:lnTo>
                    <a:pt x="2429" y="2392"/>
                  </a:lnTo>
                  <a:lnTo>
                    <a:pt x="2385" y="2413"/>
                  </a:lnTo>
                  <a:lnTo>
                    <a:pt x="2343" y="2439"/>
                  </a:lnTo>
                  <a:lnTo>
                    <a:pt x="2304" y="2469"/>
                  </a:lnTo>
                  <a:lnTo>
                    <a:pt x="2270" y="2504"/>
                  </a:lnTo>
                  <a:lnTo>
                    <a:pt x="2239" y="2542"/>
                  </a:lnTo>
                  <a:lnTo>
                    <a:pt x="2213" y="2584"/>
                  </a:lnTo>
                  <a:lnTo>
                    <a:pt x="2193" y="2630"/>
                  </a:lnTo>
                  <a:lnTo>
                    <a:pt x="2177" y="2677"/>
                  </a:lnTo>
                  <a:lnTo>
                    <a:pt x="2168" y="2727"/>
                  </a:lnTo>
                  <a:lnTo>
                    <a:pt x="2165" y="2779"/>
                  </a:lnTo>
                  <a:lnTo>
                    <a:pt x="2168" y="2831"/>
                  </a:lnTo>
                  <a:lnTo>
                    <a:pt x="2177" y="2882"/>
                  </a:lnTo>
                  <a:lnTo>
                    <a:pt x="2193" y="2929"/>
                  </a:lnTo>
                  <a:lnTo>
                    <a:pt x="2213" y="2975"/>
                  </a:lnTo>
                  <a:lnTo>
                    <a:pt x="2239" y="3017"/>
                  </a:lnTo>
                  <a:lnTo>
                    <a:pt x="2270" y="3055"/>
                  </a:lnTo>
                  <a:lnTo>
                    <a:pt x="2304" y="3090"/>
                  </a:lnTo>
                  <a:lnTo>
                    <a:pt x="2343" y="3120"/>
                  </a:lnTo>
                  <a:lnTo>
                    <a:pt x="2385" y="3146"/>
                  </a:lnTo>
                  <a:lnTo>
                    <a:pt x="2429" y="3166"/>
                  </a:lnTo>
                  <a:lnTo>
                    <a:pt x="2478" y="3182"/>
                  </a:lnTo>
                  <a:lnTo>
                    <a:pt x="2528" y="3191"/>
                  </a:lnTo>
                  <a:lnTo>
                    <a:pt x="2579" y="3195"/>
                  </a:lnTo>
                  <a:lnTo>
                    <a:pt x="2632" y="3191"/>
                  </a:lnTo>
                  <a:lnTo>
                    <a:pt x="2681" y="3182"/>
                  </a:lnTo>
                  <a:lnTo>
                    <a:pt x="2729" y="3166"/>
                  </a:lnTo>
                  <a:lnTo>
                    <a:pt x="2774" y="3146"/>
                  </a:lnTo>
                  <a:lnTo>
                    <a:pt x="2816" y="3120"/>
                  </a:lnTo>
                  <a:lnTo>
                    <a:pt x="2855" y="3090"/>
                  </a:lnTo>
                  <a:lnTo>
                    <a:pt x="2889" y="3055"/>
                  </a:lnTo>
                  <a:lnTo>
                    <a:pt x="2920" y="3017"/>
                  </a:lnTo>
                  <a:lnTo>
                    <a:pt x="2945" y="2975"/>
                  </a:lnTo>
                  <a:lnTo>
                    <a:pt x="2966" y="2929"/>
                  </a:lnTo>
                  <a:lnTo>
                    <a:pt x="2981" y="2882"/>
                  </a:lnTo>
                  <a:lnTo>
                    <a:pt x="2991" y="2831"/>
                  </a:lnTo>
                  <a:lnTo>
                    <a:pt x="2994" y="2779"/>
                  </a:lnTo>
                  <a:lnTo>
                    <a:pt x="2991" y="2727"/>
                  </a:lnTo>
                  <a:lnTo>
                    <a:pt x="2981" y="2677"/>
                  </a:lnTo>
                  <a:lnTo>
                    <a:pt x="2966" y="2630"/>
                  </a:lnTo>
                  <a:lnTo>
                    <a:pt x="2945" y="2584"/>
                  </a:lnTo>
                  <a:lnTo>
                    <a:pt x="2920" y="2542"/>
                  </a:lnTo>
                  <a:lnTo>
                    <a:pt x="2889" y="2504"/>
                  </a:lnTo>
                  <a:lnTo>
                    <a:pt x="2855" y="2469"/>
                  </a:lnTo>
                  <a:lnTo>
                    <a:pt x="2816" y="2439"/>
                  </a:lnTo>
                  <a:lnTo>
                    <a:pt x="2774" y="2413"/>
                  </a:lnTo>
                  <a:lnTo>
                    <a:pt x="2729" y="2392"/>
                  </a:lnTo>
                  <a:lnTo>
                    <a:pt x="2681" y="2377"/>
                  </a:lnTo>
                  <a:lnTo>
                    <a:pt x="2632" y="2367"/>
                  </a:lnTo>
                  <a:lnTo>
                    <a:pt x="2579" y="2364"/>
                  </a:lnTo>
                  <a:close/>
                  <a:moveTo>
                    <a:pt x="604" y="1277"/>
                  </a:moveTo>
                  <a:lnTo>
                    <a:pt x="553" y="1280"/>
                  </a:lnTo>
                  <a:lnTo>
                    <a:pt x="503" y="1289"/>
                  </a:lnTo>
                  <a:lnTo>
                    <a:pt x="454" y="1305"/>
                  </a:lnTo>
                  <a:lnTo>
                    <a:pt x="410" y="1325"/>
                  </a:lnTo>
                  <a:lnTo>
                    <a:pt x="368" y="1351"/>
                  </a:lnTo>
                  <a:lnTo>
                    <a:pt x="329" y="1382"/>
                  </a:lnTo>
                  <a:lnTo>
                    <a:pt x="295" y="1416"/>
                  </a:lnTo>
                  <a:lnTo>
                    <a:pt x="264" y="1455"/>
                  </a:lnTo>
                  <a:lnTo>
                    <a:pt x="238" y="1497"/>
                  </a:lnTo>
                  <a:lnTo>
                    <a:pt x="218" y="1543"/>
                  </a:lnTo>
                  <a:lnTo>
                    <a:pt x="202" y="1590"/>
                  </a:lnTo>
                  <a:lnTo>
                    <a:pt x="193" y="1640"/>
                  </a:lnTo>
                  <a:lnTo>
                    <a:pt x="190" y="1692"/>
                  </a:lnTo>
                  <a:lnTo>
                    <a:pt x="193" y="1744"/>
                  </a:lnTo>
                  <a:lnTo>
                    <a:pt x="202" y="1794"/>
                  </a:lnTo>
                  <a:lnTo>
                    <a:pt x="218" y="1842"/>
                  </a:lnTo>
                  <a:lnTo>
                    <a:pt x="238" y="1888"/>
                  </a:lnTo>
                  <a:lnTo>
                    <a:pt x="264" y="1929"/>
                  </a:lnTo>
                  <a:lnTo>
                    <a:pt x="295" y="1968"/>
                  </a:lnTo>
                  <a:lnTo>
                    <a:pt x="329" y="2002"/>
                  </a:lnTo>
                  <a:lnTo>
                    <a:pt x="368" y="2033"/>
                  </a:lnTo>
                  <a:lnTo>
                    <a:pt x="410" y="2059"/>
                  </a:lnTo>
                  <a:lnTo>
                    <a:pt x="454" y="2079"/>
                  </a:lnTo>
                  <a:lnTo>
                    <a:pt x="503" y="2095"/>
                  </a:lnTo>
                  <a:lnTo>
                    <a:pt x="553" y="2104"/>
                  </a:lnTo>
                  <a:lnTo>
                    <a:pt x="604" y="2107"/>
                  </a:lnTo>
                  <a:lnTo>
                    <a:pt x="656" y="2104"/>
                  </a:lnTo>
                  <a:lnTo>
                    <a:pt x="706" y="2095"/>
                  </a:lnTo>
                  <a:lnTo>
                    <a:pt x="754" y="2079"/>
                  </a:lnTo>
                  <a:lnTo>
                    <a:pt x="799" y="2059"/>
                  </a:lnTo>
                  <a:lnTo>
                    <a:pt x="841" y="2033"/>
                  </a:lnTo>
                  <a:lnTo>
                    <a:pt x="879" y="2002"/>
                  </a:lnTo>
                  <a:lnTo>
                    <a:pt x="914" y="1968"/>
                  </a:lnTo>
                  <a:lnTo>
                    <a:pt x="945" y="1929"/>
                  </a:lnTo>
                  <a:lnTo>
                    <a:pt x="970" y="1888"/>
                  </a:lnTo>
                  <a:lnTo>
                    <a:pt x="991" y="1842"/>
                  </a:lnTo>
                  <a:lnTo>
                    <a:pt x="1006" y="1794"/>
                  </a:lnTo>
                  <a:lnTo>
                    <a:pt x="1016" y="1744"/>
                  </a:lnTo>
                  <a:lnTo>
                    <a:pt x="1019" y="1692"/>
                  </a:lnTo>
                  <a:lnTo>
                    <a:pt x="1016" y="1640"/>
                  </a:lnTo>
                  <a:lnTo>
                    <a:pt x="1006" y="1590"/>
                  </a:lnTo>
                  <a:lnTo>
                    <a:pt x="991" y="1543"/>
                  </a:lnTo>
                  <a:lnTo>
                    <a:pt x="970" y="1497"/>
                  </a:lnTo>
                  <a:lnTo>
                    <a:pt x="945" y="1455"/>
                  </a:lnTo>
                  <a:lnTo>
                    <a:pt x="914" y="1416"/>
                  </a:lnTo>
                  <a:lnTo>
                    <a:pt x="880" y="1382"/>
                  </a:lnTo>
                  <a:lnTo>
                    <a:pt x="841" y="1351"/>
                  </a:lnTo>
                  <a:lnTo>
                    <a:pt x="799" y="1325"/>
                  </a:lnTo>
                  <a:lnTo>
                    <a:pt x="755" y="1305"/>
                  </a:lnTo>
                  <a:lnTo>
                    <a:pt x="706" y="1289"/>
                  </a:lnTo>
                  <a:lnTo>
                    <a:pt x="657" y="1280"/>
                  </a:lnTo>
                  <a:lnTo>
                    <a:pt x="604" y="1277"/>
                  </a:lnTo>
                  <a:close/>
                  <a:moveTo>
                    <a:pt x="2579" y="191"/>
                  </a:moveTo>
                  <a:lnTo>
                    <a:pt x="2528" y="194"/>
                  </a:lnTo>
                  <a:lnTo>
                    <a:pt x="2478" y="203"/>
                  </a:lnTo>
                  <a:lnTo>
                    <a:pt x="2430" y="219"/>
                  </a:lnTo>
                  <a:lnTo>
                    <a:pt x="2385" y="239"/>
                  </a:lnTo>
                  <a:lnTo>
                    <a:pt x="2343" y="265"/>
                  </a:lnTo>
                  <a:lnTo>
                    <a:pt x="2305" y="296"/>
                  </a:lnTo>
                  <a:lnTo>
                    <a:pt x="2270" y="331"/>
                  </a:lnTo>
                  <a:lnTo>
                    <a:pt x="2239" y="369"/>
                  </a:lnTo>
                  <a:lnTo>
                    <a:pt x="2213" y="411"/>
                  </a:lnTo>
                  <a:lnTo>
                    <a:pt x="2193" y="457"/>
                  </a:lnTo>
                  <a:lnTo>
                    <a:pt x="2177" y="504"/>
                  </a:lnTo>
                  <a:lnTo>
                    <a:pt x="2168" y="554"/>
                  </a:lnTo>
                  <a:lnTo>
                    <a:pt x="2165" y="606"/>
                  </a:lnTo>
                  <a:lnTo>
                    <a:pt x="2168" y="659"/>
                  </a:lnTo>
                  <a:lnTo>
                    <a:pt x="2177" y="708"/>
                  </a:lnTo>
                  <a:lnTo>
                    <a:pt x="2193" y="756"/>
                  </a:lnTo>
                  <a:lnTo>
                    <a:pt x="2213" y="802"/>
                  </a:lnTo>
                  <a:lnTo>
                    <a:pt x="2239" y="843"/>
                  </a:lnTo>
                  <a:lnTo>
                    <a:pt x="2270" y="882"/>
                  </a:lnTo>
                  <a:lnTo>
                    <a:pt x="2304" y="916"/>
                  </a:lnTo>
                  <a:lnTo>
                    <a:pt x="2343" y="947"/>
                  </a:lnTo>
                  <a:lnTo>
                    <a:pt x="2385" y="973"/>
                  </a:lnTo>
                  <a:lnTo>
                    <a:pt x="2429" y="993"/>
                  </a:lnTo>
                  <a:lnTo>
                    <a:pt x="2478" y="1009"/>
                  </a:lnTo>
                  <a:lnTo>
                    <a:pt x="2528" y="1018"/>
                  </a:lnTo>
                  <a:lnTo>
                    <a:pt x="2579" y="1021"/>
                  </a:lnTo>
                  <a:lnTo>
                    <a:pt x="2632" y="1018"/>
                  </a:lnTo>
                  <a:lnTo>
                    <a:pt x="2681" y="1009"/>
                  </a:lnTo>
                  <a:lnTo>
                    <a:pt x="2729" y="993"/>
                  </a:lnTo>
                  <a:lnTo>
                    <a:pt x="2774" y="973"/>
                  </a:lnTo>
                  <a:lnTo>
                    <a:pt x="2816" y="947"/>
                  </a:lnTo>
                  <a:lnTo>
                    <a:pt x="2855" y="916"/>
                  </a:lnTo>
                  <a:lnTo>
                    <a:pt x="2889" y="882"/>
                  </a:lnTo>
                  <a:lnTo>
                    <a:pt x="2920" y="843"/>
                  </a:lnTo>
                  <a:lnTo>
                    <a:pt x="2945" y="802"/>
                  </a:lnTo>
                  <a:lnTo>
                    <a:pt x="2966" y="756"/>
                  </a:lnTo>
                  <a:lnTo>
                    <a:pt x="2981" y="708"/>
                  </a:lnTo>
                  <a:lnTo>
                    <a:pt x="2991" y="659"/>
                  </a:lnTo>
                  <a:lnTo>
                    <a:pt x="2994" y="606"/>
                  </a:lnTo>
                  <a:lnTo>
                    <a:pt x="2991" y="554"/>
                  </a:lnTo>
                  <a:lnTo>
                    <a:pt x="2981" y="504"/>
                  </a:lnTo>
                  <a:lnTo>
                    <a:pt x="2966" y="457"/>
                  </a:lnTo>
                  <a:lnTo>
                    <a:pt x="2945" y="411"/>
                  </a:lnTo>
                  <a:lnTo>
                    <a:pt x="2920" y="369"/>
                  </a:lnTo>
                  <a:lnTo>
                    <a:pt x="2889" y="331"/>
                  </a:lnTo>
                  <a:lnTo>
                    <a:pt x="2855" y="296"/>
                  </a:lnTo>
                  <a:lnTo>
                    <a:pt x="2816" y="265"/>
                  </a:lnTo>
                  <a:lnTo>
                    <a:pt x="2774" y="239"/>
                  </a:lnTo>
                  <a:lnTo>
                    <a:pt x="2729" y="219"/>
                  </a:lnTo>
                  <a:lnTo>
                    <a:pt x="2681" y="203"/>
                  </a:lnTo>
                  <a:lnTo>
                    <a:pt x="2632" y="194"/>
                  </a:lnTo>
                  <a:lnTo>
                    <a:pt x="2579" y="191"/>
                  </a:lnTo>
                  <a:close/>
                  <a:moveTo>
                    <a:pt x="2578" y="0"/>
                  </a:moveTo>
                  <a:lnTo>
                    <a:pt x="2640" y="3"/>
                  </a:lnTo>
                  <a:lnTo>
                    <a:pt x="2701" y="13"/>
                  </a:lnTo>
                  <a:lnTo>
                    <a:pt x="2758" y="28"/>
                  </a:lnTo>
                  <a:lnTo>
                    <a:pt x="2814" y="48"/>
                  </a:lnTo>
                  <a:lnTo>
                    <a:pt x="2866" y="73"/>
                  </a:lnTo>
                  <a:lnTo>
                    <a:pt x="2917" y="104"/>
                  </a:lnTo>
                  <a:lnTo>
                    <a:pt x="2963" y="138"/>
                  </a:lnTo>
                  <a:lnTo>
                    <a:pt x="3006" y="177"/>
                  </a:lnTo>
                  <a:lnTo>
                    <a:pt x="3045" y="221"/>
                  </a:lnTo>
                  <a:lnTo>
                    <a:pt x="3079" y="267"/>
                  </a:lnTo>
                  <a:lnTo>
                    <a:pt x="3110" y="318"/>
                  </a:lnTo>
                  <a:lnTo>
                    <a:pt x="3135" y="370"/>
                  </a:lnTo>
                  <a:lnTo>
                    <a:pt x="3155" y="426"/>
                  </a:lnTo>
                  <a:lnTo>
                    <a:pt x="3170" y="483"/>
                  </a:lnTo>
                  <a:lnTo>
                    <a:pt x="3180" y="543"/>
                  </a:lnTo>
                  <a:lnTo>
                    <a:pt x="3183" y="605"/>
                  </a:lnTo>
                  <a:lnTo>
                    <a:pt x="3180" y="667"/>
                  </a:lnTo>
                  <a:lnTo>
                    <a:pt x="3170" y="728"/>
                  </a:lnTo>
                  <a:lnTo>
                    <a:pt x="3155" y="785"/>
                  </a:lnTo>
                  <a:lnTo>
                    <a:pt x="3134" y="841"/>
                  </a:lnTo>
                  <a:lnTo>
                    <a:pt x="3110" y="893"/>
                  </a:lnTo>
                  <a:lnTo>
                    <a:pt x="3079" y="944"/>
                  </a:lnTo>
                  <a:lnTo>
                    <a:pt x="3044" y="990"/>
                  </a:lnTo>
                  <a:lnTo>
                    <a:pt x="3005" y="1034"/>
                  </a:lnTo>
                  <a:lnTo>
                    <a:pt x="2963" y="1073"/>
                  </a:lnTo>
                  <a:lnTo>
                    <a:pt x="2915" y="1107"/>
                  </a:lnTo>
                  <a:lnTo>
                    <a:pt x="2866" y="1138"/>
                  </a:lnTo>
                  <a:lnTo>
                    <a:pt x="2814" y="1163"/>
                  </a:lnTo>
                  <a:lnTo>
                    <a:pt x="2758" y="1183"/>
                  </a:lnTo>
                  <a:lnTo>
                    <a:pt x="2700" y="1198"/>
                  </a:lnTo>
                  <a:lnTo>
                    <a:pt x="2640" y="1208"/>
                  </a:lnTo>
                  <a:lnTo>
                    <a:pt x="2578" y="1211"/>
                  </a:lnTo>
                  <a:lnTo>
                    <a:pt x="2521" y="1208"/>
                  </a:lnTo>
                  <a:lnTo>
                    <a:pt x="2464" y="1199"/>
                  </a:lnTo>
                  <a:lnTo>
                    <a:pt x="2410" y="1186"/>
                  </a:lnTo>
                  <a:lnTo>
                    <a:pt x="2357" y="1169"/>
                  </a:lnTo>
                  <a:lnTo>
                    <a:pt x="2307" y="1146"/>
                  </a:lnTo>
                  <a:lnTo>
                    <a:pt x="2260" y="1119"/>
                  </a:lnTo>
                  <a:lnTo>
                    <a:pt x="2215" y="1088"/>
                  </a:lnTo>
                  <a:lnTo>
                    <a:pt x="2173" y="1053"/>
                  </a:lnTo>
                  <a:lnTo>
                    <a:pt x="2134" y="1015"/>
                  </a:lnTo>
                  <a:lnTo>
                    <a:pt x="2099" y="973"/>
                  </a:lnTo>
                  <a:lnTo>
                    <a:pt x="1173" y="1492"/>
                  </a:lnTo>
                  <a:lnTo>
                    <a:pt x="1187" y="1539"/>
                  </a:lnTo>
                  <a:lnTo>
                    <a:pt x="1199" y="1589"/>
                  </a:lnTo>
                  <a:lnTo>
                    <a:pt x="1205" y="1640"/>
                  </a:lnTo>
                  <a:lnTo>
                    <a:pt x="1207" y="1692"/>
                  </a:lnTo>
                  <a:lnTo>
                    <a:pt x="1205" y="1743"/>
                  </a:lnTo>
                  <a:lnTo>
                    <a:pt x="1199" y="1795"/>
                  </a:lnTo>
                  <a:lnTo>
                    <a:pt x="1187" y="1843"/>
                  </a:lnTo>
                  <a:lnTo>
                    <a:pt x="1173" y="1892"/>
                  </a:lnTo>
                  <a:lnTo>
                    <a:pt x="2101" y="2411"/>
                  </a:lnTo>
                  <a:lnTo>
                    <a:pt x="2136" y="2370"/>
                  </a:lnTo>
                  <a:lnTo>
                    <a:pt x="2174" y="2332"/>
                  </a:lnTo>
                  <a:lnTo>
                    <a:pt x="2216" y="2297"/>
                  </a:lnTo>
                  <a:lnTo>
                    <a:pt x="2262" y="2266"/>
                  </a:lnTo>
                  <a:lnTo>
                    <a:pt x="2309" y="2239"/>
                  </a:lnTo>
                  <a:lnTo>
                    <a:pt x="2359" y="2216"/>
                  </a:lnTo>
                  <a:lnTo>
                    <a:pt x="2412" y="2199"/>
                  </a:lnTo>
                  <a:lnTo>
                    <a:pt x="2465" y="2185"/>
                  </a:lnTo>
                  <a:lnTo>
                    <a:pt x="2522" y="2177"/>
                  </a:lnTo>
                  <a:lnTo>
                    <a:pt x="2579" y="2175"/>
                  </a:lnTo>
                  <a:lnTo>
                    <a:pt x="2641" y="2178"/>
                  </a:lnTo>
                  <a:lnTo>
                    <a:pt x="2701" y="2188"/>
                  </a:lnTo>
                  <a:lnTo>
                    <a:pt x="2759" y="2202"/>
                  </a:lnTo>
                  <a:lnTo>
                    <a:pt x="2815" y="2223"/>
                  </a:lnTo>
                  <a:lnTo>
                    <a:pt x="2867" y="2248"/>
                  </a:lnTo>
                  <a:lnTo>
                    <a:pt x="2918" y="2278"/>
                  </a:lnTo>
                  <a:lnTo>
                    <a:pt x="2964" y="2313"/>
                  </a:lnTo>
                  <a:lnTo>
                    <a:pt x="3007" y="2352"/>
                  </a:lnTo>
                  <a:lnTo>
                    <a:pt x="3046" y="2396"/>
                  </a:lnTo>
                  <a:lnTo>
                    <a:pt x="3080" y="2442"/>
                  </a:lnTo>
                  <a:lnTo>
                    <a:pt x="3111" y="2491"/>
                  </a:lnTo>
                  <a:lnTo>
                    <a:pt x="3137" y="2545"/>
                  </a:lnTo>
                  <a:lnTo>
                    <a:pt x="3157" y="2601"/>
                  </a:lnTo>
                  <a:lnTo>
                    <a:pt x="3171" y="2658"/>
                  </a:lnTo>
                  <a:lnTo>
                    <a:pt x="3181" y="2718"/>
                  </a:lnTo>
                  <a:lnTo>
                    <a:pt x="3184" y="2780"/>
                  </a:lnTo>
                  <a:lnTo>
                    <a:pt x="3181" y="2842"/>
                  </a:lnTo>
                  <a:lnTo>
                    <a:pt x="3171" y="2902"/>
                  </a:lnTo>
                  <a:lnTo>
                    <a:pt x="3157" y="2960"/>
                  </a:lnTo>
                  <a:lnTo>
                    <a:pt x="3137" y="3016"/>
                  </a:lnTo>
                  <a:lnTo>
                    <a:pt x="3111" y="3068"/>
                  </a:lnTo>
                  <a:lnTo>
                    <a:pt x="3081" y="3118"/>
                  </a:lnTo>
                  <a:lnTo>
                    <a:pt x="3046" y="3165"/>
                  </a:lnTo>
                  <a:lnTo>
                    <a:pt x="3007" y="3208"/>
                  </a:lnTo>
                  <a:lnTo>
                    <a:pt x="2964" y="3247"/>
                  </a:lnTo>
                  <a:lnTo>
                    <a:pt x="2918" y="3282"/>
                  </a:lnTo>
                  <a:lnTo>
                    <a:pt x="2868" y="3313"/>
                  </a:lnTo>
                  <a:lnTo>
                    <a:pt x="2815" y="3337"/>
                  </a:lnTo>
                  <a:lnTo>
                    <a:pt x="2759" y="3358"/>
                  </a:lnTo>
                  <a:lnTo>
                    <a:pt x="2702" y="3373"/>
                  </a:lnTo>
                  <a:lnTo>
                    <a:pt x="2642" y="3382"/>
                  </a:lnTo>
                  <a:lnTo>
                    <a:pt x="2580" y="3385"/>
                  </a:lnTo>
                  <a:lnTo>
                    <a:pt x="2519" y="3382"/>
                  </a:lnTo>
                  <a:lnTo>
                    <a:pt x="2458" y="3373"/>
                  </a:lnTo>
                  <a:lnTo>
                    <a:pt x="2400" y="3358"/>
                  </a:lnTo>
                  <a:lnTo>
                    <a:pt x="2345" y="3337"/>
                  </a:lnTo>
                  <a:lnTo>
                    <a:pt x="2292" y="3312"/>
                  </a:lnTo>
                  <a:lnTo>
                    <a:pt x="2243" y="3282"/>
                  </a:lnTo>
                  <a:lnTo>
                    <a:pt x="2196" y="3247"/>
                  </a:lnTo>
                  <a:lnTo>
                    <a:pt x="2154" y="3208"/>
                  </a:lnTo>
                  <a:lnTo>
                    <a:pt x="2115" y="3164"/>
                  </a:lnTo>
                  <a:lnTo>
                    <a:pt x="2080" y="3118"/>
                  </a:lnTo>
                  <a:lnTo>
                    <a:pt x="2049" y="3068"/>
                  </a:lnTo>
                  <a:lnTo>
                    <a:pt x="2024" y="3015"/>
                  </a:lnTo>
                  <a:lnTo>
                    <a:pt x="2004" y="2959"/>
                  </a:lnTo>
                  <a:lnTo>
                    <a:pt x="1988" y="2902"/>
                  </a:lnTo>
                  <a:lnTo>
                    <a:pt x="1979" y="2842"/>
                  </a:lnTo>
                  <a:lnTo>
                    <a:pt x="1976" y="2780"/>
                  </a:lnTo>
                  <a:lnTo>
                    <a:pt x="1979" y="2727"/>
                  </a:lnTo>
                  <a:lnTo>
                    <a:pt x="1985" y="2677"/>
                  </a:lnTo>
                  <a:lnTo>
                    <a:pt x="1996" y="2626"/>
                  </a:lnTo>
                  <a:lnTo>
                    <a:pt x="2012" y="2578"/>
                  </a:lnTo>
                  <a:lnTo>
                    <a:pt x="1085" y="2059"/>
                  </a:lnTo>
                  <a:lnTo>
                    <a:pt x="1050" y="2101"/>
                  </a:lnTo>
                  <a:lnTo>
                    <a:pt x="1011" y="2139"/>
                  </a:lnTo>
                  <a:lnTo>
                    <a:pt x="968" y="2174"/>
                  </a:lnTo>
                  <a:lnTo>
                    <a:pt x="924" y="2205"/>
                  </a:lnTo>
                  <a:lnTo>
                    <a:pt x="876" y="2233"/>
                  </a:lnTo>
                  <a:lnTo>
                    <a:pt x="825" y="2256"/>
                  </a:lnTo>
                  <a:lnTo>
                    <a:pt x="773" y="2273"/>
                  </a:lnTo>
                  <a:lnTo>
                    <a:pt x="719" y="2286"/>
                  </a:lnTo>
                  <a:lnTo>
                    <a:pt x="662" y="2295"/>
                  </a:lnTo>
                  <a:lnTo>
                    <a:pt x="604" y="2297"/>
                  </a:lnTo>
                  <a:lnTo>
                    <a:pt x="543" y="2294"/>
                  </a:lnTo>
                  <a:lnTo>
                    <a:pt x="483" y="2285"/>
                  </a:lnTo>
                  <a:lnTo>
                    <a:pt x="426" y="2270"/>
                  </a:lnTo>
                  <a:lnTo>
                    <a:pt x="370" y="2249"/>
                  </a:lnTo>
                  <a:lnTo>
                    <a:pt x="317" y="2225"/>
                  </a:lnTo>
                  <a:lnTo>
                    <a:pt x="267" y="2194"/>
                  </a:lnTo>
                  <a:lnTo>
                    <a:pt x="220" y="2159"/>
                  </a:lnTo>
                  <a:lnTo>
                    <a:pt x="178" y="2120"/>
                  </a:lnTo>
                  <a:lnTo>
                    <a:pt x="139" y="2077"/>
                  </a:lnTo>
                  <a:lnTo>
                    <a:pt x="104" y="2030"/>
                  </a:lnTo>
                  <a:lnTo>
                    <a:pt x="73" y="1980"/>
                  </a:lnTo>
                  <a:lnTo>
                    <a:pt x="47" y="1928"/>
                  </a:lnTo>
                  <a:lnTo>
                    <a:pt x="28" y="1872"/>
                  </a:lnTo>
                  <a:lnTo>
                    <a:pt x="12" y="1814"/>
                  </a:lnTo>
                  <a:lnTo>
                    <a:pt x="3" y="1754"/>
                  </a:lnTo>
                  <a:lnTo>
                    <a:pt x="0" y="1692"/>
                  </a:lnTo>
                  <a:lnTo>
                    <a:pt x="3" y="1630"/>
                  </a:lnTo>
                  <a:lnTo>
                    <a:pt x="12" y="1570"/>
                  </a:lnTo>
                  <a:lnTo>
                    <a:pt x="28" y="1513"/>
                  </a:lnTo>
                  <a:lnTo>
                    <a:pt x="47" y="1457"/>
                  </a:lnTo>
                  <a:lnTo>
                    <a:pt x="73" y="1403"/>
                  </a:lnTo>
                  <a:lnTo>
                    <a:pt x="104" y="1354"/>
                  </a:lnTo>
                  <a:lnTo>
                    <a:pt x="139" y="1308"/>
                  </a:lnTo>
                  <a:lnTo>
                    <a:pt x="177" y="1264"/>
                  </a:lnTo>
                  <a:lnTo>
                    <a:pt x="220" y="1225"/>
                  </a:lnTo>
                  <a:lnTo>
                    <a:pt x="266" y="1190"/>
                  </a:lnTo>
                  <a:lnTo>
                    <a:pt x="317" y="1160"/>
                  </a:lnTo>
                  <a:lnTo>
                    <a:pt x="369" y="1135"/>
                  </a:lnTo>
                  <a:lnTo>
                    <a:pt x="425" y="1114"/>
                  </a:lnTo>
                  <a:lnTo>
                    <a:pt x="482" y="1100"/>
                  </a:lnTo>
                  <a:lnTo>
                    <a:pt x="543" y="1090"/>
                  </a:lnTo>
                  <a:lnTo>
                    <a:pt x="603" y="1087"/>
                  </a:lnTo>
                  <a:lnTo>
                    <a:pt x="662" y="1089"/>
                  </a:lnTo>
                  <a:lnTo>
                    <a:pt x="718" y="1097"/>
                  </a:lnTo>
                  <a:lnTo>
                    <a:pt x="772" y="1111"/>
                  </a:lnTo>
                  <a:lnTo>
                    <a:pt x="825" y="1128"/>
                  </a:lnTo>
                  <a:lnTo>
                    <a:pt x="875" y="1151"/>
                  </a:lnTo>
                  <a:lnTo>
                    <a:pt x="923" y="1178"/>
                  </a:lnTo>
                  <a:lnTo>
                    <a:pt x="967" y="1210"/>
                  </a:lnTo>
                  <a:lnTo>
                    <a:pt x="1010" y="1244"/>
                  </a:lnTo>
                  <a:lnTo>
                    <a:pt x="1048" y="1283"/>
                  </a:lnTo>
                  <a:lnTo>
                    <a:pt x="1082" y="1324"/>
                  </a:lnTo>
                  <a:lnTo>
                    <a:pt x="2009" y="806"/>
                  </a:lnTo>
                  <a:lnTo>
                    <a:pt x="1994" y="758"/>
                  </a:lnTo>
                  <a:lnTo>
                    <a:pt x="1984" y="709"/>
                  </a:lnTo>
                  <a:lnTo>
                    <a:pt x="1977" y="658"/>
                  </a:lnTo>
                  <a:lnTo>
                    <a:pt x="1975" y="605"/>
                  </a:lnTo>
                  <a:lnTo>
                    <a:pt x="1978" y="543"/>
                  </a:lnTo>
                  <a:lnTo>
                    <a:pt x="1987" y="483"/>
                  </a:lnTo>
                  <a:lnTo>
                    <a:pt x="2002" y="426"/>
                  </a:lnTo>
                  <a:lnTo>
                    <a:pt x="2022" y="370"/>
                  </a:lnTo>
                  <a:lnTo>
                    <a:pt x="2048" y="318"/>
                  </a:lnTo>
                  <a:lnTo>
                    <a:pt x="2078" y="267"/>
                  </a:lnTo>
                  <a:lnTo>
                    <a:pt x="2113" y="221"/>
                  </a:lnTo>
                  <a:lnTo>
                    <a:pt x="2152" y="177"/>
                  </a:lnTo>
                  <a:lnTo>
                    <a:pt x="2195" y="138"/>
                  </a:lnTo>
                  <a:lnTo>
                    <a:pt x="2241" y="104"/>
                  </a:lnTo>
                  <a:lnTo>
                    <a:pt x="2291" y="73"/>
                  </a:lnTo>
                  <a:lnTo>
                    <a:pt x="2344" y="48"/>
                  </a:lnTo>
                  <a:lnTo>
                    <a:pt x="2399" y="28"/>
                  </a:lnTo>
                  <a:lnTo>
                    <a:pt x="2457" y="13"/>
                  </a:lnTo>
                  <a:lnTo>
                    <a:pt x="2517" y="3"/>
                  </a:lnTo>
                  <a:lnTo>
                    <a:pt x="25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7" name="Group 11"/>
          <p:cNvGrpSpPr/>
          <p:nvPr/>
        </p:nvGrpSpPr>
        <p:grpSpPr>
          <a:xfrm>
            <a:off x="6461280" y="3432240"/>
            <a:ext cx="703080" cy="731880"/>
            <a:chOff x="6461280" y="3432240"/>
            <a:chExt cx="703080" cy="731880"/>
          </a:xfrm>
        </p:grpSpPr>
        <p:sp>
          <p:nvSpPr>
            <p:cNvPr id="2188" name="Oval 60"/>
            <p:cNvSpPr/>
            <p:nvPr/>
          </p:nvSpPr>
          <p:spPr>
            <a:xfrm>
              <a:off x="6461280" y="3432240"/>
              <a:ext cx="703080" cy="731880"/>
            </a:xfrm>
            <a:prstGeom prst="ellipse">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9" name="Freeform 29"/>
            <p:cNvSpPr/>
            <p:nvPr/>
          </p:nvSpPr>
          <p:spPr>
            <a:xfrm>
              <a:off x="6596640" y="3557160"/>
              <a:ext cx="432000" cy="482040"/>
            </a:xfrm>
            <a:custGeom>
              <a:avLst/>
              <a:gdLst/>
              <a:ahLst/>
              <a:rect l="l" t="t" r="r" b="b"/>
              <a:pathLst>
                <a:path w="3187" h="3426">
                  <a:moveTo>
                    <a:pt x="2707" y="2847"/>
                  </a:moveTo>
                  <a:lnTo>
                    <a:pt x="2672" y="2850"/>
                  </a:lnTo>
                  <a:lnTo>
                    <a:pt x="2639" y="2860"/>
                  </a:lnTo>
                  <a:lnTo>
                    <a:pt x="2608" y="2874"/>
                  </a:lnTo>
                  <a:lnTo>
                    <a:pt x="2582" y="2893"/>
                  </a:lnTo>
                  <a:lnTo>
                    <a:pt x="2558" y="2917"/>
                  </a:lnTo>
                  <a:lnTo>
                    <a:pt x="2539" y="2943"/>
                  </a:lnTo>
                  <a:lnTo>
                    <a:pt x="2525" y="2973"/>
                  </a:lnTo>
                  <a:lnTo>
                    <a:pt x="2515" y="3007"/>
                  </a:lnTo>
                  <a:lnTo>
                    <a:pt x="2512" y="3041"/>
                  </a:lnTo>
                  <a:lnTo>
                    <a:pt x="2515" y="3075"/>
                  </a:lnTo>
                  <a:lnTo>
                    <a:pt x="2525" y="3108"/>
                  </a:lnTo>
                  <a:lnTo>
                    <a:pt x="2539" y="3138"/>
                  </a:lnTo>
                  <a:lnTo>
                    <a:pt x="2558" y="3165"/>
                  </a:lnTo>
                  <a:lnTo>
                    <a:pt x="2582" y="3189"/>
                  </a:lnTo>
                  <a:lnTo>
                    <a:pt x="2608" y="3208"/>
                  </a:lnTo>
                  <a:lnTo>
                    <a:pt x="2639" y="3222"/>
                  </a:lnTo>
                  <a:lnTo>
                    <a:pt x="2672" y="3232"/>
                  </a:lnTo>
                  <a:lnTo>
                    <a:pt x="2707" y="3235"/>
                  </a:lnTo>
                  <a:lnTo>
                    <a:pt x="2741" y="3232"/>
                  </a:lnTo>
                  <a:lnTo>
                    <a:pt x="2773" y="3222"/>
                  </a:lnTo>
                  <a:lnTo>
                    <a:pt x="2804" y="3208"/>
                  </a:lnTo>
                  <a:lnTo>
                    <a:pt x="2831" y="3189"/>
                  </a:lnTo>
                  <a:lnTo>
                    <a:pt x="2855" y="3166"/>
                  </a:lnTo>
                  <a:lnTo>
                    <a:pt x="2874" y="3139"/>
                  </a:lnTo>
                  <a:lnTo>
                    <a:pt x="2888" y="3109"/>
                  </a:lnTo>
                  <a:lnTo>
                    <a:pt x="2898" y="3075"/>
                  </a:lnTo>
                  <a:lnTo>
                    <a:pt x="2901" y="3041"/>
                  </a:lnTo>
                  <a:lnTo>
                    <a:pt x="2898" y="3006"/>
                  </a:lnTo>
                  <a:lnTo>
                    <a:pt x="2888" y="2973"/>
                  </a:lnTo>
                  <a:lnTo>
                    <a:pt x="2874" y="2943"/>
                  </a:lnTo>
                  <a:lnTo>
                    <a:pt x="2855" y="2916"/>
                  </a:lnTo>
                  <a:lnTo>
                    <a:pt x="2831" y="2893"/>
                  </a:lnTo>
                  <a:lnTo>
                    <a:pt x="2804" y="2874"/>
                  </a:lnTo>
                  <a:lnTo>
                    <a:pt x="2773" y="2860"/>
                  </a:lnTo>
                  <a:lnTo>
                    <a:pt x="2741" y="2850"/>
                  </a:lnTo>
                  <a:lnTo>
                    <a:pt x="2707" y="2847"/>
                  </a:lnTo>
                  <a:close/>
                  <a:moveTo>
                    <a:pt x="1188" y="2847"/>
                  </a:moveTo>
                  <a:lnTo>
                    <a:pt x="1153" y="2850"/>
                  </a:lnTo>
                  <a:lnTo>
                    <a:pt x="1120" y="2860"/>
                  </a:lnTo>
                  <a:lnTo>
                    <a:pt x="1090" y="2874"/>
                  </a:lnTo>
                  <a:lnTo>
                    <a:pt x="1063" y="2893"/>
                  </a:lnTo>
                  <a:lnTo>
                    <a:pt x="1040" y="2917"/>
                  </a:lnTo>
                  <a:lnTo>
                    <a:pt x="1020" y="2943"/>
                  </a:lnTo>
                  <a:lnTo>
                    <a:pt x="1007" y="2973"/>
                  </a:lnTo>
                  <a:lnTo>
                    <a:pt x="997" y="3007"/>
                  </a:lnTo>
                  <a:lnTo>
                    <a:pt x="994" y="3041"/>
                  </a:lnTo>
                  <a:lnTo>
                    <a:pt x="997" y="3075"/>
                  </a:lnTo>
                  <a:lnTo>
                    <a:pt x="1007" y="3108"/>
                  </a:lnTo>
                  <a:lnTo>
                    <a:pt x="1020" y="3138"/>
                  </a:lnTo>
                  <a:lnTo>
                    <a:pt x="1040" y="3165"/>
                  </a:lnTo>
                  <a:lnTo>
                    <a:pt x="1063" y="3189"/>
                  </a:lnTo>
                  <a:lnTo>
                    <a:pt x="1090" y="3208"/>
                  </a:lnTo>
                  <a:lnTo>
                    <a:pt x="1120" y="3222"/>
                  </a:lnTo>
                  <a:lnTo>
                    <a:pt x="1153" y="3232"/>
                  </a:lnTo>
                  <a:lnTo>
                    <a:pt x="1188" y="3235"/>
                  </a:lnTo>
                  <a:lnTo>
                    <a:pt x="1223" y="3232"/>
                  </a:lnTo>
                  <a:lnTo>
                    <a:pt x="1255" y="3222"/>
                  </a:lnTo>
                  <a:lnTo>
                    <a:pt x="1285" y="3208"/>
                  </a:lnTo>
                  <a:lnTo>
                    <a:pt x="1313" y="3189"/>
                  </a:lnTo>
                  <a:lnTo>
                    <a:pt x="1336" y="3166"/>
                  </a:lnTo>
                  <a:lnTo>
                    <a:pt x="1355" y="3139"/>
                  </a:lnTo>
                  <a:lnTo>
                    <a:pt x="1370" y="3109"/>
                  </a:lnTo>
                  <a:lnTo>
                    <a:pt x="1378" y="3075"/>
                  </a:lnTo>
                  <a:lnTo>
                    <a:pt x="1381" y="3041"/>
                  </a:lnTo>
                  <a:lnTo>
                    <a:pt x="1378" y="3006"/>
                  </a:lnTo>
                  <a:lnTo>
                    <a:pt x="1370" y="2973"/>
                  </a:lnTo>
                  <a:lnTo>
                    <a:pt x="1355" y="2943"/>
                  </a:lnTo>
                  <a:lnTo>
                    <a:pt x="1336" y="2916"/>
                  </a:lnTo>
                  <a:lnTo>
                    <a:pt x="1313" y="2893"/>
                  </a:lnTo>
                  <a:lnTo>
                    <a:pt x="1285" y="2874"/>
                  </a:lnTo>
                  <a:lnTo>
                    <a:pt x="1255" y="2860"/>
                  </a:lnTo>
                  <a:lnTo>
                    <a:pt x="1223" y="2850"/>
                  </a:lnTo>
                  <a:lnTo>
                    <a:pt x="1188" y="2847"/>
                  </a:lnTo>
                  <a:close/>
                  <a:moveTo>
                    <a:pt x="709" y="840"/>
                  </a:moveTo>
                  <a:lnTo>
                    <a:pt x="709" y="1867"/>
                  </a:lnTo>
                  <a:lnTo>
                    <a:pt x="712" y="1903"/>
                  </a:lnTo>
                  <a:lnTo>
                    <a:pt x="722" y="1936"/>
                  </a:lnTo>
                  <a:lnTo>
                    <a:pt x="736" y="1967"/>
                  </a:lnTo>
                  <a:lnTo>
                    <a:pt x="756" y="1994"/>
                  </a:lnTo>
                  <a:lnTo>
                    <a:pt x="780" y="2018"/>
                  </a:lnTo>
                  <a:lnTo>
                    <a:pt x="807" y="2038"/>
                  </a:lnTo>
                  <a:lnTo>
                    <a:pt x="838" y="2053"/>
                  </a:lnTo>
                  <a:lnTo>
                    <a:pt x="872" y="2062"/>
                  </a:lnTo>
                  <a:lnTo>
                    <a:pt x="907" y="2065"/>
                  </a:lnTo>
                  <a:lnTo>
                    <a:pt x="2798" y="2065"/>
                  </a:lnTo>
                  <a:lnTo>
                    <a:pt x="2834" y="2062"/>
                  </a:lnTo>
                  <a:lnTo>
                    <a:pt x="2867" y="2053"/>
                  </a:lnTo>
                  <a:lnTo>
                    <a:pt x="2899" y="2038"/>
                  </a:lnTo>
                  <a:lnTo>
                    <a:pt x="2926" y="2018"/>
                  </a:lnTo>
                  <a:lnTo>
                    <a:pt x="2950" y="1994"/>
                  </a:lnTo>
                  <a:lnTo>
                    <a:pt x="2970" y="1967"/>
                  </a:lnTo>
                  <a:lnTo>
                    <a:pt x="2984" y="1936"/>
                  </a:lnTo>
                  <a:lnTo>
                    <a:pt x="2994" y="1902"/>
                  </a:lnTo>
                  <a:lnTo>
                    <a:pt x="2997" y="1866"/>
                  </a:lnTo>
                  <a:lnTo>
                    <a:pt x="2997" y="1154"/>
                  </a:lnTo>
                  <a:lnTo>
                    <a:pt x="709" y="840"/>
                  </a:lnTo>
                  <a:close/>
                  <a:moveTo>
                    <a:pt x="89" y="0"/>
                  </a:moveTo>
                  <a:lnTo>
                    <a:pt x="111" y="2"/>
                  </a:lnTo>
                  <a:lnTo>
                    <a:pt x="132" y="9"/>
                  </a:lnTo>
                  <a:lnTo>
                    <a:pt x="652" y="226"/>
                  </a:lnTo>
                  <a:lnTo>
                    <a:pt x="656" y="229"/>
                  </a:lnTo>
                  <a:lnTo>
                    <a:pt x="661" y="231"/>
                  </a:lnTo>
                  <a:lnTo>
                    <a:pt x="662" y="232"/>
                  </a:lnTo>
                  <a:lnTo>
                    <a:pt x="663" y="232"/>
                  </a:lnTo>
                  <a:lnTo>
                    <a:pt x="664" y="233"/>
                  </a:lnTo>
                  <a:lnTo>
                    <a:pt x="666" y="234"/>
                  </a:lnTo>
                  <a:lnTo>
                    <a:pt x="668" y="236"/>
                  </a:lnTo>
                  <a:lnTo>
                    <a:pt x="670" y="237"/>
                  </a:lnTo>
                  <a:lnTo>
                    <a:pt x="672" y="239"/>
                  </a:lnTo>
                  <a:lnTo>
                    <a:pt x="674" y="240"/>
                  </a:lnTo>
                  <a:lnTo>
                    <a:pt x="676" y="241"/>
                  </a:lnTo>
                  <a:lnTo>
                    <a:pt x="678" y="243"/>
                  </a:lnTo>
                  <a:lnTo>
                    <a:pt x="680" y="245"/>
                  </a:lnTo>
                  <a:lnTo>
                    <a:pt x="682" y="247"/>
                  </a:lnTo>
                  <a:lnTo>
                    <a:pt x="689" y="254"/>
                  </a:lnTo>
                  <a:lnTo>
                    <a:pt x="690" y="256"/>
                  </a:lnTo>
                  <a:lnTo>
                    <a:pt x="691" y="258"/>
                  </a:lnTo>
                  <a:lnTo>
                    <a:pt x="693" y="262"/>
                  </a:lnTo>
                  <a:lnTo>
                    <a:pt x="694" y="263"/>
                  </a:lnTo>
                  <a:lnTo>
                    <a:pt x="695" y="265"/>
                  </a:lnTo>
                  <a:lnTo>
                    <a:pt x="698" y="267"/>
                  </a:lnTo>
                  <a:lnTo>
                    <a:pt x="699" y="269"/>
                  </a:lnTo>
                  <a:lnTo>
                    <a:pt x="699" y="270"/>
                  </a:lnTo>
                  <a:lnTo>
                    <a:pt x="700" y="271"/>
                  </a:lnTo>
                  <a:lnTo>
                    <a:pt x="700" y="272"/>
                  </a:lnTo>
                  <a:lnTo>
                    <a:pt x="701" y="274"/>
                  </a:lnTo>
                  <a:lnTo>
                    <a:pt x="702" y="275"/>
                  </a:lnTo>
                  <a:lnTo>
                    <a:pt x="703" y="278"/>
                  </a:lnTo>
                  <a:lnTo>
                    <a:pt x="703" y="279"/>
                  </a:lnTo>
                  <a:lnTo>
                    <a:pt x="704" y="280"/>
                  </a:lnTo>
                  <a:lnTo>
                    <a:pt x="704" y="281"/>
                  </a:lnTo>
                  <a:lnTo>
                    <a:pt x="706" y="287"/>
                  </a:lnTo>
                  <a:lnTo>
                    <a:pt x="706" y="288"/>
                  </a:lnTo>
                  <a:lnTo>
                    <a:pt x="706" y="289"/>
                  </a:lnTo>
                  <a:lnTo>
                    <a:pt x="706" y="290"/>
                  </a:lnTo>
                  <a:lnTo>
                    <a:pt x="707" y="292"/>
                  </a:lnTo>
                  <a:lnTo>
                    <a:pt x="707" y="294"/>
                  </a:lnTo>
                  <a:lnTo>
                    <a:pt x="708" y="296"/>
                  </a:lnTo>
                  <a:lnTo>
                    <a:pt x="708" y="299"/>
                  </a:lnTo>
                  <a:lnTo>
                    <a:pt x="708" y="303"/>
                  </a:lnTo>
                  <a:lnTo>
                    <a:pt x="709" y="304"/>
                  </a:lnTo>
                  <a:lnTo>
                    <a:pt x="709" y="305"/>
                  </a:lnTo>
                  <a:lnTo>
                    <a:pt x="710" y="308"/>
                  </a:lnTo>
                  <a:lnTo>
                    <a:pt x="710" y="312"/>
                  </a:lnTo>
                  <a:lnTo>
                    <a:pt x="710" y="315"/>
                  </a:lnTo>
                  <a:lnTo>
                    <a:pt x="710" y="649"/>
                  </a:lnTo>
                  <a:lnTo>
                    <a:pt x="3105" y="979"/>
                  </a:lnTo>
                  <a:lnTo>
                    <a:pt x="3108" y="979"/>
                  </a:lnTo>
                  <a:lnTo>
                    <a:pt x="3109" y="979"/>
                  </a:lnTo>
                  <a:lnTo>
                    <a:pt x="3111" y="979"/>
                  </a:lnTo>
                  <a:lnTo>
                    <a:pt x="3112" y="979"/>
                  </a:lnTo>
                  <a:lnTo>
                    <a:pt x="3114" y="980"/>
                  </a:lnTo>
                  <a:lnTo>
                    <a:pt x="3116" y="980"/>
                  </a:lnTo>
                  <a:lnTo>
                    <a:pt x="3118" y="981"/>
                  </a:lnTo>
                  <a:lnTo>
                    <a:pt x="3119" y="981"/>
                  </a:lnTo>
                  <a:lnTo>
                    <a:pt x="3121" y="981"/>
                  </a:lnTo>
                  <a:lnTo>
                    <a:pt x="3122" y="982"/>
                  </a:lnTo>
                  <a:lnTo>
                    <a:pt x="3124" y="983"/>
                  </a:lnTo>
                  <a:lnTo>
                    <a:pt x="3126" y="983"/>
                  </a:lnTo>
                  <a:lnTo>
                    <a:pt x="3130" y="985"/>
                  </a:lnTo>
                  <a:lnTo>
                    <a:pt x="3139" y="990"/>
                  </a:lnTo>
                  <a:lnTo>
                    <a:pt x="3141" y="992"/>
                  </a:lnTo>
                  <a:lnTo>
                    <a:pt x="3144" y="993"/>
                  </a:lnTo>
                  <a:lnTo>
                    <a:pt x="3145" y="994"/>
                  </a:lnTo>
                  <a:lnTo>
                    <a:pt x="3147" y="995"/>
                  </a:lnTo>
                  <a:lnTo>
                    <a:pt x="3149" y="996"/>
                  </a:lnTo>
                  <a:lnTo>
                    <a:pt x="3151" y="998"/>
                  </a:lnTo>
                  <a:lnTo>
                    <a:pt x="3152" y="999"/>
                  </a:lnTo>
                  <a:lnTo>
                    <a:pt x="3153" y="1000"/>
                  </a:lnTo>
                  <a:lnTo>
                    <a:pt x="3154" y="1001"/>
                  </a:lnTo>
                  <a:lnTo>
                    <a:pt x="3159" y="1004"/>
                  </a:lnTo>
                  <a:lnTo>
                    <a:pt x="3160" y="1005"/>
                  </a:lnTo>
                  <a:lnTo>
                    <a:pt x="3161" y="1005"/>
                  </a:lnTo>
                  <a:lnTo>
                    <a:pt x="3161" y="1007"/>
                  </a:lnTo>
                  <a:lnTo>
                    <a:pt x="3162" y="1008"/>
                  </a:lnTo>
                  <a:lnTo>
                    <a:pt x="3163" y="1009"/>
                  </a:lnTo>
                  <a:lnTo>
                    <a:pt x="3164" y="1010"/>
                  </a:lnTo>
                  <a:lnTo>
                    <a:pt x="3165" y="1011"/>
                  </a:lnTo>
                  <a:lnTo>
                    <a:pt x="3166" y="1012"/>
                  </a:lnTo>
                  <a:lnTo>
                    <a:pt x="3167" y="1013"/>
                  </a:lnTo>
                  <a:lnTo>
                    <a:pt x="3168" y="1016"/>
                  </a:lnTo>
                  <a:lnTo>
                    <a:pt x="3169" y="1017"/>
                  </a:lnTo>
                  <a:lnTo>
                    <a:pt x="3169" y="1018"/>
                  </a:lnTo>
                  <a:lnTo>
                    <a:pt x="3171" y="1020"/>
                  </a:lnTo>
                  <a:lnTo>
                    <a:pt x="3172" y="1022"/>
                  </a:lnTo>
                  <a:lnTo>
                    <a:pt x="3173" y="1023"/>
                  </a:lnTo>
                  <a:lnTo>
                    <a:pt x="3174" y="1025"/>
                  </a:lnTo>
                  <a:lnTo>
                    <a:pt x="3176" y="1029"/>
                  </a:lnTo>
                  <a:lnTo>
                    <a:pt x="3177" y="1031"/>
                  </a:lnTo>
                  <a:lnTo>
                    <a:pt x="3179" y="1033"/>
                  </a:lnTo>
                  <a:lnTo>
                    <a:pt x="3180" y="1035"/>
                  </a:lnTo>
                  <a:lnTo>
                    <a:pt x="3181" y="1037"/>
                  </a:lnTo>
                  <a:lnTo>
                    <a:pt x="3182" y="1040"/>
                  </a:lnTo>
                  <a:lnTo>
                    <a:pt x="3183" y="1042"/>
                  </a:lnTo>
                  <a:lnTo>
                    <a:pt x="3183" y="1044"/>
                  </a:lnTo>
                  <a:lnTo>
                    <a:pt x="3184" y="1046"/>
                  </a:lnTo>
                  <a:lnTo>
                    <a:pt x="3185" y="1049"/>
                  </a:lnTo>
                  <a:lnTo>
                    <a:pt x="3185" y="1051"/>
                  </a:lnTo>
                  <a:lnTo>
                    <a:pt x="3186" y="1053"/>
                  </a:lnTo>
                  <a:lnTo>
                    <a:pt x="3186" y="1055"/>
                  </a:lnTo>
                  <a:lnTo>
                    <a:pt x="3186" y="1057"/>
                  </a:lnTo>
                  <a:lnTo>
                    <a:pt x="3187" y="1058"/>
                  </a:lnTo>
                  <a:lnTo>
                    <a:pt x="3187" y="1060"/>
                  </a:lnTo>
                  <a:lnTo>
                    <a:pt x="3187" y="1062"/>
                  </a:lnTo>
                  <a:lnTo>
                    <a:pt x="3187" y="1065"/>
                  </a:lnTo>
                  <a:lnTo>
                    <a:pt x="3187" y="1867"/>
                  </a:lnTo>
                  <a:lnTo>
                    <a:pt x="3184" y="1915"/>
                  </a:lnTo>
                  <a:lnTo>
                    <a:pt x="3175" y="1962"/>
                  </a:lnTo>
                  <a:lnTo>
                    <a:pt x="3161" y="2007"/>
                  </a:lnTo>
                  <a:lnTo>
                    <a:pt x="3142" y="2050"/>
                  </a:lnTo>
                  <a:lnTo>
                    <a:pt x="3117" y="2088"/>
                  </a:lnTo>
                  <a:lnTo>
                    <a:pt x="3089" y="2125"/>
                  </a:lnTo>
                  <a:lnTo>
                    <a:pt x="3056" y="2157"/>
                  </a:lnTo>
                  <a:lnTo>
                    <a:pt x="3020" y="2185"/>
                  </a:lnTo>
                  <a:lnTo>
                    <a:pt x="2981" y="2210"/>
                  </a:lnTo>
                  <a:lnTo>
                    <a:pt x="2938" y="2229"/>
                  </a:lnTo>
                  <a:lnTo>
                    <a:pt x="2893" y="2244"/>
                  </a:lnTo>
                  <a:lnTo>
                    <a:pt x="2846" y="2252"/>
                  </a:lnTo>
                  <a:lnTo>
                    <a:pt x="2798" y="2255"/>
                  </a:lnTo>
                  <a:lnTo>
                    <a:pt x="907" y="2255"/>
                  </a:lnTo>
                  <a:lnTo>
                    <a:pt x="865" y="2253"/>
                  </a:lnTo>
                  <a:lnTo>
                    <a:pt x="823" y="2247"/>
                  </a:lnTo>
                  <a:lnTo>
                    <a:pt x="783" y="2235"/>
                  </a:lnTo>
                  <a:lnTo>
                    <a:pt x="745" y="2221"/>
                  </a:lnTo>
                  <a:lnTo>
                    <a:pt x="709" y="2202"/>
                  </a:lnTo>
                  <a:lnTo>
                    <a:pt x="709" y="2459"/>
                  </a:lnTo>
                  <a:lnTo>
                    <a:pt x="712" y="2495"/>
                  </a:lnTo>
                  <a:lnTo>
                    <a:pt x="722" y="2528"/>
                  </a:lnTo>
                  <a:lnTo>
                    <a:pt x="736" y="2559"/>
                  </a:lnTo>
                  <a:lnTo>
                    <a:pt x="756" y="2588"/>
                  </a:lnTo>
                  <a:lnTo>
                    <a:pt x="780" y="2612"/>
                  </a:lnTo>
                  <a:lnTo>
                    <a:pt x="807" y="2630"/>
                  </a:lnTo>
                  <a:lnTo>
                    <a:pt x="838" y="2646"/>
                  </a:lnTo>
                  <a:lnTo>
                    <a:pt x="872" y="2655"/>
                  </a:lnTo>
                  <a:lnTo>
                    <a:pt x="907" y="2658"/>
                  </a:lnTo>
                  <a:lnTo>
                    <a:pt x="2705" y="2658"/>
                  </a:lnTo>
                  <a:lnTo>
                    <a:pt x="2754" y="2661"/>
                  </a:lnTo>
                  <a:lnTo>
                    <a:pt x="2801" y="2670"/>
                  </a:lnTo>
                  <a:lnTo>
                    <a:pt x="2844" y="2683"/>
                  </a:lnTo>
                  <a:lnTo>
                    <a:pt x="2886" y="2703"/>
                  </a:lnTo>
                  <a:lnTo>
                    <a:pt x="2925" y="2727"/>
                  </a:lnTo>
                  <a:lnTo>
                    <a:pt x="2960" y="2755"/>
                  </a:lnTo>
                  <a:lnTo>
                    <a:pt x="2993" y="2787"/>
                  </a:lnTo>
                  <a:lnTo>
                    <a:pt x="3021" y="2823"/>
                  </a:lnTo>
                  <a:lnTo>
                    <a:pt x="3045" y="2862"/>
                  </a:lnTo>
                  <a:lnTo>
                    <a:pt x="3064" y="2903"/>
                  </a:lnTo>
                  <a:lnTo>
                    <a:pt x="3078" y="2947"/>
                  </a:lnTo>
                  <a:lnTo>
                    <a:pt x="3087" y="2994"/>
                  </a:lnTo>
                  <a:lnTo>
                    <a:pt x="3090" y="3042"/>
                  </a:lnTo>
                  <a:lnTo>
                    <a:pt x="3087" y="3090"/>
                  </a:lnTo>
                  <a:lnTo>
                    <a:pt x="3078" y="3136"/>
                  </a:lnTo>
                  <a:lnTo>
                    <a:pt x="3064" y="3180"/>
                  </a:lnTo>
                  <a:lnTo>
                    <a:pt x="3045" y="3221"/>
                  </a:lnTo>
                  <a:lnTo>
                    <a:pt x="3021" y="3261"/>
                  </a:lnTo>
                  <a:lnTo>
                    <a:pt x="2993" y="3296"/>
                  </a:lnTo>
                  <a:lnTo>
                    <a:pt x="2960" y="3328"/>
                  </a:lnTo>
                  <a:lnTo>
                    <a:pt x="2925" y="3356"/>
                  </a:lnTo>
                  <a:lnTo>
                    <a:pt x="2886" y="3380"/>
                  </a:lnTo>
                  <a:lnTo>
                    <a:pt x="2844" y="3400"/>
                  </a:lnTo>
                  <a:lnTo>
                    <a:pt x="2801" y="3413"/>
                  </a:lnTo>
                  <a:lnTo>
                    <a:pt x="2754" y="3423"/>
                  </a:lnTo>
                  <a:lnTo>
                    <a:pt x="2705" y="3426"/>
                  </a:lnTo>
                  <a:lnTo>
                    <a:pt x="2657" y="3423"/>
                  </a:lnTo>
                  <a:lnTo>
                    <a:pt x="2612" y="3413"/>
                  </a:lnTo>
                  <a:lnTo>
                    <a:pt x="2568" y="3400"/>
                  </a:lnTo>
                  <a:lnTo>
                    <a:pt x="2526" y="3380"/>
                  </a:lnTo>
                  <a:lnTo>
                    <a:pt x="2486" y="3357"/>
                  </a:lnTo>
                  <a:lnTo>
                    <a:pt x="2451" y="3329"/>
                  </a:lnTo>
                  <a:lnTo>
                    <a:pt x="2418" y="3296"/>
                  </a:lnTo>
                  <a:lnTo>
                    <a:pt x="2390" y="3261"/>
                  </a:lnTo>
                  <a:lnTo>
                    <a:pt x="2367" y="3222"/>
                  </a:lnTo>
                  <a:lnTo>
                    <a:pt x="2347" y="3181"/>
                  </a:lnTo>
                  <a:lnTo>
                    <a:pt x="2334" y="3136"/>
                  </a:lnTo>
                  <a:lnTo>
                    <a:pt x="2324" y="3090"/>
                  </a:lnTo>
                  <a:lnTo>
                    <a:pt x="2321" y="3042"/>
                  </a:lnTo>
                  <a:lnTo>
                    <a:pt x="2323" y="3000"/>
                  </a:lnTo>
                  <a:lnTo>
                    <a:pt x="2331" y="2960"/>
                  </a:lnTo>
                  <a:lnTo>
                    <a:pt x="2341" y="2920"/>
                  </a:lnTo>
                  <a:lnTo>
                    <a:pt x="2356" y="2884"/>
                  </a:lnTo>
                  <a:lnTo>
                    <a:pt x="2374" y="2848"/>
                  </a:lnTo>
                  <a:lnTo>
                    <a:pt x="1518" y="2848"/>
                  </a:lnTo>
                  <a:lnTo>
                    <a:pt x="1537" y="2883"/>
                  </a:lnTo>
                  <a:lnTo>
                    <a:pt x="1552" y="2920"/>
                  </a:lnTo>
                  <a:lnTo>
                    <a:pt x="1562" y="2960"/>
                  </a:lnTo>
                  <a:lnTo>
                    <a:pt x="1569" y="3000"/>
                  </a:lnTo>
                  <a:lnTo>
                    <a:pt x="1572" y="3042"/>
                  </a:lnTo>
                  <a:lnTo>
                    <a:pt x="1568" y="3090"/>
                  </a:lnTo>
                  <a:lnTo>
                    <a:pt x="1560" y="3136"/>
                  </a:lnTo>
                  <a:lnTo>
                    <a:pt x="1545" y="3180"/>
                  </a:lnTo>
                  <a:lnTo>
                    <a:pt x="1527" y="3221"/>
                  </a:lnTo>
                  <a:lnTo>
                    <a:pt x="1503" y="3261"/>
                  </a:lnTo>
                  <a:lnTo>
                    <a:pt x="1474" y="3296"/>
                  </a:lnTo>
                  <a:lnTo>
                    <a:pt x="1442" y="3328"/>
                  </a:lnTo>
                  <a:lnTo>
                    <a:pt x="1407" y="3356"/>
                  </a:lnTo>
                  <a:lnTo>
                    <a:pt x="1368" y="3380"/>
                  </a:lnTo>
                  <a:lnTo>
                    <a:pt x="1326" y="3400"/>
                  </a:lnTo>
                  <a:lnTo>
                    <a:pt x="1281" y="3413"/>
                  </a:lnTo>
                  <a:lnTo>
                    <a:pt x="1235" y="3423"/>
                  </a:lnTo>
                  <a:lnTo>
                    <a:pt x="1187" y="3426"/>
                  </a:lnTo>
                  <a:lnTo>
                    <a:pt x="1139" y="3423"/>
                  </a:lnTo>
                  <a:lnTo>
                    <a:pt x="1092" y="3413"/>
                  </a:lnTo>
                  <a:lnTo>
                    <a:pt x="1048" y="3400"/>
                  </a:lnTo>
                  <a:lnTo>
                    <a:pt x="1007" y="3380"/>
                  </a:lnTo>
                  <a:lnTo>
                    <a:pt x="968" y="3357"/>
                  </a:lnTo>
                  <a:lnTo>
                    <a:pt x="932" y="3329"/>
                  </a:lnTo>
                  <a:lnTo>
                    <a:pt x="900" y="3296"/>
                  </a:lnTo>
                  <a:lnTo>
                    <a:pt x="872" y="3261"/>
                  </a:lnTo>
                  <a:lnTo>
                    <a:pt x="848" y="3222"/>
                  </a:lnTo>
                  <a:lnTo>
                    <a:pt x="829" y="3181"/>
                  </a:lnTo>
                  <a:lnTo>
                    <a:pt x="814" y="3136"/>
                  </a:lnTo>
                  <a:lnTo>
                    <a:pt x="806" y="3090"/>
                  </a:lnTo>
                  <a:lnTo>
                    <a:pt x="803" y="3042"/>
                  </a:lnTo>
                  <a:lnTo>
                    <a:pt x="805" y="2999"/>
                  </a:lnTo>
                  <a:lnTo>
                    <a:pt x="812" y="2958"/>
                  </a:lnTo>
                  <a:lnTo>
                    <a:pt x="824" y="2918"/>
                  </a:lnTo>
                  <a:lnTo>
                    <a:pt x="838" y="2880"/>
                  </a:lnTo>
                  <a:lnTo>
                    <a:pt x="858" y="2845"/>
                  </a:lnTo>
                  <a:lnTo>
                    <a:pt x="811" y="2836"/>
                  </a:lnTo>
                  <a:lnTo>
                    <a:pt x="766" y="2821"/>
                  </a:lnTo>
                  <a:lnTo>
                    <a:pt x="725" y="2801"/>
                  </a:lnTo>
                  <a:lnTo>
                    <a:pt x="685" y="2777"/>
                  </a:lnTo>
                  <a:lnTo>
                    <a:pt x="649" y="2749"/>
                  </a:lnTo>
                  <a:lnTo>
                    <a:pt x="617" y="2717"/>
                  </a:lnTo>
                  <a:lnTo>
                    <a:pt x="588" y="2680"/>
                  </a:lnTo>
                  <a:lnTo>
                    <a:pt x="564" y="2642"/>
                  </a:lnTo>
                  <a:lnTo>
                    <a:pt x="545" y="2599"/>
                  </a:lnTo>
                  <a:lnTo>
                    <a:pt x="530" y="2555"/>
                  </a:lnTo>
                  <a:lnTo>
                    <a:pt x="522" y="2508"/>
                  </a:lnTo>
                  <a:lnTo>
                    <a:pt x="519" y="2459"/>
                  </a:lnTo>
                  <a:lnTo>
                    <a:pt x="519" y="378"/>
                  </a:lnTo>
                  <a:lnTo>
                    <a:pt x="57" y="184"/>
                  </a:lnTo>
                  <a:lnTo>
                    <a:pt x="39" y="172"/>
                  </a:lnTo>
                  <a:lnTo>
                    <a:pt x="23" y="159"/>
                  </a:lnTo>
                  <a:lnTo>
                    <a:pt x="10" y="141"/>
                  </a:lnTo>
                  <a:lnTo>
                    <a:pt x="3" y="122"/>
                  </a:lnTo>
                  <a:lnTo>
                    <a:pt x="0" y="101"/>
                  </a:lnTo>
                  <a:lnTo>
                    <a:pt x="1" y="79"/>
                  </a:lnTo>
                  <a:lnTo>
                    <a:pt x="7" y="59"/>
                  </a:lnTo>
                  <a:lnTo>
                    <a:pt x="18" y="40"/>
                  </a:lnTo>
                  <a:lnTo>
                    <a:pt x="32" y="24"/>
                  </a:lnTo>
                  <a:lnTo>
                    <a:pt x="49" y="12"/>
                  </a:lnTo>
                  <a:lnTo>
                    <a:pt x="69" y="4"/>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90" name="Group 8"/>
          <p:cNvGrpSpPr/>
          <p:nvPr/>
        </p:nvGrpSpPr>
        <p:grpSpPr>
          <a:xfrm>
            <a:off x="5510160" y="1862280"/>
            <a:ext cx="662040" cy="655560"/>
            <a:chOff x="5510160" y="1862280"/>
            <a:chExt cx="662040" cy="655560"/>
          </a:xfrm>
        </p:grpSpPr>
        <p:sp>
          <p:nvSpPr>
            <p:cNvPr id="2191" name="Oval 62"/>
            <p:cNvSpPr/>
            <p:nvPr/>
          </p:nvSpPr>
          <p:spPr>
            <a:xfrm>
              <a:off x="5510160" y="1862280"/>
              <a:ext cx="662040" cy="65556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2" name="Group 69"/>
            <p:cNvGrpSpPr/>
            <p:nvPr/>
          </p:nvGrpSpPr>
          <p:grpSpPr>
            <a:xfrm>
              <a:off x="0" y="0"/>
              <a:ext cx="0" cy="0"/>
              <a:chOff x="0" y="0"/>
              <a:chExt cx="0" cy="0"/>
            </a:xfrm>
          </p:grpSpPr>
        </p:grpSp>
      </p:grpSp>
      <p:grpSp>
        <p:nvGrpSpPr>
          <p:cNvPr id="2193" name="Group 4"/>
          <p:cNvGrpSpPr/>
          <p:nvPr/>
        </p:nvGrpSpPr>
        <p:grpSpPr>
          <a:xfrm>
            <a:off x="4029120" y="4351320"/>
            <a:ext cx="708120" cy="650880"/>
            <a:chOff x="4029120" y="4351320"/>
            <a:chExt cx="708120" cy="650880"/>
          </a:xfrm>
        </p:grpSpPr>
        <p:sp>
          <p:nvSpPr>
            <p:cNvPr id="2194" name="Oval 65"/>
            <p:cNvSpPr/>
            <p:nvPr/>
          </p:nvSpPr>
          <p:spPr>
            <a:xfrm>
              <a:off x="4029120" y="4351320"/>
              <a:ext cx="708120" cy="65088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5" name="Freeform 184"/>
            <p:cNvSpPr/>
            <p:nvPr/>
          </p:nvSpPr>
          <p:spPr>
            <a:xfrm>
              <a:off x="4214160" y="4515840"/>
              <a:ext cx="337680" cy="321480"/>
            </a:xfrm>
            <a:custGeom>
              <a:avLst/>
              <a:gdLst/>
              <a:ahLst/>
              <a:rect l="l" t="t" r="r" b="b"/>
              <a:pathLst>
                <a:path w="3269" h="3367">
                  <a:moveTo>
                    <a:pt x="293" y="1799"/>
                  </a:moveTo>
                  <a:lnTo>
                    <a:pt x="269" y="1802"/>
                  </a:lnTo>
                  <a:lnTo>
                    <a:pt x="248" y="1809"/>
                  </a:lnTo>
                  <a:lnTo>
                    <a:pt x="228" y="1821"/>
                  </a:lnTo>
                  <a:lnTo>
                    <a:pt x="212" y="1838"/>
                  </a:lnTo>
                  <a:lnTo>
                    <a:pt x="200" y="1856"/>
                  </a:lnTo>
                  <a:lnTo>
                    <a:pt x="192" y="1879"/>
                  </a:lnTo>
                  <a:lnTo>
                    <a:pt x="189" y="1902"/>
                  </a:lnTo>
                  <a:lnTo>
                    <a:pt x="189" y="3047"/>
                  </a:lnTo>
                  <a:lnTo>
                    <a:pt x="192" y="3070"/>
                  </a:lnTo>
                  <a:lnTo>
                    <a:pt x="200" y="3092"/>
                  </a:lnTo>
                  <a:lnTo>
                    <a:pt x="212" y="3111"/>
                  </a:lnTo>
                  <a:lnTo>
                    <a:pt x="228" y="3127"/>
                  </a:lnTo>
                  <a:lnTo>
                    <a:pt x="247" y="3139"/>
                  </a:lnTo>
                  <a:lnTo>
                    <a:pt x="268" y="3147"/>
                  </a:lnTo>
                  <a:lnTo>
                    <a:pt x="293" y="3150"/>
                  </a:lnTo>
                  <a:lnTo>
                    <a:pt x="293" y="3149"/>
                  </a:lnTo>
                  <a:lnTo>
                    <a:pt x="721" y="3149"/>
                  </a:lnTo>
                  <a:lnTo>
                    <a:pt x="745" y="3147"/>
                  </a:lnTo>
                  <a:lnTo>
                    <a:pt x="766" y="3138"/>
                  </a:lnTo>
                  <a:lnTo>
                    <a:pt x="786" y="3126"/>
                  </a:lnTo>
                  <a:lnTo>
                    <a:pt x="801" y="3111"/>
                  </a:lnTo>
                  <a:lnTo>
                    <a:pt x="813" y="3091"/>
                  </a:lnTo>
                  <a:lnTo>
                    <a:pt x="822" y="3070"/>
                  </a:lnTo>
                  <a:lnTo>
                    <a:pt x="824" y="3046"/>
                  </a:lnTo>
                  <a:lnTo>
                    <a:pt x="824" y="1902"/>
                  </a:lnTo>
                  <a:lnTo>
                    <a:pt x="822" y="1879"/>
                  </a:lnTo>
                  <a:lnTo>
                    <a:pt x="813" y="1857"/>
                  </a:lnTo>
                  <a:lnTo>
                    <a:pt x="801" y="1838"/>
                  </a:lnTo>
                  <a:lnTo>
                    <a:pt x="786" y="1822"/>
                  </a:lnTo>
                  <a:lnTo>
                    <a:pt x="766" y="1810"/>
                  </a:lnTo>
                  <a:lnTo>
                    <a:pt x="745" y="1802"/>
                  </a:lnTo>
                  <a:lnTo>
                    <a:pt x="721" y="1799"/>
                  </a:lnTo>
                  <a:lnTo>
                    <a:pt x="293" y="1799"/>
                  </a:lnTo>
                  <a:close/>
                  <a:moveTo>
                    <a:pt x="1782" y="189"/>
                  </a:moveTo>
                  <a:lnTo>
                    <a:pt x="1777" y="203"/>
                  </a:lnTo>
                  <a:lnTo>
                    <a:pt x="1772" y="221"/>
                  </a:lnTo>
                  <a:lnTo>
                    <a:pt x="1769" y="245"/>
                  </a:lnTo>
                  <a:lnTo>
                    <a:pt x="1767" y="272"/>
                  </a:lnTo>
                  <a:lnTo>
                    <a:pt x="1767" y="301"/>
                  </a:lnTo>
                  <a:lnTo>
                    <a:pt x="1768" y="332"/>
                  </a:lnTo>
                  <a:lnTo>
                    <a:pt x="1770" y="363"/>
                  </a:lnTo>
                  <a:lnTo>
                    <a:pt x="1773" y="392"/>
                  </a:lnTo>
                  <a:lnTo>
                    <a:pt x="1775" y="409"/>
                  </a:lnTo>
                  <a:lnTo>
                    <a:pt x="1773" y="425"/>
                  </a:lnTo>
                  <a:lnTo>
                    <a:pt x="1769" y="439"/>
                  </a:lnTo>
                  <a:lnTo>
                    <a:pt x="1767" y="447"/>
                  </a:lnTo>
                  <a:lnTo>
                    <a:pt x="1763" y="459"/>
                  </a:lnTo>
                  <a:lnTo>
                    <a:pt x="1756" y="475"/>
                  </a:lnTo>
                  <a:lnTo>
                    <a:pt x="1748" y="498"/>
                  </a:lnTo>
                  <a:lnTo>
                    <a:pt x="1737" y="523"/>
                  </a:lnTo>
                  <a:lnTo>
                    <a:pt x="1726" y="554"/>
                  </a:lnTo>
                  <a:lnTo>
                    <a:pt x="1712" y="588"/>
                  </a:lnTo>
                  <a:lnTo>
                    <a:pt x="1697" y="626"/>
                  </a:lnTo>
                  <a:lnTo>
                    <a:pt x="1680" y="666"/>
                  </a:lnTo>
                  <a:lnTo>
                    <a:pt x="1662" y="709"/>
                  </a:lnTo>
                  <a:lnTo>
                    <a:pt x="1642" y="754"/>
                  </a:lnTo>
                  <a:lnTo>
                    <a:pt x="1622" y="801"/>
                  </a:lnTo>
                  <a:lnTo>
                    <a:pt x="1599" y="850"/>
                  </a:lnTo>
                  <a:lnTo>
                    <a:pt x="1576" y="900"/>
                  </a:lnTo>
                  <a:lnTo>
                    <a:pt x="1551" y="952"/>
                  </a:lnTo>
                  <a:lnTo>
                    <a:pt x="1526" y="1004"/>
                  </a:lnTo>
                  <a:lnTo>
                    <a:pt x="1499" y="1056"/>
                  </a:lnTo>
                  <a:lnTo>
                    <a:pt x="1472" y="1107"/>
                  </a:lnTo>
                  <a:lnTo>
                    <a:pt x="1444" y="1159"/>
                  </a:lnTo>
                  <a:lnTo>
                    <a:pt x="1415" y="1210"/>
                  </a:lnTo>
                  <a:lnTo>
                    <a:pt x="1385" y="1259"/>
                  </a:lnTo>
                  <a:lnTo>
                    <a:pt x="1355" y="1307"/>
                  </a:lnTo>
                  <a:lnTo>
                    <a:pt x="1324" y="1353"/>
                  </a:lnTo>
                  <a:lnTo>
                    <a:pt x="1292" y="1397"/>
                  </a:lnTo>
                  <a:lnTo>
                    <a:pt x="1261" y="1439"/>
                  </a:lnTo>
                  <a:lnTo>
                    <a:pt x="1229" y="1478"/>
                  </a:lnTo>
                  <a:lnTo>
                    <a:pt x="1196" y="1513"/>
                  </a:lnTo>
                  <a:lnTo>
                    <a:pt x="1164" y="1545"/>
                  </a:lnTo>
                  <a:lnTo>
                    <a:pt x="1132" y="1573"/>
                  </a:lnTo>
                  <a:lnTo>
                    <a:pt x="1102" y="1607"/>
                  </a:lnTo>
                  <a:lnTo>
                    <a:pt x="1077" y="1642"/>
                  </a:lnTo>
                  <a:lnTo>
                    <a:pt x="1057" y="1676"/>
                  </a:lnTo>
                  <a:lnTo>
                    <a:pt x="1040" y="1710"/>
                  </a:lnTo>
                  <a:lnTo>
                    <a:pt x="1025" y="1741"/>
                  </a:lnTo>
                  <a:lnTo>
                    <a:pt x="1015" y="1769"/>
                  </a:lnTo>
                  <a:lnTo>
                    <a:pt x="1007" y="1795"/>
                  </a:lnTo>
                  <a:lnTo>
                    <a:pt x="1001" y="1814"/>
                  </a:lnTo>
                  <a:lnTo>
                    <a:pt x="1008" y="1843"/>
                  </a:lnTo>
                  <a:lnTo>
                    <a:pt x="1012" y="1871"/>
                  </a:lnTo>
                  <a:lnTo>
                    <a:pt x="1014" y="1902"/>
                  </a:lnTo>
                  <a:lnTo>
                    <a:pt x="1014" y="3047"/>
                  </a:lnTo>
                  <a:lnTo>
                    <a:pt x="1012" y="3078"/>
                  </a:lnTo>
                  <a:lnTo>
                    <a:pt x="1008" y="3109"/>
                  </a:lnTo>
                  <a:lnTo>
                    <a:pt x="1078" y="3117"/>
                  </a:lnTo>
                  <a:lnTo>
                    <a:pt x="1079" y="3117"/>
                  </a:lnTo>
                  <a:lnTo>
                    <a:pt x="1084" y="3118"/>
                  </a:lnTo>
                  <a:lnTo>
                    <a:pt x="1094" y="3119"/>
                  </a:lnTo>
                  <a:lnTo>
                    <a:pt x="1110" y="3121"/>
                  </a:lnTo>
                  <a:lnTo>
                    <a:pt x="1133" y="3124"/>
                  </a:lnTo>
                  <a:lnTo>
                    <a:pt x="1160" y="3127"/>
                  </a:lnTo>
                  <a:lnTo>
                    <a:pt x="1193" y="3130"/>
                  </a:lnTo>
                  <a:lnTo>
                    <a:pt x="1231" y="3134"/>
                  </a:lnTo>
                  <a:lnTo>
                    <a:pt x="1273" y="3138"/>
                  </a:lnTo>
                  <a:lnTo>
                    <a:pt x="1319" y="3142"/>
                  </a:lnTo>
                  <a:lnTo>
                    <a:pt x="1369" y="3147"/>
                  </a:lnTo>
                  <a:lnTo>
                    <a:pt x="1422" y="3151"/>
                  </a:lnTo>
                  <a:lnTo>
                    <a:pt x="1477" y="3154"/>
                  </a:lnTo>
                  <a:lnTo>
                    <a:pt x="1537" y="3158"/>
                  </a:lnTo>
                  <a:lnTo>
                    <a:pt x="1598" y="3161"/>
                  </a:lnTo>
                  <a:lnTo>
                    <a:pt x="1661" y="3164"/>
                  </a:lnTo>
                  <a:lnTo>
                    <a:pt x="1725" y="3166"/>
                  </a:lnTo>
                  <a:lnTo>
                    <a:pt x="1792" y="3167"/>
                  </a:lnTo>
                  <a:lnTo>
                    <a:pt x="1858" y="3168"/>
                  </a:lnTo>
                  <a:lnTo>
                    <a:pt x="1926" y="3168"/>
                  </a:lnTo>
                  <a:lnTo>
                    <a:pt x="1994" y="3167"/>
                  </a:lnTo>
                  <a:lnTo>
                    <a:pt x="2003" y="3167"/>
                  </a:lnTo>
                  <a:lnTo>
                    <a:pt x="2081" y="3172"/>
                  </a:lnTo>
                  <a:lnTo>
                    <a:pt x="2156" y="3176"/>
                  </a:lnTo>
                  <a:lnTo>
                    <a:pt x="2225" y="3177"/>
                  </a:lnTo>
                  <a:lnTo>
                    <a:pt x="2292" y="3176"/>
                  </a:lnTo>
                  <a:lnTo>
                    <a:pt x="2354" y="3173"/>
                  </a:lnTo>
                  <a:lnTo>
                    <a:pt x="2413" y="3168"/>
                  </a:lnTo>
                  <a:lnTo>
                    <a:pt x="2467" y="3161"/>
                  </a:lnTo>
                  <a:lnTo>
                    <a:pt x="2516" y="3152"/>
                  </a:lnTo>
                  <a:lnTo>
                    <a:pt x="2573" y="3137"/>
                  </a:lnTo>
                  <a:lnTo>
                    <a:pt x="2625" y="3121"/>
                  </a:lnTo>
                  <a:lnTo>
                    <a:pt x="2672" y="3103"/>
                  </a:lnTo>
                  <a:lnTo>
                    <a:pt x="2713" y="3081"/>
                  </a:lnTo>
                  <a:lnTo>
                    <a:pt x="2750" y="3057"/>
                  </a:lnTo>
                  <a:lnTo>
                    <a:pt x="2781" y="3032"/>
                  </a:lnTo>
                  <a:lnTo>
                    <a:pt x="2807" y="3003"/>
                  </a:lnTo>
                  <a:lnTo>
                    <a:pt x="2827" y="2972"/>
                  </a:lnTo>
                  <a:lnTo>
                    <a:pt x="2840" y="2947"/>
                  </a:lnTo>
                  <a:lnTo>
                    <a:pt x="2848" y="2920"/>
                  </a:lnTo>
                  <a:lnTo>
                    <a:pt x="2854" y="2895"/>
                  </a:lnTo>
                  <a:lnTo>
                    <a:pt x="2856" y="2871"/>
                  </a:lnTo>
                  <a:lnTo>
                    <a:pt x="2856" y="2850"/>
                  </a:lnTo>
                  <a:lnTo>
                    <a:pt x="2854" y="2830"/>
                  </a:lnTo>
                  <a:lnTo>
                    <a:pt x="2852" y="2814"/>
                  </a:lnTo>
                  <a:lnTo>
                    <a:pt x="2849" y="2801"/>
                  </a:lnTo>
                  <a:lnTo>
                    <a:pt x="2847" y="2794"/>
                  </a:lnTo>
                  <a:lnTo>
                    <a:pt x="2846" y="2791"/>
                  </a:lnTo>
                  <a:lnTo>
                    <a:pt x="2841" y="2772"/>
                  </a:lnTo>
                  <a:lnTo>
                    <a:pt x="2841" y="2751"/>
                  </a:lnTo>
                  <a:lnTo>
                    <a:pt x="2844" y="2732"/>
                  </a:lnTo>
                  <a:lnTo>
                    <a:pt x="2853" y="2713"/>
                  </a:lnTo>
                  <a:lnTo>
                    <a:pt x="2864" y="2697"/>
                  </a:lnTo>
                  <a:lnTo>
                    <a:pt x="2879" y="2683"/>
                  </a:lnTo>
                  <a:lnTo>
                    <a:pt x="2915" y="2652"/>
                  </a:lnTo>
                  <a:lnTo>
                    <a:pt x="2947" y="2620"/>
                  </a:lnTo>
                  <a:lnTo>
                    <a:pt x="2971" y="2586"/>
                  </a:lnTo>
                  <a:lnTo>
                    <a:pt x="2990" y="2551"/>
                  </a:lnTo>
                  <a:lnTo>
                    <a:pt x="3003" y="2516"/>
                  </a:lnTo>
                  <a:lnTo>
                    <a:pt x="3010" y="2478"/>
                  </a:lnTo>
                  <a:lnTo>
                    <a:pt x="3011" y="2439"/>
                  </a:lnTo>
                  <a:lnTo>
                    <a:pt x="3008" y="2414"/>
                  </a:lnTo>
                  <a:lnTo>
                    <a:pt x="3004" y="2393"/>
                  </a:lnTo>
                  <a:lnTo>
                    <a:pt x="2999" y="2372"/>
                  </a:lnTo>
                  <a:lnTo>
                    <a:pt x="2994" y="2355"/>
                  </a:lnTo>
                  <a:lnTo>
                    <a:pt x="2988" y="2342"/>
                  </a:lnTo>
                  <a:lnTo>
                    <a:pt x="2984" y="2330"/>
                  </a:lnTo>
                  <a:lnTo>
                    <a:pt x="2979" y="2324"/>
                  </a:lnTo>
                  <a:lnTo>
                    <a:pt x="2978" y="2321"/>
                  </a:lnTo>
                  <a:lnTo>
                    <a:pt x="2969" y="2303"/>
                  </a:lnTo>
                  <a:lnTo>
                    <a:pt x="2965" y="2282"/>
                  </a:lnTo>
                  <a:lnTo>
                    <a:pt x="2965" y="2262"/>
                  </a:lnTo>
                  <a:lnTo>
                    <a:pt x="2970" y="2242"/>
                  </a:lnTo>
                  <a:lnTo>
                    <a:pt x="2978" y="2224"/>
                  </a:lnTo>
                  <a:lnTo>
                    <a:pt x="2991" y="2206"/>
                  </a:lnTo>
                  <a:lnTo>
                    <a:pt x="3024" y="2168"/>
                  </a:lnTo>
                  <a:lnTo>
                    <a:pt x="3049" y="2131"/>
                  </a:lnTo>
                  <a:lnTo>
                    <a:pt x="3067" y="2093"/>
                  </a:lnTo>
                  <a:lnTo>
                    <a:pt x="3077" y="2055"/>
                  </a:lnTo>
                  <a:lnTo>
                    <a:pt x="3079" y="2017"/>
                  </a:lnTo>
                  <a:lnTo>
                    <a:pt x="3077" y="1991"/>
                  </a:lnTo>
                  <a:lnTo>
                    <a:pt x="3072" y="1968"/>
                  </a:lnTo>
                  <a:lnTo>
                    <a:pt x="3063" y="1946"/>
                  </a:lnTo>
                  <a:lnTo>
                    <a:pt x="3054" y="1926"/>
                  </a:lnTo>
                  <a:lnTo>
                    <a:pt x="3044" y="1908"/>
                  </a:lnTo>
                  <a:lnTo>
                    <a:pt x="3034" y="1892"/>
                  </a:lnTo>
                  <a:lnTo>
                    <a:pt x="3023" y="1879"/>
                  </a:lnTo>
                  <a:lnTo>
                    <a:pt x="3015" y="1867"/>
                  </a:lnTo>
                  <a:lnTo>
                    <a:pt x="3008" y="1859"/>
                  </a:lnTo>
                  <a:lnTo>
                    <a:pt x="3003" y="1854"/>
                  </a:lnTo>
                  <a:lnTo>
                    <a:pt x="3001" y="1853"/>
                  </a:lnTo>
                  <a:lnTo>
                    <a:pt x="2986" y="1836"/>
                  </a:lnTo>
                  <a:lnTo>
                    <a:pt x="2975" y="1815"/>
                  </a:lnTo>
                  <a:lnTo>
                    <a:pt x="2969" y="1795"/>
                  </a:lnTo>
                  <a:lnTo>
                    <a:pt x="2969" y="1772"/>
                  </a:lnTo>
                  <a:lnTo>
                    <a:pt x="2974" y="1751"/>
                  </a:lnTo>
                  <a:lnTo>
                    <a:pt x="2985" y="1730"/>
                  </a:lnTo>
                  <a:lnTo>
                    <a:pt x="2988" y="1725"/>
                  </a:lnTo>
                  <a:lnTo>
                    <a:pt x="2993" y="1715"/>
                  </a:lnTo>
                  <a:lnTo>
                    <a:pt x="2999" y="1702"/>
                  </a:lnTo>
                  <a:lnTo>
                    <a:pt x="3005" y="1685"/>
                  </a:lnTo>
                  <a:lnTo>
                    <a:pt x="3011" y="1668"/>
                  </a:lnTo>
                  <a:lnTo>
                    <a:pt x="3016" y="1646"/>
                  </a:lnTo>
                  <a:lnTo>
                    <a:pt x="3019" y="1624"/>
                  </a:lnTo>
                  <a:lnTo>
                    <a:pt x="3020" y="1599"/>
                  </a:lnTo>
                  <a:lnTo>
                    <a:pt x="3018" y="1574"/>
                  </a:lnTo>
                  <a:lnTo>
                    <a:pt x="3011" y="1549"/>
                  </a:lnTo>
                  <a:lnTo>
                    <a:pt x="3000" y="1523"/>
                  </a:lnTo>
                  <a:lnTo>
                    <a:pt x="2984" y="1498"/>
                  </a:lnTo>
                  <a:lnTo>
                    <a:pt x="2960" y="1473"/>
                  </a:lnTo>
                  <a:lnTo>
                    <a:pt x="2935" y="1453"/>
                  </a:lnTo>
                  <a:lnTo>
                    <a:pt x="2907" y="1437"/>
                  </a:lnTo>
                  <a:lnTo>
                    <a:pt x="2874" y="1424"/>
                  </a:lnTo>
                  <a:lnTo>
                    <a:pt x="2838" y="1413"/>
                  </a:lnTo>
                  <a:lnTo>
                    <a:pt x="2799" y="1403"/>
                  </a:lnTo>
                  <a:lnTo>
                    <a:pt x="2757" y="1396"/>
                  </a:lnTo>
                  <a:lnTo>
                    <a:pt x="2713" y="1391"/>
                  </a:lnTo>
                  <a:lnTo>
                    <a:pt x="2668" y="1388"/>
                  </a:lnTo>
                  <a:lnTo>
                    <a:pt x="2622" y="1386"/>
                  </a:lnTo>
                  <a:lnTo>
                    <a:pt x="2575" y="1386"/>
                  </a:lnTo>
                  <a:lnTo>
                    <a:pt x="2527" y="1388"/>
                  </a:lnTo>
                  <a:lnTo>
                    <a:pt x="2480" y="1390"/>
                  </a:lnTo>
                  <a:lnTo>
                    <a:pt x="2433" y="1394"/>
                  </a:lnTo>
                  <a:lnTo>
                    <a:pt x="2388" y="1399"/>
                  </a:lnTo>
                  <a:lnTo>
                    <a:pt x="2343" y="1405"/>
                  </a:lnTo>
                  <a:lnTo>
                    <a:pt x="2301" y="1412"/>
                  </a:lnTo>
                  <a:lnTo>
                    <a:pt x="2260" y="1419"/>
                  </a:lnTo>
                  <a:lnTo>
                    <a:pt x="2223" y="1427"/>
                  </a:lnTo>
                  <a:lnTo>
                    <a:pt x="2218" y="1428"/>
                  </a:lnTo>
                  <a:lnTo>
                    <a:pt x="2214" y="1429"/>
                  </a:lnTo>
                  <a:lnTo>
                    <a:pt x="2155" y="1439"/>
                  </a:lnTo>
                  <a:lnTo>
                    <a:pt x="2091" y="1453"/>
                  </a:lnTo>
                  <a:lnTo>
                    <a:pt x="2071" y="1459"/>
                  </a:lnTo>
                  <a:lnTo>
                    <a:pt x="2049" y="1462"/>
                  </a:lnTo>
                  <a:lnTo>
                    <a:pt x="2027" y="1463"/>
                  </a:lnTo>
                  <a:lnTo>
                    <a:pt x="2004" y="1460"/>
                  </a:lnTo>
                  <a:lnTo>
                    <a:pt x="1981" y="1452"/>
                  </a:lnTo>
                  <a:lnTo>
                    <a:pt x="1959" y="1441"/>
                  </a:lnTo>
                  <a:lnTo>
                    <a:pt x="1938" y="1426"/>
                  </a:lnTo>
                  <a:lnTo>
                    <a:pt x="1920" y="1407"/>
                  </a:lnTo>
                  <a:lnTo>
                    <a:pt x="1906" y="1387"/>
                  </a:lnTo>
                  <a:lnTo>
                    <a:pt x="1895" y="1362"/>
                  </a:lnTo>
                  <a:lnTo>
                    <a:pt x="1886" y="1336"/>
                  </a:lnTo>
                  <a:lnTo>
                    <a:pt x="1880" y="1305"/>
                  </a:lnTo>
                  <a:lnTo>
                    <a:pt x="1875" y="1271"/>
                  </a:lnTo>
                  <a:lnTo>
                    <a:pt x="1875" y="1234"/>
                  </a:lnTo>
                  <a:lnTo>
                    <a:pt x="1877" y="1193"/>
                  </a:lnTo>
                  <a:lnTo>
                    <a:pt x="1883" y="1148"/>
                  </a:lnTo>
                  <a:lnTo>
                    <a:pt x="1891" y="1100"/>
                  </a:lnTo>
                  <a:lnTo>
                    <a:pt x="1901" y="1047"/>
                  </a:lnTo>
                  <a:lnTo>
                    <a:pt x="1914" y="991"/>
                  </a:lnTo>
                  <a:lnTo>
                    <a:pt x="1931" y="930"/>
                  </a:lnTo>
                  <a:lnTo>
                    <a:pt x="1950" y="865"/>
                  </a:lnTo>
                  <a:lnTo>
                    <a:pt x="1973" y="796"/>
                  </a:lnTo>
                  <a:lnTo>
                    <a:pt x="1992" y="732"/>
                  </a:lnTo>
                  <a:lnTo>
                    <a:pt x="2007" y="673"/>
                  </a:lnTo>
                  <a:lnTo>
                    <a:pt x="2020" y="617"/>
                  </a:lnTo>
                  <a:lnTo>
                    <a:pt x="2028" y="562"/>
                  </a:lnTo>
                  <a:lnTo>
                    <a:pt x="2032" y="512"/>
                  </a:lnTo>
                  <a:lnTo>
                    <a:pt x="2033" y="465"/>
                  </a:lnTo>
                  <a:lnTo>
                    <a:pt x="2030" y="422"/>
                  </a:lnTo>
                  <a:lnTo>
                    <a:pt x="2023" y="382"/>
                  </a:lnTo>
                  <a:lnTo>
                    <a:pt x="2013" y="345"/>
                  </a:lnTo>
                  <a:lnTo>
                    <a:pt x="1999" y="312"/>
                  </a:lnTo>
                  <a:lnTo>
                    <a:pt x="1981" y="284"/>
                  </a:lnTo>
                  <a:lnTo>
                    <a:pt x="1961" y="260"/>
                  </a:lnTo>
                  <a:lnTo>
                    <a:pt x="1941" y="242"/>
                  </a:lnTo>
                  <a:lnTo>
                    <a:pt x="1918" y="226"/>
                  </a:lnTo>
                  <a:lnTo>
                    <a:pt x="1896" y="214"/>
                  </a:lnTo>
                  <a:lnTo>
                    <a:pt x="1873" y="205"/>
                  </a:lnTo>
                  <a:lnTo>
                    <a:pt x="1851" y="198"/>
                  </a:lnTo>
                  <a:lnTo>
                    <a:pt x="1830" y="194"/>
                  </a:lnTo>
                  <a:lnTo>
                    <a:pt x="1812" y="191"/>
                  </a:lnTo>
                  <a:lnTo>
                    <a:pt x="1796" y="190"/>
                  </a:lnTo>
                  <a:lnTo>
                    <a:pt x="1782" y="189"/>
                  </a:lnTo>
                  <a:close/>
                  <a:moveTo>
                    <a:pt x="1778" y="0"/>
                  </a:moveTo>
                  <a:lnTo>
                    <a:pt x="1793" y="0"/>
                  </a:lnTo>
                  <a:lnTo>
                    <a:pt x="1812" y="1"/>
                  </a:lnTo>
                  <a:lnTo>
                    <a:pt x="1835" y="3"/>
                  </a:lnTo>
                  <a:lnTo>
                    <a:pt x="1860" y="7"/>
                  </a:lnTo>
                  <a:lnTo>
                    <a:pt x="1888" y="13"/>
                  </a:lnTo>
                  <a:lnTo>
                    <a:pt x="1918" y="22"/>
                  </a:lnTo>
                  <a:lnTo>
                    <a:pt x="1949" y="32"/>
                  </a:lnTo>
                  <a:lnTo>
                    <a:pt x="1982" y="46"/>
                  </a:lnTo>
                  <a:lnTo>
                    <a:pt x="2015" y="64"/>
                  </a:lnTo>
                  <a:lnTo>
                    <a:pt x="2046" y="84"/>
                  </a:lnTo>
                  <a:lnTo>
                    <a:pt x="2078" y="110"/>
                  </a:lnTo>
                  <a:lnTo>
                    <a:pt x="2108" y="139"/>
                  </a:lnTo>
                  <a:lnTo>
                    <a:pt x="2136" y="174"/>
                  </a:lnTo>
                  <a:lnTo>
                    <a:pt x="2162" y="214"/>
                  </a:lnTo>
                  <a:lnTo>
                    <a:pt x="2182" y="257"/>
                  </a:lnTo>
                  <a:lnTo>
                    <a:pt x="2200" y="303"/>
                  </a:lnTo>
                  <a:lnTo>
                    <a:pt x="2212" y="352"/>
                  </a:lnTo>
                  <a:lnTo>
                    <a:pt x="2220" y="405"/>
                  </a:lnTo>
                  <a:lnTo>
                    <a:pt x="2223" y="460"/>
                  </a:lnTo>
                  <a:lnTo>
                    <a:pt x="2223" y="519"/>
                  </a:lnTo>
                  <a:lnTo>
                    <a:pt x="2218" y="581"/>
                  </a:lnTo>
                  <a:lnTo>
                    <a:pt x="2208" y="645"/>
                  </a:lnTo>
                  <a:lnTo>
                    <a:pt x="2195" y="713"/>
                  </a:lnTo>
                  <a:lnTo>
                    <a:pt x="2176" y="784"/>
                  </a:lnTo>
                  <a:lnTo>
                    <a:pt x="2154" y="856"/>
                  </a:lnTo>
                  <a:lnTo>
                    <a:pt x="2136" y="913"/>
                  </a:lnTo>
                  <a:lnTo>
                    <a:pt x="2121" y="964"/>
                  </a:lnTo>
                  <a:lnTo>
                    <a:pt x="2108" y="1010"/>
                  </a:lnTo>
                  <a:lnTo>
                    <a:pt x="2097" y="1052"/>
                  </a:lnTo>
                  <a:lnTo>
                    <a:pt x="2088" y="1090"/>
                  </a:lnTo>
                  <a:lnTo>
                    <a:pt x="2081" y="1124"/>
                  </a:lnTo>
                  <a:lnTo>
                    <a:pt x="2075" y="1153"/>
                  </a:lnTo>
                  <a:lnTo>
                    <a:pt x="2071" y="1180"/>
                  </a:lnTo>
                  <a:lnTo>
                    <a:pt x="2069" y="1204"/>
                  </a:lnTo>
                  <a:lnTo>
                    <a:pt x="2067" y="1223"/>
                  </a:lnTo>
                  <a:lnTo>
                    <a:pt x="2066" y="1240"/>
                  </a:lnTo>
                  <a:lnTo>
                    <a:pt x="2066" y="1255"/>
                  </a:lnTo>
                  <a:lnTo>
                    <a:pt x="2066" y="1266"/>
                  </a:lnTo>
                  <a:lnTo>
                    <a:pt x="2122" y="1254"/>
                  </a:lnTo>
                  <a:lnTo>
                    <a:pt x="2176" y="1244"/>
                  </a:lnTo>
                  <a:lnTo>
                    <a:pt x="2177" y="1244"/>
                  </a:lnTo>
                  <a:lnTo>
                    <a:pt x="2182" y="1243"/>
                  </a:lnTo>
                  <a:lnTo>
                    <a:pt x="2193" y="1240"/>
                  </a:lnTo>
                  <a:lnTo>
                    <a:pt x="2208" y="1237"/>
                  </a:lnTo>
                  <a:lnTo>
                    <a:pt x="2228" y="1233"/>
                  </a:lnTo>
                  <a:lnTo>
                    <a:pt x="2254" y="1229"/>
                  </a:lnTo>
                  <a:lnTo>
                    <a:pt x="2284" y="1224"/>
                  </a:lnTo>
                  <a:lnTo>
                    <a:pt x="2316" y="1219"/>
                  </a:lnTo>
                  <a:lnTo>
                    <a:pt x="2353" y="1214"/>
                  </a:lnTo>
                  <a:lnTo>
                    <a:pt x="2392" y="1210"/>
                  </a:lnTo>
                  <a:lnTo>
                    <a:pt x="2434" y="1206"/>
                  </a:lnTo>
                  <a:lnTo>
                    <a:pt x="2478" y="1202"/>
                  </a:lnTo>
                  <a:lnTo>
                    <a:pt x="2523" y="1199"/>
                  </a:lnTo>
                  <a:lnTo>
                    <a:pt x="2600" y="1197"/>
                  </a:lnTo>
                  <a:lnTo>
                    <a:pt x="2672" y="1198"/>
                  </a:lnTo>
                  <a:lnTo>
                    <a:pt x="2740" y="1204"/>
                  </a:lnTo>
                  <a:lnTo>
                    <a:pt x="2803" y="1212"/>
                  </a:lnTo>
                  <a:lnTo>
                    <a:pt x="2863" y="1224"/>
                  </a:lnTo>
                  <a:lnTo>
                    <a:pt x="2917" y="1239"/>
                  </a:lnTo>
                  <a:lnTo>
                    <a:pt x="2967" y="1258"/>
                  </a:lnTo>
                  <a:lnTo>
                    <a:pt x="3012" y="1279"/>
                  </a:lnTo>
                  <a:lnTo>
                    <a:pt x="3052" y="1305"/>
                  </a:lnTo>
                  <a:lnTo>
                    <a:pt x="3088" y="1335"/>
                  </a:lnTo>
                  <a:lnTo>
                    <a:pt x="3121" y="1367"/>
                  </a:lnTo>
                  <a:lnTo>
                    <a:pt x="3147" y="1401"/>
                  </a:lnTo>
                  <a:lnTo>
                    <a:pt x="3169" y="1436"/>
                  </a:lnTo>
                  <a:lnTo>
                    <a:pt x="3185" y="1471"/>
                  </a:lnTo>
                  <a:lnTo>
                    <a:pt x="3197" y="1507"/>
                  </a:lnTo>
                  <a:lnTo>
                    <a:pt x="3205" y="1543"/>
                  </a:lnTo>
                  <a:lnTo>
                    <a:pt x="3209" y="1577"/>
                  </a:lnTo>
                  <a:lnTo>
                    <a:pt x="3210" y="1612"/>
                  </a:lnTo>
                  <a:lnTo>
                    <a:pt x="3208" y="1646"/>
                  </a:lnTo>
                  <a:lnTo>
                    <a:pt x="3203" y="1679"/>
                  </a:lnTo>
                  <a:lnTo>
                    <a:pt x="3196" y="1711"/>
                  </a:lnTo>
                  <a:lnTo>
                    <a:pt x="3187" y="1740"/>
                  </a:lnTo>
                  <a:lnTo>
                    <a:pt x="3178" y="1767"/>
                  </a:lnTo>
                  <a:lnTo>
                    <a:pt x="3195" y="1791"/>
                  </a:lnTo>
                  <a:lnTo>
                    <a:pt x="3213" y="1819"/>
                  </a:lnTo>
                  <a:lnTo>
                    <a:pt x="3229" y="1851"/>
                  </a:lnTo>
                  <a:lnTo>
                    <a:pt x="3243" y="1886"/>
                  </a:lnTo>
                  <a:lnTo>
                    <a:pt x="3256" y="1924"/>
                  </a:lnTo>
                  <a:lnTo>
                    <a:pt x="3265" y="1966"/>
                  </a:lnTo>
                  <a:lnTo>
                    <a:pt x="3269" y="2010"/>
                  </a:lnTo>
                  <a:lnTo>
                    <a:pt x="3268" y="2058"/>
                  </a:lnTo>
                  <a:lnTo>
                    <a:pt x="3261" y="2106"/>
                  </a:lnTo>
                  <a:lnTo>
                    <a:pt x="3247" y="2153"/>
                  </a:lnTo>
                  <a:lnTo>
                    <a:pt x="3228" y="2199"/>
                  </a:lnTo>
                  <a:lnTo>
                    <a:pt x="3202" y="2244"/>
                  </a:lnTo>
                  <a:lnTo>
                    <a:pt x="3171" y="2289"/>
                  </a:lnTo>
                  <a:lnTo>
                    <a:pt x="3181" y="2318"/>
                  </a:lnTo>
                  <a:lnTo>
                    <a:pt x="3189" y="2352"/>
                  </a:lnTo>
                  <a:lnTo>
                    <a:pt x="3196" y="2390"/>
                  </a:lnTo>
                  <a:lnTo>
                    <a:pt x="3200" y="2431"/>
                  </a:lnTo>
                  <a:lnTo>
                    <a:pt x="3200" y="2461"/>
                  </a:lnTo>
                  <a:lnTo>
                    <a:pt x="3198" y="2494"/>
                  </a:lnTo>
                  <a:lnTo>
                    <a:pt x="3194" y="2529"/>
                  </a:lnTo>
                  <a:lnTo>
                    <a:pt x="3186" y="2566"/>
                  </a:lnTo>
                  <a:lnTo>
                    <a:pt x="3175" y="2603"/>
                  </a:lnTo>
                  <a:lnTo>
                    <a:pt x="3158" y="2642"/>
                  </a:lnTo>
                  <a:lnTo>
                    <a:pt x="3138" y="2680"/>
                  </a:lnTo>
                  <a:lnTo>
                    <a:pt x="3111" y="2718"/>
                  </a:lnTo>
                  <a:lnTo>
                    <a:pt x="3079" y="2757"/>
                  </a:lnTo>
                  <a:lnTo>
                    <a:pt x="3041" y="2796"/>
                  </a:lnTo>
                  <a:lnTo>
                    <a:pt x="3044" y="2826"/>
                  </a:lnTo>
                  <a:lnTo>
                    <a:pt x="3045" y="2860"/>
                  </a:lnTo>
                  <a:lnTo>
                    <a:pt x="3044" y="2897"/>
                  </a:lnTo>
                  <a:lnTo>
                    <a:pt x="3038" y="2937"/>
                  </a:lnTo>
                  <a:lnTo>
                    <a:pt x="3029" y="2979"/>
                  </a:lnTo>
                  <a:lnTo>
                    <a:pt x="3013" y="3022"/>
                  </a:lnTo>
                  <a:lnTo>
                    <a:pt x="2993" y="3066"/>
                  </a:lnTo>
                  <a:lnTo>
                    <a:pt x="2968" y="3105"/>
                  </a:lnTo>
                  <a:lnTo>
                    <a:pt x="2940" y="3141"/>
                  </a:lnTo>
                  <a:lnTo>
                    <a:pt x="2906" y="3175"/>
                  </a:lnTo>
                  <a:lnTo>
                    <a:pt x="2869" y="3206"/>
                  </a:lnTo>
                  <a:lnTo>
                    <a:pt x="2827" y="3235"/>
                  </a:lnTo>
                  <a:lnTo>
                    <a:pt x="2781" y="3261"/>
                  </a:lnTo>
                  <a:lnTo>
                    <a:pt x="2731" y="3284"/>
                  </a:lnTo>
                  <a:lnTo>
                    <a:pt x="2677" y="3304"/>
                  </a:lnTo>
                  <a:lnTo>
                    <a:pt x="2618" y="3323"/>
                  </a:lnTo>
                  <a:lnTo>
                    <a:pt x="2556" y="3338"/>
                  </a:lnTo>
                  <a:lnTo>
                    <a:pt x="2499" y="3348"/>
                  </a:lnTo>
                  <a:lnTo>
                    <a:pt x="2437" y="3357"/>
                  </a:lnTo>
                  <a:lnTo>
                    <a:pt x="2372" y="3363"/>
                  </a:lnTo>
                  <a:lnTo>
                    <a:pt x="2302" y="3366"/>
                  </a:lnTo>
                  <a:lnTo>
                    <a:pt x="2228" y="3367"/>
                  </a:lnTo>
                  <a:lnTo>
                    <a:pt x="2154" y="3366"/>
                  </a:lnTo>
                  <a:lnTo>
                    <a:pt x="2075" y="3363"/>
                  </a:lnTo>
                  <a:lnTo>
                    <a:pt x="1993" y="3358"/>
                  </a:lnTo>
                  <a:lnTo>
                    <a:pt x="1920" y="3359"/>
                  </a:lnTo>
                  <a:lnTo>
                    <a:pt x="1848" y="3359"/>
                  </a:lnTo>
                  <a:lnTo>
                    <a:pt x="1776" y="3358"/>
                  </a:lnTo>
                  <a:lnTo>
                    <a:pt x="1707" y="3356"/>
                  </a:lnTo>
                  <a:lnTo>
                    <a:pt x="1638" y="3353"/>
                  </a:lnTo>
                  <a:lnTo>
                    <a:pt x="1572" y="3350"/>
                  </a:lnTo>
                  <a:lnTo>
                    <a:pt x="1508" y="3346"/>
                  </a:lnTo>
                  <a:lnTo>
                    <a:pt x="1447" y="3342"/>
                  </a:lnTo>
                  <a:lnTo>
                    <a:pt x="1388" y="3338"/>
                  </a:lnTo>
                  <a:lnTo>
                    <a:pt x="1333" y="3334"/>
                  </a:lnTo>
                  <a:lnTo>
                    <a:pt x="1282" y="3330"/>
                  </a:lnTo>
                  <a:lnTo>
                    <a:pt x="1236" y="3326"/>
                  </a:lnTo>
                  <a:lnTo>
                    <a:pt x="1193" y="3322"/>
                  </a:lnTo>
                  <a:lnTo>
                    <a:pt x="1156" y="3318"/>
                  </a:lnTo>
                  <a:lnTo>
                    <a:pt x="1124" y="3315"/>
                  </a:lnTo>
                  <a:lnTo>
                    <a:pt x="1098" y="3311"/>
                  </a:lnTo>
                  <a:lnTo>
                    <a:pt x="1077" y="3308"/>
                  </a:lnTo>
                  <a:lnTo>
                    <a:pt x="1063" y="3307"/>
                  </a:lnTo>
                  <a:lnTo>
                    <a:pt x="1055" y="3306"/>
                  </a:lnTo>
                  <a:lnTo>
                    <a:pt x="890" y="3286"/>
                  </a:lnTo>
                  <a:lnTo>
                    <a:pt x="860" y="3304"/>
                  </a:lnTo>
                  <a:lnTo>
                    <a:pt x="828" y="3320"/>
                  </a:lnTo>
                  <a:lnTo>
                    <a:pt x="794" y="3331"/>
                  </a:lnTo>
                  <a:lnTo>
                    <a:pt x="758" y="3337"/>
                  </a:lnTo>
                  <a:lnTo>
                    <a:pt x="721" y="3340"/>
                  </a:lnTo>
                  <a:lnTo>
                    <a:pt x="293" y="3340"/>
                  </a:lnTo>
                  <a:lnTo>
                    <a:pt x="249" y="3337"/>
                  </a:lnTo>
                  <a:lnTo>
                    <a:pt x="208" y="3328"/>
                  </a:lnTo>
                  <a:lnTo>
                    <a:pt x="169" y="3312"/>
                  </a:lnTo>
                  <a:lnTo>
                    <a:pt x="133" y="3293"/>
                  </a:lnTo>
                  <a:lnTo>
                    <a:pt x="100" y="3268"/>
                  </a:lnTo>
                  <a:lnTo>
                    <a:pt x="72" y="3239"/>
                  </a:lnTo>
                  <a:lnTo>
                    <a:pt x="47" y="3206"/>
                  </a:lnTo>
                  <a:lnTo>
                    <a:pt x="27" y="3170"/>
                  </a:lnTo>
                  <a:lnTo>
                    <a:pt x="12" y="3131"/>
                  </a:lnTo>
                  <a:lnTo>
                    <a:pt x="3" y="3090"/>
                  </a:lnTo>
                  <a:lnTo>
                    <a:pt x="0" y="3047"/>
                  </a:lnTo>
                  <a:lnTo>
                    <a:pt x="0" y="1902"/>
                  </a:lnTo>
                  <a:lnTo>
                    <a:pt x="3" y="1859"/>
                  </a:lnTo>
                  <a:lnTo>
                    <a:pt x="12" y="1818"/>
                  </a:lnTo>
                  <a:lnTo>
                    <a:pt x="27" y="1779"/>
                  </a:lnTo>
                  <a:lnTo>
                    <a:pt x="47" y="1743"/>
                  </a:lnTo>
                  <a:lnTo>
                    <a:pt x="72" y="1711"/>
                  </a:lnTo>
                  <a:lnTo>
                    <a:pt x="100" y="1682"/>
                  </a:lnTo>
                  <a:lnTo>
                    <a:pt x="133" y="1657"/>
                  </a:lnTo>
                  <a:lnTo>
                    <a:pt x="169" y="1637"/>
                  </a:lnTo>
                  <a:lnTo>
                    <a:pt x="208" y="1622"/>
                  </a:lnTo>
                  <a:lnTo>
                    <a:pt x="249" y="1613"/>
                  </a:lnTo>
                  <a:lnTo>
                    <a:pt x="293" y="1609"/>
                  </a:lnTo>
                  <a:lnTo>
                    <a:pt x="721" y="1609"/>
                  </a:lnTo>
                  <a:lnTo>
                    <a:pt x="758" y="1612"/>
                  </a:lnTo>
                  <a:lnTo>
                    <a:pt x="794" y="1618"/>
                  </a:lnTo>
                  <a:lnTo>
                    <a:pt x="829" y="1630"/>
                  </a:lnTo>
                  <a:lnTo>
                    <a:pt x="860" y="1645"/>
                  </a:lnTo>
                  <a:lnTo>
                    <a:pt x="880" y="1605"/>
                  </a:lnTo>
                  <a:lnTo>
                    <a:pt x="903" y="1564"/>
                  </a:lnTo>
                  <a:lnTo>
                    <a:pt x="930" y="1521"/>
                  </a:lnTo>
                  <a:lnTo>
                    <a:pt x="962" y="1479"/>
                  </a:lnTo>
                  <a:lnTo>
                    <a:pt x="999" y="1438"/>
                  </a:lnTo>
                  <a:lnTo>
                    <a:pt x="1002" y="1434"/>
                  </a:lnTo>
                  <a:lnTo>
                    <a:pt x="1006" y="1431"/>
                  </a:lnTo>
                  <a:lnTo>
                    <a:pt x="1010" y="1428"/>
                  </a:lnTo>
                  <a:lnTo>
                    <a:pt x="1043" y="1399"/>
                  </a:lnTo>
                  <a:lnTo>
                    <a:pt x="1076" y="1364"/>
                  </a:lnTo>
                  <a:lnTo>
                    <a:pt x="1111" y="1324"/>
                  </a:lnTo>
                  <a:lnTo>
                    <a:pt x="1145" y="1279"/>
                  </a:lnTo>
                  <a:lnTo>
                    <a:pt x="1179" y="1230"/>
                  </a:lnTo>
                  <a:lnTo>
                    <a:pt x="1213" y="1178"/>
                  </a:lnTo>
                  <a:lnTo>
                    <a:pt x="1246" y="1122"/>
                  </a:lnTo>
                  <a:lnTo>
                    <a:pt x="1280" y="1063"/>
                  </a:lnTo>
                  <a:lnTo>
                    <a:pt x="1313" y="1004"/>
                  </a:lnTo>
                  <a:lnTo>
                    <a:pt x="1344" y="942"/>
                  </a:lnTo>
                  <a:lnTo>
                    <a:pt x="1375" y="881"/>
                  </a:lnTo>
                  <a:lnTo>
                    <a:pt x="1405" y="819"/>
                  </a:lnTo>
                  <a:lnTo>
                    <a:pt x="1432" y="758"/>
                  </a:lnTo>
                  <a:lnTo>
                    <a:pt x="1460" y="698"/>
                  </a:lnTo>
                  <a:lnTo>
                    <a:pt x="1486" y="640"/>
                  </a:lnTo>
                  <a:lnTo>
                    <a:pt x="1509" y="584"/>
                  </a:lnTo>
                  <a:lnTo>
                    <a:pt x="1531" y="532"/>
                  </a:lnTo>
                  <a:lnTo>
                    <a:pt x="1550" y="483"/>
                  </a:lnTo>
                  <a:lnTo>
                    <a:pt x="1567" y="437"/>
                  </a:lnTo>
                  <a:lnTo>
                    <a:pt x="1583" y="398"/>
                  </a:lnTo>
                  <a:lnTo>
                    <a:pt x="1581" y="375"/>
                  </a:lnTo>
                  <a:lnTo>
                    <a:pt x="1578" y="347"/>
                  </a:lnTo>
                  <a:lnTo>
                    <a:pt x="1577" y="318"/>
                  </a:lnTo>
                  <a:lnTo>
                    <a:pt x="1577" y="286"/>
                  </a:lnTo>
                  <a:lnTo>
                    <a:pt x="1578" y="252"/>
                  </a:lnTo>
                  <a:lnTo>
                    <a:pt x="1582" y="217"/>
                  </a:lnTo>
                  <a:lnTo>
                    <a:pt x="1587" y="183"/>
                  </a:lnTo>
                  <a:lnTo>
                    <a:pt x="1596" y="150"/>
                  </a:lnTo>
                  <a:lnTo>
                    <a:pt x="1607" y="118"/>
                  </a:lnTo>
                  <a:lnTo>
                    <a:pt x="1623" y="88"/>
                  </a:lnTo>
                  <a:lnTo>
                    <a:pt x="1642" y="62"/>
                  </a:lnTo>
                  <a:lnTo>
                    <a:pt x="1665" y="40"/>
                  </a:lnTo>
                  <a:lnTo>
                    <a:pt x="1689" y="23"/>
                  </a:lnTo>
                  <a:lnTo>
                    <a:pt x="1717" y="10"/>
                  </a:lnTo>
                  <a:lnTo>
                    <a:pt x="1747" y="2"/>
                  </a:lnTo>
                  <a:lnTo>
                    <a:pt x="17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96" name="Group 6"/>
          <p:cNvGrpSpPr/>
          <p:nvPr/>
        </p:nvGrpSpPr>
        <p:grpSpPr>
          <a:xfrm>
            <a:off x="6643800" y="4433760"/>
            <a:ext cx="731880" cy="709920"/>
            <a:chOff x="6643800" y="4433760"/>
            <a:chExt cx="731880" cy="709920"/>
          </a:xfrm>
        </p:grpSpPr>
        <p:sp>
          <p:nvSpPr>
            <p:cNvPr id="2197" name="Oval 59"/>
            <p:cNvSpPr/>
            <p:nvPr/>
          </p:nvSpPr>
          <p:spPr>
            <a:xfrm>
              <a:off x="6643800" y="4433760"/>
              <a:ext cx="731880" cy="709920"/>
            </a:xfrm>
            <a:prstGeom prst="ellipse">
              <a:avLst/>
            </a:prstGeom>
            <a:solidFill>
              <a:srgbClr val="ff9a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8" name="Group 79"/>
            <p:cNvGrpSpPr/>
            <p:nvPr/>
          </p:nvGrpSpPr>
          <p:grpSpPr>
            <a:xfrm>
              <a:off x="0" y="0"/>
              <a:ext cx="0" cy="0"/>
              <a:chOff x="0" y="0"/>
              <a:chExt cx="0" cy="0"/>
            </a:xfrm>
          </p:grpSpPr>
        </p:grpSp>
      </p:grpSp>
      <p:grpSp>
        <p:nvGrpSpPr>
          <p:cNvPr id="2199" name="Group 7"/>
          <p:cNvGrpSpPr/>
          <p:nvPr/>
        </p:nvGrpSpPr>
        <p:grpSpPr>
          <a:xfrm>
            <a:off x="6351480" y="2397240"/>
            <a:ext cx="703440" cy="682560"/>
            <a:chOff x="6351480" y="2397240"/>
            <a:chExt cx="703440" cy="682560"/>
          </a:xfrm>
        </p:grpSpPr>
        <p:sp>
          <p:nvSpPr>
            <p:cNvPr id="2200" name="Oval 61"/>
            <p:cNvSpPr/>
            <p:nvPr/>
          </p:nvSpPr>
          <p:spPr>
            <a:xfrm>
              <a:off x="6351480" y="2397240"/>
              <a:ext cx="703440" cy="682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01" name="Group 100"/>
            <p:cNvGrpSpPr/>
            <p:nvPr/>
          </p:nvGrpSpPr>
          <p:grpSpPr>
            <a:xfrm>
              <a:off x="0" y="0"/>
              <a:ext cx="0" cy="0"/>
              <a:chOff x="0" y="0"/>
              <a:chExt cx="0" cy="0"/>
            </a:xfrm>
          </p:grpSpPr>
        </p:grpSp>
      </p:grpSp>
      <p:grpSp>
        <p:nvGrpSpPr>
          <p:cNvPr id="2202" name="组合 28"/>
          <p:cNvGrpSpPr/>
          <p:nvPr/>
        </p:nvGrpSpPr>
        <p:grpSpPr>
          <a:xfrm>
            <a:off x="874800" y="476280"/>
            <a:ext cx="10360080" cy="0"/>
            <a:chOff x="874800" y="476280"/>
            <a:chExt cx="10360080" cy="0"/>
          </a:xfrm>
        </p:grpSpPr>
        <p:sp>
          <p:nvSpPr>
            <p:cNvPr id="2203" name="直接连接符 58"/>
            <p:cNvSpPr/>
            <p:nvPr/>
          </p:nvSpPr>
          <p:spPr>
            <a:xfrm>
              <a:off x="874800" y="47628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4" name="直接连接符 59"/>
            <p:cNvSpPr/>
            <p:nvPr/>
          </p:nvSpPr>
          <p:spPr>
            <a:xfrm>
              <a:off x="10128240" y="476280"/>
              <a:ext cx="110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205" name="文本框 60"/>
          <p:cNvSpPr/>
          <p:nvPr/>
        </p:nvSpPr>
        <p:spPr>
          <a:xfrm>
            <a:off x="3648240" y="866880"/>
            <a:ext cx="5903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五、与被审计单位治理层沟通</a:t>
            </a:r>
            <a:endParaRPr b="1" lang="en-US" sz="3200" spc="-1" strike="noStrike">
              <a:solidFill>
                <a:srgbClr val="000000"/>
              </a:solidFill>
              <a:latin typeface="Arial"/>
            </a:endParaRPr>
          </a:p>
        </p:txBody>
      </p:sp>
      <p:sp>
        <p:nvSpPr>
          <p:cNvPr id="2206" name="矩形 62"/>
          <p:cNvSpPr/>
          <p:nvPr/>
        </p:nvSpPr>
        <p:spPr>
          <a:xfrm>
            <a:off x="2063880" y="18432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207" name="文本框 65"/>
          <p:cNvSpPr/>
          <p:nvPr/>
        </p:nvSpPr>
        <p:spPr>
          <a:xfrm>
            <a:off x="243000" y="1449360"/>
            <a:ext cx="10683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应当直接与被审计单位治理层沟通的主要事项包括：</a:t>
            </a:r>
            <a:endParaRPr b="1" lang="en-US" sz="2400" spc="-1" strike="noStrike">
              <a:solidFill>
                <a:srgbClr val="000000"/>
              </a:solidFill>
              <a:latin typeface="Arial"/>
            </a:endParaRPr>
          </a:p>
        </p:txBody>
      </p:sp>
      <p:sp>
        <p:nvSpPr>
          <p:cNvPr id="2208" name="Inhaltsplatzhalter 4"/>
          <p:cNvSpPr/>
          <p:nvPr/>
        </p:nvSpPr>
        <p:spPr>
          <a:xfrm flipH="1">
            <a:off x="7689240" y="2009880"/>
            <a:ext cx="4276440" cy="280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微软雅黑"/>
              </a:rPr>
              <a:t>2</a:t>
            </a:r>
            <a:r>
              <a:rPr b="1" lang="en-US" sz="2400" spc="-1" strike="noStrike">
                <a:solidFill>
                  <a:srgbClr val="0070c0"/>
                </a:solidFill>
                <a:latin typeface="Arial"/>
              </a:rPr>
              <a:t>. </a:t>
            </a:r>
            <a:r>
              <a:rPr b="1" lang="zh-CN" sz="2400" spc="-1" strike="noStrike">
                <a:solidFill>
                  <a:srgbClr val="0070c0"/>
                </a:solidFill>
                <a:latin typeface="Arial"/>
                <a:ea typeface="宋体"/>
              </a:rPr>
              <a:t>计划的审计范围和时间。</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具体包括：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1</a:t>
            </a:r>
            <a:r>
              <a:rPr b="1" lang="zh-CN" sz="2200" spc="-1" strike="noStrike">
                <a:solidFill>
                  <a:srgbClr val="000000"/>
                </a:solidFill>
                <a:latin typeface="Arial"/>
                <a:ea typeface="宋体"/>
              </a:rPr>
              <a:t>）注册会计师拟如何应对由于舞弊或错误导致的重大错报风险。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2</a:t>
            </a:r>
            <a:r>
              <a:rPr b="1" lang="zh-CN" sz="2200" spc="-1" strike="noStrike">
                <a:solidFill>
                  <a:srgbClr val="000000"/>
                </a:solidFill>
                <a:latin typeface="Arial"/>
                <a:ea typeface="宋体"/>
              </a:rPr>
              <a:t>）审计采取的方案。</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3</a:t>
            </a:r>
            <a:r>
              <a:rPr b="1" lang="zh-CN" sz="2200" spc="-1" strike="noStrike">
                <a:solidFill>
                  <a:srgbClr val="000000"/>
                </a:solidFill>
                <a:latin typeface="Arial"/>
                <a:ea typeface="宋体"/>
              </a:rPr>
              <a:t>）重要性的概念。注意不能涉及重要性的具体底线或数量、金额。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4</a:t>
            </a:r>
            <a:r>
              <a:rPr b="1" lang="zh-CN" sz="2200" spc="-1" strike="noStrike">
                <a:solidFill>
                  <a:srgbClr val="000000"/>
                </a:solidFill>
                <a:latin typeface="Arial"/>
                <a:ea typeface="宋体"/>
              </a:rPr>
              <a:t>）审计业务受到的限制或法律法规对审计业务的特定要求等。</a:t>
            </a:r>
            <a:endParaRPr b="1" lang="en-US" sz="2200" spc="-1" strike="noStrike">
              <a:solidFill>
                <a:srgbClr val="000000"/>
              </a:solidFill>
              <a:latin typeface="Arial"/>
            </a:endParaRPr>
          </a:p>
        </p:txBody>
      </p:sp>
      <p:cxnSp>
        <p:nvCxnSpPr>
          <p:cNvPr id="2209" name="直接箭头连接符 9"/>
          <p:cNvCxnSpPr/>
          <p:nvPr/>
        </p:nvCxnSpPr>
        <p:spPr>
          <a:xfrm>
            <a:off x="7064280" y="2733480"/>
            <a:ext cx="478800" cy="1080"/>
          </a:xfrm>
          <a:prstGeom prst="straightConnector1">
            <a:avLst/>
          </a:prstGeom>
          <a:ln w="6480">
            <a:solidFill>
              <a:srgbClr val="5b9bd4"/>
            </a:solidFill>
            <a:miter/>
            <a:tailEnd len="med" type="triangle" w="med"/>
          </a:ln>
        </p:spPr>
      </p:cxnSp>
      <p:cxnSp>
        <p:nvCxnSpPr>
          <p:cNvPr id="2210" name="直接箭头连接符 73"/>
          <p:cNvCxnSpPr/>
          <p:nvPr/>
        </p:nvCxnSpPr>
        <p:spPr>
          <a:xfrm flipH="1">
            <a:off x="3844440" y="2908080"/>
            <a:ext cx="627840" cy="1080"/>
          </a:xfrm>
          <a:prstGeom prst="straightConnector1">
            <a:avLst/>
          </a:prstGeom>
          <a:ln w="12600">
            <a:solidFill>
              <a:srgbClr val="2f75b4"/>
            </a:solidFill>
            <a:miter/>
            <a:tailEnd len="med" type="triangle"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42">
                                  <p:stCondLst>
                                    <p:cond delay="0"/>
                                  </p:stCondLst>
                                  <p:childTnLst>
                                    <p:set>
                                      <p:cBhvr>
                                        <p:cTn id="116" dur="1" fill="hold">
                                          <p:stCondLst>
                                            <p:cond delay="0"/>
                                          </p:stCondLst>
                                        </p:cTn>
                                        <p:tgtEl>
                                          <p:spTgt spid="2178"/>
                                        </p:tgtEl>
                                        <p:attrNameLst>
                                          <p:attrName>style.visibility</p:attrName>
                                        </p:attrNameLst>
                                      </p:cBhvr>
                                      <p:to>
                                        <p:strVal val="visible"/>
                                      </p:to>
                                    </p:set>
                                    <p:animEffect filter="fade" transition="in">
                                      <p:cBhvr additive="repl">
                                        <p:cTn id="117" dur="500"/>
                                        <p:tgtEl>
                                          <p:spTgt spid="2178"/>
                                        </p:tgtEl>
                                      </p:cBhvr>
                                    </p:animEffect>
                                    <p:anim calcmode="lin" valueType="num">
                                      <p:cBhvr additive="repl">
                                        <p:cTn id="118" dur="500" fill="hold"/>
                                        <p:tgtEl>
                                          <p:spTgt spid="2178"/>
                                        </p:tgtEl>
                                        <p:attrNameLst>
                                          <p:attrName>ppt_x</p:attrName>
                                        </p:attrNameLst>
                                      </p:cBhvr>
                                      <p:tavLst>
                                        <p:tav tm="0">
                                          <p:val>
                                            <p:strVal val="#ppt_x"/>
                                          </p:val>
                                        </p:tav>
                                        <p:tav tm="100000">
                                          <p:val>
                                            <p:strVal val="#ppt_x"/>
                                          </p:val>
                                        </p:tav>
                                      </p:tavLst>
                                    </p:anim>
                                    <p:anim calcmode="lin" valueType="num">
                                      <p:cBhvr additive="repl">
                                        <p:cTn id="119" dur="500" fill="hold"/>
                                        <p:tgtEl>
                                          <p:spTgt spid="2178"/>
                                        </p:tgtEl>
                                        <p:attrNameLst>
                                          <p:attrName>ppt_y</p:attrName>
                                        </p:attrNameLst>
                                      </p:cBhvr>
                                      <p:tavLst>
                                        <p:tav tm="0">
                                          <p:val>
                                            <p:strVal val="#ppt_y+.1"/>
                                          </p:val>
                                        </p:tav>
                                        <p:tav tm="100000">
                                          <p:val>
                                            <p:strVal val="#ppt_y"/>
                                          </p:val>
                                        </p:tav>
                                      </p:tavLst>
                                    </p:anim>
                                  </p:childTnLst>
                                </p:cTn>
                              </p:par>
                            </p:childTnLst>
                          </p:cTn>
                        </p:par>
                        <p:par>
                          <p:cTn id="120" fill="hold">
                            <p:stCondLst>
                              <p:cond delay="500"/>
                            </p:stCondLst>
                            <p:childTnLst>
                              <p:par>
                                <p:cTn id="121" dur="indefinite" nodeType="afterEffect" fill="hold" presetClass="entr" presetID="18" presetSubtype="9">
                                  <p:stCondLst>
                                    <p:cond delay="0"/>
                                  </p:stCondLst>
                                  <p:childTnLst>
                                    <p:set>
                                      <p:cBhvr>
                                        <p:cTn id="122" dur="1" fill="hold">
                                          <p:stCondLst>
                                            <p:cond delay="0"/>
                                          </p:stCondLst>
                                        </p:cTn>
                                        <p:tgtEl>
                                          <p:spTgt spid="2164"/>
                                        </p:tgtEl>
                                        <p:attrNameLst>
                                          <p:attrName>style.visibility</p:attrName>
                                        </p:attrNameLst>
                                      </p:cBhvr>
                                      <p:to>
                                        <p:strVal val="visible"/>
                                      </p:to>
                                    </p:set>
                                    <p:animEffect filter="strips(upLeft)" transition="in">
                                      <p:cBhvr additive="repl">
                                        <p:cTn id="123" dur="500"/>
                                        <p:tgtEl>
                                          <p:spTgt spid="2164"/>
                                        </p:tgtEl>
                                      </p:cBhvr>
                                    </p:animEffect>
                                  </p:childTnLst>
                                </p:cTn>
                              </p:par>
                            </p:childTnLst>
                          </p:cTn>
                        </p:par>
                        <p:par>
                          <p:cTn id="124" fill="hold">
                            <p:stCondLst>
                              <p:cond delay="1000"/>
                            </p:stCondLst>
                            <p:childTnLst>
                              <p:par>
                                <p:cTn id="125" dur="indefinite" nodeType="afterEffect" fill="hold" presetClass="entr" presetID="53" presetSubtype="16">
                                  <p:stCondLst>
                                    <p:cond delay="0"/>
                                  </p:stCondLst>
                                  <p:childTnLst>
                                    <p:set>
                                      <p:cBhvr>
                                        <p:cTn id="126" dur="1" fill="hold">
                                          <p:stCondLst>
                                            <p:cond delay="0"/>
                                          </p:stCondLst>
                                        </p:cTn>
                                        <p:tgtEl>
                                          <p:spTgt spid="2177"/>
                                        </p:tgtEl>
                                        <p:attrNameLst>
                                          <p:attrName>style.visibility</p:attrName>
                                        </p:attrNameLst>
                                      </p:cBhvr>
                                      <p:to>
                                        <p:strVal val="visible"/>
                                      </p:to>
                                    </p:set>
                                    <p:anim calcmode="lin" valueType="num">
                                      <p:cBhvr additive="repl">
                                        <p:cTn id="127" dur="500" fill="hold"/>
                                        <p:tgtEl>
                                          <p:spTgt spid="2177"/>
                                        </p:tgtEl>
                                        <p:attrNameLst>
                                          <p:attrName>ppt_w</p:attrName>
                                        </p:attrNameLst>
                                      </p:cBhvr>
                                      <p:tavLst>
                                        <p:tav tm="0">
                                          <p:val>
                                            <p:fltVal val="0"/>
                                          </p:val>
                                        </p:tav>
                                        <p:tav tm="100000">
                                          <p:val>
                                            <p:strVal val="#ppt_w"/>
                                          </p:val>
                                        </p:tav>
                                      </p:tavLst>
                                    </p:anim>
                                    <p:anim calcmode="lin" valueType="num">
                                      <p:cBhvr additive="repl">
                                        <p:cTn id="128" dur="500" fill="hold"/>
                                        <p:tgtEl>
                                          <p:spTgt spid="2177"/>
                                        </p:tgtEl>
                                        <p:attrNameLst>
                                          <p:attrName>ppt_h</p:attrName>
                                        </p:attrNameLst>
                                      </p:cBhvr>
                                      <p:tavLst>
                                        <p:tav tm="0">
                                          <p:val>
                                            <p:fltVal val="0"/>
                                          </p:val>
                                        </p:tav>
                                        <p:tav tm="100000">
                                          <p:val>
                                            <p:strVal val="#ppt_h"/>
                                          </p:val>
                                        </p:tav>
                                      </p:tavLst>
                                    </p:anim>
                                    <p:animEffect filter="fade" transition="in">
                                      <p:cBhvr additive="repl">
                                        <p:cTn id="129" dur="500"/>
                                        <p:tgtEl>
                                          <p:spTgt spid="2177"/>
                                        </p:tgtEl>
                                      </p:cBhvr>
                                    </p:animEffect>
                                  </p:childTnLst>
                                </p:cTn>
                              </p:par>
                              <p:par>
                                <p:cTn id="130" dur="indefinite" nodeType="withEffect" fill="hold" presetClass="entr" presetID="53" presetSubtype="16">
                                  <p:stCondLst>
                                    <p:cond delay="0"/>
                                  </p:stCondLst>
                                  <p:childTnLst>
                                    <p:set>
                                      <p:cBhvr>
                                        <p:cTn id="131" dur="1" fill="hold">
                                          <p:stCondLst>
                                            <p:cond delay="0"/>
                                          </p:stCondLst>
                                        </p:cTn>
                                        <p:tgtEl>
                                          <p:spTgt spid="2193"/>
                                        </p:tgtEl>
                                        <p:attrNameLst>
                                          <p:attrName>style.visibility</p:attrName>
                                        </p:attrNameLst>
                                      </p:cBhvr>
                                      <p:to>
                                        <p:strVal val="visible"/>
                                      </p:to>
                                    </p:set>
                                    <p:anim calcmode="lin" valueType="num">
                                      <p:cBhvr additive="repl">
                                        <p:cTn id="132" dur="500" fill="hold"/>
                                        <p:tgtEl>
                                          <p:spTgt spid="2193"/>
                                        </p:tgtEl>
                                        <p:attrNameLst>
                                          <p:attrName>ppt_w</p:attrName>
                                        </p:attrNameLst>
                                      </p:cBhvr>
                                      <p:tavLst>
                                        <p:tav tm="0">
                                          <p:val>
                                            <p:fltVal val="0"/>
                                          </p:val>
                                        </p:tav>
                                        <p:tav tm="100000">
                                          <p:val>
                                            <p:strVal val="#ppt_w"/>
                                          </p:val>
                                        </p:tav>
                                      </p:tavLst>
                                    </p:anim>
                                    <p:anim calcmode="lin" valueType="num">
                                      <p:cBhvr additive="repl">
                                        <p:cTn id="133" dur="500" fill="hold"/>
                                        <p:tgtEl>
                                          <p:spTgt spid="2193"/>
                                        </p:tgtEl>
                                        <p:attrNameLst>
                                          <p:attrName>ppt_h</p:attrName>
                                        </p:attrNameLst>
                                      </p:cBhvr>
                                      <p:tavLst>
                                        <p:tav tm="0">
                                          <p:val>
                                            <p:fltVal val="0"/>
                                          </p:val>
                                        </p:tav>
                                        <p:tav tm="100000">
                                          <p:val>
                                            <p:strVal val="#ppt_h"/>
                                          </p:val>
                                        </p:tav>
                                      </p:tavLst>
                                    </p:anim>
                                    <p:animEffect filter="fade" transition="in">
                                      <p:cBhvr additive="repl">
                                        <p:cTn id="134" dur="500"/>
                                        <p:tgtEl>
                                          <p:spTgt spid="2193"/>
                                        </p:tgtEl>
                                      </p:cBhvr>
                                    </p:animEffect>
                                  </p:childTnLst>
                                </p:cTn>
                              </p:par>
                            </p:childTnLst>
                          </p:cTn>
                        </p:par>
                        <p:par>
                          <p:cTn id="135" fill="hold">
                            <p:stCondLst>
                              <p:cond delay="1500"/>
                            </p:stCondLst>
                            <p:childTnLst>
                              <p:par>
                                <p:cTn id="136" dur="indefinite" nodeType="afterEffect" fill="hold" presetClass="entr" presetID="22" presetSubtype="2">
                                  <p:stCondLst>
                                    <p:cond delay="0"/>
                                  </p:stCondLst>
                                  <p:childTnLst>
                                    <p:set>
                                      <p:cBhvr>
                                        <p:cTn id="137" dur="1" fill="hold">
                                          <p:stCondLst>
                                            <p:cond delay="0"/>
                                          </p:stCondLst>
                                        </p:cTn>
                                        <p:tgtEl>
                                          <p:spTgt spid="2180"/>
                                        </p:tgtEl>
                                        <p:attrNameLst>
                                          <p:attrName>style.visibility</p:attrName>
                                        </p:attrNameLst>
                                      </p:cBhvr>
                                      <p:to>
                                        <p:strVal val="visible"/>
                                      </p:to>
                                    </p:set>
                                    <p:animEffect filter="wipe(right)" transition="in">
                                      <p:cBhvr additive="repl">
                                        <p:cTn id="138" dur="500"/>
                                        <p:tgtEl>
                                          <p:spTgt spid="2180"/>
                                        </p:tgtEl>
                                      </p:cBhvr>
                                    </p:animEffect>
                                  </p:childTnLst>
                                </p:cTn>
                              </p:par>
                            </p:childTnLst>
                          </p:cTn>
                        </p:par>
                        <p:par>
                          <p:cTn id="139" fill="hold">
                            <p:stCondLst>
                              <p:cond delay="2000"/>
                            </p:stCondLst>
                            <p:childTnLst>
                              <p:par>
                                <p:cTn id="140" dur="indefinite" nodeType="afterEffect" fill="hold" presetClass="entr" presetID="18" presetSubtype="9">
                                  <p:stCondLst>
                                    <p:cond delay="0"/>
                                  </p:stCondLst>
                                  <p:childTnLst>
                                    <p:set>
                                      <p:cBhvr>
                                        <p:cTn id="141" dur="1" fill="hold">
                                          <p:stCondLst>
                                            <p:cond delay="0"/>
                                          </p:stCondLst>
                                        </p:cTn>
                                        <p:tgtEl>
                                          <p:spTgt spid="2163"/>
                                        </p:tgtEl>
                                        <p:attrNameLst>
                                          <p:attrName>style.visibility</p:attrName>
                                        </p:attrNameLst>
                                      </p:cBhvr>
                                      <p:to>
                                        <p:strVal val="visible"/>
                                      </p:to>
                                    </p:set>
                                    <p:animEffect filter="strips(upLeft)" transition="in">
                                      <p:cBhvr additive="repl">
                                        <p:cTn id="142" dur="500"/>
                                        <p:tgtEl>
                                          <p:spTgt spid="2163"/>
                                        </p:tgtEl>
                                      </p:cBhvr>
                                    </p:animEffect>
                                  </p:childTnLst>
                                </p:cTn>
                              </p:par>
                            </p:childTnLst>
                          </p:cTn>
                        </p:par>
                        <p:par>
                          <p:cTn id="143" fill="hold">
                            <p:stCondLst>
                              <p:cond delay="2500"/>
                            </p:stCondLst>
                            <p:childTnLst>
                              <p:par>
                                <p:cTn id="144" dur="indefinite" nodeType="afterEffect" fill="hold" presetClass="entr" presetID="53" presetSubtype="16">
                                  <p:stCondLst>
                                    <p:cond delay="0"/>
                                  </p:stCondLst>
                                  <p:childTnLst>
                                    <p:set>
                                      <p:cBhvr>
                                        <p:cTn id="145" dur="1" fill="hold">
                                          <p:stCondLst>
                                            <p:cond delay="0"/>
                                          </p:stCondLst>
                                        </p:cTn>
                                        <p:tgtEl>
                                          <p:spTgt spid="2176"/>
                                        </p:tgtEl>
                                        <p:attrNameLst>
                                          <p:attrName>style.visibility</p:attrName>
                                        </p:attrNameLst>
                                      </p:cBhvr>
                                      <p:to>
                                        <p:strVal val="visible"/>
                                      </p:to>
                                    </p:set>
                                    <p:anim calcmode="lin" valueType="num">
                                      <p:cBhvr additive="repl">
                                        <p:cTn id="146" dur="500" fill="hold"/>
                                        <p:tgtEl>
                                          <p:spTgt spid="2176"/>
                                        </p:tgtEl>
                                        <p:attrNameLst>
                                          <p:attrName>ppt_w</p:attrName>
                                        </p:attrNameLst>
                                      </p:cBhvr>
                                      <p:tavLst>
                                        <p:tav tm="0">
                                          <p:val>
                                            <p:fltVal val="0"/>
                                          </p:val>
                                        </p:tav>
                                        <p:tav tm="100000">
                                          <p:val>
                                            <p:strVal val="#ppt_w"/>
                                          </p:val>
                                        </p:tav>
                                      </p:tavLst>
                                    </p:anim>
                                    <p:anim calcmode="lin" valueType="num">
                                      <p:cBhvr additive="repl">
                                        <p:cTn id="147" dur="500" fill="hold"/>
                                        <p:tgtEl>
                                          <p:spTgt spid="2176"/>
                                        </p:tgtEl>
                                        <p:attrNameLst>
                                          <p:attrName>ppt_h</p:attrName>
                                        </p:attrNameLst>
                                      </p:cBhvr>
                                      <p:tavLst>
                                        <p:tav tm="0">
                                          <p:val>
                                            <p:fltVal val="0"/>
                                          </p:val>
                                        </p:tav>
                                        <p:tav tm="100000">
                                          <p:val>
                                            <p:strVal val="#ppt_h"/>
                                          </p:val>
                                        </p:tav>
                                      </p:tavLst>
                                    </p:anim>
                                    <p:animEffect filter="fade" transition="in">
                                      <p:cBhvr additive="repl">
                                        <p:cTn id="148" dur="500"/>
                                        <p:tgtEl>
                                          <p:spTgt spid="2176"/>
                                        </p:tgtEl>
                                      </p:cBhvr>
                                    </p:animEffect>
                                  </p:childTnLst>
                                </p:cTn>
                              </p:par>
                              <p:par>
                                <p:cTn id="149" dur="indefinite" nodeType="withEffect" fill="hold" presetClass="entr" presetID="53" presetSubtype="16">
                                  <p:stCondLst>
                                    <p:cond delay="0"/>
                                  </p:stCondLst>
                                  <p:childTnLst>
                                    <p:set>
                                      <p:cBhvr>
                                        <p:cTn id="150" dur="1" fill="hold">
                                          <p:stCondLst>
                                            <p:cond delay="0"/>
                                          </p:stCondLst>
                                        </p:cTn>
                                        <p:tgtEl>
                                          <p:spTgt spid="2181"/>
                                        </p:tgtEl>
                                        <p:attrNameLst>
                                          <p:attrName>style.visibility</p:attrName>
                                        </p:attrNameLst>
                                      </p:cBhvr>
                                      <p:to>
                                        <p:strVal val="visible"/>
                                      </p:to>
                                    </p:set>
                                    <p:anim calcmode="lin" valueType="num">
                                      <p:cBhvr additive="repl">
                                        <p:cTn id="151" dur="500" fill="hold"/>
                                        <p:tgtEl>
                                          <p:spTgt spid="2181"/>
                                        </p:tgtEl>
                                        <p:attrNameLst>
                                          <p:attrName>ppt_w</p:attrName>
                                        </p:attrNameLst>
                                      </p:cBhvr>
                                      <p:tavLst>
                                        <p:tav tm="0">
                                          <p:val>
                                            <p:fltVal val="0"/>
                                          </p:val>
                                        </p:tav>
                                        <p:tav tm="100000">
                                          <p:val>
                                            <p:strVal val="#ppt_w"/>
                                          </p:val>
                                        </p:tav>
                                      </p:tavLst>
                                    </p:anim>
                                    <p:anim calcmode="lin" valueType="num">
                                      <p:cBhvr additive="repl">
                                        <p:cTn id="152" dur="500" fill="hold"/>
                                        <p:tgtEl>
                                          <p:spTgt spid="2181"/>
                                        </p:tgtEl>
                                        <p:attrNameLst>
                                          <p:attrName>ppt_h</p:attrName>
                                        </p:attrNameLst>
                                      </p:cBhvr>
                                      <p:tavLst>
                                        <p:tav tm="0">
                                          <p:val>
                                            <p:fltVal val="0"/>
                                          </p:val>
                                        </p:tav>
                                        <p:tav tm="100000">
                                          <p:val>
                                            <p:strVal val="#ppt_h"/>
                                          </p:val>
                                        </p:tav>
                                      </p:tavLst>
                                    </p:anim>
                                    <p:animEffect filter="fade" transition="in">
                                      <p:cBhvr additive="repl">
                                        <p:cTn id="153" dur="500"/>
                                        <p:tgtEl>
                                          <p:spTgt spid="2181"/>
                                        </p:tgtEl>
                                      </p:cBhvr>
                                    </p:animEffect>
                                  </p:childTnLst>
                                </p:cTn>
                              </p:par>
                            </p:childTnLst>
                          </p:cTn>
                        </p:par>
                        <p:par>
                          <p:cTn id="154" fill="hold">
                            <p:stCondLst>
                              <p:cond delay="3000"/>
                            </p:stCondLst>
                            <p:childTnLst>
                              <p:par>
                                <p:cTn id="155" dur="indefinite" nodeType="afterEffect" fill="hold" presetClass="entr" presetID="42">
                                  <p:stCondLst>
                                    <p:cond delay="0"/>
                                  </p:stCondLst>
                                  <p:childTnLst>
                                    <p:set>
                                      <p:cBhvr>
                                        <p:cTn id="156" dur="1" fill="hold">
                                          <p:stCondLst>
                                            <p:cond delay="0"/>
                                          </p:stCondLst>
                                        </p:cTn>
                                        <p:tgtEl>
                                          <p:spTgt spid="2172"/>
                                        </p:tgtEl>
                                        <p:attrNameLst>
                                          <p:attrName>style.visibility</p:attrName>
                                        </p:attrNameLst>
                                      </p:cBhvr>
                                      <p:to>
                                        <p:strVal val="visible"/>
                                      </p:to>
                                    </p:set>
                                    <p:animEffect filter="fade" transition="in">
                                      <p:cBhvr additive="repl">
                                        <p:cTn id="157" dur="500"/>
                                        <p:tgtEl>
                                          <p:spTgt spid="2172"/>
                                        </p:tgtEl>
                                      </p:cBhvr>
                                    </p:animEffect>
                                    <p:anim calcmode="lin" valueType="num">
                                      <p:cBhvr additive="repl">
                                        <p:cTn id="158" dur="500" fill="hold"/>
                                        <p:tgtEl>
                                          <p:spTgt spid="2172"/>
                                        </p:tgtEl>
                                        <p:attrNameLst>
                                          <p:attrName>ppt_x</p:attrName>
                                        </p:attrNameLst>
                                      </p:cBhvr>
                                      <p:tavLst>
                                        <p:tav tm="0">
                                          <p:val>
                                            <p:strVal val="#ppt_x"/>
                                          </p:val>
                                        </p:tav>
                                        <p:tav tm="100000">
                                          <p:val>
                                            <p:strVal val="#ppt_x"/>
                                          </p:val>
                                        </p:tav>
                                      </p:tavLst>
                                    </p:anim>
                                    <p:anim calcmode="lin" valueType="num">
                                      <p:cBhvr additive="repl">
                                        <p:cTn id="159" dur="500" fill="hold"/>
                                        <p:tgtEl>
                                          <p:spTgt spid="2172"/>
                                        </p:tgtEl>
                                        <p:attrNameLst>
                                          <p:attrName>ppt_y</p:attrName>
                                        </p:attrNameLst>
                                      </p:cBhvr>
                                      <p:tavLst>
                                        <p:tav tm="0">
                                          <p:val>
                                            <p:strVal val="#ppt_y+.1"/>
                                          </p:val>
                                        </p:tav>
                                        <p:tav tm="100000">
                                          <p:val>
                                            <p:strVal val="#ppt_y"/>
                                          </p:val>
                                        </p:tav>
                                      </p:tavLst>
                                    </p:anim>
                                  </p:childTnLst>
                                </p:cTn>
                              </p:par>
                            </p:childTnLst>
                          </p:cTn>
                        </p:par>
                        <p:par>
                          <p:cTn id="160" fill="hold">
                            <p:stCondLst>
                              <p:cond delay="3500"/>
                            </p:stCondLst>
                            <p:childTnLst>
                              <p:par>
                                <p:cTn id="161" dur="indefinite" nodeType="afterEffect" fill="hold" presetClass="entr" presetID="18" presetSubtype="9">
                                  <p:stCondLst>
                                    <p:cond delay="0"/>
                                  </p:stCondLst>
                                  <p:childTnLst>
                                    <p:set>
                                      <p:cBhvr>
                                        <p:cTn id="162" dur="1" fill="hold">
                                          <p:stCondLst>
                                            <p:cond delay="0"/>
                                          </p:stCondLst>
                                        </p:cTn>
                                        <p:tgtEl>
                                          <p:spTgt spid="2166"/>
                                        </p:tgtEl>
                                        <p:attrNameLst>
                                          <p:attrName>style.visibility</p:attrName>
                                        </p:attrNameLst>
                                      </p:cBhvr>
                                      <p:to>
                                        <p:strVal val="visible"/>
                                      </p:to>
                                    </p:set>
                                    <p:animEffect filter="strips(upLeft)" transition="in">
                                      <p:cBhvr additive="repl">
                                        <p:cTn id="163" dur="500"/>
                                        <p:tgtEl>
                                          <p:spTgt spid="2166"/>
                                        </p:tgtEl>
                                      </p:cBhvr>
                                    </p:animEffect>
                                  </p:childTnLst>
                                </p:cTn>
                              </p:par>
                            </p:childTnLst>
                          </p:cTn>
                        </p:par>
                        <p:par>
                          <p:cTn id="164" fill="hold">
                            <p:stCondLst>
                              <p:cond delay="4000"/>
                            </p:stCondLst>
                            <p:childTnLst>
                              <p:par>
                                <p:cTn id="165" dur="indefinite" nodeType="afterEffect" fill="hold" presetClass="entr" presetID="53" presetSubtype="16">
                                  <p:stCondLst>
                                    <p:cond delay="0"/>
                                  </p:stCondLst>
                                  <p:childTnLst>
                                    <p:set>
                                      <p:cBhvr>
                                        <p:cTn id="166" dur="1" fill="hold">
                                          <p:stCondLst>
                                            <p:cond delay="0"/>
                                          </p:stCondLst>
                                        </p:cTn>
                                        <p:tgtEl>
                                          <p:spTgt spid="2175"/>
                                        </p:tgtEl>
                                        <p:attrNameLst>
                                          <p:attrName>style.visibility</p:attrName>
                                        </p:attrNameLst>
                                      </p:cBhvr>
                                      <p:to>
                                        <p:strVal val="visible"/>
                                      </p:to>
                                    </p:set>
                                    <p:anim calcmode="lin" valueType="num">
                                      <p:cBhvr additive="repl">
                                        <p:cTn id="167" dur="500" fill="hold"/>
                                        <p:tgtEl>
                                          <p:spTgt spid="2175"/>
                                        </p:tgtEl>
                                        <p:attrNameLst>
                                          <p:attrName>ppt_w</p:attrName>
                                        </p:attrNameLst>
                                      </p:cBhvr>
                                      <p:tavLst>
                                        <p:tav tm="0">
                                          <p:val>
                                            <p:fltVal val="0"/>
                                          </p:val>
                                        </p:tav>
                                        <p:tav tm="100000">
                                          <p:val>
                                            <p:strVal val="#ppt_w"/>
                                          </p:val>
                                        </p:tav>
                                      </p:tavLst>
                                    </p:anim>
                                    <p:anim calcmode="lin" valueType="num">
                                      <p:cBhvr additive="repl">
                                        <p:cTn id="168" dur="500" fill="hold"/>
                                        <p:tgtEl>
                                          <p:spTgt spid="2175"/>
                                        </p:tgtEl>
                                        <p:attrNameLst>
                                          <p:attrName>ppt_h</p:attrName>
                                        </p:attrNameLst>
                                      </p:cBhvr>
                                      <p:tavLst>
                                        <p:tav tm="0">
                                          <p:val>
                                            <p:fltVal val="0"/>
                                          </p:val>
                                        </p:tav>
                                        <p:tav tm="100000">
                                          <p:val>
                                            <p:strVal val="#ppt_h"/>
                                          </p:val>
                                        </p:tav>
                                      </p:tavLst>
                                    </p:anim>
                                    <p:animEffect filter="fade" transition="in">
                                      <p:cBhvr additive="repl">
                                        <p:cTn id="169" dur="500"/>
                                        <p:tgtEl>
                                          <p:spTgt spid="2175"/>
                                        </p:tgtEl>
                                      </p:cBhvr>
                                    </p:animEffect>
                                  </p:childTnLst>
                                </p:cTn>
                              </p:par>
                              <p:par>
                                <p:cTn id="170" dur="indefinite" nodeType="withEffect" fill="hold" presetClass="entr" presetID="53" presetSubtype="16">
                                  <p:stCondLst>
                                    <p:cond delay="0"/>
                                  </p:stCondLst>
                                  <p:childTnLst>
                                    <p:set>
                                      <p:cBhvr>
                                        <p:cTn id="171" dur="1" fill="hold">
                                          <p:stCondLst>
                                            <p:cond delay="0"/>
                                          </p:stCondLst>
                                        </p:cTn>
                                        <p:tgtEl>
                                          <p:spTgt spid="2184"/>
                                        </p:tgtEl>
                                        <p:attrNameLst>
                                          <p:attrName>style.visibility</p:attrName>
                                        </p:attrNameLst>
                                      </p:cBhvr>
                                      <p:to>
                                        <p:strVal val="visible"/>
                                      </p:to>
                                    </p:set>
                                    <p:anim calcmode="lin" valueType="num">
                                      <p:cBhvr additive="repl">
                                        <p:cTn id="172" dur="500" fill="hold"/>
                                        <p:tgtEl>
                                          <p:spTgt spid="2184"/>
                                        </p:tgtEl>
                                        <p:attrNameLst>
                                          <p:attrName>ppt_w</p:attrName>
                                        </p:attrNameLst>
                                      </p:cBhvr>
                                      <p:tavLst>
                                        <p:tav tm="0">
                                          <p:val>
                                            <p:fltVal val="0"/>
                                          </p:val>
                                        </p:tav>
                                        <p:tav tm="100000">
                                          <p:val>
                                            <p:strVal val="#ppt_w"/>
                                          </p:val>
                                        </p:tav>
                                      </p:tavLst>
                                    </p:anim>
                                    <p:anim calcmode="lin" valueType="num">
                                      <p:cBhvr additive="repl">
                                        <p:cTn id="173" dur="500" fill="hold"/>
                                        <p:tgtEl>
                                          <p:spTgt spid="2184"/>
                                        </p:tgtEl>
                                        <p:attrNameLst>
                                          <p:attrName>ppt_h</p:attrName>
                                        </p:attrNameLst>
                                      </p:cBhvr>
                                      <p:tavLst>
                                        <p:tav tm="0">
                                          <p:val>
                                            <p:fltVal val="0"/>
                                          </p:val>
                                        </p:tav>
                                        <p:tav tm="100000">
                                          <p:val>
                                            <p:strVal val="#ppt_h"/>
                                          </p:val>
                                        </p:tav>
                                      </p:tavLst>
                                    </p:anim>
                                    <p:animEffect filter="fade" transition="in">
                                      <p:cBhvr additive="repl">
                                        <p:cTn id="174" dur="500"/>
                                        <p:tgtEl>
                                          <p:spTgt spid="2184"/>
                                        </p:tgtEl>
                                      </p:cBhvr>
                                    </p:animEffect>
                                  </p:childTnLst>
                                </p:cTn>
                              </p:par>
                            </p:childTnLst>
                          </p:cTn>
                        </p:par>
                        <p:par>
                          <p:cTn id="175" fill="hold">
                            <p:stCondLst>
                              <p:cond delay="4500"/>
                            </p:stCondLst>
                            <p:childTnLst>
                              <p:par>
                                <p:cTn id="176" dur="indefinite" nodeType="afterEffect" fill="hold" presetClass="entr" presetID="18" presetSubtype="3">
                                  <p:stCondLst>
                                    <p:cond delay="0"/>
                                  </p:stCondLst>
                                  <p:childTnLst>
                                    <p:set>
                                      <p:cBhvr>
                                        <p:cTn id="177" dur="1" fill="hold">
                                          <p:stCondLst>
                                            <p:cond delay="0"/>
                                          </p:stCondLst>
                                        </p:cTn>
                                        <p:tgtEl>
                                          <p:spTgt spid="2160"/>
                                        </p:tgtEl>
                                        <p:attrNameLst>
                                          <p:attrName>style.visibility</p:attrName>
                                        </p:attrNameLst>
                                      </p:cBhvr>
                                      <p:to>
                                        <p:strVal val="visible"/>
                                      </p:to>
                                    </p:set>
                                    <p:animEffect filter="strips(upRight)" transition="in">
                                      <p:cBhvr additive="repl">
                                        <p:cTn id="178" dur="500"/>
                                        <p:tgtEl>
                                          <p:spTgt spid="2160"/>
                                        </p:tgtEl>
                                      </p:cBhvr>
                                    </p:animEffect>
                                  </p:childTnLst>
                                </p:cTn>
                              </p:par>
                            </p:childTnLst>
                          </p:cTn>
                        </p:par>
                        <p:par>
                          <p:cTn id="179" fill="hold">
                            <p:stCondLst>
                              <p:cond delay="5000"/>
                            </p:stCondLst>
                            <p:childTnLst>
                              <p:par>
                                <p:cTn id="180" dur="indefinite" nodeType="afterEffect" fill="hold" presetClass="entr" presetID="42">
                                  <p:stCondLst>
                                    <p:cond delay="0"/>
                                  </p:stCondLst>
                                  <p:childTnLst>
                                    <p:set>
                                      <p:cBhvr>
                                        <p:cTn id="181" dur="1" fill="hold">
                                          <p:stCondLst>
                                            <p:cond delay="0"/>
                                          </p:stCondLst>
                                        </p:cTn>
                                        <p:tgtEl>
                                          <p:spTgt spid="2171"/>
                                        </p:tgtEl>
                                        <p:attrNameLst>
                                          <p:attrName>style.visibility</p:attrName>
                                        </p:attrNameLst>
                                      </p:cBhvr>
                                      <p:to>
                                        <p:strVal val="visible"/>
                                      </p:to>
                                    </p:set>
                                    <p:animEffect filter="fade" transition="in">
                                      <p:cBhvr additive="repl">
                                        <p:cTn id="182" dur="500"/>
                                        <p:tgtEl>
                                          <p:spTgt spid="2171"/>
                                        </p:tgtEl>
                                      </p:cBhvr>
                                    </p:animEffect>
                                    <p:anim calcmode="lin" valueType="num">
                                      <p:cBhvr additive="repl">
                                        <p:cTn id="183" dur="500" fill="hold"/>
                                        <p:tgtEl>
                                          <p:spTgt spid="2171"/>
                                        </p:tgtEl>
                                        <p:attrNameLst>
                                          <p:attrName>ppt_x</p:attrName>
                                        </p:attrNameLst>
                                      </p:cBhvr>
                                      <p:tavLst>
                                        <p:tav tm="0">
                                          <p:val>
                                            <p:strVal val="#ppt_x"/>
                                          </p:val>
                                        </p:tav>
                                        <p:tav tm="100000">
                                          <p:val>
                                            <p:strVal val="#ppt_x"/>
                                          </p:val>
                                        </p:tav>
                                      </p:tavLst>
                                    </p:anim>
                                    <p:anim calcmode="lin" valueType="num">
                                      <p:cBhvr additive="repl">
                                        <p:cTn id="184" dur="500" fill="hold"/>
                                        <p:tgtEl>
                                          <p:spTgt spid="2171"/>
                                        </p:tgtEl>
                                        <p:attrNameLst>
                                          <p:attrName>ppt_y</p:attrName>
                                        </p:attrNameLst>
                                      </p:cBhvr>
                                      <p:tavLst>
                                        <p:tav tm="0">
                                          <p:val>
                                            <p:strVal val="#ppt_y+.1"/>
                                          </p:val>
                                        </p:tav>
                                        <p:tav tm="100000">
                                          <p:val>
                                            <p:strVal val="#ppt_y"/>
                                          </p:val>
                                        </p:tav>
                                      </p:tavLst>
                                    </p:anim>
                                  </p:childTnLst>
                                </p:cTn>
                              </p:par>
                            </p:childTnLst>
                          </p:cTn>
                        </p:par>
                        <p:par>
                          <p:cTn id="185" fill="hold">
                            <p:stCondLst>
                              <p:cond delay="5500"/>
                            </p:stCondLst>
                            <p:childTnLst>
                              <p:par>
                                <p:cTn id="186" dur="indefinite" nodeType="afterEffect" fill="hold" presetClass="entr" presetID="42">
                                  <p:stCondLst>
                                    <p:cond delay="0"/>
                                  </p:stCondLst>
                                  <p:childTnLst>
                                    <p:set>
                                      <p:cBhvr>
                                        <p:cTn id="187" dur="1" fill="hold">
                                          <p:stCondLst>
                                            <p:cond delay="0"/>
                                          </p:stCondLst>
                                        </p:cTn>
                                        <p:tgtEl>
                                          <p:spTgt spid="2174"/>
                                        </p:tgtEl>
                                        <p:attrNameLst>
                                          <p:attrName>style.visibility</p:attrName>
                                        </p:attrNameLst>
                                      </p:cBhvr>
                                      <p:to>
                                        <p:strVal val="visible"/>
                                      </p:to>
                                    </p:set>
                                    <p:animEffect filter="fade" transition="in">
                                      <p:cBhvr additive="repl">
                                        <p:cTn id="188" dur="500"/>
                                        <p:tgtEl>
                                          <p:spTgt spid="2174"/>
                                        </p:tgtEl>
                                      </p:cBhvr>
                                    </p:animEffect>
                                    <p:anim calcmode="lin" valueType="num">
                                      <p:cBhvr additive="repl">
                                        <p:cTn id="189" dur="500" fill="hold"/>
                                        <p:tgtEl>
                                          <p:spTgt spid="2174"/>
                                        </p:tgtEl>
                                        <p:attrNameLst>
                                          <p:attrName>ppt_x</p:attrName>
                                        </p:attrNameLst>
                                      </p:cBhvr>
                                      <p:tavLst>
                                        <p:tav tm="0">
                                          <p:val>
                                            <p:strVal val="#ppt_x"/>
                                          </p:val>
                                        </p:tav>
                                        <p:tav tm="100000">
                                          <p:val>
                                            <p:strVal val="#ppt_x"/>
                                          </p:val>
                                        </p:tav>
                                      </p:tavLst>
                                    </p:anim>
                                    <p:anim calcmode="lin" valueType="num">
                                      <p:cBhvr additive="repl">
                                        <p:cTn id="190" dur="500" fill="hold"/>
                                        <p:tgtEl>
                                          <p:spTgt spid="2174"/>
                                        </p:tgtEl>
                                        <p:attrNameLst>
                                          <p:attrName>ppt_y</p:attrName>
                                        </p:attrNameLst>
                                      </p:cBhvr>
                                      <p:tavLst>
                                        <p:tav tm="0">
                                          <p:val>
                                            <p:strVal val="#ppt_y+.1"/>
                                          </p:val>
                                        </p:tav>
                                        <p:tav tm="100000">
                                          <p:val>
                                            <p:strVal val="#ppt_y"/>
                                          </p:val>
                                        </p:tav>
                                      </p:tavLst>
                                    </p:anim>
                                  </p:childTnLst>
                                </p:cTn>
                              </p:par>
                              <p:par>
                                <p:cTn id="191" dur="indefinite" nodeType="withEffect" fill="hold" presetClass="entr" presetID="53" presetSubtype="16">
                                  <p:stCondLst>
                                    <p:cond delay="0"/>
                                  </p:stCondLst>
                                  <p:childTnLst>
                                    <p:set>
                                      <p:cBhvr>
                                        <p:cTn id="192" dur="1" fill="hold">
                                          <p:stCondLst>
                                            <p:cond delay="0"/>
                                          </p:stCondLst>
                                        </p:cTn>
                                        <p:tgtEl>
                                          <p:spTgt spid="2190"/>
                                        </p:tgtEl>
                                        <p:attrNameLst>
                                          <p:attrName>style.visibility</p:attrName>
                                        </p:attrNameLst>
                                      </p:cBhvr>
                                      <p:to>
                                        <p:strVal val="visible"/>
                                      </p:to>
                                    </p:set>
                                    <p:anim calcmode="lin" valueType="num">
                                      <p:cBhvr additive="repl">
                                        <p:cTn id="193" dur="500" fill="hold"/>
                                        <p:tgtEl>
                                          <p:spTgt spid="2190"/>
                                        </p:tgtEl>
                                        <p:attrNameLst>
                                          <p:attrName>ppt_w</p:attrName>
                                        </p:attrNameLst>
                                      </p:cBhvr>
                                      <p:tavLst>
                                        <p:tav tm="0">
                                          <p:val>
                                            <p:fltVal val="0"/>
                                          </p:val>
                                        </p:tav>
                                        <p:tav tm="100000">
                                          <p:val>
                                            <p:strVal val="#ppt_w"/>
                                          </p:val>
                                        </p:tav>
                                      </p:tavLst>
                                    </p:anim>
                                    <p:anim calcmode="lin" valueType="num">
                                      <p:cBhvr additive="repl">
                                        <p:cTn id="194" dur="500" fill="hold"/>
                                        <p:tgtEl>
                                          <p:spTgt spid="2190"/>
                                        </p:tgtEl>
                                        <p:attrNameLst>
                                          <p:attrName>ppt_h</p:attrName>
                                        </p:attrNameLst>
                                      </p:cBhvr>
                                      <p:tavLst>
                                        <p:tav tm="0">
                                          <p:val>
                                            <p:fltVal val="0"/>
                                          </p:val>
                                        </p:tav>
                                        <p:tav tm="100000">
                                          <p:val>
                                            <p:strVal val="#ppt_h"/>
                                          </p:val>
                                        </p:tav>
                                      </p:tavLst>
                                    </p:anim>
                                    <p:animEffect filter="fade" transition="in">
                                      <p:cBhvr additive="repl">
                                        <p:cTn id="195" dur="500"/>
                                        <p:tgtEl>
                                          <p:spTgt spid="2190"/>
                                        </p:tgtEl>
                                      </p:cBhvr>
                                    </p:animEffect>
                                  </p:childTnLst>
                                </p:cTn>
                              </p:par>
                            </p:childTnLst>
                          </p:cTn>
                        </p:par>
                        <p:par>
                          <p:cTn id="196" fill="hold">
                            <p:stCondLst>
                              <p:cond delay="6000"/>
                            </p:stCondLst>
                            <p:childTnLst>
                              <p:par>
                                <p:cTn id="197" dur="indefinite" nodeType="afterEffect" fill="hold" presetClass="entr" presetID="18" presetSubtype="3">
                                  <p:stCondLst>
                                    <p:cond delay="0"/>
                                  </p:stCondLst>
                                  <p:childTnLst>
                                    <p:set>
                                      <p:cBhvr>
                                        <p:cTn id="198" dur="1" fill="hold">
                                          <p:stCondLst>
                                            <p:cond delay="0"/>
                                          </p:stCondLst>
                                        </p:cTn>
                                        <p:tgtEl>
                                          <p:spTgt spid="2165"/>
                                        </p:tgtEl>
                                        <p:attrNameLst>
                                          <p:attrName>style.visibility</p:attrName>
                                        </p:attrNameLst>
                                      </p:cBhvr>
                                      <p:to>
                                        <p:strVal val="visible"/>
                                      </p:to>
                                    </p:set>
                                    <p:animEffect filter="strips(upRight)" transition="in">
                                      <p:cBhvr additive="repl">
                                        <p:cTn id="199" dur="500"/>
                                        <p:tgtEl>
                                          <p:spTgt spid="2165"/>
                                        </p:tgtEl>
                                      </p:cBhvr>
                                    </p:animEffect>
                                  </p:childTnLst>
                                </p:cTn>
                              </p:par>
                            </p:childTnLst>
                          </p:cTn>
                        </p:par>
                        <p:par>
                          <p:cTn id="200" fill="hold">
                            <p:stCondLst>
                              <p:cond delay="6500"/>
                            </p:stCondLst>
                            <p:childTnLst>
                              <p:par>
                                <p:cTn id="201" dur="indefinite" nodeType="afterEffect" fill="hold" presetClass="entr" presetID="42">
                                  <p:stCondLst>
                                    <p:cond delay="0"/>
                                  </p:stCondLst>
                                  <p:childTnLst>
                                    <p:set>
                                      <p:cBhvr>
                                        <p:cTn id="202" dur="1" fill="hold">
                                          <p:stCondLst>
                                            <p:cond delay="0"/>
                                          </p:stCondLst>
                                        </p:cTn>
                                        <p:tgtEl>
                                          <p:spTgt spid="2170"/>
                                        </p:tgtEl>
                                        <p:attrNameLst>
                                          <p:attrName>style.visibility</p:attrName>
                                        </p:attrNameLst>
                                      </p:cBhvr>
                                      <p:to>
                                        <p:strVal val="visible"/>
                                      </p:to>
                                    </p:set>
                                    <p:animEffect filter="fade" transition="in">
                                      <p:cBhvr additive="repl">
                                        <p:cTn id="203" dur="500"/>
                                        <p:tgtEl>
                                          <p:spTgt spid="2170"/>
                                        </p:tgtEl>
                                      </p:cBhvr>
                                    </p:animEffect>
                                    <p:anim calcmode="lin" valueType="num">
                                      <p:cBhvr additive="repl">
                                        <p:cTn id="204" dur="500" fill="hold"/>
                                        <p:tgtEl>
                                          <p:spTgt spid="2170"/>
                                        </p:tgtEl>
                                        <p:attrNameLst>
                                          <p:attrName>ppt_x</p:attrName>
                                        </p:attrNameLst>
                                      </p:cBhvr>
                                      <p:tavLst>
                                        <p:tav tm="0">
                                          <p:val>
                                            <p:strVal val="#ppt_x"/>
                                          </p:val>
                                        </p:tav>
                                        <p:tav tm="100000">
                                          <p:val>
                                            <p:strVal val="#ppt_x"/>
                                          </p:val>
                                        </p:tav>
                                      </p:tavLst>
                                    </p:anim>
                                    <p:anim calcmode="lin" valueType="num">
                                      <p:cBhvr additive="repl">
                                        <p:cTn id="205" dur="500" fill="hold"/>
                                        <p:tgtEl>
                                          <p:spTgt spid="2170"/>
                                        </p:tgtEl>
                                        <p:attrNameLst>
                                          <p:attrName>ppt_y</p:attrName>
                                        </p:attrNameLst>
                                      </p:cBhvr>
                                      <p:tavLst>
                                        <p:tav tm="0">
                                          <p:val>
                                            <p:strVal val="#ppt_y+.1"/>
                                          </p:val>
                                        </p:tav>
                                        <p:tav tm="100000">
                                          <p:val>
                                            <p:strVal val="#ppt_y"/>
                                          </p:val>
                                        </p:tav>
                                      </p:tavLst>
                                    </p:anim>
                                  </p:childTnLst>
                                </p:cTn>
                              </p:par>
                            </p:childTnLst>
                          </p:cTn>
                        </p:par>
                        <p:par>
                          <p:cTn id="206" fill="hold">
                            <p:stCondLst>
                              <p:cond delay="7000"/>
                            </p:stCondLst>
                            <p:childTnLst>
                              <p:par>
                                <p:cTn id="207" dur="indefinite" nodeType="afterEffect" fill="hold" presetClass="entr" presetID="53" presetSubtype="16">
                                  <p:stCondLst>
                                    <p:cond delay="0"/>
                                  </p:stCondLst>
                                  <p:childTnLst>
                                    <p:set>
                                      <p:cBhvr>
                                        <p:cTn id="208" dur="1" fill="hold">
                                          <p:stCondLst>
                                            <p:cond delay="0"/>
                                          </p:stCondLst>
                                        </p:cTn>
                                        <p:tgtEl>
                                          <p:spTgt spid="2168"/>
                                        </p:tgtEl>
                                        <p:attrNameLst>
                                          <p:attrName>style.visibility</p:attrName>
                                        </p:attrNameLst>
                                      </p:cBhvr>
                                      <p:to>
                                        <p:strVal val="visible"/>
                                      </p:to>
                                    </p:set>
                                    <p:anim calcmode="lin" valueType="num">
                                      <p:cBhvr additive="repl">
                                        <p:cTn id="209" dur="500" fill="hold"/>
                                        <p:tgtEl>
                                          <p:spTgt spid="2168"/>
                                        </p:tgtEl>
                                        <p:attrNameLst>
                                          <p:attrName>ppt_w</p:attrName>
                                        </p:attrNameLst>
                                      </p:cBhvr>
                                      <p:tavLst>
                                        <p:tav tm="0">
                                          <p:val>
                                            <p:fltVal val="0"/>
                                          </p:val>
                                        </p:tav>
                                        <p:tav tm="100000">
                                          <p:val>
                                            <p:strVal val="#ppt_w"/>
                                          </p:val>
                                        </p:tav>
                                      </p:tavLst>
                                    </p:anim>
                                    <p:anim calcmode="lin" valueType="num">
                                      <p:cBhvr additive="repl">
                                        <p:cTn id="210" dur="500" fill="hold"/>
                                        <p:tgtEl>
                                          <p:spTgt spid="2168"/>
                                        </p:tgtEl>
                                        <p:attrNameLst>
                                          <p:attrName>ppt_h</p:attrName>
                                        </p:attrNameLst>
                                      </p:cBhvr>
                                      <p:tavLst>
                                        <p:tav tm="0">
                                          <p:val>
                                            <p:fltVal val="0"/>
                                          </p:val>
                                        </p:tav>
                                        <p:tav tm="100000">
                                          <p:val>
                                            <p:strVal val="#ppt_h"/>
                                          </p:val>
                                        </p:tav>
                                      </p:tavLst>
                                    </p:anim>
                                    <p:animEffect filter="fade" transition="in">
                                      <p:cBhvr additive="repl">
                                        <p:cTn id="211" dur="500"/>
                                        <p:tgtEl>
                                          <p:spTgt spid="2168"/>
                                        </p:tgtEl>
                                      </p:cBhvr>
                                    </p:animEffect>
                                  </p:childTnLst>
                                </p:cTn>
                              </p:par>
                              <p:par>
                                <p:cTn id="212" dur="indefinite" nodeType="withEffect" fill="hold" presetClass="entr" presetID="53" presetSubtype="16">
                                  <p:stCondLst>
                                    <p:cond delay="0"/>
                                  </p:stCondLst>
                                  <p:childTnLst>
                                    <p:set>
                                      <p:cBhvr>
                                        <p:cTn id="213" dur="1" fill="hold">
                                          <p:stCondLst>
                                            <p:cond delay="0"/>
                                          </p:stCondLst>
                                        </p:cTn>
                                        <p:tgtEl>
                                          <p:spTgt spid="2199"/>
                                        </p:tgtEl>
                                        <p:attrNameLst>
                                          <p:attrName>style.visibility</p:attrName>
                                        </p:attrNameLst>
                                      </p:cBhvr>
                                      <p:to>
                                        <p:strVal val="visible"/>
                                      </p:to>
                                    </p:set>
                                    <p:anim calcmode="lin" valueType="num">
                                      <p:cBhvr additive="repl">
                                        <p:cTn id="214" dur="500" fill="hold"/>
                                        <p:tgtEl>
                                          <p:spTgt spid="2199"/>
                                        </p:tgtEl>
                                        <p:attrNameLst>
                                          <p:attrName>ppt_w</p:attrName>
                                        </p:attrNameLst>
                                      </p:cBhvr>
                                      <p:tavLst>
                                        <p:tav tm="0">
                                          <p:val>
                                            <p:fltVal val="0"/>
                                          </p:val>
                                        </p:tav>
                                        <p:tav tm="100000">
                                          <p:val>
                                            <p:strVal val="#ppt_w"/>
                                          </p:val>
                                        </p:tav>
                                      </p:tavLst>
                                    </p:anim>
                                    <p:anim calcmode="lin" valueType="num">
                                      <p:cBhvr additive="repl">
                                        <p:cTn id="215" dur="500" fill="hold"/>
                                        <p:tgtEl>
                                          <p:spTgt spid="2199"/>
                                        </p:tgtEl>
                                        <p:attrNameLst>
                                          <p:attrName>ppt_h</p:attrName>
                                        </p:attrNameLst>
                                      </p:cBhvr>
                                      <p:tavLst>
                                        <p:tav tm="0">
                                          <p:val>
                                            <p:fltVal val="0"/>
                                          </p:val>
                                        </p:tav>
                                        <p:tav tm="100000">
                                          <p:val>
                                            <p:strVal val="#ppt_h"/>
                                          </p:val>
                                        </p:tav>
                                      </p:tavLst>
                                    </p:anim>
                                    <p:animEffect filter="fade" transition="in">
                                      <p:cBhvr additive="repl">
                                        <p:cTn id="216" dur="500"/>
                                        <p:tgtEl>
                                          <p:spTgt spid="2199"/>
                                        </p:tgtEl>
                                      </p:cBhvr>
                                    </p:animEffect>
                                  </p:childTnLst>
                                </p:cTn>
                              </p:par>
                            </p:childTnLst>
                          </p:cTn>
                        </p:par>
                        <p:par>
                          <p:cTn id="217" fill="hold">
                            <p:stCondLst>
                              <p:cond delay="7500"/>
                            </p:stCondLst>
                            <p:childTnLst>
                              <p:par>
                                <p:cTn id="218" dur="indefinite" nodeType="afterEffect" fill="hold" presetClass="entr" presetID="18" presetSubtype="3">
                                  <p:stCondLst>
                                    <p:cond delay="0"/>
                                  </p:stCondLst>
                                  <p:childTnLst>
                                    <p:set>
                                      <p:cBhvr>
                                        <p:cTn id="219" dur="1" fill="hold">
                                          <p:stCondLst>
                                            <p:cond delay="0"/>
                                          </p:stCondLst>
                                        </p:cTn>
                                        <p:tgtEl>
                                          <p:spTgt spid="2162"/>
                                        </p:tgtEl>
                                        <p:attrNameLst>
                                          <p:attrName>style.visibility</p:attrName>
                                        </p:attrNameLst>
                                      </p:cBhvr>
                                      <p:to>
                                        <p:strVal val="visible"/>
                                      </p:to>
                                    </p:set>
                                    <p:animEffect filter="strips(upRight)" transition="in">
                                      <p:cBhvr additive="repl">
                                        <p:cTn id="220" dur="500"/>
                                        <p:tgtEl>
                                          <p:spTgt spid="2162"/>
                                        </p:tgtEl>
                                      </p:cBhvr>
                                    </p:animEffect>
                                  </p:childTnLst>
                                </p:cTn>
                              </p:par>
                            </p:childTnLst>
                          </p:cTn>
                        </p:par>
                        <p:par>
                          <p:cTn id="221" fill="hold">
                            <p:stCondLst>
                              <p:cond delay="8000"/>
                            </p:stCondLst>
                            <p:childTnLst>
                              <p:par>
                                <p:cTn id="222" dur="indefinite" nodeType="afterEffect" fill="hold" presetClass="entr" presetID="53" presetSubtype="16">
                                  <p:stCondLst>
                                    <p:cond delay="0"/>
                                  </p:stCondLst>
                                  <p:childTnLst>
                                    <p:set>
                                      <p:cBhvr>
                                        <p:cTn id="223" dur="1" fill="hold">
                                          <p:stCondLst>
                                            <p:cond delay="0"/>
                                          </p:stCondLst>
                                        </p:cTn>
                                        <p:tgtEl>
                                          <p:spTgt spid="2169"/>
                                        </p:tgtEl>
                                        <p:attrNameLst>
                                          <p:attrName>style.visibility</p:attrName>
                                        </p:attrNameLst>
                                      </p:cBhvr>
                                      <p:to>
                                        <p:strVal val="visible"/>
                                      </p:to>
                                    </p:set>
                                    <p:anim calcmode="lin" valueType="num">
                                      <p:cBhvr additive="repl">
                                        <p:cTn id="224" dur="500" fill="hold"/>
                                        <p:tgtEl>
                                          <p:spTgt spid="2169"/>
                                        </p:tgtEl>
                                        <p:attrNameLst>
                                          <p:attrName>ppt_w</p:attrName>
                                        </p:attrNameLst>
                                      </p:cBhvr>
                                      <p:tavLst>
                                        <p:tav tm="0">
                                          <p:val>
                                            <p:fltVal val="0"/>
                                          </p:val>
                                        </p:tav>
                                        <p:tav tm="100000">
                                          <p:val>
                                            <p:strVal val="#ppt_w"/>
                                          </p:val>
                                        </p:tav>
                                      </p:tavLst>
                                    </p:anim>
                                    <p:anim calcmode="lin" valueType="num">
                                      <p:cBhvr additive="repl">
                                        <p:cTn id="225" dur="500" fill="hold"/>
                                        <p:tgtEl>
                                          <p:spTgt spid="2169"/>
                                        </p:tgtEl>
                                        <p:attrNameLst>
                                          <p:attrName>ppt_h</p:attrName>
                                        </p:attrNameLst>
                                      </p:cBhvr>
                                      <p:tavLst>
                                        <p:tav tm="0">
                                          <p:val>
                                            <p:fltVal val="0"/>
                                          </p:val>
                                        </p:tav>
                                        <p:tav tm="100000">
                                          <p:val>
                                            <p:strVal val="#ppt_h"/>
                                          </p:val>
                                        </p:tav>
                                      </p:tavLst>
                                    </p:anim>
                                    <p:animEffect filter="fade" transition="in">
                                      <p:cBhvr additive="repl">
                                        <p:cTn id="226" dur="500"/>
                                        <p:tgtEl>
                                          <p:spTgt spid="2169"/>
                                        </p:tgtEl>
                                      </p:cBhvr>
                                    </p:animEffect>
                                  </p:childTnLst>
                                </p:cTn>
                              </p:par>
                              <p:par>
                                <p:cTn id="227" dur="indefinite" nodeType="withEffect" fill="hold" presetClass="entr" presetID="53" presetSubtype="16">
                                  <p:stCondLst>
                                    <p:cond delay="0"/>
                                  </p:stCondLst>
                                  <p:childTnLst>
                                    <p:set>
                                      <p:cBhvr>
                                        <p:cTn id="228" dur="1" fill="hold">
                                          <p:stCondLst>
                                            <p:cond delay="0"/>
                                          </p:stCondLst>
                                        </p:cTn>
                                        <p:tgtEl>
                                          <p:spTgt spid="2187"/>
                                        </p:tgtEl>
                                        <p:attrNameLst>
                                          <p:attrName>style.visibility</p:attrName>
                                        </p:attrNameLst>
                                      </p:cBhvr>
                                      <p:to>
                                        <p:strVal val="visible"/>
                                      </p:to>
                                    </p:set>
                                    <p:anim calcmode="lin" valueType="num">
                                      <p:cBhvr additive="repl">
                                        <p:cTn id="229" dur="500" fill="hold"/>
                                        <p:tgtEl>
                                          <p:spTgt spid="2187"/>
                                        </p:tgtEl>
                                        <p:attrNameLst>
                                          <p:attrName>ppt_w</p:attrName>
                                        </p:attrNameLst>
                                      </p:cBhvr>
                                      <p:tavLst>
                                        <p:tav tm="0">
                                          <p:val>
                                            <p:fltVal val="0"/>
                                          </p:val>
                                        </p:tav>
                                        <p:tav tm="100000">
                                          <p:val>
                                            <p:strVal val="#ppt_w"/>
                                          </p:val>
                                        </p:tav>
                                      </p:tavLst>
                                    </p:anim>
                                    <p:anim calcmode="lin" valueType="num">
                                      <p:cBhvr additive="repl">
                                        <p:cTn id="230" dur="500" fill="hold"/>
                                        <p:tgtEl>
                                          <p:spTgt spid="2187"/>
                                        </p:tgtEl>
                                        <p:attrNameLst>
                                          <p:attrName>ppt_h</p:attrName>
                                        </p:attrNameLst>
                                      </p:cBhvr>
                                      <p:tavLst>
                                        <p:tav tm="0">
                                          <p:val>
                                            <p:fltVal val="0"/>
                                          </p:val>
                                        </p:tav>
                                        <p:tav tm="100000">
                                          <p:val>
                                            <p:strVal val="#ppt_h"/>
                                          </p:val>
                                        </p:tav>
                                      </p:tavLst>
                                    </p:anim>
                                    <p:animEffect filter="fade" transition="in">
                                      <p:cBhvr additive="repl">
                                        <p:cTn id="231" dur="500"/>
                                        <p:tgtEl>
                                          <p:spTgt spid="2187"/>
                                        </p:tgtEl>
                                      </p:cBhvr>
                                    </p:animEffect>
                                  </p:childTnLst>
                                </p:cTn>
                              </p:par>
                            </p:childTnLst>
                          </p:cTn>
                        </p:par>
                        <p:par>
                          <p:cTn id="232" fill="hold">
                            <p:stCondLst>
                              <p:cond delay="8500"/>
                            </p:stCondLst>
                            <p:childTnLst>
                              <p:par>
                                <p:cTn id="233" dur="indefinite" nodeType="afterEffect" fill="hold" presetClass="entr" presetID="18" presetSubtype="3">
                                  <p:stCondLst>
                                    <p:cond delay="0"/>
                                  </p:stCondLst>
                                  <p:childTnLst>
                                    <p:set>
                                      <p:cBhvr>
                                        <p:cTn id="234" dur="1" fill="hold">
                                          <p:stCondLst>
                                            <p:cond delay="0"/>
                                          </p:stCondLst>
                                        </p:cTn>
                                        <p:tgtEl>
                                          <p:spTgt spid="2161"/>
                                        </p:tgtEl>
                                        <p:attrNameLst>
                                          <p:attrName>style.visibility</p:attrName>
                                        </p:attrNameLst>
                                      </p:cBhvr>
                                      <p:to>
                                        <p:strVal val="visible"/>
                                      </p:to>
                                    </p:set>
                                    <p:animEffect filter="strips(upRight)" transition="in">
                                      <p:cBhvr additive="repl">
                                        <p:cTn id="235" dur="500"/>
                                        <p:tgtEl>
                                          <p:spTgt spid="2161"/>
                                        </p:tgtEl>
                                      </p:cBhvr>
                                    </p:animEffect>
                                  </p:childTnLst>
                                </p:cTn>
                              </p:par>
                            </p:childTnLst>
                          </p:cTn>
                        </p:par>
                        <p:par>
                          <p:cTn id="236" fill="hold">
                            <p:stCondLst>
                              <p:cond delay="9000"/>
                            </p:stCondLst>
                            <p:childTnLst>
                              <p:par>
                                <p:cTn id="237" dur="indefinite" nodeType="afterEffect" fill="hold" presetClass="entr" presetID="53" presetSubtype="16">
                                  <p:stCondLst>
                                    <p:cond delay="0"/>
                                  </p:stCondLst>
                                  <p:childTnLst>
                                    <p:set>
                                      <p:cBhvr>
                                        <p:cTn id="238" dur="1" fill="hold">
                                          <p:stCondLst>
                                            <p:cond delay="0"/>
                                          </p:stCondLst>
                                        </p:cTn>
                                        <p:tgtEl>
                                          <p:spTgt spid="2173"/>
                                        </p:tgtEl>
                                        <p:attrNameLst>
                                          <p:attrName>style.visibility</p:attrName>
                                        </p:attrNameLst>
                                      </p:cBhvr>
                                      <p:to>
                                        <p:strVal val="visible"/>
                                      </p:to>
                                    </p:set>
                                    <p:anim calcmode="lin" valueType="num">
                                      <p:cBhvr additive="repl">
                                        <p:cTn id="239" dur="500" fill="hold"/>
                                        <p:tgtEl>
                                          <p:spTgt spid="2173"/>
                                        </p:tgtEl>
                                        <p:attrNameLst>
                                          <p:attrName>ppt_w</p:attrName>
                                        </p:attrNameLst>
                                      </p:cBhvr>
                                      <p:tavLst>
                                        <p:tav tm="0">
                                          <p:val>
                                            <p:fltVal val="0"/>
                                          </p:val>
                                        </p:tav>
                                        <p:tav tm="100000">
                                          <p:val>
                                            <p:strVal val="#ppt_w"/>
                                          </p:val>
                                        </p:tav>
                                      </p:tavLst>
                                    </p:anim>
                                    <p:anim calcmode="lin" valueType="num">
                                      <p:cBhvr additive="repl">
                                        <p:cTn id="240" dur="500" fill="hold"/>
                                        <p:tgtEl>
                                          <p:spTgt spid="2173"/>
                                        </p:tgtEl>
                                        <p:attrNameLst>
                                          <p:attrName>ppt_h</p:attrName>
                                        </p:attrNameLst>
                                      </p:cBhvr>
                                      <p:tavLst>
                                        <p:tav tm="0">
                                          <p:val>
                                            <p:fltVal val="0"/>
                                          </p:val>
                                        </p:tav>
                                        <p:tav tm="100000">
                                          <p:val>
                                            <p:strVal val="#ppt_h"/>
                                          </p:val>
                                        </p:tav>
                                      </p:tavLst>
                                    </p:anim>
                                    <p:animEffect filter="fade" transition="in">
                                      <p:cBhvr additive="repl">
                                        <p:cTn id="241" dur="500"/>
                                        <p:tgtEl>
                                          <p:spTgt spid="2173"/>
                                        </p:tgtEl>
                                      </p:cBhvr>
                                    </p:animEffect>
                                  </p:childTnLst>
                                </p:cTn>
                              </p:par>
                              <p:par>
                                <p:cTn id="242" dur="indefinite" nodeType="withEffect" fill="hold" presetClass="entr" presetID="53" presetSubtype="16">
                                  <p:stCondLst>
                                    <p:cond delay="0"/>
                                  </p:stCondLst>
                                  <p:childTnLst>
                                    <p:set>
                                      <p:cBhvr>
                                        <p:cTn id="243" dur="1" fill="hold">
                                          <p:stCondLst>
                                            <p:cond delay="0"/>
                                          </p:stCondLst>
                                        </p:cTn>
                                        <p:tgtEl>
                                          <p:spTgt spid="2196"/>
                                        </p:tgtEl>
                                        <p:attrNameLst>
                                          <p:attrName>style.visibility</p:attrName>
                                        </p:attrNameLst>
                                      </p:cBhvr>
                                      <p:to>
                                        <p:strVal val="visible"/>
                                      </p:to>
                                    </p:set>
                                    <p:anim calcmode="lin" valueType="num">
                                      <p:cBhvr additive="repl">
                                        <p:cTn id="244" dur="500" fill="hold"/>
                                        <p:tgtEl>
                                          <p:spTgt spid="2196"/>
                                        </p:tgtEl>
                                        <p:attrNameLst>
                                          <p:attrName>ppt_w</p:attrName>
                                        </p:attrNameLst>
                                      </p:cBhvr>
                                      <p:tavLst>
                                        <p:tav tm="0">
                                          <p:val>
                                            <p:fltVal val="0"/>
                                          </p:val>
                                        </p:tav>
                                        <p:tav tm="100000">
                                          <p:val>
                                            <p:strVal val="#ppt_w"/>
                                          </p:val>
                                        </p:tav>
                                      </p:tavLst>
                                    </p:anim>
                                    <p:anim calcmode="lin" valueType="num">
                                      <p:cBhvr additive="repl">
                                        <p:cTn id="245" dur="500" fill="hold"/>
                                        <p:tgtEl>
                                          <p:spTgt spid="2196"/>
                                        </p:tgtEl>
                                        <p:attrNameLst>
                                          <p:attrName>ppt_h</p:attrName>
                                        </p:attrNameLst>
                                      </p:cBhvr>
                                      <p:tavLst>
                                        <p:tav tm="0">
                                          <p:val>
                                            <p:fltVal val="0"/>
                                          </p:val>
                                        </p:tav>
                                        <p:tav tm="100000">
                                          <p:val>
                                            <p:strVal val="#ppt_h"/>
                                          </p:val>
                                        </p:tav>
                                      </p:tavLst>
                                    </p:anim>
                                    <p:animEffect filter="fade" transition="in">
                                      <p:cBhvr additive="repl">
                                        <p:cTn id="246" dur="500"/>
                                        <p:tgtEl>
                                          <p:spTgt spid="2196"/>
                                        </p:tgtEl>
                                      </p:cBhvr>
                                    </p:animEffect>
                                  </p:childTnLst>
                                </p:cTn>
                              </p:par>
                            </p:childTnLst>
                          </p:cTn>
                        </p:par>
                        <p:par>
                          <p:cTn id="247" fill="hold">
                            <p:stCondLst>
                              <p:cond delay="9500"/>
                            </p:stCondLst>
                            <p:childTnLst>
                              <p:par>
                                <p:cTn id="248" dur="indefinite" nodeType="afterEffect" fill="hold" presetClass="entr" presetID="22" presetSubtype="8">
                                  <p:stCondLst>
                                    <p:cond delay="0"/>
                                  </p:stCondLst>
                                  <p:childTnLst>
                                    <p:set>
                                      <p:cBhvr>
                                        <p:cTn id="249" dur="1" fill="hold">
                                          <p:stCondLst>
                                            <p:cond delay="0"/>
                                          </p:stCondLst>
                                        </p:cTn>
                                        <p:tgtEl>
                                          <p:spTgt spid="2208"/>
                                        </p:tgtEl>
                                        <p:attrNameLst>
                                          <p:attrName>style.visibility</p:attrName>
                                        </p:attrNameLst>
                                      </p:cBhvr>
                                      <p:to>
                                        <p:strVal val="visible"/>
                                      </p:to>
                                    </p:set>
                                    <p:animEffect filter="wipe(left)" transition="in">
                                      <p:cBhvr additive="repl">
                                        <p:cTn id="250" dur="500"/>
                                        <p:tgtEl>
                                          <p:spTgt spid="2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Line 51"/>
          <p:cNvSpPr/>
          <p:nvPr/>
        </p:nvSpPr>
        <p:spPr>
          <a:xfrm flipH="1" flipV="1">
            <a:off x="5817960" y="2290680"/>
            <a:ext cx="4680" cy="308448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2" name="Freeform 52"/>
          <p:cNvSpPr/>
          <p:nvPr/>
        </p:nvSpPr>
        <p:spPr>
          <a:xfrm>
            <a:off x="6126120" y="4809960"/>
            <a:ext cx="612720" cy="576360"/>
          </a:xfrm>
          <a:custGeom>
            <a:avLst/>
            <a:gdLst/>
            <a:ahLst/>
            <a:rect l="l" t="t" r="r" b="b"/>
            <a:pathLst>
              <a:path w="343" h="322">
                <a:moveTo>
                  <a:pt x="0" y="322"/>
                </a:moveTo>
                <a:cubicBezTo>
                  <a:pt x="0" y="120"/>
                  <a:pt x="0" y="120"/>
                  <a:pt x="0" y="120"/>
                </a:cubicBezTo>
                <a:cubicBezTo>
                  <a:pt x="0" y="54"/>
                  <a:pt x="54" y="0"/>
                  <a:pt x="120" y="0"/>
                </a:cubicBezTo>
                <a:cubicBezTo>
                  <a:pt x="343" y="0"/>
                  <a:pt x="343" y="0"/>
                  <a:pt x="343"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3" name="Freeform 53"/>
          <p:cNvSpPr/>
          <p:nvPr/>
        </p:nvSpPr>
        <p:spPr>
          <a:xfrm>
            <a:off x="6040440" y="3843360"/>
            <a:ext cx="914400" cy="1243080"/>
          </a:xfrm>
          <a:custGeom>
            <a:avLst/>
            <a:gdLst/>
            <a:ahLst/>
            <a:rect l="l" t="t" r="r" b="b"/>
            <a:pathLst>
              <a:path w="905" h="633">
                <a:moveTo>
                  <a:pt x="0" y="633"/>
                </a:moveTo>
                <a:cubicBezTo>
                  <a:pt x="0" y="120"/>
                  <a:pt x="0" y="120"/>
                  <a:pt x="0" y="120"/>
                </a:cubicBezTo>
                <a:cubicBezTo>
                  <a:pt x="0" y="54"/>
                  <a:pt x="54" y="0"/>
                  <a:pt x="120" y="0"/>
                </a:cubicBezTo>
                <a:cubicBezTo>
                  <a:pt x="905" y="0"/>
                  <a:pt x="905" y="0"/>
                  <a:pt x="905"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4" name="Freeform 54"/>
          <p:cNvSpPr/>
          <p:nvPr/>
        </p:nvSpPr>
        <p:spPr>
          <a:xfrm>
            <a:off x="4548240" y="3932280"/>
            <a:ext cx="1049400" cy="1419120"/>
          </a:xfrm>
          <a:custGeom>
            <a:avLst/>
            <a:gdLst/>
            <a:ahLst/>
            <a:rect l="l" t="t" r="r" b="b"/>
            <a:pathLst>
              <a:path w="587" h="792">
                <a:moveTo>
                  <a:pt x="587" y="792"/>
                </a:moveTo>
                <a:cubicBezTo>
                  <a:pt x="587" y="120"/>
                  <a:pt x="587" y="120"/>
                  <a:pt x="587" y="120"/>
                </a:cubicBezTo>
                <a:cubicBezTo>
                  <a:pt x="587" y="54"/>
                  <a:pt x="533" y="0"/>
                  <a:pt x="467"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5" name="Freeform 55"/>
          <p:cNvSpPr/>
          <p:nvPr/>
        </p:nvSpPr>
        <p:spPr>
          <a:xfrm>
            <a:off x="3968640" y="4681440"/>
            <a:ext cx="1525680" cy="1086120"/>
          </a:xfrm>
          <a:custGeom>
            <a:avLst/>
            <a:gdLst/>
            <a:ahLst/>
            <a:rect l="l" t="t" r="r" b="b"/>
            <a:pathLst>
              <a:path w="853" h="607">
                <a:moveTo>
                  <a:pt x="853" y="607"/>
                </a:moveTo>
                <a:cubicBezTo>
                  <a:pt x="853" y="120"/>
                  <a:pt x="853" y="120"/>
                  <a:pt x="853" y="120"/>
                </a:cubicBezTo>
                <a:cubicBezTo>
                  <a:pt x="853" y="54"/>
                  <a:pt x="799" y="0"/>
                  <a:pt x="733"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6" name="Freeform 56"/>
          <p:cNvSpPr/>
          <p:nvPr/>
        </p:nvSpPr>
        <p:spPr>
          <a:xfrm>
            <a:off x="5940360" y="2727360"/>
            <a:ext cx="976320" cy="2359080"/>
          </a:xfrm>
          <a:custGeom>
            <a:avLst/>
            <a:gdLst/>
            <a:ahLst/>
            <a:rect l="l" t="t" r="r" b="b"/>
            <a:pathLst>
              <a:path w="558" h="634">
                <a:moveTo>
                  <a:pt x="0" y="634"/>
                </a:moveTo>
                <a:cubicBezTo>
                  <a:pt x="0" y="120"/>
                  <a:pt x="0" y="120"/>
                  <a:pt x="0" y="120"/>
                </a:cubicBezTo>
                <a:cubicBezTo>
                  <a:pt x="0" y="54"/>
                  <a:pt x="54" y="0"/>
                  <a:pt x="120" y="0"/>
                </a:cubicBezTo>
                <a:cubicBezTo>
                  <a:pt x="558" y="0"/>
                  <a:pt x="558" y="0"/>
                  <a:pt x="558"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7" name="Freeform 57"/>
          <p:cNvSpPr/>
          <p:nvPr/>
        </p:nvSpPr>
        <p:spPr>
          <a:xfrm>
            <a:off x="4579920" y="2719440"/>
            <a:ext cx="1138320" cy="2717640"/>
          </a:xfrm>
          <a:custGeom>
            <a:avLst/>
            <a:gdLst/>
            <a:ahLst/>
            <a:rect l="l" t="t" r="r" b="b"/>
            <a:pathLst>
              <a:path w="659" h="1322">
                <a:moveTo>
                  <a:pt x="659" y="1322"/>
                </a:moveTo>
                <a:cubicBezTo>
                  <a:pt x="659" y="120"/>
                  <a:pt x="659" y="120"/>
                  <a:pt x="659" y="120"/>
                </a:cubicBezTo>
                <a:cubicBezTo>
                  <a:pt x="659" y="54"/>
                  <a:pt x="605" y="0"/>
                  <a:pt x="540"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Oval 58"/>
          <p:cNvSpPr/>
          <p:nvPr/>
        </p:nvSpPr>
        <p:spPr>
          <a:xfrm>
            <a:off x="5180040" y="5019840"/>
            <a:ext cx="1322280" cy="1323720"/>
          </a:xfrm>
          <a:prstGeom prst="ellipse">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9" name="Oval 66"/>
          <p:cNvSpPr/>
          <p:nvPr/>
        </p:nvSpPr>
        <p:spPr>
          <a:xfrm>
            <a:off x="6172200" y="2708280"/>
            <a:ext cx="103320" cy="103320"/>
          </a:xfrm>
          <a:prstGeom prst="ellipse">
            <a:avLst/>
          </a:prstGeom>
          <a:solidFill>
            <a:srgbClr val="c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0" name="Oval 67"/>
          <p:cNvSpPr/>
          <p:nvPr/>
        </p:nvSpPr>
        <p:spPr>
          <a:xfrm>
            <a:off x="6230880" y="3773520"/>
            <a:ext cx="101520" cy="103320"/>
          </a:xfrm>
          <a:prstGeom prst="ellipse">
            <a:avLst/>
          </a:prstGeom>
          <a:solidFill>
            <a:srgbClr val="92d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1" name="Oval 68"/>
          <p:cNvSpPr/>
          <p:nvPr/>
        </p:nvSpPr>
        <p:spPr>
          <a:xfrm>
            <a:off x="6159600" y="4809960"/>
            <a:ext cx="1000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2" name="Oval 69"/>
          <p:cNvSpPr/>
          <p:nvPr/>
        </p:nvSpPr>
        <p:spPr>
          <a:xfrm>
            <a:off x="5757840" y="4000680"/>
            <a:ext cx="10008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3" name="Oval 70"/>
          <p:cNvSpPr/>
          <p:nvPr/>
        </p:nvSpPr>
        <p:spPr>
          <a:xfrm>
            <a:off x="6004080" y="4264200"/>
            <a:ext cx="10152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4" name="Oval 71"/>
          <p:cNvSpPr/>
          <p:nvPr/>
        </p:nvSpPr>
        <p:spPr>
          <a:xfrm>
            <a:off x="6545160" y="4879800"/>
            <a:ext cx="1018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5" name="Oval 72"/>
          <p:cNvSpPr/>
          <p:nvPr/>
        </p:nvSpPr>
        <p:spPr>
          <a:xfrm>
            <a:off x="5772240" y="2630520"/>
            <a:ext cx="98280" cy="103320"/>
          </a:xfrm>
          <a:prstGeom prst="ellipse">
            <a:avLst/>
          </a:prstGeom>
          <a:solidFill>
            <a:srgbClr val="00b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6" name="Oval 73"/>
          <p:cNvSpPr/>
          <p:nvPr/>
        </p:nvSpPr>
        <p:spPr>
          <a:xfrm>
            <a:off x="5446800" y="2681280"/>
            <a:ext cx="100080" cy="100080"/>
          </a:xfrm>
          <a:prstGeom prst="ellipse">
            <a:avLst/>
          </a:prstGeom>
          <a:solidFill>
            <a:srgbClr val="5555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Oval 74"/>
          <p:cNvSpPr/>
          <p:nvPr/>
        </p:nvSpPr>
        <p:spPr>
          <a:xfrm>
            <a:off x="5375160" y="3909960"/>
            <a:ext cx="100080" cy="103320"/>
          </a:xfrm>
          <a:prstGeom prst="ellipse">
            <a:avLst/>
          </a:prstGeom>
          <a:solidFill>
            <a:srgbClr val="ffc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Oval 75"/>
          <p:cNvSpPr/>
          <p:nvPr/>
        </p:nvSpPr>
        <p:spPr>
          <a:xfrm>
            <a:off x="4965840" y="4664160"/>
            <a:ext cx="99720" cy="100080"/>
          </a:xfrm>
          <a:prstGeom prst="ellipse">
            <a:avLst/>
          </a:prstGeom>
          <a:solidFill>
            <a:srgbClr val="5b9bd4"/>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9" name="Oval 76"/>
          <p:cNvSpPr/>
          <p:nvPr/>
        </p:nvSpPr>
        <p:spPr>
          <a:xfrm>
            <a:off x="5770440" y="5048280"/>
            <a:ext cx="103320" cy="101520"/>
          </a:xfrm>
          <a:prstGeom prst="ellipse">
            <a:avLst/>
          </a:prstGeom>
          <a:solidFill>
            <a:srgbClr val="bfbfb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0" name="Freeform 27"/>
          <p:cNvSpPr/>
          <p:nvPr/>
        </p:nvSpPr>
        <p:spPr>
          <a:xfrm>
            <a:off x="5494320" y="5176800"/>
            <a:ext cx="642960" cy="798480"/>
          </a:xfrm>
          <a:custGeom>
            <a:avLst/>
            <a:gdLst/>
            <a:ahLst/>
            <a:rect l="l" t="t" r="r" b="b"/>
            <a:pathLst>
              <a:path w="2659" h="3500">
                <a:moveTo>
                  <a:pt x="769" y="2381"/>
                </a:moveTo>
                <a:lnTo>
                  <a:pt x="739" y="2394"/>
                </a:lnTo>
                <a:lnTo>
                  <a:pt x="707" y="2403"/>
                </a:lnTo>
                <a:lnTo>
                  <a:pt x="676" y="2412"/>
                </a:lnTo>
                <a:lnTo>
                  <a:pt x="647" y="2418"/>
                </a:lnTo>
                <a:lnTo>
                  <a:pt x="618" y="2422"/>
                </a:lnTo>
                <a:lnTo>
                  <a:pt x="593" y="2426"/>
                </a:lnTo>
                <a:lnTo>
                  <a:pt x="572" y="2428"/>
                </a:lnTo>
                <a:lnTo>
                  <a:pt x="556" y="2429"/>
                </a:lnTo>
                <a:lnTo>
                  <a:pt x="544" y="2430"/>
                </a:lnTo>
                <a:lnTo>
                  <a:pt x="540" y="2430"/>
                </a:lnTo>
                <a:lnTo>
                  <a:pt x="492" y="2433"/>
                </a:lnTo>
                <a:lnTo>
                  <a:pt x="446" y="2442"/>
                </a:lnTo>
                <a:lnTo>
                  <a:pt x="402" y="2455"/>
                </a:lnTo>
                <a:lnTo>
                  <a:pt x="360" y="2474"/>
                </a:lnTo>
                <a:lnTo>
                  <a:pt x="322" y="2499"/>
                </a:lnTo>
                <a:lnTo>
                  <a:pt x="286" y="2526"/>
                </a:lnTo>
                <a:lnTo>
                  <a:pt x="254" y="2559"/>
                </a:lnTo>
                <a:lnTo>
                  <a:pt x="226" y="2594"/>
                </a:lnTo>
                <a:lnTo>
                  <a:pt x="202" y="2633"/>
                </a:lnTo>
                <a:lnTo>
                  <a:pt x="183" y="2675"/>
                </a:lnTo>
                <a:lnTo>
                  <a:pt x="169" y="2719"/>
                </a:lnTo>
                <a:lnTo>
                  <a:pt x="161" y="2765"/>
                </a:lnTo>
                <a:lnTo>
                  <a:pt x="158" y="2813"/>
                </a:lnTo>
                <a:lnTo>
                  <a:pt x="158" y="3342"/>
                </a:lnTo>
                <a:lnTo>
                  <a:pt x="2502" y="3342"/>
                </a:lnTo>
                <a:lnTo>
                  <a:pt x="2502" y="2813"/>
                </a:lnTo>
                <a:lnTo>
                  <a:pt x="2499" y="2765"/>
                </a:lnTo>
                <a:lnTo>
                  <a:pt x="2491" y="2719"/>
                </a:lnTo>
                <a:lnTo>
                  <a:pt x="2476" y="2675"/>
                </a:lnTo>
                <a:lnTo>
                  <a:pt x="2457" y="2633"/>
                </a:lnTo>
                <a:lnTo>
                  <a:pt x="2433" y="2594"/>
                </a:lnTo>
                <a:lnTo>
                  <a:pt x="2405" y="2559"/>
                </a:lnTo>
                <a:lnTo>
                  <a:pt x="2373" y="2526"/>
                </a:lnTo>
                <a:lnTo>
                  <a:pt x="2338" y="2499"/>
                </a:lnTo>
                <a:lnTo>
                  <a:pt x="2299" y="2474"/>
                </a:lnTo>
                <a:lnTo>
                  <a:pt x="2258" y="2455"/>
                </a:lnTo>
                <a:lnTo>
                  <a:pt x="2213" y="2442"/>
                </a:lnTo>
                <a:lnTo>
                  <a:pt x="2167" y="2433"/>
                </a:lnTo>
                <a:lnTo>
                  <a:pt x="2119" y="2430"/>
                </a:lnTo>
                <a:lnTo>
                  <a:pt x="2115" y="2430"/>
                </a:lnTo>
                <a:lnTo>
                  <a:pt x="2102" y="2430"/>
                </a:lnTo>
                <a:lnTo>
                  <a:pt x="2084" y="2428"/>
                </a:lnTo>
                <a:lnTo>
                  <a:pt x="2060" y="2426"/>
                </a:lnTo>
                <a:lnTo>
                  <a:pt x="2031" y="2421"/>
                </a:lnTo>
                <a:lnTo>
                  <a:pt x="1999" y="2415"/>
                </a:lnTo>
                <a:lnTo>
                  <a:pt x="1965" y="2407"/>
                </a:lnTo>
                <a:lnTo>
                  <a:pt x="1927" y="2396"/>
                </a:lnTo>
                <a:lnTo>
                  <a:pt x="1890" y="2381"/>
                </a:lnTo>
                <a:lnTo>
                  <a:pt x="1469" y="2981"/>
                </a:lnTo>
                <a:lnTo>
                  <a:pt x="1452" y="3003"/>
                </a:lnTo>
                <a:lnTo>
                  <a:pt x="1431" y="3021"/>
                </a:lnTo>
                <a:lnTo>
                  <a:pt x="1409" y="3034"/>
                </a:lnTo>
                <a:lnTo>
                  <a:pt x="1383" y="3045"/>
                </a:lnTo>
                <a:lnTo>
                  <a:pt x="1357" y="3051"/>
                </a:lnTo>
                <a:lnTo>
                  <a:pt x="1329" y="3055"/>
                </a:lnTo>
                <a:lnTo>
                  <a:pt x="1302" y="3051"/>
                </a:lnTo>
                <a:lnTo>
                  <a:pt x="1275" y="3045"/>
                </a:lnTo>
                <a:lnTo>
                  <a:pt x="1251" y="3034"/>
                </a:lnTo>
                <a:lnTo>
                  <a:pt x="1228" y="3021"/>
                </a:lnTo>
                <a:lnTo>
                  <a:pt x="1208" y="3003"/>
                </a:lnTo>
                <a:lnTo>
                  <a:pt x="1190" y="2981"/>
                </a:lnTo>
                <a:lnTo>
                  <a:pt x="769" y="2381"/>
                </a:lnTo>
                <a:close/>
                <a:moveTo>
                  <a:pt x="1135" y="1929"/>
                </a:moveTo>
                <a:lnTo>
                  <a:pt x="1121" y="1984"/>
                </a:lnTo>
                <a:lnTo>
                  <a:pt x="1103" y="2038"/>
                </a:lnTo>
                <a:lnTo>
                  <a:pt x="1080" y="2089"/>
                </a:lnTo>
                <a:lnTo>
                  <a:pt x="1053" y="2138"/>
                </a:lnTo>
                <a:lnTo>
                  <a:pt x="1021" y="2184"/>
                </a:lnTo>
                <a:lnTo>
                  <a:pt x="986" y="2226"/>
                </a:lnTo>
                <a:lnTo>
                  <a:pt x="947" y="2265"/>
                </a:lnTo>
                <a:lnTo>
                  <a:pt x="906" y="2302"/>
                </a:lnTo>
                <a:lnTo>
                  <a:pt x="1319" y="2890"/>
                </a:lnTo>
                <a:lnTo>
                  <a:pt x="1322" y="2893"/>
                </a:lnTo>
                <a:lnTo>
                  <a:pt x="1325" y="2895"/>
                </a:lnTo>
                <a:lnTo>
                  <a:pt x="1329" y="2897"/>
                </a:lnTo>
                <a:lnTo>
                  <a:pt x="1334" y="2895"/>
                </a:lnTo>
                <a:lnTo>
                  <a:pt x="1338" y="2893"/>
                </a:lnTo>
                <a:lnTo>
                  <a:pt x="1341" y="2890"/>
                </a:lnTo>
                <a:lnTo>
                  <a:pt x="1754" y="2302"/>
                </a:lnTo>
                <a:lnTo>
                  <a:pt x="1712" y="2265"/>
                </a:lnTo>
                <a:lnTo>
                  <a:pt x="1673" y="2226"/>
                </a:lnTo>
                <a:lnTo>
                  <a:pt x="1637" y="2184"/>
                </a:lnTo>
                <a:lnTo>
                  <a:pt x="1607" y="2138"/>
                </a:lnTo>
                <a:lnTo>
                  <a:pt x="1579" y="2089"/>
                </a:lnTo>
                <a:lnTo>
                  <a:pt x="1557" y="2038"/>
                </a:lnTo>
                <a:lnTo>
                  <a:pt x="1538" y="1985"/>
                </a:lnTo>
                <a:lnTo>
                  <a:pt x="1525" y="1929"/>
                </a:lnTo>
                <a:lnTo>
                  <a:pt x="1478" y="1945"/>
                </a:lnTo>
                <a:lnTo>
                  <a:pt x="1429" y="1956"/>
                </a:lnTo>
                <a:lnTo>
                  <a:pt x="1380" y="1962"/>
                </a:lnTo>
                <a:lnTo>
                  <a:pt x="1329" y="1964"/>
                </a:lnTo>
                <a:lnTo>
                  <a:pt x="1280" y="1962"/>
                </a:lnTo>
                <a:lnTo>
                  <a:pt x="1230" y="1955"/>
                </a:lnTo>
                <a:lnTo>
                  <a:pt x="1181" y="1944"/>
                </a:lnTo>
                <a:lnTo>
                  <a:pt x="1135" y="1929"/>
                </a:lnTo>
                <a:close/>
                <a:moveTo>
                  <a:pt x="992" y="806"/>
                </a:moveTo>
                <a:lnTo>
                  <a:pt x="964" y="867"/>
                </a:lnTo>
                <a:lnTo>
                  <a:pt x="931" y="925"/>
                </a:lnTo>
                <a:lnTo>
                  <a:pt x="895" y="980"/>
                </a:lnTo>
                <a:lnTo>
                  <a:pt x="855" y="1032"/>
                </a:lnTo>
                <a:lnTo>
                  <a:pt x="811" y="1082"/>
                </a:lnTo>
                <a:lnTo>
                  <a:pt x="763" y="1127"/>
                </a:lnTo>
                <a:lnTo>
                  <a:pt x="773" y="1196"/>
                </a:lnTo>
                <a:lnTo>
                  <a:pt x="787" y="1263"/>
                </a:lnTo>
                <a:lnTo>
                  <a:pt x="805" y="1328"/>
                </a:lnTo>
                <a:lnTo>
                  <a:pt x="828" y="1390"/>
                </a:lnTo>
                <a:lnTo>
                  <a:pt x="854" y="1450"/>
                </a:lnTo>
                <a:lnTo>
                  <a:pt x="884" y="1506"/>
                </a:lnTo>
                <a:lnTo>
                  <a:pt x="917" y="1558"/>
                </a:lnTo>
                <a:lnTo>
                  <a:pt x="954" y="1608"/>
                </a:lnTo>
                <a:lnTo>
                  <a:pt x="994" y="1652"/>
                </a:lnTo>
                <a:lnTo>
                  <a:pt x="1037" y="1693"/>
                </a:lnTo>
                <a:lnTo>
                  <a:pt x="1082" y="1727"/>
                </a:lnTo>
                <a:lnTo>
                  <a:pt x="1129" y="1755"/>
                </a:lnTo>
                <a:lnTo>
                  <a:pt x="1178" y="1778"/>
                </a:lnTo>
                <a:lnTo>
                  <a:pt x="1228" y="1793"/>
                </a:lnTo>
                <a:lnTo>
                  <a:pt x="1279" y="1803"/>
                </a:lnTo>
                <a:lnTo>
                  <a:pt x="1329" y="1806"/>
                </a:lnTo>
                <a:lnTo>
                  <a:pt x="1382" y="1803"/>
                </a:lnTo>
                <a:lnTo>
                  <a:pt x="1433" y="1793"/>
                </a:lnTo>
                <a:lnTo>
                  <a:pt x="1482" y="1778"/>
                </a:lnTo>
                <a:lnTo>
                  <a:pt x="1529" y="1756"/>
                </a:lnTo>
                <a:lnTo>
                  <a:pt x="1576" y="1729"/>
                </a:lnTo>
                <a:lnTo>
                  <a:pt x="1619" y="1696"/>
                </a:lnTo>
                <a:lnTo>
                  <a:pt x="1661" y="1659"/>
                </a:lnTo>
                <a:lnTo>
                  <a:pt x="1700" y="1616"/>
                </a:lnTo>
                <a:lnTo>
                  <a:pt x="1736" y="1570"/>
                </a:lnTo>
                <a:lnTo>
                  <a:pt x="1769" y="1519"/>
                </a:lnTo>
                <a:lnTo>
                  <a:pt x="1798" y="1465"/>
                </a:lnTo>
                <a:lnTo>
                  <a:pt x="1826" y="1406"/>
                </a:lnTo>
                <a:lnTo>
                  <a:pt x="1849" y="1345"/>
                </a:lnTo>
                <a:lnTo>
                  <a:pt x="1868" y="1281"/>
                </a:lnTo>
                <a:lnTo>
                  <a:pt x="1883" y="1213"/>
                </a:lnTo>
                <a:lnTo>
                  <a:pt x="1895" y="1144"/>
                </a:lnTo>
                <a:lnTo>
                  <a:pt x="1902" y="1073"/>
                </a:lnTo>
                <a:lnTo>
                  <a:pt x="1904" y="999"/>
                </a:lnTo>
                <a:lnTo>
                  <a:pt x="1904" y="998"/>
                </a:lnTo>
                <a:lnTo>
                  <a:pt x="1889" y="972"/>
                </a:lnTo>
                <a:lnTo>
                  <a:pt x="1870" y="947"/>
                </a:lnTo>
                <a:lnTo>
                  <a:pt x="1849" y="927"/>
                </a:lnTo>
                <a:lnTo>
                  <a:pt x="1824" y="910"/>
                </a:lnTo>
                <a:lnTo>
                  <a:pt x="1795" y="897"/>
                </a:lnTo>
                <a:lnTo>
                  <a:pt x="1766" y="890"/>
                </a:lnTo>
                <a:lnTo>
                  <a:pt x="1734" y="887"/>
                </a:lnTo>
                <a:lnTo>
                  <a:pt x="1198" y="887"/>
                </a:lnTo>
                <a:lnTo>
                  <a:pt x="1158" y="885"/>
                </a:lnTo>
                <a:lnTo>
                  <a:pt x="1121" y="877"/>
                </a:lnTo>
                <a:lnTo>
                  <a:pt x="1084" y="865"/>
                </a:lnTo>
                <a:lnTo>
                  <a:pt x="1049" y="848"/>
                </a:lnTo>
                <a:lnTo>
                  <a:pt x="1016" y="827"/>
                </a:lnTo>
                <a:lnTo>
                  <a:pt x="992" y="806"/>
                </a:lnTo>
                <a:close/>
                <a:moveTo>
                  <a:pt x="1396" y="158"/>
                </a:moveTo>
                <a:lnTo>
                  <a:pt x="1344" y="160"/>
                </a:lnTo>
                <a:lnTo>
                  <a:pt x="1293" y="168"/>
                </a:lnTo>
                <a:lnTo>
                  <a:pt x="1243" y="180"/>
                </a:lnTo>
                <a:lnTo>
                  <a:pt x="1193" y="198"/>
                </a:lnTo>
                <a:lnTo>
                  <a:pt x="1145" y="221"/>
                </a:lnTo>
                <a:lnTo>
                  <a:pt x="1129" y="227"/>
                </a:lnTo>
                <a:lnTo>
                  <a:pt x="1112" y="230"/>
                </a:lnTo>
                <a:lnTo>
                  <a:pt x="1066" y="234"/>
                </a:lnTo>
                <a:lnTo>
                  <a:pt x="1021" y="244"/>
                </a:lnTo>
                <a:lnTo>
                  <a:pt x="978" y="260"/>
                </a:lnTo>
                <a:lnTo>
                  <a:pt x="936" y="281"/>
                </a:lnTo>
                <a:lnTo>
                  <a:pt x="896" y="305"/>
                </a:lnTo>
                <a:lnTo>
                  <a:pt x="860" y="335"/>
                </a:lnTo>
                <a:lnTo>
                  <a:pt x="828" y="368"/>
                </a:lnTo>
                <a:lnTo>
                  <a:pt x="797" y="405"/>
                </a:lnTo>
                <a:lnTo>
                  <a:pt x="769" y="445"/>
                </a:lnTo>
                <a:lnTo>
                  <a:pt x="746" y="489"/>
                </a:lnTo>
                <a:lnTo>
                  <a:pt x="725" y="536"/>
                </a:lnTo>
                <a:lnTo>
                  <a:pt x="708" y="584"/>
                </a:lnTo>
                <a:lnTo>
                  <a:pt x="695" y="635"/>
                </a:lnTo>
                <a:lnTo>
                  <a:pt x="686" y="688"/>
                </a:lnTo>
                <a:lnTo>
                  <a:pt x="681" y="742"/>
                </a:lnTo>
                <a:lnTo>
                  <a:pt x="679" y="798"/>
                </a:lnTo>
                <a:lnTo>
                  <a:pt x="682" y="854"/>
                </a:lnTo>
                <a:lnTo>
                  <a:pt x="689" y="911"/>
                </a:lnTo>
                <a:lnTo>
                  <a:pt x="701" y="968"/>
                </a:lnTo>
                <a:lnTo>
                  <a:pt x="742" y="923"/>
                </a:lnTo>
                <a:lnTo>
                  <a:pt x="778" y="873"/>
                </a:lnTo>
                <a:lnTo>
                  <a:pt x="810" y="821"/>
                </a:lnTo>
                <a:lnTo>
                  <a:pt x="838" y="766"/>
                </a:lnTo>
                <a:lnTo>
                  <a:pt x="860" y="708"/>
                </a:lnTo>
                <a:lnTo>
                  <a:pt x="878" y="649"/>
                </a:lnTo>
                <a:lnTo>
                  <a:pt x="886" y="630"/>
                </a:lnTo>
                <a:lnTo>
                  <a:pt x="896" y="613"/>
                </a:lnTo>
                <a:lnTo>
                  <a:pt x="911" y="599"/>
                </a:lnTo>
                <a:lnTo>
                  <a:pt x="927" y="589"/>
                </a:lnTo>
                <a:lnTo>
                  <a:pt x="946" y="581"/>
                </a:lnTo>
                <a:lnTo>
                  <a:pt x="966" y="577"/>
                </a:lnTo>
                <a:lnTo>
                  <a:pt x="986" y="578"/>
                </a:lnTo>
                <a:lnTo>
                  <a:pt x="1007" y="583"/>
                </a:lnTo>
                <a:lnTo>
                  <a:pt x="1024" y="592"/>
                </a:lnTo>
                <a:lnTo>
                  <a:pt x="1039" y="605"/>
                </a:lnTo>
                <a:lnTo>
                  <a:pt x="1052" y="619"/>
                </a:lnTo>
                <a:lnTo>
                  <a:pt x="1062" y="637"/>
                </a:lnTo>
                <a:lnTo>
                  <a:pt x="1074" y="662"/>
                </a:lnTo>
                <a:lnTo>
                  <a:pt x="1090" y="683"/>
                </a:lnTo>
                <a:lnTo>
                  <a:pt x="1110" y="700"/>
                </a:lnTo>
                <a:lnTo>
                  <a:pt x="1130" y="713"/>
                </a:lnTo>
                <a:lnTo>
                  <a:pt x="1152" y="722"/>
                </a:lnTo>
                <a:lnTo>
                  <a:pt x="1174" y="728"/>
                </a:lnTo>
                <a:lnTo>
                  <a:pt x="1198" y="730"/>
                </a:lnTo>
                <a:lnTo>
                  <a:pt x="1734" y="730"/>
                </a:lnTo>
                <a:lnTo>
                  <a:pt x="1780" y="733"/>
                </a:lnTo>
                <a:lnTo>
                  <a:pt x="1826" y="742"/>
                </a:lnTo>
                <a:lnTo>
                  <a:pt x="1868" y="757"/>
                </a:lnTo>
                <a:lnTo>
                  <a:pt x="1908" y="777"/>
                </a:lnTo>
                <a:lnTo>
                  <a:pt x="1945" y="803"/>
                </a:lnTo>
                <a:lnTo>
                  <a:pt x="1978" y="833"/>
                </a:lnTo>
                <a:lnTo>
                  <a:pt x="1979" y="801"/>
                </a:lnTo>
                <a:lnTo>
                  <a:pt x="1976" y="735"/>
                </a:lnTo>
                <a:lnTo>
                  <a:pt x="1968" y="671"/>
                </a:lnTo>
                <a:lnTo>
                  <a:pt x="1953" y="610"/>
                </a:lnTo>
                <a:lnTo>
                  <a:pt x="1934" y="550"/>
                </a:lnTo>
                <a:lnTo>
                  <a:pt x="1908" y="494"/>
                </a:lnTo>
                <a:lnTo>
                  <a:pt x="1880" y="441"/>
                </a:lnTo>
                <a:lnTo>
                  <a:pt x="1846" y="391"/>
                </a:lnTo>
                <a:lnTo>
                  <a:pt x="1808" y="346"/>
                </a:lnTo>
                <a:lnTo>
                  <a:pt x="1767" y="304"/>
                </a:lnTo>
                <a:lnTo>
                  <a:pt x="1722" y="267"/>
                </a:lnTo>
                <a:lnTo>
                  <a:pt x="1673" y="235"/>
                </a:lnTo>
                <a:lnTo>
                  <a:pt x="1623" y="208"/>
                </a:lnTo>
                <a:lnTo>
                  <a:pt x="1569" y="187"/>
                </a:lnTo>
                <a:lnTo>
                  <a:pt x="1514" y="171"/>
                </a:lnTo>
                <a:lnTo>
                  <a:pt x="1455" y="161"/>
                </a:lnTo>
                <a:lnTo>
                  <a:pt x="1396" y="158"/>
                </a:lnTo>
                <a:close/>
                <a:moveTo>
                  <a:pt x="1396" y="0"/>
                </a:moveTo>
                <a:lnTo>
                  <a:pt x="1463" y="3"/>
                </a:lnTo>
                <a:lnTo>
                  <a:pt x="1528" y="13"/>
                </a:lnTo>
                <a:lnTo>
                  <a:pt x="1593" y="29"/>
                </a:lnTo>
                <a:lnTo>
                  <a:pt x="1654" y="50"/>
                </a:lnTo>
                <a:lnTo>
                  <a:pt x="1713" y="77"/>
                </a:lnTo>
                <a:lnTo>
                  <a:pt x="1770" y="109"/>
                </a:lnTo>
                <a:lnTo>
                  <a:pt x="1823" y="146"/>
                </a:lnTo>
                <a:lnTo>
                  <a:pt x="1872" y="189"/>
                </a:lnTo>
                <a:lnTo>
                  <a:pt x="1919" y="234"/>
                </a:lnTo>
                <a:lnTo>
                  <a:pt x="1962" y="285"/>
                </a:lnTo>
                <a:lnTo>
                  <a:pt x="2000" y="339"/>
                </a:lnTo>
                <a:lnTo>
                  <a:pt x="2035" y="397"/>
                </a:lnTo>
                <a:lnTo>
                  <a:pt x="2065" y="458"/>
                </a:lnTo>
                <a:lnTo>
                  <a:pt x="2090" y="522"/>
                </a:lnTo>
                <a:lnTo>
                  <a:pt x="2111" y="589"/>
                </a:lnTo>
                <a:lnTo>
                  <a:pt x="2124" y="657"/>
                </a:lnTo>
                <a:lnTo>
                  <a:pt x="2134" y="728"/>
                </a:lnTo>
                <a:lnTo>
                  <a:pt x="2137" y="801"/>
                </a:lnTo>
                <a:lnTo>
                  <a:pt x="2134" y="870"/>
                </a:lnTo>
                <a:lnTo>
                  <a:pt x="2126" y="937"/>
                </a:lnTo>
                <a:lnTo>
                  <a:pt x="2113" y="1003"/>
                </a:lnTo>
                <a:lnTo>
                  <a:pt x="2095" y="1068"/>
                </a:lnTo>
                <a:lnTo>
                  <a:pt x="2071" y="1131"/>
                </a:lnTo>
                <a:lnTo>
                  <a:pt x="2063" y="1147"/>
                </a:lnTo>
                <a:lnTo>
                  <a:pt x="2051" y="1158"/>
                </a:lnTo>
                <a:lnTo>
                  <a:pt x="2041" y="1230"/>
                </a:lnTo>
                <a:lnTo>
                  <a:pt x="2025" y="1300"/>
                </a:lnTo>
                <a:lnTo>
                  <a:pt x="2006" y="1368"/>
                </a:lnTo>
                <a:lnTo>
                  <a:pt x="1984" y="1435"/>
                </a:lnTo>
                <a:lnTo>
                  <a:pt x="1957" y="1499"/>
                </a:lnTo>
                <a:lnTo>
                  <a:pt x="1926" y="1559"/>
                </a:lnTo>
                <a:lnTo>
                  <a:pt x="1893" y="1617"/>
                </a:lnTo>
                <a:lnTo>
                  <a:pt x="1854" y="1673"/>
                </a:lnTo>
                <a:lnTo>
                  <a:pt x="1813" y="1726"/>
                </a:lnTo>
                <a:lnTo>
                  <a:pt x="1769" y="1772"/>
                </a:lnTo>
                <a:lnTo>
                  <a:pt x="1722" y="1815"/>
                </a:lnTo>
                <a:lnTo>
                  <a:pt x="1673" y="1853"/>
                </a:lnTo>
                <a:lnTo>
                  <a:pt x="1682" y="1904"/>
                </a:lnTo>
                <a:lnTo>
                  <a:pt x="1695" y="1952"/>
                </a:lnTo>
                <a:lnTo>
                  <a:pt x="1710" y="1995"/>
                </a:lnTo>
                <a:lnTo>
                  <a:pt x="1728" y="2033"/>
                </a:lnTo>
                <a:lnTo>
                  <a:pt x="1749" y="2069"/>
                </a:lnTo>
                <a:lnTo>
                  <a:pt x="1771" y="2100"/>
                </a:lnTo>
                <a:lnTo>
                  <a:pt x="1794" y="2129"/>
                </a:lnTo>
                <a:lnTo>
                  <a:pt x="1819" y="2153"/>
                </a:lnTo>
                <a:lnTo>
                  <a:pt x="1846" y="2175"/>
                </a:lnTo>
                <a:lnTo>
                  <a:pt x="1872" y="2194"/>
                </a:lnTo>
                <a:lnTo>
                  <a:pt x="1900" y="2210"/>
                </a:lnTo>
                <a:lnTo>
                  <a:pt x="1926" y="2224"/>
                </a:lnTo>
                <a:lnTo>
                  <a:pt x="1954" y="2236"/>
                </a:lnTo>
                <a:lnTo>
                  <a:pt x="1980" y="2245"/>
                </a:lnTo>
                <a:lnTo>
                  <a:pt x="2005" y="2254"/>
                </a:lnTo>
                <a:lnTo>
                  <a:pt x="2029" y="2259"/>
                </a:lnTo>
                <a:lnTo>
                  <a:pt x="2051" y="2264"/>
                </a:lnTo>
                <a:lnTo>
                  <a:pt x="2072" y="2268"/>
                </a:lnTo>
                <a:lnTo>
                  <a:pt x="2090" y="2270"/>
                </a:lnTo>
                <a:lnTo>
                  <a:pt x="2106" y="2272"/>
                </a:lnTo>
                <a:lnTo>
                  <a:pt x="2119" y="2272"/>
                </a:lnTo>
                <a:lnTo>
                  <a:pt x="2130" y="2273"/>
                </a:lnTo>
                <a:lnTo>
                  <a:pt x="2135" y="2273"/>
                </a:lnTo>
                <a:lnTo>
                  <a:pt x="2138" y="2273"/>
                </a:lnTo>
                <a:lnTo>
                  <a:pt x="2195" y="2278"/>
                </a:lnTo>
                <a:lnTo>
                  <a:pt x="2250" y="2289"/>
                </a:lnTo>
                <a:lnTo>
                  <a:pt x="2303" y="2305"/>
                </a:lnTo>
                <a:lnTo>
                  <a:pt x="2354" y="2326"/>
                </a:lnTo>
                <a:lnTo>
                  <a:pt x="2402" y="2352"/>
                </a:lnTo>
                <a:lnTo>
                  <a:pt x="2446" y="2383"/>
                </a:lnTo>
                <a:lnTo>
                  <a:pt x="2487" y="2418"/>
                </a:lnTo>
                <a:lnTo>
                  <a:pt x="2526" y="2457"/>
                </a:lnTo>
                <a:lnTo>
                  <a:pt x="2558" y="2500"/>
                </a:lnTo>
                <a:lnTo>
                  <a:pt x="2588" y="2545"/>
                </a:lnTo>
                <a:lnTo>
                  <a:pt x="2613" y="2594"/>
                </a:lnTo>
                <a:lnTo>
                  <a:pt x="2632" y="2646"/>
                </a:lnTo>
                <a:lnTo>
                  <a:pt x="2647" y="2699"/>
                </a:lnTo>
                <a:lnTo>
                  <a:pt x="2656" y="2755"/>
                </a:lnTo>
                <a:lnTo>
                  <a:pt x="2659" y="2813"/>
                </a:lnTo>
                <a:lnTo>
                  <a:pt x="2659" y="3422"/>
                </a:lnTo>
                <a:lnTo>
                  <a:pt x="2657" y="3442"/>
                </a:lnTo>
                <a:lnTo>
                  <a:pt x="2648" y="3461"/>
                </a:lnTo>
                <a:lnTo>
                  <a:pt x="2636" y="3477"/>
                </a:lnTo>
                <a:lnTo>
                  <a:pt x="2620" y="3489"/>
                </a:lnTo>
                <a:lnTo>
                  <a:pt x="2602" y="3497"/>
                </a:lnTo>
                <a:lnTo>
                  <a:pt x="2581" y="3500"/>
                </a:lnTo>
                <a:lnTo>
                  <a:pt x="78" y="3500"/>
                </a:lnTo>
                <a:lnTo>
                  <a:pt x="58" y="3497"/>
                </a:lnTo>
                <a:lnTo>
                  <a:pt x="39" y="3489"/>
                </a:lnTo>
                <a:lnTo>
                  <a:pt x="23" y="3477"/>
                </a:lnTo>
                <a:lnTo>
                  <a:pt x="11" y="3461"/>
                </a:lnTo>
                <a:lnTo>
                  <a:pt x="3" y="3442"/>
                </a:lnTo>
                <a:lnTo>
                  <a:pt x="0" y="3422"/>
                </a:lnTo>
                <a:lnTo>
                  <a:pt x="0" y="2813"/>
                </a:lnTo>
                <a:lnTo>
                  <a:pt x="3" y="2755"/>
                </a:lnTo>
                <a:lnTo>
                  <a:pt x="12" y="2699"/>
                </a:lnTo>
                <a:lnTo>
                  <a:pt x="26" y="2646"/>
                </a:lnTo>
                <a:lnTo>
                  <a:pt x="47" y="2594"/>
                </a:lnTo>
                <a:lnTo>
                  <a:pt x="71" y="2545"/>
                </a:lnTo>
                <a:lnTo>
                  <a:pt x="100" y="2500"/>
                </a:lnTo>
                <a:lnTo>
                  <a:pt x="134" y="2457"/>
                </a:lnTo>
                <a:lnTo>
                  <a:pt x="171" y="2418"/>
                </a:lnTo>
                <a:lnTo>
                  <a:pt x="213" y="2383"/>
                </a:lnTo>
                <a:lnTo>
                  <a:pt x="258" y="2352"/>
                </a:lnTo>
                <a:lnTo>
                  <a:pt x="306" y="2326"/>
                </a:lnTo>
                <a:lnTo>
                  <a:pt x="357" y="2305"/>
                </a:lnTo>
                <a:lnTo>
                  <a:pt x="410" y="2289"/>
                </a:lnTo>
                <a:lnTo>
                  <a:pt x="465" y="2278"/>
                </a:lnTo>
                <a:lnTo>
                  <a:pt x="522" y="2273"/>
                </a:lnTo>
                <a:lnTo>
                  <a:pt x="524" y="2273"/>
                </a:lnTo>
                <a:lnTo>
                  <a:pt x="530" y="2273"/>
                </a:lnTo>
                <a:lnTo>
                  <a:pt x="540" y="2272"/>
                </a:lnTo>
                <a:lnTo>
                  <a:pt x="552" y="2272"/>
                </a:lnTo>
                <a:lnTo>
                  <a:pt x="568" y="2270"/>
                </a:lnTo>
                <a:lnTo>
                  <a:pt x="586" y="2268"/>
                </a:lnTo>
                <a:lnTo>
                  <a:pt x="608" y="2264"/>
                </a:lnTo>
                <a:lnTo>
                  <a:pt x="630" y="2259"/>
                </a:lnTo>
                <a:lnTo>
                  <a:pt x="654" y="2254"/>
                </a:lnTo>
                <a:lnTo>
                  <a:pt x="679" y="2245"/>
                </a:lnTo>
                <a:lnTo>
                  <a:pt x="706" y="2236"/>
                </a:lnTo>
                <a:lnTo>
                  <a:pt x="732" y="2224"/>
                </a:lnTo>
                <a:lnTo>
                  <a:pt x="760" y="2210"/>
                </a:lnTo>
                <a:lnTo>
                  <a:pt x="786" y="2194"/>
                </a:lnTo>
                <a:lnTo>
                  <a:pt x="814" y="2175"/>
                </a:lnTo>
                <a:lnTo>
                  <a:pt x="839" y="2153"/>
                </a:lnTo>
                <a:lnTo>
                  <a:pt x="865" y="2129"/>
                </a:lnTo>
                <a:lnTo>
                  <a:pt x="889" y="2100"/>
                </a:lnTo>
                <a:lnTo>
                  <a:pt x="911" y="2068"/>
                </a:lnTo>
                <a:lnTo>
                  <a:pt x="931" y="2033"/>
                </a:lnTo>
                <a:lnTo>
                  <a:pt x="949" y="1994"/>
                </a:lnTo>
                <a:lnTo>
                  <a:pt x="964" y="1952"/>
                </a:lnTo>
                <a:lnTo>
                  <a:pt x="977" y="1904"/>
                </a:lnTo>
                <a:lnTo>
                  <a:pt x="986" y="1852"/>
                </a:lnTo>
                <a:lnTo>
                  <a:pt x="935" y="1812"/>
                </a:lnTo>
                <a:lnTo>
                  <a:pt x="885" y="1767"/>
                </a:lnTo>
                <a:lnTo>
                  <a:pt x="839" y="1716"/>
                </a:lnTo>
                <a:lnTo>
                  <a:pt x="796" y="1661"/>
                </a:lnTo>
                <a:lnTo>
                  <a:pt x="757" y="1602"/>
                </a:lnTo>
                <a:lnTo>
                  <a:pt x="722" y="1538"/>
                </a:lnTo>
                <a:lnTo>
                  <a:pt x="690" y="1470"/>
                </a:lnTo>
                <a:lnTo>
                  <a:pt x="663" y="1398"/>
                </a:lnTo>
                <a:lnTo>
                  <a:pt x="640" y="1324"/>
                </a:lnTo>
                <a:lnTo>
                  <a:pt x="622" y="1245"/>
                </a:lnTo>
                <a:lnTo>
                  <a:pt x="609" y="1165"/>
                </a:lnTo>
                <a:lnTo>
                  <a:pt x="598" y="1152"/>
                </a:lnTo>
                <a:lnTo>
                  <a:pt x="591" y="1137"/>
                </a:lnTo>
                <a:lnTo>
                  <a:pt x="568" y="1078"/>
                </a:lnTo>
                <a:lnTo>
                  <a:pt x="550" y="1016"/>
                </a:lnTo>
                <a:lnTo>
                  <a:pt x="537" y="950"/>
                </a:lnTo>
                <a:lnTo>
                  <a:pt x="527" y="885"/>
                </a:lnTo>
                <a:lnTo>
                  <a:pt x="522" y="819"/>
                </a:lnTo>
                <a:lnTo>
                  <a:pt x="523" y="754"/>
                </a:lnTo>
                <a:lnTo>
                  <a:pt x="527" y="689"/>
                </a:lnTo>
                <a:lnTo>
                  <a:pt x="537" y="626"/>
                </a:lnTo>
                <a:lnTo>
                  <a:pt x="551" y="563"/>
                </a:lnTo>
                <a:lnTo>
                  <a:pt x="570" y="503"/>
                </a:lnTo>
                <a:lnTo>
                  <a:pt x="594" y="444"/>
                </a:lnTo>
                <a:lnTo>
                  <a:pt x="622" y="387"/>
                </a:lnTo>
                <a:lnTo>
                  <a:pt x="655" y="334"/>
                </a:lnTo>
                <a:lnTo>
                  <a:pt x="692" y="285"/>
                </a:lnTo>
                <a:lnTo>
                  <a:pt x="731" y="241"/>
                </a:lnTo>
                <a:lnTo>
                  <a:pt x="775" y="200"/>
                </a:lnTo>
                <a:lnTo>
                  <a:pt x="821" y="167"/>
                </a:lnTo>
                <a:lnTo>
                  <a:pt x="871" y="137"/>
                </a:lnTo>
                <a:lnTo>
                  <a:pt x="923" y="112"/>
                </a:lnTo>
                <a:lnTo>
                  <a:pt x="978" y="93"/>
                </a:lnTo>
                <a:lnTo>
                  <a:pt x="1032" y="81"/>
                </a:lnTo>
                <a:lnTo>
                  <a:pt x="1087" y="73"/>
                </a:lnTo>
                <a:lnTo>
                  <a:pt x="1146" y="47"/>
                </a:lnTo>
                <a:lnTo>
                  <a:pt x="1208" y="27"/>
                </a:lnTo>
                <a:lnTo>
                  <a:pt x="1269" y="12"/>
                </a:lnTo>
                <a:lnTo>
                  <a:pt x="1332" y="3"/>
                </a:lnTo>
                <a:lnTo>
                  <a:pt x="139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1" name="Inhaltsplatzhalter 4"/>
          <p:cNvSpPr/>
          <p:nvPr/>
        </p:nvSpPr>
        <p:spPr>
          <a:xfrm>
            <a:off x="266760" y="2075040"/>
            <a:ext cx="3840120" cy="82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3. </a:t>
            </a:r>
            <a:r>
              <a:rPr b="1" lang="zh-CN" sz="2400" spc="-1" strike="noStrike">
                <a:solidFill>
                  <a:srgbClr val="0070c0"/>
                </a:solidFill>
                <a:latin typeface="Arial"/>
                <a:ea typeface="宋体"/>
              </a:rPr>
              <a:t>审计工作中发现的问题。</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具体包括： （</a:t>
            </a:r>
            <a:r>
              <a:rPr b="1" lang="en-US" sz="2000" spc="-1" strike="noStrike">
                <a:solidFill>
                  <a:srgbClr val="000000"/>
                </a:solidFill>
                <a:latin typeface="Arial"/>
              </a:rPr>
              <a:t>1</a:t>
            </a:r>
            <a:r>
              <a:rPr b="1" lang="zh-CN" sz="2000" spc="-1" strike="noStrike">
                <a:solidFill>
                  <a:srgbClr val="000000"/>
                </a:solidFill>
                <a:latin typeface="Arial"/>
                <a:ea typeface="宋体"/>
              </a:rPr>
              <a:t>）注册会计师对被审计单位会计处理质量的看法。 （</a:t>
            </a:r>
            <a:r>
              <a:rPr b="1" lang="en-US" sz="2000" spc="-1" strike="noStrike">
                <a:solidFill>
                  <a:srgbClr val="000000"/>
                </a:solidFill>
                <a:latin typeface="Arial"/>
              </a:rPr>
              <a:t>2</a:t>
            </a:r>
            <a:r>
              <a:rPr b="1" lang="zh-CN" sz="2000" spc="-1" strike="noStrike">
                <a:solidFill>
                  <a:srgbClr val="000000"/>
                </a:solidFill>
                <a:latin typeface="Arial"/>
                <a:ea typeface="宋体"/>
              </a:rPr>
              <a:t>）审计工作中遇到的重大困难。（</a:t>
            </a:r>
            <a:r>
              <a:rPr b="1" lang="en-US" sz="2000" spc="-1" strike="noStrike">
                <a:solidFill>
                  <a:srgbClr val="000000"/>
                </a:solidFill>
                <a:latin typeface="Arial"/>
              </a:rPr>
              <a:t>3</a:t>
            </a:r>
            <a:r>
              <a:rPr b="1" lang="zh-CN" sz="2000" spc="-1" strike="noStrike">
                <a:solidFill>
                  <a:srgbClr val="000000"/>
                </a:solidFill>
                <a:latin typeface="Arial"/>
                <a:ea typeface="宋体"/>
              </a:rPr>
              <a:t>）尚未更正的错报，除非注册会计师认为这些错报明显不重要。 （</a:t>
            </a:r>
            <a:r>
              <a:rPr b="1" lang="en-US" sz="2000" spc="-1" strike="noStrike">
                <a:solidFill>
                  <a:srgbClr val="000000"/>
                </a:solidFill>
                <a:latin typeface="Arial"/>
              </a:rPr>
              <a:t>4</a:t>
            </a:r>
            <a:r>
              <a:rPr b="1" lang="zh-CN" sz="2000" spc="-1" strike="noStrike">
                <a:solidFill>
                  <a:srgbClr val="000000"/>
                </a:solidFill>
                <a:latin typeface="Arial"/>
                <a:ea typeface="宋体"/>
              </a:rPr>
              <a:t>）审计中发现的、根据职业判断认为重大且与治理层履行财务报告过程监 督责任直接相关的其他事项。</a:t>
            </a:r>
            <a:endParaRPr b="1" lang="en-US" sz="2000" spc="-1" strike="noStrike">
              <a:solidFill>
                <a:srgbClr val="000000"/>
              </a:solidFill>
              <a:latin typeface="Arial"/>
            </a:endParaRPr>
          </a:p>
        </p:txBody>
      </p:sp>
      <p:grpSp>
        <p:nvGrpSpPr>
          <p:cNvPr id="2232" name="Group 5"/>
          <p:cNvGrpSpPr/>
          <p:nvPr/>
        </p:nvGrpSpPr>
        <p:grpSpPr>
          <a:xfrm>
            <a:off x="4416480" y="3567240"/>
            <a:ext cx="709560" cy="750600"/>
            <a:chOff x="4416480" y="3567240"/>
            <a:chExt cx="709560" cy="750600"/>
          </a:xfrm>
        </p:grpSpPr>
        <p:sp>
          <p:nvSpPr>
            <p:cNvPr id="2233" name="Oval 64"/>
            <p:cNvSpPr/>
            <p:nvPr/>
          </p:nvSpPr>
          <p:spPr>
            <a:xfrm>
              <a:off x="4416480" y="3567240"/>
              <a:ext cx="709560" cy="750600"/>
            </a:xfrm>
            <a:prstGeom prst="ellipse">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34" name="Group 64"/>
            <p:cNvGrpSpPr/>
            <p:nvPr/>
          </p:nvGrpSpPr>
          <p:grpSpPr>
            <a:xfrm>
              <a:off x="0" y="0"/>
              <a:ext cx="0" cy="0"/>
              <a:chOff x="0" y="0"/>
              <a:chExt cx="0" cy="0"/>
            </a:xfrm>
          </p:grpSpPr>
        </p:grpSp>
      </p:grpSp>
      <p:grpSp>
        <p:nvGrpSpPr>
          <p:cNvPr id="2235" name="Group 9"/>
          <p:cNvGrpSpPr/>
          <p:nvPr/>
        </p:nvGrpSpPr>
        <p:grpSpPr>
          <a:xfrm>
            <a:off x="4538520" y="2468520"/>
            <a:ext cx="723960" cy="685800"/>
            <a:chOff x="4538520" y="2468520"/>
            <a:chExt cx="723960" cy="685800"/>
          </a:xfrm>
        </p:grpSpPr>
        <p:sp>
          <p:nvSpPr>
            <p:cNvPr id="2236" name="Oval 63"/>
            <p:cNvSpPr/>
            <p:nvPr/>
          </p:nvSpPr>
          <p:spPr>
            <a:xfrm>
              <a:off x="4538520" y="2468520"/>
              <a:ext cx="723960" cy="68580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7" name="Freeform 19"/>
            <p:cNvSpPr/>
            <p:nvPr/>
          </p:nvSpPr>
          <p:spPr>
            <a:xfrm>
              <a:off x="4671720" y="2616480"/>
              <a:ext cx="378360" cy="379800"/>
            </a:xfrm>
            <a:custGeom>
              <a:avLst/>
              <a:gdLst/>
              <a:ahLst/>
              <a:rect l="l" t="t" r="r" b="b"/>
              <a:pathLst>
                <a:path w="3184" h="3385">
                  <a:moveTo>
                    <a:pt x="2579" y="2364"/>
                  </a:moveTo>
                  <a:lnTo>
                    <a:pt x="2528" y="2367"/>
                  </a:lnTo>
                  <a:lnTo>
                    <a:pt x="2478" y="2377"/>
                  </a:lnTo>
                  <a:lnTo>
                    <a:pt x="2429" y="2392"/>
                  </a:lnTo>
                  <a:lnTo>
                    <a:pt x="2385" y="2413"/>
                  </a:lnTo>
                  <a:lnTo>
                    <a:pt x="2343" y="2439"/>
                  </a:lnTo>
                  <a:lnTo>
                    <a:pt x="2304" y="2469"/>
                  </a:lnTo>
                  <a:lnTo>
                    <a:pt x="2270" y="2504"/>
                  </a:lnTo>
                  <a:lnTo>
                    <a:pt x="2239" y="2542"/>
                  </a:lnTo>
                  <a:lnTo>
                    <a:pt x="2213" y="2584"/>
                  </a:lnTo>
                  <a:lnTo>
                    <a:pt x="2193" y="2630"/>
                  </a:lnTo>
                  <a:lnTo>
                    <a:pt x="2177" y="2677"/>
                  </a:lnTo>
                  <a:lnTo>
                    <a:pt x="2168" y="2727"/>
                  </a:lnTo>
                  <a:lnTo>
                    <a:pt x="2165" y="2779"/>
                  </a:lnTo>
                  <a:lnTo>
                    <a:pt x="2168" y="2831"/>
                  </a:lnTo>
                  <a:lnTo>
                    <a:pt x="2177" y="2882"/>
                  </a:lnTo>
                  <a:lnTo>
                    <a:pt x="2193" y="2929"/>
                  </a:lnTo>
                  <a:lnTo>
                    <a:pt x="2213" y="2975"/>
                  </a:lnTo>
                  <a:lnTo>
                    <a:pt x="2239" y="3017"/>
                  </a:lnTo>
                  <a:lnTo>
                    <a:pt x="2270" y="3055"/>
                  </a:lnTo>
                  <a:lnTo>
                    <a:pt x="2304" y="3090"/>
                  </a:lnTo>
                  <a:lnTo>
                    <a:pt x="2343" y="3120"/>
                  </a:lnTo>
                  <a:lnTo>
                    <a:pt x="2385" y="3146"/>
                  </a:lnTo>
                  <a:lnTo>
                    <a:pt x="2429" y="3166"/>
                  </a:lnTo>
                  <a:lnTo>
                    <a:pt x="2478" y="3182"/>
                  </a:lnTo>
                  <a:lnTo>
                    <a:pt x="2528" y="3191"/>
                  </a:lnTo>
                  <a:lnTo>
                    <a:pt x="2579" y="3195"/>
                  </a:lnTo>
                  <a:lnTo>
                    <a:pt x="2632" y="3191"/>
                  </a:lnTo>
                  <a:lnTo>
                    <a:pt x="2681" y="3182"/>
                  </a:lnTo>
                  <a:lnTo>
                    <a:pt x="2729" y="3166"/>
                  </a:lnTo>
                  <a:lnTo>
                    <a:pt x="2774" y="3146"/>
                  </a:lnTo>
                  <a:lnTo>
                    <a:pt x="2816" y="3120"/>
                  </a:lnTo>
                  <a:lnTo>
                    <a:pt x="2855" y="3090"/>
                  </a:lnTo>
                  <a:lnTo>
                    <a:pt x="2889" y="3055"/>
                  </a:lnTo>
                  <a:lnTo>
                    <a:pt x="2920" y="3017"/>
                  </a:lnTo>
                  <a:lnTo>
                    <a:pt x="2945" y="2975"/>
                  </a:lnTo>
                  <a:lnTo>
                    <a:pt x="2966" y="2929"/>
                  </a:lnTo>
                  <a:lnTo>
                    <a:pt x="2981" y="2882"/>
                  </a:lnTo>
                  <a:lnTo>
                    <a:pt x="2991" y="2831"/>
                  </a:lnTo>
                  <a:lnTo>
                    <a:pt x="2994" y="2779"/>
                  </a:lnTo>
                  <a:lnTo>
                    <a:pt x="2991" y="2727"/>
                  </a:lnTo>
                  <a:lnTo>
                    <a:pt x="2981" y="2677"/>
                  </a:lnTo>
                  <a:lnTo>
                    <a:pt x="2966" y="2630"/>
                  </a:lnTo>
                  <a:lnTo>
                    <a:pt x="2945" y="2584"/>
                  </a:lnTo>
                  <a:lnTo>
                    <a:pt x="2920" y="2542"/>
                  </a:lnTo>
                  <a:lnTo>
                    <a:pt x="2889" y="2504"/>
                  </a:lnTo>
                  <a:lnTo>
                    <a:pt x="2855" y="2469"/>
                  </a:lnTo>
                  <a:lnTo>
                    <a:pt x="2816" y="2439"/>
                  </a:lnTo>
                  <a:lnTo>
                    <a:pt x="2774" y="2413"/>
                  </a:lnTo>
                  <a:lnTo>
                    <a:pt x="2729" y="2392"/>
                  </a:lnTo>
                  <a:lnTo>
                    <a:pt x="2681" y="2377"/>
                  </a:lnTo>
                  <a:lnTo>
                    <a:pt x="2632" y="2367"/>
                  </a:lnTo>
                  <a:lnTo>
                    <a:pt x="2579" y="2364"/>
                  </a:lnTo>
                  <a:close/>
                  <a:moveTo>
                    <a:pt x="604" y="1277"/>
                  </a:moveTo>
                  <a:lnTo>
                    <a:pt x="553" y="1280"/>
                  </a:lnTo>
                  <a:lnTo>
                    <a:pt x="503" y="1289"/>
                  </a:lnTo>
                  <a:lnTo>
                    <a:pt x="454" y="1305"/>
                  </a:lnTo>
                  <a:lnTo>
                    <a:pt x="410" y="1325"/>
                  </a:lnTo>
                  <a:lnTo>
                    <a:pt x="368" y="1351"/>
                  </a:lnTo>
                  <a:lnTo>
                    <a:pt x="329" y="1382"/>
                  </a:lnTo>
                  <a:lnTo>
                    <a:pt x="295" y="1416"/>
                  </a:lnTo>
                  <a:lnTo>
                    <a:pt x="264" y="1455"/>
                  </a:lnTo>
                  <a:lnTo>
                    <a:pt x="238" y="1497"/>
                  </a:lnTo>
                  <a:lnTo>
                    <a:pt x="218" y="1543"/>
                  </a:lnTo>
                  <a:lnTo>
                    <a:pt x="202" y="1590"/>
                  </a:lnTo>
                  <a:lnTo>
                    <a:pt x="193" y="1640"/>
                  </a:lnTo>
                  <a:lnTo>
                    <a:pt x="190" y="1692"/>
                  </a:lnTo>
                  <a:lnTo>
                    <a:pt x="193" y="1744"/>
                  </a:lnTo>
                  <a:lnTo>
                    <a:pt x="202" y="1794"/>
                  </a:lnTo>
                  <a:lnTo>
                    <a:pt x="218" y="1842"/>
                  </a:lnTo>
                  <a:lnTo>
                    <a:pt x="238" y="1888"/>
                  </a:lnTo>
                  <a:lnTo>
                    <a:pt x="264" y="1929"/>
                  </a:lnTo>
                  <a:lnTo>
                    <a:pt x="295" y="1968"/>
                  </a:lnTo>
                  <a:lnTo>
                    <a:pt x="329" y="2002"/>
                  </a:lnTo>
                  <a:lnTo>
                    <a:pt x="368" y="2033"/>
                  </a:lnTo>
                  <a:lnTo>
                    <a:pt x="410" y="2059"/>
                  </a:lnTo>
                  <a:lnTo>
                    <a:pt x="454" y="2079"/>
                  </a:lnTo>
                  <a:lnTo>
                    <a:pt x="503" y="2095"/>
                  </a:lnTo>
                  <a:lnTo>
                    <a:pt x="553" y="2104"/>
                  </a:lnTo>
                  <a:lnTo>
                    <a:pt x="604" y="2107"/>
                  </a:lnTo>
                  <a:lnTo>
                    <a:pt x="656" y="2104"/>
                  </a:lnTo>
                  <a:lnTo>
                    <a:pt x="706" y="2095"/>
                  </a:lnTo>
                  <a:lnTo>
                    <a:pt x="754" y="2079"/>
                  </a:lnTo>
                  <a:lnTo>
                    <a:pt x="799" y="2059"/>
                  </a:lnTo>
                  <a:lnTo>
                    <a:pt x="841" y="2033"/>
                  </a:lnTo>
                  <a:lnTo>
                    <a:pt x="879" y="2002"/>
                  </a:lnTo>
                  <a:lnTo>
                    <a:pt x="914" y="1968"/>
                  </a:lnTo>
                  <a:lnTo>
                    <a:pt x="945" y="1929"/>
                  </a:lnTo>
                  <a:lnTo>
                    <a:pt x="970" y="1888"/>
                  </a:lnTo>
                  <a:lnTo>
                    <a:pt x="991" y="1842"/>
                  </a:lnTo>
                  <a:lnTo>
                    <a:pt x="1006" y="1794"/>
                  </a:lnTo>
                  <a:lnTo>
                    <a:pt x="1016" y="1744"/>
                  </a:lnTo>
                  <a:lnTo>
                    <a:pt x="1019" y="1692"/>
                  </a:lnTo>
                  <a:lnTo>
                    <a:pt x="1016" y="1640"/>
                  </a:lnTo>
                  <a:lnTo>
                    <a:pt x="1006" y="1590"/>
                  </a:lnTo>
                  <a:lnTo>
                    <a:pt x="991" y="1543"/>
                  </a:lnTo>
                  <a:lnTo>
                    <a:pt x="970" y="1497"/>
                  </a:lnTo>
                  <a:lnTo>
                    <a:pt x="945" y="1455"/>
                  </a:lnTo>
                  <a:lnTo>
                    <a:pt x="914" y="1416"/>
                  </a:lnTo>
                  <a:lnTo>
                    <a:pt x="880" y="1382"/>
                  </a:lnTo>
                  <a:lnTo>
                    <a:pt x="841" y="1351"/>
                  </a:lnTo>
                  <a:lnTo>
                    <a:pt x="799" y="1325"/>
                  </a:lnTo>
                  <a:lnTo>
                    <a:pt x="755" y="1305"/>
                  </a:lnTo>
                  <a:lnTo>
                    <a:pt x="706" y="1289"/>
                  </a:lnTo>
                  <a:lnTo>
                    <a:pt x="657" y="1280"/>
                  </a:lnTo>
                  <a:lnTo>
                    <a:pt x="604" y="1277"/>
                  </a:lnTo>
                  <a:close/>
                  <a:moveTo>
                    <a:pt x="2579" y="191"/>
                  </a:moveTo>
                  <a:lnTo>
                    <a:pt x="2528" y="194"/>
                  </a:lnTo>
                  <a:lnTo>
                    <a:pt x="2478" y="203"/>
                  </a:lnTo>
                  <a:lnTo>
                    <a:pt x="2430" y="219"/>
                  </a:lnTo>
                  <a:lnTo>
                    <a:pt x="2385" y="239"/>
                  </a:lnTo>
                  <a:lnTo>
                    <a:pt x="2343" y="265"/>
                  </a:lnTo>
                  <a:lnTo>
                    <a:pt x="2305" y="296"/>
                  </a:lnTo>
                  <a:lnTo>
                    <a:pt x="2270" y="331"/>
                  </a:lnTo>
                  <a:lnTo>
                    <a:pt x="2239" y="369"/>
                  </a:lnTo>
                  <a:lnTo>
                    <a:pt x="2213" y="411"/>
                  </a:lnTo>
                  <a:lnTo>
                    <a:pt x="2193" y="457"/>
                  </a:lnTo>
                  <a:lnTo>
                    <a:pt x="2177" y="504"/>
                  </a:lnTo>
                  <a:lnTo>
                    <a:pt x="2168" y="554"/>
                  </a:lnTo>
                  <a:lnTo>
                    <a:pt x="2165" y="606"/>
                  </a:lnTo>
                  <a:lnTo>
                    <a:pt x="2168" y="659"/>
                  </a:lnTo>
                  <a:lnTo>
                    <a:pt x="2177" y="708"/>
                  </a:lnTo>
                  <a:lnTo>
                    <a:pt x="2193" y="756"/>
                  </a:lnTo>
                  <a:lnTo>
                    <a:pt x="2213" y="802"/>
                  </a:lnTo>
                  <a:lnTo>
                    <a:pt x="2239" y="843"/>
                  </a:lnTo>
                  <a:lnTo>
                    <a:pt x="2270" y="882"/>
                  </a:lnTo>
                  <a:lnTo>
                    <a:pt x="2304" y="916"/>
                  </a:lnTo>
                  <a:lnTo>
                    <a:pt x="2343" y="947"/>
                  </a:lnTo>
                  <a:lnTo>
                    <a:pt x="2385" y="973"/>
                  </a:lnTo>
                  <a:lnTo>
                    <a:pt x="2429" y="993"/>
                  </a:lnTo>
                  <a:lnTo>
                    <a:pt x="2478" y="1009"/>
                  </a:lnTo>
                  <a:lnTo>
                    <a:pt x="2528" y="1018"/>
                  </a:lnTo>
                  <a:lnTo>
                    <a:pt x="2579" y="1021"/>
                  </a:lnTo>
                  <a:lnTo>
                    <a:pt x="2632" y="1018"/>
                  </a:lnTo>
                  <a:lnTo>
                    <a:pt x="2681" y="1009"/>
                  </a:lnTo>
                  <a:lnTo>
                    <a:pt x="2729" y="993"/>
                  </a:lnTo>
                  <a:lnTo>
                    <a:pt x="2774" y="973"/>
                  </a:lnTo>
                  <a:lnTo>
                    <a:pt x="2816" y="947"/>
                  </a:lnTo>
                  <a:lnTo>
                    <a:pt x="2855" y="916"/>
                  </a:lnTo>
                  <a:lnTo>
                    <a:pt x="2889" y="882"/>
                  </a:lnTo>
                  <a:lnTo>
                    <a:pt x="2920" y="843"/>
                  </a:lnTo>
                  <a:lnTo>
                    <a:pt x="2945" y="802"/>
                  </a:lnTo>
                  <a:lnTo>
                    <a:pt x="2966" y="756"/>
                  </a:lnTo>
                  <a:lnTo>
                    <a:pt x="2981" y="708"/>
                  </a:lnTo>
                  <a:lnTo>
                    <a:pt x="2991" y="659"/>
                  </a:lnTo>
                  <a:lnTo>
                    <a:pt x="2994" y="606"/>
                  </a:lnTo>
                  <a:lnTo>
                    <a:pt x="2991" y="554"/>
                  </a:lnTo>
                  <a:lnTo>
                    <a:pt x="2981" y="504"/>
                  </a:lnTo>
                  <a:lnTo>
                    <a:pt x="2966" y="457"/>
                  </a:lnTo>
                  <a:lnTo>
                    <a:pt x="2945" y="411"/>
                  </a:lnTo>
                  <a:lnTo>
                    <a:pt x="2920" y="369"/>
                  </a:lnTo>
                  <a:lnTo>
                    <a:pt x="2889" y="331"/>
                  </a:lnTo>
                  <a:lnTo>
                    <a:pt x="2855" y="296"/>
                  </a:lnTo>
                  <a:lnTo>
                    <a:pt x="2816" y="265"/>
                  </a:lnTo>
                  <a:lnTo>
                    <a:pt x="2774" y="239"/>
                  </a:lnTo>
                  <a:lnTo>
                    <a:pt x="2729" y="219"/>
                  </a:lnTo>
                  <a:lnTo>
                    <a:pt x="2681" y="203"/>
                  </a:lnTo>
                  <a:lnTo>
                    <a:pt x="2632" y="194"/>
                  </a:lnTo>
                  <a:lnTo>
                    <a:pt x="2579" y="191"/>
                  </a:lnTo>
                  <a:close/>
                  <a:moveTo>
                    <a:pt x="2578" y="0"/>
                  </a:moveTo>
                  <a:lnTo>
                    <a:pt x="2640" y="3"/>
                  </a:lnTo>
                  <a:lnTo>
                    <a:pt x="2701" y="13"/>
                  </a:lnTo>
                  <a:lnTo>
                    <a:pt x="2758" y="28"/>
                  </a:lnTo>
                  <a:lnTo>
                    <a:pt x="2814" y="48"/>
                  </a:lnTo>
                  <a:lnTo>
                    <a:pt x="2866" y="73"/>
                  </a:lnTo>
                  <a:lnTo>
                    <a:pt x="2917" y="104"/>
                  </a:lnTo>
                  <a:lnTo>
                    <a:pt x="2963" y="138"/>
                  </a:lnTo>
                  <a:lnTo>
                    <a:pt x="3006" y="177"/>
                  </a:lnTo>
                  <a:lnTo>
                    <a:pt x="3045" y="221"/>
                  </a:lnTo>
                  <a:lnTo>
                    <a:pt x="3079" y="267"/>
                  </a:lnTo>
                  <a:lnTo>
                    <a:pt x="3110" y="318"/>
                  </a:lnTo>
                  <a:lnTo>
                    <a:pt x="3135" y="370"/>
                  </a:lnTo>
                  <a:lnTo>
                    <a:pt x="3155" y="426"/>
                  </a:lnTo>
                  <a:lnTo>
                    <a:pt x="3170" y="483"/>
                  </a:lnTo>
                  <a:lnTo>
                    <a:pt x="3180" y="543"/>
                  </a:lnTo>
                  <a:lnTo>
                    <a:pt x="3183" y="605"/>
                  </a:lnTo>
                  <a:lnTo>
                    <a:pt x="3180" y="667"/>
                  </a:lnTo>
                  <a:lnTo>
                    <a:pt x="3170" y="728"/>
                  </a:lnTo>
                  <a:lnTo>
                    <a:pt x="3155" y="785"/>
                  </a:lnTo>
                  <a:lnTo>
                    <a:pt x="3134" y="841"/>
                  </a:lnTo>
                  <a:lnTo>
                    <a:pt x="3110" y="893"/>
                  </a:lnTo>
                  <a:lnTo>
                    <a:pt x="3079" y="944"/>
                  </a:lnTo>
                  <a:lnTo>
                    <a:pt x="3044" y="990"/>
                  </a:lnTo>
                  <a:lnTo>
                    <a:pt x="3005" y="1034"/>
                  </a:lnTo>
                  <a:lnTo>
                    <a:pt x="2963" y="1073"/>
                  </a:lnTo>
                  <a:lnTo>
                    <a:pt x="2915" y="1107"/>
                  </a:lnTo>
                  <a:lnTo>
                    <a:pt x="2866" y="1138"/>
                  </a:lnTo>
                  <a:lnTo>
                    <a:pt x="2814" y="1163"/>
                  </a:lnTo>
                  <a:lnTo>
                    <a:pt x="2758" y="1183"/>
                  </a:lnTo>
                  <a:lnTo>
                    <a:pt x="2700" y="1198"/>
                  </a:lnTo>
                  <a:lnTo>
                    <a:pt x="2640" y="1208"/>
                  </a:lnTo>
                  <a:lnTo>
                    <a:pt x="2578" y="1211"/>
                  </a:lnTo>
                  <a:lnTo>
                    <a:pt x="2521" y="1208"/>
                  </a:lnTo>
                  <a:lnTo>
                    <a:pt x="2464" y="1199"/>
                  </a:lnTo>
                  <a:lnTo>
                    <a:pt x="2410" y="1186"/>
                  </a:lnTo>
                  <a:lnTo>
                    <a:pt x="2357" y="1169"/>
                  </a:lnTo>
                  <a:lnTo>
                    <a:pt x="2307" y="1146"/>
                  </a:lnTo>
                  <a:lnTo>
                    <a:pt x="2260" y="1119"/>
                  </a:lnTo>
                  <a:lnTo>
                    <a:pt x="2215" y="1088"/>
                  </a:lnTo>
                  <a:lnTo>
                    <a:pt x="2173" y="1053"/>
                  </a:lnTo>
                  <a:lnTo>
                    <a:pt x="2134" y="1015"/>
                  </a:lnTo>
                  <a:lnTo>
                    <a:pt x="2099" y="973"/>
                  </a:lnTo>
                  <a:lnTo>
                    <a:pt x="1173" y="1492"/>
                  </a:lnTo>
                  <a:lnTo>
                    <a:pt x="1187" y="1539"/>
                  </a:lnTo>
                  <a:lnTo>
                    <a:pt x="1199" y="1589"/>
                  </a:lnTo>
                  <a:lnTo>
                    <a:pt x="1205" y="1640"/>
                  </a:lnTo>
                  <a:lnTo>
                    <a:pt x="1207" y="1692"/>
                  </a:lnTo>
                  <a:lnTo>
                    <a:pt x="1205" y="1743"/>
                  </a:lnTo>
                  <a:lnTo>
                    <a:pt x="1199" y="1795"/>
                  </a:lnTo>
                  <a:lnTo>
                    <a:pt x="1187" y="1843"/>
                  </a:lnTo>
                  <a:lnTo>
                    <a:pt x="1173" y="1892"/>
                  </a:lnTo>
                  <a:lnTo>
                    <a:pt x="2101" y="2411"/>
                  </a:lnTo>
                  <a:lnTo>
                    <a:pt x="2136" y="2370"/>
                  </a:lnTo>
                  <a:lnTo>
                    <a:pt x="2174" y="2332"/>
                  </a:lnTo>
                  <a:lnTo>
                    <a:pt x="2216" y="2297"/>
                  </a:lnTo>
                  <a:lnTo>
                    <a:pt x="2262" y="2266"/>
                  </a:lnTo>
                  <a:lnTo>
                    <a:pt x="2309" y="2239"/>
                  </a:lnTo>
                  <a:lnTo>
                    <a:pt x="2359" y="2216"/>
                  </a:lnTo>
                  <a:lnTo>
                    <a:pt x="2412" y="2199"/>
                  </a:lnTo>
                  <a:lnTo>
                    <a:pt x="2465" y="2185"/>
                  </a:lnTo>
                  <a:lnTo>
                    <a:pt x="2522" y="2177"/>
                  </a:lnTo>
                  <a:lnTo>
                    <a:pt x="2579" y="2175"/>
                  </a:lnTo>
                  <a:lnTo>
                    <a:pt x="2641" y="2178"/>
                  </a:lnTo>
                  <a:lnTo>
                    <a:pt x="2701" y="2188"/>
                  </a:lnTo>
                  <a:lnTo>
                    <a:pt x="2759" y="2202"/>
                  </a:lnTo>
                  <a:lnTo>
                    <a:pt x="2815" y="2223"/>
                  </a:lnTo>
                  <a:lnTo>
                    <a:pt x="2867" y="2248"/>
                  </a:lnTo>
                  <a:lnTo>
                    <a:pt x="2918" y="2278"/>
                  </a:lnTo>
                  <a:lnTo>
                    <a:pt x="2964" y="2313"/>
                  </a:lnTo>
                  <a:lnTo>
                    <a:pt x="3007" y="2352"/>
                  </a:lnTo>
                  <a:lnTo>
                    <a:pt x="3046" y="2396"/>
                  </a:lnTo>
                  <a:lnTo>
                    <a:pt x="3080" y="2442"/>
                  </a:lnTo>
                  <a:lnTo>
                    <a:pt x="3111" y="2491"/>
                  </a:lnTo>
                  <a:lnTo>
                    <a:pt x="3137" y="2545"/>
                  </a:lnTo>
                  <a:lnTo>
                    <a:pt x="3157" y="2601"/>
                  </a:lnTo>
                  <a:lnTo>
                    <a:pt x="3171" y="2658"/>
                  </a:lnTo>
                  <a:lnTo>
                    <a:pt x="3181" y="2718"/>
                  </a:lnTo>
                  <a:lnTo>
                    <a:pt x="3184" y="2780"/>
                  </a:lnTo>
                  <a:lnTo>
                    <a:pt x="3181" y="2842"/>
                  </a:lnTo>
                  <a:lnTo>
                    <a:pt x="3171" y="2902"/>
                  </a:lnTo>
                  <a:lnTo>
                    <a:pt x="3157" y="2960"/>
                  </a:lnTo>
                  <a:lnTo>
                    <a:pt x="3137" y="3016"/>
                  </a:lnTo>
                  <a:lnTo>
                    <a:pt x="3111" y="3068"/>
                  </a:lnTo>
                  <a:lnTo>
                    <a:pt x="3081" y="3118"/>
                  </a:lnTo>
                  <a:lnTo>
                    <a:pt x="3046" y="3165"/>
                  </a:lnTo>
                  <a:lnTo>
                    <a:pt x="3007" y="3208"/>
                  </a:lnTo>
                  <a:lnTo>
                    <a:pt x="2964" y="3247"/>
                  </a:lnTo>
                  <a:lnTo>
                    <a:pt x="2918" y="3282"/>
                  </a:lnTo>
                  <a:lnTo>
                    <a:pt x="2868" y="3313"/>
                  </a:lnTo>
                  <a:lnTo>
                    <a:pt x="2815" y="3337"/>
                  </a:lnTo>
                  <a:lnTo>
                    <a:pt x="2759" y="3358"/>
                  </a:lnTo>
                  <a:lnTo>
                    <a:pt x="2702" y="3373"/>
                  </a:lnTo>
                  <a:lnTo>
                    <a:pt x="2642" y="3382"/>
                  </a:lnTo>
                  <a:lnTo>
                    <a:pt x="2580" y="3385"/>
                  </a:lnTo>
                  <a:lnTo>
                    <a:pt x="2519" y="3382"/>
                  </a:lnTo>
                  <a:lnTo>
                    <a:pt x="2458" y="3373"/>
                  </a:lnTo>
                  <a:lnTo>
                    <a:pt x="2400" y="3358"/>
                  </a:lnTo>
                  <a:lnTo>
                    <a:pt x="2345" y="3337"/>
                  </a:lnTo>
                  <a:lnTo>
                    <a:pt x="2292" y="3312"/>
                  </a:lnTo>
                  <a:lnTo>
                    <a:pt x="2243" y="3282"/>
                  </a:lnTo>
                  <a:lnTo>
                    <a:pt x="2196" y="3247"/>
                  </a:lnTo>
                  <a:lnTo>
                    <a:pt x="2154" y="3208"/>
                  </a:lnTo>
                  <a:lnTo>
                    <a:pt x="2115" y="3164"/>
                  </a:lnTo>
                  <a:lnTo>
                    <a:pt x="2080" y="3118"/>
                  </a:lnTo>
                  <a:lnTo>
                    <a:pt x="2049" y="3068"/>
                  </a:lnTo>
                  <a:lnTo>
                    <a:pt x="2024" y="3015"/>
                  </a:lnTo>
                  <a:lnTo>
                    <a:pt x="2004" y="2959"/>
                  </a:lnTo>
                  <a:lnTo>
                    <a:pt x="1988" y="2902"/>
                  </a:lnTo>
                  <a:lnTo>
                    <a:pt x="1979" y="2842"/>
                  </a:lnTo>
                  <a:lnTo>
                    <a:pt x="1976" y="2780"/>
                  </a:lnTo>
                  <a:lnTo>
                    <a:pt x="1979" y="2727"/>
                  </a:lnTo>
                  <a:lnTo>
                    <a:pt x="1985" y="2677"/>
                  </a:lnTo>
                  <a:lnTo>
                    <a:pt x="1996" y="2626"/>
                  </a:lnTo>
                  <a:lnTo>
                    <a:pt x="2012" y="2578"/>
                  </a:lnTo>
                  <a:lnTo>
                    <a:pt x="1085" y="2059"/>
                  </a:lnTo>
                  <a:lnTo>
                    <a:pt x="1050" y="2101"/>
                  </a:lnTo>
                  <a:lnTo>
                    <a:pt x="1011" y="2139"/>
                  </a:lnTo>
                  <a:lnTo>
                    <a:pt x="968" y="2174"/>
                  </a:lnTo>
                  <a:lnTo>
                    <a:pt x="924" y="2205"/>
                  </a:lnTo>
                  <a:lnTo>
                    <a:pt x="876" y="2233"/>
                  </a:lnTo>
                  <a:lnTo>
                    <a:pt x="825" y="2256"/>
                  </a:lnTo>
                  <a:lnTo>
                    <a:pt x="773" y="2273"/>
                  </a:lnTo>
                  <a:lnTo>
                    <a:pt x="719" y="2286"/>
                  </a:lnTo>
                  <a:lnTo>
                    <a:pt x="662" y="2295"/>
                  </a:lnTo>
                  <a:lnTo>
                    <a:pt x="604" y="2297"/>
                  </a:lnTo>
                  <a:lnTo>
                    <a:pt x="543" y="2294"/>
                  </a:lnTo>
                  <a:lnTo>
                    <a:pt x="483" y="2285"/>
                  </a:lnTo>
                  <a:lnTo>
                    <a:pt x="426" y="2270"/>
                  </a:lnTo>
                  <a:lnTo>
                    <a:pt x="370" y="2249"/>
                  </a:lnTo>
                  <a:lnTo>
                    <a:pt x="317" y="2225"/>
                  </a:lnTo>
                  <a:lnTo>
                    <a:pt x="267" y="2194"/>
                  </a:lnTo>
                  <a:lnTo>
                    <a:pt x="220" y="2159"/>
                  </a:lnTo>
                  <a:lnTo>
                    <a:pt x="178" y="2120"/>
                  </a:lnTo>
                  <a:lnTo>
                    <a:pt x="139" y="2077"/>
                  </a:lnTo>
                  <a:lnTo>
                    <a:pt x="104" y="2030"/>
                  </a:lnTo>
                  <a:lnTo>
                    <a:pt x="73" y="1980"/>
                  </a:lnTo>
                  <a:lnTo>
                    <a:pt x="47" y="1928"/>
                  </a:lnTo>
                  <a:lnTo>
                    <a:pt x="28" y="1872"/>
                  </a:lnTo>
                  <a:lnTo>
                    <a:pt x="12" y="1814"/>
                  </a:lnTo>
                  <a:lnTo>
                    <a:pt x="3" y="1754"/>
                  </a:lnTo>
                  <a:lnTo>
                    <a:pt x="0" y="1692"/>
                  </a:lnTo>
                  <a:lnTo>
                    <a:pt x="3" y="1630"/>
                  </a:lnTo>
                  <a:lnTo>
                    <a:pt x="12" y="1570"/>
                  </a:lnTo>
                  <a:lnTo>
                    <a:pt x="28" y="1513"/>
                  </a:lnTo>
                  <a:lnTo>
                    <a:pt x="47" y="1457"/>
                  </a:lnTo>
                  <a:lnTo>
                    <a:pt x="73" y="1403"/>
                  </a:lnTo>
                  <a:lnTo>
                    <a:pt x="104" y="1354"/>
                  </a:lnTo>
                  <a:lnTo>
                    <a:pt x="139" y="1308"/>
                  </a:lnTo>
                  <a:lnTo>
                    <a:pt x="177" y="1264"/>
                  </a:lnTo>
                  <a:lnTo>
                    <a:pt x="220" y="1225"/>
                  </a:lnTo>
                  <a:lnTo>
                    <a:pt x="266" y="1190"/>
                  </a:lnTo>
                  <a:lnTo>
                    <a:pt x="317" y="1160"/>
                  </a:lnTo>
                  <a:lnTo>
                    <a:pt x="369" y="1135"/>
                  </a:lnTo>
                  <a:lnTo>
                    <a:pt x="425" y="1114"/>
                  </a:lnTo>
                  <a:lnTo>
                    <a:pt x="482" y="1100"/>
                  </a:lnTo>
                  <a:lnTo>
                    <a:pt x="543" y="1090"/>
                  </a:lnTo>
                  <a:lnTo>
                    <a:pt x="603" y="1087"/>
                  </a:lnTo>
                  <a:lnTo>
                    <a:pt x="662" y="1089"/>
                  </a:lnTo>
                  <a:lnTo>
                    <a:pt x="718" y="1097"/>
                  </a:lnTo>
                  <a:lnTo>
                    <a:pt x="772" y="1111"/>
                  </a:lnTo>
                  <a:lnTo>
                    <a:pt x="825" y="1128"/>
                  </a:lnTo>
                  <a:lnTo>
                    <a:pt x="875" y="1151"/>
                  </a:lnTo>
                  <a:lnTo>
                    <a:pt x="923" y="1178"/>
                  </a:lnTo>
                  <a:lnTo>
                    <a:pt x="967" y="1210"/>
                  </a:lnTo>
                  <a:lnTo>
                    <a:pt x="1010" y="1244"/>
                  </a:lnTo>
                  <a:lnTo>
                    <a:pt x="1048" y="1283"/>
                  </a:lnTo>
                  <a:lnTo>
                    <a:pt x="1082" y="1324"/>
                  </a:lnTo>
                  <a:lnTo>
                    <a:pt x="2009" y="806"/>
                  </a:lnTo>
                  <a:lnTo>
                    <a:pt x="1994" y="758"/>
                  </a:lnTo>
                  <a:lnTo>
                    <a:pt x="1984" y="709"/>
                  </a:lnTo>
                  <a:lnTo>
                    <a:pt x="1977" y="658"/>
                  </a:lnTo>
                  <a:lnTo>
                    <a:pt x="1975" y="605"/>
                  </a:lnTo>
                  <a:lnTo>
                    <a:pt x="1978" y="543"/>
                  </a:lnTo>
                  <a:lnTo>
                    <a:pt x="1987" y="483"/>
                  </a:lnTo>
                  <a:lnTo>
                    <a:pt x="2002" y="426"/>
                  </a:lnTo>
                  <a:lnTo>
                    <a:pt x="2022" y="370"/>
                  </a:lnTo>
                  <a:lnTo>
                    <a:pt x="2048" y="318"/>
                  </a:lnTo>
                  <a:lnTo>
                    <a:pt x="2078" y="267"/>
                  </a:lnTo>
                  <a:lnTo>
                    <a:pt x="2113" y="221"/>
                  </a:lnTo>
                  <a:lnTo>
                    <a:pt x="2152" y="177"/>
                  </a:lnTo>
                  <a:lnTo>
                    <a:pt x="2195" y="138"/>
                  </a:lnTo>
                  <a:lnTo>
                    <a:pt x="2241" y="104"/>
                  </a:lnTo>
                  <a:lnTo>
                    <a:pt x="2291" y="73"/>
                  </a:lnTo>
                  <a:lnTo>
                    <a:pt x="2344" y="48"/>
                  </a:lnTo>
                  <a:lnTo>
                    <a:pt x="2399" y="28"/>
                  </a:lnTo>
                  <a:lnTo>
                    <a:pt x="2457" y="13"/>
                  </a:lnTo>
                  <a:lnTo>
                    <a:pt x="2517" y="3"/>
                  </a:lnTo>
                  <a:lnTo>
                    <a:pt x="25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38" name="Group 11"/>
          <p:cNvGrpSpPr/>
          <p:nvPr/>
        </p:nvGrpSpPr>
        <p:grpSpPr>
          <a:xfrm>
            <a:off x="6438960" y="3430440"/>
            <a:ext cx="703080" cy="731880"/>
            <a:chOff x="6438960" y="3430440"/>
            <a:chExt cx="703080" cy="731880"/>
          </a:xfrm>
        </p:grpSpPr>
        <p:sp>
          <p:nvSpPr>
            <p:cNvPr id="2239" name="Oval 60"/>
            <p:cNvSpPr/>
            <p:nvPr/>
          </p:nvSpPr>
          <p:spPr>
            <a:xfrm>
              <a:off x="6438960" y="3430440"/>
              <a:ext cx="703080" cy="731880"/>
            </a:xfrm>
            <a:prstGeom prst="ellipse">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0" name="Freeform 29"/>
            <p:cNvSpPr/>
            <p:nvPr/>
          </p:nvSpPr>
          <p:spPr>
            <a:xfrm>
              <a:off x="6574320" y="3555360"/>
              <a:ext cx="432000" cy="482040"/>
            </a:xfrm>
            <a:custGeom>
              <a:avLst/>
              <a:gdLst/>
              <a:ahLst/>
              <a:rect l="l" t="t" r="r" b="b"/>
              <a:pathLst>
                <a:path w="3187" h="3426">
                  <a:moveTo>
                    <a:pt x="2707" y="2847"/>
                  </a:moveTo>
                  <a:lnTo>
                    <a:pt x="2672" y="2850"/>
                  </a:lnTo>
                  <a:lnTo>
                    <a:pt x="2639" y="2860"/>
                  </a:lnTo>
                  <a:lnTo>
                    <a:pt x="2608" y="2874"/>
                  </a:lnTo>
                  <a:lnTo>
                    <a:pt x="2582" y="2893"/>
                  </a:lnTo>
                  <a:lnTo>
                    <a:pt x="2558" y="2917"/>
                  </a:lnTo>
                  <a:lnTo>
                    <a:pt x="2539" y="2943"/>
                  </a:lnTo>
                  <a:lnTo>
                    <a:pt x="2525" y="2973"/>
                  </a:lnTo>
                  <a:lnTo>
                    <a:pt x="2515" y="3007"/>
                  </a:lnTo>
                  <a:lnTo>
                    <a:pt x="2512" y="3041"/>
                  </a:lnTo>
                  <a:lnTo>
                    <a:pt x="2515" y="3075"/>
                  </a:lnTo>
                  <a:lnTo>
                    <a:pt x="2525" y="3108"/>
                  </a:lnTo>
                  <a:lnTo>
                    <a:pt x="2539" y="3138"/>
                  </a:lnTo>
                  <a:lnTo>
                    <a:pt x="2558" y="3165"/>
                  </a:lnTo>
                  <a:lnTo>
                    <a:pt x="2582" y="3189"/>
                  </a:lnTo>
                  <a:lnTo>
                    <a:pt x="2608" y="3208"/>
                  </a:lnTo>
                  <a:lnTo>
                    <a:pt x="2639" y="3222"/>
                  </a:lnTo>
                  <a:lnTo>
                    <a:pt x="2672" y="3232"/>
                  </a:lnTo>
                  <a:lnTo>
                    <a:pt x="2707" y="3235"/>
                  </a:lnTo>
                  <a:lnTo>
                    <a:pt x="2741" y="3232"/>
                  </a:lnTo>
                  <a:lnTo>
                    <a:pt x="2773" y="3222"/>
                  </a:lnTo>
                  <a:lnTo>
                    <a:pt x="2804" y="3208"/>
                  </a:lnTo>
                  <a:lnTo>
                    <a:pt x="2831" y="3189"/>
                  </a:lnTo>
                  <a:lnTo>
                    <a:pt x="2855" y="3166"/>
                  </a:lnTo>
                  <a:lnTo>
                    <a:pt x="2874" y="3139"/>
                  </a:lnTo>
                  <a:lnTo>
                    <a:pt x="2888" y="3109"/>
                  </a:lnTo>
                  <a:lnTo>
                    <a:pt x="2898" y="3075"/>
                  </a:lnTo>
                  <a:lnTo>
                    <a:pt x="2901" y="3041"/>
                  </a:lnTo>
                  <a:lnTo>
                    <a:pt x="2898" y="3006"/>
                  </a:lnTo>
                  <a:lnTo>
                    <a:pt x="2888" y="2973"/>
                  </a:lnTo>
                  <a:lnTo>
                    <a:pt x="2874" y="2943"/>
                  </a:lnTo>
                  <a:lnTo>
                    <a:pt x="2855" y="2916"/>
                  </a:lnTo>
                  <a:lnTo>
                    <a:pt x="2831" y="2893"/>
                  </a:lnTo>
                  <a:lnTo>
                    <a:pt x="2804" y="2874"/>
                  </a:lnTo>
                  <a:lnTo>
                    <a:pt x="2773" y="2860"/>
                  </a:lnTo>
                  <a:lnTo>
                    <a:pt x="2741" y="2850"/>
                  </a:lnTo>
                  <a:lnTo>
                    <a:pt x="2707" y="2847"/>
                  </a:lnTo>
                  <a:close/>
                  <a:moveTo>
                    <a:pt x="1188" y="2847"/>
                  </a:moveTo>
                  <a:lnTo>
                    <a:pt x="1153" y="2850"/>
                  </a:lnTo>
                  <a:lnTo>
                    <a:pt x="1120" y="2860"/>
                  </a:lnTo>
                  <a:lnTo>
                    <a:pt x="1090" y="2874"/>
                  </a:lnTo>
                  <a:lnTo>
                    <a:pt x="1063" y="2893"/>
                  </a:lnTo>
                  <a:lnTo>
                    <a:pt x="1040" y="2917"/>
                  </a:lnTo>
                  <a:lnTo>
                    <a:pt x="1020" y="2943"/>
                  </a:lnTo>
                  <a:lnTo>
                    <a:pt x="1007" y="2973"/>
                  </a:lnTo>
                  <a:lnTo>
                    <a:pt x="997" y="3007"/>
                  </a:lnTo>
                  <a:lnTo>
                    <a:pt x="994" y="3041"/>
                  </a:lnTo>
                  <a:lnTo>
                    <a:pt x="997" y="3075"/>
                  </a:lnTo>
                  <a:lnTo>
                    <a:pt x="1007" y="3108"/>
                  </a:lnTo>
                  <a:lnTo>
                    <a:pt x="1020" y="3138"/>
                  </a:lnTo>
                  <a:lnTo>
                    <a:pt x="1040" y="3165"/>
                  </a:lnTo>
                  <a:lnTo>
                    <a:pt x="1063" y="3189"/>
                  </a:lnTo>
                  <a:lnTo>
                    <a:pt x="1090" y="3208"/>
                  </a:lnTo>
                  <a:lnTo>
                    <a:pt x="1120" y="3222"/>
                  </a:lnTo>
                  <a:lnTo>
                    <a:pt x="1153" y="3232"/>
                  </a:lnTo>
                  <a:lnTo>
                    <a:pt x="1188" y="3235"/>
                  </a:lnTo>
                  <a:lnTo>
                    <a:pt x="1223" y="3232"/>
                  </a:lnTo>
                  <a:lnTo>
                    <a:pt x="1255" y="3222"/>
                  </a:lnTo>
                  <a:lnTo>
                    <a:pt x="1285" y="3208"/>
                  </a:lnTo>
                  <a:lnTo>
                    <a:pt x="1313" y="3189"/>
                  </a:lnTo>
                  <a:lnTo>
                    <a:pt x="1336" y="3166"/>
                  </a:lnTo>
                  <a:lnTo>
                    <a:pt x="1355" y="3139"/>
                  </a:lnTo>
                  <a:lnTo>
                    <a:pt x="1370" y="3109"/>
                  </a:lnTo>
                  <a:lnTo>
                    <a:pt x="1378" y="3075"/>
                  </a:lnTo>
                  <a:lnTo>
                    <a:pt x="1381" y="3041"/>
                  </a:lnTo>
                  <a:lnTo>
                    <a:pt x="1378" y="3006"/>
                  </a:lnTo>
                  <a:lnTo>
                    <a:pt x="1370" y="2973"/>
                  </a:lnTo>
                  <a:lnTo>
                    <a:pt x="1355" y="2943"/>
                  </a:lnTo>
                  <a:lnTo>
                    <a:pt x="1336" y="2916"/>
                  </a:lnTo>
                  <a:lnTo>
                    <a:pt x="1313" y="2893"/>
                  </a:lnTo>
                  <a:lnTo>
                    <a:pt x="1285" y="2874"/>
                  </a:lnTo>
                  <a:lnTo>
                    <a:pt x="1255" y="2860"/>
                  </a:lnTo>
                  <a:lnTo>
                    <a:pt x="1223" y="2850"/>
                  </a:lnTo>
                  <a:lnTo>
                    <a:pt x="1188" y="2847"/>
                  </a:lnTo>
                  <a:close/>
                  <a:moveTo>
                    <a:pt x="709" y="840"/>
                  </a:moveTo>
                  <a:lnTo>
                    <a:pt x="709" y="1867"/>
                  </a:lnTo>
                  <a:lnTo>
                    <a:pt x="712" y="1903"/>
                  </a:lnTo>
                  <a:lnTo>
                    <a:pt x="722" y="1936"/>
                  </a:lnTo>
                  <a:lnTo>
                    <a:pt x="736" y="1967"/>
                  </a:lnTo>
                  <a:lnTo>
                    <a:pt x="756" y="1994"/>
                  </a:lnTo>
                  <a:lnTo>
                    <a:pt x="780" y="2018"/>
                  </a:lnTo>
                  <a:lnTo>
                    <a:pt x="807" y="2038"/>
                  </a:lnTo>
                  <a:lnTo>
                    <a:pt x="838" y="2053"/>
                  </a:lnTo>
                  <a:lnTo>
                    <a:pt x="872" y="2062"/>
                  </a:lnTo>
                  <a:lnTo>
                    <a:pt x="907" y="2065"/>
                  </a:lnTo>
                  <a:lnTo>
                    <a:pt x="2798" y="2065"/>
                  </a:lnTo>
                  <a:lnTo>
                    <a:pt x="2834" y="2062"/>
                  </a:lnTo>
                  <a:lnTo>
                    <a:pt x="2867" y="2053"/>
                  </a:lnTo>
                  <a:lnTo>
                    <a:pt x="2899" y="2038"/>
                  </a:lnTo>
                  <a:lnTo>
                    <a:pt x="2926" y="2018"/>
                  </a:lnTo>
                  <a:lnTo>
                    <a:pt x="2950" y="1994"/>
                  </a:lnTo>
                  <a:lnTo>
                    <a:pt x="2970" y="1967"/>
                  </a:lnTo>
                  <a:lnTo>
                    <a:pt x="2984" y="1936"/>
                  </a:lnTo>
                  <a:lnTo>
                    <a:pt x="2994" y="1902"/>
                  </a:lnTo>
                  <a:lnTo>
                    <a:pt x="2997" y="1866"/>
                  </a:lnTo>
                  <a:lnTo>
                    <a:pt x="2997" y="1154"/>
                  </a:lnTo>
                  <a:lnTo>
                    <a:pt x="709" y="840"/>
                  </a:lnTo>
                  <a:close/>
                  <a:moveTo>
                    <a:pt x="89" y="0"/>
                  </a:moveTo>
                  <a:lnTo>
                    <a:pt x="111" y="2"/>
                  </a:lnTo>
                  <a:lnTo>
                    <a:pt x="132" y="9"/>
                  </a:lnTo>
                  <a:lnTo>
                    <a:pt x="652" y="226"/>
                  </a:lnTo>
                  <a:lnTo>
                    <a:pt x="656" y="229"/>
                  </a:lnTo>
                  <a:lnTo>
                    <a:pt x="661" y="231"/>
                  </a:lnTo>
                  <a:lnTo>
                    <a:pt x="662" y="232"/>
                  </a:lnTo>
                  <a:lnTo>
                    <a:pt x="663" y="232"/>
                  </a:lnTo>
                  <a:lnTo>
                    <a:pt x="664" y="233"/>
                  </a:lnTo>
                  <a:lnTo>
                    <a:pt x="666" y="234"/>
                  </a:lnTo>
                  <a:lnTo>
                    <a:pt x="668" y="236"/>
                  </a:lnTo>
                  <a:lnTo>
                    <a:pt x="670" y="237"/>
                  </a:lnTo>
                  <a:lnTo>
                    <a:pt x="672" y="239"/>
                  </a:lnTo>
                  <a:lnTo>
                    <a:pt x="674" y="240"/>
                  </a:lnTo>
                  <a:lnTo>
                    <a:pt x="676" y="241"/>
                  </a:lnTo>
                  <a:lnTo>
                    <a:pt x="678" y="243"/>
                  </a:lnTo>
                  <a:lnTo>
                    <a:pt x="680" y="245"/>
                  </a:lnTo>
                  <a:lnTo>
                    <a:pt x="682" y="247"/>
                  </a:lnTo>
                  <a:lnTo>
                    <a:pt x="689" y="254"/>
                  </a:lnTo>
                  <a:lnTo>
                    <a:pt x="690" y="256"/>
                  </a:lnTo>
                  <a:lnTo>
                    <a:pt x="691" y="258"/>
                  </a:lnTo>
                  <a:lnTo>
                    <a:pt x="693" y="262"/>
                  </a:lnTo>
                  <a:lnTo>
                    <a:pt x="694" y="263"/>
                  </a:lnTo>
                  <a:lnTo>
                    <a:pt x="695" y="265"/>
                  </a:lnTo>
                  <a:lnTo>
                    <a:pt x="698" y="267"/>
                  </a:lnTo>
                  <a:lnTo>
                    <a:pt x="699" y="269"/>
                  </a:lnTo>
                  <a:lnTo>
                    <a:pt x="699" y="270"/>
                  </a:lnTo>
                  <a:lnTo>
                    <a:pt x="700" y="271"/>
                  </a:lnTo>
                  <a:lnTo>
                    <a:pt x="700" y="272"/>
                  </a:lnTo>
                  <a:lnTo>
                    <a:pt x="701" y="274"/>
                  </a:lnTo>
                  <a:lnTo>
                    <a:pt x="702" y="275"/>
                  </a:lnTo>
                  <a:lnTo>
                    <a:pt x="703" y="278"/>
                  </a:lnTo>
                  <a:lnTo>
                    <a:pt x="703" y="279"/>
                  </a:lnTo>
                  <a:lnTo>
                    <a:pt x="704" y="280"/>
                  </a:lnTo>
                  <a:lnTo>
                    <a:pt x="704" y="281"/>
                  </a:lnTo>
                  <a:lnTo>
                    <a:pt x="706" y="287"/>
                  </a:lnTo>
                  <a:lnTo>
                    <a:pt x="706" y="288"/>
                  </a:lnTo>
                  <a:lnTo>
                    <a:pt x="706" y="289"/>
                  </a:lnTo>
                  <a:lnTo>
                    <a:pt x="706" y="290"/>
                  </a:lnTo>
                  <a:lnTo>
                    <a:pt x="707" y="292"/>
                  </a:lnTo>
                  <a:lnTo>
                    <a:pt x="707" y="294"/>
                  </a:lnTo>
                  <a:lnTo>
                    <a:pt x="708" y="296"/>
                  </a:lnTo>
                  <a:lnTo>
                    <a:pt x="708" y="299"/>
                  </a:lnTo>
                  <a:lnTo>
                    <a:pt x="708" y="303"/>
                  </a:lnTo>
                  <a:lnTo>
                    <a:pt x="709" y="304"/>
                  </a:lnTo>
                  <a:lnTo>
                    <a:pt x="709" y="305"/>
                  </a:lnTo>
                  <a:lnTo>
                    <a:pt x="710" y="308"/>
                  </a:lnTo>
                  <a:lnTo>
                    <a:pt x="710" y="312"/>
                  </a:lnTo>
                  <a:lnTo>
                    <a:pt x="710" y="315"/>
                  </a:lnTo>
                  <a:lnTo>
                    <a:pt x="710" y="649"/>
                  </a:lnTo>
                  <a:lnTo>
                    <a:pt x="3105" y="979"/>
                  </a:lnTo>
                  <a:lnTo>
                    <a:pt x="3108" y="979"/>
                  </a:lnTo>
                  <a:lnTo>
                    <a:pt x="3109" y="979"/>
                  </a:lnTo>
                  <a:lnTo>
                    <a:pt x="3111" y="979"/>
                  </a:lnTo>
                  <a:lnTo>
                    <a:pt x="3112" y="979"/>
                  </a:lnTo>
                  <a:lnTo>
                    <a:pt x="3114" y="980"/>
                  </a:lnTo>
                  <a:lnTo>
                    <a:pt x="3116" y="980"/>
                  </a:lnTo>
                  <a:lnTo>
                    <a:pt x="3118" y="981"/>
                  </a:lnTo>
                  <a:lnTo>
                    <a:pt x="3119" y="981"/>
                  </a:lnTo>
                  <a:lnTo>
                    <a:pt x="3121" y="981"/>
                  </a:lnTo>
                  <a:lnTo>
                    <a:pt x="3122" y="982"/>
                  </a:lnTo>
                  <a:lnTo>
                    <a:pt x="3124" y="983"/>
                  </a:lnTo>
                  <a:lnTo>
                    <a:pt x="3126" y="983"/>
                  </a:lnTo>
                  <a:lnTo>
                    <a:pt x="3130" y="985"/>
                  </a:lnTo>
                  <a:lnTo>
                    <a:pt x="3139" y="990"/>
                  </a:lnTo>
                  <a:lnTo>
                    <a:pt x="3141" y="992"/>
                  </a:lnTo>
                  <a:lnTo>
                    <a:pt x="3144" y="993"/>
                  </a:lnTo>
                  <a:lnTo>
                    <a:pt x="3145" y="994"/>
                  </a:lnTo>
                  <a:lnTo>
                    <a:pt x="3147" y="995"/>
                  </a:lnTo>
                  <a:lnTo>
                    <a:pt x="3149" y="996"/>
                  </a:lnTo>
                  <a:lnTo>
                    <a:pt x="3151" y="998"/>
                  </a:lnTo>
                  <a:lnTo>
                    <a:pt x="3152" y="999"/>
                  </a:lnTo>
                  <a:lnTo>
                    <a:pt x="3153" y="1000"/>
                  </a:lnTo>
                  <a:lnTo>
                    <a:pt x="3154" y="1001"/>
                  </a:lnTo>
                  <a:lnTo>
                    <a:pt x="3159" y="1004"/>
                  </a:lnTo>
                  <a:lnTo>
                    <a:pt x="3160" y="1005"/>
                  </a:lnTo>
                  <a:lnTo>
                    <a:pt x="3161" y="1005"/>
                  </a:lnTo>
                  <a:lnTo>
                    <a:pt x="3161" y="1007"/>
                  </a:lnTo>
                  <a:lnTo>
                    <a:pt x="3162" y="1008"/>
                  </a:lnTo>
                  <a:lnTo>
                    <a:pt x="3163" y="1009"/>
                  </a:lnTo>
                  <a:lnTo>
                    <a:pt x="3164" y="1010"/>
                  </a:lnTo>
                  <a:lnTo>
                    <a:pt x="3165" y="1011"/>
                  </a:lnTo>
                  <a:lnTo>
                    <a:pt x="3166" y="1012"/>
                  </a:lnTo>
                  <a:lnTo>
                    <a:pt x="3167" y="1013"/>
                  </a:lnTo>
                  <a:lnTo>
                    <a:pt x="3168" y="1016"/>
                  </a:lnTo>
                  <a:lnTo>
                    <a:pt x="3169" y="1017"/>
                  </a:lnTo>
                  <a:lnTo>
                    <a:pt x="3169" y="1018"/>
                  </a:lnTo>
                  <a:lnTo>
                    <a:pt x="3171" y="1020"/>
                  </a:lnTo>
                  <a:lnTo>
                    <a:pt x="3172" y="1022"/>
                  </a:lnTo>
                  <a:lnTo>
                    <a:pt x="3173" y="1023"/>
                  </a:lnTo>
                  <a:lnTo>
                    <a:pt x="3174" y="1025"/>
                  </a:lnTo>
                  <a:lnTo>
                    <a:pt x="3176" y="1029"/>
                  </a:lnTo>
                  <a:lnTo>
                    <a:pt x="3177" y="1031"/>
                  </a:lnTo>
                  <a:lnTo>
                    <a:pt x="3179" y="1033"/>
                  </a:lnTo>
                  <a:lnTo>
                    <a:pt x="3180" y="1035"/>
                  </a:lnTo>
                  <a:lnTo>
                    <a:pt x="3181" y="1037"/>
                  </a:lnTo>
                  <a:lnTo>
                    <a:pt x="3182" y="1040"/>
                  </a:lnTo>
                  <a:lnTo>
                    <a:pt x="3183" y="1042"/>
                  </a:lnTo>
                  <a:lnTo>
                    <a:pt x="3183" y="1044"/>
                  </a:lnTo>
                  <a:lnTo>
                    <a:pt x="3184" y="1046"/>
                  </a:lnTo>
                  <a:lnTo>
                    <a:pt x="3185" y="1049"/>
                  </a:lnTo>
                  <a:lnTo>
                    <a:pt x="3185" y="1051"/>
                  </a:lnTo>
                  <a:lnTo>
                    <a:pt x="3186" y="1053"/>
                  </a:lnTo>
                  <a:lnTo>
                    <a:pt x="3186" y="1055"/>
                  </a:lnTo>
                  <a:lnTo>
                    <a:pt x="3186" y="1057"/>
                  </a:lnTo>
                  <a:lnTo>
                    <a:pt x="3187" y="1058"/>
                  </a:lnTo>
                  <a:lnTo>
                    <a:pt x="3187" y="1060"/>
                  </a:lnTo>
                  <a:lnTo>
                    <a:pt x="3187" y="1062"/>
                  </a:lnTo>
                  <a:lnTo>
                    <a:pt x="3187" y="1065"/>
                  </a:lnTo>
                  <a:lnTo>
                    <a:pt x="3187" y="1867"/>
                  </a:lnTo>
                  <a:lnTo>
                    <a:pt x="3184" y="1915"/>
                  </a:lnTo>
                  <a:lnTo>
                    <a:pt x="3175" y="1962"/>
                  </a:lnTo>
                  <a:lnTo>
                    <a:pt x="3161" y="2007"/>
                  </a:lnTo>
                  <a:lnTo>
                    <a:pt x="3142" y="2050"/>
                  </a:lnTo>
                  <a:lnTo>
                    <a:pt x="3117" y="2088"/>
                  </a:lnTo>
                  <a:lnTo>
                    <a:pt x="3089" y="2125"/>
                  </a:lnTo>
                  <a:lnTo>
                    <a:pt x="3056" y="2157"/>
                  </a:lnTo>
                  <a:lnTo>
                    <a:pt x="3020" y="2185"/>
                  </a:lnTo>
                  <a:lnTo>
                    <a:pt x="2981" y="2210"/>
                  </a:lnTo>
                  <a:lnTo>
                    <a:pt x="2938" y="2229"/>
                  </a:lnTo>
                  <a:lnTo>
                    <a:pt x="2893" y="2244"/>
                  </a:lnTo>
                  <a:lnTo>
                    <a:pt x="2846" y="2252"/>
                  </a:lnTo>
                  <a:lnTo>
                    <a:pt x="2798" y="2255"/>
                  </a:lnTo>
                  <a:lnTo>
                    <a:pt x="907" y="2255"/>
                  </a:lnTo>
                  <a:lnTo>
                    <a:pt x="865" y="2253"/>
                  </a:lnTo>
                  <a:lnTo>
                    <a:pt x="823" y="2247"/>
                  </a:lnTo>
                  <a:lnTo>
                    <a:pt x="783" y="2235"/>
                  </a:lnTo>
                  <a:lnTo>
                    <a:pt x="745" y="2221"/>
                  </a:lnTo>
                  <a:lnTo>
                    <a:pt x="709" y="2202"/>
                  </a:lnTo>
                  <a:lnTo>
                    <a:pt x="709" y="2459"/>
                  </a:lnTo>
                  <a:lnTo>
                    <a:pt x="712" y="2495"/>
                  </a:lnTo>
                  <a:lnTo>
                    <a:pt x="722" y="2528"/>
                  </a:lnTo>
                  <a:lnTo>
                    <a:pt x="736" y="2559"/>
                  </a:lnTo>
                  <a:lnTo>
                    <a:pt x="756" y="2588"/>
                  </a:lnTo>
                  <a:lnTo>
                    <a:pt x="780" y="2612"/>
                  </a:lnTo>
                  <a:lnTo>
                    <a:pt x="807" y="2630"/>
                  </a:lnTo>
                  <a:lnTo>
                    <a:pt x="838" y="2646"/>
                  </a:lnTo>
                  <a:lnTo>
                    <a:pt x="872" y="2655"/>
                  </a:lnTo>
                  <a:lnTo>
                    <a:pt x="907" y="2658"/>
                  </a:lnTo>
                  <a:lnTo>
                    <a:pt x="2705" y="2658"/>
                  </a:lnTo>
                  <a:lnTo>
                    <a:pt x="2754" y="2661"/>
                  </a:lnTo>
                  <a:lnTo>
                    <a:pt x="2801" y="2670"/>
                  </a:lnTo>
                  <a:lnTo>
                    <a:pt x="2844" y="2683"/>
                  </a:lnTo>
                  <a:lnTo>
                    <a:pt x="2886" y="2703"/>
                  </a:lnTo>
                  <a:lnTo>
                    <a:pt x="2925" y="2727"/>
                  </a:lnTo>
                  <a:lnTo>
                    <a:pt x="2960" y="2755"/>
                  </a:lnTo>
                  <a:lnTo>
                    <a:pt x="2993" y="2787"/>
                  </a:lnTo>
                  <a:lnTo>
                    <a:pt x="3021" y="2823"/>
                  </a:lnTo>
                  <a:lnTo>
                    <a:pt x="3045" y="2862"/>
                  </a:lnTo>
                  <a:lnTo>
                    <a:pt x="3064" y="2903"/>
                  </a:lnTo>
                  <a:lnTo>
                    <a:pt x="3078" y="2947"/>
                  </a:lnTo>
                  <a:lnTo>
                    <a:pt x="3087" y="2994"/>
                  </a:lnTo>
                  <a:lnTo>
                    <a:pt x="3090" y="3042"/>
                  </a:lnTo>
                  <a:lnTo>
                    <a:pt x="3087" y="3090"/>
                  </a:lnTo>
                  <a:lnTo>
                    <a:pt x="3078" y="3136"/>
                  </a:lnTo>
                  <a:lnTo>
                    <a:pt x="3064" y="3180"/>
                  </a:lnTo>
                  <a:lnTo>
                    <a:pt x="3045" y="3221"/>
                  </a:lnTo>
                  <a:lnTo>
                    <a:pt x="3021" y="3261"/>
                  </a:lnTo>
                  <a:lnTo>
                    <a:pt x="2993" y="3296"/>
                  </a:lnTo>
                  <a:lnTo>
                    <a:pt x="2960" y="3328"/>
                  </a:lnTo>
                  <a:lnTo>
                    <a:pt x="2925" y="3356"/>
                  </a:lnTo>
                  <a:lnTo>
                    <a:pt x="2886" y="3380"/>
                  </a:lnTo>
                  <a:lnTo>
                    <a:pt x="2844" y="3400"/>
                  </a:lnTo>
                  <a:lnTo>
                    <a:pt x="2801" y="3413"/>
                  </a:lnTo>
                  <a:lnTo>
                    <a:pt x="2754" y="3423"/>
                  </a:lnTo>
                  <a:lnTo>
                    <a:pt x="2705" y="3426"/>
                  </a:lnTo>
                  <a:lnTo>
                    <a:pt x="2657" y="3423"/>
                  </a:lnTo>
                  <a:lnTo>
                    <a:pt x="2612" y="3413"/>
                  </a:lnTo>
                  <a:lnTo>
                    <a:pt x="2568" y="3400"/>
                  </a:lnTo>
                  <a:lnTo>
                    <a:pt x="2526" y="3380"/>
                  </a:lnTo>
                  <a:lnTo>
                    <a:pt x="2486" y="3357"/>
                  </a:lnTo>
                  <a:lnTo>
                    <a:pt x="2451" y="3329"/>
                  </a:lnTo>
                  <a:lnTo>
                    <a:pt x="2418" y="3296"/>
                  </a:lnTo>
                  <a:lnTo>
                    <a:pt x="2390" y="3261"/>
                  </a:lnTo>
                  <a:lnTo>
                    <a:pt x="2367" y="3222"/>
                  </a:lnTo>
                  <a:lnTo>
                    <a:pt x="2347" y="3181"/>
                  </a:lnTo>
                  <a:lnTo>
                    <a:pt x="2334" y="3136"/>
                  </a:lnTo>
                  <a:lnTo>
                    <a:pt x="2324" y="3090"/>
                  </a:lnTo>
                  <a:lnTo>
                    <a:pt x="2321" y="3042"/>
                  </a:lnTo>
                  <a:lnTo>
                    <a:pt x="2323" y="3000"/>
                  </a:lnTo>
                  <a:lnTo>
                    <a:pt x="2331" y="2960"/>
                  </a:lnTo>
                  <a:lnTo>
                    <a:pt x="2341" y="2920"/>
                  </a:lnTo>
                  <a:lnTo>
                    <a:pt x="2356" y="2884"/>
                  </a:lnTo>
                  <a:lnTo>
                    <a:pt x="2374" y="2848"/>
                  </a:lnTo>
                  <a:lnTo>
                    <a:pt x="1518" y="2848"/>
                  </a:lnTo>
                  <a:lnTo>
                    <a:pt x="1537" y="2883"/>
                  </a:lnTo>
                  <a:lnTo>
                    <a:pt x="1552" y="2920"/>
                  </a:lnTo>
                  <a:lnTo>
                    <a:pt x="1562" y="2960"/>
                  </a:lnTo>
                  <a:lnTo>
                    <a:pt x="1569" y="3000"/>
                  </a:lnTo>
                  <a:lnTo>
                    <a:pt x="1572" y="3042"/>
                  </a:lnTo>
                  <a:lnTo>
                    <a:pt x="1568" y="3090"/>
                  </a:lnTo>
                  <a:lnTo>
                    <a:pt x="1560" y="3136"/>
                  </a:lnTo>
                  <a:lnTo>
                    <a:pt x="1545" y="3180"/>
                  </a:lnTo>
                  <a:lnTo>
                    <a:pt x="1527" y="3221"/>
                  </a:lnTo>
                  <a:lnTo>
                    <a:pt x="1503" y="3261"/>
                  </a:lnTo>
                  <a:lnTo>
                    <a:pt x="1474" y="3296"/>
                  </a:lnTo>
                  <a:lnTo>
                    <a:pt x="1442" y="3328"/>
                  </a:lnTo>
                  <a:lnTo>
                    <a:pt x="1407" y="3356"/>
                  </a:lnTo>
                  <a:lnTo>
                    <a:pt x="1368" y="3380"/>
                  </a:lnTo>
                  <a:lnTo>
                    <a:pt x="1326" y="3400"/>
                  </a:lnTo>
                  <a:lnTo>
                    <a:pt x="1281" y="3413"/>
                  </a:lnTo>
                  <a:lnTo>
                    <a:pt x="1235" y="3423"/>
                  </a:lnTo>
                  <a:lnTo>
                    <a:pt x="1187" y="3426"/>
                  </a:lnTo>
                  <a:lnTo>
                    <a:pt x="1139" y="3423"/>
                  </a:lnTo>
                  <a:lnTo>
                    <a:pt x="1092" y="3413"/>
                  </a:lnTo>
                  <a:lnTo>
                    <a:pt x="1048" y="3400"/>
                  </a:lnTo>
                  <a:lnTo>
                    <a:pt x="1007" y="3380"/>
                  </a:lnTo>
                  <a:lnTo>
                    <a:pt x="968" y="3357"/>
                  </a:lnTo>
                  <a:lnTo>
                    <a:pt x="932" y="3329"/>
                  </a:lnTo>
                  <a:lnTo>
                    <a:pt x="900" y="3296"/>
                  </a:lnTo>
                  <a:lnTo>
                    <a:pt x="872" y="3261"/>
                  </a:lnTo>
                  <a:lnTo>
                    <a:pt x="848" y="3222"/>
                  </a:lnTo>
                  <a:lnTo>
                    <a:pt x="829" y="3181"/>
                  </a:lnTo>
                  <a:lnTo>
                    <a:pt x="814" y="3136"/>
                  </a:lnTo>
                  <a:lnTo>
                    <a:pt x="806" y="3090"/>
                  </a:lnTo>
                  <a:lnTo>
                    <a:pt x="803" y="3042"/>
                  </a:lnTo>
                  <a:lnTo>
                    <a:pt x="805" y="2999"/>
                  </a:lnTo>
                  <a:lnTo>
                    <a:pt x="812" y="2958"/>
                  </a:lnTo>
                  <a:lnTo>
                    <a:pt x="824" y="2918"/>
                  </a:lnTo>
                  <a:lnTo>
                    <a:pt x="838" y="2880"/>
                  </a:lnTo>
                  <a:lnTo>
                    <a:pt x="858" y="2845"/>
                  </a:lnTo>
                  <a:lnTo>
                    <a:pt x="811" y="2836"/>
                  </a:lnTo>
                  <a:lnTo>
                    <a:pt x="766" y="2821"/>
                  </a:lnTo>
                  <a:lnTo>
                    <a:pt x="725" y="2801"/>
                  </a:lnTo>
                  <a:lnTo>
                    <a:pt x="685" y="2777"/>
                  </a:lnTo>
                  <a:lnTo>
                    <a:pt x="649" y="2749"/>
                  </a:lnTo>
                  <a:lnTo>
                    <a:pt x="617" y="2717"/>
                  </a:lnTo>
                  <a:lnTo>
                    <a:pt x="588" y="2680"/>
                  </a:lnTo>
                  <a:lnTo>
                    <a:pt x="564" y="2642"/>
                  </a:lnTo>
                  <a:lnTo>
                    <a:pt x="545" y="2599"/>
                  </a:lnTo>
                  <a:lnTo>
                    <a:pt x="530" y="2555"/>
                  </a:lnTo>
                  <a:lnTo>
                    <a:pt x="522" y="2508"/>
                  </a:lnTo>
                  <a:lnTo>
                    <a:pt x="519" y="2459"/>
                  </a:lnTo>
                  <a:lnTo>
                    <a:pt x="519" y="378"/>
                  </a:lnTo>
                  <a:lnTo>
                    <a:pt x="57" y="184"/>
                  </a:lnTo>
                  <a:lnTo>
                    <a:pt x="39" y="172"/>
                  </a:lnTo>
                  <a:lnTo>
                    <a:pt x="23" y="159"/>
                  </a:lnTo>
                  <a:lnTo>
                    <a:pt x="10" y="141"/>
                  </a:lnTo>
                  <a:lnTo>
                    <a:pt x="3" y="122"/>
                  </a:lnTo>
                  <a:lnTo>
                    <a:pt x="0" y="101"/>
                  </a:lnTo>
                  <a:lnTo>
                    <a:pt x="1" y="79"/>
                  </a:lnTo>
                  <a:lnTo>
                    <a:pt x="7" y="59"/>
                  </a:lnTo>
                  <a:lnTo>
                    <a:pt x="18" y="40"/>
                  </a:lnTo>
                  <a:lnTo>
                    <a:pt x="32" y="24"/>
                  </a:lnTo>
                  <a:lnTo>
                    <a:pt x="49" y="12"/>
                  </a:lnTo>
                  <a:lnTo>
                    <a:pt x="69" y="4"/>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1" name="Group 8"/>
          <p:cNvGrpSpPr/>
          <p:nvPr/>
        </p:nvGrpSpPr>
        <p:grpSpPr>
          <a:xfrm>
            <a:off x="5462640" y="1911240"/>
            <a:ext cx="701640" cy="625680"/>
            <a:chOff x="5462640" y="1911240"/>
            <a:chExt cx="701640" cy="625680"/>
          </a:xfrm>
        </p:grpSpPr>
        <p:sp>
          <p:nvSpPr>
            <p:cNvPr id="2242" name="Oval 62"/>
            <p:cNvSpPr/>
            <p:nvPr/>
          </p:nvSpPr>
          <p:spPr>
            <a:xfrm>
              <a:off x="5462640" y="1911240"/>
              <a:ext cx="701640" cy="62568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3" name="Group 69"/>
            <p:cNvGrpSpPr/>
            <p:nvPr/>
          </p:nvGrpSpPr>
          <p:grpSpPr>
            <a:xfrm>
              <a:off x="0" y="0"/>
              <a:ext cx="0" cy="0"/>
              <a:chOff x="0" y="0"/>
              <a:chExt cx="0" cy="0"/>
            </a:xfrm>
          </p:grpSpPr>
        </p:grpSp>
      </p:grpSp>
      <p:grpSp>
        <p:nvGrpSpPr>
          <p:cNvPr id="2244" name="Group 4"/>
          <p:cNvGrpSpPr/>
          <p:nvPr/>
        </p:nvGrpSpPr>
        <p:grpSpPr>
          <a:xfrm>
            <a:off x="4106880" y="4438800"/>
            <a:ext cx="708120" cy="650880"/>
            <a:chOff x="4106880" y="4438800"/>
            <a:chExt cx="708120" cy="650880"/>
          </a:xfrm>
        </p:grpSpPr>
        <p:sp>
          <p:nvSpPr>
            <p:cNvPr id="2245" name="Oval 65"/>
            <p:cNvSpPr/>
            <p:nvPr/>
          </p:nvSpPr>
          <p:spPr>
            <a:xfrm>
              <a:off x="4106880" y="4438800"/>
              <a:ext cx="708120" cy="65088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6" name="Freeform 184"/>
            <p:cNvSpPr/>
            <p:nvPr/>
          </p:nvSpPr>
          <p:spPr>
            <a:xfrm>
              <a:off x="4291920" y="4603320"/>
              <a:ext cx="337680" cy="321480"/>
            </a:xfrm>
            <a:custGeom>
              <a:avLst/>
              <a:gdLst/>
              <a:ahLst/>
              <a:rect l="l" t="t" r="r" b="b"/>
              <a:pathLst>
                <a:path w="3269" h="3367">
                  <a:moveTo>
                    <a:pt x="293" y="1799"/>
                  </a:moveTo>
                  <a:lnTo>
                    <a:pt x="269" y="1802"/>
                  </a:lnTo>
                  <a:lnTo>
                    <a:pt x="248" y="1809"/>
                  </a:lnTo>
                  <a:lnTo>
                    <a:pt x="228" y="1821"/>
                  </a:lnTo>
                  <a:lnTo>
                    <a:pt x="212" y="1838"/>
                  </a:lnTo>
                  <a:lnTo>
                    <a:pt x="200" y="1856"/>
                  </a:lnTo>
                  <a:lnTo>
                    <a:pt x="192" y="1879"/>
                  </a:lnTo>
                  <a:lnTo>
                    <a:pt x="189" y="1902"/>
                  </a:lnTo>
                  <a:lnTo>
                    <a:pt x="189" y="3047"/>
                  </a:lnTo>
                  <a:lnTo>
                    <a:pt x="192" y="3070"/>
                  </a:lnTo>
                  <a:lnTo>
                    <a:pt x="200" y="3092"/>
                  </a:lnTo>
                  <a:lnTo>
                    <a:pt x="212" y="3111"/>
                  </a:lnTo>
                  <a:lnTo>
                    <a:pt x="228" y="3127"/>
                  </a:lnTo>
                  <a:lnTo>
                    <a:pt x="247" y="3139"/>
                  </a:lnTo>
                  <a:lnTo>
                    <a:pt x="268" y="3147"/>
                  </a:lnTo>
                  <a:lnTo>
                    <a:pt x="293" y="3150"/>
                  </a:lnTo>
                  <a:lnTo>
                    <a:pt x="293" y="3149"/>
                  </a:lnTo>
                  <a:lnTo>
                    <a:pt x="721" y="3149"/>
                  </a:lnTo>
                  <a:lnTo>
                    <a:pt x="745" y="3147"/>
                  </a:lnTo>
                  <a:lnTo>
                    <a:pt x="766" y="3138"/>
                  </a:lnTo>
                  <a:lnTo>
                    <a:pt x="786" y="3126"/>
                  </a:lnTo>
                  <a:lnTo>
                    <a:pt x="801" y="3111"/>
                  </a:lnTo>
                  <a:lnTo>
                    <a:pt x="813" y="3091"/>
                  </a:lnTo>
                  <a:lnTo>
                    <a:pt x="822" y="3070"/>
                  </a:lnTo>
                  <a:lnTo>
                    <a:pt x="824" y="3046"/>
                  </a:lnTo>
                  <a:lnTo>
                    <a:pt x="824" y="1902"/>
                  </a:lnTo>
                  <a:lnTo>
                    <a:pt x="822" y="1879"/>
                  </a:lnTo>
                  <a:lnTo>
                    <a:pt x="813" y="1857"/>
                  </a:lnTo>
                  <a:lnTo>
                    <a:pt x="801" y="1838"/>
                  </a:lnTo>
                  <a:lnTo>
                    <a:pt x="786" y="1822"/>
                  </a:lnTo>
                  <a:lnTo>
                    <a:pt x="766" y="1810"/>
                  </a:lnTo>
                  <a:lnTo>
                    <a:pt x="745" y="1802"/>
                  </a:lnTo>
                  <a:lnTo>
                    <a:pt x="721" y="1799"/>
                  </a:lnTo>
                  <a:lnTo>
                    <a:pt x="293" y="1799"/>
                  </a:lnTo>
                  <a:close/>
                  <a:moveTo>
                    <a:pt x="1782" y="189"/>
                  </a:moveTo>
                  <a:lnTo>
                    <a:pt x="1777" y="203"/>
                  </a:lnTo>
                  <a:lnTo>
                    <a:pt x="1772" y="221"/>
                  </a:lnTo>
                  <a:lnTo>
                    <a:pt x="1769" y="245"/>
                  </a:lnTo>
                  <a:lnTo>
                    <a:pt x="1767" y="272"/>
                  </a:lnTo>
                  <a:lnTo>
                    <a:pt x="1767" y="301"/>
                  </a:lnTo>
                  <a:lnTo>
                    <a:pt x="1768" y="332"/>
                  </a:lnTo>
                  <a:lnTo>
                    <a:pt x="1770" y="363"/>
                  </a:lnTo>
                  <a:lnTo>
                    <a:pt x="1773" y="392"/>
                  </a:lnTo>
                  <a:lnTo>
                    <a:pt x="1775" y="409"/>
                  </a:lnTo>
                  <a:lnTo>
                    <a:pt x="1773" y="425"/>
                  </a:lnTo>
                  <a:lnTo>
                    <a:pt x="1769" y="439"/>
                  </a:lnTo>
                  <a:lnTo>
                    <a:pt x="1767" y="447"/>
                  </a:lnTo>
                  <a:lnTo>
                    <a:pt x="1763" y="459"/>
                  </a:lnTo>
                  <a:lnTo>
                    <a:pt x="1756" y="475"/>
                  </a:lnTo>
                  <a:lnTo>
                    <a:pt x="1748" y="498"/>
                  </a:lnTo>
                  <a:lnTo>
                    <a:pt x="1737" y="523"/>
                  </a:lnTo>
                  <a:lnTo>
                    <a:pt x="1726" y="554"/>
                  </a:lnTo>
                  <a:lnTo>
                    <a:pt x="1712" y="588"/>
                  </a:lnTo>
                  <a:lnTo>
                    <a:pt x="1697" y="626"/>
                  </a:lnTo>
                  <a:lnTo>
                    <a:pt x="1680" y="666"/>
                  </a:lnTo>
                  <a:lnTo>
                    <a:pt x="1662" y="709"/>
                  </a:lnTo>
                  <a:lnTo>
                    <a:pt x="1642" y="754"/>
                  </a:lnTo>
                  <a:lnTo>
                    <a:pt x="1622" y="801"/>
                  </a:lnTo>
                  <a:lnTo>
                    <a:pt x="1599" y="850"/>
                  </a:lnTo>
                  <a:lnTo>
                    <a:pt x="1576" y="900"/>
                  </a:lnTo>
                  <a:lnTo>
                    <a:pt x="1551" y="952"/>
                  </a:lnTo>
                  <a:lnTo>
                    <a:pt x="1526" y="1004"/>
                  </a:lnTo>
                  <a:lnTo>
                    <a:pt x="1499" y="1056"/>
                  </a:lnTo>
                  <a:lnTo>
                    <a:pt x="1472" y="1107"/>
                  </a:lnTo>
                  <a:lnTo>
                    <a:pt x="1444" y="1159"/>
                  </a:lnTo>
                  <a:lnTo>
                    <a:pt x="1415" y="1210"/>
                  </a:lnTo>
                  <a:lnTo>
                    <a:pt x="1385" y="1259"/>
                  </a:lnTo>
                  <a:lnTo>
                    <a:pt x="1355" y="1307"/>
                  </a:lnTo>
                  <a:lnTo>
                    <a:pt x="1324" y="1353"/>
                  </a:lnTo>
                  <a:lnTo>
                    <a:pt x="1292" y="1397"/>
                  </a:lnTo>
                  <a:lnTo>
                    <a:pt x="1261" y="1439"/>
                  </a:lnTo>
                  <a:lnTo>
                    <a:pt x="1229" y="1478"/>
                  </a:lnTo>
                  <a:lnTo>
                    <a:pt x="1196" y="1513"/>
                  </a:lnTo>
                  <a:lnTo>
                    <a:pt x="1164" y="1545"/>
                  </a:lnTo>
                  <a:lnTo>
                    <a:pt x="1132" y="1573"/>
                  </a:lnTo>
                  <a:lnTo>
                    <a:pt x="1102" y="1607"/>
                  </a:lnTo>
                  <a:lnTo>
                    <a:pt x="1077" y="1642"/>
                  </a:lnTo>
                  <a:lnTo>
                    <a:pt x="1057" y="1676"/>
                  </a:lnTo>
                  <a:lnTo>
                    <a:pt x="1040" y="1710"/>
                  </a:lnTo>
                  <a:lnTo>
                    <a:pt x="1025" y="1741"/>
                  </a:lnTo>
                  <a:lnTo>
                    <a:pt x="1015" y="1769"/>
                  </a:lnTo>
                  <a:lnTo>
                    <a:pt x="1007" y="1795"/>
                  </a:lnTo>
                  <a:lnTo>
                    <a:pt x="1001" y="1814"/>
                  </a:lnTo>
                  <a:lnTo>
                    <a:pt x="1008" y="1843"/>
                  </a:lnTo>
                  <a:lnTo>
                    <a:pt x="1012" y="1871"/>
                  </a:lnTo>
                  <a:lnTo>
                    <a:pt x="1014" y="1902"/>
                  </a:lnTo>
                  <a:lnTo>
                    <a:pt x="1014" y="3047"/>
                  </a:lnTo>
                  <a:lnTo>
                    <a:pt x="1012" y="3078"/>
                  </a:lnTo>
                  <a:lnTo>
                    <a:pt x="1008" y="3109"/>
                  </a:lnTo>
                  <a:lnTo>
                    <a:pt x="1078" y="3117"/>
                  </a:lnTo>
                  <a:lnTo>
                    <a:pt x="1079" y="3117"/>
                  </a:lnTo>
                  <a:lnTo>
                    <a:pt x="1084" y="3118"/>
                  </a:lnTo>
                  <a:lnTo>
                    <a:pt x="1094" y="3119"/>
                  </a:lnTo>
                  <a:lnTo>
                    <a:pt x="1110" y="3121"/>
                  </a:lnTo>
                  <a:lnTo>
                    <a:pt x="1133" y="3124"/>
                  </a:lnTo>
                  <a:lnTo>
                    <a:pt x="1160" y="3127"/>
                  </a:lnTo>
                  <a:lnTo>
                    <a:pt x="1193" y="3130"/>
                  </a:lnTo>
                  <a:lnTo>
                    <a:pt x="1231" y="3134"/>
                  </a:lnTo>
                  <a:lnTo>
                    <a:pt x="1273" y="3138"/>
                  </a:lnTo>
                  <a:lnTo>
                    <a:pt x="1319" y="3142"/>
                  </a:lnTo>
                  <a:lnTo>
                    <a:pt x="1369" y="3147"/>
                  </a:lnTo>
                  <a:lnTo>
                    <a:pt x="1422" y="3151"/>
                  </a:lnTo>
                  <a:lnTo>
                    <a:pt x="1477" y="3154"/>
                  </a:lnTo>
                  <a:lnTo>
                    <a:pt x="1537" y="3158"/>
                  </a:lnTo>
                  <a:lnTo>
                    <a:pt x="1598" y="3161"/>
                  </a:lnTo>
                  <a:lnTo>
                    <a:pt x="1661" y="3164"/>
                  </a:lnTo>
                  <a:lnTo>
                    <a:pt x="1725" y="3166"/>
                  </a:lnTo>
                  <a:lnTo>
                    <a:pt x="1792" y="3167"/>
                  </a:lnTo>
                  <a:lnTo>
                    <a:pt x="1858" y="3168"/>
                  </a:lnTo>
                  <a:lnTo>
                    <a:pt x="1926" y="3168"/>
                  </a:lnTo>
                  <a:lnTo>
                    <a:pt x="1994" y="3167"/>
                  </a:lnTo>
                  <a:lnTo>
                    <a:pt x="2003" y="3167"/>
                  </a:lnTo>
                  <a:lnTo>
                    <a:pt x="2081" y="3172"/>
                  </a:lnTo>
                  <a:lnTo>
                    <a:pt x="2156" y="3176"/>
                  </a:lnTo>
                  <a:lnTo>
                    <a:pt x="2225" y="3177"/>
                  </a:lnTo>
                  <a:lnTo>
                    <a:pt x="2292" y="3176"/>
                  </a:lnTo>
                  <a:lnTo>
                    <a:pt x="2354" y="3173"/>
                  </a:lnTo>
                  <a:lnTo>
                    <a:pt x="2413" y="3168"/>
                  </a:lnTo>
                  <a:lnTo>
                    <a:pt x="2467" y="3161"/>
                  </a:lnTo>
                  <a:lnTo>
                    <a:pt x="2516" y="3152"/>
                  </a:lnTo>
                  <a:lnTo>
                    <a:pt x="2573" y="3137"/>
                  </a:lnTo>
                  <a:lnTo>
                    <a:pt x="2625" y="3121"/>
                  </a:lnTo>
                  <a:lnTo>
                    <a:pt x="2672" y="3103"/>
                  </a:lnTo>
                  <a:lnTo>
                    <a:pt x="2713" y="3081"/>
                  </a:lnTo>
                  <a:lnTo>
                    <a:pt x="2750" y="3057"/>
                  </a:lnTo>
                  <a:lnTo>
                    <a:pt x="2781" y="3032"/>
                  </a:lnTo>
                  <a:lnTo>
                    <a:pt x="2807" y="3003"/>
                  </a:lnTo>
                  <a:lnTo>
                    <a:pt x="2827" y="2972"/>
                  </a:lnTo>
                  <a:lnTo>
                    <a:pt x="2840" y="2947"/>
                  </a:lnTo>
                  <a:lnTo>
                    <a:pt x="2848" y="2920"/>
                  </a:lnTo>
                  <a:lnTo>
                    <a:pt x="2854" y="2895"/>
                  </a:lnTo>
                  <a:lnTo>
                    <a:pt x="2856" y="2871"/>
                  </a:lnTo>
                  <a:lnTo>
                    <a:pt x="2856" y="2850"/>
                  </a:lnTo>
                  <a:lnTo>
                    <a:pt x="2854" y="2830"/>
                  </a:lnTo>
                  <a:lnTo>
                    <a:pt x="2852" y="2814"/>
                  </a:lnTo>
                  <a:lnTo>
                    <a:pt x="2849" y="2801"/>
                  </a:lnTo>
                  <a:lnTo>
                    <a:pt x="2847" y="2794"/>
                  </a:lnTo>
                  <a:lnTo>
                    <a:pt x="2846" y="2791"/>
                  </a:lnTo>
                  <a:lnTo>
                    <a:pt x="2841" y="2772"/>
                  </a:lnTo>
                  <a:lnTo>
                    <a:pt x="2841" y="2751"/>
                  </a:lnTo>
                  <a:lnTo>
                    <a:pt x="2844" y="2732"/>
                  </a:lnTo>
                  <a:lnTo>
                    <a:pt x="2853" y="2713"/>
                  </a:lnTo>
                  <a:lnTo>
                    <a:pt x="2864" y="2697"/>
                  </a:lnTo>
                  <a:lnTo>
                    <a:pt x="2879" y="2683"/>
                  </a:lnTo>
                  <a:lnTo>
                    <a:pt x="2915" y="2652"/>
                  </a:lnTo>
                  <a:lnTo>
                    <a:pt x="2947" y="2620"/>
                  </a:lnTo>
                  <a:lnTo>
                    <a:pt x="2971" y="2586"/>
                  </a:lnTo>
                  <a:lnTo>
                    <a:pt x="2990" y="2551"/>
                  </a:lnTo>
                  <a:lnTo>
                    <a:pt x="3003" y="2516"/>
                  </a:lnTo>
                  <a:lnTo>
                    <a:pt x="3010" y="2478"/>
                  </a:lnTo>
                  <a:lnTo>
                    <a:pt x="3011" y="2439"/>
                  </a:lnTo>
                  <a:lnTo>
                    <a:pt x="3008" y="2414"/>
                  </a:lnTo>
                  <a:lnTo>
                    <a:pt x="3004" y="2393"/>
                  </a:lnTo>
                  <a:lnTo>
                    <a:pt x="2999" y="2372"/>
                  </a:lnTo>
                  <a:lnTo>
                    <a:pt x="2994" y="2355"/>
                  </a:lnTo>
                  <a:lnTo>
                    <a:pt x="2988" y="2342"/>
                  </a:lnTo>
                  <a:lnTo>
                    <a:pt x="2984" y="2330"/>
                  </a:lnTo>
                  <a:lnTo>
                    <a:pt x="2979" y="2324"/>
                  </a:lnTo>
                  <a:lnTo>
                    <a:pt x="2978" y="2321"/>
                  </a:lnTo>
                  <a:lnTo>
                    <a:pt x="2969" y="2303"/>
                  </a:lnTo>
                  <a:lnTo>
                    <a:pt x="2965" y="2282"/>
                  </a:lnTo>
                  <a:lnTo>
                    <a:pt x="2965" y="2262"/>
                  </a:lnTo>
                  <a:lnTo>
                    <a:pt x="2970" y="2242"/>
                  </a:lnTo>
                  <a:lnTo>
                    <a:pt x="2978" y="2224"/>
                  </a:lnTo>
                  <a:lnTo>
                    <a:pt x="2991" y="2206"/>
                  </a:lnTo>
                  <a:lnTo>
                    <a:pt x="3024" y="2168"/>
                  </a:lnTo>
                  <a:lnTo>
                    <a:pt x="3049" y="2131"/>
                  </a:lnTo>
                  <a:lnTo>
                    <a:pt x="3067" y="2093"/>
                  </a:lnTo>
                  <a:lnTo>
                    <a:pt x="3077" y="2055"/>
                  </a:lnTo>
                  <a:lnTo>
                    <a:pt x="3079" y="2017"/>
                  </a:lnTo>
                  <a:lnTo>
                    <a:pt x="3077" y="1991"/>
                  </a:lnTo>
                  <a:lnTo>
                    <a:pt x="3072" y="1968"/>
                  </a:lnTo>
                  <a:lnTo>
                    <a:pt x="3063" y="1946"/>
                  </a:lnTo>
                  <a:lnTo>
                    <a:pt x="3054" y="1926"/>
                  </a:lnTo>
                  <a:lnTo>
                    <a:pt x="3044" y="1908"/>
                  </a:lnTo>
                  <a:lnTo>
                    <a:pt x="3034" y="1892"/>
                  </a:lnTo>
                  <a:lnTo>
                    <a:pt x="3023" y="1879"/>
                  </a:lnTo>
                  <a:lnTo>
                    <a:pt x="3015" y="1867"/>
                  </a:lnTo>
                  <a:lnTo>
                    <a:pt x="3008" y="1859"/>
                  </a:lnTo>
                  <a:lnTo>
                    <a:pt x="3003" y="1854"/>
                  </a:lnTo>
                  <a:lnTo>
                    <a:pt x="3001" y="1853"/>
                  </a:lnTo>
                  <a:lnTo>
                    <a:pt x="2986" y="1836"/>
                  </a:lnTo>
                  <a:lnTo>
                    <a:pt x="2975" y="1815"/>
                  </a:lnTo>
                  <a:lnTo>
                    <a:pt x="2969" y="1795"/>
                  </a:lnTo>
                  <a:lnTo>
                    <a:pt x="2969" y="1772"/>
                  </a:lnTo>
                  <a:lnTo>
                    <a:pt x="2974" y="1751"/>
                  </a:lnTo>
                  <a:lnTo>
                    <a:pt x="2985" y="1730"/>
                  </a:lnTo>
                  <a:lnTo>
                    <a:pt x="2988" y="1725"/>
                  </a:lnTo>
                  <a:lnTo>
                    <a:pt x="2993" y="1715"/>
                  </a:lnTo>
                  <a:lnTo>
                    <a:pt x="2999" y="1702"/>
                  </a:lnTo>
                  <a:lnTo>
                    <a:pt x="3005" y="1685"/>
                  </a:lnTo>
                  <a:lnTo>
                    <a:pt x="3011" y="1668"/>
                  </a:lnTo>
                  <a:lnTo>
                    <a:pt x="3016" y="1646"/>
                  </a:lnTo>
                  <a:lnTo>
                    <a:pt x="3019" y="1624"/>
                  </a:lnTo>
                  <a:lnTo>
                    <a:pt x="3020" y="1599"/>
                  </a:lnTo>
                  <a:lnTo>
                    <a:pt x="3018" y="1574"/>
                  </a:lnTo>
                  <a:lnTo>
                    <a:pt x="3011" y="1549"/>
                  </a:lnTo>
                  <a:lnTo>
                    <a:pt x="3000" y="1523"/>
                  </a:lnTo>
                  <a:lnTo>
                    <a:pt x="2984" y="1498"/>
                  </a:lnTo>
                  <a:lnTo>
                    <a:pt x="2960" y="1473"/>
                  </a:lnTo>
                  <a:lnTo>
                    <a:pt x="2935" y="1453"/>
                  </a:lnTo>
                  <a:lnTo>
                    <a:pt x="2907" y="1437"/>
                  </a:lnTo>
                  <a:lnTo>
                    <a:pt x="2874" y="1424"/>
                  </a:lnTo>
                  <a:lnTo>
                    <a:pt x="2838" y="1413"/>
                  </a:lnTo>
                  <a:lnTo>
                    <a:pt x="2799" y="1403"/>
                  </a:lnTo>
                  <a:lnTo>
                    <a:pt x="2757" y="1396"/>
                  </a:lnTo>
                  <a:lnTo>
                    <a:pt x="2713" y="1391"/>
                  </a:lnTo>
                  <a:lnTo>
                    <a:pt x="2668" y="1388"/>
                  </a:lnTo>
                  <a:lnTo>
                    <a:pt x="2622" y="1386"/>
                  </a:lnTo>
                  <a:lnTo>
                    <a:pt x="2575" y="1386"/>
                  </a:lnTo>
                  <a:lnTo>
                    <a:pt x="2527" y="1388"/>
                  </a:lnTo>
                  <a:lnTo>
                    <a:pt x="2480" y="1390"/>
                  </a:lnTo>
                  <a:lnTo>
                    <a:pt x="2433" y="1394"/>
                  </a:lnTo>
                  <a:lnTo>
                    <a:pt x="2388" y="1399"/>
                  </a:lnTo>
                  <a:lnTo>
                    <a:pt x="2343" y="1405"/>
                  </a:lnTo>
                  <a:lnTo>
                    <a:pt x="2301" y="1412"/>
                  </a:lnTo>
                  <a:lnTo>
                    <a:pt x="2260" y="1419"/>
                  </a:lnTo>
                  <a:lnTo>
                    <a:pt x="2223" y="1427"/>
                  </a:lnTo>
                  <a:lnTo>
                    <a:pt x="2218" y="1428"/>
                  </a:lnTo>
                  <a:lnTo>
                    <a:pt x="2214" y="1429"/>
                  </a:lnTo>
                  <a:lnTo>
                    <a:pt x="2155" y="1439"/>
                  </a:lnTo>
                  <a:lnTo>
                    <a:pt x="2091" y="1453"/>
                  </a:lnTo>
                  <a:lnTo>
                    <a:pt x="2071" y="1459"/>
                  </a:lnTo>
                  <a:lnTo>
                    <a:pt x="2049" y="1462"/>
                  </a:lnTo>
                  <a:lnTo>
                    <a:pt x="2027" y="1463"/>
                  </a:lnTo>
                  <a:lnTo>
                    <a:pt x="2004" y="1460"/>
                  </a:lnTo>
                  <a:lnTo>
                    <a:pt x="1981" y="1452"/>
                  </a:lnTo>
                  <a:lnTo>
                    <a:pt x="1959" y="1441"/>
                  </a:lnTo>
                  <a:lnTo>
                    <a:pt x="1938" y="1426"/>
                  </a:lnTo>
                  <a:lnTo>
                    <a:pt x="1920" y="1407"/>
                  </a:lnTo>
                  <a:lnTo>
                    <a:pt x="1906" y="1387"/>
                  </a:lnTo>
                  <a:lnTo>
                    <a:pt x="1895" y="1362"/>
                  </a:lnTo>
                  <a:lnTo>
                    <a:pt x="1886" y="1336"/>
                  </a:lnTo>
                  <a:lnTo>
                    <a:pt x="1880" y="1305"/>
                  </a:lnTo>
                  <a:lnTo>
                    <a:pt x="1875" y="1271"/>
                  </a:lnTo>
                  <a:lnTo>
                    <a:pt x="1875" y="1234"/>
                  </a:lnTo>
                  <a:lnTo>
                    <a:pt x="1877" y="1193"/>
                  </a:lnTo>
                  <a:lnTo>
                    <a:pt x="1883" y="1148"/>
                  </a:lnTo>
                  <a:lnTo>
                    <a:pt x="1891" y="1100"/>
                  </a:lnTo>
                  <a:lnTo>
                    <a:pt x="1901" y="1047"/>
                  </a:lnTo>
                  <a:lnTo>
                    <a:pt x="1914" y="991"/>
                  </a:lnTo>
                  <a:lnTo>
                    <a:pt x="1931" y="930"/>
                  </a:lnTo>
                  <a:lnTo>
                    <a:pt x="1950" y="865"/>
                  </a:lnTo>
                  <a:lnTo>
                    <a:pt x="1973" y="796"/>
                  </a:lnTo>
                  <a:lnTo>
                    <a:pt x="1992" y="732"/>
                  </a:lnTo>
                  <a:lnTo>
                    <a:pt x="2007" y="673"/>
                  </a:lnTo>
                  <a:lnTo>
                    <a:pt x="2020" y="617"/>
                  </a:lnTo>
                  <a:lnTo>
                    <a:pt x="2028" y="562"/>
                  </a:lnTo>
                  <a:lnTo>
                    <a:pt x="2032" y="512"/>
                  </a:lnTo>
                  <a:lnTo>
                    <a:pt x="2033" y="465"/>
                  </a:lnTo>
                  <a:lnTo>
                    <a:pt x="2030" y="422"/>
                  </a:lnTo>
                  <a:lnTo>
                    <a:pt x="2023" y="382"/>
                  </a:lnTo>
                  <a:lnTo>
                    <a:pt x="2013" y="345"/>
                  </a:lnTo>
                  <a:lnTo>
                    <a:pt x="1999" y="312"/>
                  </a:lnTo>
                  <a:lnTo>
                    <a:pt x="1981" y="284"/>
                  </a:lnTo>
                  <a:lnTo>
                    <a:pt x="1961" y="260"/>
                  </a:lnTo>
                  <a:lnTo>
                    <a:pt x="1941" y="242"/>
                  </a:lnTo>
                  <a:lnTo>
                    <a:pt x="1918" y="226"/>
                  </a:lnTo>
                  <a:lnTo>
                    <a:pt x="1896" y="214"/>
                  </a:lnTo>
                  <a:lnTo>
                    <a:pt x="1873" y="205"/>
                  </a:lnTo>
                  <a:lnTo>
                    <a:pt x="1851" y="198"/>
                  </a:lnTo>
                  <a:lnTo>
                    <a:pt x="1830" y="194"/>
                  </a:lnTo>
                  <a:lnTo>
                    <a:pt x="1812" y="191"/>
                  </a:lnTo>
                  <a:lnTo>
                    <a:pt x="1796" y="190"/>
                  </a:lnTo>
                  <a:lnTo>
                    <a:pt x="1782" y="189"/>
                  </a:lnTo>
                  <a:close/>
                  <a:moveTo>
                    <a:pt x="1778" y="0"/>
                  </a:moveTo>
                  <a:lnTo>
                    <a:pt x="1793" y="0"/>
                  </a:lnTo>
                  <a:lnTo>
                    <a:pt x="1812" y="1"/>
                  </a:lnTo>
                  <a:lnTo>
                    <a:pt x="1835" y="3"/>
                  </a:lnTo>
                  <a:lnTo>
                    <a:pt x="1860" y="7"/>
                  </a:lnTo>
                  <a:lnTo>
                    <a:pt x="1888" y="13"/>
                  </a:lnTo>
                  <a:lnTo>
                    <a:pt x="1918" y="22"/>
                  </a:lnTo>
                  <a:lnTo>
                    <a:pt x="1949" y="32"/>
                  </a:lnTo>
                  <a:lnTo>
                    <a:pt x="1982" y="46"/>
                  </a:lnTo>
                  <a:lnTo>
                    <a:pt x="2015" y="64"/>
                  </a:lnTo>
                  <a:lnTo>
                    <a:pt x="2046" y="84"/>
                  </a:lnTo>
                  <a:lnTo>
                    <a:pt x="2078" y="110"/>
                  </a:lnTo>
                  <a:lnTo>
                    <a:pt x="2108" y="139"/>
                  </a:lnTo>
                  <a:lnTo>
                    <a:pt x="2136" y="174"/>
                  </a:lnTo>
                  <a:lnTo>
                    <a:pt x="2162" y="214"/>
                  </a:lnTo>
                  <a:lnTo>
                    <a:pt x="2182" y="257"/>
                  </a:lnTo>
                  <a:lnTo>
                    <a:pt x="2200" y="303"/>
                  </a:lnTo>
                  <a:lnTo>
                    <a:pt x="2212" y="352"/>
                  </a:lnTo>
                  <a:lnTo>
                    <a:pt x="2220" y="405"/>
                  </a:lnTo>
                  <a:lnTo>
                    <a:pt x="2223" y="460"/>
                  </a:lnTo>
                  <a:lnTo>
                    <a:pt x="2223" y="519"/>
                  </a:lnTo>
                  <a:lnTo>
                    <a:pt x="2218" y="581"/>
                  </a:lnTo>
                  <a:lnTo>
                    <a:pt x="2208" y="645"/>
                  </a:lnTo>
                  <a:lnTo>
                    <a:pt x="2195" y="713"/>
                  </a:lnTo>
                  <a:lnTo>
                    <a:pt x="2176" y="784"/>
                  </a:lnTo>
                  <a:lnTo>
                    <a:pt x="2154" y="856"/>
                  </a:lnTo>
                  <a:lnTo>
                    <a:pt x="2136" y="913"/>
                  </a:lnTo>
                  <a:lnTo>
                    <a:pt x="2121" y="964"/>
                  </a:lnTo>
                  <a:lnTo>
                    <a:pt x="2108" y="1010"/>
                  </a:lnTo>
                  <a:lnTo>
                    <a:pt x="2097" y="1052"/>
                  </a:lnTo>
                  <a:lnTo>
                    <a:pt x="2088" y="1090"/>
                  </a:lnTo>
                  <a:lnTo>
                    <a:pt x="2081" y="1124"/>
                  </a:lnTo>
                  <a:lnTo>
                    <a:pt x="2075" y="1153"/>
                  </a:lnTo>
                  <a:lnTo>
                    <a:pt x="2071" y="1180"/>
                  </a:lnTo>
                  <a:lnTo>
                    <a:pt x="2069" y="1204"/>
                  </a:lnTo>
                  <a:lnTo>
                    <a:pt x="2067" y="1223"/>
                  </a:lnTo>
                  <a:lnTo>
                    <a:pt x="2066" y="1240"/>
                  </a:lnTo>
                  <a:lnTo>
                    <a:pt x="2066" y="1255"/>
                  </a:lnTo>
                  <a:lnTo>
                    <a:pt x="2066" y="1266"/>
                  </a:lnTo>
                  <a:lnTo>
                    <a:pt x="2122" y="1254"/>
                  </a:lnTo>
                  <a:lnTo>
                    <a:pt x="2176" y="1244"/>
                  </a:lnTo>
                  <a:lnTo>
                    <a:pt x="2177" y="1244"/>
                  </a:lnTo>
                  <a:lnTo>
                    <a:pt x="2182" y="1243"/>
                  </a:lnTo>
                  <a:lnTo>
                    <a:pt x="2193" y="1240"/>
                  </a:lnTo>
                  <a:lnTo>
                    <a:pt x="2208" y="1237"/>
                  </a:lnTo>
                  <a:lnTo>
                    <a:pt x="2228" y="1233"/>
                  </a:lnTo>
                  <a:lnTo>
                    <a:pt x="2254" y="1229"/>
                  </a:lnTo>
                  <a:lnTo>
                    <a:pt x="2284" y="1224"/>
                  </a:lnTo>
                  <a:lnTo>
                    <a:pt x="2316" y="1219"/>
                  </a:lnTo>
                  <a:lnTo>
                    <a:pt x="2353" y="1214"/>
                  </a:lnTo>
                  <a:lnTo>
                    <a:pt x="2392" y="1210"/>
                  </a:lnTo>
                  <a:lnTo>
                    <a:pt x="2434" y="1206"/>
                  </a:lnTo>
                  <a:lnTo>
                    <a:pt x="2478" y="1202"/>
                  </a:lnTo>
                  <a:lnTo>
                    <a:pt x="2523" y="1199"/>
                  </a:lnTo>
                  <a:lnTo>
                    <a:pt x="2600" y="1197"/>
                  </a:lnTo>
                  <a:lnTo>
                    <a:pt x="2672" y="1198"/>
                  </a:lnTo>
                  <a:lnTo>
                    <a:pt x="2740" y="1204"/>
                  </a:lnTo>
                  <a:lnTo>
                    <a:pt x="2803" y="1212"/>
                  </a:lnTo>
                  <a:lnTo>
                    <a:pt x="2863" y="1224"/>
                  </a:lnTo>
                  <a:lnTo>
                    <a:pt x="2917" y="1239"/>
                  </a:lnTo>
                  <a:lnTo>
                    <a:pt x="2967" y="1258"/>
                  </a:lnTo>
                  <a:lnTo>
                    <a:pt x="3012" y="1279"/>
                  </a:lnTo>
                  <a:lnTo>
                    <a:pt x="3052" y="1305"/>
                  </a:lnTo>
                  <a:lnTo>
                    <a:pt x="3088" y="1335"/>
                  </a:lnTo>
                  <a:lnTo>
                    <a:pt x="3121" y="1367"/>
                  </a:lnTo>
                  <a:lnTo>
                    <a:pt x="3147" y="1401"/>
                  </a:lnTo>
                  <a:lnTo>
                    <a:pt x="3169" y="1436"/>
                  </a:lnTo>
                  <a:lnTo>
                    <a:pt x="3185" y="1471"/>
                  </a:lnTo>
                  <a:lnTo>
                    <a:pt x="3197" y="1507"/>
                  </a:lnTo>
                  <a:lnTo>
                    <a:pt x="3205" y="1543"/>
                  </a:lnTo>
                  <a:lnTo>
                    <a:pt x="3209" y="1577"/>
                  </a:lnTo>
                  <a:lnTo>
                    <a:pt x="3210" y="1612"/>
                  </a:lnTo>
                  <a:lnTo>
                    <a:pt x="3208" y="1646"/>
                  </a:lnTo>
                  <a:lnTo>
                    <a:pt x="3203" y="1679"/>
                  </a:lnTo>
                  <a:lnTo>
                    <a:pt x="3196" y="1711"/>
                  </a:lnTo>
                  <a:lnTo>
                    <a:pt x="3187" y="1740"/>
                  </a:lnTo>
                  <a:lnTo>
                    <a:pt x="3178" y="1767"/>
                  </a:lnTo>
                  <a:lnTo>
                    <a:pt x="3195" y="1791"/>
                  </a:lnTo>
                  <a:lnTo>
                    <a:pt x="3213" y="1819"/>
                  </a:lnTo>
                  <a:lnTo>
                    <a:pt x="3229" y="1851"/>
                  </a:lnTo>
                  <a:lnTo>
                    <a:pt x="3243" y="1886"/>
                  </a:lnTo>
                  <a:lnTo>
                    <a:pt x="3256" y="1924"/>
                  </a:lnTo>
                  <a:lnTo>
                    <a:pt x="3265" y="1966"/>
                  </a:lnTo>
                  <a:lnTo>
                    <a:pt x="3269" y="2010"/>
                  </a:lnTo>
                  <a:lnTo>
                    <a:pt x="3268" y="2058"/>
                  </a:lnTo>
                  <a:lnTo>
                    <a:pt x="3261" y="2106"/>
                  </a:lnTo>
                  <a:lnTo>
                    <a:pt x="3247" y="2153"/>
                  </a:lnTo>
                  <a:lnTo>
                    <a:pt x="3228" y="2199"/>
                  </a:lnTo>
                  <a:lnTo>
                    <a:pt x="3202" y="2244"/>
                  </a:lnTo>
                  <a:lnTo>
                    <a:pt x="3171" y="2289"/>
                  </a:lnTo>
                  <a:lnTo>
                    <a:pt x="3181" y="2318"/>
                  </a:lnTo>
                  <a:lnTo>
                    <a:pt x="3189" y="2352"/>
                  </a:lnTo>
                  <a:lnTo>
                    <a:pt x="3196" y="2390"/>
                  </a:lnTo>
                  <a:lnTo>
                    <a:pt x="3200" y="2431"/>
                  </a:lnTo>
                  <a:lnTo>
                    <a:pt x="3200" y="2461"/>
                  </a:lnTo>
                  <a:lnTo>
                    <a:pt x="3198" y="2494"/>
                  </a:lnTo>
                  <a:lnTo>
                    <a:pt x="3194" y="2529"/>
                  </a:lnTo>
                  <a:lnTo>
                    <a:pt x="3186" y="2566"/>
                  </a:lnTo>
                  <a:lnTo>
                    <a:pt x="3175" y="2603"/>
                  </a:lnTo>
                  <a:lnTo>
                    <a:pt x="3158" y="2642"/>
                  </a:lnTo>
                  <a:lnTo>
                    <a:pt x="3138" y="2680"/>
                  </a:lnTo>
                  <a:lnTo>
                    <a:pt x="3111" y="2718"/>
                  </a:lnTo>
                  <a:lnTo>
                    <a:pt x="3079" y="2757"/>
                  </a:lnTo>
                  <a:lnTo>
                    <a:pt x="3041" y="2796"/>
                  </a:lnTo>
                  <a:lnTo>
                    <a:pt x="3044" y="2826"/>
                  </a:lnTo>
                  <a:lnTo>
                    <a:pt x="3045" y="2860"/>
                  </a:lnTo>
                  <a:lnTo>
                    <a:pt x="3044" y="2897"/>
                  </a:lnTo>
                  <a:lnTo>
                    <a:pt x="3038" y="2937"/>
                  </a:lnTo>
                  <a:lnTo>
                    <a:pt x="3029" y="2979"/>
                  </a:lnTo>
                  <a:lnTo>
                    <a:pt x="3013" y="3022"/>
                  </a:lnTo>
                  <a:lnTo>
                    <a:pt x="2993" y="3066"/>
                  </a:lnTo>
                  <a:lnTo>
                    <a:pt x="2968" y="3105"/>
                  </a:lnTo>
                  <a:lnTo>
                    <a:pt x="2940" y="3141"/>
                  </a:lnTo>
                  <a:lnTo>
                    <a:pt x="2906" y="3175"/>
                  </a:lnTo>
                  <a:lnTo>
                    <a:pt x="2869" y="3206"/>
                  </a:lnTo>
                  <a:lnTo>
                    <a:pt x="2827" y="3235"/>
                  </a:lnTo>
                  <a:lnTo>
                    <a:pt x="2781" y="3261"/>
                  </a:lnTo>
                  <a:lnTo>
                    <a:pt x="2731" y="3284"/>
                  </a:lnTo>
                  <a:lnTo>
                    <a:pt x="2677" y="3304"/>
                  </a:lnTo>
                  <a:lnTo>
                    <a:pt x="2618" y="3323"/>
                  </a:lnTo>
                  <a:lnTo>
                    <a:pt x="2556" y="3338"/>
                  </a:lnTo>
                  <a:lnTo>
                    <a:pt x="2499" y="3348"/>
                  </a:lnTo>
                  <a:lnTo>
                    <a:pt x="2437" y="3357"/>
                  </a:lnTo>
                  <a:lnTo>
                    <a:pt x="2372" y="3363"/>
                  </a:lnTo>
                  <a:lnTo>
                    <a:pt x="2302" y="3366"/>
                  </a:lnTo>
                  <a:lnTo>
                    <a:pt x="2228" y="3367"/>
                  </a:lnTo>
                  <a:lnTo>
                    <a:pt x="2154" y="3366"/>
                  </a:lnTo>
                  <a:lnTo>
                    <a:pt x="2075" y="3363"/>
                  </a:lnTo>
                  <a:lnTo>
                    <a:pt x="1993" y="3358"/>
                  </a:lnTo>
                  <a:lnTo>
                    <a:pt x="1920" y="3359"/>
                  </a:lnTo>
                  <a:lnTo>
                    <a:pt x="1848" y="3359"/>
                  </a:lnTo>
                  <a:lnTo>
                    <a:pt x="1776" y="3358"/>
                  </a:lnTo>
                  <a:lnTo>
                    <a:pt x="1707" y="3356"/>
                  </a:lnTo>
                  <a:lnTo>
                    <a:pt x="1638" y="3353"/>
                  </a:lnTo>
                  <a:lnTo>
                    <a:pt x="1572" y="3350"/>
                  </a:lnTo>
                  <a:lnTo>
                    <a:pt x="1508" y="3346"/>
                  </a:lnTo>
                  <a:lnTo>
                    <a:pt x="1447" y="3342"/>
                  </a:lnTo>
                  <a:lnTo>
                    <a:pt x="1388" y="3338"/>
                  </a:lnTo>
                  <a:lnTo>
                    <a:pt x="1333" y="3334"/>
                  </a:lnTo>
                  <a:lnTo>
                    <a:pt x="1282" y="3330"/>
                  </a:lnTo>
                  <a:lnTo>
                    <a:pt x="1236" y="3326"/>
                  </a:lnTo>
                  <a:lnTo>
                    <a:pt x="1193" y="3322"/>
                  </a:lnTo>
                  <a:lnTo>
                    <a:pt x="1156" y="3318"/>
                  </a:lnTo>
                  <a:lnTo>
                    <a:pt x="1124" y="3315"/>
                  </a:lnTo>
                  <a:lnTo>
                    <a:pt x="1098" y="3311"/>
                  </a:lnTo>
                  <a:lnTo>
                    <a:pt x="1077" y="3308"/>
                  </a:lnTo>
                  <a:lnTo>
                    <a:pt x="1063" y="3307"/>
                  </a:lnTo>
                  <a:lnTo>
                    <a:pt x="1055" y="3306"/>
                  </a:lnTo>
                  <a:lnTo>
                    <a:pt x="890" y="3286"/>
                  </a:lnTo>
                  <a:lnTo>
                    <a:pt x="860" y="3304"/>
                  </a:lnTo>
                  <a:lnTo>
                    <a:pt x="828" y="3320"/>
                  </a:lnTo>
                  <a:lnTo>
                    <a:pt x="794" y="3331"/>
                  </a:lnTo>
                  <a:lnTo>
                    <a:pt x="758" y="3337"/>
                  </a:lnTo>
                  <a:lnTo>
                    <a:pt x="721" y="3340"/>
                  </a:lnTo>
                  <a:lnTo>
                    <a:pt x="293" y="3340"/>
                  </a:lnTo>
                  <a:lnTo>
                    <a:pt x="249" y="3337"/>
                  </a:lnTo>
                  <a:lnTo>
                    <a:pt x="208" y="3328"/>
                  </a:lnTo>
                  <a:lnTo>
                    <a:pt x="169" y="3312"/>
                  </a:lnTo>
                  <a:lnTo>
                    <a:pt x="133" y="3293"/>
                  </a:lnTo>
                  <a:lnTo>
                    <a:pt x="100" y="3268"/>
                  </a:lnTo>
                  <a:lnTo>
                    <a:pt x="72" y="3239"/>
                  </a:lnTo>
                  <a:lnTo>
                    <a:pt x="47" y="3206"/>
                  </a:lnTo>
                  <a:lnTo>
                    <a:pt x="27" y="3170"/>
                  </a:lnTo>
                  <a:lnTo>
                    <a:pt x="12" y="3131"/>
                  </a:lnTo>
                  <a:lnTo>
                    <a:pt x="3" y="3090"/>
                  </a:lnTo>
                  <a:lnTo>
                    <a:pt x="0" y="3047"/>
                  </a:lnTo>
                  <a:lnTo>
                    <a:pt x="0" y="1902"/>
                  </a:lnTo>
                  <a:lnTo>
                    <a:pt x="3" y="1859"/>
                  </a:lnTo>
                  <a:lnTo>
                    <a:pt x="12" y="1818"/>
                  </a:lnTo>
                  <a:lnTo>
                    <a:pt x="27" y="1779"/>
                  </a:lnTo>
                  <a:lnTo>
                    <a:pt x="47" y="1743"/>
                  </a:lnTo>
                  <a:lnTo>
                    <a:pt x="72" y="1711"/>
                  </a:lnTo>
                  <a:lnTo>
                    <a:pt x="100" y="1682"/>
                  </a:lnTo>
                  <a:lnTo>
                    <a:pt x="133" y="1657"/>
                  </a:lnTo>
                  <a:lnTo>
                    <a:pt x="169" y="1637"/>
                  </a:lnTo>
                  <a:lnTo>
                    <a:pt x="208" y="1622"/>
                  </a:lnTo>
                  <a:lnTo>
                    <a:pt x="249" y="1613"/>
                  </a:lnTo>
                  <a:lnTo>
                    <a:pt x="293" y="1609"/>
                  </a:lnTo>
                  <a:lnTo>
                    <a:pt x="721" y="1609"/>
                  </a:lnTo>
                  <a:lnTo>
                    <a:pt x="758" y="1612"/>
                  </a:lnTo>
                  <a:lnTo>
                    <a:pt x="794" y="1618"/>
                  </a:lnTo>
                  <a:lnTo>
                    <a:pt x="829" y="1630"/>
                  </a:lnTo>
                  <a:lnTo>
                    <a:pt x="860" y="1645"/>
                  </a:lnTo>
                  <a:lnTo>
                    <a:pt x="880" y="1605"/>
                  </a:lnTo>
                  <a:lnTo>
                    <a:pt x="903" y="1564"/>
                  </a:lnTo>
                  <a:lnTo>
                    <a:pt x="930" y="1521"/>
                  </a:lnTo>
                  <a:lnTo>
                    <a:pt x="962" y="1479"/>
                  </a:lnTo>
                  <a:lnTo>
                    <a:pt x="999" y="1438"/>
                  </a:lnTo>
                  <a:lnTo>
                    <a:pt x="1002" y="1434"/>
                  </a:lnTo>
                  <a:lnTo>
                    <a:pt x="1006" y="1431"/>
                  </a:lnTo>
                  <a:lnTo>
                    <a:pt x="1010" y="1428"/>
                  </a:lnTo>
                  <a:lnTo>
                    <a:pt x="1043" y="1399"/>
                  </a:lnTo>
                  <a:lnTo>
                    <a:pt x="1076" y="1364"/>
                  </a:lnTo>
                  <a:lnTo>
                    <a:pt x="1111" y="1324"/>
                  </a:lnTo>
                  <a:lnTo>
                    <a:pt x="1145" y="1279"/>
                  </a:lnTo>
                  <a:lnTo>
                    <a:pt x="1179" y="1230"/>
                  </a:lnTo>
                  <a:lnTo>
                    <a:pt x="1213" y="1178"/>
                  </a:lnTo>
                  <a:lnTo>
                    <a:pt x="1246" y="1122"/>
                  </a:lnTo>
                  <a:lnTo>
                    <a:pt x="1280" y="1063"/>
                  </a:lnTo>
                  <a:lnTo>
                    <a:pt x="1313" y="1004"/>
                  </a:lnTo>
                  <a:lnTo>
                    <a:pt x="1344" y="942"/>
                  </a:lnTo>
                  <a:lnTo>
                    <a:pt x="1375" y="881"/>
                  </a:lnTo>
                  <a:lnTo>
                    <a:pt x="1405" y="819"/>
                  </a:lnTo>
                  <a:lnTo>
                    <a:pt x="1432" y="758"/>
                  </a:lnTo>
                  <a:lnTo>
                    <a:pt x="1460" y="698"/>
                  </a:lnTo>
                  <a:lnTo>
                    <a:pt x="1486" y="640"/>
                  </a:lnTo>
                  <a:lnTo>
                    <a:pt x="1509" y="584"/>
                  </a:lnTo>
                  <a:lnTo>
                    <a:pt x="1531" y="532"/>
                  </a:lnTo>
                  <a:lnTo>
                    <a:pt x="1550" y="483"/>
                  </a:lnTo>
                  <a:lnTo>
                    <a:pt x="1567" y="437"/>
                  </a:lnTo>
                  <a:lnTo>
                    <a:pt x="1583" y="398"/>
                  </a:lnTo>
                  <a:lnTo>
                    <a:pt x="1581" y="375"/>
                  </a:lnTo>
                  <a:lnTo>
                    <a:pt x="1578" y="347"/>
                  </a:lnTo>
                  <a:lnTo>
                    <a:pt x="1577" y="318"/>
                  </a:lnTo>
                  <a:lnTo>
                    <a:pt x="1577" y="286"/>
                  </a:lnTo>
                  <a:lnTo>
                    <a:pt x="1578" y="252"/>
                  </a:lnTo>
                  <a:lnTo>
                    <a:pt x="1582" y="217"/>
                  </a:lnTo>
                  <a:lnTo>
                    <a:pt x="1587" y="183"/>
                  </a:lnTo>
                  <a:lnTo>
                    <a:pt x="1596" y="150"/>
                  </a:lnTo>
                  <a:lnTo>
                    <a:pt x="1607" y="118"/>
                  </a:lnTo>
                  <a:lnTo>
                    <a:pt x="1623" y="88"/>
                  </a:lnTo>
                  <a:lnTo>
                    <a:pt x="1642" y="62"/>
                  </a:lnTo>
                  <a:lnTo>
                    <a:pt x="1665" y="40"/>
                  </a:lnTo>
                  <a:lnTo>
                    <a:pt x="1689" y="23"/>
                  </a:lnTo>
                  <a:lnTo>
                    <a:pt x="1717" y="10"/>
                  </a:lnTo>
                  <a:lnTo>
                    <a:pt x="1747" y="2"/>
                  </a:lnTo>
                  <a:lnTo>
                    <a:pt x="17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7" name="Group 6"/>
          <p:cNvGrpSpPr/>
          <p:nvPr/>
        </p:nvGrpSpPr>
        <p:grpSpPr>
          <a:xfrm>
            <a:off x="6491160" y="4383000"/>
            <a:ext cx="730440" cy="709920"/>
            <a:chOff x="6491160" y="4383000"/>
            <a:chExt cx="730440" cy="709920"/>
          </a:xfrm>
        </p:grpSpPr>
        <p:sp>
          <p:nvSpPr>
            <p:cNvPr id="2248" name="Oval 59"/>
            <p:cNvSpPr/>
            <p:nvPr/>
          </p:nvSpPr>
          <p:spPr>
            <a:xfrm>
              <a:off x="6491160" y="4383000"/>
              <a:ext cx="730440" cy="709920"/>
            </a:xfrm>
            <a:prstGeom prst="ellipse">
              <a:avLst/>
            </a:prstGeom>
            <a:solidFill>
              <a:srgbClr val="ff9a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9" name="Group 79"/>
            <p:cNvGrpSpPr/>
            <p:nvPr/>
          </p:nvGrpSpPr>
          <p:grpSpPr>
            <a:xfrm>
              <a:off x="0" y="0"/>
              <a:ext cx="0" cy="0"/>
              <a:chOff x="0" y="0"/>
              <a:chExt cx="0" cy="0"/>
            </a:xfrm>
          </p:grpSpPr>
        </p:grpSp>
      </p:grpSp>
      <p:grpSp>
        <p:nvGrpSpPr>
          <p:cNvPr id="2250" name="Group 7"/>
          <p:cNvGrpSpPr/>
          <p:nvPr/>
        </p:nvGrpSpPr>
        <p:grpSpPr>
          <a:xfrm>
            <a:off x="6340320" y="2367000"/>
            <a:ext cx="703440" cy="682560"/>
            <a:chOff x="6340320" y="2367000"/>
            <a:chExt cx="703440" cy="682560"/>
          </a:xfrm>
        </p:grpSpPr>
        <p:sp>
          <p:nvSpPr>
            <p:cNvPr id="2251" name="Oval 61"/>
            <p:cNvSpPr/>
            <p:nvPr/>
          </p:nvSpPr>
          <p:spPr>
            <a:xfrm>
              <a:off x="6340320" y="2367000"/>
              <a:ext cx="703440" cy="682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52" name="Group 100"/>
            <p:cNvGrpSpPr/>
            <p:nvPr/>
          </p:nvGrpSpPr>
          <p:grpSpPr>
            <a:xfrm>
              <a:off x="0" y="0"/>
              <a:ext cx="0" cy="0"/>
              <a:chOff x="0" y="0"/>
              <a:chExt cx="0" cy="0"/>
            </a:xfrm>
          </p:grpSpPr>
        </p:grpSp>
      </p:grpSp>
      <p:grpSp>
        <p:nvGrpSpPr>
          <p:cNvPr id="2253" name="组合 28"/>
          <p:cNvGrpSpPr/>
          <p:nvPr/>
        </p:nvGrpSpPr>
        <p:grpSpPr>
          <a:xfrm>
            <a:off x="874800" y="476280"/>
            <a:ext cx="10360080" cy="0"/>
            <a:chOff x="874800" y="476280"/>
            <a:chExt cx="10360080" cy="0"/>
          </a:xfrm>
        </p:grpSpPr>
        <p:sp>
          <p:nvSpPr>
            <p:cNvPr id="2254" name="直接连接符 58"/>
            <p:cNvSpPr/>
            <p:nvPr/>
          </p:nvSpPr>
          <p:spPr>
            <a:xfrm>
              <a:off x="874800" y="47628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5" name="直接连接符 59"/>
            <p:cNvSpPr/>
            <p:nvPr/>
          </p:nvSpPr>
          <p:spPr>
            <a:xfrm>
              <a:off x="10128240" y="476280"/>
              <a:ext cx="110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256" name="文本框 60"/>
          <p:cNvSpPr/>
          <p:nvPr/>
        </p:nvSpPr>
        <p:spPr>
          <a:xfrm>
            <a:off x="3768840" y="824040"/>
            <a:ext cx="5783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五、与被审计单位治理层沟通</a:t>
            </a:r>
            <a:endParaRPr b="1" lang="en-US" sz="3200" spc="-1" strike="noStrike">
              <a:solidFill>
                <a:srgbClr val="000000"/>
              </a:solidFill>
              <a:latin typeface="Arial"/>
            </a:endParaRPr>
          </a:p>
        </p:txBody>
      </p:sp>
      <p:sp>
        <p:nvSpPr>
          <p:cNvPr id="2257" name="矩形 62"/>
          <p:cNvSpPr/>
          <p:nvPr/>
        </p:nvSpPr>
        <p:spPr>
          <a:xfrm>
            <a:off x="2119320" y="8892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258" name="文本框 65"/>
          <p:cNvSpPr/>
          <p:nvPr/>
        </p:nvSpPr>
        <p:spPr>
          <a:xfrm>
            <a:off x="623880" y="1449360"/>
            <a:ext cx="1030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应当直接与被审计单位治理层沟通的主要事项包括：</a:t>
            </a:r>
            <a:endParaRPr b="1" lang="en-US" sz="2400" spc="-1" strike="noStrike">
              <a:solidFill>
                <a:srgbClr val="000000"/>
              </a:solidFill>
              <a:latin typeface="Arial"/>
            </a:endParaRPr>
          </a:p>
        </p:txBody>
      </p:sp>
      <p:sp>
        <p:nvSpPr>
          <p:cNvPr id="2259" name="Inhaltsplatzhalter 4"/>
          <p:cNvSpPr/>
          <p:nvPr/>
        </p:nvSpPr>
        <p:spPr>
          <a:xfrm>
            <a:off x="7245360" y="2075040"/>
            <a:ext cx="4946760" cy="112824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微软雅黑"/>
              </a:rPr>
              <a:t>4</a:t>
            </a:r>
            <a:r>
              <a:rPr b="1" lang="en-US" sz="2400" spc="-1" strike="noStrike">
                <a:solidFill>
                  <a:srgbClr val="0070c0"/>
                </a:solidFill>
                <a:latin typeface="Arial"/>
              </a:rPr>
              <a:t>. </a:t>
            </a:r>
            <a:r>
              <a:rPr b="1" lang="zh-CN" sz="2400" spc="-1" strike="noStrike">
                <a:solidFill>
                  <a:srgbClr val="0070c0"/>
                </a:solidFill>
                <a:latin typeface="Arial"/>
                <a:ea typeface="宋体"/>
              </a:rPr>
              <a:t>注册会计师的独立性。 </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就审计项目组成员、会计师事务所其他相关人员，以及会计师事务所按 照法律法规和职业道德规范的规定保持了独立性做出声明。 （</a:t>
            </a:r>
            <a:r>
              <a:rPr b="1" lang="en-US" sz="2000" spc="-1" strike="noStrike">
                <a:solidFill>
                  <a:srgbClr val="000000"/>
                </a:solidFill>
                <a:latin typeface="Arial"/>
              </a:rPr>
              <a:t>2</a:t>
            </a:r>
            <a:r>
              <a:rPr b="1" lang="zh-CN" sz="2000" spc="-1" strike="noStrike">
                <a:solidFill>
                  <a:srgbClr val="000000"/>
                </a:solidFill>
                <a:latin typeface="Arial"/>
                <a:ea typeface="宋体"/>
              </a:rPr>
              <a:t>）根据职业判断，注册会计师认为会计师事务所与被审计单位之间存在的 可能影响独立性的所有关系和其他事项，其中包括会计师事务所在财务报表涵盖 期间为被审计单位和受被审计单位控制的组成部分提供审计、非审计服务的收费 总额。 （</a:t>
            </a:r>
            <a:r>
              <a:rPr b="1" lang="en-US" sz="2000" spc="-1" strike="noStrike">
                <a:solidFill>
                  <a:srgbClr val="000000"/>
                </a:solidFill>
                <a:latin typeface="Arial"/>
              </a:rPr>
              <a:t>3</a:t>
            </a:r>
            <a:r>
              <a:rPr b="1" lang="zh-CN" sz="2000" spc="-1" strike="noStrike">
                <a:solidFill>
                  <a:srgbClr val="000000"/>
                </a:solidFill>
                <a:latin typeface="Arial"/>
                <a:ea typeface="宋体"/>
              </a:rPr>
              <a:t>）为消除对独立性的威胁或将其降至可接受的水平，已经采取的相关防护措施。</a:t>
            </a:r>
            <a:endParaRPr b="1" lang="en-US" sz="2000" spc="-1" strike="noStrike">
              <a:solidFill>
                <a:srgbClr val="000000"/>
              </a:solidFill>
              <a:latin typeface="Arial"/>
            </a:endParaRPr>
          </a:p>
        </p:txBody>
      </p:sp>
      <p:cxnSp>
        <p:nvCxnSpPr>
          <p:cNvPr id="2260" name="直接箭头连接符 61"/>
          <p:cNvCxnSpPr/>
          <p:nvPr/>
        </p:nvCxnSpPr>
        <p:spPr>
          <a:xfrm>
            <a:off x="6940440" y="2680920"/>
            <a:ext cx="478800" cy="1080"/>
          </a:xfrm>
          <a:prstGeom prst="straightConnector1">
            <a:avLst/>
          </a:prstGeom>
          <a:ln w="6480">
            <a:solidFill>
              <a:srgbClr val="5b9bd4"/>
            </a:solidFill>
            <a:miter/>
            <a:tailEnd len="med" type="triangle" w="med"/>
          </a:ln>
        </p:spPr>
      </p:cxnSp>
      <p:cxnSp>
        <p:nvCxnSpPr>
          <p:cNvPr id="2261" name="直接箭头连接符 63"/>
          <p:cNvCxnSpPr/>
          <p:nvPr/>
        </p:nvCxnSpPr>
        <p:spPr>
          <a:xfrm flipH="1">
            <a:off x="4048920" y="2717280"/>
            <a:ext cx="477000" cy="1080"/>
          </a:xfrm>
          <a:prstGeom prst="straightConnector1">
            <a:avLst/>
          </a:prstGeom>
          <a:ln w="6480">
            <a:solidFill>
              <a:srgbClr val="5b9bd4"/>
            </a:solidFill>
            <a:miter/>
            <a:tailEnd len="med" type="triangle" w="med"/>
          </a:ln>
        </p:spPr>
      </p:cxn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dur="indefinite" nodeType="afterEffect" fill="hold" presetClass="entr" presetID="42">
                                  <p:stCondLst>
                                    <p:cond delay="0"/>
                                  </p:stCondLst>
                                  <p:childTnLst>
                                    <p:set>
                                      <p:cBhvr>
                                        <p:cTn id="256" dur="1" fill="hold">
                                          <p:stCondLst>
                                            <p:cond delay="0"/>
                                          </p:stCondLst>
                                        </p:cTn>
                                        <p:tgtEl>
                                          <p:spTgt spid="2229"/>
                                        </p:tgtEl>
                                        <p:attrNameLst>
                                          <p:attrName>style.visibility</p:attrName>
                                        </p:attrNameLst>
                                      </p:cBhvr>
                                      <p:to>
                                        <p:strVal val="visible"/>
                                      </p:to>
                                    </p:set>
                                    <p:animEffect filter="fade" transition="in">
                                      <p:cBhvr additive="repl">
                                        <p:cTn id="257" dur="500"/>
                                        <p:tgtEl>
                                          <p:spTgt spid="2229"/>
                                        </p:tgtEl>
                                      </p:cBhvr>
                                    </p:animEffect>
                                    <p:anim calcmode="lin" valueType="num">
                                      <p:cBhvr additive="repl">
                                        <p:cTn id="258" dur="500" fill="hold"/>
                                        <p:tgtEl>
                                          <p:spTgt spid="2229"/>
                                        </p:tgtEl>
                                        <p:attrNameLst>
                                          <p:attrName>ppt_x</p:attrName>
                                        </p:attrNameLst>
                                      </p:cBhvr>
                                      <p:tavLst>
                                        <p:tav tm="0">
                                          <p:val>
                                            <p:strVal val="#ppt_x"/>
                                          </p:val>
                                        </p:tav>
                                        <p:tav tm="100000">
                                          <p:val>
                                            <p:strVal val="#ppt_x"/>
                                          </p:val>
                                        </p:tav>
                                      </p:tavLst>
                                    </p:anim>
                                    <p:anim calcmode="lin" valueType="num">
                                      <p:cBhvr additive="repl">
                                        <p:cTn id="259" dur="500" fill="hold"/>
                                        <p:tgtEl>
                                          <p:spTgt spid="2229"/>
                                        </p:tgtEl>
                                        <p:attrNameLst>
                                          <p:attrName>ppt_y</p:attrName>
                                        </p:attrNameLst>
                                      </p:cBhvr>
                                      <p:tavLst>
                                        <p:tav tm="0">
                                          <p:val>
                                            <p:strVal val="#ppt_y+.1"/>
                                          </p:val>
                                        </p:tav>
                                        <p:tav tm="100000">
                                          <p:val>
                                            <p:strVal val="#ppt_y"/>
                                          </p:val>
                                        </p:tav>
                                      </p:tavLst>
                                    </p:anim>
                                  </p:childTnLst>
                                </p:cTn>
                              </p:par>
                            </p:childTnLst>
                          </p:cTn>
                        </p:par>
                        <p:par>
                          <p:cTn id="260" fill="hold">
                            <p:stCondLst>
                              <p:cond delay="500"/>
                            </p:stCondLst>
                            <p:childTnLst>
                              <p:par>
                                <p:cTn id="261" dur="indefinite" nodeType="afterEffect" fill="hold" presetClass="entr" presetID="18" presetSubtype="9">
                                  <p:stCondLst>
                                    <p:cond delay="0"/>
                                  </p:stCondLst>
                                  <p:childTnLst>
                                    <p:set>
                                      <p:cBhvr>
                                        <p:cTn id="262" dur="1" fill="hold">
                                          <p:stCondLst>
                                            <p:cond delay="0"/>
                                          </p:stCondLst>
                                        </p:cTn>
                                        <p:tgtEl>
                                          <p:spTgt spid="2215"/>
                                        </p:tgtEl>
                                        <p:attrNameLst>
                                          <p:attrName>style.visibility</p:attrName>
                                        </p:attrNameLst>
                                      </p:cBhvr>
                                      <p:to>
                                        <p:strVal val="visible"/>
                                      </p:to>
                                    </p:set>
                                    <p:animEffect filter="strips(upLeft)" transition="in">
                                      <p:cBhvr additive="repl">
                                        <p:cTn id="263" dur="500"/>
                                        <p:tgtEl>
                                          <p:spTgt spid="2215"/>
                                        </p:tgtEl>
                                      </p:cBhvr>
                                    </p:animEffect>
                                  </p:childTnLst>
                                </p:cTn>
                              </p:par>
                            </p:childTnLst>
                          </p:cTn>
                        </p:par>
                        <p:par>
                          <p:cTn id="264" fill="hold">
                            <p:stCondLst>
                              <p:cond delay="1000"/>
                            </p:stCondLst>
                            <p:childTnLst>
                              <p:par>
                                <p:cTn id="265" dur="indefinite" nodeType="afterEffect" fill="hold" presetClass="entr" presetID="53" presetSubtype="16">
                                  <p:stCondLst>
                                    <p:cond delay="0"/>
                                  </p:stCondLst>
                                  <p:childTnLst>
                                    <p:set>
                                      <p:cBhvr>
                                        <p:cTn id="266" dur="1" fill="hold">
                                          <p:stCondLst>
                                            <p:cond delay="0"/>
                                          </p:stCondLst>
                                        </p:cTn>
                                        <p:tgtEl>
                                          <p:spTgt spid="2228"/>
                                        </p:tgtEl>
                                        <p:attrNameLst>
                                          <p:attrName>style.visibility</p:attrName>
                                        </p:attrNameLst>
                                      </p:cBhvr>
                                      <p:to>
                                        <p:strVal val="visible"/>
                                      </p:to>
                                    </p:set>
                                    <p:anim calcmode="lin" valueType="num">
                                      <p:cBhvr additive="repl">
                                        <p:cTn id="267" dur="500" fill="hold"/>
                                        <p:tgtEl>
                                          <p:spTgt spid="2228"/>
                                        </p:tgtEl>
                                        <p:attrNameLst>
                                          <p:attrName>ppt_w</p:attrName>
                                        </p:attrNameLst>
                                      </p:cBhvr>
                                      <p:tavLst>
                                        <p:tav tm="0">
                                          <p:val>
                                            <p:fltVal val="0"/>
                                          </p:val>
                                        </p:tav>
                                        <p:tav tm="100000">
                                          <p:val>
                                            <p:strVal val="#ppt_w"/>
                                          </p:val>
                                        </p:tav>
                                      </p:tavLst>
                                    </p:anim>
                                    <p:anim calcmode="lin" valueType="num">
                                      <p:cBhvr additive="repl">
                                        <p:cTn id="268" dur="500" fill="hold"/>
                                        <p:tgtEl>
                                          <p:spTgt spid="2228"/>
                                        </p:tgtEl>
                                        <p:attrNameLst>
                                          <p:attrName>ppt_h</p:attrName>
                                        </p:attrNameLst>
                                      </p:cBhvr>
                                      <p:tavLst>
                                        <p:tav tm="0">
                                          <p:val>
                                            <p:fltVal val="0"/>
                                          </p:val>
                                        </p:tav>
                                        <p:tav tm="100000">
                                          <p:val>
                                            <p:strVal val="#ppt_h"/>
                                          </p:val>
                                        </p:tav>
                                      </p:tavLst>
                                    </p:anim>
                                    <p:animEffect filter="fade" transition="in">
                                      <p:cBhvr additive="repl">
                                        <p:cTn id="269" dur="500"/>
                                        <p:tgtEl>
                                          <p:spTgt spid="2228"/>
                                        </p:tgtEl>
                                      </p:cBhvr>
                                    </p:animEffect>
                                  </p:childTnLst>
                                </p:cTn>
                              </p:par>
                              <p:par>
                                <p:cTn id="270" dur="indefinite" nodeType="withEffect" fill="hold" presetClass="entr" presetID="53" presetSubtype="16">
                                  <p:stCondLst>
                                    <p:cond delay="0"/>
                                  </p:stCondLst>
                                  <p:childTnLst>
                                    <p:set>
                                      <p:cBhvr>
                                        <p:cTn id="271" dur="1" fill="hold">
                                          <p:stCondLst>
                                            <p:cond delay="0"/>
                                          </p:stCondLst>
                                        </p:cTn>
                                        <p:tgtEl>
                                          <p:spTgt spid="2244"/>
                                        </p:tgtEl>
                                        <p:attrNameLst>
                                          <p:attrName>style.visibility</p:attrName>
                                        </p:attrNameLst>
                                      </p:cBhvr>
                                      <p:to>
                                        <p:strVal val="visible"/>
                                      </p:to>
                                    </p:set>
                                    <p:anim calcmode="lin" valueType="num">
                                      <p:cBhvr additive="repl">
                                        <p:cTn id="272" dur="500" fill="hold"/>
                                        <p:tgtEl>
                                          <p:spTgt spid="2244"/>
                                        </p:tgtEl>
                                        <p:attrNameLst>
                                          <p:attrName>ppt_w</p:attrName>
                                        </p:attrNameLst>
                                      </p:cBhvr>
                                      <p:tavLst>
                                        <p:tav tm="0">
                                          <p:val>
                                            <p:fltVal val="0"/>
                                          </p:val>
                                        </p:tav>
                                        <p:tav tm="100000">
                                          <p:val>
                                            <p:strVal val="#ppt_w"/>
                                          </p:val>
                                        </p:tav>
                                      </p:tavLst>
                                    </p:anim>
                                    <p:anim calcmode="lin" valueType="num">
                                      <p:cBhvr additive="repl">
                                        <p:cTn id="273" dur="500" fill="hold"/>
                                        <p:tgtEl>
                                          <p:spTgt spid="2244"/>
                                        </p:tgtEl>
                                        <p:attrNameLst>
                                          <p:attrName>ppt_h</p:attrName>
                                        </p:attrNameLst>
                                      </p:cBhvr>
                                      <p:tavLst>
                                        <p:tav tm="0">
                                          <p:val>
                                            <p:fltVal val="0"/>
                                          </p:val>
                                        </p:tav>
                                        <p:tav tm="100000">
                                          <p:val>
                                            <p:strVal val="#ppt_h"/>
                                          </p:val>
                                        </p:tav>
                                      </p:tavLst>
                                    </p:anim>
                                    <p:animEffect filter="fade" transition="in">
                                      <p:cBhvr additive="repl">
                                        <p:cTn id="274" dur="500"/>
                                        <p:tgtEl>
                                          <p:spTgt spid="2244"/>
                                        </p:tgtEl>
                                      </p:cBhvr>
                                    </p:animEffect>
                                  </p:childTnLst>
                                </p:cTn>
                              </p:par>
                            </p:childTnLst>
                          </p:cTn>
                        </p:par>
                        <p:par>
                          <p:cTn id="275" fill="hold">
                            <p:stCondLst>
                              <p:cond delay="1500"/>
                            </p:stCondLst>
                            <p:childTnLst>
                              <p:par>
                                <p:cTn id="276" dur="indefinite" nodeType="afterEffect" fill="hold" presetClass="entr" presetID="18" presetSubtype="9">
                                  <p:stCondLst>
                                    <p:cond delay="0"/>
                                  </p:stCondLst>
                                  <p:childTnLst>
                                    <p:set>
                                      <p:cBhvr>
                                        <p:cTn id="277" dur="1" fill="hold">
                                          <p:stCondLst>
                                            <p:cond delay="0"/>
                                          </p:stCondLst>
                                        </p:cTn>
                                        <p:tgtEl>
                                          <p:spTgt spid="2214"/>
                                        </p:tgtEl>
                                        <p:attrNameLst>
                                          <p:attrName>style.visibility</p:attrName>
                                        </p:attrNameLst>
                                      </p:cBhvr>
                                      <p:to>
                                        <p:strVal val="visible"/>
                                      </p:to>
                                    </p:set>
                                    <p:animEffect filter="strips(upLeft)" transition="in">
                                      <p:cBhvr additive="repl">
                                        <p:cTn id="278" dur="500"/>
                                        <p:tgtEl>
                                          <p:spTgt spid="2214"/>
                                        </p:tgtEl>
                                      </p:cBhvr>
                                    </p:animEffect>
                                  </p:childTnLst>
                                </p:cTn>
                              </p:par>
                            </p:childTnLst>
                          </p:cTn>
                        </p:par>
                        <p:par>
                          <p:cTn id="279" fill="hold">
                            <p:stCondLst>
                              <p:cond delay="2000"/>
                            </p:stCondLst>
                            <p:childTnLst>
                              <p:par>
                                <p:cTn id="280" dur="indefinite" nodeType="afterEffect" fill="hold" presetClass="entr" presetID="53" presetSubtype="16">
                                  <p:stCondLst>
                                    <p:cond delay="0"/>
                                  </p:stCondLst>
                                  <p:childTnLst>
                                    <p:set>
                                      <p:cBhvr>
                                        <p:cTn id="281" dur="1" fill="hold">
                                          <p:stCondLst>
                                            <p:cond delay="0"/>
                                          </p:stCondLst>
                                        </p:cTn>
                                        <p:tgtEl>
                                          <p:spTgt spid="2227"/>
                                        </p:tgtEl>
                                        <p:attrNameLst>
                                          <p:attrName>style.visibility</p:attrName>
                                        </p:attrNameLst>
                                      </p:cBhvr>
                                      <p:to>
                                        <p:strVal val="visible"/>
                                      </p:to>
                                    </p:set>
                                    <p:anim calcmode="lin" valueType="num">
                                      <p:cBhvr additive="repl">
                                        <p:cTn id="282" dur="500" fill="hold"/>
                                        <p:tgtEl>
                                          <p:spTgt spid="2227"/>
                                        </p:tgtEl>
                                        <p:attrNameLst>
                                          <p:attrName>ppt_w</p:attrName>
                                        </p:attrNameLst>
                                      </p:cBhvr>
                                      <p:tavLst>
                                        <p:tav tm="0">
                                          <p:val>
                                            <p:fltVal val="0"/>
                                          </p:val>
                                        </p:tav>
                                        <p:tav tm="100000">
                                          <p:val>
                                            <p:strVal val="#ppt_w"/>
                                          </p:val>
                                        </p:tav>
                                      </p:tavLst>
                                    </p:anim>
                                    <p:anim calcmode="lin" valueType="num">
                                      <p:cBhvr additive="repl">
                                        <p:cTn id="283" dur="500" fill="hold"/>
                                        <p:tgtEl>
                                          <p:spTgt spid="2227"/>
                                        </p:tgtEl>
                                        <p:attrNameLst>
                                          <p:attrName>ppt_h</p:attrName>
                                        </p:attrNameLst>
                                      </p:cBhvr>
                                      <p:tavLst>
                                        <p:tav tm="0">
                                          <p:val>
                                            <p:fltVal val="0"/>
                                          </p:val>
                                        </p:tav>
                                        <p:tav tm="100000">
                                          <p:val>
                                            <p:strVal val="#ppt_h"/>
                                          </p:val>
                                        </p:tav>
                                      </p:tavLst>
                                    </p:anim>
                                    <p:animEffect filter="fade" transition="in">
                                      <p:cBhvr additive="repl">
                                        <p:cTn id="284" dur="500"/>
                                        <p:tgtEl>
                                          <p:spTgt spid="2227"/>
                                        </p:tgtEl>
                                      </p:cBhvr>
                                    </p:animEffect>
                                  </p:childTnLst>
                                </p:cTn>
                              </p:par>
                              <p:par>
                                <p:cTn id="285" dur="indefinite" nodeType="withEffect" fill="hold" presetClass="entr" presetID="53" presetSubtype="16">
                                  <p:stCondLst>
                                    <p:cond delay="0"/>
                                  </p:stCondLst>
                                  <p:childTnLst>
                                    <p:set>
                                      <p:cBhvr>
                                        <p:cTn id="286" dur="1" fill="hold">
                                          <p:stCondLst>
                                            <p:cond delay="0"/>
                                          </p:stCondLst>
                                        </p:cTn>
                                        <p:tgtEl>
                                          <p:spTgt spid="2232"/>
                                        </p:tgtEl>
                                        <p:attrNameLst>
                                          <p:attrName>style.visibility</p:attrName>
                                        </p:attrNameLst>
                                      </p:cBhvr>
                                      <p:to>
                                        <p:strVal val="visible"/>
                                      </p:to>
                                    </p:set>
                                    <p:anim calcmode="lin" valueType="num">
                                      <p:cBhvr additive="repl">
                                        <p:cTn id="287" dur="500" fill="hold"/>
                                        <p:tgtEl>
                                          <p:spTgt spid="2232"/>
                                        </p:tgtEl>
                                        <p:attrNameLst>
                                          <p:attrName>ppt_w</p:attrName>
                                        </p:attrNameLst>
                                      </p:cBhvr>
                                      <p:tavLst>
                                        <p:tav tm="0">
                                          <p:val>
                                            <p:fltVal val="0"/>
                                          </p:val>
                                        </p:tav>
                                        <p:tav tm="100000">
                                          <p:val>
                                            <p:strVal val="#ppt_w"/>
                                          </p:val>
                                        </p:tav>
                                      </p:tavLst>
                                    </p:anim>
                                    <p:anim calcmode="lin" valueType="num">
                                      <p:cBhvr additive="repl">
                                        <p:cTn id="288" dur="500" fill="hold"/>
                                        <p:tgtEl>
                                          <p:spTgt spid="2232"/>
                                        </p:tgtEl>
                                        <p:attrNameLst>
                                          <p:attrName>ppt_h</p:attrName>
                                        </p:attrNameLst>
                                      </p:cBhvr>
                                      <p:tavLst>
                                        <p:tav tm="0">
                                          <p:val>
                                            <p:fltVal val="0"/>
                                          </p:val>
                                        </p:tav>
                                        <p:tav tm="100000">
                                          <p:val>
                                            <p:strVal val="#ppt_h"/>
                                          </p:val>
                                        </p:tav>
                                      </p:tavLst>
                                    </p:anim>
                                    <p:animEffect filter="fade" transition="in">
                                      <p:cBhvr additive="repl">
                                        <p:cTn id="289" dur="500"/>
                                        <p:tgtEl>
                                          <p:spTgt spid="2232"/>
                                        </p:tgtEl>
                                      </p:cBhvr>
                                    </p:animEffect>
                                  </p:childTnLst>
                                </p:cTn>
                              </p:par>
                            </p:childTnLst>
                          </p:cTn>
                        </p:par>
                        <p:par>
                          <p:cTn id="290" fill="hold">
                            <p:stCondLst>
                              <p:cond delay="2500"/>
                            </p:stCondLst>
                            <p:childTnLst>
                              <p:par>
                                <p:cTn id="291" dur="indefinite" nodeType="afterEffect" fill="hold" presetClass="entr" presetID="42">
                                  <p:stCondLst>
                                    <p:cond delay="0"/>
                                  </p:stCondLst>
                                  <p:childTnLst>
                                    <p:set>
                                      <p:cBhvr>
                                        <p:cTn id="292" dur="1" fill="hold">
                                          <p:stCondLst>
                                            <p:cond delay="0"/>
                                          </p:stCondLst>
                                        </p:cTn>
                                        <p:tgtEl>
                                          <p:spTgt spid="2223"/>
                                        </p:tgtEl>
                                        <p:attrNameLst>
                                          <p:attrName>style.visibility</p:attrName>
                                        </p:attrNameLst>
                                      </p:cBhvr>
                                      <p:to>
                                        <p:strVal val="visible"/>
                                      </p:to>
                                    </p:set>
                                    <p:animEffect filter="fade" transition="in">
                                      <p:cBhvr additive="repl">
                                        <p:cTn id="293" dur="500"/>
                                        <p:tgtEl>
                                          <p:spTgt spid="2223"/>
                                        </p:tgtEl>
                                      </p:cBhvr>
                                    </p:animEffect>
                                    <p:anim calcmode="lin" valueType="num">
                                      <p:cBhvr additive="repl">
                                        <p:cTn id="294" dur="500" fill="hold"/>
                                        <p:tgtEl>
                                          <p:spTgt spid="2223"/>
                                        </p:tgtEl>
                                        <p:attrNameLst>
                                          <p:attrName>ppt_x</p:attrName>
                                        </p:attrNameLst>
                                      </p:cBhvr>
                                      <p:tavLst>
                                        <p:tav tm="0">
                                          <p:val>
                                            <p:strVal val="#ppt_x"/>
                                          </p:val>
                                        </p:tav>
                                        <p:tav tm="100000">
                                          <p:val>
                                            <p:strVal val="#ppt_x"/>
                                          </p:val>
                                        </p:tav>
                                      </p:tavLst>
                                    </p:anim>
                                    <p:anim calcmode="lin" valueType="num">
                                      <p:cBhvr additive="repl">
                                        <p:cTn id="295" dur="500" fill="hold"/>
                                        <p:tgtEl>
                                          <p:spTgt spid="2223"/>
                                        </p:tgtEl>
                                        <p:attrNameLst>
                                          <p:attrName>ppt_y</p:attrName>
                                        </p:attrNameLst>
                                      </p:cBhvr>
                                      <p:tavLst>
                                        <p:tav tm="0">
                                          <p:val>
                                            <p:strVal val="#ppt_y+.1"/>
                                          </p:val>
                                        </p:tav>
                                        <p:tav tm="100000">
                                          <p:val>
                                            <p:strVal val="#ppt_y"/>
                                          </p:val>
                                        </p:tav>
                                      </p:tavLst>
                                    </p:anim>
                                  </p:childTnLst>
                                </p:cTn>
                              </p:par>
                            </p:childTnLst>
                          </p:cTn>
                        </p:par>
                        <p:par>
                          <p:cTn id="296" fill="hold">
                            <p:stCondLst>
                              <p:cond delay="3000"/>
                            </p:stCondLst>
                            <p:childTnLst>
                              <p:par>
                                <p:cTn id="297" dur="indefinite" nodeType="afterEffect" fill="hold" presetClass="entr" presetID="18" presetSubtype="9">
                                  <p:stCondLst>
                                    <p:cond delay="0"/>
                                  </p:stCondLst>
                                  <p:childTnLst>
                                    <p:set>
                                      <p:cBhvr>
                                        <p:cTn id="298" dur="1" fill="hold">
                                          <p:stCondLst>
                                            <p:cond delay="0"/>
                                          </p:stCondLst>
                                        </p:cTn>
                                        <p:tgtEl>
                                          <p:spTgt spid="2217"/>
                                        </p:tgtEl>
                                        <p:attrNameLst>
                                          <p:attrName>style.visibility</p:attrName>
                                        </p:attrNameLst>
                                      </p:cBhvr>
                                      <p:to>
                                        <p:strVal val="visible"/>
                                      </p:to>
                                    </p:set>
                                    <p:animEffect filter="strips(upLeft)" transition="in">
                                      <p:cBhvr additive="repl">
                                        <p:cTn id="299" dur="500"/>
                                        <p:tgtEl>
                                          <p:spTgt spid="2217"/>
                                        </p:tgtEl>
                                      </p:cBhvr>
                                    </p:animEffect>
                                  </p:childTnLst>
                                </p:cTn>
                              </p:par>
                            </p:childTnLst>
                          </p:cTn>
                        </p:par>
                        <p:par>
                          <p:cTn id="300" fill="hold">
                            <p:stCondLst>
                              <p:cond delay="3500"/>
                            </p:stCondLst>
                            <p:childTnLst>
                              <p:par>
                                <p:cTn id="301" dur="indefinite" nodeType="afterEffect" fill="hold" presetClass="entr" presetID="53" presetSubtype="16">
                                  <p:stCondLst>
                                    <p:cond delay="0"/>
                                  </p:stCondLst>
                                  <p:childTnLst>
                                    <p:set>
                                      <p:cBhvr>
                                        <p:cTn id="302" dur="1" fill="hold">
                                          <p:stCondLst>
                                            <p:cond delay="0"/>
                                          </p:stCondLst>
                                        </p:cTn>
                                        <p:tgtEl>
                                          <p:spTgt spid="2226"/>
                                        </p:tgtEl>
                                        <p:attrNameLst>
                                          <p:attrName>style.visibility</p:attrName>
                                        </p:attrNameLst>
                                      </p:cBhvr>
                                      <p:to>
                                        <p:strVal val="visible"/>
                                      </p:to>
                                    </p:set>
                                    <p:anim calcmode="lin" valueType="num">
                                      <p:cBhvr additive="repl">
                                        <p:cTn id="303" dur="500" fill="hold"/>
                                        <p:tgtEl>
                                          <p:spTgt spid="2226"/>
                                        </p:tgtEl>
                                        <p:attrNameLst>
                                          <p:attrName>ppt_w</p:attrName>
                                        </p:attrNameLst>
                                      </p:cBhvr>
                                      <p:tavLst>
                                        <p:tav tm="0">
                                          <p:val>
                                            <p:fltVal val="0"/>
                                          </p:val>
                                        </p:tav>
                                        <p:tav tm="100000">
                                          <p:val>
                                            <p:strVal val="#ppt_w"/>
                                          </p:val>
                                        </p:tav>
                                      </p:tavLst>
                                    </p:anim>
                                    <p:anim calcmode="lin" valueType="num">
                                      <p:cBhvr additive="repl">
                                        <p:cTn id="304" dur="500" fill="hold"/>
                                        <p:tgtEl>
                                          <p:spTgt spid="2226"/>
                                        </p:tgtEl>
                                        <p:attrNameLst>
                                          <p:attrName>ppt_h</p:attrName>
                                        </p:attrNameLst>
                                      </p:cBhvr>
                                      <p:tavLst>
                                        <p:tav tm="0">
                                          <p:val>
                                            <p:fltVal val="0"/>
                                          </p:val>
                                        </p:tav>
                                        <p:tav tm="100000">
                                          <p:val>
                                            <p:strVal val="#ppt_h"/>
                                          </p:val>
                                        </p:tav>
                                      </p:tavLst>
                                    </p:anim>
                                    <p:animEffect filter="fade" transition="in">
                                      <p:cBhvr additive="repl">
                                        <p:cTn id="305" dur="500"/>
                                        <p:tgtEl>
                                          <p:spTgt spid="2226"/>
                                        </p:tgtEl>
                                      </p:cBhvr>
                                    </p:animEffect>
                                  </p:childTnLst>
                                </p:cTn>
                              </p:par>
                              <p:par>
                                <p:cTn id="306" dur="indefinite" nodeType="withEffect" fill="hold" presetClass="entr" presetID="53" presetSubtype="16">
                                  <p:stCondLst>
                                    <p:cond delay="0"/>
                                  </p:stCondLst>
                                  <p:childTnLst>
                                    <p:set>
                                      <p:cBhvr>
                                        <p:cTn id="307" dur="1" fill="hold">
                                          <p:stCondLst>
                                            <p:cond delay="0"/>
                                          </p:stCondLst>
                                        </p:cTn>
                                        <p:tgtEl>
                                          <p:spTgt spid="2235"/>
                                        </p:tgtEl>
                                        <p:attrNameLst>
                                          <p:attrName>style.visibility</p:attrName>
                                        </p:attrNameLst>
                                      </p:cBhvr>
                                      <p:to>
                                        <p:strVal val="visible"/>
                                      </p:to>
                                    </p:set>
                                    <p:anim calcmode="lin" valueType="num">
                                      <p:cBhvr additive="repl">
                                        <p:cTn id="308" dur="500" fill="hold"/>
                                        <p:tgtEl>
                                          <p:spTgt spid="2235"/>
                                        </p:tgtEl>
                                        <p:attrNameLst>
                                          <p:attrName>ppt_w</p:attrName>
                                        </p:attrNameLst>
                                      </p:cBhvr>
                                      <p:tavLst>
                                        <p:tav tm="0">
                                          <p:val>
                                            <p:fltVal val="0"/>
                                          </p:val>
                                        </p:tav>
                                        <p:tav tm="100000">
                                          <p:val>
                                            <p:strVal val="#ppt_w"/>
                                          </p:val>
                                        </p:tav>
                                      </p:tavLst>
                                    </p:anim>
                                    <p:anim calcmode="lin" valueType="num">
                                      <p:cBhvr additive="repl">
                                        <p:cTn id="309" dur="500" fill="hold"/>
                                        <p:tgtEl>
                                          <p:spTgt spid="2235"/>
                                        </p:tgtEl>
                                        <p:attrNameLst>
                                          <p:attrName>ppt_h</p:attrName>
                                        </p:attrNameLst>
                                      </p:cBhvr>
                                      <p:tavLst>
                                        <p:tav tm="0">
                                          <p:val>
                                            <p:fltVal val="0"/>
                                          </p:val>
                                        </p:tav>
                                        <p:tav tm="100000">
                                          <p:val>
                                            <p:strVal val="#ppt_h"/>
                                          </p:val>
                                        </p:tav>
                                      </p:tavLst>
                                    </p:anim>
                                    <p:animEffect filter="fade" transition="in">
                                      <p:cBhvr additive="repl">
                                        <p:cTn id="310" dur="500"/>
                                        <p:tgtEl>
                                          <p:spTgt spid="2235"/>
                                        </p:tgtEl>
                                      </p:cBhvr>
                                    </p:animEffect>
                                  </p:childTnLst>
                                </p:cTn>
                              </p:par>
                            </p:childTnLst>
                          </p:cTn>
                        </p:par>
                        <p:par>
                          <p:cTn id="311" fill="hold">
                            <p:stCondLst>
                              <p:cond delay="4000"/>
                            </p:stCondLst>
                            <p:childTnLst>
                              <p:par>
                                <p:cTn id="312" dur="indefinite" nodeType="afterEffect" fill="hold" presetClass="entr" presetID="18" presetSubtype="3">
                                  <p:stCondLst>
                                    <p:cond delay="0"/>
                                  </p:stCondLst>
                                  <p:childTnLst>
                                    <p:set>
                                      <p:cBhvr>
                                        <p:cTn id="313" dur="1" fill="hold">
                                          <p:stCondLst>
                                            <p:cond delay="0"/>
                                          </p:stCondLst>
                                        </p:cTn>
                                        <p:tgtEl>
                                          <p:spTgt spid="2211"/>
                                        </p:tgtEl>
                                        <p:attrNameLst>
                                          <p:attrName>style.visibility</p:attrName>
                                        </p:attrNameLst>
                                      </p:cBhvr>
                                      <p:to>
                                        <p:strVal val="visible"/>
                                      </p:to>
                                    </p:set>
                                    <p:animEffect filter="strips(upRight)" transition="in">
                                      <p:cBhvr additive="repl">
                                        <p:cTn id="314" dur="500"/>
                                        <p:tgtEl>
                                          <p:spTgt spid="2211"/>
                                        </p:tgtEl>
                                      </p:cBhvr>
                                    </p:animEffect>
                                  </p:childTnLst>
                                </p:cTn>
                              </p:par>
                            </p:childTnLst>
                          </p:cTn>
                        </p:par>
                        <p:par>
                          <p:cTn id="315" fill="hold">
                            <p:stCondLst>
                              <p:cond delay="4500"/>
                            </p:stCondLst>
                            <p:childTnLst>
                              <p:par>
                                <p:cTn id="316" dur="indefinite" nodeType="afterEffect" fill="hold" presetClass="entr" presetID="42">
                                  <p:stCondLst>
                                    <p:cond delay="0"/>
                                  </p:stCondLst>
                                  <p:childTnLst>
                                    <p:set>
                                      <p:cBhvr>
                                        <p:cTn id="317" dur="1" fill="hold">
                                          <p:stCondLst>
                                            <p:cond delay="0"/>
                                          </p:stCondLst>
                                        </p:cTn>
                                        <p:tgtEl>
                                          <p:spTgt spid="2222"/>
                                        </p:tgtEl>
                                        <p:attrNameLst>
                                          <p:attrName>style.visibility</p:attrName>
                                        </p:attrNameLst>
                                      </p:cBhvr>
                                      <p:to>
                                        <p:strVal val="visible"/>
                                      </p:to>
                                    </p:set>
                                    <p:animEffect filter="fade" transition="in">
                                      <p:cBhvr additive="repl">
                                        <p:cTn id="318" dur="500"/>
                                        <p:tgtEl>
                                          <p:spTgt spid="2222"/>
                                        </p:tgtEl>
                                      </p:cBhvr>
                                    </p:animEffect>
                                    <p:anim calcmode="lin" valueType="num">
                                      <p:cBhvr additive="repl">
                                        <p:cTn id="319" dur="500" fill="hold"/>
                                        <p:tgtEl>
                                          <p:spTgt spid="2222"/>
                                        </p:tgtEl>
                                        <p:attrNameLst>
                                          <p:attrName>ppt_x</p:attrName>
                                        </p:attrNameLst>
                                      </p:cBhvr>
                                      <p:tavLst>
                                        <p:tav tm="0">
                                          <p:val>
                                            <p:strVal val="#ppt_x"/>
                                          </p:val>
                                        </p:tav>
                                        <p:tav tm="100000">
                                          <p:val>
                                            <p:strVal val="#ppt_x"/>
                                          </p:val>
                                        </p:tav>
                                      </p:tavLst>
                                    </p:anim>
                                    <p:anim calcmode="lin" valueType="num">
                                      <p:cBhvr additive="repl">
                                        <p:cTn id="320" dur="500" fill="hold"/>
                                        <p:tgtEl>
                                          <p:spTgt spid="2222"/>
                                        </p:tgtEl>
                                        <p:attrNameLst>
                                          <p:attrName>ppt_y</p:attrName>
                                        </p:attrNameLst>
                                      </p:cBhvr>
                                      <p:tavLst>
                                        <p:tav tm="0">
                                          <p:val>
                                            <p:strVal val="#ppt_y+.1"/>
                                          </p:val>
                                        </p:tav>
                                        <p:tav tm="100000">
                                          <p:val>
                                            <p:strVal val="#ppt_y"/>
                                          </p:val>
                                        </p:tav>
                                      </p:tavLst>
                                    </p:anim>
                                  </p:childTnLst>
                                </p:cTn>
                              </p:par>
                            </p:childTnLst>
                          </p:cTn>
                        </p:par>
                        <p:par>
                          <p:cTn id="321" fill="hold">
                            <p:stCondLst>
                              <p:cond delay="5000"/>
                            </p:stCondLst>
                            <p:childTnLst>
                              <p:par>
                                <p:cTn id="322" dur="indefinite" nodeType="afterEffect" fill="hold" presetClass="entr" presetID="42">
                                  <p:stCondLst>
                                    <p:cond delay="0"/>
                                  </p:stCondLst>
                                  <p:childTnLst>
                                    <p:set>
                                      <p:cBhvr>
                                        <p:cTn id="323" dur="1" fill="hold">
                                          <p:stCondLst>
                                            <p:cond delay="0"/>
                                          </p:stCondLst>
                                        </p:cTn>
                                        <p:tgtEl>
                                          <p:spTgt spid="2225"/>
                                        </p:tgtEl>
                                        <p:attrNameLst>
                                          <p:attrName>style.visibility</p:attrName>
                                        </p:attrNameLst>
                                      </p:cBhvr>
                                      <p:to>
                                        <p:strVal val="visible"/>
                                      </p:to>
                                    </p:set>
                                    <p:animEffect filter="fade" transition="in">
                                      <p:cBhvr additive="repl">
                                        <p:cTn id="324" dur="500"/>
                                        <p:tgtEl>
                                          <p:spTgt spid="2225"/>
                                        </p:tgtEl>
                                      </p:cBhvr>
                                    </p:animEffect>
                                    <p:anim calcmode="lin" valueType="num">
                                      <p:cBhvr additive="repl">
                                        <p:cTn id="325" dur="500" fill="hold"/>
                                        <p:tgtEl>
                                          <p:spTgt spid="2225"/>
                                        </p:tgtEl>
                                        <p:attrNameLst>
                                          <p:attrName>ppt_x</p:attrName>
                                        </p:attrNameLst>
                                      </p:cBhvr>
                                      <p:tavLst>
                                        <p:tav tm="0">
                                          <p:val>
                                            <p:strVal val="#ppt_x"/>
                                          </p:val>
                                        </p:tav>
                                        <p:tav tm="100000">
                                          <p:val>
                                            <p:strVal val="#ppt_x"/>
                                          </p:val>
                                        </p:tav>
                                      </p:tavLst>
                                    </p:anim>
                                    <p:anim calcmode="lin" valueType="num">
                                      <p:cBhvr additive="repl">
                                        <p:cTn id="326" dur="500" fill="hold"/>
                                        <p:tgtEl>
                                          <p:spTgt spid="2225"/>
                                        </p:tgtEl>
                                        <p:attrNameLst>
                                          <p:attrName>ppt_y</p:attrName>
                                        </p:attrNameLst>
                                      </p:cBhvr>
                                      <p:tavLst>
                                        <p:tav tm="0">
                                          <p:val>
                                            <p:strVal val="#ppt_y+.1"/>
                                          </p:val>
                                        </p:tav>
                                        <p:tav tm="100000">
                                          <p:val>
                                            <p:strVal val="#ppt_y"/>
                                          </p:val>
                                        </p:tav>
                                      </p:tavLst>
                                    </p:anim>
                                  </p:childTnLst>
                                </p:cTn>
                              </p:par>
                              <p:par>
                                <p:cTn id="327" dur="indefinite" nodeType="withEffect" fill="hold" presetClass="entr" presetID="53" presetSubtype="16">
                                  <p:stCondLst>
                                    <p:cond delay="0"/>
                                  </p:stCondLst>
                                  <p:childTnLst>
                                    <p:set>
                                      <p:cBhvr>
                                        <p:cTn id="328" dur="1" fill="hold">
                                          <p:stCondLst>
                                            <p:cond delay="0"/>
                                          </p:stCondLst>
                                        </p:cTn>
                                        <p:tgtEl>
                                          <p:spTgt spid="2241"/>
                                        </p:tgtEl>
                                        <p:attrNameLst>
                                          <p:attrName>style.visibility</p:attrName>
                                        </p:attrNameLst>
                                      </p:cBhvr>
                                      <p:to>
                                        <p:strVal val="visible"/>
                                      </p:to>
                                    </p:set>
                                    <p:anim calcmode="lin" valueType="num">
                                      <p:cBhvr additive="repl">
                                        <p:cTn id="329" dur="500" fill="hold"/>
                                        <p:tgtEl>
                                          <p:spTgt spid="2241"/>
                                        </p:tgtEl>
                                        <p:attrNameLst>
                                          <p:attrName>ppt_w</p:attrName>
                                        </p:attrNameLst>
                                      </p:cBhvr>
                                      <p:tavLst>
                                        <p:tav tm="0">
                                          <p:val>
                                            <p:fltVal val="0"/>
                                          </p:val>
                                        </p:tav>
                                        <p:tav tm="100000">
                                          <p:val>
                                            <p:strVal val="#ppt_w"/>
                                          </p:val>
                                        </p:tav>
                                      </p:tavLst>
                                    </p:anim>
                                    <p:anim calcmode="lin" valueType="num">
                                      <p:cBhvr additive="repl">
                                        <p:cTn id="330" dur="500" fill="hold"/>
                                        <p:tgtEl>
                                          <p:spTgt spid="2241"/>
                                        </p:tgtEl>
                                        <p:attrNameLst>
                                          <p:attrName>ppt_h</p:attrName>
                                        </p:attrNameLst>
                                      </p:cBhvr>
                                      <p:tavLst>
                                        <p:tav tm="0">
                                          <p:val>
                                            <p:fltVal val="0"/>
                                          </p:val>
                                        </p:tav>
                                        <p:tav tm="100000">
                                          <p:val>
                                            <p:strVal val="#ppt_h"/>
                                          </p:val>
                                        </p:tav>
                                      </p:tavLst>
                                    </p:anim>
                                    <p:animEffect filter="fade" transition="in">
                                      <p:cBhvr additive="repl">
                                        <p:cTn id="331" dur="500"/>
                                        <p:tgtEl>
                                          <p:spTgt spid="2241"/>
                                        </p:tgtEl>
                                      </p:cBhvr>
                                    </p:animEffect>
                                  </p:childTnLst>
                                </p:cTn>
                              </p:par>
                            </p:childTnLst>
                          </p:cTn>
                        </p:par>
                        <p:par>
                          <p:cTn id="332" fill="hold">
                            <p:stCondLst>
                              <p:cond delay="5500"/>
                            </p:stCondLst>
                            <p:childTnLst>
                              <p:par>
                                <p:cTn id="333" dur="indefinite" nodeType="afterEffect" fill="hold" presetClass="entr" presetID="18" presetSubtype="3">
                                  <p:stCondLst>
                                    <p:cond delay="0"/>
                                  </p:stCondLst>
                                  <p:childTnLst>
                                    <p:set>
                                      <p:cBhvr>
                                        <p:cTn id="334" dur="1" fill="hold">
                                          <p:stCondLst>
                                            <p:cond delay="0"/>
                                          </p:stCondLst>
                                        </p:cTn>
                                        <p:tgtEl>
                                          <p:spTgt spid="2216"/>
                                        </p:tgtEl>
                                        <p:attrNameLst>
                                          <p:attrName>style.visibility</p:attrName>
                                        </p:attrNameLst>
                                      </p:cBhvr>
                                      <p:to>
                                        <p:strVal val="visible"/>
                                      </p:to>
                                    </p:set>
                                    <p:animEffect filter="strips(upRight)" transition="in">
                                      <p:cBhvr additive="repl">
                                        <p:cTn id="335" dur="500"/>
                                        <p:tgtEl>
                                          <p:spTgt spid="2216"/>
                                        </p:tgtEl>
                                      </p:cBhvr>
                                    </p:animEffect>
                                  </p:childTnLst>
                                </p:cTn>
                              </p:par>
                            </p:childTnLst>
                          </p:cTn>
                        </p:par>
                        <p:par>
                          <p:cTn id="336" fill="hold">
                            <p:stCondLst>
                              <p:cond delay="6000"/>
                            </p:stCondLst>
                            <p:childTnLst>
                              <p:par>
                                <p:cTn id="337" dur="indefinite" nodeType="afterEffect" fill="hold" presetClass="entr" presetID="42">
                                  <p:stCondLst>
                                    <p:cond delay="0"/>
                                  </p:stCondLst>
                                  <p:childTnLst>
                                    <p:set>
                                      <p:cBhvr>
                                        <p:cTn id="338" dur="1" fill="hold">
                                          <p:stCondLst>
                                            <p:cond delay="0"/>
                                          </p:stCondLst>
                                        </p:cTn>
                                        <p:tgtEl>
                                          <p:spTgt spid="2221"/>
                                        </p:tgtEl>
                                        <p:attrNameLst>
                                          <p:attrName>style.visibility</p:attrName>
                                        </p:attrNameLst>
                                      </p:cBhvr>
                                      <p:to>
                                        <p:strVal val="visible"/>
                                      </p:to>
                                    </p:set>
                                    <p:animEffect filter="fade" transition="in">
                                      <p:cBhvr additive="repl">
                                        <p:cTn id="339" dur="500"/>
                                        <p:tgtEl>
                                          <p:spTgt spid="2221"/>
                                        </p:tgtEl>
                                      </p:cBhvr>
                                    </p:animEffect>
                                    <p:anim calcmode="lin" valueType="num">
                                      <p:cBhvr additive="repl">
                                        <p:cTn id="340" dur="500" fill="hold"/>
                                        <p:tgtEl>
                                          <p:spTgt spid="2221"/>
                                        </p:tgtEl>
                                        <p:attrNameLst>
                                          <p:attrName>ppt_x</p:attrName>
                                        </p:attrNameLst>
                                      </p:cBhvr>
                                      <p:tavLst>
                                        <p:tav tm="0">
                                          <p:val>
                                            <p:strVal val="#ppt_x"/>
                                          </p:val>
                                        </p:tav>
                                        <p:tav tm="100000">
                                          <p:val>
                                            <p:strVal val="#ppt_x"/>
                                          </p:val>
                                        </p:tav>
                                      </p:tavLst>
                                    </p:anim>
                                    <p:anim calcmode="lin" valueType="num">
                                      <p:cBhvr additive="repl">
                                        <p:cTn id="341" dur="500" fill="hold"/>
                                        <p:tgtEl>
                                          <p:spTgt spid="2221"/>
                                        </p:tgtEl>
                                        <p:attrNameLst>
                                          <p:attrName>ppt_y</p:attrName>
                                        </p:attrNameLst>
                                      </p:cBhvr>
                                      <p:tavLst>
                                        <p:tav tm="0">
                                          <p:val>
                                            <p:strVal val="#ppt_y+.1"/>
                                          </p:val>
                                        </p:tav>
                                        <p:tav tm="100000">
                                          <p:val>
                                            <p:strVal val="#ppt_y"/>
                                          </p:val>
                                        </p:tav>
                                      </p:tavLst>
                                    </p:anim>
                                  </p:childTnLst>
                                </p:cTn>
                              </p:par>
                            </p:childTnLst>
                          </p:cTn>
                        </p:par>
                        <p:par>
                          <p:cTn id="342" fill="hold">
                            <p:stCondLst>
                              <p:cond delay="6500"/>
                            </p:stCondLst>
                            <p:childTnLst>
                              <p:par>
                                <p:cTn id="343" dur="indefinite" nodeType="afterEffect" fill="hold" presetClass="entr" presetID="53" presetSubtype="16">
                                  <p:stCondLst>
                                    <p:cond delay="0"/>
                                  </p:stCondLst>
                                  <p:childTnLst>
                                    <p:set>
                                      <p:cBhvr>
                                        <p:cTn id="344" dur="1" fill="hold">
                                          <p:stCondLst>
                                            <p:cond delay="0"/>
                                          </p:stCondLst>
                                        </p:cTn>
                                        <p:tgtEl>
                                          <p:spTgt spid="2219"/>
                                        </p:tgtEl>
                                        <p:attrNameLst>
                                          <p:attrName>style.visibility</p:attrName>
                                        </p:attrNameLst>
                                      </p:cBhvr>
                                      <p:to>
                                        <p:strVal val="visible"/>
                                      </p:to>
                                    </p:set>
                                    <p:anim calcmode="lin" valueType="num">
                                      <p:cBhvr additive="repl">
                                        <p:cTn id="345" dur="500" fill="hold"/>
                                        <p:tgtEl>
                                          <p:spTgt spid="2219"/>
                                        </p:tgtEl>
                                        <p:attrNameLst>
                                          <p:attrName>ppt_w</p:attrName>
                                        </p:attrNameLst>
                                      </p:cBhvr>
                                      <p:tavLst>
                                        <p:tav tm="0">
                                          <p:val>
                                            <p:fltVal val="0"/>
                                          </p:val>
                                        </p:tav>
                                        <p:tav tm="100000">
                                          <p:val>
                                            <p:strVal val="#ppt_w"/>
                                          </p:val>
                                        </p:tav>
                                      </p:tavLst>
                                    </p:anim>
                                    <p:anim calcmode="lin" valueType="num">
                                      <p:cBhvr additive="repl">
                                        <p:cTn id="346" dur="500" fill="hold"/>
                                        <p:tgtEl>
                                          <p:spTgt spid="2219"/>
                                        </p:tgtEl>
                                        <p:attrNameLst>
                                          <p:attrName>ppt_h</p:attrName>
                                        </p:attrNameLst>
                                      </p:cBhvr>
                                      <p:tavLst>
                                        <p:tav tm="0">
                                          <p:val>
                                            <p:fltVal val="0"/>
                                          </p:val>
                                        </p:tav>
                                        <p:tav tm="100000">
                                          <p:val>
                                            <p:strVal val="#ppt_h"/>
                                          </p:val>
                                        </p:tav>
                                      </p:tavLst>
                                    </p:anim>
                                    <p:animEffect filter="fade" transition="in">
                                      <p:cBhvr additive="repl">
                                        <p:cTn id="347" dur="500"/>
                                        <p:tgtEl>
                                          <p:spTgt spid="2219"/>
                                        </p:tgtEl>
                                      </p:cBhvr>
                                    </p:animEffect>
                                  </p:childTnLst>
                                </p:cTn>
                              </p:par>
                              <p:par>
                                <p:cTn id="348" dur="indefinite" nodeType="withEffect" fill="hold" presetClass="entr" presetID="53" presetSubtype="16">
                                  <p:stCondLst>
                                    <p:cond delay="0"/>
                                  </p:stCondLst>
                                  <p:childTnLst>
                                    <p:set>
                                      <p:cBhvr>
                                        <p:cTn id="349" dur="1" fill="hold">
                                          <p:stCondLst>
                                            <p:cond delay="0"/>
                                          </p:stCondLst>
                                        </p:cTn>
                                        <p:tgtEl>
                                          <p:spTgt spid="2250"/>
                                        </p:tgtEl>
                                        <p:attrNameLst>
                                          <p:attrName>style.visibility</p:attrName>
                                        </p:attrNameLst>
                                      </p:cBhvr>
                                      <p:to>
                                        <p:strVal val="visible"/>
                                      </p:to>
                                    </p:set>
                                    <p:anim calcmode="lin" valueType="num">
                                      <p:cBhvr additive="repl">
                                        <p:cTn id="350" dur="500" fill="hold"/>
                                        <p:tgtEl>
                                          <p:spTgt spid="2250"/>
                                        </p:tgtEl>
                                        <p:attrNameLst>
                                          <p:attrName>ppt_w</p:attrName>
                                        </p:attrNameLst>
                                      </p:cBhvr>
                                      <p:tavLst>
                                        <p:tav tm="0">
                                          <p:val>
                                            <p:fltVal val="0"/>
                                          </p:val>
                                        </p:tav>
                                        <p:tav tm="100000">
                                          <p:val>
                                            <p:strVal val="#ppt_w"/>
                                          </p:val>
                                        </p:tav>
                                      </p:tavLst>
                                    </p:anim>
                                    <p:anim calcmode="lin" valueType="num">
                                      <p:cBhvr additive="repl">
                                        <p:cTn id="351" dur="500" fill="hold"/>
                                        <p:tgtEl>
                                          <p:spTgt spid="2250"/>
                                        </p:tgtEl>
                                        <p:attrNameLst>
                                          <p:attrName>ppt_h</p:attrName>
                                        </p:attrNameLst>
                                      </p:cBhvr>
                                      <p:tavLst>
                                        <p:tav tm="0">
                                          <p:val>
                                            <p:fltVal val="0"/>
                                          </p:val>
                                        </p:tav>
                                        <p:tav tm="100000">
                                          <p:val>
                                            <p:strVal val="#ppt_h"/>
                                          </p:val>
                                        </p:tav>
                                      </p:tavLst>
                                    </p:anim>
                                    <p:animEffect filter="fade" transition="in">
                                      <p:cBhvr additive="repl">
                                        <p:cTn id="352" dur="500"/>
                                        <p:tgtEl>
                                          <p:spTgt spid="2250"/>
                                        </p:tgtEl>
                                      </p:cBhvr>
                                    </p:animEffect>
                                  </p:childTnLst>
                                </p:cTn>
                              </p:par>
                            </p:childTnLst>
                          </p:cTn>
                        </p:par>
                        <p:par>
                          <p:cTn id="353" fill="hold">
                            <p:stCondLst>
                              <p:cond delay="7000"/>
                            </p:stCondLst>
                            <p:childTnLst>
                              <p:par>
                                <p:cTn id="354" dur="indefinite" nodeType="afterEffect" fill="hold" presetClass="entr" presetID="22" presetSubtype="8">
                                  <p:stCondLst>
                                    <p:cond delay="0"/>
                                  </p:stCondLst>
                                  <p:childTnLst>
                                    <p:set>
                                      <p:cBhvr>
                                        <p:cTn id="355" dur="1" fill="hold">
                                          <p:stCondLst>
                                            <p:cond delay="0"/>
                                          </p:stCondLst>
                                        </p:cTn>
                                        <p:tgtEl>
                                          <p:spTgt spid="2231"/>
                                        </p:tgtEl>
                                        <p:attrNameLst>
                                          <p:attrName>style.visibility</p:attrName>
                                        </p:attrNameLst>
                                      </p:cBhvr>
                                      <p:to>
                                        <p:strVal val="visible"/>
                                      </p:to>
                                    </p:set>
                                    <p:animEffect filter="wipe(left)" transition="in">
                                      <p:cBhvr additive="repl">
                                        <p:cTn id="356" dur="500"/>
                                        <p:tgtEl>
                                          <p:spTgt spid="2231"/>
                                        </p:tgtEl>
                                      </p:cBhvr>
                                    </p:animEffect>
                                  </p:childTnLst>
                                </p:cTn>
                              </p:par>
                            </p:childTnLst>
                          </p:cTn>
                        </p:par>
                        <p:par>
                          <p:cTn id="357" fill="hold">
                            <p:stCondLst>
                              <p:cond delay="7500"/>
                            </p:stCondLst>
                            <p:childTnLst>
                              <p:par>
                                <p:cTn id="358" dur="indefinite" nodeType="afterEffect" fill="hold" presetClass="entr" presetID="18" presetSubtype="3">
                                  <p:stCondLst>
                                    <p:cond delay="0"/>
                                  </p:stCondLst>
                                  <p:childTnLst>
                                    <p:set>
                                      <p:cBhvr>
                                        <p:cTn id="359" dur="1" fill="hold">
                                          <p:stCondLst>
                                            <p:cond delay="0"/>
                                          </p:stCondLst>
                                        </p:cTn>
                                        <p:tgtEl>
                                          <p:spTgt spid="2213"/>
                                        </p:tgtEl>
                                        <p:attrNameLst>
                                          <p:attrName>style.visibility</p:attrName>
                                        </p:attrNameLst>
                                      </p:cBhvr>
                                      <p:to>
                                        <p:strVal val="visible"/>
                                      </p:to>
                                    </p:set>
                                    <p:animEffect filter="strips(upRight)" transition="in">
                                      <p:cBhvr additive="repl">
                                        <p:cTn id="360" dur="500"/>
                                        <p:tgtEl>
                                          <p:spTgt spid="2213"/>
                                        </p:tgtEl>
                                      </p:cBhvr>
                                    </p:animEffect>
                                  </p:childTnLst>
                                </p:cTn>
                              </p:par>
                            </p:childTnLst>
                          </p:cTn>
                        </p:par>
                        <p:par>
                          <p:cTn id="361" fill="hold">
                            <p:stCondLst>
                              <p:cond delay="8000"/>
                            </p:stCondLst>
                            <p:childTnLst>
                              <p:par>
                                <p:cTn id="362" dur="indefinite" nodeType="afterEffect" fill="hold" presetClass="entr" presetID="53" presetSubtype="16">
                                  <p:stCondLst>
                                    <p:cond delay="0"/>
                                  </p:stCondLst>
                                  <p:childTnLst>
                                    <p:set>
                                      <p:cBhvr>
                                        <p:cTn id="363" dur="1" fill="hold">
                                          <p:stCondLst>
                                            <p:cond delay="0"/>
                                          </p:stCondLst>
                                        </p:cTn>
                                        <p:tgtEl>
                                          <p:spTgt spid="2220"/>
                                        </p:tgtEl>
                                        <p:attrNameLst>
                                          <p:attrName>style.visibility</p:attrName>
                                        </p:attrNameLst>
                                      </p:cBhvr>
                                      <p:to>
                                        <p:strVal val="visible"/>
                                      </p:to>
                                    </p:set>
                                    <p:anim calcmode="lin" valueType="num">
                                      <p:cBhvr additive="repl">
                                        <p:cTn id="364" dur="500" fill="hold"/>
                                        <p:tgtEl>
                                          <p:spTgt spid="2220"/>
                                        </p:tgtEl>
                                        <p:attrNameLst>
                                          <p:attrName>ppt_w</p:attrName>
                                        </p:attrNameLst>
                                      </p:cBhvr>
                                      <p:tavLst>
                                        <p:tav tm="0">
                                          <p:val>
                                            <p:fltVal val="0"/>
                                          </p:val>
                                        </p:tav>
                                        <p:tav tm="100000">
                                          <p:val>
                                            <p:strVal val="#ppt_w"/>
                                          </p:val>
                                        </p:tav>
                                      </p:tavLst>
                                    </p:anim>
                                    <p:anim calcmode="lin" valueType="num">
                                      <p:cBhvr additive="repl">
                                        <p:cTn id="365" dur="500" fill="hold"/>
                                        <p:tgtEl>
                                          <p:spTgt spid="2220"/>
                                        </p:tgtEl>
                                        <p:attrNameLst>
                                          <p:attrName>ppt_h</p:attrName>
                                        </p:attrNameLst>
                                      </p:cBhvr>
                                      <p:tavLst>
                                        <p:tav tm="0">
                                          <p:val>
                                            <p:fltVal val="0"/>
                                          </p:val>
                                        </p:tav>
                                        <p:tav tm="100000">
                                          <p:val>
                                            <p:strVal val="#ppt_h"/>
                                          </p:val>
                                        </p:tav>
                                      </p:tavLst>
                                    </p:anim>
                                    <p:animEffect filter="fade" transition="in">
                                      <p:cBhvr additive="repl">
                                        <p:cTn id="366" dur="500"/>
                                        <p:tgtEl>
                                          <p:spTgt spid="2220"/>
                                        </p:tgtEl>
                                      </p:cBhvr>
                                    </p:animEffect>
                                  </p:childTnLst>
                                </p:cTn>
                              </p:par>
                              <p:par>
                                <p:cTn id="367" dur="indefinite" nodeType="withEffect" fill="hold" presetClass="entr" presetID="53" presetSubtype="16">
                                  <p:stCondLst>
                                    <p:cond delay="0"/>
                                  </p:stCondLst>
                                  <p:childTnLst>
                                    <p:set>
                                      <p:cBhvr>
                                        <p:cTn id="368" dur="1" fill="hold">
                                          <p:stCondLst>
                                            <p:cond delay="0"/>
                                          </p:stCondLst>
                                        </p:cTn>
                                        <p:tgtEl>
                                          <p:spTgt spid="2238"/>
                                        </p:tgtEl>
                                        <p:attrNameLst>
                                          <p:attrName>style.visibility</p:attrName>
                                        </p:attrNameLst>
                                      </p:cBhvr>
                                      <p:to>
                                        <p:strVal val="visible"/>
                                      </p:to>
                                    </p:set>
                                    <p:anim calcmode="lin" valueType="num">
                                      <p:cBhvr additive="repl">
                                        <p:cTn id="369" dur="500" fill="hold"/>
                                        <p:tgtEl>
                                          <p:spTgt spid="2238"/>
                                        </p:tgtEl>
                                        <p:attrNameLst>
                                          <p:attrName>ppt_w</p:attrName>
                                        </p:attrNameLst>
                                      </p:cBhvr>
                                      <p:tavLst>
                                        <p:tav tm="0">
                                          <p:val>
                                            <p:fltVal val="0"/>
                                          </p:val>
                                        </p:tav>
                                        <p:tav tm="100000">
                                          <p:val>
                                            <p:strVal val="#ppt_w"/>
                                          </p:val>
                                        </p:tav>
                                      </p:tavLst>
                                    </p:anim>
                                    <p:anim calcmode="lin" valueType="num">
                                      <p:cBhvr additive="repl">
                                        <p:cTn id="370" dur="500" fill="hold"/>
                                        <p:tgtEl>
                                          <p:spTgt spid="2238"/>
                                        </p:tgtEl>
                                        <p:attrNameLst>
                                          <p:attrName>ppt_h</p:attrName>
                                        </p:attrNameLst>
                                      </p:cBhvr>
                                      <p:tavLst>
                                        <p:tav tm="0">
                                          <p:val>
                                            <p:fltVal val="0"/>
                                          </p:val>
                                        </p:tav>
                                        <p:tav tm="100000">
                                          <p:val>
                                            <p:strVal val="#ppt_h"/>
                                          </p:val>
                                        </p:tav>
                                      </p:tavLst>
                                    </p:anim>
                                    <p:animEffect filter="fade" transition="in">
                                      <p:cBhvr additive="repl">
                                        <p:cTn id="371" dur="500"/>
                                        <p:tgtEl>
                                          <p:spTgt spid="2238"/>
                                        </p:tgtEl>
                                      </p:cBhvr>
                                    </p:animEffect>
                                  </p:childTnLst>
                                </p:cTn>
                              </p:par>
                            </p:childTnLst>
                          </p:cTn>
                        </p:par>
                        <p:par>
                          <p:cTn id="372" fill="hold">
                            <p:stCondLst>
                              <p:cond delay="8500"/>
                            </p:stCondLst>
                            <p:childTnLst>
                              <p:par>
                                <p:cTn id="373" dur="indefinite" nodeType="afterEffect" fill="hold" presetClass="entr" presetID="18" presetSubtype="3">
                                  <p:stCondLst>
                                    <p:cond delay="0"/>
                                  </p:stCondLst>
                                  <p:childTnLst>
                                    <p:set>
                                      <p:cBhvr>
                                        <p:cTn id="374" dur="1" fill="hold">
                                          <p:stCondLst>
                                            <p:cond delay="0"/>
                                          </p:stCondLst>
                                        </p:cTn>
                                        <p:tgtEl>
                                          <p:spTgt spid="2212"/>
                                        </p:tgtEl>
                                        <p:attrNameLst>
                                          <p:attrName>style.visibility</p:attrName>
                                        </p:attrNameLst>
                                      </p:cBhvr>
                                      <p:to>
                                        <p:strVal val="visible"/>
                                      </p:to>
                                    </p:set>
                                    <p:animEffect filter="strips(upRight)" transition="in">
                                      <p:cBhvr additive="repl">
                                        <p:cTn id="375" dur="500"/>
                                        <p:tgtEl>
                                          <p:spTgt spid="2212"/>
                                        </p:tgtEl>
                                      </p:cBhvr>
                                    </p:animEffect>
                                  </p:childTnLst>
                                </p:cTn>
                              </p:par>
                            </p:childTnLst>
                          </p:cTn>
                        </p:par>
                        <p:par>
                          <p:cTn id="376" fill="hold">
                            <p:stCondLst>
                              <p:cond delay="9000"/>
                            </p:stCondLst>
                            <p:childTnLst>
                              <p:par>
                                <p:cTn id="377" dur="indefinite" nodeType="afterEffect" fill="hold" presetClass="entr" presetID="53" presetSubtype="16">
                                  <p:stCondLst>
                                    <p:cond delay="0"/>
                                  </p:stCondLst>
                                  <p:childTnLst>
                                    <p:set>
                                      <p:cBhvr>
                                        <p:cTn id="378" dur="1" fill="hold">
                                          <p:stCondLst>
                                            <p:cond delay="0"/>
                                          </p:stCondLst>
                                        </p:cTn>
                                        <p:tgtEl>
                                          <p:spTgt spid="2224"/>
                                        </p:tgtEl>
                                        <p:attrNameLst>
                                          <p:attrName>style.visibility</p:attrName>
                                        </p:attrNameLst>
                                      </p:cBhvr>
                                      <p:to>
                                        <p:strVal val="visible"/>
                                      </p:to>
                                    </p:set>
                                    <p:anim calcmode="lin" valueType="num">
                                      <p:cBhvr additive="repl">
                                        <p:cTn id="379" dur="500" fill="hold"/>
                                        <p:tgtEl>
                                          <p:spTgt spid="2224"/>
                                        </p:tgtEl>
                                        <p:attrNameLst>
                                          <p:attrName>ppt_w</p:attrName>
                                        </p:attrNameLst>
                                      </p:cBhvr>
                                      <p:tavLst>
                                        <p:tav tm="0">
                                          <p:val>
                                            <p:fltVal val="0"/>
                                          </p:val>
                                        </p:tav>
                                        <p:tav tm="100000">
                                          <p:val>
                                            <p:strVal val="#ppt_w"/>
                                          </p:val>
                                        </p:tav>
                                      </p:tavLst>
                                    </p:anim>
                                    <p:anim calcmode="lin" valueType="num">
                                      <p:cBhvr additive="repl">
                                        <p:cTn id="380" dur="500" fill="hold"/>
                                        <p:tgtEl>
                                          <p:spTgt spid="2224"/>
                                        </p:tgtEl>
                                        <p:attrNameLst>
                                          <p:attrName>ppt_h</p:attrName>
                                        </p:attrNameLst>
                                      </p:cBhvr>
                                      <p:tavLst>
                                        <p:tav tm="0">
                                          <p:val>
                                            <p:fltVal val="0"/>
                                          </p:val>
                                        </p:tav>
                                        <p:tav tm="100000">
                                          <p:val>
                                            <p:strVal val="#ppt_h"/>
                                          </p:val>
                                        </p:tav>
                                      </p:tavLst>
                                    </p:anim>
                                    <p:animEffect filter="fade" transition="in">
                                      <p:cBhvr additive="repl">
                                        <p:cTn id="381" dur="500"/>
                                        <p:tgtEl>
                                          <p:spTgt spid="2224"/>
                                        </p:tgtEl>
                                      </p:cBhvr>
                                    </p:animEffect>
                                  </p:childTnLst>
                                </p:cTn>
                              </p:par>
                              <p:par>
                                <p:cTn id="382" dur="indefinite" nodeType="withEffect" fill="hold" presetClass="entr" presetID="53" presetSubtype="16">
                                  <p:stCondLst>
                                    <p:cond delay="0"/>
                                  </p:stCondLst>
                                  <p:childTnLst>
                                    <p:set>
                                      <p:cBhvr>
                                        <p:cTn id="383" dur="1" fill="hold">
                                          <p:stCondLst>
                                            <p:cond delay="0"/>
                                          </p:stCondLst>
                                        </p:cTn>
                                        <p:tgtEl>
                                          <p:spTgt spid="2247"/>
                                        </p:tgtEl>
                                        <p:attrNameLst>
                                          <p:attrName>style.visibility</p:attrName>
                                        </p:attrNameLst>
                                      </p:cBhvr>
                                      <p:to>
                                        <p:strVal val="visible"/>
                                      </p:to>
                                    </p:set>
                                    <p:anim calcmode="lin" valueType="num">
                                      <p:cBhvr additive="repl">
                                        <p:cTn id="384" dur="500" fill="hold"/>
                                        <p:tgtEl>
                                          <p:spTgt spid="2247"/>
                                        </p:tgtEl>
                                        <p:attrNameLst>
                                          <p:attrName>ppt_w</p:attrName>
                                        </p:attrNameLst>
                                      </p:cBhvr>
                                      <p:tavLst>
                                        <p:tav tm="0">
                                          <p:val>
                                            <p:fltVal val="0"/>
                                          </p:val>
                                        </p:tav>
                                        <p:tav tm="100000">
                                          <p:val>
                                            <p:strVal val="#ppt_w"/>
                                          </p:val>
                                        </p:tav>
                                      </p:tavLst>
                                    </p:anim>
                                    <p:anim calcmode="lin" valueType="num">
                                      <p:cBhvr additive="repl">
                                        <p:cTn id="385" dur="500" fill="hold"/>
                                        <p:tgtEl>
                                          <p:spTgt spid="2247"/>
                                        </p:tgtEl>
                                        <p:attrNameLst>
                                          <p:attrName>ppt_h</p:attrName>
                                        </p:attrNameLst>
                                      </p:cBhvr>
                                      <p:tavLst>
                                        <p:tav tm="0">
                                          <p:val>
                                            <p:fltVal val="0"/>
                                          </p:val>
                                        </p:tav>
                                        <p:tav tm="100000">
                                          <p:val>
                                            <p:strVal val="#ppt_h"/>
                                          </p:val>
                                        </p:tav>
                                      </p:tavLst>
                                    </p:anim>
                                    <p:animEffect filter="fade" transition="in">
                                      <p:cBhvr additive="repl">
                                        <p:cTn id="386" dur="500"/>
                                        <p:tgtEl>
                                          <p:spTgt spid="2247"/>
                                        </p:tgtEl>
                                      </p:cBhvr>
                                    </p:animEffect>
                                  </p:childTnLst>
                                </p:cTn>
                              </p:par>
                            </p:childTnLst>
                          </p:cTn>
                        </p:par>
                        <p:par>
                          <p:cTn id="387" fill="hold">
                            <p:stCondLst>
                              <p:cond delay="9500"/>
                            </p:stCondLst>
                            <p:childTnLst>
                              <p:par>
                                <p:cTn id="388" dur="indefinite" nodeType="afterEffect" fill="hold" presetClass="entr" presetID="22" presetSubtype="8">
                                  <p:stCondLst>
                                    <p:cond delay="0"/>
                                  </p:stCondLst>
                                  <p:childTnLst>
                                    <p:set>
                                      <p:cBhvr>
                                        <p:cTn id="389" dur="1" fill="hold">
                                          <p:stCondLst>
                                            <p:cond delay="0"/>
                                          </p:stCondLst>
                                        </p:cTn>
                                        <p:tgtEl>
                                          <p:spTgt spid="2259"/>
                                        </p:tgtEl>
                                        <p:attrNameLst>
                                          <p:attrName>style.visibility</p:attrName>
                                        </p:attrNameLst>
                                      </p:cBhvr>
                                      <p:to>
                                        <p:strVal val="visible"/>
                                      </p:to>
                                    </p:set>
                                    <p:animEffect filter="wipe(left)" transition="in">
                                      <p:cBhvr additive="repl">
                                        <p:cTn id="390" dur="500"/>
                                        <p:tgtEl>
                                          <p:spTgt spid="2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982440" y="2205000"/>
            <a:ext cx="10225080" cy="3322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微软雅黑"/>
                <a:ea typeface="微软雅黑"/>
              </a:rPr>
              <a:t>                          </a:t>
            </a:r>
            <a:r>
              <a:rPr b="1" lang="zh-CN" sz="5400" spc="-1" strike="noStrike">
                <a:solidFill>
                  <a:srgbClr val="8e10d4"/>
                </a:solidFill>
                <a:latin typeface="微软雅黑"/>
              </a:rPr>
              <a:t>任务二 </a:t>
            </a:r>
            <a:br>
              <a:rPr sz="5400"/>
            </a:br>
            <a:r>
              <a:rPr b="1" lang="en-US" sz="5400" spc="-1" strike="noStrike">
                <a:solidFill>
                  <a:srgbClr val="8e10d4"/>
                </a:solidFill>
                <a:latin typeface="微软雅黑"/>
                <a:ea typeface="微软雅黑"/>
              </a:rPr>
              <a:t>        </a:t>
            </a:r>
            <a:r>
              <a:rPr b="1" lang="zh-CN" sz="5400" spc="-1" strike="noStrike">
                <a:solidFill>
                  <a:srgbClr val="8e10d4"/>
                </a:solidFill>
                <a:latin typeface="微软雅黑"/>
                <a:ea typeface="汉仪旗黑-85S"/>
              </a:rPr>
              <a:t>审计报告的编制和出具</a:t>
            </a:r>
            <a:br>
              <a:rPr sz="5400"/>
            </a:br>
            <a:br>
              <a:rPr sz="5400"/>
            </a:br>
            <a:endParaRPr b="1" lang="en-US" sz="5400" spc="-1" strike="noStrike">
              <a:solidFill>
                <a:srgbClr val="262626"/>
              </a:solidFill>
              <a:latin typeface="Arial"/>
            </a:endParaRPr>
          </a:p>
        </p:txBody>
      </p:sp>
    </p:spTree>
  </p:cSld>
  <p:transition>
    <p:fad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dur="indefinite" nodeType="afterEffect" fill="hold" presetClass="entr" presetID="22" presetSubtype="1">
                                  <p:stCondLst>
                                    <p:cond delay="0"/>
                                  </p:stCondLst>
                                  <p:childTnLst>
                                    <p:set>
                                      <p:cBhvr>
                                        <p:cTn id="396" dur="1000" fill="hold">
                                          <p:stCondLst>
                                            <p:cond delay="0"/>
                                          </p:stCondLst>
                                        </p:cTn>
                                        <p:tgtEl>
                                          <p:spTgt spid="2262"/>
                                        </p:tgtEl>
                                        <p:attrNameLst>
                                          <p:attrName>style.visibility</p:attrName>
                                        </p:attrNameLst>
                                      </p:cBhvr>
                                      <p:to>
                                        <p:strVal val="visible"/>
                                      </p:to>
                                    </p:set>
                                    <p:animEffect filter="wipe(up)" transition="in">
                                      <p:cBhvr additive="repl">
                                        <p:cTn id="397" dur="1000"/>
                                        <p:tgtEl>
                                          <p:spTgt spid="2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3" name="组合 112"/>
          <p:cNvGrpSpPr/>
          <p:nvPr/>
        </p:nvGrpSpPr>
        <p:grpSpPr>
          <a:xfrm>
            <a:off x="3822840" y="1830240"/>
            <a:ext cx="7629480" cy="3579480"/>
            <a:chOff x="3822840" y="1830240"/>
            <a:chExt cx="7629480" cy="3579480"/>
          </a:xfrm>
        </p:grpSpPr>
        <p:sp>
          <p:nvSpPr>
            <p:cNvPr id="2264" name="圆角矩形 113"/>
            <p:cNvSpPr/>
            <p:nvPr/>
          </p:nvSpPr>
          <p:spPr>
            <a:xfrm>
              <a:off x="3927600" y="2017080"/>
              <a:ext cx="7412040" cy="321948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65" name="组合 114"/>
            <p:cNvGrpSpPr/>
            <p:nvPr/>
          </p:nvGrpSpPr>
          <p:grpSpPr>
            <a:xfrm>
              <a:off x="3822840" y="1830240"/>
              <a:ext cx="389520" cy="378000"/>
              <a:chOff x="3822840" y="1830240"/>
              <a:chExt cx="389520" cy="378000"/>
            </a:xfrm>
          </p:grpSpPr>
          <p:sp>
            <p:nvSpPr>
              <p:cNvPr id="2266" name="菱形 115"/>
              <p:cNvSpPr/>
              <p:nvPr/>
            </p:nvSpPr>
            <p:spPr>
              <a:xfrm>
                <a:off x="3822840" y="1830240"/>
                <a:ext cx="253800" cy="362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7" name="菱形 116"/>
              <p:cNvSpPr/>
              <p:nvPr/>
            </p:nvSpPr>
            <p:spPr>
              <a:xfrm>
                <a:off x="4005000" y="1846080"/>
                <a:ext cx="207360" cy="362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68" name="组合 117"/>
            <p:cNvGrpSpPr/>
            <p:nvPr/>
          </p:nvGrpSpPr>
          <p:grpSpPr>
            <a:xfrm>
              <a:off x="3822840" y="5049000"/>
              <a:ext cx="435600" cy="360720"/>
              <a:chOff x="3822840" y="5049000"/>
              <a:chExt cx="435600" cy="360720"/>
            </a:xfrm>
          </p:grpSpPr>
          <p:sp>
            <p:nvSpPr>
              <p:cNvPr id="2269" name="菱形 118"/>
              <p:cNvSpPr/>
              <p:nvPr/>
            </p:nvSpPr>
            <p:spPr>
              <a:xfrm>
                <a:off x="3822840" y="5049000"/>
                <a:ext cx="254520" cy="3607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菱形 119"/>
              <p:cNvSpPr/>
              <p:nvPr/>
            </p:nvSpPr>
            <p:spPr>
              <a:xfrm>
                <a:off x="4003920" y="5049000"/>
                <a:ext cx="254520" cy="3607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1" name="组合 120"/>
            <p:cNvGrpSpPr/>
            <p:nvPr/>
          </p:nvGrpSpPr>
          <p:grpSpPr>
            <a:xfrm>
              <a:off x="11008440" y="5049000"/>
              <a:ext cx="443880" cy="360720"/>
              <a:chOff x="11008440" y="5049000"/>
              <a:chExt cx="443880" cy="360720"/>
            </a:xfrm>
          </p:grpSpPr>
          <p:sp>
            <p:nvSpPr>
              <p:cNvPr id="2272" name="菱形 121"/>
              <p:cNvSpPr/>
              <p:nvPr/>
            </p:nvSpPr>
            <p:spPr>
              <a:xfrm flipH="1">
                <a:off x="11188800" y="5049000"/>
                <a:ext cx="263520" cy="3607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3" name="菱形 122"/>
              <p:cNvSpPr/>
              <p:nvPr/>
            </p:nvSpPr>
            <p:spPr>
              <a:xfrm flipH="1">
                <a:off x="11008080" y="5049000"/>
                <a:ext cx="263160" cy="3607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4" name="组合 123"/>
            <p:cNvGrpSpPr/>
            <p:nvPr/>
          </p:nvGrpSpPr>
          <p:grpSpPr>
            <a:xfrm>
              <a:off x="11016720" y="1848960"/>
              <a:ext cx="435600" cy="361080"/>
              <a:chOff x="11016720" y="1848960"/>
              <a:chExt cx="435600" cy="361080"/>
            </a:xfrm>
          </p:grpSpPr>
          <p:sp>
            <p:nvSpPr>
              <p:cNvPr id="2275" name="菱形 124"/>
              <p:cNvSpPr/>
              <p:nvPr/>
            </p:nvSpPr>
            <p:spPr>
              <a:xfrm flipH="1">
                <a:off x="11197440" y="1848960"/>
                <a:ext cx="254520" cy="36108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6" name="菱形 125"/>
              <p:cNvSpPr/>
              <p:nvPr/>
            </p:nvSpPr>
            <p:spPr>
              <a:xfrm flipH="1">
                <a:off x="11016360" y="1848960"/>
                <a:ext cx="254520" cy="36108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277" name="组合 28"/>
          <p:cNvGrpSpPr/>
          <p:nvPr/>
        </p:nvGrpSpPr>
        <p:grpSpPr>
          <a:xfrm>
            <a:off x="927000" y="341280"/>
            <a:ext cx="10360080" cy="523800"/>
            <a:chOff x="927000" y="341280"/>
            <a:chExt cx="10360080" cy="523800"/>
          </a:xfrm>
        </p:grpSpPr>
        <p:sp>
          <p:nvSpPr>
            <p:cNvPr id="2278" name="直接连接符 52"/>
            <p:cNvSpPr/>
            <p:nvPr/>
          </p:nvSpPr>
          <p:spPr>
            <a:xfrm>
              <a:off x="927000" y="603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9" name="直接连接符 64"/>
            <p:cNvSpPr/>
            <p:nvPr/>
          </p:nvSpPr>
          <p:spPr>
            <a:xfrm>
              <a:off x="9307800" y="603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280" name="文本框 31" descr=""/>
            <p:cNvPicPr/>
            <p:nvPr/>
          </p:nvPicPr>
          <p:blipFill>
            <a:blip r:embed="rId1"/>
            <a:stretch/>
          </p:blipFill>
          <p:spPr>
            <a:xfrm>
              <a:off x="2741760" y="341280"/>
              <a:ext cx="6896160" cy="523800"/>
            </a:xfrm>
            <a:prstGeom prst="rect">
              <a:avLst/>
            </a:prstGeom>
            <a:ln w="0">
              <a:noFill/>
            </a:ln>
          </p:spPr>
        </p:pic>
      </p:grpSp>
      <p:sp>
        <p:nvSpPr>
          <p:cNvPr id="2281" name="文本框 2"/>
          <p:cNvSpPr/>
          <p:nvPr/>
        </p:nvSpPr>
        <p:spPr>
          <a:xfrm>
            <a:off x="4219560" y="1008000"/>
            <a:ext cx="297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282" name="矩形 1"/>
          <p:cNvSpPr/>
          <p:nvPr/>
        </p:nvSpPr>
        <p:spPr>
          <a:xfrm>
            <a:off x="4121280" y="2182680"/>
            <a:ext cx="694692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审计报告是指审计人员根据审计准则的要求，在实施了必要的审计程序后， 向审计授权人或委托人出具的用于被审计单位的审计结果进行评价、表达审计意 见和建议的书面文件。</a:t>
            </a:r>
            <a:endParaRPr b="1" lang="en-US" sz="2400" spc="-1" strike="noStrike">
              <a:solidFill>
                <a:srgbClr val="000000"/>
              </a:solidFill>
              <a:latin typeface="Arial"/>
            </a:endParaRPr>
          </a:p>
        </p:txBody>
      </p:sp>
      <p:grpSp>
        <p:nvGrpSpPr>
          <p:cNvPr id="2283" name="组合 3"/>
          <p:cNvGrpSpPr/>
          <p:nvPr/>
        </p:nvGrpSpPr>
        <p:grpSpPr>
          <a:xfrm>
            <a:off x="593640" y="2027160"/>
            <a:ext cx="3160800" cy="3024360"/>
            <a:chOff x="593640" y="2027160"/>
            <a:chExt cx="3160800" cy="3024360"/>
          </a:xfrm>
        </p:grpSpPr>
        <p:pic>
          <p:nvPicPr>
            <p:cNvPr id="2284" name="图片 22" descr=""/>
            <p:cNvPicPr/>
            <p:nvPr/>
          </p:nvPicPr>
          <p:blipFill>
            <a:blip r:embed="rId2"/>
            <a:stretch/>
          </p:blipFill>
          <p:spPr>
            <a:xfrm>
              <a:off x="1264320" y="2097000"/>
              <a:ext cx="2287080" cy="2940840"/>
            </a:xfrm>
            <a:prstGeom prst="rect">
              <a:avLst/>
            </a:prstGeom>
            <a:ln w="0">
              <a:noFill/>
            </a:ln>
          </p:spPr>
        </p:pic>
        <p:sp>
          <p:nvSpPr>
            <p:cNvPr id="2285" name="Rectangle 3"/>
            <p:cNvSpPr/>
            <p:nvPr/>
          </p:nvSpPr>
          <p:spPr>
            <a:xfrm rot="18900000">
              <a:off x="2748240" y="3072600"/>
              <a:ext cx="768960" cy="989640"/>
            </a:xfrm>
            <a:prstGeom prst="rect">
              <a:avLst/>
            </a:prstGeom>
            <a:solidFill>
              <a:srgbClr val="2196f3">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6" name="Diamond 5"/>
            <p:cNvSpPr/>
            <p:nvPr/>
          </p:nvSpPr>
          <p:spPr>
            <a:xfrm>
              <a:off x="2930400" y="3306960"/>
              <a:ext cx="404640" cy="52200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7" name="任意多边形: 形状 33"/>
            <p:cNvSpPr/>
            <p:nvPr/>
          </p:nvSpPr>
          <p:spPr>
            <a:xfrm>
              <a:off x="3051720" y="3463200"/>
              <a:ext cx="162000" cy="208800"/>
            </a:xfrm>
            <a:custGeom>
              <a:avLst/>
              <a:gdLst/>
              <a:ahLst/>
              <a:rect l="l" t="t" r="r" b="b"/>
              <a:pathLst>
                <a:path w="384214" h="384636">
                  <a:moveTo>
                    <a:pt x="54571" y="283927"/>
                  </a:moveTo>
                  <a:lnTo>
                    <a:pt x="66591" y="283927"/>
                  </a:lnTo>
                  <a:lnTo>
                    <a:pt x="66591" y="372616"/>
                  </a:lnTo>
                  <a:lnTo>
                    <a:pt x="325991" y="372616"/>
                  </a:lnTo>
                  <a:lnTo>
                    <a:pt x="325991" y="321574"/>
                  </a:lnTo>
                  <a:lnTo>
                    <a:pt x="338011" y="321574"/>
                  </a:lnTo>
                  <a:lnTo>
                    <a:pt x="338011" y="384636"/>
                  </a:lnTo>
                  <a:lnTo>
                    <a:pt x="54571" y="384636"/>
                  </a:lnTo>
                  <a:lnTo>
                    <a:pt x="54571" y="283927"/>
                  </a:lnTo>
                  <a:close/>
                  <a:moveTo>
                    <a:pt x="206048" y="221148"/>
                  </a:moveTo>
                  <a:cubicBezTo>
                    <a:pt x="209212" y="220144"/>
                    <a:pt x="212590" y="221896"/>
                    <a:pt x="213593" y="225060"/>
                  </a:cubicBezTo>
                  <a:cubicBezTo>
                    <a:pt x="214596" y="228224"/>
                    <a:pt x="212845" y="231602"/>
                    <a:pt x="209681" y="232606"/>
                  </a:cubicBezTo>
                  <a:lnTo>
                    <a:pt x="203107" y="234743"/>
                  </a:lnTo>
                  <a:cubicBezTo>
                    <a:pt x="202680" y="235130"/>
                    <a:pt x="202197" y="235451"/>
                    <a:pt x="201676" y="235696"/>
                  </a:cubicBezTo>
                  <a:lnTo>
                    <a:pt x="186404" y="241956"/>
                  </a:lnTo>
                  <a:cubicBezTo>
                    <a:pt x="185682" y="242253"/>
                    <a:pt x="184907" y="242407"/>
                    <a:pt x="184126" y="242408"/>
                  </a:cubicBezTo>
                  <a:cubicBezTo>
                    <a:pt x="181689" y="242406"/>
                    <a:pt x="179495" y="240933"/>
                    <a:pt x="178570" y="238678"/>
                  </a:cubicBezTo>
                  <a:cubicBezTo>
                    <a:pt x="177309" y="235606"/>
                    <a:pt x="178777" y="232093"/>
                    <a:pt x="181849" y="230833"/>
                  </a:cubicBezTo>
                  <a:lnTo>
                    <a:pt x="197086" y="224588"/>
                  </a:lnTo>
                  <a:cubicBezTo>
                    <a:pt x="197699" y="224042"/>
                    <a:pt x="198418" y="223629"/>
                    <a:pt x="199198" y="223373"/>
                  </a:cubicBezTo>
                  <a:lnTo>
                    <a:pt x="205972" y="221172"/>
                  </a:lnTo>
                  <a:cubicBezTo>
                    <a:pt x="205997" y="221164"/>
                    <a:pt x="206022" y="221156"/>
                    <a:pt x="206048" y="221148"/>
                  </a:cubicBezTo>
                  <a:close/>
                  <a:moveTo>
                    <a:pt x="279082" y="198325"/>
                  </a:moveTo>
                  <a:cubicBezTo>
                    <a:pt x="269129" y="198336"/>
                    <a:pt x="261063" y="206402"/>
                    <a:pt x="261052" y="216355"/>
                  </a:cubicBezTo>
                  <a:cubicBezTo>
                    <a:pt x="261052" y="226312"/>
                    <a:pt x="269124" y="234384"/>
                    <a:pt x="279082" y="234384"/>
                  </a:cubicBezTo>
                  <a:cubicBezTo>
                    <a:pt x="289039" y="234384"/>
                    <a:pt x="297111" y="226312"/>
                    <a:pt x="297111" y="216355"/>
                  </a:cubicBezTo>
                  <a:cubicBezTo>
                    <a:pt x="297111" y="206397"/>
                    <a:pt x="289039" y="198325"/>
                    <a:pt x="279082" y="198325"/>
                  </a:cubicBezTo>
                  <a:close/>
                  <a:moveTo>
                    <a:pt x="279082" y="186305"/>
                  </a:moveTo>
                  <a:cubicBezTo>
                    <a:pt x="295678" y="186305"/>
                    <a:pt x="309131" y="199759"/>
                    <a:pt x="309131" y="216355"/>
                  </a:cubicBezTo>
                  <a:cubicBezTo>
                    <a:pt x="309131" y="232951"/>
                    <a:pt x="295678" y="246404"/>
                    <a:pt x="279082" y="246404"/>
                  </a:cubicBezTo>
                  <a:cubicBezTo>
                    <a:pt x="262494" y="246385"/>
                    <a:pt x="249052" y="232942"/>
                    <a:pt x="249032" y="216355"/>
                  </a:cubicBezTo>
                  <a:cubicBezTo>
                    <a:pt x="249032" y="199759"/>
                    <a:pt x="262486" y="186305"/>
                    <a:pt x="279082" y="186305"/>
                  </a:cubicBezTo>
                  <a:close/>
                  <a:moveTo>
                    <a:pt x="105041" y="165197"/>
                  </a:moveTo>
                  <a:cubicBezTo>
                    <a:pt x="95083" y="165197"/>
                    <a:pt x="87011" y="173269"/>
                    <a:pt x="87011" y="183227"/>
                  </a:cubicBezTo>
                  <a:cubicBezTo>
                    <a:pt x="87011" y="193184"/>
                    <a:pt x="95083" y="201256"/>
                    <a:pt x="105041" y="201256"/>
                  </a:cubicBezTo>
                  <a:cubicBezTo>
                    <a:pt x="114994" y="201245"/>
                    <a:pt x="123059" y="193180"/>
                    <a:pt x="123070" y="183227"/>
                  </a:cubicBezTo>
                  <a:cubicBezTo>
                    <a:pt x="123070" y="173269"/>
                    <a:pt x="114998" y="165197"/>
                    <a:pt x="105041" y="165197"/>
                  </a:cubicBezTo>
                  <a:close/>
                  <a:moveTo>
                    <a:pt x="194726" y="156149"/>
                  </a:moveTo>
                  <a:cubicBezTo>
                    <a:pt x="197545" y="154395"/>
                    <a:pt x="201251" y="155259"/>
                    <a:pt x="203005" y="158077"/>
                  </a:cubicBezTo>
                  <a:cubicBezTo>
                    <a:pt x="204758" y="160895"/>
                    <a:pt x="203895" y="164602"/>
                    <a:pt x="201077" y="166355"/>
                  </a:cubicBezTo>
                  <a:lnTo>
                    <a:pt x="186316" y="175532"/>
                  </a:lnTo>
                  <a:cubicBezTo>
                    <a:pt x="185904" y="175787"/>
                    <a:pt x="185462" y="175992"/>
                    <a:pt x="185001" y="176142"/>
                  </a:cubicBezTo>
                  <a:lnTo>
                    <a:pt x="182859" y="176840"/>
                  </a:lnTo>
                  <a:cubicBezTo>
                    <a:pt x="183070" y="179082"/>
                    <a:pt x="183170" y="181178"/>
                    <a:pt x="183170" y="183238"/>
                  </a:cubicBezTo>
                  <a:cubicBezTo>
                    <a:pt x="183170" y="185271"/>
                    <a:pt x="183070" y="187340"/>
                    <a:pt x="182871" y="189547"/>
                  </a:cubicBezTo>
                  <a:lnTo>
                    <a:pt x="185019" y="190245"/>
                  </a:lnTo>
                  <a:cubicBezTo>
                    <a:pt x="185425" y="190377"/>
                    <a:pt x="185817" y="190551"/>
                    <a:pt x="186187" y="190765"/>
                  </a:cubicBezTo>
                  <a:lnTo>
                    <a:pt x="203172" y="200636"/>
                  </a:lnTo>
                  <a:cubicBezTo>
                    <a:pt x="206042" y="202306"/>
                    <a:pt x="207016" y="205986"/>
                    <a:pt x="205346" y="208856"/>
                  </a:cubicBezTo>
                  <a:cubicBezTo>
                    <a:pt x="203677" y="211726"/>
                    <a:pt x="199997" y="212700"/>
                    <a:pt x="197127" y="211031"/>
                  </a:cubicBezTo>
                  <a:lnTo>
                    <a:pt x="180699" y="201482"/>
                  </a:lnTo>
                  <a:lnTo>
                    <a:pt x="174454" y="199454"/>
                  </a:lnTo>
                  <a:cubicBezTo>
                    <a:pt x="171664" y="198550"/>
                    <a:pt x="169935" y="195764"/>
                    <a:pt x="170363" y="192863"/>
                  </a:cubicBezTo>
                  <a:cubicBezTo>
                    <a:pt x="171416" y="186462"/>
                    <a:pt x="171411" y="179932"/>
                    <a:pt x="170351" y="173533"/>
                  </a:cubicBezTo>
                  <a:cubicBezTo>
                    <a:pt x="169922" y="170634"/>
                    <a:pt x="171649" y="167848"/>
                    <a:pt x="174436" y="166942"/>
                  </a:cubicBezTo>
                  <a:lnTo>
                    <a:pt x="180588" y="164938"/>
                  </a:lnTo>
                  <a:lnTo>
                    <a:pt x="194726" y="156149"/>
                  </a:lnTo>
                  <a:close/>
                  <a:moveTo>
                    <a:pt x="105041" y="153177"/>
                  </a:moveTo>
                  <a:cubicBezTo>
                    <a:pt x="121628" y="153197"/>
                    <a:pt x="135071" y="166639"/>
                    <a:pt x="135090" y="183227"/>
                  </a:cubicBezTo>
                  <a:cubicBezTo>
                    <a:pt x="135090" y="199823"/>
                    <a:pt x="121637" y="213276"/>
                    <a:pt x="105041" y="213276"/>
                  </a:cubicBezTo>
                  <a:cubicBezTo>
                    <a:pt x="88445" y="213276"/>
                    <a:pt x="74991" y="199823"/>
                    <a:pt x="74991" y="183227"/>
                  </a:cubicBezTo>
                  <a:cubicBezTo>
                    <a:pt x="74991" y="166631"/>
                    <a:pt x="88445" y="153177"/>
                    <a:pt x="105041" y="153177"/>
                  </a:cubicBezTo>
                  <a:close/>
                  <a:moveTo>
                    <a:pt x="273125" y="108132"/>
                  </a:moveTo>
                  <a:lnTo>
                    <a:pt x="285145" y="108132"/>
                  </a:lnTo>
                  <a:cubicBezTo>
                    <a:pt x="287903" y="108131"/>
                    <a:pt x="290307" y="110010"/>
                    <a:pt x="290973" y="112686"/>
                  </a:cubicBezTo>
                  <a:lnTo>
                    <a:pt x="296977" y="136717"/>
                  </a:lnTo>
                  <a:cubicBezTo>
                    <a:pt x="297099" y="137193"/>
                    <a:pt x="297160" y="137682"/>
                    <a:pt x="297159" y="138173"/>
                  </a:cubicBezTo>
                  <a:lnTo>
                    <a:pt x="297159" y="140427"/>
                  </a:lnTo>
                  <a:cubicBezTo>
                    <a:pt x="301265" y="141400"/>
                    <a:pt x="305285" y="142706"/>
                    <a:pt x="309179" y="144333"/>
                  </a:cubicBezTo>
                  <a:lnTo>
                    <a:pt x="310505" y="142507"/>
                  </a:lnTo>
                  <a:cubicBezTo>
                    <a:pt x="310793" y="142111"/>
                    <a:pt x="311128" y="141751"/>
                    <a:pt x="311503" y="141436"/>
                  </a:cubicBezTo>
                  <a:lnTo>
                    <a:pt x="330484" y="125525"/>
                  </a:lnTo>
                  <a:cubicBezTo>
                    <a:pt x="332599" y="123756"/>
                    <a:pt x="335645" y="123650"/>
                    <a:pt x="337879" y="125267"/>
                  </a:cubicBezTo>
                  <a:lnTo>
                    <a:pt x="347604" y="132333"/>
                  </a:lnTo>
                  <a:cubicBezTo>
                    <a:pt x="349839" y="133959"/>
                    <a:pt x="350679" y="136899"/>
                    <a:pt x="349640" y="139461"/>
                  </a:cubicBezTo>
                  <a:lnTo>
                    <a:pt x="340314" y="162391"/>
                  </a:lnTo>
                  <a:cubicBezTo>
                    <a:pt x="340130" y="162838"/>
                    <a:pt x="339894" y="163262"/>
                    <a:pt x="339610" y="163653"/>
                  </a:cubicBezTo>
                  <a:lnTo>
                    <a:pt x="338307" y="165455"/>
                  </a:lnTo>
                  <a:cubicBezTo>
                    <a:pt x="341076" y="168676"/>
                    <a:pt x="343576" y="172118"/>
                    <a:pt x="345784" y="175747"/>
                  </a:cubicBezTo>
                  <a:lnTo>
                    <a:pt x="347921" y="175051"/>
                  </a:lnTo>
                  <a:cubicBezTo>
                    <a:pt x="348386" y="174898"/>
                    <a:pt x="348869" y="174805"/>
                    <a:pt x="349358" y="174772"/>
                  </a:cubicBezTo>
                  <a:lnTo>
                    <a:pt x="374073" y="173058"/>
                  </a:lnTo>
                  <a:cubicBezTo>
                    <a:pt x="376822" y="172882"/>
                    <a:pt x="379343" y="174584"/>
                    <a:pt x="380206" y="177199"/>
                  </a:cubicBezTo>
                  <a:lnTo>
                    <a:pt x="383915" y="188632"/>
                  </a:lnTo>
                  <a:cubicBezTo>
                    <a:pt x="384769" y="191260"/>
                    <a:pt x="383720" y="194131"/>
                    <a:pt x="381374" y="195590"/>
                  </a:cubicBezTo>
                  <a:lnTo>
                    <a:pt x="360357" y="208660"/>
                  </a:lnTo>
                  <a:cubicBezTo>
                    <a:pt x="359946" y="208918"/>
                    <a:pt x="359504" y="209124"/>
                    <a:pt x="359042" y="209274"/>
                  </a:cubicBezTo>
                  <a:lnTo>
                    <a:pt x="356900" y="209966"/>
                  </a:lnTo>
                  <a:cubicBezTo>
                    <a:pt x="357111" y="212208"/>
                    <a:pt x="357211" y="214306"/>
                    <a:pt x="357211" y="216363"/>
                  </a:cubicBezTo>
                  <a:cubicBezTo>
                    <a:pt x="357211" y="218397"/>
                    <a:pt x="357111" y="220469"/>
                    <a:pt x="356912" y="222676"/>
                  </a:cubicBezTo>
                  <a:lnTo>
                    <a:pt x="359060" y="223374"/>
                  </a:lnTo>
                  <a:cubicBezTo>
                    <a:pt x="359528" y="223526"/>
                    <a:pt x="359975" y="223735"/>
                    <a:pt x="360392" y="223996"/>
                  </a:cubicBezTo>
                  <a:lnTo>
                    <a:pt x="381392" y="237134"/>
                  </a:lnTo>
                  <a:cubicBezTo>
                    <a:pt x="383729" y="238597"/>
                    <a:pt x="384772" y="241463"/>
                    <a:pt x="383921" y="244086"/>
                  </a:cubicBezTo>
                  <a:lnTo>
                    <a:pt x="380206" y="255519"/>
                  </a:lnTo>
                  <a:cubicBezTo>
                    <a:pt x="379345" y="258144"/>
                    <a:pt x="376811" y="259848"/>
                    <a:pt x="374055" y="259657"/>
                  </a:cubicBezTo>
                  <a:lnTo>
                    <a:pt x="349364" y="257872"/>
                  </a:lnTo>
                  <a:cubicBezTo>
                    <a:pt x="348881" y="257837"/>
                    <a:pt x="348404" y="257743"/>
                    <a:pt x="347944" y="257594"/>
                  </a:cubicBezTo>
                  <a:lnTo>
                    <a:pt x="345825" y="256907"/>
                  </a:lnTo>
                  <a:cubicBezTo>
                    <a:pt x="343619" y="260538"/>
                    <a:pt x="341122" y="263983"/>
                    <a:pt x="338359" y="267210"/>
                  </a:cubicBezTo>
                  <a:lnTo>
                    <a:pt x="339674" y="269021"/>
                  </a:lnTo>
                  <a:cubicBezTo>
                    <a:pt x="339961" y="269419"/>
                    <a:pt x="340199" y="269849"/>
                    <a:pt x="340384" y="270303"/>
                  </a:cubicBezTo>
                  <a:lnTo>
                    <a:pt x="349651" y="293275"/>
                  </a:lnTo>
                  <a:cubicBezTo>
                    <a:pt x="350679" y="295833"/>
                    <a:pt x="349838" y="298762"/>
                    <a:pt x="347609" y="300385"/>
                  </a:cubicBezTo>
                  <a:lnTo>
                    <a:pt x="337885" y="307451"/>
                  </a:lnTo>
                  <a:cubicBezTo>
                    <a:pt x="335647" y="309073"/>
                    <a:pt x="332593" y="308963"/>
                    <a:pt x="330478" y="307184"/>
                  </a:cubicBezTo>
                  <a:lnTo>
                    <a:pt x="311550" y="291229"/>
                  </a:lnTo>
                  <a:cubicBezTo>
                    <a:pt x="311180" y="290917"/>
                    <a:pt x="310849" y="290561"/>
                    <a:pt x="310564" y="290170"/>
                  </a:cubicBezTo>
                  <a:lnTo>
                    <a:pt x="309255" y="288368"/>
                  </a:lnTo>
                  <a:cubicBezTo>
                    <a:pt x="305338" y="290009"/>
                    <a:pt x="301292" y="291325"/>
                    <a:pt x="297159" y="292303"/>
                  </a:cubicBezTo>
                  <a:lnTo>
                    <a:pt x="297159" y="294548"/>
                  </a:lnTo>
                  <a:cubicBezTo>
                    <a:pt x="297160" y="295039"/>
                    <a:pt x="297099" y="295528"/>
                    <a:pt x="296977" y="296004"/>
                  </a:cubicBezTo>
                  <a:lnTo>
                    <a:pt x="290973" y="320035"/>
                  </a:lnTo>
                  <a:cubicBezTo>
                    <a:pt x="290308" y="322711"/>
                    <a:pt x="287904" y="324590"/>
                    <a:pt x="285145" y="324589"/>
                  </a:cubicBezTo>
                  <a:lnTo>
                    <a:pt x="273125" y="324589"/>
                  </a:lnTo>
                  <a:cubicBezTo>
                    <a:pt x="270362" y="324588"/>
                    <a:pt x="267955" y="322703"/>
                    <a:pt x="267292" y="320020"/>
                  </a:cubicBezTo>
                  <a:lnTo>
                    <a:pt x="261358" y="295989"/>
                  </a:lnTo>
                  <a:cubicBezTo>
                    <a:pt x="261241" y="295520"/>
                    <a:pt x="261182" y="295038"/>
                    <a:pt x="261182" y="294554"/>
                  </a:cubicBezTo>
                  <a:lnTo>
                    <a:pt x="261182" y="292338"/>
                  </a:lnTo>
                  <a:cubicBezTo>
                    <a:pt x="257042" y="291368"/>
                    <a:pt x="252988" y="290059"/>
                    <a:pt x="249062" y="288424"/>
                  </a:cubicBezTo>
                  <a:lnTo>
                    <a:pt x="247765" y="290208"/>
                  </a:lnTo>
                  <a:cubicBezTo>
                    <a:pt x="247476" y="290607"/>
                    <a:pt x="247139" y="290970"/>
                    <a:pt x="246762" y="291288"/>
                  </a:cubicBezTo>
                  <a:lnTo>
                    <a:pt x="227769" y="307196"/>
                  </a:lnTo>
                  <a:cubicBezTo>
                    <a:pt x="225656" y="308970"/>
                    <a:pt x="222605" y="309075"/>
                    <a:pt x="220374" y="307451"/>
                  </a:cubicBezTo>
                  <a:lnTo>
                    <a:pt x="210649" y="300385"/>
                  </a:lnTo>
                  <a:cubicBezTo>
                    <a:pt x="208420" y="298762"/>
                    <a:pt x="207579" y="295833"/>
                    <a:pt x="208607" y="293275"/>
                  </a:cubicBezTo>
                  <a:lnTo>
                    <a:pt x="217874" y="270303"/>
                  </a:lnTo>
                  <a:cubicBezTo>
                    <a:pt x="218058" y="269847"/>
                    <a:pt x="218299" y="269415"/>
                    <a:pt x="218590" y="269018"/>
                  </a:cubicBezTo>
                  <a:lnTo>
                    <a:pt x="219864" y="267266"/>
                  </a:lnTo>
                  <a:cubicBezTo>
                    <a:pt x="217102" y="264052"/>
                    <a:pt x="214605" y="260619"/>
                    <a:pt x="212398" y="257001"/>
                  </a:cubicBezTo>
                  <a:lnTo>
                    <a:pt x="210344" y="257670"/>
                  </a:lnTo>
                  <a:cubicBezTo>
                    <a:pt x="209855" y="257828"/>
                    <a:pt x="209348" y="257923"/>
                    <a:pt x="208836" y="257955"/>
                  </a:cubicBezTo>
                  <a:lnTo>
                    <a:pt x="187983" y="259172"/>
                  </a:lnTo>
                  <a:cubicBezTo>
                    <a:pt x="184668" y="259367"/>
                    <a:pt x="181824" y="256838"/>
                    <a:pt x="181630" y="253524"/>
                  </a:cubicBezTo>
                  <a:cubicBezTo>
                    <a:pt x="181435" y="250209"/>
                    <a:pt x="183964" y="247365"/>
                    <a:pt x="187278" y="247170"/>
                  </a:cubicBezTo>
                  <a:lnTo>
                    <a:pt x="207362" y="245999"/>
                  </a:lnTo>
                  <a:lnTo>
                    <a:pt x="213343" y="244051"/>
                  </a:lnTo>
                  <a:cubicBezTo>
                    <a:pt x="216131" y="243142"/>
                    <a:pt x="219167" y="244379"/>
                    <a:pt x="220527" y="246977"/>
                  </a:cubicBezTo>
                  <a:cubicBezTo>
                    <a:pt x="223532" y="252719"/>
                    <a:pt x="227364" y="257989"/>
                    <a:pt x="231901" y="262618"/>
                  </a:cubicBezTo>
                  <a:cubicBezTo>
                    <a:pt x="233955" y="264713"/>
                    <a:pt x="234196" y="267986"/>
                    <a:pt x="232470" y="270359"/>
                  </a:cubicBezTo>
                  <a:lnTo>
                    <a:pt x="228743" y="275485"/>
                  </a:lnTo>
                  <a:lnTo>
                    <a:pt x="221513" y="293418"/>
                  </a:lnTo>
                  <a:lnTo>
                    <a:pt x="223643" y="294968"/>
                  </a:lnTo>
                  <a:lnTo>
                    <a:pt x="238468" y="282552"/>
                  </a:lnTo>
                  <a:lnTo>
                    <a:pt x="242213" y="277390"/>
                  </a:lnTo>
                  <a:cubicBezTo>
                    <a:pt x="243935" y="275011"/>
                    <a:pt x="247125" y="274226"/>
                    <a:pt x="249754" y="275535"/>
                  </a:cubicBezTo>
                  <a:cubicBezTo>
                    <a:pt x="255565" y="278419"/>
                    <a:pt x="261772" y="280426"/>
                    <a:pt x="268171" y="281489"/>
                  </a:cubicBezTo>
                  <a:cubicBezTo>
                    <a:pt x="271069" y="281969"/>
                    <a:pt x="273194" y="284474"/>
                    <a:pt x="273195" y="287411"/>
                  </a:cubicBezTo>
                  <a:lnTo>
                    <a:pt x="273201" y="293814"/>
                  </a:lnTo>
                  <a:lnTo>
                    <a:pt x="277832" y="312569"/>
                  </a:lnTo>
                  <a:lnTo>
                    <a:pt x="280450" y="312569"/>
                  </a:lnTo>
                  <a:lnTo>
                    <a:pt x="285139" y="293809"/>
                  </a:lnTo>
                  <a:lnTo>
                    <a:pt x="285139" y="287391"/>
                  </a:lnTo>
                  <a:cubicBezTo>
                    <a:pt x="285140" y="284457"/>
                    <a:pt x="287258" y="281952"/>
                    <a:pt x="290151" y="281463"/>
                  </a:cubicBezTo>
                  <a:cubicBezTo>
                    <a:pt x="296542" y="280391"/>
                    <a:pt x="302737" y="278375"/>
                    <a:pt x="308533" y="275480"/>
                  </a:cubicBezTo>
                  <a:cubicBezTo>
                    <a:pt x="311160" y="274162"/>
                    <a:pt x="314355" y="274941"/>
                    <a:pt x="316081" y="277319"/>
                  </a:cubicBezTo>
                  <a:lnTo>
                    <a:pt x="319855" y="282508"/>
                  </a:lnTo>
                  <a:lnTo>
                    <a:pt x="334627" y="294959"/>
                  </a:lnTo>
                  <a:lnTo>
                    <a:pt x="336746" y="293418"/>
                  </a:lnTo>
                  <a:lnTo>
                    <a:pt x="329509" y="275485"/>
                  </a:lnTo>
                  <a:lnTo>
                    <a:pt x="325747" y="270303"/>
                  </a:lnTo>
                  <a:cubicBezTo>
                    <a:pt x="324028" y="267931"/>
                    <a:pt x="324268" y="264665"/>
                    <a:pt x="326316" y="262571"/>
                  </a:cubicBezTo>
                  <a:cubicBezTo>
                    <a:pt x="330851" y="257930"/>
                    <a:pt x="334680" y="252648"/>
                    <a:pt x="337679" y="246894"/>
                  </a:cubicBezTo>
                  <a:cubicBezTo>
                    <a:pt x="339038" y="244296"/>
                    <a:pt x="342073" y="243056"/>
                    <a:pt x="344863" y="243960"/>
                  </a:cubicBezTo>
                  <a:lnTo>
                    <a:pt x="350961" y="245934"/>
                  </a:lnTo>
                  <a:lnTo>
                    <a:pt x="370229" y="247328"/>
                  </a:lnTo>
                  <a:lnTo>
                    <a:pt x="371039" y="244834"/>
                  </a:lnTo>
                  <a:lnTo>
                    <a:pt x="354647" y="234578"/>
                  </a:lnTo>
                  <a:lnTo>
                    <a:pt x="348496" y="232580"/>
                  </a:lnTo>
                  <a:cubicBezTo>
                    <a:pt x="345707" y="231674"/>
                    <a:pt x="343979" y="228889"/>
                    <a:pt x="344405" y="225989"/>
                  </a:cubicBezTo>
                  <a:cubicBezTo>
                    <a:pt x="345458" y="219588"/>
                    <a:pt x="345453" y="213058"/>
                    <a:pt x="344393" y="206659"/>
                  </a:cubicBezTo>
                  <a:cubicBezTo>
                    <a:pt x="343964" y="203759"/>
                    <a:pt x="345690" y="200972"/>
                    <a:pt x="348478" y="200065"/>
                  </a:cubicBezTo>
                  <a:lnTo>
                    <a:pt x="354629" y="198067"/>
                  </a:lnTo>
                  <a:lnTo>
                    <a:pt x="371033" y="187866"/>
                  </a:lnTo>
                  <a:lnTo>
                    <a:pt x="370223" y="185375"/>
                  </a:lnTo>
                  <a:lnTo>
                    <a:pt x="350931" y="186713"/>
                  </a:lnTo>
                  <a:lnTo>
                    <a:pt x="344827" y="188694"/>
                  </a:lnTo>
                  <a:cubicBezTo>
                    <a:pt x="342040" y="189601"/>
                    <a:pt x="339006" y="188363"/>
                    <a:pt x="337649" y="185765"/>
                  </a:cubicBezTo>
                  <a:cubicBezTo>
                    <a:pt x="334643" y="180016"/>
                    <a:pt x="330809" y="174740"/>
                    <a:pt x="326269" y="170106"/>
                  </a:cubicBezTo>
                  <a:cubicBezTo>
                    <a:pt x="324216" y="168013"/>
                    <a:pt x="323973" y="164744"/>
                    <a:pt x="325694" y="162371"/>
                  </a:cubicBezTo>
                  <a:lnTo>
                    <a:pt x="329450" y="157188"/>
                  </a:lnTo>
                  <a:lnTo>
                    <a:pt x="336728" y="139291"/>
                  </a:lnTo>
                  <a:lnTo>
                    <a:pt x="334609" y="137750"/>
                  </a:lnTo>
                  <a:lnTo>
                    <a:pt x="319790" y="150172"/>
                  </a:lnTo>
                  <a:lnTo>
                    <a:pt x="316010" y="155372"/>
                  </a:lnTo>
                  <a:cubicBezTo>
                    <a:pt x="314285" y="157743"/>
                    <a:pt x="311101" y="158524"/>
                    <a:pt x="308474" y="157221"/>
                  </a:cubicBezTo>
                  <a:cubicBezTo>
                    <a:pt x="302691" y="154344"/>
                    <a:pt x="296515" y="152336"/>
                    <a:pt x="290145" y="151261"/>
                  </a:cubicBezTo>
                  <a:cubicBezTo>
                    <a:pt x="287255" y="150771"/>
                    <a:pt x="285139" y="148268"/>
                    <a:pt x="285139" y="145336"/>
                  </a:cubicBezTo>
                  <a:lnTo>
                    <a:pt x="285139" y="138912"/>
                  </a:lnTo>
                  <a:lnTo>
                    <a:pt x="280449" y="120152"/>
                  </a:lnTo>
                  <a:lnTo>
                    <a:pt x="277814" y="120152"/>
                  </a:lnTo>
                  <a:lnTo>
                    <a:pt x="273119" y="138912"/>
                  </a:lnTo>
                  <a:lnTo>
                    <a:pt x="273125" y="145318"/>
                  </a:lnTo>
                  <a:cubicBezTo>
                    <a:pt x="273128" y="148257"/>
                    <a:pt x="271005" y="150767"/>
                    <a:pt x="268107" y="151252"/>
                  </a:cubicBezTo>
                  <a:cubicBezTo>
                    <a:pt x="261732" y="152317"/>
                    <a:pt x="255549" y="154318"/>
                    <a:pt x="249760" y="157191"/>
                  </a:cubicBezTo>
                  <a:cubicBezTo>
                    <a:pt x="247131" y="158506"/>
                    <a:pt x="243938" y="157720"/>
                    <a:pt x="242218" y="155337"/>
                  </a:cubicBezTo>
                  <a:lnTo>
                    <a:pt x="238468" y="150169"/>
                  </a:lnTo>
                  <a:lnTo>
                    <a:pt x="223649" y="137750"/>
                  </a:lnTo>
                  <a:lnTo>
                    <a:pt x="221518" y="139300"/>
                  </a:lnTo>
                  <a:lnTo>
                    <a:pt x="228749" y="157238"/>
                  </a:lnTo>
                  <a:lnTo>
                    <a:pt x="232470" y="162365"/>
                  </a:lnTo>
                  <a:cubicBezTo>
                    <a:pt x="234195" y="164738"/>
                    <a:pt x="233955" y="168011"/>
                    <a:pt x="231901" y="170106"/>
                  </a:cubicBezTo>
                  <a:cubicBezTo>
                    <a:pt x="227368" y="174736"/>
                    <a:pt x="223538" y="180005"/>
                    <a:pt x="220532" y="185744"/>
                  </a:cubicBezTo>
                  <a:lnTo>
                    <a:pt x="217304" y="192241"/>
                  </a:lnTo>
                  <a:cubicBezTo>
                    <a:pt x="217298" y="192253"/>
                    <a:pt x="217293" y="192265"/>
                    <a:pt x="217287" y="192277"/>
                  </a:cubicBezTo>
                  <a:cubicBezTo>
                    <a:pt x="215800" y="195244"/>
                    <a:pt x="212190" y="196445"/>
                    <a:pt x="209222" y="194959"/>
                  </a:cubicBezTo>
                  <a:cubicBezTo>
                    <a:pt x="206255" y="193473"/>
                    <a:pt x="205054" y="189862"/>
                    <a:pt x="206540" y="186895"/>
                  </a:cubicBezTo>
                  <a:lnTo>
                    <a:pt x="209827" y="180280"/>
                  </a:lnTo>
                  <a:cubicBezTo>
                    <a:pt x="212599" y="174975"/>
                    <a:pt x="215966" y="170002"/>
                    <a:pt x="219863" y="165458"/>
                  </a:cubicBezTo>
                  <a:lnTo>
                    <a:pt x="218590" y="163706"/>
                  </a:lnTo>
                  <a:cubicBezTo>
                    <a:pt x="218300" y="163308"/>
                    <a:pt x="218059" y="162877"/>
                    <a:pt x="217874" y="162421"/>
                  </a:cubicBezTo>
                  <a:lnTo>
                    <a:pt x="208612" y="139443"/>
                  </a:lnTo>
                  <a:cubicBezTo>
                    <a:pt x="207584" y="136885"/>
                    <a:pt x="208425" y="133955"/>
                    <a:pt x="210655" y="132333"/>
                  </a:cubicBezTo>
                  <a:lnTo>
                    <a:pt x="220380" y="125267"/>
                  </a:lnTo>
                  <a:cubicBezTo>
                    <a:pt x="222611" y="123644"/>
                    <a:pt x="225660" y="123750"/>
                    <a:pt x="227775" y="125522"/>
                  </a:cubicBezTo>
                  <a:lnTo>
                    <a:pt x="246761" y="141433"/>
                  </a:lnTo>
                  <a:cubicBezTo>
                    <a:pt x="247138" y="141751"/>
                    <a:pt x="247475" y="142113"/>
                    <a:pt x="247765" y="142513"/>
                  </a:cubicBezTo>
                  <a:lnTo>
                    <a:pt x="249062" y="144303"/>
                  </a:lnTo>
                  <a:cubicBezTo>
                    <a:pt x="252961" y="142679"/>
                    <a:pt x="256987" y="141377"/>
                    <a:pt x="261099" y="140409"/>
                  </a:cubicBezTo>
                  <a:lnTo>
                    <a:pt x="261099" y="138179"/>
                  </a:lnTo>
                  <a:cubicBezTo>
                    <a:pt x="261098" y="137685"/>
                    <a:pt x="261159" y="137193"/>
                    <a:pt x="261281" y="136714"/>
                  </a:cubicBezTo>
                  <a:lnTo>
                    <a:pt x="267297" y="112683"/>
                  </a:lnTo>
                  <a:cubicBezTo>
                    <a:pt x="267964" y="110008"/>
                    <a:pt x="270368" y="108131"/>
                    <a:pt x="273125" y="108132"/>
                  </a:cubicBezTo>
                  <a:close/>
                  <a:moveTo>
                    <a:pt x="99083" y="75004"/>
                  </a:moveTo>
                  <a:lnTo>
                    <a:pt x="111103" y="75004"/>
                  </a:lnTo>
                  <a:cubicBezTo>
                    <a:pt x="113862" y="75003"/>
                    <a:pt x="116266" y="76881"/>
                    <a:pt x="116931" y="79558"/>
                  </a:cubicBezTo>
                  <a:lnTo>
                    <a:pt x="122935" y="103592"/>
                  </a:lnTo>
                  <a:cubicBezTo>
                    <a:pt x="123057" y="104068"/>
                    <a:pt x="123118" y="104557"/>
                    <a:pt x="123117" y="105048"/>
                  </a:cubicBezTo>
                  <a:lnTo>
                    <a:pt x="123117" y="107301"/>
                  </a:lnTo>
                  <a:cubicBezTo>
                    <a:pt x="127223" y="108274"/>
                    <a:pt x="131243" y="109580"/>
                    <a:pt x="135137" y="111207"/>
                  </a:cubicBezTo>
                  <a:lnTo>
                    <a:pt x="136463" y="109382"/>
                  </a:lnTo>
                  <a:cubicBezTo>
                    <a:pt x="136750" y="108985"/>
                    <a:pt x="137086" y="108625"/>
                    <a:pt x="137461" y="108311"/>
                  </a:cubicBezTo>
                  <a:lnTo>
                    <a:pt x="156441" y="92397"/>
                  </a:lnTo>
                  <a:cubicBezTo>
                    <a:pt x="158558" y="90631"/>
                    <a:pt x="161602" y="90524"/>
                    <a:pt x="163836" y="92138"/>
                  </a:cubicBezTo>
                  <a:lnTo>
                    <a:pt x="173562" y="99205"/>
                  </a:lnTo>
                  <a:cubicBezTo>
                    <a:pt x="175798" y="100831"/>
                    <a:pt x="176638" y="103771"/>
                    <a:pt x="175598" y="106333"/>
                  </a:cubicBezTo>
                  <a:lnTo>
                    <a:pt x="166272" y="129263"/>
                  </a:lnTo>
                  <a:cubicBezTo>
                    <a:pt x="166088" y="129710"/>
                    <a:pt x="165852" y="130134"/>
                    <a:pt x="165568" y="130525"/>
                  </a:cubicBezTo>
                  <a:lnTo>
                    <a:pt x="164265" y="132327"/>
                  </a:lnTo>
                  <a:cubicBezTo>
                    <a:pt x="167034" y="135549"/>
                    <a:pt x="169535" y="138992"/>
                    <a:pt x="171742" y="142621"/>
                  </a:cubicBezTo>
                  <a:lnTo>
                    <a:pt x="173879" y="141926"/>
                  </a:lnTo>
                  <a:cubicBezTo>
                    <a:pt x="174345" y="141776"/>
                    <a:pt x="174828" y="141682"/>
                    <a:pt x="175317" y="141647"/>
                  </a:cubicBezTo>
                  <a:lnTo>
                    <a:pt x="193992" y="140350"/>
                  </a:lnTo>
                  <a:cubicBezTo>
                    <a:pt x="194024" y="140347"/>
                    <a:pt x="194057" y="140345"/>
                    <a:pt x="194089" y="140343"/>
                  </a:cubicBezTo>
                  <a:cubicBezTo>
                    <a:pt x="197402" y="140140"/>
                    <a:pt x="200253" y="142661"/>
                    <a:pt x="200456" y="145974"/>
                  </a:cubicBezTo>
                  <a:cubicBezTo>
                    <a:pt x="200659" y="149287"/>
                    <a:pt x="198138" y="152137"/>
                    <a:pt x="194825" y="152340"/>
                  </a:cubicBezTo>
                  <a:lnTo>
                    <a:pt x="176890" y="153588"/>
                  </a:lnTo>
                  <a:lnTo>
                    <a:pt x="170786" y="155568"/>
                  </a:lnTo>
                  <a:cubicBezTo>
                    <a:pt x="167999" y="156474"/>
                    <a:pt x="164966" y="155236"/>
                    <a:pt x="163608" y="152640"/>
                  </a:cubicBezTo>
                  <a:cubicBezTo>
                    <a:pt x="160601" y="146891"/>
                    <a:pt x="156767" y="141614"/>
                    <a:pt x="152228" y="136978"/>
                  </a:cubicBezTo>
                  <a:cubicBezTo>
                    <a:pt x="150175" y="134885"/>
                    <a:pt x="149932" y="131616"/>
                    <a:pt x="151653" y="129242"/>
                  </a:cubicBezTo>
                  <a:lnTo>
                    <a:pt x="155409" y="124060"/>
                  </a:lnTo>
                  <a:lnTo>
                    <a:pt x="162686" y="106163"/>
                  </a:lnTo>
                  <a:lnTo>
                    <a:pt x="160568" y="104622"/>
                  </a:lnTo>
                  <a:lnTo>
                    <a:pt x="145748" y="117047"/>
                  </a:lnTo>
                  <a:lnTo>
                    <a:pt x="141968" y="122247"/>
                  </a:lnTo>
                  <a:cubicBezTo>
                    <a:pt x="140239" y="124616"/>
                    <a:pt x="137055" y="125396"/>
                    <a:pt x="134427" y="124093"/>
                  </a:cubicBezTo>
                  <a:cubicBezTo>
                    <a:pt x="128646" y="121215"/>
                    <a:pt x="122471" y="119207"/>
                    <a:pt x="116103" y="118135"/>
                  </a:cubicBezTo>
                  <a:cubicBezTo>
                    <a:pt x="113213" y="117646"/>
                    <a:pt x="111098" y="115142"/>
                    <a:pt x="111097" y="112211"/>
                  </a:cubicBezTo>
                  <a:lnTo>
                    <a:pt x="111097" y="105787"/>
                  </a:lnTo>
                  <a:lnTo>
                    <a:pt x="106408" y="87024"/>
                  </a:lnTo>
                  <a:lnTo>
                    <a:pt x="103772" y="87024"/>
                  </a:lnTo>
                  <a:lnTo>
                    <a:pt x="99077" y="105787"/>
                  </a:lnTo>
                  <a:lnTo>
                    <a:pt x="99083" y="112190"/>
                  </a:lnTo>
                  <a:cubicBezTo>
                    <a:pt x="99086" y="115129"/>
                    <a:pt x="96964" y="117639"/>
                    <a:pt x="94065" y="118124"/>
                  </a:cubicBezTo>
                  <a:cubicBezTo>
                    <a:pt x="87688" y="119189"/>
                    <a:pt x="81504" y="121191"/>
                    <a:pt x="75712" y="124066"/>
                  </a:cubicBezTo>
                  <a:cubicBezTo>
                    <a:pt x="73087" y="125372"/>
                    <a:pt x="69902" y="124589"/>
                    <a:pt x="68182" y="122214"/>
                  </a:cubicBezTo>
                  <a:lnTo>
                    <a:pt x="64426" y="117047"/>
                  </a:lnTo>
                  <a:lnTo>
                    <a:pt x="49607" y="104622"/>
                  </a:lnTo>
                  <a:lnTo>
                    <a:pt x="47476" y="106171"/>
                  </a:lnTo>
                  <a:lnTo>
                    <a:pt x="54707" y="124111"/>
                  </a:lnTo>
                  <a:lnTo>
                    <a:pt x="58428" y="129237"/>
                  </a:lnTo>
                  <a:cubicBezTo>
                    <a:pt x="60153" y="131609"/>
                    <a:pt x="59915" y="134879"/>
                    <a:pt x="57865" y="136976"/>
                  </a:cubicBezTo>
                  <a:cubicBezTo>
                    <a:pt x="53330" y="141607"/>
                    <a:pt x="49497" y="146877"/>
                    <a:pt x="46491" y="152620"/>
                  </a:cubicBezTo>
                  <a:cubicBezTo>
                    <a:pt x="45130" y="155213"/>
                    <a:pt x="42098" y="156447"/>
                    <a:pt x="39313" y="155542"/>
                  </a:cubicBezTo>
                  <a:lnTo>
                    <a:pt x="33291" y="153588"/>
                  </a:lnTo>
                  <a:lnTo>
                    <a:pt x="13993" y="152250"/>
                  </a:lnTo>
                  <a:lnTo>
                    <a:pt x="13183" y="154753"/>
                  </a:lnTo>
                  <a:lnTo>
                    <a:pt x="29570" y="165018"/>
                  </a:lnTo>
                  <a:lnTo>
                    <a:pt x="35638" y="166984"/>
                  </a:lnTo>
                  <a:cubicBezTo>
                    <a:pt x="38428" y="167887"/>
                    <a:pt x="40157" y="170672"/>
                    <a:pt x="39729" y="173572"/>
                  </a:cubicBezTo>
                  <a:cubicBezTo>
                    <a:pt x="38673" y="179969"/>
                    <a:pt x="38673" y="186496"/>
                    <a:pt x="39729" y="192893"/>
                  </a:cubicBezTo>
                  <a:cubicBezTo>
                    <a:pt x="40156" y="195793"/>
                    <a:pt x="38427" y="198578"/>
                    <a:pt x="35638" y="199481"/>
                  </a:cubicBezTo>
                  <a:lnTo>
                    <a:pt x="29570" y="201450"/>
                  </a:lnTo>
                  <a:lnTo>
                    <a:pt x="13178" y="211709"/>
                  </a:lnTo>
                  <a:lnTo>
                    <a:pt x="13993" y="214215"/>
                  </a:lnTo>
                  <a:lnTo>
                    <a:pt x="33285" y="212880"/>
                  </a:lnTo>
                  <a:lnTo>
                    <a:pt x="39301" y="210923"/>
                  </a:lnTo>
                  <a:cubicBezTo>
                    <a:pt x="42089" y="210016"/>
                    <a:pt x="45124" y="211252"/>
                    <a:pt x="46485" y="213848"/>
                  </a:cubicBezTo>
                  <a:cubicBezTo>
                    <a:pt x="49489" y="219590"/>
                    <a:pt x="53319" y="224860"/>
                    <a:pt x="57853" y="229489"/>
                  </a:cubicBezTo>
                  <a:cubicBezTo>
                    <a:pt x="59906" y="231584"/>
                    <a:pt x="60149" y="234853"/>
                    <a:pt x="58428" y="237228"/>
                  </a:cubicBezTo>
                  <a:lnTo>
                    <a:pt x="54707" y="242354"/>
                  </a:lnTo>
                  <a:lnTo>
                    <a:pt x="47471" y="260293"/>
                  </a:lnTo>
                  <a:lnTo>
                    <a:pt x="49601" y="261840"/>
                  </a:lnTo>
                  <a:lnTo>
                    <a:pt x="64427" y="249421"/>
                  </a:lnTo>
                  <a:lnTo>
                    <a:pt x="68171" y="244259"/>
                  </a:lnTo>
                  <a:cubicBezTo>
                    <a:pt x="69895" y="241882"/>
                    <a:pt x="73084" y="241099"/>
                    <a:pt x="75712" y="242407"/>
                  </a:cubicBezTo>
                  <a:cubicBezTo>
                    <a:pt x="81522" y="245294"/>
                    <a:pt x="87729" y="247300"/>
                    <a:pt x="94130" y="248361"/>
                  </a:cubicBezTo>
                  <a:cubicBezTo>
                    <a:pt x="97028" y="248843"/>
                    <a:pt x="99154" y="251350"/>
                    <a:pt x="99154" y="254289"/>
                  </a:cubicBezTo>
                  <a:lnTo>
                    <a:pt x="99154" y="260689"/>
                  </a:lnTo>
                  <a:lnTo>
                    <a:pt x="103790" y="279444"/>
                  </a:lnTo>
                  <a:lnTo>
                    <a:pt x="106408" y="279444"/>
                  </a:lnTo>
                  <a:lnTo>
                    <a:pt x="111097" y="260680"/>
                  </a:lnTo>
                  <a:lnTo>
                    <a:pt x="111097" y="254265"/>
                  </a:lnTo>
                  <a:cubicBezTo>
                    <a:pt x="111098" y="251334"/>
                    <a:pt x="113213" y="248830"/>
                    <a:pt x="116103" y="248341"/>
                  </a:cubicBezTo>
                  <a:cubicBezTo>
                    <a:pt x="122495" y="247264"/>
                    <a:pt x="128691" y="245245"/>
                    <a:pt x="134491" y="242351"/>
                  </a:cubicBezTo>
                  <a:cubicBezTo>
                    <a:pt x="137118" y="241034"/>
                    <a:pt x="140313" y="241812"/>
                    <a:pt x="142039" y="244191"/>
                  </a:cubicBezTo>
                  <a:lnTo>
                    <a:pt x="145813" y="249379"/>
                  </a:lnTo>
                  <a:lnTo>
                    <a:pt x="160585" y="261834"/>
                  </a:lnTo>
                  <a:lnTo>
                    <a:pt x="162704" y="260293"/>
                  </a:lnTo>
                  <a:lnTo>
                    <a:pt x="155467" y="242357"/>
                  </a:lnTo>
                  <a:lnTo>
                    <a:pt x="151705" y="237175"/>
                  </a:lnTo>
                  <a:cubicBezTo>
                    <a:pt x="149985" y="234803"/>
                    <a:pt x="150226" y="231537"/>
                    <a:pt x="152274" y="229442"/>
                  </a:cubicBezTo>
                  <a:cubicBezTo>
                    <a:pt x="156808" y="224801"/>
                    <a:pt x="160637" y="219519"/>
                    <a:pt x="163637" y="213766"/>
                  </a:cubicBezTo>
                  <a:cubicBezTo>
                    <a:pt x="165173" y="210823"/>
                    <a:pt x="168805" y="209682"/>
                    <a:pt x="171748" y="211219"/>
                  </a:cubicBezTo>
                  <a:cubicBezTo>
                    <a:pt x="174691" y="212755"/>
                    <a:pt x="175831" y="216387"/>
                    <a:pt x="174295" y="219330"/>
                  </a:cubicBezTo>
                  <a:cubicBezTo>
                    <a:pt x="171538" y="224609"/>
                    <a:pt x="168191" y="229558"/>
                    <a:pt x="164317" y="234082"/>
                  </a:cubicBezTo>
                  <a:lnTo>
                    <a:pt x="165632" y="235892"/>
                  </a:lnTo>
                  <a:cubicBezTo>
                    <a:pt x="165919" y="236290"/>
                    <a:pt x="166157" y="236721"/>
                    <a:pt x="166342" y="237175"/>
                  </a:cubicBezTo>
                  <a:lnTo>
                    <a:pt x="175610" y="260149"/>
                  </a:lnTo>
                  <a:cubicBezTo>
                    <a:pt x="176638" y="262707"/>
                    <a:pt x="175797" y="265637"/>
                    <a:pt x="173567" y="267260"/>
                  </a:cubicBezTo>
                  <a:lnTo>
                    <a:pt x="163842" y="274323"/>
                  </a:lnTo>
                  <a:cubicBezTo>
                    <a:pt x="161605" y="275945"/>
                    <a:pt x="158550" y="275835"/>
                    <a:pt x="156435" y="274056"/>
                  </a:cubicBezTo>
                  <a:lnTo>
                    <a:pt x="137508" y="258101"/>
                  </a:lnTo>
                  <a:cubicBezTo>
                    <a:pt x="137138" y="257788"/>
                    <a:pt x="136807" y="257433"/>
                    <a:pt x="136522" y="257041"/>
                  </a:cubicBezTo>
                  <a:lnTo>
                    <a:pt x="135213" y="255239"/>
                  </a:lnTo>
                  <a:cubicBezTo>
                    <a:pt x="131295" y="256879"/>
                    <a:pt x="127249" y="258195"/>
                    <a:pt x="123117" y="259175"/>
                  </a:cubicBezTo>
                  <a:lnTo>
                    <a:pt x="123117" y="261420"/>
                  </a:lnTo>
                  <a:cubicBezTo>
                    <a:pt x="123118" y="261910"/>
                    <a:pt x="123057" y="262400"/>
                    <a:pt x="122935" y="262875"/>
                  </a:cubicBezTo>
                  <a:lnTo>
                    <a:pt x="116931" y="286909"/>
                  </a:lnTo>
                  <a:cubicBezTo>
                    <a:pt x="116265" y="289586"/>
                    <a:pt x="113861" y="291464"/>
                    <a:pt x="111103" y="291463"/>
                  </a:cubicBezTo>
                  <a:lnTo>
                    <a:pt x="99083" y="291463"/>
                  </a:lnTo>
                  <a:cubicBezTo>
                    <a:pt x="96319" y="291464"/>
                    <a:pt x="93911" y="289578"/>
                    <a:pt x="93249" y="286894"/>
                  </a:cubicBezTo>
                  <a:lnTo>
                    <a:pt x="87310" y="262860"/>
                  </a:lnTo>
                  <a:cubicBezTo>
                    <a:pt x="87192" y="262389"/>
                    <a:pt x="87133" y="261905"/>
                    <a:pt x="87134" y="261420"/>
                  </a:cubicBezTo>
                  <a:lnTo>
                    <a:pt x="87134" y="259213"/>
                  </a:lnTo>
                  <a:cubicBezTo>
                    <a:pt x="82993" y="258242"/>
                    <a:pt x="78940" y="256931"/>
                    <a:pt x="75014" y="255295"/>
                  </a:cubicBezTo>
                  <a:lnTo>
                    <a:pt x="73717" y="257082"/>
                  </a:lnTo>
                  <a:cubicBezTo>
                    <a:pt x="73426" y="257480"/>
                    <a:pt x="73089" y="257841"/>
                    <a:pt x="72713" y="258159"/>
                  </a:cubicBezTo>
                  <a:lnTo>
                    <a:pt x="53727" y="274068"/>
                  </a:lnTo>
                  <a:cubicBezTo>
                    <a:pt x="51612" y="275839"/>
                    <a:pt x="48564" y="275944"/>
                    <a:pt x="46332" y="274323"/>
                  </a:cubicBezTo>
                  <a:lnTo>
                    <a:pt x="36607" y="267260"/>
                  </a:lnTo>
                  <a:cubicBezTo>
                    <a:pt x="34377" y="265637"/>
                    <a:pt x="33536" y="262707"/>
                    <a:pt x="34564" y="260149"/>
                  </a:cubicBezTo>
                  <a:lnTo>
                    <a:pt x="43832" y="237175"/>
                  </a:lnTo>
                  <a:cubicBezTo>
                    <a:pt x="44017" y="236721"/>
                    <a:pt x="44255" y="236290"/>
                    <a:pt x="44542" y="235892"/>
                  </a:cubicBezTo>
                  <a:lnTo>
                    <a:pt x="45815" y="234141"/>
                  </a:lnTo>
                  <a:cubicBezTo>
                    <a:pt x="43053" y="230927"/>
                    <a:pt x="40559" y="227493"/>
                    <a:pt x="38356" y="223873"/>
                  </a:cubicBezTo>
                  <a:lnTo>
                    <a:pt x="36302" y="224542"/>
                  </a:lnTo>
                  <a:cubicBezTo>
                    <a:pt x="35834" y="224692"/>
                    <a:pt x="35349" y="224786"/>
                    <a:pt x="34858" y="224820"/>
                  </a:cubicBezTo>
                  <a:lnTo>
                    <a:pt x="10143" y="226528"/>
                  </a:lnTo>
                  <a:cubicBezTo>
                    <a:pt x="7387" y="226737"/>
                    <a:pt x="4849" y="225024"/>
                    <a:pt x="4010" y="222391"/>
                  </a:cubicBezTo>
                  <a:lnTo>
                    <a:pt x="295" y="210961"/>
                  </a:lnTo>
                  <a:cubicBezTo>
                    <a:pt x="-558" y="208337"/>
                    <a:pt x="485" y="205470"/>
                    <a:pt x="2825" y="204009"/>
                  </a:cubicBezTo>
                  <a:lnTo>
                    <a:pt x="23824" y="190868"/>
                  </a:lnTo>
                  <a:cubicBezTo>
                    <a:pt x="24241" y="190607"/>
                    <a:pt x="24689" y="190398"/>
                    <a:pt x="25157" y="190246"/>
                  </a:cubicBezTo>
                  <a:lnTo>
                    <a:pt x="27222" y="189574"/>
                  </a:lnTo>
                  <a:cubicBezTo>
                    <a:pt x="27017" y="187346"/>
                    <a:pt x="26917" y="185272"/>
                    <a:pt x="26917" y="183238"/>
                  </a:cubicBezTo>
                  <a:cubicBezTo>
                    <a:pt x="26917" y="181202"/>
                    <a:pt x="27017" y="179121"/>
                    <a:pt x="27222" y="176891"/>
                  </a:cubicBezTo>
                  <a:lnTo>
                    <a:pt x="25157" y="176222"/>
                  </a:lnTo>
                  <a:cubicBezTo>
                    <a:pt x="24689" y="176070"/>
                    <a:pt x="24241" y="175861"/>
                    <a:pt x="23824" y="175599"/>
                  </a:cubicBezTo>
                  <a:lnTo>
                    <a:pt x="2831" y="162453"/>
                  </a:lnTo>
                  <a:cubicBezTo>
                    <a:pt x="494" y="160990"/>
                    <a:pt x="-548" y="158126"/>
                    <a:pt x="301" y="155504"/>
                  </a:cubicBezTo>
                  <a:lnTo>
                    <a:pt x="4010" y="144074"/>
                  </a:lnTo>
                  <a:cubicBezTo>
                    <a:pt x="4850" y="141440"/>
                    <a:pt x="7387" y="139727"/>
                    <a:pt x="10143" y="139933"/>
                  </a:cubicBezTo>
                  <a:lnTo>
                    <a:pt x="34858" y="141647"/>
                  </a:lnTo>
                  <a:cubicBezTo>
                    <a:pt x="35347" y="141679"/>
                    <a:pt x="35830" y="141773"/>
                    <a:pt x="36296" y="141926"/>
                  </a:cubicBezTo>
                  <a:lnTo>
                    <a:pt x="38362" y="142595"/>
                  </a:lnTo>
                  <a:cubicBezTo>
                    <a:pt x="40565" y="138976"/>
                    <a:pt x="43060" y="135543"/>
                    <a:pt x="45822" y="132330"/>
                  </a:cubicBezTo>
                  <a:lnTo>
                    <a:pt x="44548" y="130578"/>
                  </a:lnTo>
                  <a:cubicBezTo>
                    <a:pt x="44258" y="130180"/>
                    <a:pt x="44018" y="129749"/>
                    <a:pt x="43832" y="129293"/>
                  </a:cubicBezTo>
                  <a:lnTo>
                    <a:pt x="34571" y="106315"/>
                  </a:lnTo>
                  <a:cubicBezTo>
                    <a:pt x="33542" y="103757"/>
                    <a:pt x="34384" y="100827"/>
                    <a:pt x="36613" y="99205"/>
                  </a:cubicBezTo>
                  <a:lnTo>
                    <a:pt x="46338" y="92138"/>
                  </a:lnTo>
                  <a:cubicBezTo>
                    <a:pt x="48570" y="90518"/>
                    <a:pt x="51619" y="90625"/>
                    <a:pt x="53733" y="92397"/>
                  </a:cubicBezTo>
                  <a:lnTo>
                    <a:pt x="72714" y="108311"/>
                  </a:lnTo>
                  <a:cubicBezTo>
                    <a:pt x="73089" y="108625"/>
                    <a:pt x="73424" y="108985"/>
                    <a:pt x="73711" y="109382"/>
                  </a:cubicBezTo>
                  <a:lnTo>
                    <a:pt x="75020" y="111178"/>
                  </a:lnTo>
                  <a:cubicBezTo>
                    <a:pt x="78919" y="109552"/>
                    <a:pt x="82945" y="108248"/>
                    <a:pt x="87058" y="107281"/>
                  </a:cubicBezTo>
                  <a:lnTo>
                    <a:pt x="87058" y="105053"/>
                  </a:lnTo>
                  <a:cubicBezTo>
                    <a:pt x="87056" y="104560"/>
                    <a:pt x="87117" y="104068"/>
                    <a:pt x="87239" y="103589"/>
                  </a:cubicBezTo>
                  <a:lnTo>
                    <a:pt x="93255" y="79555"/>
                  </a:lnTo>
                  <a:cubicBezTo>
                    <a:pt x="93923" y="76880"/>
                    <a:pt x="96326" y="75003"/>
                    <a:pt x="99083" y="75004"/>
                  </a:cubicBezTo>
                  <a:close/>
                  <a:moveTo>
                    <a:pt x="272678" y="20392"/>
                  </a:moveTo>
                  <a:lnTo>
                    <a:pt x="272678" y="65334"/>
                  </a:lnTo>
                  <a:lnTo>
                    <a:pt x="318174" y="65334"/>
                  </a:lnTo>
                  <a:lnTo>
                    <a:pt x="272678" y="20392"/>
                  </a:lnTo>
                  <a:close/>
                  <a:moveTo>
                    <a:pt x="54572" y="0"/>
                  </a:moveTo>
                  <a:lnTo>
                    <a:pt x="269133" y="0"/>
                  </a:lnTo>
                  <a:lnTo>
                    <a:pt x="270908" y="1753"/>
                  </a:lnTo>
                  <a:lnTo>
                    <a:pt x="270926" y="1771"/>
                  </a:lnTo>
                  <a:lnTo>
                    <a:pt x="338013" y="68035"/>
                  </a:lnTo>
                  <a:lnTo>
                    <a:pt x="338013" y="114122"/>
                  </a:lnTo>
                  <a:lnTo>
                    <a:pt x="325993" y="114122"/>
                  </a:lnTo>
                  <a:lnTo>
                    <a:pt x="325993" y="77355"/>
                  </a:lnTo>
                  <a:lnTo>
                    <a:pt x="266668" y="77355"/>
                  </a:lnTo>
                  <a:cubicBezTo>
                    <a:pt x="266667" y="77355"/>
                    <a:pt x="266666" y="77355"/>
                    <a:pt x="266665" y="77355"/>
                  </a:cubicBezTo>
                  <a:cubicBezTo>
                    <a:pt x="263347" y="77354"/>
                    <a:pt x="260657" y="74664"/>
                    <a:pt x="260658" y="71345"/>
                  </a:cubicBezTo>
                  <a:lnTo>
                    <a:pt x="260658" y="12020"/>
                  </a:lnTo>
                  <a:lnTo>
                    <a:pt x="66592" y="12020"/>
                  </a:lnTo>
                  <a:lnTo>
                    <a:pt x="66592" y="82681"/>
                  </a:lnTo>
                  <a:lnTo>
                    <a:pt x="54572" y="82681"/>
                  </a:lnTo>
                  <a:lnTo>
                    <a:pt x="54572" y="0"/>
                  </a:lnTo>
                  <a:close/>
                </a:path>
              </a:pathLst>
            </a:custGeom>
            <a:solidFill>
              <a:srgbClr val="2196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8" name="Diamond 2"/>
            <p:cNvSpPr/>
            <p:nvPr/>
          </p:nvSpPr>
          <p:spPr>
            <a:xfrm>
              <a:off x="653760" y="2266560"/>
              <a:ext cx="998280" cy="128268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9" name="Diamond 4"/>
            <p:cNvSpPr/>
            <p:nvPr/>
          </p:nvSpPr>
          <p:spPr>
            <a:xfrm>
              <a:off x="1355400" y="2027160"/>
              <a:ext cx="650880" cy="83484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Diamond 5"/>
            <p:cNvSpPr/>
            <p:nvPr/>
          </p:nvSpPr>
          <p:spPr>
            <a:xfrm>
              <a:off x="593640" y="3616200"/>
              <a:ext cx="1116000" cy="143532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1" name="Diamond 6"/>
            <p:cNvSpPr/>
            <p:nvPr/>
          </p:nvSpPr>
          <p:spPr>
            <a:xfrm>
              <a:off x="1522440" y="4362480"/>
              <a:ext cx="428400" cy="55080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Title 6"/>
          <p:cNvSpPr/>
          <p:nvPr/>
        </p:nvSpPr>
        <p:spPr>
          <a:xfrm>
            <a:off x="257040" y="1373040"/>
            <a:ext cx="11754000" cy="621720"/>
          </a:xfrm>
          <a:prstGeom prst="rect">
            <a:avLst/>
          </a:prstGeom>
          <a:noFill/>
          <a:ln w="12600">
            <a:solidFill>
              <a:srgbClr val="8e10d4"/>
            </a:solidFill>
            <a:round/>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编制审计报告是注册会计师提供给审计授权者或委托者表明审计意见和审计 结论的书面文件，是审计工作的最终成果。编制各类审计报告时应符合以下四个基本要求。</a:t>
            </a:r>
            <a:endParaRPr b="1" lang="en-US" sz="2400" spc="-1" strike="noStrike">
              <a:solidFill>
                <a:srgbClr val="000000"/>
              </a:solidFill>
              <a:latin typeface="Arial"/>
            </a:endParaRPr>
          </a:p>
        </p:txBody>
      </p:sp>
      <p:grpSp>
        <p:nvGrpSpPr>
          <p:cNvPr id="2293" name="组合 28"/>
          <p:cNvGrpSpPr/>
          <p:nvPr/>
        </p:nvGrpSpPr>
        <p:grpSpPr>
          <a:xfrm>
            <a:off x="958680" y="404640"/>
            <a:ext cx="10360080" cy="0"/>
            <a:chOff x="958680" y="404640"/>
            <a:chExt cx="10360080" cy="0"/>
          </a:xfrm>
        </p:grpSpPr>
        <p:sp>
          <p:nvSpPr>
            <p:cNvPr id="2294" name="直接连接符 52"/>
            <p:cNvSpPr/>
            <p:nvPr/>
          </p:nvSpPr>
          <p:spPr>
            <a:xfrm>
              <a:off x="95868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95" name="直接连接符 64"/>
            <p:cNvSpPr/>
            <p:nvPr/>
          </p:nvSpPr>
          <p:spPr>
            <a:xfrm>
              <a:off x="93394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6" name="组合 112"/>
          <p:cNvGrpSpPr/>
          <p:nvPr/>
        </p:nvGrpSpPr>
        <p:grpSpPr>
          <a:xfrm>
            <a:off x="262080" y="2639880"/>
            <a:ext cx="1374480" cy="700200"/>
            <a:chOff x="262080" y="2639880"/>
            <a:chExt cx="1374480" cy="700200"/>
          </a:xfrm>
        </p:grpSpPr>
        <p:pic>
          <p:nvPicPr>
            <p:cNvPr id="2297" name="圆角矩形 29" descr=""/>
            <p:cNvPicPr/>
            <p:nvPr/>
          </p:nvPicPr>
          <p:blipFill>
            <a:blip r:embed="rId1"/>
            <a:stretch/>
          </p:blipFill>
          <p:spPr>
            <a:xfrm>
              <a:off x="360000" y="2725200"/>
              <a:ext cx="1276560" cy="614880"/>
            </a:xfrm>
            <a:prstGeom prst="rect">
              <a:avLst/>
            </a:prstGeom>
            <a:ln w="0">
              <a:noFill/>
            </a:ln>
          </p:spPr>
        </p:pic>
        <p:sp>
          <p:nvSpPr>
            <p:cNvPr id="2298" name="圆角矩形 2"/>
            <p:cNvSpPr/>
            <p:nvPr/>
          </p:nvSpPr>
          <p:spPr>
            <a:xfrm>
              <a:off x="262080" y="2639880"/>
              <a:ext cx="1247400" cy="58608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9" name="文本框 3"/>
            <p:cNvSpPr/>
            <p:nvPr/>
          </p:nvSpPr>
          <p:spPr>
            <a:xfrm>
              <a:off x="348480" y="2773080"/>
              <a:ext cx="394200" cy="44172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82cb"/>
                  </a:solidFill>
                  <a:latin typeface="Arial"/>
                </a:rPr>
                <a:t>A</a:t>
              </a:r>
              <a:endParaRPr b="1" lang="en-US" sz="2800" spc="-1" strike="noStrike">
                <a:solidFill>
                  <a:srgbClr val="000000"/>
                </a:solidFill>
                <a:latin typeface="Arial"/>
              </a:endParaRPr>
            </a:p>
          </p:txBody>
        </p:sp>
        <p:sp>
          <p:nvSpPr>
            <p:cNvPr id="2300" name="KSO_Shape"/>
            <p:cNvSpPr/>
            <p:nvPr/>
          </p:nvSpPr>
          <p:spPr>
            <a:xfrm>
              <a:off x="975240" y="2756160"/>
              <a:ext cx="372240" cy="353880"/>
            </a:xfrm>
            <a:custGeom>
              <a:avLst/>
              <a:gdLst/>
              <a:ahLst/>
              <a:rect l="l" t="t" r="r" b="b"/>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2e82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1" name="组合 33"/>
            <p:cNvGrpSpPr/>
            <p:nvPr/>
          </p:nvGrpSpPr>
          <p:grpSpPr>
            <a:xfrm>
              <a:off x="0" y="0"/>
              <a:ext cx="0" cy="0"/>
              <a:chOff x="0" y="0"/>
              <a:chExt cx="0" cy="0"/>
            </a:xfrm>
          </p:grpSpPr>
        </p:grpSp>
      </p:grpSp>
      <p:grpSp>
        <p:nvGrpSpPr>
          <p:cNvPr id="2302" name="组合 42"/>
          <p:cNvGrpSpPr/>
          <p:nvPr/>
        </p:nvGrpSpPr>
        <p:grpSpPr>
          <a:xfrm>
            <a:off x="119160" y="4376880"/>
            <a:ext cx="1355760" cy="731520"/>
            <a:chOff x="119160" y="4376880"/>
            <a:chExt cx="1355760" cy="731520"/>
          </a:xfrm>
        </p:grpSpPr>
        <p:pic>
          <p:nvPicPr>
            <p:cNvPr id="2303" name="圆角矩形 43" descr=""/>
            <p:cNvPicPr/>
            <p:nvPr/>
          </p:nvPicPr>
          <p:blipFill>
            <a:blip r:embed="rId2"/>
            <a:stretch/>
          </p:blipFill>
          <p:spPr>
            <a:xfrm>
              <a:off x="231840" y="4468320"/>
              <a:ext cx="1243080" cy="640080"/>
            </a:xfrm>
            <a:prstGeom prst="rect">
              <a:avLst/>
            </a:prstGeom>
            <a:ln w="0">
              <a:noFill/>
            </a:ln>
          </p:spPr>
        </p:pic>
        <p:sp>
          <p:nvSpPr>
            <p:cNvPr id="2304" name="圆角矩形 44"/>
            <p:cNvSpPr/>
            <p:nvPr/>
          </p:nvSpPr>
          <p:spPr>
            <a:xfrm>
              <a:off x="119160" y="4376880"/>
              <a:ext cx="1214640" cy="61164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5" name="文本框 5"/>
            <p:cNvSpPr/>
            <p:nvPr/>
          </p:nvSpPr>
          <p:spPr>
            <a:xfrm>
              <a:off x="896760" y="4452840"/>
              <a:ext cx="383400" cy="4608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daad1"/>
                  </a:solidFill>
                  <a:latin typeface="Arial"/>
                </a:rPr>
                <a:t>B</a:t>
              </a:r>
              <a:endParaRPr b="1" lang="en-US" sz="3100" spc="-1" strike="noStrike">
                <a:solidFill>
                  <a:srgbClr val="000000"/>
                </a:solidFill>
                <a:latin typeface="Arial"/>
              </a:endParaRPr>
            </a:p>
          </p:txBody>
        </p:sp>
        <p:grpSp>
          <p:nvGrpSpPr>
            <p:cNvPr id="2306" name="组合 6"/>
            <p:cNvGrpSpPr/>
            <p:nvPr/>
          </p:nvGrpSpPr>
          <p:grpSpPr>
            <a:xfrm>
              <a:off x="0" y="0"/>
              <a:ext cx="0" cy="0"/>
              <a:chOff x="0" y="0"/>
              <a:chExt cx="0" cy="0"/>
            </a:xfrm>
          </p:grpSpPr>
        </p:grpSp>
        <p:sp>
          <p:nvSpPr>
            <p:cNvPr id="2307" name="KSO_Shape"/>
            <p:cNvSpPr/>
            <p:nvPr/>
          </p:nvSpPr>
          <p:spPr>
            <a:xfrm>
              <a:off x="249480" y="4533840"/>
              <a:ext cx="414720" cy="2973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3daad1"/>
            </a:solidFill>
            <a:ln w="0">
              <a:noFill/>
            </a:ln>
          </p:spPr>
          <p:style>
            <a:lnRef idx="0"/>
            <a:fillRef idx="0"/>
            <a:effectRef idx="0"/>
            <a:fontRef idx="minor"/>
          </p:style>
          <p:txBody>
            <a:bodyPr lIns="68760" rIns="68760" tIns="-242640" bIns="2631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8" name="组合 73"/>
          <p:cNvGrpSpPr/>
          <p:nvPr/>
        </p:nvGrpSpPr>
        <p:grpSpPr>
          <a:xfrm>
            <a:off x="5616720" y="2716200"/>
            <a:ext cx="1509480" cy="677880"/>
            <a:chOff x="5616720" y="2716200"/>
            <a:chExt cx="1509480" cy="677880"/>
          </a:xfrm>
        </p:grpSpPr>
        <p:pic>
          <p:nvPicPr>
            <p:cNvPr id="2309" name="圆角矩形 74" descr=""/>
            <p:cNvPicPr/>
            <p:nvPr/>
          </p:nvPicPr>
          <p:blipFill>
            <a:blip r:embed="rId3"/>
            <a:stretch/>
          </p:blipFill>
          <p:spPr>
            <a:xfrm>
              <a:off x="5771520" y="2798280"/>
              <a:ext cx="1354680" cy="595800"/>
            </a:xfrm>
            <a:prstGeom prst="rect">
              <a:avLst/>
            </a:prstGeom>
            <a:ln w="0">
              <a:noFill/>
            </a:ln>
          </p:spPr>
        </p:pic>
        <p:sp>
          <p:nvSpPr>
            <p:cNvPr id="2310" name="圆角矩形 75"/>
            <p:cNvSpPr/>
            <p:nvPr/>
          </p:nvSpPr>
          <p:spPr>
            <a:xfrm>
              <a:off x="5616720" y="2716200"/>
              <a:ext cx="1325520" cy="56916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1" name="文本框 12"/>
            <p:cNvSpPr/>
            <p:nvPr/>
          </p:nvSpPr>
          <p:spPr>
            <a:xfrm>
              <a:off x="6508440" y="2786040"/>
              <a:ext cx="418320" cy="42768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rPr>
                <a:t>C</a:t>
              </a:r>
              <a:endParaRPr b="1" lang="en-US" sz="2800" spc="-1" strike="noStrike">
                <a:solidFill>
                  <a:srgbClr val="000000"/>
                </a:solidFill>
                <a:latin typeface="Arial"/>
              </a:endParaRPr>
            </a:p>
          </p:txBody>
        </p:sp>
        <p:grpSp>
          <p:nvGrpSpPr>
            <p:cNvPr id="2312" name="组合 77"/>
            <p:cNvGrpSpPr/>
            <p:nvPr/>
          </p:nvGrpSpPr>
          <p:grpSpPr>
            <a:xfrm>
              <a:off x="0" y="0"/>
              <a:ext cx="0" cy="0"/>
              <a:chOff x="0" y="0"/>
              <a:chExt cx="0" cy="0"/>
            </a:xfrm>
          </p:grpSpPr>
        </p:grpSp>
        <p:sp>
          <p:nvSpPr>
            <p:cNvPr id="2313" name="KSO_Shape"/>
            <p:cNvSpPr/>
            <p:nvPr/>
          </p:nvSpPr>
          <p:spPr>
            <a:xfrm>
              <a:off x="5803560" y="2857680"/>
              <a:ext cx="433800" cy="284400"/>
            </a:xfrm>
            <a:custGeom>
              <a:avLst/>
              <a:gdLst/>
              <a:ahLst/>
              <a:rect l="l" t="t" r="r" b="b"/>
              <a:pathLst>
                <a:path w="5868" h="4208">
                  <a:moveTo>
                    <a:pt x="49" y="1128"/>
                  </a:moveTo>
                  <a:lnTo>
                    <a:pt x="49" y="1128"/>
                  </a:lnTo>
                  <a:lnTo>
                    <a:pt x="345" y="1748"/>
                  </a:lnTo>
                  <a:lnTo>
                    <a:pt x="354" y="1764"/>
                  </a:lnTo>
                  <a:lnTo>
                    <a:pt x="364" y="1778"/>
                  </a:lnTo>
                  <a:lnTo>
                    <a:pt x="375" y="1790"/>
                  </a:lnTo>
                  <a:lnTo>
                    <a:pt x="387" y="1803"/>
                  </a:lnTo>
                  <a:lnTo>
                    <a:pt x="400" y="1813"/>
                  </a:lnTo>
                  <a:lnTo>
                    <a:pt x="413" y="1821"/>
                  </a:lnTo>
                  <a:lnTo>
                    <a:pt x="428" y="1828"/>
                  </a:lnTo>
                  <a:lnTo>
                    <a:pt x="443" y="1834"/>
                  </a:lnTo>
                  <a:lnTo>
                    <a:pt x="460" y="1838"/>
                  </a:lnTo>
                  <a:lnTo>
                    <a:pt x="477" y="1842"/>
                  </a:lnTo>
                  <a:lnTo>
                    <a:pt x="495" y="1844"/>
                  </a:lnTo>
                  <a:lnTo>
                    <a:pt x="512" y="1845"/>
                  </a:lnTo>
                  <a:lnTo>
                    <a:pt x="531" y="1845"/>
                  </a:lnTo>
                  <a:lnTo>
                    <a:pt x="551" y="1843"/>
                  </a:lnTo>
                  <a:lnTo>
                    <a:pt x="573" y="1841"/>
                  </a:lnTo>
                  <a:lnTo>
                    <a:pt x="594" y="1837"/>
                  </a:lnTo>
                  <a:lnTo>
                    <a:pt x="1457" y="1607"/>
                  </a:lnTo>
                  <a:lnTo>
                    <a:pt x="1479" y="1599"/>
                  </a:lnTo>
                  <a:lnTo>
                    <a:pt x="1500" y="1589"/>
                  </a:lnTo>
                  <a:lnTo>
                    <a:pt x="1519" y="1579"/>
                  </a:lnTo>
                  <a:lnTo>
                    <a:pt x="1537" y="1569"/>
                  </a:lnTo>
                  <a:lnTo>
                    <a:pt x="1552" y="1557"/>
                  </a:lnTo>
                  <a:lnTo>
                    <a:pt x="1567" y="1546"/>
                  </a:lnTo>
                  <a:lnTo>
                    <a:pt x="1580" y="1534"/>
                  </a:lnTo>
                  <a:lnTo>
                    <a:pt x="1591" y="1522"/>
                  </a:lnTo>
                  <a:lnTo>
                    <a:pt x="1601" y="1510"/>
                  </a:lnTo>
                  <a:lnTo>
                    <a:pt x="1610" y="1496"/>
                  </a:lnTo>
                  <a:lnTo>
                    <a:pt x="1617" y="1482"/>
                  </a:lnTo>
                  <a:lnTo>
                    <a:pt x="1624" y="1467"/>
                  </a:lnTo>
                  <a:lnTo>
                    <a:pt x="1628" y="1453"/>
                  </a:lnTo>
                  <a:lnTo>
                    <a:pt x="1632" y="1438"/>
                  </a:lnTo>
                  <a:lnTo>
                    <a:pt x="1633" y="1423"/>
                  </a:lnTo>
                  <a:lnTo>
                    <a:pt x="1634" y="1406"/>
                  </a:lnTo>
                  <a:lnTo>
                    <a:pt x="1627" y="927"/>
                  </a:lnTo>
                  <a:lnTo>
                    <a:pt x="1664" y="910"/>
                  </a:lnTo>
                  <a:lnTo>
                    <a:pt x="1701" y="894"/>
                  </a:lnTo>
                  <a:lnTo>
                    <a:pt x="1775" y="863"/>
                  </a:lnTo>
                  <a:lnTo>
                    <a:pt x="1851" y="834"/>
                  </a:lnTo>
                  <a:lnTo>
                    <a:pt x="1929" y="807"/>
                  </a:lnTo>
                  <a:lnTo>
                    <a:pt x="2008" y="782"/>
                  </a:lnTo>
                  <a:lnTo>
                    <a:pt x="2089" y="759"/>
                  </a:lnTo>
                  <a:lnTo>
                    <a:pt x="2170" y="739"/>
                  </a:lnTo>
                  <a:lnTo>
                    <a:pt x="2252" y="720"/>
                  </a:lnTo>
                  <a:lnTo>
                    <a:pt x="2335" y="705"/>
                  </a:lnTo>
                  <a:lnTo>
                    <a:pt x="2420" y="690"/>
                  </a:lnTo>
                  <a:lnTo>
                    <a:pt x="2504" y="679"/>
                  </a:lnTo>
                  <a:lnTo>
                    <a:pt x="2589" y="669"/>
                  </a:lnTo>
                  <a:lnTo>
                    <a:pt x="2675" y="661"/>
                  </a:lnTo>
                  <a:lnTo>
                    <a:pt x="2761" y="657"/>
                  </a:lnTo>
                  <a:lnTo>
                    <a:pt x="2848" y="654"/>
                  </a:lnTo>
                  <a:lnTo>
                    <a:pt x="2934" y="652"/>
                  </a:lnTo>
                  <a:lnTo>
                    <a:pt x="3021" y="654"/>
                  </a:lnTo>
                  <a:lnTo>
                    <a:pt x="3106" y="657"/>
                  </a:lnTo>
                  <a:lnTo>
                    <a:pt x="3192" y="661"/>
                  </a:lnTo>
                  <a:lnTo>
                    <a:pt x="3278" y="669"/>
                  </a:lnTo>
                  <a:lnTo>
                    <a:pt x="3364" y="679"/>
                  </a:lnTo>
                  <a:lnTo>
                    <a:pt x="3449" y="690"/>
                  </a:lnTo>
                  <a:lnTo>
                    <a:pt x="3532" y="705"/>
                  </a:lnTo>
                  <a:lnTo>
                    <a:pt x="3616" y="720"/>
                  </a:lnTo>
                  <a:lnTo>
                    <a:pt x="3698" y="739"/>
                  </a:lnTo>
                  <a:lnTo>
                    <a:pt x="3780" y="759"/>
                  </a:lnTo>
                  <a:lnTo>
                    <a:pt x="3860" y="782"/>
                  </a:lnTo>
                  <a:lnTo>
                    <a:pt x="3939" y="807"/>
                  </a:lnTo>
                  <a:lnTo>
                    <a:pt x="4017" y="834"/>
                  </a:lnTo>
                  <a:lnTo>
                    <a:pt x="4093" y="863"/>
                  </a:lnTo>
                  <a:lnTo>
                    <a:pt x="4168" y="894"/>
                  </a:lnTo>
                  <a:lnTo>
                    <a:pt x="4204" y="910"/>
                  </a:lnTo>
                  <a:lnTo>
                    <a:pt x="4241" y="927"/>
                  </a:lnTo>
                  <a:lnTo>
                    <a:pt x="4235" y="1406"/>
                  </a:lnTo>
                  <a:lnTo>
                    <a:pt x="4235" y="1423"/>
                  </a:lnTo>
                  <a:lnTo>
                    <a:pt x="4237" y="1438"/>
                  </a:lnTo>
                  <a:lnTo>
                    <a:pt x="4240" y="1453"/>
                  </a:lnTo>
                  <a:lnTo>
                    <a:pt x="4245" y="1467"/>
                  </a:lnTo>
                  <a:lnTo>
                    <a:pt x="4250" y="1482"/>
                  </a:lnTo>
                  <a:lnTo>
                    <a:pt x="4258" y="1496"/>
                  </a:lnTo>
                  <a:lnTo>
                    <a:pt x="4266" y="1510"/>
                  </a:lnTo>
                  <a:lnTo>
                    <a:pt x="4276" y="1522"/>
                  </a:lnTo>
                  <a:lnTo>
                    <a:pt x="4288" y="1534"/>
                  </a:lnTo>
                  <a:lnTo>
                    <a:pt x="4300" y="1546"/>
                  </a:lnTo>
                  <a:lnTo>
                    <a:pt x="4315" y="1557"/>
                  </a:lnTo>
                  <a:lnTo>
                    <a:pt x="4331" y="1569"/>
                  </a:lnTo>
                  <a:lnTo>
                    <a:pt x="4349" y="1579"/>
                  </a:lnTo>
                  <a:lnTo>
                    <a:pt x="4368" y="1589"/>
                  </a:lnTo>
                  <a:lnTo>
                    <a:pt x="4389" y="1599"/>
                  </a:lnTo>
                  <a:lnTo>
                    <a:pt x="4412" y="1607"/>
                  </a:lnTo>
                  <a:lnTo>
                    <a:pt x="5275" y="1837"/>
                  </a:lnTo>
                  <a:lnTo>
                    <a:pt x="5296" y="1841"/>
                  </a:lnTo>
                  <a:lnTo>
                    <a:pt x="5316" y="1843"/>
                  </a:lnTo>
                  <a:lnTo>
                    <a:pt x="5336" y="1845"/>
                  </a:lnTo>
                  <a:lnTo>
                    <a:pt x="5355" y="1845"/>
                  </a:lnTo>
                  <a:lnTo>
                    <a:pt x="5374" y="1844"/>
                  </a:lnTo>
                  <a:lnTo>
                    <a:pt x="5392" y="1842"/>
                  </a:lnTo>
                  <a:lnTo>
                    <a:pt x="5408" y="1838"/>
                  </a:lnTo>
                  <a:lnTo>
                    <a:pt x="5425" y="1834"/>
                  </a:lnTo>
                  <a:lnTo>
                    <a:pt x="5440" y="1828"/>
                  </a:lnTo>
                  <a:lnTo>
                    <a:pt x="5454" y="1821"/>
                  </a:lnTo>
                  <a:lnTo>
                    <a:pt x="5469" y="1813"/>
                  </a:lnTo>
                  <a:lnTo>
                    <a:pt x="5481" y="1803"/>
                  </a:lnTo>
                  <a:lnTo>
                    <a:pt x="5493" y="1790"/>
                  </a:lnTo>
                  <a:lnTo>
                    <a:pt x="5504" y="1778"/>
                  </a:lnTo>
                  <a:lnTo>
                    <a:pt x="5514" y="1764"/>
                  </a:lnTo>
                  <a:lnTo>
                    <a:pt x="5523" y="1748"/>
                  </a:lnTo>
                  <a:lnTo>
                    <a:pt x="5820" y="1128"/>
                  </a:lnTo>
                  <a:lnTo>
                    <a:pt x="5835" y="1095"/>
                  </a:lnTo>
                  <a:lnTo>
                    <a:pt x="5848" y="1065"/>
                  </a:lnTo>
                  <a:lnTo>
                    <a:pt x="5856" y="1037"/>
                  </a:lnTo>
                  <a:lnTo>
                    <a:pt x="5863" y="1011"/>
                  </a:lnTo>
                  <a:lnTo>
                    <a:pt x="5867" y="988"/>
                  </a:lnTo>
                  <a:lnTo>
                    <a:pt x="5868" y="966"/>
                  </a:lnTo>
                  <a:lnTo>
                    <a:pt x="5868" y="956"/>
                  </a:lnTo>
                  <a:lnTo>
                    <a:pt x="5867" y="946"/>
                  </a:lnTo>
                  <a:lnTo>
                    <a:pt x="5864" y="936"/>
                  </a:lnTo>
                  <a:lnTo>
                    <a:pt x="5862" y="927"/>
                  </a:lnTo>
                  <a:lnTo>
                    <a:pt x="5859" y="918"/>
                  </a:lnTo>
                  <a:lnTo>
                    <a:pt x="5854" y="909"/>
                  </a:lnTo>
                  <a:lnTo>
                    <a:pt x="5845" y="892"/>
                  </a:lnTo>
                  <a:lnTo>
                    <a:pt x="5833" y="876"/>
                  </a:lnTo>
                  <a:lnTo>
                    <a:pt x="5820" y="861"/>
                  </a:lnTo>
                  <a:lnTo>
                    <a:pt x="5803" y="846"/>
                  </a:lnTo>
                  <a:lnTo>
                    <a:pt x="5784" y="832"/>
                  </a:lnTo>
                  <a:lnTo>
                    <a:pt x="5763" y="817"/>
                  </a:lnTo>
                  <a:lnTo>
                    <a:pt x="5741" y="803"/>
                  </a:lnTo>
                  <a:lnTo>
                    <a:pt x="5652" y="754"/>
                  </a:lnTo>
                  <a:lnTo>
                    <a:pt x="5564" y="706"/>
                  </a:lnTo>
                  <a:lnTo>
                    <a:pt x="5476" y="660"/>
                  </a:lnTo>
                  <a:lnTo>
                    <a:pt x="5389" y="616"/>
                  </a:lnTo>
                  <a:lnTo>
                    <a:pt x="5301" y="572"/>
                  </a:lnTo>
                  <a:lnTo>
                    <a:pt x="5213" y="531"/>
                  </a:lnTo>
                  <a:lnTo>
                    <a:pt x="5125" y="491"/>
                  </a:lnTo>
                  <a:lnTo>
                    <a:pt x="5037" y="452"/>
                  </a:lnTo>
                  <a:lnTo>
                    <a:pt x="4950" y="415"/>
                  </a:lnTo>
                  <a:lnTo>
                    <a:pt x="4862" y="381"/>
                  </a:lnTo>
                  <a:lnTo>
                    <a:pt x="4774" y="346"/>
                  </a:lnTo>
                  <a:lnTo>
                    <a:pt x="4686" y="315"/>
                  </a:lnTo>
                  <a:lnTo>
                    <a:pt x="4599" y="284"/>
                  </a:lnTo>
                  <a:lnTo>
                    <a:pt x="4511" y="255"/>
                  </a:lnTo>
                  <a:lnTo>
                    <a:pt x="4423" y="228"/>
                  </a:lnTo>
                  <a:lnTo>
                    <a:pt x="4336" y="201"/>
                  </a:lnTo>
                  <a:lnTo>
                    <a:pt x="4248" y="178"/>
                  </a:lnTo>
                  <a:lnTo>
                    <a:pt x="4161" y="154"/>
                  </a:lnTo>
                  <a:lnTo>
                    <a:pt x="4073" y="133"/>
                  </a:lnTo>
                  <a:lnTo>
                    <a:pt x="3985" y="114"/>
                  </a:lnTo>
                  <a:lnTo>
                    <a:pt x="3898" y="95"/>
                  </a:lnTo>
                  <a:lnTo>
                    <a:pt x="3810" y="80"/>
                  </a:lnTo>
                  <a:lnTo>
                    <a:pt x="3722" y="64"/>
                  </a:lnTo>
                  <a:lnTo>
                    <a:pt x="3635" y="51"/>
                  </a:lnTo>
                  <a:lnTo>
                    <a:pt x="3547" y="39"/>
                  </a:lnTo>
                  <a:lnTo>
                    <a:pt x="3460" y="29"/>
                  </a:lnTo>
                  <a:lnTo>
                    <a:pt x="3372" y="21"/>
                  </a:lnTo>
                  <a:lnTo>
                    <a:pt x="3285" y="14"/>
                  </a:lnTo>
                  <a:lnTo>
                    <a:pt x="3197" y="8"/>
                  </a:lnTo>
                  <a:lnTo>
                    <a:pt x="3109" y="4"/>
                  </a:lnTo>
                  <a:lnTo>
                    <a:pt x="3022" y="2"/>
                  </a:lnTo>
                  <a:lnTo>
                    <a:pt x="2934" y="0"/>
                  </a:lnTo>
                  <a:lnTo>
                    <a:pt x="2847" y="2"/>
                  </a:lnTo>
                  <a:lnTo>
                    <a:pt x="2759" y="4"/>
                  </a:lnTo>
                  <a:lnTo>
                    <a:pt x="2672" y="8"/>
                  </a:lnTo>
                  <a:lnTo>
                    <a:pt x="2584" y="14"/>
                  </a:lnTo>
                  <a:lnTo>
                    <a:pt x="2497" y="21"/>
                  </a:lnTo>
                  <a:lnTo>
                    <a:pt x="2409" y="29"/>
                  </a:lnTo>
                  <a:lnTo>
                    <a:pt x="2320" y="39"/>
                  </a:lnTo>
                  <a:lnTo>
                    <a:pt x="2234" y="51"/>
                  </a:lnTo>
                  <a:lnTo>
                    <a:pt x="2145" y="64"/>
                  </a:lnTo>
                  <a:lnTo>
                    <a:pt x="2059" y="80"/>
                  </a:lnTo>
                  <a:lnTo>
                    <a:pt x="1970" y="95"/>
                  </a:lnTo>
                  <a:lnTo>
                    <a:pt x="1882" y="114"/>
                  </a:lnTo>
                  <a:lnTo>
                    <a:pt x="1795" y="133"/>
                  </a:lnTo>
                  <a:lnTo>
                    <a:pt x="1707" y="154"/>
                  </a:lnTo>
                  <a:lnTo>
                    <a:pt x="1620" y="178"/>
                  </a:lnTo>
                  <a:lnTo>
                    <a:pt x="1532" y="201"/>
                  </a:lnTo>
                  <a:lnTo>
                    <a:pt x="1444" y="228"/>
                  </a:lnTo>
                  <a:lnTo>
                    <a:pt x="1357" y="255"/>
                  </a:lnTo>
                  <a:lnTo>
                    <a:pt x="1269" y="284"/>
                  </a:lnTo>
                  <a:lnTo>
                    <a:pt x="1181" y="315"/>
                  </a:lnTo>
                  <a:lnTo>
                    <a:pt x="1094" y="346"/>
                  </a:lnTo>
                  <a:lnTo>
                    <a:pt x="1006" y="381"/>
                  </a:lnTo>
                  <a:lnTo>
                    <a:pt x="918" y="415"/>
                  </a:lnTo>
                  <a:lnTo>
                    <a:pt x="830" y="452"/>
                  </a:lnTo>
                  <a:lnTo>
                    <a:pt x="743" y="491"/>
                  </a:lnTo>
                  <a:lnTo>
                    <a:pt x="655" y="531"/>
                  </a:lnTo>
                  <a:lnTo>
                    <a:pt x="567" y="572"/>
                  </a:lnTo>
                  <a:lnTo>
                    <a:pt x="479" y="616"/>
                  </a:lnTo>
                  <a:lnTo>
                    <a:pt x="391" y="660"/>
                  </a:lnTo>
                  <a:lnTo>
                    <a:pt x="303" y="706"/>
                  </a:lnTo>
                  <a:lnTo>
                    <a:pt x="216" y="754"/>
                  </a:lnTo>
                  <a:lnTo>
                    <a:pt x="128" y="803"/>
                  </a:lnTo>
                  <a:lnTo>
                    <a:pt x="104" y="817"/>
                  </a:lnTo>
                  <a:lnTo>
                    <a:pt x="84" y="832"/>
                  </a:lnTo>
                  <a:lnTo>
                    <a:pt x="65" y="846"/>
                  </a:lnTo>
                  <a:lnTo>
                    <a:pt x="49" y="861"/>
                  </a:lnTo>
                  <a:lnTo>
                    <a:pt x="34" y="876"/>
                  </a:lnTo>
                  <a:lnTo>
                    <a:pt x="23" y="892"/>
                  </a:lnTo>
                  <a:lnTo>
                    <a:pt x="13" y="909"/>
                  </a:lnTo>
                  <a:lnTo>
                    <a:pt x="10" y="918"/>
                  </a:lnTo>
                  <a:lnTo>
                    <a:pt x="6" y="927"/>
                  </a:lnTo>
                  <a:lnTo>
                    <a:pt x="4" y="936"/>
                  </a:lnTo>
                  <a:lnTo>
                    <a:pt x="2" y="946"/>
                  </a:lnTo>
                  <a:lnTo>
                    <a:pt x="1" y="956"/>
                  </a:lnTo>
                  <a:lnTo>
                    <a:pt x="0" y="966"/>
                  </a:lnTo>
                  <a:lnTo>
                    <a:pt x="1" y="988"/>
                  </a:lnTo>
                  <a:lnTo>
                    <a:pt x="4" y="1011"/>
                  </a:lnTo>
                  <a:lnTo>
                    <a:pt x="11" y="1037"/>
                  </a:lnTo>
                  <a:lnTo>
                    <a:pt x="21" y="1065"/>
                  </a:lnTo>
                  <a:lnTo>
                    <a:pt x="33" y="1095"/>
                  </a:lnTo>
                  <a:lnTo>
                    <a:pt x="49" y="1128"/>
                  </a:lnTo>
                  <a:close/>
                  <a:moveTo>
                    <a:pt x="2041" y="1134"/>
                  </a:moveTo>
                  <a:lnTo>
                    <a:pt x="2041" y="1134"/>
                  </a:lnTo>
                  <a:lnTo>
                    <a:pt x="2096" y="1117"/>
                  </a:lnTo>
                  <a:lnTo>
                    <a:pt x="2153" y="1101"/>
                  </a:lnTo>
                  <a:lnTo>
                    <a:pt x="2210" y="1085"/>
                  </a:lnTo>
                  <a:lnTo>
                    <a:pt x="2267" y="1072"/>
                  </a:lnTo>
                  <a:lnTo>
                    <a:pt x="2324" y="1058"/>
                  </a:lnTo>
                  <a:lnTo>
                    <a:pt x="2381" y="1046"/>
                  </a:lnTo>
                  <a:lnTo>
                    <a:pt x="2438" y="1036"/>
                  </a:lnTo>
                  <a:lnTo>
                    <a:pt x="2495" y="1026"/>
                  </a:lnTo>
                  <a:lnTo>
                    <a:pt x="2553" y="1017"/>
                  </a:lnTo>
                  <a:lnTo>
                    <a:pt x="2610" y="1009"/>
                  </a:lnTo>
                  <a:lnTo>
                    <a:pt x="2668" y="1004"/>
                  </a:lnTo>
                  <a:lnTo>
                    <a:pt x="2726" y="998"/>
                  </a:lnTo>
                  <a:lnTo>
                    <a:pt x="2785" y="995"/>
                  </a:lnTo>
                  <a:lnTo>
                    <a:pt x="2843" y="991"/>
                  </a:lnTo>
                  <a:lnTo>
                    <a:pt x="2902" y="989"/>
                  </a:lnTo>
                  <a:lnTo>
                    <a:pt x="2960" y="989"/>
                  </a:lnTo>
                  <a:lnTo>
                    <a:pt x="3019" y="989"/>
                  </a:lnTo>
                  <a:lnTo>
                    <a:pt x="3079" y="991"/>
                  </a:lnTo>
                  <a:lnTo>
                    <a:pt x="3136" y="995"/>
                  </a:lnTo>
                  <a:lnTo>
                    <a:pt x="3194" y="998"/>
                  </a:lnTo>
                  <a:lnTo>
                    <a:pt x="3252" y="1004"/>
                  </a:lnTo>
                  <a:lnTo>
                    <a:pt x="3310" y="1009"/>
                  </a:lnTo>
                  <a:lnTo>
                    <a:pt x="3368" y="1017"/>
                  </a:lnTo>
                  <a:lnTo>
                    <a:pt x="3426" y="1026"/>
                  </a:lnTo>
                  <a:lnTo>
                    <a:pt x="3483" y="1036"/>
                  </a:lnTo>
                  <a:lnTo>
                    <a:pt x="3541" y="1046"/>
                  </a:lnTo>
                  <a:lnTo>
                    <a:pt x="3598" y="1058"/>
                  </a:lnTo>
                  <a:lnTo>
                    <a:pt x="3655" y="1072"/>
                  </a:lnTo>
                  <a:lnTo>
                    <a:pt x="3712" y="1085"/>
                  </a:lnTo>
                  <a:lnTo>
                    <a:pt x="3769" y="1101"/>
                  </a:lnTo>
                  <a:lnTo>
                    <a:pt x="3824" y="1117"/>
                  </a:lnTo>
                  <a:lnTo>
                    <a:pt x="3881" y="1134"/>
                  </a:lnTo>
                  <a:lnTo>
                    <a:pt x="3881" y="1618"/>
                  </a:lnTo>
                  <a:lnTo>
                    <a:pt x="3884" y="1651"/>
                  </a:lnTo>
                  <a:lnTo>
                    <a:pt x="3890" y="1681"/>
                  </a:lnTo>
                  <a:lnTo>
                    <a:pt x="3898" y="1709"/>
                  </a:lnTo>
                  <a:lnTo>
                    <a:pt x="3907" y="1736"/>
                  </a:lnTo>
                  <a:lnTo>
                    <a:pt x="3918" y="1760"/>
                  </a:lnTo>
                  <a:lnTo>
                    <a:pt x="3931" y="1783"/>
                  </a:lnTo>
                  <a:lnTo>
                    <a:pt x="3946" y="1804"/>
                  </a:lnTo>
                  <a:lnTo>
                    <a:pt x="3961" y="1823"/>
                  </a:lnTo>
                  <a:lnTo>
                    <a:pt x="3979" y="1839"/>
                  </a:lnTo>
                  <a:lnTo>
                    <a:pt x="3999" y="1855"/>
                  </a:lnTo>
                  <a:lnTo>
                    <a:pt x="4020" y="1868"/>
                  </a:lnTo>
                  <a:lnTo>
                    <a:pt x="4043" y="1881"/>
                  </a:lnTo>
                  <a:lnTo>
                    <a:pt x="4066" y="1891"/>
                  </a:lnTo>
                  <a:lnTo>
                    <a:pt x="4092" y="1900"/>
                  </a:lnTo>
                  <a:lnTo>
                    <a:pt x="4119" y="1907"/>
                  </a:lnTo>
                  <a:lnTo>
                    <a:pt x="4146" y="1913"/>
                  </a:lnTo>
                  <a:lnTo>
                    <a:pt x="4896" y="2061"/>
                  </a:lnTo>
                  <a:lnTo>
                    <a:pt x="4925" y="2068"/>
                  </a:lnTo>
                  <a:lnTo>
                    <a:pt x="4951" y="2077"/>
                  </a:lnTo>
                  <a:lnTo>
                    <a:pt x="4977" y="2086"/>
                  </a:lnTo>
                  <a:lnTo>
                    <a:pt x="5001" y="2097"/>
                  </a:lnTo>
                  <a:lnTo>
                    <a:pt x="5024" y="2109"/>
                  </a:lnTo>
                  <a:lnTo>
                    <a:pt x="5044" y="2123"/>
                  </a:lnTo>
                  <a:lnTo>
                    <a:pt x="5063" y="2137"/>
                  </a:lnTo>
                  <a:lnTo>
                    <a:pt x="5081" y="2154"/>
                  </a:lnTo>
                  <a:lnTo>
                    <a:pt x="5095" y="2172"/>
                  </a:lnTo>
                  <a:lnTo>
                    <a:pt x="5108" y="2191"/>
                  </a:lnTo>
                  <a:lnTo>
                    <a:pt x="5120" y="2212"/>
                  </a:lnTo>
                  <a:lnTo>
                    <a:pt x="5129" y="2235"/>
                  </a:lnTo>
                  <a:lnTo>
                    <a:pt x="5134" y="2260"/>
                  </a:lnTo>
                  <a:lnTo>
                    <a:pt x="5139" y="2285"/>
                  </a:lnTo>
                  <a:lnTo>
                    <a:pt x="5141" y="2314"/>
                  </a:lnTo>
                  <a:lnTo>
                    <a:pt x="5141" y="2344"/>
                  </a:lnTo>
                  <a:lnTo>
                    <a:pt x="5141" y="3729"/>
                  </a:lnTo>
                  <a:lnTo>
                    <a:pt x="2960" y="3729"/>
                  </a:lnTo>
                  <a:lnTo>
                    <a:pt x="781" y="3729"/>
                  </a:lnTo>
                  <a:lnTo>
                    <a:pt x="781" y="2344"/>
                  </a:lnTo>
                  <a:lnTo>
                    <a:pt x="780" y="2314"/>
                  </a:lnTo>
                  <a:lnTo>
                    <a:pt x="782" y="2285"/>
                  </a:lnTo>
                  <a:lnTo>
                    <a:pt x="787" y="2260"/>
                  </a:lnTo>
                  <a:lnTo>
                    <a:pt x="793" y="2235"/>
                  </a:lnTo>
                  <a:lnTo>
                    <a:pt x="802" y="2212"/>
                  </a:lnTo>
                  <a:lnTo>
                    <a:pt x="813" y="2191"/>
                  </a:lnTo>
                  <a:lnTo>
                    <a:pt x="826" y="2172"/>
                  </a:lnTo>
                  <a:lnTo>
                    <a:pt x="841" y="2154"/>
                  </a:lnTo>
                  <a:lnTo>
                    <a:pt x="858" y="2137"/>
                  </a:lnTo>
                  <a:lnTo>
                    <a:pt x="877" y="2123"/>
                  </a:lnTo>
                  <a:lnTo>
                    <a:pt x="898" y="2109"/>
                  </a:lnTo>
                  <a:lnTo>
                    <a:pt x="920" y="2097"/>
                  </a:lnTo>
                  <a:lnTo>
                    <a:pt x="944" y="2086"/>
                  </a:lnTo>
                  <a:lnTo>
                    <a:pt x="971" y="2077"/>
                  </a:lnTo>
                  <a:lnTo>
                    <a:pt x="997" y="2068"/>
                  </a:lnTo>
                  <a:lnTo>
                    <a:pt x="1026" y="2061"/>
                  </a:lnTo>
                  <a:lnTo>
                    <a:pt x="1775" y="1913"/>
                  </a:lnTo>
                  <a:lnTo>
                    <a:pt x="1803" y="1907"/>
                  </a:lnTo>
                  <a:lnTo>
                    <a:pt x="1830" y="1900"/>
                  </a:lnTo>
                  <a:lnTo>
                    <a:pt x="1855" y="1891"/>
                  </a:lnTo>
                  <a:lnTo>
                    <a:pt x="1879" y="1881"/>
                  </a:lnTo>
                  <a:lnTo>
                    <a:pt x="1901" y="1868"/>
                  </a:lnTo>
                  <a:lnTo>
                    <a:pt x="1923" y="1855"/>
                  </a:lnTo>
                  <a:lnTo>
                    <a:pt x="1941" y="1839"/>
                  </a:lnTo>
                  <a:lnTo>
                    <a:pt x="1959" y="1823"/>
                  </a:lnTo>
                  <a:lnTo>
                    <a:pt x="1976" y="1804"/>
                  </a:lnTo>
                  <a:lnTo>
                    <a:pt x="1991" y="1783"/>
                  </a:lnTo>
                  <a:lnTo>
                    <a:pt x="2003" y="1760"/>
                  </a:lnTo>
                  <a:lnTo>
                    <a:pt x="2014" y="1736"/>
                  </a:lnTo>
                  <a:lnTo>
                    <a:pt x="2024" y="1709"/>
                  </a:lnTo>
                  <a:lnTo>
                    <a:pt x="2031" y="1681"/>
                  </a:lnTo>
                  <a:lnTo>
                    <a:pt x="2037" y="1651"/>
                  </a:lnTo>
                  <a:lnTo>
                    <a:pt x="2041" y="1618"/>
                  </a:lnTo>
                  <a:lnTo>
                    <a:pt x="2041" y="1134"/>
                  </a:lnTo>
                  <a:close/>
                  <a:moveTo>
                    <a:pt x="2971" y="1671"/>
                  </a:moveTo>
                  <a:lnTo>
                    <a:pt x="2971" y="1671"/>
                  </a:lnTo>
                  <a:lnTo>
                    <a:pt x="3017" y="1672"/>
                  </a:lnTo>
                  <a:lnTo>
                    <a:pt x="3063" y="1676"/>
                  </a:lnTo>
                  <a:lnTo>
                    <a:pt x="3107" y="1682"/>
                  </a:lnTo>
                  <a:lnTo>
                    <a:pt x="3151" y="1690"/>
                  </a:lnTo>
                  <a:lnTo>
                    <a:pt x="3194" y="1699"/>
                  </a:lnTo>
                  <a:lnTo>
                    <a:pt x="3237" y="1711"/>
                  </a:lnTo>
                  <a:lnTo>
                    <a:pt x="3278" y="1726"/>
                  </a:lnTo>
                  <a:lnTo>
                    <a:pt x="3318" y="1741"/>
                  </a:lnTo>
                  <a:lnTo>
                    <a:pt x="3358" y="1759"/>
                  </a:lnTo>
                  <a:lnTo>
                    <a:pt x="3396" y="1779"/>
                  </a:lnTo>
                  <a:lnTo>
                    <a:pt x="3434" y="1800"/>
                  </a:lnTo>
                  <a:lnTo>
                    <a:pt x="3470" y="1824"/>
                  </a:lnTo>
                  <a:lnTo>
                    <a:pt x="3505" y="1848"/>
                  </a:lnTo>
                  <a:lnTo>
                    <a:pt x="3539" y="1875"/>
                  </a:lnTo>
                  <a:lnTo>
                    <a:pt x="3571" y="1903"/>
                  </a:lnTo>
                  <a:lnTo>
                    <a:pt x="3602" y="1933"/>
                  </a:lnTo>
                  <a:lnTo>
                    <a:pt x="3631" y="1963"/>
                  </a:lnTo>
                  <a:lnTo>
                    <a:pt x="3659" y="1995"/>
                  </a:lnTo>
                  <a:lnTo>
                    <a:pt x="3686" y="2030"/>
                  </a:lnTo>
                  <a:lnTo>
                    <a:pt x="3711" y="2065"/>
                  </a:lnTo>
                  <a:lnTo>
                    <a:pt x="3734" y="2100"/>
                  </a:lnTo>
                  <a:lnTo>
                    <a:pt x="3755" y="2138"/>
                  </a:lnTo>
                  <a:lnTo>
                    <a:pt x="3775" y="2176"/>
                  </a:lnTo>
                  <a:lnTo>
                    <a:pt x="3793" y="2216"/>
                  </a:lnTo>
                  <a:lnTo>
                    <a:pt x="3809" y="2256"/>
                  </a:lnTo>
                  <a:lnTo>
                    <a:pt x="3823" y="2298"/>
                  </a:lnTo>
                  <a:lnTo>
                    <a:pt x="3835" y="2340"/>
                  </a:lnTo>
                  <a:lnTo>
                    <a:pt x="3845" y="2383"/>
                  </a:lnTo>
                  <a:lnTo>
                    <a:pt x="3853" y="2427"/>
                  </a:lnTo>
                  <a:lnTo>
                    <a:pt x="3859" y="2471"/>
                  </a:lnTo>
                  <a:lnTo>
                    <a:pt x="3862" y="2517"/>
                  </a:lnTo>
                  <a:lnTo>
                    <a:pt x="3863" y="2563"/>
                  </a:lnTo>
                  <a:lnTo>
                    <a:pt x="3863" y="2591"/>
                  </a:lnTo>
                  <a:lnTo>
                    <a:pt x="3861" y="2617"/>
                  </a:lnTo>
                  <a:lnTo>
                    <a:pt x="3860" y="2645"/>
                  </a:lnTo>
                  <a:lnTo>
                    <a:pt x="3857" y="2672"/>
                  </a:lnTo>
                  <a:lnTo>
                    <a:pt x="3853" y="2699"/>
                  </a:lnTo>
                  <a:lnTo>
                    <a:pt x="3849" y="2726"/>
                  </a:lnTo>
                  <a:lnTo>
                    <a:pt x="3843" y="2751"/>
                  </a:lnTo>
                  <a:lnTo>
                    <a:pt x="3838" y="2778"/>
                  </a:lnTo>
                  <a:lnTo>
                    <a:pt x="3831" y="2802"/>
                  </a:lnTo>
                  <a:lnTo>
                    <a:pt x="3823" y="2828"/>
                  </a:lnTo>
                  <a:lnTo>
                    <a:pt x="3814" y="2854"/>
                  </a:lnTo>
                  <a:lnTo>
                    <a:pt x="3805" y="2878"/>
                  </a:lnTo>
                  <a:lnTo>
                    <a:pt x="3796" y="2903"/>
                  </a:lnTo>
                  <a:lnTo>
                    <a:pt x="3786" y="2926"/>
                  </a:lnTo>
                  <a:lnTo>
                    <a:pt x="3775" y="2950"/>
                  </a:lnTo>
                  <a:lnTo>
                    <a:pt x="3763" y="2973"/>
                  </a:lnTo>
                  <a:lnTo>
                    <a:pt x="3410" y="2802"/>
                  </a:lnTo>
                  <a:lnTo>
                    <a:pt x="3423" y="2776"/>
                  </a:lnTo>
                  <a:lnTo>
                    <a:pt x="3435" y="2748"/>
                  </a:lnTo>
                  <a:lnTo>
                    <a:pt x="3446" y="2719"/>
                  </a:lnTo>
                  <a:lnTo>
                    <a:pt x="3455" y="2689"/>
                  </a:lnTo>
                  <a:lnTo>
                    <a:pt x="3462" y="2659"/>
                  </a:lnTo>
                  <a:lnTo>
                    <a:pt x="3466" y="2627"/>
                  </a:lnTo>
                  <a:lnTo>
                    <a:pt x="3470" y="2595"/>
                  </a:lnTo>
                  <a:lnTo>
                    <a:pt x="3471" y="2563"/>
                  </a:lnTo>
                  <a:lnTo>
                    <a:pt x="3470" y="2537"/>
                  </a:lnTo>
                  <a:lnTo>
                    <a:pt x="3469" y="2512"/>
                  </a:lnTo>
                  <a:lnTo>
                    <a:pt x="3465" y="2487"/>
                  </a:lnTo>
                  <a:lnTo>
                    <a:pt x="3461" y="2462"/>
                  </a:lnTo>
                  <a:lnTo>
                    <a:pt x="3455" y="2438"/>
                  </a:lnTo>
                  <a:lnTo>
                    <a:pt x="3449" y="2415"/>
                  </a:lnTo>
                  <a:lnTo>
                    <a:pt x="3441" y="2391"/>
                  </a:lnTo>
                  <a:lnTo>
                    <a:pt x="3432" y="2369"/>
                  </a:lnTo>
                  <a:lnTo>
                    <a:pt x="3422" y="2347"/>
                  </a:lnTo>
                  <a:lnTo>
                    <a:pt x="3411" y="2325"/>
                  </a:lnTo>
                  <a:lnTo>
                    <a:pt x="3398" y="2304"/>
                  </a:lnTo>
                  <a:lnTo>
                    <a:pt x="3386" y="2284"/>
                  </a:lnTo>
                  <a:lnTo>
                    <a:pt x="3372" y="2264"/>
                  </a:lnTo>
                  <a:lnTo>
                    <a:pt x="3357" y="2245"/>
                  </a:lnTo>
                  <a:lnTo>
                    <a:pt x="3342" y="2227"/>
                  </a:lnTo>
                  <a:lnTo>
                    <a:pt x="3325" y="2209"/>
                  </a:lnTo>
                  <a:lnTo>
                    <a:pt x="3307" y="2193"/>
                  </a:lnTo>
                  <a:lnTo>
                    <a:pt x="3289" y="2177"/>
                  </a:lnTo>
                  <a:lnTo>
                    <a:pt x="3270" y="2163"/>
                  </a:lnTo>
                  <a:lnTo>
                    <a:pt x="3251" y="2149"/>
                  </a:lnTo>
                  <a:lnTo>
                    <a:pt x="3230" y="2136"/>
                  </a:lnTo>
                  <a:lnTo>
                    <a:pt x="3210" y="2124"/>
                  </a:lnTo>
                  <a:lnTo>
                    <a:pt x="3188" y="2113"/>
                  </a:lnTo>
                  <a:lnTo>
                    <a:pt x="3165" y="2102"/>
                  </a:lnTo>
                  <a:lnTo>
                    <a:pt x="3143" y="2094"/>
                  </a:lnTo>
                  <a:lnTo>
                    <a:pt x="3120" y="2086"/>
                  </a:lnTo>
                  <a:lnTo>
                    <a:pt x="3096" y="2079"/>
                  </a:lnTo>
                  <a:lnTo>
                    <a:pt x="3072" y="2074"/>
                  </a:lnTo>
                  <a:lnTo>
                    <a:pt x="3047" y="2069"/>
                  </a:lnTo>
                  <a:lnTo>
                    <a:pt x="3023" y="2066"/>
                  </a:lnTo>
                  <a:lnTo>
                    <a:pt x="2997" y="2065"/>
                  </a:lnTo>
                  <a:lnTo>
                    <a:pt x="2971" y="2063"/>
                  </a:lnTo>
                  <a:lnTo>
                    <a:pt x="2946" y="2065"/>
                  </a:lnTo>
                  <a:lnTo>
                    <a:pt x="2920" y="2066"/>
                  </a:lnTo>
                  <a:lnTo>
                    <a:pt x="2896" y="2069"/>
                  </a:lnTo>
                  <a:lnTo>
                    <a:pt x="2871" y="2074"/>
                  </a:lnTo>
                  <a:lnTo>
                    <a:pt x="2847" y="2079"/>
                  </a:lnTo>
                  <a:lnTo>
                    <a:pt x="2823" y="2086"/>
                  </a:lnTo>
                  <a:lnTo>
                    <a:pt x="2800" y="2094"/>
                  </a:lnTo>
                  <a:lnTo>
                    <a:pt x="2778" y="2102"/>
                  </a:lnTo>
                  <a:lnTo>
                    <a:pt x="2755" y="2113"/>
                  </a:lnTo>
                  <a:lnTo>
                    <a:pt x="2734" y="2124"/>
                  </a:lnTo>
                  <a:lnTo>
                    <a:pt x="2713" y="2136"/>
                  </a:lnTo>
                  <a:lnTo>
                    <a:pt x="2693" y="2149"/>
                  </a:lnTo>
                  <a:lnTo>
                    <a:pt x="2673" y="2163"/>
                  </a:lnTo>
                  <a:lnTo>
                    <a:pt x="2654" y="2177"/>
                  </a:lnTo>
                  <a:lnTo>
                    <a:pt x="2636" y="2193"/>
                  </a:lnTo>
                  <a:lnTo>
                    <a:pt x="2619" y="2209"/>
                  </a:lnTo>
                  <a:lnTo>
                    <a:pt x="2603" y="2227"/>
                  </a:lnTo>
                  <a:lnTo>
                    <a:pt x="2587" y="2245"/>
                  </a:lnTo>
                  <a:lnTo>
                    <a:pt x="2571" y="2264"/>
                  </a:lnTo>
                  <a:lnTo>
                    <a:pt x="2558" y="2284"/>
                  </a:lnTo>
                  <a:lnTo>
                    <a:pt x="2545" y="2304"/>
                  </a:lnTo>
                  <a:lnTo>
                    <a:pt x="2532" y="2325"/>
                  </a:lnTo>
                  <a:lnTo>
                    <a:pt x="2521" y="2347"/>
                  </a:lnTo>
                  <a:lnTo>
                    <a:pt x="2512" y="2369"/>
                  </a:lnTo>
                  <a:lnTo>
                    <a:pt x="2502" y="2391"/>
                  </a:lnTo>
                  <a:lnTo>
                    <a:pt x="2494" y="2415"/>
                  </a:lnTo>
                  <a:lnTo>
                    <a:pt x="2488" y="2438"/>
                  </a:lnTo>
                  <a:lnTo>
                    <a:pt x="2482" y="2462"/>
                  </a:lnTo>
                  <a:lnTo>
                    <a:pt x="2478" y="2487"/>
                  </a:lnTo>
                  <a:lnTo>
                    <a:pt x="2475" y="2512"/>
                  </a:lnTo>
                  <a:lnTo>
                    <a:pt x="2473" y="2537"/>
                  </a:lnTo>
                  <a:lnTo>
                    <a:pt x="2472" y="2563"/>
                  </a:lnTo>
                  <a:lnTo>
                    <a:pt x="2473" y="2588"/>
                  </a:lnTo>
                  <a:lnTo>
                    <a:pt x="2475" y="2614"/>
                  </a:lnTo>
                  <a:lnTo>
                    <a:pt x="2478" y="2639"/>
                  </a:lnTo>
                  <a:lnTo>
                    <a:pt x="2482" y="2663"/>
                  </a:lnTo>
                  <a:lnTo>
                    <a:pt x="2488" y="2688"/>
                  </a:lnTo>
                  <a:lnTo>
                    <a:pt x="2494" y="2711"/>
                  </a:lnTo>
                  <a:lnTo>
                    <a:pt x="2502" y="2734"/>
                  </a:lnTo>
                  <a:lnTo>
                    <a:pt x="2512" y="2757"/>
                  </a:lnTo>
                  <a:lnTo>
                    <a:pt x="2521" y="2779"/>
                  </a:lnTo>
                  <a:lnTo>
                    <a:pt x="2532" y="2801"/>
                  </a:lnTo>
                  <a:lnTo>
                    <a:pt x="2545" y="2821"/>
                  </a:lnTo>
                  <a:lnTo>
                    <a:pt x="2558" y="2841"/>
                  </a:lnTo>
                  <a:lnTo>
                    <a:pt x="2571" y="2861"/>
                  </a:lnTo>
                  <a:lnTo>
                    <a:pt x="2587" y="2880"/>
                  </a:lnTo>
                  <a:lnTo>
                    <a:pt x="2603" y="2898"/>
                  </a:lnTo>
                  <a:lnTo>
                    <a:pt x="2619" y="2916"/>
                  </a:lnTo>
                  <a:lnTo>
                    <a:pt x="2636" y="2933"/>
                  </a:lnTo>
                  <a:lnTo>
                    <a:pt x="2654" y="2948"/>
                  </a:lnTo>
                  <a:lnTo>
                    <a:pt x="2673" y="2963"/>
                  </a:lnTo>
                  <a:lnTo>
                    <a:pt x="2693" y="2976"/>
                  </a:lnTo>
                  <a:lnTo>
                    <a:pt x="2713" y="2990"/>
                  </a:lnTo>
                  <a:lnTo>
                    <a:pt x="2734" y="3002"/>
                  </a:lnTo>
                  <a:lnTo>
                    <a:pt x="2755" y="3013"/>
                  </a:lnTo>
                  <a:lnTo>
                    <a:pt x="2778" y="3023"/>
                  </a:lnTo>
                  <a:lnTo>
                    <a:pt x="2800" y="3032"/>
                  </a:lnTo>
                  <a:lnTo>
                    <a:pt x="2823" y="3040"/>
                  </a:lnTo>
                  <a:lnTo>
                    <a:pt x="2847" y="3047"/>
                  </a:lnTo>
                  <a:lnTo>
                    <a:pt x="2871" y="3052"/>
                  </a:lnTo>
                  <a:lnTo>
                    <a:pt x="2896" y="3057"/>
                  </a:lnTo>
                  <a:lnTo>
                    <a:pt x="2920" y="3060"/>
                  </a:lnTo>
                  <a:lnTo>
                    <a:pt x="2946" y="3061"/>
                  </a:lnTo>
                  <a:lnTo>
                    <a:pt x="2971" y="3062"/>
                  </a:lnTo>
                  <a:lnTo>
                    <a:pt x="2994" y="3061"/>
                  </a:lnTo>
                  <a:lnTo>
                    <a:pt x="3015" y="3060"/>
                  </a:lnTo>
                  <a:lnTo>
                    <a:pt x="3037" y="3058"/>
                  </a:lnTo>
                  <a:lnTo>
                    <a:pt x="3058" y="3054"/>
                  </a:lnTo>
                  <a:lnTo>
                    <a:pt x="3079" y="3051"/>
                  </a:lnTo>
                  <a:lnTo>
                    <a:pt x="3100" y="3045"/>
                  </a:lnTo>
                  <a:lnTo>
                    <a:pt x="3120" y="3040"/>
                  </a:lnTo>
                  <a:lnTo>
                    <a:pt x="3140" y="3033"/>
                  </a:lnTo>
                  <a:lnTo>
                    <a:pt x="3159" y="3025"/>
                  </a:lnTo>
                  <a:lnTo>
                    <a:pt x="3178" y="3018"/>
                  </a:lnTo>
                  <a:lnTo>
                    <a:pt x="3197" y="3009"/>
                  </a:lnTo>
                  <a:lnTo>
                    <a:pt x="3215" y="2999"/>
                  </a:lnTo>
                  <a:lnTo>
                    <a:pt x="3232" y="2989"/>
                  </a:lnTo>
                  <a:lnTo>
                    <a:pt x="3250" y="2977"/>
                  </a:lnTo>
                  <a:lnTo>
                    <a:pt x="3267" y="2965"/>
                  </a:lnTo>
                  <a:lnTo>
                    <a:pt x="3283" y="2953"/>
                  </a:lnTo>
                  <a:lnTo>
                    <a:pt x="3563" y="3229"/>
                  </a:lnTo>
                  <a:lnTo>
                    <a:pt x="3533" y="3255"/>
                  </a:lnTo>
                  <a:lnTo>
                    <a:pt x="3502" y="3279"/>
                  </a:lnTo>
                  <a:lnTo>
                    <a:pt x="3470" y="3303"/>
                  </a:lnTo>
                  <a:lnTo>
                    <a:pt x="3436" y="3324"/>
                  </a:lnTo>
                  <a:lnTo>
                    <a:pt x="3402" y="3344"/>
                  </a:lnTo>
                  <a:lnTo>
                    <a:pt x="3366" y="3362"/>
                  </a:lnTo>
                  <a:lnTo>
                    <a:pt x="3330" y="3379"/>
                  </a:lnTo>
                  <a:lnTo>
                    <a:pt x="3294" y="3394"/>
                  </a:lnTo>
                  <a:lnTo>
                    <a:pt x="3256" y="3408"/>
                  </a:lnTo>
                  <a:lnTo>
                    <a:pt x="3217" y="3420"/>
                  </a:lnTo>
                  <a:lnTo>
                    <a:pt x="3178" y="3430"/>
                  </a:lnTo>
                  <a:lnTo>
                    <a:pt x="3138" y="3439"/>
                  </a:lnTo>
                  <a:lnTo>
                    <a:pt x="3097" y="3446"/>
                  </a:lnTo>
                  <a:lnTo>
                    <a:pt x="3056" y="3450"/>
                  </a:lnTo>
                  <a:lnTo>
                    <a:pt x="3014" y="3453"/>
                  </a:lnTo>
                  <a:lnTo>
                    <a:pt x="2971" y="3454"/>
                  </a:lnTo>
                  <a:lnTo>
                    <a:pt x="2926" y="3453"/>
                  </a:lnTo>
                  <a:lnTo>
                    <a:pt x="2880" y="3450"/>
                  </a:lnTo>
                  <a:lnTo>
                    <a:pt x="2835" y="3444"/>
                  </a:lnTo>
                  <a:lnTo>
                    <a:pt x="2792" y="3435"/>
                  </a:lnTo>
                  <a:lnTo>
                    <a:pt x="2749" y="3427"/>
                  </a:lnTo>
                  <a:lnTo>
                    <a:pt x="2706" y="3414"/>
                  </a:lnTo>
                  <a:lnTo>
                    <a:pt x="2665" y="3400"/>
                  </a:lnTo>
                  <a:lnTo>
                    <a:pt x="2625" y="3384"/>
                  </a:lnTo>
                  <a:lnTo>
                    <a:pt x="2585" y="3366"/>
                  </a:lnTo>
                  <a:lnTo>
                    <a:pt x="2547" y="3346"/>
                  </a:lnTo>
                  <a:lnTo>
                    <a:pt x="2510" y="3325"/>
                  </a:lnTo>
                  <a:lnTo>
                    <a:pt x="2473" y="3302"/>
                  </a:lnTo>
                  <a:lnTo>
                    <a:pt x="2439" y="3277"/>
                  </a:lnTo>
                  <a:lnTo>
                    <a:pt x="2405" y="3250"/>
                  </a:lnTo>
                  <a:lnTo>
                    <a:pt x="2373" y="3223"/>
                  </a:lnTo>
                  <a:lnTo>
                    <a:pt x="2342" y="3193"/>
                  </a:lnTo>
                  <a:lnTo>
                    <a:pt x="2312" y="3162"/>
                  </a:lnTo>
                  <a:lnTo>
                    <a:pt x="2284" y="3130"/>
                  </a:lnTo>
                  <a:lnTo>
                    <a:pt x="2257" y="3096"/>
                  </a:lnTo>
                  <a:lnTo>
                    <a:pt x="2232" y="3061"/>
                  </a:lnTo>
                  <a:lnTo>
                    <a:pt x="2209" y="3025"/>
                  </a:lnTo>
                  <a:lnTo>
                    <a:pt x="2188" y="2987"/>
                  </a:lnTo>
                  <a:lnTo>
                    <a:pt x="2168" y="2950"/>
                  </a:lnTo>
                  <a:lnTo>
                    <a:pt x="2150" y="2909"/>
                  </a:lnTo>
                  <a:lnTo>
                    <a:pt x="2134" y="2869"/>
                  </a:lnTo>
                  <a:lnTo>
                    <a:pt x="2120" y="2828"/>
                  </a:lnTo>
                  <a:lnTo>
                    <a:pt x="2109" y="2786"/>
                  </a:lnTo>
                  <a:lnTo>
                    <a:pt x="2099" y="2742"/>
                  </a:lnTo>
                  <a:lnTo>
                    <a:pt x="2091" y="2699"/>
                  </a:lnTo>
                  <a:lnTo>
                    <a:pt x="2085" y="2654"/>
                  </a:lnTo>
                  <a:lnTo>
                    <a:pt x="2081" y="2608"/>
                  </a:lnTo>
                  <a:lnTo>
                    <a:pt x="2080" y="2563"/>
                  </a:lnTo>
                  <a:lnTo>
                    <a:pt x="2081" y="2517"/>
                  </a:lnTo>
                  <a:lnTo>
                    <a:pt x="2085" y="2471"/>
                  </a:lnTo>
                  <a:lnTo>
                    <a:pt x="2091" y="2427"/>
                  </a:lnTo>
                  <a:lnTo>
                    <a:pt x="2099" y="2383"/>
                  </a:lnTo>
                  <a:lnTo>
                    <a:pt x="2109" y="2340"/>
                  </a:lnTo>
                  <a:lnTo>
                    <a:pt x="2120" y="2298"/>
                  </a:lnTo>
                  <a:lnTo>
                    <a:pt x="2134" y="2256"/>
                  </a:lnTo>
                  <a:lnTo>
                    <a:pt x="2150" y="2216"/>
                  </a:lnTo>
                  <a:lnTo>
                    <a:pt x="2168" y="2176"/>
                  </a:lnTo>
                  <a:lnTo>
                    <a:pt x="2188" y="2138"/>
                  </a:lnTo>
                  <a:lnTo>
                    <a:pt x="2209" y="2100"/>
                  </a:lnTo>
                  <a:lnTo>
                    <a:pt x="2232" y="2065"/>
                  </a:lnTo>
                  <a:lnTo>
                    <a:pt x="2257" y="2030"/>
                  </a:lnTo>
                  <a:lnTo>
                    <a:pt x="2284" y="1995"/>
                  </a:lnTo>
                  <a:lnTo>
                    <a:pt x="2312" y="1963"/>
                  </a:lnTo>
                  <a:lnTo>
                    <a:pt x="2342" y="1933"/>
                  </a:lnTo>
                  <a:lnTo>
                    <a:pt x="2373" y="1903"/>
                  </a:lnTo>
                  <a:lnTo>
                    <a:pt x="2405" y="1875"/>
                  </a:lnTo>
                  <a:lnTo>
                    <a:pt x="2439" y="1848"/>
                  </a:lnTo>
                  <a:lnTo>
                    <a:pt x="2473" y="1824"/>
                  </a:lnTo>
                  <a:lnTo>
                    <a:pt x="2510" y="1800"/>
                  </a:lnTo>
                  <a:lnTo>
                    <a:pt x="2547" y="1779"/>
                  </a:lnTo>
                  <a:lnTo>
                    <a:pt x="2585" y="1759"/>
                  </a:lnTo>
                  <a:lnTo>
                    <a:pt x="2625" y="1741"/>
                  </a:lnTo>
                  <a:lnTo>
                    <a:pt x="2665" y="1726"/>
                  </a:lnTo>
                  <a:lnTo>
                    <a:pt x="2706" y="1711"/>
                  </a:lnTo>
                  <a:lnTo>
                    <a:pt x="2749" y="1699"/>
                  </a:lnTo>
                  <a:lnTo>
                    <a:pt x="2792" y="1690"/>
                  </a:lnTo>
                  <a:lnTo>
                    <a:pt x="2835" y="1682"/>
                  </a:lnTo>
                  <a:lnTo>
                    <a:pt x="2880" y="1676"/>
                  </a:lnTo>
                  <a:lnTo>
                    <a:pt x="2926" y="1672"/>
                  </a:lnTo>
                  <a:lnTo>
                    <a:pt x="2971" y="1671"/>
                  </a:lnTo>
                  <a:close/>
                  <a:moveTo>
                    <a:pt x="4858" y="3824"/>
                  </a:moveTo>
                  <a:lnTo>
                    <a:pt x="4858" y="3824"/>
                  </a:lnTo>
                  <a:lnTo>
                    <a:pt x="4328" y="3824"/>
                  </a:lnTo>
                  <a:lnTo>
                    <a:pt x="4328" y="4208"/>
                  </a:lnTo>
                  <a:lnTo>
                    <a:pt x="4702" y="4208"/>
                  </a:lnTo>
                  <a:lnTo>
                    <a:pt x="4858" y="3824"/>
                  </a:lnTo>
                  <a:close/>
                  <a:moveTo>
                    <a:pt x="1064" y="3824"/>
                  </a:moveTo>
                  <a:lnTo>
                    <a:pt x="1064" y="3824"/>
                  </a:lnTo>
                  <a:lnTo>
                    <a:pt x="1594" y="3824"/>
                  </a:lnTo>
                  <a:lnTo>
                    <a:pt x="1594" y="4208"/>
                  </a:lnTo>
                  <a:lnTo>
                    <a:pt x="1219" y="4208"/>
                  </a:lnTo>
                  <a:lnTo>
                    <a:pt x="1064" y="3824"/>
                  </a:lnTo>
                  <a:close/>
                </a:path>
              </a:pathLst>
            </a:custGeom>
            <a:solidFill>
              <a:srgbClr val="00b0f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14" name="组合 113"/>
          <p:cNvGrpSpPr/>
          <p:nvPr/>
        </p:nvGrpSpPr>
        <p:grpSpPr>
          <a:xfrm>
            <a:off x="5688000" y="5205240"/>
            <a:ext cx="1379520" cy="671760"/>
            <a:chOff x="5688000" y="5205240"/>
            <a:chExt cx="1379520" cy="671760"/>
          </a:xfrm>
        </p:grpSpPr>
        <p:pic>
          <p:nvPicPr>
            <p:cNvPr id="2315" name="圆角矩形 86" descr=""/>
            <p:cNvPicPr/>
            <p:nvPr/>
          </p:nvPicPr>
          <p:blipFill>
            <a:blip r:embed="rId4"/>
            <a:stretch/>
          </p:blipFill>
          <p:spPr>
            <a:xfrm>
              <a:off x="5815080" y="5205240"/>
              <a:ext cx="1252440" cy="647280"/>
            </a:xfrm>
            <a:prstGeom prst="rect">
              <a:avLst/>
            </a:prstGeom>
            <a:ln w="0">
              <a:noFill/>
            </a:ln>
          </p:spPr>
        </p:pic>
        <p:sp>
          <p:nvSpPr>
            <p:cNvPr id="2316" name="圆角矩形 87"/>
            <p:cNvSpPr/>
            <p:nvPr/>
          </p:nvSpPr>
          <p:spPr>
            <a:xfrm>
              <a:off x="5688000" y="5256720"/>
              <a:ext cx="1224000" cy="62028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7" name="文本框 88"/>
            <p:cNvSpPr/>
            <p:nvPr/>
          </p:nvSpPr>
          <p:spPr>
            <a:xfrm>
              <a:off x="5736600" y="5217120"/>
              <a:ext cx="388080" cy="46656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f75b4"/>
                  </a:solidFill>
                  <a:latin typeface="Arial"/>
                </a:rPr>
                <a:t>D</a:t>
              </a:r>
              <a:endParaRPr b="1" lang="en-US" sz="3100" spc="-1" strike="noStrike">
                <a:solidFill>
                  <a:srgbClr val="000000"/>
                </a:solidFill>
                <a:latin typeface="Arial"/>
              </a:endParaRPr>
            </a:p>
          </p:txBody>
        </p:sp>
        <p:grpSp>
          <p:nvGrpSpPr>
            <p:cNvPr id="2318" name="组合 89"/>
            <p:cNvGrpSpPr/>
            <p:nvPr/>
          </p:nvGrpSpPr>
          <p:grpSpPr>
            <a:xfrm>
              <a:off x="0" y="0"/>
              <a:ext cx="0" cy="0"/>
              <a:chOff x="0" y="0"/>
              <a:chExt cx="0" cy="0"/>
            </a:xfrm>
          </p:grpSpPr>
        </p:grpSp>
        <p:sp>
          <p:nvSpPr>
            <p:cNvPr id="2319" name="KSO_Shape"/>
            <p:cNvSpPr/>
            <p:nvPr/>
          </p:nvSpPr>
          <p:spPr>
            <a:xfrm>
              <a:off x="6467400" y="5238720"/>
              <a:ext cx="232560" cy="423000"/>
            </a:xfrm>
            <a:custGeom>
              <a:avLst/>
              <a:gdLst/>
              <a:ahLst/>
              <a:rect l="l" t="t" r="r" b="b"/>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20" name="文本框 104"/>
          <p:cNvSpPr/>
          <p:nvPr/>
        </p:nvSpPr>
        <p:spPr>
          <a:xfrm>
            <a:off x="1671480" y="2657520"/>
            <a:ext cx="3795840" cy="12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一）措辞要严谨准确</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报告旨在客观公正地表达审计意见和审计结论，编写审计报告时，措辞 必须严谨准确</a:t>
            </a:r>
            <a:endParaRPr b="1" lang="en-US" sz="2000" spc="-1" strike="noStrike">
              <a:solidFill>
                <a:srgbClr val="000000"/>
              </a:solidFill>
              <a:latin typeface="Arial"/>
            </a:endParaRPr>
          </a:p>
        </p:txBody>
      </p:sp>
      <p:sp>
        <p:nvSpPr>
          <p:cNvPr id="2321" name="文本框 106"/>
          <p:cNvSpPr/>
          <p:nvPr/>
        </p:nvSpPr>
        <p:spPr>
          <a:xfrm>
            <a:off x="1461960" y="4292640"/>
            <a:ext cx="4077000" cy="30081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二）证据要确凿充分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ea typeface="宋体"/>
              </a:rPr>
              <a:t>审计报告向使用者传递信息，提供其决策的依据。因此，审计报告所列的事 实必须证据确凿充分。为此审计报告一定要从实际出发，凭事实说话，切不可泛 泛而谈，言之无物，更不可虚构材料。</a:t>
            </a:r>
            <a:endParaRPr b="1" lang="en-US" sz="2000" spc="-1" strike="noStrike">
              <a:solidFill>
                <a:srgbClr val="000000"/>
              </a:solidFill>
              <a:latin typeface="Arial"/>
            </a:endParaRPr>
          </a:p>
        </p:txBody>
      </p:sp>
      <p:sp>
        <p:nvSpPr>
          <p:cNvPr id="2322" name="文本框 108"/>
          <p:cNvSpPr/>
          <p:nvPr/>
        </p:nvSpPr>
        <p:spPr>
          <a:xfrm>
            <a:off x="7130880" y="2703600"/>
            <a:ext cx="5061240" cy="26416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三）责任界定要分明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人员应当按照审计准则的要求，通过实施适当的审计程序和审计方法， 收集到必要的审计证据，从而判断被审计单位会计报表的编制是否符合</a:t>
            </a:r>
            <a:r>
              <a:rPr b="1" lang="en-US" sz="2000" spc="-1" strike="noStrike">
                <a:solidFill>
                  <a:srgbClr val="000000"/>
                </a:solidFill>
                <a:latin typeface="Arial"/>
              </a:rPr>
              <a:t>《</a:t>
            </a:r>
            <a:r>
              <a:rPr b="1" lang="zh-CN" sz="2000" spc="-1" strike="noStrike">
                <a:solidFill>
                  <a:srgbClr val="000000"/>
                </a:solidFill>
                <a:latin typeface="Arial"/>
                <a:ea typeface="宋体"/>
              </a:rPr>
              <a:t>企业会 计准则</a:t>
            </a:r>
            <a:r>
              <a:rPr b="1" lang="en-US" sz="2000" spc="-1" strike="noStrike">
                <a:solidFill>
                  <a:srgbClr val="000000"/>
                </a:solidFill>
                <a:latin typeface="Arial"/>
              </a:rPr>
              <a:t>》</a:t>
            </a:r>
            <a:r>
              <a:rPr b="1" lang="zh-CN" sz="2000" spc="-1" strike="noStrike">
                <a:solidFill>
                  <a:srgbClr val="000000"/>
                </a:solidFill>
                <a:latin typeface="Arial"/>
                <a:ea typeface="宋体"/>
              </a:rPr>
              <a:t>的要求，是否公允地反映被审计单位的财务状况、经营成果和资金变动 情况，并把自己判定的结论在审计报告中恰当地表述出来。</a:t>
            </a:r>
            <a:endParaRPr b="1" lang="en-US" sz="2000" spc="-1" strike="noStrike">
              <a:solidFill>
                <a:srgbClr val="000000"/>
              </a:solidFill>
              <a:latin typeface="Arial"/>
            </a:endParaRPr>
          </a:p>
        </p:txBody>
      </p:sp>
      <p:sp>
        <p:nvSpPr>
          <p:cNvPr id="2323" name="文本框 110"/>
          <p:cNvSpPr/>
          <p:nvPr/>
        </p:nvSpPr>
        <p:spPr>
          <a:xfrm>
            <a:off x="6953400" y="5564160"/>
            <a:ext cx="4975200" cy="138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四）内容要全面完整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审计报告是使用者了解企业真实财务信息的重要资料，注册会计师还须对出 具的审计报告承担相应的法律责任</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pic>
        <p:nvPicPr>
          <p:cNvPr id="2324" name="文本框 31" descr=""/>
          <p:cNvPicPr/>
          <p:nvPr/>
        </p:nvPicPr>
        <p:blipFill>
          <a:blip r:embed="rId5"/>
          <a:stretch/>
        </p:blipFill>
        <p:spPr>
          <a:xfrm>
            <a:off x="2617920" y="54000"/>
            <a:ext cx="6895800" cy="650880"/>
          </a:xfrm>
          <a:prstGeom prst="rect">
            <a:avLst/>
          </a:prstGeom>
          <a:ln w="0">
            <a:noFill/>
          </a:ln>
        </p:spPr>
      </p:pic>
      <p:sp>
        <p:nvSpPr>
          <p:cNvPr id="2325" name="矩形 1"/>
          <p:cNvSpPr/>
          <p:nvPr/>
        </p:nvSpPr>
        <p:spPr>
          <a:xfrm>
            <a:off x="3575160" y="824040"/>
            <a:ext cx="481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一、审计报告的编写要求</a:t>
            </a:r>
            <a:endParaRPr b="1" lang="en-US" sz="32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10">
                                  <p:stCondLst>
                                    <p:cond delay="0"/>
                                  </p:stCondLst>
                                  <p:childTnLst>
                                    <p:set>
                                      <p:cBhvr>
                                        <p:cTn id="403" dur="500" fill="hold">
                                          <p:stCondLst>
                                            <p:cond delay="0"/>
                                          </p:stCondLst>
                                        </p:cTn>
                                        <p:tgtEl>
                                          <p:spTgt spid="2320"/>
                                        </p:tgtEl>
                                        <p:attrNameLst>
                                          <p:attrName>style.visibility</p:attrName>
                                        </p:attrNameLst>
                                      </p:cBhvr>
                                      <p:to>
                                        <p:strVal val="visible"/>
                                      </p:to>
                                    </p:set>
                                    <p:animEffect filter="fade" transition="in">
                                      <p:cBhvr additive="repl">
                                        <p:cTn id="404" dur="500"/>
                                        <p:tgtEl>
                                          <p:spTgt spid="2320"/>
                                        </p:tgtEl>
                                      </p:cBhvr>
                                    </p:animEffect>
                                  </p:childTnLst>
                                </p:cTn>
                              </p:par>
                            </p:childTnLst>
                          </p:cTn>
                        </p:par>
                        <p:par>
                          <p:cTn id="405" fill="hold">
                            <p:stCondLst>
                              <p:cond delay="500"/>
                            </p:stCondLst>
                            <p:childTnLst>
                              <p:par>
                                <p:cTn id="406" dur="indefinite" nodeType="afterEffect" fill="hold" presetClass="entr" presetID="10">
                                  <p:stCondLst>
                                    <p:cond delay="0"/>
                                  </p:stCondLst>
                                  <p:childTnLst>
                                    <p:set>
                                      <p:cBhvr>
                                        <p:cTn id="407" dur="500" fill="hold">
                                          <p:stCondLst>
                                            <p:cond delay="0"/>
                                          </p:stCondLst>
                                        </p:cTn>
                                        <p:tgtEl>
                                          <p:spTgt spid="2321"/>
                                        </p:tgtEl>
                                        <p:attrNameLst>
                                          <p:attrName>style.visibility</p:attrName>
                                        </p:attrNameLst>
                                      </p:cBhvr>
                                      <p:to>
                                        <p:strVal val="visible"/>
                                      </p:to>
                                    </p:set>
                                    <p:animEffect filter="fade" transition="in">
                                      <p:cBhvr additive="repl">
                                        <p:cTn id="408" dur="500"/>
                                        <p:tgtEl>
                                          <p:spTgt spid="2321"/>
                                        </p:tgtEl>
                                      </p:cBhvr>
                                    </p:animEffect>
                                  </p:childTnLst>
                                </p:cTn>
                              </p:par>
                            </p:childTnLst>
                          </p:cTn>
                        </p:par>
                        <p:par>
                          <p:cTn id="409" fill="hold">
                            <p:stCondLst>
                              <p:cond delay="1000"/>
                            </p:stCondLst>
                            <p:childTnLst>
                              <p:par>
                                <p:cTn id="410" dur="indefinite" nodeType="afterEffect" fill="hold" presetClass="entr" presetID="10">
                                  <p:stCondLst>
                                    <p:cond delay="0"/>
                                  </p:stCondLst>
                                  <p:childTnLst>
                                    <p:set>
                                      <p:cBhvr>
                                        <p:cTn id="411" dur="500" fill="hold">
                                          <p:stCondLst>
                                            <p:cond delay="0"/>
                                          </p:stCondLst>
                                        </p:cTn>
                                        <p:tgtEl>
                                          <p:spTgt spid="2322"/>
                                        </p:tgtEl>
                                        <p:attrNameLst>
                                          <p:attrName>style.visibility</p:attrName>
                                        </p:attrNameLst>
                                      </p:cBhvr>
                                      <p:to>
                                        <p:strVal val="visible"/>
                                      </p:to>
                                    </p:set>
                                    <p:animEffect filter="fade" transition="in">
                                      <p:cBhvr additive="repl">
                                        <p:cTn id="412" dur="500"/>
                                        <p:tgtEl>
                                          <p:spTgt spid="2322"/>
                                        </p:tgtEl>
                                      </p:cBhvr>
                                    </p:animEffect>
                                  </p:childTnLst>
                                </p:cTn>
                              </p:par>
                            </p:childTnLst>
                          </p:cTn>
                        </p:par>
                        <p:par>
                          <p:cTn id="413" fill="hold">
                            <p:stCondLst>
                              <p:cond delay="1500"/>
                            </p:stCondLst>
                            <p:childTnLst>
                              <p:par>
                                <p:cTn id="414" dur="indefinite" nodeType="afterEffect" fill="hold" presetClass="entr" presetID="10">
                                  <p:stCondLst>
                                    <p:cond delay="0"/>
                                  </p:stCondLst>
                                  <p:childTnLst>
                                    <p:set>
                                      <p:cBhvr>
                                        <p:cTn id="415" dur="500" fill="hold">
                                          <p:stCondLst>
                                            <p:cond delay="0"/>
                                          </p:stCondLst>
                                        </p:cTn>
                                        <p:tgtEl>
                                          <p:spTgt spid="2323"/>
                                        </p:tgtEl>
                                        <p:attrNameLst>
                                          <p:attrName>style.visibility</p:attrName>
                                        </p:attrNameLst>
                                      </p:cBhvr>
                                      <p:to>
                                        <p:strVal val="visible"/>
                                      </p:to>
                                    </p:set>
                                    <p:animEffect filter="fade" transition="in">
                                      <p:cBhvr additive="repl">
                                        <p:cTn id="416" dur="500"/>
                                        <p:tgtEl>
                                          <p:spTgt spid="2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组合 78"/>
          <p:cNvGrpSpPr/>
          <p:nvPr/>
        </p:nvGrpSpPr>
        <p:grpSpPr>
          <a:xfrm>
            <a:off x="3575160" y="2070000"/>
            <a:ext cx="8035920" cy="595080"/>
            <a:chOff x="3575160" y="2070000"/>
            <a:chExt cx="8035920" cy="595080"/>
          </a:xfrm>
        </p:grpSpPr>
        <p:sp>
          <p:nvSpPr>
            <p:cNvPr id="1814" name="矩形 51"/>
            <p:cNvSpPr/>
            <p:nvPr/>
          </p:nvSpPr>
          <p:spPr>
            <a:xfrm>
              <a:off x="4352760" y="20836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815" name="圆角矩形 55"/>
            <p:cNvSpPr/>
            <p:nvPr/>
          </p:nvSpPr>
          <p:spPr>
            <a:xfrm>
              <a:off x="3575160" y="215568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816" name="矩形 34"/>
            <p:cNvSpPr/>
            <p:nvPr/>
          </p:nvSpPr>
          <p:spPr>
            <a:xfrm>
              <a:off x="8371080" y="20700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817" name="圆角矩形 35"/>
            <p:cNvSpPr/>
            <p:nvPr/>
          </p:nvSpPr>
          <p:spPr>
            <a:xfrm>
              <a:off x="7593120" y="2139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818" name="组合 71"/>
          <p:cNvGrpSpPr/>
          <p:nvPr/>
        </p:nvGrpSpPr>
        <p:grpSpPr>
          <a:xfrm>
            <a:off x="3575160" y="2809800"/>
            <a:ext cx="8123040" cy="595080"/>
            <a:chOff x="3575160" y="2809800"/>
            <a:chExt cx="8123040" cy="595080"/>
          </a:xfrm>
        </p:grpSpPr>
        <p:sp>
          <p:nvSpPr>
            <p:cNvPr id="1819" name="矩形 57"/>
            <p:cNvSpPr/>
            <p:nvPr/>
          </p:nvSpPr>
          <p:spPr>
            <a:xfrm>
              <a:off x="4360680" y="28234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1820" name="圆角矩形 74"/>
            <p:cNvSpPr/>
            <p:nvPr/>
          </p:nvSpPr>
          <p:spPr>
            <a:xfrm>
              <a:off x="3575160" y="28954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1821" name="矩形 37"/>
            <p:cNvSpPr/>
            <p:nvPr/>
          </p:nvSpPr>
          <p:spPr>
            <a:xfrm>
              <a:off x="8423640" y="28098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筹资与投资循环审计</a:t>
              </a:r>
              <a:endParaRPr b="1" lang="en-US" sz="2400" spc="-1" strike="noStrike">
                <a:solidFill>
                  <a:srgbClr val="000000"/>
                </a:solidFill>
                <a:latin typeface="Arial"/>
              </a:endParaRPr>
            </a:p>
          </p:txBody>
        </p:sp>
        <p:sp>
          <p:nvSpPr>
            <p:cNvPr id="1822" name="圆角矩形 38"/>
            <p:cNvSpPr/>
            <p:nvPr/>
          </p:nvSpPr>
          <p:spPr>
            <a:xfrm>
              <a:off x="7637400" y="287964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8</a:t>
              </a:r>
              <a:endParaRPr b="1" lang="en-US" sz="2400" spc="-1" strike="noStrike">
                <a:solidFill>
                  <a:srgbClr val="000000"/>
                </a:solidFill>
                <a:latin typeface="Arial"/>
              </a:endParaRPr>
            </a:p>
          </p:txBody>
        </p:sp>
      </p:grpSp>
      <p:grpSp>
        <p:nvGrpSpPr>
          <p:cNvPr id="1823" name="组合 72"/>
          <p:cNvGrpSpPr/>
          <p:nvPr/>
        </p:nvGrpSpPr>
        <p:grpSpPr>
          <a:xfrm>
            <a:off x="3575160" y="3549600"/>
            <a:ext cx="8122680" cy="595080"/>
            <a:chOff x="3575160" y="3549600"/>
            <a:chExt cx="8122680" cy="595080"/>
          </a:xfrm>
        </p:grpSpPr>
        <p:sp>
          <p:nvSpPr>
            <p:cNvPr id="1824" name="矩形 76"/>
            <p:cNvSpPr/>
            <p:nvPr/>
          </p:nvSpPr>
          <p:spPr>
            <a:xfrm>
              <a:off x="4440600" y="3563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825" name="圆角矩形 100"/>
            <p:cNvSpPr/>
            <p:nvPr/>
          </p:nvSpPr>
          <p:spPr>
            <a:xfrm>
              <a:off x="3575160" y="3635280"/>
              <a:ext cx="58284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826" name="矩形 40"/>
            <p:cNvSpPr/>
            <p:nvPr/>
          </p:nvSpPr>
          <p:spPr>
            <a:xfrm>
              <a:off x="8458200" y="3549600"/>
              <a:ext cx="323964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货币资金审计</a:t>
              </a:r>
              <a:endParaRPr b="1" lang="en-US" sz="2400" spc="-1" strike="noStrike">
                <a:solidFill>
                  <a:srgbClr val="000000"/>
                </a:solidFill>
                <a:latin typeface="Arial"/>
              </a:endParaRPr>
            </a:p>
          </p:txBody>
        </p:sp>
        <p:sp>
          <p:nvSpPr>
            <p:cNvPr id="1827" name="圆角矩形 41"/>
            <p:cNvSpPr/>
            <p:nvPr/>
          </p:nvSpPr>
          <p:spPr>
            <a:xfrm>
              <a:off x="7680600" y="36194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828" name="组合 69"/>
          <p:cNvGrpSpPr/>
          <p:nvPr/>
        </p:nvGrpSpPr>
        <p:grpSpPr>
          <a:xfrm>
            <a:off x="3575160" y="1338120"/>
            <a:ext cx="8035560" cy="595080"/>
            <a:chOff x="3575160" y="1338120"/>
            <a:chExt cx="8035560" cy="595080"/>
          </a:xfrm>
        </p:grpSpPr>
        <p:sp>
          <p:nvSpPr>
            <p:cNvPr id="1829" name="矩形 27"/>
            <p:cNvSpPr/>
            <p:nvPr/>
          </p:nvSpPr>
          <p:spPr>
            <a:xfrm>
              <a:off x="4352760" y="13518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总论</a:t>
              </a:r>
              <a:endParaRPr b="1" lang="en-US" sz="2400" spc="-1" strike="noStrike">
                <a:solidFill>
                  <a:srgbClr val="000000"/>
                </a:solidFill>
                <a:latin typeface="Arial"/>
              </a:endParaRPr>
            </a:p>
          </p:txBody>
        </p:sp>
        <p:sp>
          <p:nvSpPr>
            <p:cNvPr id="1830" name="圆角矩形 28"/>
            <p:cNvSpPr/>
            <p:nvPr/>
          </p:nvSpPr>
          <p:spPr>
            <a:xfrm>
              <a:off x="3575160" y="1407960"/>
              <a:ext cx="576360" cy="484200"/>
            </a:xfrm>
            <a:prstGeom prst="roundRect">
              <a:avLst>
                <a:gd name="adj" fmla="val 16667"/>
              </a:avLst>
            </a:prstGeom>
            <a:solidFill>
              <a:srgbClr val="aeed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1831" name="矩形 43"/>
            <p:cNvSpPr/>
            <p:nvPr/>
          </p:nvSpPr>
          <p:spPr>
            <a:xfrm>
              <a:off x="8370720" y="133812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832" name="圆角矩形 44"/>
            <p:cNvSpPr/>
            <p:nvPr/>
          </p:nvSpPr>
          <p:spPr>
            <a:xfrm>
              <a:off x="7593120" y="140796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833" name="组合 73"/>
          <p:cNvGrpSpPr/>
          <p:nvPr/>
        </p:nvGrpSpPr>
        <p:grpSpPr>
          <a:xfrm>
            <a:off x="3575160" y="4289400"/>
            <a:ext cx="8123040" cy="595080"/>
            <a:chOff x="3575160" y="4289400"/>
            <a:chExt cx="8123040" cy="595080"/>
          </a:xfrm>
        </p:grpSpPr>
        <p:sp>
          <p:nvSpPr>
            <p:cNvPr id="1834"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835"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836"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报告的编制</a:t>
              </a:r>
              <a:endParaRPr b="1" lang="en-US" sz="2400" spc="-1" strike="noStrike">
                <a:solidFill>
                  <a:srgbClr val="000000"/>
                </a:solidFill>
                <a:latin typeface="Arial"/>
              </a:endParaRPr>
            </a:p>
          </p:txBody>
        </p:sp>
        <p:sp>
          <p:nvSpPr>
            <p:cNvPr id="1837" name="圆角矩形 46"/>
            <p:cNvSpPr/>
            <p:nvPr/>
          </p:nvSpPr>
          <p:spPr>
            <a:xfrm>
              <a:off x="7637400" y="4359240"/>
              <a:ext cx="619200" cy="468360"/>
            </a:xfrm>
            <a:prstGeom prst="roundRect">
              <a:avLst>
                <a:gd name="adj" fmla="val 16667"/>
              </a:avLst>
            </a:prstGeom>
            <a:solidFill>
              <a:srgbClr val="8e10d4"/>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0</a:t>
              </a:r>
              <a:endParaRPr b="1" lang="en-US" sz="2400" spc="-1" strike="noStrike">
                <a:solidFill>
                  <a:srgbClr val="000000"/>
                </a:solidFill>
                <a:latin typeface="Arial"/>
              </a:endParaRPr>
            </a:p>
          </p:txBody>
        </p:sp>
      </p:grpSp>
      <p:grpSp>
        <p:nvGrpSpPr>
          <p:cNvPr id="1838" name="组合 64"/>
          <p:cNvGrpSpPr/>
          <p:nvPr/>
        </p:nvGrpSpPr>
        <p:grpSpPr>
          <a:xfrm>
            <a:off x="407880" y="2301840"/>
            <a:ext cx="2382840" cy="1785960"/>
            <a:chOff x="407880" y="2301840"/>
            <a:chExt cx="2382840" cy="1785960"/>
          </a:xfrm>
        </p:grpSpPr>
        <p:sp>
          <p:nvSpPr>
            <p:cNvPr id="1839" name="Freeform 6"/>
            <p:cNvSpPr/>
            <p:nvPr/>
          </p:nvSpPr>
          <p:spPr>
            <a:xfrm>
              <a:off x="407880" y="2301840"/>
              <a:ext cx="238284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0" name="文本框 62"/>
            <p:cNvSpPr/>
            <p:nvPr/>
          </p:nvSpPr>
          <p:spPr>
            <a:xfrm>
              <a:off x="582480" y="2625120"/>
              <a:ext cx="203544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841" name="Freeform 11"/>
            <p:cNvSpPr/>
            <p:nvPr/>
          </p:nvSpPr>
          <p:spPr>
            <a:xfrm>
              <a:off x="539640" y="2462040"/>
              <a:ext cx="212616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828"/>
                                        </p:tgtEl>
                                        <p:attrNameLst>
                                          <p:attrName>style.visibility</p:attrName>
                                        </p:attrNameLst>
                                      </p:cBhvr>
                                      <p:to>
                                        <p:strVal val="visible"/>
                                      </p:to>
                                    </p:set>
                                    <p:anim calcmode="lin" valueType="num">
                                      <p:cBhvr additive="repl">
                                        <p:cTn id="16" dur="500"/>
                                        <p:tgtEl>
                                          <p:spTgt spid="1828"/>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828"/>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813"/>
                                        </p:tgtEl>
                                        <p:attrNameLst>
                                          <p:attrName>style.visibility</p:attrName>
                                        </p:attrNameLst>
                                      </p:cBhvr>
                                      <p:to>
                                        <p:strVal val="visible"/>
                                      </p:to>
                                    </p:set>
                                    <p:anim calcmode="lin" valueType="num">
                                      <p:cBhvr additive="repl">
                                        <p:cTn id="21" dur="500"/>
                                        <p:tgtEl>
                                          <p:spTgt spid="1813"/>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813"/>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818"/>
                                        </p:tgtEl>
                                        <p:attrNameLst>
                                          <p:attrName>style.visibility</p:attrName>
                                        </p:attrNameLst>
                                      </p:cBhvr>
                                      <p:to>
                                        <p:strVal val="visible"/>
                                      </p:to>
                                    </p:set>
                                    <p:anim calcmode="lin" valueType="num">
                                      <p:cBhvr additive="repl">
                                        <p:cTn id="26" dur="500"/>
                                        <p:tgtEl>
                                          <p:spTgt spid="1818"/>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818"/>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823"/>
                                        </p:tgtEl>
                                        <p:attrNameLst>
                                          <p:attrName>style.visibility</p:attrName>
                                        </p:attrNameLst>
                                      </p:cBhvr>
                                      <p:to>
                                        <p:strVal val="visible"/>
                                      </p:to>
                                    </p:set>
                                    <p:anim calcmode="lin" valueType="num">
                                      <p:cBhvr additive="repl">
                                        <p:cTn id="31" dur="500"/>
                                        <p:tgtEl>
                                          <p:spTgt spid="1823"/>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823"/>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833"/>
                                        </p:tgtEl>
                                        <p:attrNameLst>
                                          <p:attrName>style.visibility</p:attrName>
                                        </p:attrNameLst>
                                      </p:cBhvr>
                                      <p:to>
                                        <p:strVal val="visible"/>
                                      </p:to>
                                    </p:set>
                                    <p:anim calcmode="lin" valueType="num">
                                      <p:cBhvr additive="repl">
                                        <p:cTn id="36" dur="500"/>
                                        <p:tgtEl>
                                          <p:spTgt spid="1833"/>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文本框 14"/>
          <p:cNvSpPr/>
          <p:nvPr/>
        </p:nvSpPr>
        <p:spPr>
          <a:xfrm>
            <a:off x="1511280" y="779400"/>
            <a:ext cx="8856720" cy="75528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审计报告的要素</a:t>
            </a:r>
            <a:endParaRPr b="1" lang="en-US" sz="3200" spc="-1" strike="noStrike">
              <a:solidFill>
                <a:srgbClr val="000000"/>
              </a:solidFill>
              <a:latin typeface="Arial"/>
            </a:endParaRPr>
          </a:p>
        </p:txBody>
      </p:sp>
      <p:pic>
        <p:nvPicPr>
          <p:cNvPr id="2327" name="组合 2" descr=""/>
          <p:cNvPicPr/>
          <p:nvPr/>
        </p:nvPicPr>
        <p:blipFill>
          <a:blip r:embed="rId1"/>
          <a:stretch/>
        </p:blipFill>
        <p:spPr>
          <a:xfrm>
            <a:off x="939960" y="3608280"/>
            <a:ext cx="896760" cy="889200"/>
          </a:xfrm>
          <a:prstGeom prst="rect">
            <a:avLst/>
          </a:prstGeom>
          <a:ln w="0">
            <a:noFill/>
          </a:ln>
        </p:spPr>
      </p:pic>
      <p:grpSp>
        <p:nvGrpSpPr>
          <p:cNvPr id="2328" name="组合 4"/>
          <p:cNvGrpSpPr/>
          <p:nvPr/>
        </p:nvGrpSpPr>
        <p:grpSpPr>
          <a:xfrm>
            <a:off x="1836720" y="2708280"/>
            <a:ext cx="9805680" cy="2759040"/>
            <a:chOff x="1836720" y="2708280"/>
            <a:chExt cx="9805680" cy="2759040"/>
          </a:xfrm>
        </p:grpSpPr>
        <p:sp>
          <p:nvSpPr>
            <p:cNvPr id="2329" name="Google Shape;1645;p48"/>
            <p:cNvSpPr/>
            <p:nvPr/>
          </p:nvSpPr>
          <p:spPr>
            <a:xfrm flipH="1" rot="10800000">
              <a:off x="8744040" y="4019040"/>
              <a:ext cx="13874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0" name="Google Shape;1648;p48"/>
            <p:cNvSpPr/>
            <p:nvPr/>
          </p:nvSpPr>
          <p:spPr>
            <a:xfrm>
              <a:off x="1836720" y="347976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1" name="Google Shape;1654;p48"/>
            <p:cNvSpPr/>
            <p:nvPr/>
          </p:nvSpPr>
          <p:spPr>
            <a:xfrm>
              <a:off x="4599000" y="347976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2" name="Google Shape;1660;p48"/>
            <p:cNvSpPr/>
            <p:nvPr/>
          </p:nvSpPr>
          <p:spPr>
            <a:xfrm>
              <a:off x="7363080" y="3479760"/>
              <a:ext cx="138420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3" name="Google Shape;1666;p48"/>
            <p:cNvSpPr/>
            <p:nvPr/>
          </p:nvSpPr>
          <p:spPr>
            <a:xfrm flipH="1" rot="10800000">
              <a:off x="3216240" y="401904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4" name="Google Shape;1672;p48"/>
            <p:cNvSpPr/>
            <p:nvPr/>
          </p:nvSpPr>
          <p:spPr>
            <a:xfrm flipH="1" rot="10800000">
              <a:off x="5978520" y="401904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5" name="文本框 20"/>
            <p:cNvSpPr/>
            <p:nvPr/>
          </p:nvSpPr>
          <p:spPr>
            <a:xfrm>
              <a:off x="2082600" y="2708280"/>
              <a:ext cx="1834920" cy="4698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一）标题</a:t>
              </a:r>
              <a:endParaRPr b="1" lang="en-US" sz="2400" spc="-1" strike="noStrike">
                <a:solidFill>
                  <a:srgbClr val="000000"/>
                </a:solidFill>
                <a:latin typeface="Arial"/>
              </a:endParaRPr>
            </a:p>
          </p:txBody>
        </p:sp>
        <p:sp>
          <p:nvSpPr>
            <p:cNvPr id="2336" name="文本框 1"/>
            <p:cNvSpPr/>
            <p:nvPr/>
          </p:nvSpPr>
          <p:spPr>
            <a:xfrm>
              <a:off x="3327480" y="4718160"/>
              <a:ext cx="2049480" cy="469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二）收件人</a:t>
              </a:r>
              <a:endParaRPr b="1" lang="en-US" sz="2400" spc="-1" strike="noStrike">
                <a:solidFill>
                  <a:srgbClr val="000000"/>
                </a:solidFill>
                <a:latin typeface="Arial"/>
              </a:endParaRPr>
            </a:p>
          </p:txBody>
        </p:sp>
        <p:sp>
          <p:nvSpPr>
            <p:cNvPr id="2337" name="文本框 3"/>
            <p:cNvSpPr/>
            <p:nvPr/>
          </p:nvSpPr>
          <p:spPr>
            <a:xfrm>
              <a:off x="5807160" y="4718160"/>
              <a:ext cx="2263680" cy="469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四）形成审计意见的基础</a:t>
              </a:r>
              <a:endParaRPr b="1" lang="en-US" sz="2400" spc="-1" strike="noStrike">
                <a:solidFill>
                  <a:srgbClr val="000000"/>
                </a:solidFill>
                <a:latin typeface="Arial"/>
              </a:endParaRPr>
            </a:p>
          </p:txBody>
        </p:sp>
        <p:sp>
          <p:nvSpPr>
            <p:cNvPr id="2338" name="文本框 5"/>
            <p:cNvSpPr/>
            <p:nvPr/>
          </p:nvSpPr>
          <p:spPr>
            <a:xfrm>
              <a:off x="8616960" y="4718160"/>
              <a:ext cx="3025440" cy="7491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六）注册会计师对财务报表审计的责任</a:t>
              </a:r>
              <a:endParaRPr b="1" lang="en-US" sz="2400" spc="-1" strike="noStrike">
                <a:solidFill>
                  <a:srgbClr val="000000"/>
                </a:solidFill>
                <a:latin typeface="Arial"/>
              </a:endParaRPr>
            </a:p>
          </p:txBody>
        </p:sp>
        <p:sp>
          <p:nvSpPr>
            <p:cNvPr id="2339" name="文本框 24"/>
            <p:cNvSpPr/>
            <p:nvPr/>
          </p:nvSpPr>
          <p:spPr>
            <a:xfrm>
              <a:off x="4224240" y="2839680"/>
              <a:ext cx="3023640" cy="3380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三）审计意见</a:t>
              </a:r>
              <a:endParaRPr b="1" lang="en-US" sz="2400" spc="-1" strike="noStrike">
                <a:solidFill>
                  <a:srgbClr val="000000"/>
                </a:solidFill>
                <a:latin typeface="Arial"/>
              </a:endParaRPr>
            </a:p>
          </p:txBody>
        </p:sp>
        <p:sp>
          <p:nvSpPr>
            <p:cNvPr id="2340" name="文本框 7"/>
            <p:cNvSpPr/>
            <p:nvPr/>
          </p:nvSpPr>
          <p:spPr>
            <a:xfrm>
              <a:off x="7669080" y="2839680"/>
              <a:ext cx="3606480" cy="7488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五）管理层对财务报表的责任段</a:t>
              </a:r>
              <a:endParaRPr b="1" lang="en-US" sz="2400" spc="-1" strike="noStrike">
                <a:solidFill>
                  <a:srgbClr val="000000"/>
                </a:solidFill>
                <a:latin typeface="Arial"/>
              </a:endParaRPr>
            </a:p>
          </p:txBody>
        </p:sp>
        <p:sp>
          <p:nvSpPr>
            <p:cNvPr id="2341" name="Google Shape;1645;p48"/>
            <p:cNvSpPr/>
            <p:nvPr/>
          </p:nvSpPr>
          <p:spPr>
            <a:xfrm flipH="1" rot="10800000">
              <a:off x="874584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42" name="Google Shape;1666;p48"/>
            <p:cNvSpPr/>
            <p:nvPr/>
          </p:nvSpPr>
          <p:spPr>
            <a:xfrm flipH="1" rot="10800000">
              <a:off x="321804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43" name="Google Shape;1672;p48"/>
            <p:cNvSpPr/>
            <p:nvPr/>
          </p:nvSpPr>
          <p:spPr>
            <a:xfrm flipH="1" rot="10800000">
              <a:off x="598068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344" name="组合 28"/>
          <p:cNvGrpSpPr/>
          <p:nvPr/>
        </p:nvGrpSpPr>
        <p:grpSpPr>
          <a:xfrm>
            <a:off x="915840" y="476280"/>
            <a:ext cx="10360080" cy="0"/>
            <a:chOff x="915840" y="476280"/>
            <a:chExt cx="10360080" cy="0"/>
          </a:xfrm>
        </p:grpSpPr>
        <p:sp>
          <p:nvSpPr>
            <p:cNvPr id="2345" name="直接连接符 52"/>
            <p:cNvSpPr/>
            <p:nvPr/>
          </p:nvSpPr>
          <p:spPr>
            <a:xfrm>
              <a:off x="915840" y="476280"/>
              <a:ext cx="1537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6" name="直接连接符 64"/>
            <p:cNvSpPr/>
            <p:nvPr/>
          </p:nvSpPr>
          <p:spPr>
            <a:xfrm>
              <a:off x="9983880" y="476280"/>
              <a:ext cx="129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347" name="文本框 31" descr=""/>
          <p:cNvPicPr/>
          <p:nvPr/>
        </p:nvPicPr>
        <p:blipFill>
          <a:blip r:embed="rId2"/>
          <a:stretch/>
        </p:blipFill>
        <p:spPr>
          <a:xfrm>
            <a:off x="2657520" y="104760"/>
            <a:ext cx="6896160" cy="652320"/>
          </a:xfrm>
          <a:prstGeom prst="rect">
            <a:avLst/>
          </a:prstGeom>
          <a:ln w="0">
            <a:noFill/>
          </a:ln>
        </p:spPr>
      </p:pic>
      <p:sp>
        <p:nvSpPr>
          <p:cNvPr id="2348" name="文本框 25"/>
          <p:cNvSpPr/>
          <p:nvPr/>
        </p:nvSpPr>
        <p:spPr>
          <a:xfrm>
            <a:off x="1068480" y="1577880"/>
            <a:ext cx="9551880" cy="670320"/>
          </a:xfrm>
          <a:prstGeom prst="rect">
            <a:avLst/>
          </a:prstGeom>
          <a:noFill/>
          <a:ln w="0">
            <a:noFill/>
          </a:ln>
        </p:spPr>
        <p:style>
          <a:lnRef idx="0"/>
          <a:fillRef idx="0"/>
          <a:effectRef idx="0"/>
          <a:fontRef idx="minor"/>
        </p:style>
        <p:txBody>
          <a:bodyPr lIns="71640" rIns="71640" tIns="36360" bIns="3636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审计人员出具的审计报告主要包括以下要素：</a:t>
            </a:r>
            <a:endParaRPr b="1" lang="en-US" sz="28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9" name="组合 2" descr=""/>
          <p:cNvPicPr/>
          <p:nvPr/>
        </p:nvPicPr>
        <p:blipFill>
          <a:blip r:embed="rId1"/>
          <a:stretch/>
        </p:blipFill>
        <p:spPr>
          <a:xfrm>
            <a:off x="939960" y="3608280"/>
            <a:ext cx="896760" cy="889200"/>
          </a:xfrm>
          <a:prstGeom prst="rect">
            <a:avLst/>
          </a:prstGeom>
          <a:ln w="0">
            <a:noFill/>
          </a:ln>
        </p:spPr>
      </p:pic>
      <p:grpSp>
        <p:nvGrpSpPr>
          <p:cNvPr id="2350" name="组合 4"/>
          <p:cNvGrpSpPr/>
          <p:nvPr/>
        </p:nvGrpSpPr>
        <p:grpSpPr>
          <a:xfrm>
            <a:off x="1703520" y="2755800"/>
            <a:ext cx="8496000" cy="2352240"/>
            <a:chOff x="1703520" y="2755800"/>
            <a:chExt cx="8496000" cy="2352240"/>
          </a:xfrm>
        </p:grpSpPr>
        <p:sp>
          <p:nvSpPr>
            <p:cNvPr id="2351" name="Google Shape;1648;p48"/>
            <p:cNvSpPr/>
            <p:nvPr/>
          </p:nvSpPr>
          <p:spPr>
            <a:xfrm>
              <a:off x="2005200" y="340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2" name="Google Shape;1649;p48"/>
            <p:cNvSpPr/>
            <p:nvPr/>
          </p:nvSpPr>
          <p:spPr>
            <a:xfrm>
              <a:off x="2465280" y="3657600"/>
              <a:ext cx="912960" cy="247320"/>
            </a:xfrm>
            <a:prstGeom prst="rect">
              <a:avLst/>
            </a:prstGeom>
            <a:noFill/>
            <a:ln w="0">
              <a:noFill/>
            </a:ln>
          </p:spPr>
          <p:style>
            <a:lnRef idx="0"/>
            <a:fillRef idx="0"/>
            <a:effectRef idx="0"/>
            <a:fontRef idx="minor"/>
          </p:style>
          <p:txBody>
            <a:bodyPr lIns="19080" rIns="19080" tIns="19080" bIns="19080" anchor="ctr">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3" name="Google Shape;1654;p48"/>
            <p:cNvSpPr/>
            <p:nvPr/>
          </p:nvSpPr>
          <p:spPr>
            <a:xfrm>
              <a:off x="5636880" y="33408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4" name="Google Shape;1666;p48"/>
            <p:cNvSpPr/>
            <p:nvPr/>
          </p:nvSpPr>
          <p:spPr>
            <a:xfrm flipH="1" rot="10800000">
              <a:off x="3818520" y="394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5" name="Google Shape;1672;p48"/>
            <p:cNvSpPr/>
            <p:nvPr/>
          </p:nvSpPr>
          <p:spPr>
            <a:xfrm flipH="1" rot="10800000">
              <a:off x="7450560" y="394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6" name="Google Shape;1673;p48"/>
            <p:cNvSpPr/>
            <p:nvPr/>
          </p:nvSpPr>
          <p:spPr>
            <a:xfrm>
              <a:off x="7920000" y="4039920"/>
              <a:ext cx="887400" cy="249120"/>
            </a:xfrm>
            <a:prstGeom prst="rect">
              <a:avLst/>
            </a:prstGeom>
            <a:noFill/>
            <a:ln w="0">
              <a:noFill/>
            </a:ln>
          </p:spPr>
          <p:style>
            <a:lnRef idx="0"/>
            <a:fillRef idx="0"/>
            <a:effectRef idx="0"/>
            <a:fontRef idx="minor"/>
          </p:style>
          <p:txBody>
            <a:bodyPr lIns="19080" rIns="19080" tIns="19080" bIns="19080" anchor="ctr">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7" name="文本框 20"/>
            <p:cNvSpPr/>
            <p:nvPr/>
          </p:nvSpPr>
          <p:spPr>
            <a:xfrm>
              <a:off x="1703520" y="2936520"/>
              <a:ext cx="3029040" cy="4694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七）注册会计师</a:t>
              </a:r>
              <a:endParaRPr b="1" lang="en-US" sz="2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的签名和盖章</a:t>
              </a:r>
              <a:endParaRPr b="1" lang="en-US" sz="2400" spc="-1" strike="noStrike">
                <a:solidFill>
                  <a:srgbClr val="000000"/>
                </a:solidFill>
                <a:latin typeface="Arial"/>
              </a:endParaRPr>
            </a:p>
          </p:txBody>
        </p:sp>
        <p:sp>
          <p:nvSpPr>
            <p:cNvPr id="2358" name="文本框 1"/>
            <p:cNvSpPr/>
            <p:nvPr/>
          </p:nvSpPr>
          <p:spPr>
            <a:xfrm>
              <a:off x="3503160" y="4638600"/>
              <a:ext cx="3672360" cy="384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八）会计师事务所</a:t>
              </a:r>
              <a:endParaRPr b="1" lang="en-US" sz="2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的名称、地址及盖章</a:t>
              </a:r>
              <a:endParaRPr b="1" lang="en-US" sz="2400" spc="-1" strike="noStrike">
                <a:solidFill>
                  <a:srgbClr val="000000"/>
                </a:solidFill>
                <a:latin typeface="Arial"/>
              </a:endParaRPr>
            </a:p>
          </p:txBody>
        </p:sp>
        <p:sp>
          <p:nvSpPr>
            <p:cNvPr id="2359" name="文本框 3"/>
            <p:cNvSpPr/>
            <p:nvPr/>
          </p:nvSpPr>
          <p:spPr>
            <a:xfrm>
              <a:off x="7790400" y="4638600"/>
              <a:ext cx="2409120" cy="4694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十）附件</a:t>
              </a:r>
              <a:endParaRPr b="1" lang="en-US" sz="2400" spc="-1" strike="noStrike">
                <a:solidFill>
                  <a:srgbClr val="000000"/>
                </a:solidFill>
                <a:latin typeface="Arial"/>
              </a:endParaRPr>
            </a:p>
          </p:txBody>
        </p:sp>
        <p:sp>
          <p:nvSpPr>
            <p:cNvPr id="2360" name="文本框 24"/>
            <p:cNvSpPr/>
            <p:nvPr/>
          </p:nvSpPr>
          <p:spPr>
            <a:xfrm>
              <a:off x="5621040" y="2755800"/>
              <a:ext cx="2857680" cy="3222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九）报告日期</a:t>
              </a:r>
              <a:endParaRPr b="1" lang="en-US" sz="2400" spc="-1" strike="noStrike">
                <a:solidFill>
                  <a:srgbClr val="000000"/>
                </a:solidFill>
                <a:latin typeface="Arial"/>
              </a:endParaRPr>
            </a:p>
          </p:txBody>
        </p:sp>
        <p:sp>
          <p:nvSpPr>
            <p:cNvPr id="2361" name="Google Shape;1666;p48"/>
            <p:cNvSpPr/>
            <p:nvPr/>
          </p:nvSpPr>
          <p:spPr>
            <a:xfrm flipH="1" rot="10800000">
              <a:off x="3819960" y="3914640"/>
              <a:ext cx="182052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62" name="Google Shape;1672;p48"/>
            <p:cNvSpPr/>
            <p:nvPr/>
          </p:nvSpPr>
          <p:spPr>
            <a:xfrm flipH="1" rot="10800000">
              <a:off x="7452360" y="3914640"/>
              <a:ext cx="182052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363" name="组合 28"/>
          <p:cNvGrpSpPr/>
          <p:nvPr/>
        </p:nvGrpSpPr>
        <p:grpSpPr>
          <a:xfrm>
            <a:off x="915840" y="549360"/>
            <a:ext cx="10359720" cy="0"/>
            <a:chOff x="915840" y="549360"/>
            <a:chExt cx="10359720" cy="0"/>
          </a:xfrm>
        </p:grpSpPr>
        <p:sp>
          <p:nvSpPr>
            <p:cNvPr id="2364" name="直接连接符 52"/>
            <p:cNvSpPr/>
            <p:nvPr/>
          </p:nvSpPr>
          <p:spPr>
            <a:xfrm>
              <a:off x="91584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5" name="直接连接符 64"/>
            <p:cNvSpPr/>
            <p:nvPr/>
          </p:nvSpPr>
          <p:spPr>
            <a:xfrm>
              <a:off x="929592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366" name="文本框 31" descr=""/>
          <p:cNvPicPr/>
          <p:nvPr/>
        </p:nvPicPr>
        <p:blipFill>
          <a:blip r:embed="rId2"/>
          <a:stretch/>
        </p:blipFill>
        <p:spPr>
          <a:xfrm>
            <a:off x="2741760" y="235080"/>
            <a:ext cx="6895800" cy="652320"/>
          </a:xfrm>
          <a:prstGeom prst="rect">
            <a:avLst/>
          </a:prstGeom>
          <a:ln w="0">
            <a:noFill/>
          </a:ln>
        </p:spPr>
      </p:pic>
      <p:sp>
        <p:nvSpPr>
          <p:cNvPr id="2367" name="文本框 35"/>
          <p:cNvSpPr/>
          <p:nvPr/>
        </p:nvSpPr>
        <p:spPr>
          <a:xfrm>
            <a:off x="1589040" y="839880"/>
            <a:ext cx="8693280" cy="156456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审计报告的要素</a:t>
            </a:r>
            <a:endParaRPr b="1" lang="en-US" sz="32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1" lang="en-US" sz="3200" spc="-1" strike="noStrike">
              <a:solidFill>
                <a:srgbClr val="000000"/>
              </a:solidFill>
              <a:latin typeface="Arial"/>
            </a:endParaRPr>
          </a:p>
        </p:txBody>
      </p:sp>
      <p:sp>
        <p:nvSpPr>
          <p:cNvPr id="2368" name="矩形 4"/>
          <p:cNvSpPr/>
          <p:nvPr/>
        </p:nvSpPr>
        <p:spPr>
          <a:xfrm>
            <a:off x="552600" y="1617840"/>
            <a:ext cx="10167840" cy="825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审计人员出具的审计报告主要包括以下要素：</a:t>
            </a:r>
            <a:endParaRPr b="1" lang="en-US" sz="2800" spc="-1" strike="noStrike">
              <a:solidFill>
                <a:srgbClr val="000000"/>
              </a:solidFill>
              <a:latin typeface="Arial"/>
            </a:endParaRPr>
          </a:p>
        </p:txBody>
      </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Title 6"/>
          <p:cNvSpPr/>
          <p:nvPr/>
        </p:nvSpPr>
        <p:spPr>
          <a:xfrm>
            <a:off x="1166760" y="806400"/>
            <a:ext cx="823284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三、审计报告的类型</a:t>
            </a:r>
            <a:endParaRPr b="1" lang="en-US" sz="3200" spc="-1" strike="noStrike">
              <a:solidFill>
                <a:srgbClr val="000000"/>
              </a:solidFill>
              <a:latin typeface="Arial"/>
            </a:endParaRPr>
          </a:p>
        </p:txBody>
      </p:sp>
      <p:grpSp>
        <p:nvGrpSpPr>
          <p:cNvPr id="2370" name="组合 91"/>
          <p:cNvGrpSpPr/>
          <p:nvPr/>
        </p:nvGrpSpPr>
        <p:grpSpPr>
          <a:xfrm>
            <a:off x="927000" y="549360"/>
            <a:ext cx="10360080" cy="0"/>
            <a:chOff x="927000" y="549360"/>
            <a:chExt cx="10360080" cy="0"/>
          </a:xfrm>
        </p:grpSpPr>
        <p:sp>
          <p:nvSpPr>
            <p:cNvPr id="2371" name="直接连接符 92"/>
            <p:cNvSpPr/>
            <p:nvPr/>
          </p:nvSpPr>
          <p:spPr>
            <a:xfrm>
              <a:off x="92700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72" name="直接连接符 93"/>
            <p:cNvSpPr/>
            <p:nvPr/>
          </p:nvSpPr>
          <p:spPr>
            <a:xfrm>
              <a:off x="930780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373" name="矩形 21"/>
          <p:cNvSpPr/>
          <p:nvPr/>
        </p:nvSpPr>
        <p:spPr>
          <a:xfrm>
            <a:off x="6027840" y="4414680"/>
            <a:ext cx="46080" cy="1908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74" name="组合 5"/>
          <p:cNvGrpSpPr/>
          <p:nvPr/>
        </p:nvGrpSpPr>
        <p:grpSpPr>
          <a:xfrm>
            <a:off x="1038240" y="3475080"/>
            <a:ext cx="4479840" cy="3292200"/>
            <a:chOff x="1038240" y="3475080"/>
            <a:chExt cx="4479840" cy="3292200"/>
          </a:xfrm>
        </p:grpSpPr>
        <p:sp>
          <p:nvSpPr>
            <p:cNvPr id="2375" name="同侧圆角矩形 4"/>
            <p:cNvSpPr/>
            <p:nvPr/>
          </p:nvSpPr>
          <p:spPr>
            <a:xfrm rot="5400000">
              <a:off x="3069000" y="2342160"/>
              <a:ext cx="709560" cy="3335400"/>
            </a:xfrm>
            <a:custGeom>
              <a:avLst/>
              <a:gdLst/>
              <a:ahLst/>
              <a:rect l="l" t="t" r="r" b="b"/>
              <a:pathLst>
                <a:path w="1141" h="3060">
                  <a:moveTo>
                    <a:pt x="570" y="0"/>
                  </a:moveTo>
                  <a:lnTo>
                    <a:pt x="570" y="0"/>
                  </a:lnTo>
                  <a:cubicBezTo>
                    <a:pt x="885" y="0"/>
                    <a:pt x="1140" y="255"/>
                    <a:pt x="1140" y="570"/>
                  </a:cubicBezTo>
                  <a:lnTo>
                    <a:pt x="1141" y="3060"/>
                  </a:lnTo>
                  <a:lnTo>
                    <a:pt x="1141" y="3060"/>
                  </a:lnTo>
                  <a:lnTo>
                    <a:pt x="0" y="3060"/>
                  </a:lnTo>
                  <a:lnTo>
                    <a:pt x="0" y="3060"/>
                  </a:lnTo>
                  <a:lnTo>
                    <a:pt x="0" y="570"/>
                  </a:lnTo>
                  <a:cubicBezTo>
                    <a:pt x="0" y="255"/>
                    <a:pt x="255" y="0"/>
                    <a:pt x="57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6" name="椭圆 6"/>
            <p:cNvSpPr/>
            <p:nvPr/>
          </p:nvSpPr>
          <p:spPr>
            <a:xfrm>
              <a:off x="1069560" y="3584520"/>
              <a:ext cx="935280" cy="84240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7" name="矩形 9"/>
            <p:cNvSpPr/>
            <p:nvPr/>
          </p:nvSpPr>
          <p:spPr>
            <a:xfrm>
              <a:off x="2829960" y="3886200"/>
              <a:ext cx="2073240" cy="39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8" name="文本框 22"/>
            <p:cNvSpPr/>
            <p:nvPr/>
          </p:nvSpPr>
          <p:spPr>
            <a:xfrm>
              <a:off x="1892520" y="3475080"/>
              <a:ext cx="3287160" cy="1016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Arial"/>
                  <a:ea typeface="黑体"/>
                </a:rPr>
                <a:t>无保留意见的审计报告</a:t>
              </a:r>
              <a:endParaRPr b="1" lang="en-US" sz="2400" spc="-1" strike="noStrike">
                <a:solidFill>
                  <a:srgbClr val="000000"/>
                </a:solidFill>
                <a:latin typeface="Arial"/>
              </a:endParaRPr>
            </a:p>
          </p:txBody>
        </p:sp>
        <p:sp>
          <p:nvSpPr>
            <p:cNvPr id="2379" name="文本框 24"/>
            <p:cNvSpPr/>
            <p:nvPr/>
          </p:nvSpPr>
          <p:spPr>
            <a:xfrm>
              <a:off x="1038240" y="4483080"/>
              <a:ext cx="4479840" cy="22842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3838"/>
                  </a:solidFill>
                  <a:latin typeface="Arial"/>
                  <a:ea typeface="黑体"/>
                </a:rPr>
                <a:t>如果注册会计师认为，财务报表在所有重大方面按照适用的财务报告编制基 础的规定编制并实现公允反映，应当出具无保留意见的审计报告。 </a:t>
              </a:r>
              <a:endParaRPr b="1" lang="en-US" sz="2400" spc="-1" strike="noStrike">
                <a:solidFill>
                  <a:srgbClr val="000000"/>
                </a:solidFill>
                <a:latin typeface="Arial"/>
              </a:endParaRPr>
            </a:p>
          </p:txBody>
        </p:sp>
      </p:grpSp>
      <p:grpSp>
        <p:nvGrpSpPr>
          <p:cNvPr id="2380" name="组合 7"/>
          <p:cNvGrpSpPr/>
          <p:nvPr/>
        </p:nvGrpSpPr>
        <p:grpSpPr>
          <a:xfrm>
            <a:off x="6095880" y="3384720"/>
            <a:ext cx="4947840" cy="2131920"/>
            <a:chOff x="6095880" y="3384720"/>
            <a:chExt cx="4947840" cy="2131920"/>
          </a:xfrm>
        </p:grpSpPr>
        <p:sp>
          <p:nvSpPr>
            <p:cNvPr id="2381" name="同侧圆角矩形 10"/>
            <p:cNvSpPr/>
            <p:nvPr/>
          </p:nvSpPr>
          <p:spPr>
            <a:xfrm rot="5400000">
              <a:off x="8407080" y="1901520"/>
              <a:ext cx="674640" cy="4091040"/>
            </a:xfrm>
            <a:custGeom>
              <a:avLst/>
              <a:gdLst/>
              <a:ahLst/>
              <a:rect l="l" t="t" r="r" b="b"/>
              <a:pathLst>
                <a:path w="1134" h="3404">
                  <a:moveTo>
                    <a:pt x="536" y="0"/>
                  </a:moveTo>
                  <a:lnTo>
                    <a:pt x="597" y="0"/>
                  </a:lnTo>
                  <a:cubicBezTo>
                    <a:pt x="893" y="0"/>
                    <a:pt x="1133" y="240"/>
                    <a:pt x="1133" y="536"/>
                  </a:cubicBezTo>
                  <a:lnTo>
                    <a:pt x="1134" y="3404"/>
                  </a:lnTo>
                  <a:lnTo>
                    <a:pt x="1134" y="3404"/>
                  </a:lnTo>
                  <a:lnTo>
                    <a:pt x="0" y="3404"/>
                  </a:lnTo>
                  <a:lnTo>
                    <a:pt x="0" y="3404"/>
                  </a:lnTo>
                  <a:lnTo>
                    <a:pt x="0" y="536"/>
                  </a:lnTo>
                  <a:cubicBezTo>
                    <a:pt x="0" y="240"/>
                    <a:pt x="240" y="0"/>
                    <a:pt x="536"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2" name="椭圆 13"/>
            <p:cNvSpPr/>
            <p:nvPr/>
          </p:nvSpPr>
          <p:spPr>
            <a:xfrm>
              <a:off x="6095880" y="3479760"/>
              <a:ext cx="916560" cy="903240"/>
            </a:xfrm>
            <a:prstGeom prst="ellipse">
              <a:avLst/>
            </a:prstGeom>
            <a:solidFill>
              <a:srgbClr val="9dc3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3" name="矩形 15"/>
            <p:cNvSpPr/>
            <p:nvPr/>
          </p:nvSpPr>
          <p:spPr>
            <a:xfrm>
              <a:off x="8436960" y="4083480"/>
              <a:ext cx="228456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4" name="文本框 25"/>
            <p:cNvSpPr/>
            <p:nvPr/>
          </p:nvSpPr>
          <p:spPr>
            <a:xfrm>
              <a:off x="6952680" y="3384720"/>
              <a:ext cx="4091040" cy="1044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Arial"/>
                  <a:ea typeface="黑体"/>
                </a:rPr>
                <a:t>非无保留意见的审计报告</a:t>
              </a:r>
              <a:endParaRPr b="1" lang="en-US" sz="2400" spc="-1" strike="noStrike">
                <a:solidFill>
                  <a:srgbClr val="000000"/>
                </a:solidFill>
                <a:latin typeface="Arial"/>
              </a:endParaRPr>
            </a:p>
          </p:txBody>
        </p:sp>
        <p:sp>
          <p:nvSpPr>
            <p:cNvPr id="2385" name="文本框 26"/>
            <p:cNvSpPr/>
            <p:nvPr/>
          </p:nvSpPr>
          <p:spPr>
            <a:xfrm>
              <a:off x="6816960" y="4415040"/>
              <a:ext cx="4155840" cy="1101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1.</a:t>
              </a:r>
              <a:r>
                <a:rPr b="1" lang="zh-CN" sz="2400" spc="-1" strike="noStrike">
                  <a:solidFill>
                    <a:srgbClr val="3b3838"/>
                  </a:solidFill>
                  <a:latin typeface="Arial"/>
                  <a:ea typeface="黑体"/>
                </a:rPr>
                <a:t>保留意见的审计报告</a:t>
              </a:r>
              <a:endParaRPr b="1"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2. </a:t>
              </a:r>
              <a:r>
                <a:rPr b="1" lang="zh-CN" sz="2400" spc="-1" strike="noStrike">
                  <a:solidFill>
                    <a:srgbClr val="3b3838"/>
                  </a:solidFill>
                  <a:latin typeface="Arial"/>
                  <a:ea typeface="黑体"/>
                </a:rPr>
                <a:t>否定意见的审计报告</a:t>
              </a:r>
              <a:endParaRPr b="1"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3. </a:t>
              </a:r>
              <a:r>
                <a:rPr b="1" lang="zh-CN" sz="2400" spc="-1" strike="noStrike">
                  <a:solidFill>
                    <a:srgbClr val="3b3838"/>
                  </a:solidFill>
                  <a:latin typeface="Arial"/>
                  <a:ea typeface="黑体"/>
                </a:rPr>
                <a:t>无法表示意见的审计报告</a:t>
              </a:r>
              <a:endParaRPr b="1" lang="en-US" sz="2400" spc="-1" strike="noStrike">
                <a:solidFill>
                  <a:srgbClr val="000000"/>
                </a:solidFill>
                <a:latin typeface="Arial"/>
              </a:endParaRPr>
            </a:p>
          </p:txBody>
        </p:sp>
      </p:grpSp>
      <p:sp>
        <p:nvSpPr>
          <p:cNvPr id="2386" name="矩形 45"/>
          <p:cNvSpPr/>
          <p:nvPr/>
        </p:nvSpPr>
        <p:spPr>
          <a:xfrm>
            <a:off x="733320" y="4498920"/>
            <a:ext cx="46080" cy="1908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87" name="文本框 31" descr=""/>
          <p:cNvPicPr/>
          <p:nvPr/>
        </p:nvPicPr>
        <p:blipFill>
          <a:blip r:embed="rId1"/>
          <a:stretch/>
        </p:blipFill>
        <p:spPr>
          <a:xfrm>
            <a:off x="2741760" y="235080"/>
            <a:ext cx="6895800" cy="652320"/>
          </a:xfrm>
          <a:prstGeom prst="rect">
            <a:avLst/>
          </a:prstGeom>
          <a:ln w="0">
            <a:noFill/>
          </a:ln>
        </p:spPr>
      </p:pic>
      <p:sp>
        <p:nvSpPr>
          <p:cNvPr id="2388" name="矩形 1"/>
          <p:cNvSpPr/>
          <p:nvPr/>
        </p:nvSpPr>
        <p:spPr>
          <a:xfrm>
            <a:off x="357120" y="1673280"/>
            <a:ext cx="11017440" cy="459720"/>
          </a:xfrm>
          <a:prstGeom prst="rect">
            <a:avLst/>
          </a:prstGeom>
          <a:noFill/>
          <a:ln w="19080">
            <a:solidFill>
              <a:srgbClr val="8e10d4"/>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Arial"/>
                <a:ea typeface="宋体"/>
              </a:rPr>
              <a:t>注册会计师根据审计结果和被审计单位对有关问题的处理情况，形成不同的 审计意见，出具四种基本类型的审计报告，即无保留意见的审计报告、保留意见 的审计报告、否定意见的审计报告和无法表示意见的审计报告，后三类也称为非 无保留意见的审计报告</a:t>
            </a:r>
            <a:r>
              <a:rPr b="1" lang="zh-CN" sz="2000" spc="-1" strike="noStrike">
                <a:solidFill>
                  <a:srgbClr val="000000"/>
                </a:solidFill>
                <a:latin typeface="Arial"/>
                <a:ea typeface="宋体"/>
              </a:rPr>
              <a:t>。</a:t>
            </a:r>
            <a:endParaRPr b="1" lang="en-US" sz="2000" spc="-1" strike="noStrike">
              <a:solidFill>
                <a:srgbClr val="000000"/>
              </a:solidFill>
              <a:latin typeface="Arial"/>
            </a:endParaRPr>
          </a:p>
        </p:txBody>
      </p:sp>
      <p:sp>
        <p:nvSpPr>
          <p:cNvPr id="2389" name="矩形 2"/>
          <p:cNvSpPr/>
          <p:nvPr/>
        </p:nvSpPr>
        <p:spPr>
          <a:xfrm>
            <a:off x="1139760" y="36259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一）</a:t>
            </a:r>
            <a:endParaRPr b="1" lang="en-US" sz="1800" spc="-1" strike="noStrike">
              <a:solidFill>
                <a:srgbClr val="000000"/>
              </a:solidFill>
              <a:latin typeface="Arial"/>
            </a:endParaRPr>
          </a:p>
        </p:txBody>
      </p:sp>
      <p:sp>
        <p:nvSpPr>
          <p:cNvPr id="2390" name="矩形 3"/>
          <p:cNvSpPr/>
          <p:nvPr/>
        </p:nvSpPr>
        <p:spPr>
          <a:xfrm>
            <a:off x="5865840" y="3713040"/>
            <a:ext cx="106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黑体"/>
              </a:rPr>
              <a:t>（二）</a:t>
            </a:r>
            <a:endParaRPr b="1" lang="en-US" sz="1800" spc="-1" strike="noStrike">
              <a:solidFill>
                <a:srgbClr val="000000"/>
              </a:solidFill>
              <a:latin typeface="Arial"/>
            </a:endParaRPr>
          </a:p>
        </p:txBody>
      </p:sp>
    </p:spTree>
  </p:cSld>
  <p:transition>
    <p:fade/>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dur="indefinite" nodeType="afterEffect" fill="hold" presetClass="entr" presetID="2" presetSubtype="12">
                                  <p:stCondLst>
                                    <p:cond delay="0"/>
                                  </p:stCondLst>
                                  <p:childTnLst>
                                    <p:set>
                                      <p:cBhvr>
                                        <p:cTn id="422" dur="1" fill="hold">
                                          <p:stCondLst>
                                            <p:cond delay="0"/>
                                          </p:stCondLst>
                                        </p:cTn>
                                        <p:tgtEl>
                                          <p:spTgt spid="2380"/>
                                        </p:tgtEl>
                                        <p:attrNameLst>
                                          <p:attrName>style.visibility</p:attrName>
                                        </p:attrNameLst>
                                      </p:cBhvr>
                                      <p:to>
                                        <p:strVal val="visible"/>
                                      </p:to>
                                    </p:set>
                                    <p:anim calcmode="lin" valueType="num">
                                      <p:cBhvr additive="base">
                                        <p:cTn id="423" dur="500" fill="hold"/>
                                        <p:tgtEl>
                                          <p:spTgt spid="2380"/>
                                        </p:tgtEl>
                                        <p:attrNameLst>
                                          <p:attrName>ppt_x</p:attrName>
                                        </p:attrNameLst>
                                      </p:cBhvr>
                                      <p:tavLst>
                                        <p:tav tm="0">
                                          <p:val>
                                            <p:strVal val="0-#ppt_w/2"/>
                                          </p:val>
                                        </p:tav>
                                        <p:tav tm="100000">
                                          <p:val>
                                            <p:strVal val="#ppt_x"/>
                                          </p:val>
                                        </p:tav>
                                      </p:tavLst>
                                    </p:anim>
                                    <p:anim calcmode="lin" valueType="num">
                                      <p:cBhvr additive="base">
                                        <p:cTn id="424" dur="500" fill="hold"/>
                                        <p:tgtEl>
                                          <p:spTgt spid="2380"/>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dur="indefinite" nodeType="afterEffect" fill="hold" presetClass="entr" presetID="2" presetSubtype="12">
                                  <p:stCondLst>
                                    <p:cond delay="0"/>
                                  </p:stCondLst>
                                  <p:childTnLst>
                                    <p:set>
                                      <p:cBhvr>
                                        <p:cTn id="427" dur="1" fill="hold">
                                          <p:stCondLst>
                                            <p:cond delay="0"/>
                                          </p:stCondLst>
                                        </p:cTn>
                                        <p:tgtEl>
                                          <p:spTgt spid="2374"/>
                                        </p:tgtEl>
                                        <p:attrNameLst>
                                          <p:attrName>style.visibility</p:attrName>
                                        </p:attrNameLst>
                                      </p:cBhvr>
                                      <p:to>
                                        <p:strVal val="visible"/>
                                      </p:to>
                                    </p:set>
                                    <p:anim calcmode="lin" valueType="num">
                                      <p:cBhvr additive="base">
                                        <p:cTn id="428" dur="500" fill="hold"/>
                                        <p:tgtEl>
                                          <p:spTgt spid="2374"/>
                                        </p:tgtEl>
                                        <p:attrNameLst>
                                          <p:attrName>ppt_x</p:attrName>
                                        </p:attrNameLst>
                                      </p:cBhvr>
                                      <p:tavLst>
                                        <p:tav tm="0">
                                          <p:val>
                                            <p:strVal val="0-#ppt_w/2"/>
                                          </p:val>
                                        </p:tav>
                                        <p:tav tm="100000">
                                          <p:val>
                                            <p:strVal val="#ppt_x"/>
                                          </p:val>
                                        </p:tav>
                                      </p:tavLst>
                                    </p:anim>
                                    <p:anim calcmode="lin" valueType="num">
                                      <p:cBhvr additive="base">
                                        <p:cTn id="429" dur="5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1" name="组合 112"/>
          <p:cNvGrpSpPr/>
          <p:nvPr/>
        </p:nvGrpSpPr>
        <p:grpSpPr>
          <a:xfrm>
            <a:off x="1343160" y="1763640"/>
            <a:ext cx="10080000" cy="4752720"/>
            <a:chOff x="1343160" y="1763640"/>
            <a:chExt cx="10080000" cy="4752720"/>
          </a:xfrm>
        </p:grpSpPr>
        <p:sp>
          <p:nvSpPr>
            <p:cNvPr id="2392" name="圆角矩形 113"/>
            <p:cNvSpPr/>
            <p:nvPr/>
          </p:nvSpPr>
          <p:spPr>
            <a:xfrm>
              <a:off x="1481400" y="2011680"/>
              <a:ext cx="9792720" cy="42782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93" name="组合 114"/>
            <p:cNvGrpSpPr/>
            <p:nvPr/>
          </p:nvGrpSpPr>
          <p:grpSpPr>
            <a:xfrm>
              <a:off x="1343160" y="1763640"/>
              <a:ext cx="575640" cy="479520"/>
              <a:chOff x="1343160" y="1763640"/>
              <a:chExt cx="575640" cy="479520"/>
            </a:xfrm>
          </p:grpSpPr>
          <p:sp>
            <p:nvSpPr>
              <p:cNvPr id="2394" name="菱形 115"/>
              <p:cNvSpPr/>
              <p:nvPr/>
            </p:nvSpPr>
            <p:spPr>
              <a:xfrm>
                <a:off x="1343160" y="1763640"/>
                <a:ext cx="336240" cy="479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5" name="菱形 116"/>
              <p:cNvSpPr/>
              <p:nvPr/>
            </p:nvSpPr>
            <p:spPr>
              <a:xfrm>
                <a:off x="1582560" y="1763640"/>
                <a:ext cx="336240" cy="479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96" name="组合 117"/>
            <p:cNvGrpSpPr/>
            <p:nvPr/>
          </p:nvGrpSpPr>
          <p:grpSpPr>
            <a:xfrm>
              <a:off x="1343160" y="6037200"/>
              <a:ext cx="575640" cy="479160"/>
              <a:chOff x="1343160" y="6037200"/>
              <a:chExt cx="575640" cy="479160"/>
            </a:xfrm>
          </p:grpSpPr>
          <p:sp>
            <p:nvSpPr>
              <p:cNvPr id="2397" name="菱形 118"/>
              <p:cNvSpPr/>
              <p:nvPr/>
            </p:nvSpPr>
            <p:spPr>
              <a:xfrm>
                <a:off x="1343160" y="6037200"/>
                <a:ext cx="336240" cy="479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8" name="菱形 119"/>
              <p:cNvSpPr/>
              <p:nvPr/>
            </p:nvSpPr>
            <p:spPr>
              <a:xfrm>
                <a:off x="1582560" y="6037200"/>
                <a:ext cx="336240" cy="479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99" name="组合 120"/>
            <p:cNvGrpSpPr/>
            <p:nvPr/>
          </p:nvGrpSpPr>
          <p:grpSpPr>
            <a:xfrm>
              <a:off x="10836360" y="6037200"/>
              <a:ext cx="586800" cy="479160"/>
              <a:chOff x="10836360" y="6037200"/>
              <a:chExt cx="586800" cy="479160"/>
            </a:xfrm>
          </p:grpSpPr>
          <p:sp>
            <p:nvSpPr>
              <p:cNvPr id="2400" name="菱形 121"/>
              <p:cNvSpPr/>
              <p:nvPr/>
            </p:nvSpPr>
            <p:spPr>
              <a:xfrm flipH="1">
                <a:off x="11077560" y="6037200"/>
                <a:ext cx="345240" cy="479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1" name="菱形 122"/>
              <p:cNvSpPr/>
              <p:nvPr/>
            </p:nvSpPr>
            <p:spPr>
              <a:xfrm flipH="1">
                <a:off x="10836000" y="6037200"/>
                <a:ext cx="348840" cy="479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02" name="组合 123"/>
            <p:cNvGrpSpPr/>
            <p:nvPr/>
          </p:nvGrpSpPr>
          <p:grpSpPr>
            <a:xfrm>
              <a:off x="10847520" y="1788480"/>
              <a:ext cx="575640" cy="479520"/>
              <a:chOff x="10847520" y="1788480"/>
              <a:chExt cx="575640" cy="479520"/>
            </a:xfrm>
          </p:grpSpPr>
          <p:sp>
            <p:nvSpPr>
              <p:cNvPr id="2403" name="菱形 124"/>
              <p:cNvSpPr/>
              <p:nvPr/>
            </p:nvSpPr>
            <p:spPr>
              <a:xfrm flipH="1">
                <a:off x="11086920" y="1788480"/>
                <a:ext cx="336240" cy="479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4" name="菱形 125"/>
              <p:cNvSpPr/>
              <p:nvPr/>
            </p:nvSpPr>
            <p:spPr>
              <a:xfrm flipH="1">
                <a:off x="10847520" y="1788480"/>
                <a:ext cx="336240" cy="479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405" name="组合 28"/>
          <p:cNvGrpSpPr/>
          <p:nvPr/>
        </p:nvGrpSpPr>
        <p:grpSpPr>
          <a:xfrm>
            <a:off x="846000" y="620640"/>
            <a:ext cx="10359720" cy="0"/>
            <a:chOff x="846000" y="620640"/>
            <a:chExt cx="10359720" cy="0"/>
          </a:xfrm>
        </p:grpSpPr>
        <p:sp>
          <p:nvSpPr>
            <p:cNvPr id="2406" name="直接连接符 52"/>
            <p:cNvSpPr/>
            <p:nvPr/>
          </p:nvSpPr>
          <p:spPr>
            <a:xfrm>
              <a:off x="846000" y="620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07" name="直接连接符 64"/>
            <p:cNvSpPr/>
            <p:nvPr/>
          </p:nvSpPr>
          <p:spPr>
            <a:xfrm>
              <a:off x="9226080" y="620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408" name="文本框 2"/>
          <p:cNvSpPr/>
          <p:nvPr/>
        </p:nvSpPr>
        <p:spPr>
          <a:xfrm>
            <a:off x="4367160" y="1087560"/>
            <a:ext cx="41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四、审计报告的出具 </a:t>
            </a:r>
            <a:endParaRPr b="1" lang="en-US" sz="3200" spc="-1" strike="noStrike">
              <a:solidFill>
                <a:srgbClr val="000000"/>
              </a:solidFill>
              <a:latin typeface="Arial"/>
            </a:endParaRPr>
          </a:p>
        </p:txBody>
      </p:sp>
      <p:sp>
        <p:nvSpPr>
          <p:cNvPr id="2409" name="矩形 1"/>
          <p:cNvSpPr/>
          <p:nvPr/>
        </p:nvSpPr>
        <p:spPr>
          <a:xfrm>
            <a:off x="1582560" y="2262240"/>
            <a:ext cx="9264960" cy="321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完成审计报告的编制之后，在正式出具审计报告之前，注册会计师须取得相关各方的复核与批准。具体内容及格式如表 </a:t>
            </a:r>
            <a:r>
              <a:rPr b="0" lang="en-US" sz="2400" spc="-1" strike="noStrike">
                <a:solidFill>
                  <a:srgbClr val="262626"/>
                </a:solidFill>
                <a:latin typeface="Arial"/>
                <a:ea typeface="微软雅黑"/>
              </a:rPr>
              <a:t>10-8 </a:t>
            </a:r>
            <a:r>
              <a:rPr b="0" lang="zh-CN" sz="2400" spc="-1" strike="noStrike">
                <a:solidFill>
                  <a:srgbClr val="262626"/>
                </a:solidFill>
                <a:latin typeface="Arial"/>
                <a:ea typeface="微软雅黑"/>
              </a:rPr>
              <a:t>所示表 </a:t>
            </a:r>
            <a:r>
              <a:rPr b="0" lang="en-US" sz="2400" spc="-1" strike="noStrike">
                <a:solidFill>
                  <a:srgbClr val="262626"/>
                </a:solidFill>
                <a:latin typeface="Arial"/>
                <a:ea typeface="微软雅黑"/>
              </a:rPr>
              <a:t>10-8</a:t>
            </a:r>
            <a:r>
              <a:rPr b="0" lang="zh-CN" sz="2400" spc="-1" strike="noStrike">
                <a:solidFill>
                  <a:srgbClr val="262626"/>
                </a:solidFill>
                <a:latin typeface="Arial"/>
                <a:ea typeface="微软雅黑"/>
              </a:rPr>
              <a:t>　复核及批准汇总表    </a:t>
            </a:r>
            <a:r>
              <a:rPr b="0" lang="en-US" sz="2400" spc="-1" strike="noStrike">
                <a:solidFill>
                  <a:srgbClr val="262626"/>
                </a:solidFill>
                <a:latin typeface="Arial"/>
                <a:ea typeface="微软雅黑"/>
              </a:rPr>
              <a:t>P261</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无保留意见的审计报告范例如下： 审计报告    </a:t>
            </a:r>
            <a:r>
              <a:rPr b="0" lang="en-US" sz="2400" spc="-1" strike="noStrike">
                <a:solidFill>
                  <a:srgbClr val="262626"/>
                </a:solidFill>
                <a:latin typeface="Arial"/>
                <a:ea typeface="微软雅黑"/>
              </a:rPr>
              <a:t>P262—264</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保留意见的审计报告范例如下： 审计报告</a:t>
            </a:r>
            <a:r>
              <a:rPr b="0" lang="en-US" sz="2400" spc="-1" strike="noStrike">
                <a:solidFill>
                  <a:srgbClr val="262626"/>
                </a:solidFill>
                <a:latin typeface="Arial"/>
                <a:ea typeface="微软雅黑"/>
              </a:rPr>
              <a:t>P264-266</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无法保留意见的审计报告范例如下： 审计报告  </a:t>
            </a:r>
            <a:r>
              <a:rPr b="0" lang="en-US" sz="2400" spc="-1" strike="noStrike">
                <a:solidFill>
                  <a:srgbClr val="262626"/>
                </a:solidFill>
                <a:latin typeface="Arial"/>
                <a:ea typeface="微软雅黑"/>
              </a:rPr>
              <a:t>P266-267</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10" name="文本框 31" descr=""/>
          <p:cNvPicPr/>
          <p:nvPr/>
        </p:nvPicPr>
        <p:blipFill>
          <a:blip r:embed="rId1"/>
          <a:stretch/>
        </p:blipFill>
        <p:spPr>
          <a:xfrm>
            <a:off x="2741760" y="235080"/>
            <a:ext cx="6895800" cy="652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dur="indefinite" nodeType="withEffect" fill="hold" presetClass="entr" presetID="0">
                                  <p:stCondLst>
                                    <p:cond delay="0"/>
                                  </p:stCondLst>
                                  <p:iterate type="lt">
                                    <p:tmAbs val="100"/>
                                  </p:iterate>
                                  <p:childTnLst>
                                    <p:set>
                                      <p:cBhvr>
                                        <p:cTn id="435" dur="1" fill="hold">
                                          <p:stCondLst>
                                            <p:cond delay="0"/>
                                          </p:stCondLst>
                                        </p:cTn>
                                        <p:tgtEl>
                                          <p:spTgt spid="2411"/>
                                        </p:tgtEl>
                                        <p:attrNameLst>
                                          <p:attrName>style.visibility</p:attrName>
                                        </p:attrNameLst>
                                      </p:cBhvr>
                                      <p:to>
                                        <p:strVal val="visible"/>
                                      </p:to>
                                    </p:set>
                                    <p:anim calcmode="lin" valueType="num">
                                      <p:cBhvr additive="repl">
                                        <p:cTn id="436" dur="833" fill="hold">
                                          <p:stCondLst>
                                            <p:cond delay="167"/>
                                          </p:stCondLst>
                                        </p:cTn>
                                        <p:tgtEl>
                                          <p:spTgt spid="2411"/>
                                        </p:tgtEl>
                                        <p:attrNameLst>
                                          <p:attrName>ppt_h</p:attrName>
                                        </p:attrNameLst>
                                      </p:cBhvr>
                                      <p:tavLst>
                                        <p:tav fmla="height*(1+0.4*sin(2.5*pi*$)*(1-$)^3)" tm="0">
                                          <p:val>
                                            <p:fltVal val="0"/>
                                          </p:val>
                                        </p:tav>
                                        <p:tav fmla="height*(1+0.4*sin(2.5*pi*$)*(1-$)^3)" tm="100000">
                                          <p:val>
                                            <p:fltVal val="1"/>
                                          </p:val>
                                        </p:tav>
                                      </p:tavLst>
                                    </p:anim>
                                    <p:anim calcmode="lin" valueType="num">
                                      <p:cBhvr additive="repl">
                                        <p:cTn id="437" dur="1000" fill="hold">
                                          <p:stCondLst>
                                            <p:cond delay="0"/>
                                          </p:stCondLst>
                                        </p:cTn>
                                        <p:tgtEl>
                                          <p:spTgt spid="2411"/>
                                        </p:tgtEl>
                                        <p:attrNameLst>
                                          <p:attrName>ppt_y</p:attrName>
                                        </p:attrNameLst>
                                      </p:cBhvr>
                                      <p:tavLst>
                                        <p:tav fmla="y-0.5*height+0.5*height" tm="0">
                                          <p:val>
                                            <p:fltVal val="0"/>
                                          </p:val>
                                        </p:tav>
                                        <p:tav fmla="y-0.5*height+0.5*height" tm="100000">
                                          <p:val>
                                            <p:fltVal val="1"/>
                                          </p:val>
                                        </p:tav>
                                      </p:tavLst>
                                    </p:anim>
                                    <p:anim calcmode="lin" valueType="num">
                                      <p:cBhvr additive="repl">
                                        <p:cTn id="438" dur="167" fill="hold">
                                          <p:stCondLst>
                                            <p:cond delay="0"/>
                                          </p:stCondLst>
                                        </p:cTn>
                                        <p:tgtEl>
                                          <p:spTgt spid="2411"/>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43" name="组合 7"/>
          <p:cNvGrpSpPr/>
          <p:nvPr/>
        </p:nvGrpSpPr>
        <p:grpSpPr>
          <a:xfrm>
            <a:off x="2811600" y="325440"/>
            <a:ext cx="9420120" cy="6207120"/>
            <a:chOff x="2811600" y="325440"/>
            <a:chExt cx="9420120" cy="6207120"/>
          </a:xfrm>
        </p:grpSpPr>
        <p:sp>
          <p:nvSpPr>
            <p:cNvPr id="1844" name="矩形 3"/>
            <p:cNvSpPr/>
            <p:nvPr/>
          </p:nvSpPr>
          <p:spPr>
            <a:xfrm>
              <a:off x="2811600" y="325440"/>
              <a:ext cx="9420120" cy="62071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5" name="矩形: 剪去对角 4"/>
            <p:cNvSpPr/>
            <p:nvPr/>
          </p:nvSpPr>
          <p:spPr>
            <a:xfrm>
              <a:off x="3150720" y="554400"/>
              <a:ext cx="8768880" cy="57477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46" name="图片 8" descr=""/>
          <p:cNvPicPr/>
          <p:nvPr/>
        </p:nvPicPr>
        <p:blipFill>
          <a:blip r:embed="rId2"/>
          <a:stretch/>
        </p:blipFill>
        <p:spPr>
          <a:xfrm rot="6720000">
            <a:off x="3204720" y="900000"/>
            <a:ext cx="838440" cy="682560"/>
          </a:xfrm>
          <a:prstGeom prst="rect">
            <a:avLst/>
          </a:prstGeom>
          <a:ln w="0">
            <a:noFill/>
          </a:ln>
        </p:spPr>
      </p:pic>
      <p:pic>
        <p:nvPicPr>
          <p:cNvPr id="1847" name="图片 9" descr=""/>
          <p:cNvPicPr/>
          <p:nvPr/>
        </p:nvPicPr>
        <p:blipFill>
          <a:blip r:embed="rId3"/>
          <a:stretch/>
        </p:blipFill>
        <p:spPr>
          <a:xfrm>
            <a:off x="10834560" y="5362560"/>
            <a:ext cx="733680" cy="673200"/>
          </a:xfrm>
          <a:prstGeom prst="rect">
            <a:avLst/>
          </a:prstGeom>
          <a:ln w="0">
            <a:noFill/>
          </a:ln>
        </p:spPr>
      </p:pic>
      <p:sp>
        <p:nvSpPr>
          <p:cNvPr id="1848" name="文本框 11"/>
          <p:cNvSpPr/>
          <p:nvPr/>
        </p:nvSpPr>
        <p:spPr>
          <a:xfrm>
            <a:off x="3000240" y="1628640"/>
            <a:ext cx="90727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了解审计报告阶段的主要工作。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审计报告的编制要求。</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理解审计报告的类型，掌握审计报告的编制。</a:t>
            </a:r>
            <a:endParaRPr b="1" lang="en-US" sz="2800" spc="-1" strike="noStrike">
              <a:solidFill>
                <a:srgbClr val="000000"/>
              </a:solidFill>
              <a:latin typeface="Arial"/>
            </a:endParaRPr>
          </a:p>
        </p:txBody>
      </p:sp>
      <p:pic>
        <p:nvPicPr>
          <p:cNvPr id="1849" name="图片 10" descr="&amp;pky8040249173&amp;"/>
          <p:cNvPicPr/>
          <p:nvPr/>
        </p:nvPicPr>
        <p:blipFill>
          <a:blip r:embed="rId4"/>
          <a:srcRect l="5404" t="13137" r="53113" b="0"/>
          <a:stretch/>
        </p:blipFill>
        <p:spPr>
          <a:xfrm>
            <a:off x="241200" y="3789360"/>
            <a:ext cx="2444760" cy="256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1" name="组合 7"/>
          <p:cNvGrpSpPr/>
          <p:nvPr/>
        </p:nvGrpSpPr>
        <p:grpSpPr>
          <a:xfrm>
            <a:off x="2597040" y="320760"/>
            <a:ext cx="8715600" cy="6219720"/>
            <a:chOff x="2597040" y="320760"/>
            <a:chExt cx="8715600" cy="6219720"/>
          </a:xfrm>
        </p:grpSpPr>
        <p:sp>
          <p:nvSpPr>
            <p:cNvPr id="1852" name="矩形 3"/>
            <p:cNvSpPr/>
            <p:nvPr/>
          </p:nvSpPr>
          <p:spPr>
            <a:xfrm>
              <a:off x="2597040" y="320760"/>
              <a:ext cx="8715600" cy="62197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3" name="矩形: 剪去对角 4"/>
            <p:cNvSpPr/>
            <p:nvPr/>
          </p:nvSpPr>
          <p:spPr>
            <a:xfrm>
              <a:off x="2910600" y="550080"/>
              <a:ext cx="8112960" cy="575964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54" name="图片 8" descr=""/>
          <p:cNvPicPr/>
          <p:nvPr/>
        </p:nvPicPr>
        <p:blipFill>
          <a:blip r:embed="rId2"/>
          <a:stretch/>
        </p:blipFill>
        <p:spPr>
          <a:xfrm rot="6720000">
            <a:off x="3204720" y="900000"/>
            <a:ext cx="838440" cy="682560"/>
          </a:xfrm>
          <a:prstGeom prst="rect">
            <a:avLst/>
          </a:prstGeom>
          <a:ln w="0">
            <a:noFill/>
          </a:ln>
        </p:spPr>
      </p:pic>
      <p:pic>
        <p:nvPicPr>
          <p:cNvPr id="1855" name="图片 9" descr=""/>
          <p:cNvPicPr/>
          <p:nvPr/>
        </p:nvPicPr>
        <p:blipFill>
          <a:blip r:embed="rId3"/>
          <a:stretch/>
        </p:blipFill>
        <p:spPr>
          <a:xfrm>
            <a:off x="10834560" y="5362560"/>
            <a:ext cx="733680" cy="673200"/>
          </a:xfrm>
          <a:prstGeom prst="rect">
            <a:avLst/>
          </a:prstGeom>
          <a:ln w="0">
            <a:noFill/>
          </a:ln>
        </p:spPr>
      </p:pic>
      <p:sp>
        <p:nvSpPr>
          <p:cNvPr id="1856" name="文本框 5"/>
          <p:cNvSpPr/>
          <p:nvPr/>
        </p:nvSpPr>
        <p:spPr>
          <a:xfrm>
            <a:off x="2911320" y="1382760"/>
            <a:ext cx="79740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能编制审计差异汇总表和试算平衡表。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能熟练完成项目质量控制复核。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能熟练编制和出具审计报告。</a:t>
            </a:r>
            <a:endParaRPr b="1" lang="en-US" sz="2800" spc="-1" strike="noStrike">
              <a:solidFill>
                <a:srgbClr val="000000"/>
              </a:solidFill>
              <a:latin typeface="Arial"/>
            </a:endParaRPr>
          </a:p>
        </p:txBody>
      </p:sp>
      <p:pic>
        <p:nvPicPr>
          <p:cNvPr id="1857" name="图片 10" descr="&amp;pky8040249173&amp;"/>
          <p:cNvPicPr/>
          <p:nvPr/>
        </p:nvPicPr>
        <p:blipFill>
          <a:blip r:embed="rId4"/>
          <a:srcRect l="5404" t="13137" r="53113" b="0"/>
          <a:stretch/>
        </p:blipFill>
        <p:spPr>
          <a:xfrm>
            <a:off x="173160" y="3789360"/>
            <a:ext cx="2444760" cy="256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文本框 2"/>
          <p:cNvSpPr/>
          <p:nvPr/>
        </p:nvSpPr>
        <p:spPr>
          <a:xfrm>
            <a:off x="173160" y="2276640"/>
            <a:ext cx="2301840" cy="174456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9" name="组合 7"/>
          <p:cNvGrpSpPr/>
          <p:nvPr/>
        </p:nvGrpSpPr>
        <p:grpSpPr>
          <a:xfrm>
            <a:off x="2475000" y="412920"/>
            <a:ext cx="9593280" cy="6181560"/>
            <a:chOff x="2475000" y="412920"/>
            <a:chExt cx="9593280" cy="6181560"/>
          </a:xfrm>
        </p:grpSpPr>
        <p:sp>
          <p:nvSpPr>
            <p:cNvPr id="1860" name="矩形 3"/>
            <p:cNvSpPr/>
            <p:nvPr/>
          </p:nvSpPr>
          <p:spPr>
            <a:xfrm>
              <a:off x="2475000" y="412920"/>
              <a:ext cx="9593280" cy="61815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1" name="矩形: 剪去对角 4"/>
            <p:cNvSpPr/>
            <p:nvPr/>
          </p:nvSpPr>
          <p:spPr>
            <a:xfrm>
              <a:off x="2820240" y="640800"/>
              <a:ext cx="8930160" cy="57243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62" name="图片 8" descr=""/>
          <p:cNvPicPr/>
          <p:nvPr/>
        </p:nvPicPr>
        <p:blipFill>
          <a:blip r:embed="rId2"/>
          <a:stretch/>
        </p:blipFill>
        <p:spPr>
          <a:xfrm rot="6720000">
            <a:off x="3204720" y="900000"/>
            <a:ext cx="838440" cy="682560"/>
          </a:xfrm>
          <a:prstGeom prst="rect">
            <a:avLst/>
          </a:prstGeom>
          <a:ln w="0">
            <a:noFill/>
          </a:ln>
        </p:spPr>
      </p:pic>
      <p:pic>
        <p:nvPicPr>
          <p:cNvPr id="1863" name="图片 9" descr=""/>
          <p:cNvPicPr/>
          <p:nvPr/>
        </p:nvPicPr>
        <p:blipFill>
          <a:blip r:embed="rId3"/>
          <a:stretch/>
        </p:blipFill>
        <p:spPr>
          <a:xfrm>
            <a:off x="10834560" y="5362560"/>
            <a:ext cx="733680" cy="673200"/>
          </a:xfrm>
          <a:prstGeom prst="rect">
            <a:avLst/>
          </a:prstGeom>
          <a:ln w="0">
            <a:noFill/>
          </a:ln>
        </p:spPr>
      </p:pic>
      <p:sp>
        <p:nvSpPr>
          <p:cNvPr id="1864" name="文本框 6"/>
          <p:cNvSpPr/>
          <p:nvPr/>
        </p:nvSpPr>
        <p:spPr>
          <a:xfrm>
            <a:off x="2662200" y="1758960"/>
            <a:ext cx="8856720" cy="191772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培养学生树立正确的社会主义核心价值观，做好国家资产和人民利 益的守护者。</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培养学生诚信、客观、公正的职业道德，发挥工匠精神，发挥审计 监督的作用。</a:t>
            </a:r>
            <a:endParaRPr b="1" lang="en-US" sz="2800" spc="-1" strike="noStrike">
              <a:solidFill>
                <a:srgbClr val="000000"/>
              </a:solidFill>
              <a:latin typeface="Arial"/>
            </a:endParaRPr>
          </a:p>
        </p:txBody>
      </p:sp>
      <p:pic>
        <p:nvPicPr>
          <p:cNvPr id="1865" name="图片 10" descr="&amp;pky8040249173&amp;"/>
          <p:cNvPicPr/>
          <p:nvPr/>
        </p:nvPicPr>
        <p:blipFill>
          <a:blip r:embed="rId4"/>
          <a:srcRect l="5404" t="13137" r="53113" b="0"/>
          <a:stretch/>
        </p:blipFill>
        <p:spPr>
          <a:xfrm>
            <a:off x="173160" y="3573360"/>
            <a:ext cx="2043000" cy="27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文本框 2"/>
          <p:cNvSpPr/>
          <p:nvPr/>
        </p:nvSpPr>
        <p:spPr>
          <a:xfrm>
            <a:off x="203040" y="2421000"/>
            <a:ext cx="252108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67" name="组合 7"/>
          <p:cNvGrpSpPr/>
          <p:nvPr/>
        </p:nvGrpSpPr>
        <p:grpSpPr>
          <a:xfrm>
            <a:off x="2712960" y="692280"/>
            <a:ext cx="9286920" cy="5689440"/>
            <a:chOff x="2712960" y="692280"/>
            <a:chExt cx="9286920" cy="5689440"/>
          </a:xfrm>
        </p:grpSpPr>
        <p:sp>
          <p:nvSpPr>
            <p:cNvPr id="1868" name="矩形 3"/>
            <p:cNvSpPr/>
            <p:nvPr/>
          </p:nvSpPr>
          <p:spPr>
            <a:xfrm>
              <a:off x="2712960" y="692280"/>
              <a:ext cx="9286920" cy="5689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9" name="矩形: 剪去对角 4"/>
            <p:cNvSpPr/>
            <p:nvPr/>
          </p:nvSpPr>
          <p:spPr>
            <a:xfrm>
              <a:off x="3048120" y="1241280"/>
              <a:ext cx="8645760" cy="4668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0" name="图片 8" descr=""/>
          <p:cNvPicPr/>
          <p:nvPr/>
        </p:nvPicPr>
        <p:blipFill>
          <a:blip r:embed="rId2"/>
          <a:stretch/>
        </p:blipFill>
        <p:spPr>
          <a:xfrm rot="6720000">
            <a:off x="3215880" y="1816200"/>
            <a:ext cx="838080" cy="682560"/>
          </a:xfrm>
          <a:prstGeom prst="rect">
            <a:avLst/>
          </a:prstGeom>
          <a:ln w="0">
            <a:noFill/>
          </a:ln>
        </p:spPr>
      </p:pic>
      <p:pic>
        <p:nvPicPr>
          <p:cNvPr id="1871" name="图片 9" descr=""/>
          <p:cNvPicPr/>
          <p:nvPr/>
        </p:nvPicPr>
        <p:blipFill>
          <a:blip r:embed="rId3"/>
          <a:stretch/>
        </p:blipFill>
        <p:spPr>
          <a:xfrm>
            <a:off x="10769760" y="4371840"/>
            <a:ext cx="733320" cy="673200"/>
          </a:xfrm>
          <a:prstGeom prst="rect">
            <a:avLst/>
          </a:prstGeom>
          <a:ln w="0">
            <a:noFill/>
          </a:ln>
        </p:spPr>
      </p:pic>
      <p:sp>
        <p:nvSpPr>
          <p:cNvPr id="1872" name="文本框 5"/>
          <p:cNvSpPr/>
          <p:nvPr/>
        </p:nvSpPr>
        <p:spPr>
          <a:xfrm>
            <a:off x="3503520" y="1268280"/>
            <a:ext cx="7848720" cy="446436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注册会计师曹家德、吉刚于 </a:t>
            </a:r>
            <a:r>
              <a:rPr b="1" lang="en-US" sz="2800" spc="-1" strike="noStrike">
                <a:solidFill>
                  <a:srgbClr val="000000"/>
                </a:solidFill>
                <a:latin typeface="Arial"/>
              </a:rPr>
              <a:t>2019 </a:t>
            </a:r>
            <a:r>
              <a:rPr b="1" lang="zh-CN" sz="2800" spc="-1" strike="noStrike">
                <a:solidFill>
                  <a:srgbClr val="000000"/>
                </a:solidFill>
                <a:latin typeface="Arial"/>
                <a:ea typeface="宋体"/>
              </a:rPr>
              <a:t>年 </a:t>
            </a:r>
            <a:r>
              <a:rPr b="1" lang="en-US" sz="2800" spc="-1" strike="noStrike">
                <a:solidFill>
                  <a:srgbClr val="000000"/>
                </a:solidFill>
                <a:latin typeface="Arial"/>
              </a:rPr>
              <a:t>3 </a:t>
            </a:r>
            <a:r>
              <a:rPr b="1" lang="zh-CN" sz="2800" spc="-1" strike="noStrike">
                <a:solidFill>
                  <a:srgbClr val="000000"/>
                </a:solidFill>
                <a:latin typeface="Arial"/>
                <a:ea typeface="宋体"/>
              </a:rPr>
              <a:t>月 </a:t>
            </a:r>
            <a:r>
              <a:rPr b="1" lang="en-US" sz="2800" spc="-1" strike="noStrike">
                <a:solidFill>
                  <a:srgbClr val="000000"/>
                </a:solidFill>
                <a:latin typeface="Arial"/>
              </a:rPr>
              <a:t>15 </a:t>
            </a:r>
            <a:r>
              <a:rPr b="1" lang="zh-CN" sz="2800" spc="-1" strike="noStrike">
                <a:solidFill>
                  <a:srgbClr val="000000"/>
                </a:solidFill>
                <a:latin typeface="Arial"/>
                <a:ea typeface="宋体"/>
              </a:rPr>
              <a:t>日完成对鸿图股份有限公司 </a:t>
            </a:r>
            <a:r>
              <a:rPr b="1" lang="en-US" sz="2800" spc="-1" strike="noStrike">
                <a:solidFill>
                  <a:srgbClr val="000000"/>
                </a:solidFill>
                <a:latin typeface="Arial"/>
              </a:rPr>
              <a:t>2018 </a:t>
            </a:r>
            <a:r>
              <a:rPr b="1" lang="zh-CN" sz="2800" spc="-1" strike="noStrike">
                <a:solidFill>
                  <a:srgbClr val="000000"/>
                </a:solidFill>
                <a:latin typeface="Arial"/>
                <a:ea typeface="宋体"/>
              </a:rPr>
              <a:t>年度会计报表审计的外勤工作，包括完成各项规定审计程序。假定 </a:t>
            </a:r>
            <a:r>
              <a:rPr b="1" lang="en-US" sz="2800" spc="-1" strike="noStrike">
                <a:solidFill>
                  <a:srgbClr val="000000"/>
                </a:solidFill>
                <a:latin typeface="Arial"/>
              </a:rPr>
              <a:t>2017 </a:t>
            </a:r>
            <a:r>
              <a:rPr b="1" lang="zh-CN" sz="2800" spc="-1" strike="noStrike">
                <a:solidFill>
                  <a:srgbClr val="000000"/>
                </a:solidFill>
                <a:latin typeface="Arial"/>
                <a:ea typeface="宋体"/>
              </a:rPr>
              <a:t>年度会计报表审计工作也由他俩共同完成。除以下几个事项由曹家德、吉刚在编制审计报告时予以考虑外，其他条件符合出具无保留意见审计报告的要求。</a:t>
            </a:r>
            <a:endParaRPr b="1" lang="en-US" sz="2800" spc="-1" strike="noStrike">
              <a:solidFill>
                <a:srgbClr val="000000"/>
              </a:solidFill>
              <a:latin typeface="Arial"/>
            </a:endParaRPr>
          </a:p>
        </p:txBody>
      </p:sp>
      <p:pic>
        <p:nvPicPr>
          <p:cNvPr id="1873" name="图片 7" descr="&amp;pky8040249173&amp;"/>
          <p:cNvPicPr/>
          <p:nvPr/>
        </p:nvPicPr>
        <p:blipFill>
          <a:blip r:embed="rId4"/>
          <a:srcRect l="5404" t="13137" r="53113" b="0"/>
          <a:stretch/>
        </p:blipFill>
        <p:spPr>
          <a:xfrm>
            <a:off x="263520" y="3600360"/>
            <a:ext cx="1933560" cy="23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4" name="组合 216"/>
          <p:cNvGrpSpPr/>
          <p:nvPr/>
        </p:nvGrpSpPr>
        <p:grpSpPr>
          <a:xfrm>
            <a:off x="2639880" y="663480"/>
            <a:ext cx="8634600" cy="4956120"/>
            <a:chOff x="2639880" y="663480"/>
            <a:chExt cx="8634600" cy="4956120"/>
          </a:xfrm>
        </p:grpSpPr>
        <p:sp>
          <p:nvSpPr>
            <p:cNvPr id="1875" name="矩形 217"/>
            <p:cNvSpPr/>
            <p:nvPr/>
          </p:nvSpPr>
          <p:spPr>
            <a:xfrm>
              <a:off x="2640960" y="663480"/>
              <a:ext cx="8633520" cy="495612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6" name="斜纹 218"/>
            <p:cNvSpPr/>
            <p:nvPr/>
          </p:nvSpPr>
          <p:spPr>
            <a:xfrm rot="5400000">
              <a:off x="10748520" y="699120"/>
              <a:ext cx="561600" cy="490320"/>
            </a:xfrm>
            <a:custGeom>
              <a:avLst/>
              <a:gdLst/>
              <a:ahLst/>
              <a:rect l="l" t="t" r="r" b="b"/>
              <a:pathLst>
                <a:path w="894" h="898">
                  <a:moveTo>
                    <a:pt x="0" y="348"/>
                  </a:moveTo>
                  <a:lnTo>
                    <a:pt x="346" y="0"/>
                  </a:lnTo>
                  <a:lnTo>
                    <a:pt x="894" y="0"/>
                  </a:lnTo>
                  <a:lnTo>
                    <a:pt x="0" y="898"/>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7" name="斜纹 219"/>
            <p:cNvSpPr/>
            <p:nvPr/>
          </p:nvSpPr>
          <p:spPr>
            <a:xfrm rot="16200000">
              <a:off x="2603160" y="5093640"/>
              <a:ext cx="561600" cy="488520"/>
            </a:xfrm>
            <a:custGeom>
              <a:avLst/>
              <a:gdLst/>
              <a:ahLst/>
              <a:rect l="l" t="t" r="r" b="b"/>
              <a:pathLst>
                <a:path w="894" h="895">
                  <a:moveTo>
                    <a:pt x="0" y="347"/>
                  </a:moveTo>
                  <a:lnTo>
                    <a:pt x="346" y="0"/>
                  </a:lnTo>
                  <a:lnTo>
                    <a:pt x="894" y="0"/>
                  </a:lnTo>
                  <a:lnTo>
                    <a:pt x="0" y="895"/>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78" name="文本框 220"/>
          <p:cNvSpPr/>
          <p:nvPr/>
        </p:nvSpPr>
        <p:spPr>
          <a:xfrm>
            <a:off x="2855880" y="2661840"/>
            <a:ext cx="8136000" cy="67032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1879" name="文本框 17"/>
          <p:cNvSpPr/>
          <p:nvPr/>
        </p:nvSpPr>
        <p:spPr>
          <a:xfrm>
            <a:off x="263520" y="270828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意见</a:t>
            </a:r>
            <a:endParaRPr b="1" lang="en-US" sz="3600" spc="-1" strike="noStrike">
              <a:solidFill>
                <a:srgbClr val="000000"/>
              </a:solidFill>
              <a:latin typeface="Arial"/>
            </a:endParaRPr>
          </a:p>
        </p:txBody>
      </p:sp>
      <p:sp>
        <p:nvSpPr>
          <p:cNvPr id="1880" name="矩形 1"/>
          <p:cNvSpPr/>
          <p:nvPr/>
        </p:nvSpPr>
        <p:spPr>
          <a:xfrm>
            <a:off x="2782800" y="1484280"/>
            <a:ext cx="8426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根据上述资料，曹家德、吉刚发表的审计意见如下： 我们认为，鸿图股份有限公司财务报表已经按照</a:t>
            </a:r>
            <a:r>
              <a:rPr b="1" lang="en-US" sz="2800" spc="-1" strike="noStrike">
                <a:solidFill>
                  <a:srgbClr val="000000"/>
                </a:solidFill>
                <a:latin typeface="Arial"/>
              </a:rPr>
              <a:t>《</a:t>
            </a:r>
            <a:r>
              <a:rPr b="1" lang="zh-CN" sz="2800" spc="-1" strike="noStrike">
                <a:solidFill>
                  <a:srgbClr val="000000"/>
                </a:solidFill>
                <a:latin typeface="Arial"/>
                <a:ea typeface="宋体"/>
              </a:rPr>
              <a:t>企业会计准 则</a:t>
            </a:r>
            <a:r>
              <a:rPr b="1" lang="en-US" sz="2800" spc="-1" strike="noStrike">
                <a:solidFill>
                  <a:srgbClr val="000000"/>
                </a:solidFill>
                <a:latin typeface="Arial"/>
              </a:rPr>
              <a:t>》</a:t>
            </a:r>
            <a:r>
              <a:rPr b="1" lang="zh-CN" sz="2800" spc="-1" strike="noStrike">
                <a:solidFill>
                  <a:srgbClr val="000000"/>
                </a:solidFill>
                <a:latin typeface="Arial"/>
                <a:ea typeface="宋体"/>
              </a:rPr>
              <a:t>和</a:t>
            </a:r>
            <a:r>
              <a:rPr b="1" lang="en-US" sz="2800" spc="-1" strike="noStrike">
                <a:solidFill>
                  <a:srgbClr val="000000"/>
                </a:solidFill>
                <a:latin typeface="Arial"/>
              </a:rPr>
              <a:t>《</a:t>
            </a:r>
            <a:r>
              <a:rPr b="1" lang="zh-CN" sz="2800" spc="-1" strike="noStrike">
                <a:solidFill>
                  <a:srgbClr val="000000"/>
                </a:solidFill>
                <a:latin typeface="Arial"/>
                <a:ea typeface="宋体"/>
              </a:rPr>
              <a:t>企业会计制度</a:t>
            </a:r>
            <a:r>
              <a:rPr b="1" lang="en-US" sz="2800" spc="-1" strike="noStrike">
                <a:solidFill>
                  <a:srgbClr val="000000"/>
                </a:solidFill>
                <a:latin typeface="Arial"/>
              </a:rPr>
              <a:t>》</a:t>
            </a:r>
            <a:r>
              <a:rPr b="1" lang="zh-CN" sz="2800" spc="-1" strike="noStrike">
                <a:solidFill>
                  <a:srgbClr val="000000"/>
                </a:solidFill>
                <a:latin typeface="Arial"/>
                <a:ea typeface="宋体"/>
              </a:rPr>
              <a:t>的规定编制，在所有重大方面公允地反映了鸿图股份有限公司 </a:t>
            </a:r>
            <a:r>
              <a:rPr b="1" lang="en-US" sz="2800" spc="-1" strike="noStrike">
                <a:solidFill>
                  <a:srgbClr val="000000"/>
                </a:solidFill>
                <a:latin typeface="Arial"/>
              </a:rPr>
              <a:t>2018 </a:t>
            </a:r>
            <a:r>
              <a:rPr b="1" lang="zh-CN" sz="2800" spc="-1" strike="noStrike">
                <a:solidFill>
                  <a:srgbClr val="000000"/>
                </a:solidFill>
                <a:latin typeface="Arial"/>
                <a:ea typeface="宋体"/>
              </a:rPr>
              <a:t>年 </a:t>
            </a:r>
            <a:r>
              <a:rPr b="1" lang="en-US" sz="2800" spc="-1" strike="noStrike">
                <a:solidFill>
                  <a:srgbClr val="000000"/>
                </a:solidFill>
                <a:latin typeface="Arial"/>
              </a:rPr>
              <a:t>12 </a:t>
            </a:r>
            <a:r>
              <a:rPr b="1" lang="zh-CN" sz="2800" spc="-1" strike="noStrike">
                <a:solidFill>
                  <a:srgbClr val="000000"/>
                </a:solidFill>
                <a:latin typeface="Arial"/>
                <a:ea typeface="宋体"/>
              </a:rPr>
              <a:t>月 </a:t>
            </a:r>
            <a:r>
              <a:rPr b="1" lang="en-US" sz="2800" spc="-1" strike="noStrike">
                <a:solidFill>
                  <a:srgbClr val="000000"/>
                </a:solidFill>
                <a:latin typeface="Arial"/>
              </a:rPr>
              <a:t>31 </a:t>
            </a:r>
            <a:r>
              <a:rPr b="1" lang="zh-CN" sz="2800" spc="-1" strike="noStrike">
                <a:solidFill>
                  <a:srgbClr val="000000"/>
                </a:solidFill>
                <a:latin typeface="Arial"/>
                <a:ea typeface="宋体"/>
              </a:rPr>
              <a:t>日的财务状况以及 </a:t>
            </a:r>
            <a:r>
              <a:rPr b="1" lang="en-US" sz="2800" spc="-1" strike="noStrike">
                <a:solidFill>
                  <a:srgbClr val="000000"/>
                </a:solidFill>
                <a:latin typeface="Arial"/>
              </a:rPr>
              <a:t>2018 </a:t>
            </a:r>
            <a:r>
              <a:rPr b="1" lang="zh-CN" sz="2800" spc="-1" strike="noStrike">
                <a:solidFill>
                  <a:srgbClr val="000000"/>
                </a:solidFill>
                <a:latin typeface="Arial"/>
                <a:ea typeface="宋体"/>
              </a:rPr>
              <a:t>年的经 营成果和现金流量。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要求：根据上述资料，指出曹家德、吉刚发表的审计意见中存在的问题。</a:t>
            </a:r>
            <a:endParaRPr b="1" lang="en-US" sz="2800" spc="-1" strike="noStrike">
              <a:solidFill>
                <a:srgbClr val="000000"/>
              </a:solidFill>
              <a:latin typeface="Arial"/>
            </a:endParaRPr>
          </a:p>
        </p:txBody>
      </p:sp>
      <p:pic>
        <p:nvPicPr>
          <p:cNvPr id="1881" name="图片 7" descr="&amp;pky8040249173&amp;"/>
          <p:cNvPicPr/>
          <p:nvPr/>
        </p:nvPicPr>
        <p:blipFill>
          <a:blip r:embed="rId2"/>
          <a:srcRect l="5404" t="13137" r="53113" b="0"/>
          <a:stretch/>
        </p:blipFill>
        <p:spPr>
          <a:xfrm>
            <a:off x="263520" y="3429000"/>
            <a:ext cx="1933560" cy="252108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childTnLst>
                                    <p:set>
                                      <p:cBhvr>
                                        <p:cTn id="43" dur="2000" fill="hold">
                                          <p:stCondLst>
                                            <p:cond delay="0"/>
                                          </p:stCondLst>
                                        </p:cTn>
                                        <p:tgtEl>
                                          <p:spTgt spid="1878"/>
                                        </p:tgtEl>
                                        <p:attrNameLst>
                                          <p:attrName>style.visibility</p:attrName>
                                        </p:attrNameLst>
                                      </p:cBhvr>
                                      <p:to>
                                        <p:strVal val="visible"/>
                                      </p:to>
                                    </p:set>
                                    <p:animEffect filter="strips(downRight)" transition="in">
                                      <p:cBhvr additive="repl">
                                        <p:cTn id="44" dur="2000"/>
                                        <p:tgtEl>
                                          <p:spTgt spid="1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2" name="组合 216"/>
          <p:cNvGrpSpPr/>
          <p:nvPr/>
        </p:nvGrpSpPr>
        <p:grpSpPr>
          <a:xfrm>
            <a:off x="2927520" y="836640"/>
            <a:ext cx="8785080" cy="5024160"/>
            <a:chOff x="2927520" y="836640"/>
            <a:chExt cx="8785080" cy="5024160"/>
          </a:xfrm>
        </p:grpSpPr>
        <p:sp>
          <p:nvSpPr>
            <p:cNvPr id="1883" name="矩形 217"/>
            <p:cNvSpPr/>
            <p:nvPr/>
          </p:nvSpPr>
          <p:spPr>
            <a:xfrm>
              <a:off x="2927520" y="837720"/>
              <a:ext cx="8785080" cy="502308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1884" name="斜纹 218"/>
            <p:cNvSpPr/>
            <p:nvPr/>
          </p:nvSpPr>
          <p:spPr>
            <a:xfrm rot="5400000">
              <a:off x="11177280" y="871560"/>
              <a:ext cx="569880" cy="500040"/>
            </a:xfrm>
            <a:custGeom>
              <a:avLst/>
              <a:gdLst/>
              <a:ahLst/>
              <a:rect l="l" t="t" r="r" b="b"/>
              <a:pathLst>
                <a:path w="895" h="900">
                  <a:moveTo>
                    <a:pt x="0" y="349"/>
                  </a:moveTo>
                  <a:lnTo>
                    <a:pt x="347" y="0"/>
                  </a:lnTo>
                  <a:lnTo>
                    <a:pt x="895" y="0"/>
                  </a:lnTo>
                  <a:lnTo>
                    <a:pt x="0" y="900"/>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5" name="斜纹 219"/>
            <p:cNvSpPr/>
            <p:nvPr/>
          </p:nvSpPr>
          <p:spPr>
            <a:xfrm rot="16200000">
              <a:off x="2890800" y="5326920"/>
              <a:ext cx="569880" cy="496440"/>
            </a:xfrm>
            <a:custGeom>
              <a:avLst/>
              <a:gdLst/>
              <a:ahLst/>
              <a:rect l="l" t="t" r="r" b="b"/>
              <a:pathLst>
                <a:path w="895" h="894">
                  <a:moveTo>
                    <a:pt x="0" y="346"/>
                  </a:moveTo>
                  <a:lnTo>
                    <a:pt x="347" y="0"/>
                  </a:lnTo>
                  <a:lnTo>
                    <a:pt x="895" y="0"/>
                  </a:lnTo>
                  <a:lnTo>
                    <a:pt x="0" y="894"/>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86" name="文本框 220"/>
          <p:cNvSpPr/>
          <p:nvPr/>
        </p:nvSpPr>
        <p:spPr>
          <a:xfrm>
            <a:off x="2927520" y="981000"/>
            <a:ext cx="8640720" cy="1991880"/>
          </a:xfrm>
          <a:prstGeom prst="rect">
            <a:avLst/>
          </a:prstGeom>
          <a:noFill/>
          <a:ln w="9360">
            <a:solidFill>
              <a:srgbClr val="8e10d4"/>
            </a:solidFill>
            <a:prstDash val="dash"/>
            <a:round/>
          </a:ln>
        </p:spPr>
        <p:style>
          <a:lnRef idx="0"/>
          <a:fillRef idx="0"/>
          <a:effectRef idx="0"/>
          <a:fontRef idx="minor"/>
        </p:style>
        <p:txBody>
          <a:bodyPr lIns="71640" rIns="71640" tIns="36360" bIns="3636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根据上述资料，指出曹家德、吉刚发表的审计意见中存在的问题。 </a:t>
            </a: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分析： 审计意见中存在的问题： 发表的审计意见不恰当。事项 </a:t>
            </a:r>
            <a:r>
              <a:rPr b="1" lang="en-US" sz="2800" spc="-1" strike="noStrike">
                <a:solidFill>
                  <a:srgbClr val="000000"/>
                </a:solidFill>
                <a:latin typeface="Arial"/>
              </a:rPr>
              <a:t>2 </a:t>
            </a:r>
            <a:r>
              <a:rPr b="1" lang="zh-CN" sz="2800" spc="-1" strike="noStrike">
                <a:solidFill>
                  <a:srgbClr val="000000"/>
                </a:solidFill>
                <a:latin typeface="Arial"/>
                <a:ea typeface="宋体"/>
              </a:rPr>
              <a:t>属于资产负债表日后事项中的 调整事项，应当调整 </a:t>
            </a:r>
            <a:r>
              <a:rPr b="1" lang="en-US" sz="2800" spc="-1" strike="noStrike">
                <a:solidFill>
                  <a:srgbClr val="000000"/>
                </a:solidFill>
                <a:latin typeface="Arial"/>
              </a:rPr>
              <a:t>2017 </a:t>
            </a:r>
            <a:r>
              <a:rPr b="1" lang="zh-CN" sz="2800" spc="-1" strike="noStrike">
                <a:solidFill>
                  <a:srgbClr val="000000"/>
                </a:solidFill>
                <a:latin typeface="Arial"/>
                <a:ea typeface="宋体"/>
              </a:rPr>
              <a:t>年度会计报表。由于该公司拒绝调整，且金额重大，因此，注册会计师应当根据其重要性水平发表保留意见或 否定意见。</a:t>
            </a:r>
            <a:endParaRPr b="1" lang="en-US" sz="2800" spc="-1" strike="noStrike">
              <a:solidFill>
                <a:srgbClr val="000000"/>
              </a:solidFill>
              <a:latin typeface="Arial"/>
            </a:endParaRPr>
          </a:p>
        </p:txBody>
      </p:sp>
      <p:sp>
        <p:nvSpPr>
          <p:cNvPr id="1887" name="文本框 6"/>
          <p:cNvSpPr/>
          <p:nvPr/>
        </p:nvSpPr>
        <p:spPr>
          <a:xfrm>
            <a:off x="173160" y="2565360"/>
            <a:ext cx="2754360" cy="10796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提出问题及</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分析问题</a:t>
            </a:r>
            <a:endParaRPr b="1" lang="en-US" sz="3600" spc="-1" strike="noStrike">
              <a:solidFill>
                <a:srgbClr val="000000"/>
              </a:solidFill>
              <a:latin typeface="Arial"/>
            </a:endParaRPr>
          </a:p>
        </p:txBody>
      </p:sp>
      <p:pic>
        <p:nvPicPr>
          <p:cNvPr id="1888" name="图片 7" descr="&amp;pky8040249173&amp;"/>
          <p:cNvPicPr/>
          <p:nvPr/>
        </p:nvPicPr>
        <p:blipFill>
          <a:blip r:embed="rId2"/>
          <a:srcRect l="5404" t="13137" r="53113" b="0"/>
          <a:stretch/>
        </p:blipFill>
        <p:spPr>
          <a:xfrm>
            <a:off x="173160" y="3789360"/>
            <a:ext cx="2444760" cy="256392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childTnLst>
                                    <p:set>
                                      <p:cBhvr>
                                        <p:cTn id="50" dur="2000" fill="hold">
                                          <p:stCondLst>
                                            <p:cond delay="0"/>
                                          </p:stCondLst>
                                        </p:cTn>
                                        <p:tgtEl>
                                          <p:spTgt spid="1886"/>
                                        </p:tgtEl>
                                        <p:attrNameLst>
                                          <p:attrName>style.visibility</p:attrName>
                                        </p:attrNameLst>
                                      </p:cBhvr>
                                      <p:to>
                                        <p:strVal val="visible"/>
                                      </p:to>
                                    </p:set>
                                    <p:animEffect filter="strips(downRight)" transition="in">
                                      <p:cBhvr additive="repl">
                                        <p:cTn id="51" dur="20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623520" y="2420640"/>
            <a:ext cx="10225080" cy="33224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微软雅黑"/>
                <a:ea typeface="微软雅黑"/>
              </a:rPr>
              <a:t>                          </a:t>
            </a:r>
            <a:r>
              <a:rPr b="1" lang="zh-CN" sz="5400" spc="-1" strike="noStrike">
                <a:solidFill>
                  <a:srgbClr val="8e10d4"/>
                </a:solidFill>
                <a:latin typeface="微软雅黑"/>
              </a:rPr>
              <a:t>任务一 </a:t>
            </a:r>
            <a:br>
              <a:rPr sz="5400"/>
            </a:br>
            <a:r>
              <a:rPr b="1" lang="en-US" sz="5400" spc="-1" strike="noStrike">
                <a:solidFill>
                  <a:srgbClr val="8e10d4"/>
                </a:solidFill>
                <a:latin typeface="微软雅黑"/>
                <a:ea typeface="微软雅黑"/>
              </a:rPr>
              <a:t>       </a:t>
            </a:r>
            <a:r>
              <a:rPr b="1" lang="zh-CN" sz="5400" spc="-1" strike="noStrike">
                <a:solidFill>
                  <a:srgbClr val="8e10d4"/>
                </a:solidFill>
                <a:latin typeface="微软雅黑"/>
              </a:rPr>
              <a:t>审计报告阶段的主要工作</a:t>
            </a:r>
            <a:br>
              <a:rPr sz="5400"/>
            </a:br>
            <a:br>
              <a:rPr sz="5400"/>
            </a:br>
            <a:endParaRPr b="1" lang="en-US" sz="5400" spc="-1" strike="noStrike">
              <a:solidFill>
                <a:srgbClr val="262626"/>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22" presetSubtype="1">
                                  <p:stCondLst>
                                    <p:cond delay="0"/>
                                  </p:stCondLst>
                                  <p:childTnLst>
                                    <p:set>
                                      <p:cBhvr>
                                        <p:cTn id="57" dur="1000" fill="hold">
                                          <p:stCondLst>
                                            <p:cond delay="0"/>
                                          </p:stCondLst>
                                        </p:cTn>
                                        <p:tgtEl>
                                          <p:spTgt spid="1889"/>
                                        </p:tgtEl>
                                        <p:attrNameLst>
                                          <p:attrName>style.visibility</p:attrName>
                                        </p:attrNameLst>
                                      </p:cBhvr>
                                      <p:to>
                                        <p:strVal val="visible"/>
                                      </p:to>
                                    </p:set>
                                    <p:animEffect filter="wipe(up)" transition="in">
                                      <p:cBhvr additive="repl">
                                        <p:cTn id="58" dur="1000"/>
                                        <p:tgtEl>
                                          <p:spTgt spid="1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20T02:00:44Z</dcterms:modified>
  <cp:revision>203</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