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26.xml" ContentType="application/vnd.openxmlformats-officedocument.presentationml.slideMaster+xml"/>
  <Override PartName="/ppt/slideMasters/slideMaster14.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297.xml.rels" ContentType="application/vnd.openxmlformats-package.relationships+xml"/>
  <Override PartName="/ppt/slideLayouts/_rels/slideLayout46.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02.xml.rels" ContentType="application/vnd.openxmlformats-package.relationships+xml"/>
  <Override PartName="/ppt/slideLayouts/_rels/slideLayout231.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26.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4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6.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0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194.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9.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81.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media/image11.png" ContentType="image/png"/>
  <Override PartName="/ppt/media/image6.wmf" ContentType="image/x-wmf"/>
  <Override PartName="/ppt/media/image9.wmf" ContentType="image/x-wmf"/>
  <Override PartName="/ppt/media/image14.png" ContentType="image/png"/>
  <Override PartName="/ppt/media/image8.wmf" ContentType="image/x-wmf"/>
  <Override PartName="/ppt/media/image13.png" ContentType="image/png"/>
  <Override PartName="/ppt/media/image7.wmf" ContentType="image/x-wmf"/>
  <Override PartName="/ppt/media/image12.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png" ContentType="image/png"/>
  <Override PartName="/ppt/media/image24.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 id="272" r:id="rId44"/>
    <p:sldId id="273" r:id="rId45"/>
    <p:sldId id="274" r:id="rId46"/>
    <p:sldId id="275" r:id="rId4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slide" Target="slides/slide17.xml"/><Relationship Id="rId45" Type="http://schemas.openxmlformats.org/officeDocument/2006/relationships/slide" Target="slides/slide18.xml"/><Relationship Id="rId46" Type="http://schemas.openxmlformats.org/officeDocument/2006/relationships/slide" Target="slides/slide19.xml"/><Relationship Id="rId47" Type="http://schemas.openxmlformats.org/officeDocument/2006/relationships/slide" Target="slides/slide20.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C88FD4-B4E8-437F-BAEB-EC7A40BB6D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8"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CD088B-9BCC-44B4-B78E-9535E9001B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8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8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2B20C06-3986-4182-A529-62E4EC65628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0F1BD88-C7E5-4314-8071-35304F8E851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2AAE05E-62E0-4CD4-ACDF-A54289AEC08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8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8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8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8D7B7D-D5BE-4053-98D5-9D4F8EBFEB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89"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9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91"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6F79E3-A855-47C6-A458-D49013D1C6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9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9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95"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F37ADB-B5F7-4E7A-A0A6-961668501B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97"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98"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DBF6CDE-113B-420E-87EE-25209D2F8B4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0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0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0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03"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A3F1554-4716-4DCA-8564-D8CEFB54644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05"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06"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07"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08"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09"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10"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5FBC282-C11D-484D-BF9C-6FD1CB52D2E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38CA153-8772-4DDC-812E-4CA74AE8CF9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9A6DA0-C2D9-42D9-89D6-75867775F7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23"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8EF58DE-7A51-4DEA-A2C1-ACE8036BCA6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25"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C8420ED-AF63-46C1-B1BE-4FFA1EA54A4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27"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2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2C8ACAD-CC83-4AFD-B913-7DE9FA5CEB9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2BB8FD9-ADE0-49F9-9A90-49429D3BEF4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7D09DB7-AF82-493D-BD79-B5D092E41E2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3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3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3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4018D48-1914-4FF5-BEA7-FF3569BB39E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36"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3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38"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F99A0BF-DD57-4755-BFE6-BC1A7D36E21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4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4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42"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91037E3-16B4-43AD-A816-0EC1C1F21D2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44"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45"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54499D2-EDD3-4A7E-A809-66140CCFE72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4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4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4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50"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7CEC69E-0254-43A2-8A7C-3EF7FC7FCB3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6"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7"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8"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9"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0"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1"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E8AE71-983C-480F-A3F9-BD49C7A579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52"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53"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54"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55"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56"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57"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C8BB4E1-3EC5-4629-A8C1-44032A0AAD0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C454CCE-564E-41C4-8396-DD1234120BB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70"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4521776-9333-4F11-8FE0-1F1C9D7BDA5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72"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66CCF42-A723-4C7D-ADEE-AD287F3AEF5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7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75"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7978519-E37C-4E49-8DAA-EC9A5325C59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CDF3C8C-3FEA-471A-AB6E-40981909982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96A73C1-DB47-4167-A22C-9C931475AB2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7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80"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81"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48E9829-C87E-423A-A09C-5502C1F0EEE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8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8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85"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F21DB70-1229-47C2-85A5-1B38919F323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8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8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89"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82E40FB-4FF1-40FC-B733-ADF93A3FADF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01612E-1CEC-4D0F-947F-5C31385166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91"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92"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99EB9B5-12D3-433C-B658-52BDAB42EEB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9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9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96"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97"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CF21FF1-B603-4DEF-87A9-C879242639D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99"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00"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01"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02"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03"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04"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50E36B5-929D-47CD-B577-D57F2E12574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B466A03-748B-4D7F-B60A-0EC7CA0F7B5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17"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11027B5-9E1D-4A2D-BE09-DF4F07AE4DE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19"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5B4161A-D25E-429D-AE39-15EB922C134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2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22"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358A90A-6B8A-4364-9145-0AD66DEF4DD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D18A165-FD08-4439-BFE4-7BAED6BF39A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2B30310-D1BA-43EE-9941-BD984C5C05F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2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27"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28"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DB2E9B5-D2DD-49C5-8086-2BED6676A99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9"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7D8CF6-E70C-48F5-A4A9-0E30861FCA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3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3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32"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DACB74F-3DA6-46F4-9525-40934386FA2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3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3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36"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D1F36E2-F343-44ED-BD6F-16280FAD1EE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38"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39"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DAD9F33-F1D2-42F5-8B35-03929484352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4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4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43"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44"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DF02AD4-B420-4B45-8909-E2F090416E3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46"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47"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48"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49"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50"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51"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59EA4C4-4CAA-435E-B7AE-790901616D3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EE5B9B7-2E3C-4126-86DB-878FFC672DE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68"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5B2912F-4068-4BEE-8E15-A9B5F8F3270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70"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AD06907-4AFB-45C1-B21C-282DE6F9091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7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7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C6B7EAB-18A7-4DA1-BE7F-7016AE3A1CD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B8082D2-E151-42D7-B6C3-08FF4DCFBA9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1"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A5FA0A-5ABE-4617-9C7D-FCA396C716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B58DDCF-3E82-4AC9-B314-DFF603EC78B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7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7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7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4A7BF76-BD8D-40E0-BB1B-F8D1217FFFF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8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8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83"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CF38A1A-9FC9-4042-BA13-B15E84A111B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8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8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87"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4BE5181-1939-4B76-8467-45002E93FC9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89"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90"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8EBD084-99C5-4179-BC26-1A75C3C6CE6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9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9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9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95"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DB461BD-B180-4CFD-9628-A6498D876E7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97"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98"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99"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00"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01"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02"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D7BF7A9-1235-4F2D-B79B-9E1A9E4CEF4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3943DC6-5E49-42F7-8555-3EAB43FA777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11"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873C263-D9F6-4479-B768-F80B2E756BE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13"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9AA4A27-7382-4213-928B-DDF77608B4E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580656-6EDF-489C-B53A-42AA9280DA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1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1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4DD252C-E985-4D4A-9458-2AF60793C55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6888BCD-2850-47CC-85E5-A79D1D783EB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8"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96EC089-D054-49D5-BDF5-850332D29BE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2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2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2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D0832E6-F2D1-4E97-B0E8-9E94E2AC816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2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2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26"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FF8C34E-434F-44C2-9509-B67005BFB93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2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2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30"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AAAB560-7288-42C0-855B-B1BEB187A20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32"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33"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F08E4C5-4D38-4B37-BEA7-DFB401195A3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3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3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3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38"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96F9133-31B2-445C-83C0-526F5776E15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40"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41"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42"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43"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44"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45"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0CDED17-50B4-42D8-B604-D0E4936734A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65FA4CBB-4687-4F89-9864-CD6669CFFDA1}"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D19A1A-22C6-4C84-83F7-FAD19698D4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59"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0A3FFC2-0666-4ED4-9C83-D9D6FB6C87E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61"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17185C8-53F7-4641-8C70-62B6099D5B4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6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6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E8A6E36-3DF0-4A3A-B8EC-C9A4255A2CA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8AAD386-0EEF-4CA6-A2DE-EC56704EF37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6"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09A2C13-D591-4643-AB66-C164CEB7B1E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6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6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7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6FE5654-8A55-470D-8CFC-882015B57B2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7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7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74"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3BFBB47-7B05-4074-918F-FEE4EA14101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7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7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78"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DBBF7B8-5CE0-4D2D-84AF-9AF85205B4C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80"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81"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4FF3A56-2FF4-4626-B78B-321E69290CF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8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8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8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86"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8BB20D82-127F-4DD7-99C7-7B4C8AA0BD67}"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21E7D0-C9BE-4380-B2C7-199ED2A10B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88"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89"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90"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91"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92"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93"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6AE02097-A637-4C03-A50E-FDF73B18FFE9}"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03B1FB90-9FBF-40B7-BCBD-4556F39C2AE1}"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06"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6A2BBA7-B85E-4297-BB6F-87EB039D534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08"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611060E-D9D5-4258-B839-C2ED0F58ADB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1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1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161699E-E360-403C-8B82-44D281E0597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C9686E1-8193-418D-9180-98B04393EA5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3"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430F4AD-68CD-479E-A210-4047D204780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1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1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1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9BC4E17-B277-493E-8424-E85CA58EDAE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19"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2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21"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5FD597A-E28B-4409-AF52-F3DBF1AC4F1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2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2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25"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8EBDB18-C76A-409F-A1B3-4CF07AF0DAF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CD9AB7-D688-4A78-8E06-BA3E4F3BC8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27"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28"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DCFEE23-8D0D-44DC-BE74-9F2C45C17D1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3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3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3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33"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9957E8DF-E10D-45BE-9032-4F8E2005591C}"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35"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36"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37"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38"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39"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40"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38B9B39D-FBAA-4D69-BDE4-05C5464D9D24}"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4FEE8C24-EB25-44AB-91C3-79BEFF18CD94}"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52"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E87C0F0-DB2A-4174-B57A-353BD89B6C7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54"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73622B5-AD16-49EE-8078-6954B7D268E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56"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57"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4C6722C-7799-4A75-94E4-ACB0760D95D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40DFD54-87CF-4A91-AC0C-8333A4EB358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9"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AD1DB18-2D93-48CA-8CB1-1BBAC310604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6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62"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63"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F8CCCC3-1241-4E01-AC61-79D31D671CA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11AFD1-6EBA-4763-9D1B-2E00648DFD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4"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F5D254-1AE8-4EA2-8E29-CF7D7D5C64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6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6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67"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173866D-5473-4EB4-87D3-18DE54075F4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6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7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71"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D4B0CDD-9880-4CBE-BACF-EE67FCC494B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73"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74"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1FB031E-95D8-4182-A40A-7B26F5DB1CB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7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7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78"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79"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F9371DC5-5960-481A-845F-7B9F3EA76AE1}"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81"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82"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83"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84"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85"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86"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4BAC0D79-A6FD-4E7D-B471-1B2869B0F1CB}"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FD8985B0-D4D7-4617-971D-015478306AAE}"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99"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EFFBD613-3FF2-4B3F-9F21-9E7E4E77067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01"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62E351D2-A3CA-4A97-9418-EE3B14928D0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0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0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A683CB5-F854-4590-9011-132BA881A439}"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3BDFD132-16BC-460B-9E80-0B17BCC1D47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8"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1C6529-91D8-403A-BB3E-4B7D7B23C8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6"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E91782DA-D35C-4175-B7C4-70C7A7F5E6C1}"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0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0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1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92213D3-79D1-4AF8-B9E1-0DF79B25CD0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1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1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14"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102A358-1341-4336-ACA3-9AC42A4D573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1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1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18"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1427080-797C-48D5-9A74-94EC6EDAAD6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20"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21"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E470DAE3-5627-43A0-98F8-801E49C63D8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2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2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2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26"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C200C627-ED54-4F55-B2C8-67D689AF058D}"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28"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29"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30"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31"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32"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33"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932DF059-96BB-4C8D-B3D7-67D2705C3690}"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AFFE5934-9BE4-4A0E-B81B-D8E08083BDF5}"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46"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6398FD6B-C3AA-4839-AAC4-5B1E3B2C5EBB}"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48"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A072B99-4E7D-4B5B-8F3E-AAC01A48BE5E}"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0"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1"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E3D8D6-B2D6-48EA-B040-0001DFAF46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5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5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7A21BA9-99BE-462C-8E31-BA78A91A95FD}"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A6CD8B82-B69F-4DD8-83CC-CD9A878015B4}"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3"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72E9DE9F-B176-4104-940E-79578FBDC0AF}"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5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5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5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7332201-F39F-4FCE-9442-7C78499DFA4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59"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6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61"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7FB26C3-EBD4-4099-ACEE-A1BFE167972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6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6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65"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7D8EF8E-A392-48DA-B459-24C9928F9B5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67"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68"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FA4F18F3-6455-4AE2-89B9-7D8B5C8D36AC}"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7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7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7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73"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59639922-B146-4386-A950-1EE8758D9266}"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75"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76"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77"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78"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79"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80"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61054E29-C961-4256-803B-01E3A92FE534}"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5DBC19F9-4F48-4C15-9A36-F46E11A02D88}"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6"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BB4886-A07B-4B04-A44C-FE5146DC9E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91"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605F9BA4-DA9E-45CC-A604-1F93FA1C5A05}"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93"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FB3679E3-6924-4F49-84D7-8018C6411145}"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9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9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E804F339-C2CA-4485-96D1-C5C67AE6F556}"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F01BA892-6285-495E-A3E1-A4C087B9FEB1}"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8"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86CBF6CE-B59A-42C8-9138-7D1940ADBDCC}"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0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0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0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65DC42B-F17C-404E-BE7A-B3A02DD5409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0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0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06"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22A158E-8E29-414E-9094-BDE98734BBE2}"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0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0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10"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A4BC305-4B35-4D93-B067-B17B7A4F6CB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12"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13"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6BAE6891-42C4-4ED9-B6D8-6BDF9782F0DB}"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1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1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1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18"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16761261-2C2B-45B6-AFAA-5DEB64B11394}"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8"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9"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0"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1"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2"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3"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BAC267-BA8D-467B-B7E5-5A12E742B1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20"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21"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22"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23"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24"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25"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4EA747B7-72D0-4D32-AFB4-119F65699718}"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38F30F6E-A425-4202-B09B-71956DCBE10F}"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38"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0805472B-FFC3-4D1C-B521-C29C31F37FDF}"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40"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A8E19170-ED4D-494E-B342-5B9379DF0DEE}"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4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4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D16E2E1D-25A6-467A-8F64-966E1CF274B7}"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45586723-583D-46F7-A3EE-2CCB5C540947}"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5"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F4FF7F3E-574B-4813-9483-387FC7F8A6B3}"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4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4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4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438A63FE-BFF1-4132-88F2-7BC28A9A1713}"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5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5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53"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8342517-C426-482F-A2DF-B290D25A2D39}"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5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5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57"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BCE0624B-C077-4733-A0B4-1E17FA0FD6D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997C87F-EC9E-4F30-90BD-E815E48D6A4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59"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60"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6FE907A9-A9AF-4D50-AE93-2954D456FAFE}"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6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6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6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65"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9C9D33C7-AAE8-46E0-ACDF-F23072FEFFDE}"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67"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68"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69"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70"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71"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72"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9BC5B561-0E36-4026-B208-572C3B3257FC}"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F5178E12-DEB2-490D-B5D0-7F7D2FDDDCE3}"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85"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B542FE9A-4570-4348-96E3-E911B8573DCA}"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87"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95C06982-7803-4CC3-93FC-91952BC5809F}"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89"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90"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2B5A4745-A36F-41EF-BD80-474802CD16CE}"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21C0DE70-C1F2-40F3-9DFA-C6846175A117}"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2"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410A74F9-1E8D-4D63-9B07-56F0B917EABB}"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9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95"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96"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792D65E3-FFEC-4A7F-909E-AC111B607F58}"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7"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24E2DE-FAD2-4231-B189-0457AF6D5F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98"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9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00"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239F6BBE-A8C0-4AB6-B6E1-1F2EDA04106D}"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0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0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04"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00878B86-BB42-4C26-80D2-BEAA656C85CB}"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06"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07"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8CBDCB1A-D7CA-4E22-A743-626B59FE468E}"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0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1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11"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12"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2AA418FE-EB5D-4B7E-8A78-0E1F7CCA945F}"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14"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15"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16"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17"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18"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19"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B14358C4-3B51-42EF-82EC-FEB964B42CCB}"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656A39B3-788D-42ED-94F4-6B5A1B8D02D5}"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32"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D546B11B-76FC-4B91-A61C-90B0411527DD}"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34"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FF6E08FF-E770-425F-B312-F2EDDAAE558D}"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36"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37"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FD695387-E59A-4881-A714-84734050C042}"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F136B470-2F44-42F9-990F-6B81AF733ECE}"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9"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6FA01D-20D1-4392-B5F0-8DFE5F060C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9"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64F18C09-E945-4256-A07E-EB6F10399303}"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4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42"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43"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5C57EEF4-0F1E-4D7C-8399-74EFA7691638}"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4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4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47"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E0287126-E6F2-469C-811D-9B57D16DB29D}"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4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5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51"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F73FF747-2799-43D2-8AEF-CDFA05D643B2}"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53"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54"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34C4C39C-EA18-4F2E-B5EE-478A08C21171}"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5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5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58"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59"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8473C1F6-CCB2-4692-BBCD-F9691B18A0EF}"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61"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62"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63"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64"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65"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66"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1D72488F-6877-49E4-8257-2F5366A667CC}"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3711E80B-DEB4-4374-9B26-5FDBF2F9573E}"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79"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BC4E743A-4F39-42DF-B685-610C43D06DCE}"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81"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9858A8E6-832D-4334-8A93-05C333E9B00E}"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2"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68C202-C876-40E4-924C-74B0591DBF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8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8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AAA6D606-1E52-4184-B5AF-1EE943B87D20}"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EAE952C3-500D-4DE3-B717-05132BE924AB}"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6"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B7EFE4EE-B735-428D-9DCC-CD77FA350F71}"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8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8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9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9DF4C640-8D8B-4931-AB83-1FEC089BEC6F}"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9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9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94"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4CD0B087-41B6-4F56-B1D4-B6E5BE872B90}"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9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9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98"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D459177F-0DC1-4CFD-9882-D63FBEC41D1D}"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00"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01"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DC07A5A7-BEC1-4522-A4A1-E1729A9F580B}"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0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0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0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06"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A8EE46B6-5DCC-468C-BFB8-52EC325D9E18}"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08"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09"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10"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11"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12"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13"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D4B08EDB-DDF0-4EF8-9DDB-A1066D372262}"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33F3BD34-F570-47BC-95A7-C4010AF2292A}"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1C739D-2F4C-4013-8965-C001602F0E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30"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962E2B2D-B4BA-460D-BD8A-16D8EF255188}"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32"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ED6AB295-0556-41D8-A087-485FA5EF9D9F}"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3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35"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579235B9-BD66-4E5C-BD80-00F8F11596C0}"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C5DFAF98-5835-4C36-A658-0E84808B18BF}"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7"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4EFD68C2-5604-40DA-BF8C-2ABF367F77BD}"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3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40"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41"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E7ECFE7B-8BDA-4806-8532-BC08ED654A74}"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4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4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45"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2837F48F-789F-4242-8994-70F6E4C889C7}"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4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4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49"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62475941-2FC0-45EC-8638-41135FE82A0D}"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51"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52"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B32D1EA6-D951-4CBA-82F3-5DFF8C06CBFF}"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5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5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56"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57"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86695B33-E74F-46EF-AC1F-D9D2E2D44D2F}"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418A00-40ED-428F-9BFE-25DF120543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0195A7-F3AC-4245-8EEE-AEDDD3F17D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59"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60"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61"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62"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63"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64"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72AB2F73-E405-490E-B4AA-502564137893}"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6C634DB4-AB4F-4CEA-A3B2-14D6016C262B}"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73"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D27EAAA5-A64F-4EFB-8879-A795F78B9253}"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75"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E9D2DACA-419D-4D26-813E-8A5C1A41AB7A}"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77"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7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E2F66BFB-AD9B-44CE-BA9D-146F9AEA5932}"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31C56B42-E3F6-488B-8A5B-5E0243424A7E}"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0"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2BF4F774-4D98-4752-A8AA-D5E89726724F}"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8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8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8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0013F9F9-F300-4721-B824-CECCC1DF89AD}"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86"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8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88"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B580EAF8-3433-4745-87CC-9575ED5C3B46}"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9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9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92"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8F680012-4CA4-4E58-9D43-0C407B3084EA}"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7"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8"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6DE214-428A-4DEE-83FE-0253A6DB96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94"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95"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502E6713-ECF1-427C-B3E9-52D3532BEC76}"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9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9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9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00"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99C4A2EF-B36C-49B0-BDD7-7661F7627D71}"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02"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03"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04"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05"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06"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07"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86E6A69D-D6DD-473C-80D4-07658B086E28}"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2"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6219CE-142F-4A94-B073-BA0D5AAABD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6"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699E9E-64B1-45B9-B165-632F07209E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8"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9"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8CFD20-A9F9-4347-8D82-1ADEE4D965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3"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4"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FBB0FFD-6360-46D1-8CC0-A64D6CA0BB5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6"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7"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8"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9"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0"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1"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CC3D6C5-386E-414F-A11D-62C30EF84A6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971C3FA-E3E1-44D2-B711-15A0DC65EB0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4"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C1A2A9-6EA4-4607-AA7F-924482D59A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6"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AD0222-B49C-43C2-9949-20367A4CF2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E2CD33-836B-450B-B7C6-2CD6C1AF0C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8"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9B3D6F-8CB2-4BA7-B6BF-E27198D3C3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8DC526-8F28-45A3-8497-7B499F730D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B94494-AAE6-4A41-8707-55F560F5E6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6ED3A1-AA56-40CB-B84E-3A8A871F65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7"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9"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EEC598-E7E6-4CD2-88EE-8EA0110EDD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3"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70FBB3-6B8D-4615-B4D7-FB54D06755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5"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6"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B85697-435F-4B6D-BFCA-9861615E90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1"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871D04B-05EE-496A-9275-3DA5A544CB9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3"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4"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5"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6"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7"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8"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0931A14-4349-4BDF-A71D-C4EC6D0CD80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2089A23-845C-4CE5-B0AC-B9DA6298261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01AB11-D145-4036-94D0-80E31590DF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0"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DB6BAD-F8C5-4881-8682-BE1731ED55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2"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6F5AE6-E6AF-4EC0-BD60-E945D19517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5"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05CEF9-2E45-4082-AB94-9334930AA4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D587DC-3A89-45D9-88AE-627B828ADF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64268E-0BEE-4648-8F02-1063CB6AE3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0"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1"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AC6EC4-DC06-4384-9D17-D921FAD8C1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5"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3FCEFF-A993-4952-8DB9-4655BD84E4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9"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EADFA6-568F-4F89-906A-9542862555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1"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2"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94A05E-C1B9-4F86-B51D-876974F55D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6"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7"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61480F3-7EBC-4B33-BD7D-7184A23BEE4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634622-FBC7-4D3D-819E-A5D0F121E6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9"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0"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1"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2"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3"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4"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1DBBF5C-1A1B-4339-B71B-FCC8BB68D00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600F7CA-A62F-4C14-84B4-BA8A31998E8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7"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31A7AC-24F7-4F3A-8182-09E1553EAF1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9"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D1D95B-2F68-4902-90DA-8405621EB0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4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2"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1A2444-9BEF-4D9F-8398-C9B77B5ED6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130488-1FAB-4D97-9897-0D2F121C74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E0B29C-FB6A-4F72-A425-7AD00ED915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4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7"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8"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B8C4B9-A9B9-4DBE-A8D5-CB48B85B2A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5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2"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477DA7-07CE-4AF6-9C4C-2C87A311F5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5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6"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276D49-D5BD-4340-8DF9-380CA86C8B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5561F-6DEC-4F22-856A-2630FBF87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58"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9"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4BFCA4-FE55-4493-8925-43BDF6EBBC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6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3"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4"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C489A21-BF1E-4667-B3EB-95ED0030592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66"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7"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8"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9"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70"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71"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27257D0-2308-47BA-A860-95245CFCDA3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FCA49A0-29C5-4920-8A49-19D7E6B6CB7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84"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3914AD-2F3C-4953-9263-8F4D8E29433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86"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740094-B0CC-4DE2-AD22-7772A93B61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88"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472BA99-776A-486E-887B-A323195B02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A8193E8-5965-4E82-8E5D-965EB26EAE4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C1933B0-A3B0-4AEF-8BD0-C470082106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9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DCA571-CBF7-4E24-9112-2A405E486C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DE585-B2C5-4B72-A083-1017F5D1F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97"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9"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6FD2BC-3835-43E1-AE74-EDEFB11683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0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3"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8E042C-39F8-452E-B9C0-68CC7B02DF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05"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6"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8481F8-7A5F-431A-B5B0-C1E1A80940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0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1"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C2D5074-9968-4956-9C86-61042955B97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13"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4"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5"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6"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7"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8"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D2CF762-D1C1-4C67-8EA9-F7FE2C4C193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C746FC6-6B67-4981-9274-6A243EA083A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29"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2A9B2C3-48FD-48D7-9855-2AA52D6B7EF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31"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587E8B-4620-4C9D-B179-C69039E3F5D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3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865040-2C17-46A9-B478-24F06A50198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520B8EA-80CA-455D-A41A-2DD404A9FFD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100E2-EB1D-4DC6-A268-3180B1418F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F840583-A4A9-4455-BB96-9F2427FBD91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3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535B58-7D41-4955-BBC7-B970358ABD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4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4"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3D62BE-6039-4812-9279-EA34318A6D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4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8"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626DEB-67C8-4FB1-BF4D-64E1D675F8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50"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1"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5F511C-BB7D-4C47-A2FA-D2C0B207CA6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5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6"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1083C3E-0666-4EC3-AD9A-43CEDC2E77F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58"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9"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60"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61"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62"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63"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B43880C-FAA7-442E-8D6E-80F010CDC1F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596006C-E610-41AA-A4EE-A505D1567F9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76"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3940C4F-D508-415E-8872-477E53BA0B5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78"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20F5F04-1F9B-4B8C-B923-8DF22140C6B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109.xml"/><Relationship Id="rId8" Type="http://schemas.openxmlformats.org/officeDocument/2006/relationships/slideLayout" Target="../slideLayouts/slideLayout110.xml"/><Relationship Id="rId9" Type="http://schemas.openxmlformats.org/officeDocument/2006/relationships/slideLayout" Target="../slideLayouts/slideLayout111.xml"/><Relationship Id="rId10" Type="http://schemas.openxmlformats.org/officeDocument/2006/relationships/slideLayout" Target="../slideLayouts/slideLayout112.xml"/><Relationship Id="rId11" Type="http://schemas.openxmlformats.org/officeDocument/2006/relationships/slideLayout" Target="../slideLayouts/slideLayout113.xml"/><Relationship Id="rId12" Type="http://schemas.openxmlformats.org/officeDocument/2006/relationships/slideLayout" Target="../slideLayouts/slideLayout114.xml"/><Relationship Id="rId13" Type="http://schemas.openxmlformats.org/officeDocument/2006/relationships/slideLayout" Target="../slideLayouts/slideLayout115.xml"/><Relationship Id="rId14" Type="http://schemas.openxmlformats.org/officeDocument/2006/relationships/slideLayout" Target="../slideLayouts/slideLayout116.xml"/><Relationship Id="rId15" Type="http://schemas.openxmlformats.org/officeDocument/2006/relationships/slideLayout" Target="../slideLayouts/slideLayout117.xml"/><Relationship Id="rId16" Type="http://schemas.openxmlformats.org/officeDocument/2006/relationships/slideLayout" Target="../slideLayouts/slideLayout118.xml"/><Relationship Id="rId17" Type="http://schemas.openxmlformats.org/officeDocument/2006/relationships/slideLayout" Target="../slideLayouts/slideLayout119.xml"/><Relationship Id="rId18"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2.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133.xml"/><Relationship Id="rId8" Type="http://schemas.openxmlformats.org/officeDocument/2006/relationships/slideLayout" Target="../slideLayouts/slideLayout134.xml"/><Relationship Id="rId9" Type="http://schemas.openxmlformats.org/officeDocument/2006/relationships/slideLayout" Target="../slideLayouts/slideLayout135.xml"/><Relationship Id="rId10" Type="http://schemas.openxmlformats.org/officeDocument/2006/relationships/slideLayout" Target="../slideLayouts/slideLayout136.xml"/><Relationship Id="rId11" Type="http://schemas.openxmlformats.org/officeDocument/2006/relationships/slideLayout" Target="../slideLayouts/slideLayout137.xml"/><Relationship Id="rId12" Type="http://schemas.openxmlformats.org/officeDocument/2006/relationships/slideLayout" Target="../slideLayouts/slideLayout138.xml"/><Relationship Id="rId13" Type="http://schemas.openxmlformats.org/officeDocument/2006/relationships/slideLayout" Target="../slideLayouts/slideLayout139.xml"/><Relationship Id="rId14" Type="http://schemas.openxmlformats.org/officeDocument/2006/relationships/slideLayout" Target="../slideLayouts/slideLayout140.xml"/><Relationship Id="rId15" Type="http://schemas.openxmlformats.org/officeDocument/2006/relationships/slideLayout" Target="../slideLayouts/slideLayout141.xml"/><Relationship Id="rId16" Type="http://schemas.openxmlformats.org/officeDocument/2006/relationships/slideLayout" Target="../slideLayouts/slideLayout142.xml"/><Relationship Id="rId17" Type="http://schemas.openxmlformats.org/officeDocument/2006/relationships/slideLayout" Target="../slideLayouts/slideLayout143.xml"/><Relationship Id="rId18"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2.png"/><Relationship Id="rId9" Type="http://schemas.openxmlformats.org/officeDocument/2006/relationships/image" Target="../media/image1.png"/><Relationship Id="rId10" Type="http://schemas.openxmlformats.org/officeDocument/2006/relationships/image" Target="../media/image2.png"/><Relationship Id="rId11" Type="http://schemas.openxmlformats.org/officeDocument/2006/relationships/slideLayout" Target="../slideLayouts/slideLayout145.xml"/><Relationship Id="rId12" Type="http://schemas.openxmlformats.org/officeDocument/2006/relationships/slideLayout" Target="../slideLayouts/slideLayout146.xml"/><Relationship Id="rId13" Type="http://schemas.openxmlformats.org/officeDocument/2006/relationships/slideLayout" Target="../slideLayouts/slideLayout147.xml"/><Relationship Id="rId14" Type="http://schemas.openxmlformats.org/officeDocument/2006/relationships/slideLayout" Target="../slideLayouts/slideLayout148.xml"/><Relationship Id="rId15" Type="http://schemas.openxmlformats.org/officeDocument/2006/relationships/slideLayout" Target="../slideLayouts/slideLayout149.xml"/><Relationship Id="rId16" Type="http://schemas.openxmlformats.org/officeDocument/2006/relationships/slideLayout" Target="../slideLayouts/slideLayout150.xml"/><Relationship Id="rId17" Type="http://schemas.openxmlformats.org/officeDocument/2006/relationships/slideLayout" Target="../slideLayouts/slideLayout151.xml"/><Relationship Id="rId18" Type="http://schemas.openxmlformats.org/officeDocument/2006/relationships/slideLayout" Target="../slideLayouts/slideLayout152.xml"/><Relationship Id="rId19" Type="http://schemas.openxmlformats.org/officeDocument/2006/relationships/slideLayout" Target="../slideLayouts/slideLayout153.xml"/><Relationship Id="rId20" Type="http://schemas.openxmlformats.org/officeDocument/2006/relationships/slideLayout" Target="../slideLayouts/slideLayout154.xml"/><Relationship Id="rId21" Type="http://schemas.openxmlformats.org/officeDocument/2006/relationships/slideLayout" Target="../slideLayouts/slideLayout155.xml"/><Relationship Id="rId22"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7.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169.xml"/><Relationship Id="rId9" Type="http://schemas.openxmlformats.org/officeDocument/2006/relationships/slideLayout" Target="../slideLayouts/slideLayout170.xml"/><Relationship Id="rId10" Type="http://schemas.openxmlformats.org/officeDocument/2006/relationships/slideLayout" Target="../slideLayouts/slideLayout171.xml"/><Relationship Id="rId11" Type="http://schemas.openxmlformats.org/officeDocument/2006/relationships/slideLayout" Target="../slideLayouts/slideLayout172.xml"/><Relationship Id="rId12" Type="http://schemas.openxmlformats.org/officeDocument/2006/relationships/slideLayout" Target="../slideLayouts/slideLayout173.xml"/><Relationship Id="rId13" Type="http://schemas.openxmlformats.org/officeDocument/2006/relationships/slideLayout" Target="../slideLayouts/slideLayout174.xml"/><Relationship Id="rId14" Type="http://schemas.openxmlformats.org/officeDocument/2006/relationships/slideLayout" Target="../slideLayouts/slideLayout175.xml"/><Relationship Id="rId15" Type="http://schemas.openxmlformats.org/officeDocument/2006/relationships/slideLayout" Target="../slideLayouts/slideLayout176.xml"/><Relationship Id="rId16" Type="http://schemas.openxmlformats.org/officeDocument/2006/relationships/slideLayout" Target="../slideLayouts/slideLayout177.xml"/><Relationship Id="rId17" Type="http://schemas.openxmlformats.org/officeDocument/2006/relationships/slideLayout" Target="../slideLayouts/slideLayout178.xml"/><Relationship Id="rId18" Type="http://schemas.openxmlformats.org/officeDocument/2006/relationships/slideLayout" Target="../slideLayouts/slideLayout179.xml"/><Relationship Id="rId19"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181.xml"/><Relationship Id="rId8" Type="http://schemas.openxmlformats.org/officeDocument/2006/relationships/slideLayout" Target="../slideLayouts/slideLayout182.xml"/><Relationship Id="rId9" Type="http://schemas.openxmlformats.org/officeDocument/2006/relationships/slideLayout" Target="../slideLayouts/slideLayout183.xml"/><Relationship Id="rId10" Type="http://schemas.openxmlformats.org/officeDocument/2006/relationships/slideLayout" Target="../slideLayouts/slideLayout184.xml"/><Relationship Id="rId11" Type="http://schemas.openxmlformats.org/officeDocument/2006/relationships/slideLayout" Target="../slideLayouts/slideLayout185.xml"/><Relationship Id="rId12" Type="http://schemas.openxmlformats.org/officeDocument/2006/relationships/slideLayout" Target="../slideLayouts/slideLayout186.xml"/><Relationship Id="rId13" Type="http://schemas.openxmlformats.org/officeDocument/2006/relationships/slideLayout" Target="../slideLayouts/slideLayout187.xml"/><Relationship Id="rId14" Type="http://schemas.openxmlformats.org/officeDocument/2006/relationships/slideLayout" Target="../slideLayouts/slideLayout188.xml"/><Relationship Id="rId15" Type="http://schemas.openxmlformats.org/officeDocument/2006/relationships/slideLayout" Target="../slideLayouts/slideLayout189.xml"/><Relationship Id="rId16" Type="http://schemas.openxmlformats.org/officeDocument/2006/relationships/slideLayout" Target="../slideLayouts/slideLayout190.xml"/><Relationship Id="rId17" Type="http://schemas.openxmlformats.org/officeDocument/2006/relationships/slideLayout" Target="../slideLayouts/slideLayout191.xml"/><Relationship Id="rId18"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193.xml"/><Relationship Id="rId7" Type="http://schemas.openxmlformats.org/officeDocument/2006/relationships/slideLayout" Target="../slideLayouts/slideLayout194.xml"/><Relationship Id="rId8" Type="http://schemas.openxmlformats.org/officeDocument/2006/relationships/slideLayout" Target="../slideLayouts/slideLayout195.xml"/><Relationship Id="rId9" Type="http://schemas.openxmlformats.org/officeDocument/2006/relationships/slideLayout" Target="../slideLayouts/slideLayout196.xml"/><Relationship Id="rId10" Type="http://schemas.openxmlformats.org/officeDocument/2006/relationships/slideLayout" Target="../slideLayouts/slideLayout197.xml"/><Relationship Id="rId11" Type="http://schemas.openxmlformats.org/officeDocument/2006/relationships/slideLayout" Target="../slideLayouts/slideLayout198.xml"/><Relationship Id="rId12" Type="http://schemas.openxmlformats.org/officeDocument/2006/relationships/slideLayout" Target="../slideLayouts/slideLayout199.xml"/><Relationship Id="rId13" Type="http://schemas.openxmlformats.org/officeDocument/2006/relationships/slideLayout" Target="../slideLayouts/slideLayout200.xml"/><Relationship Id="rId14" Type="http://schemas.openxmlformats.org/officeDocument/2006/relationships/slideLayout" Target="../slideLayouts/slideLayout201.xml"/><Relationship Id="rId15" Type="http://schemas.openxmlformats.org/officeDocument/2006/relationships/slideLayout" Target="../slideLayouts/slideLayout202.xml"/><Relationship Id="rId16" Type="http://schemas.openxmlformats.org/officeDocument/2006/relationships/slideLayout" Target="../slideLayouts/slideLayout203.xml"/><Relationship Id="rId17"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205.xml"/><Relationship Id="rId8" Type="http://schemas.openxmlformats.org/officeDocument/2006/relationships/slideLayout" Target="../slideLayouts/slideLayout206.xml"/><Relationship Id="rId9" Type="http://schemas.openxmlformats.org/officeDocument/2006/relationships/slideLayout" Target="../slideLayouts/slideLayout207.xml"/><Relationship Id="rId10" Type="http://schemas.openxmlformats.org/officeDocument/2006/relationships/slideLayout" Target="../slideLayouts/slideLayout208.xml"/><Relationship Id="rId11" Type="http://schemas.openxmlformats.org/officeDocument/2006/relationships/slideLayout" Target="../slideLayouts/slideLayout209.xml"/><Relationship Id="rId12" Type="http://schemas.openxmlformats.org/officeDocument/2006/relationships/slideLayout" Target="../slideLayouts/slideLayout210.xml"/><Relationship Id="rId13" Type="http://schemas.openxmlformats.org/officeDocument/2006/relationships/slideLayout" Target="../slideLayouts/slideLayout211.xml"/><Relationship Id="rId14" Type="http://schemas.openxmlformats.org/officeDocument/2006/relationships/slideLayout" Target="../slideLayouts/slideLayout212.xml"/><Relationship Id="rId15" Type="http://schemas.openxmlformats.org/officeDocument/2006/relationships/slideLayout" Target="../slideLayouts/slideLayout213.xml"/><Relationship Id="rId16" Type="http://schemas.openxmlformats.org/officeDocument/2006/relationships/slideLayout" Target="../slideLayouts/slideLayout214.xml"/><Relationship Id="rId17" Type="http://schemas.openxmlformats.org/officeDocument/2006/relationships/slideLayout" Target="../slideLayouts/slideLayout215.xml"/><Relationship Id="rId18"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2.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217.xml"/><Relationship Id="rId8" Type="http://schemas.openxmlformats.org/officeDocument/2006/relationships/slideLayout" Target="../slideLayouts/slideLayout218.xml"/><Relationship Id="rId9" Type="http://schemas.openxmlformats.org/officeDocument/2006/relationships/slideLayout" Target="../slideLayouts/slideLayout219.xml"/><Relationship Id="rId10" Type="http://schemas.openxmlformats.org/officeDocument/2006/relationships/slideLayout" Target="../slideLayouts/slideLayout220.xml"/><Relationship Id="rId11" Type="http://schemas.openxmlformats.org/officeDocument/2006/relationships/slideLayout" Target="../slideLayouts/slideLayout221.xml"/><Relationship Id="rId12" Type="http://schemas.openxmlformats.org/officeDocument/2006/relationships/slideLayout" Target="../slideLayouts/slideLayout222.xml"/><Relationship Id="rId13" Type="http://schemas.openxmlformats.org/officeDocument/2006/relationships/slideLayout" Target="../slideLayouts/slideLayout223.xml"/><Relationship Id="rId14" Type="http://schemas.openxmlformats.org/officeDocument/2006/relationships/slideLayout" Target="../slideLayouts/slideLayout224.xml"/><Relationship Id="rId15" Type="http://schemas.openxmlformats.org/officeDocument/2006/relationships/slideLayout" Target="../slideLayouts/slideLayout225.xml"/><Relationship Id="rId16" Type="http://schemas.openxmlformats.org/officeDocument/2006/relationships/slideLayout" Target="../slideLayouts/slideLayout226.xml"/><Relationship Id="rId17" Type="http://schemas.openxmlformats.org/officeDocument/2006/relationships/slideLayout" Target="../slideLayouts/slideLayout227.xml"/><Relationship Id="rId18"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2.png"/><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229.xml"/><Relationship Id="rId6" Type="http://schemas.openxmlformats.org/officeDocument/2006/relationships/slideLayout" Target="../slideLayouts/slideLayout230.xml"/><Relationship Id="rId7" Type="http://schemas.openxmlformats.org/officeDocument/2006/relationships/slideLayout" Target="../slideLayouts/slideLayout231.xml"/><Relationship Id="rId8" Type="http://schemas.openxmlformats.org/officeDocument/2006/relationships/slideLayout" Target="../slideLayouts/slideLayout232.xml"/><Relationship Id="rId9" Type="http://schemas.openxmlformats.org/officeDocument/2006/relationships/slideLayout" Target="../slideLayouts/slideLayout233.xml"/><Relationship Id="rId10" Type="http://schemas.openxmlformats.org/officeDocument/2006/relationships/slideLayout" Target="../slideLayouts/slideLayout234.xml"/><Relationship Id="rId11" Type="http://schemas.openxmlformats.org/officeDocument/2006/relationships/slideLayout" Target="../slideLayouts/slideLayout235.xml"/><Relationship Id="rId12" Type="http://schemas.openxmlformats.org/officeDocument/2006/relationships/slideLayout" Target="../slideLayouts/slideLayout236.xml"/><Relationship Id="rId13" Type="http://schemas.openxmlformats.org/officeDocument/2006/relationships/slideLayout" Target="../slideLayouts/slideLayout237.xml"/><Relationship Id="rId14" Type="http://schemas.openxmlformats.org/officeDocument/2006/relationships/slideLayout" Target="../slideLayouts/slideLayout238.xml"/><Relationship Id="rId15" Type="http://schemas.openxmlformats.org/officeDocument/2006/relationships/slideLayout" Target="../slideLayouts/slideLayout239.xml"/><Relationship Id="rId16"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241.xml"/><Relationship Id="rId8" Type="http://schemas.openxmlformats.org/officeDocument/2006/relationships/slideLayout" Target="../slideLayouts/slideLayout242.xml"/><Relationship Id="rId9" Type="http://schemas.openxmlformats.org/officeDocument/2006/relationships/slideLayout" Target="../slideLayouts/slideLayout243.xml"/><Relationship Id="rId10" Type="http://schemas.openxmlformats.org/officeDocument/2006/relationships/slideLayout" Target="../slideLayouts/slideLayout244.xml"/><Relationship Id="rId11" Type="http://schemas.openxmlformats.org/officeDocument/2006/relationships/slideLayout" Target="../slideLayouts/slideLayout245.xml"/><Relationship Id="rId12" Type="http://schemas.openxmlformats.org/officeDocument/2006/relationships/slideLayout" Target="../slideLayouts/slideLayout246.xml"/><Relationship Id="rId13" Type="http://schemas.openxmlformats.org/officeDocument/2006/relationships/slideLayout" Target="../slideLayouts/slideLayout247.xml"/><Relationship Id="rId14" Type="http://schemas.openxmlformats.org/officeDocument/2006/relationships/slideLayout" Target="../slideLayouts/slideLayout248.xml"/><Relationship Id="rId15" Type="http://schemas.openxmlformats.org/officeDocument/2006/relationships/slideLayout" Target="../slideLayouts/slideLayout249.xml"/><Relationship Id="rId16" Type="http://schemas.openxmlformats.org/officeDocument/2006/relationships/slideLayout" Target="../slideLayouts/slideLayout250.xml"/><Relationship Id="rId17" Type="http://schemas.openxmlformats.org/officeDocument/2006/relationships/slideLayout" Target="../slideLayouts/slideLayout251.xml"/><Relationship Id="rId18"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253.xml"/><Relationship Id="rId8" Type="http://schemas.openxmlformats.org/officeDocument/2006/relationships/slideLayout" Target="../slideLayouts/slideLayout254.xml"/><Relationship Id="rId9" Type="http://schemas.openxmlformats.org/officeDocument/2006/relationships/slideLayout" Target="../slideLayouts/slideLayout255.xml"/><Relationship Id="rId10" Type="http://schemas.openxmlformats.org/officeDocument/2006/relationships/slideLayout" Target="../slideLayouts/slideLayout256.xml"/><Relationship Id="rId11" Type="http://schemas.openxmlformats.org/officeDocument/2006/relationships/slideLayout" Target="../slideLayouts/slideLayout257.xml"/><Relationship Id="rId12" Type="http://schemas.openxmlformats.org/officeDocument/2006/relationships/slideLayout" Target="../slideLayouts/slideLayout258.xml"/><Relationship Id="rId13" Type="http://schemas.openxmlformats.org/officeDocument/2006/relationships/slideLayout" Target="../slideLayouts/slideLayout259.xml"/><Relationship Id="rId14" Type="http://schemas.openxmlformats.org/officeDocument/2006/relationships/slideLayout" Target="../slideLayouts/slideLayout260.xml"/><Relationship Id="rId15" Type="http://schemas.openxmlformats.org/officeDocument/2006/relationships/slideLayout" Target="../slideLayouts/slideLayout261.xml"/><Relationship Id="rId16" Type="http://schemas.openxmlformats.org/officeDocument/2006/relationships/slideLayout" Target="../slideLayouts/slideLayout262.xml"/><Relationship Id="rId17" Type="http://schemas.openxmlformats.org/officeDocument/2006/relationships/slideLayout" Target="../slideLayouts/slideLayout263.xml"/><Relationship Id="rId18"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2.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265.xml"/><Relationship Id="rId8" Type="http://schemas.openxmlformats.org/officeDocument/2006/relationships/slideLayout" Target="../slideLayouts/slideLayout266.xml"/><Relationship Id="rId9" Type="http://schemas.openxmlformats.org/officeDocument/2006/relationships/slideLayout" Target="../slideLayouts/slideLayout267.xml"/><Relationship Id="rId10" Type="http://schemas.openxmlformats.org/officeDocument/2006/relationships/slideLayout" Target="../slideLayouts/slideLayout268.xml"/><Relationship Id="rId11" Type="http://schemas.openxmlformats.org/officeDocument/2006/relationships/slideLayout" Target="../slideLayouts/slideLayout269.xml"/><Relationship Id="rId12" Type="http://schemas.openxmlformats.org/officeDocument/2006/relationships/slideLayout" Target="../slideLayouts/slideLayout270.xml"/><Relationship Id="rId13" Type="http://schemas.openxmlformats.org/officeDocument/2006/relationships/slideLayout" Target="../slideLayouts/slideLayout271.xml"/><Relationship Id="rId14" Type="http://schemas.openxmlformats.org/officeDocument/2006/relationships/slideLayout" Target="../slideLayouts/slideLayout272.xml"/><Relationship Id="rId15" Type="http://schemas.openxmlformats.org/officeDocument/2006/relationships/slideLayout" Target="../slideLayouts/slideLayout273.xml"/><Relationship Id="rId16" Type="http://schemas.openxmlformats.org/officeDocument/2006/relationships/slideLayout" Target="../slideLayouts/slideLayout274.xml"/><Relationship Id="rId17" Type="http://schemas.openxmlformats.org/officeDocument/2006/relationships/slideLayout" Target="../slideLayouts/slideLayout275.xml"/><Relationship Id="rId18"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277.xml"/><Relationship Id="rId8" Type="http://schemas.openxmlformats.org/officeDocument/2006/relationships/slideLayout" Target="../slideLayouts/slideLayout278.xml"/><Relationship Id="rId9" Type="http://schemas.openxmlformats.org/officeDocument/2006/relationships/slideLayout" Target="../slideLayouts/slideLayout279.xml"/><Relationship Id="rId10" Type="http://schemas.openxmlformats.org/officeDocument/2006/relationships/slideLayout" Target="../slideLayouts/slideLayout280.xml"/><Relationship Id="rId11" Type="http://schemas.openxmlformats.org/officeDocument/2006/relationships/slideLayout" Target="../slideLayouts/slideLayout281.xml"/><Relationship Id="rId12" Type="http://schemas.openxmlformats.org/officeDocument/2006/relationships/slideLayout" Target="../slideLayouts/slideLayout282.xml"/><Relationship Id="rId13" Type="http://schemas.openxmlformats.org/officeDocument/2006/relationships/slideLayout" Target="../slideLayouts/slideLayout283.xml"/><Relationship Id="rId14" Type="http://schemas.openxmlformats.org/officeDocument/2006/relationships/slideLayout" Target="../slideLayouts/slideLayout284.xml"/><Relationship Id="rId15" Type="http://schemas.openxmlformats.org/officeDocument/2006/relationships/slideLayout" Target="../slideLayouts/slideLayout285.xml"/><Relationship Id="rId16" Type="http://schemas.openxmlformats.org/officeDocument/2006/relationships/slideLayout" Target="../slideLayouts/slideLayout286.xml"/><Relationship Id="rId17" Type="http://schemas.openxmlformats.org/officeDocument/2006/relationships/slideLayout" Target="../slideLayouts/slideLayout287.xml"/><Relationship Id="rId18"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2.png"/><Relationship Id="rId9" Type="http://schemas.openxmlformats.org/officeDocument/2006/relationships/image" Target="../media/image1.png"/><Relationship Id="rId10" Type="http://schemas.openxmlformats.org/officeDocument/2006/relationships/image" Target="../media/image2.png"/><Relationship Id="rId11" Type="http://schemas.openxmlformats.org/officeDocument/2006/relationships/slideLayout" Target="../slideLayouts/slideLayout289.xml"/><Relationship Id="rId12" Type="http://schemas.openxmlformats.org/officeDocument/2006/relationships/slideLayout" Target="../slideLayouts/slideLayout290.xml"/><Relationship Id="rId13" Type="http://schemas.openxmlformats.org/officeDocument/2006/relationships/slideLayout" Target="../slideLayouts/slideLayout291.xml"/><Relationship Id="rId14" Type="http://schemas.openxmlformats.org/officeDocument/2006/relationships/slideLayout" Target="../slideLayouts/slideLayout292.xml"/><Relationship Id="rId15" Type="http://schemas.openxmlformats.org/officeDocument/2006/relationships/slideLayout" Target="../slideLayouts/slideLayout293.xml"/><Relationship Id="rId16" Type="http://schemas.openxmlformats.org/officeDocument/2006/relationships/slideLayout" Target="../slideLayouts/slideLayout294.xml"/><Relationship Id="rId17" Type="http://schemas.openxmlformats.org/officeDocument/2006/relationships/slideLayout" Target="../slideLayouts/slideLayout295.xml"/><Relationship Id="rId18" Type="http://schemas.openxmlformats.org/officeDocument/2006/relationships/slideLayout" Target="../slideLayouts/slideLayout296.xml"/><Relationship Id="rId19" Type="http://schemas.openxmlformats.org/officeDocument/2006/relationships/slideLayout" Target="../slideLayouts/slideLayout297.xml"/><Relationship Id="rId20" Type="http://schemas.openxmlformats.org/officeDocument/2006/relationships/slideLayout" Target="../slideLayouts/slideLayout298.xml"/><Relationship Id="rId21" Type="http://schemas.openxmlformats.org/officeDocument/2006/relationships/slideLayout" Target="../slideLayouts/slideLayout299.xml"/><Relationship Id="rId22"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7.pn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2.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73.xml"/><Relationship Id="rId8" Type="http://schemas.openxmlformats.org/officeDocument/2006/relationships/slideLayout" Target="../slideLayouts/slideLayout74.xml"/><Relationship Id="rId9" Type="http://schemas.openxmlformats.org/officeDocument/2006/relationships/slideLayout" Target="../slideLayouts/slideLayout75.xml"/><Relationship Id="rId10" Type="http://schemas.openxmlformats.org/officeDocument/2006/relationships/slideLayout" Target="../slideLayouts/slideLayout76.xml"/><Relationship Id="rId11" Type="http://schemas.openxmlformats.org/officeDocument/2006/relationships/slideLayout" Target="../slideLayouts/slideLayout77.xml"/><Relationship Id="rId12" Type="http://schemas.openxmlformats.org/officeDocument/2006/relationships/slideLayout" Target="../slideLayouts/slideLayout78.xml"/><Relationship Id="rId13" Type="http://schemas.openxmlformats.org/officeDocument/2006/relationships/slideLayout" Target="../slideLayouts/slideLayout79.xml"/><Relationship Id="rId14" Type="http://schemas.openxmlformats.org/officeDocument/2006/relationships/slideLayout" Target="../slideLayouts/slideLayout80.xml"/><Relationship Id="rId15" Type="http://schemas.openxmlformats.org/officeDocument/2006/relationships/slideLayout" Target="../slideLayouts/slideLayout81.xml"/><Relationship Id="rId16" Type="http://schemas.openxmlformats.org/officeDocument/2006/relationships/slideLayout" Target="../slideLayouts/slideLayout82.xml"/><Relationship Id="rId17" Type="http://schemas.openxmlformats.org/officeDocument/2006/relationships/slideLayout" Target="../slideLayouts/slideLayout83.xml"/><Relationship Id="rId18"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2.png"/><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2" name="PlaceHolder 3"/>
          <p:cNvSpPr>
            <a:spLocks noGrp="1"/>
          </p:cNvSpPr>
          <p:nvPr>
            <p:ph type="dt" idx="1"/>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A8A22-C685-4E0D-BF8D-F71D9DC4234C}"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9B98B-7A3C-4F38-BBA6-241153AC58B1}"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412" name="图片 7" descr=""/>
          <p:cNvPicPr/>
          <p:nvPr/>
        </p:nvPicPr>
        <p:blipFill>
          <a:blip r:embed="rId2"/>
          <a:stretch/>
        </p:blipFill>
        <p:spPr>
          <a:xfrm>
            <a:off x="10899720" y="5443560"/>
            <a:ext cx="1292400" cy="1414440"/>
          </a:xfrm>
          <a:prstGeom prst="rect">
            <a:avLst/>
          </a:prstGeom>
          <a:ln w="0">
            <a:noFill/>
          </a:ln>
        </p:spPr>
      </p:pic>
      <p:pic>
        <p:nvPicPr>
          <p:cNvPr id="413" name="图片 8" descr=""/>
          <p:cNvPicPr/>
          <p:nvPr/>
        </p:nvPicPr>
        <p:blipFill>
          <a:blip r:embed="rId3"/>
          <a:stretch/>
        </p:blipFill>
        <p:spPr>
          <a:xfrm>
            <a:off x="311040" y="6194520"/>
            <a:ext cx="507960" cy="431640"/>
          </a:xfrm>
          <a:prstGeom prst="rect">
            <a:avLst/>
          </a:prstGeom>
          <a:ln w="0">
            <a:noFill/>
          </a:ln>
        </p:spPr>
      </p:pic>
      <p:pic>
        <p:nvPicPr>
          <p:cNvPr id="414" name="图片 9" descr=""/>
          <p:cNvPicPr/>
          <p:nvPr/>
        </p:nvPicPr>
        <p:blipFill>
          <a:blip r:embed="rId4"/>
          <a:stretch/>
        </p:blipFill>
        <p:spPr>
          <a:xfrm>
            <a:off x="10291680" y="6410160"/>
            <a:ext cx="354240" cy="336600"/>
          </a:xfrm>
          <a:prstGeom prst="rect">
            <a:avLst/>
          </a:prstGeom>
          <a:ln w="0">
            <a:noFill/>
          </a:ln>
        </p:spPr>
      </p:pic>
      <p:pic>
        <p:nvPicPr>
          <p:cNvPr id="415" name="图片 10" descr=""/>
          <p:cNvPicPr/>
          <p:nvPr/>
        </p:nvPicPr>
        <p:blipFill>
          <a:blip r:embed="rId5"/>
          <a:stretch/>
        </p:blipFill>
        <p:spPr>
          <a:xfrm>
            <a:off x="260280" y="114480"/>
            <a:ext cx="546120" cy="534960"/>
          </a:xfrm>
          <a:prstGeom prst="rect">
            <a:avLst/>
          </a:prstGeom>
          <a:ln w="0">
            <a:noFill/>
          </a:ln>
        </p:spPr>
      </p:pic>
      <p:pic>
        <p:nvPicPr>
          <p:cNvPr id="416" name="图片 11" descr=""/>
          <p:cNvPicPr/>
          <p:nvPr/>
        </p:nvPicPr>
        <p:blipFill>
          <a:blip r:embed="rId6"/>
          <a:stretch/>
        </p:blipFill>
        <p:spPr>
          <a:xfrm>
            <a:off x="11442600" y="54000"/>
            <a:ext cx="615960" cy="608040"/>
          </a:xfrm>
          <a:prstGeom prst="rect">
            <a:avLst/>
          </a:prstGeom>
          <a:ln w="0">
            <a:noFill/>
          </a:ln>
        </p:spPr>
      </p:pic>
      <p:sp>
        <p:nvSpPr>
          <p:cNvPr id="41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418"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419" name="PlaceHolder 3"/>
          <p:cNvSpPr>
            <a:spLocks noGrp="1"/>
          </p:cNvSpPr>
          <p:nvPr>
            <p:ph type="dt" idx="28"/>
          </p:nvPr>
        </p:nvSpPr>
        <p:spPr>
          <a:xfrm>
            <a:off x="879120" y="6349680"/>
            <a:ext cx="2700360" cy="315720"/>
          </a:xfrm>
          <a:prstGeom prst="rect">
            <a:avLst/>
          </a:prstGeom>
          <a:noFill/>
          <a:ln w="0">
            <a:noFill/>
          </a:ln>
        </p:spPr>
        <p:txBody>
          <a:bodyPr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E5A20-D841-47E7-B78D-E0A826BFE12B}"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420" name="PlaceHolder 4"/>
          <p:cNvSpPr>
            <a:spLocks noGrp="1"/>
          </p:cNvSpPr>
          <p:nvPr>
            <p:ph type="ftr" idx="29"/>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1" name="PlaceHolder 5"/>
          <p:cNvSpPr>
            <a:spLocks noGrp="1"/>
          </p:cNvSpPr>
          <p:nvPr>
            <p:ph type="sldNum" idx="30"/>
          </p:nvPr>
        </p:nvSpPr>
        <p:spPr>
          <a:xfrm>
            <a:off x="8610120" y="6349680"/>
            <a:ext cx="2700360" cy="315720"/>
          </a:xfrm>
          <a:prstGeom prst="rect">
            <a:avLst/>
          </a:prstGeom>
          <a:noFill/>
          <a:ln w="0">
            <a:noFill/>
          </a:ln>
        </p:spPr>
        <p:txBody>
          <a:bodyPr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5DCAE-99F1-417F-BF11-1E56A8639C17}"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7"/>
    <p:sldLayoutId id="2147483767" r:id="rId8"/>
    <p:sldLayoutId id="2147483768" r:id="rId9"/>
    <p:sldLayoutId id="2147483769" r:id="rId10"/>
    <p:sldLayoutId id="2147483770" r:id="rId11"/>
    <p:sldLayoutId id="2147483771" r:id="rId12"/>
    <p:sldLayoutId id="2147483772" r:id="rId13"/>
    <p:sldLayoutId id="2147483773" r:id="rId14"/>
    <p:sldLayoutId id="2147483774" r:id="rId15"/>
    <p:sldLayoutId id="2147483775" r:id="rId16"/>
    <p:sldLayoutId id="2147483776" r:id="rId17"/>
    <p:sldLayoutId id="2147483777" r:id="rId18"/>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459" name="图片 6" descr=""/>
          <p:cNvPicPr/>
          <p:nvPr/>
        </p:nvPicPr>
        <p:blipFill>
          <a:blip r:embed="rId2"/>
          <a:stretch/>
        </p:blipFill>
        <p:spPr>
          <a:xfrm>
            <a:off x="10899720" y="5443560"/>
            <a:ext cx="1292400" cy="1414440"/>
          </a:xfrm>
          <a:prstGeom prst="rect">
            <a:avLst/>
          </a:prstGeom>
          <a:ln w="0">
            <a:noFill/>
          </a:ln>
        </p:spPr>
      </p:pic>
      <p:pic>
        <p:nvPicPr>
          <p:cNvPr id="460" name="图片 7" descr=""/>
          <p:cNvPicPr/>
          <p:nvPr/>
        </p:nvPicPr>
        <p:blipFill>
          <a:blip r:embed="rId3"/>
          <a:stretch/>
        </p:blipFill>
        <p:spPr>
          <a:xfrm>
            <a:off x="311040" y="6194520"/>
            <a:ext cx="507960" cy="431640"/>
          </a:xfrm>
          <a:prstGeom prst="rect">
            <a:avLst/>
          </a:prstGeom>
          <a:ln w="0">
            <a:noFill/>
          </a:ln>
        </p:spPr>
      </p:pic>
      <p:pic>
        <p:nvPicPr>
          <p:cNvPr id="461" name="图片 8" descr=""/>
          <p:cNvPicPr/>
          <p:nvPr/>
        </p:nvPicPr>
        <p:blipFill>
          <a:blip r:embed="rId4"/>
          <a:stretch/>
        </p:blipFill>
        <p:spPr>
          <a:xfrm>
            <a:off x="10291680" y="6410160"/>
            <a:ext cx="354240" cy="336600"/>
          </a:xfrm>
          <a:prstGeom prst="rect">
            <a:avLst/>
          </a:prstGeom>
          <a:ln w="0">
            <a:noFill/>
          </a:ln>
        </p:spPr>
      </p:pic>
      <p:pic>
        <p:nvPicPr>
          <p:cNvPr id="462" name="图片 9" descr=""/>
          <p:cNvPicPr/>
          <p:nvPr/>
        </p:nvPicPr>
        <p:blipFill>
          <a:blip r:embed="rId5"/>
          <a:stretch/>
        </p:blipFill>
        <p:spPr>
          <a:xfrm>
            <a:off x="260280" y="114480"/>
            <a:ext cx="546120" cy="534960"/>
          </a:xfrm>
          <a:prstGeom prst="rect">
            <a:avLst/>
          </a:prstGeom>
          <a:ln w="0">
            <a:noFill/>
          </a:ln>
        </p:spPr>
      </p:pic>
      <p:pic>
        <p:nvPicPr>
          <p:cNvPr id="463" name="图片 10" descr=""/>
          <p:cNvPicPr/>
          <p:nvPr/>
        </p:nvPicPr>
        <p:blipFill>
          <a:blip r:embed="rId6"/>
          <a:stretch/>
        </p:blipFill>
        <p:spPr>
          <a:xfrm>
            <a:off x="11442600" y="54000"/>
            <a:ext cx="615960" cy="608040"/>
          </a:xfrm>
          <a:prstGeom prst="rect">
            <a:avLst/>
          </a:prstGeom>
          <a:ln w="0">
            <a:noFill/>
          </a:ln>
        </p:spPr>
      </p:pic>
      <p:sp>
        <p:nvSpPr>
          <p:cNvPr id="46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465"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466" name="PlaceHolder 3"/>
          <p:cNvSpPr>
            <a:spLocks noGrp="1"/>
          </p:cNvSpPr>
          <p:nvPr>
            <p:ph type="dt" idx="31"/>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C47A1-1882-4E63-8FAF-1980CBD78937}"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467" name="PlaceHolder 4"/>
          <p:cNvSpPr>
            <a:spLocks noGrp="1"/>
          </p:cNvSpPr>
          <p:nvPr>
            <p:ph type="ftr" idx="32"/>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8" name="PlaceHolder 5"/>
          <p:cNvSpPr>
            <a:spLocks noGrp="1"/>
          </p:cNvSpPr>
          <p:nvPr>
            <p:ph type="sldNum" idx="33"/>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2F4C5-626A-443B-8B42-4E71ABAA0000}"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506" name="图片 5" descr=""/>
          <p:cNvPicPr/>
          <p:nvPr/>
        </p:nvPicPr>
        <p:blipFill>
          <a:blip r:embed="rId2"/>
          <a:stretch/>
        </p:blipFill>
        <p:spPr>
          <a:xfrm>
            <a:off x="10899720" y="5443560"/>
            <a:ext cx="1292400" cy="1414440"/>
          </a:xfrm>
          <a:prstGeom prst="rect">
            <a:avLst/>
          </a:prstGeom>
          <a:ln w="0">
            <a:noFill/>
          </a:ln>
        </p:spPr>
      </p:pic>
      <p:pic>
        <p:nvPicPr>
          <p:cNvPr id="507" name="图片 7" descr=""/>
          <p:cNvPicPr/>
          <p:nvPr/>
        </p:nvPicPr>
        <p:blipFill>
          <a:blip r:embed="rId3"/>
          <a:stretch/>
        </p:blipFill>
        <p:spPr>
          <a:xfrm>
            <a:off x="311040" y="6194520"/>
            <a:ext cx="507960" cy="431640"/>
          </a:xfrm>
          <a:prstGeom prst="rect">
            <a:avLst/>
          </a:prstGeom>
          <a:ln w="0">
            <a:noFill/>
          </a:ln>
        </p:spPr>
      </p:pic>
      <p:pic>
        <p:nvPicPr>
          <p:cNvPr id="508" name="图片 8" descr=""/>
          <p:cNvPicPr/>
          <p:nvPr/>
        </p:nvPicPr>
        <p:blipFill>
          <a:blip r:embed="rId4"/>
          <a:stretch/>
        </p:blipFill>
        <p:spPr>
          <a:xfrm>
            <a:off x="10291680" y="6410160"/>
            <a:ext cx="354240" cy="336600"/>
          </a:xfrm>
          <a:prstGeom prst="rect">
            <a:avLst/>
          </a:prstGeom>
          <a:ln w="0">
            <a:noFill/>
          </a:ln>
        </p:spPr>
      </p:pic>
      <p:pic>
        <p:nvPicPr>
          <p:cNvPr id="509" name="图片 9" descr=""/>
          <p:cNvPicPr/>
          <p:nvPr/>
        </p:nvPicPr>
        <p:blipFill>
          <a:blip r:embed="rId5"/>
          <a:stretch/>
        </p:blipFill>
        <p:spPr>
          <a:xfrm>
            <a:off x="260280" y="114480"/>
            <a:ext cx="546120" cy="534960"/>
          </a:xfrm>
          <a:prstGeom prst="rect">
            <a:avLst/>
          </a:prstGeom>
          <a:ln w="0">
            <a:noFill/>
          </a:ln>
        </p:spPr>
      </p:pic>
      <p:pic>
        <p:nvPicPr>
          <p:cNvPr id="510" name="图片 10" descr=""/>
          <p:cNvPicPr/>
          <p:nvPr/>
        </p:nvPicPr>
        <p:blipFill>
          <a:blip r:embed="rId6"/>
          <a:stretch/>
        </p:blipFill>
        <p:spPr>
          <a:xfrm>
            <a:off x="11442600" y="54000"/>
            <a:ext cx="615960" cy="608040"/>
          </a:xfrm>
          <a:prstGeom prst="rect">
            <a:avLst/>
          </a:prstGeom>
          <a:ln w="0">
            <a:noFill/>
          </a:ln>
        </p:spPr>
      </p:pic>
      <p:sp>
        <p:nvSpPr>
          <p:cNvPr id="51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512"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513" name="PlaceHolder 3"/>
          <p:cNvSpPr>
            <a:spLocks noGrp="1"/>
          </p:cNvSpPr>
          <p:nvPr>
            <p:ph type="dt" idx="34"/>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78F72-ED3A-4302-A6B0-7A1E0681DFF2}"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514" name="PlaceHolder 4"/>
          <p:cNvSpPr>
            <a:spLocks noGrp="1"/>
          </p:cNvSpPr>
          <p:nvPr>
            <p:ph type="ftr" idx="35"/>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5" name="PlaceHolder 5"/>
          <p:cNvSpPr>
            <a:spLocks noGrp="1"/>
          </p:cNvSpPr>
          <p:nvPr>
            <p:ph type="sldNum" idx="36"/>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38169-6CE6-4451-B8AA-6AD69C4B4206}"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7"/>
    <p:sldLayoutId id="2147483793" r:id="rId8"/>
    <p:sldLayoutId id="2147483794" r:id="rId9"/>
    <p:sldLayoutId id="2147483795" r:id="rId10"/>
    <p:sldLayoutId id="2147483796" r:id="rId11"/>
    <p:sldLayoutId id="2147483797" r:id="rId12"/>
    <p:sldLayoutId id="2147483798" r:id="rId13"/>
    <p:sldLayoutId id="2147483799" r:id="rId14"/>
    <p:sldLayoutId id="2147483800" r:id="rId15"/>
    <p:sldLayoutId id="2147483801" r:id="rId16"/>
    <p:sldLayoutId id="2147483802" r:id="rId17"/>
    <p:sldLayoutId id="2147483803" r:id="rId18"/>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553" name="图片 5" descr=""/>
          <p:cNvPicPr/>
          <p:nvPr/>
        </p:nvPicPr>
        <p:blipFill>
          <a:blip r:embed="rId2"/>
          <a:stretch/>
        </p:blipFill>
        <p:spPr>
          <a:xfrm>
            <a:off x="2868480" y="3490920"/>
            <a:ext cx="2543400" cy="3108240"/>
          </a:xfrm>
          <a:prstGeom prst="rect">
            <a:avLst/>
          </a:prstGeom>
          <a:ln w="0">
            <a:noFill/>
          </a:ln>
        </p:spPr>
      </p:pic>
      <p:pic>
        <p:nvPicPr>
          <p:cNvPr id="554" name="图片 6" descr=""/>
          <p:cNvPicPr/>
          <p:nvPr/>
        </p:nvPicPr>
        <p:blipFill>
          <a:blip r:embed="rId3"/>
          <a:stretch/>
        </p:blipFill>
        <p:spPr>
          <a:xfrm>
            <a:off x="6480" y="1612800"/>
            <a:ext cx="3257280" cy="5243760"/>
          </a:xfrm>
          <a:prstGeom prst="rect">
            <a:avLst/>
          </a:prstGeom>
          <a:ln w="0">
            <a:noFill/>
          </a:ln>
        </p:spPr>
      </p:pic>
      <p:pic>
        <p:nvPicPr>
          <p:cNvPr id="555" name="图片 6" descr=""/>
          <p:cNvPicPr/>
          <p:nvPr/>
        </p:nvPicPr>
        <p:blipFill>
          <a:blip r:embed="rId4"/>
          <a:stretch/>
        </p:blipFill>
        <p:spPr>
          <a:xfrm rot="17330400">
            <a:off x="3570480" y="5589000"/>
            <a:ext cx="568440" cy="542880"/>
          </a:xfrm>
          <a:prstGeom prst="rect">
            <a:avLst/>
          </a:prstGeom>
          <a:ln w="0">
            <a:noFill/>
          </a:ln>
        </p:spPr>
      </p:pic>
      <p:pic>
        <p:nvPicPr>
          <p:cNvPr id="556" name="图片 5" descr=""/>
          <p:cNvPicPr/>
          <p:nvPr/>
        </p:nvPicPr>
        <p:blipFill>
          <a:blip r:embed="rId5"/>
          <a:stretch/>
        </p:blipFill>
        <p:spPr>
          <a:xfrm rot="20422800">
            <a:off x="1217160" y="5847840"/>
            <a:ext cx="563760" cy="536760"/>
          </a:xfrm>
          <a:prstGeom prst="rect">
            <a:avLst/>
          </a:prstGeom>
          <a:ln w="0">
            <a:noFill/>
          </a:ln>
        </p:spPr>
      </p:pic>
      <p:pic>
        <p:nvPicPr>
          <p:cNvPr id="557" name="图片 9" descr=""/>
          <p:cNvPicPr/>
          <p:nvPr/>
        </p:nvPicPr>
        <p:blipFill>
          <a:blip r:embed="rId6"/>
          <a:stretch/>
        </p:blipFill>
        <p:spPr>
          <a:xfrm>
            <a:off x="4964040" y="4621320"/>
            <a:ext cx="1830600" cy="2236680"/>
          </a:xfrm>
          <a:prstGeom prst="rect">
            <a:avLst/>
          </a:prstGeom>
          <a:ln w="0">
            <a:noFill/>
          </a:ln>
        </p:spPr>
      </p:pic>
      <p:pic>
        <p:nvPicPr>
          <p:cNvPr id="558" name="图片 10" descr=""/>
          <p:cNvPicPr/>
          <p:nvPr/>
        </p:nvPicPr>
        <p:blipFill>
          <a:blip r:embed="rId7"/>
          <a:stretch/>
        </p:blipFill>
        <p:spPr>
          <a:xfrm>
            <a:off x="3616200" y="369720"/>
            <a:ext cx="2659320" cy="3116520"/>
          </a:xfrm>
          <a:prstGeom prst="rect">
            <a:avLst/>
          </a:prstGeom>
          <a:ln w="0">
            <a:noFill/>
          </a:ln>
        </p:spPr>
      </p:pic>
      <p:pic>
        <p:nvPicPr>
          <p:cNvPr id="559" name="图片 3" descr=""/>
          <p:cNvPicPr/>
          <p:nvPr/>
        </p:nvPicPr>
        <p:blipFill>
          <a:blip r:embed="rId8"/>
          <a:stretch/>
        </p:blipFill>
        <p:spPr>
          <a:xfrm flipH="1" rot="20731200">
            <a:off x="10271880" y="1108080"/>
            <a:ext cx="1067040" cy="1046160"/>
          </a:xfrm>
          <a:prstGeom prst="rect">
            <a:avLst/>
          </a:prstGeom>
          <a:ln w="0">
            <a:noFill/>
          </a:ln>
        </p:spPr>
      </p:pic>
      <p:pic>
        <p:nvPicPr>
          <p:cNvPr id="560" name="图片 4" descr=""/>
          <p:cNvPicPr/>
          <p:nvPr/>
        </p:nvPicPr>
        <p:blipFill>
          <a:blip r:embed="rId9"/>
          <a:stretch/>
        </p:blipFill>
        <p:spPr>
          <a:xfrm>
            <a:off x="8472600" y="5543640"/>
            <a:ext cx="558720" cy="533160"/>
          </a:xfrm>
          <a:prstGeom prst="rect">
            <a:avLst/>
          </a:prstGeom>
          <a:ln w="0">
            <a:noFill/>
          </a:ln>
        </p:spPr>
      </p:pic>
      <p:pic>
        <p:nvPicPr>
          <p:cNvPr id="561" name="图片 3" descr=""/>
          <p:cNvPicPr/>
          <p:nvPr/>
        </p:nvPicPr>
        <p:blipFill>
          <a:blip r:embed="rId10"/>
          <a:stretch/>
        </p:blipFill>
        <p:spPr>
          <a:xfrm>
            <a:off x="2421000" y="1197000"/>
            <a:ext cx="950760" cy="933480"/>
          </a:xfrm>
          <a:prstGeom prst="rect">
            <a:avLst/>
          </a:prstGeom>
          <a:ln w="0">
            <a:noFill/>
          </a:ln>
        </p:spPr>
      </p:pic>
      <p:sp>
        <p:nvSpPr>
          <p:cNvPr id="56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563"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564" name="PlaceHolder 3"/>
          <p:cNvSpPr>
            <a:spLocks noGrp="1"/>
          </p:cNvSpPr>
          <p:nvPr>
            <p:ph type="dt" idx="37"/>
          </p:nvPr>
        </p:nvSpPr>
        <p:spPr>
          <a:xfrm>
            <a:off x="723960" y="6356520"/>
            <a:ext cx="2743200" cy="36504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3357F-1A99-4497-8794-BD0F468F6FB9}"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565" name="PlaceHolder 4"/>
          <p:cNvSpPr>
            <a:spLocks noGrp="1"/>
          </p:cNvSpPr>
          <p:nvPr>
            <p:ph type="ftr" idx="38"/>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6" name="PlaceHolder 5"/>
          <p:cNvSpPr>
            <a:spLocks noGrp="1"/>
          </p:cNvSpPr>
          <p:nvPr>
            <p:ph type="sldNum" idx="39"/>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E03EB-1176-4354-ADA8-381A3C01BB09}"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11"/>
    <p:sldLayoutId id="2147483806" r:id="rId12"/>
    <p:sldLayoutId id="2147483807" r:id="rId13"/>
    <p:sldLayoutId id="2147483808" r:id="rId14"/>
    <p:sldLayoutId id="2147483809" r:id="rId15"/>
    <p:sldLayoutId id="2147483810" r:id="rId16"/>
    <p:sldLayoutId id="2147483811" r:id="rId17"/>
    <p:sldLayoutId id="2147483812" r:id="rId18"/>
    <p:sldLayoutId id="2147483813" r:id="rId19"/>
    <p:sldLayoutId id="2147483814" r:id="rId20"/>
    <p:sldLayoutId id="2147483815" r:id="rId21"/>
    <p:sldLayoutId id="2147483816" r:id="rId22"/>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03"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4" name="矩形 7"/>
          <p:cNvSpPr/>
          <p:nvPr/>
        </p:nvSpPr>
        <p:spPr>
          <a:xfrm>
            <a:off x="0" y="0"/>
            <a:ext cx="12192120" cy="68580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606"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607" name="PlaceHolder 3"/>
          <p:cNvSpPr>
            <a:spLocks noGrp="1"/>
          </p:cNvSpPr>
          <p:nvPr>
            <p:ph type="dt" idx="40"/>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F4B1E-25EC-4022-9DB2-F7B93A900F82}"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608" name="PlaceHolder 4"/>
          <p:cNvSpPr>
            <a:spLocks noGrp="1"/>
          </p:cNvSpPr>
          <p:nvPr>
            <p:ph type="ftr" idx="41"/>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9" name="PlaceHolder 5"/>
          <p:cNvSpPr>
            <a:spLocks noGrp="1"/>
          </p:cNvSpPr>
          <p:nvPr>
            <p:ph type="sldNum" idx="42"/>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00B09-46CF-474F-A46F-EB38DD55F876}"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47" name="图片 5" descr=""/>
          <p:cNvPicPr/>
          <p:nvPr/>
        </p:nvPicPr>
        <p:blipFill>
          <a:blip r:embed="rId2"/>
          <a:stretch/>
        </p:blipFill>
        <p:spPr>
          <a:xfrm rot="19920000">
            <a:off x="1331640" y="5760720"/>
            <a:ext cx="709560" cy="676080"/>
          </a:xfrm>
          <a:prstGeom prst="rect">
            <a:avLst/>
          </a:prstGeom>
          <a:ln w="0">
            <a:noFill/>
          </a:ln>
        </p:spPr>
      </p:pic>
      <p:pic>
        <p:nvPicPr>
          <p:cNvPr id="648" name="图片 6" descr=""/>
          <p:cNvPicPr/>
          <p:nvPr/>
        </p:nvPicPr>
        <p:blipFill>
          <a:blip r:embed="rId3"/>
          <a:stretch/>
        </p:blipFill>
        <p:spPr>
          <a:xfrm rot="17330400">
            <a:off x="3751200" y="5588640"/>
            <a:ext cx="568440" cy="543240"/>
          </a:xfrm>
          <a:prstGeom prst="rect">
            <a:avLst/>
          </a:prstGeom>
          <a:ln w="0">
            <a:noFill/>
          </a:ln>
        </p:spPr>
      </p:pic>
      <p:pic>
        <p:nvPicPr>
          <p:cNvPr id="649" name="图片 4" descr=""/>
          <p:cNvPicPr/>
          <p:nvPr/>
        </p:nvPicPr>
        <p:blipFill>
          <a:blip r:embed="rId4"/>
          <a:stretch/>
        </p:blipFill>
        <p:spPr>
          <a:xfrm>
            <a:off x="609480" y="693720"/>
            <a:ext cx="560520" cy="534960"/>
          </a:xfrm>
          <a:prstGeom prst="rect">
            <a:avLst/>
          </a:prstGeom>
          <a:ln w="0">
            <a:noFill/>
          </a:ln>
        </p:spPr>
      </p:pic>
      <p:pic>
        <p:nvPicPr>
          <p:cNvPr id="650" name="图片 3" descr=""/>
          <p:cNvPicPr/>
          <p:nvPr/>
        </p:nvPicPr>
        <p:blipFill>
          <a:blip r:embed="rId5"/>
          <a:stretch/>
        </p:blipFill>
        <p:spPr>
          <a:xfrm>
            <a:off x="2606760" y="1195560"/>
            <a:ext cx="950760" cy="933120"/>
          </a:xfrm>
          <a:prstGeom prst="rect">
            <a:avLst/>
          </a:prstGeom>
          <a:ln w="0">
            <a:noFill/>
          </a:ln>
        </p:spPr>
      </p:pic>
      <p:pic>
        <p:nvPicPr>
          <p:cNvPr id="651" name="图片 2" descr=""/>
          <p:cNvPicPr/>
          <p:nvPr/>
        </p:nvPicPr>
        <p:blipFill>
          <a:blip r:embed="rId6"/>
          <a:stretch/>
        </p:blipFill>
        <p:spPr>
          <a:xfrm>
            <a:off x="5986440" y="1724040"/>
            <a:ext cx="5950080" cy="4987800"/>
          </a:xfrm>
          <a:prstGeom prst="rect">
            <a:avLst/>
          </a:prstGeom>
          <a:ln w="0">
            <a:noFill/>
          </a:ln>
        </p:spPr>
      </p:pic>
      <p:pic>
        <p:nvPicPr>
          <p:cNvPr id="652" name="图片 1" descr=""/>
          <p:cNvPicPr/>
          <p:nvPr/>
        </p:nvPicPr>
        <p:blipFill>
          <a:blip r:embed="rId7"/>
          <a:stretch/>
        </p:blipFill>
        <p:spPr>
          <a:xfrm>
            <a:off x="10969560" y="1963800"/>
            <a:ext cx="1013040" cy="1003320"/>
          </a:xfrm>
          <a:prstGeom prst="rect">
            <a:avLst/>
          </a:prstGeom>
          <a:ln w="0">
            <a:noFill/>
          </a:ln>
        </p:spPr>
      </p:pic>
      <p:sp>
        <p:nvSpPr>
          <p:cNvPr id="65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654"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655" name="PlaceHolder 3"/>
          <p:cNvSpPr>
            <a:spLocks noGrp="1"/>
          </p:cNvSpPr>
          <p:nvPr>
            <p:ph type="dt" idx="43"/>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2D06E-8F47-4BC0-B29A-DD08F9FEF562}"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656" name="PlaceHolder 4"/>
          <p:cNvSpPr>
            <a:spLocks noGrp="1"/>
          </p:cNvSpPr>
          <p:nvPr>
            <p:ph type="ftr" idx="44"/>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7" name="PlaceHolder 5"/>
          <p:cNvSpPr>
            <a:spLocks noGrp="1"/>
          </p:cNvSpPr>
          <p:nvPr>
            <p:ph type="sldNum" idx="45"/>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C520F-C120-430E-91C1-AD4D48DDC6C9}"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8"/>
    <p:sldLayoutId id="2147483832" r:id="rId9"/>
    <p:sldLayoutId id="2147483833" r:id="rId10"/>
    <p:sldLayoutId id="2147483834" r:id="rId11"/>
    <p:sldLayoutId id="2147483835" r:id="rId12"/>
    <p:sldLayoutId id="2147483836" r:id="rId13"/>
    <p:sldLayoutId id="2147483837" r:id="rId14"/>
    <p:sldLayoutId id="2147483838" r:id="rId15"/>
    <p:sldLayoutId id="2147483839" r:id="rId16"/>
    <p:sldLayoutId id="2147483840" r:id="rId17"/>
    <p:sldLayoutId id="2147483841" r:id="rId18"/>
    <p:sldLayoutId id="2147483842" r:id="rId19"/>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95" name="图片 6" descr=""/>
          <p:cNvPicPr/>
          <p:nvPr/>
        </p:nvPicPr>
        <p:blipFill>
          <a:blip r:embed="rId2"/>
          <a:stretch/>
        </p:blipFill>
        <p:spPr>
          <a:xfrm>
            <a:off x="10899720" y="5443560"/>
            <a:ext cx="1292400" cy="1414440"/>
          </a:xfrm>
          <a:prstGeom prst="rect">
            <a:avLst/>
          </a:prstGeom>
          <a:ln w="0">
            <a:noFill/>
          </a:ln>
        </p:spPr>
      </p:pic>
      <p:pic>
        <p:nvPicPr>
          <p:cNvPr id="696" name="图片 7" descr=""/>
          <p:cNvPicPr/>
          <p:nvPr/>
        </p:nvPicPr>
        <p:blipFill>
          <a:blip r:embed="rId3"/>
          <a:stretch/>
        </p:blipFill>
        <p:spPr>
          <a:xfrm>
            <a:off x="311040" y="6194520"/>
            <a:ext cx="507960" cy="431640"/>
          </a:xfrm>
          <a:prstGeom prst="rect">
            <a:avLst/>
          </a:prstGeom>
          <a:ln w="0">
            <a:noFill/>
          </a:ln>
        </p:spPr>
      </p:pic>
      <p:pic>
        <p:nvPicPr>
          <p:cNvPr id="697" name="图片 8" descr=""/>
          <p:cNvPicPr/>
          <p:nvPr/>
        </p:nvPicPr>
        <p:blipFill>
          <a:blip r:embed="rId4"/>
          <a:stretch/>
        </p:blipFill>
        <p:spPr>
          <a:xfrm>
            <a:off x="10291680" y="6410160"/>
            <a:ext cx="354240" cy="336600"/>
          </a:xfrm>
          <a:prstGeom prst="rect">
            <a:avLst/>
          </a:prstGeom>
          <a:ln w="0">
            <a:noFill/>
          </a:ln>
        </p:spPr>
      </p:pic>
      <p:pic>
        <p:nvPicPr>
          <p:cNvPr id="698" name="图片 9" descr=""/>
          <p:cNvPicPr/>
          <p:nvPr/>
        </p:nvPicPr>
        <p:blipFill>
          <a:blip r:embed="rId5"/>
          <a:stretch/>
        </p:blipFill>
        <p:spPr>
          <a:xfrm>
            <a:off x="260280" y="114480"/>
            <a:ext cx="546120" cy="534960"/>
          </a:xfrm>
          <a:prstGeom prst="rect">
            <a:avLst/>
          </a:prstGeom>
          <a:ln w="0">
            <a:noFill/>
          </a:ln>
        </p:spPr>
      </p:pic>
      <p:pic>
        <p:nvPicPr>
          <p:cNvPr id="699" name="图片 10" descr=""/>
          <p:cNvPicPr/>
          <p:nvPr/>
        </p:nvPicPr>
        <p:blipFill>
          <a:blip r:embed="rId6"/>
          <a:stretch/>
        </p:blipFill>
        <p:spPr>
          <a:xfrm>
            <a:off x="11442600" y="54000"/>
            <a:ext cx="615960" cy="608040"/>
          </a:xfrm>
          <a:prstGeom prst="rect">
            <a:avLst/>
          </a:prstGeom>
          <a:ln w="0">
            <a:noFill/>
          </a:ln>
        </p:spPr>
      </p:pic>
      <p:sp>
        <p:nvSpPr>
          <p:cNvPr id="70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701"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702" name="PlaceHolder 3"/>
          <p:cNvSpPr>
            <a:spLocks noGrp="1"/>
          </p:cNvSpPr>
          <p:nvPr>
            <p:ph type="dt" idx="46"/>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5B5D1-BCEF-406F-A446-949E75D80CC5}"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703" name="PlaceHolder 4"/>
          <p:cNvSpPr>
            <a:spLocks noGrp="1"/>
          </p:cNvSpPr>
          <p:nvPr>
            <p:ph type="ftr" idx="47"/>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4" name="PlaceHolder 5"/>
          <p:cNvSpPr>
            <a:spLocks noGrp="1"/>
          </p:cNvSpPr>
          <p:nvPr>
            <p:ph type="sldNum" idx="48"/>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B9C9C-2D2C-468A-825B-5324D79FF1C3}"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7"/>
    <p:sldLayoutId id="2147483845" r:id="rId8"/>
    <p:sldLayoutId id="2147483846" r:id="rId9"/>
    <p:sldLayoutId id="2147483847" r:id="rId10"/>
    <p:sldLayoutId id="2147483848" r:id="rId11"/>
    <p:sldLayoutId id="2147483849" r:id="rId12"/>
    <p:sldLayoutId id="2147483850" r:id="rId13"/>
    <p:sldLayoutId id="2147483851" r:id="rId14"/>
    <p:sldLayoutId id="2147483852" r:id="rId15"/>
    <p:sldLayoutId id="2147483853" r:id="rId16"/>
    <p:sldLayoutId id="2147483854" r:id="rId17"/>
    <p:sldLayoutId id="2147483855" r:id="rId18"/>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742" name="图片 7" descr=""/>
          <p:cNvPicPr/>
          <p:nvPr/>
        </p:nvPicPr>
        <p:blipFill>
          <a:blip r:embed="rId2"/>
          <a:stretch/>
        </p:blipFill>
        <p:spPr>
          <a:xfrm flipH="1" rot="20731200">
            <a:off x="9333720" y="2427120"/>
            <a:ext cx="1067040" cy="1046160"/>
          </a:xfrm>
          <a:prstGeom prst="rect">
            <a:avLst/>
          </a:prstGeom>
          <a:ln w="0">
            <a:noFill/>
          </a:ln>
        </p:spPr>
      </p:pic>
      <p:pic>
        <p:nvPicPr>
          <p:cNvPr id="743" name="图片 3" descr=""/>
          <p:cNvPicPr/>
          <p:nvPr/>
        </p:nvPicPr>
        <p:blipFill>
          <a:blip r:embed="rId3"/>
          <a:stretch/>
        </p:blipFill>
        <p:spPr>
          <a:xfrm>
            <a:off x="2212920" y="2452680"/>
            <a:ext cx="951120" cy="933480"/>
          </a:xfrm>
          <a:prstGeom prst="rect">
            <a:avLst/>
          </a:prstGeom>
          <a:ln w="0">
            <a:noFill/>
          </a:ln>
        </p:spPr>
      </p:pic>
      <p:pic>
        <p:nvPicPr>
          <p:cNvPr id="744" name="图片 8" descr=""/>
          <p:cNvPicPr/>
          <p:nvPr/>
        </p:nvPicPr>
        <p:blipFill>
          <a:blip r:embed="rId4"/>
          <a:stretch/>
        </p:blipFill>
        <p:spPr>
          <a:xfrm>
            <a:off x="4859280" y="-30240"/>
            <a:ext cx="1836720" cy="2237040"/>
          </a:xfrm>
          <a:prstGeom prst="rect">
            <a:avLst/>
          </a:prstGeom>
          <a:ln w="0">
            <a:noFill/>
          </a:ln>
        </p:spPr>
      </p:pic>
      <p:pic>
        <p:nvPicPr>
          <p:cNvPr id="745" name="图片 9" descr=""/>
          <p:cNvPicPr/>
          <p:nvPr/>
        </p:nvPicPr>
        <p:blipFill>
          <a:blip r:embed="rId5"/>
          <a:stretch/>
        </p:blipFill>
        <p:spPr>
          <a:xfrm>
            <a:off x="5068800" y="4519440"/>
            <a:ext cx="2060640" cy="2325960"/>
          </a:xfrm>
          <a:prstGeom prst="rect">
            <a:avLst/>
          </a:prstGeom>
          <a:ln w="0">
            <a:noFill/>
          </a:ln>
        </p:spPr>
      </p:pic>
      <p:sp>
        <p:nvSpPr>
          <p:cNvPr id="74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747"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748" name="PlaceHolder 3"/>
          <p:cNvSpPr>
            <a:spLocks noGrp="1"/>
          </p:cNvSpPr>
          <p:nvPr>
            <p:ph type="dt" idx="49"/>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337A0-8ECD-4068-8BFC-49E1B1B281A0}"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749" name="PlaceHolder 4"/>
          <p:cNvSpPr>
            <a:spLocks noGrp="1"/>
          </p:cNvSpPr>
          <p:nvPr>
            <p:ph type="ftr" idx="50"/>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50" name="PlaceHolder 5"/>
          <p:cNvSpPr>
            <a:spLocks noGrp="1"/>
          </p:cNvSpPr>
          <p:nvPr>
            <p:ph type="sldNum" idx="51"/>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C6973-7175-4A7F-B7D4-E3FAB8343680}"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6"/>
    <p:sldLayoutId id="2147483858" r:id="rId7"/>
    <p:sldLayoutId id="2147483859" r:id="rId8"/>
    <p:sldLayoutId id="2147483860" r:id="rId9"/>
    <p:sldLayoutId id="2147483861" r:id="rId10"/>
    <p:sldLayoutId id="2147483862" r:id="rId11"/>
    <p:sldLayoutId id="2147483863" r:id="rId12"/>
    <p:sldLayoutId id="2147483864" r:id="rId13"/>
    <p:sldLayoutId id="2147483865" r:id="rId14"/>
    <p:sldLayoutId id="2147483866" r:id="rId15"/>
    <p:sldLayoutId id="2147483867" r:id="rId16"/>
    <p:sldLayoutId id="2147483868" r:id="rId17"/>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788" name="图片 7" descr=""/>
          <p:cNvPicPr/>
          <p:nvPr/>
        </p:nvPicPr>
        <p:blipFill>
          <a:blip r:embed="rId2"/>
          <a:stretch/>
        </p:blipFill>
        <p:spPr>
          <a:xfrm>
            <a:off x="10899720" y="5443560"/>
            <a:ext cx="1292400" cy="1414440"/>
          </a:xfrm>
          <a:prstGeom prst="rect">
            <a:avLst/>
          </a:prstGeom>
          <a:ln w="0">
            <a:noFill/>
          </a:ln>
        </p:spPr>
      </p:pic>
      <p:pic>
        <p:nvPicPr>
          <p:cNvPr id="789" name="图片 8" descr=""/>
          <p:cNvPicPr/>
          <p:nvPr/>
        </p:nvPicPr>
        <p:blipFill>
          <a:blip r:embed="rId3"/>
          <a:stretch/>
        </p:blipFill>
        <p:spPr>
          <a:xfrm>
            <a:off x="311040" y="6194520"/>
            <a:ext cx="507960" cy="431640"/>
          </a:xfrm>
          <a:prstGeom prst="rect">
            <a:avLst/>
          </a:prstGeom>
          <a:ln w="0">
            <a:noFill/>
          </a:ln>
        </p:spPr>
      </p:pic>
      <p:pic>
        <p:nvPicPr>
          <p:cNvPr id="790" name="图片 9" descr=""/>
          <p:cNvPicPr/>
          <p:nvPr/>
        </p:nvPicPr>
        <p:blipFill>
          <a:blip r:embed="rId4"/>
          <a:stretch/>
        </p:blipFill>
        <p:spPr>
          <a:xfrm>
            <a:off x="10291680" y="6410160"/>
            <a:ext cx="354240" cy="336600"/>
          </a:xfrm>
          <a:prstGeom prst="rect">
            <a:avLst/>
          </a:prstGeom>
          <a:ln w="0">
            <a:noFill/>
          </a:ln>
        </p:spPr>
      </p:pic>
      <p:pic>
        <p:nvPicPr>
          <p:cNvPr id="791" name="图片 10" descr=""/>
          <p:cNvPicPr/>
          <p:nvPr/>
        </p:nvPicPr>
        <p:blipFill>
          <a:blip r:embed="rId5"/>
          <a:stretch/>
        </p:blipFill>
        <p:spPr>
          <a:xfrm>
            <a:off x="260280" y="114480"/>
            <a:ext cx="546120" cy="534960"/>
          </a:xfrm>
          <a:prstGeom prst="rect">
            <a:avLst/>
          </a:prstGeom>
          <a:ln w="0">
            <a:noFill/>
          </a:ln>
        </p:spPr>
      </p:pic>
      <p:pic>
        <p:nvPicPr>
          <p:cNvPr id="792" name="图片 11" descr=""/>
          <p:cNvPicPr/>
          <p:nvPr/>
        </p:nvPicPr>
        <p:blipFill>
          <a:blip r:embed="rId6"/>
          <a:stretch/>
        </p:blipFill>
        <p:spPr>
          <a:xfrm>
            <a:off x="11442600" y="54000"/>
            <a:ext cx="615960" cy="608040"/>
          </a:xfrm>
          <a:prstGeom prst="rect">
            <a:avLst/>
          </a:prstGeom>
          <a:ln w="0">
            <a:noFill/>
          </a:ln>
        </p:spPr>
      </p:pic>
      <p:sp>
        <p:nvSpPr>
          <p:cNvPr id="79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794"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795" name="PlaceHolder 3"/>
          <p:cNvSpPr>
            <a:spLocks noGrp="1"/>
          </p:cNvSpPr>
          <p:nvPr>
            <p:ph type="dt" idx="52"/>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5DB84-20E4-4CB7-B811-093B5E2A2C52}"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796" name="PlaceHolder 4"/>
          <p:cNvSpPr>
            <a:spLocks noGrp="1"/>
          </p:cNvSpPr>
          <p:nvPr>
            <p:ph type="ftr" idx="53"/>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7" name="PlaceHolder 5"/>
          <p:cNvSpPr>
            <a:spLocks noGrp="1"/>
          </p:cNvSpPr>
          <p:nvPr>
            <p:ph type="sldNum" idx="54"/>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FDEBA-2173-438D-9ADB-BF3788DDC475}"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7"/>
    <p:sldLayoutId id="2147483871" r:id="rId8"/>
    <p:sldLayoutId id="2147483872" r:id="rId9"/>
    <p:sldLayoutId id="2147483873" r:id="rId10"/>
    <p:sldLayoutId id="2147483874" r:id="rId11"/>
    <p:sldLayoutId id="2147483875" r:id="rId12"/>
    <p:sldLayoutId id="2147483876" r:id="rId13"/>
    <p:sldLayoutId id="2147483877" r:id="rId14"/>
    <p:sldLayoutId id="2147483878" r:id="rId15"/>
    <p:sldLayoutId id="2147483879" r:id="rId16"/>
    <p:sldLayoutId id="2147483880" r:id="rId17"/>
    <p:sldLayoutId id="2147483881" r:id="rId18"/>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835" name="图片 9" descr=""/>
          <p:cNvPicPr/>
          <p:nvPr/>
        </p:nvPicPr>
        <p:blipFill>
          <a:blip r:embed="rId2"/>
          <a:stretch/>
        </p:blipFill>
        <p:spPr>
          <a:xfrm>
            <a:off x="10899720" y="5443560"/>
            <a:ext cx="1292400" cy="1414440"/>
          </a:xfrm>
          <a:prstGeom prst="rect">
            <a:avLst/>
          </a:prstGeom>
          <a:ln w="0">
            <a:noFill/>
          </a:ln>
        </p:spPr>
      </p:pic>
      <p:pic>
        <p:nvPicPr>
          <p:cNvPr id="836" name="图片 10" descr=""/>
          <p:cNvPicPr/>
          <p:nvPr/>
        </p:nvPicPr>
        <p:blipFill>
          <a:blip r:embed="rId3"/>
          <a:stretch/>
        </p:blipFill>
        <p:spPr>
          <a:xfrm>
            <a:off x="311040" y="6194520"/>
            <a:ext cx="507960" cy="431640"/>
          </a:xfrm>
          <a:prstGeom prst="rect">
            <a:avLst/>
          </a:prstGeom>
          <a:ln w="0">
            <a:noFill/>
          </a:ln>
        </p:spPr>
      </p:pic>
      <p:pic>
        <p:nvPicPr>
          <p:cNvPr id="837" name="图片 11" descr=""/>
          <p:cNvPicPr/>
          <p:nvPr/>
        </p:nvPicPr>
        <p:blipFill>
          <a:blip r:embed="rId4"/>
          <a:stretch/>
        </p:blipFill>
        <p:spPr>
          <a:xfrm>
            <a:off x="10291680" y="6410160"/>
            <a:ext cx="354240" cy="336600"/>
          </a:xfrm>
          <a:prstGeom prst="rect">
            <a:avLst/>
          </a:prstGeom>
          <a:ln w="0">
            <a:noFill/>
          </a:ln>
        </p:spPr>
      </p:pic>
      <p:pic>
        <p:nvPicPr>
          <p:cNvPr id="838" name="图片 12" descr=""/>
          <p:cNvPicPr/>
          <p:nvPr/>
        </p:nvPicPr>
        <p:blipFill>
          <a:blip r:embed="rId5"/>
          <a:stretch/>
        </p:blipFill>
        <p:spPr>
          <a:xfrm>
            <a:off x="260280" y="114480"/>
            <a:ext cx="546120" cy="534960"/>
          </a:xfrm>
          <a:prstGeom prst="rect">
            <a:avLst/>
          </a:prstGeom>
          <a:ln w="0">
            <a:noFill/>
          </a:ln>
        </p:spPr>
      </p:pic>
      <p:pic>
        <p:nvPicPr>
          <p:cNvPr id="839" name="图片 13" descr=""/>
          <p:cNvPicPr/>
          <p:nvPr/>
        </p:nvPicPr>
        <p:blipFill>
          <a:blip r:embed="rId6"/>
          <a:stretch/>
        </p:blipFill>
        <p:spPr>
          <a:xfrm>
            <a:off x="11442600" y="54000"/>
            <a:ext cx="615960" cy="608040"/>
          </a:xfrm>
          <a:prstGeom prst="rect">
            <a:avLst/>
          </a:prstGeom>
          <a:ln w="0">
            <a:noFill/>
          </a:ln>
        </p:spPr>
      </p:pic>
      <p:sp>
        <p:nvSpPr>
          <p:cNvPr id="84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841"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842" name="PlaceHolder 3"/>
          <p:cNvSpPr>
            <a:spLocks noGrp="1"/>
          </p:cNvSpPr>
          <p:nvPr>
            <p:ph type="dt" idx="55"/>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540C0-DAC8-470E-B059-A5DDAB33FD9E}"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843" name="PlaceHolder 4"/>
          <p:cNvSpPr>
            <a:spLocks noGrp="1"/>
          </p:cNvSpPr>
          <p:nvPr>
            <p:ph type="ftr" idx="56"/>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4" name="PlaceHolder 5"/>
          <p:cNvSpPr>
            <a:spLocks noGrp="1"/>
          </p:cNvSpPr>
          <p:nvPr>
            <p:ph type="sldNum" idx="57"/>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D2FF8-7943-4EAD-B77A-0CF270D9BEE0}"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7"/>
    <p:sldLayoutId id="2147483884" r:id="rId8"/>
    <p:sldLayoutId id="2147483885" r:id="rId9"/>
    <p:sldLayoutId id="2147483886" r:id="rId10"/>
    <p:sldLayoutId id="2147483887" r:id="rId11"/>
    <p:sldLayoutId id="2147483888" r:id="rId12"/>
    <p:sldLayoutId id="2147483889" r:id="rId13"/>
    <p:sldLayoutId id="2147483890" r:id="rId14"/>
    <p:sldLayoutId id="2147483891" r:id="rId15"/>
    <p:sldLayoutId id="2147483892" r:id="rId16"/>
    <p:sldLayoutId id="2147483893" r:id="rId17"/>
    <p:sldLayoutId id="2147483894"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43"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44" name="PlaceHolder 3"/>
          <p:cNvSpPr>
            <a:spLocks noGrp="1"/>
          </p:cNvSpPr>
          <p:nvPr>
            <p:ph type="dt" idx="4"/>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14F7C-DF9D-463F-92FE-EFBD7CFD988F}"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 name="PlaceHolder 5"/>
          <p:cNvSpPr>
            <a:spLocks noGrp="1"/>
          </p:cNvSpPr>
          <p:nvPr>
            <p:ph type="sldNum" idx="6"/>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4E3BE-3575-4E56-A5FA-BB2D59A2645C}"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
        <p:nvSpPr>
          <p:cNvPr id="47"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882" name="图片 5" descr=""/>
          <p:cNvPicPr/>
          <p:nvPr/>
        </p:nvPicPr>
        <p:blipFill>
          <a:blip r:embed="rId2"/>
          <a:stretch/>
        </p:blipFill>
        <p:spPr>
          <a:xfrm>
            <a:off x="10899720" y="5443560"/>
            <a:ext cx="1292400" cy="1414440"/>
          </a:xfrm>
          <a:prstGeom prst="rect">
            <a:avLst/>
          </a:prstGeom>
          <a:ln w="0">
            <a:noFill/>
          </a:ln>
        </p:spPr>
      </p:pic>
      <p:pic>
        <p:nvPicPr>
          <p:cNvPr id="883" name="图片 8" descr=""/>
          <p:cNvPicPr/>
          <p:nvPr/>
        </p:nvPicPr>
        <p:blipFill>
          <a:blip r:embed="rId3"/>
          <a:stretch/>
        </p:blipFill>
        <p:spPr>
          <a:xfrm>
            <a:off x="260280" y="114480"/>
            <a:ext cx="546120" cy="534960"/>
          </a:xfrm>
          <a:prstGeom prst="rect">
            <a:avLst/>
          </a:prstGeom>
          <a:ln w="0">
            <a:noFill/>
          </a:ln>
        </p:spPr>
      </p:pic>
      <p:pic>
        <p:nvPicPr>
          <p:cNvPr id="884" name="图片 9" descr=""/>
          <p:cNvPicPr/>
          <p:nvPr/>
        </p:nvPicPr>
        <p:blipFill>
          <a:blip r:embed="rId4"/>
          <a:stretch/>
        </p:blipFill>
        <p:spPr>
          <a:xfrm>
            <a:off x="11442600" y="54000"/>
            <a:ext cx="615960" cy="608040"/>
          </a:xfrm>
          <a:prstGeom prst="rect">
            <a:avLst/>
          </a:prstGeom>
          <a:ln w="0">
            <a:noFill/>
          </a:ln>
        </p:spPr>
      </p:pic>
      <p:sp>
        <p:nvSpPr>
          <p:cNvPr id="88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886"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887" name="PlaceHolder 3"/>
          <p:cNvSpPr>
            <a:spLocks noGrp="1"/>
          </p:cNvSpPr>
          <p:nvPr>
            <p:ph type="dt" idx="58"/>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B8209-62EC-4821-900A-9B0A1AB63EB8}"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888" name="PlaceHolder 4"/>
          <p:cNvSpPr>
            <a:spLocks noGrp="1"/>
          </p:cNvSpPr>
          <p:nvPr>
            <p:ph type="ftr" idx="59"/>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9" name="PlaceHolder 5"/>
          <p:cNvSpPr>
            <a:spLocks noGrp="1"/>
          </p:cNvSpPr>
          <p:nvPr>
            <p:ph type="sldNum" idx="60"/>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7C854-828D-4643-B4A3-6D398616ACF8}"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5"/>
    <p:sldLayoutId id="2147483897" r:id="rId6"/>
    <p:sldLayoutId id="2147483898" r:id="rId7"/>
    <p:sldLayoutId id="2147483899" r:id="rId8"/>
    <p:sldLayoutId id="2147483900" r:id="rId9"/>
    <p:sldLayoutId id="2147483901" r:id="rId10"/>
    <p:sldLayoutId id="2147483902" r:id="rId11"/>
    <p:sldLayoutId id="2147483903" r:id="rId12"/>
    <p:sldLayoutId id="2147483904" r:id="rId13"/>
    <p:sldLayoutId id="2147483905" r:id="rId14"/>
    <p:sldLayoutId id="2147483906" r:id="rId15"/>
    <p:sldLayoutId id="2147483907" r:id="rId16"/>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927" name="图片 7" descr=""/>
          <p:cNvPicPr/>
          <p:nvPr/>
        </p:nvPicPr>
        <p:blipFill>
          <a:blip r:embed="rId2"/>
          <a:stretch/>
        </p:blipFill>
        <p:spPr>
          <a:xfrm>
            <a:off x="10899720" y="5443560"/>
            <a:ext cx="1292400" cy="1414440"/>
          </a:xfrm>
          <a:prstGeom prst="rect">
            <a:avLst/>
          </a:prstGeom>
          <a:ln w="0">
            <a:noFill/>
          </a:ln>
        </p:spPr>
      </p:pic>
      <p:pic>
        <p:nvPicPr>
          <p:cNvPr id="928" name="图片 8" descr=""/>
          <p:cNvPicPr/>
          <p:nvPr/>
        </p:nvPicPr>
        <p:blipFill>
          <a:blip r:embed="rId3"/>
          <a:stretch/>
        </p:blipFill>
        <p:spPr>
          <a:xfrm>
            <a:off x="311040" y="6194520"/>
            <a:ext cx="507960" cy="431640"/>
          </a:xfrm>
          <a:prstGeom prst="rect">
            <a:avLst/>
          </a:prstGeom>
          <a:ln w="0">
            <a:noFill/>
          </a:ln>
        </p:spPr>
      </p:pic>
      <p:pic>
        <p:nvPicPr>
          <p:cNvPr id="929" name="图片 9" descr=""/>
          <p:cNvPicPr/>
          <p:nvPr/>
        </p:nvPicPr>
        <p:blipFill>
          <a:blip r:embed="rId4"/>
          <a:stretch/>
        </p:blipFill>
        <p:spPr>
          <a:xfrm>
            <a:off x="10291680" y="6410160"/>
            <a:ext cx="354240" cy="336600"/>
          </a:xfrm>
          <a:prstGeom prst="rect">
            <a:avLst/>
          </a:prstGeom>
          <a:ln w="0">
            <a:noFill/>
          </a:ln>
        </p:spPr>
      </p:pic>
      <p:pic>
        <p:nvPicPr>
          <p:cNvPr id="930" name="图片 10" descr=""/>
          <p:cNvPicPr/>
          <p:nvPr/>
        </p:nvPicPr>
        <p:blipFill>
          <a:blip r:embed="rId5"/>
          <a:stretch/>
        </p:blipFill>
        <p:spPr>
          <a:xfrm>
            <a:off x="260280" y="114480"/>
            <a:ext cx="546120" cy="534960"/>
          </a:xfrm>
          <a:prstGeom prst="rect">
            <a:avLst/>
          </a:prstGeom>
          <a:ln w="0">
            <a:noFill/>
          </a:ln>
        </p:spPr>
      </p:pic>
      <p:pic>
        <p:nvPicPr>
          <p:cNvPr id="931" name="图片 11" descr=""/>
          <p:cNvPicPr/>
          <p:nvPr/>
        </p:nvPicPr>
        <p:blipFill>
          <a:blip r:embed="rId6"/>
          <a:stretch/>
        </p:blipFill>
        <p:spPr>
          <a:xfrm>
            <a:off x="11442600" y="54000"/>
            <a:ext cx="615960" cy="608040"/>
          </a:xfrm>
          <a:prstGeom prst="rect">
            <a:avLst/>
          </a:prstGeom>
          <a:ln w="0">
            <a:noFill/>
          </a:ln>
        </p:spPr>
      </p:pic>
      <p:sp>
        <p:nvSpPr>
          <p:cNvPr id="93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933"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934" name="PlaceHolder 3"/>
          <p:cNvSpPr>
            <a:spLocks noGrp="1"/>
          </p:cNvSpPr>
          <p:nvPr>
            <p:ph type="dt" idx="61"/>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6C373-878F-447A-B1CD-99F6902D5FAB}"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935" name="PlaceHolder 4"/>
          <p:cNvSpPr>
            <a:spLocks noGrp="1"/>
          </p:cNvSpPr>
          <p:nvPr>
            <p:ph type="ftr" idx="62"/>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36" name="PlaceHolder 5"/>
          <p:cNvSpPr>
            <a:spLocks noGrp="1"/>
          </p:cNvSpPr>
          <p:nvPr>
            <p:ph type="sldNum" idx="63"/>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1561B-4385-42C6-BED9-259DF10FD8BA}"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7"/>
    <p:sldLayoutId id="2147483910" r:id="rId8"/>
    <p:sldLayoutId id="2147483911" r:id="rId9"/>
    <p:sldLayoutId id="2147483912" r:id="rId10"/>
    <p:sldLayoutId id="2147483913" r:id="rId11"/>
    <p:sldLayoutId id="2147483914" r:id="rId12"/>
    <p:sldLayoutId id="2147483915" r:id="rId13"/>
    <p:sldLayoutId id="2147483916" r:id="rId14"/>
    <p:sldLayoutId id="2147483917" r:id="rId15"/>
    <p:sldLayoutId id="2147483918" r:id="rId16"/>
    <p:sldLayoutId id="2147483919" r:id="rId17"/>
    <p:sldLayoutId id="2147483920" r:id="rId18"/>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974" name="图片 7" descr=""/>
          <p:cNvPicPr/>
          <p:nvPr/>
        </p:nvPicPr>
        <p:blipFill>
          <a:blip r:embed="rId2"/>
          <a:stretch/>
        </p:blipFill>
        <p:spPr>
          <a:xfrm>
            <a:off x="10899720" y="5443560"/>
            <a:ext cx="1292400" cy="1414440"/>
          </a:xfrm>
          <a:prstGeom prst="rect">
            <a:avLst/>
          </a:prstGeom>
          <a:ln w="0">
            <a:noFill/>
          </a:ln>
        </p:spPr>
      </p:pic>
      <p:pic>
        <p:nvPicPr>
          <p:cNvPr id="975" name="图片 8" descr=""/>
          <p:cNvPicPr/>
          <p:nvPr/>
        </p:nvPicPr>
        <p:blipFill>
          <a:blip r:embed="rId3"/>
          <a:stretch/>
        </p:blipFill>
        <p:spPr>
          <a:xfrm>
            <a:off x="311040" y="6194520"/>
            <a:ext cx="507960" cy="431640"/>
          </a:xfrm>
          <a:prstGeom prst="rect">
            <a:avLst/>
          </a:prstGeom>
          <a:ln w="0">
            <a:noFill/>
          </a:ln>
        </p:spPr>
      </p:pic>
      <p:pic>
        <p:nvPicPr>
          <p:cNvPr id="976" name="图片 9" descr=""/>
          <p:cNvPicPr/>
          <p:nvPr/>
        </p:nvPicPr>
        <p:blipFill>
          <a:blip r:embed="rId4"/>
          <a:stretch/>
        </p:blipFill>
        <p:spPr>
          <a:xfrm>
            <a:off x="10291680" y="6410160"/>
            <a:ext cx="354240" cy="336600"/>
          </a:xfrm>
          <a:prstGeom prst="rect">
            <a:avLst/>
          </a:prstGeom>
          <a:ln w="0">
            <a:noFill/>
          </a:ln>
        </p:spPr>
      </p:pic>
      <p:pic>
        <p:nvPicPr>
          <p:cNvPr id="977" name="图片 10" descr=""/>
          <p:cNvPicPr/>
          <p:nvPr/>
        </p:nvPicPr>
        <p:blipFill>
          <a:blip r:embed="rId5"/>
          <a:stretch/>
        </p:blipFill>
        <p:spPr>
          <a:xfrm>
            <a:off x="260280" y="114480"/>
            <a:ext cx="546120" cy="534960"/>
          </a:xfrm>
          <a:prstGeom prst="rect">
            <a:avLst/>
          </a:prstGeom>
          <a:ln w="0">
            <a:noFill/>
          </a:ln>
        </p:spPr>
      </p:pic>
      <p:pic>
        <p:nvPicPr>
          <p:cNvPr id="978" name="图片 11" descr=""/>
          <p:cNvPicPr/>
          <p:nvPr/>
        </p:nvPicPr>
        <p:blipFill>
          <a:blip r:embed="rId6"/>
          <a:stretch/>
        </p:blipFill>
        <p:spPr>
          <a:xfrm>
            <a:off x="11442600" y="54000"/>
            <a:ext cx="615960" cy="608040"/>
          </a:xfrm>
          <a:prstGeom prst="rect">
            <a:avLst/>
          </a:prstGeom>
          <a:ln w="0">
            <a:noFill/>
          </a:ln>
        </p:spPr>
      </p:pic>
      <p:sp>
        <p:nvSpPr>
          <p:cNvPr id="97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980"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981" name="PlaceHolder 3"/>
          <p:cNvSpPr>
            <a:spLocks noGrp="1"/>
          </p:cNvSpPr>
          <p:nvPr>
            <p:ph type="dt" idx="64"/>
          </p:nvPr>
        </p:nvSpPr>
        <p:spPr>
          <a:xfrm>
            <a:off x="879120" y="6349680"/>
            <a:ext cx="2700360" cy="315720"/>
          </a:xfrm>
          <a:prstGeom prst="rect">
            <a:avLst/>
          </a:prstGeom>
          <a:noFill/>
          <a:ln w="0">
            <a:noFill/>
          </a:ln>
        </p:spPr>
        <p:txBody>
          <a:bodyPr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FD5DF-2518-443E-ACF1-CF832AA6720E}"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982" name="PlaceHolder 4"/>
          <p:cNvSpPr>
            <a:spLocks noGrp="1"/>
          </p:cNvSpPr>
          <p:nvPr>
            <p:ph type="ftr" idx="65"/>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83" name="PlaceHolder 5"/>
          <p:cNvSpPr>
            <a:spLocks noGrp="1"/>
          </p:cNvSpPr>
          <p:nvPr>
            <p:ph type="sldNum" idx="66"/>
          </p:nvPr>
        </p:nvSpPr>
        <p:spPr>
          <a:xfrm>
            <a:off x="8610120" y="6349680"/>
            <a:ext cx="2700360" cy="315720"/>
          </a:xfrm>
          <a:prstGeom prst="rect">
            <a:avLst/>
          </a:prstGeom>
          <a:noFill/>
          <a:ln w="0">
            <a:noFill/>
          </a:ln>
        </p:spPr>
        <p:txBody>
          <a:bodyPr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577D1-02E7-4D26-B52A-E5FA47DF0BE2}"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7"/>
    <p:sldLayoutId id="2147483923" r:id="rId8"/>
    <p:sldLayoutId id="2147483924" r:id="rId9"/>
    <p:sldLayoutId id="2147483925" r:id="rId10"/>
    <p:sldLayoutId id="2147483926" r:id="rId11"/>
    <p:sldLayoutId id="2147483927" r:id="rId12"/>
    <p:sldLayoutId id="2147483928" r:id="rId13"/>
    <p:sldLayoutId id="2147483929" r:id="rId14"/>
    <p:sldLayoutId id="2147483930" r:id="rId15"/>
    <p:sldLayoutId id="2147483931" r:id="rId16"/>
    <p:sldLayoutId id="2147483932" r:id="rId17"/>
    <p:sldLayoutId id="2147483933" r:id="rId18"/>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021" name="图片 6" descr=""/>
          <p:cNvPicPr/>
          <p:nvPr/>
        </p:nvPicPr>
        <p:blipFill>
          <a:blip r:embed="rId2"/>
          <a:stretch/>
        </p:blipFill>
        <p:spPr>
          <a:xfrm>
            <a:off x="10899720" y="5443560"/>
            <a:ext cx="1292400" cy="1414440"/>
          </a:xfrm>
          <a:prstGeom prst="rect">
            <a:avLst/>
          </a:prstGeom>
          <a:ln w="0">
            <a:noFill/>
          </a:ln>
        </p:spPr>
      </p:pic>
      <p:pic>
        <p:nvPicPr>
          <p:cNvPr id="1022" name="图片 7" descr=""/>
          <p:cNvPicPr/>
          <p:nvPr/>
        </p:nvPicPr>
        <p:blipFill>
          <a:blip r:embed="rId3"/>
          <a:stretch/>
        </p:blipFill>
        <p:spPr>
          <a:xfrm>
            <a:off x="311040" y="6194520"/>
            <a:ext cx="507960" cy="431640"/>
          </a:xfrm>
          <a:prstGeom prst="rect">
            <a:avLst/>
          </a:prstGeom>
          <a:ln w="0">
            <a:noFill/>
          </a:ln>
        </p:spPr>
      </p:pic>
      <p:pic>
        <p:nvPicPr>
          <p:cNvPr id="1023" name="图片 8" descr=""/>
          <p:cNvPicPr/>
          <p:nvPr/>
        </p:nvPicPr>
        <p:blipFill>
          <a:blip r:embed="rId4"/>
          <a:stretch/>
        </p:blipFill>
        <p:spPr>
          <a:xfrm>
            <a:off x="10291680" y="6410160"/>
            <a:ext cx="354240" cy="336600"/>
          </a:xfrm>
          <a:prstGeom prst="rect">
            <a:avLst/>
          </a:prstGeom>
          <a:ln w="0">
            <a:noFill/>
          </a:ln>
        </p:spPr>
      </p:pic>
      <p:pic>
        <p:nvPicPr>
          <p:cNvPr id="1024" name="图片 9" descr=""/>
          <p:cNvPicPr/>
          <p:nvPr/>
        </p:nvPicPr>
        <p:blipFill>
          <a:blip r:embed="rId5"/>
          <a:stretch/>
        </p:blipFill>
        <p:spPr>
          <a:xfrm>
            <a:off x="260280" y="114480"/>
            <a:ext cx="546120" cy="534960"/>
          </a:xfrm>
          <a:prstGeom prst="rect">
            <a:avLst/>
          </a:prstGeom>
          <a:ln w="0">
            <a:noFill/>
          </a:ln>
        </p:spPr>
      </p:pic>
      <p:pic>
        <p:nvPicPr>
          <p:cNvPr id="1025" name="图片 10" descr=""/>
          <p:cNvPicPr/>
          <p:nvPr/>
        </p:nvPicPr>
        <p:blipFill>
          <a:blip r:embed="rId6"/>
          <a:stretch/>
        </p:blipFill>
        <p:spPr>
          <a:xfrm>
            <a:off x="11442600" y="54000"/>
            <a:ext cx="615960" cy="608040"/>
          </a:xfrm>
          <a:prstGeom prst="rect">
            <a:avLst/>
          </a:prstGeom>
          <a:ln w="0">
            <a:noFill/>
          </a:ln>
        </p:spPr>
      </p:pic>
      <p:sp>
        <p:nvSpPr>
          <p:cNvPr id="102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027"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028" name="PlaceHolder 3"/>
          <p:cNvSpPr>
            <a:spLocks noGrp="1"/>
          </p:cNvSpPr>
          <p:nvPr>
            <p:ph type="dt" idx="67"/>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C8DDD-95E3-4F51-8D0B-DC41DC45DF51}"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029" name="PlaceHolder 4"/>
          <p:cNvSpPr>
            <a:spLocks noGrp="1"/>
          </p:cNvSpPr>
          <p:nvPr>
            <p:ph type="ftr" idx="68"/>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30" name="PlaceHolder 5"/>
          <p:cNvSpPr>
            <a:spLocks noGrp="1"/>
          </p:cNvSpPr>
          <p:nvPr>
            <p:ph type="sldNum" idx="69"/>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D8D33-1E07-475C-B81A-E8F8EA69DFF7}"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7"/>
    <p:sldLayoutId id="2147483936" r:id="rId8"/>
    <p:sldLayoutId id="2147483937" r:id="rId9"/>
    <p:sldLayoutId id="2147483938" r:id="rId10"/>
    <p:sldLayoutId id="2147483939" r:id="rId11"/>
    <p:sldLayoutId id="2147483940" r:id="rId12"/>
    <p:sldLayoutId id="2147483941" r:id="rId13"/>
    <p:sldLayoutId id="2147483942" r:id="rId14"/>
    <p:sldLayoutId id="2147483943" r:id="rId15"/>
    <p:sldLayoutId id="2147483944" r:id="rId16"/>
    <p:sldLayoutId id="2147483945" r:id="rId17"/>
    <p:sldLayoutId id="2147483946" r:id="rId18"/>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068" name="图片 5" descr=""/>
          <p:cNvPicPr/>
          <p:nvPr/>
        </p:nvPicPr>
        <p:blipFill>
          <a:blip r:embed="rId2"/>
          <a:stretch/>
        </p:blipFill>
        <p:spPr>
          <a:xfrm>
            <a:off x="10899720" y="5443560"/>
            <a:ext cx="1292400" cy="1414440"/>
          </a:xfrm>
          <a:prstGeom prst="rect">
            <a:avLst/>
          </a:prstGeom>
          <a:ln w="0">
            <a:noFill/>
          </a:ln>
        </p:spPr>
      </p:pic>
      <p:pic>
        <p:nvPicPr>
          <p:cNvPr id="1069" name="图片 7" descr=""/>
          <p:cNvPicPr/>
          <p:nvPr/>
        </p:nvPicPr>
        <p:blipFill>
          <a:blip r:embed="rId3"/>
          <a:stretch/>
        </p:blipFill>
        <p:spPr>
          <a:xfrm>
            <a:off x="311040" y="6194520"/>
            <a:ext cx="507960" cy="431640"/>
          </a:xfrm>
          <a:prstGeom prst="rect">
            <a:avLst/>
          </a:prstGeom>
          <a:ln w="0">
            <a:noFill/>
          </a:ln>
        </p:spPr>
      </p:pic>
      <p:pic>
        <p:nvPicPr>
          <p:cNvPr id="1070" name="图片 8" descr=""/>
          <p:cNvPicPr/>
          <p:nvPr/>
        </p:nvPicPr>
        <p:blipFill>
          <a:blip r:embed="rId4"/>
          <a:stretch/>
        </p:blipFill>
        <p:spPr>
          <a:xfrm>
            <a:off x="10291680" y="6410160"/>
            <a:ext cx="354240" cy="336600"/>
          </a:xfrm>
          <a:prstGeom prst="rect">
            <a:avLst/>
          </a:prstGeom>
          <a:ln w="0">
            <a:noFill/>
          </a:ln>
        </p:spPr>
      </p:pic>
      <p:pic>
        <p:nvPicPr>
          <p:cNvPr id="1071" name="图片 9" descr=""/>
          <p:cNvPicPr/>
          <p:nvPr/>
        </p:nvPicPr>
        <p:blipFill>
          <a:blip r:embed="rId5"/>
          <a:stretch/>
        </p:blipFill>
        <p:spPr>
          <a:xfrm>
            <a:off x="260280" y="114480"/>
            <a:ext cx="546120" cy="534960"/>
          </a:xfrm>
          <a:prstGeom prst="rect">
            <a:avLst/>
          </a:prstGeom>
          <a:ln w="0">
            <a:noFill/>
          </a:ln>
        </p:spPr>
      </p:pic>
      <p:pic>
        <p:nvPicPr>
          <p:cNvPr id="1072" name="图片 10" descr=""/>
          <p:cNvPicPr/>
          <p:nvPr/>
        </p:nvPicPr>
        <p:blipFill>
          <a:blip r:embed="rId6"/>
          <a:stretch/>
        </p:blipFill>
        <p:spPr>
          <a:xfrm>
            <a:off x="11442600" y="54000"/>
            <a:ext cx="615960" cy="608040"/>
          </a:xfrm>
          <a:prstGeom prst="rect">
            <a:avLst/>
          </a:prstGeom>
          <a:ln w="0">
            <a:noFill/>
          </a:ln>
        </p:spPr>
      </p:pic>
      <p:sp>
        <p:nvSpPr>
          <p:cNvPr id="107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074"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075" name="PlaceHolder 3"/>
          <p:cNvSpPr>
            <a:spLocks noGrp="1"/>
          </p:cNvSpPr>
          <p:nvPr>
            <p:ph type="dt" idx="70"/>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14298-6F03-4C26-9777-CDDC81149A9D}"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076" name="PlaceHolder 4"/>
          <p:cNvSpPr>
            <a:spLocks noGrp="1"/>
          </p:cNvSpPr>
          <p:nvPr>
            <p:ph type="ftr" idx="71"/>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77" name="PlaceHolder 5"/>
          <p:cNvSpPr>
            <a:spLocks noGrp="1"/>
          </p:cNvSpPr>
          <p:nvPr>
            <p:ph type="sldNum" idx="72"/>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BBF48-CB1E-4ED6-B234-8A7AB655CBA5}"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7"/>
    <p:sldLayoutId id="2147483949" r:id="rId8"/>
    <p:sldLayoutId id="2147483950" r:id="rId9"/>
    <p:sldLayoutId id="2147483951" r:id="rId10"/>
    <p:sldLayoutId id="2147483952" r:id="rId11"/>
    <p:sldLayoutId id="2147483953" r:id="rId12"/>
    <p:sldLayoutId id="2147483954" r:id="rId13"/>
    <p:sldLayoutId id="2147483955" r:id="rId14"/>
    <p:sldLayoutId id="2147483956" r:id="rId15"/>
    <p:sldLayoutId id="2147483957" r:id="rId16"/>
    <p:sldLayoutId id="2147483958" r:id="rId17"/>
    <p:sldLayoutId id="2147483959" r:id="rId18"/>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115" name="图片 5" descr=""/>
          <p:cNvPicPr/>
          <p:nvPr/>
        </p:nvPicPr>
        <p:blipFill>
          <a:blip r:embed="rId2"/>
          <a:stretch/>
        </p:blipFill>
        <p:spPr>
          <a:xfrm>
            <a:off x="2868480" y="3490920"/>
            <a:ext cx="2543400" cy="3108240"/>
          </a:xfrm>
          <a:prstGeom prst="rect">
            <a:avLst/>
          </a:prstGeom>
          <a:ln w="0">
            <a:noFill/>
          </a:ln>
        </p:spPr>
      </p:pic>
      <p:pic>
        <p:nvPicPr>
          <p:cNvPr id="1116" name="图片 6" descr=""/>
          <p:cNvPicPr/>
          <p:nvPr/>
        </p:nvPicPr>
        <p:blipFill>
          <a:blip r:embed="rId3"/>
          <a:stretch/>
        </p:blipFill>
        <p:spPr>
          <a:xfrm>
            <a:off x="6480" y="1612800"/>
            <a:ext cx="3257280" cy="5243760"/>
          </a:xfrm>
          <a:prstGeom prst="rect">
            <a:avLst/>
          </a:prstGeom>
          <a:ln w="0">
            <a:noFill/>
          </a:ln>
        </p:spPr>
      </p:pic>
      <p:pic>
        <p:nvPicPr>
          <p:cNvPr id="1117" name="图片 6" descr=""/>
          <p:cNvPicPr/>
          <p:nvPr/>
        </p:nvPicPr>
        <p:blipFill>
          <a:blip r:embed="rId4"/>
          <a:stretch/>
        </p:blipFill>
        <p:spPr>
          <a:xfrm rot="17330400">
            <a:off x="3570480" y="5589000"/>
            <a:ext cx="568440" cy="542880"/>
          </a:xfrm>
          <a:prstGeom prst="rect">
            <a:avLst/>
          </a:prstGeom>
          <a:ln w="0">
            <a:noFill/>
          </a:ln>
        </p:spPr>
      </p:pic>
      <p:pic>
        <p:nvPicPr>
          <p:cNvPr id="1118" name="图片 5" descr=""/>
          <p:cNvPicPr/>
          <p:nvPr/>
        </p:nvPicPr>
        <p:blipFill>
          <a:blip r:embed="rId5"/>
          <a:stretch/>
        </p:blipFill>
        <p:spPr>
          <a:xfrm rot="20422800">
            <a:off x="1217160" y="5847840"/>
            <a:ext cx="563760" cy="536760"/>
          </a:xfrm>
          <a:prstGeom prst="rect">
            <a:avLst/>
          </a:prstGeom>
          <a:ln w="0">
            <a:noFill/>
          </a:ln>
        </p:spPr>
      </p:pic>
      <p:pic>
        <p:nvPicPr>
          <p:cNvPr id="1119" name="图片 9" descr=""/>
          <p:cNvPicPr/>
          <p:nvPr/>
        </p:nvPicPr>
        <p:blipFill>
          <a:blip r:embed="rId6"/>
          <a:stretch/>
        </p:blipFill>
        <p:spPr>
          <a:xfrm>
            <a:off x="4964040" y="4621320"/>
            <a:ext cx="1830600" cy="2236680"/>
          </a:xfrm>
          <a:prstGeom prst="rect">
            <a:avLst/>
          </a:prstGeom>
          <a:ln w="0">
            <a:noFill/>
          </a:ln>
        </p:spPr>
      </p:pic>
      <p:pic>
        <p:nvPicPr>
          <p:cNvPr id="1120" name="图片 10" descr=""/>
          <p:cNvPicPr/>
          <p:nvPr/>
        </p:nvPicPr>
        <p:blipFill>
          <a:blip r:embed="rId7"/>
          <a:stretch/>
        </p:blipFill>
        <p:spPr>
          <a:xfrm>
            <a:off x="3616200" y="369720"/>
            <a:ext cx="2659320" cy="3116520"/>
          </a:xfrm>
          <a:prstGeom prst="rect">
            <a:avLst/>
          </a:prstGeom>
          <a:ln w="0">
            <a:noFill/>
          </a:ln>
        </p:spPr>
      </p:pic>
      <p:pic>
        <p:nvPicPr>
          <p:cNvPr id="1121" name="图片 3" descr=""/>
          <p:cNvPicPr/>
          <p:nvPr/>
        </p:nvPicPr>
        <p:blipFill>
          <a:blip r:embed="rId8"/>
          <a:stretch/>
        </p:blipFill>
        <p:spPr>
          <a:xfrm flipH="1" rot="20731200">
            <a:off x="10271880" y="1108080"/>
            <a:ext cx="1067040" cy="1046160"/>
          </a:xfrm>
          <a:prstGeom prst="rect">
            <a:avLst/>
          </a:prstGeom>
          <a:ln w="0">
            <a:noFill/>
          </a:ln>
        </p:spPr>
      </p:pic>
      <p:pic>
        <p:nvPicPr>
          <p:cNvPr id="1122" name="图片 4" descr=""/>
          <p:cNvPicPr/>
          <p:nvPr/>
        </p:nvPicPr>
        <p:blipFill>
          <a:blip r:embed="rId9"/>
          <a:stretch/>
        </p:blipFill>
        <p:spPr>
          <a:xfrm>
            <a:off x="8472600" y="5543640"/>
            <a:ext cx="558720" cy="533160"/>
          </a:xfrm>
          <a:prstGeom prst="rect">
            <a:avLst/>
          </a:prstGeom>
          <a:ln w="0">
            <a:noFill/>
          </a:ln>
        </p:spPr>
      </p:pic>
      <p:pic>
        <p:nvPicPr>
          <p:cNvPr id="1123" name="图片 3" descr=""/>
          <p:cNvPicPr/>
          <p:nvPr/>
        </p:nvPicPr>
        <p:blipFill>
          <a:blip r:embed="rId10"/>
          <a:stretch/>
        </p:blipFill>
        <p:spPr>
          <a:xfrm>
            <a:off x="2421000" y="1197000"/>
            <a:ext cx="950760" cy="933480"/>
          </a:xfrm>
          <a:prstGeom prst="rect">
            <a:avLst/>
          </a:prstGeom>
          <a:ln w="0">
            <a:noFill/>
          </a:ln>
        </p:spPr>
      </p:pic>
      <p:sp>
        <p:nvSpPr>
          <p:cNvPr id="112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125"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126" name="PlaceHolder 3"/>
          <p:cNvSpPr>
            <a:spLocks noGrp="1"/>
          </p:cNvSpPr>
          <p:nvPr>
            <p:ph type="dt" idx="73"/>
          </p:nvPr>
        </p:nvSpPr>
        <p:spPr>
          <a:xfrm>
            <a:off x="723960" y="6356520"/>
            <a:ext cx="274320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370E6-265C-4984-8F4E-9E23A186C07C}"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127" name="PlaceHolder 4"/>
          <p:cNvSpPr>
            <a:spLocks noGrp="1"/>
          </p:cNvSpPr>
          <p:nvPr>
            <p:ph type="ftr" idx="74"/>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28" name="PlaceHolder 5"/>
          <p:cNvSpPr>
            <a:spLocks noGrp="1"/>
          </p:cNvSpPr>
          <p:nvPr>
            <p:ph type="sldNum" idx="75"/>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B0313-BD5B-454F-AC91-4573631AF979}"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11"/>
    <p:sldLayoutId id="2147483962" r:id="rId12"/>
    <p:sldLayoutId id="2147483963" r:id="rId13"/>
    <p:sldLayoutId id="2147483964" r:id="rId14"/>
    <p:sldLayoutId id="2147483965" r:id="rId15"/>
    <p:sldLayoutId id="2147483966" r:id="rId16"/>
    <p:sldLayoutId id="2147483967" r:id="rId17"/>
    <p:sldLayoutId id="2147483968" r:id="rId18"/>
    <p:sldLayoutId id="2147483969" r:id="rId19"/>
    <p:sldLayoutId id="2147483970" r:id="rId20"/>
    <p:sldLayoutId id="2147483971" r:id="rId21"/>
    <p:sldLayoutId id="2147483972" r:id="rId22"/>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65"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66" name="矩形 7"/>
          <p:cNvSpPr/>
          <p:nvPr/>
        </p:nvSpPr>
        <p:spPr>
          <a:xfrm>
            <a:off x="0" y="0"/>
            <a:ext cx="12192120" cy="68580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6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168"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169" name="PlaceHolder 3"/>
          <p:cNvSpPr>
            <a:spLocks noGrp="1"/>
          </p:cNvSpPr>
          <p:nvPr>
            <p:ph type="dt" idx="76"/>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48616-2945-49D9-B31E-32E02101F30A}"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170" name="PlaceHolder 4"/>
          <p:cNvSpPr>
            <a:spLocks noGrp="1"/>
          </p:cNvSpPr>
          <p:nvPr>
            <p:ph type="ftr" idx="77"/>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71" name="PlaceHolder 5"/>
          <p:cNvSpPr>
            <a:spLocks noGrp="1"/>
          </p:cNvSpPr>
          <p:nvPr>
            <p:ph type="sldNum" idx="78"/>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8E978-03E8-486D-8354-1820AB28D628}"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85" name="图片 5" descr=""/>
          <p:cNvPicPr/>
          <p:nvPr/>
        </p:nvPicPr>
        <p:blipFill>
          <a:blip r:embed="rId2"/>
          <a:stretch/>
        </p:blipFill>
        <p:spPr>
          <a:xfrm rot="19920000">
            <a:off x="1331640" y="5760720"/>
            <a:ext cx="709560" cy="676080"/>
          </a:xfrm>
          <a:prstGeom prst="rect">
            <a:avLst/>
          </a:prstGeom>
          <a:ln w="0">
            <a:noFill/>
          </a:ln>
        </p:spPr>
      </p:pic>
      <p:pic>
        <p:nvPicPr>
          <p:cNvPr id="86" name="图片 6" descr=""/>
          <p:cNvPicPr/>
          <p:nvPr/>
        </p:nvPicPr>
        <p:blipFill>
          <a:blip r:embed="rId3"/>
          <a:stretch/>
        </p:blipFill>
        <p:spPr>
          <a:xfrm rot="17330400">
            <a:off x="3751200" y="5588640"/>
            <a:ext cx="568440" cy="543240"/>
          </a:xfrm>
          <a:prstGeom prst="rect">
            <a:avLst/>
          </a:prstGeom>
          <a:ln w="0">
            <a:noFill/>
          </a:ln>
        </p:spPr>
      </p:pic>
      <p:pic>
        <p:nvPicPr>
          <p:cNvPr id="87" name="图片 4" descr=""/>
          <p:cNvPicPr/>
          <p:nvPr/>
        </p:nvPicPr>
        <p:blipFill>
          <a:blip r:embed="rId4"/>
          <a:stretch/>
        </p:blipFill>
        <p:spPr>
          <a:xfrm>
            <a:off x="609480" y="693720"/>
            <a:ext cx="560520" cy="534960"/>
          </a:xfrm>
          <a:prstGeom prst="rect">
            <a:avLst/>
          </a:prstGeom>
          <a:ln w="0">
            <a:noFill/>
          </a:ln>
        </p:spPr>
      </p:pic>
      <p:pic>
        <p:nvPicPr>
          <p:cNvPr id="88" name="图片 3" descr=""/>
          <p:cNvPicPr/>
          <p:nvPr/>
        </p:nvPicPr>
        <p:blipFill>
          <a:blip r:embed="rId5"/>
          <a:stretch/>
        </p:blipFill>
        <p:spPr>
          <a:xfrm>
            <a:off x="2606760" y="1195560"/>
            <a:ext cx="950760" cy="933120"/>
          </a:xfrm>
          <a:prstGeom prst="rect">
            <a:avLst/>
          </a:prstGeom>
          <a:ln w="0">
            <a:noFill/>
          </a:ln>
        </p:spPr>
      </p:pic>
      <p:pic>
        <p:nvPicPr>
          <p:cNvPr id="89" name="图片 2" descr=""/>
          <p:cNvPicPr/>
          <p:nvPr/>
        </p:nvPicPr>
        <p:blipFill>
          <a:blip r:embed="rId6"/>
          <a:stretch/>
        </p:blipFill>
        <p:spPr>
          <a:xfrm>
            <a:off x="5986440" y="1724040"/>
            <a:ext cx="5950080" cy="4987800"/>
          </a:xfrm>
          <a:prstGeom prst="rect">
            <a:avLst/>
          </a:prstGeom>
          <a:ln w="0">
            <a:noFill/>
          </a:ln>
        </p:spPr>
      </p:pic>
      <p:pic>
        <p:nvPicPr>
          <p:cNvPr id="90" name="图片 1" descr=""/>
          <p:cNvPicPr/>
          <p:nvPr/>
        </p:nvPicPr>
        <p:blipFill>
          <a:blip r:embed="rId7"/>
          <a:stretch/>
        </p:blipFill>
        <p:spPr>
          <a:xfrm>
            <a:off x="10969560" y="1963800"/>
            <a:ext cx="1013040" cy="1003320"/>
          </a:xfrm>
          <a:prstGeom prst="rect">
            <a:avLst/>
          </a:prstGeom>
          <a:ln w="0">
            <a:noFill/>
          </a:ln>
        </p:spPr>
      </p:pic>
      <p:sp>
        <p:nvSpPr>
          <p:cNvPr id="9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92"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93" name="PlaceHolder 3"/>
          <p:cNvSpPr>
            <a:spLocks noGrp="1"/>
          </p:cNvSpPr>
          <p:nvPr>
            <p:ph type="dt" idx="7"/>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488A3-58A9-4B59-91E7-C33E7C28D5D9}"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94" name="PlaceHolder 4"/>
          <p:cNvSpPr>
            <a:spLocks noGrp="1"/>
          </p:cNvSpPr>
          <p:nvPr>
            <p:ph type="ftr" idx="8"/>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5" name="PlaceHolder 5"/>
          <p:cNvSpPr>
            <a:spLocks noGrp="1"/>
          </p:cNvSpPr>
          <p:nvPr>
            <p:ph type="sldNum" idx="9"/>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69A51-8719-4C7E-915E-7B7A8927A8A5}"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33" name="图片 6" descr=""/>
          <p:cNvPicPr/>
          <p:nvPr/>
        </p:nvPicPr>
        <p:blipFill>
          <a:blip r:embed="rId2"/>
          <a:stretch/>
        </p:blipFill>
        <p:spPr>
          <a:xfrm>
            <a:off x="10899720" y="5443560"/>
            <a:ext cx="1292400" cy="1414440"/>
          </a:xfrm>
          <a:prstGeom prst="rect">
            <a:avLst/>
          </a:prstGeom>
          <a:ln w="0">
            <a:noFill/>
          </a:ln>
        </p:spPr>
      </p:pic>
      <p:pic>
        <p:nvPicPr>
          <p:cNvPr id="134" name="图片 7" descr=""/>
          <p:cNvPicPr/>
          <p:nvPr/>
        </p:nvPicPr>
        <p:blipFill>
          <a:blip r:embed="rId3"/>
          <a:stretch/>
        </p:blipFill>
        <p:spPr>
          <a:xfrm>
            <a:off x="311040" y="6194520"/>
            <a:ext cx="507960" cy="431640"/>
          </a:xfrm>
          <a:prstGeom prst="rect">
            <a:avLst/>
          </a:prstGeom>
          <a:ln w="0">
            <a:noFill/>
          </a:ln>
        </p:spPr>
      </p:pic>
      <p:pic>
        <p:nvPicPr>
          <p:cNvPr id="135" name="图片 8" descr=""/>
          <p:cNvPicPr/>
          <p:nvPr/>
        </p:nvPicPr>
        <p:blipFill>
          <a:blip r:embed="rId4"/>
          <a:stretch/>
        </p:blipFill>
        <p:spPr>
          <a:xfrm>
            <a:off x="10291680" y="6410160"/>
            <a:ext cx="354240" cy="336600"/>
          </a:xfrm>
          <a:prstGeom prst="rect">
            <a:avLst/>
          </a:prstGeom>
          <a:ln w="0">
            <a:noFill/>
          </a:ln>
        </p:spPr>
      </p:pic>
      <p:pic>
        <p:nvPicPr>
          <p:cNvPr id="136" name="图片 9" descr=""/>
          <p:cNvPicPr/>
          <p:nvPr/>
        </p:nvPicPr>
        <p:blipFill>
          <a:blip r:embed="rId5"/>
          <a:stretch/>
        </p:blipFill>
        <p:spPr>
          <a:xfrm>
            <a:off x="260280" y="114480"/>
            <a:ext cx="546120" cy="534960"/>
          </a:xfrm>
          <a:prstGeom prst="rect">
            <a:avLst/>
          </a:prstGeom>
          <a:ln w="0">
            <a:noFill/>
          </a:ln>
        </p:spPr>
      </p:pic>
      <p:pic>
        <p:nvPicPr>
          <p:cNvPr id="137" name="图片 10" descr=""/>
          <p:cNvPicPr/>
          <p:nvPr/>
        </p:nvPicPr>
        <p:blipFill>
          <a:blip r:embed="rId6"/>
          <a:stretch/>
        </p:blipFill>
        <p:spPr>
          <a:xfrm>
            <a:off x="11442600" y="54000"/>
            <a:ext cx="615960" cy="608040"/>
          </a:xfrm>
          <a:prstGeom prst="rect">
            <a:avLst/>
          </a:prstGeom>
          <a:ln w="0">
            <a:noFill/>
          </a:ln>
        </p:spPr>
      </p:pic>
      <p:sp>
        <p:nvSpPr>
          <p:cNvPr id="13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39"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40" name="PlaceHolder 3"/>
          <p:cNvSpPr>
            <a:spLocks noGrp="1"/>
          </p:cNvSpPr>
          <p:nvPr>
            <p:ph type="dt" idx="10"/>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5ED31-3EB1-4E04-8957-5DDF121F5431}"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141" name="PlaceHolder 4"/>
          <p:cNvSpPr>
            <a:spLocks noGrp="1"/>
          </p:cNvSpPr>
          <p:nvPr>
            <p:ph type="ftr" idx="11"/>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2" name="PlaceHolder 5"/>
          <p:cNvSpPr>
            <a:spLocks noGrp="1"/>
          </p:cNvSpPr>
          <p:nvPr>
            <p:ph type="sldNum" idx="12"/>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556EE-AEB0-406C-BD0D-3ECB6C826683}"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80" name="图片 7" descr=""/>
          <p:cNvPicPr/>
          <p:nvPr/>
        </p:nvPicPr>
        <p:blipFill>
          <a:blip r:embed="rId2"/>
          <a:stretch/>
        </p:blipFill>
        <p:spPr>
          <a:xfrm flipH="1" rot="20731200">
            <a:off x="9333720" y="2427120"/>
            <a:ext cx="1067040" cy="1046160"/>
          </a:xfrm>
          <a:prstGeom prst="rect">
            <a:avLst/>
          </a:prstGeom>
          <a:ln w="0">
            <a:noFill/>
          </a:ln>
        </p:spPr>
      </p:pic>
      <p:pic>
        <p:nvPicPr>
          <p:cNvPr id="181" name="图片 3" descr=""/>
          <p:cNvPicPr/>
          <p:nvPr/>
        </p:nvPicPr>
        <p:blipFill>
          <a:blip r:embed="rId3"/>
          <a:stretch/>
        </p:blipFill>
        <p:spPr>
          <a:xfrm>
            <a:off x="2212920" y="2452680"/>
            <a:ext cx="951120" cy="933480"/>
          </a:xfrm>
          <a:prstGeom prst="rect">
            <a:avLst/>
          </a:prstGeom>
          <a:ln w="0">
            <a:noFill/>
          </a:ln>
        </p:spPr>
      </p:pic>
      <p:pic>
        <p:nvPicPr>
          <p:cNvPr id="182" name="图片 8" descr=""/>
          <p:cNvPicPr/>
          <p:nvPr/>
        </p:nvPicPr>
        <p:blipFill>
          <a:blip r:embed="rId4"/>
          <a:stretch/>
        </p:blipFill>
        <p:spPr>
          <a:xfrm>
            <a:off x="4859280" y="-30240"/>
            <a:ext cx="1836720" cy="2237040"/>
          </a:xfrm>
          <a:prstGeom prst="rect">
            <a:avLst/>
          </a:prstGeom>
          <a:ln w="0">
            <a:noFill/>
          </a:ln>
        </p:spPr>
      </p:pic>
      <p:pic>
        <p:nvPicPr>
          <p:cNvPr id="183" name="图片 9" descr=""/>
          <p:cNvPicPr/>
          <p:nvPr/>
        </p:nvPicPr>
        <p:blipFill>
          <a:blip r:embed="rId5"/>
          <a:stretch/>
        </p:blipFill>
        <p:spPr>
          <a:xfrm>
            <a:off x="5068800" y="4519440"/>
            <a:ext cx="2060640" cy="2325960"/>
          </a:xfrm>
          <a:prstGeom prst="rect">
            <a:avLst/>
          </a:prstGeom>
          <a:ln w="0">
            <a:noFill/>
          </a:ln>
        </p:spPr>
      </p:pic>
      <p:sp>
        <p:nvSpPr>
          <p:cNvPr id="18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85"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86" name="PlaceHolder 3"/>
          <p:cNvSpPr>
            <a:spLocks noGrp="1"/>
          </p:cNvSpPr>
          <p:nvPr>
            <p:ph type="dt" idx="13"/>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E1077-0CBC-4BDC-9C80-489CF525EBD3}"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187" name="PlaceHolder 4"/>
          <p:cNvSpPr>
            <a:spLocks noGrp="1"/>
          </p:cNvSpPr>
          <p:nvPr>
            <p:ph type="ftr" idx="14"/>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8" name="PlaceHolder 5"/>
          <p:cNvSpPr>
            <a:spLocks noGrp="1"/>
          </p:cNvSpPr>
          <p:nvPr>
            <p:ph type="sldNum" idx="15"/>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C67F3-F7ED-4907-BC11-87A279AA6259}"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26" name="图片 7" descr=""/>
          <p:cNvPicPr/>
          <p:nvPr/>
        </p:nvPicPr>
        <p:blipFill>
          <a:blip r:embed="rId2"/>
          <a:stretch/>
        </p:blipFill>
        <p:spPr>
          <a:xfrm>
            <a:off x="10899720" y="5443560"/>
            <a:ext cx="1292400" cy="1414440"/>
          </a:xfrm>
          <a:prstGeom prst="rect">
            <a:avLst/>
          </a:prstGeom>
          <a:ln w="0">
            <a:noFill/>
          </a:ln>
        </p:spPr>
      </p:pic>
      <p:pic>
        <p:nvPicPr>
          <p:cNvPr id="227" name="图片 8" descr=""/>
          <p:cNvPicPr/>
          <p:nvPr/>
        </p:nvPicPr>
        <p:blipFill>
          <a:blip r:embed="rId3"/>
          <a:stretch/>
        </p:blipFill>
        <p:spPr>
          <a:xfrm>
            <a:off x="311040" y="6194520"/>
            <a:ext cx="507960" cy="431640"/>
          </a:xfrm>
          <a:prstGeom prst="rect">
            <a:avLst/>
          </a:prstGeom>
          <a:ln w="0">
            <a:noFill/>
          </a:ln>
        </p:spPr>
      </p:pic>
      <p:pic>
        <p:nvPicPr>
          <p:cNvPr id="228" name="图片 9" descr=""/>
          <p:cNvPicPr/>
          <p:nvPr/>
        </p:nvPicPr>
        <p:blipFill>
          <a:blip r:embed="rId4"/>
          <a:stretch/>
        </p:blipFill>
        <p:spPr>
          <a:xfrm>
            <a:off x="10291680" y="6410160"/>
            <a:ext cx="354240" cy="336600"/>
          </a:xfrm>
          <a:prstGeom prst="rect">
            <a:avLst/>
          </a:prstGeom>
          <a:ln w="0">
            <a:noFill/>
          </a:ln>
        </p:spPr>
      </p:pic>
      <p:pic>
        <p:nvPicPr>
          <p:cNvPr id="229" name="图片 10" descr=""/>
          <p:cNvPicPr/>
          <p:nvPr/>
        </p:nvPicPr>
        <p:blipFill>
          <a:blip r:embed="rId5"/>
          <a:stretch/>
        </p:blipFill>
        <p:spPr>
          <a:xfrm>
            <a:off x="260280" y="114480"/>
            <a:ext cx="546120" cy="534960"/>
          </a:xfrm>
          <a:prstGeom prst="rect">
            <a:avLst/>
          </a:prstGeom>
          <a:ln w="0">
            <a:noFill/>
          </a:ln>
        </p:spPr>
      </p:pic>
      <p:pic>
        <p:nvPicPr>
          <p:cNvPr id="230" name="图片 11" descr=""/>
          <p:cNvPicPr/>
          <p:nvPr/>
        </p:nvPicPr>
        <p:blipFill>
          <a:blip r:embed="rId6"/>
          <a:stretch/>
        </p:blipFill>
        <p:spPr>
          <a:xfrm>
            <a:off x="11442600" y="54000"/>
            <a:ext cx="615960" cy="608040"/>
          </a:xfrm>
          <a:prstGeom prst="rect">
            <a:avLst/>
          </a:prstGeom>
          <a:ln w="0">
            <a:noFill/>
          </a:ln>
        </p:spPr>
      </p:pic>
      <p:sp>
        <p:nvSpPr>
          <p:cNvPr id="23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232"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233" name="PlaceHolder 3"/>
          <p:cNvSpPr>
            <a:spLocks noGrp="1"/>
          </p:cNvSpPr>
          <p:nvPr>
            <p:ph type="dt" idx="16"/>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19120-D382-4B93-ABA1-F56D997DEADA}"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5" name="PlaceHolder 5"/>
          <p:cNvSpPr>
            <a:spLocks noGrp="1"/>
          </p:cNvSpPr>
          <p:nvPr>
            <p:ph type="sldNum" idx="18"/>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3B659-CA7A-416A-8909-409DDBE8580F}"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73" name="图片 9" descr=""/>
          <p:cNvPicPr/>
          <p:nvPr/>
        </p:nvPicPr>
        <p:blipFill>
          <a:blip r:embed="rId2"/>
          <a:stretch/>
        </p:blipFill>
        <p:spPr>
          <a:xfrm>
            <a:off x="10899720" y="5443560"/>
            <a:ext cx="1292400" cy="1414440"/>
          </a:xfrm>
          <a:prstGeom prst="rect">
            <a:avLst/>
          </a:prstGeom>
          <a:ln w="0">
            <a:noFill/>
          </a:ln>
        </p:spPr>
      </p:pic>
      <p:pic>
        <p:nvPicPr>
          <p:cNvPr id="274" name="图片 10" descr=""/>
          <p:cNvPicPr/>
          <p:nvPr/>
        </p:nvPicPr>
        <p:blipFill>
          <a:blip r:embed="rId3"/>
          <a:stretch/>
        </p:blipFill>
        <p:spPr>
          <a:xfrm>
            <a:off x="311040" y="6194520"/>
            <a:ext cx="507960" cy="431640"/>
          </a:xfrm>
          <a:prstGeom prst="rect">
            <a:avLst/>
          </a:prstGeom>
          <a:ln w="0">
            <a:noFill/>
          </a:ln>
        </p:spPr>
      </p:pic>
      <p:pic>
        <p:nvPicPr>
          <p:cNvPr id="275" name="图片 11" descr=""/>
          <p:cNvPicPr/>
          <p:nvPr/>
        </p:nvPicPr>
        <p:blipFill>
          <a:blip r:embed="rId4"/>
          <a:stretch/>
        </p:blipFill>
        <p:spPr>
          <a:xfrm>
            <a:off x="10291680" y="6410160"/>
            <a:ext cx="354240" cy="336600"/>
          </a:xfrm>
          <a:prstGeom prst="rect">
            <a:avLst/>
          </a:prstGeom>
          <a:ln w="0">
            <a:noFill/>
          </a:ln>
        </p:spPr>
      </p:pic>
      <p:pic>
        <p:nvPicPr>
          <p:cNvPr id="276" name="图片 12" descr=""/>
          <p:cNvPicPr/>
          <p:nvPr/>
        </p:nvPicPr>
        <p:blipFill>
          <a:blip r:embed="rId5"/>
          <a:stretch/>
        </p:blipFill>
        <p:spPr>
          <a:xfrm>
            <a:off x="260280" y="114480"/>
            <a:ext cx="546120" cy="534960"/>
          </a:xfrm>
          <a:prstGeom prst="rect">
            <a:avLst/>
          </a:prstGeom>
          <a:ln w="0">
            <a:noFill/>
          </a:ln>
        </p:spPr>
      </p:pic>
      <p:pic>
        <p:nvPicPr>
          <p:cNvPr id="277" name="图片 13" descr=""/>
          <p:cNvPicPr/>
          <p:nvPr/>
        </p:nvPicPr>
        <p:blipFill>
          <a:blip r:embed="rId6"/>
          <a:stretch/>
        </p:blipFill>
        <p:spPr>
          <a:xfrm>
            <a:off x="11442600" y="54000"/>
            <a:ext cx="615960" cy="608040"/>
          </a:xfrm>
          <a:prstGeom prst="rect">
            <a:avLst/>
          </a:prstGeom>
          <a:ln w="0">
            <a:noFill/>
          </a:ln>
        </p:spPr>
      </p:pic>
      <p:sp>
        <p:nvSpPr>
          <p:cNvPr id="27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279"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280" name="PlaceHolder 3"/>
          <p:cNvSpPr>
            <a:spLocks noGrp="1"/>
          </p:cNvSpPr>
          <p:nvPr>
            <p:ph type="dt" idx="19"/>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90D20-1C52-488D-B230-B5929CD9DDAA}"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281" name="PlaceHolder 4"/>
          <p:cNvSpPr>
            <a:spLocks noGrp="1"/>
          </p:cNvSpPr>
          <p:nvPr>
            <p:ph type="ftr" idx="20"/>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2" name="PlaceHolder 5"/>
          <p:cNvSpPr>
            <a:spLocks noGrp="1"/>
          </p:cNvSpPr>
          <p:nvPr>
            <p:ph type="sldNum" idx="21"/>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67EA5-B69C-4E39-8595-7A98A1B7D433}"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7"/>
    <p:sldLayoutId id="2147483728" r:id="rId8"/>
    <p:sldLayoutId id="2147483729" r:id="rId9"/>
    <p:sldLayoutId id="2147483730" r:id="rId10"/>
    <p:sldLayoutId id="2147483731" r:id="rId11"/>
    <p:sldLayoutId id="2147483732" r:id="rId12"/>
    <p:sldLayoutId id="2147483733" r:id="rId13"/>
    <p:sldLayoutId id="2147483734" r:id="rId14"/>
    <p:sldLayoutId id="2147483735" r:id="rId15"/>
    <p:sldLayoutId id="2147483736" r:id="rId16"/>
    <p:sldLayoutId id="2147483737" r:id="rId17"/>
    <p:sldLayoutId id="2147483738" r:id="rId18"/>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20" name="图片 5" descr=""/>
          <p:cNvPicPr/>
          <p:nvPr/>
        </p:nvPicPr>
        <p:blipFill>
          <a:blip r:embed="rId2"/>
          <a:stretch/>
        </p:blipFill>
        <p:spPr>
          <a:xfrm>
            <a:off x="10899720" y="5443560"/>
            <a:ext cx="1292400" cy="1414440"/>
          </a:xfrm>
          <a:prstGeom prst="rect">
            <a:avLst/>
          </a:prstGeom>
          <a:ln w="0">
            <a:noFill/>
          </a:ln>
        </p:spPr>
      </p:pic>
      <p:pic>
        <p:nvPicPr>
          <p:cNvPr id="321" name="图片 8" descr=""/>
          <p:cNvPicPr/>
          <p:nvPr/>
        </p:nvPicPr>
        <p:blipFill>
          <a:blip r:embed="rId3"/>
          <a:stretch/>
        </p:blipFill>
        <p:spPr>
          <a:xfrm>
            <a:off x="260280" y="114480"/>
            <a:ext cx="546120" cy="534960"/>
          </a:xfrm>
          <a:prstGeom prst="rect">
            <a:avLst/>
          </a:prstGeom>
          <a:ln w="0">
            <a:noFill/>
          </a:ln>
        </p:spPr>
      </p:pic>
      <p:pic>
        <p:nvPicPr>
          <p:cNvPr id="322" name="图片 9" descr=""/>
          <p:cNvPicPr/>
          <p:nvPr/>
        </p:nvPicPr>
        <p:blipFill>
          <a:blip r:embed="rId4"/>
          <a:stretch/>
        </p:blipFill>
        <p:spPr>
          <a:xfrm>
            <a:off x="11442600" y="54000"/>
            <a:ext cx="615960" cy="608040"/>
          </a:xfrm>
          <a:prstGeom prst="rect">
            <a:avLst/>
          </a:prstGeom>
          <a:ln w="0">
            <a:noFill/>
          </a:ln>
        </p:spPr>
      </p:pic>
      <p:sp>
        <p:nvSpPr>
          <p:cNvPr id="32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324"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325" name="PlaceHolder 3"/>
          <p:cNvSpPr>
            <a:spLocks noGrp="1"/>
          </p:cNvSpPr>
          <p:nvPr>
            <p:ph type="dt" idx="22"/>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7F8B7-D422-4788-8534-5D7AA6230014}"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326" name="PlaceHolder 4"/>
          <p:cNvSpPr>
            <a:spLocks noGrp="1"/>
          </p:cNvSpPr>
          <p:nvPr>
            <p:ph type="ftr" idx="23"/>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7" name="PlaceHolder 5"/>
          <p:cNvSpPr>
            <a:spLocks noGrp="1"/>
          </p:cNvSpPr>
          <p:nvPr>
            <p:ph type="sldNum" idx="24"/>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EE6E2-6415-483E-822C-DD1CB79F6E20}"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65" name="图片 7" descr=""/>
          <p:cNvPicPr/>
          <p:nvPr/>
        </p:nvPicPr>
        <p:blipFill>
          <a:blip r:embed="rId2"/>
          <a:stretch/>
        </p:blipFill>
        <p:spPr>
          <a:xfrm>
            <a:off x="10899720" y="5443560"/>
            <a:ext cx="1292400" cy="1414440"/>
          </a:xfrm>
          <a:prstGeom prst="rect">
            <a:avLst/>
          </a:prstGeom>
          <a:ln w="0">
            <a:noFill/>
          </a:ln>
        </p:spPr>
      </p:pic>
      <p:pic>
        <p:nvPicPr>
          <p:cNvPr id="366" name="图片 8" descr=""/>
          <p:cNvPicPr/>
          <p:nvPr/>
        </p:nvPicPr>
        <p:blipFill>
          <a:blip r:embed="rId3"/>
          <a:stretch/>
        </p:blipFill>
        <p:spPr>
          <a:xfrm>
            <a:off x="311040" y="6194520"/>
            <a:ext cx="507960" cy="431640"/>
          </a:xfrm>
          <a:prstGeom prst="rect">
            <a:avLst/>
          </a:prstGeom>
          <a:ln w="0">
            <a:noFill/>
          </a:ln>
        </p:spPr>
      </p:pic>
      <p:pic>
        <p:nvPicPr>
          <p:cNvPr id="367" name="图片 9" descr=""/>
          <p:cNvPicPr/>
          <p:nvPr/>
        </p:nvPicPr>
        <p:blipFill>
          <a:blip r:embed="rId4"/>
          <a:stretch/>
        </p:blipFill>
        <p:spPr>
          <a:xfrm>
            <a:off x="10291680" y="6410160"/>
            <a:ext cx="354240" cy="336600"/>
          </a:xfrm>
          <a:prstGeom prst="rect">
            <a:avLst/>
          </a:prstGeom>
          <a:ln w="0">
            <a:noFill/>
          </a:ln>
        </p:spPr>
      </p:pic>
      <p:pic>
        <p:nvPicPr>
          <p:cNvPr id="368" name="图片 10" descr=""/>
          <p:cNvPicPr/>
          <p:nvPr/>
        </p:nvPicPr>
        <p:blipFill>
          <a:blip r:embed="rId5"/>
          <a:stretch/>
        </p:blipFill>
        <p:spPr>
          <a:xfrm>
            <a:off x="260280" y="114480"/>
            <a:ext cx="546120" cy="534960"/>
          </a:xfrm>
          <a:prstGeom prst="rect">
            <a:avLst/>
          </a:prstGeom>
          <a:ln w="0">
            <a:noFill/>
          </a:ln>
        </p:spPr>
      </p:pic>
      <p:pic>
        <p:nvPicPr>
          <p:cNvPr id="369" name="图片 11" descr=""/>
          <p:cNvPicPr/>
          <p:nvPr/>
        </p:nvPicPr>
        <p:blipFill>
          <a:blip r:embed="rId6"/>
          <a:stretch/>
        </p:blipFill>
        <p:spPr>
          <a:xfrm>
            <a:off x="11442600" y="54000"/>
            <a:ext cx="615960" cy="608040"/>
          </a:xfrm>
          <a:prstGeom prst="rect">
            <a:avLst/>
          </a:prstGeom>
          <a:ln w="0">
            <a:noFill/>
          </a:ln>
        </p:spPr>
      </p:pic>
      <p:sp>
        <p:nvSpPr>
          <p:cNvPr id="37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371"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372" name="PlaceHolder 3"/>
          <p:cNvSpPr>
            <a:spLocks noGrp="1"/>
          </p:cNvSpPr>
          <p:nvPr>
            <p:ph type="dt" idx="25"/>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A07F6-4F46-4E6D-B92D-BECA8A8E3C1D}"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373" name="PlaceHolder 4"/>
          <p:cNvSpPr>
            <a:spLocks noGrp="1"/>
          </p:cNvSpPr>
          <p:nvPr>
            <p:ph type="ftr" idx="26"/>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4" name="PlaceHolder 5"/>
          <p:cNvSpPr>
            <a:spLocks noGrp="1"/>
          </p:cNvSpPr>
          <p:nvPr>
            <p:ph type="sldNum" idx="27"/>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D2ABF-6E8C-4584-862F-EE364154551B}"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241.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241.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241.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241.xml"/>
</Relationships>
</file>

<file path=ppt/slides/_rels/slide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1.png"/><Relationship Id="rId3" Type="http://schemas.openxmlformats.org/officeDocument/2006/relationships/slideLayout" Target="../slideLayouts/slideLayout229.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1.png"/><Relationship Id="rId3" Type="http://schemas.openxmlformats.org/officeDocument/2006/relationships/slideLayout" Target="../slideLayouts/slideLayout22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title"/>
          </p:nvPr>
        </p:nvSpPr>
        <p:spPr>
          <a:xfrm>
            <a:off x="1342800" y="2205000"/>
            <a:ext cx="6778440" cy="191304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8e10d4"/>
                </a:solidFill>
                <a:latin typeface="Arial Black"/>
                <a:ea typeface="汉仪旗黑-85S"/>
              </a:rPr>
              <a:t>项目三 </a:t>
            </a:r>
            <a:br>
              <a:rPr sz="6000"/>
            </a:br>
            <a:r>
              <a:rPr b="1" lang="zh-CN" sz="6000" spc="-1" strike="noStrike">
                <a:solidFill>
                  <a:srgbClr val="8e10d4"/>
                </a:solidFill>
                <a:latin typeface="Arial Black"/>
                <a:ea typeface="汉仪旗黑-85S"/>
              </a:rPr>
              <a:t>审计业务的承接</a:t>
            </a:r>
            <a:endParaRPr b="1" lang="en-US" sz="6000" spc="-1" strike="noStrike">
              <a:solidFill>
                <a:srgbClr val="262626"/>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0">
                                  <p:stCondLst>
                                    <p:cond delay="0"/>
                                  </p:stCondLst>
                                  <p:iterate type="lt">
                                    <p:tmAbs val="70"/>
                                  </p:iterate>
                                  <p:childTnLst>
                                    <p:set>
                                      <p:cBhvr>
                                        <p:cTn id="6" dur="1" fill="hold">
                                          <p:stCondLst>
                                            <p:cond delay="0"/>
                                          </p:stCondLst>
                                        </p:cTn>
                                        <p:tgtEl>
                                          <p:spTgt spid="1208"/>
                                        </p:tgtEl>
                                        <p:attrNameLst>
                                          <p:attrName>style.visibility</p:attrName>
                                        </p:attrNameLst>
                                      </p:cBhvr>
                                      <p:to>
                                        <p:strVal val="visible"/>
                                      </p:to>
                                    </p:set>
                                    <p:anim calcmode="lin" valueType="num">
                                      <p:cBhvr additive="repl">
                                        <p:cTn id="7" dur="700" fill="hold">
                                          <p:stCondLst>
                                            <p:cond delay="0"/>
                                          </p:stCondLst>
                                        </p:cTn>
                                        <p:tgtEl>
                                          <p:spTgt spid="1208"/>
                                        </p:tgtEl>
                                        <p:attrNameLst>
                                          <p:attrName>ppt_x</p:attrName>
                                        </p:attrNameLst>
                                      </p:cBhvr>
                                      <p:tavLst>
                                        <p:tav fmla="x-height*((1.5-1.5*$)^3-(1.5-1.5*$)^2)" tm="0">
                                          <p:val>
                                            <p:fltVal val="0"/>
                                          </p:val>
                                        </p:tav>
                                        <p:tav fmla="x-height*((1.5-1.5*$)^3-(1.5-1.5*$)^2)" tm="100000">
                                          <p:val>
                                            <p:fltVal val="1"/>
                                          </p:val>
                                        </p:tav>
                                      </p:tavLst>
                                    </p:anim>
                                    <p:anim calcmode="lin" valueType="num">
                                      <p:cBhvr additive="repl">
                                        <p:cTn id="8" dur="700" fill="hold">
                                          <p:stCondLst>
                                            <p:cond delay="0"/>
                                          </p:stCondLst>
                                        </p:cTn>
                                        <p:tgtEl>
                                          <p:spTgt spid="1208"/>
                                        </p:tgtEl>
                                        <p:attrNameLst>
                                          <p:attrName>r</p:attrName>
                                        </p:attrNameLst>
                                      </p:cBhvr>
                                      <p:tavLst>
                                        <p:tav fmla="#ppt_r+180*((1.5-1.5*$)^3-(1.5-1.5*$)^2)" tm="0">
                                          <p:val>
                                            <p:strVal val="0"/>
                                          </p:val>
                                        </p:tav>
                                        <p:tav fmla="#ppt_r+180*((1.5-1.5*$)^3-(1.5-1.5*$)^2)" tm="100000">
                                          <p:val>
                                            <p:strVal val="1"/>
                                          </p:val>
                                        </p:tav>
                                      </p:tavLst>
                                    </p:anim>
                                    <p:animEffect filter="fade" transition="in">
                                      <p:cBhvr additive="repl">
                                        <p:cTn id="9" dur="300">
                                          <p:stCondLst>
                                            <p:cond delay="0"/>
                                          </p:stCondLst>
                                        </p:cTn>
                                        <p:tgtEl>
                                          <p:spTgt spid="1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87" name="组合 28"/>
          <p:cNvGrpSpPr/>
          <p:nvPr/>
        </p:nvGrpSpPr>
        <p:grpSpPr>
          <a:xfrm>
            <a:off x="641520" y="563400"/>
            <a:ext cx="10359720" cy="0"/>
            <a:chOff x="641520" y="563400"/>
            <a:chExt cx="10359720" cy="0"/>
          </a:xfrm>
        </p:grpSpPr>
        <p:sp>
          <p:nvSpPr>
            <p:cNvPr id="1288" name="直接连接符 52"/>
            <p:cNvSpPr/>
            <p:nvPr/>
          </p:nvSpPr>
          <p:spPr>
            <a:xfrm>
              <a:off x="641520" y="563400"/>
              <a:ext cx="197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89" name="直接连接符 64"/>
            <p:cNvSpPr/>
            <p:nvPr/>
          </p:nvSpPr>
          <p:spPr>
            <a:xfrm>
              <a:off x="9021960" y="563400"/>
              <a:ext cx="197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1290" name="组合 6"/>
          <p:cNvGrpSpPr/>
          <p:nvPr/>
        </p:nvGrpSpPr>
        <p:grpSpPr>
          <a:xfrm>
            <a:off x="-214200" y="2142720"/>
            <a:ext cx="3252600" cy="3798000"/>
            <a:chOff x="-214200" y="2142720"/>
            <a:chExt cx="3252600" cy="3798000"/>
          </a:xfrm>
        </p:grpSpPr>
        <p:sp>
          <p:nvSpPr>
            <p:cNvPr id="1291" name="椭圆 8"/>
            <p:cNvSpPr/>
            <p:nvPr/>
          </p:nvSpPr>
          <p:spPr>
            <a:xfrm rot="18199200">
              <a:off x="212760" y="2890800"/>
              <a:ext cx="2332080" cy="228024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2" name="直接连接符 21"/>
            <p:cNvSpPr/>
            <p:nvPr/>
          </p:nvSpPr>
          <p:spPr>
            <a:xfrm flipH="1" flipV="1">
              <a:off x="1334160" y="2750040"/>
              <a:ext cx="659520" cy="159840"/>
            </a:xfrm>
            <a:prstGeom prst="line">
              <a:avLst/>
            </a:prstGeom>
            <a:ln w="12600">
              <a:solidFill>
                <a:srgbClr val="5b9bd4">
                  <a:alpha val="54000"/>
                </a:srgbClr>
              </a:solidFill>
              <a:round/>
              <a:headEnd len="sm" type="oval" w="sm"/>
              <a:tailEnd len="sm" type="oval"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93" name="任意多边形 22"/>
            <p:cNvSpPr/>
            <p:nvPr/>
          </p:nvSpPr>
          <p:spPr>
            <a:xfrm>
              <a:off x="1993320" y="2922120"/>
              <a:ext cx="619920" cy="1080360"/>
            </a:xfrm>
            <a:custGeom>
              <a:avLst/>
              <a:gdLst/>
              <a:ahLst/>
              <a:rect l="l" t="t" r="r" b="b"/>
              <a:pathLst>
                <a:path w="669" h="1134">
                  <a:moveTo>
                    <a:pt x="669" y="1134"/>
                  </a:moveTo>
                  <a:lnTo>
                    <a:pt x="591" y="550"/>
                  </a:lnTo>
                  <a:lnTo>
                    <a:pt x="0" y="0"/>
                  </a:lnTo>
                </a:path>
              </a:pathLst>
            </a:custGeom>
            <a:noFill/>
            <a:ln w="12600">
              <a:solidFill>
                <a:srgbClr val="a6a6a6">
                  <a:alpha val="54000"/>
                </a:srgbClr>
              </a:solidFill>
              <a:round/>
              <a:headEnd len="sm" type="oval" w="sm"/>
              <a:tailEnd len="sm" type="oval" w="sm"/>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4" name="任意多边形 23"/>
            <p:cNvSpPr/>
            <p:nvPr/>
          </p:nvSpPr>
          <p:spPr>
            <a:xfrm>
              <a:off x="811440" y="4002480"/>
              <a:ext cx="1802160" cy="1301400"/>
            </a:xfrm>
            <a:custGeom>
              <a:avLst/>
              <a:gdLst/>
              <a:ahLst/>
              <a:rect l="l" t="t" r="r" b="b"/>
              <a:pathLst>
                <a:path w="1945" h="1366">
                  <a:moveTo>
                    <a:pt x="0" y="1276"/>
                  </a:moveTo>
                  <a:lnTo>
                    <a:pt x="830" y="1366"/>
                  </a:lnTo>
                  <a:lnTo>
                    <a:pt x="1305" y="1162"/>
                  </a:lnTo>
                  <a:lnTo>
                    <a:pt x="1804" y="737"/>
                  </a:lnTo>
                  <a:lnTo>
                    <a:pt x="1945" y="0"/>
                  </a:lnTo>
                </a:path>
              </a:pathLst>
            </a:custGeom>
            <a:noFill/>
            <a:ln w="12600">
              <a:solidFill>
                <a:srgbClr val="a6a6a6">
                  <a:alpha val="54000"/>
                </a:srgbClr>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5" name="直接连接符 24"/>
            <p:cNvSpPr/>
            <p:nvPr/>
          </p:nvSpPr>
          <p:spPr>
            <a:xfrm>
              <a:off x="268200" y="4505760"/>
              <a:ext cx="542880" cy="712440"/>
            </a:xfrm>
            <a:prstGeom prst="line">
              <a:avLst/>
            </a:prstGeom>
            <a:ln w="12600">
              <a:solidFill>
                <a:srgbClr val="a6a6a6">
                  <a:alpha val="54000"/>
                </a:srgbClr>
              </a:solidFill>
              <a:round/>
              <a:headEnd len="sm" type="oval" w="sm"/>
              <a:tailEnd len="sm" type="oval"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96" name="任意多边形 25"/>
            <p:cNvSpPr/>
            <p:nvPr/>
          </p:nvSpPr>
          <p:spPr>
            <a:xfrm>
              <a:off x="171360" y="3468960"/>
              <a:ext cx="96840" cy="1036440"/>
            </a:xfrm>
            <a:custGeom>
              <a:avLst/>
              <a:gdLst/>
              <a:ahLst/>
              <a:rect l="l" t="t" r="r" b="b"/>
              <a:pathLst>
                <a:path w="3355" h="8925">
                  <a:moveTo>
                    <a:pt x="1663" y="0"/>
                  </a:moveTo>
                  <a:lnTo>
                    <a:pt x="0" y="4997"/>
                  </a:lnTo>
                  <a:lnTo>
                    <a:pt x="3355" y="8925"/>
                  </a:lnTo>
                </a:path>
              </a:pathLst>
            </a:custGeom>
            <a:noFill/>
            <a:ln w="12600">
              <a:solidFill>
                <a:srgbClr val="a6a6a6">
                  <a:alpha val="54000"/>
                </a:srgbClr>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7" name="直接连接符 26"/>
            <p:cNvSpPr/>
            <p:nvPr/>
          </p:nvSpPr>
          <p:spPr>
            <a:xfrm flipH="1">
              <a:off x="735480" y="2762280"/>
              <a:ext cx="598320" cy="208440"/>
            </a:xfrm>
            <a:prstGeom prst="line">
              <a:avLst/>
            </a:prstGeom>
            <a:ln w="12600">
              <a:solidFill>
                <a:srgbClr val="a6a6a6">
                  <a:alpha val="54000"/>
                </a:srgbClr>
              </a:solidFill>
              <a:round/>
              <a:headEnd len="sm" type="oval" w="sm"/>
              <a:tailEnd len="sm" type="oval"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98" name="任意多边形 27"/>
            <p:cNvSpPr/>
            <p:nvPr/>
          </p:nvSpPr>
          <p:spPr>
            <a:xfrm>
              <a:off x="736200" y="2904120"/>
              <a:ext cx="1260360" cy="72360"/>
            </a:xfrm>
            <a:custGeom>
              <a:avLst/>
              <a:gdLst/>
              <a:ahLst/>
              <a:rect l="l" t="t" r="r" b="b"/>
              <a:pathLst>
                <a:path w="10000" h="5798">
                  <a:moveTo>
                    <a:pt x="0" y="5798"/>
                  </a:moveTo>
                  <a:lnTo>
                    <a:pt x="0" y="5798"/>
                  </a:lnTo>
                  <a:lnTo>
                    <a:pt x="4953" y="0"/>
                  </a:lnTo>
                  <a:lnTo>
                    <a:pt x="10000" y="1092"/>
                  </a:lnTo>
                </a:path>
              </a:pathLst>
            </a:custGeom>
            <a:noFill/>
            <a:ln w="12600">
              <a:solidFill>
                <a:srgbClr val="a6a6a6">
                  <a:alpha val="54000"/>
                </a:srgbClr>
              </a:solidFill>
              <a:round/>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9" name="任意多边形 28"/>
            <p:cNvSpPr/>
            <p:nvPr/>
          </p:nvSpPr>
          <p:spPr>
            <a:xfrm>
              <a:off x="646560" y="4105440"/>
              <a:ext cx="164520" cy="1112760"/>
            </a:xfrm>
            <a:custGeom>
              <a:avLst/>
              <a:gdLst/>
              <a:ahLst/>
              <a:rect l="l" t="t" r="r" b="b"/>
              <a:pathLst>
                <a:path w="178" h="1168">
                  <a:moveTo>
                    <a:pt x="0" y="0"/>
                  </a:moveTo>
                  <a:lnTo>
                    <a:pt x="144" y="792"/>
                  </a:lnTo>
                  <a:lnTo>
                    <a:pt x="178" y="1168"/>
                  </a:lnTo>
                </a:path>
              </a:pathLst>
            </a:custGeom>
            <a:noFill/>
            <a:ln w="12600">
              <a:solidFill>
                <a:srgbClr val="a6a6a6">
                  <a:alpha val="54000"/>
                </a:srgbClr>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00" name="任意多边形 29"/>
            <p:cNvSpPr/>
            <p:nvPr/>
          </p:nvSpPr>
          <p:spPr>
            <a:xfrm>
              <a:off x="646560" y="2975400"/>
              <a:ext cx="122040" cy="1130040"/>
            </a:xfrm>
            <a:custGeom>
              <a:avLst/>
              <a:gdLst/>
              <a:ahLst/>
              <a:rect l="l" t="t" r="r" b="b"/>
              <a:pathLst>
                <a:path w="132" h="1186">
                  <a:moveTo>
                    <a:pt x="79" y="0"/>
                  </a:moveTo>
                  <a:lnTo>
                    <a:pt x="132" y="368"/>
                  </a:lnTo>
                  <a:lnTo>
                    <a:pt x="0" y="1186"/>
                  </a:lnTo>
                </a:path>
              </a:pathLst>
            </a:custGeom>
            <a:noFill/>
            <a:ln w="12600">
              <a:solidFill>
                <a:srgbClr val="a6a6a6">
                  <a:alpha val="54000"/>
                </a:srgbClr>
              </a:solidFill>
              <a:round/>
              <a:tailEnd len="sm" type="oval" w="sm"/>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01" name="任意多边形 30"/>
            <p:cNvSpPr/>
            <p:nvPr/>
          </p:nvSpPr>
          <p:spPr>
            <a:xfrm>
              <a:off x="1302480" y="4583880"/>
              <a:ext cx="277560" cy="720000"/>
            </a:xfrm>
            <a:custGeom>
              <a:avLst/>
              <a:gdLst/>
              <a:ahLst/>
              <a:rect l="l" t="t" r="r" b="b"/>
              <a:pathLst>
                <a:path w="7538" h="10000">
                  <a:moveTo>
                    <a:pt x="0" y="0"/>
                  </a:moveTo>
                  <a:lnTo>
                    <a:pt x="5503" y="7817"/>
                  </a:lnTo>
                  <a:lnTo>
                    <a:pt x="7538" y="10000"/>
                  </a:lnTo>
                </a:path>
              </a:pathLst>
            </a:custGeom>
            <a:noFill/>
            <a:ln w="12600">
              <a:solidFill>
                <a:srgbClr val="a6a6a6">
                  <a:alpha val="54000"/>
                </a:srgbClr>
              </a:solidFill>
              <a:round/>
              <a:headEnd len="sm" type="oval" w="sm"/>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02" name="任意多边形 31"/>
            <p:cNvSpPr/>
            <p:nvPr/>
          </p:nvSpPr>
          <p:spPr>
            <a:xfrm>
              <a:off x="1302480" y="2909520"/>
              <a:ext cx="305280" cy="1674000"/>
            </a:xfrm>
            <a:custGeom>
              <a:avLst/>
              <a:gdLst/>
              <a:ahLst/>
              <a:rect l="l" t="t" r="r" b="b"/>
              <a:pathLst>
                <a:path w="330" h="1757">
                  <a:moveTo>
                    <a:pt x="52" y="0"/>
                  </a:moveTo>
                  <a:lnTo>
                    <a:pt x="330" y="664"/>
                  </a:lnTo>
                  <a:lnTo>
                    <a:pt x="0" y="1757"/>
                  </a:lnTo>
                </a:path>
              </a:pathLst>
            </a:custGeom>
            <a:noFill/>
            <a:ln w="12600">
              <a:solidFill>
                <a:srgbClr val="a6a6a6">
                  <a:alpha val="54000"/>
                </a:srgbClr>
              </a:solidFill>
              <a:round/>
              <a:headEnd len="sm" type="oval" w="sm"/>
              <a:tailEnd len="sm" type="oval" w="sm"/>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03" name="直接连接符 32"/>
            <p:cNvSpPr/>
            <p:nvPr/>
          </p:nvSpPr>
          <p:spPr>
            <a:xfrm>
              <a:off x="1334160" y="2762280"/>
              <a:ext cx="16560" cy="147240"/>
            </a:xfrm>
            <a:prstGeom prst="line">
              <a:avLst/>
            </a:prstGeom>
            <a:ln w="12600">
              <a:solidFill>
                <a:srgbClr val="a6a6a6">
                  <a:alpha val="54000"/>
                </a:srgbClr>
              </a:solidFill>
              <a:round/>
              <a:headEnd len="sm" type="oval" w="sm"/>
              <a:tailEnd len="sm" type="oval"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04" name="直接连接符 33"/>
            <p:cNvSpPr/>
            <p:nvPr/>
          </p:nvSpPr>
          <p:spPr>
            <a:xfrm flipH="1">
              <a:off x="219600" y="2970000"/>
              <a:ext cx="510480" cy="498960"/>
            </a:xfrm>
            <a:prstGeom prst="line">
              <a:avLst/>
            </a:prstGeom>
            <a:ln w="12600">
              <a:solidFill>
                <a:srgbClr val="a6a6a6">
                  <a:alpha val="54000"/>
                </a:srgbClr>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05" name="直接连接符 34"/>
            <p:cNvSpPr/>
            <p:nvPr/>
          </p:nvSpPr>
          <p:spPr>
            <a:xfrm flipH="1" flipV="1">
              <a:off x="2468520" y="3934800"/>
              <a:ext cx="144360" cy="67680"/>
            </a:xfrm>
            <a:prstGeom prst="line">
              <a:avLst/>
            </a:prstGeom>
            <a:ln w="12600">
              <a:solidFill>
                <a:srgbClr val="a6a6a6">
                  <a:alpha val="54000"/>
                </a:srgbClr>
              </a:solidFill>
              <a:round/>
              <a:headEnd len="sm" type="oval" w="sm"/>
              <a:tailEnd len="sm" type="oval" w="sm"/>
            </a:ln>
          </p:spPr>
          <p:style>
            <a:lnRef idx="0"/>
            <a:fillRef idx="0"/>
            <a:effectRef idx="0"/>
            <a:fontRef idx="minor"/>
          </p:style>
          <p:txBody>
            <a:bodyPr lIns="90000" rIns="90000" tIns="20880" bIns="20880" anchor="t">
              <a:noAutofit/>
            </a:bodyPr>
            <a:p>
              <a:endParaRPr b="1" lang="en-US" sz="1800" spc="-1" strike="noStrike">
                <a:solidFill>
                  <a:srgbClr val="000000"/>
                </a:solidFill>
                <a:latin typeface="Arial"/>
              </a:endParaRPr>
            </a:p>
          </p:txBody>
        </p:sp>
        <p:sp>
          <p:nvSpPr>
            <p:cNvPr id="1306" name="直接连接符 35"/>
            <p:cNvSpPr/>
            <p:nvPr/>
          </p:nvSpPr>
          <p:spPr>
            <a:xfrm flipH="1" flipV="1">
              <a:off x="1986840" y="2922840"/>
              <a:ext cx="164520" cy="440280"/>
            </a:xfrm>
            <a:prstGeom prst="line">
              <a:avLst/>
            </a:prstGeom>
            <a:ln w="12600">
              <a:solidFill>
                <a:srgbClr val="a6a6a6">
                  <a:alpha val="54000"/>
                </a:srgbClr>
              </a:solidFill>
              <a:round/>
              <a:headEnd len="sm" type="oval" w="sm"/>
              <a:tailEnd len="sm" type="oval"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07" name="直接连接符 36"/>
            <p:cNvSpPr/>
            <p:nvPr/>
          </p:nvSpPr>
          <p:spPr>
            <a:xfrm flipH="1" flipV="1">
              <a:off x="2151720" y="3363480"/>
              <a:ext cx="316440" cy="571680"/>
            </a:xfrm>
            <a:prstGeom prst="line">
              <a:avLst/>
            </a:prstGeom>
            <a:ln w="12600">
              <a:solidFill>
                <a:srgbClr val="a6a6a6">
                  <a:alpha val="54000"/>
                </a:srgbClr>
              </a:solidFill>
              <a:round/>
              <a:headEnd len="sm" type="oval" w="sm"/>
              <a:tailEnd len="sm" type="oval"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08" name="直接连接符 37"/>
            <p:cNvSpPr/>
            <p:nvPr/>
          </p:nvSpPr>
          <p:spPr>
            <a:xfrm flipH="1" flipV="1">
              <a:off x="2468880" y="3934800"/>
              <a:ext cx="13680" cy="769680"/>
            </a:xfrm>
            <a:prstGeom prst="line">
              <a:avLst/>
            </a:prstGeom>
            <a:ln w="12600">
              <a:solidFill>
                <a:srgbClr val="a6a6a6">
                  <a:alpha val="54000"/>
                </a:srgbClr>
              </a:solidFill>
              <a:round/>
              <a:headEnd len="sm" type="oval"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09" name="任意多边形 38"/>
            <p:cNvSpPr/>
            <p:nvPr/>
          </p:nvSpPr>
          <p:spPr>
            <a:xfrm>
              <a:off x="1302480" y="4583880"/>
              <a:ext cx="1180440" cy="229320"/>
            </a:xfrm>
            <a:custGeom>
              <a:avLst/>
              <a:gdLst/>
              <a:ahLst/>
              <a:rect l="l" t="t" r="r" b="b"/>
              <a:pathLst>
                <a:path w="1274" h="241">
                  <a:moveTo>
                    <a:pt x="0" y="0"/>
                  </a:moveTo>
                  <a:lnTo>
                    <a:pt x="909" y="241"/>
                  </a:lnTo>
                  <a:lnTo>
                    <a:pt x="1274" y="127"/>
                  </a:lnTo>
                </a:path>
              </a:pathLst>
            </a:custGeom>
            <a:noFill/>
            <a:ln w="12600">
              <a:solidFill>
                <a:srgbClr val="a6a6a6">
                  <a:alpha val="54000"/>
                </a:srgbClr>
              </a:solidFill>
              <a:round/>
              <a:headEnd len="sm" type="oval" w="sm"/>
              <a:tailEnd len="sm" type="oval" w="sm"/>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0" name="直接连接符 39"/>
            <p:cNvSpPr/>
            <p:nvPr/>
          </p:nvSpPr>
          <p:spPr>
            <a:xfrm>
              <a:off x="646560" y="4105440"/>
              <a:ext cx="655920" cy="478080"/>
            </a:xfrm>
            <a:prstGeom prst="line">
              <a:avLst/>
            </a:prstGeom>
            <a:ln w="12600">
              <a:solidFill>
                <a:srgbClr val="a6a6a6">
                  <a:alpha val="54000"/>
                </a:srgbClr>
              </a:solidFill>
              <a:round/>
              <a:headEnd len="sm" type="oval" w="sm"/>
              <a:tailEnd len="sm" type="oval"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11" name="直接连接符 40"/>
            <p:cNvSpPr/>
            <p:nvPr/>
          </p:nvSpPr>
          <p:spPr>
            <a:xfrm>
              <a:off x="219600" y="3468960"/>
              <a:ext cx="426960" cy="636120"/>
            </a:xfrm>
            <a:prstGeom prst="line">
              <a:avLst/>
            </a:prstGeom>
            <a:ln w="12600">
              <a:solidFill>
                <a:srgbClr val="a6a6a6">
                  <a:alpha val="54000"/>
                </a:srgbClr>
              </a:solidFill>
              <a:round/>
              <a:headEnd len="sm" type="oval" w="sm"/>
              <a:tailEnd len="sm" type="oval"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12" name="直接连接符 41"/>
            <p:cNvSpPr/>
            <p:nvPr/>
          </p:nvSpPr>
          <p:spPr>
            <a:xfrm flipH="1">
              <a:off x="219600" y="3326400"/>
              <a:ext cx="549360" cy="142560"/>
            </a:xfrm>
            <a:prstGeom prst="line">
              <a:avLst/>
            </a:prstGeom>
            <a:ln w="12600">
              <a:solidFill>
                <a:srgbClr val="a6a6a6">
                  <a:alpha val="54000"/>
                </a:srgbClr>
              </a:solidFill>
              <a:round/>
              <a:headEnd len="sm" type="oval" w="sm"/>
              <a:tailEnd len="sm" type="oval"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13" name="直接连接符 42"/>
            <p:cNvSpPr/>
            <p:nvPr/>
          </p:nvSpPr>
          <p:spPr>
            <a:xfrm flipH="1">
              <a:off x="768600" y="2909520"/>
              <a:ext cx="581760" cy="416160"/>
            </a:xfrm>
            <a:prstGeom prst="line">
              <a:avLst/>
            </a:prstGeom>
            <a:ln w="12600">
              <a:solidFill>
                <a:srgbClr val="a6a6a6">
                  <a:alpha val="54000"/>
                </a:srgbClr>
              </a:solidFill>
              <a:round/>
              <a:headEnd len="sm" type="oval" w="sm"/>
              <a:tailEnd len="sm" type="oval"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14" name="直接连接符 43"/>
            <p:cNvSpPr/>
            <p:nvPr/>
          </p:nvSpPr>
          <p:spPr>
            <a:xfrm flipH="1" flipV="1">
              <a:off x="1350720" y="2909160"/>
              <a:ext cx="801360" cy="453240"/>
            </a:xfrm>
            <a:prstGeom prst="line">
              <a:avLst/>
            </a:prstGeom>
            <a:ln w="12600">
              <a:solidFill>
                <a:srgbClr val="a6a6a6">
                  <a:alpha val="54000"/>
                </a:srgbClr>
              </a:solidFill>
              <a:round/>
              <a:headEnd len="sm" type="oval" w="sm"/>
              <a:tailEnd len="sm" type="oval"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15" name="任意多边形 44"/>
            <p:cNvSpPr/>
            <p:nvPr/>
          </p:nvSpPr>
          <p:spPr>
            <a:xfrm>
              <a:off x="2152080" y="3363480"/>
              <a:ext cx="389160" cy="557280"/>
            </a:xfrm>
            <a:custGeom>
              <a:avLst/>
              <a:gdLst/>
              <a:ahLst/>
              <a:rect l="l" t="t" r="r" b="b"/>
              <a:pathLst>
                <a:path w="420" h="585">
                  <a:moveTo>
                    <a:pt x="344" y="585"/>
                  </a:moveTo>
                  <a:lnTo>
                    <a:pt x="420" y="87"/>
                  </a:lnTo>
                  <a:lnTo>
                    <a:pt x="0" y="0"/>
                  </a:lnTo>
                </a:path>
              </a:pathLst>
            </a:custGeom>
            <a:noFill/>
            <a:ln w="12600">
              <a:solidFill>
                <a:srgbClr val="a6a6a6">
                  <a:alpha val="54000"/>
                </a:srgbClr>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6" name="任意多边形 45"/>
            <p:cNvSpPr/>
            <p:nvPr/>
          </p:nvSpPr>
          <p:spPr>
            <a:xfrm>
              <a:off x="2137320" y="3363480"/>
              <a:ext cx="333360" cy="1449720"/>
            </a:xfrm>
            <a:custGeom>
              <a:avLst/>
              <a:gdLst/>
              <a:ahLst/>
              <a:rect l="l" t="t" r="r" b="b"/>
              <a:pathLst>
                <a:path w="360" h="1522">
                  <a:moveTo>
                    <a:pt x="16" y="0"/>
                  </a:moveTo>
                  <a:lnTo>
                    <a:pt x="0" y="729"/>
                  </a:lnTo>
                  <a:lnTo>
                    <a:pt x="8" y="1522"/>
                  </a:lnTo>
                  <a:lnTo>
                    <a:pt x="358" y="600"/>
                  </a:lnTo>
                  <a:lnTo>
                    <a:pt x="360" y="585"/>
                  </a:lnTo>
                </a:path>
              </a:pathLst>
            </a:custGeom>
            <a:noFill/>
            <a:ln w="12600">
              <a:solidFill>
                <a:srgbClr val="a6a6a6">
                  <a:alpha val="54000"/>
                </a:srgbClr>
              </a:solidFill>
              <a:round/>
              <a:headEnd len="sm" type="oval" w="sm"/>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7" name="直接连接符 46"/>
            <p:cNvSpPr/>
            <p:nvPr/>
          </p:nvSpPr>
          <p:spPr>
            <a:xfrm flipV="1">
              <a:off x="1608120" y="3363120"/>
              <a:ext cx="543600" cy="178920"/>
            </a:xfrm>
            <a:prstGeom prst="line">
              <a:avLst/>
            </a:prstGeom>
            <a:ln w="12600">
              <a:solidFill>
                <a:srgbClr val="a6a6a6">
                  <a:alpha val="54000"/>
                </a:srgbClr>
              </a:solidFill>
              <a:round/>
              <a:headEnd len="sm" type="oval" w="sm"/>
              <a:tailEnd len="sm" type="oval"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18" name="直接连接符 47"/>
            <p:cNvSpPr/>
            <p:nvPr/>
          </p:nvSpPr>
          <p:spPr>
            <a:xfrm flipV="1">
              <a:off x="646560" y="3542400"/>
              <a:ext cx="961560" cy="570240"/>
            </a:xfrm>
            <a:prstGeom prst="line">
              <a:avLst/>
            </a:prstGeom>
            <a:ln w="12600">
              <a:solidFill>
                <a:srgbClr val="a6a6a6">
                  <a:alpha val="54000"/>
                </a:srgbClr>
              </a:solidFill>
              <a:round/>
              <a:headEnd len="sm" type="oval" w="sm"/>
              <a:tailEnd len="sm" type="oval"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19" name="任意多边形 48"/>
            <p:cNvSpPr/>
            <p:nvPr/>
          </p:nvSpPr>
          <p:spPr>
            <a:xfrm>
              <a:off x="268200" y="4113000"/>
              <a:ext cx="511200" cy="747000"/>
            </a:xfrm>
            <a:custGeom>
              <a:avLst/>
              <a:gdLst/>
              <a:ahLst/>
              <a:rect l="l" t="t" r="r" b="b"/>
              <a:pathLst>
                <a:path w="552" h="784">
                  <a:moveTo>
                    <a:pt x="552" y="784"/>
                  </a:moveTo>
                  <a:lnTo>
                    <a:pt x="0" y="412"/>
                  </a:lnTo>
                  <a:lnTo>
                    <a:pt x="408" y="0"/>
                  </a:lnTo>
                </a:path>
              </a:pathLst>
            </a:custGeom>
            <a:noFill/>
            <a:ln w="12600">
              <a:solidFill>
                <a:srgbClr val="a6a6a6">
                  <a:alpha val="54000"/>
                </a:srgbClr>
              </a:solidFill>
              <a:round/>
              <a:headEnd len="sm" type="oval" w="sm"/>
              <a:tailEnd len="sm" type="oval" w="sm"/>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20" name="直接连接符 49"/>
            <p:cNvSpPr/>
            <p:nvPr/>
          </p:nvSpPr>
          <p:spPr>
            <a:xfrm flipH="1">
              <a:off x="779400" y="4583880"/>
              <a:ext cx="522360" cy="276120"/>
            </a:xfrm>
            <a:prstGeom prst="line">
              <a:avLst/>
            </a:prstGeom>
            <a:ln w="12600">
              <a:solidFill>
                <a:srgbClr val="a6a6a6">
                  <a:alpha val="54000"/>
                </a:srgbClr>
              </a:solidFill>
              <a:round/>
              <a:headEnd len="sm" type="oval" w="sm"/>
              <a:tailEnd len="sm" type="oval"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21" name="任意多边形 50"/>
            <p:cNvSpPr/>
            <p:nvPr/>
          </p:nvSpPr>
          <p:spPr>
            <a:xfrm>
              <a:off x="1302480" y="3934800"/>
              <a:ext cx="1166400" cy="648720"/>
            </a:xfrm>
            <a:custGeom>
              <a:avLst/>
              <a:gdLst/>
              <a:ahLst/>
              <a:rect l="l" t="t" r="r" b="b"/>
              <a:pathLst>
                <a:path w="1259" h="681">
                  <a:moveTo>
                    <a:pt x="1259" y="0"/>
                  </a:moveTo>
                  <a:lnTo>
                    <a:pt x="902" y="140"/>
                  </a:lnTo>
                  <a:lnTo>
                    <a:pt x="0" y="681"/>
                  </a:lnTo>
                </a:path>
              </a:pathLst>
            </a:custGeom>
            <a:noFill/>
            <a:ln w="12600">
              <a:solidFill>
                <a:srgbClr val="a6a6a6">
                  <a:alpha val="54000"/>
                </a:srgbClr>
              </a:solidFill>
              <a:round/>
              <a:headEnd len="sm" type="oval" w="sm"/>
              <a:tailEnd len="sm" type="oval" w="sm"/>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22" name="任意多边形 51"/>
            <p:cNvSpPr/>
            <p:nvPr/>
          </p:nvSpPr>
          <p:spPr>
            <a:xfrm>
              <a:off x="820800" y="5110560"/>
              <a:ext cx="1192320" cy="110160"/>
            </a:xfrm>
            <a:custGeom>
              <a:avLst/>
              <a:gdLst/>
              <a:ahLst/>
              <a:rect l="l" t="t" r="r" b="b"/>
              <a:pathLst>
                <a:path w="1287" h="116">
                  <a:moveTo>
                    <a:pt x="1287" y="0"/>
                  </a:moveTo>
                  <a:lnTo>
                    <a:pt x="739" y="38"/>
                  </a:lnTo>
                  <a:lnTo>
                    <a:pt x="0" y="116"/>
                  </a:lnTo>
                </a:path>
              </a:pathLst>
            </a:custGeom>
            <a:noFill/>
            <a:ln w="12600">
              <a:solidFill>
                <a:srgbClr val="a6a6a6">
                  <a:alpha val="54000"/>
                </a:srgbClr>
              </a:solidFill>
              <a:round/>
              <a:headEnd len="sm" type="oval" w="sm"/>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23" name="任意多边形 9"/>
            <p:cNvSpPr/>
            <p:nvPr/>
          </p:nvSpPr>
          <p:spPr>
            <a:xfrm>
              <a:off x="779760" y="4813200"/>
              <a:ext cx="1364400" cy="333000"/>
            </a:xfrm>
            <a:custGeom>
              <a:avLst/>
              <a:gdLst/>
              <a:ahLst/>
              <a:rect l="l" t="t" r="r" b="b"/>
              <a:pathLst>
                <a:path w="1473" h="350">
                  <a:moveTo>
                    <a:pt x="0" y="49"/>
                  </a:moveTo>
                  <a:lnTo>
                    <a:pt x="783" y="350"/>
                  </a:lnTo>
                  <a:lnTo>
                    <a:pt x="1473" y="0"/>
                  </a:lnTo>
                  <a:lnTo>
                    <a:pt x="1348" y="303"/>
                  </a:lnTo>
                </a:path>
              </a:pathLst>
            </a:custGeom>
            <a:noFill/>
            <a:ln w="12600">
              <a:solidFill>
                <a:srgbClr val="a6a6a6">
                  <a:alpha val="54000"/>
                </a:srgbClr>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24" name="直接连接符 53"/>
            <p:cNvSpPr/>
            <p:nvPr/>
          </p:nvSpPr>
          <p:spPr>
            <a:xfrm>
              <a:off x="1608120" y="3542400"/>
              <a:ext cx="529560" cy="525600"/>
            </a:xfrm>
            <a:prstGeom prst="line">
              <a:avLst/>
            </a:prstGeom>
            <a:ln w="12600">
              <a:solidFill>
                <a:srgbClr val="a6a6a6">
                  <a:alpha val="54000"/>
                </a:srgbClr>
              </a:solidFill>
              <a:round/>
              <a:headEnd len="sm" type="oval" w="sm"/>
              <a:tailEnd len="sm" type="oval"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25" name="直接连接符 10"/>
            <p:cNvSpPr/>
            <p:nvPr/>
          </p:nvSpPr>
          <p:spPr>
            <a:xfrm>
              <a:off x="768600" y="3326400"/>
              <a:ext cx="839160" cy="216000"/>
            </a:xfrm>
            <a:prstGeom prst="line">
              <a:avLst/>
            </a:prstGeom>
            <a:ln w="12600">
              <a:solidFill>
                <a:srgbClr val="a6a6a6">
                  <a:alpha val="54000"/>
                </a:srgbClr>
              </a:solidFill>
              <a:round/>
              <a:headEnd len="sm" type="oval" w="sm"/>
              <a:tailEnd len="sm" type="oval"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26" name="椭圆 18"/>
            <p:cNvSpPr/>
            <p:nvPr/>
          </p:nvSpPr>
          <p:spPr>
            <a:xfrm>
              <a:off x="566640" y="3183120"/>
              <a:ext cx="1643400" cy="1692000"/>
            </a:xfrm>
            <a:prstGeom prst="ellipse">
              <a:avLst/>
            </a:prstGeom>
            <a:solidFill>
              <a:srgbClr val="4276aa"/>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27" name="椭圆 11"/>
            <p:cNvSpPr/>
            <p:nvPr/>
          </p:nvSpPr>
          <p:spPr>
            <a:xfrm rot="18199200">
              <a:off x="1041120" y="2274480"/>
              <a:ext cx="663840" cy="645480"/>
            </a:xfrm>
            <a:prstGeom prst="ellipse">
              <a:avLst/>
            </a:prstGeom>
            <a:solidFill>
              <a:srgbClr val="4276aa"/>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28" name="任意多边形 16"/>
            <p:cNvSpPr/>
            <p:nvPr/>
          </p:nvSpPr>
          <p:spPr>
            <a:xfrm>
              <a:off x="1210320" y="2467080"/>
              <a:ext cx="339840" cy="293040"/>
            </a:xfrm>
            <a:custGeom>
              <a:avLst/>
              <a:gdLst/>
              <a:ahLst/>
              <a:rect l="l" t="t" r="r" b="b"/>
              <a:pathLst>
                <a:path w="996" h="770">
                  <a:moveTo>
                    <a:pt x="995" y="100"/>
                  </a:moveTo>
                  <a:cubicBezTo>
                    <a:pt x="995" y="409"/>
                    <a:pt x="995" y="409"/>
                    <a:pt x="995" y="409"/>
                  </a:cubicBezTo>
                  <a:cubicBezTo>
                    <a:pt x="995" y="409"/>
                    <a:pt x="928" y="426"/>
                    <a:pt x="920" y="426"/>
                  </a:cubicBezTo>
                  <a:cubicBezTo>
                    <a:pt x="903" y="426"/>
                    <a:pt x="861" y="443"/>
                    <a:pt x="836" y="409"/>
                  </a:cubicBezTo>
                  <a:cubicBezTo>
                    <a:pt x="786" y="367"/>
                    <a:pt x="619" y="192"/>
                    <a:pt x="619" y="192"/>
                  </a:cubicBezTo>
                  <a:cubicBezTo>
                    <a:pt x="619" y="192"/>
                    <a:pt x="594" y="167"/>
                    <a:pt x="543" y="192"/>
                  </a:cubicBezTo>
                  <a:cubicBezTo>
                    <a:pt x="502" y="217"/>
                    <a:pt x="443" y="250"/>
                    <a:pt x="418" y="259"/>
                  </a:cubicBezTo>
                  <a:cubicBezTo>
                    <a:pt x="410" y="267"/>
                    <a:pt x="393" y="275"/>
                    <a:pt x="384" y="275"/>
                  </a:cubicBezTo>
                  <a:cubicBezTo>
                    <a:pt x="351" y="275"/>
                    <a:pt x="326" y="242"/>
                    <a:pt x="326" y="209"/>
                  </a:cubicBezTo>
                  <a:cubicBezTo>
                    <a:pt x="326" y="183"/>
                    <a:pt x="343" y="167"/>
                    <a:pt x="360" y="158"/>
                  </a:cubicBezTo>
                  <a:cubicBezTo>
                    <a:pt x="426" y="116"/>
                    <a:pt x="552" y="50"/>
                    <a:pt x="602" y="16"/>
                  </a:cubicBezTo>
                  <a:cubicBezTo>
                    <a:pt x="635" y="0"/>
                    <a:pt x="652" y="0"/>
                    <a:pt x="702" y="33"/>
                  </a:cubicBezTo>
                  <a:cubicBezTo>
                    <a:pt x="752" y="83"/>
                    <a:pt x="803" y="125"/>
                    <a:pt x="803" y="125"/>
                  </a:cubicBezTo>
                  <a:cubicBezTo>
                    <a:pt x="803" y="125"/>
                    <a:pt x="819" y="133"/>
                    <a:pt x="836" y="133"/>
                  </a:cubicBezTo>
                  <a:cubicBezTo>
                    <a:pt x="878" y="125"/>
                    <a:pt x="995" y="100"/>
                    <a:pt x="995" y="100"/>
                  </a:cubicBezTo>
                  <a:close/>
                  <a:moveTo>
                    <a:pt x="334" y="626"/>
                  </a:moveTo>
                  <a:cubicBezTo>
                    <a:pt x="343" y="610"/>
                    <a:pt x="343" y="585"/>
                    <a:pt x="326" y="568"/>
                  </a:cubicBezTo>
                  <a:cubicBezTo>
                    <a:pt x="309" y="551"/>
                    <a:pt x="293" y="551"/>
                    <a:pt x="276" y="551"/>
                  </a:cubicBezTo>
                  <a:cubicBezTo>
                    <a:pt x="276" y="535"/>
                    <a:pt x="276" y="510"/>
                    <a:pt x="259" y="501"/>
                  </a:cubicBezTo>
                  <a:cubicBezTo>
                    <a:pt x="251" y="484"/>
                    <a:pt x="226" y="476"/>
                    <a:pt x="209" y="484"/>
                  </a:cubicBezTo>
                  <a:cubicBezTo>
                    <a:pt x="217" y="468"/>
                    <a:pt x="209" y="443"/>
                    <a:pt x="201" y="426"/>
                  </a:cubicBezTo>
                  <a:cubicBezTo>
                    <a:pt x="176" y="401"/>
                    <a:pt x="134" y="409"/>
                    <a:pt x="109" y="434"/>
                  </a:cubicBezTo>
                  <a:cubicBezTo>
                    <a:pt x="92" y="451"/>
                    <a:pt x="75" y="501"/>
                    <a:pt x="92" y="526"/>
                  </a:cubicBezTo>
                  <a:cubicBezTo>
                    <a:pt x="117" y="551"/>
                    <a:pt x="142" y="535"/>
                    <a:pt x="159" y="535"/>
                  </a:cubicBezTo>
                  <a:cubicBezTo>
                    <a:pt x="159" y="551"/>
                    <a:pt x="142" y="568"/>
                    <a:pt x="159" y="593"/>
                  </a:cubicBezTo>
                  <a:cubicBezTo>
                    <a:pt x="176" y="618"/>
                    <a:pt x="209" y="602"/>
                    <a:pt x="226" y="602"/>
                  </a:cubicBezTo>
                  <a:cubicBezTo>
                    <a:pt x="217" y="618"/>
                    <a:pt x="201" y="643"/>
                    <a:pt x="226" y="668"/>
                  </a:cubicBezTo>
                  <a:cubicBezTo>
                    <a:pt x="242" y="685"/>
                    <a:pt x="276" y="677"/>
                    <a:pt x="293" y="668"/>
                  </a:cubicBezTo>
                  <a:cubicBezTo>
                    <a:pt x="284" y="693"/>
                    <a:pt x="268" y="710"/>
                    <a:pt x="293" y="744"/>
                  </a:cubicBezTo>
                  <a:cubicBezTo>
                    <a:pt x="318" y="769"/>
                    <a:pt x="368" y="752"/>
                    <a:pt x="393" y="727"/>
                  </a:cubicBezTo>
                  <a:cubicBezTo>
                    <a:pt x="418" y="702"/>
                    <a:pt x="418" y="668"/>
                    <a:pt x="393" y="643"/>
                  </a:cubicBezTo>
                  <a:cubicBezTo>
                    <a:pt x="376" y="626"/>
                    <a:pt x="360" y="626"/>
                    <a:pt x="334" y="626"/>
                  </a:cubicBezTo>
                  <a:close/>
                  <a:moveTo>
                    <a:pt x="786" y="468"/>
                  </a:moveTo>
                  <a:cubicBezTo>
                    <a:pt x="610" y="284"/>
                    <a:pt x="694" y="367"/>
                    <a:pt x="594" y="267"/>
                  </a:cubicBezTo>
                  <a:cubicBezTo>
                    <a:pt x="594" y="267"/>
                    <a:pt x="569" y="234"/>
                    <a:pt x="527" y="259"/>
                  </a:cubicBezTo>
                  <a:cubicBezTo>
                    <a:pt x="502" y="267"/>
                    <a:pt x="468" y="284"/>
                    <a:pt x="443" y="301"/>
                  </a:cubicBezTo>
                  <a:cubicBezTo>
                    <a:pt x="418" y="309"/>
                    <a:pt x="393" y="317"/>
                    <a:pt x="384" y="317"/>
                  </a:cubicBezTo>
                  <a:cubicBezTo>
                    <a:pt x="326" y="317"/>
                    <a:pt x="284" y="267"/>
                    <a:pt x="284" y="217"/>
                  </a:cubicBezTo>
                  <a:cubicBezTo>
                    <a:pt x="284" y="175"/>
                    <a:pt x="301" y="142"/>
                    <a:pt x="334" y="125"/>
                  </a:cubicBezTo>
                  <a:cubicBezTo>
                    <a:pt x="368" y="100"/>
                    <a:pt x="460" y="50"/>
                    <a:pt x="460" y="50"/>
                  </a:cubicBezTo>
                  <a:cubicBezTo>
                    <a:pt x="460" y="50"/>
                    <a:pt x="435" y="8"/>
                    <a:pt x="376" y="8"/>
                  </a:cubicBezTo>
                  <a:cubicBezTo>
                    <a:pt x="309" y="8"/>
                    <a:pt x="184" y="100"/>
                    <a:pt x="184" y="100"/>
                  </a:cubicBezTo>
                  <a:cubicBezTo>
                    <a:pt x="184" y="100"/>
                    <a:pt x="150" y="116"/>
                    <a:pt x="100" y="100"/>
                  </a:cubicBezTo>
                  <a:cubicBezTo>
                    <a:pt x="0" y="66"/>
                    <a:pt x="0" y="66"/>
                    <a:pt x="0" y="66"/>
                  </a:cubicBezTo>
                  <a:cubicBezTo>
                    <a:pt x="0" y="426"/>
                    <a:pt x="0" y="426"/>
                    <a:pt x="0" y="426"/>
                  </a:cubicBezTo>
                  <a:cubicBezTo>
                    <a:pt x="0" y="426"/>
                    <a:pt x="25" y="434"/>
                    <a:pt x="50" y="443"/>
                  </a:cubicBezTo>
                  <a:cubicBezTo>
                    <a:pt x="59" y="426"/>
                    <a:pt x="67" y="409"/>
                    <a:pt x="83" y="392"/>
                  </a:cubicBezTo>
                  <a:cubicBezTo>
                    <a:pt x="125" y="351"/>
                    <a:pt x="192" y="351"/>
                    <a:pt x="234" y="392"/>
                  </a:cubicBezTo>
                  <a:cubicBezTo>
                    <a:pt x="242" y="409"/>
                    <a:pt x="251" y="417"/>
                    <a:pt x="251" y="434"/>
                  </a:cubicBezTo>
                  <a:cubicBezTo>
                    <a:pt x="268" y="443"/>
                    <a:pt x="284" y="451"/>
                    <a:pt x="293" y="468"/>
                  </a:cubicBezTo>
                  <a:cubicBezTo>
                    <a:pt x="309" y="476"/>
                    <a:pt x="318" y="493"/>
                    <a:pt x="318" y="510"/>
                  </a:cubicBezTo>
                  <a:cubicBezTo>
                    <a:pt x="334" y="510"/>
                    <a:pt x="351" y="518"/>
                    <a:pt x="360" y="535"/>
                  </a:cubicBezTo>
                  <a:cubicBezTo>
                    <a:pt x="376" y="551"/>
                    <a:pt x="384" y="568"/>
                    <a:pt x="384" y="585"/>
                  </a:cubicBezTo>
                  <a:cubicBezTo>
                    <a:pt x="401" y="585"/>
                    <a:pt x="418" y="593"/>
                    <a:pt x="426" y="610"/>
                  </a:cubicBezTo>
                  <a:cubicBezTo>
                    <a:pt x="451" y="635"/>
                    <a:pt x="460" y="668"/>
                    <a:pt x="451" y="702"/>
                  </a:cubicBezTo>
                  <a:cubicBezTo>
                    <a:pt x="460" y="702"/>
                    <a:pt x="468" y="718"/>
                    <a:pt x="477" y="727"/>
                  </a:cubicBezTo>
                  <a:cubicBezTo>
                    <a:pt x="493" y="744"/>
                    <a:pt x="527" y="744"/>
                    <a:pt x="543" y="727"/>
                  </a:cubicBezTo>
                  <a:cubicBezTo>
                    <a:pt x="560" y="710"/>
                    <a:pt x="560" y="677"/>
                    <a:pt x="543" y="660"/>
                  </a:cubicBezTo>
                  <a:lnTo>
                    <a:pt x="535" y="660"/>
                  </a:lnTo>
                  <a:cubicBezTo>
                    <a:pt x="485" y="602"/>
                    <a:pt x="477" y="593"/>
                    <a:pt x="485" y="585"/>
                  </a:cubicBezTo>
                  <a:cubicBezTo>
                    <a:pt x="493" y="585"/>
                    <a:pt x="502" y="593"/>
                    <a:pt x="560" y="660"/>
                  </a:cubicBezTo>
                  <a:cubicBezTo>
                    <a:pt x="569" y="668"/>
                    <a:pt x="569" y="668"/>
                    <a:pt x="569" y="668"/>
                  </a:cubicBezTo>
                  <a:cubicBezTo>
                    <a:pt x="585" y="685"/>
                    <a:pt x="610" y="685"/>
                    <a:pt x="627" y="668"/>
                  </a:cubicBezTo>
                  <a:cubicBezTo>
                    <a:pt x="644" y="652"/>
                    <a:pt x="644" y="618"/>
                    <a:pt x="627" y="602"/>
                  </a:cubicBezTo>
                  <a:cubicBezTo>
                    <a:pt x="569" y="535"/>
                    <a:pt x="560" y="526"/>
                    <a:pt x="560" y="518"/>
                  </a:cubicBezTo>
                  <a:cubicBezTo>
                    <a:pt x="569" y="518"/>
                    <a:pt x="594" y="551"/>
                    <a:pt x="652" y="610"/>
                  </a:cubicBezTo>
                  <a:cubicBezTo>
                    <a:pt x="669" y="626"/>
                    <a:pt x="702" y="626"/>
                    <a:pt x="719" y="610"/>
                  </a:cubicBezTo>
                  <a:cubicBezTo>
                    <a:pt x="727" y="593"/>
                    <a:pt x="736" y="568"/>
                    <a:pt x="719" y="543"/>
                  </a:cubicBezTo>
                  <a:cubicBezTo>
                    <a:pt x="644" y="468"/>
                    <a:pt x="644" y="468"/>
                    <a:pt x="652" y="459"/>
                  </a:cubicBezTo>
                  <a:lnTo>
                    <a:pt x="727" y="526"/>
                  </a:lnTo>
                  <a:cubicBezTo>
                    <a:pt x="727" y="535"/>
                    <a:pt x="727" y="535"/>
                    <a:pt x="727" y="535"/>
                  </a:cubicBezTo>
                  <a:cubicBezTo>
                    <a:pt x="744" y="551"/>
                    <a:pt x="769" y="551"/>
                    <a:pt x="786" y="535"/>
                  </a:cubicBezTo>
                  <a:cubicBezTo>
                    <a:pt x="803" y="510"/>
                    <a:pt x="803" y="484"/>
                    <a:pt x="786" y="468"/>
                  </a:cubicBezTo>
                  <a:close/>
                  <a:moveTo>
                    <a:pt x="786" y="468"/>
                  </a:moveTo>
                  <a:lnTo>
                    <a:pt x="786" y="468"/>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29" name="椭圆 13"/>
            <p:cNvSpPr/>
            <p:nvPr/>
          </p:nvSpPr>
          <p:spPr>
            <a:xfrm rot="18199200">
              <a:off x="2254320" y="4493160"/>
              <a:ext cx="663480" cy="644400"/>
            </a:xfrm>
            <a:prstGeom prst="ellipse">
              <a:avLst/>
            </a:prstGeom>
            <a:solidFill>
              <a:srgbClr val="479eff"/>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30" name="任意多边形 14"/>
            <p:cNvSpPr/>
            <p:nvPr/>
          </p:nvSpPr>
          <p:spPr>
            <a:xfrm>
              <a:off x="2413800" y="4652280"/>
              <a:ext cx="343800" cy="326880"/>
            </a:xfrm>
            <a:custGeom>
              <a:avLst/>
              <a:gdLst/>
              <a:ahLst/>
              <a:rect l="l" t="t" r="r" b="b"/>
              <a:pathLst>
                <a:path w="68" h="63">
                  <a:moveTo>
                    <a:pt x="45" y="35"/>
                  </a:moveTo>
                  <a:cubicBezTo>
                    <a:pt x="45" y="35"/>
                    <a:pt x="45" y="36"/>
                    <a:pt x="45" y="36"/>
                  </a:cubicBezTo>
                  <a:cubicBezTo>
                    <a:pt x="39" y="36"/>
                    <a:pt x="39" y="36"/>
                    <a:pt x="39" y="36"/>
                  </a:cubicBezTo>
                  <a:cubicBezTo>
                    <a:pt x="39" y="37"/>
                    <a:pt x="38" y="38"/>
                    <a:pt x="38" y="39"/>
                  </a:cubicBezTo>
                  <a:cubicBezTo>
                    <a:pt x="39" y="41"/>
                    <a:pt x="40" y="42"/>
                    <a:pt x="41" y="43"/>
                  </a:cubicBezTo>
                  <a:cubicBezTo>
                    <a:pt x="41" y="43"/>
                    <a:pt x="41" y="44"/>
                    <a:pt x="41" y="44"/>
                  </a:cubicBezTo>
                  <a:cubicBezTo>
                    <a:pt x="41" y="44"/>
                    <a:pt x="41" y="44"/>
                    <a:pt x="41" y="45"/>
                  </a:cubicBezTo>
                  <a:cubicBezTo>
                    <a:pt x="40" y="46"/>
                    <a:pt x="36" y="50"/>
                    <a:pt x="35" y="50"/>
                  </a:cubicBezTo>
                  <a:cubicBezTo>
                    <a:pt x="35" y="50"/>
                    <a:pt x="35" y="50"/>
                    <a:pt x="35" y="50"/>
                  </a:cubicBezTo>
                  <a:cubicBezTo>
                    <a:pt x="31" y="47"/>
                    <a:pt x="31" y="47"/>
                    <a:pt x="31" y="47"/>
                  </a:cubicBezTo>
                  <a:cubicBezTo>
                    <a:pt x="30" y="47"/>
                    <a:pt x="29" y="47"/>
                    <a:pt x="28" y="48"/>
                  </a:cubicBezTo>
                  <a:cubicBezTo>
                    <a:pt x="28" y="49"/>
                    <a:pt x="27" y="51"/>
                    <a:pt x="27" y="53"/>
                  </a:cubicBezTo>
                  <a:cubicBezTo>
                    <a:pt x="27" y="54"/>
                    <a:pt x="26" y="54"/>
                    <a:pt x="26" y="54"/>
                  </a:cubicBezTo>
                  <a:cubicBezTo>
                    <a:pt x="19" y="54"/>
                    <a:pt x="19" y="54"/>
                    <a:pt x="19" y="54"/>
                  </a:cubicBezTo>
                  <a:cubicBezTo>
                    <a:pt x="19" y="54"/>
                    <a:pt x="18" y="54"/>
                    <a:pt x="18" y="53"/>
                  </a:cubicBezTo>
                  <a:cubicBezTo>
                    <a:pt x="17" y="48"/>
                    <a:pt x="17" y="48"/>
                    <a:pt x="17" y="48"/>
                  </a:cubicBezTo>
                  <a:cubicBezTo>
                    <a:pt x="16" y="47"/>
                    <a:pt x="16" y="47"/>
                    <a:pt x="15" y="47"/>
                  </a:cubicBezTo>
                  <a:cubicBezTo>
                    <a:pt x="11" y="50"/>
                    <a:pt x="11" y="50"/>
                    <a:pt x="11" y="50"/>
                  </a:cubicBezTo>
                  <a:cubicBezTo>
                    <a:pt x="10" y="50"/>
                    <a:pt x="10" y="50"/>
                    <a:pt x="10" y="50"/>
                  </a:cubicBezTo>
                  <a:cubicBezTo>
                    <a:pt x="10" y="50"/>
                    <a:pt x="9" y="50"/>
                    <a:pt x="9" y="50"/>
                  </a:cubicBezTo>
                  <a:cubicBezTo>
                    <a:pt x="8" y="49"/>
                    <a:pt x="4" y="45"/>
                    <a:pt x="4" y="44"/>
                  </a:cubicBezTo>
                  <a:cubicBezTo>
                    <a:pt x="4" y="44"/>
                    <a:pt x="4" y="44"/>
                    <a:pt x="4" y="43"/>
                  </a:cubicBezTo>
                  <a:cubicBezTo>
                    <a:pt x="5" y="42"/>
                    <a:pt x="6" y="41"/>
                    <a:pt x="7" y="39"/>
                  </a:cubicBezTo>
                  <a:cubicBezTo>
                    <a:pt x="7" y="38"/>
                    <a:pt x="6" y="37"/>
                    <a:pt x="6" y="36"/>
                  </a:cubicBezTo>
                  <a:cubicBezTo>
                    <a:pt x="1" y="35"/>
                    <a:pt x="1" y="35"/>
                    <a:pt x="1" y="35"/>
                  </a:cubicBezTo>
                  <a:cubicBezTo>
                    <a:pt x="0" y="35"/>
                    <a:pt x="0" y="35"/>
                    <a:pt x="0" y="34"/>
                  </a:cubicBezTo>
                  <a:cubicBezTo>
                    <a:pt x="0" y="28"/>
                    <a:pt x="0" y="28"/>
                    <a:pt x="0" y="28"/>
                  </a:cubicBezTo>
                  <a:cubicBezTo>
                    <a:pt x="0" y="27"/>
                    <a:pt x="0" y="27"/>
                    <a:pt x="1" y="27"/>
                  </a:cubicBezTo>
                  <a:cubicBezTo>
                    <a:pt x="6" y="26"/>
                    <a:pt x="6" y="26"/>
                    <a:pt x="6" y="26"/>
                  </a:cubicBezTo>
                  <a:cubicBezTo>
                    <a:pt x="6" y="25"/>
                    <a:pt x="7" y="24"/>
                    <a:pt x="7" y="23"/>
                  </a:cubicBezTo>
                  <a:cubicBezTo>
                    <a:pt x="6" y="22"/>
                    <a:pt x="5" y="20"/>
                    <a:pt x="4" y="19"/>
                  </a:cubicBezTo>
                  <a:cubicBezTo>
                    <a:pt x="4" y="19"/>
                    <a:pt x="4" y="19"/>
                    <a:pt x="4" y="18"/>
                  </a:cubicBezTo>
                  <a:cubicBezTo>
                    <a:pt x="4" y="18"/>
                    <a:pt x="4" y="18"/>
                    <a:pt x="4" y="18"/>
                  </a:cubicBezTo>
                  <a:cubicBezTo>
                    <a:pt x="5" y="17"/>
                    <a:pt x="9" y="12"/>
                    <a:pt x="10" y="12"/>
                  </a:cubicBezTo>
                  <a:cubicBezTo>
                    <a:pt x="10" y="12"/>
                    <a:pt x="10" y="12"/>
                    <a:pt x="11" y="13"/>
                  </a:cubicBezTo>
                  <a:cubicBezTo>
                    <a:pt x="15" y="16"/>
                    <a:pt x="15" y="16"/>
                    <a:pt x="15" y="16"/>
                  </a:cubicBezTo>
                  <a:cubicBezTo>
                    <a:pt x="16" y="15"/>
                    <a:pt x="16" y="15"/>
                    <a:pt x="17" y="15"/>
                  </a:cubicBezTo>
                  <a:cubicBezTo>
                    <a:pt x="18" y="13"/>
                    <a:pt x="18" y="11"/>
                    <a:pt x="18" y="9"/>
                  </a:cubicBezTo>
                  <a:cubicBezTo>
                    <a:pt x="18" y="9"/>
                    <a:pt x="19" y="8"/>
                    <a:pt x="19" y="8"/>
                  </a:cubicBezTo>
                  <a:cubicBezTo>
                    <a:pt x="26" y="8"/>
                    <a:pt x="26" y="8"/>
                    <a:pt x="26" y="8"/>
                  </a:cubicBezTo>
                  <a:cubicBezTo>
                    <a:pt x="26" y="8"/>
                    <a:pt x="27" y="9"/>
                    <a:pt x="27" y="9"/>
                  </a:cubicBezTo>
                  <a:cubicBezTo>
                    <a:pt x="28" y="15"/>
                    <a:pt x="28" y="15"/>
                    <a:pt x="28" y="15"/>
                  </a:cubicBezTo>
                  <a:cubicBezTo>
                    <a:pt x="29" y="15"/>
                    <a:pt x="30" y="15"/>
                    <a:pt x="31" y="16"/>
                  </a:cubicBezTo>
                  <a:cubicBezTo>
                    <a:pt x="35" y="13"/>
                    <a:pt x="35" y="13"/>
                    <a:pt x="35" y="13"/>
                  </a:cubicBezTo>
                  <a:cubicBezTo>
                    <a:pt x="35" y="12"/>
                    <a:pt x="35" y="12"/>
                    <a:pt x="35" y="12"/>
                  </a:cubicBezTo>
                  <a:cubicBezTo>
                    <a:pt x="36" y="12"/>
                    <a:pt x="36" y="12"/>
                    <a:pt x="36" y="13"/>
                  </a:cubicBezTo>
                  <a:cubicBezTo>
                    <a:pt x="37" y="13"/>
                    <a:pt x="41" y="17"/>
                    <a:pt x="41" y="18"/>
                  </a:cubicBezTo>
                  <a:cubicBezTo>
                    <a:pt x="41" y="19"/>
                    <a:pt x="41" y="19"/>
                    <a:pt x="41" y="19"/>
                  </a:cubicBezTo>
                  <a:cubicBezTo>
                    <a:pt x="40" y="20"/>
                    <a:pt x="39" y="22"/>
                    <a:pt x="38" y="23"/>
                  </a:cubicBezTo>
                  <a:cubicBezTo>
                    <a:pt x="38" y="24"/>
                    <a:pt x="39" y="25"/>
                    <a:pt x="39" y="26"/>
                  </a:cubicBezTo>
                  <a:cubicBezTo>
                    <a:pt x="45" y="27"/>
                    <a:pt x="45" y="27"/>
                    <a:pt x="45" y="27"/>
                  </a:cubicBezTo>
                  <a:cubicBezTo>
                    <a:pt x="45" y="27"/>
                    <a:pt x="45" y="27"/>
                    <a:pt x="45" y="28"/>
                  </a:cubicBezTo>
                  <a:lnTo>
                    <a:pt x="45" y="35"/>
                  </a:lnTo>
                  <a:close/>
                  <a:moveTo>
                    <a:pt x="23" y="22"/>
                  </a:moveTo>
                  <a:cubicBezTo>
                    <a:pt x="18" y="22"/>
                    <a:pt x="13" y="26"/>
                    <a:pt x="13" y="31"/>
                  </a:cubicBezTo>
                  <a:cubicBezTo>
                    <a:pt x="13" y="36"/>
                    <a:pt x="18" y="40"/>
                    <a:pt x="23" y="40"/>
                  </a:cubicBezTo>
                  <a:cubicBezTo>
                    <a:pt x="28" y="40"/>
                    <a:pt x="32" y="36"/>
                    <a:pt x="32" y="31"/>
                  </a:cubicBezTo>
                  <a:cubicBezTo>
                    <a:pt x="32" y="26"/>
                    <a:pt x="28" y="22"/>
                    <a:pt x="23" y="22"/>
                  </a:cubicBezTo>
                  <a:close/>
                  <a:moveTo>
                    <a:pt x="68" y="15"/>
                  </a:moveTo>
                  <a:cubicBezTo>
                    <a:pt x="68" y="16"/>
                    <a:pt x="64" y="16"/>
                    <a:pt x="63" y="16"/>
                  </a:cubicBezTo>
                  <a:cubicBezTo>
                    <a:pt x="63" y="17"/>
                    <a:pt x="62" y="18"/>
                    <a:pt x="62" y="18"/>
                  </a:cubicBezTo>
                  <a:cubicBezTo>
                    <a:pt x="62" y="19"/>
                    <a:pt x="64" y="23"/>
                    <a:pt x="64" y="23"/>
                  </a:cubicBezTo>
                  <a:cubicBezTo>
                    <a:pt x="64" y="23"/>
                    <a:pt x="64" y="23"/>
                    <a:pt x="64" y="24"/>
                  </a:cubicBezTo>
                  <a:cubicBezTo>
                    <a:pt x="63" y="24"/>
                    <a:pt x="59" y="26"/>
                    <a:pt x="59" y="26"/>
                  </a:cubicBezTo>
                  <a:cubicBezTo>
                    <a:pt x="59" y="26"/>
                    <a:pt x="56" y="22"/>
                    <a:pt x="56" y="22"/>
                  </a:cubicBezTo>
                  <a:cubicBezTo>
                    <a:pt x="55" y="22"/>
                    <a:pt x="55" y="22"/>
                    <a:pt x="55" y="22"/>
                  </a:cubicBezTo>
                  <a:cubicBezTo>
                    <a:pt x="54" y="22"/>
                    <a:pt x="54" y="22"/>
                    <a:pt x="54" y="22"/>
                  </a:cubicBezTo>
                  <a:cubicBezTo>
                    <a:pt x="53" y="22"/>
                    <a:pt x="50" y="26"/>
                    <a:pt x="50" y="26"/>
                  </a:cubicBezTo>
                  <a:cubicBezTo>
                    <a:pt x="50" y="26"/>
                    <a:pt x="46" y="24"/>
                    <a:pt x="46" y="24"/>
                  </a:cubicBezTo>
                  <a:cubicBezTo>
                    <a:pt x="45" y="23"/>
                    <a:pt x="45" y="23"/>
                    <a:pt x="45" y="23"/>
                  </a:cubicBezTo>
                  <a:cubicBezTo>
                    <a:pt x="45" y="23"/>
                    <a:pt x="47" y="19"/>
                    <a:pt x="47" y="18"/>
                  </a:cubicBezTo>
                  <a:cubicBezTo>
                    <a:pt x="47" y="18"/>
                    <a:pt x="46" y="17"/>
                    <a:pt x="46" y="16"/>
                  </a:cubicBezTo>
                  <a:cubicBezTo>
                    <a:pt x="45" y="16"/>
                    <a:pt x="41" y="16"/>
                    <a:pt x="41" y="15"/>
                  </a:cubicBezTo>
                  <a:cubicBezTo>
                    <a:pt x="41" y="10"/>
                    <a:pt x="41" y="10"/>
                    <a:pt x="41" y="10"/>
                  </a:cubicBezTo>
                  <a:cubicBezTo>
                    <a:pt x="41" y="10"/>
                    <a:pt x="45" y="9"/>
                    <a:pt x="46" y="9"/>
                  </a:cubicBezTo>
                  <a:cubicBezTo>
                    <a:pt x="46" y="9"/>
                    <a:pt x="47" y="8"/>
                    <a:pt x="47" y="7"/>
                  </a:cubicBezTo>
                  <a:cubicBezTo>
                    <a:pt x="47" y="7"/>
                    <a:pt x="45" y="3"/>
                    <a:pt x="45" y="2"/>
                  </a:cubicBezTo>
                  <a:cubicBezTo>
                    <a:pt x="45" y="2"/>
                    <a:pt x="45" y="2"/>
                    <a:pt x="46" y="2"/>
                  </a:cubicBezTo>
                  <a:cubicBezTo>
                    <a:pt x="46" y="2"/>
                    <a:pt x="50" y="0"/>
                    <a:pt x="50" y="0"/>
                  </a:cubicBezTo>
                  <a:cubicBezTo>
                    <a:pt x="50" y="0"/>
                    <a:pt x="53" y="3"/>
                    <a:pt x="54" y="4"/>
                  </a:cubicBezTo>
                  <a:cubicBezTo>
                    <a:pt x="54" y="4"/>
                    <a:pt x="54" y="4"/>
                    <a:pt x="55" y="4"/>
                  </a:cubicBezTo>
                  <a:cubicBezTo>
                    <a:pt x="55" y="4"/>
                    <a:pt x="55" y="4"/>
                    <a:pt x="56" y="4"/>
                  </a:cubicBezTo>
                  <a:cubicBezTo>
                    <a:pt x="57" y="2"/>
                    <a:pt x="58" y="1"/>
                    <a:pt x="59" y="0"/>
                  </a:cubicBezTo>
                  <a:cubicBezTo>
                    <a:pt x="59" y="0"/>
                    <a:pt x="59" y="0"/>
                    <a:pt x="59" y="0"/>
                  </a:cubicBezTo>
                  <a:cubicBezTo>
                    <a:pt x="59" y="0"/>
                    <a:pt x="63" y="2"/>
                    <a:pt x="64" y="2"/>
                  </a:cubicBezTo>
                  <a:cubicBezTo>
                    <a:pt x="64" y="2"/>
                    <a:pt x="64" y="2"/>
                    <a:pt x="64" y="2"/>
                  </a:cubicBezTo>
                  <a:cubicBezTo>
                    <a:pt x="64" y="3"/>
                    <a:pt x="62" y="7"/>
                    <a:pt x="62" y="7"/>
                  </a:cubicBezTo>
                  <a:cubicBezTo>
                    <a:pt x="62" y="8"/>
                    <a:pt x="63" y="9"/>
                    <a:pt x="63" y="9"/>
                  </a:cubicBezTo>
                  <a:cubicBezTo>
                    <a:pt x="64" y="9"/>
                    <a:pt x="68" y="10"/>
                    <a:pt x="68" y="10"/>
                  </a:cubicBezTo>
                  <a:lnTo>
                    <a:pt x="68" y="15"/>
                  </a:lnTo>
                  <a:close/>
                  <a:moveTo>
                    <a:pt x="68" y="52"/>
                  </a:moveTo>
                  <a:cubicBezTo>
                    <a:pt x="68" y="52"/>
                    <a:pt x="64" y="53"/>
                    <a:pt x="63" y="53"/>
                  </a:cubicBezTo>
                  <a:cubicBezTo>
                    <a:pt x="63" y="54"/>
                    <a:pt x="62" y="54"/>
                    <a:pt x="62" y="55"/>
                  </a:cubicBezTo>
                  <a:cubicBezTo>
                    <a:pt x="62" y="56"/>
                    <a:pt x="64" y="59"/>
                    <a:pt x="64" y="60"/>
                  </a:cubicBezTo>
                  <a:cubicBezTo>
                    <a:pt x="64" y="60"/>
                    <a:pt x="64" y="60"/>
                    <a:pt x="64" y="60"/>
                  </a:cubicBezTo>
                  <a:cubicBezTo>
                    <a:pt x="63" y="60"/>
                    <a:pt x="59" y="63"/>
                    <a:pt x="59" y="63"/>
                  </a:cubicBezTo>
                  <a:cubicBezTo>
                    <a:pt x="59" y="63"/>
                    <a:pt x="56" y="59"/>
                    <a:pt x="56" y="59"/>
                  </a:cubicBezTo>
                  <a:cubicBezTo>
                    <a:pt x="55" y="59"/>
                    <a:pt x="55" y="59"/>
                    <a:pt x="55" y="59"/>
                  </a:cubicBezTo>
                  <a:cubicBezTo>
                    <a:pt x="54" y="59"/>
                    <a:pt x="54" y="59"/>
                    <a:pt x="54" y="59"/>
                  </a:cubicBezTo>
                  <a:cubicBezTo>
                    <a:pt x="53" y="59"/>
                    <a:pt x="50" y="63"/>
                    <a:pt x="50" y="63"/>
                  </a:cubicBezTo>
                  <a:cubicBezTo>
                    <a:pt x="50" y="63"/>
                    <a:pt x="46" y="60"/>
                    <a:pt x="46" y="60"/>
                  </a:cubicBezTo>
                  <a:cubicBezTo>
                    <a:pt x="45" y="60"/>
                    <a:pt x="45" y="60"/>
                    <a:pt x="45" y="60"/>
                  </a:cubicBezTo>
                  <a:cubicBezTo>
                    <a:pt x="45" y="59"/>
                    <a:pt x="47" y="56"/>
                    <a:pt x="47" y="55"/>
                  </a:cubicBezTo>
                  <a:cubicBezTo>
                    <a:pt x="47" y="54"/>
                    <a:pt x="46" y="54"/>
                    <a:pt x="46" y="53"/>
                  </a:cubicBezTo>
                  <a:cubicBezTo>
                    <a:pt x="45" y="53"/>
                    <a:pt x="41" y="52"/>
                    <a:pt x="41" y="52"/>
                  </a:cubicBezTo>
                  <a:cubicBezTo>
                    <a:pt x="41" y="47"/>
                    <a:pt x="41" y="47"/>
                    <a:pt x="41" y="47"/>
                  </a:cubicBezTo>
                  <a:cubicBezTo>
                    <a:pt x="41" y="46"/>
                    <a:pt x="45" y="46"/>
                    <a:pt x="46" y="46"/>
                  </a:cubicBezTo>
                  <a:cubicBezTo>
                    <a:pt x="46" y="45"/>
                    <a:pt x="47" y="45"/>
                    <a:pt x="47" y="44"/>
                  </a:cubicBezTo>
                  <a:cubicBezTo>
                    <a:pt x="47" y="43"/>
                    <a:pt x="45" y="40"/>
                    <a:pt x="45" y="39"/>
                  </a:cubicBezTo>
                  <a:cubicBezTo>
                    <a:pt x="45" y="39"/>
                    <a:pt x="45" y="39"/>
                    <a:pt x="46" y="39"/>
                  </a:cubicBezTo>
                  <a:cubicBezTo>
                    <a:pt x="46" y="39"/>
                    <a:pt x="50" y="36"/>
                    <a:pt x="50" y="36"/>
                  </a:cubicBezTo>
                  <a:cubicBezTo>
                    <a:pt x="50" y="36"/>
                    <a:pt x="53" y="40"/>
                    <a:pt x="54" y="40"/>
                  </a:cubicBezTo>
                  <a:cubicBezTo>
                    <a:pt x="54" y="40"/>
                    <a:pt x="54" y="40"/>
                    <a:pt x="55" y="40"/>
                  </a:cubicBezTo>
                  <a:cubicBezTo>
                    <a:pt x="55" y="40"/>
                    <a:pt x="55" y="40"/>
                    <a:pt x="56" y="40"/>
                  </a:cubicBezTo>
                  <a:cubicBezTo>
                    <a:pt x="57" y="39"/>
                    <a:pt x="58" y="38"/>
                    <a:pt x="59" y="36"/>
                  </a:cubicBezTo>
                  <a:cubicBezTo>
                    <a:pt x="59" y="36"/>
                    <a:pt x="59" y="36"/>
                    <a:pt x="59" y="36"/>
                  </a:cubicBezTo>
                  <a:cubicBezTo>
                    <a:pt x="59" y="36"/>
                    <a:pt x="63" y="39"/>
                    <a:pt x="64" y="39"/>
                  </a:cubicBezTo>
                  <a:cubicBezTo>
                    <a:pt x="64" y="39"/>
                    <a:pt x="64" y="39"/>
                    <a:pt x="64" y="39"/>
                  </a:cubicBezTo>
                  <a:cubicBezTo>
                    <a:pt x="64" y="40"/>
                    <a:pt x="62" y="43"/>
                    <a:pt x="62" y="44"/>
                  </a:cubicBezTo>
                  <a:cubicBezTo>
                    <a:pt x="62" y="45"/>
                    <a:pt x="63" y="45"/>
                    <a:pt x="63" y="46"/>
                  </a:cubicBezTo>
                  <a:cubicBezTo>
                    <a:pt x="64" y="46"/>
                    <a:pt x="68" y="46"/>
                    <a:pt x="68" y="47"/>
                  </a:cubicBezTo>
                  <a:lnTo>
                    <a:pt x="68" y="52"/>
                  </a:lnTo>
                  <a:close/>
                  <a:moveTo>
                    <a:pt x="55" y="8"/>
                  </a:moveTo>
                  <a:cubicBezTo>
                    <a:pt x="52" y="8"/>
                    <a:pt x="50" y="10"/>
                    <a:pt x="50" y="13"/>
                  </a:cubicBezTo>
                  <a:cubicBezTo>
                    <a:pt x="50" y="15"/>
                    <a:pt x="52" y="17"/>
                    <a:pt x="55" y="17"/>
                  </a:cubicBezTo>
                  <a:cubicBezTo>
                    <a:pt x="57" y="17"/>
                    <a:pt x="59" y="15"/>
                    <a:pt x="59" y="13"/>
                  </a:cubicBezTo>
                  <a:cubicBezTo>
                    <a:pt x="59" y="10"/>
                    <a:pt x="57" y="8"/>
                    <a:pt x="55" y="8"/>
                  </a:cubicBezTo>
                  <a:close/>
                  <a:moveTo>
                    <a:pt x="55" y="45"/>
                  </a:moveTo>
                  <a:cubicBezTo>
                    <a:pt x="52" y="45"/>
                    <a:pt x="50" y="47"/>
                    <a:pt x="50" y="49"/>
                  </a:cubicBezTo>
                  <a:cubicBezTo>
                    <a:pt x="50" y="52"/>
                    <a:pt x="52" y="54"/>
                    <a:pt x="55" y="54"/>
                  </a:cubicBezTo>
                  <a:cubicBezTo>
                    <a:pt x="57" y="54"/>
                    <a:pt x="59" y="52"/>
                    <a:pt x="59" y="49"/>
                  </a:cubicBezTo>
                  <a:cubicBezTo>
                    <a:pt x="59" y="47"/>
                    <a:pt x="57" y="45"/>
                    <a:pt x="55" y="45"/>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31" name="椭圆 12"/>
            <p:cNvSpPr/>
            <p:nvPr/>
          </p:nvSpPr>
          <p:spPr>
            <a:xfrm rot="18199200">
              <a:off x="1051560" y="5163120"/>
              <a:ext cx="663840" cy="645840"/>
            </a:xfrm>
            <a:prstGeom prst="ellipse">
              <a:avLst/>
            </a:prstGeom>
            <a:solidFill>
              <a:srgbClr val="2c85ae"/>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32" name="任意多边形 17"/>
            <p:cNvSpPr/>
            <p:nvPr/>
          </p:nvSpPr>
          <p:spPr>
            <a:xfrm>
              <a:off x="1248480" y="5341320"/>
              <a:ext cx="269280" cy="289800"/>
            </a:xfrm>
            <a:custGeom>
              <a:avLst/>
              <a:gdLst/>
              <a:ahLst/>
              <a:rect l="l" t="t" r="r" b="b"/>
              <a:pathLst>
                <a:path w="21441" h="21600">
                  <a:moveTo>
                    <a:pt x="2206" y="3607"/>
                  </a:moveTo>
                  <a:lnTo>
                    <a:pt x="4487" y="1200"/>
                  </a:lnTo>
                  <a:lnTo>
                    <a:pt x="16953" y="1200"/>
                  </a:lnTo>
                  <a:lnTo>
                    <a:pt x="19234" y="3607"/>
                  </a:lnTo>
                  <a:cubicBezTo>
                    <a:pt x="19234" y="3607"/>
                    <a:pt x="2206" y="3607"/>
                    <a:pt x="2206" y="3607"/>
                  </a:cubicBezTo>
                  <a:close/>
                  <a:moveTo>
                    <a:pt x="10720" y="13168"/>
                  </a:moveTo>
                  <a:cubicBezTo>
                    <a:pt x="6671" y="13168"/>
                    <a:pt x="5805" y="7652"/>
                    <a:pt x="5625" y="6516"/>
                  </a:cubicBezTo>
                  <a:lnTo>
                    <a:pt x="7915" y="6516"/>
                  </a:lnTo>
                  <a:cubicBezTo>
                    <a:pt x="8259" y="8173"/>
                    <a:pt x="9042" y="11009"/>
                    <a:pt x="10720" y="11009"/>
                  </a:cubicBezTo>
                  <a:cubicBezTo>
                    <a:pt x="12398" y="11009"/>
                    <a:pt x="13182" y="8173"/>
                    <a:pt x="13525" y="6516"/>
                  </a:cubicBezTo>
                  <a:lnTo>
                    <a:pt x="15816" y="6516"/>
                  </a:lnTo>
                  <a:cubicBezTo>
                    <a:pt x="15635" y="7652"/>
                    <a:pt x="14769" y="13168"/>
                    <a:pt x="10720" y="13168"/>
                  </a:cubicBezTo>
                  <a:close/>
                  <a:moveTo>
                    <a:pt x="20843" y="2725"/>
                  </a:moveTo>
                  <a:cubicBezTo>
                    <a:pt x="20476" y="2418"/>
                    <a:pt x="18467" y="648"/>
                    <a:pt x="18092" y="336"/>
                  </a:cubicBezTo>
                  <a:cubicBezTo>
                    <a:pt x="17719" y="25"/>
                    <a:pt x="17150" y="0"/>
                    <a:pt x="16718" y="0"/>
                  </a:cubicBezTo>
                  <a:lnTo>
                    <a:pt x="4722" y="0"/>
                  </a:lnTo>
                  <a:cubicBezTo>
                    <a:pt x="4292" y="0"/>
                    <a:pt x="3722" y="25"/>
                    <a:pt x="3348" y="336"/>
                  </a:cubicBezTo>
                  <a:cubicBezTo>
                    <a:pt x="2973" y="648"/>
                    <a:pt x="964" y="2419"/>
                    <a:pt x="597" y="2725"/>
                  </a:cubicBezTo>
                  <a:cubicBezTo>
                    <a:pt x="227" y="3032"/>
                    <a:pt x="-80" y="3497"/>
                    <a:pt x="18" y="4155"/>
                  </a:cubicBezTo>
                  <a:cubicBezTo>
                    <a:pt x="117" y="4817"/>
                    <a:pt x="2374" y="20549"/>
                    <a:pt x="2433" y="20923"/>
                  </a:cubicBezTo>
                  <a:cubicBezTo>
                    <a:pt x="2490" y="21296"/>
                    <a:pt x="2829" y="21592"/>
                    <a:pt x="3241" y="21600"/>
                  </a:cubicBezTo>
                  <a:lnTo>
                    <a:pt x="18199" y="21600"/>
                  </a:lnTo>
                  <a:cubicBezTo>
                    <a:pt x="18611" y="21592"/>
                    <a:pt x="18950" y="21296"/>
                    <a:pt x="19007" y="20922"/>
                  </a:cubicBezTo>
                  <a:cubicBezTo>
                    <a:pt x="19066" y="20549"/>
                    <a:pt x="21323" y="4816"/>
                    <a:pt x="21423" y="4155"/>
                  </a:cubicBezTo>
                  <a:cubicBezTo>
                    <a:pt x="21520" y="3497"/>
                    <a:pt x="21213" y="3032"/>
                    <a:pt x="20843" y="2725"/>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33" name="椭圆 19"/>
            <p:cNvSpPr/>
            <p:nvPr/>
          </p:nvSpPr>
          <p:spPr>
            <a:xfrm rot="18199200">
              <a:off x="2253600" y="2787840"/>
              <a:ext cx="665280" cy="644400"/>
            </a:xfrm>
            <a:prstGeom prst="ellipse">
              <a:avLst/>
            </a:prstGeom>
            <a:solidFill>
              <a:srgbClr val="479eff"/>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34" name="任意多边形 20"/>
            <p:cNvSpPr/>
            <p:nvPr/>
          </p:nvSpPr>
          <p:spPr>
            <a:xfrm>
              <a:off x="2424600" y="2954520"/>
              <a:ext cx="322920" cy="311400"/>
            </a:xfrm>
            <a:custGeom>
              <a:avLst/>
              <a:gdLst/>
              <a:ahLst/>
              <a:rect l="l" t="t" r="r" b="b"/>
              <a:pathLst>
                <a:path w="20993" h="21440">
                  <a:moveTo>
                    <a:pt x="20097" y="14373"/>
                  </a:moveTo>
                  <a:lnTo>
                    <a:pt x="15990" y="12571"/>
                  </a:lnTo>
                  <a:lnTo>
                    <a:pt x="16463" y="14008"/>
                  </a:lnTo>
                  <a:cubicBezTo>
                    <a:pt x="16439" y="15532"/>
                    <a:pt x="13726" y="16745"/>
                    <a:pt x="10496" y="16745"/>
                  </a:cubicBezTo>
                  <a:cubicBezTo>
                    <a:pt x="7268" y="16745"/>
                    <a:pt x="4553" y="15532"/>
                    <a:pt x="4529" y="14008"/>
                  </a:cubicBezTo>
                  <a:lnTo>
                    <a:pt x="5002" y="12571"/>
                  </a:lnTo>
                  <a:lnTo>
                    <a:pt x="895" y="14373"/>
                  </a:lnTo>
                  <a:cubicBezTo>
                    <a:pt x="-255" y="14878"/>
                    <a:pt x="-304" y="15814"/>
                    <a:pt x="789" y="16451"/>
                  </a:cubicBezTo>
                  <a:lnTo>
                    <a:pt x="8511" y="20962"/>
                  </a:lnTo>
                  <a:cubicBezTo>
                    <a:pt x="9602" y="21600"/>
                    <a:pt x="11390" y="21600"/>
                    <a:pt x="12481" y="20962"/>
                  </a:cubicBezTo>
                  <a:lnTo>
                    <a:pt x="20205" y="16451"/>
                  </a:lnTo>
                  <a:cubicBezTo>
                    <a:pt x="21296" y="15814"/>
                    <a:pt x="21247" y="14878"/>
                    <a:pt x="20097" y="14373"/>
                  </a:cubicBezTo>
                  <a:close/>
                  <a:moveTo>
                    <a:pt x="10496" y="5209"/>
                  </a:moveTo>
                  <a:cubicBezTo>
                    <a:pt x="11724" y="5209"/>
                    <a:pt x="12866" y="4796"/>
                    <a:pt x="13199" y="4152"/>
                  </a:cubicBezTo>
                  <a:cubicBezTo>
                    <a:pt x="12739" y="2744"/>
                    <a:pt x="12343" y="1535"/>
                    <a:pt x="12094" y="773"/>
                  </a:cubicBezTo>
                  <a:cubicBezTo>
                    <a:pt x="11927" y="264"/>
                    <a:pt x="11175" y="0"/>
                    <a:pt x="10496" y="0"/>
                  </a:cubicBezTo>
                  <a:cubicBezTo>
                    <a:pt x="9817" y="0"/>
                    <a:pt x="9065" y="264"/>
                    <a:pt x="8898" y="773"/>
                  </a:cubicBezTo>
                  <a:cubicBezTo>
                    <a:pt x="8649" y="1535"/>
                    <a:pt x="8253" y="2744"/>
                    <a:pt x="7792" y="4152"/>
                  </a:cubicBezTo>
                  <a:cubicBezTo>
                    <a:pt x="8126" y="4796"/>
                    <a:pt x="9268" y="5209"/>
                    <a:pt x="10496" y="5209"/>
                  </a:cubicBezTo>
                  <a:close/>
                  <a:moveTo>
                    <a:pt x="10496" y="13197"/>
                  </a:moveTo>
                  <a:cubicBezTo>
                    <a:pt x="13109" y="13197"/>
                    <a:pt x="15296" y="12229"/>
                    <a:pt x="15429" y="10966"/>
                  </a:cubicBezTo>
                  <a:cubicBezTo>
                    <a:pt x="15041" y="9779"/>
                    <a:pt x="14617" y="8484"/>
                    <a:pt x="14201" y="7211"/>
                  </a:cubicBezTo>
                  <a:cubicBezTo>
                    <a:pt x="13911" y="8118"/>
                    <a:pt x="12316" y="8759"/>
                    <a:pt x="10496" y="8759"/>
                  </a:cubicBezTo>
                  <a:cubicBezTo>
                    <a:pt x="8678" y="8759"/>
                    <a:pt x="7081" y="8118"/>
                    <a:pt x="6791" y="7211"/>
                  </a:cubicBezTo>
                  <a:cubicBezTo>
                    <a:pt x="6375" y="8484"/>
                    <a:pt x="5951" y="9779"/>
                    <a:pt x="5563" y="10966"/>
                  </a:cubicBezTo>
                  <a:cubicBezTo>
                    <a:pt x="5696" y="12229"/>
                    <a:pt x="7883" y="13197"/>
                    <a:pt x="10496" y="13197"/>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335" name="矩形 59"/>
          <p:cNvSpPr/>
          <p:nvPr/>
        </p:nvSpPr>
        <p:spPr>
          <a:xfrm>
            <a:off x="3156120" y="1400040"/>
            <a:ext cx="9350280" cy="2713320"/>
          </a:xfrm>
          <a:prstGeom prst="rect">
            <a:avLst/>
          </a:prstGeom>
          <a:noFill/>
          <a:ln w="0">
            <a:noFill/>
          </a:ln>
        </p:spPr>
        <p:style>
          <a:lnRef idx="0"/>
          <a:fillRef idx="0"/>
          <a:effectRef idx="0"/>
          <a:fontRef idx="minor"/>
        </p:style>
        <p:txBody>
          <a:bodyPr lIns="90000" rIns="90000" tIns="0" bIns="4680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初步业务活动是控制及降低审计风险的第一步。注册会计师开</a:t>
            </a:r>
            <a:endParaRPr b="1" lang="en-US" sz="24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展初步业务活 动有助于确保在计划审计工作时达到下列要求： </a:t>
            </a:r>
            <a:endParaRPr b="1" lang="en-US" sz="2400" spc="-1" strike="noStrike">
              <a:solidFill>
                <a:srgbClr val="000000"/>
              </a:solidFill>
              <a:latin typeface="Arial"/>
            </a:endParaRPr>
          </a:p>
        </p:txBody>
      </p:sp>
      <p:sp>
        <p:nvSpPr>
          <p:cNvPr id="1336" name="Title 6"/>
          <p:cNvSpPr/>
          <p:nvPr/>
        </p:nvSpPr>
        <p:spPr>
          <a:xfrm>
            <a:off x="517680" y="3821400"/>
            <a:ext cx="1900080" cy="438840"/>
          </a:xfrm>
          <a:prstGeom prst="rect">
            <a:avLst/>
          </a:prstGeom>
          <a:noFill/>
          <a:ln w="0">
            <a:noFill/>
          </a:ln>
        </p:spPr>
        <p:style>
          <a:lnRef idx="0"/>
          <a:fillRef idx="0"/>
          <a:effectRef idx="0"/>
          <a:fontRef idx="minor"/>
        </p:style>
        <p:txBody>
          <a:bodyPr lIns="72000" rIns="72000" tIns="36360" bIns="3636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Black"/>
                <a:ea typeface="黑体"/>
              </a:rPr>
              <a:t>活动的目的</a:t>
            </a:r>
            <a:endParaRPr b="1" lang="en-US" sz="2400" spc="-1" strike="noStrike">
              <a:solidFill>
                <a:srgbClr val="000000"/>
              </a:solidFill>
              <a:latin typeface="Arial"/>
            </a:endParaRPr>
          </a:p>
        </p:txBody>
      </p:sp>
      <p:sp>
        <p:nvSpPr>
          <p:cNvPr id="1337" name="矩形 1"/>
          <p:cNvSpPr/>
          <p:nvPr/>
        </p:nvSpPr>
        <p:spPr>
          <a:xfrm>
            <a:off x="3719520" y="947880"/>
            <a:ext cx="4660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Arial"/>
                <a:ea typeface="微软雅黑"/>
              </a:rPr>
              <a:t>工作过程描述</a:t>
            </a:r>
            <a:endParaRPr b="1" lang="en-US" sz="3200" spc="-1" strike="noStrike">
              <a:solidFill>
                <a:srgbClr val="000000"/>
              </a:solidFill>
              <a:latin typeface="Arial"/>
            </a:endParaRPr>
          </a:p>
        </p:txBody>
      </p:sp>
      <p:sp>
        <p:nvSpPr>
          <p:cNvPr id="1338" name="Title 6"/>
          <p:cNvSpPr/>
          <p:nvPr/>
        </p:nvSpPr>
        <p:spPr>
          <a:xfrm flipH="1">
            <a:off x="4727520" y="3309120"/>
            <a:ext cx="1093680" cy="347400"/>
          </a:xfrm>
          <a:prstGeom prst="rect">
            <a:avLst/>
          </a:prstGeom>
          <a:noFill/>
          <a:ln w="0">
            <a:noFill/>
          </a:ln>
        </p:spPr>
        <p:style>
          <a:lnRef idx="0"/>
          <a:fillRef idx="0"/>
          <a:effectRef idx="0"/>
          <a:fontRef idx="minor"/>
        </p:style>
        <p:txBody>
          <a:bodyPr lIns="72000" rIns="72000" tIns="36360" bIns="3636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9-1</a:t>
            </a:r>
            <a:endParaRPr b="1" lang="en-US" sz="1800" spc="-1" strike="noStrike">
              <a:solidFill>
                <a:srgbClr val="000000"/>
              </a:solidFill>
              <a:latin typeface="Arial"/>
            </a:endParaRPr>
          </a:p>
        </p:txBody>
      </p:sp>
      <p:sp>
        <p:nvSpPr>
          <p:cNvPr id="1339" name="矩形 68"/>
          <p:cNvSpPr/>
          <p:nvPr/>
        </p:nvSpPr>
        <p:spPr>
          <a:xfrm>
            <a:off x="3665520" y="239760"/>
            <a:ext cx="5170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e10d4"/>
                </a:solidFill>
                <a:latin typeface="微软雅黑"/>
                <a:ea typeface="微软雅黑"/>
              </a:rPr>
              <a:t>任务一 初步业务活动</a:t>
            </a:r>
            <a:endParaRPr b="1" lang="en-US" sz="4000" spc="-1" strike="noStrike">
              <a:solidFill>
                <a:srgbClr val="000000"/>
              </a:solidFill>
              <a:latin typeface="Arial"/>
            </a:endParaRPr>
          </a:p>
        </p:txBody>
      </p:sp>
      <p:sp>
        <p:nvSpPr>
          <p:cNvPr id="1340" name="矩形 2"/>
          <p:cNvSpPr/>
          <p:nvPr/>
        </p:nvSpPr>
        <p:spPr>
          <a:xfrm>
            <a:off x="1825560" y="1627200"/>
            <a:ext cx="533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7d9"/>
                </a:solidFill>
                <a:latin typeface="微软雅黑"/>
                <a:ea typeface="微软雅黑"/>
              </a:rPr>
              <a:t>一、开展初步业务活动的目的</a:t>
            </a:r>
            <a:endParaRPr b="1" lang="en-US" sz="2800" spc="-1" strike="noStrike">
              <a:solidFill>
                <a:srgbClr val="000000"/>
              </a:solidFill>
              <a:latin typeface="Arial"/>
            </a:endParaRPr>
          </a:p>
        </p:txBody>
      </p:sp>
      <p:sp>
        <p:nvSpPr>
          <p:cNvPr id="1341" name="任意多边形 1"/>
          <p:cNvSpPr/>
          <p:nvPr/>
        </p:nvSpPr>
        <p:spPr>
          <a:xfrm>
            <a:off x="3857760" y="3417840"/>
            <a:ext cx="577800" cy="584280"/>
          </a:xfrm>
          <a:prstGeom prst="pie">
            <a:avLst/>
          </a:prstGeom>
          <a:solidFill>
            <a:srgbClr val="4276aa"/>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A</a:t>
            </a:r>
            <a:endParaRPr b="1" lang="en-US" sz="1800" spc="-1" strike="noStrike">
              <a:solidFill>
                <a:srgbClr val="000000"/>
              </a:solidFill>
              <a:latin typeface="Arial"/>
            </a:endParaRPr>
          </a:p>
        </p:txBody>
      </p:sp>
      <p:sp>
        <p:nvSpPr>
          <p:cNvPr id="1342" name="矩形 4"/>
          <p:cNvSpPr/>
          <p:nvPr/>
        </p:nvSpPr>
        <p:spPr>
          <a:xfrm>
            <a:off x="4583160" y="3287880"/>
            <a:ext cx="708804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ea typeface="宋体"/>
              </a:rPr>
              <a:t>注册会计师已具备执行业务所需要的独立性和专业胜任能力</a:t>
            </a:r>
            <a:r>
              <a:rPr b="1" lang="zh-CN" sz="1800" spc="-1" strike="noStrike">
                <a:solidFill>
                  <a:srgbClr val="000000"/>
                </a:solidFill>
                <a:latin typeface="Arial"/>
                <a:ea typeface="宋体"/>
              </a:rPr>
              <a:t>。 </a:t>
            </a:r>
            <a:endParaRPr b="1" lang="en-US" sz="1800" spc="-1" strike="noStrike">
              <a:solidFill>
                <a:srgbClr val="000000"/>
              </a:solidFill>
              <a:latin typeface="Arial"/>
            </a:endParaRPr>
          </a:p>
        </p:txBody>
      </p:sp>
      <p:sp>
        <p:nvSpPr>
          <p:cNvPr id="1343" name="任意多边形 3"/>
          <p:cNvSpPr/>
          <p:nvPr/>
        </p:nvSpPr>
        <p:spPr>
          <a:xfrm>
            <a:off x="3868560" y="4505400"/>
            <a:ext cx="600120" cy="546120"/>
          </a:xfrm>
          <a:prstGeom prst="pie">
            <a:avLst/>
          </a:prstGeom>
          <a:solidFill>
            <a:srgbClr val="00b0f0"/>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B</a:t>
            </a:r>
            <a:endParaRPr b="1" lang="en-US" sz="1800" spc="-1" strike="noStrike">
              <a:solidFill>
                <a:srgbClr val="000000"/>
              </a:solidFill>
              <a:latin typeface="Arial"/>
            </a:endParaRPr>
          </a:p>
        </p:txBody>
      </p:sp>
      <p:sp>
        <p:nvSpPr>
          <p:cNvPr id="1344" name="任意多边形 1"/>
          <p:cNvSpPr/>
          <p:nvPr/>
        </p:nvSpPr>
        <p:spPr>
          <a:xfrm flipH="1">
            <a:off x="3810960" y="5529240"/>
            <a:ext cx="555480" cy="546120"/>
          </a:xfrm>
          <a:prstGeom prst="pie">
            <a:avLst/>
          </a:prstGeom>
          <a:solidFill>
            <a:srgbClr val="c292c5"/>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C</a:t>
            </a:r>
            <a:endParaRPr b="1" lang="en-US" sz="1800" spc="-1" strike="noStrike">
              <a:solidFill>
                <a:srgbClr val="000000"/>
              </a:solidFill>
              <a:latin typeface="Arial"/>
            </a:endParaRPr>
          </a:p>
        </p:txBody>
      </p:sp>
      <p:sp>
        <p:nvSpPr>
          <p:cNvPr id="1345" name="矩形 5"/>
          <p:cNvSpPr/>
          <p:nvPr/>
        </p:nvSpPr>
        <p:spPr>
          <a:xfrm>
            <a:off x="4583160" y="4368960"/>
            <a:ext cx="694368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a:t>
            </a:r>
            <a:r>
              <a:rPr b="1" lang="zh-CN" sz="2400" spc="-1" strike="noStrike">
                <a:solidFill>
                  <a:srgbClr val="000000"/>
                </a:solidFill>
                <a:latin typeface="Arial"/>
                <a:ea typeface="宋体"/>
              </a:rPr>
              <a:t>不存在因管理层诚信问题而影响注册会计师保持该项业务意愿的情况。 </a:t>
            </a:r>
            <a:endParaRPr b="1" lang="en-US" sz="2400" spc="-1" strike="noStrike">
              <a:solidFill>
                <a:srgbClr val="000000"/>
              </a:solidFill>
              <a:latin typeface="Arial"/>
            </a:endParaRPr>
          </a:p>
        </p:txBody>
      </p:sp>
      <p:sp>
        <p:nvSpPr>
          <p:cNvPr id="1346" name="矩形 6"/>
          <p:cNvSpPr/>
          <p:nvPr/>
        </p:nvSpPr>
        <p:spPr>
          <a:xfrm>
            <a:off x="4583160" y="5581800"/>
            <a:ext cx="653400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a:t>
            </a:r>
            <a:r>
              <a:rPr b="1" lang="zh-CN" sz="2400" spc="-1" strike="noStrike">
                <a:solidFill>
                  <a:srgbClr val="000000"/>
                </a:solidFill>
                <a:latin typeface="Arial"/>
                <a:ea typeface="宋体"/>
              </a:rPr>
              <a:t>与被审计单位不存在对业务约定条款的误解。</a:t>
            </a:r>
            <a:endParaRPr b="1" lang="en-US" sz="2400" spc="-1" strike="noStrike">
              <a:solidFill>
                <a:srgbClr val="0000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47" name="组合 28"/>
          <p:cNvGrpSpPr/>
          <p:nvPr/>
        </p:nvGrpSpPr>
        <p:grpSpPr>
          <a:xfrm>
            <a:off x="915840" y="476280"/>
            <a:ext cx="10359720" cy="0"/>
            <a:chOff x="915840" y="476280"/>
            <a:chExt cx="10359720" cy="0"/>
          </a:xfrm>
        </p:grpSpPr>
        <p:sp>
          <p:nvSpPr>
            <p:cNvPr id="1348" name="直接连接符 52"/>
            <p:cNvSpPr/>
            <p:nvPr/>
          </p:nvSpPr>
          <p:spPr>
            <a:xfrm>
              <a:off x="915840" y="476280"/>
              <a:ext cx="197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49" name="直接连接符 64"/>
            <p:cNvSpPr/>
            <p:nvPr/>
          </p:nvSpPr>
          <p:spPr>
            <a:xfrm>
              <a:off x="9295920" y="476280"/>
              <a:ext cx="197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1350" name="组合 6"/>
          <p:cNvGrpSpPr/>
          <p:nvPr/>
        </p:nvGrpSpPr>
        <p:grpSpPr>
          <a:xfrm>
            <a:off x="4403880" y="3130560"/>
            <a:ext cx="2392200" cy="2297160"/>
            <a:chOff x="4403880" y="3130560"/>
            <a:chExt cx="2392200" cy="2297160"/>
          </a:xfrm>
        </p:grpSpPr>
        <p:sp>
          <p:nvSpPr>
            <p:cNvPr id="1351" name="PA-任意多边形 81"/>
            <p:cNvSpPr/>
            <p:nvPr/>
          </p:nvSpPr>
          <p:spPr>
            <a:xfrm>
              <a:off x="4598280" y="4889880"/>
              <a:ext cx="84240" cy="115560"/>
            </a:xfrm>
            <a:custGeom>
              <a:avLst/>
              <a:gdLst/>
              <a:ahLst/>
              <a:rect l="l" t="t" r="r" b="b"/>
              <a:pathLst>
                <a:path w="33" h="37">
                  <a:moveTo>
                    <a:pt x="6" y="4"/>
                  </a:moveTo>
                  <a:cubicBezTo>
                    <a:pt x="6" y="4"/>
                    <a:pt x="6" y="4"/>
                    <a:pt x="6" y="4"/>
                  </a:cubicBezTo>
                  <a:cubicBezTo>
                    <a:pt x="1" y="8"/>
                    <a:pt x="0" y="15"/>
                    <a:pt x="4" y="20"/>
                  </a:cubicBezTo>
                  <a:cubicBezTo>
                    <a:pt x="11" y="31"/>
                    <a:pt x="11" y="31"/>
                    <a:pt x="11" y="31"/>
                  </a:cubicBezTo>
                  <a:cubicBezTo>
                    <a:pt x="15" y="36"/>
                    <a:pt x="22" y="37"/>
                    <a:pt x="27" y="33"/>
                  </a:cubicBezTo>
                  <a:cubicBezTo>
                    <a:pt x="27" y="33"/>
                    <a:pt x="27" y="33"/>
                    <a:pt x="27" y="33"/>
                  </a:cubicBezTo>
                  <a:cubicBezTo>
                    <a:pt x="32" y="30"/>
                    <a:pt x="33" y="22"/>
                    <a:pt x="30" y="17"/>
                  </a:cubicBezTo>
                  <a:cubicBezTo>
                    <a:pt x="22" y="7"/>
                    <a:pt x="22" y="7"/>
                    <a:pt x="22" y="7"/>
                  </a:cubicBezTo>
                  <a:cubicBezTo>
                    <a:pt x="19" y="2"/>
                    <a:pt x="11" y="0"/>
                    <a:pt x="6" y="4"/>
                  </a:cubicBezTo>
                  <a:close/>
                </a:path>
              </a:pathLst>
            </a:custGeom>
            <a:solidFill>
              <a:srgbClr val="f7c2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52" name="PA-任意多边形 82"/>
            <p:cNvSpPr/>
            <p:nvPr/>
          </p:nvSpPr>
          <p:spPr>
            <a:xfrm>
              <a:off x="4467600" y="4904280"/>
              <a:ext cx="104760" cy="240480"/>
            </a:xfrm>
            <a:custGeom>
              <a:avLst/>
              <a:gdLst/>
              <a:ahLst/>
              <a:rect l="l" t="t" r="r" b="b"/>
              <a:pathLst>
                <a:path w="41" h="76">
                  <a:moveTo>
                    <a:pt x="30" y="76"/>
                  </a:moveTo>
                  <a:cubicBezTo>
                    <a:pt x="30" y="76"/>
                    <a:pt x="30" y="75"/>
                    <a:pt x="30" y="74"/>
                  </a:cubicBezTo>
                  <a:cubicBezTo>
                    <a:pt x="30" y="74"/>
                    <a:pt x="30" y="74"/>
                    <a:pt x="30" y="74"/>
                  </a:cubicBezTo>
                  <a:cubicBezTo>
                    <a:pt x="31" y="69"/>
                    <a:pt x="27" y="65"/>
                    <a:pt x="22" y="63"/>
                  </a:cubicBezTo>
                  <a:cubicBezTo>
                    <a:pt x="24" y="63"/>
                    <a:pt x="24" y="63"/>
                    <a:pt x="24" y="63"/>
                  </a:cubicBezTo>
                  <a:cubicBezTo>
                    <a:pt x="31" y="64"/>
                    <a:pt x="36" y="60"/>
                    <a:pt x="37" y="54"/>
                  </a:cubicBezTo>
                  <a:cubicBezTo>
                    <a:pt x="37" y="54"/>
                    <a:pt x="37" y="54"/>
                    <a:pt x="37" y="54"/>
                  </a:cubicBezTo>
                  <a:cubicBezTo>
                    <a:pt x="37" y="49"/>
                    <a:pt x="34" y="45"/>
                    <a:pt x="29" y="43"/>
                  </a:cubicBezTo>
                  <a:cubicBezTo>
                    <a:pt x="35" y="43"/>
                    <a:pt x="40" y="39"/>
                    <a:pt x="40" y="34"/>
                  </a:cubicBezTo>
                  <a:cubicBezTo>
                    <a:pt x="40" y="34"/>
                    <a:pt x="40" y="34"/>
                    <a:pt x="40" y="34"/>
                  </a:cubicBezTo>
                  <a:cubicBezTo>
                    <a:pt x="41" y="28"/>
                    <a:pt x="36" y="23"/>
                    <a:pt x="29" y="22"/>
                  </a:cubicBezTo>
                  <a:cubicBezTo>
                    <a:pt x="28" y="22"/>
                    <a:pt x="28" y="22"/>
                    <a:pt x="28" y="22"/>
                  </a:cubicBezTo>
                  <a:cubicBezTo>
                    <a:pt x="33" y="21"/>
                    <a:pt x="37" y="18"/>
                    <a:pt x="37" y="13"/>
                  </a:cubicBezTo>
                  <a:cubicBezTo>
                    <a:pt x="37" y="13"/>
                    <a:pt x="37" y="13"/>
                    <a:pt x="37" y="13"/>
                  </a:cubicBezTo>
                  <a:cubicBezTo>
                    <a:pt x="38" y="7"/>
                    <a:pt x="33" y="2"/>
                    <a:pt x="27" y="1"/>
                  </a:cubicBezTo>
                  <a:cubicBezTo>
                    <a:pt x="18" y="0"/>
                    <a:pt x="18" y="0"/>
                    <a:pt x="18" y="0"/>
                  </a:cubicBezTo>
                  <a:cubicBezTo>
                    <a:pt x="15" y="0"/>
                    <a:pt x="13" y="1"/>
                    <a:pt x="11" y="2"/>
                  </a:cubicBezTo>
                  <a:cubicBezTo>
                    <a:pt x="7" y="5"/>
                    <a:pt x="4" y="9"/>
                    <a:pt x="4" y="15"/>
                  </a:cubicBezTo>
                  <a:cubicBezTo>
                    <a:pt x="0" y="56"/>
                    <a:pt x="0" y="56"/>
                    <a:pt x="0" y="56"/>
                  </a:cubicBezTo>
                  <a:cubicBezTo>
                    <a:pt x="0" y="57"/>
                    <a:pt x="0" y="57"/>
                    <a:pt x="0" y="58"/>
                  </a:cubicBezTo>
                  <a:cubicBezTo>
                    <a:pt x="1" y="66"/>
                    <a:pt x="9" y="74"/>
                    <a:pt x="19" y="75"/>
                  </a:cubicBezTo>
                  <a:lnTo>
                    <a:pt x="30" y="76"/>
                  </a:lnTo>
                  <a:close/>
                </a:path>
              </a:pathLst>
            </a:custGeom>
            <a:solidFill>
              <a:srgbClr val="fad9c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53" name="PA-任意多边形 86"/>
            <p:cNvSpPr/>
            <p:nvPr/>
          </p:nvSpPr>
          <p:spPr>
            <a:xfrm>
              <a:off x="4416840" y="5075640"/>
              <a:ext cx="119880" cy="68760"/>
            </a:xfrm>
            <a:custGeom>
              <a:avLst/>
              <a:gdLst/>
              <a:ahLst/>
              <a:rect l="l" t="t" r="r" b="b"/>
              <a:pathLst>
                <a:path w="47" h="22">
                  <a:moveTo>
                    <a:pt x="1" y="9"/>
                  </a:moveTo>
                  <a:cubicBezTo>
                    <a:pt x="1" y="9"/>
                    <a:pt x="1" y="9"/>
                    <a:pt x="1" y="9"/>
                  </a:cubicBezTo>
                  <a:cubicBezTo>
                    <a:pt x="0" y="22"/>
                    <a:pt x="17" y="19"/>
                    <a:pt x="25" y="20"/>
                  </a:cubicBezTo>
                  <a:cubicBezTo>
                    <a:pt x="35" y="21"/>
                    <a:pt x="46" y="22"/>
                    <a:pt x="47" y="15"/>
                  </a:cubicBezTo>
                  <a:cubicBezTo>
                    <a:pt x="47" y="15"/>
                    <a:pt x="47" y="15"/>
                    <a:pt x="47" y="15"/>
                  </a:cubicBezTo>
                  <a:cubicBezTo>
                    <a:pt x="47" y="10"/>
                    <a:pt x="43" y="5"/>
                    <a:pt x="38" y="4"/>
                  </a:cubicBezTo>
                  <a:cubicBezTo>
                    <a:pt x="12" y="1"/>
                    <a:pt x="12" y="1"/>
                    <a:pt x="12" y="1"/>
                  </a:cubicBezTo>
                  <a:cubicBezTo>
                    <a:pt x="6" y="0"/>
                    <a:pt x="2" y="4"/>
                    <a:pt x="1" y="9"/>
                  </a:cubicBezTo>
                  <a:close/>
                </a:path>
              </a:pathLst>
            </a:custGeom>
            <a:solidFill>
              <a:srgbClr val="fad9ca"/>
            </a:soli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54" name="PA-任意多边形 87"/>
            <p:cNvSpPr/>
            <p:nvPr/>
          </p:nvSpPr>
          <p:spPr>
            <a:xfrm>
              <a:off x="4519440" y="4904280"/>
              <a:ext cx="30240" cy="56880"/>
            </a:xfrm>
            <a:custGeom>
              <a:avLst/>
              <a:gdLst/>
              <a:ahLst/>
              <a:rect l="l" t="t" r="r" b="b"/>
              <a:pathLst>
                <a:path w="12" h="18">
                  <a:moveTo>
                    <a:pt x="1" y="17"/>
                  </a:moveTo>
                  <a:cubicBezTo>
                    <a:pt x="1" y="17"/>
                    <a:pt x="1" y="17"/>
                    <a:pt x="1" y="17"/>
                  </a:cubicBezTo>
                  <a:cubicBezTo>
                    <a:pt x="7" y="18"/>
                    <a:pt x="11" y="15"/>
                    <a:pt x="12" y="10"/>
                  </a:cubicBezTo>
                  <a:cubicBezTo>
                    <a:pt x="12" y="10"/>
                    <a:pt x="12" y="10"/>
                    <a:pt x="12" y="10"/>
                  </a:cubicBezTo>
                  <a:cubicBezTo>
                    <a:pt x="12" y="5"/>
                    <a:pt x="8" y="1"/>
                    <a:pt x="3" y="0"/>
                  </a:cubicBezTo>
                  <a:cubicBezTo>
                    <a:pt x="2" y="0"/>
                    <a:pt x="2" y="0"/>
                    <a:pt x="2" y="0"/>
                  </a:cubicBezTo>
                  <a:cubicBezTo>
                    <a:pt x="1" y="2"/>
                    <a:pt x="1" y="5"/>
                    <a:pt x="0" y="8"/>
                  </a:cubicBezTo>
                  <a:cubicBezTo>
                    <a:pt x="0" y="11"/>
                    <a:pt x="0" y="14"/>
                    <a:pt x="1" y="17"/>
                  </a:cubicBezTo>
                  <a:close/>
                </a:path>
              </a:pathLst>
            </a:custGeom>
            <a:solidFill>
              <a:srgbClr val="fad9ca"/>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55" name="PA-任意多边形 88"/>
            <p:cNvSpPr/>
            <p:nvPr/>
          </p:nvSpPr>
          <p:spPr>
            <a:xfrm>
              <a:off x="4527000" y="4970880"/>
              <a:ext cx="30240" cy="56880"/>
            </a:xfrm>
            <a:custGeom>
              <a:avLst/>
              <a:gdLst/>
              <a:ahLst/>
              <a:rect l="l" t="t" r="r" b="b"/>
              <a:pathLst>
                <a:path w="12" h="18">
                  <a:moveTo>
                    <a:pt x="1" y="18"/>
                  </a:moveTo>
                  <a:cubicBezTo>
                    <a:pt x="1" y="18"/>
                    <a:pt x="1" y="18"/>
                    <a:pt x="1" y="18"/>
                  </a:cubicBezTo>
                  <a:cubicBezTo>
                    <a:pt x="7" y="18"/>
                    <a:pt x="11" y="15"/>
                    <a:pt x="12" y="10"/>
                  </a:cubicBezTo>
                  <a:cubicBezTo>
                    <a:pt x="12" y="10"/>
                    <a:pt x="12" y="10"/>
                    <a:pt x="12" y="10"/>
                  </a:cubicBezTo>
                  <a:cubicBezTo>
                    <a:pt x="12" y="5"/>
                    <a:pt x="8" y="1"/>
                    <a:pt x="3" y="0"/>
                  </a:cubicBezTo>
                  <a:cubicBezTo>
                    <a:pt x="2" y="0"/>
                    <a:pt x="2" y="0"/>
                    <a:pt x="2" y="0"/>
                  </a:cubicBezTo>
                  <a:cubicBezTo>
                    <a:pt x="1" y="3"/>
                    <a:pt x="1" y="5"/>
                    <a:pt x="0" y="8"/>
                  </a:cubicBezTo>
                  <a:cubicBezTo>
                    <a:pt x="0" y="11"/>
                    <a:pt x="0" y="14"/>
                    <a:pt x="1" y="18"/>
                  </a:cubicBezTo>
                  <a:close/>
                </a:path>
              </a:pathLst>
            </a:custGeom>
            <a:solidFill>
              <a:srgbClr val="fad9ca"/>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56" name="PA-任意多边形 89"/>
            <p:cNvSpPr/>
            <p:nvPr/>
          </p:nvSpPr>
          <p:spPr>
            <a:xfrm>
              <a:off x="4519440" y="5034600"/>
              <a:ext cx="30240" cy="52920"/>
            </a:xfrm>
            <a:custGeom>
              <a:avLst/>
              <a:gdLst/>
              <a:ahLst/>
              <a:rect l="l" t="t" r="r" b="b"/>
              <a:pathLst>
                <a:path w="12" h="17">
                  <a:moveTo>
                    <a:pt x="1" y="16"/>
                  </a:moveTo>
                  <a:cubicBezTo>
                    <a:pt x="1" y="16"/>
                    <a:pt x="1" y="16"/>
                    <a:pt x="1" y="16"/>
                  </a:cubicBezTo>
                  <a:cubicBezTo>
                    <a:pt x="7" y="17"/>
                    <a:pt x="11" y="14"/>
                    <a:pt x="12" y="9"/>
                  </a:cubicBezTo>
                  <a:cubicBezTo>
                    <a:pt x="12" y="9"/>
                    <a:pt x="12" y="9"/>
                    <a:pt x="12" y="9"/>
                  </a:cubicBezTo>
                  <a:cubicBezTo>
                    <a:pt x="12" y="5"/>
                    <a:pt x="8" y="1"/>
                    <a:pt x="3" y="0"/>
                  </a:cubicBezTo>
                  <a:cubicBezTo>
                    <a:pt x="2" y="0"/>
                    <a:pt x="2" y="0"/>
                    <a:pt x="2" y="0"/>
                  </a:cubicBezTo>
                  <a:cubicBezTo>
                    <a:pt x="1" y="3"/>
                    <a:pt x="1" y="5"/>
                    <a:pt x="0" y="7"/>
                  </a:cubicBezTo>
                  <a:cubicBezTo>
                    <a:pt x="0" y="10"/>
                    <a:pt x="0" y="13"/>
                    <a:pt x="1" y="16"/>
                  </a:cubicBezTo>
                  <a:close/>
                </a:path>
              </a:pathLst>
            </a:custGeom>
            <a:solidFill>
              <a:srgbClr val="fad9ca"/>
            </a:soli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57" name="PA-任意多边形 90"/>
            <p:cNvSpPr/>
            <p:nvPr/>
          </p:nvSpPr>
          <p:spPr>
            <a:xfrm>
              <a:off x="4503240" y="5094360"/>
              <a:ext cx="38880" cy="46440"/>
            </a:xfrm>
            <a:custGeom>
              <a:avLst/>
              <a:gdLst/>
              <a:ahLst/>
              <a:rect l="l" t="t" r="r" b="b"/>
              <a:pathLst>
                <a:path w="15" h="15">
                  <a:moveTo>
                    <a:pt x="1" y="13"/>
                  </a:moveTo>
                  <a:cubicBezTo>
                    <a:pt x="1" y="13"/>
                    <a:pt x="1" y="13"/>
                    <a:pt x="1" y="13"/>
                  </a:cubicBezTo>
                  <a:cubicBezTo>
                    <a:pt x="14" y="15"/>
                    <a:pt x="15" y="1"/>
                    <a:pt x="2" y="0"/>
                  </a:cubicBezTo>
                  <a:cubicBezTo>
                    <a:pt x="2" y="0"/>
                    <a:pt x="2" y="0"/>
                    <a:pt x="2" y="0"/>
                  </a:cubicBezTo>
                  <a:cubicBezTo>
                    <a:pt x="1" y="1"/>
                    <a:pt x="0" y="3"/>
                    <a:pt x="0" y="5"/>
                  </a:cubicBezTo>
                  <a:cubicBezTo>
                    <a:pt x="0" y="8"/>
                    <a:pt x="0" y="11"/>
                    <a:pt x="1" y="13"/>
                  </a:cubicBezTo>
                  <a:close/>
                </a:path>
              </a:pathLst>
            </a:custGeom>
            <a:solidFill>
              <a:srgbClr val="fad9ca"/>
            </a:solidFill>
            <a:ln w="0">
              <a:noFill/>
            </a:ln>
          </p:spPr>
          <p:style>
            <a:lnRef idx="0"/>
            <a:fillRef idx="0"/>
            <a:effectRef idx="0"/>
            <a:fontRef idx="minor"/>
          </p:style>
          <p:txBody>
            <a:bodyPr lIns="90000" rIns="90000" tIns="-360" bIns="-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58" name="PA-任意多边形 92"/>
            <p:cNvSpPr/>
            <p:nvPr/>
          </p:nvSpPr>
          <p:spPr>
            <a:xfrm>
              <a:off x="4465440" y="4819320"/>
              <a:ext cx="145800" cy="79560"/>
            </a:xfrm>
            <a:custGeom>
              <a:avLst/>
              <a:gdLst/>
              <a:ahLst/>
              <a:rect l="l" t="t" r="r" b="b"/>
              <a:pathLst>
                <a:path w="57" h="25">
                  <a:moveTo>
                    <a:pt x="45" y="25"/>
                  </a:moveTo>
                  <a:cubicBezTo>
                    <a:pt x="51" y="25"/>
                    <a:pt x="56" y="24"/>
                    <a:pt x="56" y="18"/>
                  </a:cubicBezTo>
                  <a:cubicBezTo>
                    <a:pt x="56" y="18"/>
                    <a:pt x="56" y="18"/>
                    <a:pt x="56" y="18"/>
                  </a:cubicBezTo>
                  <a:cubicBezTo>
                    <a:pt x="57" y="12"/>
                    <a:pt x="52" y="6"/>
                    <a:pt x="46" y="5"/>
                  </a:cubicBezTo>
                  <a:cubicBezTo>
                    <a:pt x="23" y="3"/>
                    <a:pt x="23" y="3"/>
                    <a:pt x="23" y="3"/>
                  </a:cubicBezTo>
                  <a:cubicBezTo>
                    <a:pt x="0" y="0"/>
                    <a:pt x="14" y="25"/>
                    <a:pt x="45" y="25"/>
                  </a:cubicBezTo>
                  <a:close/>
                </a:path>
              </a:pathLst>
            </a:custGeom>
            <a:solidFill>
              <a:srgbClr val="f7c2ab"/>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59" name="PA-任意多边形 93"/>
            <p:cNvSpPr/>
            <p:nvPr/>
          </p:nvSpPr>
          <p:spPr>
            <a:xfrm>
              <a:off x="4495680" y="4825800"/>
              <a:ext cx="54000" cy="25200"/>
            </a:xfrm>
            <a:custGeom>
              <a:avLst/>
              <a:gdLst/>
              <a:ahLst/>
              <a:rect l="l" t="t" r="r" b="b"/>
              <a:pathLst>
                <a:path w="21" h="8">
                  <a:moveTo>
                    <a:pt x="21" y="2"/>
                  </a:moveTo>
                  <a:cubicBezTo>
                    <a:pt x="11" y="1"/>
                    <a:pt x="11" y="1"/>
                    <a:pt x="11" y="1"/>
                  </a:cubicBezTo>
                  <a:cubicBezTo>
                    <a:pt x="5" y="0"/>
                    <a:pt x="0" y="2"/>
                    <a:pt x="1" y="5"/>
                  </a:cubicBezTo>
                  <a:cubicBezTo>
                    <a:pt x="9" y="8"/>
                    <a:pt x="20" y="7"/>
                    <a:pt x="21" y="2"/>
                  </a:cubicBezTo>
                  <a:close/>
                </a:path>
              </a:pathLst>
            </a:custGeom>
            <a:solidFill>
              <a:srgbClr val="f7c2ab"/>
            </a:solidFill>
            <a:ln w="0">
              <a:no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360" name="组合 16"/>
            <p:cNvGrpSpPr/>
            <p:nvPr/>
          </p:nvGrpSpPr>
          <p:grpSpPr>
            <a:xfrm>
              <a:off x="4403880" y="3130560"/>
              <a:ext cx="2392200" cy="2297160"/>
              <a:chOff x="4403880" y="3130560"/>
              <a:chExt cx="2392200" cy="2297160"/>
            </a:xfrm>
          </p:grpSpPr>
          <p:sp>
            <p:nvSpPr>
              <p:cNvPr id="1361" name="PA-矩形 120"/>
              <p:cNvSpPr/>
              <p:nvPr/>
            </p:nvSpPr>
            <p:spPr>
              <a:xfrm>
                <a:off x="5113440" y="3679920"/>
                <a:ext cx="966600" cy="118584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62" name="PA-任意多边形 56"/>
              <p:cNvSpPr/>
              <p:nvPr/>
            </p:nvSpPr>
            <p:spPr>
              <a:xfrm>
                <a:off x="5587920" y="4325040"/>
                <a:ext cx="509400" cy="1102680"/>
              </a:xfrm>
              <a:custGeom>
                <a:avLst/>
                <a:gdLst/>
                <a:ahLst/>
                <a:rect l="l" t="t" r="r" b="b"/>
                <a:pathLst>
                  <a:path w="199" h="350">
                    <a:moveTo>
                      <a:pt x="149" y="350"/>
                    </a:moveTo>
                    <a:cubicBezTo>
                      <a:pt x="150" y="189"/>
                      <a:pt x="150" y="189"/>
                      <a:pt x="150" y="189"/>
                    </a:cubicBezTo>
                    <a:cubicBezTo>
                      <a:pt x="199" y="56"/>
                      <a:pt x="199" y="56"/>
                      <a:pt x="199" y="56"/>
                    </a:cubicBezTo>
                    <a:cubicBezTo>
                      <a:pt x="179" y="35"/>
                      <a:pt x="146" y="18"/>
                      <a:pt x="90" y="0"/>
                    </a:cubicBezTo>
                    <a:cubicBezTo>
                      <a:pt x="30" y="0"/>
                      <a:pt x="30" y="0"/>
                      <a:pt x="30" y="0"/>
                    </a:cubicBezTo>
                    <a:cubicBezTo>
                      <a:pt x="0" y="0"/>
                      <a:pt x="0" y="0"/>
                      <a:pt x="0" y="0"/>
                    </a:cubicBezTo>
                    <a:cubicBezTo>
                      <a:pt x="0" y="350"/>
                      <a:pt x="0" y="350"/>
                      <a:pt x="0" y="350"/>
                    </a:cubicBezTo>
                    <a:lnTo>
                      <a:pt x="149" y="350"/>
                    </a:lnTo>
                    <a:close/>
                  </a:path>
                </a:pathLst>
              </a:custGeom>
              <a:solidFill>
                <a:srgbClr val="24242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63" name="PA-任意多边形 57"/>
              <p:cNvSpPr/>
              <p:nvPr/>
            </p:nvSpPr>
            <p:spPr>
              <a:xfrm>
                <a:off x="5850000" y="4451400"/>
                <a:ext cx="431280" cy="829080"/>
              </a:xfrm>
              <a:custGeom>
                <a:avLst/>
                <a:gdLst/>
                <a:ahLst/>
                <a:rect l="l" t="t" r="r" b="b"/>
                <a:pathLst>
                  <a:path w="169" h="263">
                    <a:moveTo>
                      <a:pt x="4" y="15"/>
                    </a:moveTo>
                    <a:cubicBezTo>
                      <a:pt x="8" y="14"/>
                      <a:pt x="8" y="14"/>
                      <a:pt x="8" y="14"/>
                    </a:cubicBezTo>
                    <a:cubicBezTo>
                      <a:pt x="13" y="12"/>
                      <a:pt x="13" y="12"/>
                      <a:pt x="13" y="12"/>
                    </a:cubicBezTo>
                    <a:cubicBezTo>
                      <a:pt x="13" y="12"/>
                      <a:pt x="13" y="12"/>
                      <a:pt x="13" y="12"/>
                    </a:cubicBezTo>
                    <a:cubicBezTo>
                      <a:pt x="53" y="2"/>
                      <a:pt x="53" y="2"/>
                      <a:pt x="53" y="2"/>
                    </a:cubicBezTo>
                    <a:cubicBezTo>
                      <a:pt x="64" y="0"/>
                      <a:pt x="74" y="2"/>
                      <a:pt x="84" y="6"/>
                    </a:cubicBezTo>
                    <a:cubicBezTo>
                      <a:pt x="94" y="11"/>
                      <a:pt x="101" y="17"/>
                      <a:pt x="104" y="27"/>
                    </a:cubicBezTo>
                    <a:cubicBezTo>
                      <a:pt x="120" y="74"/>
                      <a:pt x="120" y="74"/>
                      <a:pt x="120" y="74"/>
                    </a:cubicBezTo>
                    <a:cubicBezTo>
                      <a:pt x="119" y="74"/>
                      <a:pt x="119" y="74"/>
                      <a:pt x="119" y="74"/>
                    </a:cubicBezTo>
                    <a:cubicBezTo>
                      <a:pt x="162" y="204"/>
                      <a:pt x="162" y="204"/>
                      <a:pt x="162" y="204"/>
                    </a:cubicBezTo>
                    <a:cubicBezTo>
                      <a:pt x="169" y="226"/>
                      <a:pt x="155" y="250"/>
                      <a:pt x="129" y="257"/>
                    </a:cubicBezTo>
                    <a:cubicBezTo>
                      <a:pt x="129" y="257"/>
                      <a:pt x="129" y="257"/>
                      <a:pt x="129" y="257"/>
                    </a:cubicBezTo>
                    <a:cubicBezTo>
                      <a:pt x="104" y="263"/>
                      <a:pt x="77" y="250"/>
                      <a:pt x="69" y="227"/>
                    </a:cubicBezTo>
                    <a:cubicBezTo>
                      <a:pt x="0" y="16"/>
                      <a:pt x="0" y="16"/>
                      <a:pt x="0" y="16"/>
                    </a:cubicBezTo>
                    <a:cubicBezTo>
                      <a:pt x="4" y="15"/>
                      <a:pt x="4" y="15"/>
                      <a:pt x="4" y="15"/>
                    </a:cubicBezTo>
                    <a:close/>
                  </a:path>
                </a:pathLst>
              </a:custGeom>
              <a:solidFill>
                <a:srgbClr val="24242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64" name="PA-任意多边形 58"/>
              <p:cNvSpPr/>
              <p:nvPr/>
            </p:nvSpPr>
            <p:spPr>
              <a:xfrm>
                <a:off x="6007680" y="4901760"/>
                <a:ext cx="539640" cy="369360"/>
              </a:xfrm>
              <a:custGeom>
                <a:avLst/>
                <a:gdLst/>
                <a:ahLst/>
                <a:rect l="l" t="t" r="r" b="b"/>
                <a:pathLst>
                  <a:path w="211" h="117">
                    <a:moveTo>
                      <a:pt x="1" y="31"/>
                    </a:moveTo>
                    <a:cubicBezTo>
                      <a:pt x="1" y="35"/>
                      <a:pt x="1" y="35"/>
                      <a:pt x="1" y="35"/>
                    </a:cubicBezTo>
                    <a:cubicBezTo>
                      <a:pt x="2" y="40"/>
                      <a:pt x="2" y="40"/>
                      <a:pt x="2" y="40"/>
                    </a:cubicBezTo>
                    <a:cubicBezTo>
                      <a:pt x="2" y="40"/>
                      <a:pt x="2" y="40"/>
                      <a:pt x="2" y="40"/>
                    </a:cubicBezTo>
                    <a:cubicBezTo>
                      <a:pt x="8" y="80"/>
                      <a:pt x="8" y="80"/>
                      <a:pt x="8" y="80"/>
                    </a:cubicBezTo>
                    <a:cubicBezTo>
                      <a:pt x="11" y="91"/>
                      <a:pt x="16" y="100"/>
                      <a:pt x="24" y="106"/>
                    </a:cubicBezTo>
                    <a:cubicBezTo>
                      <a:pt x="32" y="114"/>
                      <a:pt x="40" y="117"/>
                      <a:pt x="51" y="116"/>
                    </a:cubicBezTo>
                    <a:cubicBezTo>
                      <a:pt x="100" y="109"/>
                      <a:pt x="100" y="109"/>
                      <a:pt x="100" y="109"/>
                    </a:cubicBezTo>
                    <a:cubicBezTo>
                      <a:pt x="100" y="109"/>
                      <a:pt x="100" y="109"/>
                      <a:pt x="100" y="109"/>
                    </a:cubicBezTo>
                    <a:cubicBezTo>
                      <a:pt x="211" y="94"/>
                      <a:pt x="211" y="94"/>
                      <a:pt x="211" y="94"/>
                    </a:cubicBezTo>
                    <a:cubicBezTo>
                      <a:pt x="194" y="0"/>
                      <a:pt x="194" y="0"/>
                      <a:pt x="194" y="0"/>
                    </a:cubicBezTo>
                    <a:cubicBezTo>
                      <a:pt x="0" y="26"/>
                      <a:pt x="0" y="26"/>
                      <a:pt x="0" y="26"/>
                    </a:cubicBezTo>
                    <a:cubicBezTo>
                      <a:pt x="1" y="31"/>
                      <a:pt x="1" y="31"/>
                      <a:pt x="1" y="31"/>
                    </a:cubicBezTo>
                    <a:close/>
                  </a:path>
                </a:pathLst>
              </a:custGeom>
              <a:solidFill>
                <a:srgbClr val="24242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65" name="PA-任意多边形 59"/>
              <p:cNvSpPr/>
              <p:nvPr/>
            </p:nvSpPr>
            <p:spPr>
              <a:xfrm>
                <a:off x="5593320" y="3130560"/>
                <a:ext cx="436680" cy="1121400"/>
              </a:xfrm>
              <a:custGeom>
                <a:avLst/>
                <a:gdLst/>
                <a:ahLst/>
                <a:rect l="l" t="t" r="r" b="b"/>
                <a:pathLst>
                  <a:path w="171" h="356">
                    <a:moveTo>
                      <a:pt x="0" y="356"/>
                    </a:moveTo>
                    <a:cubicBezTo>
                      <a:pt x="69" y="348"/>
                      <a:pt x="135" y="294"/>
                      <a:pt x="156" y="203"/>
                    </a:cubicBezTo>
                    <a:cubicBezTo>
                      <a:pt x="169" y="145"/>
                      <a:pt x="171" y="93"/>
                      <a:pt x="150" y="59"/>
                    </a:cubicBezTo>
                    <a:cubicBezTo>
                      <a:pt x="122" y="11"/>
                      <a:pt x="59" y="1"/>
                      <a:pt x="0" y="0"/>
                    </a:cubicBezTo>
                    <a:lnTo>
                      <a:pt x="0" y="356"/>
                    </a:lnTo>
                    <a:close/>
                  </a:path>
                </a:pathLst>
              </a:custGeom>
              <a:solidFill>
                <a:srgbClr val="75524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66" name="PA-任意多边形 60"/>
              <p:cNvSpPr/>
              <p:nvPr/>
            </p:nvSpPr>
            <p:spPr>
              <a:xfrm>
                <a:off x="5102280" y="4325040"/>
                <a:ext cx="509400" cy="1102680"/>
              </a:xfrm>
              <a:custGeom>
                <a:avLst/>
                <a:gdLst/>
                <a:ahLst/>
                <a:rect l="l" t="t" r="r" b="b"/>
                <a:pathLst>
                  <a:path w="199" h="350">
                    <a:moveTo>
                      <a:pt x="51" y="350"/>
                    </a:moveTo>
                    <a:cubicBezTo>
                      <a:pt x="49" y="189"/>
                      <a:pt x="49" y="189"/>
                      <a:pt x="49" y="189"/>
                    </a:cubicBezTo>
                    <a:cubicBezTo>
                      <a:pt x="0" y="56"/>
                      <a:pt x="0" y="56"/>
                      <a:pt x="0" y="56"/>
                    </a:cubicBezTo>
                    <a:cubicBezTo>
                      <a:pt x="20" y="35"/>
                      <a:pt x="54" y="18"/>
                      <a:pt x="109" y="0"/>
                    </a:cubicBezTo>
                    <a:cubicBezTo>
                      <a:pt x="170" y="0"/>
                      <a:pt x="170" y="0"/>
                      <a:pt x="170" y="0"/>
                    </a:cubicBezTo>
                    <a:cubicBezTo>
                      <a:pt x="199" y="0"/>
                      <a:pt x="199" y="0"/>
                      <a:pt x="199" y="0"/>
                    </a:cubicBezTo>
                    <a:cubicBezTo>
                      <a:pt x="199" y="350"/>
                      <a:pt x="199" y="350"/>
                      <a:pt x="199" y="350"/>
                    </a:cubicBezTo>
                    <a:lnTo>
                      <a:pt x="51" y="350"/>
                    </a:lnTo>
                    <a:close/>
                  </a:path>
                </a:pathLst>
              </a:custGeom>
              <a:solidFill>
                <a:srgbClr val="48484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67" name="PA-任意多边形 61"/>
              <p:cNvSpPr/>
              <p:nvPr/>
            </p:nvSpPr>
            <p:spPr>
              <a:xfrm>
                <a:off x="5383800" y="4120200"/>
                <a:ext cx="429120" cy="935280"/>
              </a:xfrm>
              <a:custGeom>
                <a:avLst/>
                <a:gdLst/>
                <a:ahLst/>
                <a:rect l="l" t="t" r="r" b="b"/>
                <a:pathLst>
                  <a:path w="397" h="704">
                    <a:moveTo>
                      <a:pt x="397" y="154"/>
                    </a:moveTo>
                    <a:lnTo>
                      <a:pt x="203" y="704"/>
                    </a:lnTo>
                    <a:lnTo>
                      <a:pt x="0" y="154"/>
                    </a:lnTo>
                    <a:lnTo>
                      <a:pt x="71" y="152"/>
                    </a:lnTo>
                    <a:lnTo>
                      <a:pt x="71" y="0"/>
                    </a:lnTo>
                    <a:lnTo>
                      <a:pt x="331" y="0"/>
                    </a:lnTo>
                    <a:lnTo>
                      <a:pt x="331" y="152"/>
                    </a:lnTo>
                    <a:lnTo>
                      <a:pt x="397" y="154"/>
                    </a:lnTo>
                    <a:close/>
                  </a:path>
                </a:pathLst>
              </a:custGeom>
              <a:solidFill>
                <a:srgbClr val="e5e5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68" name="PA-任意多边形 62"/>
              <p:cNvSpPr/>
              <p:nvPr/>
            </p:nvSpPr>
            <p:spPr>
              <a:xfrm>
                <a:off x="5450760" y="4120200"/>
                <a:ext cx="296280" cy="308160"/>
              </a:xfrm>
              <a:custGeom>
                <a:avLst/>
                <a:gdLst/>
                <a:ahLst/>
                <a:rect l="l" t="t" r="r" b="b"/>
                <a:pathLst>
                  <a:path w="116" h="98">
                    <a:moveTo>
                      <a:pt x="0" y="64"/>
                    </a:moveTo>
                    <a:cubicBezTo>
                      <a:pt x="4" y="64"/>
                      <a:pt x="4" y="64"/>
                      <a:pt x="4" y="64"/>
                    </a:cubicBezTo>
                    <a:cubicBezTo>
                      <a:pt x="4" y="0"/>
                      <a:pt x="4" y="0"/>
                      <a:pt x="4" y="0"/>
                    </a:cubicBezTo>
                    <a:cubicBezTo>
                      <a:pt x="114" y="0"/>
                      <a:pt x="114" y="0"/>
                      <a:pt x="114" y="0"/>
                    </a:cubicBezTo>
                    <a:cubicBezTo>
                      <a:pt x="114" y="64"/>
                      <a:pt x="114" y="64"/>
                      <a:pt x="114" y="64"/>
                    </a:cubicBezTo>
                    <a:cubicBezTo>
                      <a:pt x="116" y="64"/>
                      <a:pt x="116" y="64"/>
                      <a:pt x="116" y="64"/>
                    </a:cubicBezTo>
                    <a:cubicBezTo>
                      <a:pt x="103" y="81"/>
                      <a:pt x="83" y="98"/>
                      <a:pt x="60" y="98"/>
                    </a:cubicBezTo>
                    <a:cubicBezTo>
                      <a:pt x="36" y="98"/>
                      <a:pt x="14" y="81"/>
                      <a:pt x="0" y="64"/>
                    </a:cubicBezTo>
                    <a:close/>
                  </a:path>
                </a:pathLst>
              </a:custGeom>
              <a:solidFill>
                <a:srgbClr val="e0daa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69" name="PA-任意多边形 63"/>
              <p:cNvSpPr/>
              <p:nvPr/>
            </p:nvSpPr>
            <p:spPr>
              <a:xfrm>
                <a:off x="5460480" y="4120200"/>
                <a:ext cx="281160" cy="220320"/>
              </a:xfrm>
              <a:custGeom>
                <a:avLst/>
                <a:gdLst/>
                <a:ahLst/>
                <a:rect l="l" t="t" r="r" b="b"/>
                <a:pathLst>
                  <a:path w="110" h="70">
                    <a:moveTo>
                      <a:pt x="0" y="62"/>
                    </a:moveTo>
                    <a:cubicBezTo>
                      <a:pt x="0" y="0"/>
                      <a:pt x="0" y="0"/>
                      <a:pt x="0" y="0"/>
                    </a:cubicBezTo>
                    <a:cubicBezTo>
                      <a:pt x="110" y="0"/>
                      <a:pt x="110" y="0"/>
                      <a:pt x="110" y="0"/>
                    </a:cubicBezTo>
                    <a:cubicBezTo>
                      <a:pt x="110" y="62"/>
                      <a:pt x="110" y="62"/>
                      <a:pt x="110" y="62"/>
                    </a:cubicBezTo>
                    <a:cubicBezTo>
                      <a:pt x="93" y="67"/>
                      <a:pt x="74" y="70"/>
                      <a:pt x="55" y="70"/>
                    </a:cubicBezTo>
                    <a:cubicBezTo>
                      <a:pt x="36" y="70"/>
                      <a:pt x="18" y="67"/>
                      <a:pt x="0" y="62"/>
                    </a:cubicBezTo>
                    <a:close/>
                  </a:path>
                </a:pathLst>
              </a:custGeom>
              <a:solidFill>
                <a:srgbClr val="cac59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70" name="PA-任意多边形 64"/>
              <p:cNvSpPr/>
              <p:nvPr/>
            </p:nvSpPr>
            <p:spPr>
              <a:xfrm>
                <a:off x="5422680" y="4120200"/>
                <a:ext cx="176040" cy="491400"/>
              </a:xfrm>
              <a:custGeom>
                <a:avLst/>
                <a:gdLst/>
                <a:ahLst/>
                <a:rect l="l" t="t" r="r" b="b"/>
                <a:pathLst>
                  <a:path w="163" h="370">
                    <a:moveTo>
                      <a:pt x="163" y="370"/>
                    </a:moveTo>
                    <a:lnTo>
                      <a:pt x="0" y="154"/>
                    </a:lnTo>
                    <a:lnTo>
                      <a:pt x="35" y="152"/>
                    </a:lnTo>
                    <a:lnTo>
                      <a:pt x="35" y="0"/>
                    </a:lnTo>
                    <a:lnTo>
                      <a:pt x="163" y="0"/>
                    </a:lnTo>
                    <a:lnTo>
                      <a:pt x="163" y="370"/>
                    </a:lnTo>
                    <a:close/>
                  </a:path>
                </a:pathLst>
              </a:custGeom>
              <a:solidFill>
                <a:srgbClr val="e5e5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71" name="PA-任意多边形 65"/>
              <p:cNvSpPr/>
              <p:nvPr/>
            </p:nvSpPr>
            <p:spPr>
              <a:xfrm>
                <a:off x="5450760" y="4120200"/>
                <a:ext cx="147960" cy="312120"/>
              </a:xfrm>
              <a:custGeom>
                <a:avLst/>
                <a:gdLst/>
                <a:ahLst/>
                <a:rect l="l" t="t" r="r" b="b"/>
                <a:pathLst>
                  <a:path w="58" h="99">
                    <a:moveTo>
                      <a:pt x="0" y="64"/>
                    </a:moveTo>
                    <a:cubicBezTo>
                      <a:pt x="4" y="64"/>
                      <a:pt x="4" y="64"/>
                      <a:pt x="4" y="64"/>
                    </a:cubicBezTo>
                    <a:cubicBezTo>
                      <a:pt x="4" y="0"/>
                      <a:pt x="4" y="0"/>
                      <a:pt x="4" y="0"/>
                    </a:cubicBezTo>
                    <a:cubicBezTo>
                      <a:pt x="58" y="0"/>
                      <a:pt x="58" y="0"/>
                      <a:pt x="58" y="0"/>
                    </a:cubicBezTo>
                    <a:cubicBezTo>
                      <a:pt x="58" y="98"/>
                      <a:pt x="58" y="98"/>
                      <a:pt x="58" y="98"/>
                    </a:cubicBezTo>
                    <a:cubicBezTo>
                      <a:pt x="58" y="98"/>
                      <a:pt x="58" y="98"/>
                      <a:pt x="58" y="98"/>
                    </a:cubicBezTo>
                    <a:cubicBezTo>
                      <a:pt x="35" y="99"/>
                      <a:pt x="14" y="81"/>
                      <a:pt x="0" y="64"/>
                    </a:cubicBezTo>
                    <a:close/>
                  </a:path>
                </a:pathLst>
              </a:custGeom>
              <a:solidFill>
                <a:srgbClr val="eae5c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72" name="PA-任意多边形 66"/>
              <p:cNvSpPr/>
              <p:nvPr/>
            </p:nvSpPr>
            <p:spPr>
              <a:xfrm>
                <a:off x="5460480" y="4120200"/>
                <a:ext cx="138240" cy="220320"/>
              </a:xfrm>
              <a:custGeom>
                <a:avLst/>
                <a:gdLst/>
                <a:ahLst/>
                <a:rect l="l" t="t" r="r" b="b"/>
                <a:pathLst>
                  <a:path w="54" h="70">
                    <a:moveTo>
                      <a:pt x="0" y="62"/>
                    </a:moveTo>
                    <a:cubicBezTo>
                      <a:pt x="0" y="0"/>
                      <a:pt x="0" y="0"/>
                      <a:pt x="0" y="0"/>
                    </a:cubicBezTo>
                    <a:cubicBezTo>
                      <a:pt x="54" y="0"/>
                      <a:pt x="54" y="0"/>
                      <a:pt x="54" y="0"/>
                    </a:cubicBezTo>
                    <a:cubicBezTo>
                      <a:pt x="54" y="70"/>
                      <a:pt x="54" y="70"/>
                      <a:pt x="54" y="70"/>
                    </a:cubicBezTo>
                    <a:cubicBezTo>
                      <a:pt x="36" y="70"/>
                      <a:pt x="17" y="67"/>
                      <a:pt x="0" y="62"/>
                    </a:cubicBezTo>
                    <a:close/>
                  </a:path>
                </a:pathLst>
              </a:custGeom>
              <a:solidFill>
                <a:srgbClr val="dad6b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73" name="PA-任意多边形 67"/>
              <p:cNvSpPr/>
              <p:nvPr/>
            </p:nvSpPr>
            <p:spPr>
              <a:xfrm>
                <a:off x="5486400" y="4428720"/>
                <a:ext cx="226800" cy="176400"/>
              </a:xfrm>
              <a:custGeom>
                <a:avLst/>
                <a:gdLst/>
                <a:ahLst/>
                <a:rect l="l" t="t" r="r" b="b"/>
                <a:pathLst>
                  <a:path w="210" h="133">
                    <a:moveTo>
                      <a:pt x="0" y="26"/>
                    </a:moveTo>
                    <a:lnTo>
                      <a:pt x="106" y="133"/>
                    </a:lnTo>
                    <a:lnTo>
                      <a:pt x="210" y="22"/>
                    </a:lnTo>
                    <a:lnTo>
                      <a:pt x="106" y="0"/>
                    </a:lnTo>
                    <a:lnTo>
                      <a:pt x="0" y="26"/>
                    </a:lnTo>
                    <a:close/>
                  </a:path>
                </a:pathLst>
              </a:cu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74" name="PA-任意多边形 68"/>
              <p:cNvSpPr/>
              <p:nvPr/>
            </p:nvSpPr>
            <p:spPr>
              <a:xfrm>
                <a:off x="5546880" y="4492440"/>
                <a:ext cx="104760" cy="595080"/>
              </a:xfrm>
              <a:custGeom>
                <a:avLst/>
                <a:gdLst/>
                <a:ahLst/>
                <a:rect l="l" t="t" r="r" b="b"/>
                <a:pathLst>
                  <a:path w="97" h="448">
                    <a:moveTo>
                      <a:pt x="0" y="273"/>
                    </a:moveTo>
                    <a:lnTo>
                      <a:pt x="50" y="0"/>
                    </a:lnTo>
                    <a:lnTo>
                      <a:pt x="97" y="282"/>
                    </a:lnTo>
                    <a:lnTo>
                      <a:pt x="52" y="448"/>
                    </a:lnTo>
                    <a:lnTo>
                      <a:pt x="0" y="273"/>
                    </a:lnTo>
                    <a:close/>
                  </a:path>
                </a:pathLst>
              </a:cu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75" name="PA-任意多边形 69"/>
              <p:cNvSpPr/>
              <p:nvPr/>
            </p:nvSpPr>
            <p:spPr>
              <a:xfrm>
                <a:off x="5166360" y="3130560"/>
                <a:ext cx="436680" cy="1121400"/>
              </a:xfrm>
              <a:custGeom>
                <a:avLst/>
                <a:gdLst/>
                <a:ahLst/>
                <a:rect l="l" t="t" r="r" b="b"/>
                <a:pathLst>
                  <a:path w="171" h="356">
                    <a:moveTo>
                      <a:pt x="171" y="356"/>
                    </a:moveTo>
                    <a:cubicBezTo>
                      <a:pt x="102" y="348"/>
                      <a:pt x="37" y="294"/>
                      <a:pt x="16" y="203"/>
                    </a:cubicBezTo>
                    <a:cubicBezTo>
                      <a:pt x="2" y="145"/>
                      <a:pt x="0" y="93"/>
                      <a:pt x="21" y="59"/>
                    </a:cubicBezTo>
                    <a:cubicBezTo>
                      <a:pt x="50" y="11"/>
                      <a:pt x="112" y="1"/>
                      <a:pt x="171" y="0"/>
                    </a:cubicBezTo>
                    <a:lnTo>
                      <a:pt x="171" y="356"/>
                    </a:lnTo>
                    <a:close/>
                  </a:path>
                </a:pathLst>
              </a:custGeom>
              <a:solidFill>
                <a:srgbClr val="75524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76" name="PA-任意多边形 70"/>
              <p:cNvSpPr/>
              <p:nvPr/>
            </p:nvSpPr>
            <p:spPr>
              <a:xfrm>
                <a:off x="5232240" y="3394800"/>
                <a:ext cx="724680" cy="1065600"/>
              </a:xfrm>
              <a:custGeom>
                <a:avLst/>
                <a:gdLst/>
                <a:ahLst/>
                <a:rect l="l" t="t" r="r" b="b"/>
                <a:pathLst>
                  <a:path w="283" h="338">
                    <a:moveTo>
                      <a:pt x="142" y="0"/>
                    </a:moveTo>
                    <a:cubicBezTo>
                      <a:pt x="145" y="0"/>
                      <a:pt x="148" y="0"/>
                      <a:pt x="151" y="0"/>
                    </a:cubicBezTo>
                    <a:cubicBezTo>
                      <a:pt x="246" y="0"/>
                      <a:pt x="246" y="0"/>
                      <a:pt x="246" y="0"/>
                    </a:cubicBezTo>
                    <a:cubicBezTo>
                      <a:pt x="253" y="33"/>
                      <a:pt x="253" y="33"/>
                      <a:pt x="253" y="33"/>
                    </a:cubicBezTo>
                    <a:cubicBezTo>
                      <a:pt x="282" y="67"/>
                      <a:pt x="282" y="67"/>
                      <a:pt x="282" y="67"/>
                    </a:cubicBezTo>
                    <a:cubicBezTo>
                      <a:pt x="282" y="93"/>
                      <a:pt x="283" y="118"/>
                      <a:pt x="282" y="143"/>
                    </a:cubicBezTo>
                    <a:cubicBezTo>
                      <a:pt x="268" y="338"/>
                      <a:pt x="21" y="336"/>
                      <a:pt x="3" y="141"/>
                    </a:cubicBezTo>
                    <a:cubicBezTo>
                      <a:pt x="0" y="105"/>
                      <a:pt x="4" y="67"/>
                      <a:pt x="4" y="32"/>
                    </a:cubicBezTo>
                    <a:cubicBezTo>
                      <a:pt x="25" y="0"/>
                      <a:pt x="25" y="0"/>
                      <a:pt x="25" y="0"/>
                    </a:cubicBezTo>
                    <a:cubicBezTo>
                      <a:pt x="133" y="0"/>
                      <a:pt x="133" y="0"/>
                      <a:pt x="133" y="0"/>
                    </a:cubicBezTo>
                    <a:cubicBezTo>
                      <a:pt x="136" y="0"/>
                      <a:pt x="139" y="0"/>
                      <a:pt x="142" y="0"/>
                    </a:cubicBezTo>
                    <a:close/>
                  </a:path>
                </a:pathLst>
              </a:custGeom>
              <a:solidFill>
                <a:srgbClr val="f7c2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77" name="PA-任意多边形 71"/>
              <p:cNvSpPr/>
              <p:nvPr/>
            </p:nvSpPr>
            <p:spPr>
              <a:xfrm>
                <a:off x="5232240" y="3394800"/>
                <a:ext cx="370800" cy="911520"/>
              </a:xfrm>
              <a:custGeom>
                <a:avLst/>
                <a:gdLst/>
                <a:ahLst/>
                <a:rect l="l" t="t" r="r" b="b"/>
                <a:pathLst>
                  <a:path w="145" h="289">
                    <a:moveTo>
                      <a:pt x="142" y="0"/>
                    </a:moveTo>
                    <a:cubicBezTo>
                      <a:pt x="143" y="0"/>
                      <a:pt x="144" y="0"/>
                      <a:pt x="145" y="0"/>
                    </a:cubicBezTo>
                    <a:cubicBezTo>
                      <a:pt x="145" y="288"/>
                      <a:pt x="145" y="288"/>
                      <a:pt x="145" y="288"/>
                    </a:cubicBezTo>
                    <a:cubicBezTo>
                      <a:pt x="79" y="289"/>
                      <a:pt x="12" y="239"/>
                      <a:pt x="3" y="141"/>
                    </a:cubicBezTo>
                    <a:cubicBezTo>
                      <a:pt x="0" y="105"/>
                      <a:pt x="4" y="67"/>
                      <a:pt x="4" y="32"/>
                    </a:cubicBezTo>
                    <a:cubicBezTo>
                      <a:pt x="25" y="0"/>
                      <a:pt x="25" y="0"/>
                      <a:pt x="25" y="0"/>
                    </a:cubicBezTo>
                    <a:cubicBezTo>
                      <a:pt x="133" y="0"/>
                      <a:pt x="133" y="0"/>
                      <a:pt x="133" y="0"/>
                    </a:cubicBezTo>
                    <a:cubicBezTo>
                      <a:pt x="136" y="0"/>
                      <a:pt x="139" y="0"/>
                      <a:pt x="142" y="0"/>
                    </a:cubicBezTo>
                    <a:close/>
                  </a:path>
                </a:pathLst>
              </a:custGeom>
              <a:solidFill>
                <a:srgbClr val="fad9c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78" name="PA-任意多边形 72"/>
              <p:cNvSpPr/>
              <p:nvPr/>
            </p:nvSpPr>
            <p:spPr>
              <a:xfrm>
                <a:off x="5184720" y="3309840"/>
                <a:ext cx="802440" cy="397080"/>
              </a:xfrm>
              <a:custGeom>
                <a:avLst/>
                <a:gdLst/>
                <a:ahLst/>
                <a:rect l="l" t="t" r="r" b="b"/>
                <a:pathLst>
                  <a:path w="314" h="126">
                    <a:moveTo>
                      <a:pt x="314" y="75"/>
                    </a:moveTo>
                    <a:cubicBezTo>
                      <a:pt x="304" y="113"/>
                      <a:pt x="304" y="113"/>
                      <a:pt x="304" y="113"/>
                    </a:cubicBezTo>
                    <a:cubicBezTo>
                      <a:pt x="187" y="126"/>
                      <a:pt x="41" y="0"/>
                      <a:pt x="21" y="119"/>
                    </a:cubicBezTo>
                    <a:cubicBezTo>
                      <a:pt x="20" y="89"/>
                      <a:pt x="0" y="90"/>
                      <a:pt x="14" y="45"/>
                    </a:cubicBezTo>
                    <a:cubicBezTo>
                      <a:pt x="28" y="63"/>
                      <a:pt x="23" y="15"/>
                      <a:pt x="60" y="15"/>
                    </a:cubicBezTo>
                    <a:cubicBezTo>
                      <a:pt x="164" y="16"/>
                      <a:pt x="164" y="16"/>
                      <a:pt x="164" y="16"/>
                    </a:cubicBezTo>
                    <a:cubicBezTo>
                      <a:pt x="166" y="16"/>
                      <a:pt x="166" y="16"/>
                      <a:pt x="166" y="16"/>
                    </a:cubicBezTo>
                    <a:cubicBezTo>
                      <a:pt x="166" y="15"/>
                      <a:pt x="166" y="15"/>
                      <a:pt x="166" y="15"/>
                    </a:cubicBezTo>
                    <a:cubicBezTo>
                      <a:pt x="219" y="15"/>
                      <a:pt x="219" y="15"/>
                      <a:pt x="219" y="15"/>
                    </a:cubicBezTo>
                    <a:cubicBezTo>
                      <a:pt x="219" y="15"/>
                      <a:pt x="219" y="15"/>
                      <a:pt x="219" y="15"/>
                    </a:cubicBezTo>
                    <a:cubicBezTo>
                      <a:pt x="235" y="15"/>
                      <a:pt x="235" y="15"/>
                      <a:pt x="235" y="15"/>
                    </a:cubicBezTo>
                    <a:cubicBezTo>
                      <a:pt x="282" y="15"/>
                      <a:pt x="313" y="41"/>
                      <a:pt x="314" y="73"/>
                    </a:cubicBezTo>
                    <a:cubicBezTo>
                      <a:pt x="314" y="75"/>
                      <a:pt x="314" y="75"/>
                      <a:pt x="314" y="75"/>
                    </a:cubicBezTo>
                    <a:close/>
                  </a:path>
                </a:pathLst>
              </a:custGeom>
              <a:solidFill>
                <a:srgbClr val="75524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79" name="PA-任意多边形 73"/>
              <p:cNvSpPr/>
              <p:nvPr/>
            </p:nvSpPr>
            <p:spPr>
              <a:xfrm>
                <a:off x="5539320" y="3688560"/>
                <a:ext cx="95040" cy="381240"/>
              </a:xfrm>
              <a:custGeom>
                <a:avLst/>
                <a:gdLst/>
                <a:ahLst/>
                <a:rect l="l" t="t" r="r" b="b"/>
                <a:pathLst>
                  <a:path w="88" h="287">
                    <a:moveTo>
                      <a:pt x="62" y="0"/>
                    </a:moveTo>
                    <a:lnTo>
                      <a:pt x="0" y="287"/>
                    </a:lnTo>
                    <a:lnTo>
                      <a:pt x="88" y="275"/>
                    </a:lnTo>
                    <a:lnTo>
                      <a:pt x="62" y="0"/>
                    </a:lnTo>
                    <a:close/>
                  </a:path>
                </a:pathLst>
              </a:custGeom>
              <a:solidFill>
                <a:srgbClr val="f7c2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80" name="PA-任意多边形 74"/>
              <p:cNvSpPr/>
              <p:nvPr/>
            </p:nvSpPr>
            <p:spPr>
              <a:xfrm>
                <a:off x="4923000" y="4451040"/>
                <a:ext cx="432360" cy="829080"/>
              </a:xfrm>
              <a:custGeom>
                <a:avLst/>
                <a:gdLst/>
                <a:ahLst/>
                <a:rect l="l" t="t" r="r" b="b"/>
                <a:pathLst>
                  <a:path w="169" h="263">
                    <a:moveTo>
                      <a:pt x="165" y="15"/>
                    </a:moveTo>
                    <a:cubicBezTo>
                      <a:pt x="161" y="14"/>
                      <a:pt x="161" y="14"/>
                      <a:pt x="161" y="14"/>
                    </a:cubicBezTo>
                    <a:cubicBezTo>
                      <a:pt x="156" y="12"/>
                      <a:pt x="156" y="12"/>
                      <a:pt x="156" y="12"/>
                    </a:cubicBezTo>
                    <a:cubicBezTo>
                      <a:pt x="156" y="12"/>
                      <a:pt x="156" y="12"/>
                      <a:pt x="156" y="12"/>
                    </a:cubicBezTo>
                    <a:cubicBezTo>
                      <a:pt x="116" y="2"/>
                      <a:pt x="116" y="2"/>
                      <a:pt x="116" y="2"/>
                    </a:cubicBezTo>
                    <a:cubicBezTo>
                      <a:pt x="105" y="0"/>
                      <a:pt x="95" y="2"/>
                      <a:pt x="85" y="6"/>
                    </a:cubicBezTo>
                    <a:cubicBezTo>
                      <a:pt x="75" y="11"/>
                      <a:pt x="68" y="17"/>
                      <a:pt x="65" y="27"/>
                    </a:cubicBezTo>
                    <a:cubicBezTo>
                      <a:pt x="49" y="74"/>
                      <a:pt x="49" y="74"/>
                      <a:pt x="49" y="74"/>
                    </a:cubicBezTo>
                    <a:cubicBezTo>
                      <a:pt x="50" y="74"/>
                      <a:pt x="50" y="74"/>
                      <a:pt x="50" y="74"/>
                    </a:cubicBezTo>
                    <a:cubicBezTo>
                      <a:pt x="7" y="204"/>
                      <a:pt x="7" y="204"/>
                      <a:pt x="7" y="204"/>
                    </a:cubicBezTo>
                    <a:cubicBezTo>
                      <a:pt x="0" y="226"/>
                      <a:pt x="15" y="250"/>
                      <a:pt x="40" y="257"/>
                    </a:cubicBezTo>
                    <a:cubicBezTo>
                      <a:pt x="40" y="257"/>
                      <a:pt x="40" y="257"/>
                      <a:pt x="40" y="257"/>
                    </a:cubicBezTo>
                    <a:cubicBezTo>
                      <a:pt x="65" y="263"/>
                      <a:pt x="92" y="250"/>
                      <a:pt x="100" y="227"/>
                    </a:cubicBezTo>
                    <a:cubicBezTo>
                      <a:pt x="169" y="16"/>
                      <a:pt x="169" y="16"/>
                      <a:pt x="169" y="16"/>
                    </a:cubicBezTo>
                    <a:cubicBezTo>
                      <a:pt x="165" y="15"/>
                      <a:pt x="165" y="15"/>
                      <a:pt x="165" y="15"/>
                    </a:cubicBezTo>
                    <a:close/>
                  </a:path>
                </a:pathLst>
              </a:custGeom>
              <a:solidFill>
                <a:srgbClr val="48484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81" name="PA-任意多边形 75"/>
              <p:cNvSpPr/>
              <p:nvPr/>
            </p:nvSpPr>
            <p:spPr>
              <a:xfrm>
                <a:off x="4652640" y="4901760"/>
                <a:ext cx="547200" cy="369360"/>
              </a:xfrm>
              <a:custGeom>
                <a:avLst/>
                <a:gdLst/>
                <a:ahLst/>
                <a:rect l="l" t="t" r="r" b="b"/>
                <a:pathLst>
                  <a:path w="214" h="117">
                    <a:moveTo>
                      <a:pt x="213" y="31"/>
                    </a:moveTo>
                    <a:cubicBezTo>
                      <a:pt x="212" y="35"/>
                      <a:pt x="212" y="35"/>
                      <a:pt x="212" y="35"/>
                    </a:cubicBezTo>
                    <a:cubicBezTo>
                      <a:pt x="212" y="40"/>
                      <a:pt x="212" y="40"/>
                      <a:pt x="212" y="40"/>
                    </a:cubicBezTo>
                    <a:cubicBezTo>
                      <a:pt x="212" y="40"/>
                      <a:pt x="212" y="40"/>
                      <a:pt x="212" y="40"/>
                    </a:cubicBezTo>
                    <a:cubicBezTo>
                      <a:pt x="206" y="80"/>
                      <a:pt x="206" y="80"/>
                      <a:pt x="206" y="80"/>
                    </a:cubicBezTo>
                    <a:cubicBezTo>
                      <a:pt x="203" y="91"/>
                      <a:pt x="198" y="100"/>
                      <a:pt x="190" y="106"/>
                    </a:cubicBezTo>
                    <a:cubicBezTo>
                      <a:pt x="181" y="114"/>
                      <a:pt x="173" y="117"/>
                      <a:pt x="163" y="116"/>
                    </a:cubicBezTo>
                    <a:cubicBezTo>
                      <a:pt x="114" y="109"/>
                      <a:pt x="114" y="109"/>
                      <a:pt x="114" y="109"/>
                    </a:cubicBezTo>
                    <a:cubicBezTo>
                      <a:pt x="114" y="109"/>
                      <a:pt x="114" y="109"/>
                      <a:pt x="114" y="109"/>
                    </a:cubicBezTo>
                    <a:cubicBezTo>
                      <a:pt x="0" y="93"/>
                      <a:pt x="0" y="93"/>
                      <a:pt x="0" y="93"/>
                    </a:cubicBezTo>
                    <a:cubicBezTo>
                      <a:pt x="17" y="0"/>
                      <a:pt x="17" y="0"/>
                      <a:pt x="17" y="0"/>
                    </a:cubicBezTo>
                    <a:cubicBezTo>
                      <a:pt x="214" y="26"/>
                      <a:pt x="214" y="26"/>
                      <a:pt x="214" y="26"/>
                    </a:cubicBezTo>
                    <a:cubicBezTo>
                      <a:pt x="213" y="31"/>
                      <a:pt x="213" y="31"/>
                      <a:pt x="213" y="31"/>
                    </a:cubicBezTo>
                    <a:close/>
                  </a:path>
                </a:pathLst>
              </a:custGeom>
              <a:solidFill>
                <a:srgbClr val="48484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82" name="PA-任意多边形 76"/>
              <p:cNvSpPr/>
              <p:nvPr/>
            </p:nvSpPr>
            <p:spPr>
              <a:xfrm>
                <a:off x="5381640" y="4299840"/>
                <a:ext cx="219240" cy="243000"/>
              </a:xfrm>
              <a:custGeom>
                <a:avLst/>
                <a:gdLst/>
                <a:ahLst/>
                <a:rect l="l" t="t" r="r" b="b"/>
                <a:pathLst>
                  <a:path w="203" h="183">
                    <a:moveTo>
                      <a:pt x="71" y="0"/>
                    </a:moveTo>
                    <a:lnTo>
                      <a:pt x="0" y="21"/>
                    </a:lnTo>
                    <a:lnTo>
                      <a:pt x="64" y="183"/>
                    </a:lnTo>
                    <a:lnTo>
                      <a:pt x="203" y="97"/>
                    </a:lnTo>
                    <a:lnTo>
                      <a:pt x="71"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83" name="PA-任意多边形 77"/>
              <p:cNvSpPr/>
              <p:nvPr/>
            </p:nvSpPr>
            <p:spPr>
              <a:xfrm>
                <a:off x="5601240" y="4306320"/>
                <a:ext cx="217080" cy="229680"/>
              </a:xfrm>
              <a:custGeom>
                <a:avLst/>
                <a:gdLst/>
                <a:ahLst/>
                <a:rect l="l" t="t" r="r" b="b"/>
                <a:pathLst>
                  <a:path w="201" h="173">
                    <a:moveTo>
                      <a:pt x="133" y="0"/>
                    </a:moveTo>
                    <a:lnTo>
                      <a:pt x="201" y="16"/>
                    </a:lnTo>
                    <a:lnTo>
                      <a:pt x="137" y="173"/>
                    </a:lnTo>
                    <a:lnTo>
                      <a:pt x="0" y="92"/>
                    </a:lnTo>
                    <a:lnTo>
                      <a:pt x="133"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84" name="PA-任意多边形 78"/>
              <p:cNvSpPr/>
              <p:nvPr/>
            </p:nvSpPr>
            <p:spPr>
              <a:xfrm>
                <a:off x="5595480" y="4325040"/>
                <a:ext cx="301680" cy="1033560"/>
              </a:xfrm>
              <a:custGeom>
                <a:avLst/>
                <a:gdLst/>
                <a:ahLst/>
                <a:rect l="l" t="t" r="r" b="b"/>
                <a:pathLst>
                  <a:path w="279" h="778">
                    <a:moveTo>
                      <a:pt x="206" y="0"/>
                    </a:moveTo>
                    <a:lnTo>
                      <a:pt x="279" y="259"/>
                    </a:lnTo>
                    <a:lnTo>
                      <a:pt x="159" y="249"/>
                    </a:lnTo>
                    <a:lnTo>
                      <a:pt x="251" y="399"/>
                    </a:lnTo>
                    <a:lnTo>
                      <a:pt x="3" y="778"/>
                    </a:lnTo>
                    <a:lnTo>
                      <a:pt x="0" y="522"/>
                    </a:lnTo>
                    <a:lnTo>
                      <a:pt x="206" y="0"/>
                    </a:lnTo>
                    <a:close/>
                  </a:path>
                </a:pathLst>
              </a:custGeom>
              <a:solidFill>
                <a:srgbClr val="4c4c4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85" name="PA-任意多边形 79"/>
              <p:cNvSpPr/>
              <p:nvPr/>
            </p:nvSpPr>
            <p:spPr>
              <a:xfrm>
                <a:off x="5301360" y="4325040"/>
                <a:ext cx="301680" cy="1033560"/>
              </a:xfrm>
              <a:custGeom>
                <a:avLst/>
                <a:gdLst/>
                <a:ahLst/>
                <a:rect l="l" t="t" r="r" b="b"/>
                <a:pathLst>
                  <a:path w="279" h="778">
                    <a:moveTo>
                      <a:pt x="74" y="0"/>
                    </a:moveTo>
                    <a:lnTo>
                      <a:pt x="0" y="259"/>
                    </a:lnTo>
                    <a:lnTo>
                      <a:pt x="121" y="249"/>
                    </a:lnTo>
                    <a:lnTo>
                      <a:pt x="29" y="399"/>
                    </a:lnTo>
                    <a:lnTo>
                      <a:pt x="275" y="778"/>
                    </a:lnTo>
                    <a:lnTo>
                      <a:pt x="279" y="522"/>
                    </a:lnTo>
                    <a:lnTo>
                      <a:pt x="74" y="0"/>
                    </a:lnTo>
                    <a:close/>
                  </a:path>
                </a:pathLst>
              </a:custGeom>
              <a:solidFill>
                <a:srgbClr val="5e5e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86" name="PA-任意多边形 80"/>
              <p:cNvSpPr/>
              <p:nvPr/>
            </p:nvSpPr>
            <p:spPr>
              <a:xfrm>
                <a:off x="4452480" y="4867200"/>
                <a:ext cx="235440" cy="305280"/>
              </a:xfrm>
              <a:custGeom>
                <a:avLst/>
                <a:gdLst/>
                <a:ahLst/>
                <a:rect l="l" t="t" r="r" b="b"/>
                <a:pathLst>
                  <a:path w="92" h="97">
                    <a:moveTo>
                      <a:pt x="8" y="25"/>
                    </a:moveTo>
                    <a:cubicBezTo>
                      <a:pt x="1" y="67"/>
                      <a:pt x="1" y="67"/>
                      <a:pt x="1" y="67"/>
                    </a:cubicBezTo>
                    <a:cubicBezTo>
                      <a:pt x="0" y="76"/>
                      <a:pt x="7" y="85"/>
                      <a:pt x="17" y="87"/>
                    </a:cubicBezTo>
                    <a:cubicBezTo>
                      <a:pt x="38" y="90"/>
                      <a:pt x="38" y="90"/>
                      <a:pt x="38" y="90"/>
                    </a:cubicBezTo>
                    <a:cubicBezTo>
                      <a:pt x="52" y="92"/>
                      <a:pt x="81" y="97"/>
                      <a:pt x="85" y="75"/>
                    </a:cubicBezTo>
                    <a:cubicBezTo>
                      <a:pt x="91" y="38"/>
                      <a:pt x="91" y="38"/>
                      <a:pt x="91" y="38"/>
                    </a:cubicBezTo>
                    <a:cubicBezTo>
                      <a:pt x="92" y="28"/>
                      <a:pt x="85" y="19"/>
                      <a:pt x="75" y="17"/>
                    </a:cubicBezTo>
                    <a:cubicBezTo>
                      <a:pt x="59" y="15"/>
                      <a:pt x="12" y="0"/>
                      <a:pt x="8" y="25"/>
                    </a:cubicBezTo>
                    <a:close/>
                  </a:path>
                </a:pathLst>
              </a:custGeom>
              <a:solidFill>
                <a:srgbClr val="f7c2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87" name="PA-任意多边形 83"/>
              <p:cNvSpPr/>
              <p:nvPr/>
            </p:nvSpPr>
            <p:spPr>
              <a:xfrm>
                <a:off x="4424400" y="4885560"/>
                <a:ext cx="130680" cy="82080"/>
              </a:xfrm>
              <a:custGeom>
                <a:avLst/>
                <a:gdLst/>
                <a:ahLst/>
                <a:rect l="l" t="t" r="r" b="b"/>
                <a:pathLst>
                  <a:path w="51" h="26">
                    <a:moveTo>
                      <a:pt x="1" y="10"/>
                    </a:moveTo>
                    <a:cubicBezTo>
                      <a:pt x="1" y="10"/>
                      <a:pt x="1" y="10"/>
                      <a:pt x="1" y="10"/>
                    </a:cubicBezTo>
                    <a:cubicBezTo>
                      <a:pt x="0" y="15"/>
                      <a:pt x="5" y="21"/>
                      <a:pt x="11" y="21"/>
                    </a:cubicBezTo>
                    <a:cubicBezTo>
                      <a:pt x="39" y="25"/>
                      <a:pt x="39" y="25"/>
                      <a:pt x="39" y="25"/>
                    </a:cubicBezTo>
                    <a:cubicBezTo>
                      <a:pt x="45" y="26"/>
                      <a:pt x="50" y="22"/>
                      <a:pt x="51" y="16"/>
                    </a:cubicBezTo>
                    <a:cubicBezTo>
                      <a:pt x="51" y="16"/>
                      <a:pt x="51" y="16"/>
                      <a:pt x="51" y="16"/>
                    </a:cubicBezTo>
                    <a:cubicBezTo>
                      <a:pt x="51" y="11"/>
                      <a:pt x="47" y="5"/>
                      <a:pt x="41" y="5"/>
                    </a:cubicBezTo>
                    <a:cubicBezTo>
                      <a:pt x="12" y="1"/>
                      <a:pt x="12" y="1"/>
                      <a:pt x="12" y="1"/>
                    </a:cubicBezTo>
                    <a:cubicBezTo>
                      <a:pt x="7" y="0"/>
                      <a:pt x="1" y="4"/>
                      <a:pt x="1" y="10"/>
                    </a:cubicBezTo>
                    <a:close/>
                  </a:path>
                </a:pathLst>
              </a:custGeom>
              <a:solidFill>
                <a:srgbClr val="fad9ca"/>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88" name="PA-任意多边形 84"/>
              <p:cNvSpPr/>
              <p:nvPr/>
            </p:nvSpPr>
            <p:spPr>
              <a:xfrm>
                <a:off x="4403880" y="4949640"/>
                <a:ext cx="158760" cy="84960"/>
              </a:xfrm>
              <a:custGeom>
                <a:avLst/>
                <a:gdLst/>
                <a:ahLst/>
                <a:rect l="l" t="t" r="r" b="b"/>
                <a:pathLst>
                  <a:path w="62" h="27">
                    <a:moveTo>
                      <a:pt x="1" y="9"/>
                    </a:moveTo>
                    <a:cubicBezTo>
                      <a:pt x="1" y="9"/>
                      <a:pt x="1" y="9"/>
                      <a:pt x="1" y="9"/>
                    </a:cubicBezTo>
                    <a:cubicBezTo>
                      <a:pt x="0" y="15"/>
                      <a:pt x="5" y="20"/>
                      <a:pt x="12" y="21"/>
                    </a:cubicBezTo>
                    <a:cubicBezTo>
                      <a:pt x="49" y="26"/>
                      <a:pt x="49" y="26"/>
                      <a:pt x="49" y="26"/>
                    </a:cubicBezTo>
                    <a:cubicBezTo>
                      <a:pt x="56" y="27"/>
                      <a:pt x="61" y="23"/>
                      <a:pt x="62" y="17"/>
                    </a:cubicBezTo>
                    <a:cubicBezTo>
                      <a:pt x="62" y="17"/>
                      <a:pt x="62" y="17"/>
                      <a:pt x="62" y="17"/>
                    </a:cubicBezTo>
                    <a:cubicBezTo>
                      <a:pt x="62" y="12"/>
                      <a:pt x="57" y="6"/>
                      <a:pt x="51" y="5"/>
                    </a:cubicBezTo>
                    <a:cubicBezTo>
                      <a:pt x="14" y="0"/>
                      <a:pt x="14" y="0"/>
                      <a:pt x="14" y="0"/>
                    </a:cubicBezTo>
                    <a:cubicBezTo>
                      <a:pt x="7" y="0"/>
                      <a:pt x="1" y="3"/>
                      <a:pt x="1" y="9"/>
                    </a:cubicBezTo>
                    <a:close/>
                  </a:path>
                </a:pathLst>
              </a:custGeom>
              <a:solidFill>
                <a:srgbClr val="fad9ca"/>
              </a:solidFill>
              <a:ln w="0">
                <a:noFill/>
              </a:ln>
            </p:spPr>
            <p:style>
              <a:lnRef idx="0"/>
              <a:fillRef idx="0"/>
              <a:effectRef idx="0"/>
              <a:fontRef idx="minor"/>
            </p:style>
            <p:txBody>
              <a:bodyPr lIns="90000" rIns="9000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89" name="PA-任意多边形 85"/>
              <p:cNvSpPr/>
              <p:nvPr/>
            </p:nvSpPr>
            <p:spPr>
              <a:xfrm>
                <a:off x="4409280" y="5011920"/>
                <a:ext cx="145800" cy="82080"/>
              </a:xfrm>
              <a:custGeom>
                <a:avLst/>
                <a:gdLst/>
                <a:ahLst/>
                <a:rect l="l" t="t" r="r" b="b"/>
                <a:pathLst>
                  <a:path w="57" h="26">
                    <a:moveTo>
                      <a:pt x="1" y="10"/>
                    </a:moveTo>
                    <a:cubicBezTo>
                      <a:pt x="1" y="10"/>
                      <a:pt x="1" y="10"/>
                      <a:pt x="1" y="10"/>
                    </a:cubicBezTo>
                    <a:cubicBezTo>
                      <a:pt x="0" y="25"/>
                      <a:pt x="28" y="22"/>
                      <a:pt x="38" y="24"/>
                    </a:cubicBezTo>
                    <a:cubicBezTo>
                      <a:pt x="48" y="26"/>
                      <a:pt x="56" y="25"/>
                      <a:pt x="57" y="18"/>
                    </a:cubicBezTo>
                    <a:cubicBezTo>
                      <a:pt x="57" y="18"/>
                      <a:pt x="57" y="18"/>
                      <a:pt x="57" y="18"/>
                    </a:cubicBezTo>
                    <a:cubicBezTo>
                      <a:pt x="57" y="12"/>
                      <a:pt x="52" y="7"/>
                      <a:pt x="46" y="6"/>
                    </a:cubicBezTo>
                    <a:cubicBezTo>
                      <a:pt x="13" y="1"/>
                      <a:pt x="13" y="1"/>
                      <a:pt x="13" y="1"/>
                    </a:cubicBezTo>
                    <a:cubicBezTo>
                      <a:pt x="7" y="0"/>
                      <a:pt x="2" y="4"/>
                      <a:pt x="1" y="10"/>
                    </a:cubicBezTo>
                    <a:close/>
                  </a:path>
                </a:pathLst>
              </a:custGeom>
              <a:solidFill>
                <a:srgbClr val="fad9ca"/>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90" name="PA-任意多边形 91"/>
              <p:cNvSpPr/>
              <p:nvPr/>
            </p:nvSpPr>
            <p:spPr>
              <a:xfrm>
                <a:off x="4549680" y="4832640"/>
                <a:ext cx="104760" cy="126000"/>
              </a:xfrm>
              <a:custGeom>
                <a:avLst/>
                <a:gdLst/>
                <a:ahLst/>
                <a:rect l="l" t="t" r="r" b="b"/>
                <a:pathLst>
                  <a:path w="41" h="40">
                    <a:moveTo>
                      <a:pt x="4" y="6"/>
                    </a:moveTo>
                    <a:cubicBezTo>
                      <a:pt x="4" y="6"/>
                      <a:pt x="4" y="6"/>
                      <a:pt x="4" y="6"/>
                    </a:cubicBezTo>
                    <a:cubicBezTo>
                      <a:pt x="0" y="11"/>
                      <a:pt x="1" y="18"/>
                      <a:pt x="6" y="23"/>
                    </a:cubicBezTo>
                    <a:cubicBezTo>
                      <a:pt x="21" y="36"/>
                      <a:pt x="21" y="36"/>
                      <a:pt x="21" y="36"/>
                    </a:cubicBezTo>
                    <a:cubicBezTo>
                      <a:pt x="26" y="40"/>
                      <a:pt x="33" y="39"/>
                      <a:pt x="37" y="34"/>
                    </a:cubicBezTo>
                    <a:cubicBezTo>
                      <a:pt x="37" y="34"/>
                      <a:pt x="37" y="34"/>
                      <a:pt x="37" y="34"/>
                    </a:cubicBezTo>
                    <a:cubicBezTo>
                      <a:pt x="41" y="29"/>
                      <a:pt x="40" y="22"/>
                      <a:pt x="35" y="18"/>
                    </a:cubicBezTo>
                    <a:cubicBezTo>
                      <a:pt x="20" y="4"/>
                      <a:pt x="20" y="4"/>
                      <a:pt x="20" y="4"/>
                    </a:cubicBezTo>
                    <a:cubicBezTo>
                      <a:pt x="15" y="0"/>
                      <a:pt x="8" y="1"/>
                      <a:pt x="4" y="6"/>
                    </a:cubicBezTo>
                    <a:close/>
                  </a:path>
                </a:pathLst>
              </a:custGeom>
              <a:solidFill>
                <a:srgbClr val="f7c2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91" name="PA-任意多边形 94"/>
              <p:cNvSpPr/>
              <p:nvPr/>
            </p:nvSpPr>
            <p:spPr>
              <a:xfrm>
                <a:off x="6511680" y="4867200"/>
                <a:ext cx="237600" cy="305280"/>
              </a:xfrm>
              <a:custGeom>
                <a:avLst/>
                <a:gdLst/>
                <a:ahLst/>
                <a:rect l="l" t="t" r="r" b="b"/>
                <a:pathLst>
                  <a:path w="93" h="97">
                    <a:moveTo>
                      <a:pt x="85" y="25"/>
                    </a:moveTo>
                    <a:cubicBezTo>
                      <a:pt x="91" y="67"/>
                      <a:pt x="91" y="67"/>
                      <a:pt x="91" y="67"/>
                    </a:cubicBezTo>
                    <a:cubicBezTo>
                      <a:pt x="93" y="76"/>
                      <a:pt x="85" y="85"/>
                      <a:pt x="75" y="87"/>
                    </a:cubicBezTo>
                    <a:cubicBezTo>
                      <a:pt x="55" y="90"/>
                      <a:pt x="55" y="90"/>
                      <a:pt x="55" y="90"/>
                    </a:cubicBezTo>
                    <a:cubicBezTo>
                      <a:pt x="40" y="92"/>
                      <a:pt x="11" y="97"/>
                      <a:pt x="8" y="75"/>
                    </a:cubicBezTo>
                    <a:cubicBezTo>
                      <a:pt x="2" y="38"/>
                      <a:pt x="2" y="38"/>
                      <a:pt x="2" y="38"/>
                    </a:cubicBezTo>
                    <a:cubicBezTo>
                      <a:pt x="0" y="28"/>
                      <a:pt x="8" y="19"/>
                      <a:pt x="18" y="17"/>
                    </a:cubicBezTo>
                    <a:cubicBezTo>
                      <a:pt x="34" y="15"/>
                      <a:pt x="81" y="0"/>
                      <a:pt x="85" y="25"/>
                    </a:cubicBezTo>
                    <a:close/>
                  </a:path>
                </a:pathLst>
              </a:custGeom>
              <a:solidFill>
                <a:srgbClr val="f7c2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92" name="PA-任意多边形 95"/>
              <p:cNvSpPr/>
              <p:nvPr/>
            </p:nvSpPr>
            <p:spPr>
              <a:xfrm>
                <a:off x="6517080" y="4889880"/>
                <a:ext cx="84240" cy="115560"/>
              </a:xfrm>
              <a:custGeom>
                <a:avLst/>
                <a:gdLst/>
                <a:ahLst/>
                <a:rect l="l" t="t" r="r" b="b"/>
                <a:pathLst>
                  <a:path w="33" h="37">
                    <a:moveTo>
                      <a:pt x="27" y="4"/>
                    </a:moveTo>
                    <a:cubicBezTo>
                      <a:pt x="27" y="4"/>
                      <a:pt x="27" y="4"/>
                      <a:pt x="27" y="4"/>
                    </a:cubicBezTo>
                    <a:cubicBezTo>
                      <a:pt x="32" y="8"/>
                      <a:pt x="33" y="15"/>
                      <a:pt x="30" y="20"/>
                    </a:cubicBezTo>
                    <a:cubicBezTo>
                      <a:pt x="22" y="31"/>
                      <a:pt x="22" y="31"/>
                      <a:pt x="22" y="31"/>
                    </a:cubicBezTo>
                    <a:cubicBezTo>
                      <a:pt x="19" y="36"/>
                      <a:pt x="11" y="37"/>
                      <a:pt x="6" y="33"/>
                    </a:cubicBezTo>
                    <a:cubicBezTo>
                      <a:pt x="6" y="33"/>
                      <a:pt x="6" y="33"/>
                      <a:pt x="6" y="33"/>
                    </a:cubicBezTo>
                    <a:cubicBezTo>
                      <a:pt x="1" y="30"/>
                      <a:pt x="0" y="22"/>
                      <a:pt x="4" y="17"/>
                    </a:cubicBezTo>
                    <a:cubicBezTo>
                      <a:pt x="11" y="7"/>
                      <a:pt x="11" y="7"/>
                      <a:pt x="11" y="7"/>
                    </a:cubicBezTo>
                    <a:cubicBezTo>
                      <a:pt x="15" y="2"/>
                      <a:pt x="22" y="0"/>
                      <a:pt x="27" y="4"/>
                    </a:cubicBezTo>
                    <a:close/>
                  </a:path>
                </a:pathLst>
              </a:custGeom>
              <a:solidFill>
                <a:srgbClr val="f7c2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93" name="PA-任意多边形 96"/>
              <p:cNvSpPr/>
              <p:nvPr/>
            </p:nvSpPr>
            <p:spPr>
              <a:xfrm>
                <a:off x="6629760" y="4904280"/>
                <a:ext cx="102600" cy="240480"/>
              </a:xfrm>
              <a:custGeom>
                <a:avLst/>
                <a:gdLst/>
                <a:ahLst/>
                <a:rect l="l" t="t" r="r" b="b"/>
                <a:pathLst>
                  <a:path w="40" h="76">
                    <a:moveTo>
                      <a:pt x="11" y="76"/>
                    </a:moveTo>
                    <a:cubicBezTo>
                      <a:pt x="10" y="76"/>
                      <a:pt x="10" y="75"/>
                      <a:pt x="10" y="74"/>
                    </a:cubicBezTo>
                    <a:cubicBezTo>
                      <a:pt x="10" y="74"/>
                      <a:pt x="10" y="74"/>
                      <a:pt x="10" y="74"/>
                    </a:cubicBezTo>
                    <a:cubicBezTo>
                      <a:pt x="10" y="69"/>
                      <a:pt x="13" y="65"/>
                      <a:pt x="18" y="63"/>
                    </a:cubicBezTo>
                    <a:cubicBezTo>
                      <a:pt x="16" y="63"/>
                      <a:pt x="16" y="63"/>
                      <a:pt x="16" y="63"/>
                    </a:cubicBezTo>
                    <a:cubicBezTo>
                      <a:pt x="10" y="64"/>
                      <a:pt x="4" y="60"/>
                      <a:pt x="3" y="54"/>
                    </a:cubicBezTo>
                    <a:cubicBezTo>
                      <a:pt x="3" y="54"/>
                      <a:pt x="3" y="54"/>
                      <a:pt x="3" y="54"/>
                    </a:cubicBezTo>
                    <a:cubicBezTo>
                      <a:pt x="3" y="49"/>
                      <a:pt x="7" y="45"/>
                      <a:pt x="12" y="43"/>
                    </a:cubicBezTo>
                    <a:cubicBezTo>
                      <a:pt x="6" y="43"/>
                      <a:pt x="1" y="39"/>
                      <a:pt x="0" y="34"/>
                    </a:cubicBezTo>
                    <a:cubicBezTo>
                      <a:pt x="0" y="34"/>
                      <a:pt x="0" y="34"/>
                      <a:pt x="0" y="34"/>
                    </a:cubicBezTo>
                    <a:cubicBezTo>
                      <a:pt x="0" y="28"/>
                      <a:pt x="5" y="23"/>
                      <a:pt x="11" y="22"/>
                    </a:cubicBezTo>
                    <a:cubicBezTo>
                      <a:pt x="13" y="22"/>
                      <a:pt x="13" y="22"/>
                      <a:pt x="13" y="22"/>
                    </a:cubicBezTo>
                    <a:cubicBezTo>
                      <a:pt x="8" y="21"/>
                      <a:pt x="4" y="18"/>
                      <a:pt x="3" y="13"/>
                    </a:cubicBezTo>
                    <a:cubicBezTo>
                      <a:pt x="3" y="13"/>
                      <a:pt x="3" y="13"/>
                      <a:pt x="3" y="13"/>
                    </a:cubicBezTo>
                    <a:cubicBezTo>
                      <a:pt x="3" y="7"/>
                      <a:pt x="7" y="2"/>
                      <a:pt x="14" y="1"/>
                    </a:cubicBezTo>
                    <a:cubicBezTo>
                      <a:pt x="23" y="0"/>
                      <a:pt x="23" y="0"/>
                      <a:pt x="23" y="0"/>
                    </a:cubicBezTo>
                    <a:cubicBezTo>
                      <a:pt x="25" y="0"/>
                      <a:pt x="27" y="1"/>
                      <a:pt x="29" y="2"/>
                    </a:cubicBezTo>
                    <a:cubicBezTo>
                      <a:pt x="33" y="5"/>
                      <a:pt x="36" y="9"/>
                      <a:pt x="37" y="15"/>
                    </a:cubicBezTo>
                    <a:cubicBezTo>
                      <a:pt x="40" y="56"/>
                      <a:pt x="40" y="56"/>
                      <a:pt x="40" y="56"/>
                    </a:cubicBezTo>
                    <a:cubicBezTo>
                      <a:pt x="40" y="57"/>
                      <a:pt x="40" y="57"/>
                      <a:pt x="40" y="58"/>
                    </a:cubicBezTo>
                    <a:cubicBezTo>
                      <a:pt x="39" y="66"/>
                      <a:pt x="31" y="74"/>
                      <a:pt x="21" y="75"/>
                    </a:cubicBezTo>
                    <a:lnTo>
                      <a:pt x="11" y="76"/>
                    </a:lnTo>
                    <a:close/>
                  </a:path>
                </a:pathLst>
              </a:custGeom>
              <a:solidFill>
                <a:srgbClr val="fad9c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94" name="PA-任意多边形 97"/>
              <p:cNvSpPr/>
              <p:nvPr/>
            </p:nvSpPr>
            <p:spPr>
              <a:xfrm>
                <a:off x="6644880" y="4885560"/>
                <a:ext cx="130680" cy="82080"/>
              </a:xfrm>
              <a:custGeom>
                <a:avLst/>
                <a:gdLst/>
                <a:ahLst/>
                <a:rect l="l" t="t" r="r" b="b"/>
                <a:pathLst>
                  <a:path w="51" h="26">
                    <a:moveTo>
                      <a:pt x="50" y="10"/>
                    </a:moveTo>
                    <a:cubicBezTo>
                      <a:pt x="50" y="10"/>
                      <a:pt x="50" y="10"/>
                      <a:pt x="50" y="10"/>
                    </a:cubicBezTo>
                    <a:cubicBezTo>
                      <a:pt x="51" y="15"/>
                      <a:pt x="47" y="21"/>
                      <a:pt x="41" y="21"/>
                    </a:cubicBezTo>
                    <a:cubicBezTo>
                      <a:pt x="12" y="25"/>
                      <a:pt x="12" y="25"/>
                      <a:pt x="12" y="25"/>
                    </a:cubicBezTo>
                    <a:cubicBezTo>
                      <a:pt x="6" y="26"/>
                      <a:pt x="1" y="22"/>
                      <a:pt x="0" y="16"/>
                    </a:cubicBezTo>
                    <a:cubicBezTo>
                      <a:pt x="0" y="16"/>
                      <a:pt x="0" y="16"/>
                      <a:pt x="0" y="16"/>
                    </a:cubicBezTo>
                    <a:cubicBezTo>
                      <a:pt x="0" y="11"/>
                      <a:pt x="4" y="5"/>
                      <a:pt x="10" y="5"/>
                    </a:cubicBezTo>
                    <a:cubicBezTo>
                      <a:pt x="39" y="1"/>
                      <a:pt x="39" y="1"/>
                      <a:pt x="39" y="1"/>
                    </a:cubicBezTo>
                    <a:cubicBezTo>
                      <a:pt x="45" y="0"/>
                      <a:pt x="50" y="4"/>
                      <a:pt x="50" y="10"/>
                    </a:cubicBezTo>
                    <a:close/>
                  </a:path>
                </a:pathLst>
              </a:custGeom>
              <a:solidFill>
                <a:srgbClr val="fad9ca"/>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95" name="PA-任意多边形 98"/>
              <p:cNvSpPr/>
              <p:nvPr/>
            </p:nvSpPr>
            <p:spPr>
              <a:xfrm>
                <a:off x="6637320" y="4949640"/>
                <a:ext cx="158760" cy="84960"/>
              </a:xfrm>
              <a:custGeom>
                <a:avLst/>
                <a:gdLst/>
                <a:ahLst/>
                <a:rect l="l" t="t" r="r" b="b"/>
                <a:pathLst>
                  <a:path w="62" h="27">
                    <a:moveTo>
                      <a:pt x="61" y="9"/>
                    </a:moveTo>
                    <a:cubicBezTo>
                      <a:pt x="61" y="9"/>
                      <a:pt x="61" y="9"/>
                      <a:pt x="61" y="9"/>
                    </a:cubicBezTo>
                    <a:cubicBezTo>
                      <a:pt x="62" y="15"/>
                      <a:pt x="57" y="20"/>
                      <a:pt x="50" y="21"/>
                    </a:cubicBezTo>
                    <a:cubicBezTo>
                      <a:pt x="13" y="26"/>
                      <a:pt x="13" y="26"/>
                      <a:pt x="13" y="26"/>
                    </a:cubicBezTo>
                    <a:cubicBezTo>
                      <a:pt x="7" y="27"/>
                      <a:pt x="1" y="23"/>
                      <a:pt x="1" y="17"/>
                    </a:cubicBezTo>
                    <a:cubicBezTo>
                      <a:pt x="1" y="17"/>
                      <a:pt x="1" y="17"/>
                      <a:pt x="1" y="17"/>
                    </a:cubicBezTo>
                    <a:cubicBezTo>
                      <a:pt x="0" y="12"/>
                      <a:pt x="5" y="6"/>
                      <a:pt x="12" y="5"/>
                    </a:cubicBezTo>
                    <a:cubicBezTo>
                      <a:pt x="49" y="0"/>
                      <a:pt x="49" y="0"/>
                      <a:pt x="49" y="0"/>
                    </a:cubicBezTo>
                    <a:cubicBezTo>
                      <a:pt x="55" y="0"/>
                      <a:pt x="61" y="3"/>
                      <a:pt x="61" y="9"/>
                    </a:cubicBezTo>
                    <a:close/>
                  </a:path>
                </a:pathLst>
              </a:custGeom>
              <a:solidFill>
                <a:srgbClr val="fad9ca"/>
              </a:solidFill>
              <a:ln w="0">
                <a:noFill/>
              </a:ln>
            </p:spPr>
            <p:style>
              <a:lnRef idx="0"/>
              <a:fillRef idx="0"/>
              <a:effectRef idx="0"/>
              <a:fontRef idx="minor"/>
            </p:style>
            <p:txBody>
              <a:bodyPr lIns="90000" rIns="9000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96" name="PA-任意多边形 99"/>
              <p:cNvSpPr/>
              <p:nvPr/>
            </p:nvSpPr>
            <p:spPr>
              <a:xfrm>
                <a:off x="6644880" y="5011920"/>
                <a:ext cx="147960" cy="82080"/>
              </a:xfrm>
              <a:custGeom>
                <a:avLst/>
                <a:gdLst/>
                <a:ahLst/>
                <a:rect l="l" t="t" r="r" b="b"/>
                <a:pathLst>
                  <a:path w="58" h="26">
                    <a:moveTo>
                      <a:pt x="56" y="10"/>
                    </a:moveTo>
                    <a:cubicBezTo>
                      <a:pt x="56" y="10"/>
                      <a:pt x="56" y="10"/>
                      <a:pt x="56" y="10"/>
                    </a:cubicBezTo>
                    <a:cubicBezTo>
                      <a:pt x="58" y="25"/>
                      <a:pt x="30" y="22"/>
                      <a:pt x="20" y="24"/>
                    </a:cubicBezTo>
                    <a:cubicBezTo>
                      <a:pt x="10" y="26"/>
                      <a:pt x="1" y="25"/>
                      <a:pt x="1" y="18"/>
                    </a:cubicBezTo>
                    <a:cubicBezTo>
                      <a:pt x="1" y="18"/>
                      <a:pt x="1" y="18"/>
                      <a:pt x="1" y="18"/>
                    </a:cubicBezTo>
                    <a:cubicBezTo>
                      <a:pt x="0" y="12"/>
                      <a:pt x="5" y="7"/>
                      <a:pt x="11" y="6"/>
                    </a:cubicBezTo>
                    <a:cubicBezTo>
                      <a:pt x="44" y="1"/>
                      <a:pt x="44" y="1"/>
                      <a:pt x="44" y="1"/>
                    </a:cubicBezTo>
                    <a:cubicBezTo>
                      <a:pt x="50" y="0"/>
                      <a:pt x="56" y="4"/>
                      <a:pt x="56" y="10"/>
                    </a:cubicBezTo>
                    <a:close/>
                  </a:path>
                </a:pathLst>
              </a:custGeom>
              <a:solidFill>
                <a:srgbClr val="fad9ca"/>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97" name="PA-任意多边形 100"/>
              <p:cNvSpPr/>
              <p:nvPr/>
            </p:nvSpPr>
            <p:spPr>
              <a:xfrm>
                <a:off x="6663240" y="5075640"/>
                <a:ext cx="119880" cy="68760"/>
              </a:xfrm>
              <a:custGeom>
                <a:avLst/>
                <a:gdLst/>
                <a:ahLst/>
                <a:rect l="l" t="t" r="r" b="b"/>
                <a:pathLst>
                  <a:path w="47" h="22">
                    <a:moveTo>
                      <a:pt x="46" y="9"/>
                    </a:moveTo>
                    <a:cubicBezTo>
                      <a:pt x="46" y="9"/>
                      <a:pt x="46" y="9"/>
                      <a:pt x="46" y="9"/>
                    </a:cubicBezTo>
                    <a:cubicBezTo>
                      <a:pt x="47" y="22"/>
                      <a:pt x="31" y="19"/>
                      <a:pt x="22" y="20"/>
                    </a:cubicBezTo>
                    <a:cubicBezTo>
                      <a:pt x="12" y="21"/>
                      <a:pt x="1" y="22"/>
                      <a:pt x="0" y="15"/>
                    </a:cubicBezTo>
                    <a:cubicBezTo>
                      <a:pt x="0" y="15"/>
                      <a:pt x="0" y="15"/>
                      <a:pt x="0" y="15"/>
                    </a:cubicBezTo>
                    <a:cubicBezTo>
                      <a:pt x="0" y="10"/>
                      <a:pt x="4" y="5"/>
                      <a:pt x="10" y="4"/>
                    </a:cubicBezTo>
                    <a:cubicBezTo>
                      <a:pt x="35" y="1"/>
                      <a:pt x="35" y="1"/>
                      <a:pt x="35" y="1"/>
                    </a:cubicBezTo>
                    <a:cubicBezTo>
                      <a:pt x="41" y="0"/>
                      <a:pt x="46" y="4"/>
                      <a:pt x="46" y="9"/>
                    </a:cubicBezTo>
                    <a:close/>
                  </a:path>
                </a:pathLst>
              </a:custGeom>
              <a:solidFill>
                <a:srgbClr val="fad9ca"/>
              </a:soli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98" name="PA-任意多边形 101"/>
              <p:cNvSpPr/>
              <p:nvPr/>
            </p:nvSpPr>
            <p:spPr>
              <a:xfrm>
                <a:off x="6650280" y="4904280"/>
                <a:ext cx="30240" cy="56880"/>
              </a:xfrm>
              <a:custGeom>
                <a:avLst/>
                <a:gdLst/>
                <a:ahLst/>
                <a:rect l="l" t="t" r="r" b="b"/>
                <a:pathLst>
                  <a:path w="12" h="18">
                    <a:moveTo>
                      <a:pt x="11" y="17"/>
                    </a:moveTo>
                    <a:cubicBezTo>
                      <a:pt x="11" y="17"/>
                      <a:pt x="11" y="17"/>
                      <a:pt x="11" y="17"/>
                    </a:cubicBezTo>
                    <a:cubicBezTo>
                      <a:pt x="6" y="18"/>
                      <a:pt x="1" y="15"/>
                      <a:pt x="1" y="10"/>
                    </a:cubicBezTo>
                    <a:cubicBezTo>
                      <a:pt x="1" y="10"/>
                      <a:pt x="1" y="10"/>
                      <a:pt x="1" y="10"/>
                    </a:cubicBezTo>
                    <a:cubicBezTo>
                      <a:pt x="0" y="5"/>
                      <a:pt x="4" y="1"/>
                      <a:pt x="9" y="0"/>
                    </a:cubicBezTo>
                    <a:cubicBezTo>
                      <a:pt x="10" y="0"/>
                      <a:pt x="10" y="0"/>
                      <a:pt x="10" y="0"/>
                    </a:cubicBezTo>
                    <a:cubicBezTo>
                      <a:pt x="11" y="2"/>
                      <a:pt x="12" y="5"/>
                      <a:pt x="12" y="8"/>
                    </a:cubicBezTo>
                    <a:cubicBezTo>
                      <a:pt x="12" y="11"/>
                      <a:pt x="12" y="14"/>
                      <a:pt x="11" y="17"/>
                    </a:cubicBezTo>
                    <a:close/>
                  </a:path>
                </a:pathLst>
              </a:custGeom>
              <a:solidFill>
                <a:srgbClr val="fad9ca"/>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99" name="PA-任意多边形 102"/>
              <p:cNvSpPr/>
              <p:nvPr/>
            </p:nvSpPr>
            <p:spPr>
              <a:xfrm>
                <a:off x="6642720" y="4970880"/>
                <a:ext cx="30240" cy="56880"/>
              </a:xfrm>
              <a:custGeom>
                <a:avLst/>
                <a:gdLst/>
                <a:ahLst/>
                <a:rect l="l" t="t" r="r" b="b"/>
                <a:pathLst>
                  <a:path w="12" h="18">
                    <a:moveTo>
                      <a:pt x="11" y="18"/>
                    </a:moveTo>
                    <a:cubicBezTo>
                      <a:pt x="11" y="18"/>
                      <a:pt x="11" y="18"/>
                      <a:pt x="11" y="18"/>
                    </a:cubicBezTo>
                    <a:cubicBezTo>
                      <a:pt x="6" y="18"/>
                      <a:pt x="1" y="15"/>
                      <a:pt x="1" y="10"/>
                    </a:cubicBezTo>
                    <a:cubicBezTo>
                      <a:pt x="1" y="10"/>
                      <a:pt x="1" y="10"/>
                      <a:pt x="1" y="10"/>
                    </a:cubicBezTo>
                    <a:cubicBezTo>
                      <a:pt x="0" y="5"/>
                      <a:pt x="4" y="1"/>
                      <a:pt x="10" y="0"/>
                    </a:cubicBezTo>
                    <a:cubicBezTo>
                      <a:pt x="10" y="0"/>
                      <a:pt x="10" y="0"/>
                      <a:pt x="10" y="0"/>
                    </a:cubicBezTo>
                    <a:cubicBezTo>
                      <a:pt x="11" y="3"/>
                      <a:pt x="12" y="5"/>
                      <a:pt x="12" y="8"/>
                    </a:cubicBezTo>
                    <a:cubicBezTo>
                      <a:pt x="12" y="11"/>
                      <a:pt x="12" y="14"/>
                      <a:pt x="11" y="18"/>
                    </a:cubicBezTo>
                    <a:close/>
                  </a:path>
                </a:pathLst>
              </a:custGeom>
              <a:solidFill>
                <a:srgbClr val="fad9ca"/>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00" name="PA-任意多边形 103"/>
              <p:cNvSpPr/>
              <p:nvPr/>
            </p:nvSpPr>
            <p:spPr>
              <a:xfrm>
                <a:off x="6650280" y="5034600"/>
                <a:ext cx="30240" cy="52920"/>
              </a:xfrm>
              <a:custGeom>
                <a:avLst/>
                <a:gdLst/>
                <a:ahLst/>
                <a:rect l="l" t="t" r="r" b="b"/>
                <a:pathLst>
                  <a:path w="12" h="17">
                    <a:moveTo>
                      <a:pt x="11" y="16"/>
                    </a:moveTo>
                    <a:cubicBezTo>
                      <a:pt x="11" y="16"/>
                      <a:pt x="11" y="16"/>
                      <a:pt x="11" y="16"/>
                    </a:cubicBezTo>
                    <a:cubicBezTo>
                      <a:pt x="6" y="17"/>
                      <a:pt x="1" y="14"/>
                      <a:pt x="1" y="9"/>
                    </a:cubicBezTo>
                    <a:cubicBezTo>
                      <a:pt x="1" y="9"/>
                      <a:pt x="1" y="9"/>
                      <a:pt x="1" y="9"/>
                    </a:cubicBezTo>
                    <a:cubicBezTo>
                      <a:pt x="0" y="5"/>
                      <a:pt x="4" y="1"/>
                      <a:pt x="9" y="0"/>
                    </a:cubicBezTo>
                    <a:cubicBezTo>
                      <a:pt x="10" y="0"/>
                      <a:pt x="10" y="0"/>
                      <a:pt x="10" y="0"/>
                    </a:cubicBezTo>
                    <a:cubicBezTo>
                      <a:pt x="11" y="3"/>
                      <a:pt x="12" y="5"/>
                      <a:pt x="12" y="7"/>
                    </a:cubicBezTo>
                    <a:cubicBezTo>
                      <a:pt x="12" y="10"/>
                      <a:pt x="12" y="13"/>
                      <a:pt x="11" y="16"/>
                    </a:cubicBezTo>
                    <a:close/>
                  </a:path>
                </a:pathLst>
              </a:custGeom>
              <a:solidFill>
                <a:srgbClr val="fad9ca"/>
              </a:soli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01" name="PA-任意多边形 104"/>
              <p:cNvSpPr/>
              <p:nvPr/>
            </p:nvSpPr>
            <p:spPr>
              <a:xfrm>
                <a:off x="6657840" y="5094360"/>
                <a:ext cx="41040" cy="46440"/>
              </a:xfrm>
              <a:custGeom>
                <a:avLst/>
                <a:gdLst/>
                <a:ahLst/>
                <a:rect l="l" t="t" r="r" b="b"/>
                <a:pathLst>
                  <a:path w="16" h="15">
                    <a:moveTo>
                      <a:pt x="15" y="13"/>
                    </a:moveTo>
                    <a:cubicBezTo>
                      <a:pt x="14" y="13"/>
                      <a:pt x="14" y="13"/>
                      <a:pt x="14" y="13"/>
                    </a:cubicBezTo>
                    <a:cubicBezTo>
                      <a:pt x="1" y="15"/>
                      <a:pt x="0" y="1"/>
                      <a:pt x="13" y="0"/>
                    </a:cubicBezTo>
                    <a:cubicBezTo>
                      <a:pt x="14" y="0"/>
                      <a:pt x="14" y="0"/>
                      <a:pt x="14" y="0"/>
                    </a:cubicBezTo>
                    <a:cubicBezTo>
                      <a:pt x="15" y="1"/>
                      <a:pt x="15" y="3"/>
                      <a:pt x="15" y="5"/>
                    </a:cubicBezTo>
                    <a:cubicBezTo>
                      <a:pt x="16" y="8"/>
                      <a:pt x="16" y="11"/>
                      <a:pt x="15" y="13"/>
                    </a:cubicBezTo>
                    <a:close/>
                  </a:path>
                </a:pathLst>
              </a:custGeom>
              <a:solidFill>
                <a:srgbClr val="fad9ca"/>
              </a:solidFill>
              <a:ln w="0">
                <a:noFill/>
              </a:ln>
            </p:spPr>
            <p:style>
              <a:lnRef idx="0"/>
              <a:fillRef idx="0"/>
              <a:effectRef idx="0"/>
              <a:fontRef idx="minor"/>
            </p:style>
            <p:txBody>
              <a:bodyPr lIns="90000" rIns="90000" tIns="-360" bIns="-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02" name="PA-任意多边形 105"/>
              <p:cNvSpPr/>
              <p:nvPr/>
            </p:nvSpPr>
            <p:spPr>
              <a:xfrm>
                <a:off x="6545160" y="4832640"/>
                <a:ext cx="104760" cy="126000"/>
              </a:xfrm>
              <a:custGeom>
                <a:avLst/>
                <a:gdLst/>
                <a:ahLst/>
                <a:rect l="l" t="t" r="r" b="b"/>
                <a:pathLst>
                  <a:path w="41" h="40">
                    <a:moveTo>
                      <a:pt x="38" y="6"/>
                    </a:moveTo>
                    <a:cubicBezTo>
                      <a:pt x="38" y="6"/>
                      <a:pt x="38" y="6"/>
                      <a:pt x="38" y="6"/>
                    </a:cubicBezTo>
                    <a:cubicBezTo>
                      <a:pt x="41" y="11"/>
                      <a:pt x="40" y="18"/>
                      <a:pt x="36" y="23"/>
                    </a:cubicBezTo>
                    <a:cubicBezTo>
                      <a:pt x="20" y="36"/>
                      <a:pt x="20" y="36"/>
                      <a:pt x="20" y="36"/>
                    </a:cubicBezTo>
                    <a:cubicBezTo>
                      <a:pt x="15" y="40"/>
                      <a:pt x="8" y="39"/>
                      <a:pt x="4" y="34"/>
                    </a:cubicBezTo>
                    <a:cubicBezTo>
                      <a:pt x="4" y="34"/>
                      <a:pt x="4" y="34"/>
                      <a:pt x="4" y="34"/>
                    </a:cubicBezTo>
                    <a:cubicBezTo>
                      <a:pt x="0" y="29"/>
                      <a:pt x="1" y="22"/>
                      <a:pt x="6" y="18"/>
                    </a:cubicBezTo>
                    <a:cubicBezTo>
                      <a:pt x="21" y="4"/>
                      <a:pt x="21" y="4"/>
                      <a:pt x="21" y="4"/>
                    </a:cubicBezTo>
                    <a:cubicBezTo>
                      <a:pt x="26" y="0"/>
                      <a:pt x="34" y="1"/>
                      <a:pt x="38" y="6"/>
                    </a:cubicBezTo>
                    <a:close/>
                  </a:path>
                </a:pathLst>
              </a:custGeom>
              <a:solidFill>
                <a:srgbClr val="f7c2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03" name="PA-任意多边形 106"/>
              <p:cNvSpPr/>
              <p:nvPr/>
            </p:nvSpPr>
            <p:spPr>
              <a:xfrm>
                <a:off x="6588720" y="4819320"/>
                <a:ext cx="145800" cy="79560"/>
              </a:xfrm>
              <a:custGeom>
                <a:avLst/>
                <a:gdLst/>
                <a:ahLst/>
                <a:rect l="l" t="t" r="r" b="b"/>
                <a:pathLst>
                  <a:path w="57" h="25">
                    <a:moveTo>
                      <a:pt x="12" y="25"/>
                    </a:moveTo>
                    <a:cubicBezTo>
                      <a:pt x="6" y="25"/>
                      <a:pt x="2" y="24"/>
                      <a:pt x="1" y="18"/>
                    </a:cubicBezTo>
                    <a:cubicBezTo>
                      <a:pt x="1" y="18"/>
                      <a:pt x="1" y="18"/>
                      <a:pt x="1" y="18"/>
                    </a:cubicBezTo>
                    <a:cubicBezTo>
                      <a:pt x="0" y="12"/>
                      <a:pt x="5" y="6"/>
                      <a:pt x="11" y="5"/>
                    </a:cubicBezTo>
                    <a:cubicBezTo>
                      <a:pt x="34" y="3"/>
                      <a:pt x="34" y="3"/>
                      <a:pt x="34" y="3"/>
                    </a:cubicBezTo>
                    <a:cubicBezTo>
                      <a:pt x="57" y="0"/>
                      <a:pt x="44" y="25"/>
                      <a:pt x="12" y="25"/>
                    </a:cubicBezTo>
                    <a:close/>
                  </a:path>
                </a:pathLst>
              </a:custGeom>
              <a:solidFill>
                <a:srgbClr val="f7c2ab"/>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04" name="PA-任意多边形 107"/>
              <p:cNvSpPr/>
              <p:nvPr/>
            </p:nvSpPr>
            <p:spPr>
              <a:xfrm>
                <a:off x="6650280" y="4825800"/>
                <a:ext cx="56160" cy="25200"/>
              </a:xfrm>
              <a:custGeom>
                <a:avLst/>
                <a:gdLst/>
                <a:ahLst/>
                <a:rect l="l" t="t" r="r" b="b"/>
                <a:pathLst>
                  <a:path w="22" h="8">
                    <a:moveTo>
                      <a:pt x="0" y="2"/>
                    </a:moveTo>
                    <a:cubicBezTo>
                      <a:pt x="10" y="1"/>
                      <a:pt x="10" y="1"/>
                      <a:pt x="10" y="1"/>
                    </a:cubicBezTo>
                    <a:cubicBezTo>
                      <a:pt x="17" y="0"/>
                      <a:pt x="22" y="2"/>
                      <a:pt x="20" y="5"/>
                    </a:cubicBezTo>
                    <a:cubicBezTo>
                      <a:pt x="12" y="8"/>
                      <a:pt x="1" y="7"/>
                      <a:pt x="0" y="2"/>
                    </a:cubicBezTo>
                    <a:close/>
                  </a:path>
                </a:pathLst>
              </a:custGeom>
              <a:solidFill>
                <a:srgbClr val="f7c2ab"/>
              </a:solidFill>
              <a:ln w="0">
                <a:no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05" name="PA-任意多边形 108"/>
              <p:cNvSpPr/>
              <p:nvPr/>
            </p:nvSpPr>
            <p:spPr>
              <a:xfrm>
                <a:off x="5619600" y="3548880"/>
                <a:ext cx="335160" cy="129960"/>
              </a:xfrm>
              <a:custGeom>
                <a:avLst/>
                <a:gdLst/>
                <a:ahLst/>
                <a:rect l="l" t="t" r="r" b="b"/>
                <a:pathLst>
                  <a:path w="131" h="41">
                    <a:moveTo>
                      <a:pt x="131" y="38"/>
                    </a:moveTo>
                    <a:cubicBezTo>
                      <a:pt x="125" y="41"/>
                      <a:pt x="120" y="38"/>
                      <a:pt x="114" y="37"/>
                    </a:cubicBezTo>
                    <a:cubicBezTo>
                      <a:pt x="75" y="32"/>
                      <a:pt x="26" y="4"/>
                      <a:pt x="0" y="3"/>
                    </a:cubicBezTo>
                    <a:cubicBezTo>
                      <a:pt x="14" y="0"/>
                      <a:pt x="35" y="5"/>
                      <a:pt x="53" y="11"/>
                    </a:cubicBezTo>
                    <a:cubicBezTo>
                      <a:pt x="79" y="20"/>
                      <a:pt x="101" y="29"/>
                      <a:pt x="131" y="29"/>
                    </a:cubicBezTo>
                    <a:lnTo>
                      <a:pt x="131" y="38"/>
                    </a:lnTo>
                    <a:close/>
                  </a:path>
                </a:pathLst>
              </a:custGeom>
              <a:solidFill>
                <a:srgbClr val="f0e9b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1406" name="组合 83"/>
          <p:cNvGrpSpPr/>
          <p:nvPr/>
        </p:nvGrpSpPr>
        <p:grpSpPr>
          <a:xfrm>
            <a:off x="3875040" y="3749760"/>
            <a:ext cx="3422160" cy="974520"/>
            <a:chOff x="3875040" y="3749760"/>
            <a:chExt cx="3422160" cy="974520"/>
          </a:xfrm>
        </p:grpSpPr>
        <p:grpSp>
          <p:nvGrpSpPr>
            <p:cNvPr id="1407" name="组合 81"/>
            <p:cNvGrpSpPr/>
            <p:nvPr/>
          </p:nvGrpSpPr>
          <p:grpSpPr>
            <a:xfrm>
              <a:off x="3875040" y="3754440"/>
              <a:ext cx="936000" cy="965520"/>
              <a:chOff x="3875040" y="3754440"/>
              <a:chExt cx="936000" cy="965520"/>
            </a:xfrm>
          </p:grpSpPr>
          <p:sp>
            <p:nvSpPr>
              <p:cNvPr id="1408" name="PA-椭圆 175"/>
              <p:cNvSpPr/>
              <p:nvPr/>
            </p:nvSpPr>
            <p:spPr>
              <a:xfrm flipH="1">
                <a:off x="3875040" y="3754440"/>
                <a:ext cx="936000" cy="965520"/>
              </a:xfrm>
              <a:prstGeom prst="ellipse">
                <a:avLst/>
              </a:prstGeom>
              <a:solidFill>
                <a:srgbClr val="43d5ff"/>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09" name="任意多边形: 形状 76"/>
              <p:cNvSpPr/>
              <p:nvPr/>
            </p:nvSpPr>
            <p:spPr>
              <a:xfrm flipH="1">
                <a:off x="3875040" y="4071960"/>
                <a:ext cx="936000" cy="648000"/>
              </a:xfrm>
              <a:custGeom>
                <a:avLst/>
                <a:gdLst/>
                <a:ahLst/>
                <a:rect l="l" t="t" r="r" b="b"/>
                <a:pathLst>
                  <a:path w="965950" h="729325">
                    <a:moveTo>
                      <a:pt x="896322" y="0"/>
                    </a:moveTo>
                    <a:lnTo>
                      <a:pt x="69628" y="0"/>
                    </a:lnTo>
                    <a:lnTo>
                      <a:pt x="37955" y="58354"/>
                    </a:lnTo>
                    <a:cubicBezTo>
                      <a:pt x="13515" y="116137"/>
                      <a:pt x="0" y="179665"/>
                      <a:pt x="0" y="246350"/>
                    </a:cubicBezTo>
                    <a:cubicBezTo>
                      <a:pt x="0" y="513090"/>
                      <a:pt x="216235" y="729325"/>
                      <a:pt x="482975" y="729325"/>
                    </a:cubicBezTo>
                    <a:cubicBezTo>
                      <a:pt x="749715" y="729325"/>
                      <a:pt x="965950" y="513090"/>
                      <a:pt x="965950" y="246350"/>
                    </a:cubicBezTo>
                    <a:cubicBezTo>
                      <a:pt x="965950" y="179665"/>
                      <a:pt x="952436" y="116137"/>
                      <a:pt x="927996" y="58354"/>
                    </a:cubicBezTo>
                    <a:close/>
                  </a:path>
                </a:pathLst>
              </a:custGeom>
              <a:solidFill>
                <a:srgbClr val="cef4ff"/>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10" name="PA-任意多边形 42"/>
              <p:cNvSpPr/>
              <p:nvPr/>
            </p:nvSpPr>
            <p:spPr>
              <a:xfrm>
                <a:off x="4079520" y="4071960"/>
                <a:ext cx="531360" cy="425520"/>
              </a:xfrm>
              <a:custGeom>
                <a:avLst/>
                <a:gdLst/>
                <a:ahLst/>
                <a:rect l="l" t="t" r="r" b="b"/>
                <a:pathLst>
                  <a:path w="20580" h="20758">
                    <a:moveTo>
                      <a:pt x="11316" y="15681"/>
                    </a:moveTo>
                    <a:cubicBezTo>
                      <a:pt x="10444" y="15681"/>
                      <a:pt x="9737" y="14763"/>
                      <a:pt x="9737" y="13632"/>
                    </a:cubicBezTo>
                    <a:cubicBezTo>
                      <a:pt x="9737" y="12501"/>
                      <a:pt x="10444" y="11585"/>
                      <a:pt x="11316" y="11585"/>
                    </a:cubicBezTo>
                    <a:cubicBezTo>
                      <a:pt x="12189" y="11585"/>
                      <a:pt x="12896" y="12501"/>
                      <a:pt x="12896" y="13632"/>
                    </a:cubicBezTo>
                    <a:cubicBezTo>
                      <a:pt x="12896" y="14763"/>
                      <a:pt x="12189" y="15681"/>
                      <a:pt x="11316" y="15681"/>
                    </a:cubicBezTo>
                    <a:close/>
                    <a:moveTo>
                      <a:pt x="18009" y="2956"/>
                    </a:moveTo>
                    <a:cubicBezTo>
                      <a:pt x="14750" y="138"/>
                      <a:pt x="11090" y="-836"/>
                      <a:pt x="6751" y="781"/>
                    </a:cubicBezTo>
                    <a:cubicBezTo>
                      <a:pt x="3364" y="2045"/>
                      <a:pt x="258" y="7054"/>
                      <a:pt x="18" y="11348"/>
                    </a:cubicBezTo>
                    <a:cubicBezTo>
                      <a:pt x="-265" y="16419"/>
                      <a:pt x="2772" y="20764"/>
                      <a:pt x="8123" y="20757"/>
                    </a:cubicBezTo>
                    <a:cubicBezTo>
                      <a:pt x="13892" y="20749"/>
                      <a:pt x="16051" y="17148"/>
                      <a:pt x="16098" y="16053"/>
                    </a:cubicBezTo>
                    <a:cubicBezTo>
                      <a:pt x="16146" y="14957"/>
                      <a:pt x="13849" y="12933"/>
                      <a:pt x="15327" y="10853"/>
                    </a:cubicBezTo>
                    <a:cubicBezTo>
                      <a:pt x="17179" y="8245"/>
                      <a:pt x="18829" y="10466"/>
                      <a:pt x="19829" y="10154"/>
                    </a:cubicBezTo>
                    <a:cubicBezTo>
                      <a:pt x="20829" y="9841"/>
                      <a:pt x="21335" y="5836"/>
                      <a:pt x="18009" y="2956"/>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411" name="组合 82"/>
            <p:cNvGrpSpPr/>
            <p:nvPr/>
          </p:nvGrpSpPr>
          <p:grpSpPr>
            <a:xfrm>
              <a:off x="6306840" y="3749760"/>
              <a:ext cx="990360" cy="974520"/>
              <a:chOff x="6306840" y="3749760"/>
              <a:chExt cx="990360" cy="974520"/>
            </a:xfrm>
          </p:grpSpPr>
          <p:sp>
            <p:nvSpPr>
              <p:cNvPr id="1412" name="PA-椭圆 43"/>
              <p:cNvSpPr/>
              <p:nvPr/>
            </p:nvSpPr>
            <p:spPr>
              <a:xfrm flipH="1">
                <a:off x="6330240" y="3749760"/>
                <a:ext cx="966600" cy="965160"/>
              </a:xfrm>
              <a:prstGeom prst="ellipse">
                <a:avLst/>
              </a:prstGeom>
              <a:solidFill>
                <a:srgbClr val="ebf1de"/>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13" name="任意多边形: 形状 79"/>
              <p:cNvSpPr/>
              <p:nvPr/>
            </p:nvSpPr>
            <p:spPr>
              <a:xfrm flipH="1">
                <a:off x="6306480" y="4332240"/>
                <a:ext cx="990360" cy="392040"/>
              </a:xfrm>
              <a:custGeom>
                <a:avLst/>
                <a:gdLst/>
                <a:ahLst/>
                <a:rect l="l" t="t" r="r" b="b"/>
                <a:pathLst>
                  <a:path w="937376" h="371224">
                    <a:moveTo>
                      <a:pt x="937376" y="0"/>
                    </a:moveTo>
                    <a:lnTo>
                      <a:pt x="0" y="0"/>
                    </a:lnTo>
                    <a:lnTo>
                      <a:pt x="23668" y="76245"/>
                    </a:lnTo>
                    <a:cubicBezTo>
                      <a:pt x="96987" y="249592"/>
                      <a:pt x="268633" y="371224"/>
                      <a:pt x="468688" y="371224"/>
                    </a:cubicBezTo>
                    <a:cubicBezTo>
                      <a:pt x="668743" y="371224"/>
                      <a:pt x="840389" y="249592"/>
                      <a:pt x="913709" y="76245"/>
                    </a:cubicBezTo>
                    <a:close/>
                  </a:path>
                </a:pathLst>
              </a:custGeom>
              <a:solidFill>
                <a:srgbClr val="9bbb59"/>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14" name="任意多边形 38"/>
              <p:cNvSpPr/>
              <p:nvPr/>
            </p:nvSpPr>
            <p:spPr>
              <a:xfrm>
                <a:off x="6605640" y="4040280"/>
                <a:ext cx="467640" cy="384120"/>
              </a:xfrm>
              <a:custGeom>
                <a:avLst/>
                <a:gdLst/>
                <a:ahLst/>
                <a:rect l="l" t="t" r="r" b="b"/>
                <a:pathLst>
                  <a:path w="21492" h="21472">
                    <a:moveTo>
                      <a:pt x="21150" y="257"/>
                    </a:moveTo>
                    <a:lnTo>
                      <a:pt x="16075" y="10636"/>
                    </a:lnTo>
                    <a:cubicBezTo>
                      <a:pt x="15886" y="11021"/>
                      <a:pt x="15517" y="11084"/>
                      <a:pt x="15255" y="10776"/>
                    </a:cubicBezTo>
                    <a:lnTo>
                      <a:pt x="12800" y="7890"/>
                    </a:lnTo>
                    <a:cubicBezTo>
                      <a:pt x="12537" y="7582"/>
                      <a:pt x="12160" y="7637"/>
                      <a:pt x="11960" y="8014"/>
                    </a:cubicBezTo>
                    <a:lnTo>
                      <a:pt x="8514" y="14538"/>
                    </a:lnTo>
                    <a:cubicBezTo>
                      <a:pt x="8316" y="14916"/>
                      <a:pt x="7936" y="14974"/>
                      <a:pt x="7669" y="14670"/>
                    </a:cubicBezTo>
                    <a:lnTo>
                      <a:pt x="6063" y="12832"/>
                    </a:lnTo>
                    <a:cubicBezTo>
                      <a:pt x="5798" y="12529"/>
                      <a:pt x="5397" y="12567"/>
                      <a:pt x="5171" y="12920"/>
                    </a:cubicBezTo>
                    <a:lnTo>
                      <a:pt x="116" y="20831"/>
                    </a:lnTo>
                    <a:cubicBezTo>
                      <a:pt x="-108" y="21184"/>
                      <a:pt x="3" y="21472"/>
                      <a:pt x="361" y="21472"/>
                    </a:cubicBezTo>
                    <a:lnTo>
                      <a:pt x="21492" y="21472"/>
                    </a:lnTo>
                    <a:lnTo>
                      <a:pt x="21492" y="379"/>
                    </a:lnTo>
                    <a:cubicBezTo>
                      <a:pt x="21492" y="-73"/>
                      <a:pt x="21338" y="-128"/>
                      <a:pt x="21150" y="257"/>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
        <p:nvSpPr>
          <p:cNvPr id="1415" name="PA-文本框 115"/>
          <p:cNvSpPr/>
          <p:nvPr/>
        </p:nvSpPr>
        <p:spPr>
          <a:xfrm>
            <a:off x="6975360" y="2131920"/>
            <a:ext cx="5087880" cy="3975120"/>
          </a:xfrm>
          <a:prstGeom prst="rect">
            <a:avLst/>
          </a:prstGeom>
          <a:noFill/>
          <a:ln w="0">
            <a:noFill/>
          </a:ln>
        </p:spPr>
        <p:style>
          <a:lnRef idx="0"/>
          <a:fillRef idx="0"/>
          <a:effectRef idx="0"/>
          <a:fontRef idx="minor"/>
        </p:style>
        <p:txBody>
          <a:bodyPr lIns="90000" rIns="90000" tIns="0" bIns="46800" anchor="t">
            <a:noAutofit/>
          </a:bodyPr>
          <a:p>
            <a:pPr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f75b4"/>
                </a:solidFill>
                <a:latin typeface="Arial Black"/>
                <a:ea typeface="宋体"/>
              </a:rPr>
              <a:t>（二）评价遵守职业道德规范的情况</a:t>
            </a:r>
            <a:endParaRPr b="1" lang="en-US" sz="2400" spc="-1" strike="noStrike">
              <a:solidFill>
                <a:srgbClr val="000000"/>
              </a:solidFill>
              <a:latin typeface="Arial"/>
            </a:endParaRPr>
          </a:p>
          <a:p>
            <a:pPr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a:t>
            </a:r>
            <a:r>
              <a:rPr b="1" lang="zh-CN" sz="2000" spc="-1" strike="noStrike">
                <a:solidFill>
                  <a:srgbClr val="000000"/>
                </a:solidFill>
                <a:latin typeface="Arial"/>
                <a:ea typeface="宋体"/>
              </a:rPr>
              <a:t>质量控制准则包括独立性在内的有关职业道德要求，注册会计师应当按照其规定执行。 </a:t>
            </a:r>
            <a:endParaRPr b="1" lang="en-US" sz="2000" spc="-1" strike="noStrike">
              <a:solidFill>
                <a:srgbClr val="000000"/>
              </a:solidFill>
              <a:latin typeface="Arial"/>
            </a:endParaRPr>
          </a:p>
          <a:p>
            <a:pPr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a:t>
            </a:r>
            <a:r>
              <a:rPr b="1" lang="zh-CN" sz="2000" spc="-1" strike="noStrike">
                <a:solidFill>
                  <a:srgbClr val="000000"/>
                </a:solidFill>
                <a:latin typeface="Arial"/>
                <a:ea typeface="宋体"/>
              </a:rPr>
              <a:t>职业道德规范要求项目组成员恪守独立、客观、公正的原则，保持专业胜任能力和应有的关注，并对审计过程中获知的信息保密。 </a:t>
            </a:r>
            <a:endParaRPr b="1" lang="en-US" sz="2000" spc="-1" strike="noStrike">
              <a:solidFill>
                <a:srgbClr val="000000"/>
              </a:solidFill>
              <a:latin typeface="Arial"/>
            </a:endParaRPr>
          </a:p>
          <a:p>
            <a:pPr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a:t>
            </a:r>
            <a:r>
              <a:rPr b="1" lang="zh-CN" sz="2000" spc="-1" strike="noStrike">
                <a:solidFill>
                  <a:srgbClr val="000000"/>
                </a:solidFill>
                <a:latin typeface="Arial"/>
                <a:ea typeface="宋体"/>
              </a:rPr>
              <a:t>对于保持独立性，质量控制准则要求会计师事务所制定政策和程序，以及 项目负责人实施相应措施。</a:t>
            </a:r>
            <a:endParaRPr b="1" lang="en-US" sz="2000" spc="-1" strike="noStrike">
              <a:solidFill>
                <a:srgbClr val="000000"/>
              </a:solidFill>
              <a:latin typeface="Arial"/>
            </a:endParaRPr>
          </a:p>
        </p:txBody>
      </p:sp>
      <p:sp>
        <p:nvSpPr>
          <p:cNvPr id="1416" name="PA-文本框 115"/>
          <p:cNvSpPr/>
          <p:nvPr/>
        </p:nvSpPr>
        <p:spPr>
          <a:xfrm>
            <a:off x="0" y="2370240"/>
            <a:ext cx="4118040" cy="4838760"/>
          </a:xfrm>
          <a:prstGeom prst="rect">
            <a:avLst/>
          </a:prstGeom>
          <a:noFill/>
          <a:ln w="0">
            <a:noFill/>
          </a:ln>
        </p:spPr>
        <p:style>
          <a:lnRef idx="0"/>
          <a:fillRef idx="0"/>
          <a:effectRef idx="0"/>
          <a:fontRef idx="minor"/>
        </p:style>
        <p:txBody>
          <a:bodyPr lIns="90000" rIns="90000" tIns="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f75b4"/>
                </a:solidFill>
                <a:latin typeface="Arial Black"/>
                <a:ea typeface="宋体"/>
              </a:rPr>
              <a:t>（一）针对保持客户关系和具体审计业务实施相应的质量控制程序</a:t>
            </a:r>
            <a:endParaRPr b="1" lang="en-US" sz="2400" spc="-1" strike="noStrike">
              <a:solidFill>
                <a:srgbClr val="000000"/>
              </a:solidFill>
              <a:latin typeface="Arial"/>
            </a:endParaRPr>
          </a:p>
          <a:p>
            <a:pPr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zh-CN" sz="2000" spc="-1" strike="noStrike">
                <a:solidFill>
                  <a:srgbClr val="000000"/>
                </a:solidFill>
                <a:latin typeface="Arial"/>
                <a:ea typeface="宋体"/>
              </a:rPr>
              <a:t>承接审计业务必须考虑的事项 </a:t>
            </a:r>
            <a:r>
              <a:rPr b="1" lang="en-US" sz="2000" spc="-1" strike="noStrike">
                <a:solidFill>
                  <a:srgbClr val="000000"/>
                </a:solidFill>
                <a:latin typeface="Arial"/>
              </a:rPr>
              <a:t>P62</a:t>
            </a:r>
            <a:endParaRPr b="1" lang="en-US" sz="2000" spc="-1" strike="noStrike">
              <a:solidFill>
                <a:srgbClr val="000000"/>
              </a:solidFill>
              <a:latin typeface="Arial"/>
            </a:endParaRPr>
          </a:p>
          <a:p>
            <a:pPr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a:t>
            </a:r>
            <a:r>
              <a:rPr b="1" lang="zh-CN" sz="2000" spc="-1" strike="noStrike">
                <a:solidFill>
                  <a:srgbClr val="000000"/>
                </a:solidFill>
                <a:latin typeface="Arial"/>
                <a:ea typeface="宋体"/>
              </a:rPr>
              <a:t>首次承接审计业务须增加考</a:t>
            </a:r>
            <a:endParaRPr b="1" lang="en-US" sz="2000" spc="-1" strike="noStrike">
              <a:solidFill>
                <a:srgbClr val="000000"/>
              </a:solidFill>
              <a:latin typeface="Arial"/>
            </a:endParaRPr>
          </a:p>
          <a:p>
            <a:pPr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虑的事项</a:t>
            </a:r>
            <a:r>
              <a:rPr b="1" lang="en-US" sz="2000" spc="-1" strike="noStrike">
                <a:solidFill>
                  <a:srgbClr val="000000"/>
                </a:solidFill>
                <a:latin typeface="Arial"/>
              </a:rPr>
              <a:t>P63</a:t>
            </a:r>
            <a:endParaRPr b="1" lang="en-US" sz="2000" spc="-1" strike="noStrike">
              <a:solidFill>
                <a:srgbClr val="000000"/>
              </a:solidFill>
              <a:latin typeface="Arial"/>
            </a:endParaRPr>
          </a:p>
          <a:p>
            <a:pPr algn="just">
              <a:lnSpc>
                <a:spcPct val="130000"/>
              </a:lnSpc>
              <a:spcBef>
                <a:spcPts val="1001"/>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1417" name="文本框 31" descr=""/>
          <p:cNvPicPr/>
          <p:nvPr/>
        </p:nvPicPr>
        <p:blipFill>
          <a:blip r:embed="rId1"/>
          <a:stretch/>
        </p:blipFill>
        <p:spPr>
          <a:xfrm>
            <a:off x="3014640" y="92160"/>
            <a:ext cx="5862600" cy="650880"/>
          </a:xfrm>
          <a:prstGeom prst="rect">
            <a:avLst/>
          </a:prstGeom>
          <a:ln w="0">
            <a:noFill/>
          </a:ln>
        </p:spPr>
      </p:pic>
      <p:sp>
        <p:nvSpPr>
          <p:cNvPr id="1418" name="矩形 1"/>
          <p:cNvSpPr/>
          <p:nvPr/>
        </p:nvSpPr>
        <p:spPr>
          <a:xfrm>
            <a:off x="3359160" y="853920"/>
            <a:ext cx="5400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f75b4"/>
                </a:solidFill>
                <a:latin typeface="微软雅黑"/>
                <a:ea typeface="微软雅黑"/>
              </a:rPr>
              <a:t>二、初步业务活动的内容</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19" name="矩形 1"/>
          <p:cNvSpPr/>
          <p:nvPr/>
        </p:nvSpPr>
        <p:spPr>
          <a:xfrm>
            <a:off x="743040" y="1440000"/>
            <a:ext cx="10321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注册会计师应当在本期审计业务开始时开展下列初步业务活动：</a:t>
            </a:r>
            <a:endParaRPr b="1" lang="en-US" sz="2800" spc="-1" strike="noStrike">
              <a:solidFill>
                <a:srgbClr val="000000"/>
              </a:solidFill>
              <a:latin typeface="Arial"/>
            </a:endParaRPr>
          </a:p>
        </p:txBody>
      </p:sp>
    </p:spTree>
  </p:cSld>
  <p:transition spd="slow">
    <p:fade/>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dur="indefinite" nodeType="afterEffect" fill="hold" presetClass="entr" presetID="12" presetSubtype="4">
                                  <p:stCondLst>
                                    <p:cond delay="0"/>
                                  </p:stCondLst>
                                  <p:childTnLst>
                                    <p:set>
                                      <p:cBhvr>
                                        <p:cTn id="64" dur="1" fill="hold">
                                          <p:stCondLst>
                                            <p:cond delay="0"/>
                                          </p:stCondLst>
                                        </p:cTn>
                                        <p:tgtEl>
                                          <p:spTgt spid="1415"/>
                                        </p:tgtEl>
                                        <p:attrNameLst>
                                          <p:attrName>style.visibility</p:attrName>
                                        </p:attrNameLst>
                                      </p:cBhvr>
                                      <p:to>
                                        <p:strVal val="visible"/>
                                      </p:to>
                                    </p:set>
                                    <p:anim calcmode="lin" valueType="num">
                                      <p:cBhvr additive="repl">
                                        <p:cTn id="65" dur="500"/>
                                        <p:tgtEl>
                                          <p:spTgt spid="1415"/>
                                        </p:tgtEl>
                                        <p:attrNameLst>
                                          <p:attrName>ppt_y</p:attrName>
                                        </p:attrNameLst>
                                      </p:cBhvr>
                                      <p:tavLst>
                                        <p:tav tm="0">
                                          <p:val>
                                            <p:strVal val="#ppt_y+#ppt_h*1.125000"/>
                                          </p:val>
                                        </p:tav>
                                        <p:tav tm="100000">
                                          <p:val>
                                            <p:strVal val="#ppt_y"/>
                                          </p:val>
                                        </p:tav>
                                      </p:tavLst>
                                    </p:anim>
                                    <p:animEffect filter="wipe(up)" transition="in">
                                      <p:cBhvr additive="repl">
                                        <p:cTn id="66" dur="500"/>
                                        <p:tgtEl>
                                          <p:spTgt spid="1415"/>
                                        </p:tgtEl>
                                      </p:cBhvr>
                                    </p:animEffect>
                                  </p:childTnLst>
                                </p:cTn>
                              </p:par>
                            </p:childTnLst>
                          </p:cTn>
                        </p:par>
                        <p:par>
                          <p:cTn id="67" fill="hold">
                            <p:stCondLst>
                              <p:cond delay="500"/>
                            </p:stCondLst>
                            <p:childTnLst>
                              <p:par>
                                <p:cTn id="68" dur="indefinite" nodeType="afterEffect" fill="hold" presetClass="entr" presetID="12" presetSubtype="4">
                                  <p:stCondLst>
                                    <p:cond delay="0"/>
                                  </p:stCondLst>
                                  <p:childTnLst>
                                    <p:set>
                                      <p:cBhvr>
                                        <p:cTn id="69" dur="1" fill="hold">
                                          <p:stCondLst>
                                            <p:cond delay="0"/>
                                          </p:stCondLst>
                                        </p:cTn>
                                        <p:tgtEl>
                                          <p:spTgt spid="1416"/>
                                        </p:tgtEl>
                                        <p:attrNameLst>
                                          <p:attrName>style.visibility</p:attrName>
                                        </p:attrNameLst>
                                      </p:cBhvr>
                                      <p:to>
                                        <p:strVal val="visible"/>
                                      </p:to>
                                    </p:set>
                                    <p:anim calcmode="lin" valueType="num">
                                      <p:cBhvr additive="repl">
                                        <p:cTn id="70" dur="500"/>
                                        <p:tgtEl>
                                          <p:spTgt spid="1416"/>
                                        </p:tgtEl>
                                        <p:attrNameLst>
                                          <p:attrName>ppt_y</p:attrName>
                                        </p:attrNameLst>
                                      </p:cBhvr>
                                      <p:tavLst>
                                        <p:tav tm="0">
                                          <p:val>
                                            <p:strVal val="#ppt_y+#ppt_h*1.125000"/>
                                          </p:val>
                                        </p:tav>
                                        <p:tav tm="100000">
                                          <p:val>
                                            <p:strVal val="#ppt_y"/>
                                          </p:val>
                                        </p:tav>
                                      </p:tavLst>
                                    </p:anim>
                                    <p:animEffect filter="wipe(up)" transition="in">
                                      <p:cBhvr additive="repl">
                                        <p:cTn id="71" dur="500"/>
                                        <p:tgtEl>
                                          <p:spTgt spid="14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PlaceHolder 1"/>
          <p:cNvSpPr>
            <a:spLocks noGrp="1"/>
          </p:cNvSpPr>
          <p:nvPr>
            <p:ph type="title"/>
          </p:nvPr>
        </p:nvSpPr>
        <p:spPr>
          <a:xfrm>
            <a:off x="1271520" y="2133360"/>
            <a:ext cx="9648720" cy="332244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5400" spc="-1" strike="noStrike">
                <a:solidFill>
                  <a:srgbClr val="8e10d4"/>
                </a:solidFill>
                <a:latin typeface="Arial Black"/>
                <a:ea typeface="汉仪旗黑-85S"/>
              </a:rPr>
              <a:t>任务二 </a:t>
            </a:r>
            <a:br>
              <a:rPr sz="5400"/>
            </a:br>
            <a:r>
              <a:rPr b="1" lang="zh-CN" sz="5400" spc="-1" strike="noStrike">
                <a:solidFill>
                  <a:srgbClr val="8e10d4"/>
                </a:solidFill>
                <a:latin typeface="Arial Black"/>
                <a:ea typeface="汉仪旗黑-85S"/>
              </a:rPr>
              <a:t>签订审计业务约定书</a:t>
            </a:r>
            <a:br>
              <a:rPr sz="5400"/>
            </a:br>
            <a:br>
              <a:rPr sz="5400"/>
            </a:br>
            <a:endParaRPr b="1" lang="en-US" sz="5400" spc="-1" strike="noStrike">
              <a:solidFill>
                <a:srgbClr val="262626"/>
              </a:solidFill>
              <a:latin typeface="Arial"/>
            </a:endParaRPr>
          </a:p>
        </p:txBody>
      </p:sp>
    </p:spTree>
  </p:cSld>
  <p:transition>
    <p:fade/>
  </p:transition>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dur="indefinite" nodeType="afterEffect" fill="hold" presetClass="entr" presetID="22" presetSubtype="1">
                                  <p:stCondLst>
                                    <p:cond delay="0"/>
                                  </p:stCondLst>
                                  <p:childTnLst>
                                    <p:set>
                                      <p:cBhvr>
                                        <p:cTn id="77" dur="1000" fill="hold">
                                          <p:stCondLst>
                                            <p:cond delay="0"/>
                                          </p:stCondLst>
                                        </p:cTn>
                                        <p:tgtEl>
                                          <p:spTgt spid="1420"/>
                                        </p:tgtEl>
                                        <p:attrNameLst>
                                          <p:attrName>style.visibility</p:attrName>
                                        </p:attrNameLst>
                                      </p:cBhvr>
                                      <p:to>
                                        <p:strVal val="visible"/>
                                      </p:to>
                                    </p:set>
                                    <p:animEffect filter="wipe(up)" transition="in">
                                      <p:cBhvr additive="repl">
                                        <p:cTn id="78" dur="1000"/>
                                        <p:tgtEl>
                                          <p:spTgt spid="1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圆角矩形 49"/>
          <p:cNvSpPr/>
          <p:nvPr/>
        </p:nvSpPr>
        <p:spPr>
          <a:xfrm rot="345600">
            <a:off x="2193840" y="5605200"/>
            <a:ext cx="722520" cy="707760"/>
          </a:xfrm>
          <a:prstGeom prst="roundRect">
            <a:avLst>
              <a:gd name="adj" fmla="val 18565"/>
            </a:avLst>
          </a:prstGeom>
          <a:solidFill>
            <a:srgbClr val="8e10d4"/>
          </a:solidFill>
          <a:ln w="12600">
            <a:solidFill>
              <a:srgbClr val="788c0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黑体"/>
              </a:rPr>
              <a:t>3</a:t>
            </a:r>
            <a:endParaRPr b="1" lang="en-US" sz="3200" spc="-1" strike="noStrike">
              <a:solidFill>
                <a:srgbClr val="000000"/>
              </a:solidFill>
              <a:latin typeface="Arial"/>
            </a:endParaRPr>
          </a:p>
        </p:txBody>
      </p:sp>
      <p:cxnSp>
        <p:nvCxnSpPr>
          <p:cNvPr id="1422" name="直接箭头连接符 50"/>
          <p:cNvCxnSpPr/>
          <p:nvPr/>
        </p:nvCxnSpPr>
        <p:spPr>
          <a:xfrm>
            <a:off x="3489480" y="3809520"/>
            <a:ext cx="460800" cy="1080"/>
          </a:xfrm>
          <a:prstGeom prst="straightConnector1">
            <a:avLst/>
          </a:prstGeom>
          <a:ln w="38160">
            <a:solidFill>
              <a:srgbClr val="aeedff"/>
            </a:solidFill>
            <a:round/>
            <a:tailEnd len="med" type="arrow" w="med"/>
          </a:ln>
        </p:spPr>
      </p:cxnSp>
      <p:sp>
        <p:nvSpPr>
          <p:cNvPr id="1423" name="标题 1"/>
          <p:cNvSpPr/>
          <p:nvPr/>
        </p:nvSpPr>
        <p:spPr>
          <a:xfrm>
            <a:off x="3494160" y="5702400"/>
            <a:ext cx="8323200" cy="1027080"/>
          </a:xfrm>
          <a:prstGeom prst="rect">
            <a:avLst/>
          </a:prstGeom>
          <a:noFill/>
          <a:ln w="9360">
            <a:solidFill>
              <a:srgbClr val="8e10d4"/>
            </a:solidFill>
            <a:round/>
          </a:ln>
        </p:spPr>
        <p:style>
          <a:lnRef idx="0"/>
          <a:fillRef idx="0"/>
          <a:effectRef idx="0"/>
          <a:fontRef idx="minor"/>
        </p:style>
        <p:txBody>
          <a:bodyPr lIns="90000" rIns="90000" tIns="46800" bIns="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a:t>
            </a:r>
            <a:r>
              <a:rPr b="1" lang="zh-CN" sz="2400" spc="-1" strike="noStrike">
                <a:solidFill>
                  <a:srgbClr val="000000"/>
                </a:solidFill>
                <a:latin typeface="Arial"/>
                <a:ea typeface="宋体"/>
              </a:rPr>
              <a:t>文件性质属于书面协议，具有委托合同的性质，一经有关签约主体签字或盖章，在各签约主体之间即具有法律约束力。</a:t>
            </a:r>
            <a:endParaRPr b="1" lang="en-US" sz="2400" spc="-1" strike="noStrike">
              <a:solidFill>
                <a:srgbClr val="000000"/>
              </a:solidFill>
              <a:latin typeface="Arial"/>
            </a:endParaRPr>
          </a:p>
        </p:txBody>
      </p:sp>
      <p:sp>
        <p:nvSpPr>
          <p:cNvPr id="1424" name="圆角矩形 53"/>
          <p:cNvSpPr/>
          <p:nvPr/>
        </p:nvSpPr>
        <p:spPr>
          <a:xfrm rot="21439200">
            <a:off x="2865240" y="4591080"/>
            <a:ext cx="722160" cy="692280"/>
          </a:xfrm>
          <a:prstGeom prst="roundRect">
            <a:avLst>
              <a:gd name="adj" fmla="val 18565"/>
            </a:avLst>
          </a:prstGeom>
          <a:solidFill>
            <a:srgbClr val="ffc000"/>
          </a:solidFill>
          <a:ln w="12600">
            <a:solidFill>
              <a:srgbClr val="a7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黑体"/>
              </a:rPr>
              <a:t>2</a:t>
            </a:r>
            <a:endParaRPr b="1" lang="en-US" sz="3200" spc="-1" strike="noStrike">
              <a:solidFill>
                <a:srgbClr val="000000"/>
              </a:solidFill>
              <a:latin typeface="Arial"/>
            </a:endParaRPr>
          </a:p>
        </p:txBody>
      </p:sp>
      <p:cxnSp>
        <p:nvCxnSpPr>
          <p:cNvPr id="1425" name="直接箭头连接符 54"/>
          <p:cNvCxnSpPr/>
          <p:nvPr/>
        </p:nvCxnSpPr>
        <p:spPr>
          <a:xfrm>
            <a:off x="3658680" y="5013000"/>
            <a:ext cx="351360" cy="1080"/>
          </a:xfrm>
          <a:prstGeom prst="straightConnector1">
            <a:avLst/>
          </a:prstGeom>
          <a:ln w="38160">
            <a:solidFill>
              <a:srgbClr val="ffc000"/>
            </a:solidFill>
            <a:round/>
            <a:tailEnd len="med" type="arrow" w="med"/>
          </a:ln>
        </p:spPr>
      </p:cxnSp>
      <p:sp>
        <p:nvSpPr>
          <p:cNvPr id="1426" name="标题 1"/>
          <p:cNvSpPr/>
          <p:nvPr/>
        </p:nvSpPr>
        <p:spPr>
          <a:xfrm flipV="1" rot="10800000">
            <a:off x="4098960" y="4666320"/>
            <a:ext cx="7718400" cy="934920"/>
          </a:xfrm>
          <a:prstGeom prst="rect">
            <a:avLst/>
          </a:prstGeom>
          <a:noFill/>
          <a:ln w="9360">
            <a:solidFill>
              <a:srgbClr val="ffc000"/>
            </a:solidFill>
            <a:round/>
          </a:ln>
        </p:spPr>
        <p:style>
          <a:lnRef idx="0"/>
          <a:fillRef idx="0"/>
          <a:effectRef idx="0"/>
          <a:fontRef idx="minor"/>
        </p:style>
        <p:txBody>
          <a:bodyPr lIns="90000" rIns="90000" tIns="46800" bIns="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a:t>
            </a:r>
            <a:r>
              <a:rPr b="1" lang="zh-CN" sz="2400" spc="-1" strike="noStrike">
                <a:solidFill>
                  <a:srgbClr val="000000"/>
                </a:solidFill>
                <a:latin typeface="Arial"/>
                <a:ea typeface="宋体"/>
              </a:rPr>
              <a:t>约定内容主要涉及审计业务的委托与受托关系、审计目标和范围、双方责 任以及报告的格式。</a:t>
            </a:r>
            <a:endParaRPr b="1" lang="en-US" sz="2400" spc="-1" strike="noStrike">
              <a:solidFill>
                <a:srgbClr val="000000"/>
              </a:solidFill>
              <a:latin typeface="Arial"/>
            </a:endParaRPr>
          </a:p>
        </p:txBody>
      </p:sp>
      <p:sp>
        <p:nvSpPr>
          <p:cNvPr id="1427" name="圆角矩形 56"/>
          <p:cNvSpPr/>
          <p:nvPr/>
        </p:nvSpPr>
        <p:spPr>
          <a:xfrm rot="20638800">
            <a:off x="2595600" y="3449520"/>
            <a:ext cx="711000" cy="763560"/>
          </a:xfrm>
          <a:custGeom>
            <a:avLst/>
            <a:gdLst>
              <a:gd name="textAreaLeft" fmla="*/ 62640 w 711000"/>
              <a:gd name="textAreaRight" fmla="*/ 648360 w 711000"/>
              <a:gd name="textAreaTop" fmla="*/ 62640 h 763560"/>
              <a:gd name="textAreaBottom" fmla="*/ 700920 h 763560"/>
            </a:gdLst>
            <a:ahLst/>
            <a:rect l="textAreaLeft" t="textAreaTop" r="textAreaRight" b="textAreaBottom"/>
            <a:pathLst>
              <a:path w="21600" h="23196">
                <a:moveTo>
                  <a:pt x="6525" y="0"/>
                </a:moveTo>
                <a:arcTo wR="6525" hR="6525" stAng="16200000" swAng="-5400000"/>
                <a:lnTo>
                  <a:pt x="0" y="16671"/>
                </a:lnTo>
                <a:arcTo wR="6525" hR="6525" stAng="10800000" swAng="-5400000"/>
                <a:lnTo>
                  <a:pt x="15075" y="23196"/>
                </a:lnTo>
                <a:arcTo wR="6525" hR="6525" stAng="5400000" swAng="-5400000"/>
                <a:lnTo>
                  <a:pt x="21600" y="6525"/>
                </a:lnTo>
                <a:arcTo wR="6525" hR="6525" stAng="0" swAng="-5400000"/>
                <a:close/>
              </a:path>
            </a:pathLst>
          </a:custGeom>
          <a:solidFill>
            <a:srgbClr val="43d5ff"/>
          </a:solidFill>
          <a:ln w="12600">
            <a:solidFill>
              <a:srgbClr val="bf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黑体"/>
              </a:rPr>
              <a:t>1</a:t>
            </a:r>
            <a:endParaRPr b="1" lang="en-US" sz="2800" spc="-1" strike="noStrike">
              <a:solidFill>
                <a:srgbClr val="000000"/>
              </a:solidFill>
              <a:latin typeface="Arial"/>
            </a:endParaRPr>
          </a:p>
        </p:txBody>
      </p:sp>
      <p:cxnSp>
        <p:nvCxnSpPr>
          <p:cNvPr id="1428" name="直接箭头连接符 57"/>
          <p:cNvCxnSpPr/>
          <p:nvPr/>
        </p:nvCxnSpPr>
        <p:spPr>
          <a:xfrm>
            <a:off x="3022200" y="6092640"/>
            <a:ext cx="376920" cy="1080"/>
          </a:xfrm>
          <a:prstGeom prst="straightConnector1">
            <a:avLst/>
          </a:prstGeom>
          <a:ln w="38160">
            <a:solidFill>
              <a:srgbClr val="8e10d4"/>
            </a:solidFill>
            <a:round/>
            <a:tailEnd len="med" type="arrow" w="med"/>
          </a:ln>
        </p:spPr>
      </p:cxnSp>
      <p:sp>
        <p:nvSpPr>
          <p:cNvPr id="1429" name="标题 1"/>
          <p:cNvSpPr/>
          <p:nvPr/>
        </p:nvSpPr>
        <p:spPr>
          <a:xfrm>
            <a:off x="4098960" y="3279600"/>
            <a:ext cx="7718400" cy="1295640"/>
          </a:xfrm>
          <a:prstGeom prst="rect">
            <a:avLst/>
          </a:prstGeom>
          <a:noFill/>
          <a:ln w="9360">
            <a:solidFill>
              <a:srgbClr val="00b0f0"/>
            </a:solidFill>
            <a:round/>
          </a:ln>
        </p:spPr>
        <p:style>
          <a:lnRef idx="0"/>
          <a:fillRef idx="0"/>
          <a:effectRef idx="0"/>
          <a:fontRef idx="minor"/>
        </p:style>
        <p:txBody>
          <a:bodyPr lIns="90000" rIns="90000" tIns="46800" bIns="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a:t>
            </a:r>
            <a:r>
              <a:rPr b="1" lang="zh-CN" sz="2400" spc="-1" strike="noStrike">
                <a:solidFill>
                  <a:srgbClr val="000000"/>
                </a:solidFill>
                <a:latin typeface="Arial"/>
                <a:ea typeface="宋体"/>
              </a:rPr>
              <a:t>签约主体通常是会计师事务所和被审计单位，但也存在委托人与被审计单 位不是同一方的情形，在这种情形下，签约主体通常还包括委托人。</a:t>
            </a:r>
            <a:endParaRPr b="1" lang="en-US" sz="2400" spc="-1" strike="noStrike">
              <a:solidFill>
                <a:srgbClr val="000000"/>
              </a:solidFill>
              <a:latin typeface="Arial"/>
            </a:endParaRPr>
          </a:p>
        </p:txBody>
      </p:sp>
      <p:pic>
        <p:nvPicPr>
          <p:cNvPr id="1430" name="组合 59" descr=""/>
          <p:cNvPicPr/>
          <p:nvPr/>
        </p:nvPicPr>
        <p:blipFill>
          <a:blip r:embed="rId1"/>
          <a:stretch/>
        </p:blipFill>
        <p:spPr>
          <a:xfrm>
            <a:off x="1015920" y="3816360"/>
            <a:ext cx="1567080" cy="2965320"/>
          </a:xfrm>
          <a:prstGeom prst="rect">
            <a:avLst/>
          </a:prstGeom>
          <a:ln w="0">
            <a:noFill/>
          </a:ln>
        </p:spPr>
      </p:pic>
      <p:grpSp>
        <p:nvGrpSpPr>
          <p:cNvPr id="1431" name="组合 28"/>
          <p:cNvGrpSpPr/>
          <p:nvPr/>
        </p:nvGrpSpPr>
        <p:grpSpPr>
          <a:xfrm>
            <a:off x="1033560" y="404640"/>
            <a:ext cx="10360080" cy="0"/>
            <a:chOff x="1033560" y="404640"/>
            <a:chExt cx="10360080" cy="0"/>
          </a:xfrm>
        </p:grpSpPr>
        <p:sp>
          <p:nvSpPr>
            <p:cNvPr id="1432" name="直接连接符 25"/>
            <p:cNvSpPr/>
            <p:nvPr/>
          </p:nvSpPr>
          <p:spPr>
            <a:xfrm>
              <a:off x="1033560" y="404640"/>
              <a:ext cx="197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33" name="直接连接符 26"/>
            <p:cNvSpPr/>
            <p:nvPr/>
          </p:nvSpPr>
          <p:spPr>
            <a:xfrm>
              <a:off x="8831520" y="404640"/>
              <a:ext cx="2562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1434" name="Title 6"/>
          <p:cNvSpPr/>
          <p:nvPr/>
        </p:nvSpPr>
        <p:spPr>
          <a:xfrm>
            <a:off x="1469880" y="585720"/>
            <a:ext cx="9098280" cy="804240"/>
          </a:xfrm>
          <a:prstGeom prst="rect">
            <a:avLst/>
          </a:prstGeom>
          <a:noFill/>
          <a:ln w="0">
            <a:noFill/>
          </a:ln>
        </p:spPr>
        <p:style>
          <a:lnRef idx="0"/>
          <a:fillRef idx="0"/>
          <a:effectRef idx="0"/>
          <a:fontRef idx="minor"/>
        </p:style>
        <p:txBody>
          <a:bodyPr lIns="72000" rIns="72000" tIns="36360" bIns="36360" anchor="t">
            <a:sp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f75b4"/>
                </a:solidFill>
                <a:latin typeface="微软雅黑"/>
                <a:ea typeface="微软雅黑"/>
              </a:rPr>
              <a:t>工作过程描述</a:t>
            </a:r>
            <a:endParaRPr b="1" lang="en-US" sz="3200" spc="-1" strike="noStrike">
              <a:solidFill>
                <a:srgbClr val="000000"/>
              </a:solidFill>
              <a:latin typeface="Arial"/>
            </a:endParaRPr>
          </a:p>
        </p:txBody>
      </p:sp>
      <p:sp>
        <p:nvSpPr>
          <p:cNvPr id="1435" name="文本框 1"/>
          <p:cNvSpPr/>
          <p:nvPr/>
        </p:nvSpPr>
        <p:spPr>
          <a:xfrm>
            <a:off x="318960" y="1774800"/>
            <a:ext cx="10977840" cy="657360"/>
          </a:xfrm>
          <a:prstGeom prst="rect">
            <a:avLst/>
          </a:prstGeom>
          <a:noFill/>
          <a:ln w="0">
            <a:noFill/>
          </a:ln>
        </p:spPr>
        <p:style>
          <a:lnRef idx="0"/>
          <a:fillRef idx="0"/>
          <a:effectRef idx="0"/>
          <a:fontRef idx="minor"/>
        </p:style>
        <p:txBody>
          <a:bodyPr lIns="101520" rIns="82440" tIns="0" bIns="0" anchor="ctr">
            <a:noAutofit/>
          </a:bodyPr>
          <a:p>
            <a:pPr algn="just">
              <a:lnSpc>
                <a:spcPct val="14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9bd4"/>
                </a:solidFill>
                <a:latin typeface="微软雅黑"/>
                <a:ea typeface="微软雅黑"/>
              </a:rPr>
              <a:t>一、审计业务约定书的定义</a:t>
            </a:r>
            <a:endParaRPr b="1" lang="en-US" sz="2800" spc="-1" strike="noStrike">
              <a:solidFill>
                <a:srgbClr val="000000"/>
              </a:solidFill>
              <a:latin typeface="Arial"/>
            </a:endParaRPr>
          </a:p>
          <a:p>
            <a:pPr algn="just">
              <a:lnSpc>
                <a:spcPct val="14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Arial"/>
                <a:ea typeface="微软雅黑"/>
              </a:rPr>
              <a:t>审计业务约定书是指会计师事务所与被审计单位签订的，用以记录和确认审 计业务的委托与受托关系、审计目标和范围、双方的责任以及报告的格式等事项 的书面协议。 审计业务约定书的含义可从以下几个方面加以理解</a:t>
            </a:r>
            <a:r>
              <a:rPr b="1" lang="zh-CN" sz="2400" spc="-1" strike="noStrike">
                <a:solidFill>
                  <a:srgbClr val="262626"/>
                </a:solidFill>
                <a:latin typeface="Arial"/>
                <a:ea typeface="微软雅黑"/>
              </a:rPr>
              <a:t>：</a:t>
            </a:r>
            <a:endParaRPr b="1" lang="en-US" sz="2400" spc="-1" strike="noStrike">
              <a:solidFill>
                <a:srgbClr val="000000"/>
              </a:solidFill>
              <a:latin typeface="Arial"/>
            </a:endParaRPr>
          </a:p>
        </p:txBody>
      </p:sp>
      <p:sp>
        <p:nvSpPr>
          <p:cNvPr id="1436" name="矩形 2"/>
          <p:cNvSpPr/>
          <p:nvPr/>
        </p:nvSpPr>
        <p:spPr>
          <a:xfrm>
            <a:off x="2424240" y="90360"/>
            <a:ext cx="67672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e10d4"/>
                </a:solidFill>
                <a:latin typeface="微软雅黑"/>
                <a:ea typeface="微软雅黑"/>
              </a:rPr>
              <a:t>任务二 签订审计业务约定书</a:t>
            </a:r>
            <a:endParaRPr b="1" lang="en-US" sz="4000" spc="-1" strike="noStrike">
              <a:solidFill>
                <a:srgbClr val="000000"/>
              </a:solidFill>
              <a:latin typeface="Arial"/>
            </a:endParaRPr>
          </a:p>
        </p:txBody>
      </p:sp>
    </p:spTree>
  </p:cSld>
  <p:transition>
    <p:fade/>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dur="indefinite" nodeType="afterEffect" fill="hold" presetClass="entr" presetID="29">
                                  <p:stCondLst>
                                    <p:cond delay="0"/>
                                  </p:stCondLst>
                                  <p:childTnLst>
                                    <p:set>
                                      <p:cBhvr>
                                        <p:cTn id="84" dur="1" fill="hold">
                                          <p:stCondLst>
                                            <p:cond delay="0"/>
                                          </p:stCondLst>
                                        </p:cTn>
                                        <p:tgtEl>
                                          <p:spTgt spid="1429"/>
                                        </p:tgtEl>
                                        <p:attrNameLst>
                                          <p:attrName>style.visibility</p:attrName>
                                        </p:attrNameLst>
                                      </p:cBhvr>
                                      <p:to>
                                        <p:strVal val="visible"/>
                                      </p:to>
                                    </p:set>
                                    <p:anim calcmode="lin" valueType="num">
                                      <p:cBhvr additive="repl">
                                        <p:cTn id="85" dur="1000" fill="hold"/>
                                        <p:tgtEl>
                                          <p:spTgt spid="1429"/>
                                        </p:tgtEl>
                                        <p:attrNameLst>
                                          <p:attrName>ppt_x</p:attrName>
                                        </p:attrNameLst>
                                      </p:cBhvr>
                                      <p:tavLst>
                                        <p:tav tm="0">
                                          <p:val>
                                            <p:strVal val="#ppt_x-.2"/>
                                          </p:val>
                                        </p:tav>
                                        <p:tav tm="100000">
                                          <p:val>
                                            <p:strVal val="#ppt_x"/>
                                          </p:val>
                                        </p:tav>
                                      </p:tavLst>
                                    </p:anim>
                                    <p:anim calcmode="lin" valueType="num">
                                      <p:cBhvr additive="repl">
                                        <p:cTn id="86" dur="1000" fill="hold"/>
                                        <p:tgtEl>
                                          <p:spTgt spid="1429"/>
                                        </p:tgtEl>
                                        <p:attrNameLst>
                                          <p:attrName>ppt_y</p:attrName>
                                        </p:attrNameLst>
                                      </p:cBhvr>
                                      <p:tavLst>
                                        <p:tav tm="0">
                                          <p:val>
                                            <p:strVal val="#ppt_y"/>
                                          </p:val>
                                        </p:tav>
                                        <p:tav tm="100000">
                                          <p:val>
                                            <p:strVal val="#ppt_y"/>
                                          </p:val>
                                        </p:tav>
                                      </p:tavLst>
                                    </p:anim>
                                    <p:animEffect filter="wipe(right)" transition="in">
                                      <p:cBhvr additive="repl">
                                        <p:cTn id="87" dur="1000"/>
                                        <p:tgtEl>
                                          <p:spTgt spid="1429"/>
                                        </p:tgtEl>
                                      </p:cBhvr>
                                    </p:animEffect>
                                  </p:childTnLst>
                                </p:cTn>
                              </p:par>
                            </p:childTnLst>
                          </p:cTn>
                        </p:par>
                        <p:par>
                          <p:cTn id="88" fill="hold">
                            <p:stCondLst>
                              <p:cond delay="1000"/>
                            </p:stCondLst>
                            <p:childTnLst>
                              <p:par>
                                <p:cTn id="89" dur="indefinite" nodeType="afterEffect" fill="hold" presetClass="entr" presetID="29">
                                  <p:stCondLst>
                                    <p:cond delay="0"/>
                                  </p:stCondLst>
                                  <p:childTnLst>
                                    <p:set>
                                      <p:cBhvr>
                                        <p:cTn id="90" dur="1" fill="hold">
                                          <p:stCondLst>
                                            <p:cond delay="0"/>
                                          </p:stCondLst>
                                        </p:cTn>
                                        <p:tgtEl>
                                          <p:spTgt spid="1426"/>
                                        </p:tgtEl>
                                        <p:attrNameLst>
                                          <p:attrName>style.visibility</p:attrName>
                                        </p:attrNameLst>
                                      </p:cBhvr>
                                      <p:to>
                                        <p:strVal val="visible"/>
                                      </p:to>
                                    </p:set>
                                    <p:anim calcmode="lin" valueType="num">
                                      <p:cBhvr additive="repl">
                                        <p:cTn id="91" dur="1000" fill="hold"/>
                                        <p:tgtEl>
                                          <p:spTgt spid="1426"/>
                                        </p:tgtEl>
                                        <p:attrNameLst>
                                          <p:attrName>ppt_x</p:attrName>
                                        </p:attrNameLst>
                                      </p:cBhvr>
                                      <p:tavLst>
                                        <p:tav tm="0">
                                          <p:val>
                                            <p:strVal val="#ppt_x-.2"/>
                                          </p:val>
                                        </p:tav>
                                        <p:tav tm="100000">
                                          <p:val>
                                            <p:strVal val="#ppt_x"/>
                                          </p:val>
                                        </p:tav>
                                      </p:tavLst>
                                    </p:anim>
                                    <p:anim calcmode="lin" valueType="num">
                                      <p:cBhvr additive="repl">
                                        <p:cTn id="92" dur="1000" fill="hold"/>
                                        <p:tgtEl>
                                          <p:spTgt spid="1426"/>
                                        </p:tgtEl>
                                        <p:attrNameLst>
                                          <p:attrName>ppt_y</p:attrName>
                                        </p:attrNameLst>
                                      </p:cBhvr>
                                      <p:tavLst>
                                        <p:tav tm="0">
                                          <p:val>
                                            <p:strVal val="#ppt_y"/>
                                          </p:val>
                                        </p:tav>
                                        <p:tav tm="100000">
                                          <p:val>
                                            <p:strVal val="#ppt_y"/>
                                          </p:val>
                                        </p:tav>
                                      </p:tavLst>
                                    </p:anim>
                                    <p:animEffect filter="wipe(right)" transition="in">
                                      <p:cBhvr additive="repl">
                                        <p:cTn id="93" dur="1000"/>
                                        <p:tgtEl>
                                          <p:spTgt spid="1426"/>
                                        </p:tgtEl>
                                      </p:cBhvr>
                                    </p:animEffect>
                                  </p:childTnLst>
                                </p:cTn>
                              </p:par>
                            </p:childTnLst>
                          </p:cTn>
                        </p:par>
                        <p:par>
                          <p:cTn id="94" fill="hold">
                            <p:stCondLst>
                              <p:cond delay="2000"/>
                            </p:stCondLst>
                            <p:childTnLst>
                              <p:par>
                                <p:cTn id="95" dur="indefinite" nodeType="afterEffect" fill="hold" presetClass="entr" presetID="29">
                                  <p:stCondLst>
                                    <p:cond delay="0"/>
                                  </p:stCondLst>
                                  <p:childTnLst>
                                    <p:set>
                                      <p:cBhvr>
                                        <p:cTn id="96" dur="1" fill="hold">
                                          <p:stCondLst>
                                            <p:cond delay="0"/>
                                          </p:stCondLst>
                                        </p:cTn>
                                        <p:tgtEl>
                                          <p:spTgt spid="1423"/>
                                        </p:tgtEl>
                                        <p:attrNameLst>
                                          <p:attrName>style.visibility</p:attrName>
                                        </p:attrNameLst>
                                      </p:cBhvr>
                                      <p:to>
                                        <p:strVal val="visible"/>
                                      </p:to>
                                    </p:set>
                                    <p:anim calcmode="lin" valueType="num">
                                      <p:cBhvr additive="repl">
                                        <p:cTn id="97" dur="1000" fill="hold"/>
                                        <p:tgtEl>
                                          <p:spTgt spid="1423"/>
                                        </p:tgtEl>
                                        <p:attrNameLst>
                                          <p:attrName>ppt_x</p:attrName>
                                        </p:attrNameLst>
                                      </p:cBhvr>
                                      <p:tavLst>
                                        <p:tav tm="0">
                                          <p:val>
                                            <p:strVal val="#ppt_x-.2"/>
                                          </p:val>
                                        </p:tav>
                                        <p:tav tm="100000">
                                          <p:val>
                                            <p:strVal val="#ppt_x"/>
                                          </p:val>
                                        </p:tav>
                                      </p:tavLst>
                                    </p:anim>
                                    <p:anim calcmode="lin" valueType="num">
                                      <p:cBhvr additive="repl">
                                        <p:cTn id="98" dur="1000" fill="hold"/>
                                        <p:tgtEl>
                                          <p:spTgt spid="1423"/>
                                        </p:tgtEl>
                                        <p:attrNameLst>
                                          <p:attrName>ppt_y</p:attrName>
                                        </p:attrNameLst>
                                      </p:cBhvr>
                                      <p:tavLst>
                                        <p:tav tm="0">
                                          <p:val>
                                            <p:strVal val="#ppt_y"/>
                                          </p:val>
                                        </p:tav>
                                        <p:tav tm="100000">
                                          <p:val>
                                            <p:strVal val="#ppt_y"/>
                                          </p:val>
                                        </p:tav>
                                      </p:tavLst>
                                    </p:anim>
                                    <p:animEffect filter="wipe(right)" transition="in">
                                      <p:cBhvr additive="repl">
                                        <p:cTn id="99" dur="1000"/>
                                        <p:tgtEl>
                                          <p:spTgt spid="14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任意多边形 36"/>
          <p:cNvSpPr/>
          <p:nvPr/>
        </p:nvSpPr>
        <p:spPr>
          <a:xfrm>
            <a:off x="4346640" y="3124080"/>
            <a:ext cx="527040" cy="527040"/>
          </a:xfrm>
          <a:custGeom>
            <a:avLst/>
            <a:gdLst/>
            <a:ahLst/>
            <a:rect l="l" t="t" r="r" b="b"/>
            <a:pathLst>
              <a:path w="144" h="144">
                <a:moveTo>
                  <a:pt x="142" y="69"/>
                </a:moveTo>
                <a:cubicBezTo>
                  <a:pt x="144" y="107"/>
                  <a:pt x="114" y="140"/>
                  <a:pt x="76" y="142"/>
                </a:cubicBezTo>
                <a:cubicBezTo>
                  <a:pt x="37" y="144"/>
                  <a:pt x="4" y="114"/>
                  <a:pt x="2" y="76"/>
                </a:cubicBezTo>
                <a:cubicBezTo>
                  <a:pt x="0" y="37"/>
                  <a:pt x="30" y="4"/>
                  <a:pt x="69" y="2"/>
                </a:cubicBezTo>
                <a:cubicBezTo>
                  <a:pt x="107" y="0"/>
                  <a:pt x="140" y="30"/>
                  <a:pt x="142" y="69"/>
                </a:cubicBezTo>
                <a:close/>
              </a:path>
            </a:pathLst>
          </a:custGeom>
          <a:solidFill>
            <a:srgbClr val="a1b9df">
              <a:alpha val="30000"/>
            </a:srgbClr>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38" name="任意多边形 37"/>
          <p:cNvSpPr/>
          <p:nvPr/>
        </p:nvSpPr>
        <p:spPr>
          <a:xfrm>
            <a:off x="6942240" y="3873600"/>
            <a:ext cx="530280" cy="527040"/>
          </a:xfrm>
          <a:custGeom>
            <a:avLst/>
            <a:gdLst/>
            <a:ahLst/>
            <a:rect l="l" t="t" r="r" b="b"/>
            <a:pathLst>
              <a:path w="144" h="144">
                <a:moveTo>
                  <a:pt x="142" y="69"/>
                </a:moveTo>
                <a:cubicBezTo>
                  <a:pt x="144" y="108"/>
                  <a:pt x="114" y="141"/>
                  <a:pt x="75" y="142"/>
                </a:cubicBezTo>
                <a:cubicBezTo>
                  <a:pt x="36" y="144"/>
                  <a:pt x="3" y="115"/>
                  <a:pt x="1" y="76"/>
                </a:cubicBezTo>
                <a:cubicBezTo>
                  <a:pt x="0" y="37"/>
                  <a:pt x="29" y="4"/>
                  <a:pt x="68" y="2"/>
                </a:cubicBezTo>
                <a:cubicBezTo>
                  <a:pt x="107" y="0"/>
                  <a:pt x="140" y="30"/>
                  <a:pt x="142" y="69"/>
                </a:cubicBezTo>
                <a:close/>
              </a:path>
            </a:pathLst>
          </a:custGeom>
          <a:solidFill>
            <a:srgbClr val="a1b9df">
              <a:alpha val="30000"/>
            </a:srgbClr>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39" name="任意多边形 38"/>
          <p:cNvSpPr/>
          <p:nvPr/>
        </p:nvSpPr>
        <p:spPr>
          <a:xfrm>
            <a:off x="5694480" y="4176720"/>
            <a:ext cx="531720" cy="530280"/>
          </a:xfrm>
          <a:custGeom>
            <a:avLst/>
            <a:gdLst/>
            <a:ahLst/>
            <a:rect l="l" t="t" r="r" b="b"/>
            <a:pathLst>
              <a:path w="145" h="144">
                <a:moveTo>
                  <a:pt x="143" y="68"/>
                </a:moveTo>
                <a:cubicBezTo>
                  <a:pt x="145" y="107"/>
                  <a:pt x="115" y="140"/>
                  <a:pt x="76" y="142"/>
                </a:cubicBezTo>
                <a:cubicBezTo>
                  <a:pt x="37" y="144"/>
                  <a:pt x="4" y="114"/>
                  <a:pt x="2" y="75"/>
                </a:cubicBezTo>
                <a:cubicBezTo>
                  <a:pt x="0" y="36"/>
                  <a:pt x="30" y="3"/>
                  <a:pt x="69" y="2"/>
                </a:cubicBezTo>
                <a:cubicBezTo>
                  <a:pt x="108" y="0"/>
                  <a:pt x="141" y="29"/>
                  <a:pt x="143" y="68"/>
                </a:cubicBezTo>
                <a:close/>
              </a:path>
            </a:pathLst>
          </a:custGeom>
          <a:solidFill>
            <a:srgbClr val="7396cf">
              <a:alpha val="30000"/>
            </a:srgbClr>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40" name="任意多边形 39"/>
          <p:cNvSpPr/>
          <p:nvPr/>
        </p:nvSpPr>
        <p:spPr>
          <a:xfrm>
            <a:off x="5672160" y="2701800"/>
            <a:ext cx="528480" cy="528840"/>
          </a:xfrm>
          <a:custGeom>
            <a:avLst/>
            <a:gdLst/>
            <a:ahLst/>
            <a:rect l="l" t="t" r="r" b="b"/>
            <a:pathLst>
              <a:path w="144" h="144">
                <a:moveTo>
                  <a:pt x="143" y="68"/>
                </a:moveTo>
                <a:cubicBezTo>
                  <a:pt x="144" y="107"/>
                  <a:pt x="115" y="140"/>
                  <a:pt x="76" y="142"/>
                </a:cubicBezTo>
                <a:cubicBezTo>
                  <a:pt x="37" y="144"/>
                  <a:pt x="4" y="114"/>
                  <a:pt x="2" y="75"/>
                </a:cubicBezTo>
                <a:cubicBezTo>
                  <a:pt x="0" y="37"/>
                  <a:pt x="30" y="4"/>
                  <a:pt x="69" y="2"/>
                </a:cubicBezTo>
                <a:cubicBezTo>
                  <a:pt x="108" y="0"/>
                  <a:pt x="141" y="30"/>
                  <a:pt x="143" y="68"/>
                </a:cubicBezTo>
                <a:close/>
              </a:path>
            </a:pathLst>
          </a:custGeom>
          <a:solidFill>
            <a:srgbClr val="a1b9df">
              <a:alpha val="30000"/>
            </a:srgbClr>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41" name="任意多边形 40"/>
          <p:cNvSpPr/>
          <p:nvPr/>
        </p:nvSpPr>
        <p:spPr>
          <a:xfrm>
            <a:off x="6980400" y="2709720"/>
            <a:ext cx="198360" cy="200160"/>
          </a:xfrm>
          <a:custGeom>
            <a:avLst/>
            <a:gdLst/>
            <a:ahLst/>
            <a:rect l="l" t="t" r="r" b="b"/>
            <a:pathLst>
              <a:path w="54" h="54">
                <a:moveTo>
                  <a:pt x="53" y="25"/>
                </a:moveTo>
                <a:cubicBezTo>
                  <a:pt x="54" y="40"/>
                  <a:pt x="43" y="52"/>
                  <a:pt x="28" y="53"/>
                </a:cubicBezTo>
                <a:cubicBezTo>
                  <a:pt x="14" y="54"/>
                  <a:pt x="2" y="42"/>
                  <a:pt x="1" y="28"/>
                </a:cubicBezTo>
                <a:cubicBezTo>
                  <a:pt x="0" y="14"/>
                  <a:pt x="11" y="1"/>
                  <a:pt x="26" y="1"/>
                </a:cubicBezTo>
                <a:cubicBezTo>
                  <a:pt x="40" y="0"/>
                  <a:pt x="52" y="11"/>
                  <a:pt x="53" y="25"/>
                </a:cubicBezTo>
                <a:close/>
              </a:path>
            </a:pathLst>
          </a:custGeom>
          <a:solidFill>
            <a:srgbClr val="d0dcef">
              <a:alpha val="30000"/>
            </a:srgbClr>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42" name="直接连接符 34"/>
          <p:cNvSpPr/>
          <p:nvPr/>
        </p:nvSpPr>
        <p:spPr>
          <a:xfrm>
            <a:off x="5070600" y="4432320"/>
            <a:ext cx="1125360" cy="407880"/>
          </a:xfrm>
          <a:prstGeom prst="line">
            <a:avLst/>
          </a:prstGeom>
          <a:ln w="57240">
            <a:solidFill>
              <a:srgbClr val="325792"/>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43" name="直接连接符 35"/>
          <p:cNvSpPr/>
          <p:nvPr/>
        </p:nvSpPr>
        <p:spPr>
          <a:xfrm flipV="1">
            <a:off x="6210360" y="4559400"/>
            <a:ext cx="1004760" cy="272880"/>
          </a:xfrm>
          <a:prstGeom prst="line">
            <a:avLst/>
          </a:prstGeom>
          <a:ln w="57240">
            <a:solidFill>
              <a:srgbClr val="325792"/>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44" name="任意多边形 31"/>
          <p:cNvSpPr/>
          <p:nvPr/>
        </p:nvSpPr>
        <p:spPr>
          <a:xfrm>
            <a:off x="4492800" y="3278160"/>
            <a:ext cx="936360" cy="933480"/>
          </a:xfrm>
          <a:custGeom>
            <a:avLst/>
            <a:gdLst/>
            <a:ahLst/>
            <a:rect l="l" t="t" r="r" b="b"/>
            <a:pathLst>
              <a:path w="256" h="255">
                <a:moveTo>
                  <a:pt x="252" y="121"/>
                </a:moveTo>
                <a:cubicBezTo>
                  <a:pt x="256" y="190"/>
                  <a:pt x="203" y="248"/>
                  <a:pt x="134" y="252"/>
                </a:cubicBezTo>
                <a:cubicBezTo>
                  <a:pt x="65" y="255"/>
                  <a:pt x="7" y="202"/>
                  <a:pt x="4" y="133"/>
                </a:cubicBezTo>
                <a:cubicBezTo>
                  <a:pt x="0" y="65"/>
                  <a:pt x="53" y="6"/>
                  <a:pt x="122" y="3"/>
                </a:cubicBezTo>
                <a:cubicBezTo>
                  <a:pt x="190" y="0"/>
                  <a:pt x="249" y="52"/>
                  <a:pt x="252" y="121"/>
                </a:cubicBezTo>
                <a:close/>
              </a:path>
            </a:pathLst>
          </a:custGeom>
          <a:solidFill>
            <a:srgbClr val="325792">
              <a:alpha val="10000"/>
            </a:srgbClr>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45" name="任意多边形 32"/>
          <p:cNvSpPr/>
          <p:nvPr/>
        </p:nvSpPr>
        <p:spPr>
          <a:xfrm>
            <a:off x="5003640" y="2498760"/>
            <a:ext cx="1152720" cy="1152360"/>
          </a:xfrm>
          <a:custGeom>
            <a:avLst/>
            <a:gdLst/>
            <a:ahLst/>
            <a:rect l="l" t="t" r="r" b="b"/>
            <a:pathLst>
              <a:path w="314" h="314">
                <a:moveTo>
                  <a:pt x="310" y="150"/>
                </a:moveTo>
                <a:cubicBezTo>
                  <a:pt x="314" y="234"/>
                  <a:pt x="249" y="306"/>
                  <a:pt x="164" y="310"/>
                </a:cubicBezTo>
                <a:cubicBezTo>
                  <a:pt x="80" y="314"/>
                  <a:pt x="8" y="249"/>
                  <a:pt x="4" y="165"/>
                </a:cubicBezTo>
                <a:cubicBezTo>
                  <a:pt x="0" y="80"/>
                  <a:pt x="65" y="9"/>
                  <a:pt x="149" y="4"/>
                </a:cubicBezTo>
                <a:cubicBezTo>
                  <a:pt x="234" y="0"/>
                  <a:pt x="305" y="65"/>
                  <a:pt x="310" y="150"/>
                </a:cubicBezTo>
                <a:close/>
              </a:path>
            </a:pathLst>
          </a:custGeom>
          <a:solidFill>
            <a:srgbClr val="d0dcef"/>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46" name="任意多边形 33"/>
          <p:cNvSpPr/>
          <p:nvPr/>
        </p:nvSpPr>
        <p:spPr>
          <a:xfrm>
            <a:off x="6337440" y="3309840"/>
            <a:ext cx="842760" cy="843120"/>
          </a:xfrm>
          <a:custGeom>
            <a:avLst/>
            <a:gdLst/>
            <a:ahLst/>
            <a:rect l="l" t="t" r="r" b="b"/>
            <a:pathLst>
              <a:path w="230" h="230">
                <a:moveTo>
                  <a:pt x="227" y="109"/>
                </a:moveTo>
                <a:cubicBezTo>
                  <a:pt x="230" y="171"/>
                  <a:pt x="182" y="224"/>
                  <a:pt x="121" y="227"/>
                </a:cubicBezTo>
                <a:cubicBezTo>
                  <a:pt x="59" y="230"/>
                  <a:pt x="6" y="182"/>
                  <a:pt x="3" y="120"/>
                </a:cubicBezTo>
                <a:cubicBezTo>
                  <a:pt x="0" y="59"/>
                  <a:pt x="48" y="6"/>
                  <a:pt x="109" y="3"/>
                </a:cubicBezTo>
                <a:cubicBezTo>
                  <a:pt x="171" y="0"/>
                  <a:pt x="224" y="48"/>
                  <a:pt x="227" y="109"/>
                </a:cubicBezTo>
                <a:close/>
              </a:path>
            </a:pathLst>
          </a:custGeom>
          <a:solidFill>
            <a:srgbClr val="d0dcef"/>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47" name="任意多边形 15"/>
          <p:cNvSpPr/>
          <p:nvPr/>
        </p:nvSpPr>
        <p:spPr>
          <a:xfrm flipH="1">
            <a:off x="4960800" y="3035160"/>
            <a:ext cx="2340000" cy="3822840"/>
          </a:xfrm>
          <a:custGeom>
            <a:avLst/>
            <a:gdLst/>
            <a:ahLst/>
            <a:rect l="l" t="t" r="r" b="b"/>
            <a:pathLst>
              <a:path w="689" h="1041">
                <a:moveTo>
                  <a:pt x="534" y="591"/>
                </a:moveTo>
                <a:cubicBezTo>
                  <a:pt x="537" y="590"/>
                  <a:pt x="597" y="559"/>
                  <a:pt x="667" y="589"/>
                </a:cubicBezTo>
                <a:cubicBezTo>
                  <a:pt x="667" y="589"/>
                  <a:pt x="587" y="584"/>
                  <a:pt x="509" y="634"/>
                </a:cubicBezTo>
                <a:cubicBezTo>
                  <a:pt x="493" y="644"/>
                  <a:pt x="477" y="657"/>
                  <a:pt x="462" y="672"/>
                </a:cubicBezTo>
                <a:cubicBezTo>
                  <a:pt x="442" y="692"/>
                  <a:pt x="423" y="718"/>
                  <a:pt x="407" y="750"/>
                </a:cubicBezTo>
                <a:cubicBezTo>
                  <a:pt x="401" y="762"/>
                  <a:pt x="395" y="775"/>
                  <a:pt x="390" y="788"/>
                </a:cubicBezTo>
                <a:cubicBezTo>
                  <a:pt x="390" y="788"/>
                  <a:pt x="374" y="851"/>
                  <a:pt x="381" y="961"/>
                </a:cubicBezTo>
                <a:cubicBezTo>
                  <a:pt x="381" y="961"/>
                  <a:pt x="381" y="970"/>
                  <a:pt x="383" y="983"/>
                </a:cubicBezTo>
                <a:cubicBezTo>
                  <a:pt x="383" y="983"/>
                  <a:pt x="383" y="983"/>
                  <a:pt x="383" y="983"/>
                </a:cubicBezTo>
                <a:cubicBezTo>
                  <a:pt x="387" y="1000"/>
                  <a:pt x="387" y="1026"/>
                  <a:pt x="411" y="1041"/>
                </a:cubicBezTo>
                <a:cubicBezTo>
                  <a:pt x="227" y="1041"/>
                  <a:pt x="227" y="1041"/>
                  <a:pt x="227" y="1041"/>
                </a:cubicBezTo>
                <a:cubicBezTo>
                  <a:pt x="227" y="1041"/>
                  <a:pt x="258" y="1034"/>
                  <a:pt x="266" y="968"/>
                </a:cubicBezTo>
                <a:cubicBezTo>
                  <a:pt x="266" y="968"/>
                  <a:pt x="266" y="968"/>
                  <a:pt x="266" y="968"/>
                </a:cubicBezTo>
                <a:cubicBezTo>
                  <a:pt x="267" y="935"/>
                  <a:pt x="270" y="901"/>
                  <a:pt x="274" y="866"/>
                </a:cubicBezTo>
                <a:cubicBezTo>
                  <a:pt x="289" y="744"/>
                  <a:pt x="247" y="642"/>
                  <a:pt x="196" y="596"/>
                </a:cubicBezTo>
                <a:cubicBezTo>
                  <a:pt x="192" y="592"/>
                  <a:pt x="188" y="589"/>
                  <a:pt x="184" y="586"/>
                </a:cubicBezTo>
                <a:cubicBezTo>
                  <a:pt x="134" y="551"/>
                  <a:pt x="73" y="547"/>
                  <a:pt x="19" y="496"/>
                </a:cubicBezTo>
                <a:cubicBezTo>
                  <a:pt x="13" y="489"/>
                  <a:pt x="6" y="482"/>
                  <a:pt x="0" y="473"/>
                </a:cubicBezTo>
                <a:cubicBezTo>
                  <a:pt x="1" y="474"/>
                  <a:pt x="9" y="482"/>
                  <a:pt x="23" y="490"/>
                </a:cubicBezTo>
                <a:cubicBezTo>
                  <a:pt x="23" y="490"/>
                  <a:pt x="23" y="490"/>
                  <a:pt x="23" y="490"/>
                </a:cubicBezTo>
                <a:cubicBezTo>
                  <a:pt x="37" y="499"/>
                  <a:pt x="57" y="509"/>
                  <a:pt x="82" y="516"/>
                </a:cubicBezTo>
                <a:cubicBezTo>
                  <a:pt x="103" y="522"/>
                  <a:pt x="126" y="526"/>
                  <a:pt x="154" y="527"/>
                </a:cubicBezTo>
                <a:cubicBezTo>
                  <a:pt x="154" y="527"/>
                  <a:pt x="137" y="509"/>
                  <a:pt x="120" y="479"/>
                </a:cubicBezTo>
                <a:cubicBezTo>
                  <a:pt x="114" y="470"/>
                  <a:pt x="108" y="459"/>
                  <a:pt x="103" y="447"/>
                </a:cubicBezTo>
                <a:cubicBezTo>
                  <a:pt x="94" y="429"/>
                  <a:pt x="86" y="408"/>
                  <a:pt x="81" y="386"/>
                </a:cubicBezTo>
                <a:cubicBezTo>
                  <a:pt x="77" y="372"/>
                  <a:pt x="74" y="356"/>
                  <a:pt x="73" y="340"/>
                </a:cubicBezTo>
                <a:cubicBezTo>
                  <a:pt x="72" y="332"/>
                  <a:pt x="72" y="323"/>
                  <a:pt x="72" y="314"/>
                </a:cubicBezTo>
                <a:cubicBezTo>
                  <a:pt x="73" y="303"/>
                  <a:pt x="74" y="291"/>
                  <a:pt x="76" y="280"/>
                </a:cubicBezTo>
                <a:cubicBezTo>
                  <a:pt x="76" y="280"/>
                  <a:pt x="76" y="290"/>
                  <a:pt x="79" y="305"/>
                </a:cubicBezTo>
                <a:cubicBezTo>
                  <a:pt x="80" y="311"/>
                  <a:pt x="82" y="316"/>
                  <a:pt x="83" y="323"/>
                </a:cubicBezTo>
                <a:cubicBezTo>
                  <a:pt x="89" y="346"/>
                  <a:pt x="98" y="377"/>
                  <a:pt x="115" y="406"/>
                </a:cubicBezTo>
                <a:cubicBezTo>
                  <a:pt x="120" y="416"/>
                  <a:pt x="126" y="426"/>
                  <a:pt x="133" y="435"/>
                </a:cubicBezTo>
                <a:cubicBezTo>
                  <a:pt x="139" y="442"/>
                  <a:pt x="145" y="450"/>
                  <a:pt x="151" y="458"/>
                </a:cubicBezTo>
                <a:cubicBezTo>
                  <a:pt x="151" y="458"/>
                  <a:pt x="151" y="458"/>
                  <a:pt x="151" y="458"/>
                </a:cubicBezTo>
                <a:cubicBezTo>
                  <a:pt x="153" y="460"/>
                  <a:pt x="155" y="462"/>
                  <a:pt x="157" y="465"/>
                </a:cubicBezTo>
                <a:cubicBezTo>
                  <a:pt x="171" y="482"/>
                  <a:pt x="187" y="500"/>
                  <a:pt x="203" y="518"/>
                </a:cubicBezTo>
                <a:cubicBezTo>
                  <a:pt x="203" y="518"/>
                  <a:pt x="203" y="518"/>
                  <a:pt x="203" y="518"/>
                </a:cubicBezTo>
                <a:cubicBezTo>
                  <a:pt x="216" y="534"/>
                  <a:pt x="230" y="550"/>
                  <a:pt x="243" y="567"/>
                </a:cubicBezTo>
                <a:cubicBezTo>
                  <a:pt x="270" y="601"/>
                  <a:pt x="293" y="637"/>
                  <a:pt x="303" y="671"/>
                </a:cubicBezTo>
                <a:cubicBezTo>
                  <a:pt x="303" y="671"/>
                  <a:pt x="317" y="642"/>
                  <a:pt x="332" y="594"/>
                </a:cubicBezTo>
                <a:cubicBezTo>
                  <a:pt x="333" y="593"/>
                  <a:pt x="333" y="593"/>
                  <a:pt x="333" y="592"/>
                </a:cubicBezTo>
                <a:cubicBezTo>
                  <a:pt x="342" y="565"/>
                  <a:pt x="351" y="532"/>
                  <a:pt x="359" y="494"/>
                </a:cubicBezTo>
                <a:cubicBezTo>
                  <a:pt x="359" y="491"/>
                  <a:pt x="360" y="489"/>
                  <a:pt x="360" y="486"/>
                </a:cubicBezTo>
                <a:cubicBezTo>
                  <a:pt x="361" y="484"/>
                  <a:pt x="361" y="482"/>
                  <a:pt x="361" y="481"/>
                </a:cubicBezTo>
                <a:cubicBezTo>
                  <a:pt x="364" y="468"/>
                  <a:pt x="366" y="454"/>
                  <a:pt x="368" y="440"/>
                </a:cubicBezTo>
                <a:cubicBezTo>
                  <a:pt x="369" y="436"/>
                  <a:pt x="369" y="431"/>
                  <a:pt x="370" y="427"/>
                </a:cubicBezTo>
                <a:cubicBezTo>
                  <a:pt x="373" y="400"/>
                  <a:pt x="375" y="371"/>
                  <a:pt x="376" y="342"/>
                </a:cubicBezTo>
                <a:cubicBezTo>
                  <a:pt x="376" y="337"/>
                  <a:pt x="376" y="332"/>
                  <a:pt x="376" y="327"/>
                </a:cubicBezTo>
                <a:cubicBezTo>
                  <a:pt x="376" y="314"/>
                  <a:pt x="376" y="301"/>
                  <a:pt x="375" y="288"/>
                </a:cubicBezTo>
                <a:cubicBezTo>
                  <a:pt x="375" y="287"/>
                  <a:pt x="375" y="287"/>
                  <a:pt x="375" y="287"/>
                </a:cubicBezTo>
                <a:cubicBezTo>
                  <a:pt x="375" y="281"/>
                  <a:pt x="374" y="276"/>
                  <a:pt x="374" y="270"/>
                </a:cubicBezTo>
                <a:cubicBezTo>
                  <a:pt x="374" y="270"/>
                  <a:pt x="374" y="270"/>
                  <a:pt x="374" y="270"/>
                </a:cubicBezTo>
                <a:cubicBezTo>
                  <a:pt x="374" y="265"/>
                  <a:pt x="373" y="261"/>
                  <a:pt x="373" y="257"/>
                </a:cubicBezTo>
                <a:cubicBezTo>
                  <a:pt x="372" y="243"/>
                  <a:pt x="370" y="229"/>
                  <a:pt x="368" y="215"/>
                </a:cubicBezTo>
                <a:cubicBezTo>
                  <a:pt x="367" y="207"/>
                  <a:pt x="365" y="199"/>
                  <a:pt x="364" y="191"/>
                </a:cubicBezTo>
                <a:cubicBezTo>
                  <a:pt x="363" y="190"/>
                  <a:pt x="363" y="189"/>
                  <a:pt x="363" y="188"/>
                </a:cubicBezTo>
                <a:cubicBezTo>
                  <a:pt x="363" y="188"/>
                  <a:pt x="363" y="188"/>
                  <a:pt x="363" y="188"/>
                </a:cubicBezTo>
                <a:cubicBezTo>
                  <a:pt x="362" y="181"/>
                  <a:pt x="360" y="173"/>
                  <a:pt x="358" y="165"/>
                </a:cubicBezTo>
                <a:cubicBezTo>
                  <a:pt x="352" y="139"/>
                  <a:pt x="344" y="113"/>
                  <a:pt x="334" y="86"/>
                </a:cubicBezTo>
                <a:cubicBezTo>
                  <a:pt x="332" y="80"/>
                  <a:pt x="330" y="74"/>
                  <a:pt x="327" y="67"/>
                </a:cubicBezTo>
                <a:cubicBezTo>
                  <a:pt x="323" y="57"/>
                  <a:pt x="319" y="48"/>
                  <a:pt x="314" y="38"/>
                </a:cubicBezTo>
                <a:cubicBezTo>
                  <a:pt x="308" y="25"/>
                  <a:pt x="302" y="12"/>
                  <a:pt x="295" y="0"/>
                </a:cubicBezTo>
                <a:cubicBezTo>
                  <a:pt x="296" y="1"/>
                  <a:pt x="310" y="14"/>
                  <a:pt x="328" y="39"/>
                </a:cubicBezTo>
                <a:cubicBezTo>
                  <a:pt x="334" y="47"/>
                  <a:pt x="340" y="56"/>
                  <a:pt x="346" y="66"/>
                </a:cubicBezTo>
                <a:cubicBezTo>
                  <a:pt x="346" y="66"/>
                  <a:pt x="346" y="66"/>
                  <a:pt x="346" y="66"/>
                </a:cubicBezTo>
                <a:cubicBezTo>
                  <a:pt x="359" y="87"/>
                  <a:pt x="373" y="114"/>
                  <a:pt x="386" y="146"/>
                </a:cubicBezTo>
                <a:cubicBezTo>
                  <a:pt x="392" y="163"/>
                  <a:pt x="398" y="181"/>
                  <a:pt x="404" y="201"/>
                </a:cubicBezTo>
                <a:cubicBezTo>
                  <a:pt x="406" y="210"/>
                  <a:pt x="408" y="218"/>
                  <a:pt x="410" y="228"/>
                </a:cubicBezTo>
                <a:cubicBezTo>
                  <a:pt x="410" y="228"/>
                  <a:pt x="410" y="228"/>
                  <a:pt x="410" y="228"/>
                </a:cubicBezTo>
                <a:cubicBezTo>
                  <a:pt x="412" y="238"/>
                  <a:pt x="414" y="248"/>
                  <a:pt x="416" y="259"/>
                </a:cubicBezTo>
                <a:cubicBezTo>
                  <a:pt x="420" y="281"/>
                  <a:pt x="423" y="305"/>
                  <a:pt x="424" y="331"/>
                </a:cubicBezTo>
                <a:cubicBezTo>
                  <a:pt x="424" y="340"/>
                  <a:pt x="425" y="350"/>
                  <a:pt x="425" y="361"/>
                </a:cubicBezTo>
                <a:cubicBezTo>
                  <a:pt x="425" y="370"/>
                  <a:pt x="425" y="379"/>
                  <a:pt x="425" y="389"/>
                </a:cubicBezTo>
                <a:cubicBezTo>
                  <a:pt x="425" y="389"/>
                  <a:pt x="429" y="381"/>
                  <a:pt x="437" y="370"/>
                </a:cubicBezTo>
                <a:cubicBezTo>
                  <a:pt x="442" y="362"/>
                  <a:pt x="449" y="353"/>
                  <a:pt x="457" y="344"/>
                </a:cubicBezTo>
                <a:cubicBezTo>
                  <a:pt x="467" y="331"/>
                  <a:pt x="478" y="317"/>
                  <a:pt x="491" y="306"/>
                </a:cubicBezTo>
                <a:cubicBezTo>
                  <a:pt x="495" y="302"/>
                  <a:pt x="501" y="297"/>
                  <a:pt x="506" y="291"/>
                </a:cubicBezTo>
                <a:cubicBezTo>
                  <a:pt x="511" y="286"/>
                  <a:pt x="515" y="281"/>
                  <a:pt x="520" y="275"/>
                </a:cubicBezTo>
                <a:cubicBezTo>
                  <a:pt x="528" y="265"/>
                  <a:pt x="537" y="253"/>
                  <a:pt x="546" y="239"/>
                </a:cubicBezTo>
                <a:cubicBezTo>
                  <a:pt x="546" y="239"/>
                  <a:pt x="546" y="239"/>
                  <a:pt x="546" y="239"/>
                </a:cubicBezTo>
                <a:cubicBezTo>
                  <a:pt x="551" y="231"/>
                  <a:pt x="556" y="222"/>
                  <a:pt x="561" y="213"/>
                </a:cubicBezTo>
                <a:cubicBezTo>
                  <a:pt x="575" y="186"/>
                  <a:pt x="588" y="153"/>
                  <a:pt x="599" y="113"/>
                </a:cubicBezTo>
                <a:cubicBezTo>
                  <a:pt x="602" y="101"/>
                  <a:pt x="605" y="88"/>
                  <a:pt x="608" y="74"/>
                </a:cubicBezTo>
                <a:cubicBezTo>
                  <a:pt x="608" y="74"/>
                  <a:pt x="611" y="91"/>
                  <a:pt x="608" y="120"/>
                </a:cubicBezTo>
                <a:cubicBezTo>
                  <a:pt x="608" y="123"/>
                  <a:pt x="607" y="127"/>
                  <a:pt x="607" y="131"/>
                </a:cubicBezTo>
                <a:cubicBezTo>
                  <a:pt x="607" y="131"/>
                  <a:pt x="607" y="131"/>
                  <a:pt x="607" y="131"/>
                </a:cubicBezTo>
                <a:cubicBezTo>
                  <a:pt x="606" y="137"/>
                  <a:pt x="605" y="143"/>
                  <a:pt x="604" y="150"/>
                </a:cubicBezTo>
                <a:cubicBezTo>
                  <a:pt x="600" y="174"/>
                  <a:pt x="592" y="203"/>
                  <a:pt x="578" y="235"/>
                </a:cubicBezTo>
                <a:cubicBezTo>
                  <a:pt x="574" y="244"/>
                  <a:pt x="570" y="253"/>
                  <a:pt x="566" y="262"/>
                </a:cubicBezTo>
                <a:cubicBezTo>
                  <a:pt x="563" y="268"/>
                  <a:pt x="560" y="274"/>
                  <a:pt x="556" y="280"/>
                </a:cubicBezTo>
                <a:cubicBezTo>
                  <a:pt x="553" y="286"/>
                  <a:pt x="550" y="291"/>
                  <a:pt x="547" y="297"/>
                </a:cubicBezTo>
                <a:cubicBezTo>
                  <a:pt x="544" y="302"/>
                  <a:pt x="541" y="306"/>
                  <a:pt x="538" y="311"/>
                </a:cubicBezTo>
                <a:cubicBezTo>
                  <a:pt x="521" y="337"/>
                  <a:pt x="508" y="359"/>
                  <a:pt x="496" y="376"/>
                </a:cubicBezTo>
                <a:cubicBezTo>
                  <a:pt x="493" y="379"/>
                  <a:pt x="491" y="383"/>
                  <a:pt x="489" y="386"/>
                </a:cubicBezTo>
                <a:cubicBezTo>
                  <a:pt x="448" y="446"/>
                  <a:pt x="439" y="449"/>
                  <a:pt x="427" y="479"/>
                </a:cubicBezTo>
                <a:cubicBezTo>
                  <a:pt x="427" y="479"/>
                  <a:pt x="426" y="483"/>
                  <a:pt x="425" y="489"/>
                </a:cubicBezTo>
                <a:cubicBezTo>
                  <a:pt x="425" y="492"/>
                  <a:pt x="424" y="497"/>
                  <a:pt x="423" y="501"/>
                </a:cubicBezTo>
                <a:cubicBezTo>
                  <a:pt x="419" y="526"/>
                  <a:pt x="411" y="568"/>
                  <a:pt x="406" y="605"/>
                </a:cubicBezTo>
                <a:cubicBezTo>
                  <a:pt x="401" y="635"/>
                  <a:pt x="397" y="663"/>
                  <a:pt x="396" y="677"/>
                </a:cubicBezTo>
                <a:cubicBezTo>
                  <a:pt x="396" y="677"/>
                  <a:pt x="444" y="624"/>
                  <a:pt x="496" y="584"/>
                </a:cubicBezTo>
                <a:cubicBezTo>
                  <a:pt x="502" y="579"/>
                  <a:pt x="509" y="574"/>
                  <a:pt x="515" y="570"/>
                </a:cubicBezTo>
                <a:cubicBezTo>
                  <a:pt x="545" y="548"/>
                  <a:pt x="581" y="519"/>
                  <a:pt x="614" y="485"/>
                </a:cubicBezTo>
                <a:cubicBezTo>
                  <a:pt x="615" y="485"/>
                  <a:pt x="615" y="484"/>
                  <a:pt x="616" y="483"/>
                </a:cubicBezTo>
                <a:cubicBezTo>
                  <a:pt x="644" y="454"/>
                  <a:pt x="669" y="422"/>
                  <a:pt x="685" y="390"/>
                </a:cubicBezTo>
                <a:cubicBezTo>
                  <a:pt x="686" y="387"/>
                  <a:pt x="688" y="385"/>
                  <a:pt x="689" y="383"/>
                </a:cubicBezTo>
                <a:cubicBezTo>
                  <a:pt x="689" y="383"/>
                  <a:pt x="688" y="386"/>
                  <a:pt x="686" y="390"/>
                </a:cubicBezTo>
                <a:cubicBezTo>
                  <a:pt x="681" y="406"/>
                  <a:pt x="665" y="444"/>
                  <a:pt x="632" y="490"/>
                </a:cubicBezTo>
                <a:cubicBezTo>
                  <a:pt x="631" y="490"/>
                  <a:pt x="631" y="491"/>
                  <a:pt x="630" y="492"/>
                </a:cubicBezTo>
                <a:cubicBezTo>
                  <a:pt x="607" y="523"/>
                  <a:pt x="576" y="558"/>
                  <a:pt x="534" y="591"/>
                </a:cubicBezTo>
                <a:close/>
              </a:path>
            </a:pathLst>
          </a:custGeom>
          <a:solidFill>
            <a:srgbClr val="595959"/>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48" name="任意多边形 16"/>
          <p:cNvSpPr/>
          <p:nvPr/>
        </p:nvSpPr>
        <p:spPr>
          <a:xfrm>
            <a:off x="4879800" y="3954600"/>
            <a:ext cx="1200240" cy="1203120"/>
          </a:xfrm>
          <a:custGeom>
            <a:avLst/>
            <a:gdLst/>
            <a:ahLst/>
            <a:rect l="l" t="t" r="r" b="b"/>
            <a:pathLst>
              <a:path w="327" h="328">
                <a:moveTo>
                  <a:pt x="323" y="198"/>
                </a:moveTo>
                <a:cubicBezTo>
                  <a:pt x="321" y="209"/>
                  <a:pt x="317" y="219"/>
                  <a:pt x="313" y="229"/>
                </a:cubicBezTo>
                <a:cubicBezTo>
                  <a:pt x="312" y="231"/>
                  <a:pt x="311" y="233"/>
                  <a:pt x="310" y="235"/>
                </a:cubicBezTo>
                <a:cubicBezTo>
                  <a:pt x="295" y="266"/>
                  <a:pt x="270" y="291"/>
                  <a:pt x="240" y="307"/>
                </a:cubicBezTo>
                <a:cubicBezTo>
                  <a:pt x="228" y="313"/>
                  <a:pt x="216" y="318"/>
                  <a:pt x="203" y="321"/>
                </a:cubicBezTo>
                <a:cubicBezTo>
                  <a:pt x="193" y="323"/>
                  <a:pt x="183" y="325"/>
                  <a:pt x="173" y="325"/>
                </a:cubicBezTo>
                <a:cubicBezTo>
                  <a:pt x="121" y="328"/>
                  <a:pt x="74" y="306"/>
                  <a:pt x="42" y="270"/>
                </a:cubicBezTo>
                <a:cubicBezTo>
                  <a:pt x="31" y="257"/>
                  <a:pt x="22" y="243"/>
                  <a:pt x="15" y="227"/>
                </a:cubicBezTo>
                <a:cubicBezTo>
                  <a:pt x="8" y="210"/>
                  <a:pt x="3" y="191"/>
                  <a:pt x="2" y="171"/>
                </a:cubicBezTo>
                <a:cubicBezTo>
                  <a:pt x="0" y="133"/>
                  <a:pt x="12" y="97"/>
                  <a:pt x="32" y="68"/>
                </a:cubicBezTo>
                <a:cubicBezTo>
                  <a:pt x="35" y="65"/>
                  <a:pt x="37" y="62"/>
                  <a:pt x="39" y="59"/>
                </a:cubicBezTo>
                <a:cubicBezTo>
                  <a:pt x="55" y="40"/>
                  <a:pt x="76" y="24"/>
                  <a:pt x="99" y="14"/>
                </a:cubicBezTo>
                <a:cubicBezTo>
                  <a:pt x="109" y="10"/>
                  <a:pt x="120" y="6"/>
                  <a:pt x="132" y="4"/>
                </a:cubicBezTo>
                <a:cubicBezTo>
                  <a:pt x="139" y="2"/>
                  <a:pt x="147" y="1"/>
                  <a:pt x="155" y="1"/>
                </a:cubicBezTo>
                <a:cubicBezTo>
                  <a:pt x="155" y="1"/>
                  <a:pt x="155" y="1"/>
                  <a:pt x="155" y="1"/>
                </a:cubicBezTo>
                <a:cubicBezTo>
                  <a:pt x="155" y="1"/>
                  <a:pt x="156" y="1"/>
                  <a:pt x="156" y="1"/>
                </a:cubicBezTo>
                <a:cubicBezTo>
                  <a:pt x="165" y="0"/>
                  <a:pt x="173" y="0"/>
                  <a:pt x="182" y="1"/>
                </a:cubicBezTo>
                <a:cubicBezTo>
                  <a:pt x="182" y="1"/>
                  <a:pt x="182" y="1"/>
                  <a:pt x="182" y="1"/>
                </a:cubicBezTo>
                <a:cubicBezTo>
                  <a:pt x="206" y="4"/>
                  <a:pt x="228" y="12"/>
                  <a:pt x="248" y="24"/>
                </a:cubicBezTo>
                <a:cubicBezTo>
                  <a:pt x="253" y="27"/>
                  <a:pt x="259" y="30"/>
                  <a:pt x="264" y="34"/>
                </a:cubicBezTo>
                <a:cubicBezTo>
                  <a:pt x="277" y="45"/>
                  <a:pt x="290" y="58"/>
                  <a:pt x="299" y="72"/>
                </a:cubicBezTo>
                <a:cubicBezTo>
                  <a:pt x="299" y="73"/>
                  <a:pt x="299" y="73"/>
                  <a:pt x="299" y="73"/>
                </a:cubicBezTo>
                <a:cubicBezTo>
                  <a:pt x="302" y="77"/>
                  <a:pt x="305" y="82"/>
                  <a:pt x="308" y="86"/>
                </a:cubicBezTo>
                <a:cubicBezTo>
                  <a:pt x="319" y="107"/>
                  <a:pt x="325" y="130"/>
                  <a:pt x="327" y="155"/>
                </a:cubicBezTo>
                <a:cubicBezTo>
                  <a:pt x="327" y="170"/>
                  <a:pt x="326" y="184"/>
                  <a:pt x="323" y="198"/>
                </a:cubicBezTo>
                <a:close/>
              </a:path>
            </a:pathLst>
          </a:custGeom>
          <a:solidFill>
            <a:srgbClr val="a1b9df">
              <a:alpha val="61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49" name="任意多边形 29"/>
          <p:cNvSpPr/>
          <p:nvPr/>
        </p:nvSpPr>
        <p:spPr>
          <a:xfrm>
            <a:off x="5175360" y="3195720"/>
            <a:ext cx="903240" cy="904680"/>
          </a:xfrm>
          <a:custGeom>
            <a:avLst/>
            <a:gdLst/>
            <a:ahLst/>
            <a:rect l="l" t="t" r="r" b="b"/>
            <a:pathLst>
              <a:path w="246" h="247">
                <a:moveTo>
                  <a:pt x="243" y="118"/>
                </a:moveTo>
                <a:cubicBezTo>
                  <a:pt x="246" y="184"/>
                  <a:pt x="195" y="240"/>
                  <a:pt x="129" y="243"/>
                </a:cubicBezTo>
                <a:cubicBezTo>
                  <a:pt x="63" y="247"/>
                  <a:pt x="7" y="196"/>
                  <a:pt x="3" y="130"/>
                </a:cubicBezTo>
                <a:cubicBezTo>
                  <a:pt x="0" y="63"/>
                  <a:pt x="51" y="7"/>
                  <a:pt x="117" y="4"/>
                </a:cubicBezTo>
                <a:cubicBezTo>
                  <a:pt x="183" y="0"/>
                  <a:pt x="240" y="51"/>
                  <a:pt x="243" y="118"/>
                </a:cubicBezTo>
                <a:close/>
              </a:path>
            </a:pathLst>
          </a:custGeom>
          <a:solidFill>
            <a:srgbClr val="32579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50" name="任意多边形 30"/>
          <p:cNvSpPr/>
          <p:nvPr/>
        </p:nvSpPr>
        <p:spPr>
          <a:xfrm>
            <a:off x="6143760" y="3745080"/>
            <a:ext cx="758520" cy="755640"/>
          </a:xfrm>
          <a:custGeom>
            <a:avLst/>
            <a:gdLst/>
            <a:ahLst/>
            <a:rect l="l" t="t" r="r" b="b"/>
            <a:pathLst>
              <a:path w="206" h="206">
                <a:moveTo>
                  <a:pt x="204" y="98"/>
                </a:moveTo>
                <a:cubicBezTo>
                  <a:pt x="206" y="153"/>
                  <a:pt x="164" y="200"/>
                  <a:pt x="108" y="203"/>
                </a:cubicBezTo>
                <a:cubicBezTo>
                  <a:pt x="53" y="206"/>
                  <a:pt x="6" y="163"/>
                  <a:pt x="3" y="108"/>
                </a:cubicBezTo>
                <a:cubicBezTo>
                  <a:pt x="0" y="52"/>
                  <a:pt x="43" y="5"/>
                  <a:pt x="98" y="3"/>
                </a:cubicBezTo>
                <a:cubicBezTo>
                  <a:pt x="154" y="0"/>
                  <a:pt x="201" y="42"/>
                  <a:pt x="204" y="98"/>
                </a:cubicBezTo>
                <a:close/>
              </a:path>
            </a:pathLst>
          </a:custGeom>
          <a:solidFill>
            <a:srgbClr val="d0dce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51" name="任意多边形 19"/>
          <p:cNvSpPr/>
          <p:nvPr/>
        </p:nvSpPr>
        <p:spPr>
          <a:xfrm>
            <a:off x="7178760" y="3044880"/>
            <a:ext cx="253800" cy="255600"/>
          </a:xfrm>
          <a:custGeom>
            <a:avLst/>
            <a:gdLst/>
            <a:ahLst/>
            <a:rect l="l" t="t" r="r" b="b"/>
            <a:pathLst>
              <a:path w="69" h="69">
                <a:moveTo>
                  <a:pt x="68" y="33"/>
                </a:moveTo>
                <a:cubicBezTo>
                  <a:pt x="69" y="52"/>
                  <a:pt x="54" y="67"/>
                  <a:pt x="36" y="68"/>
                </a:cubicBezTo>
                <a:cubicBezTo>
                  <a:pt x="17" y="69"/>
                  <a:pt x="1" y="55"/>
                  <a:pt x="0" y="36"/>
                </a:cubicBezTo>
                <a:cubicBezTo>
                  <a:pt x="0" y="18"/>
                  <a:pt x="14" y="2"/>
                  <a:pt x="32" y="1"/>
                </a:cubicBezTo>
                <a:cubicBezTo>
                  <a:pt x="51" y="0"/>
                  <a:pt x="67" y="14"/>
                  <a:pt x="68" y="33"/>
                </a:cubicBezTo>
                <a:close/>
              </a:path>
            </a:pathLst>
          </a:custGeom>
          <a:solidFill>
            <a:srgbClr val="d0dcef"/>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52" name="任意多边形 20"/>
          <p:cNvSpPr/>
          <p:nvPr/>
        </p:nvSpPr>
        <p:spPr>
          <a:xfrm>
            <a:off x="4567320" y="2467080"/>
            <a:ext cx="233280" cy="233280"/>
          </a:xfrm>
          <a:custGeom>
            <a:avLst/>
            <a:gdLst/>
            <a:ahLst/>
            <a:rect l="l" t="t" r="r" b="b"/>
            <a:pathLst>
              <a:path w="63" h="64">
                <a:moveTo>
                  <a:pt x="62" y="30"/>
                </a:moveTo>
                <a:cubicBezTo>
                  <a:pt x="63" y="47"/>
                  <a:pt x="50" y="62"/>
                  <a:pt x="33" y="63"/>
                </a:cubicBezTo>
                <a:cubicBezTo>
                  <a:pt x="16" y="64"/>
                  <a:pt x="1" y="51"/>
                  <a:pt x="1" y="34"/>
                </a:cubicBezTo>
                <a:cubicBezTo>
                  <a:pt x="0" y="16"/>
                  <a:pt x="13" y="2"/>
                  <a:pt x="30" y="1"/>
                </a:cubicBezTo>
                <a:cubicBezTo>
                  <a:pt x="47" y="0"/>
                  <a:pt x="62" y="13"/>
                  <a:pt x="62" y="30"/>
                </a:cubicBezTo>
                <a:close/>
              </a:path>
            </a:pathLst>
          </a:custGeom>
          <a:solidFill>
            <a:srgbClr val="178aa1"/>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53" name="任意多边形 21"/>
          <p:cNvSpPr/>
          <p:nvPr/>
        </p:nvSpPr>
        <p:spPr>
          <a:xfrm>
            <a:off x="6045120" y="1670040"/>
            <a:ext cx="235080" cy="236520"/>
          </a:xfrm>
          <a:custGeom>
            <a:avLst/>
            <a:gdLst/>
            <a:ahLst/>
            <a:rect l="l" t="t" r="r" b="b"/>
            <a:pathLst>
              <a:path w="64" h="64">
                <a:moveTo>
                  <a:pt x="63" y="31"/>
                </a:moveTo>
                <a:cubicBezTo>
                  <a:pt x="64" y="48"/>
                  <a:pt x="50" y="62"/>
                  <a:pt x="33" y="63"/>
                </a:cubicBezTo>
                <a:cubicBezTo>
                  <a:pt x="16" y="64"/>
                  <a:pt x="2" y="51"/>
                  <a:pt x="1" y="34"/>
                </a:cubicBezTo>
                <a:cubicBezTo>
                  <a:pt x="0" y="17"/>
                  <a:pt x="13" y="2"/>
                  <a:pt x="30" y="1"/>
                </a:cubicBezTo>
                <a:cubicBezTo>
                  <a:pt x="47" y="0"/>
                  <a:pt x="62" y="13"/>
                  <a:pt x="63" y="31"/>
                </a:cubicBezTo>
                <a:close/>
              </a:path>
            </a:pathLst>
          </a:custGeom>
          <a:solidFill>
            <a:srgbClr val="a1b9df"/>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54" name="任意多边形 22"/>
          <p:cNvSpPr/>
          <p:nvPr/>
        </p:nvSpPr>
        <p:spPr>
          <a:xfrm>
            <a:off x="4900680" y="3024360"/>
            <a:ext cx="338040" cy="341280"/>
          </a:xfrm>
          <a:custGeom>
            <a:avLst/>
            <a:gdLst/>
            <a:ahLst/>
            <a:rect l="l" t="t" r="r" b="b"/>
            <a:pathLst>
              <a:path w="92" h="93">
                <a:moveTo>
                  <a:pt x="91" y="44"/>
                </a:moveTo>
                <a:cubicBezTo>
                  <a:pt x="92" y="69"/>
                  <a:pt x="73" y="90"/>
                  <a:pt x="48" y="91"/>
                </a:cubicBezTo>
                <a:cubicBezTo>
                  <a:pt x="23" y="93"/>
                  <a:pt x="2" y="73"/>
                  <a:pt x="1" y="49"/>
                </a:cubicBezTo>
                <a:cubicBezTo>
                  <a:pt x="0" y="24"/>
                  <a:pt x="19" y="3"/>
                  <a:pt x="44" y="1"/>
                </a:cubicBezTo>
                <a:cubicBezTo>
                  <a:pt x="69" y="0"/>
                  <a:pt x="90" y="19"/>
                  <a:pt x="91" y="44"/>
                </a:cubicBezTo>
                <a:close/>
              </a:path>
            </a:pathLst>
          </a:custGeom>
          <a:solidFill>
            <a:srgbClr val="adb5bf"/>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55" name="任意多边形 23"/>
          <p:cNvSpPr/>
          <p:nvPr/>
        </p:nvSpPr>
        <p:spPr>
          <a:xfrm>
            <a:off x="6943680" y="3672000"/>
            <a:ext cx="341280" cy="341280"/>
          </a:xfrm>
          <a:custGeom>
            <a:avLst/>
            <a:gdLst/>
            <a:ahLst/>
            <a:rect l="l" t="t" r="r" b="b"/>
            <a:pathLst>
              <a:path w="93" h="93">
                <a:moveTo>
                  <a:pt x="92" y="44"/>
                </a:moveTo>
                <a:cubicBezTo>
                  <a:pt x="93" y="69"/>
                  <a:pt x="74" y="90"/>
                  <a:pt x="49" y="91"/>
                </a:cubicBezTo>
                <a:cubicBezTo>
                  <a:pt x="24" y="93"/>
                  <a:pt x="3" y="74"/>
                  <a:pt x="2" y="49"/>
                </a:cubicBezTo>
                <a:cubicBezTo>
                  <a:pt x="0" y="24"/>
                  <a:pt x="19" y="3"/>
                  <a:pt x="44" y="1"/>
                </a:cubicBezTo>
                <a:cubicBezTo>
                  <a:pt x="69" y="0"/>
                  <a:pt x="90" y="19"/>
                  <a:pt x="92" y="44"/>
                </a:cubicBezTo>
                <a:close/>
              </a:path>
            </a:pathLst>
          </a:custGeom>
          <a:solidFill>
            <a:srgbClr val="4276aa"/>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56" name="任意多边形 18"/>
          <p:cNvSpPr/>
          <p:nvPr/>
        </p:nvSpPr>
        <p:spPr>
          <a:xfrm>
            <a:off x="6259680" y="2103480"/>
            <a:ext cx="1063440" cy="1057320"/>
          </a:xfrm>
          <a:custGeom>
            <a:avLst/>
            <a:gdLst/>
            <a:ahLst/>
            <a:rect l="l" t="t" r="r" b="b"/>
            <a:pathLst>
              <a:path w="200" h="199">
                <a:moveTo>
                  <a:pt x="197" y="95"/>
                </a:moveTo>
                <a:cubicBezTo>
                  <a:pt x="200" y="148"/>
                  <a:pt x="158" y="194"/>
                  <a:pt x="105" y="197"/>
                </a:cubicBezTo>
                <a:cubicBezTo>
                  <a:pt x="51" y="199"/>
                  <a:pt x="6" y="158"/>
                  <a:pt x="3" y="105"/>
                </a:cubicBezTo>
                <a:cubicBezTo>
                  <a:pt x="0" y="51"/>
                  <a:pt x="42" y="5"/>
                  <a:pt x="95" y="3"/>
                </a:cubicBezTo>
                <a:cubicBezTo>
                  <a:pt x="149" y="0"/>
                  <a:pt x="194" y="41"/>
                  <a:pt x="197" y="95"/>
                </a:cubicBezTo>
                <a:close/>
              </a:path>
            </a:pathLst>
          </a:custGeom>
          <a:solidFill>
            <a:srgbClr val="325792"/>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57" name="椭圆 26"/>
          <p:cNvSpPr/>
          <p:nvPr/>
        </p:nvSpPr>
        <p:spPr>
          <a:xfrm>
            <a:off x="5132520" y="1959120"/>
            <a:ext cx="965160" cy="963360"/>
          </a:xfrm>
          <a:prstGeom prst="ellipse">
            <a:avLst/>
          </a:prstGeom>
          <a:solidFill>
            <a:srgbClr val="178aa1"/>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58" name="任意多边形 27"/>
          <p:cNvSpPr/>
          <p:nvPr/>
        </p:nvSpPr>
        <p:spPr>
          <a:xfrm>
            <a:off x="5554800" y="2830680"/>
            <a:ext cx="1323720" cy="1322280"/>
          </a:xfrm>
          <a:custGeom>
            <a:avLst/>
            <a:gdLst/>
            <a:ahLst/>
            <a:rect l="l" t="t" r="r" b="b"/>
            <a:pathLst>
              <a:path w="328" h="328">
                <a:moveTo>
                  <a:pt x="323" y="156"/>
                </a:moveTo>
                <a:cubicBezTo>
                  <a:pt x="328" y="244"/>
                  <a:pt x="260" y="319"/>
                  <a:pt x="172" y="323"/>
                </a:cubicBezTo>
                <a:cubicBezTo>
                  <a:pt x="84" y="328"/>
                  <a:pt x="9" y="260"/>
                  <a:pt x="4" y="172"/>
                </a:cubicBezTo>
                <a:cubicBezTo>
                  <a:pt x="0" y="84"/>
                  <a:pt x="68" y="9"/>
                  <a:pt x="156" y="4"/>
                </a:cubicBezTo>
                <a:cubicBezTo>
                  <a:pt x="244" y="0"/>
                  <a:pt x="319" y="68"/>
                  <a:pt x="323" y="156"/>
                </a:cubicBezTo>
                <a:close/>
              </a:path>
            </a:pathLst>
          </a:custGeom>
          <a:solidFill>
            <a:srgbClr val="4276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59" name="任意多边形 28"/>
          <p:cNvSpPr/>
          <p:nvPr/>
        </p:nvSpPr>
        <p:spPr>
          <a:xfrm>
            <a:off x="6845400" y="4210200"/>
            <a:ext cx="711000" cy="706320"/>
          </a:xfrm>
          <a:custGeom>
            <a:avLst/>
            <a:gdLst/>
            <a:ahLst/>
            <a:rect l="l" t="t" r="r" b="b"/>
            <a:pathLst>
              <a:path w="194" h="193">
                <a:moveTo>
                  <a:pt x="192" y="93"/>
                </a:moveTo>
                <a:cubicBezTo>
                  <a:pt x="194" y="145"/>
                  <a:pt x="153" y="190"/>
                  <a:pt x="101" y="192"/>
                </a:cubicBezTo>
                <a:cubicBezTo>
                  <a:pt x="84" y="193"/>
                  <a:pt x="69" y="190"/>
                  <a:pt x="55" y="183"/>
                </a:cubicBezTo>
                <a:cubicBezTo>
                  <a:pt x="50" y="181"/>
                  <a:pt x="45" y="178"/>
                  <a:pt x="40" y="174"/>
                </a:cubicBezTo>
                <a:cubicBezTo>
                  <a:pt x="25" y="163"/>
                  <a:pt x="12" y="147"/>
                  <a:pt x="6" y="127"/>
                </a:cubicBezTo>
                <a:cubicBezTo>
                  <a:pt x="4" y="122"/>
                  <a:pt x="2" y="115"/>
                  <a:pt x="1" y="109"/>
                </a:cubicBezTo>
                <a:cubicBezTo>
                  <a:pt x="1" y="106"/>
                  <a:pt x="1" y="104"/>
                  <a:pt x="1" y="101"/>
                </a:cubicBezTo>
                <a:cubicBezTo>
                  <a:pt x="0" y="79"/>
                  <a:pt x="6" y="59"/>
                  <a:pt x="18" y="43"/>
                </a:cubicBezTo>
                <a:cubicBezTo>
                  <a:pt x="26" y="31"/>
                  <a:pt x="36" y="21"/>
                  <a:pt x="48" y="14"/>
                </a:cubicBezTo>
                <a:cubicBezTo>
                  <a:pt x="61" y="6"/>
                  <a:pt x="76" y="2"/>
                  <a:pt x="92" y="1"/>
                </a:cubicBezTo>
                <a:cubicBezTo>
                  <a:pt x="129" y="0"/>
                  <a:pt x="161" y="19"/>
                  <a:pt x="179" y="48"/>
                </a:cubicBezTo>
                <a:cubicBezTo>
                  <a:pt x="179" y="48"/>
                  <a:pt x="179" y="48"/>
                  <a:pt x="179" y="48"/>
                </a:cubicBezTo>
                <a:cubicBezTo>
                  <a:pt x="187" y="61"/>
                  <a:pt x="191" y="76"/>
                  <a:pt x="192" y="93"/>
                </a:cubicBezTo>
                <a:close/>
              </a:path>
            </a:pathLst>
          </a:custGeom>
          <a:solidFill>
            <a:srgbClr val="adb5bf"/>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60" name="任意多边形 25"/>
          <p:cNvSpPr/>
          <p:nvPr/>
        </p:nvSpPr>
        <p:spPr>
          <a:xfrm>
            <a:off x="5483160" y="4500720"/>
            <a:ext cx="1228680" cy="1231920"/>
          </a:xfrm>
          <a:custGeom>
            <a:avLst/>
            <a:gdLst/>
            <a:ahLst/>
            <a:rect l="l" t="t" r="r" b="b"/>
            <a:pathLst>
              <a:path w="280" h="281">
                <a:moveTo>
                  <a:pt x="280" y="148"/>
                </a:moveTo>
                <a:cubicBezTo>
                  <a:pt x="280" y="148"/>
                  <a:pt x="280" y="148"/>
                  <a:pt x="280" y="148"/>
                </a:cubicBezTo>
                <a:cubicBezTo>
                  <a:pt x="276" y="216"/>
                  <a:pt x="224" y="272"/>
                  <a:pt x="156" y="279"/>
                </a:cubicBezTo>
                <a:cubicBezTo>
                  <a:pt x="153" y="280"/>
                  <a:pt x="149" y="280"/>
                  <a:pt x="146" y="280"/>
                </a:cubicBezTo>
                <a:cubicBezTo>
                  <a:pt x="124" y="281"/>
                  <a:pt x="102" y="277"/>
                  <a:pt x="83" y="268"/>
                </a:cubicBezTo>
                <a:cubicBezTo>
                  <a:pt x="62" y="259"/>
                  <a:pt x="44" y="245"/>
                  <a:pt x="30" y="227"/>
                </a:cubicBezTo>
                <a:cubicBezTo>
                  <a:pt x="13" y="205"/>
                  <a:pt x="1" y="177"/>
                  <a:pt x="0" y="146"/>
                </a:cubicBezTo>
                <a:cubicBezTo>
                  <a:pt x="0" y="134"/>
                  <a:pt x="1" y="123"/>
                  <a:pt x="3" y="111"/>
                </a:cubicBezTo>
                <a:cubicBezTo>
                  <a:pt x="5" y="104"/>
                  <a:pt x="7" y="98"/>
                  <a:pt x="9" y="91"/>
                </a:cubicBezTo>
                <a:cubicBezTo>
                  <a:pt x="9" y="91"/>
                  <a:pt x="9" y="91"/>
                  <a:pt x="9" y="91"/>
                </a:cubicBezTo>
                <a:cubicBezTo>
                  <a:pt x="16" y="73"/>
                  <a:pt x="26" y="57"/>
                  <a:pt x="39" y="44"/>
                </a:cubicBezTo>
                <a:cubicBezTo>
                  <a:pt x="55" y="27"/>
                  <a:pt x="76" y="14"/>
                  <a:pt x="99" y="7"/>
                </a:cubicBezTo>
                <a:cubicBezTo>
                  <a:pt x="103" y="5"/>
                  <a:pt x="108" y="4"/>
                  <a:pt x="113" y="3"/>
                </a:cubicBezTo>
                <a:cubicBezTo>
                  <a:pt x="117" y="2"/>
                  <a:pt x="122" y="2"/>
                  <a:pt x="127" y="1"/>
                </a:cubicBezTo>
                <a:cubicBezTo>
                  <a:pt x="129" y="1"/>
                  <a:pt x="132" y="1"/>
                  <a:pt x="134" y="1"/>
                </a:cubicBezTo>
                <a:cubicBezTo>
                  <a:pt x="140" y="0"/>
                  <a:pt x="145" y="1"/>
                  <a:pt x="151" y="1"/>
                </a:cubicBezTo>
                <a:cubicBezTo>
                  <a:pt x="159" y="2"/>
                  <a:pt x="167" y="3"/>
                  <a:pt x="175" y="5"/>
                </a:cubicBezTo>
                <a:cubicBezTo>
                  <a:pt x="186" y="8"/>
                  <a:pt x="197" y="12"/>
                  <a:pt x="207" y="18"/>
                </a:cubicBezTo>
                <a:cubicBezTo>
                  <a:pt x="222" y="26"/>
                  <a:pt x="236" y="37"/>
                  <a:pt x="247" y="50"/>
                </a:cubicBezTo>
                <a:cubicBezTo>
                  <a:pt x="249" y="53"/>
                  <a:pt x="252" y="56"/>
                  <a:pt x="254" y="60"/>
                </a:cubicBezTo>
                <a:cubicBezTo>
                  <a:pt x="268" y="79"/>
                  <a:pt x="277" y="103"/>
                  <a:pt x="279" y="128"/>
                </a:cubicBezTo>
                <a:cubicBezTo>
                  <a:pt x="280" y="130"/>
                  <a:pt x="280" y="132"/>
                  <a:pt x="280" y="134"/>
                </a:cubicBezTo>
                <a:cubicBezTo>
                  <a:pt x="280" y="139"/>
                  <a:pt x="280" y="144"/>
                  <a:pt x="280" y="148"/>
                </a:cubicBezTo>
                <a:close/>
              </a:path>
            </a:pathLst>
          </a:custGeom>
          <a:solidFill>
            <a:srgbClr val="325792"/>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61" name="任意多边形 24"/>
          <p:cNvSpPr/>
          <p:nvPr/>
        </p:nvSpPr>
        <p:spPr>
          <a:xfrm>
            <a:off x="4662360" y="3610080"/>
            <a:ext cx="857520" cy="857160"/>
          </a:xfrm>
          <a:custGeom>
            <a:avLst/>
            <a:gdLst/>
            <a:ahLst/>
            <a:rect l="l" t="t" r="r" b="b"/>
            <a:pathLst>
              <a:path w="234" h="234">
                <a:moveTo>
                  <a:pt x="232" y="112"/>
                </a:moveTo>
                <a:cubicBezTo>
                  <a:pt x="234" y="175"/>
                  <a:pt x="185" y="229"/>
                  <a:pt x="122" y="232"/>
                </a:cubicBezTo>
                <a:cubicBezTo>
                  <a:pt x="59" y="234"/>
                  <a:pt x="6" y="185"/>
                  <a:pt x="3" y="122"/>
                </a:cubicBezTo>
                <a:cubicBezTo>
                  <a:pt x="0" y="59"/>
                  <a:pt x="49" y="6"/>
                  <a:pt x="112" y="3"/>
                </a:cubicBezTo>
                <a:cubicBezTo>
                  <a:pt x="176" y="0"/>
                  <a:pt x="229" y="49"/>
                  <a:pt x="232" y="112"/>
                </a:cubicBezTo>
                <a:close/>
              </a:path>
            </a:pathLst>
          </a:custGeom>
          <a:solidFill>
            <a:srgbClr val="adb5bf"/>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62" name="直接连接符 41"/>
          <p:cNvSpPr/>
          <p:nvPr/>
        </p:nvSpPr>
        <p:spPr>
          <a:xfrm>
            <a:off x="4152960" y="2373480"/>
            <a:ext cx="1363680" cy="0"/>
          </a:xfrm>
          <a:prstGeom prst="line">
            <a:avLst/>
          </a:prstGeom>
          <a:ln w="6480">
            <a:solidFill>
              <a:srgbClr val="178aa1"/>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63" name="椭圆 42"/>
          <p:cNvSpPr/>
          <p:nvPr/>
        </p:nvSpPr>
        <p:spPr>
          <a:xfrm flipH="1" rot="16200000">
            <a:off x="4116960" y="2338920"/>
            <a:ext cx="66600" cy="68400"/>
          </a:xfrm>
          <a:prstGeom prst="ellipse">
            <a:avLst/>
          </a:prstGeom>
          <a:solidFill>
            <a:srgbClr val="178aa1"/>
          </a:solidFill>
          <a:ln w="12600">
            <a:solidFill>
              <a:srgbClr val="178aa1"/>
            </a:solidFill>
            <a:miter/>
          </a:ln>
        </p:spPr>
        <p:style>
          <a:lnRef idx="0"/>
          <a:fillRef idx="0"/>
          <a:effectRef idx="0"/>
          <a:fontRef idx="minor"/>
        </p:style>
        <p:txBody>
          <a:bodyPr lIns="90000" rIns="90000" tIns="2160" bIns="216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64" name="椭圆 45"/>
          <p:cNvSpPr/>
          <p:nvPr/>
        </p:nvSpPr>
        <p:spPr>
          <a:xfrm rot="5400000">
            <a:off x="7771320" y="3439440"/>
            <a:ext cx="66600" cy="68040"/>
          </a:xfrm>
          <a:prstGeom prst="ellipse">
            <a:avLst/>
          </a:prstGeom>
          <a:solidFill>
            <a:srgbClr val="4276aa"/>
          </a:solidFill>
          <a:ln w="12600">
            <a:solidFill>
              <a:srgbClr val="4276aa"/>
            </a:solidFill>
            <a:miter/>
          </a:ln>
        </p:spPr>
        <p:style>
          <a:lnRef idx="0"/>
          <a:fillRef idx="0"/>
          <a:effectRef idx="0"/>
          <a:fontRef idx="minor"/>
        </p:style>
        <p:txBody>
          <a:bodyPr lIns="90000" rIns="90000" tIns="1800" bIns="1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65" name="文本框 50"/>
          <p:cNvSpPr/>
          <p:nvPr/>
        </p:nvSpPr>
        <p:spPr>
          <a:xfrm>
            <a:off x="306360" y="1557360"/>
            <a:ext cx="3801960" cy="997560"/>
          </a:xfrm>
          <a:prstGeom prst="rect">
            <a:avLst/>
          </a:prstGeom>
          <a:noFill/>
          <a:ln w="0">
            <a:noFill/>
          </a:ln>
        </p:spPr>
        <p:style>
          <a:lnRef idx="0"/>
          <a:fillRef idx="0"/>
          <a:effectRef idx="0"/>
          <a:fontRef idx="minor"/>
        </p:style>
        <p:txBody>
          <a:bodyPr lIns="90000" rIns="90000" tIns="46800" bIns="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注册会计师应当在审计业务开始前，与被审计单位就审 计业务约定条款达成一致意见，并签订审计业务约定书，以 避免双方对审计业务的理解产生分歧。需要说明的是，这里 的注册会计师是指与委托人签订审计业务约定书的会计师事务所。</a:t>
            </a:r>
            <a:endParaRPr b="1" lang="en-US" sz="2400" spc="-1" strike="noStrike">
              <a:solidFill>
                <a:srgbClr val="000000"/>
              </a:solidFill>
              <a:latin typeface="Arial"/>
            </a:endParaRPr>
          </a:p>
        </p:txBody>
      </p:sp>
      <p:sp>
        <p:nvSpPr>
          <p:cNvPr id="1466" name="直接连接符 61"/>
          <p:cNvSpPr/>
          <p:nvPr/>
        </p:nvSpPr>
        <p:spPr>
          <a:xfrm flipH="1">
            <a:off x="6786720" y="3473280"/>
            <a:ext cx="1023840" cy="0"/>
          </a:xfrm>
          <a:prstGeom prst="line">
            <a:avLst/>
          </a:prstGeom>
          <a:ln w="6480">
            <a:solidFill>
              <a:srgbClr val="4276aa"/>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67" name="文本框 43"/>
          <p:cNvSpPr/>
          <p:nvPr/>
        </p:nvSpPr>
        <p:spPr>
          <a:xfrm>
            <a:off x="7648560" y="1523880"/>
            <a:ext cx="4402080" cy="522360"/>
          </a:xfrm>
          <a:prstGeom prst="rect">
            <a:avLst/>
          </a:prstGeom>
          <a:noFill/>
          <a:ln w="0">
            <a:noFill/>
          </a:ln>
        </p:spPr>
        <p:style>
          <a:lnRef idx="0"/>
          <a:fillRef idx="0"/>
          <a:effectRef idx="0"/>
          <a:fontRef idx="minor"/>
        </p:style>
        <p:txBody>
          <a:bodyPr lIns="90000" rIns="90000" tIns="46800" bIns="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400" spc="-1" strike="noStrike">
                <a:solidFill>
                  <a:srgbClr val="000000"/>
                </a:solidFill>
                <a:latin typeface="Arial"/>
                <a:ea typeface="宋体"/>
              </a:rPr>
              <a:t>如果被审计单位不是委托人，在签订审计业务约定书前，注册会计师应当与委托人、被审计单位就审计业务约定相关条款进行充分沟通，并达成一致意见。 在实务中，审计业务约定书可以采用合同式或信函式两种形式，尽管形式不同，但其实质内容是相同的。注册会计师在使用时可以根据实际需要进行修改 调整。</a:t>
            </a:r>
            <a:endParaRPr b="1" lang="en-US" sz="2400" spc="-1" strike="noStrike">
              <a:solidFill>
                <a:srgbClr val="000000"/>
              </a:solidFill>
              <a:latin typeface="Arial"/>
            </a:endParaRPr>
          </a:p>
        </p:txBody>
      </p:sp>
      <p:grpSp>
        <p:nvGrpSpPr>
          <p:cNvPr id="1468" name="组合 28"/>
          <p:cNvGrpSpPr/>
          <p:nvPr/>
        </p:nvGrpSpPr>
        <p:grpSpPr>
          <a:xfrm>
            <a:off x="865080" y="404640"/>
            <a:ext cx="10359720" cy="0"/>
            <a:chOff x="865080" y="404640"/>
            <a:chExt cx="10359720" cy="0"/>
          </a:xfrm>
        </p:grpSpPr>
        <p:sp>
          <p:nvSpPr>
            <p:cNvPr id="1469" name="直接连接符 2"/>
            <p:cNvSpPr/>
            <p:nvPr/>
          </p:nvSpPr>
          <p:spPr>
            <a:xfrm>
              <a:off x="865080" y="404640"/>
              <a:ext cx="197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70" name="直接连接符 3"/>
            <p:cNvSpPr/>
            <p:nvPr/>
          </p:nvSpPr>
          <p:spPr>
            <a:xfrm>
              <a:off x="9245160" y="404640"/>
              <a:ext cx="197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1471" name="文本框 4"/>
          <p:cNvSpPr/>
          <p:nvPr/>
        </p:nvSpPr>
        <p:spPr>
          <a:xfrm>
            <a:off x="2424240" y="777960"/>
            <a:ext cx="672120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二、签订审计业务约定书的总体要求</a:t>
            </a:r>
            <a:endParaRPr b="1" lang="en-US" sz="3200" spc="-1" strike="noStrike">
              <a:solidFill>
                <a:srgbClr val="000000"/>
              </a:solidFill>
              <a:latin typeface="Arial"/>
            </a:endParaRPr>
          </a:p>
        </p:txBody>
      </p:sp>
      <p:sp>
        <p:nvSpPr>
          <p:cNvPr id="1472" name="矩形 44"/>
          <p:cNvSpPr/>
          <p:nvPr/>
        </p:nvSpPr>
        <p:spPr>
          <a:xfrm>
            <a:off x="2424240" y="90360"/>
            <a:ext cx="7127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e10d4"/>
                </a:solidFill>
                <a:latin typeface="微软雅黑"/>
                <a:ea typeface="微软雅黑"/>
              </a:rPr>
              <a:t>任务二 签订审计业务约定书</a:t>
            </a:r>
            <a:endParaRPr b="1" lang="en-US" sz="4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Title 6"/>
          <p:cNvSpPr/>
          <p:nvPr/>
        </p:nvSpPr>
        <p:spPr>
          <a:xfrm>
            <a:off x="479520" y="1411200"/>
            <a:ext cx="11304360" cy="1071360"/>
          </a:xfrm>
          <a:prstGeom prst="rect">
            <a:avLst/>
          </a:prstGeom>
          <a:noFill/>
          <a:ln w="0">
            <a:noFill/>
          </a:ln>
        </p:spPr>
        <p:style>
          <a:lnRef idx="0"/>
          <a:fillRef idx="0"/>
          <a:effectRef idx="0"/>
          <a:fontRef idx="minor"/>
        </p:style>
        <p:txBody>
          <a:bodyPr lIns="72000" rIns="72000" tIns="36360" bIns="36360" anchor="t">
            <a:spAutoFit/>
          </a:bodyPr>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微软雅黑"/>
                <a:ea typeface="微软雅黑"/>
              </a:rPr>
              <a:t>（一）审计业务约定书的必备条款 </a:t>
            </a:r>
            <a:endParaRPr b="1" lang="en-US" sz="2800" spc="-1" strike="noStrike">
              <a:solidFill>
                <a:srgbClr val="000000"/>
              </a:solidFill>
              <a:latin typeface="Arial"/>
            </a:endParaRPr>
          </a:p>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Black"/>
                <a:ea typeface="黑体"/>
              </a:rPr>
              <a:t>         </a:t>
            </a:r>
            <a:r>
              <a:rPr b="0" lang="zh-CN" sz="2400" spc="-1" strike="noStrike">
                <a:solidFill>
                  <a:srgbClr val="000000"/>
                </a:solidFill>
                <a:latin typeface="Arial Black"/>
                <a:ea typeface="黑体"/>
              </a:rPr>
              <a:t>审计业务约定书的具体内容可能因被审计单位的不同而存在差异，但应当包 括下列主要方面：</a:t>
            </a:r>
            <a:endParaRPr b="1" lang="en-US" sz="2400" spc="-1" strike="noStrike">
              <a:solidFill>
                <a:srgbClr val="000000"/>
              </a:solidFill>
              <a:latin typeface="Arial"/>
            </a:endParaRPr>
          </a:p>
        </p:txBody>
      </p:sp>
      <p:grpSp>
        <p:nvGrpSpPr>
          <p:cNvPr id="1474" name="组合 91"/>
          <p:cNvGrpSpPr/>
          <p:nvPr/>
        </p:nvGrpSpPr>
        <p:grpSpPr>
          <a:xfrm>
            <a:off x="895320" y="404640"/>
            <a:ext cx="10360080" cy="0"/>
            <a:chOff x="895320" y="404640"/>
            <a:chExt cx="10360080" cy="0"/>
          </a:xfrm>
        </p:grpSpPr>
        <p:sp>
          <p:nvSpPr>
            <p:cNvPr id="1475" name="直接连接符 92"/>
            <p:cNvSpPr/>
            <p:nvPr/>
          </p:nvSpPr>
          <p:spPr>
            <a:xfrm>
              <a:off x="895320" y="404640"/>
              <a:ext cx="197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76" name="直接连接符 93"/>
            <p:cNvSpPr/>
            <p:nvPr/>
          </p:nvSpPr>
          <p:spPr>
            <a:xfrm>
              <a:off x="9276120" y="404640"/>
              <a:ext cx="197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1477" name="组合 124"/>
          <p:cNvGrpSpPr/>
          <p:nvPr/>
        </p:nvGrpSpPr>
        <p:grpSpPr>
          <a:xfrm>
            <a:off x="4079880" y="2441520"/>
            <a:ext cx="5403960" cy="822240"/>
            <a:chOff x="4079880" y="2441520"/>
            <a:chExt cx="5403960" cy="822240"/>
          </a:xfrm>
        </p:grpSpPr>
        <p:sp>
          <p:nvSpPr>
            <p:cNvPr id="1478" name="任意多边形 1"/>
            <p:cNvSpPr/>
            <p:nvPr/>
          </p:nvSpPr>
          <p:spPr>
            <a:xfrm>
              <a:off x="4079880" y="2532960"/>
              <a:ext cx="543960" cy="530280"/>
            </a:xfrm>
            <a:prstGeom prst="pie">
              <a:avLst/>
            </a:prstGeom>
            <a:solidFill>
              <a:srgbClr val="9999ff"/>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1</a:t>
              </a:r>
              <a:endParaRPr b="1" lang="en-US" sz="2400" spc="-1" strike="noStrike">
                <a:solidFill>
                  <a:srgbClr val="000000"/>
                </a:solidFill>
                <a:latin typeface="Arial"/>
              </a:endParaRPr>
            </a:p>
          </p:txBody>
        </p:sp>
        <p:sp>
          <p:nvSpPr>
            <p:cNvPr id="1479" name="矩形 2"/>
            <p:cNvSpPr/>
            <p:nvPr/>
          </p:nvSpPr>
          <p:spPr>
            <a:xfrm>
              <a:off x="4827600" y="2441520"/>
              <a:ext cx="4656240" cy="822240"/>
            </a:xfrm>
            <a:prstGeom prst="rect">
              <a:avLst/>
            </a:prstGeom>
            <a:noFill/>
            <a:ln w="0">
              <a:noFill/>
            </a:ln>
          </p:spPr>
          <p:style>
            <a:lnRef idx="0"/>
            <a:fillRef idx="0"/>
            <a:effectRef idx="0"/>
            <a:fontRef idx="minor"/>
          </p:style>
          <p:txBody>
            <a:bodyPr lIns="90000" rIns="90000" tIns="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财务报表审计的目标。</a:t>
              </a:r>
              <a:endParaRPr b="1" lang="en-US" sz="2400" spc="-1" strike="noStrike">
                <a:solidFill>
                  <a:srgbClr val="000000"/>
                </a:solidFill>
                <a:latin typeface="Arial"/>
              </a:endParaRPr>
            </a:p>
          </p:txBody>
        </p:sp>
      </p:grpSp>
      <p:grpSp>
        <p:nvGrpSpPr>
          <p:cNvPr id="1480" name="组合 125"/>
          <p:cNvGrpSpPr/>
          <p:nvPr/>
        </p:nvGrpSpPr>
        <p:grpSpPr>
          <a:xfrm>
            <a:off x="4079880" y="3197160"/>
            <a:ext cx="4649400" cy="739800"/>
            <a:chOff x="4079880" y="3197160"/>
            <a:chExt cx="4649400" cy="739800"/>
          </a:xfrm>
        </p:grpSpPr>
        <p:sp>
          <p:nvSpPr>
            <p:cNvPr id="1481" name="任意多边形 3"/>
            <p:cNvSpPr/>
            <p:nvPr/>
          </p:nvSpPr>
          <p:spPr>
            <a:xfrm>
              <a:off x="4079880" y="3275640"/>
              <a:ext cx="581760" cy="530640"/>
            </a:xfrm>
            <a:prstGeom prst="pie">
              <a:avLst/>
            </a:prstGeom>
            <a:solidFill>
              <a:srgbClr val="00b0f0"/>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2</a:t>
              </a:r>
              <a:endParaRPr b="1" lang="en-US" sz="2400" spc="-1" strike="noStrike">
                <a:solidFill>
                  <a:srgbClr val="000000"/>
                </a:solidFill>
                <a:latin typeface="Arial"/>
              </a:endParaRPr>
            </a:p>
          </p:txBody>
        </p:sp>
        <p:sp>
          <p:nvSpPr>
            <p:cNvPr id="1482" name="矩形 12"/>
            <p:cNvSpPr/>
            <p:nvPr/>
          </p:nvSpPr>
          <p:spPr>
            <a:xfrm>
              <a:off x="4791600" y="3197160"/>
              <a:ext cx="3937680" cy="739800"/>
            </a:xfrm>
            <a:prstGeom prst="rect">
              <a:avLst/>
            </a:prstGeom>
            <a:noFill/>
            <a:ln w="0">
              <a:noFill/>
            </a:ln>
          </p:spPr>
          <p:style>
            <a:lnRef idx="0"/>
            <a:fillRef idx="0"/>
            <a:effectRef idx="0"/>
            <a:fontRef idx="minor"/>
          </p:style>
          <p:txBody>
            <a:bodyPr lIns="90000" rIns="90000" tIns="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管理层对财务报表的责任。</a:t>
              </a:r>
              <a:endParaRPr b="1" lang="en-US" sz="2400" spc="-1" strike="noStrike">
                <a:solidFill>
                  <a:srgbClr val="000000"/>
                </a:solidFill>
                <a:latin typeface="Arial"/>
              </a:endParaRPr>
            </a:p>
          </p:txBody>
        </p:sp>
      </p:grpSp>
      <p:grpSp>
        <p:nvGrpSpPr>
          <p:cNvPr id="1483" name="组合 14"/>
          <p:cNvGrpSpPr/>
          <p:nvPr/>
        </p:nvGrpSpPr>
        <p:grpSpPr>
          <a:xfrm>
            <a:off x="4029120" y="3822840"/>
            <a:ext cx="8113320" cy="928440"/>
            <a:chOff x="4029120" y="3822840"/>
            <a:chExt cx="8113320" cy="928440"/>
          </a:xfrm>
        </p:grpSpPr>
        <p:sp>
          <p:nvSpPr>
            <p:cNvPr id="1484" name="任意多边形 19"/>
            <p:cNvSpPr/>
            <p:nvPr/>
          </p:nvSpPr>
          <p:spPr>
            <a:xfrm>
              <a:off x="4029120" y="4038840"/>
              <a:ext cx="562320" cy="557640"/>
            </a:xfrm>
            <a:prstGeom prst="pie">
              <a:avLst/>
            </a:prstGeom>
            <a:solidFill>
              <a:srgbClr val="5e5ca2"/>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3</a:t>
              </a:r>
              <a:endParaRPr b="1" lang="en-US" sz="2400" spc="-1" strike="noStrike">
                <a:solidFill>
                  <a:srgbClr val="000000"/>
                </a:solidFill>
                <a:latin typeface="Arial"/>
              </a:endParaRPr>
            </a:p>
          </p:txBody>
        </p:sp>
        <p:sp>
          <p:nvSpPr>
            <p:cNvPr id="1485" name="矩形 20"/>
            <p:cNvSpPr/>
            <p:nvPr/>
          </p:nvSpPr>
          <p:spPr>
            <a:xfrm>
              <a:off x="4626360" y="3822840"/>
              <a:ext cx="7516080" cy="928440"/>
            </a:xfrm>
            <a:prstGeom prst="rect">
              <a:avLst/>
            </a:prstGeom>
            <a:noFill/>
            <a:ln w="0">
              <a:noFill/>
            </a:ln>
          </p:spPr>
          <p:style>
            <a:lnRef idx="0"/>
            <a:fillRef idx="0"/>
            <a:effectRef idx="0"/>
            <a:fontRef idx="minor"/>
          </p:style>
          <p:txBody>
            <a:bodyPr lIns="90000" rIns="90000" tIns="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管理层编制财务报表采用的会计准则和相关会计制度。</a:t>
              </a:r>
              <a:endParaRPr b="1" lang="en-US" sz="2400" spc="-1" strike="noStrike">
                <a:solidFill>
                  <a:srgbClr val="000000"/>
                </a:solidFill>
                <a:latin typeface="Arial"/>
              </a:endParaRPr>
            </a:p>
          </p:txBody>
        </p:sp>
      </p:grpSp>
      <p:grpSp>
        <p:nvGrpSpPr>
          <p:cNvPr id="1486" name="组合 127"/>
          <p:cNvGrpSpPr/>
          <p:nvPr/>
        </p:nvGrpSpPr>
        <p:grpSpPr>
          <a:xfrm>
            <a:off x="4046400" y="4843440"/>
            <a:ext cx="7979040" cy="703440"/>
            <a:chOff x="4046400" y="4843440"/>
            <a:chExt cx="7979040" cy="703440"/>
          </a:xfrm>
        </p:grpSpPr>
        <p:sp>
          <p:nvSpPr>
            <p:cNvPr id="1487" name="任意多边形 30"/>
            <p:cNvSpPr/>
            <p:nvPr/>
          </p:nvSpPr>
          <p:spPr>
            <a:xfrm>
              <a:off x="4046400" y="4843440"/>
              <a:ext cx="562680" cy="558000"/>
            </a:xfrm>
            <a:prstGeom prst="pie">
              <a:avLst/>
            </a:prstGeom>
            <a:solidFill>
              <a:srgbClr val="2c85ae"/>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4</a:t>
              </a:r>
              <a:endParaRPr b="1" lang="en-US" sz="2400" spc="-1" strike="noStrike">
                <a:solidFill>
                  <a:srgbClr val="000000"/>
                </a:solidFill>
                <a:latin typeface="Arial"/>
              </a:endParaRPr>
            </a:p>
          </p:txBody>
        </p:sp>
        <p:sp>
          <p:nvSpPr>
            <p:cNvPr id="1488" name="矩形 31"/>
            <p:cNvSpPr/>
            <p:nvPr/>
          </p:nvSpPr>
          <p:spPr>
            <a:xfrm>
              <a:off x="4793400" y="4843440"/>
              <a:ext cx="7232040" cy="703440"/>
            </a:xfrm>
            <a:prstGeom prst="rect">
              <a:avLst/>
            </a:prstGeom>
            <a:noFill/>
            <a:ln w="0">
              <a:noFill/>
            </a:ln>
          </p:spPr>
          <p:style>
            <a:lnRef idx="0"/>
            <a:fillRef idx="0"/>
            <a:effectRef idx="0"/>
            <a:fontRef idx="minor"/>
          </p:style>
          <p:txBody>
            <a:bodyPr lIns="90000" rIns="90000" tIns="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审计范围包括指明在执行财务报表审计业务时遵守的中国注册会计师审计准则。</a:t>
              </a:r>
              <a:endParaRPr b="1" lang="en-US" sz="2400" spc="-1" strike="noStrike">
                <a:solidFill>
                  <a:srgbClr val="000000"/>
                </a:solidFill>
                <a:latin typeface="Arial"/>
              </a:endParaRPr>
            </a:p>
          </p:txBody>
        </p:sp>
      </p:grpSp>
      <p:grpSp>
        <p:nvGrpSpPr>
          <p:cNvPr id="1489" name="组合 128"/>
          <p:cNvGrpSpPr/>
          <p:nvPr/>
        </p:nvGrpSpPr>
        <p:grpSpPr>
          <a:xfrm>
            <a:off x="4029120" y="5581800"/>
            <a:ext cx="7994520" cy="871560"/>
            <a:chOff x="4029120" y="5581800"/>
            <a:chExt cx="7994520" cy="871560"/>
          </a:xfrm>
        </p:grpSpPr>
        <p:sp>
          <p:nvSpPr>
            <p:cNvPr id="1490" name="任意多边形 63"/>
            <p:cNvSpPr/>
            <p:nvPr/>
          </p:nvSpPr>
          <p:spPr>
            <a:xfrm>
              <a:off x="4029120" y="5725080"/>
              <a:ext cx="595080" cy="517680"/>
            </a:xfrm>
            <a:prstGeom prst="pie">
              <a:avLst/>
            </a:prstGeom>
            <a:solidFill>
              <a:srgbClr val="00a09d"/>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5</a:t>
              </a:r>
              <a:endParaRPr b="1" lang="en-US" sz="2400" spc="-1" strike="noStrike">
                <a:solidFill>
                  <a:srgbClr val="000000"/>
                </a:solidFill>
                <a:latin typeface="Arial"/>
              </a:endParaRPr>
            </a:p>
          </p:txBody>
        </p:sp>
        <p:sp>
          <p:nvSpPr>
            <p:cNvPr id="1491" name="矩形 35"/>
            <p:cNvSpPr/>
            <p:nvPr/>
          </p:nvSpPr>
          <p:spPr>
            <a:xfrm>
              <a:off x="4665960" y="5581800"/>
              <a:ext cx="7357680" cy="871560"/>
            </a:xfrm>
            <a:prstGeom prst="rect">
              <a:avLst/>
            </a:prstGeom>
            <a:noFill/>
            <a:ln w="0">
              <a:noFill/>
            </a:ln>
          </p:spPr>
          <p:style>
            <a:lnRef idx="0"/>
            <a:fillRef idx="0"/>
            <a:effectRef idx="0"/>
            <a:fontRef idx="minor"/>
          </p:style>
          <p:txBody>
            <a:bodyPr lIns="90000" rIns="90000" tIns="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执行审计工作的安排，包括出具审计报告的时间要求。</a:t>
              </a:r>
              <a:endParaRPr b="1" lang="en-US" sz="2400" spc="-1" strike="noStrike">
                <a:solidFill>
                  <a:srgbClr val="000000"/>
                </a:solidFill>
                <a:latin typeface="Arial"/>
              </a:endParaRPr>
            </a:p>
          </p:txBody>
        </p:sp>
      </p:grpSp>
      <p:grpSp>
        <p:nvGrpSpPr>
          <p:cNvPr id="1492" name="组合 273"/>
          <p:cNvGrpSpPr/>
          <p:nvPr/>
        </p:nvGrpSpPr>
        <p:grpSpPr>
          <a:xfrm>
            <a:off x="606600" y="2851200"/>
            <a:ext cx="3044520" cy="3862440"/>
            <a:chOff x="606600" y="2851200"/>
            <a:chExt cx="3044520" cy="3862440"/>
          </a:xfrm>
        </p:grpSpPr>
        <p:sp>
          <p:nvSpPr>
            <p:cNvPr id="1493" name="任意多边形 261"/>
            <p:cNvSpPr/>
            <p:nvPr/>
          </p:nvSpPr>
          <p:spPr>
            <a:xfrm flipH="1">
              <a:off x="2206080" y="4012560"/>
              <a:ext cx="488520" cy="482400"/>
            </a:xfrm>
            <a:custGeom>
              <a:avLst/>
              <a:gdLst/>
              <a:ahLst/>
              <a:rect l="l" t="t" r="r" b="b"/>
              <a:pathLst>
                <a:path w="120000" h="120000">
                  <a:moveTo>
                    <a:pt x="120000" y="60000"/>
                  </a:moveTo>
                  <a:lnTo>
                    <a:pt x="119945" y="63114"/>
                  </a:lnTo>
                  <a:lnTo>
                    <a:pt x="119728" y="66120"/>
                  </a:lnTo>
                  <a:lnTo>
                    <a:pt x="119294" y="69125"/>
                  </a:lnTo>
                  <a:lnTo>
                    <a:pt x="118751" y="72076"/>
                  </a:lnTo>
                  <a:lnTo>
                    <a:pt x="118154" y="74972"/>
                  </a:lnTo>
                  <a:lnTo>
                    <a:pt x="117286" y="77868"/>
                  </a:lnTo>
                  <a:lnTo>
                    <a:pt x="116363" y="80655"/>
                  </a:lnTo>
                  <a:lnTo>
                    <a:pt x="115278" y="83387"/>
                  </a:lnTo>
                  <a:lnTo>
                    <a:pt x="114138" y="86010"/>
                  </a:lnTo>
                  <a:lnTo>
                    <a:pt x="112781" y="88633"/>
                  </a:lnTo>
                  <a:lnTo>
                    <a:pt x="111316" y="91092"/>
                  </a:lnTo>
                  <a:lnTo>
                    <a:pt x="109742" y="93551"/>
                  </a:lnTo>
                  <a:lnTo>
                    <a:pt x="108113" y="95901"/>
                  </a:lnTo>
                  <a:lnTo>
                    <a:pt x="106322" y="98196"/>
                  </a:lnTo>
                  <a:lnTo>
                    <a:pt x="104423" y="100382"/>
                  </a:lnTo>
                  <a:lnTo>
                    <a:pt x="102415" y="102459"/>
                  </a:lnTo>
                  <a:lnTo>
                    <a:pt x="100352" y="104371"/>
                  </a:lnTo>
                  <a:lnTo>
                    <a:pt x="98181" y="106284"/>
                  </a:lnTo>
                  <a:lnTo>
                    <a:pt x="95902" y="108142"/>
                  </a:lnTo>
                  <a:lnTo>
                    <a:pt x="93568" y="109781"/>
                  </a:lnTo>
                  <a:lnTo>
                    <a:pt x="91126" y="111311"/>
                  </a:lnTo>
                  <a:lnTo>
                    <a:pt x="88575" y="112786"/>
                  </a:lnTo>
                  <a:lnTo>
                    <a:pt x="86024" y="114098"/>
                  </a:lnTo>
                  <a:lnTo>
                    <a:pt x="83364" y="115245"/>
                  </a:lnTo>
                  <a:lnTo>
                    <a:pt x="80651" y="116393"/>
                  </a:lnTo>
                  <a:lnTo>
                    <a:pt x="77829" y="117322"/>
                  </a:lnTo>
                  <a:lnTo>
                    <a:pt x="75006" y="118087"/>
                  </a:lnTo>
                  <a:lnTo>
                    <a:pt x="72130" y="118797"/>
                  </a:lnTo>
                  <a:lnTo>
                    <a:pt x="69145" y="119344"/>
                  </a:lnTo>
                  <a:lnTo>
                    <a:pt x="66160" y="119672"/>
                  </a:lnTo>
                  <a:lnTo>
                    <a:pt x="63066" y="119945"/>
                  </a:lnTo>
                  <a:lnTo>
                    <a:pt x="60027" y="120000"/>
                  </a:lnTo>
                  <a:lnTo>
                    <a:pt x="56933" y="119945"/>
                  </a:lnTo>
                  <a:lnTo>
                    <a:pt x="53894" y="119672"/>
                  </a:lnTo>
                  <a:lnTo>
                    <a:pt x="50854" y="119344"/>
                  </a:lnTo>
                  <a:lnTo>
                    <a:pt x="47924" y="118797"/>
                  </a:lnTo>
                  <a:lnTo>
                    <a:pt x="44993" y="118087"/>
                  </a:lnTo>
                  <a:lnTo>
                    <a:pt x="42170" y="117322"/>
                  </a:lnTo>
                  <a:lnTo>
                    <a:pt x="39402" y="116393"/>
                  </a:lnTo>
                  <a:lnTo>
                    <a:pt x="36689" y="115245"/>
                  </a:lnTo>
                  <a:lnTo>
                    <a:pt x="34029" y="114098"/>
                  </a:lnTo>
                  <a:lnTo>
                    <a:pt x="31424" y="112786"/>
                  </a:lnTo>
                  <a:lnTo>
                    <a:pt x="28873" y="111311"/>
                  </a:lnTo>
                  <a:lnTo>
                    <a:pt x="26485" y="109781"/>
                  </a:lnTo>
                  <a:lnTo>
                    <a:pt x="24097" y="108142"/>
                  </a:lnTo>
                  <a:lnTo>
                    <a:pt x="21872" y="106284"/>
                  </a:lnTo>
                  <a:lnTo>
                    <a:pt x="19701" y="104371"/>
                  </a:lnTo>
                  <a:lnTo>
                    <a:pt x="17584" y="102459"/>
                  </a:lnTo>
                  <a:lnTo>
                    <a:pt x="15576" y="100382"/>
                  </a:lnTo>
                  <a:lnTo>
                    <a:pt x="13731" y="98196"/>
                  </a:lnTo>
                  <a:lnTo>
                    <a:pt x="11940" y="95901"/>
                  </a:lnTo>
                  <a:lnTo>
                    <a:pt x="10312" y="93606"/>
                  </a:lnTo>
                  <a:lnTo>
                    <a:pt x="8683" y="91092"/>
                  </a:lnTo>
                  <a:lnTo>
                    <a:pt x="7272" y="88633"/>
                  </a:lnTo>
                  <a:lnTo>
                    <a:pt x="5915" y="86010"/>
                  </a:lnTo>
                  <a:lnTo>
                    <a:pt x="4721" y="83387"/>
                  </a:lnTo>
                  <a:lnTo>
                    <a:pt x="3690" y="80655"/>
                  </a:lnTo>
                  <a:lnTo>
                    <a:pt x="2713" y="77868"/>
                  </a:lnTo>
                  <a:lnTo>
                    <a:pt x="1899" y="74972"/>
                  </a:lnTo>
                  <a:lnTo>
                    <a:pt x="1248" y="72076"/>
                  </a:lnTo>
                  <a:lnTo>
                    <a:pt x="705" y="69125"/>
                  </a:lnTo>
                  <a:lnTo>
                    <a:pt x="325" y="66120"/>
                  </a:lnTo>
                  <a:lnTo>
                    <a:pt x="108" y="63114"/>
                  </a:lnTo>
                  <a:lnTo>
                    <a:pt x="0" y="60054"/>
                  </a:lnTo>
                  <a:lnTo>
                    <a:pt x="108" y="56885"/>
                  </a:lnTo>
                  <a:lnTo>
                    <a:pt x="325" y="53879"/>
                  </a:lnTo>
                  <a:lnTo>
                    <a:pt x="705" y="50874"/>
                  </a:lnTo>
                  <a:lnTo>
                    <a:pt x="1248" y="47923"/>
                  </a:lnTo>
                  <a:lnTo>
                    <a:pt x="1899" y="45027"/>
                  </a:lnTo>
                  <a:lnTo>
                    <a:pt x="2713" y="42131"/>
                  </a:lnTo>
                  <a:lnTo>
                    <a:pt x="3690" y="39344"/>
                  </a:lnTo>
                  <a:lnTo>
                    <a:pt x="4721" y="36666"/>
                  </a:lnTo>
                  <a:lnTo>
                    <a:pt x="5915" y="33989"/>
                  </a:lnTo>
                  <a:lnTo>
                    <a:pt x="7272" y="31366"/>
                  </a:lnTo>
                  <a:lnTo>
                    <a:pt x="8683" y="28907"/>
                  </a:lnTo>
                  <a:lnTo>
                    <a:pt x="10312" y="26502"/>
                  </a:lnTo>
                  <a:lnTo>
                    <a:pt x="11940" y="24098"/>
                  </a:lnTo>
                  <a:lnTo>
                    <a:pt x="13731" y="21857"/>
                  </a:lnTo>
                  <a:lnTo>
                    <a:pt x="15576" y="19672"/>
                  </a:lnTo>
                  <a:lnTo>
                    <a:pt x="17584" y="17595"/>
                  </a:lnTo>
                  <a:lnTo>
                    <a:pt x="19701" y="15628"/>
                  </a:lnTo>
                  <a:lnTo>
                    <a:pt x="21872" y="13715"/>
                  </a:lnTo>
                  <a:lnTo>
                    <a:pt x="24097" y="11967"/>
                  </a:lnTo>
                  <a:lnTo>
                    <a:pt x="26485" y="10218"/>
                  </a:lnTo>
                  <a:lnTo>
                    <a:pt x="28873" y="8688"/>
                  </a:lnTo>
                  <a:lnTo>
                    <a:pt x="31424" y="7267"/>
                  </a:lnTo>
                  <a:lnTo>
                    <a:pt x="34029" y="5956"/>
                  </a:lnTo>
                  <a:lnTo>
                    <a:pt x="36689" y="4754"/>
                  </a:lnTo>
                  <a:lnTo>
                    <a:pt x="39402" y="3661"/>
                  </a:lnTo>
                  <a:lnTo>
                    <a:pt x="42170" y="2732"/>
                  </a:lnTo>
                  <a:lnTo>
                    <a:pt x="44993" y="1912"/>
                  </a:lnTo>
                  <a:lnTo>
                    <a:pt x="47924" y="1256"/>
                  </a:lnTo>
                  <a:lnTo>
                    <a:pt x="50854" y="710"/>
                  </a:lnTo>
                  <a:lnTo>
                    <a:pt x="53894" y="327"/>
                  </a:lnTo>
                  <a:lnTo>
                    <a:pt x="56933" y="109"/>
                  </a:lnTo>
                  <a:lnTo>
                    <a:pt x="60027" y="0"/>
                  </a:lnTo>
                  <a:lnTo>
                    <a:pt x="63066" y="109"/>
                  </a:lnTo>
                  <a:lnTo>
                    <a:pt x="66160" y="327"/>
                  </a:lnTo>
                  <a:lnTo>
                    <a:pt x="69145" y="710"/>
                  </a:lnTo>
                  <a:lnTo>
                    <a:pt x="72130" y="1256"/>
                  </a:lnTo>
                  <a:lnTo>
                    <a:pt x="75006" y="1912"/>
                  </a:lnTo>
                  <a:lnTo>
                    <a:pt x="77829" y="2732"/>
                  </a:lnTo>
                  <a:lnTo>
                    <a:pt x="80651" y="3661"/>
                  </a:lnTo>
                  <a:lnTo>
                    <a:pt x="83364" y="4754"/>
                  </a:lnTo>
                  <a:lnTo>
                    <a:pt x="86024" y="5956"/>
                  </a:lnTo>
                  <a:lnTo>
                    <a:pt x="88575" y="7267"/>
                  </a:lnTo>
                  <a:lnTo>
                    <a:pt x="91126" y="8688"/>
                  </a:lnTo>
                  <a:lnTo>
                    <a:pt x="93568" y="10218"/>
                  </a:lnTo>
                  <a:lnTo>
                    <a:pt x="95902" y="11967"/>
                  </a:lnTo>
                  <a:lnTo>
                    <a:pt x="98181" y="13715"/>
                  </a:lnTo>
                  <a:lnTo>
                    <a:pt x="100352" y="15628"/>
                  </a:lnTo>
                  <a:lnTo>
                    <a:pt x="102415" y="17595"/>
                  </a:lnTo>
                  <a:lnTo>
                    <a:pt x="104423" y="19672"/>
                  </a:lnTo>
                  <a:lnTo>
                    <a:pt x="106322" y="21857"/>
                  </a:lnTo>
                  <a:lnTo>
                    <a:pt x="108113" y="24098"/>
                  </a:lnTo>
                  <a:lnTo>
                    <a:pt x="109742" y="26502"/>
                  </a:lnTo>
                  <a:lnTo>
                    <a:pt x="111316" y="28907"/>
                  </a:lnTo>
                  <a:lnTo>
                    <a:pt x="112781" y="31366"/>
                  </a:lnTo>
                  <a:lnTo>
                    <a:pt x="114138" y="33989"/>
                  </a:lnTo>
                  <a:lnTo>
                    <a:pt x="115278" y="36666"/>
                  </a:lnTo>
                  <a:lnTo>
                    <a:pt x="116363" y="39344"/>
                  </a:lnTo>
                  <a:lnTo>
                    <a:pt x="117286" y="42131"/>
                  </a:lnTo>
                  <a:lnTo>
                    <a:pt x="118154" y="45027"/>
                  </a:lnTo>
                  <a:lnTo>
                    <a:pt x="118751" y="47923"/>
                  </a:lnTo>
                  <a:lnTo>
                    <a:pt x="119294" y="50874"/>
                  </a:lnTo>
                  <a:lnTo>
                    <a:pt x="119728" y="53879"/>
                  </a:lnTo>
                  <a:lnTo>
                    <a:pt x="119945" y="56885"/>
                  </a:lnTo>
                  <a:lnTo>
                    <a:pt x="120000" y="6000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94" name="任意多边形 262"/>
            <p:cNvSpPr/>
            <p:nvPr/>
          </p:nvSpPr>
          <p:spPr>
            <a:xfrm flipH="1">
              <a:off x="1136880" y="4067280"/>
              <a:ext cx="1987200" cy="2584440"/>
            </a:xfrm>
            <a:custGeom>
              <a:avLst/>
              <a:gdLst/>
              <a:ahLst/>
              <a:rect l="l" t="t" r="r" b="b"/>
              <a:pathLst>
                <a:path w="120000" h="120000">
                  <a:moveTo>
                    <a:pt x="30807" y="117092"/>
                  </a:moveTo>
                  <a:lnTo>
                    <a:pt x="30353" y="115898"/>
                  </a:lnTo>
                  <a:lnTo>
                    <a:pt x="29926" y="114714"/>
                  </a:lnTo>
                  <a:lnTo>
                    <a:pt x="29552" y="113571"/>
                  </a:lnTo>
                  <a:lnTo>
                    <a:pt x="29205" y="112419"/>
                  </a:lnTo>
                  <a:lnTo>
                    <a:pt x="28898" y="111306"/>
                  </a:lnTo>
                  <a:lnTo>
                    <a:pt x="28604" y="110204"/>
                  </a:lnTo>
                  <a:lnTo>
                    <a:pt x="28364" y="109113"/>
                  </a:lnTo>
                  <a:lnTo>
                    <a:pt x="28150" y="108041"/>
                  </a:lnTo>
                  <a:lnTo>
                    <a:pt x="27936" y="106980"/>
                  </a:lnTo>
                  <a:lnTo>
                    <a:pt x="27776" y="105939"/>
                  </a:lnTo>
                  <a:lnTo>
                    <a:pt x="27643" y="104909"/>
                  </a:lnTo>
                  <a:lnTo>
                    <a:pt x="27522" y="103889"/>
                  </a:lnTo>
                  <a:lnTo>
                    <a:pt x="27415" y="102868"/>
                  </a:lnTo>
                  <a:lnTo>
                    <a:pt x="27362" y="101879"/>
                  </a:lnTo>
                  <a:lnTo>
                    <a:pt x="27295" y="100889"/>
                  </a:lnTo>
                  <a:lnTo>
                    <a:pt x="27269" y="99909"/>
                  </a:lnTo>
                  <a:lnTo>
                    <a:pt x="27255" y="98930"/>
                  </a:lnTo>
                  <a:lnTo>
                    <a:pt x="27269" y="97971"/>
                  </a:lnTo>
                  <a:lnTo>
                    <a:pt x="27282" y="97012"/>
                  </a:lnTo>
                  <a:lnTo>
                    <a:pt x="27335" y="96063"/>
                  </a:lnTo>
                  <a:lnTo>
                    <a:pt x="27375" y="95124"/>
                  </a:lnTo>
                  <a:lnTo>
                    <a:pt x="27442" y="94185"/>
                  </a:lnTo>
                  <a:lnTo>
                    <a:pt x="27522" y="93247"/>
                  </a:lnTo>
                  <a:lnTo>
                    <a:pt x="27602" y="92318"/>
                  </a:lnTo>
                  <a:lnTo>
                    <a:pt x="27709" y="91390"/>
                  </a:lnTo>
                  <a:lnTo>
                    <a:pt x="27816" y="90451"/>
                  </a:lnTo>
                  <a:lnTo>
                    <a:pt x="27923" y="89522"/>
                  </a:lnTo>
                  <a:lnTo>
                    <a:pt x="28043" y="88604"/>
                  </a:lnTo>
                  <a:lnTo>
                    <a:pt x="28283" y="86747"/>
                  </a:lnTo>
                  <a:lnTo>
                    <a:pt x="28564" y="84880"/>
                  </a:lnTo>
                  <a:lnTo>
                    <a:pt x="28764" y="83401"/>
                  </a:lnTo>
                  <a:lnTo>
                    <a:pt x="28978" y="81901"/>
                  </a:lnTo>
                  <a:lnTo>
                    <a:pt x="29178" y="80391"/>
                  </a:lnTo>
                  <a:lnTo>
                    <a:pt x="29365" y="78870"/>
                  </a:lnTo>
                  <a:lnTo>
                    <a:pt x="29525" y="77340"/>
                  </a:lnTo>
                  <a:lnTo>
                    <a:pt x="29672" y="75769"/>
                  </a:lnTo>
                  <a:lnTo>
                    <a:pt x="29726" y="74993"/>
                  </a:lnTo>
                  <a:lnTo>
                    <a:pt x="29793" y="74197"/>
                  </a:lnTo>
                  <a:lnTo>
                    <a:pt x="29833" y="73391"/>
                  </a:lnTo>
                  <a:lnTo>
                    <a:pt x="29873" y="72585"/>
                  </a:lnTo>
                  <a:lnTo>
                    <a:pt x="29899" y="71779"/>
                  </a:lnTo>
                  <a:lnTo>
                    <a:pt x="29913" y="70953"/>
                  </a:lnTo>
                  <a:lnTo>
                    <a:pt x="29926" y="70126"/>
                  </a:lnTo>
                  <a:lnTo>
                    <a:pt x="29926" y="69290"/>
                  </a:lnTo>
                  <a:lnTo>
                    <a:pt x="29913" y="68453"/>
                  </a:lnTo>
                  <a:lnTo>
                    <a:pt x="29886" y="67586"/>
                  </a:lnTo>
                  <a:lnTo>
                    <a:pt x="29846" y="66729"/>
                  </a:lnTo>
                  <a:lnTo>
                    <a:pt x="29793" y="65861"/>
                  </a:lnTo>
                  <a:lnTo>
                    <a:pt x="29726" y="64974"/>
                  </a:lnTo>
                  <a:lnTo>
                    <a:pt x="29646" y="64086"/>
                  </a:lnTo>
                  <a:lnTo>
                    <a:pt x="29552" y="63178"/>
                  </a:lnTo>
                  <a:lnTo>
                    <a:pt x="29432" y="62260"/>
                  </a:lnTo>
                  <a:lnTo>
                    <a:pt x="29312" y="61351"/>
                  </a:lnTo>
                  <a:lnTo>
                    <a:pt x="29165" y="60413"/>
                  </a:lnTo>
                  <a:lnTo>
                    <a:pt x="29005" y="59464"/>
                  </a:lnTo>
                  <a:lnTo>
                    <a:pt x="28818" y="58505"/>
                  </a:lnTo>
                  <a:lnTo>
                    <a:pt x="28631" y="57597"/>
                  </a:lnTo>
                  <a:lnTo>
                    <a:pt x="28390" y="56689"/>
                  </a:lnTo>
                  <a:lnTo>
                    <a:pt x="28150" y="55801"/>
                  </a:lnTo>
                  <a:lnTo>
                    <a:pt x="27870" y="54903"/>
                  </a:lnTo>
                  <a:lnTo>
                    <a:pt x="27549" y="54026"/>
                  </a:lnTo>
                  <a:lnTo>
                    <a:pt x="27229" y="53138"/>
                  </a:lnTo>
                  <a:lnTo>
                    <a:pt x="26868" y="52260"/>
                  </a:lnTo>
                  <a:lnTo>
                    <a:pt x="26494" y="51383"/>
                  </a:lnTo>
                  <a:lnTo>
                    <a:pt x="26080" y="50516"/>
                  </a:lnTo>
                  <a:lnTo>
                    <a:pt x="25639" y="49648"/>
                  </a:lnTo>
                  <a:lnTo>
                    <a:pt x="25199" y="48781"/>
                  </a:lnTo>
                  <a:lnTo>
                    <a:pt x="24731" y="47914"/>
                  </a:lnTo>
                  <a:lnTo>
                    <a:pt x="24251" y="47067"/>
                  </a:lnTo>
                  <a:lnTo>
                    <a:pt x="23743" y="46200"/>
                  </a:lnTo>
                  <a:lnTo>
                    <a:pt x="23222" y="45353"/>
                  </a:lnTo>
                  <a:lnTo>
                    <a:pt x="22675" y="44506"/>
                  </a:lnTo>
                  <a:lnTo>
                    <a:pt x="22127" y="43659"/>
                  </a:lnTo>
                  <a:lnTo>
                    <a:pt x="21566" y="42822"/>
                  </a:lnTo>
                  <a:lnTo>
                    <a:pt x="20979" y="41976"/>
                  </a:lnTo>
                  <a:lnTo>
                    <a:pt x="20405" y="41139"/>
                  </a:lnTo>
                  <a:lnTo>
                    <a:pt x="19790" y="40312"/>
                  </a:lnTo>
                  <a:lnTo>
                    <a:pt x="19189" y="39476"/>
                  </a:lnTo>
                  <a:lnTo>
                    <a:pt x="18562" y="38649"/>
                  </a:lnTo>
                  <a:lnTo>
                    <a:pt x="17947" y="37823"/>
                  </a:lnTo>
                  <a:lnTo>
                    <a:pt x="16665" y="36180"/>
                  </a:lnTo>
                  <a:lnTo>
                    <a:pt x="15370" y="34548"/>
                  </a:lnTo>
                  <a:lnTo>
                    <a:pt x="14075" y="32915"/>
                  </a:lnTo>
                  <a:lnTo>
                    <a:pt x="12766" y="31293"/>
                  </a:lnTo>
                  <a:lnTo>
                    <a:pt x="11671" y="29926"/>
                  </a:lnTo>
                  <a:lnTo>
                    <a:pt x="10576" y="28568"/>
                  </a:lnTo>
                  <a:lnTo>
                    <a:pt x="9521" y="27222"/>
                  </a:lnTo>
                  <a:lnTo>
                    <a:pt x="8466" y="25875"/>
                  </a:lnTo>
                  <a:lnTo>
                    <a:pt x="7451" y="24559"/>
                  </a:lnTo>
                  <a:lnTo>
                    <a:pt x="6476" y="23232"/>
                  </a:lnTo>
                  <a:lnTo>
                    <a:pt x="6009" y="22579"/>
                  </a:lnTo>
                  <a:lnTo>
                    <a:pt x="5541" y="21926"/>
                  </a:lnTo>
                  <a:lnTo>
                    <a:pt x="5101" y="21283"/>
                  </a:lnTo>
                  <a:lnTo>
                    <a:pt x="4660" y="20641"/>
                  </a:lnTo>
                  <a:lnTo>
                    <a:pt x="4246" y="19998"/>
                  </a:lnTo>
                  <a:lnTo>
                    <a:pt x="3832" y="19355"/>
                  </a:lnTo>
                  <a:lnTo>
                    <a:pt x="3445" y="18722"/>
                  </a:lnTo>
                  <a:lnTo>
                    <a:pt x="3058" y="18080"/>
                  </a:lnTo>
                  <a:lnTo>
                    <a:pt x="2697" y="17447"/>
                  </a:lnTo>
                  <a:lnTo>
                    <a:pt x="2363" y="16825"/>
                  </a:lnTo>
                  <a:lnTo>
                    <a:pt x="2029" y="16202"/>
                  </a:lnTo>
                  <a:lnTo>
                    <a:pt x="1722" y="15580"/>
                  </a:lnTo>
                  <a:lnTo>
                    <a:pt x="1455" y="14968"/>
                  </a:lnTo>
                  <a:lnTo>
                    <a:pt x="1175" y="14355"/>
                  </a:lnTo>
                  <a:lnTo>
                    <a:pt x="948" y="13733"/>
                  </a:lnTo>
                  <a:lnTo>
                    <a:pt x="707" y="13131"/>
                  </a:lnTo>
                  <a:lnTo>
                    <a:pt x="520" y="12519"/>
                  </a:lnTo>
                  <a:lnTo>
                    <a:pt x="333" y="11927"/>
                  </a:lnTo>
                  <a:lnTo>
                    <a:pt x="186" y="11315"/>
                  </a:lnTo>
                  <a:lnTo>
                    <a:pt x="53" y="10723"/>
                  </a:lnTo>
                  <a:lnTo>
                    <a:pt x="13" y="10468"/>
                  </a:lnTo>
                  <a:lnTo>
                    <a:pt x="0" y="10223"/>
                  </a:lnTo>
                  <a:lnTo>
                    <a:pt x="13" y="9988"/>
                  </a:lnTo>
                  <a:lnTo>
                    <a:pt x="40" y="9754"/>
                  </a:lnTo>
                  <a:lnTo>
                    <a:pt x="80" y="9529"/>
                  </a:lnTo>
                  <a:lnTo>
                    <a:pt x="146" y="9315"/>
                  </a:lnTo>
                  <a:lnTo>
                    <a:pt x="213" y="9111"/>
                  </a:lnTo>
                  <a:lnTo>
                    <a:pt x="320" y="8917"/>
                  </a:lnTo>
                  <a:lnTo>
                    <a:pt x="413" y="8713"/>
                  </a:lnTo>
                  <a:lnTo>
                    <a:pt x="520" y="8540"/>
                  </a:lnTo>
                  <a:lnTo>
                    <a:pt x="654" y="8376"/>
                  </a:lnTo>
                  <a:lnTo>
                    <a:pt x="787" y="8213"/>
                  </a:lnTo>
                  <a:lnTo>
                    <a:pt x="908" y="8050"/>
                  </a:lnTo>
                  <a:lnTo>
                    <a:pt x="1041" y="7907"/>
                  </a:lnTo>
                  <a:lnTo>
                    <a:pt x="1188" y="7774"/>
                  </a:lnTo>
                  <a:lnTo>
                    <a:pt x="1322" y="7662"/>
                  </a:lnTo>
                  <a:lnTo>
                    <a:pt x="1575" y="7448"/>
                  </a:lnTo>
                  <a:lnTo>
                    <a:pt x="1842" y="7254"/>
                  </a:lnTo>
                  <a:lnTo>
                    <a:pt x="2136" y="7050"/>
                  </a:lnTo>
                  <a:lnTo>
                    <a:pt x="2443" y="6876"/>
                  </a:lnTo>
                  <a:lnTo>
                    <a:pt x="2737" y="6713"/>
                  </a:lnTo>
                  <a:lnTo>
                    <a:pt x="3084" y="6550"/>
                  </a:lnTo>
                  <a:lnTo>
                    <a:pt x="3418" y="6407"/>
                  </a:lnTo>
                  <a:lnTo>
                    <a:pt x="3752" y="6274"/>
                  </a:lnTo>
                  <a:lnTo>
                    <a:pt x="4113" y="6162"/>
                  </a:lnTo>
                  <a:lnTo>
                    <a:pt x="4460" y="6060"/>
                  </a:lnTo>
                  <a:lnTo>
                    <a:pt x="4820" y="5968"/>
                  </a:lnTo>
                  <a:lnTo>
                    <a:pt x="5194" y="5897"/>
                  </a:lnTo>
                  <a:lnTo>
                    <a:pt x="5568" y="5836"/>
                  </a:lnTo>
                  <a:lnTo>
                    <a:pt x="5929" y="5795"/>
                  </a:lnTo>
                  <a:lnTo>
                    <a:pt x="6303" y="5775"/>
                  </a:lnTo>
                  <a:lnTo>
                    <a:pt x="6663" y="5764"/>
                  </a:lnTo>
                  <a:lnTo>
                    <a:pt x="6850" y="5764"/>
                  </a:lnTo>
                  <a:lnTo>
                    <a:pt x="7064" y="5775"/>
                  </a:lnTo>
                  <a:lnTo>
                    <a:pt x="7264" y="5785"/>
                  </a:lnTo>
                  <a:lnTo>
                    <a:pt x="7478" y="5805"/>
                  </a:lnTo>
                  <a:lnTo>
                    <a:pt x="7678" y="5836"/>
                  </a:lnTo>
                  <a:lnTo>
                    <a:pt x="7905" y="5866"/>
                  </a:lnTo>
                  <a:lnTo>
                    <a:pt x="8132" y="5928"/>
                  </a:lnTo>
                  <a:lnTo>
                    <a:pt x="8359" y="5979"/>
                  </a:lnTo>
                  <a:lnTo>
                    <a:pt x="8573" y="6050"/>
                  </a:lnTo>
                  <a:lnTo>
                    <a:pt x="8787" y="6132"/>
                  </a:lnTo>
                  <a:lnTo>
                    <a:pt x="9000" y="6223"/>
                  </a:lnTo>
                  <a:lnTo>
                    <a:pt x="9214" y="6336"/>
                  </a:lnTo>
                  <a:lnTo>
                    <a:pt x="9414" y="6458"/>
                  </a:lnTo>
                  <a:lnTo>
                    <a:pt x="9614" y="6591"/>
                  </a:lnTo>
                  <a:lnTo>
                    <a:pt x="9801" y="6744"/>
                  </a:lnTo>
                  <a:lnTo>
                    <a:pt x="9975" y="6917"/>
                  </a:lnTo>
                  <a:lnTo>
                    <a:pt x="10576" y="7550"/>
                  </a:lnTo>
                  <a:lnTo>
                    <a:pt x="11204" y="8223"/>
                  </a:lnTo>
                  <a:lnTo>
                    <a:pt x="11858" y="8938"/>
                  </a:lnTo>
                  <a:lnTo>
                    <a:pt x="12512" y="9703"/>
                  </a:lnTo>
                  <a:lnTo>
                    <a:pt x="13193" y="10478"/>
                  </a:lnTo>
                  <a:lnTo>
                    <a:pt x="13888" y="11294"/>
                  </a:lnTo>
                  <a:lnTo>
                    <a:pt x="14596" y="12131"/>
                  </a:lnTo>
                  <a:lnTo>
                    <a:pt x="15330" y="12988"/>
                  </a:lnTo>
                  <a:lnTo>
                    <a:pt x="16652" y="14559"/>
                  </a:lnTo>
                  <a:lnTo>
                    <a:pt x="18028" y="16161"/>
                  </a:lnTo>
                  <a:lnTo>
                    <a:pt x="18722" y="16978"/>
                  </a:lnTo>
                  <a:lnTo>
                    <a:pt x="19443" y="17784"/>
                  </a:lnTo>
                  <a:lnTo>
                    <a:pt x="20151" y="18590"/>
                  </a:lnTo>
                  <a:lnTo>
                    <a:pt x="20885" y="19396"/>
                  </a:lnTo>
                  <a:lnTo>
                    <a:pt x="21606" y="20192"/>
                  </a:lnTo>
                  <a:lnTo>
                    <a:pt x="22341" y="20967"/>
                  </a:lnTo>
                  <a:lnTo>
                    <a:pt x="23089" y="21753"/>
                  </a:lnTo>
                  <a:lnTo>
                    <a:pt x="23837" y="22518"/>
                  </a:lnTo>
                  <a:lnTo>
                    <a:pt x="24611" y="23263"/>
                  </a:lnTo>
                  <a:lnTo>
                    <a:pt x="25372" y="23987"/>
                  </a:lnTo>
                  <a:lnTo>
                    <a:pt x="26133" y="24712"/>
                  </a:lnTo>
                  <a:lnTo>
                    <a:pt x="26921" y="25395"/>
                  </a:lnTo>
                  <a:lnTo>
                    <a:pt x="27709" y="26069"/>
                  </a:lnTo>
                  <a:lnTo>
                    <a:pt x="28497" y="26701"/>
                  </a:lnTo>
                  <a:lnTo>
                    <a:pt x="29272" y="27314"/>
                  </a:lnTo>
                  <a:lnTo>
                    <a:pt x="30073" y="27885"/>
                  </a:lnTo>
                  <a:lnTo>
                    <a:pt x="30874" y="28436"/>
                  </a:lnTo>
                  <a:lnTo>
                    <a:pt x="31675" y="28946"/>
                  </a:lnTo>
                  <a:lnTo>
                    <a:pt x="32477" y="29415"/>
                  </a:lnTo>
                  <a:lnTo>
                    <a:pt x="33291" y="29844"/>
                  </a:lnTo>
                  <a:lnTo>
                    <a:pt x="34106" y="30232"/>
                  </a:lnTo>
                  <a:lnTo>
                    <a:pt x="34920" y="30589"/>
                  </a:lnTo>
                  <a:lnTo>
                    <a:pt x="35735" y="30885"/>
                  </a:lnTo>
                  <a:lnTo>
                    <a:pt x="36550" y="31130"/>
                  </a:lnTo>
                  <a:lnTo>
                    <a:pt x="37378" y="31323"/>
                  </a:lnTo>
                  <a:lnTo>
                    <a:pt x="38192" y="31466"/>
                  </a:lnTo>
                  <a:lnTo>
                    <a:pt x="39020" y="31558"/>
                  </a:lnTo>
                  <a:lnTo>
                    <a:pt x="39821" y="31589"/>
                  </a:lnTo>
                  <a:lnTo>
                    <a:pt x="40222" y="31578"/>
                  </a:lnTo>
                  <a:lnTo>
                    <a:pt x="40609" y="31558"/>
                  </a:lnTo>
                  <a:lnTo>
                    <a:pt x="41010" y="31527"/>
                  </a:lnTo>
                  <a:lnTo>
                    <a:pt x="41384" y="31476"/>
                  </a:lnTo>
                  <a:lnTo>
                    <a:pt x="41571" y="31446"/>
                  </a:lnTo>
                  <a:lnTo>
                    <a:pt x="41771" y="31405"/>
                  </a:lnTo>
                  <a:lnTo>
                    <a:pt x="41958" y="31364"/>
                  </a:lnTo>
                  <a:lnTo>
                    <a:pt x="42172" y="31303"/>
                  </a:lnTo>
                  <a:lnTo>
                    <a:pt x="42586" y="31181"/>
                  </a:lnTo>
                  <a:lnTo>
                    <a:pt x="43013" y="31038"/>
                  </a:lnTo>
                  <a:lnTo>
                    <a:pt x="43427" y="30874"/>
                  </a:lnTo>
                  <a:lnTo>
                    <a:pt x="43868" y="30691"/>
                  </a:lnTo>
                  <a:lnTo>
                    <a:pt x="44295" y="30487"/>
                  </a:lnTo>
                  <a:lnTo>
                    <a:pt x="44722" y="30293"/>
                  </a:lnTo>
                  <a:lnTo>
                    <a:pt x="45136" y="30068"/>
                  </a:lnTo>
                  <a:lnTo>
                    <a:pt x="45550" y="29844"/>
                  </a:lnTo>
                  <a:lnTo>
                    <a:pt x="45951" y="29630"/>
                  </a:lnTo>
                  <a:lnTo>
                    <a:pt x="46338" y="29405"/>
                  </a:lnTo>
                  <a:lnTo>
                    <a:pt x="47033" y="28987"/>
                  </a:lnTo>
                  <a:lnTo>
                    <a:pt x="47660" y="28599"/>
                  </a:lnTo>
                  <a:lnTo>
                    <a:pt x="47727" y="28568"/>
                  </a:lnTo>
                  <a:lnTo>
                    <a:pt x="48275" y="28201"/>
                  </a:lnTo>
                  <a:lnTo>
                    <a:pt x="48809" y="27824"/>
                  </a:lnTo>
                  <a:lnTo>
                    <a:pt x="49356" y="27426"/>
                  </a:lnTo>
                  <a:lnTo>
                    <a:pt x="49917" y="26987"/>
                  </a:lnTo>
                  <a:lnTo>
                    <a:pt x="50465" y="26538"/>
                  </a:lnTo>
                  <a:lnTo>
                    <a:pt x="51026" y="26069"/>
                  </a:lnTo>
                  <a:lnTo>
                    <a:pt x="51600" y="25569"/>
                  </a:lnTo>
                  <a:lnTo>
                    <a:pt x="52161" y="25059"/>
                  </a:lnTo>
                  <a:lnTo>
                    <a:pt x="52735" y="24528"/>
                  </a:lnTo>
                  <a:lnTo>
                    <a:pt x="53296" y="23987"/>
                  </a:lnTo>
                  <a:lnTo>
                    <a:pt x="53870" y="23426"/>
                  </a:lnTo>
                  <a:lnTo>
                    <a:pt x="54444" y="22855"/>
                  </a:lnTo>
                  <a:lnTo>
                    <a:pt x="55018" y="22273"/>
                  </a:lnTo>
                  <a:lnTo>
                    <a:pt x="55593" y="21661"/>
                  </a:lnTo>
                  <a:lnTo>
                    <a:pt x="56167" y="21049"/>
                  </a:lnTo>
                  <a:lnTo>
                    <a:pt x="56741" y="20416"/>
                  </a:lnTo>
                  <a:lnTo>
                    <a:pt x="57890" y="19151"/>
                  </a:lnTo>
                  <a:lnTo>
                    <a:pt x="59051" y="17835"/>
                  </a:lnTo>
                  <a:lnTo>
                    <a:pt x="60200" y="16488"/>
                  </a:lnTo>
                  <a:lnTo>
                    <a:pt x="61335" y="15151"/>
                  </a:lnTo>
                  <a:lnTo>
                    <a:pt x="62470" y="13774"/>
                  </a:lnTo>
                  <a:lnTo>
                    <a:pt x="63592" y="12427"/>
                  </a:lnTo>
                  <a:lnTo>
                    <a:pt x="64687" y="11070"/>
                  </a:lnTo>
                  <a:lnTo>
                    <a:pt x="65782" y="9723"/>
                  </a:lnTo>
                  <a:lnTo>
                    <a:pt x="66276" y="9121"/>
                  </a:lnTo>
                  <a:lnTo>
                    <a:pt x="66757" y="8529"/>
                  </a:lnTo>
                  <a:lnTo>
                    <a:pt x="67237" y="7938"/>
                  </a:lnTo>
                  <a:lnTo>
                    <a:pt x="67718" y="7356"/>
                  </a:lnTo>
                  <a:lnTo>
                    <a:pt x="68172" y="6785"/>
                  </a:lnTo>
                  <a:lnTo>
                    <a:pt x="68640" y="6213"/>
                  </a:lnTo>
                  <a:lnTo>
                    <a:pt x="69107" y="5662"/>
                  </a:lnTo>
                  <a:lnTo>
                    <a:pt x="69574" y="5111"/>
                  </a:lnTo>
                  <a:lnTo>
                    <a:pt x="70028" y="4581"/>
                  </a:lnTo>
                  <a:lnTo>
                    <a:pt x="70456" y="4050"/>
                  </a:lnTo>
                  <a:lnTo>
                    <a:pt x="70896" y="3540"/>
                  </a:lnTo>
                  <a:lnTo>
                    <a:pt x="71337" y="3050"/>
                  </a:lnTo>
                  <a:lnTo>
                    <a:pt x="71751" y="2561"/>
                  </a:lnTo>
                  <a:lnTo>
                    <a:pt x="72165" y="2091"/>
                  </a:lnTo>
                  <a:lnTo>
                    <a:pt x="72566" y="1642"/>
                  </a:lnTo>
                  <a:lnTo>
                    <a:pt x="72980" y="1203"/>
                  </a:lnTo>
                  <a:lnTo>
                    <a:pt x="73100" y="1061"/>
                  </a:lnTo>
                  <a:lnTo>
                    <a:pt x="73260" y="928"/>
                  </a:lnTo>
                  <a:lnTo>
                    <a:pt x="73420" y="806"/>
                  </a:lnTo>
                  <a:lnTo>
                    <a:pt x="73594" y="683"/>
                  </a:lnTo>
                  <a:lnTo>
                    <a:pt x="73794" y="591"/>
                  </a:lnTo>
                  <a:lnTo>
                    <a:pt x="73981" y="489"/>
                  </a:lnTo>
                  <a:lnTo>
                    <a:pt x="74182" y="387"/>
                  </a:lnTo>
                  <a:lnTo>
                    <a:pt x="74395" y="316"/>
                  </a:lnTo>
                  <a:lnTo>
                    <a:pt x="74622" y="244"/>
                  </a:lnTo>
                  <a:lnTo>
                    <a:pt x="74849" y="183"/>
                  </a:lnTo>
                  <a:lnTo>
                    <a:pt x="75090" y="122"/>
                  </a:lnTo>
                  <a:lnTo>
                    <a:pt x="75343" y="81"/>
                  </a:lnTo>
                  <a:lnTo>
                    <a:pt x="75584" y="51"/>
                  </a:lnTo>
                  <a:lnTo>
                    <a:pt x="75851" y="30"/>
                  </a:lnTo>
                  <a:lnTo>
                    <a:pt x="76131" y="0"/>
                  </a:lnTo>
                  <a:lnTo>
                    <a:pt x="76398" y="0"/>
                  </a:lnTo>
                  <a:lnTo>
                    <a:pt x="76786" y="10"/>
                  </a:lnTo>
                  <a:lnTo>
                    <a:pt x="77160" y="40"/>
                  </a:lnTo>
                  <a:lnTo>
                    <a:pt x="77533" y="81"/>
                  </a:lnTo>
                  <a:lnTo>
                    <a:pt x="77921" y="132"/>
                  </a:lnTo>
                  <a:lnTo>
                    <a:pt x="78281" y="214"/>
                  </a:lnTo>
                  <a:lnTo>
                    <a:pt x="78655" y="306"/>
                  </a:lnTo>
                  <a:lnTo>
                    <a:pt x="79016" y="397"/>
                  </a:lnTo>
                  <a:lnTo>
                    <a:pt x="79376" y="510"/>
                  </a:lnTo>
                  <a:lnTo>
                    <a:pt x="79737" y="642"/>
                  </a:lnTo>
                  <a:lnTo>
                    <a:pt x="80071" y="785"/>
                  </a:lnTo>
                  <a:lnTo>
                    <a:pt x="80405" y="938"/>
                  </a:lnTo>
                  <a:lnTo>
                    <a:pt x="80725" y="1101"/>
                  </a:lnTo>
                  <a:lnTo>
                    <a:pt x="81006" y="1295"/>
                  </a:lnTo>
                  <a:lnTo>
                    <a:pt x="81299" y="1479"/>
                  </a:lnTo>
                  <a:lnTo>
                    <a:pt x="81580" y="1683"/>
                  </a:lnTo>
                  <a:lnTo>
                    <a:pt x="81820" y="1887"/>
                  </a:lnTo>
                  <a:lnTo>
                    <a:pt x="81954" y="2010"/>
                  </a:lnTo>
                  <a:lnTo>
                    <a:pt x="82087" y="2142"/>
                  </a:lnTo>
                  <a:lnTo>
                    <a:pt x="82221" y="2275"/>
                  </a:lnTo>
                  <a:lnTo>
                    <a:pt x="82341" y="2428"/>
                  </a:lnTo>
                  <a:lnTo>
                    <a:pt x="82461" y="2581"/>
                  </a:lnTo>
                  <a:lnTo>
                    <a:pt x="82581" y="2734"/>
                  </a:lnTo>
                  <a:lnTo>
                    <a:pt x="82675" y="2918"/>
                  </a:lnTo>
                  <a:lnTo>
                    <a:pt x="82782" y="3091"/>
                  </a:lnTo>
                  <a:lnTo>
                    <a:pt x="82875" y="3295"/>
                  </a:lnTo>
                  <a:lnTo>
                    <a:pt x="82942" y="3479"/>
                  </a:lnTo>
                  <a:lnTo>
                    <a:pt x="82995" y="3683"/>
                  </a:lnTo>
                  <a:lnTo>
                    <a:pt x="83049" y="3897"/>
                  </a:lnTo>
                  <a:lnTo>
                    <a:pt x="83062" y="4122"/>
                  </a:lnTo>
                  <a:lnTo>
                    <a:pt x="83062" y="4346"/>
                  </a:lnTo>
                  <a:lnTo>
                    <a:pt x="83049" y="4591"/>
                  </a:lnTo>
                  <a:lnTo>
                    <a:pt x="83009" y="4836"/>
                  </a:lnTo>
                  <a:lnTo>
                    <a:pt x="82835" y="5611"/>
                  </a:lnTo>
                  <a:lnTo>
                    <a:pt x="82635" y="6377"/>
                  </a:lnTo>
                  <a:lnTo>
                    <a:pt x="82421" y="7142"/>
                  </a:lnTo>
                  <a:lnTo>
                    <a:pt x="82181" y="7897"/>
                  </a:lnTo>
                  <a:lnTo>
                    <a:pt x="81927" y="8662"/>
                  </a:lnTo>
                  <a:lnTo>
                    <a:pt x="81633" y="9407"/>
                  </a:lnTo>
                  <a:lnTo>
                    <a:pt x="81326" y="10152"/>
                  </a:lnTo>
                  <a:lnTo>
                    <a:pt x="81006" y="10897"/>
                  </a:lnTo>
                  <a:lnTo>
                    <a:pt x="80672" y="11631"/>
                  </a:lnTo>
                  <a:lnTo>
                    <a:pt x="80311" y="12366"/>
                  </a:lnTo>
                  <a:lnTo>
                    <a:pt x="79951" y="13090"/>
                  </a:lnTo>
                  <a:lnTo>
                    <a:pt x="79563" y="13815"/>
                  </a:lnTo>
                  <a:lnTo>
                    <a:pt x="79163" y="14529"/>
                  </a:lnTo>
                  <a:lnTo>
                    <a:pt x="78749" y="15233"/>
                  </a:lnTo>
                  <a:lnTo>
                    <a:pt x="78321" y="15947"/>
                  </a:lnTo>
                  <a:lnTo>
                    <a:pt x="77881" y="16651"/>
                  </a:lnTo>
                  <a:lnTo>
                    <a:pt x="77440" y="17345"/>
                  </a:lnTo>
                  <a:lnTo>
                    <a:pt x="76986" y="18039"/>
                  </a:lnTo>
                  <a:lnTo>
                    <a:pt x="76519" y="18733"/>
                  </a:lnTo>
                  <a:lnTo>
                    <a:pt x="76038" y="19406"/>
                  </a:lnTo>
                  <a:lnTo>
                    <a:pt x="75557" y="20090"/>
                  </a:lnTo>
                  <a:lnTo>
                    <a:pt x="75063" y="20763"/>
                  </a:lnTo>
                  <a:lnTo>
                    <a:pt x="74582" y="21426"/>
                  </a:lnTo>
                  <a:lnTo>
                    <a:pt x="74088" y="22079"/>
                  </a:lnTo>
                  <a:lnTo>
                    <a:pt x="73087" y="23395"/>
                  </a:lnTo>
                  <a:lnTo>
                    <a:pt x="72085" y="24691"/>
                  </a:lnTo>
                  <a:lnTo>
                    <a:pt x="71083" y="25956"/>
                  </a:lnTo>
                  <a:lnTo>
                    <a:pt x="70082" y="27201"/>
                  </a:lnTo>
                  <a:lnTo>
                    <a:pt x="68947" y="28640"/>
                  </a:lnTo>
                  <a:lnTo>
                    <a:pt x="67825" y="30048"/>
                  </a:lnTo>
                  <a:lnTo>
                    <a:pt x="67291" y="30742"/>
                  </a:lnTo>
                  <a:lnTo>
                    <a:pt x="66770" y="31425"/>
                  </a:lnTo>
                  <a:lnTo>
                    <a:pt x="66263" y="32109"/>
                  </a:lnTo>
                  <a:lnTo>
                    <a:pt x="65768" y="32782"/>
                  </a:lnTo>
                  <a:lnTo>
                    <a:pt x="65288" y="33456"/>
                  </a:lnTo>
                  <a:lnTo>
                    <a:pt x="64834" y="34119"/>
                  </a:lnTo>
                  <a:lnTo>
                    <a:pt x="64406" y="34772"/>
                  </a:lnTo>
                  <a:lnTo>
                    <a:pt x="63979" y="35415"/>
                  </a:lnTo>
                  <a:lnTo>
                    <a:pt x="63592" y="36058"/>
                  </a:lnTo>
                  <a:lnTo>
                    <a:pt x="63218" y="36690"/>
                  </a:lnTo>
                  <a:lnTo>
                    <a:pt x="62884" y="37313"/>
                  </a:lnTo>
                  <a:lnTo>
                    <a:pt x="62563" y="37935"/>
                  </a:lnTo>
                  <a:lnTo>
                    <a:pt x="62296" y="38537"/>
                  </a:lnTo>
                  <a:lnTo>
                    <a:pt x="62043" y="39149"/>
                  </a:lnTo>
                  <a:lnTo>
                    <a:pt x="61829" y="39741"/>
                  </a:lnTo>
                  <a:lnTo>
                    <a:pt x="61655" y="40323"/>
                  </a:lnTo>
                  <a:lnTo>
                    <a:pt x="61522" y="40914"/>
                  </a:lnTo>
                  <a:lnTo>
                    <a:pt x="61402" y="41486"/>
                  </a:lnTo>
                  <a:lnTo>
                    <a:pt x="61348" y="42047"/>
                  </a:lnTo>
                  <a:lnTo>
                    <a:pt x="61335" y="42598"/>
                  </a:lnTo>
                  <a:lnTo>
                    <a:pt x="61348" y="43149"/>
                  </a:lnTo>
                  <a:lnTo>
                    <a:pt x="61402" y="43690"/>
                  </a:lnTo>
                  <a:lnTo>
                    <a:pt x="61522" y="44220"/>
                  </a:lnTo>
                  <a:lnTo>
                    <a:pt x="61682" y="44741"/>
                  </a:lnTo>
                  <a:lnTo>
                    <a:pt x="61896" y="45251"/>
                  </a:lnTo>
                  <a:lnTo>
                    <a:pt x="62150" y="45761"/>
                  </a:lnTo>
                  <a:lnTo>
                    <a:pt x="62470" y="46261"/>
                  </a:lnTo>
                  <a:lnTo>
                    <a:pt x="62831" y="46740"/>
                  </a:lnTo>
                  <a:lnTo>
                    <a:pt x="63124" y="47077"/>
                  </a:lnTo>
                  <a:lnTo>
                    <a:pt x="63432" y="47393"/>
                  </a:lnTo>
                  <a:lnTo>
                    <a:pt x="63752" y="47689"/>
                  </a:lnTo>
                  <a:lnTo>
                    <a:pt x="64086" y="47995"/>
                  </a:lnTo>
                  <a:lnTo>
                    <a:pt x="64433" y="48281"/>
                  </a:lnTo>
                  <a:lnTo>
                    <a:pt x="64780" y="48557"/>
                  </a:lnTo>
                  <a:lnTo>
                    <a:pt x="65154" y="48822"/>
                  </a:lnTo>
                  <a:lnTo>
                    <a:pt x="65555" y="49057"/>
                  </a:lnTo>
                  <a:lnTo>
                    <a:pt x="65955" y="49301"/>
                  </a:lnTo>
                  <a:lnTo>
                    <a:pt x="66383" y="49536"/>
                  </a:lnTo>
                  <a:lnTo>
                    <a:pt x="66810" y="49771"/>
                  </a:lnTo>
                  <a:lnTo>
                    <a:pt x="67251" y="49975"/>
                  </a:lnTo>
                  <a:lnTo>
                    <a:pt x="67718" y="50179"/>
                  </a:lnTo>
                  <a:lnTo>
                    <a:pt x="68199" y="50363"/>
                  </a:lnTo>
                  <a:lnTo>
                    <a:pt x="68693" y="50536"/>
                  </a:lnTo>
                  <a:lnTo>
                    <a:pt x="69200" y="50720"/>
                  </a:lnTo>
                  <a:lnTo>
                    <a:pt x="69721" y="50873"/>
                  </a:lnTo>
                  <a:lnTo>
                    <a:pt x="70255" y="51016"/>
                  </a:lnTo>
                  <a:lnTo>
                    <a:pt x="70803" y="51158"/>
                  </a:lnTo>
                  <a:lnTo>
                    <a:pt x="71377" y="51281"/>
                  </a:lnTo>
                  <a:lnTo>
                    <a:pt x="71951" y="51403"/>
                  </a:lnTo>
                  <a:lnTo>
                    <a:pt x="72552" y="51505"/>
                  </a:lnTo>
                  <a:lnTo>
                    <a:pt x="73180" y="51607"/>
                  </a:lnTo>
                  <a:lnTo>
                    <a:pt x="73808" y="51689"/>
                  </a:lnTo>
                  <a:lnTo>
                    <a:pt x="74435" y="51760"/>
                  </a:lnTo>
                  <a:lnTo>
                    <a:pt x="75116" y="51832"/>
                  </a:lnTo>
                  <a:lnTo>
                    <a:pt x="75784" y="51883"/>
                  </a:lnTo>
                  <a:lnTo>
                    <a:pt x="76478" y="51924"/>
                  </a:lnTo>
                  <a:lnTo>
                    <a:pt x="77173" y="51975"/>
                  </a:lnTo>
                  <a:lnTo>
                    <a:pt x="77894" y="51995"/>
                  </a:lnTo>
                  <a:lnTo>
                    <a:pt x="78642" y="52005"/>
                  </a:lnTo>
                  <a:lnTo>
                    <a:pt x="79403" y="52015"/>
                  </a:lnTo>
                  <a:lnTo>
                    <a:pt x="80178" y="52005"/>
                  </a:lnTo>
                  <a:lnTo>
                    <a:pt x="80979" y="51995"/>
                  </a:lnTo>
                  <a:lnTo>
                    <a:pt x="81780" y="51964"/>
                  </a:lnTo>
                  <a:lnTo>
                    <a:pt x="82595" y="51924"/>
                  </a:lnTo>
                  <a:lnTo>
                    <a:pt x="83396" y="51883"/>
                  </a:lnTo>
                  <a:lnTo>
                    <a:pt x="84224" y="51832"/>
                  </a:lnTo>
                  <a:lnTo>
                    <a:pt x="85038" y="51771"/>
                  </a:lnTo>
                  <a:lnTo>
                    <a:pt x="85866" y="51699"/>
                  </a:lnTo>
                  <a:lnTo>
                    <a:pt x="86694" y="51618"/>
                  </a:lnTo>
                  <a:lnTo>
                    <a:pt x="87522" y="51546"/>
                  </a:lnTo>
                  <a:lnTo>
                    <a:pt x="88364" y="51444"/>
                  </a:lnTo>
                  <a:lnTo>
                    <a:pt x="89192" y="51342"/>
                  </a:lnTo>
                  <a:lnTo>
                    <a:pt x="90861" y="51138"/>
                  </a:lnTo>
                  <a:lnTo>
                    <a:pt x="92530" y="50903"/>
                  </a:lnTo>
                  <a:lnTo>
                    <a:pt x="94186" y="50648"/>
                  </a:lnTo>
                  <a:lnTo>
                    <a:pt x="95829" y="50383"/>
                  </a:lnTo>
                  <a:lnTo>
                    <a:pt x="97471" y="50107"/>
                  </a:lnTo>
                  <a:lnTo>
                    <a:pt x="99087" y="49822"/>
                  </a:lnTo>
                  <a:lnTo>
                    <a:pt x="100676" y="49536"/>
                  </a:lnTo>
                  <a:lnTo>
                    <a:pt x="102225" y="49250"/>
                  </a:lnTo>
                  <a:lnTo>
                    <a:pt x="103734" y="48955"/>
                  </a:lnTo>
                  <a:lnTo>
                    <a:pt x="105217" y="48679"/>
                  </a:lnTo>
                  <a:lnTo>
                    <a:pt x="106552" y="48424"/>
                  </a:lnTo>
                  <a:lnTo>
                    <a:pt x="107847" y="48169"/>
                  </a:lnTo>
                  <a:lnTo>
                    <a:pt x="109089" y="47934"/>
                  </a:lnTo>
                  <a:lnTo>
                    <a:pt x="110278" y="47730"/>
                  </a:lnTo>
                  <a:lnTo>
                    <a:pt x="111399" y="47526"/>
                  </a:lnTo>
                  <a:lnTo>
                    <a:pt x="112468" y="47353"/>
                  </a:lnTo>
                  <a:lnTo>
                    <a:pt x="113469" y="47200"/>
                  </a:lnTo>
                  <a:lnTo>
                    <a:pt x="114431" y="47067"/>
                  </a:lnTo>
                  <a:lnTo>
                    <a:pt x="114578" y="47057"/>
                  </a:lnTo>
                  <a:lnTo>
                    <a:pt x="114738" y="47047"/>
                  </a:lnTo>
                  <a:lnTo>
                    <a:pt x="114885" y="47036"/>
                  </a:lnTo>
                  <a:lnTo>
                    <a:pt x="115032" y="47036"/>
                  </a:lnTo>
                  <a:lnTo>
                    <a:pt x="115232" y="47036"/>
                  </a:lnTo>
                  <a:lnTo>
                    <a:pt x="115432" y="47057"/>
                  </a:lnTo>
                  <a:lnTo>
                    <a:pt x="115633" y="47077"/>
                  </a:lnTo>
                  <a:lnTo>
                    <a:pt x="115833" y="47098"/>
                  </a:lnTo>
                  <a:lnTo>
                    <a:pt x="116020" y="47138"/>
                  </a:lnTo>
                  <a:lnTo>
                    <a:pt x="116207" y="47189"/>
                  </a:lnTo>
                  <a:lnTo>
                    <a:pt x="116394" y="47240"/>
                  </a:lnTo>
                  <a:lnTo>
                    <a:pt x="116581" y="47291"/>
                  </a:lnTo>
                  <a:lnTo>
                    <a:pt x="116754" y="47363"/>
                  </a:lnTo>
                  <a:lnTo>
                    <a:pt x="116928" y="47444"/>
                  </a:lnTo>
                  <a:lnTo>
                    <a:pt x="117088" y="47516"/>
                  </a:lnTo>
                  <a:lnTo>
                    <a:pt x="117262" y="47608"/>
                  </a:lnTo>
                  <a:lnTo>
                    <a:pt x="117422" y="47689"/>
                  </a:lnTo>
                  <a:lnTo>
                    <a:pt x="117582" y="47791"/>
                  </a:lnTo>
                  <a:lnTo>
                    <a:pt x="117729" y="47893"/>
                  </a:lnTo>
                  <a:lnTo>
                    <a:pt x="117876" y="47995"/>
                  </a:lnTo>
                  <a:lnTo>
                    <a:pt x="118170" y="48220"/>
                  </a:lnTo>
                  <a:lnTo>
                    <a:pt x="118424" y="48465"/>
                  </a:lnTo>
                  <a:lnTo>
                    <a:pt x="118677" y="48720"/>
                  </a:lnTo>
                  <a:lnTo>
                    <a:pt x="118904" y="48985"/>
                  </a:lnTo>
                  <a:lnTo>
                    <a:pt x="119105" y="49261"/>
                  </a:lnTo>
                  <a:lnTo>
                    <a:pt x="119305" y="49536"/>
                  </a:lnTo>
                  <a:lnTo>
                    <a:pt x="119465" y="49822"/>
                  </a:lnTo>
                  <a:lnTo>
                    <a:pt x="119586" y="50107"/>
                  </a:lnTo>
                  <a:lnTo>
                    <a:pt x="119719" y="50403"/>
                  </a:lnTo>
                  <a:lnTo>
                    <a:pt x="119826" y="50720"/>
                  </a:lnTo>
                  <a:lnTo>
                    <a:pt x="119893" y="51036"/>
                  </a:lnTo>
                  <a:lnTo>
                    <a:pt x="119959" y="51352"/>
                  </a:lnTo>
                  <a:lnTo>
                    <a:pt x="119986" y="51689"/>
                  </a:lnTo>
                  <a:lnTo>
                    <a:pt x="120000" y="52015"/>
                  </a:lnTo>
                  <a:lnTo>
                    <a:pt x="119986" y="52179"/>
                  </a:lnTo>
                  <a:lnTo>
                    <a:pt x="119973" y="52352"/>
                  </a:lnTo>
                  <a:lnTo>
                    <a:pt x="119946" y="52515"/>
                  </a:lnTo>
                  <a:lnTo>
                    <a:pt x="119906" y="52679"/>
                  </a:lnTo>
                  <a:lnTo>
                    <a:pt x="119866" y="52842"/>
                  </a:lnTo>
                  <a:lnTo>
                    <a:pt x="119826" y="53005"/>
                  </a:lnTo>
                  <a:lnTo>
                    <a:pt x="119759" y="53179"/>
                  </a:lnTo>
                  <a:lnTo>
                    <a:pt x="119692" y="53332"/>
                  </a:lnTo>
                  <a:lnTo>
                    <a:pt x="119626" y="53495"/>
                  </a:lnTo>
                  <a:lnTo>
                    <a:pt x="119532" y="53648"/>
                  </a:lnTo>
                  <a:lnTo>
                    <a:pt x="119425" y="53801"/>
                  </a:lnTo>
                  <a:lnTo>
                    <a:pt x="119332" y="53954"/>
                  </a:lnTo>
                  <a:lnTo>
                    <a:pt x="119212" y="54097"/>
                  </a:lnTo>
                  <a:lnTo>
                    <a:pt x="119078" y="54240"/>
                  </a:lnTo>
                  <a:lnTo>
                    <a:pt x="118958" y="54393"/>
                  </a:lnTo>
                  <a:lnTo>
                    <a:pt x="118798" y="54536"/>
                  </a:lnTo>
                  <a:lnTo>
                    <a:pt x="118637" y="54668"/>
                  </a:lnTo>
                  <a:lnTo>
                    <a:pt x="118464" y="54791"/>
                  </a:lnTo>
                  <a:lnTo>
                    <a:pt x="118277" y="54913"/>
                  </a:lnTo>
                  <a:lnTo>
                    <a:pt x="118077" y="55036"/>
                  </a:lnTo>
                  <a:lnTo>
                    <a:pt x="117329" y="55464"/>
                  </a:lnTo>
                  <a:lnTo>
                    <a:pt x="116567" y="55862"/>
                  </a:lnTo>
                  <a:lnTo>
                    <a:pt x="115780" y="56240"/>
                  </a:lnTo>
                  <a:lnTo>
                    <a:pt x="115005" y="56607"/>
                  </a:lnTo>
                  <a:lnTo>
                    <a:pt x="114204" y="56944"/>
                  </a:lnTo>
                  <a:lnTo>
                    <a:pt x="113403" y="57280"/>
                  </a:lnTo>
                  <a:lnTo>
                    <a:pt x="112575" y="57586"/>
                  </a:lnTo>
                  <a:lnTo>
                    <a:pt x="111747" y="57872"/>
                  </a:lnTo>
                  <a:lnTo>
                    <a:pt x="110919" y="58148"/>
                  </a:lnTo>
                  <a:lnTo>
                    <a:pt x="110064" y="58403"/>
                  </a:lnTo>
                  <a:lnTo>
                    <a:pt x="109196" y="58658"/>
                  </a:lnTo>
                  <a:lnTo>
                    <a:pt x="108328" y="58872"/>
                  </a:lnTo>
                  <a:lnTo>
                    <a:pt x="107460" y="59097"/>
                  </a:lnTo>
                  <a:lnTo>
                    <a:pt x="106565" y="59311"/>
                  </a:lnTo>
                  <a:lnTo>
                    <a:pt x="105671" y="59494"/>
                  </a:lnTo>
                  <a:lnTo>
                    <a:pt x="104762" y="59678"/>
                  </a:lnTo>
                  <a:lnTo>
                    <a:pt x="103854" y="59852"/>
                  </a:lnTo>
                  <a:lnTo>
                    <a:pt x="102933" y="60015"/>
                  </a:lnTo>
                  <a:lnTo>
                    <a:pt x="102012" y="60158"/>
                  </a:lnTo>
                  <a:lnTo>
                    <a:pt x="101077" y="60300"/>
                  </a:lnTo>
                  <a:lnTo>
                    <a:pt x="100129" y="60443"/>
                  </a:lnTo>
                  <a:lnTo>
                    <a:pt x="99194" y="60566"/>
                  </a:lnTo>
                  <a:lnTo>
                    <a:pt x="98232" y="60688"/>
                  </a:lnTo>
                  <a:lnTo>
                    <a:pt x="97271" y="60811"/>
                  </a:lnTo>
                  <a:lnTo>
                    <a:pt x="95334" y="61015"/>
                  </a:lnTo>
                  <a:lnTo>
                    <a:pt x="93371" y="61229"/>
                  </a:lnTo>
                  <a:lnTo>
                    <a:pt x="91395" y="61413"/>
                  </a:lnTo>
                  <a:lnTo>
                    <a:pt x="89405" y="61596"/>
                  </a:lnTo>
                  <a:lnTo>
                    <a:pt x="86921" y="61841"/>
                  </a:lnTo>
                  <a:lnTo>
                    <a:pt x="84451" y="62086"/>
                  </a:lnTo>
                  <a:lnTo>
                    <a:pt x="83209" y="62219"/>
                  </a:lnTo>
                  <a:lnTo>
                    <a:pt x="81967" y="62351"/>
                  </a:lnTo>
                  <a:lnTo>
                    <a:pt x="80738" y="62504"/>
                  </a:lnTo>
                  <a:lnTo>
                    <a:pt x="79496" y="62657"/>
                  </a:lnTo>
                  <a:lnTo>
                    <a:pt x="78281" y="62821"/>
                  </a:lnTo>
                  <a:lnTo>
                    <a:pt x="77053" y="63015"/>
                  </a:lnTo>
                  <a:lnTo>
                    <a:pt x="75837" y="63208"/>
                  </a:lnTo>
                  <a:lnTo>
                    <a:pt x="74636" y="63423"/>
                  </a:lnTo>
                  <a:lnTo>
                    <a:pt x="73434" y="63637"/>
                  </a:lnTo>
                  <a:lnTo>
                    <a:pt x="72245" y="63892"/>
                  </a:lnTo>
                  <a:lnTo>
                    <a:pt x="71070" y="64157"/>
                  </a:lnTo>
                  <a:lnTo>
                    <a:pt x="69908" y="64443"/>
                  </a:lnTo>
                  <a:lnTo>
                    <a:pt x="68746" y="64759"/>
                  </a:lnTo>
                  <a:lnTo>
                    <a:pt x="67611" y="65086"/>
                  </a:lnTo>
                  <a:lnTo>
                    <a:pt x="66476" y="65453"/>
                  </a:lnTo>
                  <a:lnTo>
                    <a:pt x="65368" y="65841"/>
                  </a:lnTo>
                  <a:lnTo>
                    <a:pt x="64273" y="66249"/>
                  </a:lnTo>
                  <a:lnTo>
                    <a:pt x="63191" y="66688"/>
                  </a:lnTo>
                  <a:lnTo>
                    <a:pt x="62136" y="67157"/>
                  </a:lnTo>
                  <a:lnTo>
                    <a:pt x="61081" y="67667"/>
                  </a:lnTo>
                  <a:lnTo>
                    <a:pt x="60066" y="68208"/>
                  </a:lnTo>
                  <a:lnTo>
                    <a:pt x="59065" y="68779"/>
                  </a:lnTo>
                  <a:lnTo>
                    <a:pt x="58090" y="69392"/>
                  </a:lnTo>
                  <a:lnTo>
                    <a:pt x="57128" y="70034"/>
                  </a:lnTo>
                  <a:lnTo>
                    <a:pt x="56194" y="70728"/>
                  </a:lnTo>
                  <a:lnTo>
                    <a:pt x="55286" y="71463"/>
                  </a:lnTo>
                  <a:lnTo>
                    <a:pt x="54404" y="72218"/>
                  </a:lnTo>
                  <a:lnTo>
                    <a:pt x="53549" y="73034"/>
                  </a:lnTo>
                  <a:lnTo>
                    <a:pt x="52388" y="74401"/>
                  </a:lnTo>
                  <a:lnTo>
                    <a:pt x="51293" y="75809"/>
                  </a:lnTo>
                  <a:lnTo>
                    <a:pt x="50278" y="77248"/>
                  </a:lnTo>
                  <a:lnTo>
                    <a:pt x="49330" y="78717"/>
                  </a:lnTo>
                  <a:lnTo>
                    <a:pt x="48435" y="80217"/>
                  </a:lnTo>
                  <a:lnTo>
                    <a:pt x="47620" y="81737"/>
                  </a:lnTo>
                  <a:lnTo>
                    <a:pt x="46846" y="83268"/>
                  </a:lnTo>
                  <a:lnTo>
                    <a:pt x="46151" y="84829"/>
                  </a:lnTo>
                  <a:lnTo>
                    <a:pt x="45497" y="86380"/>
                  </a:lnTo>
                  <a:lnTo>
                    <a:pt x="44896" y="87951"/>
                  </a:lnTo>
                  <a:lnTo>
                    <a:pt x="44362" y="89522"/>
                  </a:lnTo>
                  <a:lnTo>
                    <a:pt x="43868" y="91094"/>
                  </a:lnTo>
                  <a:lnTo>
                    <a:pt x="43414" y="92645"/>
                  </a:lnTo>
                  <a:lnTo>
                    <a:pt x="43026" y="94196"/>
                  </a:lnTo>
                  <a:lnTo>
                    <a:pt x="42666" y="95726"/>
                  </a:lnTo>
                  <a:lnTo>
                    <a:pt x="42345" y="97236"/>
                  </a:lnTo>
                  <a:lnTo>
                    <a:pt x="42065" y="98736"/>
                  </a:lnTo>
                  <a:lnTo>
                    <a:pt x="41825" y="100195"/>
                  </a:lnTo>
                  <a:lnTo>
                    <a:pt x="41598" y="101624"/>
                  </a:lnTo>
                  <a:lnTo>
                    <a:pt x="41424" y="103011"/>
                  </a:lnTo>
                  <a:lnTo>
                    <a:pt x="41277" y="104368"/>
                  </a:lnTo>
                  <a:lnTo>
                    <a:pt x="41144" y="105684"/>
                  </a:lnTo>
                  <a:lnTo>
                    <a:pt x="41063" y="106939"/>
                  </a:lnTo>
                  <a:lnTo>
                    <a:pt x="40970" y="108154"/>
                  </a:lnTo>
                  <a:lnTo>
                    <a:pt x="40930" y="109296"/>
                  </a:lnTo>
                  <a:lnTo>
                    <a:pt x="40890" y="110398"/>
                  </a:lnTo>
                  <a:lnTo>
                    <a:pt x="40863" y="111419"/>
                  </a:lnTo>
                  <a:lnTo>
                    <a:pt x="40863" y="112367"/>
                  </a:lnTo>
                  <a:lnTo>
                    <a:pt x="40863" y="113245"/>
                  </a:lnTo>
                  <a:lnTo>
                    <a:pt x="40876" y="114051"/>
                  </a:lnTo>
                  <a:lnTo>
                    <a:pt x="40890" y="114786"/>
                  </a:lnTo>
                  <a:lnTo>
                    <a:pt x="40916" y="115408"/>
                  </a:lnTo>
                  <a:lnTo>
                    <a:pt x="40903" y="115755"/>
                  </a:lnTo>
                  <a:lnTo>
                    <a:pt x="40863" y="116092"/>
                  </a:lnTo>
                  <a:lnTo>
                    <a:pt x="40756" y="116439"/>
                  </a:lnTo>
                  <a:lnTo>
                    <a:pt x="40623" y="116765"/>
                  </a:lnTo>
                  <a:lnTo>
                    <a:pt x="40436" y="117102"/>
                  </a:lnTo>
                  <a:lnTo>
                    <a:pt x="40235" y="117408"/>
                  </a:lnTo>
                  <a:lnTo>
                    <a:pt x="39982" y="117714"/>
                  </a:lnTo>
                  <a:lnTo>
                    <a:pt x="39715" y="118010"/>
                  </a:lnTo>
                  <a:lnTo>
                    <a:pt x="39407" y="118285"/>
                  </a:lnTo>
                  <a:lnTo>
                    <a:pt x="39087" y="118551"/>
                  </a:lnTo>
                  <a:lnTo>
                    <a:pt x="38740" y="118806"/>
                  </a:lnTo>
                  <a:lnTo>
                    <a:pt x="38366" y="119040"/>
                  </a:lnTo>
                  <a:lnTo>
                    <a:pt x="37979" y="119244"/>
                  </a:lnTo>
                  <a:lnTo>
                    <a:pt x="37578" y="119438"/>
                  </a:lnTo>
                  <a:lnTo>
                    <a:pt x="37151" y="119602"/>
                  </a:lnTo>
                  <a:lnTo>
                    <a:pt x="36737" y="119734"/>
                  </a:lnTo>
                  <a:lnTo>
                    <a:pt x="36309" y="119846"/>
                  </a:lnTo>
                  <a:lnTo>
                    <a:pt x="35869" y="119938"/>
                  </a:lnTo>
                  <a:lnTo>
                    <a:pt x="35441" y="119979"/>
                  </a:lnTo>
                  <a:lnTo>
                    <a:pt x="35001" y="120000"/>
                  </a:lnTo>
                  <a:lnTo>
                    <a:pt x="34573" y="119989"/>
                  </a:lnTo>
                  <a:lnTo>
                    <a:pt x="34146" y="119938"/>
                  </a:lnTo>
                  <a:lnTo>
                    <a:pt x="33719" y="119846"/>
                  </a:lnTo>
                  <a:lnTo>
                    <a:pt x="33318" y="119724"/>
                  </a:lnTo>
                  <a:lnTo>
                    <a:pt x="32931" y="119551"/>
                  </a:lnTo>
                  <a:lnTo>
                    <a:pt x="32557" y="119336"/>
                  </a:lnTo>
                  <a:lnTo>
                    <a:pt x="32196" y="119081"/>
                  </a:lnTo>
                  <a:lnTo>
                    <a:pt x="31862" y="118785"/>
                  </a:lnTo>
                  <a:lnTo>
                    <a:pt x="31555" y="118438"/>
                  </a:lnTo>
                  <a:lnTo>
                    <a:pt x="31275" y="118040"/>
                  </a:lnTo>
                  <a:lnTo>
                    <a:pt x="31021" y="117581"/>
                  </a:lnTo>
                  <a:lnTo>
                    <a:pt x="30807" y="117092"/>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95" name="任意多边形 263"/>
            <p:cNvSpPr/>
            <p:nvPr/>
          </p:nvSpPr>
          <p:spPr>
            <a:xfrm flipH="1">
              <a:off x="606600" y="4373640"/>
              <a:ext cx="691920" cy="682920"/>
            </a:xfrm>
            <a:custGeom>
              <a:avLst/>
              <a:gdLst/>
              <a:ahLst/>
              <a:rect l="l" t="t" r="r" b="b"/>
              <a:pathLst>
                <a:path w="120000" h="120000">
                  <a:moveTo>
                    <a:pt x="120000" y="60038"/>
                  </a:moveTo>
                  <a:lnTo>
                    <a:pt x="119923" y="63127"/>
                  </a:lnTo>
                  <a:lnTo>
                    <a:pt x="119693" y="66177"/>
                  </a:lnTo>
                  <a:lnTo>
                    <a:pt x="119309" y="69189"/>
                  </a:lnTo>
                  <a:lnTo>
                    <a:pt x="118772" y="72123"/>
                  </a:lnTo>
                  <a:lnTo>
                    <a:pt x="118120" y="75057"/>
                  </a:lnTo>
                  <a:lnTo>
                    <a:pt x="117276" y="77915"/>
                  </a:lnTo>
                  <a:lnTo>
                    <a:pt x="116355" y="80694"/>
                  </a:lnTo>
                  <a:lnTo>
                    <a:pt x="115281" y="83397"/>
                  </a:lnTo>
                  <a:lnTo>
                    <a:pt x="114053" y="86023"/>
                  </a:lnTo>
                  <a:lnTo>
                    <a:pt x="112749" y="88610"/>
                  </a:lnTo>
                  <a:lnTo>
                    <a:pt x="111329" y="91119"/>
                  </a:lnTo>
                  <a:lnTo>
                    <a:pt x="109718" y="93590"/>
                  </a:lnTo>
                  <a:lnTo>
                    <a:pt x="108069" y="95907"/>
                  </a:lnTo>
                  <a:lnTo>
                    <a:pt x="106304" y="98185"/>
                  </a:lnTo>
                  <a:lnTo>
                    <a:pt x="104424" y="100386"/>
                  </a:lnTo>
                  <a:lnTo>
                    <a:pt x="102429" y="102432"/>
                  </a:lnTo>
                  <a:lnTo>
                    <a:pt x="100319" y="104440"/>
                  </a:lnTo>
                  <a:lnTo>
                    <a:pt x="98171" y="106332"/>
                  </a:lnTo>
                  <a:lnTo>
                    <a:pt x="95907" y="108108"/>
                  </a:lnTo>
                  <a:lnTo>
                    <a:pt x="93529" y="109768"/>
                  </a:lnTo>
                  <a:lnTo>
                    <a:pt x="91112" y="111312"/>
                  </a:lnTo>
                  <a:lnTo>
                    <a:pt x="88618" y="112779"/>
                  </a:lnTo>
                  <a:lnTo>
                    <a:pt x="86010" y="114131"/>
                  </a:lnTo>
                  <a:lnTo>
                    <a:pt x="83363" y="115289"/>
                  </a:lnTo>
                  <a:lnTo>
                    <a:pt x="80639" y="116370"/>
                  </a:lnTo>
                  <a:lnTo>
                    <a:pt x="77838" y="117335"/>
                  </a:lnTo>
                  <a:lnTo>
                    <a:pt x="75000" y="118146"/>
                  </a:lnTo>
                  <a:lnTo>
                    <a:pt x="72084" y="118803"/>
                  </a:lnTo>
                  <a:lnTo>
                    <a:pt x="69168" y="119343"/>
                  </a:lnTo>
                  <a:lnTo>
                    <a:pt x="66138" y="119729"/>
                  </a:lnTo>
                  <a:lnTo>
                    <a:pt x="63107" y="119922"/>
                  </a:lnTo>
                  <a:lnTo>
                    <a:pt x="60000" y="119999"/>
                  </a:lnTo>
                  <a:lnTo>
                    <a:pt x="56930" y="119922"/>
                  </a:lnTo>
                  <a:lnTo>
                    <a:pt x="53861" y="119729"/>
                  </a:lnTo>
                  <a:lnTo>
                    <a:pt x="50869" y="119343"/>
                  </a:lnTo>
                  <a:lnTo>
                    <a:pt x="47915" y="118803"/>
                  </a:lnTo>
                  <a:lnTo>
                    <a:pt x="45038" y="118146"/>
                  </a:lnTo>
                  <a:lnTo>
                    <a:pt x="42161" y="117335"/>
                  </a:lnTo>
                  <a:lnTo>
                    <a:pt x="39360" y="116370"/>
                  </a:lnTo>
                  <a:lnTo>
                    <a:pt x="36636" y="115289"/>
                  </a:lnTo>
                  <a:lnTo>
                    <a:pt x="33951" y="114131"/>
                  </a:lnTo>
                  <a:lnTo>
                    <a:pt x="31381" y="112779"/>
                  </a:lnTo>
                  <a:lnTo>
                    <a:pt x="28887" y="111312"/>
                  </a:lnTo>
                  <a:lnTo>
                    <a:pt x="26432" y="109768"/>
                  </a:lnTo>
                  <a:lnTo>
                    <a:pt x="24053" y="108108"/>
                  </a:lnTo>
                  <a:lnTo>
                    <a:pt x="21828" y="106332"/>
                  </a:lnTo>
                  <a:lnTo>
                    <a:pt x="19641" y="104440"/>
                  </a:lnTo>
                  <a:lnTo>
                    <a:pt x="17570" y="102432"/>
                  </a:lnTo>
                  <a:lnTo>
                    <a:pt x="15537" y="100386"/>
                  </a:lnTo>
                  <a:lnTo>
                    <a:pt x="13657" y="98185"/>
                  </a:lnTo>
                  <a:lnTo>
                    <a:pt x="11930" y="95907"/>
                  </a:lnTo>
                  <a:lnTo>
                    <a:pt x="10242" y="93590"/>
                  </a:lnTo>
                  <a:lnTo>
                    <a:pt x="8670" y="91119"/>
                  </a:lnTo>
                  <a:lnTo>
                    <a:pt x="7212" y="88610"/>
                  </a:lnTo>
                  <a:lnTo>
                    <a:pt x="5907" y="86023"/>
                  </a:lnTo>
                  <a:lnTo>
                    <a:pt x="4680" y="83397"/>
                  </a:lnTo>
                  <a:lnTo>
                    <a:pt x="3606" y="80694"/>
                  </a:lnTo>
                  <a:lnTo>
                    <a:pt x="2685" y="77915"/>
                  </a:lnTo>
                  <a:lnTo>
                    <a:pt x="1879" y="75057"/>
                  </a:lnTo>
                  <a:lnTo>
                    <a:pt x="1189" y="72123"/>
                  </a:lnTo>
                  <a:lnTo>
                    <a:pt x="690" y="69189"/>
                  </a:lnTo>
                  <a:lnTo>
                    <a:pt x="268" y="66177"/>
                  </a:lnTo>
                  <a:lnTo>
                    <a:pt x="76" y="63127"/>
                  </a:lnTo>
                  <a:lnTo>
                    <a:pt x="0" y="60038"/>
                  </a:lnTo>
                  <a:lnTo>
                    <a:pt x="76" y="56949"/>
                  </a:lnTo>
                  <a:lnTo>
                    <a:pt x="268" y="53899"/>
                  </a:lnTo>
                  <a:lnTo>
                    <a:pt x="690" y="50888"/>
                  </a:lnTo>
                  <a:lnTo>
                    <a:pt x="1189" y="47953"/>
                  </a:lnTo>
                  <a:lnTo>
                    <a:pt x="1879" y="45057"/>
                  </a:lnTo>
                  <a:lnTo>
                    <a:pt x="2685" y="42200"/>
                  </a:lnTo>
                  <a:lnTo>
                    <a:pt x="3606" y="39420"/>
                  </a:lnTo>
                  <a:lnTo>
                    <a:pt x="4680" y="36718"/>
                  </a:lnTo>
                  <a:lnTo>
                    <a:pt x="5907" y="34015"/>
                  </a:lnTo>
                  <a:lnTo>
                    <a:pt x="7212" y="31428"/>
                  </a:lnTo>
                  <a:lnTo>
                    <a:pt x="8670" y="28957"/>
                  </a:lnTo>
                  <a:lnTo>
                    <a:pt x="10242" y="26486"/>
                  </a:lnTo>
                  <a:lnTo>
                    <a:pt x="11930" y="24131"/>
                  </a:lnTo>
                  <a:lnTo>
                    <a:pt x="13657" y="21891"/>
                  </a:lnTo>
                  <a:lnTo>
                    <a:pt x="15537" y="19729"/>
                  </a:lnTo>
                  <a:lnTo>
                    <a:pt x="17570" y="17644"/>
                  </a:lnTo>
                  <a:lnTo>
                    <a:pt x="19641" y="15637"/>
                  </a:lnTo>
                  <a:lnTo>
                    <a:pt x="21828" y="13745"/>
                  </a:lnTo>
                  <a:lnTo>
                    <a:pt x="24053" y="11969"/>
                  </a:lnTo>
                  <a:lnTo>
                    <a:pt x="26432" y="10270"/>
                  </a:lnTo>
                  <a:lnTo>
                    <a:pt x="28887" y="8725"/>
                  </a:lnTo>
                  <a:lnTo>
                    <a:pt x="31381" y="7297"/>
                  </a:lnTo>
                  <a:lnTo>
                    <a:pt x="33951" y="5945"/>
                  </a:lnTo>
                  <a:lnTo>
                    <a:pt x="36636" y="4749"/>
                  </a:lnTo>
                  <a:lnTo>
                    <a:pt x="39360" y="3706"/>
                  </a:lnTo>
                  <a:lnTo>
                    <a:pt x="42161" y="2741"/>
                  </a:lnTo>
                  <a:lnTo>
                    <a:pt x="45038" y="1930"/>
                  </a:lnTo>
                  <a:lnTo>
                    <a:pt x="47915" y="1274"/>
                  </a:lnTo>
                  <a:lnTo>
                    <a:pt x="50869" y="733"/>
                  </a:lnTo>
                  <a:lnTo>
                    <a:pt x="53861" y="347"/>
                  </a:lnTo>
                  <a:lnTo>
                    <a:pt x="56930" y="115"/>
                  </a:lnTo>
                  <a:lnTo>
                    <a:pt x="60000" y="0"/>
                  </a:lnTo>
                  <a:lnTo>
                    <a:pt x="63107" y="115"/>
                  </a:lnTo>
                  <a:lnTo>
                    <a:pt x="66138" y="347"/>
                  </a:lnTo>
                  <a:lnTo>
                    <a:pt x="69168" y="733"/>
                  </a:lnTo>
                  <a:lnTo>
                    <a:pt x="72084" y="1274"/>
                  </a:lnTo>
                  <a:lnTo>
                    <a:pt x="75000" y="1930"/>
                  </a:lnTo>
                  <a:lnTo>
                    <a:pt x="77838" y="2741"/>
                  </a:lnTo>
                  <a:lnTo>
                    <a:pt x="80639" y="3706"/>
                  </a:lnTo>
                  <a:lnTo>
                    <a:pt x="83363" y="4749"/>
                  </a:lnTo>
                  <a:lnTo>
                    <a:pt x="86010" y="5945"/>
                  </a:lnTo>
                  <a:lnTo>
                    <a:pt x="88618" y="7297"/>
                  </a:lnTo>
                  <a:lnTo>
                    <a:pt x="91112" y="8725"/>
                  </a:lnTo>
                  <a:lnTo>
                    <a:pt x="93529" y="10270"/>
                  </a:lnTo>
                  <a:lnTo>
                    <a:pt x="95907" y="11969"/>
                  </a:lnTo>
                  <a:lnTo>
                    <a:pt x="98171" y="13745"/>
                  </a:lnTo>
                  <a:lnTo>
                    <a:pt x="100319" y="15637"/>
                  </a:lnTo>
                  <a:lnTo>
                    <a:pt x="102429" y="17644"/>
                  </a:lnTo>
                  <a:lnTo>
                    <a:pt x="104424" y="19729"/>
                  </a:lnTo>
                  <a:lnTo>
                    <a:pt x="106304" y="21891"/>
                  </a:lnTo>
                  <a:lnTo>
                    <a:pt x="108069" y="24131"/>
                  </a:lnTo>
                  <a:lnTo>
                    <a:pt x="109718" y="26486"/>
                  </a:lnTo>
                  <a:lnTo>
                    <a:pt x="111329" y="28957"/>
                  </a:lnTo>
                  <a:lnTo>
                    <a:pt x="112749" y="31428"/>
                  </a:lnTo>
                  <a:lnTo>
                    <a:pt x="114053" y="34015"/>
                  </a:lnTo>
                  <a:lnTo>
                    <a:pt x="115281" y="36718"/>
                  </a:lnTo>
                  <a:lnTo>
                    <a:pt x="116355" y="39420"/>
                  </a:lnTo>
                  <a:lnTo>
                    <a:pt x="117276" y="42200"/>
                  </a:lnTo>
                  <a:lnTo>
                    <a:pt x="118120" y="45057"/>
                  </a:lnTo>
                  <a:lnTo>
                    <a:pt x="118772" y="47953"/>
                  </a:lnTo>
                  <a:lnTo>
                    <a:pt x="119309" y="50888"/>
                  </a:lnTo>
                  <a:lnTo>
                    <a:pt x="119693" y="53899"/>
                  </a:lnTo>
                  <a:lnTo>
                    <a:pt x="119923" y="56949"/>
                  </a:lnTo>
                  <a:lnTo>
                    <a:pt x="120000" y="60038"/>
                  </a:lnTo>
                  <a:close/>
                </a:path>
              </a:pathLst>
            </a:custGeom>
            <a:solidFill>
              <a:srgbClr val="5e5ca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96" name="任意多边形 264"/>
            <p:cNvSpPr/>
            <p:nvPr/>
          </p:nvSpPr>
          <p:spPr>
            <a:xfrm flipH="1">
              <a:off x="1146960" y="3924720"/>
              <a:ext cx="488520" cy="482400"/>
            </a:xfrm>
            <a:custGeom>
              <a:avLst/>
              <a:gdLst/>
              <a:ahLst/>
              <a:rect l="l" t="t" r="r" b="b"/>
              <a:pathLst>
                <a:path w="120000" h="120000">
                  <a:moveTo>
                    <a:pt x="120000" y="59972"/>
                  </a:moveTo>
                  <a:lnTo>
                    <a:pt x="119945" y="63088"/>
                  </a:lnTo>
                  <a:lnTo>
                    <a:pt x="119674" y="66095"/>
                  </a:lnTo>
                  <a:lnTo>
                    <a:pt x="119294" y="69157"/>
                  </a:lnTo>
                  <a:lnTo>
                    <a:pt x="118751" y="72109"/>
                  </a:lnTo>
                  <a:lnTo>
                    <a:pt x="118100" y="75006"/>
                  </a:lnTo>
                  <a:lnTo>
                    <a:pt x="117286" y="77904"/>
                  </a:lnTo>
                  <a:lnTo>
                    <a:pt x="116309" y="80637"/>
                  </a:lnTo>
                  <a:lnTo>
                    <a:pt x="115278" y="83371"/>
                  </a:lnTo>
                  <a:lnTo>
                    <a:pt x="114084" y="86050"/>
                  </a:lnTo>
                  <a:lnTo>
                    <a:pt x="112727" y="88619"/>
                  </a:lnTo>
                  <a:lnTo>
                    <a:pt x="111316" y="91134"/>
                  </a:lnTo>
                  <a:lnTo>
                    <a:pt x="109687" y="93594"/>
                  </a:lnTo>
                  <a:lnTo>
                    <a:pt x="108059" y="95890"/>
                  </a:lnTo>
                  <a:lnTo>
                    <a:pt x="106268" y="98186"/>
                  </a:lnTo>
                  <a:lnTo>
                    <a:pt x="104369" y="100373"/>
                  </a:lnTo>
                  <a:lnTo>
                    <a:pt x="102360" y="102451"/>
                  </a:lnTo>
                  <a:lnTo>
                    <a:pt x="100298" y="104419"/>
                  </a:lnTo>
                  <a:lnTo>
                    <a:pt x="98127" y="106332"/>
                  </a:lnTo>
                  <a:lnTo>
                    <a:pt x="95902" y="108082"/>
                  </a:lnTo>
                  <a:lnTo>
                    <a:pt x="93514" y="109776"/>
                  </a:lnTo>
                  <a:lnTo>
                    <a:pt x="91126" y="111307"/>
                  </a:lnTo>
                  <a:lnTo>
                    <a:pt x="88575" y="112783"/>
                  </a:lnTo>
                  <a:lnTo>
                    <a:pt x="85970" y="114095"/>
                  </a:lnTo>
                  <a:lnTo>
                    <a:pt x="83310" y="115298"/>
                  </a:lnTo>
                  <a:lnTo>
                    <a:pt x="80597" y="116337"/>
                  </a:lnTo>
                  <a:lnTo>
                    <a:pt x="77829" y="117321"/>
                  </a:lnTo>
                  <a:lnTo>
                    <a:pt x="74952" y="118141"/>
                  </a:lnTo>
                  <a:lnTo>
                    <a:pt x="72075" y="118797"/>
                  </a:lnTo>
                  <a:lnTo>
                    <a:pt x="69145" y="119289"/>
                  </a:lnTo>
                  <a:lnTo>
                    <a:pt x="66105" y="119726"/>
                  </a:lnTo>
                  <a:lnTo>
                    <a:pt x="63066" y="119945"/>
                  </a:lnTo>
                  <a:lnTo>
                    <a:pt x="59972" y="120000"/>
                  </a:lnTo>
                  <a:lnTo>
                    <a:pt x="56933" y="119945"/>
                  </a:lnTo>
                  <a:lnTo>
                    <a:pt x="53839" y="119726"/>
                  </a:lnTo>
                  <a:lnTo>
                    <a:pt x="50800" y="119289"/>
                  </a:lnTo>
                  <a:lnTo>
                    <a:pt x="47869" y="118797"/>
                  </a:lnTo>
                  <a:lnTo>
                    <a:pt x="44993" y="118141"/>
                  </a:lnTo>
                  <a:lnTo>
                    <a:pt x="42116" y="117321"/>
                  </a:lnTo>
                  <a:lnTo>
                    <a:pt x="39348" y="116337"/>
                  </a:lnTo>
                  <a:lnTo>
                    <a:pt x="36635" y="115298"/>
                  </a:lnTo>
                  <a:lnTo>
                    <a:pt x="33921" y="114095"/>
                  </a:lnTo>
                  <a:lnTo>
                    <a:pt x="31370" y="112783"/>
                  </a:lnTo>
                  <a:lnTo>
                    <a:pt x="28873" y="111307"/>
                  </a:lnTo>
                  <a:lnTo>
                    <a:pt x="26431" y="109776"/>
                  </a:lnTo>
                  <a:lnTo>
                    <a:pt x="24097" y="108082"/>
                  </a:lnTo>
                  <a:lnTo>
                    <a:pt x="21818" y="106332"/>
                  </a:lnTo>
                  <a:lnTo>
                    <a:pt x="19647" y="104419"/>
                  </a:lnTo>
                  <a:lnTo>
                    <a:pt x="17584" y="102451"/>
                  </a:lnTo>
                  <a:lnTo>
                    <a:pt x="15576" y="100373"/>
                  </a:lnTo>
                  <a:lnTo>
                    <a:pt x="13677" y="98186"/>
                  </a:lnTo>
                  <a:lnTo>
                    <a:pt x="11886" y="95890"/>
                  </a:lnTo>
                  <a:lnTo>
                    <a:pt x="10257" y="93594"/>
                  </a:lnTo>
                  <a:lnTo>
                    <a:pt x="8629" y="91134"/>
                  </a:lnTo>
                  <a:lnTo>
                    <a:pt x="7218" y="88619"/>
                  </a:lnTo>
                  <a:lnTo>
                    <a:pt x="5861" y="86050"/>
                  </a:lnTo>
                  <a:lnTo>
                    <a:pt x="4721" y="83371"/>
                  </a:lnTo>
                  <a:lnTo>
                    <a:pt x="3636" y="80637"/>
                  </a:lnTo>
                  <a:lnTo>
                    <a:pt x="2713" y="77904"/>
                  </a:lnTo>
                  <a:lnTo>
                    <a:pt x="1845" y="75006"/>
                  </a:lnTo>
                  <a:lnTo>
                    <a:pt x="1194" y="72109"/>
                  </a:lnTo>
                  <a:lnTo>
                    <a:pt x="705" y="69157"/>
                  </a:lnTo>
                  <a:lnTo>
                    <a:pt x="271" y="66095"/>
                  </a:lnTo>
                  <a:lnTo>
                    <a:pt x="54" y="63088"/>
                  </a:lnTo>
                  <a:lnTo>
                    <a:pt x="0" y="59972"/>
                  </a:lnTo>
                  <a:lnTo>
                    <a:pt x="54" y="56911"/>
                  </a:lnTo>
                  <a:lnTo>
                    <a:pt x="271" y="53904"/>
                  </a:lnTo>
                  <a:lnTo>
                    <a:pt x="705" y="50897"/>
                  </a:lnTo>
                  <a:lnTo>
                    <a:pt x="1194" y="47945"/>
                  </a:lnTo>
                  <a:lnTo>
                    <a:pt x="1845" y="45047"/>
                  </a:lnTo>
                  <a:lnTo>
                    <a:pt x="2713" y="42150"/>
                  </a:lnTo>
                  <a:lnTo>
                    <a:pt x="3636" y="39362"/>
                  </a:lnTo>
                  <a:lnTo>
                    <a:pt x="4721" y="36628"/>
                  </a:lnTo>
                  <a:lnTo>
                    <a:pt x="5861" y="33949"/>
                  </a:lnTo>
                  <a:lnTo>
                    <a:pt x="7218" y="31380"/>
                  </a:lnTo>
                  <a:lnTo>
                    <a:pt x="8629" y="28865"/>
                  </a:lnTo>
                  <a:lnTo>
                    <a:pt x="10257" y="26460"/>
                  </a:lnTo>
                  <a:lnTo>
                    <a:pt x="11886" y="24109"/>
                  </a:lnTo>
                  <a:lnTo>
                    <a:pt x="13677" y="21813"/>
                  </a:lnTo>
                  <a:lnTo>
                    <a:pt x="15576" y="19681"/>
                  </a:lnTo>
                  <a:lnTo>
                    <a:pt x="17584" y="17548"/>
                  </a:lnTo>
                  <a:lnTo>
                    <a:pt x="19647" y="15580"/>
                  </a:lnTo>
                  <a:lnTo>
                    <a:pt x="21818" y="13722"/>
                  </a:lnTo>
                  <a:lnTo>
                    <a:pt x="24097" y="11917"/>
                  </a:lnTo>
                  <a:lnTo>
                    <a:pt x="26431" y="10223"/>
                  </a:lnTo>
                  <a:lnTo>
                    <a:pt x="28873" y="8692"/>
                  </a:lnTo>
                  <a:lnTo>
                    <a:pt x="31370" y="7216"/>
                  </a:lnTo>
                  <a:lnTo>
                    <a:pt x="33921" y="5904"/>
                  </a:lnTo>
                  <a:lnTo>
                    <a:pt x="36635" y="4701"/>
                  </a:lnTo>
                  <a:lnTo>
                    <a:pt x="39348" y="3662"/>
                  </a:lnTo>
                  <a:lnTo>
                    <a:pt x="42116" y="2733"/>
                  </a:lnTo>
                  <a:lnTo>
                    <a:pt x="44993" y="1913"/>
                  </a:lnTo>
                  <a:lnTo>
                    <a:pt x="47869" y="1257"/>
                  </a:lnTo>
                  <a:lnTo>
                    <a:pt x="50800" y="710"/>
                  </a:lnTo>
                  <a:lnTo>
                    <a:pt x="53839" y="273"/>
                  </a:lnTo>
                  <a:lnTo>
                    <a:pt x="56933" y="54"/>
                  </a:lnTo>
                  <a:lnTo>
                    <a:pt x="59972" y="0"/>
                  </a:lnTo>
                  <a:lnTo>
                    <a:pt x="63066" y="54"/>
                  </a:lnTo>
                  <a:lnTo>
                    <a:pt x="66105" y="273"/>
                  </a:lnTo>
                  <a:lnTo>
                    <a:pt x="69145" y="710"/>
                  </a:lnTo>
                  <a:lnTo>
                    <a:pt x="72075" y="1257"/>
                  </a:lnTo>
                  <a:lnTo>
                    <a:pt x="74952" y="1913"/>
                  </a:lnTo>
                  <a:lnTo>
                    <a:pt x="77829" y="2733"/>
                  </a:lnTo>
                  <a:lnTo>
                    <a:pt x="80597" y="3662"/>
                  </a:lnTo>
                  <a:lnTo>
                    <a:pt x="83310" y="4701"/>
                  </a:lnTo>
                  <a:lnTo>
                    <a:pt x="85970" y="5904"/>
                  </a:lnTo>
                  <a:lnTo>
                    <a:pt x="88575" y="7216"/>
                  </a:lnTo>
                  <a:lnTo>
                    <a:pt x="91126" y="8692"/>
                  </a:lnTo>
                  <a:lnTo>
                    <a:pt x="93514" y="10223"/>
                  </a:lnTo>
                  <a:lnTo>
                    <a:pt x="95902" y="11917"/>
                  </a:lnTo>
                  <a:lnTo>
                    <a:pt x="98127" y="13722"/>
                  </a:lnTo>
                  <a:lnTo>
                    <a:pt x="100298" y="15580"/>
                  </a:lnTo>
                  <a:lnTo>
                    <a:pt x="102360" y="17548"/>
                  </a:lnTo>
                  <a:lnTo>
                    <a:pt x="104369" y="19681"/>
                  </a:lnTo>
                  <a:lnTo>
                    <a:pt x="106268" y="21813"/>
                  </a:lnTo>
                  <a:lnTo>
                    <a:pt x="108059" y="24109"/>
                  </a:lnTo>
                  <a:lnTo>
                    <a:pt x="109687" y="26460"/>
                  </a:lnTo>
                  <a:lnTo>
                    <a:pt x="111316" y="28865"/>
                  </a:lnTo>
                  <a:lnTo>
                    <a:pt x="112727" y="31380"/>
                  </a:lnTo>
                  <a:lnTo>
                    <a:pt x="114084" y="33949"/>
                  </a:lnTo>
                  <a:lnTo>
                    <a:pt x="115278" y="36628"/>
                  </a:lnTo>
                  <a:lnTo>
                    <a:pt x="116309" y="39362"/>
                  </a:lnTo>
                  <a:lnTo>
                    <a:pt x="117286" y="42150"/>
                  </a:lnTo>
                  <a:lnTo>
                    <a:pt x="118100" y="45047"/>
                  </a:lnTo>
                  <a:lnTo>
                    <a:pt x="118751" y="47945"/>
                  </a:lnTo>
                  <a:lnTo>
                    <a:pt x="119294" y="50897"/>
                  </a:lnTo>
                  <a:lnTo>
                    <a:pt x="119674" y="53904"/>
                  </a:lnTo>
                  <a:lnTo>
                    <a:pt x="119945" y="56911"/>
                  </a:lnTo>
                  <a:lnTo>
                    <a:pt x="120000" y="59972"/>
                  </a:lnTo>
                  <a:close/>
                </a:path>
              </a:pathLst>
            </a:custGeom>
            <a:solidFill>
              <a:srgbClr val="1891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97" name="任意多边形 265"/>
            <p:cNvSpPr/>
            <p:nvPr/>
          </p:nvSpPr>
          <p:spPr>
            <a:xfrm flipH="1">
              <a:off x="1521360" y="2851200"/>
              <a:ext cx="1012320" cy="999720"/>
            </a:xfrm>
            <a:custGeom>
              <a:avLst/>
              <a:gdLst/>
              <a:ahLst/>
              <a:rect l="l" t="t" r="r" b="b"/>
              <a:pathLst>
                <a:path w="120000" h="120000">
                  <a:moveTo>
                    <a:pt x="120000" y="59973"/>
                  </a:moveTo>
                  <a:lnTo>
                    <a:pt x="119921" y="63059"/>
                  </a:lnTo>
                  <a:lnTo>
                    <a:pt x="119685" y="66118"/>
                  </a:lnTo>
                  <a:lnTo>
                    <a:pt x="119318" y="69098"/>
                  </a:lnTo>
                  <a:lnTo>
                    <a:pt x="118768" y="72079"/>
                  </a:lnTo>
                  <a:lnTo>
                    <a:pt x="118113" y="74980"/>
                  </a:lnTo>
                  <a:lnTo>
                    <a:pt x="117327" y="77828"/>
                  </a:lnTo>
                  <a:lnTo>
                    <a:pt x="116358" y="80624"/>
                  </a:lnTo>
                  <a:lnTo>
                    <a:pt x="115283" y="83340"/>
                  </a:lnTo>
                  <a:lnTo>
                    <a:pt x="114104" y="85978"/>
                  </a:lnTo>
                  <a:lnTo>
                    <a:pt x="112768" y="88562"/>
                  </a:lnTo>
                  <a:lnTo>
                    <a:pt x="111301" y="91094"/>
                  </a:lnTo>
                  <a:lnTo>
                    <a:pt x="109755" y="93547"/>
                  </a:lnTo>
                  <a:lnTo>
                    <a:pt x="108078" y="95868"/>
                  </a:lnTo>
                  <a:lnTo>
                    <a:pt x="106323" y="98162"/>
                  </a:lnTo>
                  <a:lnTo>
                    <a:pt x="104410" y="100325"/>
                  </a:lnTo>
                  <a:lnTo>
                    <a:pt x="102445" y="102408"/>
                  </a:lnTo>
                  <a:lnTo>
                    <a:pt x="100349" y="104386"/>
                  </a:lnTo>
                  <a:lnTo>
                    <a:pt x="98148" y="106285"/>
                  </a:lnTo>
                  <a:lnTo>
                    <a:pt x="95895" y="108079"/>
                  </a:lnTo>
                  <a:lnTo>
                    <a:pt x="93537" y="109740"/>
                  </a:lnTo>
                  <a:lnTo>
                    <a:pt x="91126" y="111296"/>
                  </a:lnTo>
                  <a:lnTo>
                    <a:pt x="88611" y="112747"/>
                  </a:lnTo>
                  <a:lnTo>
                    <a:pt x="86017" y="114065"/>
                  </a:lnTo>
                  <a:lnTo>
                    <a:pt x="83371" y="115252"/>
                  </a:lnTo>
                  <a:lnTo>
                    <a:pt x="80620" y="116334"/>
                  </a:lnTo>
                  <a:lnTo>
                    <a:pt x="77842" y="117283"/>
                  </a:lnTo>
                  <a:lnTo>
                    <a:pt x="75013" y="118074"/>
                  </a:lnTo>
                  <a:lnTo>
                    <a:pt x="72104" y="118760"/>
                  </a:lnTo>
                  <a:lnTo>
                    <a:pt x="69144" y="119287"/>
                  </a:lnTo>
                  <a:lnTo>
                    <a:pt x="66131" y="119683"/>
                  </a:lnTo>
                  <a:lnTo>
                    <a:pt x="63091" y="119894"/>
                  </a:lnTo>
                  <a:lnTo>
                    <a:pt x="60000" y="120000"/>
                  </a:lnTo>
                  <a:lnTo>
                    <a:pt x="56908" y="119894"/>
                  </a:lnTo>
                  <a:lnTo>
                    <a:pt x="53842" y="119683"/>
                  </a:lnTo>
                  <a:lnTo>
                    <a:pt x="50855" y="119287"/>
                  </a:lnTo>
                  <a:lnTo>
                    <a:pt x="47921" y="118760"/>
                  </a:lnTo>
                  <a:lnTo>
                    <a:pt x="45013" y="118074"/>
                  </a:lnTo>
                  <a:lnTo>
                    <a:pt x="42157" y="117283"/>
                  </a:lnTo>
                  <a:lnTo>
                    <a:pt x="39379" y="116334"/>
                  </a:lnTo>
                  <a:lnTo>
                    <a:pt x="36628" y="115252"/>
                  </a:lnTo>
                  <a:lnTo>
                    <a:pt x="33982" y="114065"/>
                  </a:lnTo>
                  <a:lnTo>
                    <a:pt x="31388" y="112747"/>
                  </a:lnTo>
                  <a:lnTo>
                    <a:pt x="28873" y="111296"/>
                  </a:lnTo>
                  <a:lnTo>
                    <a:pt x="26462" y="109740"/>
                  </a:lnTo>
                  <a:lnTo>
                    <a:pt x="24078" y="108079"/>
                  </a:lnTo>
                  <a:lnTo>
                    <a:pt x="21825" y="106285"/>
                  </a:lnTo>
                  <a:lnTo>
                    <a:pt x="19676" y="104386"/>
                  </a:lnTo>
                  <a:lnTo>
                    <a:pt x="17554" y="102408"/>
                  </a:lnTo>
                  <a:lnTo>
                    <a:pt x="15589" y="100325"/>
                  </a:lnTo>
                  <a:lnTo>
                    <a:pt x="13703" y="98162"/>
                  </a:lnTo>
                  <a:lnTo>
                    <a:pt x="11921" y="95868"/>
                  </a:lnTo>
                  <a:lnTo>
                    <a:pt x="10218" y="93547"/>
                  </a:lnTo>
                  <a:lnTo>
                    <a:pt x="8698" y="91094"/>
                  </a:lnTo>
                  <a:lnTo>
                    <a:pt x="7231" y="88562"/>
                  </a:lnTo>
                  <a:lnTo>
                    <a:pt x="5895" y="85978"/>
                  </a:lnTo>
                  <a:lnTo>
                    <a:pt x="4689" y="83340"/>
                  </a:lnTo>
                  <a:lnTo>
                    <a:pt x="3641" y="80624"/>
                  </a:lnTo>
                  <a:lnTo>
                    <a:pt x="2698" y="77828"/>
                  </a:lnTo>
                  <a:lnTo>
                    <a:pt x="1886" y="74980"/>
                  </a:lnTo>
                  <a:lnTo>
                    <a:pt x="1231" y="72079"/>
                  </a:lnTo>
                  <a:lnTo>
                    <a:pt x="681" y="69098"/>
                  </a:lnTo>
                  <a:lnTo>
                    <a:pt x="314" y="66118"/>
                  </a:lnTo>
                  <a:lnTo>
                    <a:pt x="78" y="63059"/>
                  </a:lnTo>
                  <a:lnTo>
                    <a:pt x="0" y="59973"/>
                  </a:lnTo>
                  <a:lnTo>
                    <a:pt x="78" y="56914"/>
                  </a:lnTo>
                  <a:lnTo>
                    <a:pt x="314" y="53854"/>
                  </a:lnTo>
                  <a:lnTo>
                    <a:pt x="681" y="50821"/>
                  </a:lnTo>
                  <a:lnTo>
                    <a:pt x="1231" y="47894"/>
                  </a:lnTo>
                  <a:lnTo>
                    <a:pt x="1886" y="44993"/>
                  </a:lnTo>
                  <a:lnTo>
                    <a:pt x="2698" y="42145"/>
                  </a:lnTo>
                  <a:lnTo>
                    <a:pt x="3641" y="39349"/>
                  </a:lnTo>
                  <a:lnTo>
                    <a:pt x="4689" y="36632"/>
                  </a:lnTo>
                  <a:lnTo>
                    <a:pt x="5895" y="33969"/>
                  </a:lnTo>
                  <a:lnTo>
                    <a:pt x="7231" y="31384"/>
                  </a:lnTo>
                  <a:lnTo>
                    <a:pt x="8698" y="28879"/>
                  </a:lnTo>
                  <a:lnTo>
                    <a:pt x="10218" y="26426"/>
                  </a:lnTo>
                  <a:lnTo>
                    <a:pt x="11921" y="24079"/>
                  </a:lnTo>
                  <a:lnTo>
                    <a:pt x="13703" y="21810"/>
                  </a:lnTo>
                  <a:lnTo>
                    <a:pt x="15589" y="19648"/>
                  </a:lnTo>
                  <a:lnTo>
                    <a:pt x="17554" y="17564"/>
                  </a:lnTo>
                  <a:lnTo>
                    <a:pt x="19650" y="15560"/>
                  </a:lnTo>
                  <a:lnTo>
                    <a:pt x="21825" y="13687"/>
                  </a:lnTo>
                  <a:lnTo>
                    <a:pt x="24078" y="11920"/>
                  </a:lnTo>
                  <a:lnTo>
                    <a:pt x="26462" y="10232"/>
                  </a:lnTo>
                  <a:lnTo>
                    <a:pt x="28873" y="8703"/>
                  </a:lnTo>
                  <a:lnTo>
                    <a:pt x="31388" y="7252"/>
                  </a:lnTo>
                  <a:lnTo>
                    <a:pt x="33982" y="5907"/>
                  </a:lnTo>
                  <a:lnTo>
                    <a:pt x="36628" y="4694"/>
                  </a:lnTo>
                  <a:lnTo>
                    <a:pt x="39379" y="3639"/>
                  </a:lnTo>
                  <a:lnTo>
                    <a:pt x="42157" y="2716"/>
                  </a:lnTo>
                  <a:lnTo>
                    <a:pt x="45013" y="1872"/>
                  </a:lnTo>
                  <a:lnTo>
                    <a:pt x="47921" y="1213"/>
                  </a:lnTo>
                  <a:lnTo>
                    <a:pt x="50855" y="685"/>
                  </a:lnTo>
                  <a:lnTo>
                    <a:pt x="53842" y="316"/>
                  </a:lnTo>
                  <a:lnTo>
                    <a:pt x="56908" y="79"/>
                  </a:lnTo>
                  <a:lnTo>
                    <a:pt x="60000" y="0"/>
                  </a:lnTo>
                  <a:lnTo>
                    <a:pt x="63091" y="79"/>
                  </a:lnTo>
                  <a:lnTo>
                    <a:pt x="66131" y="316"/>
                  </a:lnTo>
                  <a:lnTo>
                    <a:pt x="69144" y="685"/>
                  </a:lnTo>
                  <a:lnTo>
                    <a:pt x="72104" y="1213"/>
                  </a:lnTo>
                  <a:lnTo>
                    <a:pt x="75013" y="1872"/>
                  </a:lnTo>
                  <a:lnTo>
                    <a:pt x="77842" y="2716"/>
                  </a:lnTo>
                  <a:lnTo>
                    <a:pt x="80620" y="3639"/>
                  </a:lnTo>
                  <a:lnTo>
                    <a:pt x="83371" y="4694"/>
                  </a:lnTo>
                  <a:lnTo>
                    <a:pt x="86017" y="5907"/>
                  </a:lnTo>
                  <a:lnTo>
                    <a:pt x="88611" y="7252"/>
                  </a:lnTo>
                  <a:lnTo>
                    <a:pt x="91126" y="8703"/>
                  </a:lnTo>
                  <a:lnTo>
                    <a:pt x="93537" y="10232"/>
                  </a:lnTo>
                  <a:lnTo>
                    <a:pt x="95895" y="11920"/>
                  </a:lnTo>
                  <a:lnTo>
                    <a:pt x="98148" y="13687"/>
                  </a:lnTo>
                  <a:lnTo>
                    <a:pt x="100349" y="15560"/>
                  </a:lnTo>
                  <a:lnTo>
                    <a:pt x="102445" y="17564"/>
                  </a:lnTo>
                  <a:lnTo>
                    <a:pt x="104410" y="19648"/>
                  </a:lnTo>
                  <a:lnTo>
                    <a:pt x="106323" y="21810"/>
                  </a:lnTo>
                  <a:lnTo>
                    <a:pt x="108078" y="24079"/>
                  </a:lnTo>
                  <a:lnTo>
                    <a:pt x="109755" y="26426"/>
                  </a:lnTo>
                  <a:lnTo>
                    <a:pt x="111301" y="28879"/>
                  </a:lnTo>
                  <a:lnTo>
                    <a:pt x="112768" y="31384"/>
                  </a:lnTo>
                  <a:lnTo>
                    <a:pt x="114104" y="33969"/>
                  </a:lnTo>
                  <a:lnTo>
                    <a:pt x="115283" y="36632"/>
                  </a:lnTo>
                  <a:lnTo>
                    <a:pt x="116358" y="39349"/>
                  </a:lnTo>
                  <a:lnTo>
                    <a:pt x="117327" y="42145"/>
                  </a:lnTo>
                  <a:lnTo>
                    <a:pt x="118113" y="44993"/>
                  </a:lnTo>
                  <a:lnTo>
                    <a:pt x="118768" y="47894"/>
                  </a:lnTo>
                  <a:lnTo>
                    <a:pt x="119318" y="50821"/>
                  </a:lnTo>
                  <a:lnTo>
                    <a:pt x="119685" y="53854"/>
                  </a:lnTo>
                  <a:lnTo>
                    <a:pt x="119921" y="56914"/>
                  </a:lnTo>
                  <a:lnTo>
                    <a:pt x="120000" y="59973"/>
                  </a:lnTo>
                  <a:close/>
                </a:path>
              </a:pathLst>
            </a:custGeom>
            <a:solidFill>
              <a:srgbClr val="4276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98" name="任意多边形 266"/>
            <p:cNvSpPr/>
            <p:nvPr/>
          </p:nvSpPr>
          <p:spPr>
            <a:xfrm flipH="1">
              <a:off x="941400" y="3354480"/>
              <a:ext cx="506880" cy="500040"/>
            </a:xfrm>
            <a:custGeom>
              <a:avLst/>
              <a:gdLst/>
              <a:ahLst/>
              <a:rect l="l" t="t" r="r" b="b"/>
              <a:pathLst>
                <a:path w="120000" h="120000">
                  <a:moveTo>
                    <a:pt x="120000" y="60052"/>
                  </a:moveTo>
                  <a:lnTo>
                    <a:pt x="119895" y="63107"/>
                  </a:lnTo>
                  <a:lnTo>
                    <a:pt x="119686" y="66110"/>
                  </a:lnTo>
                  <a:lnTo>
                    <a:pt x="119267" y="69165"/>
                  </a:lnTo>
                  <a:lnTo>
                    <a:pt x="118744" y="72115"/>
                  </a:lnTo>
                  <a:lnTo>
                    <a:pt x="118063" y="75013"/>
                  </a:lnTo>
                  <a:lnTo>
                    <a:pt x="117278" y="77857"/>
                  </a:lnTo>
                  <a:lnTo>
                    <a:pt x="116336" y="80649"/>
                  </a:lnTo>
                  <a:lnTo>
                    <a:pt x="115290" y="83388"/>
                  </a:lnTo>
                  <a:lnTo>
                    <a:pt x="114086" y="86022"/>
                  </a:lnTo>
                  <a:lnTo>
                    <a:pt x="112725" y="88604"/>
                  </a:lnTo>
                  <a:lnTo>
                    <a:pt x="111312" y="91132"/>
                  </a:lnTo>
                  <a:lnTo>
                    <a:pt x="109742" y="93503"/>
                  </a:lnTo>
                  <a:lnTo>
                    <a:pt x="108068" y="95926"/>
                  </a:lnTo>
                  <a:lnTo>
                    <a:pt x="106288" y="98191"/>
                  </a:lnTo>
                  <a:lnTo>
                    <a:pt x="104404" y="100351"/>
                  </a:lnTo>
                  <a:lnTo>
                    <a:pt x="102416" y="102405"/>
                  </a:lnTo>
                  <a:lnTo>
                    <a:pt x="100322" y="104407"/>
                  </a:lnTo>
                  <a:lnTo>
                    <a:pt x="98124" y="106251"/>
                  </a:lnTo>
                  <a:lnTo>
                    <a:pt x="95874" y="108094"/>
                  </a:lnTo>
                  <a:lnTo>
                    <a:pt x="93519" y="109727"/>
                  </a:lnTo>
                  <a:lnTo>
                    <a:pt x="91059" y="111255"/>
                  </a:lnTo>
                  <a:lnTo>
                    <a:pt x="88547" y="112783"/>
                  </a:lnTo>
                  <a:lnTo>
                    <a:pt x="85983" y="114047"/>
                  </a:lnTo>
                  <a:lnTo>
                    <a:pt x="83314" y="115258"/>
                  </a:lnTo>
                  <a:lnTo>
                    <a:pt x="80593" y="116365"/>
                  </a:lnTo>
                  <a:lnTo>
                    <a:pt x="77819" y="117313"/>
                  </a:lnTo>
                  <a:lnTo>
                    <a:pt x="74941" y="118103"/>
                  </a:lnTo>
                  <a:lnTo>
                    <a:pt x="72062" y="118788"/>
                  </a:lnTo>
                  <a:lnTo>
                    <a:pt x="69132" y="119315"/>
                  </a:lnTo>
                  <a:lnTo>
                    <a:pt x="66149" y="119683"/>
                  </a:lnTo>
                  <a:lnTo>
                    <a:pt x="63061" y="119947"/>
                  </a:lnTo>
                  <a:lnTo>
                    <a:pt x="59973" y="120000"/>
                  </a:lnTo>
                  <a:lnTo>
                    <a:pt x="56886" y="119947"/>
                  </a:lnTo>
                  <a:lnTo>
                    <a:pt x="53850" y="119683"/>
                  </a:lnTo>
                  <a:lnTo>
                    <a:pt x="50867" y="119315"/>
                  </a:lnTo>
                  <a:lnTo>
                    <a:pt x="47937" y="118788"/>
                  </a:lnTo>
                  <a:lnTo>
                    <a:pt x="45006" y="118103"/>
                  </a:lnTo>
                  <a:lnTo>
                    <a:pt x="42180" y="117313"/>
                  </a:lnTo>
                  <a:lnTo>
                    <a:pt x="39354" y="116365"/>
                  </a:lnTo>
                  <a:lnTo>
                    <a:pt x="36633" y="115258"/>
                  </a:lnTo>
                  <a:lnTo>
                    <a:pt x="33964" y="114047"/>
                  </a:lnTo>
                  <a:lnTo>
                    <a:pt x="31399" y="112783"/>
                  </a:lnTo>
                  <a:lnTo>
                    <a:pt x="28887" y="111255"/>
                  </a:lnTo>
                  <a:lnTo>
                    <a:pt x="26428" y="109727"/>
                  </a:lnTo>
                  <a:lnTo>
                    <a:pt x="24125" y="108094"/>
                  </a:lnTo>
                  <a:lnTo>
                    <a:pt x="21822" y="106251"/>
                  </a:lnTo>
                  <a:lnTo>
                    <a:pt x="19677" y="104407"/>
                  </a:lnTo>
                  <a:lnTo>
                    <a:pt x="17583" y="102405"/>
                  </a:lnTo>
                  <a:lnTo>
                    <a:pt x="15542" y="100351"/>
                  </a:lnTo>
                  <a:lnTo>
                    <a:pt x="13711" y="98191"/>
                  </a:lnTo>
                  <a:lnTo>
                    <a:pt x="11931" y="95926"/>
                  </a:lnTo>
                  <a:lnTo>
                    <a:pt x="10257" y="93503"/>
                  </a:lnTo>
                  <a:lnTo>
                    <a:pt x="8687" y="91132"/>
                  </a:lnTo>
                  <a:lnTo>
                    <a:pt x="7274" y="88604"/>
                  </a:lnTo>
                  <a:lnTo>
                    <a:pt x="5965" y="86022"/>
                  </a:lnTo>
                  <a:lnTo>
                    <a:pt x="4762" y="83336"/>
                  </a:lnTo>
                  <a:lnTo>
                    <a:pt x="3663" y="80649"/>
                  </a:lnTo>
                  <a:lnTo>
                    <a:pt x="2721" y="77857"/>
                  </a:lnTo>
                  <a:lnTo>
                    <a:pt x="1883" y="75013"/>
                  </a:lnTo>
                  <a:lnTo>
                    <a:pt x="1203" y="72115"/>
                  </a:lnTo>
                  <a:lnTo>
                    <a:pt x="680" y="69165"/>
                  </a:lnTo>
                  <a:lnTo>
                    <a:pt x="366" y="66110"/>
                  </a:lnTo>
                  <a:lnTo>
                    <a:pt x="52" y="63107"/>
                  </a:lnTo>
                  <a:lnTo>
                    <a:pt x="0" y="60052"/>
                  </a:lnTo>
                  <a:lnTo>
                    <a:pt x="52" y="56944"/>
                  </a:lnTo>
                  <a:lnTo>
                    <a:pt x="366" y="53889"/>
                  </a:lnTo>
                  <a:lnTo>
                    <a:pt x="680" y="50886"/>
                  </a:lnTo>
                  <a:lnTo>
                    <a:pt x="1203" y="47884"/>
                  </a:lnTo>
                  <a:lnTo>
                    <a:pt x="1883" y="44986"/>
                  </a:lnTo>
                  <a:lnTo>
                    <a:pt x="2721" y="42142"/>
                  </a:lnTo>
                  <a:lnTo>
                    <a:pt x="3663" y="39402"/>
                  </a:lnTo>
                  <a:lnTo>
                    <a:pt x="4762" y="36663"/>
                  </a:lnTo>
                  <a:lnTo>
                    <a:pt x="5965" y="34029"/>
                  </a:lnTo>
                  <a:lnTo>
                    <a:pt x="7274" y="31448"/>
                  </a:lnTo>
                  <a:lnTo>
                    <a:pt x="8687" y="28867"/>
                  </a:lnTo>
                  <a:lnTo>
                    <a:pt x="10257" y="26496"/>
                  </a:lnTo>
                  <a:lnTo>
                    <a:pt x="11931" y="24126"/>
                  </a:lnTo>
                  <a:lnTo>
                    <a:pt x="13711" y="21861"/>
                  </a:lnTo>
                  <a:lnTo>
                    <a:pt x="15542" y="19648"/>
                  </a:lnTo>
                  <a:lnTo>
                    <a:pt x="17583" y="17594"/>
                  </a:lnTo>
                  <a:lnTo>
                    <a:pt x="19677" y="15592"/>
                  </a:lnTo>
                  <a:lnTo>
                    <a:pt x="21822" y="13748"/>
                  </a:lnTo>
                  <a:lnTo>
                    <a:pt x="24125" y="11957"/>
                  </a:lnTo>
                  <a:lnTo>
                    <a:pt x="26428" y="10272"/>
                  </a:lnTo>
                  <a:lnTo>
                    <a:pt x="28887" y="8744"/>
                  </a:lnTo>
                  <a:lnTo>
                    <a:pt x="31399" y="7269"/>
                  </a:lnTo>
                  <a:lnTo>
                    <a:pt x="33964" y="5952"/>
                  </a:lnTo>
                  <a:lnTo>
                    <a:pt x="36633" y="4741"/>
                  </a:lnTo>
                  <a:lnTo>
                    <a:pt x="39354" y="3634"/>
                  </a:lnTo>
                  <a:lnTo>
                    <a:pt x="42180" y="2739"/>
                  </a:lnTo>
                  <a:lnTo>
                    <a:pt x="45006" y="1896"/>
                  </a:lnTo>
                  <a:lnTo>
                    <a:pt x="47937" y="1264"/>
                  </a:lnTo>
                  <a:lnTo>
                    <a:pt x="50867" y="684"/>
                  </a:lnTo>
                  <a:lnTo>
                    <a:pt x="53850" y="368"/>
                  </a:lnTo>
                  <a:lnTo>
                    <a:pt x="56886" y="105"/>
                  </a:lnTo>
                  <a:lnTo>
                    <a:pt x="59973" y="0"/>
                  </a:lnTo>
                  <a:lnTo>
                    <a:pt x="63061" y="105"/>
                  </a:lnTo>
                  <a:lnTo>
                    <a:pt x="66149" y="368"/>
                  </a:lnTo>
                  <a:lnTo>
                    <a:pt x="69132" y="684"/>
                  </a:lnTo>
                  <a:lnTo>
                    <a:pt x="72062" y="1264"/>
                  </a:lnTo>
                  <a:lnTo>
                    <a:pt x="74941" y="1896"/>
                  </a:lnTo>
                  <a:lnTo>
                    <a:pt x="77819" y="2739"/>
                  </a:lnTo>
                  <a:lnTo>
                    <a:pt x="80593" y="3634"/>
                  </a:lnTo>
                  <a:lnTo>
                    <a:pt x="83314" y="4741"/>
                  </a:lnTo>
                  <a:lnTo>
                    <a:pt x="85983" y="5952"/>
                  </a:lnTo>
                  <a:lnTo>
                    <a:pt x="88547" y="7269"/>
                  </a:lnTo>
                  <a:lnTo>
                    <a:pt x="91059" y="8744"/>
                  </a:lnTo>
                  <a:lnTo>
                    <a:pt x="93519" y="10272"/>
                  </a:lnTo>
                  <a:lnTo>
                    <a:pt x="95874" y="11957"/>
                  </a:lnTo>
                  <a:lnTo>
                    <a:pt x="98124" y="13748"/>
                  </a:lnTo>
                  <a:lnTo>
                    <a:pt x="100322" y="15592"/>
                  </a:lnTo>
                  <a:lnTo>
                    <a:pt x="102416" y="17594"/>
                  </a:lnTo>
                  <a:lnTo>
                    <a:pt x="104404" y="19648"/>
                  </a:lnTo>
                  <a:lnTo>
                    <a:pt x="106288" y="21861"/>
                  </a:lnTo>
                  <a:lnTo>
                    <a:pt x="108068" y="24126"/>
                  </a:lnTo>
                  <a:lnTo>
                    <a:pt x="109742" y="26496"/>
                  </a:lnTo>
                  <a:lnTo>
                    <a:pt x="111312" y="28867"/>
                  </a:lnTo>
                  <a:lnTo>
                    <a:pt x="112725" y="31448"/>
                  </a:lnTo>
                  <a:lnTo>
                    <a:pt x="114086" y="34029"/>
                  </a:lnTo>
                  <a:lnTo>
                    <a:pt x="115290" y="36663"/>
                  </a:lnTo>
                  <a:lnTo>
                    <a:pt x="116336" y="39402"/>
                  </a:lnTo>
                  <a:lnTo>
                    <a:pt x="117278" y="42142"/>
                  </a:lnTo>
                  <a:lnTo>
                    <a:pt x="118063" y="44986"/>
                  </a:lnTo>
                  <a:lnTo>
                    <a:pt x="118744" y="47884"/>
                  </a:lnTo>
                  <a:lnTo>
                    <a:pt x="119267" y="50886"/>
                  </a:lnTo>
                  <a:lnTo>
                    <a:pt x="119686" y="53889"/>
                  </a:lnTo>
                  <a:lnTo>
                    <a:pt x="119895" y="56944"/>
                  </a:lnTo>
                  <a:lnTo>
                    <a:pt x="120000" y="60052"/>
                  </a:lnTo>
                  <a:close/>
                </a:path>
              </a:pathLst>
            </a:custGeom>
            <a:solidFill>
              <a:srgbClr val="00a0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99" name="任意多边形 267"/>
            <p:cNvSpPr/>
            <p:nvPr/>
          </p:nvSpPr>
          <p:spPr>
            <a:xfrm flipH="1">
              <a:off x="2615400" y="2955600"/>
              <a:ext cx="446040" cy="439920"/>
            </a:xfrm>
            <a:custGeom>
              <a:avLst/>
              <a:gdLst/>
              <a:ahLst/>
              <a:rect l="l" t="t" r="r" b="b"/>
              <a:pathLst>
                <a:path w="120000" h="120000">
                  <a:moveTo>
                    <a:pt x="120000" y="60029"/>
                  </a:moveTo>
                  <a:lnTo>
                    <a:pt x="119940" y="63085"/>
                  </a:lnTo>
                  <a:lnTo>
                    <a:pt x="119643" y="66140"/>
                  </a:lnTo>
                  <a:lnTo>
                    <a:pt x="119345" y="69136"/>
                  </a:lnTo>
                  <a:lnTo>
                    <a:pt x="118751" y="72131"/>
                  </a:lnTo>
                  <a:lnTo>
                    <a:pt x="118097" y="75007"/>
                  </a:lnTo>
                  <a:lnTo>
                    <a:pt x="117324" y="77883"/>
                  </a:lnTo>
                  <a:lnTo>
                    <a:pt x="116372" y="80639"/>
                  </a:lnTo>
                  <a:lnTo>
                    <a:pt x="115242" y="83394"/>
                  </a:lnTo>
                  <a:lnTo>
                    <a:pt x="114112" y="86030"/>
                  </a:lnTo>
                  <a:lnTo>
                    <a:pt x="112745" y="88607"/>
                  </a:lnTo>
                  <a:lnTo>
                    <a:pt x="111318" y="91063"/>
                  </a:lnTo>
                  <a:lnTo>
                    <a:pt x="109772" y="93579"/>
                  </a:lnTo>
                  <a:lnTo>
                    <a:pt x="108107" y="95856"/>
                  </a:lnTo>
                  <a:lnTo>
                    <a:pt x="106263" y="98132"/>
                  </a:lnTo>
                  <a:lnTo>
                    <a:pt x="104420" y="100349"/>
                  </a:lnTo>
                  <a:lnTo>
                    <a:pt x="102457" y="102446"/>
                  </a:lnTo>
                  <a:lnTo>
                    <a:pt x="100317" y="104423"/>
                  </a:lnTo>
                  <a:lnTo>
                    <a:pt x="98176" y="106280"/>
                  </a:lnTo>
                  <a:lnTo>
                    <a:pt x="95916" y="108137"/>
                  </a:lnTo>
                  <a:lnTo>
                    <a:pt x="93538" y="109755"/>
                  </a:lnTo>
                  <a:lnTo>
                    <a:pt x="91159" y="111313"/>
                  </a:lnTo>
                  <a:lnTo>
                    <a:pt x="88602" y="112810"/>
                  </a:lnTo>
                  <a:lnTo>
                    <a:pt x="86045" y="114068"/>
                  </a:lnTo>
                  <a:lnTo>
                    <a:pt x="83369" y="115327"/>
                  </a:lnTo>
                  <a:lnTo>
                    <a:pt x="80634" y="116345"/>
                  </a:lnTo>
                  <a:lnTo>
                    <a:pt x="77898" y="117304"/>
                  </a:lnTo>
                  <a:lnTo>
                    <a:pt x="75044" y="118082"/>
                  </a:lnTo>
                  <a:lnTo>
                    <a:pt x="72130" y="118801"/>
                  </a:lnTo>
                  <a:lnTo>
                    <a:pt x="69157" y="119340"/>
                  </a:lnTo>
                  <a:lnTo>
                    <a:pt x="66184" y="119700"/>
                  </a:lnTo>
                  <a:lnTo>
                    <a:pt x="63092" y="119880"/>
                  </a:lnTo>
                  <a:lnTo>
                    <a:pt x="60000" y="120000"/>
                  </a:lnTo>
                  <a:lnTo>
                    <a:pt x="56907" y="119880"/>
                  </a:lnTo>
                  <a:lnTo>
                    <a:pt x="53875" y="119700"/>
                  </a:lnTo>
                  <a:lnTo>
                    <a:pt x="50901" y="119340"/>
                  </a:lnTo>
                  <a:lnTo>
                    <a:pt x="47928" y="118801"/>
                  </a:lnTo>
                  <a:lnTo>
                    <a:pt x="45014" y="118082"/>
                  </a:lnTo>
                  <a:lnTo>
                    <a:pt x="42160" y="117304"/>
                  </a:lnTo>
                  <a:lnTo>
                    <a:pt x="39365" y="116345"/>
                  </a:lnTo>
                  <a:lnTo>
                    <a:pt x="36630" y="115327"/>
                  </a:lnTo>
                  <a:lnTo>
                    <a:pt x="34013" y="114068"/>
                  </a:lnTo>
                  <a:lnTo>
                    <a:pt x="31397" y="112810"/>
                  </a:lnTo>
                  <a:lnTo>
                    <a:pt x="28899" y="111313"/>
                  </a:lnTo>
                  <a:lnTo>
                    <a:pt x="26521" y="109755"/>
                  </a:lnTo>
                  <a:lnTo>
                    <a:pt x="24083" y="108137"/>
                  </a:lnTo>
                  <a:lnTo>
                    <a:pt x="21823" y="106280"/>
                  </a:lnTo>
                  <a:lnTo>
                    <a:pt x="19682" y="104423"/>
                  </a:lnTo>
                  <a:lnTo>
                    <a:pt x="17542" y="102446"/>
                  </a:lnTo>
                  <a:lnTo>
                    <a:pt x="15639" y="100349"/>
                  </a:lnTo>
                  <a:lnTo>
                    <a:pt x="13736" y="98132"/>
                  </a:lnTo>
                  <a:lnTo>
                    <a:pt x="11952" y="95856"/>
                  </a:lnTo>
                  <a:lnTo>
                    <a:pt x="10227" y="93579"/>
                  </a:lnTo>
                  <a:lnTo>
                    <a:pt x="8681" y="91063"/>
                  </a:lnTo>
                  <a:lnTo>
                    <a:pt x="7254" y="88607"/>
                  </a:lnTo>
                  <a:lnTo>
                    <a:pt x="5887" y="86030"/>
                  </a:lnTo>
                  <a:lnTo>
                    <a:pt x="4757" y="83394"/>
                  </a:lnTo>
                  <a:lnTo>
                    <a:pt x="3627" y="80639"/>
                  </a:lnTo>
                  <a:lnTo>
                    <a:pt x="2735" y="77883"/>
                  </a:lnTo>
                  <a:lnTo>
                    <a:pt x="1902" y="75007"/>
                  </a:lnTo>
                  <a:lnTo>
                    <a:pt x="1248" y="72131"/>
                  </a:lnTo>
                  <a:lnTo>
                    <a:pt x="713" y="69136"/>
                  </a:lnTo>
                  <a:lnTo>
                    <a:pt x="356" y="66140"/>
                  </a:lnTo>
                  <a:lnTo>
                    <a:pt x="118" y="63085"/>
                  </a:lnTo>
                  <a:lnTo>
                    <a:pt x="0" y="60029"/>
                  </a:lnTo>
                  <a:lnTo>
                    <a:pt x="118" y="56914"/>
                  </a:lnTo>
                  <a:lnTo>
                    <a:pt x="356" y="53859"/>
                  </a:lnTo>
                  <a:lnTo>
                    <a:pt x="713" y="50863"/>
                  </a:lnTo>
                  <a:lnTo>
                    <a:pt x="1248" y="47868"/>
                  </a:lnTo>
                  <a:lnTo>
                    <a:pt x="1902" y="44992"/>
                  </a:lnTo>
                  <a:lnTo>
                    <a:pt x="2735" y="42116"/>
                  </a:lnTo>
                  <a:lnTo>
                    <a:pt x="3627" y="39360"/>
                  </a:lnTo>
                  <a:lnTo>
                    <a:pt x="4757" y="36605"/>
                  </a:lnTo>
                  <a:lnTo>
                    <a:pt x="5887" y="33969"/>
                  </a:lnTo>
                  <a:lnTo>
                    <a:pt x="7254" y="31392"/>
                  </a:lnTo>
                  <a:lnTo>
                    <a:pt x="8681" y="28876"/>
                  </a:lnTo>
                  <a:lnTo>
                    <a:pt x="10227" y="26420"/>
                  </a:lnTo>
                  <a:lnTo>
                    <a:pt x="11952" y="24083"/>
                  </a:lnTo>
                  <a:lnTo>
                    <a:pt x="13736" y="21807"/>
                  </a:lnTo>
                  <a:lnTo>
                    <a:pt x="15639" y="19590"/>
                  </a:lnTo>
                  <a:lnTo>
                    <a:pt x="17542" y="17493"/>
                  </a:lnTo>
                  <a:lnTo>
                    <a:pt x="19682" y="15576"/>
                  </a:lnTo>
                  <a:lnTo>
                    <a:pt x="21823" y="13659"/>
                  </a:lnTo>
                  <a:lnTo>
                    <a:pt x="24083" y="11862"/>
                  </a:lnTo>
                  <a:lnTo>
                    <a:pt x="26521" y="10184"/>
                  </a:lnTo>
                  <a:lnTo>
                    <a:pt x="28899" y="8627"/>
                  </a:lnTo>
                  <a:lnTo>
                    <a:pt x="31397" y="7249"/>
                  </a:lnTo>
                  <a:lnTo>
                    <a:pt x="34013" y="5871"/>
                  </a:lnTo>
                  <a:lnTo>
                    <a:pt x="36630" y="4613"/>
                  </a:lnTo>
                  <a:lnTo>
                    <a:pt x="39365" y="3594"/>
                  </a:lnTo>
                  <a:lnTo>
                    <a:pt x="42160" y="2636"/>
                  </a:lnTo>
                  <a:lnTo>
                    <a:pt x="45014" y="1857"/>
                  </a:lnTo>
                  <a:lnTo>
                    <a:pt x="47928" y="1198"/>
                  </a:lnTo>
                  <a:lnTo>
                    <a:pt x="50901" y="599"/>
                  </a:lnTo>
                  <a:lnTo>
                    <a:pt x="53875" y="239"/>
                  </a:lnTo>
                  <a:lnTo>
                    <a:pt x="56907" y="59"/>
                  </a:lnTo>
                  <a:lnTo>
                    <a:pt x="60000" y="0"/>
                  </a:lnTo>
                  <a:lnTo>
                    <a:pt x="63092" y="59"/>
                  </a:lnTo>
                  <a:lnTo>
                    <a:pt x="66184" y="239"/>
                  </a:lnTo>
                  <a:lnTo>
                    <a:pt x="69157" y="599"/>
                  </a:lnTo>
                  <a:lnTo>
                    <a:pt x="72130" y="1198"/>
                  </a:lnTo>
                  <a:lnTo>
                    <a:pt x="75044" y="1857"/>
                  </a:lnTo>
                  <a:lnTo>
                    <a:pt x="77898" y="2636"/>
                  </a:lnTo>
                  <a:lnTo>
                    <a:pt x="80634" y="3594"/>
                  </a:lnTo>
                  <a:lnTo>
                    <a:pt x="83369" y="4613"/>
                  </a:lnTo>
                  <a:lnTo>
                    <a:pt x="86045" y="5871"/>
                  </a:lnTo>
                  <a:lnTo>
                    <a:pt x="88602" y="7249"/>
                  </a:lnTo>
                  <a:lnTo>
                    <a:pt x="91159" y="8627"/>
                  </a:lnTo>
                  <a:lnTo>
                    <a:pt x="93538" y="10184"/>
                  </a:lnTo>
                  <a:lnTo>
                    <a:pt x="95916" y="11862"/>
                  </a:lnTo>
                  <a:lnTo>
                    <a:pt x="98176" y="13659"/>
                  </a:lnTo>
                  <a:lnTo>
                    <a:pt x="100317" y="15576"/>
                  </a:lnTo>
                  <a:lnTo>
                    <a:pt x="102457" y="17493"/>
                  </a:lnTo>
                  <a:lnTo>
                    <a:pt x="104420" y="19590"/>
                  </a:lnTo>
                  <a:lnTo>
                    <a:pt x="106263" y="21807"/>
                  </a:lnTo>
                  <a:lnTo>
                    <a:pt x="108107" y="24083"/>
                  </a:lnTo>
                  <a:lnTo>
                    <a:pt x="109772" y="26420"/>
                  </a:lnTo>
                  <a:lnTo>
                    <a:pt x="111318" y="28876"/>
                  </a:lnTo>
                  <a:lnTo>
                    <a:pt x="112745" y="31392"/>
                  </a:lnTo>
                  <a:lnTo>
                    <a:pt x="114112" y="33969"/>
                  </a:lnTo>
                  <a:lnTo>
                    <a:pt x="115242" y="36605"/>
                  </a:lnTo>
                  <a:lnTo>
                    <a:pt x="116372" y="39360"/>
                  </a:lnTo>
                  <a:lnTo>
                    <a:pt x="117324" y="42116"/>
                  </a:lnTo>
                  <a:lnTo>
                    <a:pt x="118097" y="44992"/>
                  </a:lnTo>
                  <a:lnTo>
                    <a:pt x="118751" y="47868"/>
                  </a:lnTo>
                  <a:lnTo>
                    <a:pt x="119345" y="50863"/>
                  </a:lnTo>
                  <a:lnTo>
                    <a:pt x="119643" y="53859"/>
                  </a:lnTo>
                  <a:lnTo>
                    <a:pt x="119940" y="56914"/>
                  </a:lnTo>
                  <a:lnTo>
                    <a:pt x="120000" y="60029"/>
                  </a:lnTo>
                  <a:close/>
                </a:path>
              </a:pathLst>
            </a:custGeom>
            <a:solidFill>
              <a:srgbClr val="1891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00" name="任意多边形 268"/>
            <p:cNvSpPr/>
            <p:nvPr/>
          </p:nvSpPr>
          <p:spPr>
            <a:xfrm flipH="1">
              <a:off x="2850840" y="3377880"/>
              <a:ext cx="764280" cy="754200"/>
            </a:xfrm>
            <a:custGeom>
              <a:avLst/>
              <a:gdLst/>
              <a:ahLst/>
              <a:rect l="l" t="t" r="r" b="b"/>
              <a:pathLst>
                <a:path w="120000" h="120000">
                  <a:moveTo>
                    <a:pt x="120000" y="60017"/>
                  </a:moveTo>
                  <a:lnTo>
                    <a:pt x="119930" y="63128"/>
                  </a:lnTo>
                  <a:lnTo>
                    <a:pt x="119687" y="66169"/>
                  </a:lnTo>
                  <a:lnTo>
                    <a:pt x="119270" y="69175"/>
                  </a:lnTo>
                  <a:lnTo>
                    <a:pt x="118784" y="72111"/>
                  </a:lnTo>
                  <a:lnTo>
                    <a:pt x="118125" y="75013"/>
                  </a:lnTo>
                  <a:lnTo>
                    <a:pt x="117291" y="77844"/>
                  </a:lnTo>
                  <a:lnTo>
                    <a:pt x="116319" y="80640"/>
                  </a:lnTo>
                  <a:lnTo>
                    <a:pt x="115277" y="83367"/>
                  </a:lnTo>
                  <a:lnTo>
                    <a:pt x="114062" y="86058"/>
                  </a:lnTo>
                  <a:lnTo>
                    <a:pt x="112743" y="88610"/>
                  </a:lnTo>
                  <a:lnTo>
                    <a:pt x="111319" y="91162"/>
                  </a:lnTo>
                  <a:lnTo>
                    <a:pt x="109756" y="93574"/>
                  </a:lnTo>
                  <a:lnTo>
                    <a:pt x="108055" y="95916"/>
                  </a:lnTo>
                  <a:lnTo>
                    <a:pt x="106284" y="98188"/>
                  </a:lnTo>
                  <a:lnTo>
                    <a:pt x="104409" y="100355"/>
                  </a:lnTo>
                  <a:lnTo>
                    <a:pt x="102430" y="102452"/>
                  </a:lnTo>
                  <a:lnTo>
                    <a:pt x="100347" y="104410"/>
                  </a:lnTo>
                  <a:lnTo>
                    <a:pt x="98159" y="106297"/>
                  </a:lnTo>
                  <a:lnTo>
                    <a:pt x="95902" y="108115"/>
                  </a:lnTo>
                  <a:lnTo>
                    <a:pt x="93541" y="109793"/>
                  </a:lnTo>
                  <a:lnTo>
                    <a:pt x="91111" y="111331"/>
                  </a:lnTo>
                  <a:lnTo>
                    <a:pt x="88611" y="112764"/>
                  </a:lnTo>
                  <a:lnTo>
                    <a:pt x="86006" y="114092"/>
                  </a:lnTo>
                  <a:lnTo>
                    <a:pt x="83333" y="115281"/>
                  </a:lnTo>
                  <a:lnTo>
                    <a:pt x="80625" y="116399"/>
                  </a:lnTo>
                  <a:lnTo>
                    <a:pt x="77847" y="117343"/>
                  </a:lnTo>
                  <a:lnTo>
                    <a:pt x="75000" y="118112"/>
                  </a:lnTo>
                  <a:lnTo>
                    <a:pt x="72083" y="118811"/>
                  </a:lnTo>
                  <a:lnTo>
                    <a:pt x="69131" y="119335"/>
                  </a:lnTo>
                  <a:lnTo>
                    <a:pt x="66111" y="119720"/>
                  </a:lnTo>
                  <a:lnTo>
                    <a:pt x="63090" y="119930"/>
                  </a:lnTo>
                  <a:lnTo>
                    <a:pt x="60000" y="120000"/>
                  </a:lnTo>
                  <a:lnTo>
                    <a:pt x="56909" y="119930"/>
                  </a:lnTo>
                  <a:lnTo>
                    <a:pt x="53888" y="119720"/>
                  </a:lnTo>
                  <a:lnTo>
                    <a:pt x="50868" y="119335"/>
                  </a:lnTo>
                  <a:lnTo>
                    <a:pt x="47916" y="118811"/>
                  </a:lnTo>
                  <a:lnTo>
                    <a:pt x="45000" y="118112"/>
                  </a:lnTo>
                  <a:lnTo>
                    <a:pt x="42152" y="117343"/>
                  </a:lnTo>
                  <a:lnTo>
                    <a:pt x="39375" y="116399"/>
                  </a:lnTo>
                  <a:lnTo>
                    <a:pt x="36666" y="115281"/>
                  </a:lnTo>
                  <a:lnTo>
                    <a:pt x="33958" y="114092"/>
                  </a:lnTo>
                  <a:lnTo>
                    <a:pt x="31388" y="112764"/>
                  </a:lnTo>
                  <a:lnTo>
                    <a:pt x="28854" y="111331"/>
                  </a:lnTo>
                  <a:lnTo>
                    <a:pt x="26458" y="109793"/>
                  </a:lnTo>
                  <a:lnTo>
                    <a:pt x="24097" y="108115"/>
                  </a:lnTo>
                  <a:lnTo>
                    <a:pt x="21840" y="106297"/>
                  </a:lnTo>
                  <a:lnTo>
                    <a:pt x="19652" y="104410"/>
                  </a:lnTo>
                  <a:lnTo>
                    <a:pt x="17569" y="102452"/>
                  </a:lnTo>
                  <a:lnTo>
                    <a:pt x="15555" y="100355"/>
                  </a:lnTo>
                  <a:lnTo>
                    <a:pt x="13680" y="98188"/>
                  </a:lnTo>
                  <a:lnTo>
                    <a:pt x="11909" y="95916"/>
                  </a:lnTo>
                  <a:lnTo>
                    <a:pt x="10243" y="93574"/>
                  </a:lnTo>
                  <a:lnTo>
                    <a:pt x="8680" y="91162"/>
                  </a:lnTo>
                  <a:lnTo>
                    <a:pt x="7256" y="88610"/>
                  </a:lnTo>
                  <a:lnTo>
                    <a:pt x="5902" y="86058"/>
                  </a:lnTo>
                  <a:lnTo>
                    <a:pt x="4722" y="83367"/>
                  </a:lnTo>
                  <a:lnTo>
                    <a:pt x="3611" y="80640"/>
                  </a:lnTo>
                  <a:lnTo>
                    <a:pt x="2673" y="77844"/>
                  </a:lnTo>
                  <a:lnTo>
                    <a:pt x="1875" y="75013"/>
                  </a:lnTo>
                  <a:lnTo>
                    <a:pt x="1215" y="72111"/>
                  </a:lnTo>
                  <a:lnTo>
                    <a:pt x="694" y="69175"/>
                  </a:lnTo>
                  <a:lnTo>
                    <a:pt x="312" y="66169"/>
                  </a:lnTo>
                  <a:lnTo>
                    <a:pt x="69" y="63128"/>
                  </a:lnTo>
                  <a:lnTo>
                    <a:pt x="0" y="60017"/>
                  </a:lnTo>
                  <a:lnTo>
                    <a:pt x="69" y="56941"/>
                  </a:lnTo>
                  <a:lnTo>
                    <a:pt x="312" y="53900"/>
                  </a:lnTo>
                  <a:lnTo>
                    <a:pt x="694" y="50859"/>
                  </a:lnTo>
                  <a:lnTo>
                    <a:pt x="1215" y="47923"/>
                  </a:lnTo>
                  <a:lnTo>
                    <a:pt x="1875" y="45021"/>
                  </a:lnTo>
                  <a:lnTo>
                    <a:pt x="2673" y="42190"/>
                  </a:lnTo>
                  <a:lnTo>
                    <a:pt x="3611" y="39394"/>
                  </a:lnTo>
                  <a:lnTo>
                    <a:pt x="4722" y="36667"/>
                  </a:lnTo>
                  <a:lnTo>
                    <a:pt x="5902" y="34011"/>
                  </a:lnTo>
                  <a:lnTo>
                    <a:pt x="7256" y="31424"/>
                  </a:lnTo>
                  <a:lnTo>
                    <a:pt x="8680" y="28907"/>
                  </a:lnTo>
                  <a:lnTo>
                    <a:pt x="10243" y="26460"/>
                  </a:lnTo>
                  <a:lnTo>
                    <a:pt x="11909" y="24118"/>
                  </a:lnTo>
                  <a:lnTo>
                    <a:pt x="13680" y="21846"/>
                  </a:lnTo>
                  <a:lnTo>
                    <a:pt x="15555" y="19644"/>
                  </a:lnTo>
                  <a:lnTo>
                    <a:pt x="17569" y="17582"/>
                  </a:lnTo>
                  <a:lnTo>
                    <a:pt x="19652" y="15624"/>
                  </a:lnTo>
                  <a:lnTo>
                    <a:pt x="21840" y="13737"/>
                  </a:lnTo>
                  <a:lnTo>
                    <a:pt x="24097" y="11954"/>
                  </a:lnTo>
                  <a:lnTo>
                    <a:pt x="26458" y="10241"/>
                  </a:lnTo>
                  <a:lnTo>
                    <a:pt x="28854" y="8703"/>
                  </a:lnTo>
                  <a:lnTo>
                    <a:pt x="31388" y="7270"/>
                  </a:lnTo>
                  <a:lnTo>
                    <a:pt x="33958" y="5942"/>
                  </a:lnTo>
                  <a:lnTo>
                    <a:pt x="36666" y="4753"/>
                  </a:lnTo>
                  <a:lnTo>
                    <a:pt x="39375" y="3635"/>
                  </a:lnTo>
                  <a:lnTo>
                    <a:pt x="42152" y="2691"/>
                  </a:lnTo>
                  <a:lnTo>
                    <a:pt x="45000" y="1887"/>
                  </a:lnTo>
                  <a:lnTo>
                    <a:pt x="47916" y="1223"/>
                  </a:lnTo>
                  <a:lnTo>
                    <a:pt x="50868" y="699"/>
                  </a:lnTo>
                  <a:lnTo>
                    <a:pt x="53888" y="314"/>
                  </a:lnTo>
                  <a:lnTo>
                    <a:pt x="56909" y="104"/>
                  </a:lnTo>
                  <a:lnTo>
                    <a:pt x="60000" y="0"/>
                  </a:lnTo>
                  <a:lnTo>
                    <a:pt x="63090" y="104"/>
                  </a:lnTo>
                  <a:lnTo>
                    <a:pt x="66111" y="314"/>
                  </a:lnTo>
                  <a:lnTo>
                    <a:pt x="69131" y="699"/>
                  </a:lnTo>
                  <a:lnTo>
                    <a:pt x="72083" y="1223"/>
                  </a:lnTo>
                  <a:lnTo>
                    <a:pt x="75000" y="1887"/>
                  </a:lnTo>
                  <a:lnTo>
                    <a:pt x="77847" y="2691"/>
                  </a:lnTo>
                  <a:lnTo>
                    <a:pt x="80625" y="3635"/>
                  </a:lnTo>
                  <a:lnTo>
                    <a:pt x="83333" y="4753"/>
                  </a:lnTo>
                  <a:lnTo>
                    <a:pt x="86006" y="5942"/>
                  </a:lnTo>
                  <a:lnTo>
                    <a:pt x="88611" y="7270"/>
                  </a:lnTo>
                  <a:lnTo>
                    <a:pt x="91111" y="8703"/>
                  </a:lnTo>
                  <a:lnTo>
                    <a:pt x="93541" y="10241"/>
                  </a:lnTo>
                  <a:lnTo>
                    <a:pt x="95902" y="11954"/>
                  </a:lnTo>
                  <a:lnTo>
                    <a:pt x="98159" y="13737"/>
                  </a:lnTo>
                  <a:lnTo>
                    <a:pt x="100347" y="15624"/>
                  </a:lnTo>
                  <a:lnTo>
                    <a:pt x="102430" y="17582"/>
                  </a:lnTo>
                  <a:lnTo>
                    <a:pt x="104409" y="19644"/>
                  </a:lnTo>
                  <a:lnTo>
                    <a:pt x="106284" y="21846"/>
                  </a:lnTo>
                  <a:lnTo>
                    <a:pt x="108055" y="24118"/>
                  </a:lnTo>
                  <a:lnTo>
                    <a:pt x="109756" y="26460"/>
                  </a:lnTo>
                  <a:lnTo>
                    <a:pt x="111319" y="28907"/>
                  </a:lnTo>
                  <a:lnTo>
                    <a:pt x="112743" y="31424"/>
                  </a:lnTo>
                  <a:lnTo>
                    <a:pt x="114062" y="34011"/>
                  </a:lnTo>
                  <a:lnTo>
                    <a:pt x="115277" y="36667"/>
                  </a:lnTo>
                  <a:lnTo>
                    <a:pt x="116319" y="39394"/>
                  </a:lnTo>
                  <a:lnTo>
                    <a:pt x="117291" y="42190"/>
                  </a:lnTo>
                  <a:lnTo>
                    <a:pt x="118125" y="45021"/>
                  </a:lnTo>
                  <a:lnTo>
                    <a:pt x="118784" y="47923"/>
                  </a:lnTo>
                  <a:lnTo>
                    <a:pt x="119270" y="50859"/>
                  </a:lnTo>
                  <a:lnTo>
                    <a:pt x="119687" y="53900"/>
                  </a:lnTo>
                  <a:lnTo>
                    <a:pt x="119930" y="56941"/>
                  </a:lnTo>
                  <a:lnTo>
                    <a:pt x="120000" y="60017"/>
                  </a:lnTo>
                  <a:close/>
                </a:path>
              </a:pathLst>
            </a:custGeom>
            <a:solidFill>
              <a:srgbClr val="5268a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01" name="任意多边形 269"/>
            <p:cNvSpPr/>
            <p:nvPr/>
          </p:nvSpPr>
          <p:spPr>
            <a:xfrm flipH="1">
              <a:off x="3265920" y="4232160"/>
              <a:ext cx="385200" cy="379440"/>
            </a:xfrm>
            <a:custGeom>
              <a:avLst/>
              <a:gdLst/>
              <a:ahLst/>
              <a:rect l="l" t="t" r="r" b="b"/>
              <a:pathLst>
                <a:path w="120000" h="120000">
                  <a:moveTo>
                    <a:pt x="120000" y="60000"/>
                  </a:moveTo>
                  <a:lnTo>
                    <a:pt x="119930" y="63125"/>
                  </a:lnTo>
                  <a:lnTo>
                    <a:pt x="119723" y="66111"/>
                  </a:lnTo>
                  <a:lnTo>
                    <a:pt x="119309" y="69166"/>
                  </a:lnTo>
                  <a:lnTo>
                    <a:pt x="118826" y="72152"/>
                  </a:lnTo>
                  <a:lnTo>
                    <a:pt x="118136" y="75069"/>
                  </a:lnTo>
                  <a:lnTo>
                    <a:pt x="117308" y="77847"/>
                  </a:lnTo>
                  <a:lnTo>
                    <a:pt x="116342" y="80694"/>
                  </a:lnTo>
                  <a:lnTo>
                    <a:pt x="115238" y="83402"/>
                  </a:lnTo>
                  <a:lnTo>
                    <a:pt x="114065" y="85972"/>
                  </a:lnTo>
                  <a:lnTo>
                    <a:pt x="112823" y="88611"/>
                  </a:lnTo>
                  <a:lnTo>
                    <a:pt x="111305" y="91111"/>
                  </a:lnTo>
                  <a:lnTo>
                    <a:pt x="109787" y="93611"/>
                  </a:lnTo>
                  <a:lnTo>
                    <a:pt x="108062" y="95902"/>
                  </a:lnTo>
                  <a:lnTo>
                    <a:pt x="106336" y="98194"/>
                  </a:lnTo>
                  <a:lnTo>
                    <a:pt x="104404" y="100347"/>
                  </a:lnTo>
                  <a:lnTo>
                    <a:pt x="102403" y="102430"/>
                  </a:lnTo>
                  <a:lnTo>
                    <a:pt x="100333" y="104375"/>
                  </a:lnTo>
                  <a:lnTo>
                    <a:pt x="98125" y="106319"/>
                  </a:lnTo>
                  <a:lnTo>
                    <a:pt x="95917" y="108055"/>
                  </a:lnTo>
                  <a:lnTo>
                    <a:pt x="93571" y="109791"/>
                  </a:lnTo>
                  <a:lnTo>
                    <a:pt x="91086" y="111319"/>
                  </a:lnTo>
                  <a:lnTo>
                    <a:pt x="88602" y="112777"/>
                  </a:lnTo>
                  <a:lnTo>
                    <a:pt x="85980" y="114097"/>
                  </a:lnTo>
                  <a:lnTo>
                    <a:pt x="83358" y="115277"/>
                  </a:lnTo>
                  <a:lnTo>
                    <a:pt x="80667" y="116388"/>
                  </a:lnTo>
                  <a:lnTo>
                    <a:pt x="77906" y="117291"/>
                  </a:lnTo>
                  <a:lnTo>
                    <a:pt x="75008" y="118125"/>
                  </a:lnTo>
                  <a:lnTo>
                    <a:pt x="72110" y="118819"/>
                  </a:lnTo>
                  <a:lnTo>
                    <a:pt x="69143" y="119305"/>
                  </a:lnTo>
                  <a:lnTo>
                    <a:pt x="66175" y="119722"/>
                  </a:lnTo>
                  <a:lnTo>
                    <a:pt x="63070" y="119930"/>
                  </a:lnTo>
                  <a:lnTo>
                    <a:pt x="60034" y="120000"/>
                  </a:lnTo>
                  <a:lnTo>
                    <a:pt x="56929" y="119930"/>
                  </a:lnTo>
                  <a:lnTo>
                    <a:pt x="53824" y="119722"/>
                  </a:lnTo>
                  <a:lnTo>
                    <a:pt x="50856" y="119305"/>
                  </a:lnTo>
                  <a:lnTo>
                    <a:pt x="47889" y="118819"/>
                  </a:lnTo>
                  <a:lnTo>
                    <a:pt x="44991" y="118125"/>
                  </a:lnTo>
                  <a:lnTo>
                    <a:pt x="42162" y="117291"/>
                  </a:lnTo>
                  <a:lnTo>
                    <a:pt x="39332" y="116388"/>
                  </a:lnTo>
                  <a:lnTo>
                    <a:pt x="36641" y="115277"/>
                  </a:lnTo>
                  <a:lnTo>
                    <a:pt x="33950" y="114097"/>
                  </a:lnTo>
                  <a:lnTo>
                    <a:pt x="31397" y="112777"/>
                  </a:lnTo>
                  <a:lnTo>
                    <a:pt x="28844" y="111319"/>
                  </a:lnTo>
                  <a:lnTo>
                    <a:pt x="26428" y="109791"/>
                  </a:lnTo>
                  <a:lnTo>
                    <a:pt x="24082" y="108055"/>
                  </a:lnTo>
                  <a:lnTo>
                    <a:pt x="21805" y="106319"/>
                  </a:lnTo>
                  <a:lnTo>
                    <a:pt x="19597" y="104375"/>
                  </a:lnTo>
                  <a:lnTo>
                    <a:pt x="17596" y="102430"/>
                  </a:lnTo>
                  <a:lnTo>
                    <a:pt x="15526" y="100347"/>
                  </a:lnTo>
                  <a:lnTo>
                    <a:pt x="13663" y="98194"/>
                  </a:lnTo>
                  <a:lnTo>
                    <a:pt x="11868" y="95902"/>
                  </a:lnTo>
                  <a:lnTo>
                    <a:pt x="10212" y="93611"/>
                  </a:lnTo>
                  <a:lnTo>
                    <a:pt x="8625" y="91111"/>
                  </a:lnTo>
                  <a:lnTo>
                    <a:pt x="7245" y="88611"/>
                  </a:lnTo>
                  <a:lnTo>
                    <a:pt x="5865" y="85972"/>
                  </a:lnTo>
                  <a:lnTo>
                    <a:pt x="4761" y="83402"/>
                  </a:lnTo>
                  <a:lnTo>
                    <a:pt x="3588" y="80694"/>
                  </a:lnTo>
                  <a:lnTo>
                    <a:pt x="2691" y="77847"/>
                  </a:lnTo>
                  <a:lnTo>
                    <a:pt x="1863" y="75069"/>
                  </a:lnTo>
                  <a:lnTo>
                    <a:pt x="1242" y="72152"/>
                  </a:lnTo>
                  <a:lnTo>
                    <a:pt x="690" y="69166"/>
                  </a:lnTo>
                  <a:lnTo>
                    <a:pt x="276" y="66111"/>
                  </a:lnTo>
                  <a:lnTo>
                    <a:pt x="69" y="63125"/>
                  </a:lnTo>
                  <a:lnTo>
                    <a:pt x="0" y="60000"/>
                  </a:lnTo>
                  <a:lnTo>
                    <a:pt x="69" y="56944"/>
                  </a:lnTo>
                  <a:lnTo>
                    <a:pt x="276" y="53888"/>
                  </a:lnTo>
                  <a:lnTo>
                    <a:pt x="690" y="50902"/>
                  </a:lnTo>
                  <a:lnTo>
                    <a:pt x="1242" y="47916"/>
                  </a:lnTo>
                  <a:lnTo>
                    <a:pt x="1863" y="45000"/>
                  </a:lnTo>
                  <a:lnTo>
                    <a:pt x="2691" y="42152"/>
                  </a:lnTo>
                  <a:lnTo>
                    <a:pt x="3588" y="39375"/>
                  </a:lnTo>
                  <a:lnTo>
                    <a:pt x="4761" y="36666"/>
                  </a:lnTo>
                  <a:lnTo>
                    <a:pt x="5865" y="33958"/>
                  </a:lnTo>
                  <a:lnTo>
                    <a:pt x="7245" y="31458"/>
                  </a:lnTo>
                  <a:lnTo>
                    <a:pt x="8625" y="28888"/>
                  </a:lnTo>
                  <a:lnTo>
                    <a:pt x="10212" y="26458"/>
                  </a:lnTo>
                  <a:lnTo>
                    <a:pt x="11868" y="24097"/>
                  </a:lnTo>
                  <a:lnTo>
                    <a:pt x="13663" y="21805"/>
                  </a:lnTo>
                  <a:lnTo>
                    <a:pt x="15526" y="19652"/>
                  </a:lnTo>
                  <a:lnTo>
                    <a:pt x="17596" y="17569"/>
                  </a:lnTo>
                  <a:lnTo>
                    <a:pt x="19597" y="15625"/>
                  </a:lnTo>
                  <a:lnTo>
                    <a:pt x="21805" y="13750"/>
                  </a:lnTo>
                  <a:lnTo>
                    <a:pt x="24082" y="11944"/>
                  </a:lnTo>
                  <a:lnTo>
                    <a:pt x="26428" y="10277"/>
                  </a:lnTo>
                  <a:lnTo>
                    <a:pt x="28844" y="8680"/>
                  </a:lnTo>
                  <a:lnTo>
                    <a:pt x="31397" y="7291"/>
                  </a:lnTo>
                  <a:lnTo>
                    <a:pt x="33950" y="5902"/>
                  </a:lnTo>
                  <a:lnTo>
                    <a:pt x="36641" y="4722"/>
                  </a:lnTo>
                  <a:lnTo>
                    <a:pt x="39332" y="3680"/>
                  </a:lnTo>
                  <a:lnTo>
                    <a:pt x="42162" y="2708"/>
                  </a:lnTo>
                  <a:lnTo>
                    <a:pt x="44991" y="1875"/>
                  </a:lnTo>
                  <a:lnTo>
                    <a:pt x="47889" y="1180"/>
                  </a:lnTo>
                  <a:lnTo>
                    <a:pt x="50856" y="625"/>
                  </a:lnTo>
                  <a:lnTo>
                    <a:pt x="53824" y="277"/>
                  </a:lnTo>
                  <a:lnTo>
                    <a:pt x="56929" y="69"/>
                  </a:lnTo>
                  <a:lnTo>
                    <a:pt x="60034" y="0"/>
                  </a:lnTo>
                  <a:lnTo>
                    <a:pt x="63070" y="69"/>
                  </a:lnTo>
                  <a:lnTo>
                    <a:pt x="66175" y="277"/>
                  </a:lnTo>
                  <a:lnTo>
                    <a:pt x="69143" y="625"/>
                  </a:lnTo>
                  <a:lnTo>
                    <a:pt x="72110" y="1180"/>
                  </a:lnTo>
                  <a:lnTo>
                    <a:pt x="75008" y="1875"/>
                  </a:lnTo>
                  <a:lnTo>
                    <a:pt x="77906" y="2708"/>
                  </a:lnTo>
                  <a:lnTo>
                    <a:pt x="80667" y="3680"/>
                  </a:lnTo>
                  <a:lnTo>
                    <a:pt x="83358" y="4722"/>
                  </a:lnTo>
                  <a:lnTo>
                    <a:pt x="85980" y="5902"/>
                  </a:lnTo>
                  <a:lnTo>
                    <a:pt x="88602" y="7291"/>
                  </a:lnTo>
                  <a:lnTo>
                    <a:pt x="91086" y="8680"/>
                  </a:lnTo>
                  <a:lnTo>
                    <a:pt x="93571" y="10277"/>
                  </a:lnTo>
                  <a:lnTo>
                    <a:pt x="95917" y="11944"/>
                  </a:lnTo>
                  <a:lnTo>
                    <a:pt x="98125" y="13750"/>
                  </a:lnTo>
                  <a:lnTo>
                    <a:pt x="100333" y="15625"/>
                  </a:lnTo>
                  <a:lnTo>
                    <a:pt x="102403" y="17569"/>
                  </a:lnTo>
                  <a:lnTo>
                    <a:pt x="104404" y="19652"/>
                  </a:lnTo>
                  <a:lnTo>
                    <a:pt x="106336" y="21805"/>
                  </a:lnTo>
                  <a:lnTo>
                    <a:pt x="108062" y="24097"/>
                  </a:lnTo>
                  <a:lnTo>
                    <a:pt x="109787" y="26458"/>
                  </a:lnTo>
                  <a:lnTo>
                    <a:pt x="111305" y="28888"/>
                  </a:lnTo>
                  <a:lnTo>
                    <a:pt x="112823" y="31458"/>
                  </a:lnTo>
                  <a:lnTo>
                    <a:pt x="114065" y="33958"/>
                  </a:lnTo>
                  <a:lnTo>
                    <a:pt x="115238" y="36666"/>
                  </a:lnTo>
                  <a:lnTo>
                    <a:pt x="116342" y="39375"/>
                  </a:lnTo>
                  <a:lnTo>
                    <a:pt x="117308" y="42152"/>
                  </a:lnTo>
                  <a:lnTo>
                    <a:pt x="118136" y="45000"/>
                  </a:lnTo>
                  <a:lnTo>
                    <a:pt x="118826" y="47916"/>
                  </a:lnTo>
                  <a:lnTo>
                    <a:pt x="119309" y="50902"/>
                  </a:lnTo>
                  <a:lnTo>
                    <a:pt x="119723" y="53888"/>
                  </a:lnTo>
                  <a:lnTo>
                    <a:pt x="119930" y="56944"/>
                  </a:lnTo>
                  <a:lnTo>
                    <a:pt x="120000" y="60000"/>
                  </a:lnTo>
                  <a:close/>
                </a:path>
              </a:pathLst>
            </a:custGeom>
            <a:solidFill>
              <a:srgbClr val="00a0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02" name="任意多边形 270"/>
            <p:cNvSpPr/>
            <p:nvPr/>
          </p:nvSpPr>
          <p:spPr>
            <a:xfrm>
              <a:off x="3031560" y="3567600"/>
              <a:ext cx="423360" cy="393120"/>
            </a:xfrm>
            <a:custGeom>
              <a:avLst/>
              <a:gdLst/>
              <a:ahLst/>
              <a:rect l="l" t="t" r="r" b="b"/>
              <a:pathLst>
                <a:path w="597921" h="598324">
                  <a:moveTo>
                    <a:pt x="297615" y="96957"/>
                  </a:moveTo>
                  <a:cubicBezTo>
                    <a:pt x="311959" y="96957"/>
                    <a:pt x="323434" y="108416"/>
                    <a:pt x="323434" y="122740"/>
                  </a:cubicBezTo>
                  <a:lnTo>
                    <a:pt x="323434" y="289852"/>
                  </a:lnTo>
                  <a:lnTo>
                    <a:pt x="462572" y="289852"/>
                  </a:lnTo>
                  <a:cubicBezTo>
                    <a:pt x="476438" y="289852"/>
                    <a:pt x="487913" y="301311"/>
                    <a:pt x="487913" y="315157"/>
                  </a:cubicBezTo>
                  <a:cubicBezTo>
                    <a:pt x="487913" y="329004"/>
                    <a:pt x="476438" y="340463"/>
                    <a:pt x="462572" y="340463"/>
                  </a:cubicBezTo>
                  <a:lnTo>
                    <a:pt x="297615" y="340463"/>
                  </a:lnTo>
                  <a:cubicBezTo>
                    <a:pt x="283749" y="340463"/>
                    <a:pt x="272274" y="329004"/>
                    <a:pt x="272274" y="315157"/>
                  </a:cubicBezTo>
                  <a:lnTo>
                    <a:pt x="272274" y="122740"/>
                  </a:lnTo>
                  <a:cubicBezTo>
                    <a:pt x="272274" y="108416"/>
                    <a:pt x="283749" y="96957"/>
                    <a:pt x="297615" y="96957"/>
                  </a:cubicBezTo>
                  <a:close/>
                  <a:moveTo>
                    <a:pt x="298127" y="0"/>
                  </a:moveTo>
                  <a:cubicBezTo>
                    <a:pt x="463564" y="0"/>
                    <a:pt x="597921" y="134181"/>
                    <a:pt x="597921" y="299401"/>
                  </a:cubicBezTo>
                  <a:cubicBezTo>
                    <a:pt x="597921" y="464143"/>
                    <a:pt x="463564" y="598324"/>
                    <a:pt x="298127" y="598324"/>
                  </a:cubicBezTo>
                  <a:cubicBezTo>
                    <a:pt x="188155" y="598324"/>
                    <a:pt x="87268" y="538635"/>
                    <a:pt x="35150" y="442177"/>
                  </a:cubicBezTo>
                  <a:cubicBezTo>
                    <a:pt x="33238" y="438835"/>
                    <a:pt x="32760" y="435492"/>
                    <a:pt x="34194" y="432149"/>
                  </a:cubicBezTo>
                  <a:cubicBezTo>
                    <a:pt x="35150" y="428807"/>
                    <a:pt x="37541" y="425942"/>
                    <a:pt x="40410" y="424509"/>
                  </a:cubicBezTo>
                  <a:lnTo>
                    <a:pt x="74836" y="407796"/>
                  </a:lnTo>
                  <a:cubicBezTo>
                    <a:pt x="81052" y="404931"/>
                    <a:pt x="88702" y="407319"/>
                    <a:pt x="91571" y="413049"/>
                  </a:cubicBezTo>
                  <a:cubicBezTo>
                    <a:pt x="133169" y="488018"/>
                    <a:pt x="212540" y="534815"/>
                    <a:pt x="298127" y="534815"/>
                  </a:cubicBezTo>
                  <a:cubicBezTo>
                    <a:pt x="428181" y="534815"/>
                    <a:pt x="534328" y="429284"/>
                    <a:pt x="534328" y="299401"/>
                  </a:cubicBezTo>
                  <a:cubicBezTo>
                    <a:pt x="534328" y="169517"/>
                    <a:pt x="428181" y="63509"/>
                    <a:pt x="298127" y="63509"/>
                  </a:cubicBezTo>
                  <a:cubicBezTo>
                    <a:pt x="242185" y="63509"/>
                    <a:pt x="187677" y="83565"/>
                    <a:pt x="145123" y="120333"/>
                  </a:cubicBezTo>
                  <a:lnTo>
                    <a:pt x="200587" y="142299"/>
                  </a:lnTo>
                  <a:cubicBezTo>
                    <a:pt x="204890" y="144209"/>
                    <a:pt x="207759" y="148029"/>
                    <a:pt x="208237" y="152327"/>
                  </a:cubicBezTo>
                  <a:cubicBezTo>
                    <a:pt x="208715" y="157102"/>
                    <a:pt x="207281" y="161399"/>
                    <a:pt x="203456" y="164265"/>
                  </a:cubicBezTo>
                  <a:lnTo>
                    <a:pt x="48060" y="285553"/>
                  </a:lnTo>
                  <a:cubicBezTo>
                    <a:pt x="44235" y="288418"/>
                    <a:pt x="39454" y="289373"/>
                    <a:pt x="35150" y="287463"/>
                  </a:cubicBezTo>
                  <a:cubicBezTo>
                    <a:pt x="31325" y="285553"/>
                    <a:pt x="27978" y="281733"/>
                    <a:pt x="27500" y="277435"/>
                  </a:cubicBezTo>
                  <a:lnTo>
                    <a:pt x="246" y="82132"/>
                  </a:lnTo>
                  <a:cubicBezTo>
                    <a:pt x="-710" y="77835"/>
                    <a:pt x="1203" y="73060"/>
                    <a:pt x="4550" y="70194"/>
                  </a:cubicBezTo>
                  <a:cubicBezTo>
                    <a:pt x="8375" y="67807"/>
                    <a:pt x="13156" y="66852"/>
                    <a:pt x="17459" y="68762"/>
                  </a:cubicBezTo>
                  <a:lnTo>
                    <a:pt x="80574" y="94070"/>
                  </a:lnTo>
                  <a:cubicBezTo>
                    <a:pt x="137472" y="33426"/>
                    <a:pt x="214931" y="0"/>
                    <a:pt x="298127"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03" name="任意多边形 271"/>
            <p:cNvSpPr/>
            <p:nvPr/>
          </p:nvSpPr>
          <p:spPr>
            <a:xfrm>
              <a:off x="1717200" y="3050280"/>
              <a:ext cx="617760" cy="574200"/>
            </a:xfrm>
            <a:custGeom>
              <a:avLst/>
              <a:gdLst/>
              <a:ahLst/>
              <a:rect l="l" t="t" r="r" b="b"/>
              <a:pathLst>
                <a:path w="6827" h="5912">
                  <a:moveTo>
                    <a:pt x="3413" y="0"/>
                  </a:moveTo>
                  <a:lnTo>
                    <a:pt x="0" y="5912"/>
                  </a:lnTo>
                  <a:lnTo>
                    <a:pt x="6827" y="5912"/>
                  </a:lnTo>
                  <a:lnTo>
                    <a:pt x="3413" y="0"/>
                  </a:lnTo>
                  <a:close/>
                  <a:moveTo>
                    <a:pt x="3413" y="972"/>
                  </a:moveTo>
                  <a:lnTo>
                    <a:pt x="4489" y="2835"/>
                  </a:lnTo>
                  <a:lnTo>
                    <a:pt x="2338" y="2835"/>
                  </a:lnTo>
                  <a:lnTo>
                    <a:pt x="3413" y="972"/>
                  </a:lnTo>
                  <a:close/>
                  <a:moveTo>
                    <a:pt x="842" y="5426"/>
                  </a:moveTo>
                  <a:lnTo>
                    <a:pt x="1917" y="3564"/>
                  </a:lnTo>
                  <a:lnTo>
                    <a:pt x="2993" y="5426"/>
                  </a:lnTo>
                  <a:lnTo>
                    <a:pt x="842" y="5426"/>
                  </a:lnTo>
                  <a:close/>
                  <a:moveTo>
                    <a:pt x="2338" y="3321"/>
                  </a:moveTo>
                  <a:lnTo>
                    <a:pt x="4489" y="3321"/>
                  </a:lnTo>
                  <a:lnTo>
                    <a:pt x="3413" y="5183"/>
                  </a:lnTo>
                  <a:lnTo>
                    <a:pt x="2338" y="3321"/>
                  </a:lnTo>
                  <a:close/>
                  <a:moveTo>
                    <a:pt x="4910" y="3564"/>
                  </a:moveTo>
                  <a:lnTo>
                    <a:pt x="5985" y="5426"/>
                  </a:lnTo>
                  <a:lnTo>
                    <a:pt x="3834" y="5426"/>
                  </a:lnTo>
                  <a:lnTo>
                    <a:pt x="4910" y="3564"/>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04" name="任意多边形 272"/>
            <p:cNvSpPr/>
            <p:nvPr/>
          </p:nvSpPr>
          <p:spPr>
            <a:xfrm>
              <a:off x="771480" y="4546440"/>
              <a:ext cx="361800" cy="336240"/>
            </a:xfrm>
            <a:custGeom>
              <a:avLst/>
              <a:gdLst/>
              <a:ahLst/>
              <a:rect l="l" t="t" r="r" b="b"/>
              <a:pathLst>
                <a:path w="582235" h="606722">
                  <a:moveTo>
                    <a:pt x="0" y="404481"/>
                  </a:moveTo>
                  <a:lnTo>
                    <a:pt x="101261" y="404481"/>
                  </a:lnTo>
                  <a:lnTo>
                    <a:pt x="101261" y="606722"/>
                  </a:lnTo>
                  <a:lnTo>
                    <a:pt x="0" y="606722"/>
                  </a:lnTo>
                  <a:lnTo>
                    <a:pt x="0" y="404481"/>
                  </a:lnTo>
                  <a:close/>
                  <a:moveTo>
                    <a:pt x="151927" y="328623"/>
                  </a:moveTo>
                  <a:lnTo>
                    <a:pt x="253188" y="328623"/>
                  </a:lnTo>
                  <a:lnTo>
                    <a:pt x="253188" y="606722"/>
                  </a:lnTo>
                  <a:lnTo>
                    <a:pt x="151927" y="606722"/>
                  </a:lnTo>
                  <a:lnTo>
                    <a:pt x="151927" y="328623"/>
                  </a:lnTo>
                  <a:close/>
                  <a:moveTo>
                    <a:pt x="303855" y="252766"/>
                  </a:moveTo>
                  <a:lnTo>
                    <a:pt x="405046" y="252766"/>
                  </a:lnTo>
                  <a:lnTo>
                    <a:pt x="405046" y="606722"/>
                  </a:lnTo>
                  <a:lnTo>
                    <a:pt x="303855" y="606722"/>
                  </a:lnTo>
                  <a:lnTo>
                    <a:pt x="303855" y="252766"/>
                  </a:lnTo>
                  <a:close/>
                  <a:moveTo>
                    <a:pt x="455711" y="202241"/>
                  </a:moveTo>
                  <a:lnTo>
                    <a:pt x="556972" y="202241"/>
                  </a:lnTo>
                  <a:lnTo>
                    <a:pt x="556972" y="606722"/>
                  </a:lnTo>
                  <a:lnTo>
                    <a:pt x="455711" y="606722"/>
                  </a:lnTo>
                  <a:lnTo>
                    <a:pt x="455711" y="202241"/>
                  </a:lnTo>
                  <a:close/>
                  <a:moveTo>
                    <a:pt x="455697" y="0"/>
                  </a:moveTo>
                  <a:lnTo>
                    <a:pt x="556785" y="0"/>
                  </a:lnTo>
                  <a:lnTo>
                    <a:pt x="556874" y="0"/>
                  </a:lnTo>
                  <a:lnTo>
                    <a:pt x="556963" y="0"/>
                  </a:lnTo>
                  <a:cubicBezTo>
                    <a:pt x="557230" y="0"/>
                    <a:pt x="557408" y="0"/>
                    <a:pt x="557675" y="0"/>
                  </a:cubicBezTo>
                  <a:cubicBezTo>
                    <a:pt x="558298" y="89"/>
                    <a:pt x="558832" y="89"/>
                    <a:pt x="559366" y="89"/>
                  </a:cubicBezTo>
                  <a:cubicBezTo>
                    <a:pt x="559811" y="178"/>
                    <a:pt x="560256" y="267"/>
                    <a:pt x="560611" y="267"/>
                  </a:cubicBezTo>
                  <a:cubicBezTo>
                    <a:pt x="561056" y="356"/>
                    <a:pt x="561412" y="444"/>
                    <a:pt x="561857" y="444"/>
                  </a:cubicBezTo>
                  <a:cubicBezTo>
                    <a:pt x="562302" y="533"/>
                    <a:pt x="562747" y="711"/>
                    <a:pt x="563192" y="800"/>
                  </a:cubicBezTo>
                  <a:cubicBezTo>
                    <a:pt x="563548" y="889"/>
                    <a:pt x="563904" y="978"/>
                    <a:pt x="564171" y="1067"/>
                  </a:cubicBezTo>
                  <a:cubicBezTo>
                    <a:pt x="564616" y="1156"/>
                    <a:pt x="565061" y="1333"/>
                    <a:pt x="565506" y="1511"/>
                  </a:cubicBezTo>
                  <a:cubicBezTo>
                    <a:pt x="565862" y="1600"/>
                    <a:pt x="566218" y="1778"/>
                    <a:pt x="566574" y="1867"/>
                  </a:cubicBezTo>
                  <a:cubicBezTo>
                    <a:pt x="566929" y="2044"/>
                    <a:pt x="567285" y="2222"/>
                    <a:pt x="567730" y="2400"/>
                  </a:cubicBezTo>
                  <a:cubicBezTo>
                    <a:pt x="568086" y="2578"/>
                    <a:pt x="568442" y="2755"/>
                    <a:pt x="568798" y="2933"/>
                  </a:cubicBezTo>
                  <a:cubicBezTo>
                    <a:pt x="569154" y="3111"/>
                    <a:pt x="569421" y="3289"/>
                    <a:pt x="569777" y="3467"/>
                  </a:cubicBezTo>
                  <a:cubicBezTo>
                    <a:pt x="570133" y="3733"/>
                    <a:pt x="570578" y="4000"/>
                    <a:pt x="570934" y="4178"/>
                  </a:cubicBezTo>
                  <a:cubicBezTo>
                    <a:pt x="571201" y="4444"/>
                    <a:pt x="571557" y="4622"/>
                    <a:pt x="571824" y="4800"/>
                  </a:cubicBezTo>
                  <a:cubicBezTo>
                    <a:pt x="572180" y="5155"/>
                    <a:pt x="572536" y="5422"/>
                    <a:pt x="572891" y="5689"/>
                  </a:cubicBezTo>
                  <a:cubicBezTo>
                    <a:pt x="573247" y="5955"/>
                    <a:pt x="573514" y="6222"/>
                    <a:pt x="573781" y="6489"/>
                  </a:cubicBezTo>
                  <a:cubicBezTo>
                    <a:pt x="574137" y="6755"/>
                    <a:pt x="574493" y="7022"/>
                    <a:pt x="574760" y="7289"/>
                  </a:cubicBezTo>
                  <a:cubicBezTo>
                    <a:pt x="575205" y="7733"/>
                    <a:pt x="575561" y="8178"/>
                    <a:pt x="575917" y="8533"/>
                  </a:cubicBezTo>
                  <a:cubicBezTo>
                    <a:pt x="576095" y="8711"/>
                    <a:pt x="576273" y="8889"/>
                    <a:pt x="576451" y="9066"/>
                  </a:cubicBezTo>
                  <a:cubicBezTo>
                    <a:pt x="576451" y="9155"/>
                    <a:pt x="576451" y="9155"/>
                    <a:pt x="576451" y="9155"/>
                  </a:cubicBezTo>
                  <a:cubicBezTo>
                    <a:pt x="576985" y="9777"/>
                    <a:pt x="577519" y="10489"/>
                    <a:pt x="577964" y="11200"/>
                  </a:cubicBezTo>
                  <a:cubicBezTo>
                    <a:pt x="577964" y="11200"/>
                    <a:pt x="578053" y="11289"/>
                    <a:pt x="578053" y="11289"/>
                  </a:cubicBezTo>
                  <a:cubicBezTo>
                    <a:pt x="578498" y="12000"/>
                    <a:pt x="578854" y="12622"/>
                    <a:pt x="579209" y="13244"/>
                  </a:cubicBezTo>
                  <a:cubicBezTo>
                    <a:pt x="579387" y="13600"/>
                    <a:pt x="579565" y="13955"/>
                    <a:pt x="579743" y="14222"/>
                  </a:cubicBezTo>
                  <a:cubicBezTo>
                    <a:pt x="579921" y="14666"/>
                    <a:pt x="580099" y="15111"/>
                    <a:pt x="580277" y="15555"/>
                  </a:cubicBezTo>
                  <a:cubicBezTo>
                    <a:pt x="580455" y="15911"/>
                    <a:pt x="580633" y="16266"/>
                    <a:pt x="580722" y="16711"/>
                  </a:cubicBezTo>
                  <a:cubicBezTo>
                    <a:pt x="580900" y="17066"/>
                    <a:pt x="581078" y="17422"/>
                    <a:pt x="581167" y="17866"/>
                  </a:cubicBezTo>
                  <a:cubicBezTo>
                    <a:pt x="581256" y="18311"/>
                    <a:pt x="581434" y="18755"/>
                    <a:pt x="581523" y="19199"/>
                  </a:cubicBezTo>
                  <a:cubicBezTo>
                    <a:pt x="581612" y="19555"/>
                    <a:pt x="581701" y="19910"/>
                    <a:pt x="581790" y="20266"/>
                  </a:cubicBezTo>
                  <a:cubicBezTo>
                    <a:pt x="581879" y="20977"/>
                    <a:pt x="582057" y="21777"/>
                    <a:pt x="582146" y="22488"/>
                  </a:cubicBezTo>
                  <a:cubicBezTo>
                    <a:pt x="582146" y="22577"/>
                    <a:pt x="582146" y="22666"/>
                    <a:pt x="582146" y="22666"/>
                  </a:cubicBezTo>
                  <a:cubicBezTo>
                    <a:pt x="582235" y="23555"/>
                    <a:pt x="582235" y="24355"/>
                    <a:pt x="582235" y="25244"/>
                  </a:cubicBezTo>
                  <a:lnTo>
                    <a:pt x="582235" y="126396"/>
                  </a:lnTo>
                  <a:cubicBezTo>
                    <a:pt x="582235" y="140351"/>
                    <a:pt x="570934" y="151728"/>
                    <a:pt x="556963" y="151728"/>
                  </a:cubicBezTo>
                  <a:cubicBezTo>
                    <a:pt x="542992" y="151728"/>
                    <a:pt x="531691" y="140351"/>
                    <a:pt x="531691" y="126396"/>
                  </a:cubicBezTo>
                  <a:lnTo>
                    <a:pt x="531691" y="79286"/>
                  </a:lnTo>
                  <a:lnTo>
                    <a:pt x="421260" y="171106"/>
                  </a:lnTo>
                  <a:cubicBezTo>
                    <a:pt x="410582" y="180083"/>
                    <a:pt x="394564" y="178572"/>
                    <a:pt x="385666" y="167906"/>
                  </a:cubicBezTo>
                  <a:cubicBezTo>
                    <a:pt x="376678" y="157150"/>
                    <a:pt x="378191" y="141240"/>
                    <a:pt x="388869" y="132262"/>
                  </a:cubicBezTo>
                  <a:lnTo>
                    <a:pt x="487020" y="50576"/>
                  </a:lnTo>
                  <a:lnTo>
                    <a:pt x="455697" y="50576"/>
                  </a:lnTo>
                  <a:cubicBezTo>
                    <a:pt x="441727" y="50576"/>
                    <a:pt x="430425" y="39288"/>
                    <a:pt x="430425" y="25244"/>
                  </a:cubicBezTo>
                  <a:cubicBezTo>
                    <a:pt x="430425" y="11289"/>
                    <a:pt x="441727" y="0"/>
                    <a:pt x="455697"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05" name="任意多边形 277"/>
            <p:cNvSpPr/>
            <p:nvPr/>
          </p:nvSpPr>
          <p:spPr>
            <a:xfrm flipH="1">
              <a:off x="2203560" y="4074480"/>
              <a:ext cx="488520" cy="482400"/>
            </a:xfrm>
            <a:custGeom>
              <a:avLst/>
              <a:gdLst/>
              <a:ahLst/>
              <a:rect l="l" t="t" r="r" b="b"/>
              <a:pathLst>
                <a:path w="120000" h="120000">
                  <a:moveTo>
                    <a:pt x="120000" y="60000"/>
                  </a:moveTo>
                  <a:lnTo>
                    <a:pt x="119945" y="63114"/>
                  </a:lnTo>
                  <a:lnTo>
                    <a:pt x="119728" y="66120"/>
                  </a:lnTo>
                  <a:lnTo>
                    <a:pt x="119294" y="69125"/>
                  </a:lnTo>
                  <a:lnTo>
                    <a:pt x="118751" y="72076"/>
                  </a:lnTo>
                  <a:lnTo>
                    <a:pt x="118154" y="74972"/>
                  </a:lnTo>
                  <a:lnTo>
                    <a:pt x="117286" y="77868"/>
                  </a:lnTo>
                  <a:lnTo>
                    <a:pt x="116363" y="80655"/>
                  </a:lnTo>
                  <a:lnTo>
                    <a:pt x="115278" y="83387"/>
                  </a:lnTo>
                  <a:lnTo>
                    <a:pt x="114138" y="86010"/>
                  </a:lnTo>
                  <a:lnTo>
                    <a:pt x="112781" y="88633"/>
                  </a:lnTo>
                  <a:lnTo>
                    <a:pt x="111316" y="91092"/>
                  </a:lnTo>
                  <a:lnTo>
                    <a:pt x="109742" y="93551"/>
                  </a:lnTo>
                  <a:lnTo>
                    <a:pt x="108113" y="95901"/>
                  </a:lnTo>
                  <a:lnTo>
                    <a:pt x="106322" y="98196"/>
                  </a:lnTo>
                  <a:lnTo>
                    <a:pt x="104423" y="100382"/>
                  </a:lnTo>
                  <a:lnTo>
                    <a:pt x="102415" y="102459"/>
                  </a:lnTo>
                  <a:lnTo>
                    <a:pt x="100352" y="104371"/>
                  </a:lnTo>
                  <a:lnTo>
                    <a:pt x="98181" y="106284"/>
                  </a:lnTo>
                  <a:lnTo>
                    <a:pt x="95902" y="108142"/>
                  </a:lnTo>
                  <a:lnTo>
                    <a:pt x="93568" y="109781"/>
                  </a:lnTo>
                  <a:lnTo>
                    <a:pt x="91126" y="111311"/>
                  </a:lnTo>
                  <a:lnTo>
                    <a:pt x="88575" y="112786"/>
                  </a:lnTo>
                  <a:lnTo>
                    <a:pt x="86024" y="114098"/>
                  </a:lnTo>
                  <a:lnTo>
                    <a:pt x="83364" y="115245"/>
                  </a:lnTo>
                  <a:lnTo>
                    <a:pt x="80651" y="116393"/>
                  </a:lnTo>
                  <a:lnTo>
                    <a:pt x="77829" y="117322"/>
                  </a:lnTo>
                  <a:lnTo>
                    <a:pt x="75006" y="118087"/>
                  </a:lnTo>
                  <a:lnTo>
                    <a:pt x="72130" y="118797"/>
                  </a:lnTo>
                  <a:lnTo>
                    <a:pt x="69145" y="119344"/>
                  </a:lnTo>
                  <a:lnTo>
                    <a:pt x="66160" y="119672"/>
                  </a:lnTo>
                  <a:lnTo>
                    <a:pt x="63066" y="119945"/>
                  </a:lnTo>
                  <a:lnTo>
                    <a:pt x="60027" y="120000"/>
                  </a:lnTo>
                  <a:lnTo>
                    <a:pt x="56933" y="119945"/>
                  </a:lnTo>
                  <a:lnTo>
                    <a:pt x="53894" y="119672"/>
                  </a:lnTo>
                  <a:lnTo>
                    <a:pt x="50854" y="119344"/>
                  </a:lnTo>
                  <a:lnTo>
                    <a:pt x="47924" y="118797"/>
                  </a:lnTo>
                  <a:lnTo>
                    <a:pt x="44993" y="118087"/>
                  </a:lnTo>
                  <a:lnTo>
                    <a:pt x="42170" y="117322"/>
                  </a:lnTo>
                  <a:lnTo>
                    <a:pt x="39402" y="116393"/>
                  </a:lnTo>
                  <a:lnTo>
                    <a:pt x="36689" y="115245"/>
                  </a:lnTo>
                  <a:lnTo>
                    <a:pt x="34029" y="114098"/>
                  </a:lnTo>
                  <a:lnTo>
                    <a:pt x="31424" y="112786"/>
                  </a:lnTo>
                  <a:lnTo>
                    <a:pt x="28873" y="111311"/>
                  </a:lnTo>
                  <a:lnTo>
                    <a:pt x="26485" y="109781"/>
                  </a:lnTo>
                  <a:lnTo>
                    <a:pt x="24097" y="108142"/>
                  </a:lnTo>
                  <a:lnTo>
                    <a:pt x="21872" y="106284"/>
                  </a:lnTo>
                  <a:lnTo>
                    <a:pt x="19701" y="104371"/>
                  </a:lnTo>
                  <a:lnTo>
                    <a:pt x="17584" y="102459"/>
                  </a:lnTo>
                  <a:lnTo>
                    <a:pt x="15576" y="100382"/>
                  </a:lnTo>
                  <a:lnTo>
                    <a:pt x="13731" y="98196"/>
                  </a:lnTo>
                  <a:lnTo>
                    <a:pt x="11940" y="95901"/>
                  </a:lnTo>
                  <a:lnTo>
                    <a:pt x="10312" y="93606"/>
                  </a:lnTo>
                  <a:lnTo>
                    <a:pt x="8683" y="91092"/>
                  </a:lnTo>
                  <a:lnTo>
                    <a:pt x="7272" y="88633"/>
                  </a:lnTo>
                  <a:lnTo>
                    <a:pt x="5915" y="86010"/>
                  </a:lnTo>
                  <a:lnTo>
                    <a:pt x="4721" y="83387"/>
                  </a:lnTo>
                  <a:lnTo>
                    <a:pt x="3690" y="80655"/>
                  </a:lnTo>
                  <a:lnTo>
                    <a:pt x="2713" y="77868"/>
                  </a:lnTo>
                  <a:lnTo>
                    <a:pt x="1899" y="74972"/>
                  </a:lnTo>
                  <a:lnTo>
                    <a:pt x="1248" y="72076"/>
                  </a:lnTo>
                  <a:lnTo>
                    <a:pt x="705" y="69125"/>
                  </a:lnTo>
                  <a:lnTo>
                    <a:pt x="325" y="66120"/>
                  </a:lnTo>
                  <a:lnTo>
                    <a:pt x="108" y="63114"/>
                  </a:lnTo>
                  <a:lnTo>
                    <a:pt x="0" y="60054"/>
                  </a:lnTo>
                  <a:lnTo>
                    <a:pt x="108" y="56885"/>
                  </a:lnTo>
                  <a:lnTo>
                    <a:pt x="325" y="53879"/>
                  </a:lnTo>
                  <a:lnTo>
                    <a:pt x="705" y="50874"/>
                  </a:lnTo>
                  <a:lnTo>
                    <a:pt x="1248" y="47923"/>
                  </a:lnTo>
                  <a:lnTo>
                    <a:pt x="1899" y="45027"/>
                  </a:lnTo>
                  <a:lnTo>
                    <a:pt x="2713" y="42131"/>
                  </a:lnTo>
                  <a:lnTo>
                    <a:pt x="3690" y="39344"/>
                  </a:lnTo>
                  <a:lnTo>
                    <a:pt x="4721" y="36666"/>
                  </a:lnTo>
                  <a:lnTo>
                    <a:pt x="5915" y="33989"/>
                  </a:lnTo>
                  <a:lnTo>
                    <a:pt x="7272" y="31366"/>
                  </a:lnTo>
                  <a:lnTo>
                    <a:pt x="8683" y="28907"/>
                  </a:lnTo>
                  <a:lnTo>
                    <a:pt x="10312" y="26502"/>
                  </a:lnTo>
                  <a:lnTo>
                    <a:pt x="11940" y="24098"/>
                  </a:lnTo>
                  <a:lnTo>
                    <a:pt x="13731" y="21857"/>
                  </a:lnTo>
                  <a:lnTo>
                    <a:pt x="15576" y="19672"/>
                  </a:lnTo>
                  <a:lnTo>
                    <a:pt x="17584" y="17595"/>
                  </a:lnTo>
                  <a:lnTo>
                    <a:pt x="19701" y="15628"/>
                  </a:lnTo>
                  <a:lnTo>
                    <a:pt x="21872" y="13715"/>
                  </a:lnTo>
                  <a:lnTo>
                    <a:pt x="24097" y="11967"/>
                  </a:lnTo>
                  <a:lnTo>
                    <a:pt x="26485" y="10218"/>
                  </a:lnTo>
                  <a:lnTo>
                    <a:pt x="28873" y="8688"/>
                  </a:lnTo>
                  <a:lnTo>
                    <a:pt x="31424" y="7267"/>
                  </a:lnTo>
                  <a:lnTo>
                    <a:pt x="34029" y="5956"/>
                  </a:lnTo>
                  <a:lnTo>
                    <a:pt x="36689" y="4754"/>
                  </a:lnTo>
                  <a:lnTo>
                    <a:pt x="39402" y="3661"/>
                  </a:lnTo>
                  <a:lnTo>
                    <a:pt x="42170" y="2732"/>
                  </a:lnTo>
                  <a:lnTo>
                    <a:pt x="44993" y="1912"/>
                  </a:lnTo>
                  <a:lnTo>
                    <a:pt x="47924" y="1256"/>
                  </a:lnTo>
                  <a:lnTo>
                    <a:pt x="50854" y="710"/>
                  </a:lnTo>
                  <a:lnTo>
                    <a:pt x="53894" y="327"/>
                  </a:lnTo>
                  <a:lnTo>
                    <a:pt x="56933" y="109"/>
                  </a:lnTo>
                  <a:lnTo>
                    <a:pt x="60027" y="0"/>
                  </a:lnTo>
                  <a:lnTo>
                    <a:pt x="63066" y="109"/>
                  </a:lnTo>
                  <a:lnTo>
                    <a:pt x="66160" y="327"/>
                  </a:lnTo>
                  <a:lnTo>
                    <a:pt x="69145" y="710"/>
                  </a:lnTo>
                  <a:lnTo>
                    <a:pt x="72130" y="1256"/>
                  </a:lnTo>
                  <a:lnTo>
                    <a:pt x="75006" y="1912"/>
                  </a:lnTo>
                  <a:lnTo>
                    <a:pt x="77829" y="2732"/>
                  </a:lnTo>
                  <a:lnTo>
                    <a:pt x="80651" y="3661"/>
                  </a:lnTo>
                  <a:lnTo>
                    <a:pt x="83364" y="4754"/>
                  </a:lnTo>
                  <a:lnTo>
                    <a:pt x="86024" y="5956"/>
                  </a:lnTo>
                  <a:lnTo>
                    <a:pt x="88575" y="7267"/>
                  </a:lnTo>
                  <a:lnTo>
                    <a:pt x="91126" y="8688"/>
                  </a:lnTo>
                  <a:lnTo>
                    <a:pt x="93568" y="10218"/>
                  </a:lnTo>
                  <a:lnTo>
                    <a:pt x="95902" y="11967"/>
                  </a:lnTo>
                  <a:lnTo>
                    <a:pt x="98181" y="13715"/>
                  </a:lnTo>
                  <a:lnTo>
                    <a:pt x="100352" y="15628"/>
                  </a:lnTo>
                  <a:lnTo>
                    <a:pt x="102415" y="17595"/>
                  </a:lnTo>
                  <a:lnTo>
                    <a:pt x="104423" y="19672"/>
                  </a:lnTo>
                  <a:lnTo>
                    <a:pt x="106322" y="21857"/>
                  </a:lnTo>
                  <a:lnTo>
                    <a:pt x="108113" y="24098"/>
                  </a:lnTo>
                  <a:lnTo>
                    <a:pt x="109742" y="26502"/>
                  </a:lnTo>
                  <a:lnTo>
                    <a:pt x="111316" y="28907"/>
                  </a:lnTo>
                  <a:lnTo>
                    <a:pt x="112781" y="31366"/>
                  </a:lnTo>
                  <a:lnTo>
                    <a:pt x="114138" y="33989"/>
                  </a:lnTo>
                  <a:lnTo>
                    <a:pt x="115278" y="36666"/>
                  </a:lnTo>
                  <a:lnTo>
                    <a:pt x="116363" y="39344"/>
                  </a:lnTo>
                  <a:lnTo>
                    <a:pt x="117286" y="42131"/>
                  </a:lnTo>
                  <a:lnTo>
                    <a:pt x="118154" y="45027"/>
                  </a:lnTo>
                  <a:lnTo>
                    <a:pt x="118751" y="47923"/>
                  </a:lnTo>
                  <a:lnTo>
                    <a:pt x="119294" y="50874"/>
                  </a:lnTo>
                  <a:lnTo>
                    <a:pt x="119728" y="53879"/>
                  </a:lnTo>
                  <a:lnTo>
                    <a:pt x="119945" y="56885"/>
                  </a:lnTo>
                  <a:lnTo>
                    <a:pt x="120000" y="60000"/>
                  </a:lnTo>
                  <a:close/>
                </a:path>
              </a:pathLst>
            </a:custGeom>
            <a:solidFill>
              <a:srgbClr val="9dc3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06" name="任意多边形 278"/>
            <p:cNvSpPr/>
            <p:nvPr/>
          </p:nvSpPr>
          <p:spPr>
            <a:xfrm flipH="1">
              <a:off x="1134360" y="4129200"/>
              <a:ext cx="1987200" cy="2584440"/>
            </a:xfrm>
            <a:custGeom>
              <a:avLst/>
              <a:gdLst/>
              <a:ahLst/>
              <a:rect l="l" t="t" r="r" b="b"/>
              <a:pathLst>
                <a:path w="120000" h="120000">
                  <a:moveTo>
                    <a:pt x="30807" y="117092"/>
                  </a:moveTo>
                  <a:lnTo>
                    <a:pt x="30353" y="115898"/>
                  </a:lnTo>
                  <a:lnTo>
                    <a:pt x="29926" y="114714"/>
                  </a:lnTo>
                  <a:lnTo>
                    <a:pt x="29552" y="113571"/>
                  </a:lnTo>
                  <a:lnTo>
                    <a:pt x="29205" y="112419"/>
                  </a:lnTo>
                  <a:lnTo>
                    <a:pt x="28898" y="111306"/>
                  </a:lnTo>
                  <a:lnTo>
                    <a:pt x="28604" y="110204"/>
                  </a:lnTo>
                  <a:lnTo>
                    <a:pt x="28364" y="109113"/>
                  </a:lnTo>
                  <a:lnTo>
                    <a:pt x="28150" y="108041"/>
                  </a:lnTo>
                  <a:lnTo>
                    <a:pt x="27936" y="106980"/>
                  </a:lnTo>
                  <a:lnTo>
                    <a:pt x="27776" y="105939"/>
                  </a:lnTo>
                  <a:lnTo>
                    <a:pt x="27643" y="104909"/>
                  </a:lnTo>
                  <a:lnTo>
                    <a:pt x="27522" y="103889"/>
                  </a:lnTo>
                  <a:lnTo>
                    <a:pt x="27415" y="102868"/>
                  </a:lnTo>
                  <a:lnTo>
                    <a:pt x="27362" y="101879"/>
                  </a:lnTo>
                  <a:lnTo>
                    <a:pt x="27295" y="100889"/>
                  </a:lnTo>
                  <a:lnTo>
                    <a:pt x="27269" y="99909"/>
                  </a:lnTo>
                  <a:lnTo>
                    <a:pt x="27255" y="98930"/>
                  </a:lnTo>
                  <a:lnTo>
                    <a:pt x="27269" y="97971"/>
                  </a:lnTo>
                  <a:lnTo>
                    <a:pt x="27282" y="97012"/>
                  </a:lnTo>
                  <a:lnTo>
                    <a:pt x="27335" y="96063"/>
                  </a:lnTo>
                  <a:lnTo>
                    <a:pt x="27375" y="95124"/>
                  </a:lnTo>
                  <a:lnTo>
                    <a:pt x="27442" y="94185"/>
                  </a:lnTo>
                  <a:lnTo>
                    <a:pt x="27522" y="93247"/>
                  </a:lnTo>
                  <a:lnTo>
                    <a:pt x="27602" y="92318"/>
                  </a:lnTo>
                  <a:lnTo>
                    <a:pt x="27709" y="91390"/>
                  </a:lnTo>
                  <a:lnTo>
                    <a:pt x="27816" y="90451"/>
                  </a:lnTo>
                  <a:lnTo>
                    <a:pt x="27923" y="89522"/>
                  </a:lnTo>
                  <a:lnTo>
                    <a:pt x="28043" y="88604"/>
                  </a:lnTo>
                  <a:lnTo>
                    <a:pt x="28283" y="86747"/>
                  </a:lnTo>
                  <a:lnTo>
                    <a:pt x="28564" y="84880"/>
                  </a:lnTo>
                  <a:lnTo>
                    <a:pt x="28764" y="83401"/>
                  </a:lnTo>
                  <a:lnTo>
                    <a:pt x="28978" y="81901"/>
                  </a:lnTo>
                  <a:lnTo>
                    <a:pt x="29178" y="80391"/>
                  </a:lnTo>
                  <a:lnTo>
                    <a:pt x="29365" y="78870"/>
                  </a:lnTo>
                  <a:lnTo>
                    <a:pt x="29525" y="77340"/>
                  </a:lnTo>
                  <a:lnTo>
                    <a:pt x="29672" y="75769"/>
                  </a:lnTo>
                  <a:lnTo>
                    <a:pt x="29726" y="74993"/>
                  </a:lnTo>
                  <a:lnTo>
                    <a:pt x="29793" y="74197"/>
                  </a:lnTo>
                  <a:lnTo>
                    <a:pt x="29833" y="73391"/>
                  </a:lnTo>
                  <a:lnTo>
                    <a:pt x="29873" y="72585"/>
                  </a:lnTo>
                  <a:lnTo>
                    <a:pt x="29899" y="71779"/>
                  </a:lnTo>
                  <a:lnTo>
                    <a:pt x="29913" y="70953"/>
                  </a:lnTo>
                  <a:lnTo>
                    <a:pt x="29926" y="70126"/>
                  </a:lnTo>
                  <a:lnTo>
                    <a:pt x="29926" y="69290"/>
                  </a:lnTo>
                  <a:lnTo>
                    <a:pt x="29913" y="68453"/>
                  </a:lnTo>
                  <a:lnTo>
                    <a:pt x="29886" y="67586"/>
                  </a:lnTo>
                  <a:lnTo>
                    <a:pt x="29846" y="66729"/>
                  </a:lnTo>
                  <a:lnTo>
                    <a:pt x="29793" y="65861"/>
                  </a:lnTo>
                  <a:lnTo>
                    <a:pt x="29726" y="64974"/>
                  </a:lnTo>
                  <a:lnTo>
                    <a:pt x="29646" y="64086"/>
                  </a:lnTo>
                  <a:lnTo>
                    <a:pt x="29552" y="63178"/>
                  </a:lnTo>
                  <a:lnTo>
                    <a:pt x="29432" y="62260"/>
                  </a:lnTo>
                  <a:lnTo>
                    <a:pt x="29312" y="61351"/>
                  </a:lnTo>
                  <a:lnTo>
                    <a:pt x="29165" y="60413"/>
                  </a:lnTo>
                  <a:lnTo>
                    <a:pt x="29005" y="59464"/>
                  </a:lnTo>
                  <a:lnTo>
                    <a:pt x="28818" y="58505"/>
                  </a:lnTo>
                  <a:lnTo>
                    <a:pt x="28631" y="57597"/>
                  </a:lnTo>
                  <a:lnTo>
                    <a:pt x="28390" y="56689"/>
                  </a:lnTo>
                  <a:lnTo>
                    <a:pt x="28150" y="55801"/>
                  </a:lnTo>
                  <a:lnTo>
                    <a:pt x="27870" y="54903"/>
                  </a:lnTo>
                  <a:lnTo>
                    <a:pt x="27549" y="54026"/>
                  </a:lnTo>
                  <a:lnTo>
                    <a:pt x="27229" y="53138"/>
                  </a:lnTo>
                  <a:lnTo>
                    <a:pt x="26868" y="52260"/>
                  </a:lnTo>
                  <a:lnTo>
                    <a:pt x="26494" y="51383"/>
                  </a:lnTo>
                  <a:lnTo>
                    <a:pt x="26080" y="50516"/>
                  </a:lnTo>
                  <a:lnTo>
                    <a:pt x="25639" y="49648"/>
                  </a:lnTo>
                  <a:lnTo>
                    <a:pt x="25199" y="48781"/>
                  </a:lnTo>
                  <a:lnTo>
                    <a:pt x="24731" y="47914"/>
                  </a:lnTo>
                  <a:lnTo>
                    <a:pt x="24251" y="47067"/>
                  </a:lnTo>
                  <a:lnTo>
                    <a:pt x="23743" y="46200"/>
                  </a:lnTo>
                  <a:lnTo>
                    <a:pt x="23222" y="45353"/>
                  </a:lnTo>
                  <a:lnTo>
                    <a:pt x="22675" y="44506"/>
                  </a:lnTo>
                  <a:lnTo>
                    <a:pt x="22127" y="43659"/>
                  </a:lnTo>
                  <a:lnTo>
                    <a:pt x="21566" y="42822"/>
                  </a:lnTo>
                  <a:lnTo>
                    <a:pt x="20979" y="41976"/>
                  </a:lnTo>
                  <a:lnTo>
                    <a:pt x="20405" y="41139"/>
                  </a:lnTo>
                  <a:lnTo>
                    <a:pt x="19790" y="40312"/>
                  </a:lnTo>
                  <a:lnTo>
                    <a:pt x="19189" y="39476"/>
                  </a:lnTo>
                  <a:lnTo>
                    <a:pt x="18562" y="38649"/>
                  </a:lnTo>
                  <a:lnTo>
                    <a:pt x="17947" y="37823"/>
                  </a:lnTo>
                  <a:lnTo>
                    <a:pt x="16665" y="36180"/>
                  </a:lnTo>
                  <a:lnTo>
                    <a:pt x="15370" y="34548"/>
                  </a:lnTo>
                  <a:lnTo>
                    <a:pt x="14075" y="32915"/>
                  </a:lnTo>
                  <a:lnTo>
                    <a:pt x="12766" y="31293"/>
                  </a:lnTo>
                  <a:lnTo>
                    <a:pt x="11671" y="29926"/>
                  </a:lnTo>
                  <a:lnTo>
                    <a:pt x="10576" y="28568"/>
                  </a:lnTo>
                  <a:lnTo>
                    <a:pt x="9521" y="27222"/>
                  </a:lnTo>
                  <a:lnTo>
                    <a:pt x="8466" y="25875"/>
                  </a:lnTo>
                  <a:lnTo>
                    <a:pt x="7451" y="24559"/>
                  </a:lnTo>
                  <a:lnTo>
                    <a:pt x="6476" y="23232"/>
                  </a:lnTo>
                  <a:lnTo>
                    <a:pt x="6009" y="22579"/>
                  </a:lnTo>
                  <a:lnTo>
                    <a:pt x="5541" y="21926"/>
                  </a:lnTo>
                  <a:lnTo>
                    <a:pt x="5101" y="21283"/>
                  </a:lnTo>
                  <a:lnTo>
                    <a:pt x="4660" y="20641"/>
                  </a:lnTo>
                  <a:lnTo>
                    <a:pt x="4246" y="19998"/>
                  </a:lnTo>
                  <a:lnTo>
                    <a:pt x="3832" y="19355"/>
                  </a:lnTo>
                  <a:lnTo>
                    <a:pt x="3445" y="18722"/>
                  </a:lnTo>
                  <a:lnTo>
                    <a:pt x="3058" y="18080"/>
                  </a:lnTo>
                  <a:lnTo>
                    <a:pt x="2697" y="17447"/>
                  </a:lnTo>
                  <a:lnTo>
                    <a:pt x="2363" y="16825"/>
                  </a:lnTo>
                  <a:lnTo>
                    <a:pt x="2029" y="16202"/>
                  </a:lnTo>
                  <a:lnTo>
                    <a:pt x="1722" y="15580"/>
                  </a:lnTo>
                  <a:lnTo>
                    <a:pt x="1455" y="14968"/>
                  </a:lnTo>
                  <a:lnTo>
                    <a:pt x="1175" y="14355"/>
                  </a:lnTo>
                  <a:lnTo>
                    <a:pt x="948" y="13733"/>
                  </a:lnTo>
                  <a:lnTo>
                    <a:pt x="707" y="13131"/>
                  </a:lnTo>
                  <a:lnTo>
                    <a:pt x="520" y="12519"/>
                  </a:lnTo>
                  <a:lnTo>
                    <a:pt x="333" y="11927"/>
                  </a:lnTo>
                  <a:lnTo>
                    <a:pt x="186" y="11315"/>
                  </a:lnTo>
                  <a:lnTo>
                    <a:pt x="53" y="10723"/>
                  </a:lnTo>
                  <a:lnTo>
                    <a:pt x="13" y="10468"/>
                  </a:lnTo>
                  <a:lnTo>
                    <a:pt x="0" y="10223"/>
                  </a:lnTo>
                  <a:lnTo>
                    <a:pt x="13" y="9988"/>
                  </a:lnTo>
                  <a:lnTo>
                    <a:pt x="40" y="9754"/>
                  </a:lnTo>
                  <a:lnTo>
                    <a:pt x="80" y="9529"/>
                  </a:lnTo>
                  <a:lnTo>
                    <a:pt x="146" y="9315"/>
                  </a:lnTo>
                  <a:lnTo>
                    <a:pt x="213" y="9111"/>
                  </a:lnTo>
                  <a:lnTo>
                    <a:pt x="320" y="8917"/>
                  </a:lnTo>
                  <a:lnTo>
                    <a:pt x="413" y="8713"/>
                  </a:lnTo>
                  <a:lnTo>
                    <a:pt x="520" y="8540"/>
                  </a:lnTo>
                  <a:lnTo>
                    <a:pt x="654" y="8376"/>
                  </a:lnTo>
                  <a:lnTo>
                    <a:pt x="787" y="8213"/>
                  </a:lnTo>
                  <a:lnTo>
                    <a:pt x="908" y="8050"/>
                  </a:lnTo>
                  <a:lnTo>
                    <a:pt x="1041" y="7907"/>
                  </a:lnTo>
                  <a:lnTo>
                    <a:pt x="1188" y="7774"/>
                  </a:lnTo>
                  <a:lnTo>
                    <a:pt x="1322" y="7662"/>
                  </a:lnTo>
                  <a:lnTo>
                    <a:pt x="1575" y="7448"/>
                  </a:lnTo>
                  <a:lnTo>
                    <a:pt x="1842" y="7254"/>
                  </a:lnTo>
                  <a:lnTo>
                    <a:pt x="2136" y="7050"/>
                  </a:lnTo>
                  <a:lnTo>
                    <a:pt x="2443" y="6876"/>
                  </a:lnTo>
                  <a:lnTo>
                    <a:pt x="2737" y="6713"/>
                  </a:lnTo>
                  <a:lnTo>
                    <a:pt x="3084" y="6550"/>
                  </a:lnTo>
                  <a:lnTo>
                    <a:pt x="3418" y="6407"/>
                  </a:lnTo>
                  <a:lnTo>
                    <a:pt x="3752" y="6274"/>
                  </a:lnTo>
                  <a:lnTo>
                    <a:pt x="4113" y="6162"/>
                  </a:lnTo>
                  <a:lnTo>
                    <a:pt x="4460" y="6060"/>
                  </a:lnTo>
                  <a:lnTo>
                    <a:pt x="4820" y="5968"/>
                  </a:lnTo>
                  <a:lnTo>
                    <a:pt x="5194" y="5897"/>
                  </a:lnTo>
                  <a:lnTo>
                    <a:pt x="5568" y="5836"/>
                  </a:lnTo>
                  <a:lnTo>
                    <a:pt x="5929" y="5795"/>
                  </a:lnTo>
                  <a:lnTo>
                    <a:pt x="6303" y="5775"/>
                  </a:lnTo>
                  <a:lnTo>
                    <a:pt x="6663" y="5764"/>
                  </a:lnTo>
                  <a:lnTo>
                    <a:pt x="6850" y="5764"/>
                  </a:lnTo>
                  <a:lnTo>
                    <a:pt x="7064" y="5775"/>
                  </a:lnTo>
                  <a:lnTo>
                    <a:pt x="7264" y="5785"/>
                  </a:lnTo>
                  <a:lnTo>
                    <a:pt x="7478" y="5805"/>
                  </a:lnTo>
                  <a:lnTo>
                    <a:pt x="7678" y="5836"/>
                  </a:lnTo>
                  <a:lnTo>
                    <a:pt x="7905" y="5866"/>
                  </a:lnTo>
                  <a:lnTo>
                    <a:pt x="8132" y="5928"/>
                  </a:lnTo>
                  <a:lnTo>
                    <a:pt x="8359" y="5979"/>
                  </a:lnTo>
                  <a:lnTo>
                    <a:pt x="8573" y="6050"/>
                  </a:lnTo>
                  <a:lnTo>
                    <a:pt x="8787" y="6132"/>
                  </a:lnTo>
                  <a:lnTo>
                    <a:pt x="9000" y="6223"/>
                  </a:lnTo>
                  <a:lnTo>
                    <a:pt x="9214" y="6336"/>
                  </a:lnTo>
                  <a:lnTo>
                    <a:pt x="9414" y="6458"/>
                  </a:lnTo>
                  <a:lnTo>
                    <a:pt x="9614" y="6591"/>
                  </a:lnTo>
                  <a:lnTo>
                    <a:pt x="9801" y="6744"/>
                  </a:lnTo>
                  <a:lnTo>
                    <a:pt x="9975" y="6917"/>
                  </a:lnTo>
                  <a:lnTo>
                    <a:pt x="10576" y="7550"/>
                  </a:lnTo>
                  <a:lnTo>
                    <a:pt x="11204" y="8223"/>
                  </a:lnTo>
                  <a:lnTo>
                    <a:pt x="11858" y="8938"/>
                  </a:lnTo>
                  <a:lnTo>
                    <a:pt x="12512" y="9703"/>
                  </a:lnTo>
                  <a:lnTo>
                    <a:pt x="13193" y="10478"/>
                  </a:lnTo>
                  <a:lnTo>
                    <a:pt x="13888" y="11294"/>
                  </a:lnTo>
                  <a:lnTo>
                    <a:pt x="14596" y="12131"/>
                  </a:lnTo>
                  <a:lnTo>
                    <a:pt x="15330" y="12988"/>
                  </a:lnTo>
                  <a:lnTo>
                    <a:pt x="16652" y="14559"/>
                  </a:lnTo>
                  <a:lnTo>
                    <a:pt x="18028" y="16161"/>
                  </a:lnTo>
                  <a:lnTo>
                    <a:pt x="18722" y="16978"/>
                  </a:lnTo>
                  <a:lnTo>
                    <a:pt x="19443" y="17784"/>
                  </a:lnTo>
                  <a:lnTo>
                    <a:pt x="20151" y="18590"/>
                  </a:lnTo>
                  <a:lnTo>
                    <a:pt x="20885" y="19396"/>
                  </a:lnTo>
                  <a:lnTo>
                    <a:pt x="21606" y="20192"/>
                  </a:lnTo>
                  <a:lnTo>
                    <a:pt x="22341" y="20967"/>
                  </a:lnTo>
                  <a:lnTo>
                    <a:pt x="23089" y="21753"/>
                  </a:lnTo>
                  <a:lnTo>
                    <a:pt x="23837" y="22518"/>
                  </a:lnTo>
                  <a:lnTo>
                    <a:pt x="24611" y="23263"/>
                  </a:lnTo>
                  <a:lnTo>
                    <a:pt x="25372" y="23987"/>
                  </a:lnTo>
                  <a:lnTo>
                    <a:pt x="26133" y="24712"/>
                  </a:lnTo>
                  <a:lnTo>
                    <a:pt x="26921" y="25395"/>
                  </a:lnTo>
                  <a:lnTo>
                    <a:pt x="27709" y="26069"/>
                  </a:lnTo>
                  <a:lnTo>
                    <a:pt x="28497" y="26701"/>
                  </a:lnTo>
                  <a:lnTo>
                    <a:pt x="29272" y="27314"/>
                  </a:lnTo>
                  <a:lnTo>
                    <a:pt x="30073" y="27885"/>
                  </a:lnTo>
                  <a:lnTo>
                    <a:pt x="30874" y="28436"/>
                  </a:lnTo>
                  <a:lnTo>
                    <a:pt x="31675" y="28946"/>
                  </a:lnTo>
                  <a:lnTo>
                    <a:pt x="32477" y="29415"/>
                  </a:lnTo>
                  <a:lnTo>
                    <a:pt x="33291" y="29844"/>
                  </a:lnTo>
                  <a:lnTo>
                    <a:pt x="34106" y="30232"/>
                  </a:lnTo>
                  <a:lnTo>
                    <a:pt x="34920" y="30589"/>
                  </a:lnTo>
                  <a:lnTo>
                    <a:pt x="35735" y="30885"/>
                  </a:lnTo>
                  <a:lnTo>
                    <a:pt x="36550" y="31130"/>
                  </a:lnTo>
                  <a:lnTo>
                    <a:pt x="37378" y="31323"/>
                  </a:lnTo>
                  <a:lnTo>
                    <a:pt x="38192" y="31466"/>
                  </a:lnTo>
                  <a:lnTo>
                    <a:pt x="39020" y="31558"/>
                  </a:lnTo>
                  <a:lnTo>
                    <a:pt x="39821" y="31589"/>
                  </a:lnTo>
                  <a:lnTo>
                    <a:pt x="40222" y="31578"/>
                  </a:lnTo>
                  <a:lnTo>
                    <a:pt x="40609" y="31558"/>
                  </a:lnTo>
                  <a:lnTo>
                    <a:pt x="41010" y="31527"/>
                  </a:lnTo>
                  <a:lnTo>
                    <a:pt x="41384" y="31476"/>
                  </a:lnTo>
                  <a:lnTo>
                    <a:pt x="41571" y="31446"/>
                  </a:lnTo>
                  <a:lnTo>
                    <a:pt x="41771" y="31405"/>
                  </a:lnTo>
                  <a:lnTo>
                    <a:pt x="41958" y="31364"/>
                  </a:lnTo>
                  <a:lnTo>
                    <a:pt x="42172" y="31303"/>
                  </a:lnTo>
                  <a:lnTo>
                    <a:pt x="42586" y="31181"/>
                  </a:lnTo>
                  <a:lnTo>
                    <a:pt x="43013" y="31038"/>
                  </a:lnTo>
                  <a:lnTo>
                    <a:pt x="43427" y="30874"/>
                  </a:lnTo>
                  <a:lnTo>
                    <a:pt x="43868" y="30691"/>
                  </a:lnTo>
                  <a:lnTo>
                    <a:pt x="44295" y="30487"/>
                  </a:lnTo>
                  <a:lnTo>
                    <a:pt x="44722" y="30293"/>
                  </a:lnTo>
                  <a:lnTo>
                    <a:pt x="45136" y="30068"/>
                  </a:lnTo>
                  <a:lnTo>
                    <a:pt x="45550" y="29844"/>
                  </a:lnTo>
                  <a:lnTo>
                    <a:pt x="45951" y="29630"/>
                  </a:lnTo>
                  <a:lnTo>
                    <a:pt x="46338" y="29405"/>
                  </a:lnTo>
                  <a:lnTo>
                    <a:pt x="47033" y="28987"/>
                  </a:lnTo>
                  <a:lnTo>
                    <a:pt x="47660" y="28599"/>
                  </a:lnTo>
                  <a:lnTo>
                    <a:pt x="47727" y="28568"/>
                  </a:lnTo>
                  <a:lnTo>
                    <a:pt x="48275" y="28201"/>
                  </a:lnTo>
                  <a:lnTo>
                    <a:pt x="48809" y="27824"/>
                  </a:lnTo>
                  <a:lnTo>
                    <a:pt x="49356" y="27426"/>
                  </a:lnTo>
                  <a:lnTo>
                    <a:pt x="49917" y="26987"/>
                  </a:lnTo>
                  <a:lnTo>
                    <a:pt x="50465" y="26538"/>
                  </a:lnTo>
                  <a:lnTo>
                    <a:pt x="51026" y="26069"/>
                  </a:lnTo>
                  <a:lnTo>
                    <a:pt x="51600" y="25569"/>
                  </a:lnTo>
                  <a:lnTo>
                    <a:pt x="52161" y="25059"/>
                  </a:lnTo>
                  <a:lnTo>
                    <a:pt x="52735" y="24528"/>
                  </a:lnTo>
                  <a:lnTo>
                    <a:pt x="53296" y="23987"/>
                  </a:lnTo>
                  <a:lnTo>
                    <a:pt x="53870" y="23426"/>
                  </a:lnTo>
                  <a:lnTo>
                    <a:pt x="54444" y="22855"/>
                  </a:lnTo>
                  <a:lnTo>
                    <a:pt x="55018" y="22273"/>
                  </a:lnTo>
                  <a:lnTo>
                    <a:pt x="55593" y="21661"/>
                  </a:lnTo>
                  <a:lnTo>
                    <a:pt x="56167" y="21049"/>
                  </a:lnTo>
                  <a:lnTo>
                    <a:pt x="56741" y="20416"/>
                  </a:lnTo>
                  <a:lnTo>
                    <a:pt x="57890" y="19151"/>
                  </a:lnTo>
                  <a:lnTo>
                    <a:pt x="59051" y="17835"/>
                  </a:lnTo>
                  <a:lnTo>
                    <a:pt x="60200" y="16488"/>
                  </a:lnTo>
                  <a:lnTo>
                    <a:pt x="61335" y="15151"/>
                  </a:lnTo>
                  <a:lnTo>
                    <a:pt x="62470" y="13774"/>
                  </a:lnTo>
                  <a:lnTo>
                    <a:pt x="63592" y="12427"/>
                  </a:lnTo>
                  <a:lnTo>
                    <a:pt x="64687" y="11070"/>
                  </a:lnTo>
                  <a:lnTo>
                    <a:pt x="65782" y="9723"/>
                  </a:lnTo>
                  <a:lnTo>
                    <a:pt x="66276" y="9121"/>
                  </a:lnTo>
                  <a:lnTo>
                    <a:pt x="66757" y="8529"/>
                  </a:lnTo>
                  <a:lnTo>
                    <a:pt x="67237" y="7938"/>
                  </a:lnTo>
                  <a:lnTo>
                    <a:pt x="67718" y="7356"/>
                  </a:lnTo>
                  <a:lnTo>
                    <a:pt x="68172" y="6785"/>
                  </a:lnTo>
                  <a:lnTo>
                    <a:pt x="68640" y="6213"/>
                  </a:lnTo>
                  <a:lnTo>
                    <a:pt x="69107" y="5662"/>
                  </a:lnTo>
                  <a:lnTo>
                    <a:pt x="69574" y="5111"/>
                  </a:lnTo>
                  <a:lnTo>
                    <a:pt x="70028" y="4581"/>
                  </a:lnTo>
                  <a:lnTo>
                    <a:pt x="70456" y="4050"/>
                  </a:lnTo>
                  <a:lnTo>
                    <a:pt x="70896" y="3540"/>
                  </a:lnTo>
                  <a:lnTo>
                    <a:pt x="71337" y="3050"/>
                  </a:lnTo>
                  <a:lnTo>
                    <a:pt x="71751" y="2561"/>
                  </a:lnTo>
                  <a:lnTo>
                    <a:pt x="72165" y="2091"/>
                  </a:lnTo>
                  <a:lnTo>
                    <a:pt x="72566" y="1642"/>
                  </a:lnTo>
                  <a:lnTo>
                    <a:pt x="72980" y="1203"/>
                  </a:lnTo>
                  <a:lnTo>
                    <a:pt x="73100" y="1061"/>
                  </a:lnTo>
                  <a:lnTo>
                    <a:pt x="73260" y="928"/>
                  </a:lnTo>
                  <a:lnTo>
                    <a:pt x="73420" y="806"/>
                  </a:lnTo>
                  <a:lnTo>
                    <a:pt x="73594" y="683"/>
                  </a:lnTo>
                  <a:lnTo>
                    <a:pt x="73794" y="591"/>
                  </a:lnTo>
                  <a:lnTo>
                    <a:pt x="73981" y="489"/>
                  </a:lnTo>
                  <a:lnTo>
                    <a:pt x="74182" y="387"/>
                  </a:lnTo>
                  <a:lnTo>
                    <a:pt x="74395" y="316"/>
                  </a:lnTo>
                  <a:lnTo>
                    <a:pt x="74622" y="244"/>
                  </a:lnTo>
                  <a:lnTo>
                    <a:pt x="74849" y="183"/>
                  </a:lnTo>
                  <a:lnTo>
                    <a:pt x="75090" y="122"/>
                  </a:lnTo>
                  <a:lnTo>
                    <a:pt x="75343" y="81"/>
                  </a:lnTo>
                  <a:lnTo>
                    <a:pt x="75584" y="51"/>
                  </a:lnTo>
                  <a:lnTo>
                    <a:pt x="75851" y="30"/>
                  </a:lnTo>
                  <a:lnTo>
                    <a:pt x="76131" y="0"/>
                  </a:lnTo>
                  <a:lnTo>
                    <a:pt x="76398" y="0"/>
                  </a:lnTo>
                  <a:lnTo>
                    <a:pt x="76786" y="10"/>
                  </a:lnTo>
                  <a:lnTo>
                    <a:pt x="77160" y="40"/>
                  </a:lnTo>
                  <a:lnTo>
                    <a:pt x="77533" y="81"/>
                  </a:lnTo>
                  <a:lnTo>
                    <a:pt x="77921" y="132"/>
                  </a:lnTo>
                  <a:lnTo>
                    <a:pt x="78281" y="214"/>
                  </a:lnTo>
                  <a:lnTo>
                    <a:pt x="78655" y="306"/>
                  </a:lnTo>
                  <a:lnTo>
                    <a:pt x="79016" y="397"/>
                  </a:lnTo>
                  <a:lnTo>
                    <a:pt x="79376" y="510"/>
                  </a:lnTo>
                  <a:lnTo>
                    <a:pt x="79737" y="642"/>
                  </a:lnTo>
                  <a:lnTo>
                    <a:pt x="80071" y="785"/>
                  </a:lnTo>
                  <a:lnTo>
                    <a:pt x="80405" y="938"/>
                  </a:lnTo>
                  <a:lnTo>
                    <a:pt x="80725" y="1101"/>
                  </a:lnTo>
                  <a:lnTo>
                    <a:pt x="81006" y="1295"/>
                  </a:lnTo>
                  <a:lnTo>
                    <a:pt x="81299" y="1479"/>
                  </a:lnTo>
                  <a:lnTo>
                    <a:pt x="81580" y="1683"/>
                  </a:lnTo>
                  <a:lnTo>
                    <a:pt x="81820" y="1887"/>
                  </a:lnTo>
                  <a:lnTo>
                    <a:pt x="81954" y="2010"/>
                  </a:lnTo>
                  <a:lnTo>
                    <a:pt x="82087" y="2142"/>
                  </a:lnTo>
                  <a:lnTo>
                    <a:pt x="82221" y="2275"/>
                  </a:lnTo>
                  <a:lnTo>
                    <a:pt x="82341" y="2428"/>
                  </a:lnTo>
                  <a:lnTo>
                    <a:pt x="82461" y="2581"/>
                  </a:lnTo>
                  <a:lnTo>
                    <a:pt x="82581" y="2734"/>
                  </a:lnTo>
                  <a:lnTo>
                    <a:pt x="82675" y="2918"/>
                  </a:lnTo>
                  <a:lnTo>
                    <a:pt x="82782" y="3091"/>
                  </a:lnTo>
                  <a:lnTo>
                    <a:pt x="82875" y="3295"/>
                  </a:lnTo>
                  <a:lnTo>
                    <a:pt x="82942" y="3479"/>
                  </a:lnTo>
                  <a:lnTo>
                    <a:pt x="82995" y="3683"/>
                  </a:lnTo>
                  <a:lnTo>
                    <a:pt x="83049" y="3897"/>
                  </a:lnTo>
                  <a:lnTo>
                    <a:pt x="83062" y="4122"/>
                  </a:lnTo>
                  <a:lnTo>
                    <a:pt x="83062" y="4346"/>
                  </a:lnTo>
                  <a:lnTo>
                    <a:pt x="83049" y="4591"/>
                  </a:lnTo>
                  <a:lnTo>
                    <a:pt x="83009" y="4836"/>
                  </a:lnTo>
                  <a:lnTo>
                    <a:pt x="82835" y="5611"/>
                  </a:lnTo>
                  <a:lnTo>
                    <a:pt x="82635" y="6377"/>
                  </a:lnTo>
                  <a:lnTo>
                    <a:pt x="82421" y="7142"/>
                  </a:lnTo>
                  <a:lnTo>
                    <a:pt x="82181" y="7897"/>
                  </a:lnTo>
                  <a:lnTo>
                    <a:pt x="81927" y="8662"/>
                  </a:lnTo>
                  <a:lnTo>
                    <a:pt x="81633" y="9407"/>
                  </a:lnTo>
                  <a:lnTo>
                    <a:pt x="81326" y="10152"/>
                  </a:lnTo>
                  <a:lnTo>
                    <a:pt x="81006" y="10897"/>
                  </a:lnTo>
                  <a:lnTo>
                    <a:pt x="80672" y="11631"/>
                  </a:lnTo>
                  <a:lnTo>
                    <a:pt x="80311" y="12366"/>
                  </a:lnTo>
                  <a:lnTo>
                    <a:pt x="79951" y="13090"/>
                  </a:lnTo>
                  <a:lnTo>
                    <a:pt x="79563" y="13815"/>
                  </a:lnTo>
                  <a:lnTo>
                    <a:pt x="79163" y="14529"/>
                  </a:lnTo>
                  <a:lnTo>
                    <a:pt x="78749" y="15233"/>
                  </a:lnTo>
                  <a:lnTo>
                    <a:pt x="78321" y="15947"/>
                  </a:lnTo>
                  <a:lnTo>
                    <a:pt x="77881" y="16651"/>
                  </a:lnTo>
                  <a:lnTo>
                    <a:pt x="77440" y="17345"/>
                  </a:lnTo>
                  <a:lnTo>
                    <a:pt x="76986" y="18039"/>
                  </a:lnTo>
                  <a:lnTo>
                    <a:pt x="76519" y="18733"/>
                  </a:lnTo>
                  <a:lnTo>
                    <a:pt x="76038" y="19406"/>
                  </a:lnTo>
                  <a:lnTo>
                    <a:pt x="75557" y="20090"/>
                  </a:lnTo>
                  <a:lnTo>
                    <a:pt x="75063" y="20763"/>
                  </a:lnTo>
                  <a:lnTo>
                    <a:pt x="74582" y="21426"/>
                  </a:lnTo>
                  <a:lnTo>
                    <a:pt x="74088" y="22079"/>
                  </a:lnTo>
                  <a:lnTo>
                    <a:pt x="73087" y="23395"/>
                  </a:lnTo>
                  <a:lnTo>
                    <a:pt x="72085" y="24691"/>
                  </a:lnTo>
                  <a:lnTo>
                    <a:pt x="71083" y="25956"/>
                  </a:lnTo>
                  <a:lnTo>
                    <a:pt x="70082" y="27201"/>
                  </a:lnTo>
                  <a:lnTo>
                    <a:pt x="68947" y="28640"/>
                  </a:lnTo>
                  <a:lnTo>
                    <a:pt x="67825" y="30048"/>
                  </a:lnTo>
                  <a:lnTo>
                    <a:pt x="67291" y="30742"/>
                  </a:lnTo>
                  <a:lnTo>
                    <a:pt x="66770" y="31425"/>
                  </a:lnTo>
                  <a:lnTo>
                    <a:pt x="66263" y="32109"/>
                  </a:lnTo>
                  <a:lnTo>
                    <a:pt x="65768" y="32782"/>
                  </a:lnTo>
                  <a:lnTo>
                    <a:pt x="65288" y="33456"/>
                  </a:lnTo>
                  <a:lnTo>
                    <a:pt x="64834" y="34119"/>
                  </a:lnTo>
                  <a:lnTo>
                    <a:pt x="64406" y="34772"/>
                  </a:lnTo>
                  <a:lnTo>
                    <a:pt x="63979" y="35415"/>
                  </a:lnTo>
                  <a:lnTo>
                    <a:pt x="63592" y="36058"/>
                  </a:lnTo>
                  <a:lnTo>
                    <a:pt x="63218" y="36690"/>
                  </a:lnTo>
                  <a:lnTo>
                    <a:pt x="62884" y="37313"/>
                  </a:lnTo>
                  <a:lnTo>
                    <a:pt x="62563" y="37935"/>
                  </a:lnTo>
                  <a:lnTo>
                    <a:pt x="62296" y="38537"/>
                  </a:lnTo>
                  <a:lnTo>
                    <a:pt x="62043" y="39149"/>
                  </a:lnTo>
                  <a:lnTo>
                    <a:pt x="61829" y="39741"/>
                  </a:lnTo>
                  <a:lnTo>
                    <a:pt x="61655" y="40323"/>
                  </a:lnTo>
                  <a:lnTo>
                    <a:pt x="61522" y="40914"/>
                  </a:lnTo>
                  <a:lnTo>
                    <a:pt x="61402" y="41486"/>
                  </a:lnTo>
                  <a:lnTo>
                    <a:pt x="61348" y="42047"/>
                  </a:lnTo>
                  <a:lnTo>
                    <a:pt x="61335" y="42598"/>
                  </a:lnTo>
                  <a:lnTo>
                    <a:pt x="61348" y="43149"/>
                  </a:lnTo>
                  <a:lnTo>
                    <a:pt x="61402" y="43690"/>
                  </a:lnTo>
                  <a:lnTo>
                    <a:pt x="61522" y="44220"/>
                  </a:lnTo>
                  <a:lnTo>
                    <a:pt x="61682" y="44741"/>
                  </a:lnTo>
                  <a:lnTo>
                    <a:pt x="61896" y="45251"/>
                  </a:lnTo>
                  <a:lnTo>
                    <a:pt x="62150" y="45761"/>
                  </a:lnTo>
                  <a:lnTo>
                    <a:pt x="62470" y="46261"/>
                  </a:lnTo>
                  <a:lnTo>
                    <a:pt x="62831" y="46740"/>
                  </a:lnTo>
                  <a:lnTo>
                    <a:pt x="63124" y="47077"/>
                  </a:lnTo>
                  <a:lnTo>
                    <a:pt x="63432" y="47393"/>
                  </a:lnTo>
                  <a:lnTo>
                    <a:pt x="63752" y="47689"/>
                  </a:lnTo>
                  <a:lnTo>
                    <a:pt x="64086" y="47995"/>
                  </a:lnTo>
                  <a:lnTo>
                    <a:pt x="64433" y="48281"/>
                  </a:lnTo>
                  <a:lnTo>
                    <a:pt x="64780" y="48557"/>
                  </a:lnTo>
                  <a:lnTo>
                    <a:pt x="65154" y="48822"/>
                  </a:lnTo>
                  <a:lnTo>
                    <a:pt x="65555" y="49057"/>
                  </a:lnTo>
                  <a:lnTo>
                    <a:pt x="65955" y="49301"/>
                  </a:lnTo>
                  <a:lnTo>
                    <a:pt x="66383" y="49536"/>
                  </a:lnTo>
                  <a:lnTo>
                    <a:pt x="66810" y="49771"/>
                  </a:lnTo>
                  <a:lnTo>
                    <a:pt x="67251" y="49975"/>
                  </a:lnTo>
                  <a:lnTo>
                    <a:pt x="67718" y="50179"/>
                  </a:lnTo>
                  <a:lnTo>
                    <a:pt x="68199" y="50363"/>
                  </a:lnTo>
                  <a:lnTo>
                    <a:pt x="68693" y="50536"/>
                  </a:lnTo>
                  <a:lnTo>
                    <a:pt x="69200" y="50720"/>
                  </a:lnTo>
                  <a:lnTo>
                    <a:pt x="69721" y="50873"/>
                  </a:lnTo>
                  <a:lnTo>
                    <a:pt x="70255" y="51016"/>
                  </a:lnTo>
                  <a:lnTo>
                    <a:pt x="70803" y="51158"/>
                  </a:lnTo>
                  <a:lnTo>
                    <a:pt x="71377" y="51281"/>
                  </a:lnTo>
                  <a:lnTo>
                    <a:pt x="71951" y="51403"/>
                  </a:lnTo>
                  <a:lnTo>
                    <a:pt x="72552" y="51505"/>
                  </a:lnTo>
                  <a:lnTo>
                    <a:pt x="73180" y="51607"/>
                  </a:lnTo>
                  <a:lnTo>
                    <a:pt x="73808" y="51689"/>
                  </a:lnTo>
                  <a:lnTo>
                    <a:pt x="74435" y="51760"/>
                  </a:lnTo>
                  <a:lnTo>
                    <a:pt x="75116" y="51832"/>
                  </a:lnTo>
                  <a:lnTo>
                    <a:pt x="75784" y="51883"/>
                  </a:lnTo>
                  <a:lnTo>
                    <a:pt x="76478" y="51924"/>
                  </a:lnTo>
                  <a:lnTo>
                    <a:pt x="77173" y="51975"/>
                  </a:lnTo>
                  <a:lnTo>
                    <a:pt x="77894" y="51995"/>
                  </a:lnTo>
                  <a:lnTo>
                    <a:pt x="78642" y="52005"/>
                  </a:lnTo>
                  <a:lnTo>
                    <a:pt x="79403" y="52015"/>
                  </a:lnTo>
                  <a:lnTo>
                    <a:pt x="80178" y="52005"/>
                  </a:lnTo>
                  <a:lnTo>
                    <a:pt x="80979" y="51995"/>
                  </a:lnTo>
                  <a:lnTo>
                    <a:pt x="81780" y="51964"/>
                  </a:lnTo>
                  <a:lnTo>
                    <a:pt x="82595" y="51924"/>
                  </a:lnTo>
                  <a:lnTo>
                    <a:pt x="83396" y="51883"/>
                  </a:lnTo>
                  <a:lnTo>
                    <a:pt x="84224" y="51832"/>
                  </a:lnTo>
                  <a:lnTo>
                    <a:pt x="85038" y="51771"/>
                  </a:lnTo>
                  <a:lnTo>
                    <a:pt x="85866" y="51699"/>
                  </a:lnTo>
                  <a:lnTo>
                    <a:pt x="86694" y="51618"/>
                  </a:lnTo>
                  <a:lnTo>
                    <a:pt x="87522" y="51546"/>
                  </a:lnTo>
                  <a:lnTo>
                    <a:pt x="88364" y="51444"/>
                  </a:lnTo>
                  <a:lnTo>
                    <a:pt x="89192" y="51342"/>
                  </a:lnTo>
                  <a:lnTo>
                    <a:pt x="90861" y="51138"/>
                  </a:lnTo>
                  <a:lnTo>
                    <a:pt x="92530" y="50903"/>
                  </a:lnTo>
                  <a:lnTo>
                    <a:pt x="94186" y="50648"/>
                  </a:lnTo>
                  <a:lnTo>
                    <a:pt x="95829" y="50383"/>
                  </a:lnTo>
                  <a:lnTo>
                    <a:pt x="97471" y="50107"/>
                  </a:lnTo>
                  <a:lnTo>
                    <a:pt x="99087" y="49822"/>
                  </a:lnTo>
                  <a:lnTo>
                    <a:pt x="100676" y="49536"/>
                  </a:lnTo>
                  <a:lnTo>
                    <a:pt x="102225" y="49250"/>
                  </a:lnTo>
                  <a:lnTo>
                    <a:pt x="103734" y="48955"/>
                  </a:lnTo>
                  <a:lnTo>
                    <a:pt x="105217" y="48679"/>
                  </a:lnTo>
                  <a:lnTo>
                    <a:pt x="106552" y="48424"/>
                  </a:lnTo>
                  <a:lnTo>
                    <a:pt x="107847" y="48169"/>
                  </a:lnTo>
                  <a:lnTo>
                    <a:pt x="109089" y="47934"/>
                  </a:lnTo>
                  <a:lnTo>
                    <a:pt x="110278" y="47730"/>
                  </a:lnTo>
                  <a:lnTo>
                    <a:pt x="111399" y="47526"/>
                  </a:lnTo>
                  <a:lnTo>
                    <a:pt x="112468" y="47353"/>
                  </a:lnTo>
                  <a:lnTo>
                    <a:pt x="113469" y="47200"/>
                  </a:lnTo>
                  <a:lnTo>
                    <a:pt x="114431" y="47067"/>
                  </a:lnTo>
                  <a:lnTo>
                    <a:pt x="114578" y="47057"/>
                  </a:lnTo>
                  <a:lnTo>
                    <a:pt x="114738" y="47047"/>
                  </a:lnTo>
                  <a:lnTo>
                    <a:pt x="114885" y="47036"/>
                  </a:lnTo>
                  <a:lnTo>
                    <a:pt x="115032" y="47036"/>
                  </a:lnTo>
                  <a:lnTo>
                    <a:pt x="115232" y="47036"/>
                  </a:lnTo>
                  <a:lnTo>
                    <a:pt x="115432" y="47057"/>
                  </a:lnTo>
                  <a:lnTo>
                    <a:pt x="115633" y="47077"/>
                  </a:lnTo>
                  <a:lnTo>
                    <a:pt x="115833" y="47098"/>
                  </a:lnTo>
                  <a:lnTo>
                    <a:pt x="116020" y="47138"/>
                  </a:lnTo>
                  <a:lnTo>
                    <a:pt x="116207" y="47189"/>
                  </a:lnTo>
                  <a:lnTo>
                    <a:pt x="116394" y="47240"/>
                  </a:lnTo>
                  <a:lnTo>
                    <a:pt x="116581" y="47291"/>
                  </a:lnTo>
                  <a:lnTo>
                    <a:pt x="116754" y="47363"/>
                  </a:lnTo>
                  <a:lnTo>
                    <a:pt x="116928" y="47444"/>
                  </a:lnTo>
                  <a:lnTo>
                    <a:pt x="117088" y="47516"/>
                  </a:lnTo>
                  <a:lnTo>
                    <a:pt x="117262" y="47608"/>
                  </a:lnTo>
                  <a:lnTo>
                    <a:pt x="117422" y="47689"/>
                  </a:lnTo>
                  <a:lnTo>
                    <a:pt x="117582" y="47791"/>
                  </a:lnTo>
                  <a:lnTo>
                    <a:pt x="117729" y="47893"/>
                  </a:lnTo>
                  <a:lnTo>
                    <a:pt x="117876" y="47995"/>
                  </a:lnTo>
                  <a:lnTo>
                    <a:pt x="118170" y="48220"/>
                  </a:lnTo>
                  <a:lnTo>
                    <a:pt x="118424" y="48465"/>
                  </a:lnTo>
                  <a:lnTo>
                    <a:pt x="118677" y="48720"/>
                  </a:lnTo>
                  <a:lnTo>
                    <a:pt x="118904" y="48985"/>
                  </a:lnTo>
                  <a:lnTo>
                    <a:pt x="119105" y="49261"/>
                  </a:lnTo>
                  <a:lnTo>
                    <a:pt x="119305" y="49536"/>
                  </a:lnTo>
                  <a:lnTo>
                    <a:pt x="119465" y="49822"/>
                  </a:lnTo>
                  <a:lnTo>
                    <a:pt x="119586" y="50107"/>
                  </a:lnTo>
                  <a:lnTo>
                    <a:pt x="119719" y="50403"/>
                  </a:lnTo>
                  <a:lnTo>
                    <a:pt x="119826" y="50720"/>
                  </a:lnTo>
                  <a:lnTo>
                    <a:pt x="119893" y="51036"/>
                  </a:lnTo>
                  <a:lnTo>
                    <a:pt x="119959" y="51352"/>
                  </a:lnTo>
                  <a:lnTo>
                    <a:pt x="119986" y="51689"/>
                  </a:lnTo>
                  <a:lnTo>
                    <a:pt x="120000" y="52015"/>
                  </a:lnTo>
                  <a:lnTo>
                    <a:pt x="119986" y="52179"/>
                  </a:lnTo>
                  <a:lnTo>
                    <a:pt x="119973" y="52352"/>
                  </a:lnTo>
                  <a:lnTo>
                    <a:pt x="119946" y="52515"/>
                  </a:lnTo>
                  <a:lnTo>
                    <a:pt x="119906" y="52679"/>
                  </a:lnTo>
                  <a:lnTo>
                    <a:pt x="119866" y="52842"/>
                  </a:lnTo>
                  <a:lnTo>
                    <a:pt x="119826" y="53005"/>
                  </a:lnTo>
                  <a:lnTo>
                    <a:pt x="119759" y="53179"/>
                  </a:lnTo>
                  <a:lnTo>
                    <a:pt x="119692" y="53332"/>
                  </a:lnTo>
                  <a:lnTo>
                    <a:pt x="119626" y="53495"/>
                  </a:lnTo>
                  <a:lnTo>
                    <a:pt x="119532" y="53648"/>
                  </a:lnTo>
                  <a:lnTo>
                    <a:pt x="119425" y="53801"/>
                  </a:lnTo>
                  <a:lnTo>
                    <a:pt x="119332" y="53954"/>
                  </a:lnTo>
                  <a:lnTo>
                    <a:pt x="119212" y="54097"/>
                  </a:lnTo>
                  <a:lnTo>
                    <a:pt x="119078" y="54240"/>
                  </a:lnTo>
                  <a:lnTo>
                    <a:pt x="118958" y="54393"/>
                  </a:lnTo>
                  <a:lnTo>
                    <a:pt x="118798" y="54536"/>
                  </a:lnTo>
                  <a:lnTo>
                    <a:pt x="118637" y="54668"/>
                  </a:lnTo>
                  <a:lnTo>
                    <a:pt x="118464" y="54791"/>
                  </a:lnTo>
                  <a:lnTo>
                    <a:pt x="118277" y="54913"/>
                  </a:lnTo>
                  <a:lnTo>
                    <a:pt x="118077" y="55036"/>
                  </a:lnTo>
                  <a:lnTo>
                    <a:pt x="117329" y="55464"/>
                  </a:lnTo>
                  <a:lnTo>
                    <a:pt x="116567" y="55862"/>
                  </a:lnTo>
                  <a:lnTo>
                    <a:pt x="115780" y="56240"/>
                  </a:lnTo>
                  <a:lnTo>
                    <a:pt x="115005" y="56607"/>
                  </a:lnTo>
                  <a:lnTo>
                    <a:pt x="114204" y="56944"/>
                  </a:lnTo>
                  <a:lnTo>
                    <a:pt x="113403" y="57280"/>
                  </a:lnTo>
                  <a:lnTo>
                    <a:pt x="112575" y="57586"/>
                  </a:lnTo>
                  <a:lnTo>
                    <a:pt x="111747" y="57872"/>
                  </a:lnTo>
                  <a:lnTo>
                    <a:pt x="110919" y="58148"/>
                  </a:lnTo>
                  <a:lnTo>
                    <a:pt x="110064" y="58403"/>
                  </a:lnTo>
                  <a:lnTo>
                    <a:pt x="109196" y="58658"/>
                  </a:lnTo>
                  <a:lnTo>
                    <a:pt x="108328" y="58872"/>
                  </a:lnTo>
                  <a:lnTo>
                    <a:pt x="107460" y="59097"/>
                  </a:lnTo>
                  <a:lnTo>
                    <a:pt x="106565" y="59311"/>
                  </a:lnTo>
                  <a:lnTo>
                    <a:pt x="105671" y="59494"/>
                  </a:lnTo>
                  <a:lnTo>
                    <a:pt x="104762" y="59678"/>
                  </a:lnTo>
                  <a:lnTo>
                    <a:pt x="103854" y="59852"/>
                  </a:lnTo>
                  <a:lnTo>
                    <a:pt x="102933" y="60015"/>
                  </a:lnTo>
                  <a:lnTo>
                    <a:pt x="102012" y="60158"/>
                  </a:lnTo>
                  <a:lnTo>
                    <a:pt x="101077" y="60300"/>
                  </a:lnTo>
                  <a:lnTo>
                    <a:pt x="100129" y="60443"/>
                  </a:lnTo>
                  <a:lnTo>
                    <a:pt x="99194" y="60566"/>
                  </a:lnTo>
                  <a:lnTo>
                    <a:pt x="98232" y="60688"/>
                  </a:lnTo>
                  <a:lnTo>
                    <a:pt x="97271" y="60811"/>
                  </a:lnTo>
                  <a:lnTo>
                    <a:pt x="95334" y="61015"/>
                  </a:lnTo>
                  <a:lnTo>
                    <a:pt x="93371" y="61229"/>
                  </a:lnTo>
                  <a:lnTo>
                    <a:pt x="91395" y="61413"/>
                  </a:lnTo>
                  <a:lnTo>
                    <a:pt x="89405" y="61596"/>
                  </a:lnTo>
                  <a:lnTo>
                    <a:pt x="86921" y="61841"/>
                  </a:lnTo>
                  <a:lnTo>
                    <a:pt x="84451" y="62086"/>
                  </a:lnTo>
                  <a:lnTo>
                    <a:pt x="83209" y="62219"/>
                  </a:lnTo>
                  <a:lnTo>
                    <a:pt x="81967" y="62351"/>
                  </a:lnTo>
                  <a:lnTo>
                    <a:pt x="80738" y="62504"/>
                  </a:lnTo>
                  <a:lnTo>
                    <a:pt x="79496" y="62657"/>
                  </a:lnTo>
                  <a:lnTo>
                    <a:pt x="78281" y="62821"/>
                  </a:lnTo>
                  <a:lnTo>
                    <a:pt x="77053" y="63015"/>
                  </a:lnTo>
                  <a:lnTo>
                    <a:pt x="75837" y="63208"/>
                  </a:lnTo>
                  <a:lnTo>
                    <a:pt x="74636" y="63423"/>
                  </a:lnTo>
                  <a:lnTo>
                    <a:pt x="73434" y="63637"/>
                  </a:lnTo>
                  <a:lnTo>
                    <a:pt x="72245" y="63892"/>
                  </a:lnTo>
                  <a:lnTo>
                    <a:pt x="71070" y="64157"/>
                  </a:lnTo>
                  <a:lnTo>
                    <a:pt x="69908" y="64443"/>
                  </a:lnTo>
                  <a:lnTo>
                    <a:pt x="68746" y="64759"/>
                  </a:lnTo>
                  <a:lnTo>
                    <a:pt x="67611" y="65086"/>
                  </a:lnTo>
                  <a:lnTo>
                    <a:pt x="66476" y="65453"/>
                  </a:lnTo>
                  <a:lnTo>
                    <a:pt x="65368" y="65841"/>
                  </a:lnTo>
                  <a:lnTo>
                    <a:pt x="64273" y="66249"/>
                  </a:lnTo>
                  <a:lnTo>
                    <a:pt x="63191" y="66688"/>
                  </a:lnTo>
                  <a:lnTo>
                    <a:pt x="62136" y="67157"/>
                  </a:lnTo>
                  <a:lnTo>
                    <a:pt x="61081" y="67667"/>
                  </a:lnTo>
                  <a:lnTo>
                    <a:pt x="60066" y="68208"/>
                  </a:lnTo>
                  <a:lnTo>
                    <a:pt x="59065" y="68779"/>
                  </a:lnTo>
                  <a:lnTo>
                    <a:pt x="58090" y="69392"/>
                  </a:lnTo>
                  <a:lnTo>
                    <a:pt x="57128" y="70034"/>
                  </a:lnTo>
                  <a:lnTo>
                    <a:pt x="56194" y="70728"/>
                  </a:lnTo>
                  <a:lnTo>
                    <a:pt x="55286" y="71463"/>
                  </a:lnTo>
                  <a:lnTo>
                    <a:pt x="54404" y="72218"/>
                  </a:lnTo>
                  <a:lnTo>
                    <a:pt x="53549" y="73034"/>
                  </a:lnTo>
                  <a:lnTo>
                    <a:pt x="52388" y="74401"/>
                  </a:lnTo>
                  <a:lnTo>
                    <a:pt x="51293" y="75809"/>
                  </a:lnTo>
                  <a:lnTo>
                    <a:pt x="50278" y="77248"/>
                  </a:lnTo>
                  <a:lnTo>
                    <a:pt x="49330" y="78717"/>
                  </a:lnTo>
                  <a:lnTo>
                    <a:pt x="48435" y="80217"/>
                  </a:lnTo>
                  <a:lnTo>
                    <a:pt x="47620" y="81737"/>
                  </a:lnTo>
                  <a:lnTo>
                    <a:pt x="46846" y="83268"/>
                  </a:lnTo>
                  <a:lnTo>
                    <a:pt x="46151" y="84829"/>
                  </a:lnTo>
                  <a:lnTo>
                    <a:pt x="45497" y="86380"/>
                  </a:lnTo>
                  <a:lnTo>
                    <a:pt x="44896" y="87951"/>
                  </a:lnTo>
                  <a:lnTo>
                    <a:pt x="44362" y="89522"/>
                  </a:lnTo>
                  <a:lnTo>
                    <a:pt x="43868" y="91094"/>
                  </a:lnTo>
                  <a:lnTo>
                    <a:pt x="43414" y="92645"/>
                  </a:lnTo>
                  <a:lnTo>
                    <a:pt x="43026" y="94196"/>
                  </a:lnTo>
                  <a:lnTo>
                    <a:pt x="42666" y="95726"/>
                  </a:lnTo>
                  <a:lnTo>
                    <a:pt x="42345" y="97236"/>
                  </a:lnTo>
                  <a:lnTo>
                    <a:pt x="42065" y="98736"/>
                  </a:lnTo>
                  <a:lnTo>
                    <a:pt x="41825" y="100195"/>
                  </a:lnTo>
                  <a:lnTo>
                    <a:pt x="41598" y="101624"/>
                  </a:lnTo>
                  <a:lnTo>
                    <a:pt x="41424" y="103011"/>
                  </a:lnTo>
                  <a:lnTo>
                    <a:pt x="41277" y="104368"/>
                  </a:lnTo>
                  <a:lnTo>
                    <a:pt x="41144" y="105684"/>
                  </a:lnTo>
                  <a:lnTo>
                    <a:pt x="41063" y="106939"/>
                  </a:lnTo>
                  <a:lnTo>
                    <a:pt x="40970" y="108154"/>
                  </a:lnTo>
                  <a:lnTo>
                    <a:pt x="40930" y="109296"/>
                  </a:lnTo>
                  <a:lnTo>
                    <a:pt x="40890" y="110398"/>
                  </a:lnTo>
                  <a:lnTo>
                    <a:pt x="40863" y="111419"/>
                  </a:lnTo>
                  <a:lnTo>
                    <a:pt x="40863" y="112367"/>
                  </a:lnTo>
                  <a:lnTo>
                    <a:pt x="40863" y="113245"/>
                  </a:lnTo>
                  <a:lnTo>
                    <a:pt x="40876" y="114051"/>
                  </a:lnTo>
                  <a:lnTo>
                    <a:pt x="40890" y="114786"/>
                  </a:lnTo>
                  <a:lnTo>
                    <a:pt x="40916" y="115408"/>
                  </a:lnTo>
                  <a:lnTo>
                    <a:pt x="40903" y="115755"/>
                  </a:lnTo>
                  <a:lnTo>
                    <a:pt x="40863" y="116092"/>
                  </a:lnTo>
                  <a:lnTo>
                    <a:pt x="40756" y="116439"/>
                  </a:lnTo>
                  <a:lnTo>
                    <a:pt x="40623" y="116765"/>
                  </a:lnTo>
                  <a:lnTo>
                    <a:pt x="40436" y="117102"/>
                  </a:lnTo>
                  <a:lnTo>
                    <a:pt x="40235" y="117408"/>
                  </a:lnTo>
                  <a:lnTo>
                    <a:pt x="39982" y="117714"/>
                  </a:lnTo>
                  <a:lnTo>
                    <a:pt x="39715" y="118010"/>
                  </a:lnTo>
                  <a:lnTo>
                    <a:pt x="39407" y="118285"/>
                  </a:lnTo>
                  <a:lnTo>
                    <a:pt x="39087" y="118551"/>
                  </a:lnTo>
                  <a:lnTo>
                    <a:pt x="38740" y="118806"/>
                  </a:lnTo>
                  <a:lnTo>
                    <a:pt x="38366" y="119040"/>
                  </a:lnTo>
                  <a:lnTo>
                    <a:pt x="37979" y="119244"/>
                  </a:lnTo>
                  <a:lnTo>
                    <a:pt x="37578" y="119438"/>
                  </a:lnTo>
                  <a:lnTo>
                    <a:pt x="37151" y="119602"/>
                  </a:lnTo>
                  <a:lnTo>
                    <a:pt x="36737" y="119734"/>
                  </a:lnTo>
                  <a:lnTo>
                    <a:pt x="36309" y="119846"/>
                  </a:lnTo>
                  <a:lnTo>
                    <a:pt x="35869" y="119938"/>
                  </a:lnTo>
                  <a:lnTo>
                    <a:pt x="35441" y="119979"/>
                  </a:lnTo>
                  <a:lnTo>
                    <a:pt x="35001" y="120000"/>
                  </a:lnTo>
                  <a:lnTo>
                    <a:pt x="34573" y="119989"/>
                  </a:lnTo>
                  <a:lnTo>
                    <a:pt x="34146" y="119938"/>
                  </a:lnTo>
                  <a:lnTo>
                    <a:pt x="33719" y="119846"/>
                  </a:lnTo>
                  <a:lnTo>
                    <a:pt x="33318" y="119724"/>
                  </a:lnTo>
                  <a:lnTo>
                    <a:pt x="32931" y="119551"/>
                  </a:lnTo>
                  <a:lnTo>
                    <a:pt x="32557" y="119336"/>
                  </a:lnTo>
                  <a:lnTo>
                    <a:pt x="32196" y="119081"/>
                  </a:lnTo>
                  <a:lnTo>
                    <a:pt x="31862" y="118785"/>
                  </a:lnTo>
                  <a:lnTo>
                    <a:pt x="31555" y="118438"/>
                  </a:lnTo>
                  <a:lnTo>
                    <a:pt x="31275" y="118040"/>
                  </a:lnTo>
                  <a:lnTo>
                    <a:pt x="31021" y="117581"/>
                  </a:lnTo>
                  <a:lnTo>
                    <a:pt x="30807" y="117092"/>
                  </a:lnTo>
                  <a:close/>
                </a:path>
              </a:pathLst>
            </a:custGeom>
            <a:solidFill>
              <a:srgbClr val="9dc3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507" name="矩形 36"/>
          <p:cNvSpPr/>
          <p:nvPr/>
        </p:nvSpPr>
        <p:spPr>
          <a:xfrm>
            <a:off x="2424240" y="90360"/>
            <a:ext cx="7343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e10d4"/>
                </a:solidFill>
                <a:latin typeface="微软雅黑"/>
                <a:ea typeface="微软雅黑"/>
              </a:rPr>
              <a:t>任务二 签订审计业务约定书</a:t>
            </a:r>
            <a:endParaRPr b="1" lang="en-US" sz="4000" spc="-1" strike="noStrike">
              <a:solidFill>
                <a:srgbClr val="000000"/>
              </a:solidFill>
              <a:latin typeface="Arial"/>
            </a:endParaRPr>
          </a:p>
        </p:txBody>
      </p:sp>
      <p:sp>
        <p:nvSpPr>
          <p:cNvPr id="1508" name="矩形 1"/>
          <p:cNvSpPr/>
          <p:nvPr/>
        </p:nvSpPr>
        <p:spPr>
          <a:xfrm>
            <a:off x="3498840" y="725400"/>
            <a:ext cx="5194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三、审计业务约定书的内容</a:t>
            </a:r>
            <a:endParaRPr b="1" lang="en-US" sz="3200" spc="-1" strike="noStrike">
              <a:solidFill>
                <a:srgbClr val="000000"/>
              </a:solidFill>
              <a:latin typeface="Arial"/>
            </a:endParaRPr>
          </a:p>
        </p:txBody>
      </p:sp>
    </p:spTree>
  </p:cSld>
  <p:transition>
    <p:fade/>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dur="indefinite" nodeType="afterEffect" fill="hold" presetClass="entr" presetID="2" presetSubtype="4">
                                  <p:stCondLst>
                                    <p:cond delay="0"/>
                                  </p:stCondLst>
                                  <p:childTnLst>
                                    <p:set>
                                      <p:cBhvr>
                                        <p:cTn id="105" dur="1" fill="hold">
                                          <p:stCondLst>
                                            <p:cond delay="0"/>
                                          </p:stCondLst>
                                        </p:cTn>
                                        <p:tgtEl>
                                          <p:spTgt spid="1477"/>
                                        </p:tgtEl>
                                        <p:attrNameLst>
                                          <p:attrName>style.visibility</p:attrName>
                                        </p:attrNameLst>
                                      </p:cBhvr>
                                      <p:to>
                                        <p:strVal val="visible"/>
                                      </p:to>
                                    </p:set>
                                    <p:anim calcmode="lin" valueType="num">
                                      <p:cBhvr additive="repl">
                                        <p:cTn id="106" dur="500" fill="hold"/>
                                        <p:tgtEl>
                                          <p:spTgt spid="1477"/>
                                        </p:tgtEl>
                                        <p:attrNameLst>
                                          <p:attrName>ppt_x</p:attrName>
                                        </p:attrNameLst>
                                      </p:cBhvr>
                                      <p:tavLst>
                                        <p:tav tm="0">
                                          <p:val>
                                            <p:strVal val="#ppt_x"/>
                                          </p:val>
                                        </p:tav>
                                        <p:tav tm="100000">
                                          <p:val>
                                            <p:strVal val="#ppt_x"/>
                                          </p:val>
                                        </p:tav>
                                      </p:tavLst>
                                    </p:anim>
                                    <p:anim calcmode="lin" valueType="num">
                                      <p:cBhvr additive="repl">
                                        <p:cTn id="107" dur="500" fill="hold"/>
                                        <p:tgtEl>
                                          <p:spTgt spid="1477"/>
                                        </p:tgtEl>
                                        <p:attrNameLst>
                                          <p:attrName>ppt_y</p:attrName>
                                        </p:attrNameLst>
                                      </p:cBhvr>
                                      <p:tavLst>
                                        <p:tav tm="0">
                                          <p:val>
                                            <p:strVal val="1+#ppt_h/2"/>
                                          </p:val>
                                        </p:tav>
                                        <p:tav tm="100000">
                                          <p:val>
                                            <p:strVal val="#ppt_y"/>
                                          </p:val>
                                        </p:tav>
                                      </p:tavLst>
                                    </p:anim>
                                  </p:childTnLst>
                                </p:cTn>
                              </p:par>
                            </p:childTnLst>
                          </p:cTn>
                        </p:par>
                        <p:par>
                          <p:cTn id="108" fill="hold">
                            <p:stCondLst>
                              <p:cond delay="500"/>
                            </p:stCondLst>
                            <p:childTnLst>
                              <p:par>
                                <p:cTn id="109" dur="indefinite" nodeType="afterEffect" fill="hold" presetClass="entr" presetID="2" presetSubtype="4">
                                  <p:stCondLst>
                                    <p:cond delay="0"/>
                                  </p:stCondLst>
                                  <p:childTnLst>
                                    <p:set>
                                      <p:cBhvr>
                                        <p:cTn id="110" dur="1" fill="hold">
                                          <p:stCondLst>
                                            <p:cond delay="0"/>
                                          </p:stCondLst>
                                        </p:cTn>
                                        <p:tgtEl>
                                          <p:spTgt spid="1480"/>
                                        </p:tgtEl>
                                        <p:attrNameLst>
                                          <p:attrName>style.visibility</p:attrName>
                                        </p:attrNameLst>
                                      </p:cBhvr>
                                      <p:to>
                                        <p:strVal val="visible"/>
                                      </p:to>
                                    </p:set>
                                    <p:anim calcmode="lin" valueType="num">
                                      <p:cBhvr additive="repl">
                                        <p:cTn id="111" dur="500" fill="hold"/>
                                        <p:tgtEl>
                                          <p:spTgt spid="1480"/>
                                        </p:tgtEl>
                                        <p:attrNameLst>
                                          <p:attrName>ppt_x</p:attrName>
                                        </p:attrNameLst>
                                      </p:cBhvr>
                                      <p:tavLst>
                                        <p:tav tm="0">
                                          <p:val>
                                            <p:strVal val="#ppt_x"/>
                                          </p:val>
                                        </p:tav>
                                        <p:tav tm="100000">
                                          <p:val>
                                            <p:strVal val="#ppt_x"/>
                                          </p:val>
                                        </p:tav>
                                      </p:tavLst>
                                    </p:anim>
                                    <p:anim calcmode="lin" valueType="num">
                                      <p:cBhvr additive="repl">
                                        <p:cTn id="112" dur="500" fill="hold"/>
                                        <p:tgtEl>
                                          <p:spTgt spid="1480"/>
                                        </p:tgtEl>
                                        <p:attrNameLst>
                                          <p:attrName>ppt_y</p:attrName>
                                        </p:attrNameLst>
                                      </p:cBhvr>
                                      <p:tavLst>
                                        <p:tav tm="0">
                                          <p:val>
                                            <p:strVal val="1+#ppt_h/2"/>
                                          </p:val>
                                        </p:tav>
                                        <p:tav tm="100000">
                                          <p:val>
                                            <p:strVal val="#ppt_y"/>
                                          </p:val>
                                        </p:tav>
                                      </p:tavLst>
                                    </p:anim>
                                  </p:childTnLst>
                                </p:cTn>
                              </p:par>
                            </p:childTnLst>
                          </p:cTn>
                        </p:par>
                        <p:par>
                          <p:cTn id="113" fill="hold">
                            <p:stCondLst>
                              <p:cond delay="1000"/>
                            </p:stCondLst>
                            <p:childTnLst>
                              <p:par>
                                <p:cTn id="114" dur="indefinite" nodeType="afterEffect" fill="hold" presetClass="entr" presetID="2" presetSubtype="4">
                                  <p:stCondLst>
                                    <p:cond delay="0"/>
                                  </p:stCondLst>
                                  <p:childTnLst>
                                    <p:set>
                                      <p:cBhvr>
                                        <p:cTn id="115" dur="1" fill="hold">
                                          <p:stCondLst>
                                            <p:cond delay="0"/>
                                          </p:stCondLst>
                                        </p:cTn>
                                        <p:tgtEl>
                                          <p:spTgt spid="1483"/>
                                        </p:tgtEl>
                                        <p:attrNameLst>
                                          <p:attrName>style.visibility</p:attrName>
                                        </p:attrNameLst>
                                      </p:cBhvr>
                                      <p:to>
                                        <p:strVal val="visible"/>
                                      </p:to>
                                    </p:set>
                                    <p:anim calcmode="lin" valueType="num">
                                      <p:cBhvr additive="repl">
                                        <p:cTn id="116" dur="500" fill="hold"/>
                                        <p:tgtEl>
                                          <p:spTgt spid="1483"/>
                                        </p:tgtEl>
                                        <p:attrNameLst>
                                          <p:attrName>ppt_x</p:attrName>
                                        </p:attrNameLst>
                                      </p:cBhvr>
                                      <p:tavLst>
                                        <p:tav tm="0">
                                          <p:val>
                                            <p:strVal val="#ppt_x"/>
                                          </p:val>
                                        </p:tav>
                                        <p:tav tm="100000">
                                          <p:val>
                                            <p:strVal val="#ppt_x"/>
                                          </p:val>
                                        </p:tav>
                                      </p:tavLst>
                                    </p:anim>
                                    <p:anim calcmode="lin" valueType="num">
                                      <p:cBhvr additive="repl">
                                        <p:cTn id="117" dur="500" fill="hold"/>
                                        <p:tgtEl>
                                          <p:spTgt spid="1483"/>
                                        </p:tgtEl>
                                        <p:attrNameLst>
                                          <p:attrName>ppt_y</p:attrName>
                                        </p:attrNameLst>
                                      </p:cBhvr>
                                      <p:tavLst>
                                        <p:tav tm="0">
                                          <p:val>
                                            <p:strVal val="1+#ppt_h/2"/>
                                          </p:val>
                                        </p:tav>
                                        <p:tav tm="100000">
                                          <p:val>
                                            <p:strVal val="#ppt_y"/>
                                          </p:val>
                                        </p:tav>
                                      </p:tavLst>
                                    </p:anim>
                                  </p:childTnLst>
                                </p:cTn>
                              </p:par>
                            </p:childTnLst>
                          </p:cTn>
                        </p:par>
                        <p:par>
                          <p:cTn id="118" fill="hold">
                            <p:stCondLst>
                              <p:cond delay="1500"/>
                            </p:stCondLst>
                            <p:childTnLst>
                              <p:par>
                                <p:cTn id="119" dur="indefinite" nodeType="afterEffect" fill="hold" presetClass="entr" presetID="2" presetSubtype="4">
                                  <p:stCondLst>
                                    <p:cond delay="0"/>
                                  </p:stCondLst>
                                  <p:childTnLst>
                                    <p:set>
                                      <p:cBhvr>
                                        <p:cTn id="120" dur="1" fill="hold">
                                          <p:stCondLst>
                                            <p:cond delay="0"/>
                                          </p:stCondLst>
                                        </p:cTn>
                                        <p:tgtEl>
                                          <p:spTgt spid="1486"/>
                                        </p:tgtEl>
                                        <p:attrNameLst>
                                          <p:attrName>style.visibility</p:attrName>
                                        </p:attrNameLst>
                                      </p:cBhvr>
                                      <p:to>
                                        <p:strVal val="visible"/>
                                      </p:to>
                                    </p:set>
                                    <p:anim calcmode="lin" valueType="num">
                                      <p:cBhvr additive="repl">
                                        <p:cTn id="121" dur="500" fill="hold"/>
                                        <p:tgtEl>
                                          <p:spTgt spid="1486"/>
                                        </p:tgtEl>
                                        <p:attrNameLst>
                                          <p:attrName>ppt_x</p:attrName>
                                        </p:attrNameLst>
                                      </p:cBhvr>
                                      <p:tavLst>
                                        <p:tav tm="0">
                                          <p:val>
                                            <p:strVal val="#ppt_x"/>
                                          </p:val>
                                        </p:tav>
                                        <p:tav tm="100000">
                                          <p:val>
                                            <p:strVal val="#ppt_x"/>
                                          </p:val>
                                        </p:tav>
                                      </p:tavLst>
                                    </p:anim>
                                    <p:anim calcmode="lin" valueType="num">
                                      <p:cBhvr additive="repl">
                                        <p:cTn id="122" dur="500" fill="hold"/>
                                        <p:tgtEl>
                                          <p:spTgt spid="1486"/>
                                        </p:tgtEl>
                                        <p:attrNameLst>
                                          <p:attrName>ppt_y</p:attrName>
                                        </p:attrNameLst>
                                      </p:cBhvr>
                                      <p:tavLst>
                                        <p:tav tm="0">
                                          <p:val>
                                            <p:strVal val="1+#ppt_h/2"/>
                                          </p:val>
                                        </p:tav>
                                        <p:tav tm="100000">
                                          <p:val>
                                            <p:strVal val="#ppt_y"/>
                                          </p:val>
                                        </p:tav>
                                      </p:tavLst>
                                    </p:anim>
                                  </p:childTnLst>
                                </p:cTn>
                              </p:par>
                            </p:childTnLst>
                          </p:cTn>
                        </p:par>
                        <p:par>
                          <p:cTn id="123" fill="hold">
                            <p:stCondLst>
                              <p:cond delay="2000"/>
                            </p:stCondLst>
                            <p:childTnLst>
                              <p:par>
                                <p:cTn id="124" dur="indefinite" nodeType="afterEffect" fill="hold" presetClass="entr" presetID="2" presetSubtype="4">
                                  <p:stCondLst>
                                    <p:cond delay="0"/>
                                  </p:stCondLst>
                                  <p:childTnLst>
                                    <p:set>
                                      <p:cBhvr>
                                        <p:cTn id="125" dur="1" fill="hold">
                                          <p:stCondLst>
                                            <p:cond delay="0"/>
                                          </p:stCondLst>
                                        </p:cTn>
                                        <p:tgtEl>
                                          <p:spTgt spid="1489"/>
                                        </p:tgtEl>
                                        <p:attrNameLst>
                                          <p:attrName>style.visibility</p:attrName>
                                        </p:attrNameLst>
                                      </p:cBhvr>
                                      <p:to>
                                        <p:strVal val="visible"/>
                                      </p:to>
                                    </p:set>
                                    <p:anim calcmode="lin" valueType="num">
                                      <p:cBhvr additive="repl">
                                        <p:cTn id="126" dur="500" fill="hold"/>
                                        <p:tgtEl>
                                          <p:spTgt spid="1489"/>
                                        </p:tgtEl>
                                        <p:attrNameLst>
                                          <p:attrName>ppt_x</p:attrName>
                                        </p:attrNameLst>
                                      </p:cBhvr>
                                      <p:tavLst>
                                        <p:tav tm="0">
                                          <p:val>
                                            <p:strVal val="#ppt_x"/>
                                          </p:val>
                                        </p:tav>
                                        <p:tav tm="100000">
                                          <p:val>
                                            <p:strVal val="#ppt_x"/>
                                          </p:val>
                                        </p:tav>
                                      </p:tavLst>
                                    </p:anim>
                                    <p:anim calcmode="lin" valueType="num">
                                      <p:cBhvr additive="repl">
                                        <p:cTn id="127" dur="500" fill="hold"/>
                                        <p:tgtEl>
                                          <p:spTgt spid="14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Title 6"/>
          <p:cNvSpPr/>
          <p:nvPr/>
        </p:nvSpPr>
        <p:spPr>
          <a:xfrm>
            <a:off x="334800" y="1428840"/>
            <a:ext cx="11161800" cy="1071360"/>
          </a:xfrm>
          <a:prstGeom prst="rect">
            <a:avLst/>
          </a:prstGeom>
          <a:noFill/>
          <a:ln w="0">
            <a:noFill/>
          </a:ln>
        </p:spPr>
        <p:style>
          <a:lnRef idx="0"/>
          <a:fillRef idx="0"/>
          <a:effectRef idx="0"/>
          <a:fontRef idx="minor"/>
        </p:style>
        <p:txBody>
          <a:bodyPr lIns="72000" rIns="72000" tIns="36360" bIns="36360" anchor="t">
            <a:spAutoFit/>
          </a:bodyPr>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微软雅黑"/>
                <a:ea typeface="微软雅黑"/>
              </a:rPr>
              <a:t>（一）审计业务约定书的必备条款 </a:t>
            </a:r>
            <a:endParaRPr b="1" lang="en-US" sz="2800" spc="-1" strike="noStrike">
              <a:solidFill>
                <a:srgbClr val="000000"/>
              </a:solidFill>
              <a:latin typeface="Arial"/>
            </a:endParaRPr>
          </a:p>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Black"/>
                <a:ea typeface="黑体"/>
              </a:rPr>
              <a:t>      </a:t>
            </a:r>
            <a:r>
              <a:rPr b="0" lang="zh-CN" sz="2400" spc="-1" strike="noStrike">
                <a:solidFill>
                  <a:srgbClr val="000000"/>
                </a:solidFill>
                <a:latin typeface="Arial Black"/>
                <a:ea typeface="黑体"/>
              </a:rPr>
              <a:t>审计业务约定书的具体内容可能因被审计单位的不同而存在差异，但应当包 括下列主要方面：</a:t>
            </a:r>
            <a:endParaRPr b="1" lang="en-US" sz="2400" spc="-1" strike="noStrike">
              <a:solidFill>
                <a:srgbClr val="000000"/>
              </a:solidFill>
              <a:latin typeface="Arial"/>
            </a:endParaRPr>
          </a:p>
        </p:txBody>
      </p:sp>
      <p:grpSp>
        <p:nvGrpSpPr>
          <p:cNvPr id="1510" name="组合 91"/>
          <p:cNvGrpSpPr/>
          <p:nvPr/>
        </p:nvGrpSpPr>
        <p:grpSpPr>
          <a:xfrm>
            <a:off x="895320" y="404640"/>
            <a:ext cx="10360080" cy="0"/>
            <a:chOff x="895320" y="404640"/>
            <a:chExt cx="10360080" cy="0"/>
          </a:xfrm>
        </p:grpSpPr>
        <p:sp>
          <p:nvSpPr>
            <p:cNvPr id="1511" name="直接连接符 92"/>
            <p:cNvSpPr/>
            <p:nvPr/>
          </p:nvSpPr>
          <p:spPr>
            <a:xfrm>
              <a:off x="895320" y="404640"/>
              <a:ext cx="197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12" name="直接连接符 93"/>
            <p:cNvSpPr/>
            <p:nvPr/>
          </p:nvSpPr>
          <p:spPr>
            <a:xfrm>
              <a:off x="9276120" y="404640"/>
              <a:ext cx="197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1513" name="组合 124"/>
          <p:cNvGrpSpPr/>
          <p:nvPr/>
        </p:nvGrpSpPr>
        <p:grpSpPr>
          <a:xfrm>
            <a:off x="3819600" y="2430360"/>
            <a:ext cx="7132680" cy="820800"/>
            <a:chOff x="3819600" y="2430360"/>
            <a:chExt cx="7132680" cy="820800"/>
          </a:xfrm>
        </p:grpSpPr>
        <p:sp>
          <p:nvSpPr>
            <p:cNvPr id="1514" name="任意多边形 1"/>
            <p:cNvSpPr/>
            <p:nvPr/>
          </p:nvSpPr>
          <p:spPr>
            <a:xfrm>
              <a:off x="3819600" y="2571840"/>
              <a:ext cx="581040" cy="554760"/>
            </a:xfrm>
            <a:prstGeom prst="pie">
              <a:avLst/>
            </a:prstGeom>
            <a:solidFill>
              <a:srgbClr val="9999ff"/>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6</a:t>
              </a:r>
              <a:endParaRPr b="1" lang="en-US" sz="2400" spc="-1" strike="noStrike">
                <a:solidFill>
                  <a:srgbClr val="000000"/>
                </a:solidFill>
                <a:latin typeface="Arial"/>
              </a:endParaRPr>
            </a:p>
          </p:txBody>
        </p:sp>
        <p:sp>
          <p:nvSpPr>
            <p:cNvPr id="1515" name="矩形 2"/>
            <p:cNvSpPr/>
            <p:nvPr/>
          </p:nvSpPr>
          <p:spPr>
            <a:xfrm>
              <a:off x="4532760" y="2430360"/>
              <a:ext cx="6419520" cy="820800"/>
            </a:xfrm>
            <a:prstGeom prst="rect">
              <a:avLst/>
            </a:prstGeom>
            <a:noFill/>
            <a:ln w="0">
              <a:noFill/>
            </a:ln>
          </p:spPr>
          <p:style>
            <a:lnRef idx="0"/>
            <a:fillRef idx="0"/>
            <a:effectRef idx="0"/>
            <a:fontRef idx="minor"/>
          </p:style>
          <p:txBody>
            <a:bodyPr lIns="90000" rIns="90000" tIns="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审计报告格式和对审计结果的其他沟通形式。</a:t>
              </a:r>
              <a:endParaRPr b="1" lang="en-US" sz="2400" spc="-1" strike="noStrike">
                <a:solidFill>
                  <a:srgbClr val="000000"/>
                </a:solidFill>
                <a:latin typeface="Arial"/>
              </a:endParaRPr>
            </a:p>
          </p:txBody>
        </p:sp>
      </p:grpSp>
      <p:grpSp>
        <p:nvGrpSpPr>
          <p:cNvPr id="1516" name="组合 125"/>
          <p:cNvGrpSpPr/>
          <p:nvPr/>
        </p:nvGrpSpPr>
        <p:grpSpPr>
          <a:xfrm>
            <a:off x="3753000" y="3476520"/>
            <a:ext cx="8388000" cy="739800"/>
            <a:chOff x="3753000" y="3476520"/>
            <a:chExt cx="8388000" cy="739800"/>
          </a:xfrm>
        </p:grpSpPr>
        <p:sp>
          <p:nvSpPr>
            <p:cNvPr id="1517" name="任意多边形 3"/>
            <p:cNvSpPr/>
            <p:nvPr/>
          </p:nvSpPr>
          <p:spPr>
            <a:xfrm>
              <a:off x="3753000" y="3555000"/>
              <a:ext cx="578160" cy="583200"/>
            </a:xfrm>
            <a:prstGeom prst="pie">
              <a:avLst/>
            </a:prstGeom>
            <a:solidFill>
              <a:srgbClr val="00b0f0"/>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7</a:t>
              </a:r>
              <a:endParaRPr b="1" lang="en-US" sz="2400" spc="-1" strike="noStrike">
                <a:solidFill>
                  <a:srgbClr val="000000"/>
                </a:solidFill>
                <a:latin typeface="Arial"/>
              </a:endParaRPr>
            </a:p>
          </p:txBody>
        </p:sp>
        <p:sp>
          <p:nvSpPr>
            <p:cNvPr id="1518" name="矩形 12"/>
            <p:cNvSpPr/>
            <p:nvPr/>
          </p:nvSpPr>
          <p:spPr>
            <a:xfrm>
              <a:off x="4466880" y="3476520"/>
              <a:ext cx="7674120" cy="739800"/>
            </a:xfrm>
            <a:prstGeom prst="rect">
              <a:avLst/>
            </a:prstGeom>
            <a:noFill/>
            <a:ln w="0">
              <a:noFill/>
            </a:ln>
          </p:spPr>
          <p:style>
            <a:lnRef idx="0"/>
            <a:fillRef idx="0"/>
            <a:effectRef idx="0"/>
            <a:fontRef idx="minor"/>
          </p:style>
          <p:txBody>
            <a:bodyPr lIns="90000" rIns="90000" tIns="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由于测试的性质和审计的其他固有限制，以及内部控制的固有局限性，不可避免地存在着某些重大错报可能仍然未被发现的风险。</a:t>
              </a:r>
              <a:endParaRPr b="1" lang="en-US" sz="2400" spc="-1" strike="noStrike">
                <a:solidFill>
                  <a:srgbClr val="000000"/>
                </a:solidFill>
                <a:latin typeface="Arial"/>
              </a:endParaRPr>
            </a:p>
          </p:txBody>
        </p:sp>
      </p:grpSp>
      <p:grpSp>
        <p:nvGrpSpPr>
          <p:cNvPr id="1519" name="组合 14"/>
          <p:cNvGrpSpPr/>
          <p:nvPr/>
        </p:nvGrpSpPr>
        <p:grpSpPr>
          <a:xfrm>
            <a:off x="3789360" y="4475160"/>
            <a:ext cx="7873920" cy="690480"/>
            <a:chOff x="3789360" y="4475160"/>
            <a:chExt cx="7873920" cy="690480"/>
          </a:xfrm>
        </p:grpSpPr>
        <p:sp>
          <p:nvSpPr>
            <p:cNvPr id="1520" name="任意多边形 19"/>
            <p:cNvSpPr/>
            <p:nvPr/>
          </p:nvSpPr>
          <p:spPr>
            <a:xfrm>
              <a:off x="3789360" y="4498920"/>
              <a:ext cx="594720" cy="555120"/>
            </a:xfrm>
            <a:prstGeom prst="pie">
              <a:avLst/>
            </a:prstGeom>
            <a:solidFill>
              <a:srgbClr val="5e5ca2"/>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8</a:t>
              </a:r>
              <a:endParaRPr b="1" lang="en-US" sz="2400" spc="-1" strike="noStrike">
                <a:solidFill>
                  <a:srgbClr val="000000"/>
                </a:solidFill>
                <a:latin typeface="Arial"/>
              </a:endParaRPr>
            </a:p>
          </p:txBody>
        </p:sp>
        <p:sp>
          <p:nvSpPr>
            <p:cNvPr id="1521" name="矩形 20"/>
            <p:cNvSpPr/>
            <p:nvPr/>
          </p:nvSpPr>
          <p:spPr>
            <a:xfrm>
              <a:off x="4515120" y="4475160"/>
              <a:ext cx="7148160" cy="690480"/>
            </a:xfrm>
            <a:prstGeom prst="rect">
              <a:avLst/>
            </a:prstGeom>
            <a:noFill/>
            <a:ln w="0">
              <a:noFill/>
            </a:ln>
          </p:spPr>
          <p:style>
            <a:lnRef idx="0"/>
            <a:fillRef idx="0"/>
            <a:effectRef idx="0"/>
            <a:fontRef idx="minor"/>
          </p:style>
          <p:txBody>
            <a:bodyPr lIns="90000" rIns="90000" tIns="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管理层为注册会计师提供必要的工作条件和协助。</a:t>
              </a:r>
              <a:endParaRPr b="1" lang="en-US" sz="2400" spc="-1" strike="noStrike">
                <a:solidFill>
                  <a:srgbClr val="000000"/>
                </a:solidFill>
                <a:latin typeface="Arial"/>
              </a:endParaRPr>
            </a:p>
          </p:txBody>
        </p:sp>
      </p:grpSp>
      <p:grpSp>
        <p:nvGrpSpPr>
          <p:cNvPr id="1522" name="组合 127"/>
          <p:cNvGrpSpPr/>
          <p:nvPr/>
        </p:nvGrpSpPr>
        <p:grpSpPr>
          <a:xfrm>
            <a:off x="3789360" y="5264280"/>
            <a:ext cx="7674120" cy="703080"/>
            <a:chOff x="3789360" y="5264280"/>
            <a:chExt cx="7674120" cy="703080"/>
          </a:xfrm>
        </p:grpSpPr>
        <p:sp>
          <p:nvSpPr>
            <p:cNvPr id="1523" name="任意多边形 30"/>
            <p:cNvSpPr/>
            <p:nvPr/>
          </p:nvSpPr>
          <p:spPr>
            <a:xfrm>
              <a:off x="3789360" y="5320800"/>
              <a:ext cx="595080" cy="501840"/>
            </a:xfrm>
            <a:prstGeom prst="pie">
              <a:avLst/>
            </a:prstGeom>
            <a:solidFill>
              <a:srgbClr val="2c85ae"/>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9</a:t>
              </a:r>
              <a:endParaRPr b="1" lang="en-US" sz="2400" spc="-1" strike="noStrike">
                <a:solidFill>
                  <a:srgbClr val="000000"/>
                </a:solidFill>
                <a:latin typeface="Arial"/>
              </a:endParaRPr>
            </a:p>
          </p:txBody>
        </p:sp>
        <p:sp>
          <p:nvSpPr>
            <p:cNvPr id="1524" name="矩形 31"/>
            <p:cNvSpPr/>
            <p:nvPr/>
          </p:nvSpPr>
          <p:spPr>
            <a:xfrm>
              <a:off x="4469040" y="5264280"/>
              <a:ext cx="6994440" cy="703080"/>
            </a:xfrm>
            <a:prstGeom prst="rect">
              <a:avLst/>
            </a:prstGeom>
            <a:noFill/>
            <a:ln w="0">
              <a:noFill/>
            </a:ln>
          </p:spPr>
          <p:style>
            <a:lnRef idx="0"/>
            <a:fillRef idx="0"/>
            <a:effectRef idx="0"/>
            <a:fontRef idx="minor"/>
          </p:style>
          <p:txBody>
            <a:bodyPr lIns="90000" rIns="90000" tIns="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注册会计师不受限制地接触任何与审计有关的记录、文件和所需要的其他信息。</a:t>
              </a:r>
              <a:endParaRPr b="1" lang="en-US" sz="2400" spc="-1" strike="noStrike">
                <a:solidFill>
                  <a:srgbClr val="000000"/>
                </a:solidFill>
                <a:latin typeface="Arial"/>
              </a:endParaRPr>
            </a:p>
          </p:txBody>
        </p:sp>
      </p:grpSp>
      <p:grpSp>
        <p:nvGrpSpPr>
          <p:cNvPr id="1525" name="组合 128"/>
          <p:cNvGrpSpPr/>
          <p:nvPr/>
        </p:nvGrpSpPr>
        <p:grpSpPr>
          <a:xfrm>
            <a:off x="3728880" y="6062760"/>
            <a:ext cx="7959600" cy="741240"/>
            <a:chOff x="3728880" y="6062760"/>
            <a:chExt cx="7959600" cy="741240"/>
          </a:xfrm>
        </p:grpSpPr>
        <p:sp>
          <p:nvSpPr>
            <p:cNvPr id="1526" name="任意多边形 63"/>
            <p:cNvSpPr/>
            <p:nvPr/>
          </p:nvSpPr>
          <p:spPr>
            <a:xfrm>
              <a:off x="3728880" y="6132600"/>
              <a:ext cx="677880" cy="601560"/>
            </a:xfrm>
            <a:prstGeom prst="pie">
              <a:avLst/>
            </a:prstGeom>
            <a:solidFill>
              <a:srgbClr val="00a09d"/>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10</a:t>
              </a:r>
              <a:endParaRPr b="1" lang="en-US" sz="2400" spc="-1" strike="noStrike">
                <a:solidFill>
                  <a:srgbClr val="000000"/>
                </a:solidFill>
                <a:latin typeface="Arial"/>
              </a:endParaRPr>
            </a:p>
          </p:txBody>
        </p:sp>
        <p:sp>
          <p:nvSpPr>
            <p:cNvPr id="1527" name="矩形 35"/>
            <p:cNvSpPr/>
            <p:nvPr/>
          </p:nvSpPr>
          <p:spPr>
            <a:xfrm>
              <a:off x="4424760" y="6062760"/>
              <a:ext cx="7263720" cy="741240"/>
            </a:xfrm>
            <a:prstGeom prst="rect">
              <a:avLst/>
            </a:prstGeom>
            <a:noFill/>
            <a:ln w="0">
              <a:noFill/>
            </a:ln>
          </p:spPr>
          <p:style>
            <a:lnRef idx="0"/>
            <a:fillRef idx="0"/>
            <a:effectRef idx="0"/>
            <a:fontRef idx="minor"/>
          </p:style>
          <p:txBody>
            <a:bodyPr lIns="90000" rIns="90000" tIns="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管理层对其做出的与审计有关的声明予以书面确认。</a:t>
              </a:r>
              <a:endParaRPr b="1" lang="en-US" sz="2400" spc="-1" strike="noStrike">
                <a:solidFill>
                  <a:srgbClr val="000000"/>
                </a:solidFill>
                <a:latin typeface="Arial"/>
              </a:endParaRPr>
            </a:p>
          </p:txBody>
        </p:sp>
      </p:grpSp>
      <p:grpSp>
        <p:nvGrpSpPr>
          <p:cNvPr id="1528" name="组合 273"/>
          <p:cNvGrpSpPr/>
          <p:nvPr/>
        </p:nvGrpSpPr>
        <p:grpSpPr>
          <a:xfrm>
            <a:off x="325440" y="2976480"/>
            <a:ext cx="3044880" cy="3862440"/>
            <a:chOff x="325440" y="2976480"/>
            <a:chExt cx="3044880" cy="3862440"/>
          </a:xfrm>
        </p:grpSpPr>
        <p:sp>
          <p:nvSpPr>
            <p:cNvPr id="1529" name="任意多边形 261"/>
            <p:cNvSpPr/>
            <p:nvPr/>
          </p:nvSpPr>
          <p:spPr>
            <a:xfrm flipH="1">
              <a:off x="1924920" y="4137840"/>
              <a:ext cx="488520" cy="482400"/>
            </a:xfrm>
            <a:custGeom>
              <a:avLst/>
              <a:gdLst/>
              <a:ahLst/>
              <a:rect l="l" t="t" r="r" b="b"/>
              <a:pathLst>
                <a:path w="120000" h="120000">
                  <a:moveTo>
                    <a:pt x="120000" y="60000"/>
                  </a:moveTo>
                  <a:lnTo>
                    <a:pt x="119945" y="63114"/>
                  </a:lnTo>
                  <a:lnTo>
                    <a:pt x="119728" y="66120"/>
                  </a:lnTo>
                  <a:lnTo>
                    <a:pt x="119294" y="69125"/>
                  </a:lnTo>
                  <a:lnTo>
                    <a:pt x="118751" y="72076"/>
                  </a:lnTo>
                  <a:lnTo>
                    <a:pt x="118154" y="74972"/>
                  </a:lnTo>
                  <a:lnTo>
                    <a:pt x="117286" y="77868"/>
                  </a:lnTo>
                  <a:lnTo>
                    <a:pt x="116363" y="80655"/>
                  </a:lnTo>
                  <a:lnTo>
                    <a:pt x="115278" y="83387"/>
                  </a:lnTo>
                  <a:lnTo>
                    <a:pt x="114138" y="86010"/>
                  </a:lnTo>
                  <a:lnTo>
                    <a:pt x="112781" y="88633"/>
                  </a:lnTo>
                  <a:lnTo>
                    <a:pt x="111316" y="91092"/>
                  </a:lnTo>
                  <a:lnTo>
                    <a:pt x="109742" y="93551"/>
                  </a:lnTo>
                  <a:lnTo>
                    <a:pt x="108113" y="95901"/>
                  </a:lnTo>
                  <a:lnTo>
                    <a:pt x="106322" y="98196"/>
                  </a:lnTo>
                  <a:lnTo>
                    <a:pt x="104423" y="100382"/>
                  </a:lnTo>
                  <a:lnTo>
                    <a:pt x="102415" y="102459"/>
                  </a:lnTo>
                  <a:lnTo>
                    <a:pt x="100352" y="104371"/>
                  </a:lnTo>
                  <a:lnTo>
                    <a:pt x="98181" y="106284"/>
                  </a:lnTo>
                  <a:lnTo>
                    <a:pt x="95902" y="108142"/>
                  </a:lnTo>
                  <a:lnTo>
                    <a:pt x="93568" y="109781"/>
                  </a:lnTo>
                  <a:lnTo>
                    <a:pt x="91126" y="111311"/>
                  </a:lnTo>
                  <a:lnTo>
                    <a:pt x="88575" y="112786"/>
                  </a:lnTo>
                  <a:lnTo>
                    <a:pt x="86024" y="114098"/>
                  </a:lnTo>
                  <a:lnTo>
                    <a:pt x="83364" y="115245"/>
                  </a:lnTo>
                  <a:lnTo>
                    <a:pt x="80651" y="116393"/>
                  </a:lnTo>
                  <a:lnTo>
                    <a:pt x="77829" y="117322"/>
                  </a:lnTo>
                  <a:lnTo>
                    <a:pt x="75006" y="118087"/>
                  </a:lnTo>
                  <a:lnTo>
                    <a:pt x="72130" y="118797"/>
                  </a:lnTo>
                  <a:lnTo>
                    <a:pt x="69145" y="119344"/>
                  </a:lnTo>
                  <a:lnTo>
                    <a:pt x="66160" y="119672"/>
                  </a:lnTo>
                  <a:lnTo>
                    <a:pt x="63066" y="119945"/>
                  </a:lnTo>
                  <a:lnTo>
                    <a:pt x="60027" y="120000"/>
                  </a:lnTo>
                  <a:lnTo>
                    <a:pt x="56933" y="119945"/>
                  </a:lnTo>
                  <a:lnTo>
                    <a:pt x="53894" y="119672"/>
                  </a:lnTo>
                  <a:lnTo>
                    <a:pt x="50854" y="119344"/>
                  </a:lnTo>
                  <a:lnTo>
                    <a:pt x="47924" y="118797"/>
                  </a:lnTo>
                  <a:lnTo>
                    <a:pt x="44993" y="118087"/>
                  </a:lnTo>
                  <a:lnTo>
                    <a:pt x="42170" y="117322"/>
                  </a:lnTo>
                  <a:lnTo>
                    <a:pt x="39402" y="116393"/>
                  </a:lnTo>
                  <a:lnTo>
                    <a:pt x="36689" y="115245"/>
                  </a:lnTo>
                  <a:lnTo>
                    <a:pt x="34029" y="114098"/>
                  </a:lnTo>
                  <a:lnTo>
                    <a:pt x="31424" y="112786"/>
                  </a:lnTo>
                  <a:lnTo>
                    <a:pt x="28873" y="111311"/>
                  </a:lnTo>
                  <a:lnTo>
                    <a:pt x="26485" y="109781"/>
                  </a:lnTo>
                  <a:lnTo>
                    <a:pt x="24097" y="108142"/>
                  </a:lnTo>
                  <a:lnTo>
                    <a:pt x="21872" y="106284"/>
                  </a:lnTo>
                  <a:lnTo>
                    <a:pt x="19701" y="104371"/>
                  </a:lnTo>
                  <a:lnTo>
                    <a:pt x="17584" y="102459"/>
                  </a:lnTo>
                  <a:lnTo>
                    <a:pt x="15576" y="100382"/>
                  </a:lnTo>
                  <a:lnTo>
                    <a:pt x="13731" y="98196"/>
                  </a:lnTo>
                  <a:lnTo>
                    <a:pt x="11940" y="95901"/>
                  </a:lnTo>
                  <a:lnTo>
                    <a:pt x="10312" y="93606"/>
                  </a:lnTo>
                  <a:lnTo>
                    <a:pt x="8683" y="91092"/>
                  </a:lnTo>
                  <a:lnTo>
                    <a:pt x="7272" y="88633"/>
                  </a:lnTo>
                  <a:lnTo>
                    <a:pt x="5915" y="86010"/>
                  </a:lnTo>
                  <a:lnTo>
                    <a:pt x="4721" y="83387"/>
                  </a:lnTo>
                  <a:lnTo>
                    <a:pt x="3690" y="80655"/>
                  </a:lnTo>
                  <a:lnTo>
                    <a:pt x="2713" y="77868"/>
                  </a:lnTo>
                  <a:lnTo>
                    <a:pt x="1899" y="74972"/>
                  </a:lnTo>
                  <a:lnTo>
                    <a:pt x="1248" y="72076"/>
                  </a:lnTo>
                  <a:lnTo>
                    <a:pt x="705" y="69125"/>
                  </a:lnTo>
                  <a:lnTo>
                    <a:pt x="325" y="66120"/>
                  </a:lnTo>
                  <a:lnTo>
                    <a:pt x="108" y="63114"/>
                  </a:lnTo>
                  <a:lnTo>
                    <a:pt x="0" y="60054"/>
                  </a:lnTo>
                  <a:lnTo>
                    <a:pt x="108" y="56885"/>
                  </a:lnTo>
                  <a:lnTo>
                    <a:pt x="325" y="53879"/>
                  </a:lnTo>
                  <a:lnTo>
                    <a:pt x="705" y="50874"/>
                  </a:lnTo>
                  <a:lnTo>
                    <a:pt x="1248" y="47923"/>
                  </a:lnTo>
                  <a:lnTo>
                    <a:pt x="1899" y="45027"/>
                  </a:lnTo>
                  <a:lnTo>
                    <a:pt x="2713" y="42131"/>
                  </a:lnTo>
                  <a:lnTo>
                    <a:pt x="3690" y="39344"/>
                  </a:lnTo>
                  <a:lnTo>
                    <a:pt x="4721" y="36666"/>
                  </a:lnTo>
                  <a:lnTo>
                    <a:pt x="5915" y="33989"/>
                  </a:lnTo>
                  <a:lnTo>
                    <a:pt x="7272" y="31366"/>
                  </a:lnTo>
                  <a:lnTo>
                    <a:pt x="8683" y="28907"/>
                  </a:lnTo>
                  <a:lnTo>
                    <a:pt x="10312" y="26502"/>
                  </a:lnTo>
                  <a:lnTo>
                    <a:pt x="11940" y="24098"/>
                  </a:lnTo>
                  <a:lnTo>
                    <a:pt x="13731" y="21857"/>
                  </a:lnTo>
                  <a:lnTo>
                    <a:pt x="15576" y="19672"/>
                  </a:lnTo>
                  <a:lnTo>
                    <a:pt x="17584" y="17595"/>
                  </a:lnTo>
                  <a:lnTo>
                    <a:pt x="19701" y="15628"/>
                  </a:lnTo>
                  <a:lnTo>
                    <a:pt x="21872" y="13715"/>
                  </a:lnTo>
                  <a:lnTo>
                    <a:pt x="24097" y="11967"/>
                  </a:lnTo>
                  <a:lnTo>
                    <a:pt x="26485" y="10218"/>
                  </a:lnTo>
                  <a:lnTo>
                    <a:pt x="28873" y="8688"/>
                  </a:lnTo>
                  <a:lnTo>
                    <a:pt x="31424" y="7267"/>
                  </a:lnTo>
                  <a:lnTo>
                    <a:pt x="34029" y="5956"/>
                  </a:lnTo>
                  <a:lnTo>
                    <a:pt x="36689" y="4754"/>
                  </a:lnTo>
                  <a:lnTo>
                    <a:pt x="39402" y="3661"/>
                  </a:lnTo>
                  <a:lnTo>
                    <a:pt x="42170" y="2732"/>
                  </a:lnTo>
                  <a:lnTo>
                    <a:pt x="44993" y="1912"/>
                  </a:lnTo>
                  <a:lnTo>
                    <a:pt x="47924" y="1256"/>
                  </a:lnTo>
                  <a:lnTo>
                    <a:pt x="50854" y="710"/>
                  </a:lnTo>
                  <a:lnTo>
                    <a:pt x="53894" y="327"/>
                  </a:lnTo>
                  <a:lnTo>
                    <a:pt x="56933" y="109"/>
                  </a:lnTo>
                  <a:lnTo>
                    <a:pt x="60027" y="0"/>
                  </a:lnTo>
                  <a:lnTo>
                    <a:pt x="63066" y="109"/>
                  </a:lnTo>
                  <a:lnTo>
                    <a:pt x="66160" y="327"/>
                  </a:lnTo>
                  <a:lnTo>
                    <a:pt x="69145" y="710"/>
                  </a:lnTo>
                  <a:lnTo>
                    <a:pt x="72130" y="1256"/>
                  </a:lnTo>
                  <a:lnTo>
                    <a:pt x="75006" y="1912"/>
                  </a:lnTo>
                  <a:lnTo>
                    <a:pt x="77829" y="2732"/>
                  </a:lnTo>
                  <a:lnTo>
                    <a:pt x="80651" y="3661"/>
                  </a:lnTo>
                  <a:lnTo>
                    <a:pt x="83364" y="4754"/>
                  </a:lnTo>
                  <a:lnTo>
                    <a:pt x="86024" y="5956"/>
                  </a:lnTo>
                  <a:lnTo>
                    <a:pt x="88575" y="7267"/>
                  </a:lnTo>
                  <a:lnTo>
                    <a:pt x="91126" y="8688"/>
                  </a:lnTo>
                  <a:lnTo>
                    <a:pt x="93568" y="10218"/>
                  </a:lnTo>
                  <a:lnTo>
                    <a:pt x="95902" y="11967"/>
                  </a:lnTo>
                  <a:lnTo>
                    <a:pt x="98181" y="13715"/>
                  </a:lnTo>
                  <a:lnTo>
                    <a:pt x="100352" y="15628"/>
                  </a:lnTo>
                  <a:lnTo>
                    <a:pt x="102415" y="17595"/>
                  </a:lnTo>
                  <a:lnTo>
                    <a:pt x="104423" y="19672"/>
                  </a:lnTo>
                  <a:lnTo>
                    <a:pt x="106322" y="21857"/>
                  </a:lnTo>
                  <a:lnTo>
                    <a:pt x="108113" y="24098"/>
                  </a:lnTo>
                  <a:lnTo>
                    <a:pt x="109742" y="26502"/>
                  </a:lnTo>
                  <a:lnTo>
                    <a:pt x="111316" y="28907"/>
                  </a:lnTo>
                  <a:lnTo>
                    <a:pt x="112781" y="31366"/>
                  </a:lnTo>
                  <a:lnTo>
                    <a:pt x="114138" y="33989"/>
                  </a:lnTo>
                  <a:lnTo>
                    <a:pt x="115278" y="36666"/>
                  </a:lnTo>
                  <a:lnTo>
                    <a:pt x="116363" y="39344"/>
                  </a:lnTo>
                  <a:lnTo>
                    <a:pt x="117286" y="42131"/>
                  </a:lnTo>
                  <a:lnTo>
                    <a:pt x="118154" y="45027"/>
                  </a:lnTo>
                  <a:lnTo>
                    <a:pt x="118751" y="47923"/>
                  </a:lnTo>
                  <a:lnTo>
                    <a:pt x="119294" y="50874"/>
                  </a:lnTo>
                  <a:lnTo>
                    <a:pt x="119728" y="53879"/>
                  </a:lnTo>
                  <a:lnTo>
                    <a:pt x="119945" y="56885"/>
                  </a:lnTo>
                  <a:lnTo>
                    <a:pt x="120000" y="6000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30" name="任意多边形 262"/>
            <p:cNvSpPr/>
            <p:nvPr/>
          </p:nvSpPr>
          <p:spPr>
            <a:xfrm flipH="1">
              <a:off x="855000" y="4192560"/>
              <a:ext cx="1987560" cy="2584440"/>
            </a:xfrm>
            <a:custGeom>
              <a:avLst/>
              <a:gdLst/>
              <a:ahLst/>
              <a:rect l="l" t="t" r="r" b="b"/>
              <a:pathLst>
                <a:path w="120000" h="120000">
                  <a:moveTo>
                    <a:pt x="30807" y="117092"/>
                  </a:moveTo>
                  <a:lnTo>
                    <a:pt x="30353" y="115898"/>
                  </a:lnTo>
                  <a:lnTo>
                    <a:pt x="29926" y="114714"/>
                  </a:lnTo>
                  <a:lnTo>
                    <a:pt x="29552" y="113571"/>
                  </a:lnTo>
                  <a:lnTo>
                    <a:pt x="29205" y="112419"/>
                  </a:lnTo>
                  <a:lnTo>
                    <a:pt x="28898" y="111306"/>
                  </a:lnTo>
                  <a:lnTo>
                    <a:pt x="28604" y="110204"/>
                  </a:lnTo>
                  <a:lnTo>
                    <a:pt x="28364" y="109113"/>
                  </a:lnTo>
                  <a:lnTo>
                    <a:pt x="28150" y="108041"/>
                  </a:lnTo>
                  <a:lnTo>
                    <a:pt x="27936" y="106980"/>
                  </a:lnTo>
                  <a:lnTo>
                    <a:pt x="27776" y="105939"/>
                  </a:lnTo>
                  <a:lnTo>
                    <a:pt x="27643" y="104909"/>
                  </a:lnTo>
                  <a:lnTo>
                    <a:pt x="27522" y="103889"/>
                  </a:lnTo>
                  <a:lnTo>
                    <a:pt x="27415" y="102868"/>
                  </a:lnTo>
                  <a:lnTo>
                    <a:pt x="27362" y="101879"/>
                  </a:lnTo>
                  <a:lnTo>
                    <a:pt x="27295" y="100889"/>
                  </a:lnTo>
                  <a:lnTo>
                    <a:pt x="27269" y="99909"/>
                  </a:lnTo>
                  <a:lnTo>
                    <a:pt x="27255" y="98930"/>
                  </a:lnTo>
                  <a:lnTo>
                    <a:pt x="27269" y="97971"/>
                  </a:lnTo>
                  <a:lnTo>
                    <a:pt x="27282" y="97012"/>
                  </a:lnTo>
                  <a:lnTo>
                    <a:pt x="27335" y="96063"/>
                  </a:lnTo>
                  <a:lnTo>
                    <a:pt x="27375" y="95124"/>
                  </a:lnTo>
                  <a:lnTo>
                    <a:pt x="27442" y="94185"/>
                  </a:lnTo>
                  <a:lnTo>
                    <a:pt x="27522" y="93247"/>
                  </a:lnTo>
                  <a:lnTo>
                    <a:pt x="27602" y="92318"/>
                  </a:lnTo>
                  <a:lnTo>
                    <a:pt x="27709" y="91390"/>
                  </a:lnTo>
                  <a:lnTo>
                    <a:pt x="27816" y="90451"/>
                  </a:lnTo>
                  <a:lnTo>
                    <a:pt x="27923" y="89522"/>
                  </a:lnTo>
                  <a:lnTo>
                    <a:pt x="28043" y="88604"/>
                  </a:lnTo>
                  <a:lnTo>
                    <a:pt x="28283" y="86747"/>
                  </a:lnTo>
                  <a:lnTo>
                    <a:pt x="28564" y="84880"/>
                  </a:lnTo>
                  <a:lnTo>
                    <a:pt x="28764" y="83401"/>
                  </a:lnTo>
                  <a:lnTo>
                    <a:pt x="28978" y="81901"/>
                  </a:lnTo>
                  <a:lnTo>
                    <a:pt x="29178" y="80391"/>
                  </a:lnTo>
                  <a:lnTo>
                    <a:pt x="29365" y="78870"/>
                  </a:lnTo>
                  <a:lnTo>
                    <a:pt x="29525" y="77340"/>
                  </a:lnTo>
                  <a:lnTo>
                    <a:pt x="29672" y="75769"/>
                  </a:lnTo>
                  <a:lnTo>
                    <a:pt x="29726" y="74993"/>
                  </a:lnTo>
                  <a:lnTo>
                    <a:pt x="29793" y="74197"/>
                  </a:lnTo>
                  <a:lnTo>
                    <a:pt x="29833" y="73391"/>
                  </a:lnTo>
                  <a:lnTo>
                    <a:pt x="29873" y="72585"/>
                  </a:lnTo>
                  <a:lnTo>
                    <a:pt x="29899" y="71779"/>
                  </a:lnTo>
                  <a:lnTo>
                    <a:pt x="29913" y="70953"/>
                  </a:lnTo>
                  <a:lnTo>
                    <a:pt x="29926" y="70126"/>
                  </a:lnTo>
                  <a:lnTo>
                    <a:pt x="29926" y="69290"/>
                  </a:lnTo>
                  <a:lnTo>
                    <a:pt x="29913" y="68453"/>
                  </a:lnTo>
                  <a:lnTo>
                    <a:pt x="29886" y="67586"/>
                  </a:lnTo>
                  <a:lnTo>
                    <a:pt x="29846" y="66729"/>
                  </a:lnTo>
                  <a:lnTo>
                    <a:pt x="29793" y="65861"/>
                  </a:lnTo>
                  <a:lnTo>
                    <a:pt x="29726" y="64974"/>
                  </a:lnTo>
                  <a:lnTo>
                    <a:pt x="29646" y="64086"/>
                  </a:lnTo>
                  <a:lnTo>
                    <a:pt x="29552" y="63178"/>
                  </a:lnTo>
                  <a:lnTo>
                    <a:pt x="29432" y="62260"/>
                  </a:lnTo>
                  <a:lnTo>
                    <a:pt x="29312" y="61351"/>
                  </a:lnTo>
                  <a:lnTo>
                    <a:pt x="29165" y="60413"/>
                  </a:lnTo>
                  <a:lnTo>
                    <a:pt x="29005" y="59464"/>
                  </a:lnTo>
                  <a:lnTo>
                    <a:pt x="28818" y="58505"/>
                  </a:lnTo>
                  <a:lnTo>
                    <a:pt x="28631" y="57597"/>
                  </a:lnTo>
                  <a:lnTo>
                    <a:pt x="28390" y="56689"/>
                  </a:lnTo>
                  <a:lnTo>
                    <a:pt x="28150" y="55801"/>
                  </a:lnTo>
                  <a:lnTo>
                    <a:pt x="27870" y="54903"/>
                  </a:lnTo>
                  <a:lnTo>
                    <a:pt x="27549" y="54026"/>
                  </a:lnTo>
                  <a:lnTo>
                    <a:pt x="27229" y="53138"/>
                  </a:lnTo>
                  <a:lnTo>
                    <a:pt x="26868" y="52260"/>
                  </a:lnTo>
                  <a:lnTo>
                    <a:pt x="26494" y="51383"/>
                  </a:lnTo>
                  <a:lnTo>
                    <a:pt x="26080" y="50516"/>
                  </a:lnTo>
                  <a:lnTo>
                    <a:pt x="25639" y="49648"/>
                  </a:lnTo>
                  <a:lnTo>
                    <a:pt x="25199" y="48781"/>
                  </a:lnTo>
                  <a:lnTo>
                    <a:pt x="24731" y="47914"/>
                  </a:lnTo>
                  <a:lnTo>
                    <a:pt x="24251" y="47067"/>
                  </a:lnTo>
                  <a:lnTo>
                    <a:pt x="23743" y="46200"/>
                  </a:lnTo>
                  <a:lnTo>
                    <a:pt x="23222" y="45353"/>
                  </a:lnTo>
                  <a:lnTo>
                    <a:pt x="22675" y="44506"/>
                  </a:lnTo>
                  <a:lnTo>
                    <a:pt x="22127" y="43659"/>
                  </a:lnTo>
                  <a:lnTo>
                    <a:pt x="21566" y="42822"/>
                  </a:lnTo>
                  <a:lnTo>
                    <a:pt x="20979" y="41976"/>
                  </a:lnTo>
                  <a:lnTo>
                    <a:pt x="20405" y="41139"/>
                  </a:lnTo>
                  <a:lnTo>
                    <a:pt x="19790" y="40312"/>
                  </a:lnTo>
                  <a:lnTo>
                    <a:pt x="19189" y="39476"/>
                  </a:lnTo>
                  <a:lnTo>
                    <a:pt x="18562" y="38649"/>
                  </a:lnTo>
                  <a:lnTo>
                    <a:pt x="17947" y="37823"/>
                  </a:lnTo>
                  <a:lnTo>
                    <a:pt x="16665" y="36180"/>
                  </a:lnTo>
                  <a:lnTo>
                    <a:pt x="15370" y="34548"/>
                  </a:lnTo>
                  <a:lnTo>
                    <a:pt x="14075" y="32915"/>
                  </a:lnTo>
                  <a:lnTo>
                    <a:pt x="12766" y="31293"/>
                  </a:lnTo>
                  <a:lnTo>
                    <a:pt x="11671" y="29926"/>
                  </a:lnTo>
                  <a:lnTo>
                    <a:pt x="10576" y="28568"/>
                  </a:lnTo>
                  <a:lnTo>
                    <a:pt x="9521" y="27222"/>
                  </a:lnTo>
                  <a:lnTo>
                    <a:pt x="8466" y="25875"/>
                  </a:lnTo>
                  <a:lnTo>
                    <a:pt x="7451" y="24559"/>
                  </a:lnTo>
                  <a:lnTo>
                    <a:pt x="6476" y="23232"/>
                  </a:lnTo>
                  <a:lnTo>
                    <a:pt x="6009" y="22579"/>
                  </a:lnTo>
                  <a:lnTo>
                    <a:pt x="5541" y="21926"/>
                  </a:lnTo>
                  <a:lnTo>
                    <a:pt x="5101" y="21283"/>
                  </a:lnTo>
                  <a:lnTo>
                    <a:pt x="4660" y="20641"/>
                  </a:lnTo>
                  <a:lnTo>
                    <a:pt x="4246" y="19998"/>
                  </a:lnTo>
                  <a:lnTo>
                    <a:pt x="3832" y="19355"/>
                  </a:lnTo>
                  <a:lnTo>
                    <a:pt x="3445" y="18722"/>
                  </a:lnTo>
                  <a:lnTo>
                    <a:pt x="3058" y="18080"/>
                  </a:lnTo>
                  <a:lnTo>
                    <a:pt x="2697" y="17447"/>
                  </a:lnTo>
                  <a:lnTo>
                    <a:pt x="2363" y="16825"/>
                  </a:lnTo>
                  <a:lnTo>
                    <a:pt x="2029" y="16202"/>
                  </a:lnTo>
                  <a:lnTo>
                    <a:pt x="1722" y="15580"/>
                  </a:lnTo>
                  <a:lnTo>
                    <a:pt x="1455" y="14968"/>
                  </a:lnTo>
                  <a:lnTo>
                    <a:pt x="1175" y="14355"/>
                  </a:lnTo>
                  <a:lnTo>
                    <a:pt x="948" y="13733"/>
                  </a:lnTo>
                  <a:lnTo>
                    <a:pt x="707" y="13131"/>
                  </a:lnTo>
                  <a:lnTo>
                    <a:pt x="520" y="12519"/>
                  </a:lnTo>
                  <a:lnTo>
                    <a:pt x="333" y="11927"/>
                  </a:lnTo>
                  <a:lnTo>
                    <a:pt x="186" y="11315"/>
                  </a:lnTo>
                  <a:lnTo>
                    <a:pt x="53" y="10723"/>
                  </a:lnTo>
                  <a:lnTo>
                    <a:pt x="13" y="10468"/>
                  </a:lnTo>
                  <a:lnTo>
                    <a:pt x="0" y="10223"/>
                  </a:lnTo>
                  <a:lnTo>
                    <a:pt x="13" y="9988"/>
                  </a:lnTo>
                  <a:lnTo>
                    <a:pt x="40" y="9754"/>
                  </a:lnTo>
                  <a:lnTo>
                    <a:pt x="80" y="9529"/>
                  </a:lnTo>
                  <a:lnTo>
                    <a:pt x="146" y="9315"/>
                  </a:lnTo>
                  <a:lnTo>
                    <a:pt x="213" y="9111"/>
                  </a:lnTo>
                  <a:lnTo>
                    <a:pt x="320" y="8917"/>
                  </a:lnTo>
                  <a:lnTo>
                    <a:pt x="413" y="8713"/>
                  </a:lnTo>
                  <a:lnTo>
                    <a:pt x="520" y="8540"/>
                  </a:lnTo>
                  <a:lnTo>
                    <a:pt x="654" y="8376"/>
                  </a:lnTo>
                  <a:lnTo>
                    <a:pt x="787" y="8213"/>
                  </a:lnTo>
                  <a:lnTo>
                    <a:pt x="908" y="8050"/>
                  </a:lnTo>
                  <a:lnTo>
                    <a:pt x="1041" y="7907"/>
                  </a:lnTo>
                  <a:lnTo>
                    <a:pt x="1188" y="7774"/>
                  </a:lnTo>
                  <a:lnTo>
                    <a:pt x="1322" y="7662"/>
                  </a:lnTo>
                  <a:lnTo>
                    <a:pt x="1575" y="7448"/>
                  </a:lnTo>
                  <a:lnTo>
                    <a:pt x="1842" y="7254"/>
                  </a:lnTo>
                  <a:lnTo>
                    <a:pt x="2136" y="7050"/>
                  </a:lnTo>
                  <a:lnTo>
                    <a:pt x="2443" y="6876"/>
                  </a:lnTo>
                  <a:lnTo>
                    <a:pt x="2737" y="6713"/>
                  </a:lnTo>
                  <a:lnTo>
                    <a:pt x="3084" y="6550"/>
                  </a:lnTo>
                  <a:lnTo>
                    <a:pt x="3418" y="6407"/>
                  </a:lnTo>
                  <a:lnTo>
                    <a:pt x="3752" y="6274"/>
                  </a:lnTo>
                  <a:lnTo>
                    <a:pt x="4113" y="6162"/>
                  </a:lnTo>
                  <a:lnTo>
                    <a:pt x="4460" y="6060"/>
                  </a:lnTo>
                  <a:lnTo>
                    <a:pt x="4820" y="5968"/>
                  </a:lnTo>
                  <a:lnTo>
                    <a:pt x="5194" y="5897"/>
                  </a:lnTo>
                  <a:lnTo>
                    <a:pt x="5568" y="5836"/>
                  </a:lnTo>
                  <a:lnTo>
                    <a:pt x="5929" y="5795"/>
                  </a:lnTo>
                  <a:lnTo>
                    <a:pt x="6303" y="5775"/>
                  </a:lnTo>
                  <a:lnTo>
                    <a:pt x="6663" y="5764"/>
                  </a:lnTo>
                  <a:lnTo>
                    <a:pt x="6850" y="5764"/>
                  </a:lnTo>
                  <a:lnTo>
                    <a:pt x="7064" y="5775"/>
                  </a:lnTo>
                  <a:lnTo>
                    <a:pt x="7264" y="5785"/>
                  </a:lnTo>
                  <a:lnTo>
                    <a:pt x="7478" y="5805"/>
                  </a:lnTo>
                  <a:lnTo>
                    <a:pt x="7678" y="5836"/>
                  </a:lnTo>
                  <a:lnTo>
                    <a:pt x="7905" y="5866"/>
                  </a:lnTo>
                  <a:lnTo>
                    <a:pt x="8132" y="5928"/>
                  </a:lnTo>
                  <a:lnTo>
                    <a:pt x="8359" y="5979"/>
                  </a:lnTo>
                  <a:lnTo>
                    <a:pt x="8573" y="6050"/>
                  </a:lnTo>
                  <a:lnTo>
                    <a:pt x="8787" y="6132"/>
                  </a:lnTo>
                  <a:lnTo>
                    <a:pt x="9000" y="6223"/>
                  </a:lnTo>
                  <a:lnTo>
                    <a:pt x="9214" y="6336"/>
                  </a:lnTo>
                  <a:lnTo>
                    <a:pt x="9414" y="6458"/>
                  </a:lnTo>
                  <a:lnTo>
                    <a:pt x="9614" y="6591"/>
                  </a:lnTo>
                  <a:lnTo>
                    <a:pt x="9801" y="6744"/>
                  </a:lnTo>
                  <a:lnTo>
                    <a:pt x="9975" y="6917"/>
                  </a:lnTo>
                  <a:lnTo>
                    <a:pt x="10576" y="7550"/>
                  </a:lnTo>
                  <a:lnTo>
                    <a:pt x="11204" y="8223"/>
                  </a:lnTo>
                  <a:lnTo>
                    <a:pt x="11858" y="8938"/>
                  </a:lnTo>
                  <a:lnTo>
                    <a:pt x="12512" y="9703"/>
                  </a:lnTo>
                  <a:lnTo>
                    <a:pt x="13193" y="10478"/>
                  </a:lnTo>
                  <a:lnTo>
                    <a:pt x="13888" y="11294"/>
                  </a:lnTo>
                  <a:lnTo>
                    <a:pt x="14596" y="12131"/>
                  </a:lnTo>
                  <a:lnTo>
                    <a:pt x="15330" y="12988"/>
                  </a:lnTo>
                  <a:lnTo>
                    <a:pt x="16652" y="14559"/>
                  </a:lnTo>
                  <a:lnTo>
                    <a:pt x="18028" y="16161"/>
                  </a:lnTo>
                  <a:lnTo>
                    <a:pt x="18722" y="16978"/>
                  </a:lnTo>
                  <a:lnTo>
                    <a:pt x="19443" y="17784"/>
                  </a:lnTo>
                  <a:lnTo>
                    <a:pt x="20151" y="18590"/>
                  </a:lnTo>
                  <a:lnTo>
                    <a:pt x="20885" y="19396"/>
                  </a:lnTo>
                  <a:lnTo>
                    <a:pt x="21606" y="20192"/>
                  </a:lnTo>
                  <a:lnTo>
                    <a:pt x="22341" y="20967"/>
                  </a:lnTo>
                  <a:lnTo>
                    <a:pt x="23089" y="21753"/>
                  </a:lnTo>
                  <a:lnTo>
                    <a:pt x="23837" y="22518"/>
                  </a:lnTo>
                  <a:lnTo>
                    <a:pt x="24611" y="23263"/>
                  </a:lnTo>
                  <a:lnTo>
                    <a:pt x="25372" y="23987"/>
                  </a:lnTo>
                  <a:lnTo>
                    <a:pt x="26133" y="24712"/>
                  </a:lnTo>
                  <a:lnTo>
                    <a:pt x="26921" y="25395"/>
                  </a:lnTo>
                  <a:lnTo>
                    <a:pt x="27709" y="26069"/>
                  </a:lnTo>
                  <a:lnTo>
                    <a:pt x="28497" y="26701"/>
                  </a:lnTo>
                  <a:lnTo>
                    <a:pt x="29272" y="27314"/>
                  </a:lnTo>
                  <a:lnTo>
                    <a:pt x="30073" y="27885"/>
                  </a:lnTo>
                  <a:lnTo>
                    <a:pt x="30874" y="28436"/>
                  </a:lnTo>
                  <a:lnTo>
                    <a:pt x="31675" y="28946"/>
                  </a:lnTo>
                  <a:lnTo>
                    <a:pt x="32477" y="29415"/>
                  </a:lnTo>
                  <a:lnTo>
                    <a:pt x="33291" y="29844"/>
                  </a:lnTo>
                  <a:lnTo>
                    <a:pt x="34106" y="30232"/>
                  </a:lnTo>
                  <a:lnTo>
                    <a:pt x="34920" y="30589"/>
                  </a:lnTo>
                  <a:lnTo>
                    <a:pt x="35735" y="30885"/>
                  </a:lnTo>
                  <a:lnTo>
                    <a:pt x="36550" y="31130"/>
                  </a:lnTo>
                  <a:lnTo>
                    <a:pt x="37378" y="31323"/>
                  </a:lnTo>
                  <a:lnTo>
                    <a:pt x="38192" y="31466"/>
                  </a:lnTo>
                  <a:lnTo>
                    <a:pt x="39020" y="31558"/>
                  </a:lnTo>
                  <a:lnTo>
                    <a:pt x="39821" y="31589"/>
                  </a:lnTo>
                  <a:lnTo>
                    <a:pt x="40222" y="31578"/>
                  </a:lnTo>
                  <a:lnTo>
                    <a:pt x="40609" y="31558"/>
                  </a:lnTo>
                  <a:lnTo>
                    <a:pt x="41010" y="31527"/>
                  </a:lnTo>
                  <a:lnTo>
                    <a:pt x="41384" y="31476"/>
                  </a:lnTo>
                  <a:lnTo>
                    <a:pt x="41571" y="31446"/>
                  </a:lnTo>
                  <a:lnTo>
                    <a:pt x="41771" y="31405"/>
                  </a:lnTo>
                  <a:lnTo>
                    <a:pt x="41958" y="31364"/>
                  </a:lnTo>
                  <a:lnTo>
                    <a:pt x="42172" y="31303"/>
                  </a:lnTo>
                  <a:lnTo>
                    <a:pt x="42586" y="31181"/>
                  </a:lnTo>
                  <a:lnTo>
                    <a:pt x="43013" y="31038"/>
                  </a:lnTo>
                  <a:lnTo>
                    <a:pt x="43427" y="30874"/>
                  </a:lnTo>
                  <a:lnTo>
                    <a:pt x="43868" y="30691"/>
                  </a:lnTo>
                  <a:lnTo>
                    <a:pt x="44295" y="30487"/>
                  </a:lnTo>
                  <a:lnTo>
                    <a:pt x="44722" y="30293"/>
                  </a:lnTo>
                  <a:lnTo>
                    <a:pt x="45136" y="30068"/>
                  </a:lnTo>
                  <a:lnTo>
                    <a:pt x="45550" y="29844"/>
                  </a:lnTo>
                  <a:lnTo>
                    <a:pt x="45951" y="29630"/>
                  </a:lnTo>
                  <a:lnTo>
                    <a:pt x="46338" y="29405"/>
                  </a:lnTo>
                  <a:lnTo>
                    <a:pt x="47033" y="28987"/>
                  </a:lnTo>
                  <a:lnTo>
                    <a:pt x="47660" y="28599"/>
                  </a:lnTo>
                  <a:lnTo>
                    <a:pt x="47727" y="28568"/>
                  </a:lnTo>
                  <a:lnTo>
                    <a:pt x="48275" y="28201"/>
                  </a:lnTo>
                  <a:lnTo>
                    <a:pt x="48809" y="27824"/>
                  </a:lnTo>
                  <a:lnTo>
                    <a:pt x="49356" y="27426"/>
                  </a:lnTo>
                  <a:lnTo>
                    <a:pt x="49917" y="26987"/>
                  </a:lnTo>
                  <a:lnTo>
                    <a:pt x="50465" y="26538"/>
                  </a:lnTo>
                  <a:lnTo>
                    <a:pt x="51026" y="26069"/>
                  </a:lnTo>
                  <a:lnTo>
                    <a:pt x="51600" y="25569"/>
                  </a:lnTo>
                  <a:lnTo>
                    <a:pt x="52161" y="25059"/>
                  </a:lnTo>
                  <a:lnTo>
                    <a:pt x="52735" y="24528"/>
                  </a:lnTo>
                  <a:lnTo>
                    <a:pt x="53296" y="23987"/>
                  </a:lnTo>
                  <a:lnTo>
                    <a:pt x="53870" y="23426"/>
                  </a:lnTo>
                  <a:lnTo>
                    <a:pt x="54444" y="22855"/>
                  </a:lnTo>
                  <a:lnTo>
                    <a:pt x="55018" y="22273"/>
                  </a:lnTo>
                  <a:lnTo>
                    <a:pt x="55593" y="21661"/>
                  </a:lnTo>
                  <a:lnTo>
                    <a:pt x="56167" y="21049"/>
                  </a:lnTo>
                  <a:lnTo>
                    <a:pt x="56741" y="20416"/>
                  </a:lnTo>
                  <a:lnTo>
                    <a:pt x="57890" y="19151"/>
                  </a:lnTo>
                  <a:lnTo>
                    <a:pt x="59051" y="17835"/>
                  </a:lnTo>
                  <a:lnTo>
                    <a:pt x="60200" y="16488"/>
                  </a:lnTo>
                  <a:lnTo>
                    <a:pt x="61335" y="15151"/>
                  </a:lnTo>
                  <a:lnTo>
                    <a:pt x="62470" y="13774"/>
                  </a:lnTo>
                  <a:lnTo>
                    <a:pt x="63592" y="12427"/>
                  </a:lnTo>
                  <a:lnTo>
                    <a:pt x="64687" y="11070"/>
                  </a:lnTo>
                  <a:lnTo>
                    <a:pt x="65782" y="9723"/>
                  </a:lnTo>
                  <a:lnTo>
                    <a:pt x="66276" y="9121"/>
                  </a:lnTo>
                  <a:lnTo>
                    <a:pt x="66757" y="8529"/>
                  </a:lnTo>
                  <a:lnTo>
                    <a:pt x="67237" y="7938"/>
                  </a:lnTo>
                  <a:lnTo>
                    <a:pt x="67718" y="7356"/>
                  </a:lnTo>
                  <a:lnTo>
                    <a:pt x="68172" y="6785"/>
                  </a:lnTo>
                  <a:lnTo>
                    <a:pt x="68640" y="6213"/>
                  </a:lnTo>
                  <a:lnTo>
                    <a:pt x="69107" y="5662"/>
                  </a:lnTo>
                  <a:lnTo>
                    <a:pt x="69574" y="5111"/>
                  </a:lnTo>
                  <a:lnTo>
                    <a:pt x="70028" y="4581"/>
                  </a:lnTo>
                  <a:lnTo>
                    <a:pt x="70456" y="4050"/>
                  </a:lnTo>
                  <a:lnTo>
                    <a:pt x="70896" y="3540"/>
                  </a:lnTo>
                  <a:lnTo>
                    <a:pt x="71337" y="3050"/>
                  </a:lnTo>
                  <a:lnTo>
                    <a:pt x="71751" y="2561"/>
                  </a:lnTo>
                  <a:lnTo>
                    <a:pt x="72165" y="2091"/>
                  </a:lnTo>
                  <a:lnTo>
                    <a:pt x="72566" y="1642"/>
                  </a:lnTo>
                  <a:lnTo>
                    <a:pt x="72980" y="1203"/>
                  </a:lnTo>
                  <a:lnTo>
                    <a:pt x="73100" y="1061"/>
                  </a:lnTo>
                  <a:lnTo>
                    <a:pt x="73260" y="928"/>
                  </a:lnTo>
                  <a:lnTo>
                    <a:pt x="73420" y="806"/>
                  </a:lnTo>
                  <a:lnTo>
                    <a:pt x="73594" y="683"/>
                  </a:lnTo>
                  <a:lnTo>
                    <a:pt x="73794" y="591"/>
                  </a:lnTo>
                  <a:lnTo>
                    <a:pt x="73981" y="489"/>
                  </a:lnTo>
                  <a:lnTo>
                    <a:pt x="74182" y="387"/>
                  </a:lnTo>
                  <a:lnTo>
                    <a:pt x="74395" y="316"/>
                  </a:lnTo>
                  <a:lnTo>
                    <a:pt x="74622" y="244"/>
                  </a:lnTo>
                  <a:lnTo>
                    <a:pt x="74849" y="183"/>
                  </a:lnTo>
                  <a:lnTo>
                    <a:pt x="75090" y="122"/>
                  </a:lnTo>
                  <a:lnTo>
                    <a:pt x="75343" y="81"/>
                  </a:lnTo>
                  <a:lnTo>
                    <a:pt x="75584" y="51"/>
                  </a:lnTo>
                  <a:lnTo>
                    <a:pt x="75851" y="30"/>
                  </a:lnTo>
                  <a:lnTo>
                    <a:pt x="76131" y="0"/>
                  </a:lnTo>
                  <a:lnTo>
                    <a:pt x="76398" y="0"/>
                  </a:lnTo>
                  <a:lnTo>
                    <a:pt x="76786" y="10"/>
                  </a:lnTo>
                  <a:lnTo>
                    <a:pt x="77160" y="40"/>
                  </a:lnTo>
                  <a:lnTo>
                    <a:pt x="77533" y="81"/>
                  </a:lnTo>
                  <a:lnTo>
                    <a:pt x="77921" y="132"/>
                  </a:lnTo>
                  <a:lnTo>
                    <a:pt x="78281" y="214"/>
                  </a:lnTo>
                  <a:lnTo>
                    <a:pt x="78655" y="306"/>
                  </a:lnTo>
                  <a:lnTo>
                    <a:pt x="79016" y="397"/>
                  </a:lnTo>
                  <a:lnTo>
                    <a:pt x="79376" y="510"/>
                  </a:lnTo>
                  <a:lnTo>
                    <a:pt x="79737" y="642"/>
                  </a:lnTo>
                  <a:lnTo>
                    <a:pt x="80071" y="785"/>
                  </a:lnTo>
                  <a:lnTo>
                    <a:pt x="80405" y="938"/>
                  </a:lnTo>
                  <a:lnTo>
                    <a:pt x="80725" y="1101"/>
                  </a:lnTo>
                  <a:lnTo>
                    <a:pt x="81006" y="1295"/>
                  </a:lnTo>
                  <a:lnTo>
                    <a:pt x="81299" y="1479"/>
                  </a:lnTo>
                  <a:lnTo>
                    <a:pt x="81580" y="1683"/>
                  </a:lnTo>
                  <a:lnTo>
                    <a:pt x="81820" y="1887"/>
                  </a:lnTo>
                  <a:lnTo>
                    <a:pt x="81954" y="2010"/>
                  </a:lnTo>
                  <a:lnTo>
                    <a:pt x="82087" y="2142"/>
                  </a:lnTo>
                  <a:lnTo>
                    <a:pt x="82221" y="2275"/>
                  </a:lnTo>
                  <a:lnTo>
                    <a:pt x="82341" y="2428"/>
                  </a:lnTo>
                  <a:lnTo>
                    <a:pt x="82461" y="2581"/>
                  </a:lnTo>
                  <a:lnTo>
                    <a:pt x="82581" y="2734"/>
                  </a:lnTo>
                  <a:lnTo>
                    <a:pt x="82675" y="2918"/>
                  </a:lnTo>
                  <a:lnTo>
                    <a:pt x="82782" y="3091"/>
                  </a:lnTo>
                  <a:lnTo>
                    <a:pt x="82875" y="3295"/>
                  </a:lnTo>
                  <a:lnTo>
                    <a:pt x="82942" y="3479"/>
                  </a:lnTo>
                  <a:lnTo>
                    <a:pt x="82995" y="3683"/>
                  </a:lnTo>
                  <a:lnTo>
                    <a:pt x="83049" y="3897"/>
                  </a:lnTo>
                  <a:lnTo>
                    <a:pt x="83062" y="4122"/>
                  </a:lnTo>
                  <a:lnTo>
                    <a:pt x="83062" y="4346"/>
                  </a:lnTo>
                  <a:lnTo>
                    <a:pt x="83049" y="4591"/>
                  </a:lnTo>
                  <a:lnTo>
                    <a:pt x="83009" y="4836"/>
                  </a:lnTo>
                  <a:lnTo>
                    <a:pt x="82835" y="5611"/>
                  </a:lnTo>
                  <a:lnTo>
                    <a:pt x="82635" y="6377"/>
                  </a:lnTo>
                  <a:lnTo>
                    <a:pt x="82421" y="7142"/>
                  </a:lnTo>
                  <a:lnTo>
                    <a:pt x="82181" y="7897"/>
                  </a:lnTo>
                  <a:lnTo>
                    <a:pt x="81927" y="8662"/>
                  </a:lnTo>
                  <a:lnTo>
                    <a:pt x="81633" y="9407"/>
                  </a:lnTo>
                  <a:lnTo>
                    <a:pt x="81326" y="10152"/>
                  </a:lnTo>
                  <a:lnTo>
                    <a:pt x="81006" y="10897"/>
                  </a:lnTo>
                  <a:lnTo>
                    <a:pt x="80672" y="11631"/>
                  </a:lnTo>
                  <a:lnTo>
                    <a:pt x="80311" y="12366"/>
                  </a:lnTo>
                  <a:lnTo>
                    <a:pt x="79951" y="13090"/>
                  </a:lnTo>
                  <a:lnTo>
                    <a:pt x="79563" y="13815"/>
                  </a:lnTo>
                  <a:lnTo>
                    <a:pt x="79163" y="14529"/>
                  </a:lnTo>
                  <a:lnTo>
                    <a:pt x="78749" y="15233"/>
                  </a:lnTo>
                  <a:lnTo>
                    <a:pt x="78321" y="15947"/>
                  </a:lnTo>
                  <a:lnTo>
                    <a:pt x="77881" y="16651"/>
                  </a:lnTo>
                  <a:lnTo>
                    <a:pt x="77440" y="17345"/>
                  </a:lnTo>
                  <a:lnTo>
                    <a:pt x="76986" y="18039"/>
                  </a:lnTo>
                  <a:lnTo>
                    <a:pt x="76519" y="18733"/>
                  </a:lnTo>
                  <a:lnTo>
                    <a:pt x="76038" y="19406"/>
                  </a:lnTo>
                  <a:lnTo>
                    <a:pt x="75557" y="20090"/>
                  </a:lnTo>
                  <a:lnTo>
                    <a:pt x="75063" y="20763"/>
                  </a:lnTo>
                  <a:lnTo>
                    <a:pt x="74582" y="21426"/>
                  </a:lnTo>
                  <a:lnTo>
                    <a:pt x="74088" y="22079"/>
                  </a:lnTo>
                  <a:lnTo>
                    <a:pt x="73087" y="23395"/>
                  </a:lnTo>
                  <a:lnTo>
                    <a:pt x="72085" y="24691"/>
                  </a:lnTo>
                  <a:lnTo>
                    <a:pt x="71083" y="25956"/>
                  </a:lnTo>
                  <a:lnTo>
                    <a:pt x="70082" y="27201"/>
                  </a:lnTo>
                  <a:lnTo>
                    <a:pt x="68947" y="28640"/>
                  </a:lnTo>
                  <a:lnTo>
                    <a:pt x="67825" y="30048"/>
                  </a:lnTo>
                  <a:lnTo>
                    <a:pt x="67291" y="30742"/>
                  </a:lnTo>
                  <a:lnTo>
                    <a:pt x="66770" y="31425"/>
                  </a:lnTo>
                  <a:lnTo>
                    <a:pt x="66263" y="32109"/>
                  </a:lnTo>
                  <a:lnTo>
                    <a:pt x="65768" y="32782"/>
                  </a:lnTo>
                  <a:lnTo>
                    <a:pt x="65288" y="33456"/>
                  </a:lnTo>
                  <a:lnTo>
                    <a:pt x="64834" y="34119"/>
                  </a:lnTo>
                  <a:lnTo>
                    <a:pt x="64406" y="34772"/>
                  </a:lnTo>
                  <a:lnTo>
                    <a:pt x="63979" y="35415"/>
                  </a:lnTo>
                  <a:lnTo>
                    <a:pt x="63592" y="36058"/>
                  </a:lnTo>
                  <a:lnTo>
                    <a:pt x="63218" y="36690"/>
                  </a:lnTo>
                  <a:lnTo>
                    <a:pt x="62884" y="37313"/>
                  </a:lnTo>
                  <a:lnTo>
                    <a:pt x="62563" y="37935"/>
                  </a:lnTo>
                  <a:lnTo>
                    <a:pt x="62296" y="38537"/>
                  </a:lnTo>
                  <a:lnTo>
                    <a:pt x="62043" y="39149"/>
                  </a:lnTo>
                  <a:lnTo>
                    <a:pt x="61829" y="39741"/>
                  </a:lnTo>
                  <a:lnTo>
                    <a:pt x="61655" y="40323"/>
                  </a:lnTo>
                  <a:lnTo>
                    <a:pt x="61522" y="40914"/>
                  </a:lnTo>
                  <a:lnTo>
                    <a:pt x="61402" y="41486"/>
                  </a:lnTo>
                  <a:lnTo>
                    <a:pt x="61348" y="42047"/>
                  </a:lnTo>
                  <a:lnTo>
                    <a:pt x="61335" y="42598"/>
                  </a:lnTo>
                  <a:lnTo>
                    <a:pt x="61348" y="43149"/>
                  </a:lnTo>
                  <a:lnTo>
                    <a:pt x="61402" y="43690"/>
                  </a:lnTo>
                  <a:lnTo>
                    <a:pt x="61522" y="44220"/>
                  </a:lnTo>
                  <a:lnTo>
                    <a:pt x="61682" y="44741"/>
                  </a:lnTo>
                  <a:lnTo>
                    <a:pt x="61896" y="45251"/>
                  </a:lnTo>
                  <a:lnTo>
                    <a:pt x="62150" y="45761"/>
                  </a:lnTo>
                  <a:lnTo>
                    <a:pt x="62470" y="46261"/>
                  </a:lnTo>
                  <a:lnTo>
                    <a:pt x="62831" y="46740"/>
                  </a:lnTo>
                  <a:lnTo>
                    <a:pt x="63124" y="47077"/>
                  </a:lnTo>
                  <a:lnTo>
                    <a:pt x="63432" y="47393"/>
                  </a:lnTo>
                  <a:lnTo>
                    <a:pt x="63752" y="47689"/>
                  </a:lnTo>
                  <a:lnTo>
                    <a:pt x="64086" y="47995"/>
                  </a:lnTo>
                  <a:lnTo>
                    <a:pt x="64433" y="48281"/>
                  </a:lnTo>
                  <a:lnTo>
                    <a:pt x="64780" y="48557"/>
                  </a:lnTo>
                  <a:lnTo>
                    <a:pt x="65154" y="48822"/>
                  </a:lnTo>
                  <a:lnTo>
                    <a:pt x="65555" y="49057"/>
                  </a:lnTo>
                  <a:lnTo>
                    <a:pt x="65955" y="49301"/>
                  </a:lnTo>
                  <a:lnTo>
                    <a:pt x="66383" y="49536"/>
                  </a:lnTo>
                  <a:lnTo>
                    <a:pt x="66810" y="49771"/>
                  </a:lnTo>
                  <a:lnTo>
                    <a:pt x="67251" y="49975"/>
                  </a:lnTo>
                  <a:lnTo>
                    <a:pt x="67718" y="50179"/>
                  </a:lnTo>
                  <a:lnTo>
                    <a:pt x="68199" y="50363"/>
                  </a:lnTo>
                  <a:lnTo>
                    <a:pt x="68693" y="50536"/>
                  </a:lnTo>
                  <a:lnTo>
                    <a:pt x="69200" y="50720"/>
                  </a:lnTo>
                  <a:lnTo>
                    <a:pt x="69721" y="50873"/>
                  </a:lnTo>
                  <a:lnTo>
                    <a:pt x="70255" y="51016"/>
                  </a:lnTo>
                  <a:lnTo>
                    <a:pt x="70803" y="51158"/>
                  </a:lnTo>
                  <a:lnTo>
                    <a:pt x="71377" y="51281"/>
                  </a:lnTo>
                  <a:lnTo>
                    <a:pt x="71951" y="51403"/>
                  </a:lnTo>
                  <a:lnTo>
                    <a:pt x="72552" y="51505"/>
                  </a:lnTo>
                  <a:lnTo>
                    <a:pt x="73180" y="51607"/>
                  </a:lnTo>
                  <a:lnTo>
                    <a:pt x="73808" y="51689"/>
                  </a:lnTo>
                  <a:lnTo>
                    <a:pt x="74435" y="51760"/>
                  </a:lnTo>
                  <a:lnTo>
                    <a:pt x="75116" y="51832"/>
                  </a:lnTo>
                  <a:lnTo>
                    <a:pt x="75784" y="51883"/>
                  </a:lnTo>
                  <a:lnTo>
                    <a:pt x="76478" y="51924"/>
                  </a:lnTo>
                  <a:lnTo>
                    <a:pt x="77173" y="51975"/>
                  </a:lnTo>
                  <a:lnTo>
                    <a:pt x="77894" y="51995"/>
                  </a:lnTo>
                  <a:lnTo>
                    <a:pt x="78642" y="52005"/>
                  </a:lnTo>
                  <a:lnTo>
                    <a:pt x="79403" y="52015"/>
                  </a:lnTo>
                  <a:lnTo>
                    <a:pt x="80178" y="52005"/>
                  </a:lnTo>
                  <a:lnTo>
                    <a:pt x="80979" y="51995"/>
                  </a:lnTo>
                  <a:lnTo>
                    <a:pt x="81780" y="51964"/>
                  </a:lnTo>
                  <a:lnTo>
                    <a:pt x="82595" y="51924"/>
                  </a:lnTo>
                  <a:lnTo>
                    <a:pt x="83396" y="51883"/>
                  </a:lnTo>
                  <a:lnTo>
                    <a:pt x="84224" y="51832"/>
                  </a:lnTo>
                  <a:lnTo>
                    <a:pt x="85038" y="51771"/>
                  </a:lnTo>
                  <a:lnTo>
                    <a:pt x="85866" y="51699"/>
                  </a:lnTo>
                  <a:lnTo>
                    <a:pt x="86694" y="51618"/>
                  </a:lnTo>
                  <a:lnTo>
                    <a:pt x="87522" y="51546"/>
                  </a:lnTo>
                  <a:lnTo>
                    <a:pt x="88364" y="51444"/>
                  </a:lnTo>
                  <a:lnTo>
                    <a:pt x="89192" y="51342"/>
                  </a:lnTo>
                  <a:lnTo>
                    <a:pt x="90861" y="51138"/>
                  </a:lnTo>
                  <a:lnTo>
                    <a:pt x="92530" y="50903"/>
                  </a:lnTo>
                  <a:lnTo>
                    <a:pt x="94186" y="50648"/>
                  </a:lnTo>
                  <a:lnTo>
                    <a:pt x="95829" y="50383"/>
                  </a:lnTo>
                  <a:lnTo>
                    <a:pt x="97471" y="50107"/>
                  </a:lnTo>
                  <a:lnTo>
                    <a:pt x="99087" y="49822"/>
                  </a:lnTo>
                  <a:lnTo>
                    <a:pt x="100676" y="49536"/>
                  </a:lnTo>
                  <a:lnTo>
                    <a:pt x="102225" y="49250"/>
                  </a:lnTo>
                  <a:lnTo>
                    <a:pt x="103734" y="48955"/>
                  </a:lnTo>
                  <a:lnTo>
                    <a:pt x="105217" y="48679"/>
                  </a:lnTo>
                  <a:lnTo>
                    <a:pt x="106552" y="48424"/>
                  </a:lnTo>
                  <a:lnTo>
                    <a:pt x="107847" y="48169"/>
                  </a:lnTo>
                  <a:lnTo>
                    <a:pt x="109089" y="47934"/>
                  </a:lnTo>
                  <a:lnTo>
                    <a:pt x="110278" y="47730"/>
                  </a:lnTo>
                  <a:lnTo>
                    <a:pt x="111399" y="47526"/>
                  </a:lnTo>
                  <a:lnTo>
                    <a:pt x="112468" y="47353"/>
                  </a:lnTo>
                  <a:lnTo>
                    <a:pt x="113469" y="47200"/>
                  </a:lnTo>
                  <a:lnTo>
                    <a:pt x="114431" y="47067"/>
                  </a:lnTo>
                  <a:lnTo>
                    <a:pt x="114578" y="47057"/>
                  </a:lnTo>
                  <a:lnTo>
                    <a:pt x="114738" y="47047"/>
                  </a:lnTo>
                  <a:lnTo>
                    <a:pt x="114885" y="47036"/>
                  </a:lnTo>
                  <a:lnTo>
                    <a:pt x="115032" y="47036"/>
                  </a:lnTo>
                  <a:lnTo>
                    <a:pt x="115232" y="47036"/>
                  </a:lnTo>
                  <a:lnTo>
                    <a:pt x="115432" y="47057"/>
                  </a:lnTo>
                  <a:lnTo>
                    <a:pt x="115633" y="47077"/>
                  </a:lnTo>
                  <a:lnTo>
                    <a:pt x="115833" y="47098"/>
                  </a:lnTo>
                  <a:lnTo>
                    <a:pt x="116020" y="47138"/>
                  </a:lnTo>
                  <a:lnTo>
                    <a:pt x="116207" y="47189"/>
                  </a:lnTo>
                  <a:lnTo>
                    <a:pt x="116394" y="47240"/>
                  </a:lnTo>
                  <a:lnTo>
                    <a:pt x="116581" y="47291"/>
                  </a:lnTo>
                  <a:lnTo>
                    <a:pt x="116754" y="47363"/>
                  </a:lnTo>
                  <a:lnTo>
                    <a:pt x="116928" y="47444"/>
                  </a:lnTo>
                  <a:lnTo>
                    <a:pt x="117088" y="47516"/>
                  </a:lnTo>
                  <a:lnTo>
                    <a:pt x="117262" y="47608"/>
                  </a:lnTo>
                  <a:lnTo>
                    <a:pt x="117422" y="47689"/>
                  </a:lnTo>
                  <a:lnTo>
                    <a:pt x="117582" y="47791"/>
                  </a:lnTo>
                  <a:lnTo>
                    <a:pt x="117729" y="47893"/>
                  </a:lnTo>
                  <a:lnTo>
                    <a:pt x="117876" y="47995"/>
                  </a:lnTo>
                  <a:lnTo>
                    <a:pt x="118170" y="48220"/>
                  </a:lnTo>
                  <a:lnTo>
                    <a:pt x="118424" y="48465"/>
                  </a:lnTo>
                  <a:lnTo>
                    <a:pt x="118677" y="48720"/>
                  </a:lnTo>
                  <a:lnTo>
                    <a:pt x="118904" y="48985"/>
                  </a:lnTo>
                  <a:lnTo>
                    <a:pt x="119105" y="49261"/>
                  </a:lnTo>
                  <a:lnTo>
                    <a:pt x="119305" y="49536"/>
                  </a:lnTo>
                  <a:lnTo>
                    <a:pt x="119465" y="49822"/>
                  </a:lnTo>
                  <a:lnTo>
                    <a:pt x="119586" y="50107"/>
                  </a:lnTo>
                  <a:lnTo>
                    <a:pt x="119719" y="50403"/>
                  </a:lnTo>
                  <a:lnTo>
                    <a:pt x="119826" y="50720"/>
                  </a:lnTo>
                  <a:lnTo>
                    <a:pt x="119893" y="51036"/>
                  </a:lnTo>
                  <a:lnTo>
                    <a:pt x="119959" y="51352"/>
                  </a:lnTo>
                  <a:lnTo>
                    <a:pt x="119986" y="51689"/>
                  </a:lnTo>
                  <a:lnTo>
                    <a:pt x="120000" y="52015"/>
                  </a:lnTo>
                  <a:lnTo>
                    <a:pt x="119986" y="52179"/>
                  </a:lnTo>
                  <a:lnTo>
                    <a:pt x="119973" y="52352"/>
                  </a:lnTo>
                  <a:lnTo>
                    <a:pt x="119946" y="52515"/>
                  </a:lnTo>
                  <a:lnTo>
                    <a:pt x="119906" y="52679"/>
                  </a:lnTo>
                  <a:lnTo>
                    <a:pt x="119866" y="52842"/>
                  </a:lnTo>
                  <a:lnTo>
                    <a:pt x="119826" y="53005"/>
                  </a:lnTo>
                  <a:lnTo>
                    <a:pt x="119759" y="53179"/>
                  </a:lnTo>
                  <a:lnTo>
                    <a:pt x="119692" y="53332"/>
                  </a:lnTo>
                  <a:lnTo>
                    <a:pt x="119626" y="53495"/>
                  </a:lnTo>
                  <a:lnTo>
                    <a:pt x="119532" y="53648"/>
                  </a:lnTo>
                  <a:lnTo>
                    <a:pt x="119425" y="53801"/>
                  </a:lnTo>
                  <a:lnTo>
                    <a:pt x="119332" y="53954"/>
                  </a:lnTo>
                  <a:lnTo>
                    <a:pt x="119212" y="54097"/>
                  </a:lnTo>
                  <a:lnTo>
                    <a:pt x="119078" y="54240"/>
                  </a:lnTo>
                  <a:lnTo>
                    <a:pt x="118958" y="54393"/>
                  </a:lnTo>
                  <a:lnTo>
                    <a:pt x="118798" y="54536"/>
                  </a:lnTo>
                  <a:lnTo>
                    <a:pt x="118637" y="54668"/>
                  </a:lnTo>
                  <a:lnTo>
                    <a:pt x="118464" y="54791"/>
                  </a:lnTo>
                  <a:lnTo>
                    <a:pt x="118277" y="54913"/>
                  </a:lnTo>
                  <a:lnTo>
                    <a:pt x="118077" y="55036"/>
                  </a:lnTo>
                  <a:lnTo>
                    <a:pt x="117329" y="55464"/>
                  </a:lnTo>
                  <a:lnTo>
                    <a:pt x="116567" y="55862"/>
                  </a:lnTo>
                  <a:lnTo>
                    <a:pt x="115780" y="56240"/>
                  </a:lnTo>
                  <a:lnTo>
                    <a:pt x="115005" y="56607"/>
                  </a:lnTo>
                  <a:lnTo>
                    <a:pt x="114204" y="56944"/>
                  </a:lnTo>
                  <a:lnTo>
                    <a:pt x="113403" y="57280"/>
                  </a:lnTo>
                  <a:lnTo>
                    <a:pt x="112575" y="57586"/>
                  </a:lnTo>
                  <a:lnTo>
                    <a:pt x="111747" y="57872"/>
                  </a:lnTo>
                  <a:lnTo>
                    <a:pt x="110919" y="58148"/>
                  </a:lnTo>
                  <a:lnTo>
                    <a:pt x="110064" y="58403"/>
                  </a:lnTo>
                  <a:lnTo>
                    <a:pt x="109196" y="58658"/>
                  </a:lnTo>
                  <a:lnTo>
                    <a:pt x="108328" y="58872"/>
                  </a:lnTo>
                  <a:lnTo>
                    <a:pt x="107460" y="59097"/>
                  </a:lnTo>
                  <a:lnTo>
                    <a:pt x="106565" y="59311"/>
                  </a:lnTo>
                  <a:lnTo>
                    <a:pt x="105671" y="59494"/>
                  </a:lnTo>
                  <a:lnTo>
                    <a:pt x="104762" y="59678"/>
                  </a:lnTo>
                  <a:lnTo>
                    <a:pt x="103854" y="59852"/>
                  </a:lnTo>
                  <a:lnTo>
                    <a:pt x="102933" y="60015"/>
                  </a:lnTo>
                  <a:lnTo>
                    <a:pt x="102012" y="60158"/>
                  </a:lnTo>
                  <a:lnTo>
                    <a:pt x="101077" y="60300"/>
                  </a:lnTo>
                  <a:lnTo>
                    <a:pt x="100129" y="60443"/>
                  </a:lnTo>
                  <a:lnTo>
                    <a:pt x="99194" y="60566"/>
                  </a:lnTo>
                  <a:lnTo>
                    <a:pt x="98232" y="60688"/>
                  </a:lnTo>
                  <a:lnTo>
                    <a:pt x="97271" y="60811"/>
                  </a:lnTo>
                  <a:lnTo>
                    <a:pt x="95334" y="61015"/>
                  </a:lnTo>
                  <a:lnTo>
                    <a:pt x="93371" y="61229"/>
                  </a:lnTo>
                  <a:lnTo>
                    <a:pt x="91395" y="61413"/>
                  </a:lnTo>
                  <a:lnTo>
                    <a:pt x="89405" y="61596"/>
                  </a:lnTo>
                  <a:lnTo>
                    <a:pt x="86921" y="61841"/>
                  </a:lnTo>
                  <a:lnTo>
                    <a:pt x="84451" y="62086"/>
                  </a:lnTo>
                  <a:lnTo>
                    <a:pt x="83209" y="62219"/>
                  </a:lnTo>
                  <a:lnTo>
                    <a:pt x="81967" y="62351"/>
                  </a:lnTo>
                  <a:lnTo>
                    <a:pt x="80738" y="62504"/>
                  </a:lnTo>
                  <a:lnTo>
                    <a:pt x="79496" y="62657"/>
                  </a:lnTo>
                  <a:lnTo>
                    <a:pt x="78281" y="62821"/>
                  </a:lnTo>
                  <a:lnTo>
                    <a:pt x="77053" y="63015"/>
                  </a:lnTo>
                  <a:lnTo>
                    <a:pt x="75837" y="63208"/>
                  </a:lnTo>
                  <a:lnTo>
                    <a:pt x="74636" y="63423"/>
                  </a:lnTo>
                  <a:lnTo>
                    <a:pt x="73434" y="63637"/>
                  </a:lnTo>
                  <a:lnTo>
                    <a:pt x="72245" y="63892"/>
                  </a:lnTo>
                  <a:lnTo>
                    <a:pt x="71070" y="64157"/>
                  </a:lnTo>
                  <a:lnTo>
                    <a:pt x="69908" y="64443"/>
                  </a:lnTo>
                  <a:lnTo>
                    <a:pt x="68746" y="64759"/>
                  </a:lnTo>
                  <a:lnTo>
                    <a:pt x="67611" y="65086"/>
                  </a:lnTo>
                  <a:lnTo>
                    <a:pt x="66476" y="65453"/>
                  </a:lnTo>
                  <a:lnTo>
                    <a:pt x="65368" y="65841"/>
                  </a:lnTo>
                  <a:lnTo>
                    <a:pt x="64273" y="66249"/>
                  </a:lnTo>
                  <a:lnTo>
                    <a:pt x="63191" y="66688"/>
                  </a:lnTo>
                  <a:lnTo>
                    <a:pt x="62136" y="67157"/>
                  </a:lnTo>
                  <a:lnTo>
                    <a:pt x="61081" y="67667"/>
                  </a:lnTo>
                  <a:lnTo>
                    <a:pt x="60066" y="68208"/>
                  </a:lnTo>
                  <a:lnTo>
                    <a:pt x="59065" y="68779"/>
                  </a:lnTo>
                  <a:lnTo>
                    <a:pt x="58090" y="69392"/>
                  </a:lnTo>
                  <a:lnTo>
                    <a:pt x="57128" y="70034"/>
                  </a:lnTo>
                  <a:lnTo>
                    <a:pt x="56194" y="70728"/>
                  </a:lnTo>
                  <a:lnTo>
                    <a:pt x="55286" y="71463"/>
                  </a:lnTo>
                  <a:lnTo>
                    <a:pt x="54404" y="72218"/>
                  </a:lnTo>
                  <a:lnTo>
                    <a:pt x="53549" y="73034"/>
                  </a:lnTo>
                  <a:lnTo>
                    <a:pt x="52388" y="74401"/>
                  </a:lnTo>
                  <a:lnTo>
                    <a:pt x="51293" y="75809"/>
                  </a:lnTo>
                  <a:lnTo>
                    <a:pt x="50278" y="77248"/>
                  </a:lnTo>
                  <a:lnTo>
                    <a:pt x="49330" y="78717"/>
                  </a:lnTo>
                  <a:lnTo>
                    <a:pt x="48435" y="80217"/>
                  </a:lnTo>
                  <a:lnTo>
                    <a:pt x="47620" y="81737"/>
                  </a:lnTo>
                  <a:lnTo>
                    <a:pt x="46846" y="83268"/>
                  </a:lnTo>
                  <a:lnTo>
                    <a:pt x="46151" y="84829"/>
                  </a:lnTo>
                  <a:lnTo>
                    <a:pt x="45497" y="86380"/>
                  </a:lnTo>
                  <a:lnTo>
                    <a:pt x="44896" y="87951"/>
                  </a:lnTo>
                  <a:lnTo>
                    <a:pt x="44362" y="89522"/>
                  </a:lnTo>
                  <a:lnTo>
                    <a:pt x="43868" y="91094"/>
                  </a:lnTo>
                  <a:lnTo>
                    <a:pt x="43414" y="92645"/>
                  </a:lnTo>
                  <a:lnTo>
                    <a:pt x="43026" y="94196"/>
                  </a:lnTo>
                  <a:lnTo>
                    <a:pt x="42666" y="95726"/>
                  </a:lnTo>
                  <a:lnTo>
                    <a:pt x="42345" y="97236"/>
                  </a:lnTo>
                  <a:lnTo>
                    <a:pt x="42065" y="98736"/>
                  </a:lnTo>
                  <a:lnTo>
                    <a:pt x="41825" y="100195"/>
                  </a:lnTo>
                  <a:lnTo>
                    <a:pt x="41598" y="101624"/>
                  </a:lnTo>
                  <a:lnTo>
                    <a:pt x="41424" y="103011"/>
                  </a:lnTo>
                  <a:lnTo>
                    <a:pt x="41277" y="104368"/>
                  </a:lnTo>
                  <a:lnTo>
                    <a:pt x="41144" y="105684"/>
                  </a:lnTo>
                  <a:lnTo>
                    <a:pt x="41063" y="106939"/>
                  </a:lnTo>
                  <a:lnTo>
                    <a:pt x="40970" y="108154"/>
                  </a:lnTo>
                  <a:lnTo>
                    <a:pt x="40930" y="109296"/>
                  </a:lnTo>
                  <a:lnTo>
                    <a:pt x="40890" y="110398"/>
                  </a:lnTo>
                  <a:lnTo>
                    <a:pt x="40863" y="111419"/>
                  </a:lnTo>
                  <a:lnTo>
                    <a:pt x="40863" y="112367"/>
                  </a:lnTo>
                  <a:lnTo>
                    <a:pt x="40863" y="113245"/>
                  </a:lnTo>
                  <a:lnTo>
                    <a:pt x="40876" y="114051"/>
                  </a:lnTo>
                  <a:lnTo>
                    <a:pt x="40890" y="114786"/>
                  </a:lnTo>
                  <a:lnTo>
                    <a:pt x="40916" y="115408"/>
                  </a:lnTo>
                  <a:lnTo>
                    <a:pt x="40903" y="115755"/>
                  </a:lnTo>
                  <a:lnTo>
                    <a:pt x="40863" y="116092"/>
                  </a:lnTo>
                  <a:lnTo>
                    <a:pt x="40756" y="116439"/>
                  </a:lnTo>
                  <a:lnTo>
                    <a:pt x="40623" y="116765"/>
                  </a:lnTo>
                  <a:lnTo>
                    <a:pt x="40436" y="117102"/>
                  </a:lnTo>
                  <a:lnTo>
                    <a:pt x="40235" y="117408"/>
                  </a:lnTo>
                  <a:lnTo>
                    <a:pt x="39982" y="117714"/>
                  </a:lnTo>
                  <a:lnTo>
                    <a:pt x="39715" y="118010"/>
                  </a:lnTo>
                  <a:lnTo>
                    <a:pt x="39407" y="118285"/>
                  </a:lnTo>
                  <a:lnTo>
                    <a:pt x="39087" y="118551"/>
                  </a:lnTo>
                  <a:lnTo>
                    <a:pt x="38740" y="118806"/>
                  </a:lnTo>
                  <a:lnTo>
                    <a:pt x="38366" y="119040"/>
                  </a:lnTo>
                  <a:lnTo>
                    <a:pt x="37979" y="119244"/>
                  </a:lnTo>
                  <a:lnTo>
                    <a:pt x="37578" y="119438"/>
                  </a:lnTo>
                  <a:lnTo>
                    <a:pt x="37151" y="119602"/>
                  </a:lnTo>
                  <a:lnTo>
                    <a:pt x="36737" y="119734"/>
                  </a:lnTo>
                  <a:lnTo>
                    <a:pt x="36309" y="119846"/>
                  </a:lnTo>
                  <a:lnTo>
                    <a:pt x="35869" y="119938"/>
                  </a:lnTo>
                  <a:lnTo>
                    <a:pt x="35441" y="119979"/>
                  </a:lnTo>
                  <a:lnTo>
                    <a:pt x="35001" y="120000"/>
                  </a:lnTo>
                  <a:lnTo>
                    <a:pt x="34573" y="119989"/>
                  </a:lnTo>
                  <a:lnTo>
                    <a:pt x="34146" y="119938"/>
                  </a:lnTo>
                  <a:lnTo>
                    <a:pt x="33719" y="119846"/>
                  </a:lnTo>
                  <a:lnTo>
                    <a:pt x="33318" y="119724"/>
                  </a:lnTo>
                  <a:lnTo>
                    <a:pt x="32931" y="119551"/>
                  </a:lnTo>
                  <a:lnTo>
                    <a:pt x="32557" y="119336"/>
                  </a:lnTo>
                  <a:lnTo>
                    <a:pt x="32196" y="119081"/>
                  </a:lnTo>
                  <a:lnTo>
                    <a:pt x="31862" y="118785"/>
                  </a:lnTo>
                  <a:lnTo>
                    <a:pt x="31555" y="118438"/>
                  </a:lnTo>
                  <a:lnTo>
                    <a:pt x="31275" y="118040"/>
                  </a:lnTo>
                  <a:lnTo>
                    <a:pt x="31021" y="117581"/>
                  </a:lnTo>
                  <a:lnTo>
                    <a:pt x="30807" y="117092"/>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31" name="任意多边形 263"/>
            <p:cNvSpPr/>
            <p:nvPr/>
          </p:nvSpPr>
          <p:spPr>
            <a:xfrm flipH="1">
              <a:off x="325440" y="4498920"/>
              <a:ext cx="691920" cy="682920"/>
            </a:xfrm>
            <a:custGeom>
              <a:avLst/>
              <a:gdLst/>
              <a:ahLst/>
              <a:rect l="l" t="t" r="r" b="b"/>
              <a:pathLst>
                <a:path w="120000" h="120000">
                  <a:moveTo>
                    <a:pt x="120000" y="60038"/>
                  </a:moveTo>
                  <a:lnTo>
                    <a:pt x="119923" y="63127"/>
                  </a:lnTo>
                  <a:lnTo>
                    <a:pt x="119693" y="66177"/>
                  </a:lnTo>
                  <a:lnTo>
                    <a:pt x="119309" y="69189"/>
                  </a:lnTo>
                  <a:lnTo>
                    <a:pt x="118772" y="72123"/>
                  </a:lnTo>
                  <a:lnTo>
                    <a:pt x="118120" y="75057"/>
                  </a:lnTo>
                  <a:lnTo>
                    <a:pt x="117276" y="77915"/>
                  </a:lnTo>
                  <a:lnTo>
                    <a:pt x="116355" y="80694"/>
                  </a:lnTo>
                  <a:lnTo>
                    <a:pt x="115281" y="83397"/>
                  </a:lnTo>
                  <a:lnTo>
                    <a:pt x="114053" y="86023"/>
                  </a:lnTo>
                  <a:lnTo>
                    <a:pt x="112749" y="88610"/>
                  </a:lnTo>
                  <a:lnTo>
                    <a:pt x="111329" y="91119"/>
                  </a:lnTo>
                  <a:lnTo>
                    <a:pt x="109718" y="93590"/>
                  </a:lnTo>
                  <a:lnTo>
                    <a:pt x="108069" y="95907"/>
                  </a:lnTo>
                  <a:lnTo>
                    <a:pt x="106304" y="98185"/>
                  </a:lnTo>
                  <a:lnTo>
                    <a:pt x="104424" y="100386"/>
                  </a:lnTo>
                  <a:lnTo>
                    <a:pt x="102429" y="102432"/>
                  </a:lnTo>
                  <a:lnTo>
                    <a:pt x="100319" y="104440"/>
                  </a:lnTo>
                  <a:lnTo>
                    <a:pt x="98171" y="106332"/>
                  </a:lnTo>
                  <a:lnTo>
                    <a:pt x="95907" y="108108"/>
                  </a:lnTo>
                  <a:lnTo>
                    <a:pt x="93529" y="109768"/>
                  </a:lnTo>
                  <a:lnTo>
                    <a:pt x="91112" y="111312"/>
                  </a:lnTo>
                  <a:lnTo>
                    <a:pt x="88618" y="112779"/>
                  </a:lnTo>
                  <a:lnTo>
                    <a:pt x="86010" y="114131"/>
                  </a:lnTo>
                  <a:lnTo>
                    <a:pt x="83363" y="115289"/>
                  </a:lnTo>
                  <a:lnTo>
                    <a:pt x="80639" y="116370"/>
                  </a:lnTo>
                  <a:lnTo>
                    <a:pt x="77838" y="117335"/>
                  </a:lnTo>
                  <a:lnTo>
                    <a:pt x="75000" y="118146"/>
                  </a:lnTo>
                  <a:lnTo>
                    <a:pt x="72084" y="118803"/>
                  </a:lnTo>
                  <a:lnTo>
                    <a:pt x="69168" y="119343"/>
                  </a:lnTo>
                  <a:lnTo>
                    <a:pt x="66138" y="119729"/>
                  </a:lnTo>
                  <a:lnTo>
                    <a:pt x="63107" y="119922"/>
                  </a:lnTo>
                  <a:lnTo>
                    <a:pt x="60000" y="119999"/>
                  </a:lnTo>
                  <a:lnTo>
                    <a:pt x="56930" y="119922"/>
                  </a:lnTo>
                  <a:lnTo>
                    <a:pt x="53861" y="119729"/>
                  </a:lnTo>
                  <a:lnTo>
                    <a:pt x="50869" y="119343"/>
                  </a:lnTo>
                  <a:lnTo>
                    <a:pt x="47915" y="118803"/>
                  </a:lnTo>
                  <a:lnTo>
                    <a:pt x="45038" y="118146"/>
                  </a:lnTo>
                  <a:lnTo>
                    <a:pt x="42161" y="117335"/>
                  </a:lnTo>
                  <a:lnTo>
                    <a:pt x="39360" y="116370"/>
                  </a:lnTo>
                  <a:lnTo>
                    <a:pt x="36636" y="115289"/>
                  </a:lnTo>
                  <a:lnTo>
                    <a:pt x="33951" y="114131"/>
                  </a:lnTo>
                  <a:lnTo>
                    <a:pt x="31381" y="112779"/>
                  </a:lnTo>
                  <a:lnTo>
                    <a:pt x="28887" y="111312"/>
                  </a:lnTo>
                  <a:lnTo>
                    <a:pt x="26432" y="109768"/>
                  </a:lnTo>
                  <a:lnTo>
                    <a:pt x="24053" y="108108"/>
                  </a:lnTo>
                  <a:lnTo>
                    <a:pt x="21828" y="106332"/>
                  </a:lnTo>
                  <a:lnTo>
                    <a:pt x="19641" y="104440"/>
                  </a:lnTo>
                  <a:lnTo>
                    <a:pt x="17570" y="102432"/>
                  </a:lnTo>
                  <a:lnTo>
                    <a:pt x="15537" y="100386"/>
                  </a:lnTo>
                  <a:lnTo>
                    <a:pt x="13657" y="98185"/>
                  </a:lnTo>
                  <a:lnTo>
                    <a:pt x="11930" y="95907"/>
                  </a:lnTo>
                  <a:lnTo>
                    <a:pt x="10242" y="93590"/>
                  </a:lnTo>
                  <a:lnTo>
                    <a:pt x="8670" y="91119"/>
                  </a:lnTo>
                  <a:lnTo>
                    <a:pt x="7212" y="88610"/>
                  </a:lnTo>
                  <a:lnTo>
                    <a:pt x="5907" y="86023"/>
                  </a:lnTo>
                  <a:lnTo>
                    <a:pt x="4680" y="83397"/>
                  </a:lnTo>
                  <a:lnTo>
                    <a:pt x="3606" y="80694"/>
                  </a:lnTo>
                  <a:lnTo>
                    <a:pt x="2685" y="77915"/>
                  </a:lnTo>
                  <a:lnTo>
                    <a:pt x="1879" y="75057"/>
                  </a:lnTo>
                  <a:lnTo>
                    <a:pt x="1189" y="72123"/>
                  </a:lnTo>
                  <a:lnTo>
                    <a:pt x="690" y="69189"/>
                  </a:lnTo>
                  <a:lnTo>
                    <a:pt x="268" y="66177"/>
                  </a:lnTo>
                  <a:lnTo>
                    <a:pt x="76" y="63127"/>
                  </a:lnTo>
                  <a:lnTo>
                    <a:pt x="0" y="60038"/>
                  </a:lnTo>
                  <a:lnTo>
                    <a:pt x="76" y="56949"/>
                  </a:lnTo>
                  <a:lnTo>
                    <a:pt x="268" y="53899"/>
                  </a:lnTo>
                  <a:lnTo>
                    <a:pt x="690" y="50888"/>
                  </a:lnTo>
                  <a:lnTo>
                    <a:pt x="1189" y="47953"/>
                  </a:lnTo>
                  <a:lnTo>
                    <a:pt x="1879" y="45057"/>
                  </a:lnTo>
                  <a:lnTo>
                    <a:pt x="2685" y="42200"/>
                  </a:lnTo>
                  <a:lnTo>
                    <a:pt x="3606" y="39420"/>
                  </a:lnTo>
                  <a:lnTo>
                    <a:pt x="4680" y="36718"/>
                  </a:lnTo>
                  <a:lnTo>
                    <a:pt x="5907" y="34015"/>
                  </a:lnTo>
                  <a:lnTo>
                    <a:pt x="7212" y="31428"/>
                  </a:lnTo>
                  <a:lnTo>
                    <a:pt x="8670" y="28957"/>
                  </a:lnTo>
                  <a:lnTo>
                    <a:pt x="10242" y="26486"/>
                  </a:lnTo>
                  <a:lnTo>
                    <a:pt x="11930" y="24131"/>
                  </a:lnTo>
                  <a:lnTo>
                    <a:pt x="13657" y="21891"/>
                  </a:lnTo>
                  <a:lnTo>
                    <a:pt x="15537" y="19729"/>
                  </a:lnTo>
                  <a:lnTo>
                    <a:pt x="17570" y="17644"/>
                  </a:lnTo>
                  <a:lnTo>
                    <a:pt x="19641" y="15637"/>
                  </a:lnTo>
                  <a:lnTo>
                    <a:pt x="21828" y="13745"/>
                  </a:lnTo>
                  <a:lnTo>
                    <a:pt x="24053" y="11969"/>
                  </a:lnTo>
                  <a:lnTo>
                    <a:pt x="26432" y="10270"/>
                  </a:lnTo>
                  <a:lnTo>
                    <a:pt x="28887" y="8725"/>
                  </a:lnTo>
                  <a:lnTo>
                    <a:pt x="31381" y="7297"/>
                  </a:lnTo>
                  <a:lnTo>
                    <a:pt x="33951" y="5945"/>
                  </a:lnTo>
                  <a:lnTo>
                    <a:pt x="36636" y="4749"/>
                  </a:lnTo>
                  <a:lnTo>
                    <a:pt x="39360" y="3706"/>
                  </a:lnTo>
                  <a:lnTo>
                    <a:pt x="42161" y="2741"/>
                  </a:lnTo>
                  <a:lnTo>
                    <a:pt x="45038" y="1930"/>
                  </a:lnTo>
                  <a:lnTo>
                    <a:pt x="47915" y="1274"/>
                  </a:lnTo>
                  <a:lnTo>
                    <a:pt x="50869" y="733"/>
                  </a:lnTo>
                  <a:lnTo>
                    <a:pt x="53861" y="347"/>
                  </a:lnTo>
                  <a:lnTo>
                    <a:pt x="56930" y="115"/>
                  </a:lnTo>
                  <a:lnTo>
                    <a:pt x="60000" y="0"/>
                  </a:lnTo>
                  <a:lnTo>
                    <a:pt x="63107" y="115"/>
                  </a:lnTo>
                  <a:lnTo>
                    <a:pt x="66138" y="347"/>
                  </a:lnTo>
                  <a:lnTo>
                    <a:pt x="69168" y="733"/>
                  </a:lnTo>
                  <a:lnTo>
                    <a:pt x="72084" y="1274"/>
                  </a:lnTo>
                  <a:lnTo>
                    <a:pt x="75000" y="1930"/>
                  </a:lnTo>
                  <a:lnTo>
                    <a:pt x="77838" y="2741"/>
                  </a:lnTo>
                  <a:lnTo>
                    <a:pt x="80639" y="3706"/>
                  </a:lnTo>
                  <a:lnTo>
                    <a:pt x="83363" y="4749"/>
                  </a:lnTo>
                  <a:lnTo>
                    <a:pt x="86010" y="5945"/>
                  </a:lnTo>
                  <a:lnTo>
                    <a:pt x="88618" y="7297"/>
                  </a:lnTo>
                  <a:lnTo>
                    <a:pt x="91112" y="8725"/>
                  </a:lnTo>
                  <a:lnTo>
                    <a:pt x="93529" y="10270"/>
                  </a:lnTo>
                  <a:lnTo>
                    <a:pt x="95907" y="11969"/>
                  </a:lnTo>
                  <a:lnTo>
                    <a:pt x="98171" y="13745"/>
                  </a:lnTo>
                  <a:lnTo>
                    <a:pt x="100319" y="15637"/>
                  </a:lnTo>
                  <a:lnTo>
                    <a:pt x="102429" y="17644"/>
                  </a:lnTo>
                  <a:lnTo>
                    <a:pt x="104424" y="19729"/>
                  </a:lnTo>
                  <a:lnTo>
                    <a:pt x="106304" y="21891"/>
                  </a:lnTo>
                  <a:lnTo>
                    <a:pt x="108069" y="24131"/>
                  </a:lnTo>
                  <a:lnTo>
                    <a:pt x="109718" y="26486"/>
                  </a:lnTo>
                  <a:lnTo>
                    <a:pt x="111329" y="28957"/>
                  </a:lnTo>
                  <a:lnTo>
                    <a:pt x="112749" y="31428"/>
                  </a:lnTo>
                  <a:lnTo>
                    <a:pt x="114053" y="34015"/>
                  </a:lnTo>
                  <a:lnTo>
                    <a:pt x="115281" y="36718"/>
                  </a:lnTo>
                  <a:lnTo>
                    <a:pt x="116355" y="39420"/>
                  </a:lnTo>
                  <a:lnTo>
                    <a:pt x="117276" y="42200"/>
                  </a:lnTo>
                  <a:lnTo>
                    <a:pt x="118120" y="45057"/>
                  </a:lnTo>
                  <a:lnTo>
                    <a:pt x="118772" y="47953"/>
                  </a:lnTo>
                  <a:lnTo>
                    <a:pt x="119309" y="50888"/>
                  </a:lnTo>
                  <a:lnTo>
                    <a:pt x="119693" y="53899"/>
                  </a:lnTo>
                  <a:lnTo>
                    <a:pt x="119923" y="56949"/>
                  </a:lnTo>
                  <a:lnTo>
                    <a:pt x="120000" y="60038"/>
                  </a:lnTo>
                  <a:close/>
                </a:path>
              </a:pathLst>
            </a:custGeom>
            <a:solidFill>
              <a:srgbClr val="5e5ca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32" name="任意多边形 264"/>
            <p:cNvSpPr/>
            <p:nvPr/>
          </p:nvSpPr>
          <p:spPr>
            <a:xfrm flipH="1">
              <a:off x="865800" y="4050000"/>
              <a:ext cx="488520" cy="482400"/>
            </a:xfrm>
            <a:custGeom>
              <a:avLst/>
              <a:gdLst/>
              <a:ahLst/>
              <a:rect l="l" t="t" r="r" b="b"/>
              <a:pathLst>
                <a:path w="120000" h="120000">
                  <a:moveTo>
                    <a:pt x="120000" y="59972"/>
                  </a:moveTo>
                  <a:lnTo>
                    <a:pt x="119945" y="63088"/>
                  </a:lnTo>
                  <a:lnTo>
                    <a:pt x="119674" y="66095"/>
                  </a:lnTo>
                  <a:lnTo>
                    <a:pt x="119294" y="69157"/>
                  </a:lnTo>
                  <a:lnTo>
                    <a:pt x="118751" y="72109"/>
                  </a:lnTo>
                  <a:lnTo>
                    <a:pt x="118100" y="75006"/>
                  </a:lnTo>
                  <a:lnTo>
                    <a:pt x="117286" y="77904"/>
                  </a:lnTo>
                  <a:lnTo>
                    <a:pt x="116309" y="80637"/>
                  </a:lnTo>
                  <a:lnTo>
                    <a:pt x="115278" y="83371"/>
                  </a:lnTo>
                  <a:lnTo>
                    <a:pt x="114084" y="86050"/>
                  </a:lnTo>
                  <a:lnTo>
                    <a:pt x="112727" y="88619"/>
                  </a:lnTo>
                  <a:lnTo>
                    <a:pt x="111316" y="91134"/>
                  </a:lnTo>
                  <a:lnTo>
                    <a:pt x="109687" y="93594"/>
                  </a:lnTo>
                  <a:lnTo>
                    <a:pt x="108059" y="95890"/>
                  </a:lnTo>
                  <a:lnTo>
                    <a:pt x="106268" y="98186"/>
                  </a:lnTo>
                  <a:lnTo>
                    <a:pt x="104369" y="100373"/>
                  </a:lnTo>
                  <a:lnTo>
                    <a:pt x="102360" y="102451"/>
                  </a:lnTo>
                  <a:lnTo>
                    <a:pt x="100298" y="104419"/>
                  </a:lnTo>
                  <a:lnTo>
                    <a:pt x="98127" y="106332"/>
                  </a:lnTo>
                  <a:lnTo>
                    <a:pt x="95902" y="108082"/>
                  </a:lnTo>
                  <a:lnTo>
                    <a:pt x="93514" y="109776"/>
                  </a:lnTo>
                  <a:lnTo>
                    <a:pt x="91126" y="111307"/>
                  </a:lnTo>
                  <a:lnTo>
                    <a:pt x="88575" y="112783"/>
                  </a:lnTo>
                  <a:lnTo>
                    <a:pt x="85970" y="114095"/>
                  </a:lnTo>
                  <a:lnTo>
                    <a:pt x="83310" y="115298"/>
                  </a:lnTo>
                  <a:lnTo>
                    <a:pt x="80597" y="116337"/>
                  </a:lnTo>
                  <a:lnTo>
                    <a:pt x="77829" y="117321"/>
                  </a:lnTo>
                  <a:lnTo>
                    <a:pt x="74952" y="118141"/>
                  </a:lnTo>
                  <a:lnTo>
                    <a:pt x="72075" y="118797"/>
                  </a:lnTo>
                  <a:lnTo>
                    <a:pt x="69145" y="119289"/>
                  </a:lnTo>
                  <a:lnTo>
                    <a:pt x="66105" y="119726"/>
                  </a:lnTo>
                  <a:lnTo>
                    <a:pt x="63066" y="119945"/>
                  </a:lnTo>
                  <a:lnTo>
                    <a:pt x="59972" y="120000"/>
                  </a:lnTo>
                  <a:lnTo>
                    <a:pt x="56933" y="119945"/>
                  </a:lnTo>
                  <a:lnTo>
                    <a:pt x="53839" y="119726"/>
                  </a:lnTo>
                  <a:lnTo>
                    <a:pt x="50800" y="119289"/>
                  </a:lnTo>
                  <a:lnTo>
                    <a:pt x="47869" y="118797"/>
                  </a:lnTo>
                  <a:lnTo>
                    <a:pt x="44993" y="118141"/>
                  </a:lnTo>
                  <a:lnTo>
                    <a:pt x="42116" y="117321"/>
                  </a:lnTo>
                  <a:lnTo>
                    <a:pt x="39348" y="116337"/>
                  </a:lnTo>
                  <a:lnTo>
                    <a:pt x="36635" y="115298"/>
                  </a:lnTo>
                  <a:lnTo>
                    <a:pt x="33921" y="114095"/>
                  </a:lnTo>
                  <a:lnTo>
                    <a:pt x="31370" y="112783"/>
                  </a:lnTo>
                  <a:lnTo>
                    <a:pt x="28873" y="111307"/>
                  </a:lnTo>
                  <a:lnTo>
                    <a:pt x="26431" y="109776"/>
                  </a:lnTo>
                  <a:lnTo>
                    <a:pt x="24097" y="108082"/>
                  </a:lnTo>
                  <a:lnTo>
                    <a:pt x="21818" y="106332"/>
                  </a:lnTo>
                  <a:lnTo>
                    <a:pt x="19647" y="104419"/>
                  </a:lnTo>
                  <a:lnTo>
                    <a:pt x="17584" y="102451"/>
                  </a:lnTo>
                  <a:lnTo>
                    <a:pt x="15576" y="100373"/>
                  </a:lnTo>
                  <a:lnTo>
                    <a:pt x="13677" y="98186"/>
                  </a:lnTo>
                  <a:lnTo>
                    <a:pt x="11886" y="95890"/>
                  </a:lnTo>
                  <a:lnTo>
                    <a:pt x="10257" y="93594"/>
                  </a:lnTo>
                  <a:lnTo>
                    <a:pt x="8629" y="91134"/>
                  </a:lnTo>
                  <a:lnTo>
                    <a:pt x="7218" y="88619"/>
                  </a:lnTo>
                  <a:lnTo>
                    <a:pt x="5861" y="86050"/>
                  </a:lnTo>
                  <a:lnTo>
                    <a:pt x="4721" y="83371"/>
                  </a:lnTo>
                  <a:lnTo>
                    <a:pt x="3636" y="80637"/>
                  </a:lnTo>
                  <a:lnTo>
                    <a:pt x="2713" y="77904"/>
                  </a:lnTo>
                  <a:lnTo>
                    <a:pt x="1845" y="75006"/>
                  </a:lnTo>
                  <a:lnTo>
                    <a:pt x="1194" y="72109"/>
                  </a:lnTo>
                  <a:lnTo>
                    <a:pt x="705" y="69157"/>
                  </a:lnTo>
                  <a:lnTo>
                    <a:pt x="271" y="66095"/>
                  </a:lnTo>
                  <a:lnTo>
                    <a:pt x="54" y="63088"/>
                  </a:lnTo>
                  <a:lnTo>
                    <a:pt x="0" y="59972"/>
                  </a:lnTo>
                  <a:lnTo>
                    <a:pt x="54" y="56911"/>
                  </a:lnTo>
                  <a:lnTo>
                    <a:pt x="271" y="53904"/>
                  </a:lnTo>
                  <a:lnTo>
                    <a:pt x="705" y="50897"/>
                  </a:lnTo>
                  <a:lnTo>
                    <a:pt x="1194" y="47945"/>
                  </a:lnTo>
                  <a:lnTo>
                    <a:pt x="1845" y="45047"/>
                  </a:lnTo>
                  <a:lnTo>
                    <a:pt x="2713" y="42150"/>
                  </a:lnTo>
                  <a:lnTo>
                    <a:pt x="3636" y="39362"/>
                  </a:lnTo>
                  <a:lnTo>
                    <a:pt x="4721" y="36628"/>
                  </a:lnTo>
                  <a:lnTo>
                    <a:pt x="5861" y="33949"/>
                  </a:lnTo>
                  <a:lnTo>
                    <a:pt x="7218" y="31380"/>
                  </a:lnTo>
                  <a:lnTo>
                    <a:pt x="8629" y="28865"/>
                  </a:lnTo>
                  <a:lnTo>
                    <a:pt x="10257" y="26460"/>
                  </a:lnTo>
                  <a:lnTo>
                    <a:pt x="11886" y="24109"/>
                  </a:lnTo>
                  <a:lnTo>
                    <a:pt x="13677" y="21813"/>
                  </a:lnTo>
                  <a:lnTo>
                    <a:pt x="15576" y="19681"/>
                  </a:lnTo>
                  <a:lnTo>
                    <a:pt x="17584" y="17548"/>
                  </a:lnTo>
                  <a:lnTo>
                    <a:pt x="19647" y="15580"/>
                  </a:lnTo>
                  <a:lnTo>
                    <a:pt x="21818" y="13722"/>
                  </a:lnTo>
                  <a:lnTo>
                    <a:pt x="24097" y="11917"/>
                  </a:lnTo>
                  <a:lnTo>
                    <a:pt x="26431" y="10223"/>
                  </a:lnTo>
                  <a:lnTo>
                    <a:pt x="28873" y="8692"/>
                  </a:lnTo>
                  <a:lnTo>
                    <a:pt x="31370" y="7216"/>
                  </a:lnTo>
                  <a:lnTo>
                    <a:pt x="33921" y="5904"/>
                  </a:lnTo>
                  <a:lnTo>
                    <a:pt x="36635" y="4701"/>
                  </a:lnTo>
                  <a:lnTo>
                    <a:pt x="39348" y="3662"/>
                  </a:lnTo>
                  <a:lnTo>
                    <a:pt x="42116" y="2733"/>
                  </a:lnTo>
                  <a:lnTo>
                    <a:pt x="44993" y="1913"/>
                  </a:lnTo>
                  <a:lnTo>
                    <a:pt x="47869" y="1257"/>
                  </a:lnTo>
                  <a:lnTo>
                    <a:pt x="50800" y="710"/>
                  </a:lnTo>
                  <a:lnTo>
                    <a:pt x="53839" y="273"/>
                  </a:lnTo>
                  <a:lnTo>
                    <a:pt x="56933" y="54"/>
                  </a:lnTo>
                  <a:lnTo>
                    <a:pt x="59972" y="0"/>
                  </a:lnTo>
                  <a:lnTo>
                    <a:pt x="63066" y="54"/>
                  </a:lnTo>
                  <a:lnTo>
                    <a:pt x="66105" y="273"/>
                  </a:lnTo>
                  <a:lnTo>
                    <a:pt x="69145" y="710"/>
                  </a:lnTo>
                  <a:lnTo>
                    <a:pt x="72075" y="1257"/>
                  </a:lnTo>
                  <a:lnTo>
                    <a:pt x="74952" y="1913"/>
                  </a:lnTo>
                  <a:lnTo>
                    <a:pt x="77829" y="2733"/>
                  </a:lnTo>
                  <a:lnTo>
                    <a:pt x="80597" y="3662"/>
                  </a:lnTo>
                  <a:lnTo>
                    <a:pt x="83310" y="4701"/>
                  </a:lnTo>
                  <a:lnTo>
                    <a:pt x="85970" y="5904"/>
                  </a:lnTo>
                  <a:lnTo>
                    <a:pt x="88575" y="7216"/>
                  </a:lnTo>
                  <a:lnTo>
                    <a:pt x="91126" y="8692"/>
                  </a:lnTo>
                  <a:lnTo>
                    <a:pt x="93514" y="10223"/>
                  </a:lnTo>
                  <a:lnTo>
                    <a:pt x="95902" y="11917"/>
                  </a:lnTo>
                  <a:lnTo>
                    <a:pt x="98127" y="13722"/>
                  </a:lnTo>
                  <a:lnTo>
                    <a:pt x="100298" y="15580"/>
                  </a:lnTo>
                  <a:lnTo>
                    <a:pt x="102360" y="17548"/>
                  </a:lnTo>
                  <a:lnTo>
                    <a:pt x="104369" y="19681"/>
                  </a:lnTo>
                  <a:lnTo>
                    <a:pt x="106268" y="21813"/>
                  </a:lnTo>
                  <a:lnTo>
                    <a:pt x="108059" y="24109"/>
                  </a:lnTo>
                  <a:lnTo>
                    <a:pt x="109687" y="26460"/>
                  </a:lnTo>
                  <a:lnTo>
                    <a:pt x="111316" y="28865"/>
                  </a:lnTo>
                  <a:lnTo>
                    <a:pt x="112727" y="31380"/>
                  </a:lnTo>
                  <a:lnTo>
                    <a:pt x="114084" y="33949"/>
                  </a:lnTo>
                  <a:lnTo>
                    <a:pt x="115278" y="36628"/>
                  </a:lnTo>
                  <a:lnTo>
                    <a:pt x="116309" y="39362"/>
                  </a:lnTo>
                  <a:lnTo>
                    <a:pt x="117286" y="42150"/>
                  </a:lnTo>
                  <a:lnTo>
                    <a:pt x="118100" y="45047"/>
                  </a:lnTo>
                  <a:lnTo>
                    <a:pt x="118751" y="47945"/>
                  </a:lnTo>
                  <a:lnTo>
                    <a:pt x="119294" y="50897"/>
                  </a:lnTo>
                  <a:lnTo>
                    <a:pt x="119674" y="53904"/>
                  </a:lnTo>
                  <a:lnTo>
                    <a:pt x="119945" y="56911"/>
                  </a:lnTo>
                  <a:lnTo>
                    <a:pt x="120000" y="59972"/>
                  </a:lnTo>
                  <a:close/>
                </a:path>
              </a:pathLst>
            </a:custGeom>
            <a:solidFill>
              <a:srgbClr val="1891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33" name="任意多边形 265"/>
            <p:cNvSpPr/>
            <p:nvPr/>
          </p:nvSpPr>
          <p:spPr>
            <a:xfrm flipH="1">
              <a:off x="1240200" y="2976480"/>
              <a:ext cx="1012320" cy="999720"/>
            </a:xfrm>
            <a:custGeom>
              <a:avLst/>
              <a:gdLst/>
              <a:ahLst/>
              <a:rect l="l" t="t" r="r" b="b"/>
              <a:pathLst>
                <a:path w="120000" h="120000">
                  <a:moveTo>
                    <a:pt x="120000" y="59973"/>
                  </a:moveTo>
                  <a:lnTo>
                    <a:pt x="119921" y="63059"/>
                  </a:lnTo>
                  <a:lnTo>
                    <a:pt x="119685" y="66118"/>
                  </a:lnTo>
                  <a:lnTo>
                    <a:pt x="119318" y="69098"/>
                  </a:lnTo>
                  <a:lnTo>
                    <a:pt x="118768" y="72079"/>
                  </a:lnTo>
                  <a:lnTo>
                    <a:pt x="118113" y="74980"/>
                  </a:lnTo>
                  <a:lnTo>
                    <a:pt x="117327" y="77828"/>
                  </a:lnTo>
                  <a:lnTo>
                    <a:pt x="116358" y="80624"/>
                  </a:lnTo>
                  <a:lnTo>
                    <a:pt x="115283" y="83340"/>
                  </a:lnTo>
                  <a:lnTo>
                    <a:pt x="114104" y="85978"/>
                  </a:lnTo>
                  <a:lnTo>
                    <a:pt x="112768" y="88562"/>
                  </a:lnTo>
                  <a:lnTo>
                    <a:pt x="111301" y="91094"/>
                  </a:lnTo>
                  <a:lnTo>
                    <a:pt x="109755" y="93547"/>
                  </a:lnTo>
                  <a:lnTo>
                    <a:pt x="108078" y="95868"/>
                  </a:lnTo>
                  <a:lnTo>
                    <a:pt x="106323" y="98162"/>
                  </a:lnTo>
                  <a:lnTo>
                    <a:pt x="104410" y="100325"/>
                  </a:lnTo>
                  <a:lnTo>
                    <a:pt x="102445" y="102408"/>
                  </a:lnTo>
                  <a:lnTo>
                    <a:pt x="100349" y="104386"/>
                  </a:lnTo>
                  <a:lnTo>
                    <a:pt x="98148" y="106285"/>
                  </a:lnTo>
                  <a:lnTo>
                    <a:pt x="95895" y="108079"/>
                  </a:lnTo>
                  <a:lnTo>
                    <a:pt x="93537" y="109740"/>
                  </a:lnTo>
                  <a:lnTo>
                    <a:pt x="91126" y="111296"/>
                  </a:lnTo>
                  <a:lnTo>
                    <a:pt x="88611" y="112747"/>
                  </a:lnTo>
                  <a:lnTo>
                    <a:pt x="86017" y="114065"/>
                  </a:lnTo>
                  <a:lnTo>
                    <a:pt x="83371" y="115252"/>
                  </a:lnTo>
                  <a:lnTo>
                    <a:pt x="80620" y="116334"/>
                  </a:lnTo>
                  <a:lnTo>
                    <a:pt x="77842" y="117283"/>
                  </a:lnTo>
                  <a:lnTo>
                    <a:pt x="75013" y="118074"/>
                  </a:lnTo>
                  <a:lnTo>
                    <a:pt x="72104" y="118760"/>
                  </a:lnTo>
                  <a:lnTo>
                    <a:pt x="69144" y="119287"/>
                  </a:lnTo>
                  <a:lnTo>
                    <a:pt x="66131" y="119683"/>
                  </a:lnTo>
                  <a:lnTo>
                    <a:pt x="63091" y="119894"/>
                  </a:lnTo>
                  <a:lnTo>
                    <a:pt x="60000" y="120000"/>
                  </a:lnTo>
                  <a:lnTo>
                    <a:pt x="56908" y="119894"/>
                  </a:lnTo>
                  <a:lnTo>
                    <a:pt x="53842" y="119683"/>
                  </a:lnTo>
                  <a:lnTo>
                    <a:pt x="50855" y="119287"/>
                  </a:lnTo>
                  <a:lnTo>
                    <a:pt x="47921" y="118760"/>
                  </a:lnTo>
                  <a:lnTo>
                    <a:pt x="45013" y="118074"/>
                  </a:lnTo>
                  <a:lnTo>
                    <a:pt x="42157" y="117283"/>
                  </a:lnTo>
                  <a:lnTo>
                    <a:pt x="39379" y="116334"/>
                  </a:lnTo>
                  <a:lnTo>
                    <a:pt x="36628" y="115252"/>
                  </a:lnTo>
                  <a:lnTo>
                    <a:pt x="33982" y="114065"/>
                  </a:lnTo>
                  <a:lnTo>
                    <a:pt x="31388" y="112747"/>
                  </a:lnTo>
                  <a:lnTo>
                    <a:pt x="28873" y="111296"/>
                  </a:lnTo>
                  <a:lnTo>
                    <a:pt x="26462" y="109740"/>
                  </a:lnTo>
                  <a:lnTo>
                    <a:pt x="24078" y="108079"/>
                  </a:lnTo>
                  <a:lnTo>
                    <a:pt x="21825" y="106285"/>
                  </a:lnTo>
                  <a:lnTo>
                    <a:pt x="19676" y="104386"/>
                  </a:lnTo>
                  <a:lnTo>
                    <a:pt x="17554" y="102408"/>
                  </a:lnTo>
                  <a:lnTo>
                    <a:pt x="15589" y="100325"/>
                  </a:lnTo>
                  <a:lnTo>
                    <a:pt x="13703" y="98162"/>
                  </a:lnTo>
                  <a:lnTo>
                    <a:pt x="11921" y="95868"/>
                  </a:lnTo>
                  <a:lnTo>
                    <a:pt x="10218" y="93547"/>
                  </a:lnTo>
                  <a:lnTo>
                    <a:pt x="8698" y="91094"/>
                  </a:lnTo>
                  <a:lnTo>
                    <a:pt x="7231" y="88562"/>
                  </a:lnTo>
                  <a:lnTo>
                    <a:pt x="5895" y="85978"/>
                  </a:lnTo>
                  <a:lnTo>
                    <a:pt x="4689" y="83340"/>
                  </a:lnTo>
                  <a:lnTo>
                    <a:pt x="3641" y="80624"/>
                  </a:lnTo>
                  <a:lnTo>
                    <a:pt x="2698" y="77828"/>
                  </a:lnTo>
                  <a:lnTo>
                    <a:pt x="1886" y="74980"/>
                  </a:lnTo>
                  <a:lnTo>
                    <a:pt x="1231" y="72079"/>
                  </a:lnTo>
                  <a:lnTo>
                    <a:pt x="681" y="69098"/>
                  </a:lnTo>
                  <a:lnTo>
                    <a:pt x="314" y="66118"/>
                  </a:lnTo>
                  <a:lnTo>
                    <a:pt x="78" y="63059"/>
                  </a:lnTo>
                  <a:lnTo>
                    <a:pt x="0" y="59973"/>
                  </a:lnTo>
                  <a:lnTo>
                    <a:pt x="78" y="56914"/>
                  </a:lnTo>
                  <a:lnTo>
                    <a:pt x="314" y="53854"/>
                  </a:lnTo>
                  <a:lnTo>
                    <a:pt x="681" y="50821"/>
                  </a:lnTo>
                  <a:lnTo>
                    <a:pt x="1231" y="47894"/>
                  </a:lnTo>
                  <a:lnTo>
                    <a:pt x="1886" y="44993"/>
                  </a:lnTo>
                  <a:lnTo>
                    <a:pt x="2698" y="42145"/>
                  </a:lnTo>
                  <a:lnTo>
                    <a:pt x="3641" y="39349"/>
                  </a:lnTo>
                  <a:lnTo>
                    <a:pt x="4689" y="36632"/>
                  </a:lnTo>
                  <a:lnTo>
                    <a:pt x="5895" y="33969"/>
                  </a:lnTo>
                  <a:lnTo>
                    <a:pt x="7231" y="31384"/>
                  </a:lnTo>
                  <a:lnTo>
                    <a:pt x="8698" y="28879"/>
                  </a:lnTo>
                  <a:lnTo>
                    <a:pt x="10218" y="26426"/>
                  </a:lnTo>
                  <a:lnTo>
                    <a:pt x="11921" y="24079"/>
                  </a:lnTo>
                  <a:lnTo>
                    <a:pt x="13703" y="21810"/>
                  </a:lnTo>
                  <a:lnTo>
                    <a:pt x="15589" y="19648"/>
                  </a:lnTo>
                  <a:lnTo>
                    <a:pt x="17554" y="17564"/>
                  </a:lnTo>
                  <a:lnTo>
                    <a:pt x="19650" y="15560"/>
                  </a:lnTo>
                  <a:lnTo>
                    <a:pt x="21825" y="13687"/>
                  </a:lnTo>
                  <a:lnTo>
                    <a:pt x="24078" y="11920"/>
                  </a:lnTo>
                  <a:lnTo>
                    <a:pt x="26462" y="10232"/>
                  </a:lnTo>
                  <a:lnTo>
                    <a:pt x="28873" y="8703"/>
                  </a:lnTo>
                  <a:lnTo>
                    <a:pt x="31388" y="7252"/>
                  </a:lnTo>
                  <a:lnTo>
                    <a:pt x="33982" y="5907"/>
                  </a:lnTo>
                  <a:lnTo>
                    <a:pt x="36628" y="4694"/>
                  </a:lnTo>
                  <a:lnTo>
                    <a:pt x="39379" y="3639"/>
                  </a:lnTo>
                  <a:lnTo>
                    <a:pt x="42157" y="2716"/>
                  </a:lnTo>
                  <a:lnTo>
                    <a:pt x="45013" y="1872"/>
                  </a:lnTo>
                  <a:lnTo>
                    <a:pt x="47921" y="1213"/>
                  </a:lnTo>
                  <a:lnTo>
                    <a:pt x="50855" y="685"/>
                  </a:lnTo>
                  <a:lnTo>
                    <a:pt x="53842" y="316"/>
                  </a:lnTo>
                  <a:lnTo>
                    <a:pt x="56908" y="79"/>
                  </a:lnTo>
                  <a:lnTo>
                    <a:pt x="60000" y="0"/>
                  </a:lnTo>
                  <a:lnTo>
                    <a:pt x="63091" y="79"/>
                  </a:lnTo>
                  <a:lnTo>
                    <a:pt x="66131" y="316"/>
                  </a:lnTo>
                  <a:lnTo>
                    <a:pt x="69144" y="685"/>
                  </a:lnTo>
                  <a:lnTo>
                    <a:pt x="72104" y="1213"/>
                  </a:lnTo>
                  <a:lnTo>
                    <a:pt x="75013" y="1872"/>
                  </a:lnTo>
                  <a:lnTo>
                    <a:pt x="77842" y="2716"/>
                  </a:lnTo>
                  <a:lnTo>
                    <a:pt x="80620" y="3639"/>
                  </a:lnTo>
                  <a:lnTo>
                    <a:pt x="83371" y="4694"/>
                  </a:lnTo>
                  <a:lnTo>
                    <a:pt x="86017" y="5907"/>
                  </a:lnTo>
                  <a:lnTo>
                    <a:pt x="88611" y="7252"/>
                  </a:lnTo>
                  <a:lnTo>
                    <a:pt x="91126" y="8703"/>
                  </a:lnTo>
                  <a:lnTo>
                    <a:pt x="93537" y="10232"/>
                  </a:lnTo>
                  <a:lnTo>
                    <a:pt x="95895" y="11920"/>
                  </a:lnTo>
                  <a:lnTo>
                    <a:pt x="98148" y="13687"/>
                  </a:lnTo>
                  <a:lnTo>
                    <a:pt x="100349" y="15560"/>
                  </a:lnTo>
                  <a:lnTo>
                    <a:pt x="102445" y="17564"/>
                  </a:lnTo>
                  <a:lnTo>
                    <a:pt x="104410" y="19648"/>
                  </a:lnTo>
                  <a:lnTo>
                    <a:pt x="106323" y="21810"/>
                  </a:lnTo>
                  <a:lnTo>
                    <a:pt x="108078" y="24079"/>
                  </a:lnTo>
                  <a:lnTo>
                    <a:pt x="109755" y="26426"/>
                  </a:lnTo>
                  <a:lnTo>
                    <a:pt x="111301" y="28879"/>
                  </a:lnTo>
                  <a:lnTo>
                    <a:pt x="112768" y="31384"/>
                  </a:lnTo>
                  <a:lnTo>
                    <a:pt x="114104" y="33969"/>
                  </a:lnTo>
                  <a:lnTo>
                    <a:pt x="115283" y="36632"/>
                  </a:lnTo>
                  <a:lnTo>
                    <a:pt x="116358" y="39349"/>
                  </a:lnTo>
                  <a:lnTo>
                    <a:pt x="117327" y="42145"/>
                  </a:lnTo>
                  <a:lnTo>
                    <a:pt x="118113" y="44993"/>
                  </a:lnTo>
                  <a:lnTo>
                    <a:pt x="118768" y="47894"/>
                  </a:lnTo>
                  <a:lnTo>
                    <a:pt x="119318" y="50821"/>
                  </a:lnTo>
                  <a:lnTo>
                    <a:pt x="119685" y="53854"/>
                  </a:lnTo>
                  <a:lnTo>
                    <a:pt x="119921" y="56914"/>
                  </a:lnTo>
                  <a:lnTo>
                    <a:pt x="120000" y="59973"/>
                  </a:lnTo>
                  <a:close/>
                </a:path>
              </a:pathLst>
            </a:custGeom>
            <a:solidFill>
              <a:srgbClr val="4276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34" name="任意多边形 266"/>
            <p:cNvSpPr/>
            <p:nvPr/>
          </p:nvSpPr>
          <p:spPr>
            <a:xfrm flipH="1">
              <a:off x="660600" y="3479760"/>
              <a:ext cx="506880" cy="500040"/>
            </a:xfrm>
            <a:custGeom>
              <a:avLst/>
              <a:gdLst/>
              <a:ahLst/>
              <a:rect l="l" t="t" r="r" b="b"/>
              <a:pathLst>
                <a:path w="120000" h="120000">
                  <a:moveTo>
                    <a:pt x="120000" y="60052"/>
                  </a:moveTo>
                  <a:lnTo>
                    <a:pt x="119895" y="63107"/>
                  </a:lnTo>
                  <a:lnTo>
                    <a:pt x="119686" y="66110"/>
                  </a:lnTo>
                  <a:lnTo>
                    <a:pt x="119267" y="69165"/>
                  </a:lnTo>
                  <a:lnTo>
                    <a:pt x="118744" y="72115"/>
                  </a:lnTo>
                  <a:lnTo>
                    <a:pt x="118063" y="75013"/>
                  </a:lnTo>
                  <a:lnTo>
                    <a:pt x="117278" y="77857"/>
                  </a:lnTo>
                  <a:lnTo>
                    <a:pt x="116336" y="80649"/>
                  </a:lnTo>
                  <a:lnTo>
                    <a:pt x="115290" y="83388"/>
                  </a:lnTo>
                  <a:lnTo>
                    <a:pt x="114086" y="86022"/>
                  </a:lnTo>
                  <a:lnTo>
                    <a:pt x="112725" y="88604"/>
                  </a:lnTo>
                  <a:lnTo>
                    <a:pt x="111312" y="91132"/>
                  </a:lnTo>
                  <a:lnTo>
                    <a:pt x="109742" y="93503"/>
                  </a:lnTo>
                  <a:lnTo>
                    <a:pt x="108068" y="95926"/>
                  </a:lnTo>
                  <a:lnTo>
                    <a:pt x="106288" y="98191"/>
                  </a:lnTo>
                  <a:lnTo>
                    <a:pt x="104404" y="100351"/>
                  </a:lnTo>
                  <a:lnTo>
                    <a:pt x="102416" y="102405"/>
                  </a:lnTo>
                  <a:lnTo>
                    <a:pt x="100322" y="104407"/>
                  </a:lnTo>
                  <a:lnTo>
                    <a:pt x="98124" y="106251"/>
                  </a:lnTo>
                  <a:lnTo>
                    <a:pt x="95874" y="108094"/>
                  </a:lnTo>
                  <a:lnTo>
                    <a:pt x="93519" y="109727"/>
                  </a:lnTo>
                  <a:lnTo>
                    <a:pt x="91059" y="111255"/>
                  </a:lnTo>
                  <a:lnTo>
                    <a:pt x="88547" y="112783"/>
                  </a:lnTo>
                  <a:lnTo>
                    <a:pt x="85983" y="114047"/>
                  </a:lnTo>
                  <a:lnTo>
                    <a:pt x="83314" y="115258"/>
                  </a:lnTo>
                  <a:lnTo>
                    <a:pt x="80593" y="116365"/>
                  </a:lnTo>
                  <a:lnTo>
                    <a:pt x="77819" y="117313"/>
                  </a:lnTo>
                  <a:lnTo>
                    <a:pt x="74941" y="118103"/>
                  </a:lnTo>
                  <a:lnTo>
                    <a:pt x="72062" y="118788"/>
                  </a:lnTo>
                  <a:lnTo>
                    <a:pt x="69132" y="119315"/>
                  </a:lnTo>
                  <a:lnTo>
                    <a:pt x="66149" y="119683"/>
                  </a:lnTo>
                  <a:lnTo>
                    <a:pt x="63061" y="119947"/>
                  </a:lnTo>
                  <a:lnTo>
                    <a:pt x="59973" y="120000"/>
                  </a:lnTo>
                  <a:lnTo>
                    <a:pt x="56886" y="119947"/>
                  </a:lnTo>
                  <a:lnTo>
                    <a:pt x="53850" y="119683"/>
                  </a:lnTo>
                  <a:lnTo>
                    <a:pt x="50867" y="119315"/>
                  </a:lnTo>
                  <a:lnTo>
                    <a:pt x="47937" y="118788"/>
                  </a:lnTo>
                  <a:lnTo>
                    <a:pt x="45006" y="118103"/>
                  </a:lnTo>
                  <a:lnTo>
                    <a:pt x="42180" y="117313"/>
                  </a:lnTo>
                  <a:lnTo>
                    <a:pt x="39354" y="116365"/>
                  </a:lnTo>
                  <a:lnTo>
                    <a:pt x="36633" y="115258"/>
                  </a:lnTo>
                  <a:lnTo>
                    <a:pt x="33964" y="114047"/>
                  </a:lnTo>
                  <a:lnTo>
                    <a:pt x="31399" y="112783"/>
                  </a:lnTo>
                  <a:lnTo>
                    <a:pt x="28887" y="111255"/>
                  </a:lnTo>
                  <a:lnTo>
                    <a:pt x="26428" y="109727"/>
                  </a:lnTo>
                  <a:lnTo>
                    <a:pt x="24125" y="108094"/>
                  </a:lnTo>
                  <a:lnTo>
                    <a:pt x="21822" y="106251"/>
                  </a:lnTo>
                  <a:lnTo>
                    <a:pt x="19677" y="104407"/>
                  </a:lnTo>
                  <a:lnTo>
                    <a:pt x="17583" y="102405"/>
                  </a:lnTo>
                  <a:lnTo>
                    <a:pt x="15542" y="100351"/>
                  </a:lnTo>
                  <a:lnTo>
                    <a:pt x="13711" y="98191"/>
                  </a:lnTo>
                  <a:lnTo>
                    <a:pt x="11931" y="95926"/>
                  </a:lnTo>
                  <a:lnTo>
                    <a:pt x="10257" y="93503"/>
                  </a:lnTo>
                  <a:lnTo>
                    <a:pt x="8687" y="91132"/>
                  </a:lnTo>
                  <a:lnTo>
                    <a:pt x="7274" y="88604"/>
                  </a:lnTo>
                  <a:lnTo>
                    <a:pt x="5965" y="86022"/>
                  </a:lnTo>
                  <a:lnTo>
                    <a:pt x="4762" y="83336"/>
                  </a:lnTo>
                  <a:lnTo>
                    <a:pt x="3663" y="80649"/>
                  </a:lnTo>
                  <a:lnTo>
                    <a:pt x="2721" y="77857"/>
                  </a:lnTo>
                  <a:lnTo>
                    <a:pt x="1883" y="75013"/>
                  </a:lnTo>
                  <a:lnTo>
                    <a:pt x="1203" y="72115"/>
                  </a:lnTo>
                  <a:lnTo>
                    <a:pt x="680" y="69165"/>
                  </a:lnTo>
                  <a:lnTo>
                    <a:pt x="366" y="66110"/>
                  </a:lnTo>
                  <a:lnTo>
                    <a:pt x="52" y="63107"/>
                  </a:lnTo>
                  <a:lnTo>
                    <a:pt x="0" y="60052"/>
                  </a:lnTo>
                  <a:lnTo>
                    <a:pt x="52" y="56944"/>
                  </a:lnTo>
                  <a:lnTo>
                    <a:pt x="366" y="53889"/>
                  </a:lnTo>
                  <a:lnTo>
                    <a:pt x="680" y="50886"/>
                  </a:lnTo>
                  <a:lnTo>
                    <a:pt x="1203" y="47884"/>
                  </a:lnTo>
                  <a:lnTo>
                    <a:pt x="1883" y="44986"/>
                  </a:lnTo>
                  <a:lnTo>
                    <a:pt x="2721" y="42142"/>
                  </a:lnTo>
                  <a:lnTo>
                    <a:pt x="3663" y="39402"/>
                  </a:lnTo>
                  <a:lnTo>
                    <a:pt x="4762" y="36663"/>
                  </a:lnTo>
                  <a:lnTo>
                    <a:pt x="5965" y="34029"/>
                  </a:lnTo>
                  <a:lnTo>
                    <a:pt x="7274" y="31448"/>
                  </a:lnTo>
                  <a:lnTo>
                    <a:pt x="8687" y="28867"/>
                  </a:lnTo>
                  <a:lnTo>
                    <a:pt x="10257" y="26496"/>
                  </a:lnTo>
                  <a:lnTo>
                    <a:pt x="11931" y="24126"/>
                  </a:lnTo>
                  <a:lnTo>
                    <a:pt x="13711" y="21861"/>
                  </a:lnTo>
                  <a:lnTo>
                    <a:pt x="15542" y="19648"/>
                  </a:lnTo>
                  <a:lnTo>
                    <a:pt x="17583" y="17594"/>
                  </a:lnTo>
                  <a:lnTo>
                    <a:pt x="19677" y="15592"/>
                  </a:lnTo>
                  <a:lnTo>
                    <a:pt x="21822" y="13748"/>
                  </a:lnTo>
                  <a:lnTo>
                    <a:pt x="24125" y="11957"/>
                  </a:lnTo>
                  <a:lnTo>
                    <a:pt x="26428" y="10272"/>
                  </a:lnTo>
                  <a:lnTo>
                    <a:pt x="28887" y="8744"/>
                  </a:lnTo>
                  <a:lnTo>
                    <a:pt x="31399" y="7269"/>
                  </a:lnTo>
                  <a:lnTo>
                    <a:pt x="33964" y="5952"/>
                  </a:lnTo>
                  <a:lnTo>
                    <a:pt x="36633" y="4741"/>
                  </a:lnTo>
                  <a:lnTo>
                    <a:pt x="39354" y="3634"/>
                  </a:lnTo>
                  <a:lnTo>
                    <a:pt x="42180" y="2739"/>
                  </a:lnTo>
                  <a:lnTo>
                    <a:pt x="45006" y="1896"/>
                  </a:lnTo>
                  <a:lnTo>
                    <a:pt x="47937" y="1264"/>
                  </a:lnTo>
                  <a:lnTo>
                    <a:pt x="50867" y="684"/>
                  </a:lnTo>
                  <a:lnTo>
                    <a:pt x="53850" y="368"/>
                  </a:lnTo>
                  <a:lnTo>
                    <a:pt x="56886" y="105"/>
                  </a:lnTo>
                  <a:lnTo>
                    <a:pt x="59973" y="0"/>
                  </a:lnTo>
                  <a:lnTo>
                    <a:pt x="63061" y="105"/>
                  </a:lnTo>
                  <a:lnTo>
                    <a:pt x="66149" y="368"/>
                  </a:lnTo>
                  <a:lnTo>
                    <a:pt x="69132" y="684"/>
                  </a:lnTo>
                  <a:lnTo>
                    <a:pt x="72062" y="1264"/>
                  </a:lnTo>
                  <a:lnTo>
                    <a:pt x="74941" y="1896"/>
                  </a:lnTo>
                  <a:lnTo>
                    <a:pt x="77819" y="2739"/>
                  </a:lnTo>
                  <a:lnTo>
                    <a:pt x="80593" y="3634"/>
                  </a:lnTo>
                  <a:lnTo>
                    <a:pt x="83314" y="4741"/>
                  </a:lnTo>
                  <a:lnTo>
                    <a:pt x="85983" y="5952"/>
                  </a:lnTo>
                  <a:lnTo>
                    <a:pt x="88547" y="7269"/>
                  </a:lnTo>
                  <a:lnTo>
                    <a:pt x="91059" y="8744"/>
                  </a:lnTo>
                  <a:lnTo>
                    <a:pt x="93519" y="10272"/>
                  </a:lnTo>
                  <a:lnTo>
                    <a:pt x="95874" y="11957"/>
                  </a:lnTo>
                  <a:lnTo>
                    <a:pt x="98124" y="13748"/>
                  </a:lnTo>
                  <a:lnTo>
                    <a:pt x="100322" y="15592"/>
                  </a:lnTo>
                  <a:lnTo>
                    <a:pt x="102416" y="17594"/>
                  </a:lnTo>
                  <a:lnTo>
                    <a:pt x="104404" y="19648"/>
                  </a:lnTo>
                  <a:lnTo>
                    <a:pt x="106288" y="21861"/>
                  </a:lnTo>
                  <a:lnTo>
                    <a:pt x="108068" y="24126"/>
                  </a:lnTo>
                  <a:lnTo>
                    <a:pt x="109742" y="26496"/>
                  </a:lnTo>
                  <a:lnTo>
                    <a:pt x="111312" y="28867"/>
                  </a:lnTo>
                  <a:lnTo>
                    <a:pt x="112725" y="31448"/>
                  </a:lnTo>
                  <a:lnTo>
                    <a:pt x="114086" y="34029"/>
                  </a:lnTo>
                  <a:lnTo>
                    <a:pt x="115290" y="36663"/>
                  </a:lnTo>
                  <a:lnTo>
                    <a:pt x="116336" y="39402"/>
                  </a:lnTo>
                  <a:lnTo>
                    <a:pt x="117278" y="42142"/>
                  </a:lnTo>
                  <a:lnTo>
                    <a:pt x="118063" y="44986"/>
                  </a:lnTo>
                  <a:lnTo>
                    <a:pt x="118744" y="47884"/>
                  </a:lnTo>
                  <a:lnTo>
                    <a:pt x="119267" y="50886"/>
                  </a:lnTo>
                  <a:lnTo>
                    <a:pt x="119686" y="53889"/>
                  </a:lnTo>
                  <a:lnTo>
                    <a:pt x="119895" y="56944"/>
                  </a:lnTo>
                  <a:lnTo>
                    <a:pt x="120000" y="60052"/>
                  </a:lnTo>
                  <a:close/>
                </a:path>
              </a:pathLst>
            </a:custGeom>
            <a:solidFill>
              <a:srgbClr val="00a0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35" name="任意多边形 267"/>
            <p:cNvSpPr/>
            <p:nvPr/>
          </p:nvSpPr>
          <p:spPr>
            <a:xfrm flipH="1">
              <a:off x="2334600" y="3080880"/>
              <a:ext cx="446040" cy="439920"/>
            </a:xfrm>
            <a:custGeom>
              <a:avLst/>
              <a:gdLst/>
              <a:ahLst/>
              <a:rect l="l" t="t" r="r" b="b"/>
              <a:pathLst>
                <a:path w="120000" h="120000">
                  <a:moveTo>
                    <a:pt x="120000" y="60029"/>
                  </a:moveTo>
                  <a:lnTo>
                    <a:pt x="119940" y="63085"/>
                  </a:lnTo>
                  <a:lnTo>
                    <a:pt x="119643" y="66140"/>
                  </a:lnTo>
                  <a:lnTo>
                    <a:pt x="119345" y="69136"/>
                  </a:lnTo>
                  <a:lnTo>
                    <a:pt x="118751" y="72131"/>
                  </a:lnTo>
                  <a:lnTo>
                    <a:pt x="118097" y="75007"/>
                  </a:lnTo>
                  <a:lnTo>
                    <a:pt x="117324" y="77883"/>
                  </a:lnTo>
                  <a:lnTo>
                    <a:pt x="116372" y="80639"/>
                  </a:lnTo>
                  <a:lnTo>
                    <a:pt x="115242" y="83394"/>
                  </a:lnTo>
                  <a:lnTo>
                    <a:pt x="114112" y="86030"/>
                  </a:lnTo>
                  <a:lnTo>
                    <a:pt x="112745" y="88607"/>
                  </a:lnTo>
                  <a:lnTo>
                    <a:pt x="111318" y="91063"/>
                  </a:lnTo>
                  <a:lnTo>
                    <a:pt x="109772" y="93579"/>
                  </a:lnTo>
                  <a:lnTo>
                    <a:pt x="108107" y="95856"/>
                  </a:lnTo>
                  <a:lnTo>
                    <a:pt x="106263" y="98132"/>
                  </a:lnTo>
                  <a:lnTo>
                    <a:pt x="104420" y="100349"/>
                  </a:lnTo>
                  <a:lnTo>
                    <a:pt x="102457" y="102446"/>
                  </a:lnTo>
                  <a:lnTo>
                    <a:pt x="100317" y="104423"/>
                  </a:lnTo>
                  <a:lnTo>
                    <a:pt x="98176" y="106280"/>
                  </a:lnTo>
                  <a:lnTo>
                    <a:pt x="95916" y="108137"/>
                  </a:lnTo>
                  <a:lnTo>
                    <a:pt x="93538" y="109755"/>
                  </a:lnTo>
                  <a:lnTo>
                    <a:pt x="91159" y="111313"/>
                  </a:lnTo>
                  <a:lnTo>
                    <a:pt x="88602" y="112810"/>
                  </a:lnTo>
                  <a:lnTo>
                    <a:pt x="86045" y="114068"/>
                  </a:lnTo>
                  <a:lnTo>
                    <a:pt x="83369" y="115327"/>
                  </a:lnTo>
                  <a:lnTo>
                    <a:pt x="80634" y="116345"/>
                  </a:lnTo>
                  <a:lnTo>
                    <a:pt x="77898" y="117304"/>
                  </a:lnTo>
                  <a:lnTo>
                    <a:pt x="75044" y="118082"/>
                  </a:lnTo>
                  <a:lnTo>
                    <a:pt x="72130" y="118801"/>
                  </a:lnTo>
                  <a:lnTo>
                    <a:pt x="69157" y="119340"/>
                  </a:lnTo>
                  <a:lnTo>
                    <a:pt x="66184" y="119700"/>
                  </a:lnTo>
                  <a:lnTo>
                    <a:pt x="63092" y="119880"/>
                  </a:lnTo>
                  <a:lnTo>
                    <a:pt x="60000" y="120000"/>
                  </a:lnTo>
                  <a:lnTo>
                    <a:pt x="56907" y="119880"/>
                  </a:lnTo>
                  <a:lnTo>
                    <a:pt x="53875" y="119700"/>
                  </a:lnTo>
                  <a:lnTo>
                    <a:pt x="50901" y="119340"/>
                  </a:lnTo>
                  <a:lnTo>
                    <a:pt x="47928" y="118801"/>
                  </a:lnTo>
                  <a:lnTo>
                    <a:pt x="45014" y="118082"/>
                  </a:lnTo>
                  <a:lnTo>
                    <a:pt x="42160" y="117304"/>
                  </a:lnTo>
                  <a:lnTo>
                    <a:pt x="39365" y="116345"/>
                  </a:lnTo>
                  <a:lnTo>
                    <a:pt x="36630" y="115327"/>
                  </a:lnTo>
                  <a:lnTo>
                    <a:pt x="34013" y="114068"/>
                  </a:lnTo>
                  <a:lnTo>
                    <a:pt x="31397" y="112810"/>
                  </a:lnTo>
                  <a:lnTo>
                    <a:pt x="28899" y="111313"/>
                  </a:lnTo>
                  <a:lnTo>
                    <a:pt x="26521" y="109755"/>
                  </a:lnTo>
                  <a:lnTo>
                    <a:pt x="24083" y="108137"/>
                  </a:lnTo>
                  <a:lnTo>
                    <a:pt x="21823" y="106280"/>
                  </a:lnTo>
                  <a:lnTo>
                    <a:pt x="19682" y="104423"/>
                  </a:lnTo>
                  <a:lnTo>
                    <a:pt x="17542" y="102446"/>
                  </a:lnTo>
                  <a:lnTo>
                    <a:pt x="15639" y="100349"/>
                  </a:lnTo>
                  <a:lnTo>
                    <a:pt x="13736" y="98132"/>
                  </a:lnTo>
                  <a:lnTo>
                    <a:pt x="11952" y="95856"/>
                  </a:lnTo>
                  <a:lnTo>
                    <a:pt x="10227" y="93579"/>
                  </a:lnTo>
                  <a:lnTo>
                    <a:pt x="8681" y="91063"/>
                  </a:lnTo>
                  <a:lnTo>
                    <a:pt x="7254" y="88607"/>
                  </a:lnTo>
                  <a:lnTo>
                    <a:pt x="5887" y="86030"/>
                  </a:lnTo>
                  <a:lnTo>
                    <a:pt x="4757" y="83394"/>
                  </a:lnTo>
                  <a:lnTo>
                    <a:pt x="3627" y="80639"/>
                  </a:lnTo>
                  <a:lnTo>
                    <a:pt x="2735" y="77883"/>
                  </a:lnTo>
                  <a:lnTo>
                    <a:pt x="1902" y="75007"/>
                  </a:lnTo>
                  <a:lnTo>
                    <a:pt x="1248" y="72131"/>
                  </a:lnTo>
                  <a:lnTo>
                    <a:pt x="713" y="69136"/>
                  </a:lnTo>
                  <a:lnTo>
                    <a:pt x="356" y="66140"/>
                  </a:lnTo>
                  <a:lnTo>
                    <a:pt x="118" y="63085"/>
                  </a:lnTo>
                  <a:lnTo>
                    <a:pt x="0" y="60029"/>
                  </a:lnTo>
                  <a:lnTo>
                    <a:pt x="118" y="56914"/>
                  </a:lnTo>
                  <a:lnTo>
                    <a:pt x="356" y="53859"/>
                  </a:lnTo>
                  <a:lnTo>
                    <a:pt x="713" y="50863"/>
                  </a:lnTo>
                  <a:lnTo>
                    <a:pt x="1248" y="47868"/>
                  </a:lnTo>
                  <a:lnTo>
                    <a:pt x="1902" y="44992"/>
                  </a:lnTo>
                  <a:lnTo>
                    <a:pt x="2735" y="42116"/>
                  </a:lnTo>
                  <a:lnTo>
                    <a:pt x="3627" y="39360"/>
                  </a:lnTo>
                  <a:lnTo>
                    <a:pt x="4757" y="36605"/>
                  </a:lnTo>
                  <a:lnTo>
                    <a:pt x="5887" y="33969"/>
                  </a:lnTo>
                  <a:lnTo>
                    <a:pt x="7254" y="31392"/>
                  </a:lnTo>
                  <a:lnTo>
                    <a:pt x="8681" y="28876"/>
                  </a:lnTo>
                  <a:lnTo>
                    <a:pt x="10227" y="26420"/>
                  </a:lnTo>
                  <a:lnTo>
                    <a:pt x="11952" y="24083"/>
                  </a:lnTo>
                  <a:lnTo>
                    <a:pt x="13736" y="21807"/>
                  </a:lnTo>
                  <a:lnTo>
                    <a:pt x="15639" y="19590"/>
                  </a:lnTo>
                  <a:lnTo>
                    <a:pt x="17542" y="17493"/>
                  </a:lnTo>
                  <a:lnTo>
                    <a:pt x="19682" y="15576"/>
                  </a:lnTo>
                  <a:lnTo>
                    <a:pt x="21823" y="13659"/>
                  </a:lnTo>
                  <a:lnTo>
                    <a:pt x="24083" y="11862"/>
                  </a:lnTo>
                  <a:lnTo>
                    <a:pt x="26521" y="10184"/>
                  </a:lnTo>
                  <a:lnTo>
                    <a:pt x="28899" y="8627"/>
                  </a:lnTo>
                  <a:lnTo>
                    <a:pt x="31397" y="7249"/>
                  </a:lnTo>
                  <a:lnTo>
                    <a:pt x="34013" y="5871"/>
                  </a:lnTo>
                  <a:lnTo>
                    <a:pt x="36630" y="4613"/>
                  </a:lnTo>
                  <a:lnTo>
                    <a:pt x="39365" y="3594"/>
                  </a:lnTo>
                  <a:lnTo>
                    <a:pt x="42160" y="2636"/>
                  </a:lnTo>
                  <a:lnTo>
                    <a:pt x="45014" y="1857"/>
                  </a:lnTo>
                  <a:lnTo>
                    <a:pt x="47928" y="1198"/>
                  </a:lnTo>
                  <a:lnTo>
                    <a:pt x="50901" y="599"/>
                  </a:lnTo>
                  <a:lnTo>
                    <a:pt x="53875" y="239"/>
                  </a:lnTo>
                  <a:lnTo>
                    <a:pt x="56907" y="59"/>
                  </a:lnTo>
                  <a:lnTo>
                    <a:pt x="60000" y="0"/>
                  </a:lnTo>
                  <a:lnTo>
                    <a:pt x="63092" y="59"/>
                  </a:lnTo>
                  <a:lnTo>
                    <a:pt x="66184" y="239"/>
                  </a:lnTo>
                  <a:lnTo>
                    <a:pt x="69157" y="599"/>
                  </a:lnTo>
                  <a:lnTo>
                    <a:pt x="72130" y="1198"/>
                  </a:lnTo>
                  <a:lnTo>
                    <a:pt x="75044" y="1857"/>
                  </a:lnTo>
                  <a:lnTo>
                    <a:pt x="77898" y="2636"/>
                  </a:lnTo>
                  <a:lnTo>
                    <a:pt x="80634" y="3594"/>
                  </a:lnTo>
                  <a:lnTo>
                    <a:pt x="83369" y="4613"/>
                  </a:lnTo>
                  <a:lnTo>
                    <a:pt x="86045" y="5871"/>
                  </a:lnTo>
                  <a:lnTo>
                    <a:pt x="88602" y="7249"/>
                  </a:lnTo>
                  <a:lnTo>
                    <a:pt x="91159" y="8627"/>
                  </a:lnTo>
                  <a:lnTo>
                    <a:pt x="93538" y="10184"/>
                  </a:lnTo>
                  <a:lnTo>
                    <a:pt x="95916" y="11862"/>
                  </a:lnTo>
                  <a:lnTo>
                    <a:pt x="98176" y="13659"/>
                  </a:lnTo>
                  <a:lnTo>
                    <a:pt x="100317" y="15576"/>
                  </a:lnTo>
                  <a:lnTo>
                    <a:pt x="102457" y="17493"/>
                  </a:lnTo>
                  <a:lnTo>
                    <a:pt x="104420" y="19590"/>
                  </a:lnTo>
                  <a:lnTo>
                    <a:pt x="106263" y="21807"/>
                  </a:lnTo>
                  <a:lnTo>
                    <a:pt x="108107" y="24083"/>
                  </a:lnTo>
                  <a:lnTo>
                    <a:pt x="109772" y="26420"/>
                  </a:lnTo>
                  <a:lnTo>
                    <a:pt x="111318" y="28876"/>
                  </a:lnTo>
                  <a:lnTo>
                    <a:pt x="112745" y="31392"/>
                  </a:lnTo>
                  <a:lnTo>
                    <a:pt x="114112" y="33969"/>
                  </a:lnTo>
                  <a:lnTo>
                    <a:pt x="115242" y="36605"/>
                  </a:lnTo>
                  <a:lnTo>
                    <a:pt x="116372" y="39360"/>
                  </a:lnTo>
                  <a:lnTo>
                    <a:pt x="117324" y="42116"/>
                  </a:lnTo>
                  <a:lnTo>
                    <a:pt x="118097" y="44992"/>
                  </a:lnTo>
                  <a:lnTo>
                    <a:pt x="118751" y="47868"/>
                  </a:lnTo>
                  <a:lnTo>
                    <a:pt x="119345" y="50863"/>
                  </a:lnTo>
                  <a:lnTo>
                    <a:pt x="119643" y="53859"/>
                  </a:lnTo>
                  <a:lnTo>
                    <a:pt x="119940" y="56914"/>
                  </a:lnTo>
                  <a:lnTo>
                    <a:pt x="120000" y="60029"/>
                  </a:lnTo>
                  <a:close/>
                </a:path>
              </a:pathLst>
            </a:custGeom>
            <a:solidFill>
              <a:srgbClr val="1891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36" name="任意多边形 268"/>
            <p:cNvSpPr/>
            <p:nvPr/>
          </p:nvSpPr>
          <p:spPr>
            <a:xfrm flipH="1">
              <a:off x="2570760" y="3503160"/>
              <a:ext cx="764640" cy="754200"/>
            </a:xfrm>
            <a:custGeom>
              <a:avLst/>
              <a:gdLst/>
              <a:ahLst/>
              <a:rect l="l" t="t" r="r" b="b"/>
              <a:pathLst>
                <a:path w="120000" h="120000">
                  <a:moveTo>
                    <a:pt x="120000" y="60017"/>
                  </a:moveTo>
                  <a:lnTo>
                    <a:pt x="119930" y="63128"/>
                  </a:lnTo>
                  <a:lnTo>
                    <a:pt x="119687" y="66169"/>
                  </a:lnTo>
                  <a:lnTo>
                    <a:pt x="119270" y="69175"/>
                  </a:lnTo>
                  <a:lnTo>
                    <a:pt x="118784" y="72111"/>
                  </a:lnTo>
                  <a:lnTo>
                    <a:pt x="118125" y="75013"/>
                  </a:lnTo>
                  <a:lnTo>
                    <a:pt x="117291" y="77844"/>
                  </a:lnTo>
                  <a:lnTo>
                    <a:pt x="116319" y="80640"/>
                  </a:lnTo>
                  <a:lnTo>
                    <a:pt x="115277" y="83367"/>
                  </a:lnTo>
                  <a:lnTo>
                    <a:pt x="114062" y="86058"/>
                  </a:lnTo>
                  <a:lnTo>
                    <a:pt x="112743" y="88610"/>
                  </a:lnTo>
                  <a:lnTo>
                    <a:pt x="111319" y="91162"/>
                  </a:lnTo>
                  <a:lnTo>
                    <a:pt x="109756" y="93574"/>
                  </a:lnTo>
                  <a:lnTo>
                    <a:pt x="108055" y="95916"/>
                  </a:lnTo>
                  <a:lnTo>
                    <a:pt x="106284" y="98188"/>
                  </a:lnTo>
                  <a:lnTo>
                    <a:pt x="104409" y="100355"/>
                  </a:lnTo>
                  <a:lnTo>
                    <a:pt x="102430" y="102452"/>
                  </a:lnTo>
                  <a:lnTo>
                    <a:pt x="100347" y="104410"/>
                  </a:lnTo>
                  <a:lnTo>
                    <a:pt x="98159" y="106297"/>
                  </a:lnTo>
                  <a:lnTo>
                    <a:pt x="95902" y="108115"/>
                  </a:lnTo>
                  <a:lnTo>
                    <a:pt x="93541" y="109793"/>
                  </a:lnTo>
                  <a:lnTo>
                    <a:pt x="91111" y="111331"/>
                  </a:lnTo>
                  <a:lnTo>
                    <a:pt x="88611" y="112764"/>
                  </a:lnTo>
                  <a:lnTo>
                    <a:pt x="86006" y="114092"/>
                  </a:lnTo>
                  <a:lnTo>
                    <a:pt x="83333" y="115281"/>
                  </a:lnTo>
                  <a:lnTo>
                    <a:pt x="80625" y="116399"/>
                  </a:lnTo>
                  <a:lnTo>
                    <a:pt x="77847" y="117343"/>
                  </a:lnTo>
                  <a:lnTo>
                    <a:pt x="75000" y="118112"/>
                  </a:lnTo>
                  <a:lnTo>
                    <a:pt x="72083" y="118811"/>
                  </a:lnTo>
                  <a:lnTo>
                    <a:pt x="69131" y="119335"/>
                  </a:lnTo>
                  <a:lnTo>
                    <a:pt x="66111" y="119720"/>
                  </a:lnTo>
                  <a:lnTo>
                    <a:pt x="63090" y="119930"/>
                  </a:lnTo>
                  <a:lnTo>
                    <a:pt x="60000" y="120000"/>
                  </a:lnTo>
                  <a:lnTo>
                    <a:pt x="56909" y="119930"/>
                  </a:lnTo>
                  <a:lnTo>
                    <a:pt x="53888" y="119720"/>
                  </a:lnTo>
                  <a:lnTo>
                    <a:pt x="50868" y="119335"/>
                  </a:lnTo>
                  <a:lnTo>
                    <a:pt x="47916" y="118811"/>
                  </a:lnTo>
                  <a:lnTo>
                    <a:pt x="45000" y="118112"/>
                  </a:lnTo>
                  <a:lnTo>
                    <a:pt x="42152" y="117343"/>
                  </a:lnTo>
                  <a:lnTo>
                    <a:pt x="39375" y="116399"/>
                  </a:lnTo>
                  <a:lnTo>
                    <a:pt x="36666" y="115281"/>
                  </a:lnTo>
                  <a:lnTo>
                    <a:pt x="33958" y="114092"/>
                  </a:lnTo>
                  <a:lnTo>
                    <a:pt x="31388" y="112764"/>
                  </a:lnTo>
                  <a:lnTo>
                    <a:pt x="28854" y="111331"/>
                  </a:lnTo>
                  <a:lnTo>
                    <a:pt x="26458" y="109793"/>
                  </a:lnTo>
                  <a:lnTo>
                    <a:pt x="24097" y="108115"/>
                  </a:lnTo>
                  <a:lnTo>
                    <a:pt x="21840" y="106297"/>
                  </a:lnTo>
                  <a:lnTo>
                    <a:pt x="19652" y="104410"/>
                  </a:lnTo>
                  <a:lnTo>
                    <a:pt x="17569" y="102452"/>
                  </a:lnTo>
                  <a:lnTo>
                    <a:pt x="15555" y="100355"/>
                  </a:lnTo>
                  <a:lnTo>
                    <a:pt x="13680" y="98188"/>
                  </a:lnTo>
                  <a:lnTo>
                    <a:pt x="11909" y="95916"/>
                  </a:lnTo>
                  <a:lnTo>
                    <a:pt x="10243" y="93574"/>
                  </a:lnTo>
                  <a:lnTo>
                    <a:pt x="8680" y="91162"/>
                  </a:lnTo>
                  <a:lnTo>
                    <a:pt x="7256" y="88610"/>
                  </a:lnTo>
                  <a:lnTo>
                    <a:pt x="5902" y="86058"/>
                  </a:lnTo>
                  <a:lnTo>
                    <a:pt x="4722" y="83367"/>
                  </a:lnTo>
                  <a:lnTo>
                    <a:pt x="3611" y="80640"/>
                  </a:lnTo>
                  <a:lnTo>
                    <a:pt x="2673" y="77844"/>
                  </a:lnTo>
                  <a:lnTo>
                    <a:pt x="1875" y="75013"/>
                  </a:lnTo>
                  <a:lnTo>
                    <a:pt x="1215" y="72111"/>
                  </a:lnTo>
                  <a:lnTo>
                    <a:pt x="694" y="69175"/>
                  </a:lnTo>
                  <a:lnTo>
                    <a:pt x="312" y="66169"/>
                  </a:lnTo>
                  <a:lnTo>
                    <a:pt x="69" y="63128"/>
                  </a:lnTo>
                  <a:lnTo>
                    <a:pt x="0" y="60017"/>
                  </a:lnTo>
                  <a:lnTo>
                    <a:pt x="69" y="56941"/>
                  </a:lnTo>
                  <a:lnTo>
                    <a:pt x="312" y="53900"/>
                  </a:lnTo>
                  <a:lnTo>
                    <a:pt x="694" y="50859"/>
                  </a:lnTo>
                  <a:lnTo>
                    <a:pt x="1215" y="47923"/>
                  </a:lnTo>
                  <a:lnTo>
                    <a:pt x="1875" y="45021"/>
                  </a:lnTo>
                  <a:lnTo>
                    <a:pt x="2673" y="42190"/>
                  </a:lnTo>
                  <a:lnTo>
                    <a:pt x="3611" y="39394"/>
                  </a:lnTo>
                  <a:lnTo>
                    <a:pt x="4722" y="36667"/>
                  </a:lnTo>
                  <a:lnTo>
                    <a:pt x="5902" y="34011"/>
                  </a:lnTo>
                  <a:lnTo>
                    <a:pt x="7256" y="31424"/>
                  </a:lnTo>
                  <a:lnTo>
                    <a:pt x="8680" y="28907"/>
                  </a:lnTo>
                  <a:lnTo>
                    <a:pt x="10243" y="26460"/>
                  </a:lnTo>
                  <a:lnTo>
                    <a:pt x="11909" y="24118"/>
                  </a:lnTo>
                  <a:lnTo>
                    <a:pt x="13680" y="21846"/>
                  </a:lnTo>
                  <a:lnTo>
                    <a:pt x="15555" y="19644"/>
                  </a:lnTo>
                  <a:lnTo>
                    <a:pt x="17569" y="17582"/>
                  </a:lnTo>
                  <a:lnTo>
                    <a:pt x="19652" y="15624"/>
                  </a:lnTo>
                  <a:lnTo>
                    <a:pt x="21840" y="13737"/>
                  </a:lnTo>
                  <a:lnTo>
                    <a:pt x="24097" y="11954"/>
                  </a:lnTo>
                  <a:lnTo>
                    <a:pt x="26458" y="10241"/>
                  </a:lnTo>
                  <a:lnTo>
                    <a:pt x="28854" y="8703"/>
                  </a:lnTo>
                  <a:lnTo>
                    <a:pt x="31388" y="7270"/>
                  </a:lnTo>
                  <a:lnTo>
                    <a:pt x="33958" y="5942"/>
                  </a:lnTo>
                  <a:lnTo>
                    <a:pt x="36666" y="4753"/>
                  </a:lnTo>
                  <a:lnTo>
                    <a:pt x="39375" y="3635"/>
                  </a:lnTo>
                  <a:lnTo>
                    <a:pt x="42152" y="2691"/>
                  </a:lnTo>
                  <a:lnTo>
                    <a:pt x="45000" y="1887"/>
                  </a:lnTo>
                  <a:lnTo>
                    <a:pt x="47916" y="1223"/>
                  </a:lnTo>
                  <a:lnTo>
                    <a:pt x="50868" y="699"/>
                  </a:lnTo>
                  <a:lnTo>
                    <a:pt x="53888" y="314"/>
                  </a:lnTo>
                  <a:lnTo>
                    <a:pt x="56909" y="104"/>
                  </a:lnTo>
                  <a:lnTo>
                    <a:pt x="60000" y="0"/>
                  </a:lnTo>
                  <a:lnTo>
                    <a:pt x="63090" y="104"/>
                  </a:lnTo>
                  <a:lnTo>
                    <a:pt x="66111" y="314"/>
                  </a:lnTo>
                  <a:lnTo>
                    <a:pt x="69131" y="699"/>
                  </a:lnTo>
                  <a:lnTo>
                    <a:pt x="72083" y="1223"/>
                  </a:lnTo>
                  <a:lnTo>
                    <a:pt x="75000" y="1887"/>
                  </a:lnTo>
                  <a:lnTo>
                    <a:pt x="77847" y="2691"/>
                  </a:lnTo>
                  <a:lnTo>
                    <a:pt x="80625" y="3635"/>
                  </a:lnTo>
                  <a:lnTo>
                    <a:pt x="83333" y="4753"/>
                  </a:lnTo>
                  <a:lnTo>
                    <a:pt x="86006" y="5942"/>
                  </a:lnTo>
                  <a:lnTo>
                    <a:pt x="88611" y="7270"/>
                  </a:lnTo>
                  <a:lnTo>
                    <a:pt x="91111" y="8703"/>
                  </a:lnTo>
                  <a:lnTo>
                    <a:pt x="93541" y="10241"/>
                  </a:lnTo>
                  <a:lnTo>
                    <a:pt x="95902" y="11954"/>
                  </a:lnTo>
                  <a:lnTo>
                    <a:pt x="98159" y="13737"/>
                  </a:lnTo>
                  <a:lnTo>
                    <a:pt x="100347" y="15624"/>
                  </a:lnTo>
                  <a:lnTo>
                    <a:pt x="102430" y="17582"/>
                  </a:lnTo>
                  <a:lnTo>
                    <a:pt x="104409" y="19644"/>
                  </a:lnTo>
                  <a:lnTo>
                    <a:pt x="106284" y="21846"/>
                  </a:lnTo>
                  <a:lnTo>
                    <a:pt x="108055" y="24118"/>
                  </a:lnTo>
                  <a:lnTo>
                    <a:pt x="109756" y="26460"/>
                  </a:lnTo>
                  <a:lnTo>
                    <a:pt x="111319" y="28907"/>
                  </a:lnTo>
                  <a:lnTo>
                    <a:pt x="112743" y="31424"/>
                  </a:lnTo>
                  <a:lnTo>
                    <a:pt x="114062" y="34011"/>
                  </a:lnTo>
                  <a:lnTo>
                    <a:pt x="115277" y="36667"/>
                  </a:lnTo>
                  <a:lnTo>
                    <a:pt x="116319" y="39394"/>
                  </a:lnTo>
                  <a:lnTo>
                    <a:pt x="117291" y="42190"/>
                  </a:lnTo>
                  <a:lnTo>
                    <a:pt x="118125" y="45021"/>
                  </a:lnTo>
                  <a:lnTo>
                    <a:pt x="118784" y="47923"/>
                  </a:lnTo>
                  <a:lnTo>
                    <a:pt x="119270" y="50859"/>
                  </a:lnTo>
                  <a:lnTo>
                    <a:pt x="119687" y="53900"/>
                  </a:lnTo>
                  <a:lnTo>
                    <a:pt x="119930" y="56941"/>
                  </a:lnTo>
                  <a:lnTo>
                    <a:pt x="120000" y="60017"/>
                  </a:lnTo>
                  <a:close/>
                </a:path>
              </a:pathLst>
            </a:custGeom>
            <a:solidFill>
              <a:srgbClr val="5268a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37" name="任意多边形 269"/>
            <p:cNvSpPr/>
            <p:nvPr/>
          </p:nvSpPr>
          <p:spPr>
            <a:xfrm flipH="1">
              <a:off x="2985120" y="4357440"/>
              <a:ext cx="385200" cy="379440"/>
            </a:xfrm>
            <a:custGeom>
              <a:avLst/>
              <a:gdLst/>
              <a:ahLst/>
              <a:rect l="l" t="t" r="r" b="b"/>
              <a:pathLst>
                <a:path w="120000" h="120000">
                  <a:moveTo>
                    <a:pt x="120000" y="60000"/>
                  </a:moveTo>
                  <a:lnTo>
                    <a:pt x="119930" y="63125"/>
                  </a:lnTo>
                  <a:lnTo>
                    <a:pt x="119723" y="66111"/>
                  </a:lnTo>
                  <a:lnTo>
                    <a:pt x="119309" y="69166"/>
                  </a:lnTo>
                  <a:lnTo>
                    <a:pt x="118826" y="72152"/>
                  </a:lnTo>
                  <a:lnTo>
                    <a:pt x="118136" y="75069"/>
                  </a:lnTo>
                  <a:lnTo>
                    <a:pt x="117308" y="77847"/>
                  </a:lnTo>
                  <a:lnTo>
                    <a:pt x="116342" y="80694"/>
                  </a:lnTo>
                  <a:lnTo>
                    <a:pt x="115238" y="83402"/>
                  </a:lnTo>
                  <a:lnTo>
                    <a:pt x="114065" y="85972"/>
                  </a:lnTo>
                  <a:lnTo>
                    <a:pt x="112823" y="88611"/>
                  </a:lnTo>
                  <a:lnTo>
                    <a:pt x="111305" y="91111"/>
                  </a:lnTo>
                  <a:lnTo>
                    <a:pt x="109787" y="93611"/>
                  </a:lnTo>
                  <a:lnTo>
                    <a:pt x="108062" y="95902"/>
                  </a:lnTo>
                  <a:lnTo>
                    <a:pt x="106336" y="98194"/>
                  </a:lnTo>
                  <a:lnTo>
                    <a:pt x="104404" y="100347"/>
                  </a:lnTo>
                  <a:lnTo>
                    <a:pt x="102403" y="102430"/>
                  </a:lnTo>
                  <a:lnTo>
                    <a:pt x="100333" y="104375"/>
                  </a:lnTo>
                  <a:lnTo>
                    <a:pt x="98125" y="106319"/>
                  </a:lnTo>
                  <a:lnTo>
                    <a:pt x="95917" y="108055"/>
                  </a:lnTo>
                  <a:lnTo>
                    <a:pt x="93571" y="109791"/>
                  </a:lnTo>
                  <a:lnTo>
                    <a:pt x="91086" y="111319"/>
                  </a:lnTo>
                  <a:lnTo>
                    <a:pt x="88602" y="112777"/>
                  </a:lnTo>
                  <a:lnTo>
                    <a:pt x="85980" y="114097"/>
                  </a:lnTo>
                  <a:lnTo>
                    <a:pt x="83358" y="115277"/>
                  </a:lnTo>
                  <a:lnTo>
                    <a:pt x="80667" y="116388"/>
                  </a:lnTo>
                  <a:lnTo>
                    <a:pt x="77906" y="117291"/>
                  </a:lnTo>
                  <a:lnTo>
                    <a:pt x="75008" y="118125"/>
                  </a:lnTo>
                  <a:lnTo>
                    <a:pt x="72110" y="118819"/>
                  </a:lnTo>
                  <a:lnTo>
                    <a:pt x="69143" y="119305"/>
                  </a:lnTo>
                  <a:lnTo>
                    <a:pt x="66175" y="119722"/>
                  </a:lnTo>
                  <a:lnTo>
                    <a:pt x="63070" y="119930"/>
                  </a:lnTo>
                  <a:lnTo>
                    <a:pt x="60034" y="120000"/>
                  </a:lnTo>
                  <a:lnTo>
                    <a:pt x="56929" y="119930"/>
                  </a:lnTo>
                  <a:lnTo>
                    <a:pt x="53824" y="119722"/>
                  </a:lnTo>
                  <a:lnTo>
                    <a:pt x="50856" y="119305"/>
                  </a:lnTo>
                  <a:lnTo>
                    <a:pt x="47889" y="118819"/>
                  </a:lnTo>
                  <a:lnTo>
                    <a:pt x="44991" y="118125"/>
                  </a:lnTo>
                  <a:lnTo>
                    <a:pt x="42162" y="117291"/>
                  </a:lnTo>
                  <a:lnTo>
                    <a:pt x="39332" y="116388"/>
                  </a:lnTo>
                  <a:lnTo>
                    <a:pt x="36641" y="115277"/>
                  </a:lnTo>
                  <a:lnTo>
                    <a:pt x="33950" y="114097"/>
                  </a:lnTo>
                  <a:lnTo>
                    <a:pt x="31397" y="112777"/>
                  </a:lnTo>
                  <a:lnTo>
                    <a:pt x="28844" y="111319"/>
                  </a:lnTo>
                  <a:lnTo>
                    <a:pt x="26428" y="109791"/>
                  </a:lnTo>
                  <a:lnTo>
                    <a:pt x="24082" y="108055"/>
                  </a:lnTo>
                  <a:lnTo>
                    <a:pt x="21805" y="106319"/>
                  </a:lnTo>
                  <a:lnTo>
                    <a:pt x="19597" y="104375"/>
                  </a:lnTo>
                  <a:lnTo>
                    <a:pt x="17596" y="102430"/>
                  </a:lnTo>
                  <a:lnTo>
                    <a:pt x="15526" y="100347"/>
                  </a:lnTo>
                  <a:lnTo>
                    <a:pt x="13663" y="98194"/>
                  </a:lnTo>
                  <a:lnTo>
                    <a:pt x="11868" y="95902"/>
                  </a:lnTo>
                  <a:lnTo>
                    <a:pt x="10212" y="93611"/>
                  </a:lnTo>
                  <a:lnTo>
                    <a:pt x="8625" y="91111"/>
                  </a:lnTo>
                  <a:lnTo>
                    <a:pt x="7245" y="88611"/>
                  </a:lnTo>
                  <a:lnTo>
                    <a:pt x="5865" y="85972"/>
                  </a:lnTo>
                  <a:lnTo>
                    <a:pt x="4761" y="83402"/>
                  </a:lnTo>
                  <a:lnTo>
                    <a:pt x="3588" y="80694"/>
                  </a:lnTo>
                  <a:lnTo>
                    <a:pt x="2691" y="77847"/>
                  </a:lnTo>
                  <a:lnTo>
                    <a:pt x="1863" y="75069"/>
                  </a:lnTo>
                  <a:lnTo>
                    <a:pt x="1242" y="72152"/>
                  </a:lnTo>
                  <a:lnTo>
                    <a:pt x="690" y="69166"/>
                  </a:lnTo>
                  <a:lnTo>
                    <a:pt x="276" y="66111"/>
                  </a:lnTo>
                  <a:lnTo>
                    <a:pt x="69" y="63125"/>
                  </a:lnTo>
                  <a:lnTo>
                    <a:pt x="0" y="60000"/>
                  </a:lnTo>
                  <a:lnTo>
                    <a:pt x="69" y="56944"/>
                  </a:lnTo>
                  <a:lnTo>
                    <a:pt x="276" y="53888"/>
                  </a:lnTo>
                  <a:lnTo>
                    <a:pt x="690" y="50902"/>
                  </a:lnTo>
                  <a:lnTo>
                    <a:pt x="1242" y="47916"/>
                  </a:lnTo>
                  <a:lnTo>
                    <a:pt x="1863" y="45000"/>
                  </a:lnTo>
                  <a:lnTo>
                    <a:pt x="2691" y="42152"/>
                  </a:lnTo>
                  <a:lnTo>
                    <a:pt x="3588" y="39375"/>
                  </a:lnTo>
                  <a:lnTo>
                    <a:pt x="4761" y="36666"/>
                  </a:lnTo>
                  <a:lnTo>
                    <a:pt x="5865" y="33958"/>
                  </a:lnTo>
                  <a:lnTo>
                    <a:pt x="7245" y="31458"/>
                  </a:lnTo>
                  <a:lnTo>
                    <a:pt x="8625" y="28888"/>
                  </a:lnTo>
                  <a:lnTo>
                    <a:pt x="10212" y="26458"/>
                  </a:lnTo>
                  <a:lnTo>
                    <a:pt x="11868" y="24097"/>
                  </a:lnTo>
                  <a:lnTo>
                    <a:pt x="13663" y="21805"/>
                  </a:lnTo>
                  <a:lnTo>
                    <a:pt x="15526" y="19652"/>
                  </a:lnTo>
                  <a:lnTo>
                    <a:pt x="17596" y="17569"/>
                  </a:lnTo>
                  <a:lnTo>
                    <a:pt x="19597" y="15625"/>
                  </a:lnTo>
                  <a:lnTo>
                    <a:pt x="21805" y="13750"/>
                  </a:lnTo>
                  <a:lnTo>
                    <a:pt x="24082" y="11944"/>
                  </a:lnTo>
                  <a:lnTo>
                    <a:pt x="26428" y="10277"/>
                  </a:lnTo>
                  <a:lnTo>
                    <a:pt x="28844" y="8680"/>
                  </a:lnTo>
                  <a:lnTo>
                    <a:pt x="31397" y="7291"/>
                  </a:lnTo>
                  <a:lnTo>
                    <a:pt x="33950" y="5902"/>
                  </a:lnTo>
                  <a:lnTo>
                    <a:pt x="36641" y="4722"/>
                  </a:lnTo>
                  <a:lnTo>
                    <a:pt x="39332" y="3680"/>
                  </a:lnTo>
                  <a:lnTo>
                    <a:pt x="42162" y="2708"/>
                  </a:lnTo>
                  <a:lnTo>
                    <a:pt x="44991" y="1875"/>
                  </a:lnTo>
                  <a:lnTo>
                    <a:pt x="47889" y="1180"/>
                  </a:lnTo>
                  <a:lnTo>
                    <a:pt x="50856" y="625"/>
                  </a:lnTo>
                  <a:lnTo>
                    <a:pt x="53824" y="277"/>
                  </a:lnTo>
                  <a:lnTo>
                    <a:pt x="56929" y="69"/>
                  </a:lnTo>
                  <a:lnTo>
                    <a:pt x="60034" y="0"/>
                  </a:lnTo>
                  <a:lnTo>
                    <a:pt x="63070" y="69"/>
                  </a:lnTo>
                  <a:lnTo>
                    <a:pt x="66175" y="277"/>
                  </a:lnTo>
                  <a:lnTo>
                    <a:pt x="69143" y="625"/>
                  </a:lnTo>
                  <a:lnTo>
                    <a:pt x="72110" y="1180"/>
                  </a:lnTo>
                  <a:lnTo>
                    <a:pt x="75008" y="1875"/>
                  </a:lnTo>
                  <a:lnTo>
                    <a:pt x="77906" y="2708"/>
                  </a:lnTo>
                  <a:lnTo>
                    <a:pt x="80667" y="3680"/>
                  </a:lnTo>
                  <a:lnTo>
                    <a:pt x="83358" y="4722"/>
                  </a:lnTo>
                  <a:lnTo>
                    <a:pt x="85980" y="5902"/>
                  </a:lnTo>
                  <a:lnTo>
                    <a:pt x="88602" y="7291"/>
                  </a:lnTo>
                  <a:lnTo>
                    <a:pt x="91086" y="8680"/>
                  </a:lnTo>
                  <a:lnTo>
                    <a:pt x="93571" y="10277"/>
                  </a:lnTo>
                  <a:lnTo>
                    <a:pt x="95917" y="11944"/>
                  </a:lnTo>
                  <a:lnTo>
                    <a:pt x="98125" y="13750"/>
                  </a:lnTo>
                  <a:lnTo>
                    <a:pt x="100333" y="15625"/>
                  </a:lnTo>
                  <a:lnTo>
                    <a:pt x="102403" y="17569"/>
                  </a:lnTo>
                  <a:lnTo>
                    <a:pt x="104404" y="19652"/>
                  </a:lnTo>
                  <a:lnTo>
                    <a:pt x="106336" y="21805"/>
                  </a:lnTo>
                  <a:lnTo>
                    <a:pt x="108062" y="24097"/>
                  </a:lnTo>
                  <a:lnTo>
                    <a:pt x="109787" y="26458"/>
                  </a:lnTo>
                  <a:lnTo>
                    <a:pt x="111305" y="28888"/>
                  </a:lnTo>
                  <a:lnTo>
                    <a:pt x="112823" y="31458"/>
                  </a:lnTo>
                  <a:lnTo>
                    <a:pt x="114065" y="33958"/>
                  </a:lnTo>
                  <a:lnTo>
                    <a:pt x="115238" y="36666"/>
                  </a:lnTo>
                  <a:lnTo>
                    <a:pt x="116342" y="39375"/>
                  </a:lnTo>
                  <a:lnTo>
                    <a:pt x="117308" y="42152"/>
                  </a:lnTo>
                  <a:lnTo>
                    <a:pt x="118136" y="45000"/>
                  </a:lnTo>
                  <a:lnTo>
                    <a:pt x="118826" y="47916"/>
                  </a:lnTo>
                  <a:lnTo>
                    <a:pt x="119309" y="50902"/>
                  </a:lnTo>
                  <a:lnTo>
                    <a:pt x="119723" y="53888"/>
                  </a:lnTo>
                  <a:lnTo>
                    <a:pt x="119930" y="56944"/>
                  </a:lnTo>
                  <a:lnTo>
                    <a:pt x="120000" y="60000"/>
                  </a:lnTo>
                  <a:close/>
                </a:path>
              </a:pathLst>
            </a:custGeom>
            <a:solidFill>
              <a:srgbClr val="00a0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38" name="任意多边形 270"/>
            <p:cNvSpPr/>
            <p:nvPr/>
          </p:nvSpPr>
          <p:spPr>
            <a:xfrm>
              <a:off x="2750760" y="3692880"/>
              <a:ext cx="423360" cy="393120"/>
            </a:xfrm>
            <a:custGeom>
              <a:avLst/>
              <a:gdLst/>
              <a:ahLst/>
              <a:rect l="l" t="t" r="r" b="b"/>
              <a:pathLst>
                <a:path w="597921" h="598324">
                  <a:moveTo>
                    <a:pt x="297615" y="96957"/>
                  </a:moveTo>
                  <a:cubicBezTo>
                    <a:pt x="311959" y="96957"/>
                    <a:pt x="323434" y="108416"/>
                    <a:pt x="323434" y="122740"/>
                  </a:cubicBezTo>
                  <a:lnTo>
                    <a:pt x="323434" y="289852"/>
                  </a:lnTo>
                  <a:lnTo>
                    <a:pt x="462572" y="289852"/>
                  </a:lnTo>
                  <a:cubicBezTo>
                    <a:pt x="476438" y="289852"/>
                    <a:pt x="487913" y="301311"/>
                    <a:pt x="487913" y="315157"/>
                  </a:cubicBezTo>
                  <a:cubicBezTo>
                    <a:pt x="487913" y="329004"/>
                    <a:pt x="476438" y="340463"/>
                    <a:pt x="462572" y="340463"/>
                  </a:cubicBezTo>
                  <a:lnTo>
                    <a:pt x="297615" y="340463"/>
                  </a:lnTo>
                  <a:cubicBezTo>
                    <a:pt x="283749" y="340463"/>
                    <a:pt x="272274" y="329004"/>
                    <a:pt x="272274" y="315157"/>
                  </a:cubicBezTo>
                  <a:lnTo>
                    <a:pt x="272274" y="122740"/>
                  </a:lnTo>
                  <a:cubicBezTo>
                    <a:pt x="272274" y="108416"/>
                    <a:pt x="283749" y="96957"/>
                    <a:pt x="297615" y="96957"/>
                  </a:cubicBezTo>
                  <a:close/>
                  <a:moveTo>
                    <a:pt x="298127" y="0"/>
                  </a:moveTo>
                  <a:cubicBezTo>
                    <a:pt x="463564" y="0"/>
                    <a:pt x="597921" y="134181"/>
                    <a:pt x="597921" y="299401"/>
                  </a:cubicBezTo>
                  <a:cubicBezTo>
                    <a:pt x="597921" y="464143"/>
                    <a:pt x="463564" y="598324"/>
                    <a:pt x="298127" y="598324"/>
                  </a:cubicBezTo>
                  <a:cubicBezTo>
                    <a:pt x="188155" y="598324"/>
                    <a:pt x="87268" y="538635"/>
                    <a:pt x="35150" y="442177"/>
                  </a:cubicBezTo>
                  <a:cubicBezTo>
                    <a:pt x="33238" y="438835"/>
                    <a:pt x="32760" y="435492"/>
                    <a:pt x="34194" y="432149"/>
                  </a:cubicBezTo>
                  <a:cubicBezTo>
                    <a:pt x="35150" y="428807"/>
                    <a:pt x="37541" y="425942"/>
                    <a:pt x="40410" y="424509"/>
                  </a:cubicBezTo>
                  <a:lnTo>
                    <a:pt x="74836" y="407796"/>
                  </a:lnTo>
                  <a:cubicBezTo>
                    <a:pt x="81052" y="404931"/>
                    <a:pt x="88702" y="407319"/>
                    <a:pt x="91571" y="413049"/>
                  </a:cubicBezTo>
                  <a:cubicBezTo>
                    <a:pt x="133169" y="488018"/>
                    <a:pt x="212540" y="534815"/>
                    <a:pt x="298127" y="534815"/>
                  </a:cubicBezTo>
                  <a:cubicBezTo>
                    <a:pt x="428181" y="534815"/>
                    <a:pt x="534328" y="429284"/>
                    <a:pt x="534328" y="299401"/>
                  </a:cubicBezTo>
                  <a:cubicBezTo>
                    <a:pt x="534328" y="169517"/>
                    <a:pt x="428181" y="63509"/>
                    <a:pt x="298127" y="63509"/>
                  </a:cubicBezTo>
                  <a:cubicBezTo>
                    <a:pt x="242185" y="63509"/>
                    <a:pt x="187677" y="83565"/>
                    <a:pt x="145123" y="120333"/>
                  </a:cubicBezTo>
                  <a:lnTo>
                    <a:pt x="200587" y="142299"/>
                  </a:lnTo>
                  <a:cubicBezTo>
                    <a:pt x="204890" y="144209"/>
                    <a:pt x="207759" y="148029"/>
                    <a:pt x="208237" y="152327"/>
                  </a:cubicBezTo>
                  <a:cubicBezTo>
                    <a:pt x="208715" y="157102"/>
                    <a:pt x="207281" y="161399"/>
                    <a:pt x="203456" y="164265"/>
                  </a:cubicBezTo>
                  <a:lnTo>
                    <a:pt x="48060" y="285553"/>
                  </a:lnTo>
                  <a:cubicBezTo>
                    <a:pt x="44235" y="288418"/>
                    <a:pt x="39454" y="289373"/>
                    <a:pt x="35150" y="287463"/>
                  </a:cubicBezTo>
                  <a:cubicBezTo>
                    <a:pt x="31325" y="285553"/>
                    <a:pt x="27978" y="281733"/>
                    <a:pt x="27500" y="277435"/>
                  </a:cubicBezTo>
                  <a:lnTo>
                    <a:pt x="246" y="82132"/>
                  </a:lnTo>
                  <a:cubicBezTo>
                    <a:pt x="-710" y="77835"/>
                    <a:pt x="1203" y="73060"/>
                    <a:pt x="4550" y="70194"/>
                  </a:cubicBezTo>
                  <a:cubicBezTo>
                    <a:pt x="8375" y="67807"/>
                    <a:pt x="13156" y="66852"/>
                    <a:pt x="17459" y="68762"/>
                  </a:cubicBezTo>
                  <a:lnTo>
                    <a:pt x="80574" y="94070"/>
                  </a:lnTo>
                  <a:cubicBezTo>
                    <a:pt x="137472" y="33426"/>
                    <a:pt x="214931" y="0"/>
                    <a:pt x="298127"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39" name="任意多边形 271"/>
            <p:cNvSpPr/>
            <p:nvPr/>
          </p:nvSpPr>
          <p:spPr>
            <a:xfrm>
              <a:off x="1436040" y="3175560"/>
              <a:ext cx="618120" cy="574200"/>
            </a:xfrm>
            <a:custGeom>
              <a:avLst/>
              <a:gdLst/>
              <a:ahLst/>
              <a:rect l="l" t="t" r="r" b="b"/>
              <a:pathLst>
                <a:path w="6827" h="5912">
                  <a:moveTo>
                    <a:pt x="3413" y="0"/>
                  </a:moveTo>
                  <a:lnTo>
                    <a:pt x="0" y="5912"/>
                  </a:lnTo>
                  <a:lnTo>
                    <a:pt x="6827" y="5912"/>
                  </a:lnTo>
                  <a:lnTo>
                    <a:pt x="3413" y="0"/>
                  </a:lnTo>
                  <a:close/>
                  <a:moveTo>
                    <a:pt x="3413" y="972"/>
                  </a:moveTo>
                  <a:lnTo>
                    <a:pt x="4489" y="2835"/>
                  </a:lnTo>
                  <a:lnTo>
                    <a:pt x="2338" y="2835"/>
                  </a:lnTo>
                  <a:lnTo>
                    <a:pt x="3413" y="972"/>
                  </a:lnTo>
                  <a:close/>
                  <a:moveTo>
                    <a:pt x="842" y="5426"/>
                  </a:moveTo>
                  <a:lnTo>
                    <a:pt x="1917" y="3564"/>
                  </a:lnTo>
                  <a:lnTo>
                    <a:pt x="2993" y="5426"/>
                  </a:lnTo>
                  <a:lnTo>
                    <a:pt x="842" y="5426"/>
                  </a:lnTo>
                  <a:close/>
                  <a:moveTo>
                    <a:pt x="2338" y="3321"/>
                  </a:moveTo>
                  <a:lnTo>
                    <a:pt x="4489" y="3321"/>
                  </a:lnTo>
                  <a:lnTo>
                    <a:pt x="3413" y="5183"/>
                  </a:lnTo>
                  <a:lnTo>
                    <a:pt x="2338" y="3321"/>
                  </a:lnTo>
                  <a:close/>
                  <a:moveTo>
                    <a:pt x="4910" y="3564"/>
                  </a:moveTo>
                  <a:lnTo>
                    <a:pt x="5985" y="5426"/>
                  </a:lnTo>
                  <a:lnTo>
                    <a:pt x="3834" y="5426"/>
                  </a:lnTo>
                  <a:lnTo>
                    <a:pt x="4910" y="3564"/>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40" name="任意多边形 272"/>
            <p:cNvSpPr/>
            <p:nvPr/>
          </p:nvSpPr>
          <p:spPr>
            <a:xfrm>
              <a:off x="490320" y="4671720"/>
              <a:ext cx="361800" cy="336240"/>
            </a:xfrm>
            <a:custGeom>
              <a:avLst/>
              <a:gdLst/>
              <a:ahLst/>
              <a:rect l="l" t="t" r="r" b="b"/>
              <a:pathLst>
                <a:path w="582235" h="606722">
                  <a:moveTo>
                    <a:pt x="0" y="404481"/>
                  </a:moveTo>
                  <a:lnTo>
                    <a:pt x="101261" y="404481"/>
                  </a:lnTo>
                  <a:lnTo>
                    <a:pt x="101261" y="606722"/>
                  </a:lnTo>
                  <a:lnTo>
                    <a:pt x="0" y="606722"/>
                  </a:lnTo>
                  <a:lnTo>
                    <a:pt x="0" y="404481"/>
                  </a:lnTo>
                  <a:close/>
                  <a:moveTo>
                    <a:pt x="151927" y="328623"/>
                  </a:moveTo>
                  <a:lnTo>
                    <a:pt x="253188" y="328623"/>
                  </a:lnTo>
                  <a:lnTo>
                    <a:pt x="253188" y="606722"/>
                  </a:lnTo>
                  <a:lnTo>
                    <a:pt x="151927" y="606722"/>
                  </a:lnTo>
                  <a:lnTo>
                    <a:pt x="151927" y="328623"/>
                  </a:lnTo>
                  <a:close/>
                  <a:moveTo>
                    <a:pt x="303855" y="252766"/>
                  </a:moveTo>
                  <a:lnTo>
                    <a:pt x="405046" y="252766"/>
                  </a:lnTo>
                  <a:lnTo>
                    <a:pt x="405046" y="606722"/>
                  </a:lnTo>
                  <a:lnTo>
                    <a:pt x="303855" y="606722"/>
                  </a:lnTo>
                  <a:lnTo>
                    <a:pt x="303855" y="252766"/>
                  </a:lnTo>
                  <a:close/>
                  <a:moveTo>
                    <a:pt x="455711" y="202241"/>
                  </a:moveTo>
                  <a:lnTo>
                    <a:pt x="556972" y="202241"/>
                  </a:lnTo>
                  <a:lnTo>
                    <a:pt x="556972" y="606722"/>
                  </a:lnTo>
                  <a:lnTo>
                    <a:pt x="455711" y="606722"/>
                  </a:lnTo>
                  <a:lnTo>
                    <a:pt x="455711" y="202241"/>
                  </a:lnTo>
                  <a:close/>
                  <a:moveTo>
                    <a:pt x="455697" y="0"/>
                  </a:moveTo>
                  <a:lnTo>
                    <a:pt x="556785" y="0"/>
                  </a:lnTo>
                  <a:lnTo>
                    <a:pt x="556874" y="0"/>
                  </a:lnTo>
                  <a:lnTo>
                    <a:pt x="556963" y="0"/>
                  </a:lnTo>
                  <a:cubicBezTo>
                    <a:pt x="557230" y="0"/>
                    <a:pt x="557408" y="0"/>
                    <a:pt x="557675" y="0"/>
                  </a:cubicBezTo>
                  <a:cubicBezTo>
                    <a:pt x="558298" y="89"/>
                    <a:pt x="558832" y="89"/>
                    <a:pt x="559366" y="89"/>
                  </a:cubicBezTo>
                  <a:cubicBezTo>
                    <a:pt x="559811" y="178"/>
                    <a:pt x="560256" y="267"/>
                    <a:pt x="560611" y="267"/>
                  </a:cubicBezTo>
                  <a:cubicBezTo>
                    <a:pt x="561056" y="356"/>
                    <a:pt x="561412" y="444"/>
                    <a:pt x="561857" y="444"/>
                  </a:cubicBezTo>
                  <a:cubicBezTo>
                    <a:pt x="562302" y="533"/>
                    <a:pt x="562747" y="711"/>
                    <a:pt x="563192" y="800"/>
                  </a:cubicBezTo>
                  <a:cubicBezTo>
                    <a:pt x="563548" y="889"/>
                    <a:pt x="563904" y="978"/>
                    <a:pt x="564171" y="1067"/>
                  </a:cubicBezTo>
                  <a:cubicBezTo>
                    <a:pt x="564616" y="1156"/>
                    <a:pt x="565061" y="1333"/>
                    <a:pt x="565506" y="1511"/>
                  </a:cubicBezTo>
                  <a:cubicBezTo>
                    <a:pt x="565862" y="1600"/>
                    <a:pt x="566218" y="1778"/>
                    <a:pt x="566574" y="1867"/>
                  </a:cubicBezTo>
                  <a:cubicBezTo>
                    <a:pt x="566929" y="2044"/>
                    <a:pt x="567285" y="2222"/>
                    <a:pt x="567730" y="2400"/>
                  </a:cubicBezTo>
                  <a:cubicBezTo>
                    <a:pt x="568086" y="2578"/>
                    <a:pt x="568442" y="2755"/>
                    <a:pt x="568798" y="2933"/>
                  </a:cubicBezTo>
                  <a:cubicBezTo>
                    <a:pt x="569154" y="3111"/>
                    <a:pt x="569421" y="3289"/>
                    <a:pt x="569777" y="3467"/>
                  </a:cubicBezTo>
                  <a:cubicBezTo>
                    <a:pt x="570133" y="3733"/>
                    <a:pt x="570578" y="4000"/>
                    <a:pt x="570934" y="4178"/>
                  </a:cubicBezTo>
                  <a:cubicBezTo>
                    <a:pt x="571201" y="4444"/>
                    <a:pt x="571557" y="4622"/>
                    <a:pt x="571824" y="4800"/>
                  </a:cubicBezTo>
                  <a:cubicBezTo>
                    <a:pt x="572180" y="5155"/>
                    <a:pt x="572536" y="5422"/>
                    <a:pt x="572891" y="5689"/>
                  </a:cubicBezTo>
                  <a:cubicBezTo>
                    <a:pt x="573247" y="5955"/>
                    <a:pt x="573514" y="6222"/>
                    <a:pt x="573781" y="6489"/>
                  </a:cubicBezTo>
                  <a:cubicBezTo>
                    <a:pt x="574137" y="6755"/>
                    <a:pt x="574493" y="7022"/>
                    <a:pt x="574760" y="7289"/>
                  </a:cubicBezTo>
                  <a:cubicBezTo>
                    <a:pt x="575205" y="7733"/>
                    <a:pt x="575561" y="8178"/>
                    <a:pt x="575917" y="8533"/>
                  </a:cubicBezTo>
                  <a:cubicBezTo>
                    <a:pt x="576095" y="8711"/>
                    <a:pt x="576273" y="8889"/>
                    <a:pt x="576451" y="9066"/>
                  </a:cubicBezTo>
                  <a:cubicBezTo>
                    <a:pt x="576451" y="9155"/>
                    <a:pt x="576451" y="9155"/>
                    <a:pt x="576451" y="9155"/>
                  </a:cubicBezTo>
                  <a:cubicBezTo>
                    <a:pt x="576985" y="9777"/>
                    <a:pt x="577519" y="10489"/>
                    <a:pt x="577964" y="11200"/>
                  </a:cubicBezTo>
                  <a:cubicBezTo>
                    <a:pt x="577964" y="11200"/>
                    <a:pt x="578053" y="11289"/>
                    <a:pt x="578053" y="11289"/>
                  </a:cubicBezTo>
                  <a:cubicBezTo>
                    <a:pt x="578498" y="12000"/>
                    <a:pt x="578854" y="12622"/>
                    <a:pt x="579209" y="13244"/>
                  </a:cubicBezTo>
                  <a:cubicBezTo>
                    <a:pt x="579387" y="13600"/>
                    <a:pt x="579565" y="13955"/>
                    <a:pt x="579743" y="14222"/>
                  </a:cubicBezTo>
                  <a:cubicBezTo>
                    <a:pt x="579921" y="14666"/>
                    <a:pt x="580099" y="15111"/>
                    <a:pt x="580277" y="15555"/>
                  </a:cubicBezTo>
                  <a:cubicBezTo>
                    <a:pt x="580455" y="15911"/>
                    <a:pt x="580633" y="16266"/>
                    <a:pt x="580722" y="16711"/>
                  </a:cubicBezTo>
                  <a:cubicBezTo>
                    <a:pt x="580900" y="17066"/>
                    <a:pt x="581078" y="17422"/>
                    <a:pt x="581167" y="17866"/>
                  </a:cubicBezTo>
                  <a:cubicBezTo>
                    <a:pt x="581256" y="18311"/>
                    <a:pt x="581434" y="18755"/>
                    <a:pt x="581523" y="19199"/>
                  </a:cubicBezTo>
                  <a:cubicBezTo>
                    <a:pt x="581612" y="19555"/>
                    <a:pt x="581701" y="19910"/>
                    <a:pt x="581790" y="20266"/>
                  </a:cubicBezTo>
                  <a:cubicBezTo>
                    <a:pt x="581879" y="20977"/>
                    <a:pt x="582057" y="21777"/>
                    <a:pt x="582146" y="22488"/>
                  </a:cubicBezTo>
                  <a:cubicBezTo>
                    <a:pt x="582146" y="22577"/>
                    <a:pt x="582146" y="22666"/>
                    <a:pt x="582146" y="22666"/>
                  </a:cubicBezTo>
                  <a:cubicBezTo>
                    <a:pt x="582235" y="23555"/>
                    <a:pt x="582235" y="24355"/>
                    <a:pt x="582235" y="25244"/>
                  </a:cubicBezTo>
                  <a:lnTo>
                    <a:pt x="582235" y="126396"/>
                  </a:lnTo>
                  <a:cubicBezTo>
                    <a:pt x="582235" y="140351"/>
                    <a:pt x="570934" y="151728"/>
                    <a:pt x="556963" y="151728"/>
                  </a:cubicBezTo>
                  <a:cubicBezTo>
                    <a:pt x="542992" y="151728"/>
                    <a:pt x="531691" y="140351"/>
                    <a:pt x="531691" y="126396"/>
                  </a:cubicBezTo>
                  <a:lnTo>
                    <a:pt x="531691" y="79286"/>
                  </a:lnTo>
                  <a:lnTo>
                    <a:pt x="421260" y="171106"/>
                  </a:lnTo>
                  <a:cubicBezTo>
                    <a:pt x="410582" y="180083"/>
                    <a:pt x="394564" y="178572"/>
                    <a:pt x="385666" y="167906"/>
                  </a:cubicBezTo>
                  <a:cubicBezTo>
                    <a:pt x="376678" y="157150"/>
                    <a:pt x="378191" y="141240"/>
                    <a:pt x="388869" y="132262"/>
                  </a:cubicBezTo>
                  <a:lnTo>
                    <a:pt x="487020" y="50576"/>
                  </a:lnTo>
                  <a:lnTo>
                    <a:pt x="455697" y="50576"/>
                  </a:lnTo>
                  <a:cubicBezTo>
                    <a:pt x="441727" y="50576"/>
                    <a:pt x="430425" y="39288"/>
                    <a:pt x="430425" y="25244"/>
                  </a:cubicBezTo>
                  <a:cubicBezTo>
                    <a:pt x="430425" y="11289"/>
                    <a:pt x="441727" y="0"/>
                    <a:pt x="455697"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41" name="任意多边形 277"/>
            <p:cNvSpPr/>
            <p:nvPr/>
          </p:nvSpPr>
          <p:spPr>
            <a:xfrm flipH="1">
              <a:off x="1922760" y="4199760"/>
              <a:ext cx="488520" cy="482400"/>
            </a:xfrm>
            <a:custGeom>
              <a:avLst/>
              <a:gdLst/>
              <a:ahLst/>
              <a:rect l="l" t="t" r="r" b="b"/>
              <a:pathLst>
                <a:path w="120000" h="120000">
                  <a:moveTo>
                    <a:pt x="120000" y="60000"/>
                  </a:moveTo>
                  <a:lnTo>
                    <a:pt x="119945" y="63114"/>
                  </a:lnTo>
                  <a:lnTo>
                    <a:pt x="119728" y="66120"/>
                  </a:lnTo>
                  <a:lnTo>
                    <a:pt x="119294" y="69125"/>
                  </a:lnTo>
                  <a:lnTo>
                    <a:pt x="118751" y="72076"/>
                  </a:lnTo>
                  <a:lnTo>
                    <a:pt x="118154" y="74972"/>
                  </a:lnTo>
                  <a:lnTo>
                    <a:pt x="117286" y="77868"/>
                  </a:lnTo>
                  <a:lnTo>
                    <a:pt x="116363" y="80655"/>
                  </a:lnTo>
                  <a:lnTo>
                    <a:pt x="115278" y="83387"/>
                  </a:lnTo>
                  <a:lnTo>
                    <a:pt x="114138" y="86010"/>
                  </a:lnTo>
                  <a:lnTo>
                    <a:pt x="112781" y="88633"/>
                  </a:lnTo>
                  <a:lnTo>
                    <a:pt x="111316" y="91092"/>
                  </a:lnTo>
                  <a:lnTo>
                    <a:pt x="109742" y="93551"/>
                  </a:lnTo>
                  <a:lnTo>
                    <a:pt x="108113" y="95901"/>
                  </a:lnTo>
                  <a:lnTo>
                    <a:pt x="106322" y="98196"/>
                  </a:lnTo>
                  <a:lnTo>
                    <a:pt x="104423" y="100382"/>
                  </a:lnTo>
                  <a:lnTo>
                    <a:pt x="102415" y="102459"/>
                  </a:lnTo>
                  <a:lnTo>
                    <a:pt x="100352" y="104371"/>
                  </a:lnTo>
                  <a:lnTo>
                    <a:pt x="98181" y="106284"/>
                  </a:lnTo>
                  <a:lnTo>
                    <a:pt x="95902" y="108142"/>
                  </a:lnTo>
                  <a:lnTo>
                    <a:pt x="93568" y="109781"/>
                  </a:lnTo>
                  <a:lnTo>
                    <a:pt x="91126" y="111311"/>
                  </a:lnTo>
                  <a:lnTo>
                    <a:pt x="88575" y="112786"/>
                  </a:lnTo>
                  <a:lnTo>
                    <a:pt x="86024" y="114098"/>
                  </a:lnTo>
                  <a:lnTo>
                    <a:pt x="83364" y="115245"/>
                  </a:lnTo>
                  <a:lnTo>
                    <a:pt x="80651" y="116393"/>
                  </a:lnTo>
                  <a:lnTo>
                    <a:pt x="77829" y="117322"/>
                  </a:lnTo>
                  <a:lnTo>
                    <a:pt x="75006" y="118087"/>
                  </a:lnTo>
                  <a:lnTo>
                    <a:pt x="72130" y="118797"/>
                  </a:lnTo>
                  <a:lnTo>
                    <a:pt x="69145" y="119344"/>
                  </a:lnTo>
                  <a:lnTo>
                    <a:pt x="66160" y="119672"/>
                  </a:lnTo>
                  <a:lnTo>
                    <a:pt x="63066" y="119945"/>
                  </a:lnTo>
                  <a:lnTo>
                    <a:pt x="60027" y="120000"/>
                  </a:lnTo>
                  <a:lnTo>
                    <a:pt x="56933" y="119945"/>
                  </a:lnTo>
                  <a:lnTo>
                    <a:pt x="53894" y="119672"/>
                  </a:lnTo>
                  <a:lnTo>
                    <a:pt x="50854" y="119344"/>
                  </a:lnTo>
                  <a:lnTo>
                    <a:pt x="47924" y="118797"/>
                  </a:lnTo>
                  <a:lnTo>
                    <a:pt x="44993" y="118087"/>
                  </a:lnTo>
                  <a:lnTo>
                    <a:pt x="42170" y="117322"/>
                  </a:lnTo>
                  <a:lnTo>
                    <a:pt x="39402" y="116393"/>
                  </a:lnTo>
                  <a:lnTo>
                    <a:pt x="36689" y="115245"/>
                  </a:lnTo>
                  <a:lnTo>
                    <a:pt x="34029" y="114098"/>
                  </a:lnTo>
                  <a:lnTo>
                    <a:pt x="31424" y="112786"/>
                  </a:lnTo>
                  <a:lnTo>
                    <a:pt x="28873" y="111311"/>
                  </a:lnTo>
                  <a:lnTo>
                    <a:pt x="26485" y="109781"/>
                  </a:lnTo>
                  <a:lnTo>
                    <a:pt x="24097" y="108142"/>
                  </a:lnTo>
                  <a:lnTo>
                    <a:pt x="21872" y="106284"/>
                  </a:lnTo>
                  <a:lnTo>
                    <a:pt x="19701" y="104371"/>
                  </a:lnTo>
                  <a:lnTo>
                    <a:pt x="17584" y="102459"/>
                  </a:lnTo>
                  <a:lnTo>
                    <a:pt x="15576" y="100382"/>
                  </a:lnTo>
                  <a:lnTo>
                    <a:pt x="13731" y="98196"/>
                  </a:lnTo>
                  <a:lnTo>
                    <a:pt x="11940" y="95901"/>
                  </a:lnTo>
                  <a:lnTo>
                    <a:pt x="10312" y="93606"/>
                  </a:lnTo>
                  <a:lnTo>
                    <a:pt x="8683" y="91092"/>
                  </a:lnTo>
                  <a:lnTo>
                    <a:pt x="7272" y="88633"/>
                  </a:lnTo>
                  <a:lnTo>
                    <a:pt x="5915" y="86010"/>
                  </a:lnTo>
                  <a:lnTo>
                    <a:pt x="4721" y="83387"/>
                  </a:lnTo>
                  <a:lnTo>
                    <a:pt x="3690" y="80655"/>
                  </a:lnTo>
                  <a:lnTo>
                    <a:pt x="2713" y="77868"/>
                  </a:lnTo>
                  <a:lnTo>
                    <a:pt x="1899" y="74972"/>
                  </a:lnTo>
                  <a:lnTo>
                    <a:pt x="1248" y="72076"/>
                  </a:lnTo>
                  <a:lnTo>
                    <a:pt x="705" y="69125"/>
                  </a:lnTo>
                  <a:lnTo>
                    <a:pt x="325" y="66120"/>
                  </a:lnTo>
                  <a:lnTo>
                    <a:pt x="108" y="63114"/>
                  </a:lnTo>
                  <a:lnTo>
                    <a:pt x="0" y="60054"/>
                  </a:lnTo>
                  <a:lnTo>
                    <a:pt x="108" y="56885"/>
                  </a:lnTo>
                  <a:lnTo>
                    <a:pt x="325" y="53879"/>
                  </a:lnTo>
                  <a:lnTo>
                    <a:pt x="705" y="50874"/>
                  </a:lnTo>
                  <a:lnTo>
                    <a:pt x="1248" y="47923"/>
                  </a:lnTo>
                  <a:lnTo>
                    <a:pt x="1899" y="45027"/>
                  </a:lnTo>
                  <a:lnTo>
                    <a:pt x="2713" y="42131"/>
                  </a:lnTo>
                  <a:lnTo>
                    <a:pt x="3690" y="39344"/>
                  </a:lnTo>
                  <a:lnTo>
                    <a:pt x="4721" y="36666"/>
                  </a:lnTo>
                  <a:lnTo>
                    <a:pt x="5915" y="33989"/>
                  </a:lnTo>
                  <a:lnTo>
                    <a:pt x="7272" y="31366"/>
                  </a:lnTo>
                  <a:lnTo>
                    <a:pt x="8683" y="28907"/>
                  </a:lnTo>
                  <a:lnTo>
                    <a:pt x="10312" y="26502"/>
                  </a:lnTo>
                  <a:lnTo>
                    <a:pt x="11940" y="24098"/>
                  </a:lnTo>
                  <a:lnTo>
                    <a:pt x="13731" y="21857"/>
                  </a:lnTo>
                  <a:lnTo>
                    <a:pt x="15576" y="19672"/>
                  </a:lnTo>
                  <a:lnTo>
                    <a:pt x="17584" y="17595"/>
                  </a:lnTo>
                  <a:lnTo>
                    <a:pt x="19701" y="15628"/>
                  </a:lnTo>
                  <a:lnTo>
                    <a:pt x="21872" y="13715"/>
                  </a:lnTo>
                  <a:lnTo>
                    <a:pt x="24097" y="11967"/>
                  </a:lnTo>
                  <a:lnTo>
                    <a:pt x="26485" y="10218"/>
                  </a:lnTo>
                  <a:lnTo>
                    <a:pt x="28873" y="8688"/>
                  </a:lnTo>
                  <a:lnTo>
                    <a:pt x="31424" y="7267"/>
                  </a:lnTo>
                  <a:lnTo>
                    <a:pt x="34029" y="5956"/>
                  </a:lnTo>
                  <a:lnTo>
                    <a:pt x="36689" y="4754"/>
                  </a:lnTo>
                  <a:lnTo>
                    <a:pt x="39402" y="3661"/>
                  </a:lnTo>
                  <a:lnTo>
                    <a:pt x="42170" y="2732"/>
                  </a:lnTo>
                  <a:lnTo>
                    <a:pt x="44993" y="1912"/>
                  </a:lnTo>
                  <a:lnTo>
                    <a:pt x="47924" y="1256"/>
                  </a:lnTo>
                  <a:lnTo>
                    <a:pt x="50854" y="710"/>
                  </a:lnTo>
                  <a:lnTo>
                    <a:pt x="53894" y="327"/>
                  </a:lnTo>
                  <a:lnTo>
                    <a:pt x="56933" y="109"/>
                  </a:lnTo>
                  <a:lnTo>
                    <a:pt x="60027" y="0"/>
                  </a:lnTo>
                  <a:lnTo>
                    <a:pt x="63066" y="109"/>
                  </a:lnTo>
                  <a:lnTo>
                    <a:pt x="66160" y="327"/>
                  </a:lnTo>
                  <a:lnTo>
                    <a:pt x="69145" y="710"/>
                  </a:lnTo>
                  <a:lnTo>
                    <a:pt x="72130" y="1256"/>
                  </a:lnTo>
                  <a:lnTo>
                    <a:pt x="75006" y="1912"/>
                  </a:lnTo>
                  <a:lnTo>
                    <a:pt x="77829" y="2732"/>
                  </a:lnTo>
                  <a:lnTo>
                    <a:pt x="80651" y="3661"/>
                  </a:lnTo>
                  <a:lnTo>
                    <a:pt x="83364" y="4754"/>
                  </a:lnTo>
                  <a:lnTo>
                    <a:pt x="86024" y="5956"/>
                  </a:lnTo>
                  <a:lnTo>
                    <a:pt x="88575" y="7267"/>
                  </a:lnTo>
                  <a:lnTo>
                    <a:pt x="91126" y="8688"/>
                  </a:lnTo>
                  <a:lnTo>
                    <a:pt x="93568" y="10218"/>
                  </a:lnTo>
                  <a:lnTo>
                    <a:pt x="95902" y="11967"/>
                  </a:lnTo>
                  <a:lnTo>
                    <a:pt x="98181" y="13715"/>
                  </a:lnTo>
                  <a:lnTo>
                    <a:pt x="100352" y="15628"/>
                  </a:lnTo>
                  <a:lnTo>
                    <a:pt x="102415" y="17595"/>
                  </a:lnTo>
                  <a:lnTo>
                    <a:pt x="104423" y="19672"/>
                  </a:lnTo>
                  <a:lnTo>
                    <a:pt x="106322" y="21857"/>
                  </a:lnTo>
                  <a:lnTo>
                    <a:pt x="108113" y="24098"/>
                  </a:lnTo>
                  <a:lnTo>
                    <a:pt x="109742" y="26502"/>
                  </a:lnTo>
                  <a:lnTo>
                    <a:pt x="111316" y="28907"/>
                  </a:lnTo>
                  <a:lnTo>
                    <a:pt x="112781" y="31366"/>
                  </a:lnTo>
                  <a:lnTo>
                    <a:pt x="114138" y="33989"/>
                  </a:lnTo>
                  <a:lnTo>
                    <a:pt x="115278" y="36666"/>
                  </a:lnTo>
                  <a:lnTo>
                    <a:pt x="116363" y="39344"/>
                  </a:lnTo>
                  <a:lnTo>
                    <a:pt x="117286" y="42131"/>
                  </a:lnTo>
                  <a:lnTo>
                    <a:pt x="118154" y="45027"/>
                  </a:lnTo>
                  <a:lnTo>
                    <a:pt x="118751" y="47923"/>
                  </a:lnTo>
                  <a:lnTo>
                    <a:pt x="119294" y="50874"/>
                  </a:lnTo>
                  <a:lnTo>
                    <a:pt x="119728" y="53879"/>
                  </a:lnTo>
                  <a:lnTo>
                    <a:pt x="119945" y="56885"/>
                  </a:lnTo>
                  <a:lnTo>
                    <a:pt x="120000" y="60000"/>
                  </a:lnTo>
                  <a:close/>
                </a:path>
              </a:pathLst>
            </a:custGeom>
            <a:solidFill>
              <a:srgbClr val="9dc3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42" name="任意多边形 278"/>
            <p:cNvSpPr/>
            <p:nvPr/>
          </p:nvSpPr>
          <p:spPr>
            <a:xfrm flipH="1">
              <a:off x="853200" y="4254480"/>
              <a:ext cx="1987200" cy="2584440"/>
            </a:xfrm>
            <a:custGeom>
              <a:avLst/>
              <a:gdLst/>
              <a:ahLst/>
              <a:rect l="l" t="t" r="r" b="b"/>
              <a:pathLst>
                <a:path w="120000" h="120000">
                  <a:moveTo>
                    <a:pt x="30807" y="117092"/>
                  </a:moveTo>
                  <a:lnTo>
                    <a:pt x="30353" y="115898"/>
                  </a:lnTo>
                  <a:lnTo>
                    <a:pt x="29926" y="114714"/>
                  </a:lnTo>
                  <a:lnTo>
                    <a:pt x="29552" y="113571"/>
                  </a:lnTo>
                  <a:lnTo>
                    <a:pt x="29205" y="112419"/>
                  </a:lnTo>
                  <a:lnTo>
                    <a:pt x="28898" y="111306"/>
                  </a:lnTo>
                  <a:lnTo>
                    <a:pt x="28604" y="110204"/>
                  </a:lnTo>
                  <a:lnTo>
                    <a:pt x="28364" y="109113"/>
                  </a:lnTo>
                  <a:lnTo>
                    <a:pt x="28150" y="108041"/>
                  </a:lnTo>
                  <a:lnTo>
                    <a:pt x="27936" y="106980"/>
                  </a:lnTo>
                  <a:lnTo>
                    <a:pt x="27776" y="105939"/>
                  </a:lnTo>
                  <a:lnTo>
                    <a:pt x="27643" y="104909"/>
                  </a:lnTo>
                  <a:lnTo>
                    <a:pt x="27522" y="103889"/>
                  </a:lnTo>
                  <a:lnTo>
                    <a:pt x="27415" y="102868"/>
                  </a:lnTo>
                  <a:lnTo>
                    <a:pt x="27362" y="101879"/>
                  </a:lnTo>
                  <a:lnTo>
                    <a:pt x="27295" y="100889"/>
                  </a:lnTo>
                  <a:lnTo>
                    <a:pt x="27269" y="99909"/>
                  </a:lnTo>
                  <a:lnTo>
                    <a:pt x="27255" y="98930"/>
                  </a:lnTo>
                  <a:lnTo>
                    <a:pt x="27269" y="97971"/>
                  </a:lnTo>
                  <a:lnTo>
                    <a:pt x="27282" y="97012"/>
                  </a:lnTo>
                  <a:lnTo>
                    <a:pt x="27335" y="96063"/>
                  </a:lnTo>
                  <a:lnTo>
                    <a:pt x="27375" y="95124"/>
                  </a:lnTo>
                  <a:lnTo>
                    <a:pt x="27442" y="94185"/>
                  </a:lnTo>
                  <a:lnTo>
                    <a:pt x="27522" y="93247"/>
                  </a:lnTo>
                  <a:lnTo>
                    <a:pt x="27602" y="92318"/>
                  </a:lnTo>
                  <a:lnTo>
                    <a:pt x="27709" y="91390"/>
                  </a:lnTo>
                  <a:lnTo>
                    <a:pt x="27816" y="90451"/>
                  </a:lnTo>
                  <a:lnTo>
                    <a:pt x="27923" y="89522"/>
                  </a:lnTo>
                  <a:lnTo>
                    <a:pt x="28043" y="88604"/>
                  </a:lnTo>
                  <a:lnTo>
                    <a:pt x="28283" y="86747"/>
                  </a:lnTo>
                  <a:lnTo>
                    <a:pt x="28564" y="84880"/>
                  </a:lnTo>
                  <a:lnTo>
                    <a:pt x="28764" y="83401"/>
                  </a:lnTo>
                  <a:lnTo>
                    <a:pt x="28978" y="81901"/>
                  </a:lnTo>
                  <a:lnTo>
                    <a:pt x="29178" y="80391"/>
                  </a:lnTo>
                  <a:lnTo>
                    <a:pt x="29365" y="78870"/>
                  </a:lnTo>
                  <a:lnTo>
                    <a:pt x="29525" y="77340"/>
                  </a:lnTo>
                  <a:lnTo>
                    <a:pt x="29672" y="75769"/>
                  </a:lnTo>
                  <a:lnTo>
                    <a:pt x="29726" y="74993"/>
                  </a:lnTo>
                  <a:lnTo>
                    <a:pt x="29793" y="74197"/>
                  </a:lnTo>
                  <a:lnTo>
                    <a:pt x="29833" y="73391"/>
                  </a:lnTo>
                  <a:lnTo>
                    <a:pt x="29873" y="72585"/>
                  </a:lnTo>
                  <a:lnTo>
                    <a:pt x="29899" y="71779"/>
                  </a:lnTo>
                  <a:lnTo>
                    <a:pt x="29913" y="70953"/>
                  </a:lnTo>
                  <a:lnTo>
                    <a:pt x="29926" y="70126"/>
                  </a:lnTo>
                  <a:lnTo>
                    <a:pt x="29926" y="69290"/>
                  </a:lnTo>
                  <a:lnTo>
                    <a:pt x="29913" y="68453"/>
                  </a:lnTo>
                  <a:lnTo>
                    <a:pt x="29886" y="67586"/>
                  </a:lnTo>
                  <a:lnTo>
                    <a:pt x="29846" y="66729"/>
                  </a:lnTo>
                  <a:lnTo>
                    <a:pt x="29793" y="65861"/>
                  </a:lnTo>
                  <a:lnTo>
                    <a:pt x="29726" y="64974"/>
                  </a:lnTo>
                  <a:lnTo>
                    <a:pt x="29646" y="64086"/>
                  </a:lnTo>
                  <a:lnTo>
                    <a:pt x="29552" y="63178"/>
                  </a:lnTo>
                  <a:lnTo>
                    <a:pt x="29432" y="62260"/>
                  </a:lnTo>
                  <a:lnTo>
                    <a:pt x="29312" y="61351"/>
                  </a:lnTo>
                  <a:lnTo>
                    <a:pt x="29165" y="60413"/>
                  </a:lnTo>
                  <a:lnTo>
                    <a:pt x="29005" y="59464"/>
                  </a:lnTo>
                  <a:lnTo>
                    <a:pt x="28818" y="58505"/>
                  </a:lnTo>
                  <a:lnTo>
                    <a:pt x="28631" y="57597"/>
                  </a:lnTo>
                  <a:lnTo>
                    <a:pt x="28390" y="56689"/>
                  </a:lnTo>
                  <a:lnTo>
                    <a:pt x="28150" y="55801"/>
                  </a:lnTo>
                  <a:lnTo>
                    <a:pt x="27870" y="54903"/>
                  </a:lnTo>
                  <a:lnTo>
                    <a:pt x="27549" y="54026"/>
                  </a:lnTo>
                  <a:lnTo>
                    <a:pt x="27229" y="53138"/>
                  </a:lnTo>
                  <a:lnTo>
                    <a:pt x="26868" y="52260"/>
                  </a:lnTo>
                  <a:lnTo>
                    <a:pt x="26494" y="51383"/>
                  </a:lnTo>
                  <a:lnTo>
                    <a:pt x="26080" y="50516"/>
                  </a:lnTo>
                  <a:lnTo>
                    <a:pt x="25639" y="49648"/>
                  </a:lnTo>
                  <a:lnTo>
                    <a:pt x="25199" y="48781"/>
                  </a:lnTo>
                  <a:lnTo>
                    <a:pt x="24731" y="47914"/>
                  </a:lnTo>
                  <a:lnTo>
                    <a:pt x="24251" y="47067"/>
                  </a:lnTo>
                  <a:lnTo>
                    <a:pt x="23743" y="46200"/>
                  </a:lnTo>
                  <a:lnTo>
                    <a:pt x="23222" y="45353"/>
                  </a:lnTo>
                  <a:lnTo>
                    <a:pt x="22675" y="44506"/>
                  </a:lnTo>
                  <a:lnTo>
                    <a:pt x="22127" y="43659"/>
                  </a:lnTo>
                  <a:lnTo>
                    <a:pt x="21566" y="42822"/>
                  </a:lnTo>
                  <a:lnTo>
                    <a:pt x="20979" y="41976"/>
                  </a:lnTo>
                  <a:lnTo>
                    <a:pt x="20405" y="41139"/>
                  </a:lnTo>
                  <a:lnTo>
                    <a:pt x="19790" y="40312"/>
                  </a:lnTo>
                  <a:lnTo>
                    <a:pt x="19189" y="39476"/>
                  </a:lnTo>
                  <a:lnTo>
                    <a:pt x="18562" y="38649"/>
                  </a:lnTo>
                  <a:lnTo>
                    <a:pt x="17947" y="37823"/>
                  </a:lnTo>
                  <a:lnTo>
                    <a:pt x="16665" y="36180"/>
                  </a:lnTo>
                  <a:lnTo>
                    <a:pt x="15370" y="34548"/>
                  </a:lnTo>
                  <a:lnTo>
                    <a:pt x="14075" y="32915"/>
                  </a:lnTo>
                  <a:lnTo>
                    <a:pt x="12766" y="31293"/>
                  </a:lnTo>
                  <a:lnTo>
                    <a:pt x="11671" y="29926"/>
                  </a:lnTo>
                  <a:lnTo>
                    <a:pt x="10576" y="28568"/>
                  </a:lnTo>
                  <a:lnTo>
                    <a:pt x="9521" y="27222"/>
                  </a:lnTo>
                  <a:lnTo>
                    <a:pt x="8466" y="25875"/>
                  </a:lnTo>
                  <a:lnTo>
                    <a:pt x="7451" y="24559"/>
                  </a:lnTo>
                  <a:lnTo>
                    <a:pt x="6476" y="23232"/>
                  </a:lnTo>
                  <a:lnTo>
                    <a:pt x="6009" y="22579"/>
                  </a:lnTo>
                  <a:lnTo>
                    <a:pt x="5541" y="21926"/>
                  </a:lnTo>
                  <a:lnTo>
                    <a:pt x="5101" y="21283"/>
                  </a:lnTo>
                  <a:lnTo>
                    <a:pt x="4660" y="20641"/>
                  </a:lnTo>
                  <a:lnTo>
                    <a:pt x="4246" y="19998"/>
                  </a:lnTo>
                  <a:lnTo>
                    <a:pt x="3832" y="19355"/>
                  </a:lnTo>
                  <a:lnTo>
                    <a:pt x="3445" y="18722"/>
                  </a:lnTo>
                  <a:lnTo>
                    <a:pt x="3058" y="18080"/>
                  </a:lnTo>
                  <a:lnTo>
                    <a:pt x="2697" y="17447"/>
                  </a:lnTo>
                  <a:lnTo>
                    <a:pt x="2363" y="16825"/>
                  </a:lnTo>
                  <a:lnTo>
                    <a:pt x="2029" y="16202"/>
                  </a:lnTo>
                  <a:lnTo>
                    <a:pt x="1722" y="15580"/>
                  </a:lnTo>
                  <a:lnTo>
                    <a:pt x="1455" y="14968"/>
                  </a:lnTo>
                  <a:lnTo>
                    <a:pt x="1175" y="14355"/>
                  </a:lnTo>
                  <a:lnTo>
                    <a:pt x="948" y="13733"/>
                  </a:lnTo>
                  <a:lnTo>
                    <a:pt x="707" y="13131"/>
                  </a:lnTo>
                  <a:lnTo>
                    <a:pt x="520" y="12519"/>
                  </a:lnTo>
                  <a:lnTo>
                    <a:pt x="333" y="11927"/>
                  </a:lnTo>
                  <a:lnTo>
                    <a:pt x="186" y="11315"/>
                  </a:lnTo>
                  <a:lnTo>
                    <a:pt x="53" y="10723"/>
                  </a:lnTo>
                  <a:lnTo>
                    <a:pt x="13" y="10468"/>
                  </a:lnTo>
                  <a:lnTo>
                    <a:pt x="0" y="10223"/>
                  </a:lnTo>
                  <a:lnTo>
                    <a:pt x="13" y="9988"/>
                  </a:lnTo>
                  <a:lnTo>
                    <a:pt x="40" y="9754"/>
                  </a:lnTo>
                  <a:lnTo>
                    <a:pt x="80" y="9529"/>
                  </a:lnTo>
                  <a:lnTo>
                    <a:pt x="146" y="9315"/>
                  </a:lnTo>
                  <a:lnTo>
                    <a:pt x="213" y="9111"/>
                  </a:lnTo>
                  <a:lnTo>
                    <a:pt x="320" y="8917"/>
                  </a:lnTo>
                  <a:lnTo>
                    <a:pt x="413" y="8713"/>
                  </a:lnTo>
                  <a:lnTo>
                    <a:pt x="520" y="8540"/>
                  </a:lnTo>
                  <a:lnTo>
                    <a:pt x="654" y="8376"/>
                  </a:lnTo>
                  <a:lnTo>
                    <a:pt x="787" y="8213"/>
                  </a:lnTo>
                  <a:lnTo>
                    <a:pt x="908" y="8050"/>
                  </a:lnTo>
                  <a:lnTo>
                    <a:pt x="1041" y="7907"/>
                  </a:lnTo>
                  <a:lnTo>
                    <a:pt x="1188" y="7774"/>
                  </a:lnTo>
                  <a:lnTo>
                    <a:pt x="1322" y="7662"/>
                  </a:lnTo>
                  <a:lnTo>
                    <a:pt x="1575" y="7448"/>
                  </a:lnTo>
                  <a:lnTo>
                    <a:pt x="1842" y="7254"/>
                  </a:lnTo>
                  <a:lnTo>
                    <a:pt x="2136" y="7050"/>
                  </a:lnTo>
                  <a:lnTo>
                    <a:pt x="2443" y="6876"/>
                  </a:lnTo>
                  <a:lnTo>
                    <a:pt x="2737" y="6713"/>
                  </a:lnTo>
                  <a:lnTo>
                    <a:pt x="3084" y="6550"/>
                  </a:lnTo>
                  <a:lnTo>
                    <a:pt x="3418" y="6407"/>
                  </a:lnTo>
                  <a:lnTo>
                    <a:pt x="3752" y="6274"/>
                  </a:lnTo>
                  <a:lnTo>
                    <a:pt x="4113" y="6162"/>
                  </a:lnTo>
                  <a:lnTo>
                    <a:pt x="4460" y="6060"/>
                  </a:lnTo>
                  <a:lnTo>
                    <a:pt x="4820" y="5968"/>
                  </a:lnTo>
                  <a:lnTo>
                    <a:pt x="5194" y="5897"/>
                  </a:lnTo>
                  <a:lnTo>
                    <a:pt x="5568" y="5836"/>
                  </a:lnTo>
                  <a:lnTo>
                    <a:pt x="5929" y="5795"/>
                  </a:lnTo>
                  <a:lnTo>
                    <a:pt x="6303" y="5775"/>
                  </a:lnTo>
                  <a:lnTo>
                    <a:pt x="6663" y="5764"/>
                  </a:lnTo>
                  <a:lnTo>
                    <a:pt x="6850" y="5764"/>
                  </a:lnTo>
                  <a:lnTo>
                    <a:pt x="7064" y="5775"/>
                  </a:lnTo>
                  <a:lnTo>
                    <a:pt x="7264" y="5785"/>
                  </a:lnTo>
                  <a:lnTo>
                    <a:pt x="7478" y="5805"/>
                  </a:lnTo>
                  <a:lnTo>
                    <a:pt x="7678" y="5836"/>
                  </a:lnTo>
                  <a:lnTo>
                    <a:pt x="7905" y="5866"/>
                  </a:lnTo>
                  <a:lnTo>
                    <a:pt x="8132" y="5928"/>
                  </a:lnTo>
                  <a:lnTo>
                    <a:pt x="8359" y="5979"/>
                  </a:lnTo>
                  <a:lnTo>
                    <a:pt x="8573" y="6050"/>
                  </a:lnTo>
                  <a:lnTo>
                    <a:pt x="8787" y="6132"/>
                  </a:lnTo>
                  <a:lnTo>
                    <a:pt x="9000" y="6223"/>
                  </a:lnTo>
                  <a:lnTo>
                    <a:pt x="9214" y="6336"/>
                  </a:lnTo>
                  <a:lnTo>
                    <a:pt x="9414" y="6458"/>
                  </a:lnTo>
                  <a:lnTo>
                    <a:pt x="9614" y="6591"/>
                  </a:lnTo>
                  <a:lnTo>
                    <a:pt x="9801" y="6744"/>
                  </a:lnTo>
                  <a:lnTo>
                    <a:pt x="9975" y="6917"/>
                  </a:lnTo>
                  <a:lnTo>
                    <a:pt x="10576" y="7550"/>
                  </a:lnTo>
                  <a:lnTo>
                    <a:pt x="11204" y="8223"/>
                  </a:lnTo>
                  <a:lnTo>
                    <a:pt x="11858" y="8938"/>
                  </a:lnTo>
                  <a:lnTo>
                    <a:pt x="12512" y="9703"/>
                  </a:lnTo>
                  <a:lnTo>
                    <a:pt x="13193" y="10478"/>
                  </a:lnTo>
                  <a:lnTo>
                    <a:pt x="13888" y="11294"/>
                  </a:lnTo>
                  <a:lnTo>
                    <a:pt x="14596" y="12131"/>
                  </a:lnTo>
                  <a:lnTo>
                    <a:pt x="15330" y="12988"/>
                  </a:lnTo>
                  <a:lnTo>
                    <a:pt x="16652" y="14559"/>
                  </a:lnTo>
                  <a:lnTo>
                    <a:pt x="18028" y="16161"/>
                  </a:lnTo>
                  <a:lnTo>
                    <a:pt x="18722" y="16978"/>
                  </a:lnTo>
                  <a:lnTo>
                    <a:pt x="19443" y="17784"/>
                  </a:lnTo>
                  <a:lnTo>
                    <a:pt x="20151" y="18590"/>
                  </a:lnTo>
                  <a:lnTo>
                    <a:pt x="20885" y="19396"/>
                  </a:lnTo>
                  <a:lnTo>
                    <a:pt x="21606" y="20192"/>
                  </a:lnTo>
                  <a:lnTo>
                    <a:pt x="22341" y="20967"/>
                  </a:lnTo>
                  <a:lnTo>
                    <a:pt x="23089" y="21753"/>
                  </a:lnTo>
                  <a:lnTo>
                    <a:pt x="23837" y="22518"/>
                  </a:lnTo>
                  <a:lnTo>
                    <a:pt x="24611" y="23263"/>
                  </a:lnTo>
                  <a:lnTo>
                    <a:pt x="25372" y="23987"/>
                  </a:lnTo>
                  <a:lnTo>
                    <a:pt x="26133" y="24712"/>
                  </a:lnTo>
                  <a:lnTo>
                    <a:pt x="26921" y="25395"/>
                  </a:lnTo>
                  <a:lnTo>
                    <a:pt x="27709" y="26069"/>
                  </a:lnTo>
                  <a:lnTo>
                    <a:pt x="28497" y="26701"/>
                  </a:lnTo>
                  <a:lnTo>
                    <a:pt x="29272" y="27314"/>
                  </a:lnTo>
                  <a:lnTo>
                    <a:pt x="30073" y="27885"/>
                  </a:lnTo>
                  <a:lnTo>
                    <a:pt x="30874" y="28436"/>
                  </a:lnTo>
                  <a:lnTo>
                    <a:pt x="31675" y="28946"/>
                  </a:lnTo>
                  <a:lnTo>
                    <a:pt x="32477" y="29415"/>
                  </a:lnTo>
                  <a:lnTo>
                    <a:pt x="33291" y="29844"/>
                  </a:lnTo>
                  <a:lnTo>
                    <a:pt x="34106" y="30232"/>
                  </a:lnTo>
                  <a:lnTo>
                    <a:pt x="34920" y="30589"/>
                  </a:lnTo>
                  <a:lnTo>
                    <a:pt x="35735" y="30885"/>
                  </a:lnTo>
                  <a:lnTo>
                    <a:pt x="36550" y="31130"/>
                  </a:lnTo>
                  <a:lnTo>
                    <a:pt x="37378" y="31323"/>
                  </a:lnTo>
                  <a:lnTo>
                    <a:pt x="38192" y="31466"/>
                  </a:lnTo>
                  <a:lnTo>
                    <a:pt x="39020" y="31558"/>
                  </a:lnTo>
                  <a:lnTo>
                    <a:pt x="39821" y="31589"/>
                  </a:lnTo>
                  <a:lnTo>
                    <a:pt x="40222" y="31578"/>
                  </a:lnTo>
                  <a:lnTo>
                    <a:pt x="40609" y="31558"/>
                  </a:lnTo>
                  <a:lnTo>
                    <a:pt x="41010" y="31527"/>
                  </a:lnTo>
                  <a:lnTo>
                    <a:pt x="41384" y="31476"/>
                  </a:lnTo>
                  <a:lnTo>
                    <a:pt x="41571" y="31446"/>
                  </a:lnTo>
                  <a:lnTo>
                    <a:pt x="41771" y="31405"/>
                  </a:lnTo>
                  <a:lnTo>
                    <a:pt x="41958" y="31364"/>
                  </a:lnTo>
                  <a:lnTo>
                    <a:pt x="42172" y="31303"/>
                  </a:lnTo>
                  <a:lnTo>
                    <a:pt x="42586" y="31181"/>
                  </a:lnTo>
                  <a:lnTo>
                    <a:pt x="43013" y="31038"/>
                  </a:lnTo>
                  <a:lnTo>
                    <a:pt x="43427" y="30874"/>
                  </a:lnTo>
                  <a:lnTo>
                    <a:pt x="43868" y="30691"/>
                  </a:lnTo>
                  <a:lnTo>
                    <a:pt x="44295" y="30487"/>
                  </a:lnTo>
                  <a:lnTo>
                    <a:pt x="44722" y="30293"/>
                  </a:lnTo>
                  <a:lnTo>
                    <a:pt x="45136" y="30068"/>
                  </a:lnTo>
                  <a:lnTo>
                    <a:pt x="45550" y="29844"/>
                  </a:lnTo>
                  <a:lnTo>
                    <a:pt x="45951" y="29630"/>
                  </a:lnTo>
                  <a:lnTo>
                    <a:pt x="46338" y="29405"/>
                  </a:lnTo>
                  <a:lnTo>
                    <a:pt x="47033" y="28987"/>
                  </a:lnTo>
                  <a:lnTo>
                    <a:pt x="47660" y="28599"/>
                  </a:lnTo>
                  <a:lnTo>
                    <a:pt x="47727" y="28568"/>
                  </a:lnTo>
                  <a:lnTo>
                    <a:pt x="48275" y="28201"/>
                  </a:lnTo>
                  <a:lnTo>
                    <a:pt x="48809" y="27824"/>
                  </a:lnTo>
                  <a:lnTo>
                    <a:pt x="49356" y="27426"/>
                  </a:lnTo>
                  <a:lnTo>
                    <a:pt x="49917" y="26987"/>
                  </a:lnTo>
                  <a:lnTo>
                    <a:pt x="50465" y="26538"/>
                  </a:lnTo>
                  <a:lnTo>
                    <a:pt x="51026" y="26069"/>
                  </a:lnTo>
                  <a:lnTo>
                    <a:pt x="51600" y="25569"/>
                  </a:lnTo>
                  <a:lnTo>
                    <a:pt x="52161" y="25059"/>
                  </a:lnTo>
                  <a:lnTo>
                    <a:pt x="52735" y="24528"/>
                  </a:lnTo>
                  <a:lnTo>
                    <a:pt x="53296" y="23987"/>
                  </a:lnTo>
                  <a:lnTo>
                    <a:pt x="53870" y="23426"/>
                  </a:lnTo>
                  <a:lnTo>
                    <a:pt x="54444" y="22855"/>
                  </a:lnTo>
                  <a:lnTo>
                    <a:pt x="55018" y="22273"/>
                  </a:lnTo>
                  <a:lnTo>
                    <a:pt x="55593" y="21661"/>
                  </a:lnTo>
                  <a:lnTo>
                    <a:pt x="56167" y="21049"/>
                  </a:lnTo>
                  <a:lnTo>
                    <a:pt x="56741" y="20416"/>
                  </a:lnTo>
                  <a:lnTo>
                    <a:pt x="57890" y="19151"/>
                  </a:lnTo>
                  <a:lnTo>
                    <a:pt x="59051" y="17835"/>
                  </a:lnTo>
                  <a:lnTo>
                    <a:pt x="60200" y="16488"/>
                  </a:lnTo>
                  <a:lnTo>
                    <a:pt x="61335" y="15151"/>
                  </a:lnTo>
                  <a:lnTo>
                    <a:pt x="62470" y="13774"/>
                  </a:lnTo>
                  <a:lnTo>
                    <a:pt x="63592" y="12427"/>
                  </a:lnTo>
                  <a:lnTo>
                    <a:pt x="64687" y="11070"/>
                  </a:lnTo>
                  <a:lnTo>
                    <a:pt x="65782" y="9723"/>
                  </a:lnTo>
                  <a:lnTo>
                    <a:pt x="66276" y="9121"/>
                  </a:lnTo>
                  <a:lnTo>
                    <a:pt x="66757" y="8529"/>
                  </a:lnTo>
                  <a:lnTo>
                    <a:pt x="67237" y="7938"/>
                  </a:lnTo>
                  <a:lnTo>
                    <a:pt x="67718" y="7356"/>
                  </a:lnTo>
                  <a:lnTo>
                    <a:pt x="68172" y="6785"/>
                  </a:lnTo>
                  <a:lnTo>
                    <a:pt x="68640" y="6213"/>
                  </a:lnTo>
                  <a:lnTo>
                    <a:pt x="69107" y="5662"/>
                  </a:lnTo>
                  <a:lnTo>
                    <a:pt x="69574" y="5111"/>
                  </a:lnTo>
                  <a:lnTo>
                    <a:pt x="70028" y="4581"/>
                  </a:lnTo>
                  <a:lnTo>
                    <a:pt x="70456" y="4050"/>
                  </a:lnTo>
                  <a:lnTo>
                    <a:pt x="70896" y="3540"/>
                  </a:lnTo>
                  <a:lnTo>
                    <a:pt x="71337" y="3050"/>
                  </a:lnTo>
                  <a:lnTo>
                    <a:pt x="71751" y="2561"/>
                  </a:lnTo>
                  <a:lnTo>
                    <a:pt x="72165" y="2091"/>
                  </a:lnTo>
                  <a:lnTo>
                    <a:pt x="72566" y="1642"/>
                  </a:lnTo>
                  <a:lnTo>
                    <a:pt x="72980" y="1203"/>
                  </a:lnTo>
                  <a:lnTo>
                    <a:pt x="73100" y="1061"/>
                  </a:lnTo>
                  <a:lnTo>
                    <a:pt x="73260" y="928"/>
                  </a:lnTo>
                  <a:lnTo>
                    <a:pt x="73420" y="806"/>
                  </a:lnTo>
                  <a:lnTo>
                    <a:pt x="73594" y="683"/>
                  </a:lnTo>
                  <a:lnTo>
                    <a:pt x="73794" y="591"/>
                  </a:lnTo>
                  <a:lnTo>
                    <a:pt x="73981" y="489"/>
                  </a:lnTo>
                  <a:lnTo>
                    <a:pt x="74182" y="387"/>
                  </a:lnTo>
                  <a:lnTo>
                    <a:pt x="74395" y="316"/>
                  </a:lnTo>
                  <a:lnTo>
                    <a:pt x="74622" y="244"/>
                  </a:lnTo>
                  <a:lnTo>
                    <a:pt x="74849" y="183"/>
                  </a:lnTo>
                  <a:lnTo>
                    <a:pt x="75090" y="122"/>
                  </a:lnTo>
                  <a:lnTo>
                    <a:pt x="75343" y="81"/>
                  </a:lnTo>
                  <a:lnTo>
                    <a:pt x="75584" y="51"/>
                  </a:lnTo>
                  <a:lnTo>
                    <a:pt x="75851" y="30"/>
                  </a:lnTo>
                  <a:lnTo>
                    <a:pt x="76131" y="0"/>
                  </a:lnTo>
                  <a:lnTo>
                    <a:pt x="76398" y="0"/>
                  </a:lnTo>
                  <a:lnTo>
                    <a:pt x="76786" y="10"/>
                  </a:lnTo>
                  <a:lnTo>
                    <a:pt x="77160" y="40"/>
                  </a:lnTo>
                  <a:lnTo>
                    <a:pt x="77533" y="81"/>
                  </a:lnTo>
                  <a:lnTo>
                    <a:pt x="77921" y="132"/>
                  </a:lnTo>
                  <a:lnTo>
                    <a:pt x="78281" y="214"/>
                  </a:lnTo>
                  <a:lnTo>
                    <a:pt x="78655" y="306"/>
                  </a:lnTo>
                  <a:lnTo>
                    <a:pt x="79016" y="397"/>
                  </a:lnTo>
                  <a:lnTo>
                    <a:pt x="79376" y="510"/>
                  </a:lnTo>
                  <a:lnTo>
                    <a:pt x="79737" y="642"/>
                  </a:lnTo>
                  <a:lnTo>
                    <a:pt x="80071" y="785"/>
                  </a:lnTo>
                  <a:lnTo>
                    <a:pt x="80405" y="938"/>
                  </a:lnTo>
                  <a:lnTo>
                    <a:pt x="80725" y="1101"/>
                  </a:lnTo>
                  <a:lnTo>
                    <a:pt x="81006" y="1295"/>
                  </a:lnTo>
                  <a:lnTo>
                    <a:pt x="81299" y="1479"/>
                  </a:lnTo>
                  <a:lnTo>
                    <a:pt x="81580" y="1683"/>
                  </a:lnTo>
                  <a:lnTo>
                    <a:pt x="81820" y="1887"/>
                  </a:lnTo>
                  <a:lnTo>
                    <a:pt x="81954" y="2010"/>
                  </a:lnTo>
                  <a:lnTo>
                    <a:pt x="82087" y="2142"/>
                  </a:lnTo>
                  <a:lnTo>
                    <a:pt x="82221" y="2275"/>
                  </a:lnTo>
                  <a:lnTo>
                    <a:pt x="82341" y="2428"/>
                  </a:lnTo>
                  <a:lnTo>
                    <a:pt x="82461" y="2581"/>
                  </a:lnTo>
                  <a:lnTo>
                    <a:pt x="82581" y="2734"/>
                  </a:lnTo>
                  <a:lnTo>
                    <a:pt x="82675" y="2918"/>
                  </a:lnTo>
                  <a:lnTo>
                    <a:pt x="82782" y="3091"/>
                  </a:lnTo>
                  <a:lnTo>
                    <a:pt x="82875" y="3295"/>
                  </a:lnTo>
                  <a:lnTo>
                    <a:pt x="82942" y="3479"/>
                  </a:lnTo>
                  <a:lnTo>
                    <a:pt x="82995" y="3683"/>
                  </a:lnTo>
                  <a:lnTo>
                    <a:pt x="83049" y="3897"/>
                  </a:lnTo>
                  <a:lnTo>
                    <a:pt x="83062" y="4122"/>
                  </a:lnTo>
                  <a:lnTo>
                    <a:pt x="83062" y="4346"/>
                  </a:lnTo>
                  <a:lnTo>
                    <a:pt x="83049" y="4591"/>
                  </a:lnTo>
                  <a:lnTo>
                    <a:pt x="83009" y="4836"/>
                  </a:lnTo>
                  <a:lnTo>
                    <a:pt x="82835" y="5611"/>
                  </a:lnTo>
                  <a:lnTo>
                    <a:pt x="82635" y="6377"/>
                  </a:lnTo>
                  <a:lnTo>
                    <a:pt x="82421" y="7142"/>
                  </a:lnTo>
                  <a:lnTo>
                    <a:pt x="82181" y="7897"/>
                  </a:lnTo>
                  <a:lnTo>
                    <a:pt x="81927" y="8662"/>
                  </a:lnTo>
                  <a:lnTo>
                    <a:pt x="81633" y="9407"/>
                  </a:lnTo>
                  <a:lnTo>
                    <a:pt x="81326" y="10152"/>
                  </a:lnTo>
                  <a:lnTo>
                    <a:pt x="81006" y="10897"/>
                  </a:lnTo>
                  <a:lnTo>
                    <a:pt x="80672" y="11631"/>
                  </a:lnTo>
                  <a:lnTo>
                    <a:pt x="80311" y="12366"/>
                  </a:lnTo>
                  <a:lnTo>
                    <a:pt x="79951" y="13090"/>
                  </a:lnTo>
                  <a:lnTo>
                    <a:pt x="79563" y="13815"/>
                  </a:lnTo>
                  <a:lnTo>
                    <a:pt x="79163" y="14529"/>
                  </a:lnTo>
                  <a:lnTo>
                    <a:pt x="78749" y="15233"/>
                  </a:lnTo>
                  <a:lnTo>
                    <a:pt x="78321" y="15947"/>
                  </a:lnTo>
                  <a:lnTo>
                    <a:pt x="77881" y="16651"/>
                  </a:lnTo>
                  <a:lnTo>
                    <a:pt x="77440" y="17345"/>
                  </a:lnTo>
                  <a:lnTo>
                    <a:pt x="76986" y="18039"/>
                  </a:lnTo>
                  <a:lnTo>
                    <a:pt x="76519" y="18733"/>
                  </a:lnTo>
                  <a:lnTo>
                    <a:pt x="76038" y="19406"/>
                  </a:lnTo>
                  <a:lnTo>
                    <a:pt x="75557" y="20090"/>
                  </a:lnTo>
                  <a:lnTo>
                    <a:pt x="75063" y="20763"/>
                  </a:lnTo>
                  <a:lnTo>
                    <a:pt x="74582" y="21426"/>
                  </a:lnTo>
                  <a:lnTo>
                    <a:pt x="74088" y="22079"/>
                  </a:lnTo>
                  <a:lnTo>
                    <a:pt x="73087" y="23395"/>
                  </a:lnTo>
                  <a:lnTo>
                    <a:pt x="72085" y="24691"/>
                  </a:lnTo>
                  <a:lnTo>
                    <a:pt x="71083" y="25956"/>
                  </a:lnTo>
                  <a:lnTo>
                    <a:pt x="70082" y="27201"/>
                  </a:lnTo>
                  <a:lnTo>
                    <a:pt x="68947" y="28640"/>
                  </a:lnTo>
                  <a:lnTo>
                    <a:pt x="67825" y="30048"/>
                  </a:lnTo>
                  <a:lnTo>
                    <a:pt x="67291" y="30742"/>
                  </a:lnTo>
                  <a:lnTo>
                    <a:pt x="66770" y="31425"/>
                  </a:lnTo>
                  <a:lnTo>
                    <a:pt x="66263" y="32109"/>
                  </a:lnTo>
                  <a:lnTo>
                    <a:pt x="65768" y="32782"/>
                  </a:lnTo>
                  <a:lnTo>
                    <a:pt x="65288" y="33456"/>
                  </a:lnTo>
                  <a:lnTo>
                    <a:pt x="64834" y="34119"/>
                  </a:lnTo>
                  <a:lnTo>
                    <a:pt x="64406" y="34772"/>
                  </a:lnTo>
                  <a:lnTo>
                    <a:pt x="63979" y="35415"/>
                  </a:lnTo>
                  <a:lnTo>
                    <a:pt x="63592" y="36058"/>
                  </a:lnTo>
                  <a:lnTo>
                    <a:pt x="63218" y="36690"/>
                  </a:lnTo>
                  <a:lnTo>
                    <a:pt x="62884" y="37313"/>
                  </a:lnTo>
                  <a:lnTo>
                    <a:pt x="62563" y="37935"/>
                  </a:lnTo>
                  <a:lnTo>
                    <a:pt x="62296" y="38537"/>
                  </a:lnTo>
                  <a:lnTo>
                    <a:pt x="62043" y="39149"/>
                  </a:lnTo>
                  <a:lnTo>
                    <a:pt x="61829" y="39741"/>
                  </a:lnTo>
                  <a:lnTo>
                    <a:pt x="61655" y="40323"/>
                  </a:lnTo>
                  <a:lnTo>
                    <a:pt x="61522" y="40914"/>
                  </a:lnTo>
                  <a:lnTo>
                    <a:pt x="61402" y="41486"/>
                  </a:lnTo>
                  <a:lnTo>
                    <a:pt x="61348" y="42047"/>
                  </a:lnTo>
                  <a:lnTo>
                    <a:pt x="61335" y="42598"/>
                  </a:lnTo>
                  <a:lnTo>
                    <a:pt x="61348" y="43149"/>
                  </a:lnTo>
                  <a:lnTo>
                    <a:pt x="61402" y="43690"/>
                  </a:lnTo>
                  <a:lnTo>
                    <a:pt x="61522" y="44220"/>
                  </a:lnTo>
                  <a:lnTo>
                    <a:pt x="61682" y="44741"/>
                  </a:lnTo>
                  <a:lnTo>
                    <a:pt x="61896" y="45251"/>
                  </a:lnTo>
                  <a:lnTo>
                    <a:pt x="62150" y="45761"/>
                  </a:lnTo>
                  <a:lnTo>
                    <a:pt x="62470" y="46261"/>
                  </a:lnTo>
                  <a:lnTo>
                    <a:pt x="62831" y="46740"/>
                  </a:lnTo>
                  <a:lnTo>
                    <a:pt x="63124" y="47077"/>
                  </a:lnTo>
                  <a:lnTo>
                    <a:pt x="63432" y="47393"/>
                  </a:lnTo>
                  <a:lnTo>
                    <a:pt x="63752" y="47689"/>
                  </a:lnTo>
                  <a:lnTo>
                    <a:pt x="64086" y="47995"/>
                  </a:lnTo>
                  <a:lnTo>
                    <a:pt x="64433" y="48281"/>
                  </a:lnTo>
                  <a:lnTo>
                    <a:pt x="64780" y="48557"/>
                  </a:lnTo>
                  <a:lnTo>
                    <a:pt x="65154" y="48822"/>
                  </a:lnTo>
                  <a:lnTo>
                    <a:pt x="65555" y="49057"/>
                  </a:lnTo>
                  <a:lnTo>
                    <a:pt x="65955" y="49301"/>
                  </a:lnTo>
                  <a:lnTo>
                    <a:pt x="66383" y="49536"/>
                  </a:lnTo>
                  <a:lnTo>
                    <a:pt x="66810" y="49771"/>
                  </a:lnTo>
                  <a:lnTo>
                    <a:pt x="67251" y="49975"/>
                  </a:lnTo>
                  <a:lnTo>
                    <a:pt x="67718" y="50179"/>
                  </a:lnTo>
                  <a:lnTo>
                    <a:pt x="68199" y="50363"/>
                  </a:lnTo>
                  <a:lnTo>
                    <a:pt x="68693" y="50536"/>
                  </a:lnTo>
                  <a:lnTo>
                    <a:pt x="69200" y="50720"/>
                  </a:lnTo>
                  <a:lnTo>
                    <a:pt x="69721" y="50873"/>
                  </a:lnTo>
                  <a:lnTo>
                    <a:pt x="70255" y="51016"/>
                  </a:lnTo>
                  <a:lnTo>
                    <a:pt x="70803" y="51158"/>
                  </a:lnTo>
                  <a:lnTo>
                    <a:pt x="71377" y="51281"/>
                  </a:lnTo>
                  <a:lnTo>
                    <a:pt x="71951" y="51403"/>
                  </a:lnTo>
                  <a:lnTo>
                    <a:pt x="72552" y="51505"/>
                  </a:lnTo>
                  <a:lnTo>
                    <a:pt x="73180" y="51607"/>
                  </a:lnTo>
                  <a:lnTo>
                    <a:pt x="73808" y="51689"/>
                  </a:lnTo>
                  <a:lnTo>
                    <a:pt x="74435" y="51760"/>
                  </a:lnTo>
                  <a:lnTo>
                    <a:pt x="75116" y="51832"/>
                  </a:lnTo>
                  <a:lnTo>
                    <a:pt x="75784" y="51883"/>
                  </a:lnTo>
                  <a:lnTo>
                    <a:pt x="76478" y="51924"/>
                  </a:lnTo>
                  <a:lnTo>
                    <a:pt x="77173" y="51975"/>
                  </a:lnTo>
                  <a:lnTo>
                    <a:pt x="77894" y="51995"/>
                  </a:lnTo>
                  <a:lnTo>
                    <a:pt x="78642" y="52005"/>
                  </a:lnTo>
                  <a:lnTo>
                    <a:pt x="79403" y="52015"/>
                  </a:lnTo>
                  <a:lnTo>
                    <a:pt x="80178" y="52005"/>
                  </a:lnTo>
                  <a:lnTo>
                    <a:pt x="80979" y="51995"/>
                  </a:lnTo>
                  <a:lnTo>
                    <a:pt x="81780" y="51964"/>
                  </a:lnTo>
                  <a:lnTo>
                    <a:pt x="82595" y="51924"/>
                  </a:lnTo>
                  <a:lnTo>
                    <a:pt x="83396" y="51883"/>
                  </a:lnTo>
                  <a:lnTo>
                    <a:pt x="84224" y="51832"/>
                  </a:lnTo>
                  <a:lnTo>
                    <a:pt x="85038" y="51771"/>
                  </a:lnTo>
                  <a:lnTo>
                    <a:pt x="85866" y="51699"/>
                  </a:lnTo>
                  <a:lnTo>
                    <a:pt x="86694" y="51618"/>
                  </a:lnTo>
                  <a:lnTo>
                    <a:pt x="87522" y="51546"/>
                  </a:lnTo>
                  <a:lnTo>
                    <a:pt x="88364" y="51444"/>
                  </a:lnTo>
                  <a:lnTo>
                    <a:pt x="89192" y="51342"/>
                  </a:lnTo>
                  <a:lnTo>
                    <a:pt x="90861" y="51138"/>
                  </a:lnTo>
                  <a:lnTo>
                    <a:pt x="92530" y="50903"/>
                  </a:lnTo>
                  <a:lnTo>
                    <a:pt x="94186" y="50648"/>
                  </a:lnTo>
                  <a:lnTo>
                    <a:pt x="95829" y="50383"/>
                  </a:lnTo>
                  <a:lnTo>
                    <a:pt x="97471" y="50107"/>
                  </a:lnTo>
                  <a:lnTo>
                    <a:pt x="99087" y="49822"/>
                  </a:lnTo>
                  <a:lnTo>
                    <a:pt x="100676" y="49536"/>
                  </a:lnTo>
                  <a:lnTo>
                    <a:pt x="102225" y="49250"/>
                  </a:lnTo>
                  <a:lnTo>
                    <a:pt x="103734" y="48955"/>
                  </a:lnTo>
                  <a:lnTo>
                    <a:pt x="105217" y="48679"/>
                  </a:lnTo>
                  <a:lnTo>
                    <a:pt x="106552" y="48424"/>
                  </a:lnTo>
                  <a:lnTo>
                    <a:pt x="107847" y="48169"/>
                  </a:lnTo>
                  <a:lnTo>
                    <a:pt x="109089" y="47934"/>
                  </a:lnTo>
                  <a:lnTo>
                    <a:pt x="110278" y="47730"/>
                  </a:lnTo>
                  <a:lnTo>
                    <a:pt x="111399" y="47526"/>
                  </a:lnTo>
                  <a:lnTo>
                    <a:pt x="112468" y="47353"/>
                  </a:lnTo>
                  <a:lnTo>
                    <a:pt x="113469" y="47200"/>
                  </a:lnTo>
                  <a:lnTo>
                    <a:pt x="114431" y="47067"/>
                  </a:lnTo>
                  <a:lnTo>
                    <a:pt x="114578" y="47057"/>
                  </a:lnTo>
                  <a:lnTo>
                    <a:pt x="114738" y="47047"/>
                  </a:lnTo>
                  <a:lnTo>
                    <a:pt x="114885" y="47036"/>
                  </a:lnTo>
                  <a:lnTo>
                    <a:pt x="115032" y="47036"/>
                  </a:lnTo>
                  <a:lnTo>
                    <a:pt x="115232" y="47036"/>
                  </a:lnTo>
                  <a:lnTo>
                    <a:pt x="115432" y="47057"/>
                  </a:lnTo>
                  <a:lnTo>
                    <a:pt x="115633" y="47077"/>
                  </a:lnTo>
                  <a:lnTo>
                    <a:pt x="115833" y="47098"/>
                  </a:lnTo>
                  <a:lnTo>
                    <a:pt x="116020" y="47138"/>
                  </a:lnTo>
                  <a:lnTo>
                    <a:pt x="116207" y="47189"/>
                  </a:lnTo>
                  <a:lnTo>
                    <a:pt x="116394" y="47240"/>
                  </a:lnTo>
                  <a:lnTo>
                    <a:pt x="116581" y="47291"/>
                  </a:lnTo>
                  <a:lnTo>
                    <a:pt x="116754" y="47363"/>
                  </a:lnTo>
                  <a:lnTo>
                    <a:pt x="116928" y="47444"/>
                  </a:lnTo>
                  <a:lnTo>
                    <a:pt x="117088" y="47516"/>
                  </a:lnTo>
                  <a:lnTo>
                    <a:pt x="117262" y="47608"/>
                  </a:lnTo>
                  <a:lnTo>
                    <a:pt x="117422" y="47689"/>
                  </a:lnTo>
                  <a:lnTo>
                    <a:pt x="117582" y="47791"/>
                  </a:lnTo>
                  <a:lnTo>
                    <a:pt x="117729" y="47893"/>
                  </a:lnTo>
                  <a:lnTo>
                    <a:pt x="117876" y="47995"/>
                  </a:lnTo>
                  <a:lnTo>
                    <a:pt x="118170" y="48220"/>
                  </a:lnTo>
                  <a:lnTo>
                    <a:pt x="118424" y="48465"/>
                  </a:lnTo>
                  <a:lnTo>
                    <a:pt x="118677" y="48720"/>
                  </a:lnTo>
                  <a:lnTo>
                    <a:pt x="118904" y="48985"/>
                  </a:lnTo>
                  <a:lnTo>
                    <a:pt x="119105" y="49261"/>
                  </a:lnTo>
                  <a:lnTo>
                    <a:pt x="119305" y="49536"/>
                  </a:lnTo>
                  <a:lnTo>
                    <a:pt x="119465" y="49822"/>
                  </a:lnTo>
                  <a:lnTo>
                    <a:pt x="119586" y="50107"/>
                  </a:lnTo>
                  <a:lnTo>
                    <a:pt x="119719" y="50403"/>
                  </a:lnTo>
                  <a:lnTo>
                    <a:pt x="119826" y="50720"/>
                  </a:lnTo>
                  <a:lnTo>
                    <a:pt x="119893" y="51036"/>
                  </a:lnTo>
                  <a:lnTo>
                    <a:pt x="119959" y="51352"/>
                  </a:lnTo>
                  <a:lnTo>
                    <a:pt x="119986" y="51689"/>
                  </a:lnTo>
                  <a:lnTo>
                    <a:pt x="120000" y="52015"/>
                  </a:lnTo>
                  <a:lnTo>
                    <a:pt x="119986" y="52179"/>
                  </a:lnTo>
                  <a:lnTo>
                    <a:pt x="119973" y="52352"/>
                  </a:lnTo>
                  <a:lnTo>
                    <a:pt x="119946" y="52515"/>
                  </a:lnTo>
                  <a:lnTo>
                    <a:pt x="119906" y="52679"/>
                  </a:lnTo>
                  <a:lnTo>
                    <a:pt x="119866" y="52842"/>
                  </a:lnTo>
                  <a:lnTo>
                    <a:pt x="119826" y="53005"/>
                  </a:lnTo>
                  <a:lnTo>
                    <a:pt x="119759" y="53179"/>
                  </a:lnTo>
                  <a:lnTo>
                    <a:pt x="119692" y="53332"/>
                  </a:lnTo>
                  <a:lnTo>
                    <a:pt x="119626" y="53495"/>
                  </a:lnTo>
                  <a:lnTo>
                    <a:pt x="119532" y="53648"/>
                  </a:lnTo>
                  <a:lnTo>
                    <a:pt x="119425" y="53801"/>
                  </a:lnTo>
                  <a:lnTo>
                    <a:pt x="119332" y="53954"/>
                  </a:lnTo>
                  <a:lnTo>
                    <a:pt x="119212" y="54097"/>
                  </a:lnTo>
                  <a:lnTo>
                    <a:pt x="119078" y="54240"/>
                  </a:lnTo>
                  <a:lnTo>
                    <a:pt x="118958" y="54393"/>
                  </a:lnTo>
                  <a:lnTo>
                    <a:pt x="118798" y="54536"/>
                  </a:lnTo>
                  <a:lnTo>
                    <a:pt x="118637" y="54668"/>
                  </a:lnTo>
                  <a:lnTo>
                    <a:pt x="118464" y="54791"/>
                  </a:lnTo>
                  <a:lnTo>
                    <a:pt x="118277" y="54913"/>
                  </a:lnTo>
                  <a:lnTo>
                    <a:pt x="118077" y="55036"/>
                  </a:lnTo>
                  <a:lnTo>
                    <a:pt x="117329" y="55464"/>
                  </a:lnTo>
                  <a:lnTo>
                    <a:pt x="116567" y="55862"/>
                  </a:lnTo>
                  <a:lnTo>
                    <a:pt x="115780" y="56240"/>
                  </a:lnTo>
                  <a:lnTo>
                    <a:pt x="115005" y="56607"/>
                  </a:lnTo>
                  <a:lnTo>
                    <a:pt x="114204" y="56944"/>
                  </a:lnTo>
                  <a:lnTo>
                    <a:pt x="113403" y="57280"/>
                  </a:lnTo>
                  <a:lnTo>
                    <a:pt x="112575" y="57586"/>
                  </a:lnTo>
                  <a:lnTo>
                    <a:pt x="111747" y="57872"/>
                  </a:lnTo>
                  <a:lnTo>
                    <a:pt x="110919" y="58148"/>
                  </a:lnTo>
                  <a:lnTo>
                    <a:pt x="110064" y="58403"/>
                  </a:lnTo>
                  <a:lnTo>
                    <a:pt x="109196" y="58658"/>
                  </a:lnTo>
                  <a:lnTo>
                    <a:pt x="108328" y="58872"/>
                  </a:lnTo>
                  <a:lnTo>
                    <a:pt x="107460" y="59097"/>
                  </a:lnTo>
                  <a:lnTo>
                    <a:pt x="106565" y="59311"/>
                  </a:lnTo>
                  <a:lnTo>
                    <a:pt x="105671" y="59494"/>
                  </a:lnTo>
                  <a:lnTo>
                    <a:pt x="104762" y="59678"/>
                  </a:lnTo>
                  <a:lnTo>
                    <a:pt x="103854" y="59852"/>
                  </a:lnTo>
                  <a:lnTo>
                    <a:pt x="102933" y="60015"/>
                  </a:lnTo>
                  <a:lnTo>
                    <a:pt x="102012" y="60158"/>
                  </a:lnTo>
                  <a:lnTo>
                    <a:pt x="101077" y="60300"/>
                  </a:lnTo>
                  <a:lnTo>
                    <a:pt x="100129" y="60443"/>
                  </a:lnTo>
                  <a:lnTo>
                    <a:pt x="99194" y="60566"/>
                  </a:lnTo>
                  <a:lnTo>
                    <a:pt x="98232" y="60688"/>
                  </a:lnTo>
                  <a:lnTo>
                    <a:pt x="97271" y="60811"/>
                  </a:lnTo>
                  <a:lnTo>
                    <a:pt x="95334" y="61015"/>
                  </a:lnTo>
                  <a:lnTo>
                    <a:pt x="93371" y="61229"/>
                  </a:lnTo>
                  <a:lnTo>
                    <a:pt x="91395" y="61413"/>
                  </a:lnTo>
                  <a:lnTo>
                    <a:pt x="89405" y="61596"/>
                  </a:lnTo>
                  <a:lnTo>
                    <a:pt x="86921" y="61841"/>
                  </a:lnTo>
                  <a:lnTo>
                    <a:pt x="84451" y="62086"/>
                  </a:lnTo>
                  <a:lnTo>
                    <a:pt x="83209" y="62219"/>
                  </a:lnTo>
                  <a:lnTo>
                    <a:pt x="81967" y="62351"/>
                  </a:lnTo>
                  <a:lnTo>
                    <a:pt x="80738" y="62504"/>
                  </a:lnTo>
                  <a:lnTo>
                    <a:pt x="79496" y="62657"/>
                  </a:lnTo>
                  <a:lnTo>
                    <a:pt x="78281" y="62821"/>
                  </a:lnTo>
                  <a:lnTo>
                    <a:pt x="77053" y="63015"/>
                  </a:lnTo>
                  <a:lnTo>
                    <a:pt x="75837" y="63208"/>
                  </a:lnTo>
                  <a:lnTo>
                    <a:pt x="74636" y="63423"/>
                  </a:lnTo>
                  <a:lnTo>
                    <a:pt x="73434" y="63637"/>
                  </a:lnTo>
                  <a:lnTo>
                    <a:pt x="72245" y="63892"/>
                  </a:lnTo>
                  <a:lnTo>
                    <a:pt x="71070" y="64157"/>
                  </a:lnTo>
                  <a:lnTo>
                    <a:pt x="69908" y="64443"/>
                  </a:lnTo>
                  <a:lnTo>
                    <a:pt x="68746" y="64759"/>
                  </a:lnTo>
                  <a:lnTo>
                    <a:pt x="67611" y="65086"/>
                  </a:lnTo>
                  <a:lnTo>
                    <a:pt x="66476" y="65453"/>
                  </a:lnTo>
                  <a:lnTo>
                    <a:pt x="65368" y="65841"/>
                  </a:lnTo>
                  <a:lnTo>
                    <a:pt x="64273" y="66249"/>
                  </a:lnTo>
                  <a:lnTo>
                    <a:pt x="63191" y="66688"/>
                  </a:lnTo>
                  <a:lnTo>
                    <a:pt x="62136" y="67157"/>
                  </a:lnTo>
                  <a:lnTo>
                    <a:pt x="61081" y="67667"/>
                  </a:lnTo>
                  <a:lnTo>
                    <a:pt x="60066" y="68208"/>
                  </a:lnTo>
                  <a:lnTo>
                    <a:pt x="59065" y="68779"/>
                  </a:lnTo>
                  <a:lnTo>
                    <a:pt x="58090" y="69392"/>
                  </a:lnTo>
                  <a:lnTo>
                    <a:pt x="57128" y="70034"/>
                  </a:lnTo>
                  <a:lnTo>
                    <a:pt x="56194" y="70728"/>
                  </a:lnTo>
                  <a:lnTo>
                    <a:pt x="55286" y="71463"/>
                  </a:lnTo>
                  <a:lnTo>
                    <a:pt x="54404" y="72218"/>
                  </a:lnTo>
                  <a:lnTo>
                    <a:pt x="53549" y="73034"/>
                  </a:lnTo>
                  <a:lnTo>
                    <a:pt x="52388" y="74401"/>
                  </a:lnTo>
                  <a:lnTo>
                    <a:pt x="51293" y="75809"/>
                  </a:lnTo>
                  <a:lnTo>
                    <a:pt x="50278" y="77248"/>
                  </a:lnTo>
                  <a:lnTo>
                    <a:pt x="49330" y="78717"/>
                  </a:lnTo>
                  <a:lnTo>
                    <a:pt x="48435" y="80217"/>
                  </a:lnTo>
                  <a:lnTo>
                    <a:pt x="47620" y="81737"/>
                  </a:lnTo>
                  <a:lnTo>
                    <a:pt x="46846" y="83268"/>
                  </a:lnTo>
                  <a:lnTo>
                    <a:pt x="46151" y="84829"/>
                  </a:lnTo>
                  <a:lnTo>
                    <a:pt x="45497" y="86380"/>
                  </a:lnTo>
                  <a:lnTo>
                    <a:pt x="44896" y="87951"/>
                  </a:lnTo>
                  <a:lnTo>
                    <a:pt x="44362" y="89522"/>
                  </a:lnTo>
                  <a:lnTo>
                    <a:pt x="43868" y="91094"/>
                  </a:lnTo>
                  <a:lnTo>
                    <a:pt x="43414" y="92645"/>
                  </a:lnTo>
                  <a:lnTo>
                    <a:pt x="43026" y="94196"/>
                  </a:lnTo>
                  <a:lnTo>
                    <a:pt x="42666" y="95726"/>
                  </a:lnTo>
                  <a:lnTo>
                    <a:pt x="42345" y="97236"/>
                  </a:lnTo>
                  <a:lnTo>
                    <a:pt x="42065" y="98736"/>
                  </a:lnTo>
                  <a:lnTo>
                    <a:pt x="41825" y="100195"/>
                  </a:lnTo>
                  <a:lnTo>
                    <a:pt x="41598" y="101624"/>
                  </a:lnTo>
                  <a:lnTo>
                    <a:pt x="41424" y="103011"/>
                  </a:lnTo>
                  <a:lnTo>
                    <a:pt x="41277" y="104368"/>
                  </a:lnTo>
                  <a:lnTo>
                    <a:pt x="41144" y="105684"/>
                  </a:lnTo>
                  <a:lnTo>
                    <a:pt x="41063" y="106939"/>
                  </a:lnTo>
                  <a:lnTo>
                    <a:pt x="40970" y="108154"/>
                  </a:lnTo>
                  <a:lnTo>
                    <a:pt x="40930" y="109296"/>
                  </a:lnTo>
                  <a:lnTo>
                    <a:pt x="40890" y="110398"/>
                  </a:lnTo>
                  <a:lnTo>
                    <a:pt x="40863" y="111419"/>
                  </a:lnTo>
                  <a:lnTo>
                    <a:pt x="40863" y="112367"/>
                  </a:lnTo>
                  <a:lnTo>
                    <a:pt x="40863" y="113245"/>
                  </a:lnTo>
                  <a:lnTo>
                    <a:pt x="40876" y="114051"/>
                  </a:lnTo>
                  <a:lnTo>
                    <a:pt x="40890" y="114786"/>
                  </a:lnTo>
                  <a:lnTo>
                    <a:pt x="40916" y="115408"/>
                  </a:lnTo>
                  <a:lnTo>
                    <a:pt x="40903" y="115755"/>
                  </a:lnTo>
                  <a:lnTo>
                    <a:pt x="40863" y="116092"/>
                  </a:lnTo>
                  <a:lnTo>
                    <a:pt x="40756" y="116439"/>
                  </a:lnTo>
                  <a:lnTo>
                    <a:pt x="40623" y="116765"/>
                  </a:lnTo>
                  <a:lnTo>
                    <a:pt x="40436" y="117102"/>
                  </a:lnTo>
                  <a:lnTo>
                    <a:pt x="40235" y="117408"/>
                  </a:lnTo>
                  <a:lnTo>
                    <a:pt x="39982" y="117714"/>
                  </a:lnTo>
                  <a:lnTo>
                    <a:pt x="39715" y="118010"/>
                  </a:lnTo>
                  <a:lnTo>
                    <a:pt x="39407" y="118285"/>
                  </a:lnTo>
                  <a:lnTo>
                    <a:pt x="39087" y="118551"/>
                  </a:lnTo>
                  <a:lnTo>
                    <a:pt x="38740" y="118806"/>
                  </a:lnTo>
                  <a:lnTo>
                    <a:pt x="38366" y="119040"/>
                  </a:lnTo>
                  <a:lnTo>
                    <a:pt x="37979" y="119244"/>
                  </a:lnTo>
                  <a:lnTo>
                    <a:pt x="37578" y="119438"/>
                  </a:lnTo>
                  <a:lnTo>
                    <a:pt x="37151" y="119602"/>
                  </a:lnTo>
                  <a:lnTo>
                    <a:pt x="36737" y="119734"/>
                  </a:lnTo>
                  <a:lnTo>
                    <a:pt x="36309" y="119846"/>
                  </a:lnTo>
                  <a:lnTo>
                    <a:pt x="35869" y="119938"/>
                  </a:lnTo>
                  <a:lnTo>
                    <a:pt x="35441" y="119979"/>
                  </a:lnTo>
                  <a:lnTo>
                    <a:pt x="35001" y="120000"/>
                  </a:lnTo>
                  <a:lnTo>
                    <a:pt x="34573" y="119989"/>
                  </a:lnTo>
                  <a:lnTo>
                    <a:pt x="34146" y="119938"/>
                  </a:lnTo>
                  <a:lnTo>
                    <a:pt x="33719" y="119846"/>
                  </a:lnTo>
                  <a:lnTo>
                    <a:pt x="33318" y="119724"/>
                  </a:lnTo>
                  <a:lnTo>
                    <a:pt x="32931" y="119551"/>
                  </a:lnTo>
                  <a:lnTo>
                    <a:pt x="32557" y="119336"/>
                  </a:lnTo>
                  <a:lnTo>
                    <a:pt x="32196" y="119081"/>
                  </a:lnTo>
                  <a:lnTo>
                    <a:pt x="31862" y="118785"/>
                  </a:lnTo>
                  <a:lnTo>
                    <a:pt x="31555" y="118438"/>
                  </a:lnTo>
                  <a:lnTo>
                    <a:pt x="31275" y="118040"/>
                  </a:lnTo>
                  <a:lnTo>
                    <a:pt x="31021" y="117581"/>
                  </a:lnTo>
                  <a:lnTo>
                    <a:pt x="30807" y="117092"/>
                  </a:lnTo>
                  <a:close/>
                </a:path>
              </a:pathLst>
            </a:custGeom>
            <a:solidFill>
              <a:srgbClr val="9dc3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543" name="矩形 36"/>
          <p:cNvSpPr/>
          <p:nvPr/>
        </p:nvSpPr>
        <p:spPr>
          <a:xfrm>
            <a:off x="2852640" y="90360"/>
            <a:ext cx="66279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e10d4"/>
                </a:solidFill>
                <a:latin typeface="微软雅黑"/>
                <a:ea typeface="微软雅黑"/>
              </a:rPr>
              <a:t>任务二 签订审计业务约定书</a:t>
            </a:r>
            <a:endParaRPr b="1" lang="en-US" sz="4000" spc="-1" strike="noStrike">
              <a:solidFill>
                <a:srgbClr val="000000"/>
              </a:solidFill>
              <a:latin typeface="Arial"/>
            </a:endParaRPr>
          </a:p>
        </p:txBody>
      </p:sp>
      <p:sp>
        <p:nvSpPr>
          <p:cNvPr id="1544" name="矩形 1"/>
          <p:cNvSpPr/>
          <p:nvPr/>
        </p:nvSpPr>
        <p:spPr>
          <a:xfrm>
            <a:off x="3819600" y="809640"/>
            <a:ext cx="519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三、审计业务约定书的内容</a:t>
            </a:r>
            <a:endParaRPr b="1" lang="en-US" sz="3200" spc="-1" strike="noStrike">
              <a:solidFill>
                <a:srgbClr val="000000"/>
              </a:solidFill>
              <a:latin typeface="Arial"/>
            </a:endParaRPr>
          </a:p>
        </p:txBody>
      </p:sp>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dur="indefinite" nodeType="afterEffect" fill="hold" presetClass="entr" presetID="2" presetSubtype="4">
                                  <p:stCondLst>
                                    <p:cond delay="0"/>
                                  </p:stCondLst>
                                  <p:childTnLst>
                                    <p:set>
                                      <p:cBhvr>
                                        <p:cTn id="133" dur="1" fill="hold">
                                          <p:stCondLst>
                                            <p:cond delay="0"/>
                                          </p:stCondLst>
                                        </p:cTn>
                                        <p:tgtEl>
                                          <p:spTgt spid="1513"/>
                                        </p:tgtEl>
                                        <p:attrNameLst>
                                          <p:attrName>style.visibility</p:attrName>
                                        </p:attrNameLst>
                                      </p:cBhvr>
                                      <p:to>
                                        <p:strVal val="visible"/>
                                      </p:to>
                                    </p:set>
                                    <p:anim calcmode="lin" valueType="num">
                                      <p:cBhvr additive="repl">
                                        <p:cTn id="134" dur="500" fill="hold"/>
                                        <p:tgtEl>
                                          <p:spTgt spid="1513"/>
                                        </p:tgtEl>
                                        <p:attrNameLst>
                                          <p:attrName>ppt_x</p:attrName>
                                        </p:attrNameLst>
                                      </p:cBhvr>
                                      <p:tavLst>
                                        <p:tav tm="0">
                                          <p:val>
                                            <p:strVal val="#ppt_x"/>
                                          </p:val>
                                        </p:tav>
                                        <p:tav tm="100000">
                                          <p:val>
                                            <p:strVal val="#ppt_x"/>
                                          </p:val>
                                        </p:tav>
                                      </p:tavLst>
                                    </p:anim>
                                    <p:anim calcmode="lin" valueType="num">
                                      <p:cBhvr additive="repl">
                                        <p:cTn id="135" dur="500" fill="hold"/>
                                        <p:tgtEl>
                                          <p:spTgt spid="1513"/>
                                        </p:tgtEl>
                                        <p:attrNameLst>
                                          <p:attrName>ppt_y</p:attrName>
                                        </p:attrNameLst>
                                      </p:cBhvr>
                                      <p:tavLst>
                                        <p:tav tm="0">
                                          <p:val>
                                            <p:strVal val="1+#ppt_h/2"/>
                                          </p:val>
                                        </p:tav>
                                        <p:tav tm="100000">
                                          <p:val>
                                            <p:strVal val="#ppt_y"/>
                                          </p:val>
                                        </p:tav>
                                      </p:tavLst>
                                    </p:anim>
                                  </p:childTnLst>
                                </p:cTn>
                              </p:par>
                            </p:childTnLst>
                          </p:cTn>
                        </p:par>
                        <p:par>
                          <p:cTn id="136" fill="hold">
                            <p:stCondLst>
                              <p:cond delay="500"/>
                            </p:stCondLst>
                            <p:childTnLst>
                              <p:par>
                                <p:cTn id="137" dur="indefinite" nodeType="afterEffect" fill="hold" presetClass="entr" presetID="2" presetSubtype="4">
                                  <p:stCondLst>
                                    <p:cond delay="0"/>
                                  </p:stCondLst>
                                  <p:childTnLst>
                                    <p:set>
                                      <p:cBhvr>
                                        <p:cTn id="138" dur="1" fill="hold">
                                          <p:stCondLst>
                                            <p:cond delay="0"/>
                                          </p:stCondLst>
                                        </p:cTn>
                                        <p:tgtEl>
                                          <p:spTgt spid="1516"/>
                                        </p:tgtEl>
                                        <p:attrNameLst>
                                          <p:attrName>style.visibility</p:attrName>
                                        </p:attrNameLst>
                                      </p:cBhvr>
                                      <p:to>
                                        <p:strVal val="visible"/>
                                      </p:to>
                                    </p:set>
                                    <p:anim calcmode="lin" valueType="num">
                                      <p:cBhvr additive="repl">
                                        <p:cTn id="139" dur="500" fill="hold"/>
                                        <p:tgtEl>
                                          <p:spTgt spid="1516"/>
                                        </p:tgtEl>
                                        <p:attrNameLst>
                                          <p:attrName>ppt_x</p:attrName>
                                        </p:attrNameLst>
                                      </p:cBhvr>
                                      <p:tavLst>
                                        <p:tav tm="0">
                                          <p:val>
                                            <p:strVal val="#ppt_x"/>
                                          </p:val>
                                        </p:tav>
                                        <p:tav tm="100000">
                                          <p:val>
                                            <p:strVal val="#ppt_x"/>
                                          </p:val>
                                        </p:tav>
                                      </p:tavLst>
                                    </p:anim>
                                    <p:anim calcmode="lin" valueType="num">
                                      <p:cBhvr additive="repl">
                                        <p:cTn id="140" dur="500" fill="hold"/>
                                        <p:tgtEl>
                                          <p:spTgt spid="1516"/>
                                        </p:tgtEl>
                                        <p:attrNameLst>
                                          <p:attrName>ppt_y</p:attrName>
                                        </p:attrNameLst>
                                      </p:cBhvr>
                                      <p:tavLst>
                                        <p:tav tm="0">
                                          <p:val>
                                            <p:strVal val="1+#ppt_h/2"/>
                                          </p:val>
                                        </p:tav>
                                        <p:tav tm="100000">
                                          <p:val>
                                            <p:strVal val="#ppt_y"/>
                                          </p:val>
                                        </p:tav>
                                      </p:tavLst>
                                    </p:anim>
                                  </p:childTnLst>
                                </p:cTn>
                              </p:par>
                            </p:childTnLst>
                          </p:cTn>
                        </p:par>
                        <p:par>
                          <p:cTn id="141" fill="hold">
                            <p:stCondLst>
                              <p:cond delay="1000"/>
                            </p:stCondLst>
                            <p:childTnLst>
                              <p:par>
                                <p:cTn id="142" dur="indefinite" nodeType="afterEffect" fill="hold" presetClass="entr" presetID="2" presetSubtype="4">
                                  <p:stCondLst>
                                    <p:cond delay="0"/>
                                  </p:stCondLst>
                                  <p:childTnLst>
                                    <p:set>
                                      <p:cBhvr>
                                        <p:cTn id="143" dur="1" fill="hold">
                                          <p:stCondLst>
                                            <p:cond delay="0"/>
                                          </p:stCondLst>
                                        </p:cTn>
                                        <p:tgtEl>
                                          <p:spTgt spid="1519"/>
                                        </p:tgtEl>
                                        <p:attrNameLst>
                                          <p:attrName>style.visibility</p:attrName>
                                        </p:attrNameLst>
                                      </p:cBhvr>
                                      <p:to>
                                        <p:strVal val="visible"/>
                                      </p:to>
                                    </p:set>
                                    <p:anim calcmode="lin" valueType="num">
                                      <p:cBhvr additive="repl">
                                        <p:cTn id="144" dur="500" fill="hold"/>
                                        <p:tgtEl>
                                          <p:spTgt spid="1519"/>
                                        </p:tgtEl>
                                        <p:attrNameLst>
                                          <p:attrName>ppt_x</p:attrName>
                                        </p:attrNameLst>
                                      </p:cBhvr>
                                      <p:tavLst>
                                        <p:tav tm="0">
                                          <p:val>
                                            <p:strVal val="#ppt_x"/>
                                          </p:val>
                                        </p:tav>
                                        <p:tav tm="100000">
                                          <p:val>
                                            <p:strVal val="#ppt_x"/>
                                          </p:val>
                                        </p:tav>
                                      </p:tavLst>
                                    </p:anim>
                                    <p:anim calcmode="lin" valueType="num">
                                      <p:cBhvr additive="repl">
                                        <p:cTn id="145" dur="500" fill="hold"/>
                                        <p:tgtEl>
                                          <p:spTgt spid="1519"/>
                                        </p:tgtEl>
                                        <p:attrNameLst>
                                          <p:attrName>ppt_y</p:attrName>
                                        </p:attrNameLst>
                                      </p:cBhvr>
                                      <p:tavLst>
                                        <p:tav tm="0">
                                          <p:val>
                                            <p:strVal val="1+#ppt_h/2"/>
                                          </p:val>
                                        </p:tav>
                                        <p:tav tm="100000">
                                          <p:val>
                                            <p:strVal val="#ppt_y"/>
                                          </p:val>
                                        </p:tav>
                                      </p:tavLst>
                                    </p:anim>
                                  </p:childTnLst>
                                </p:cTn>
                              </p:par>
                            </p:childTnLst>
                          </p:cTn>
                        </p:par>
                        <p:par>
                          <p:cTn id="146" fill="hold">
                            <p:stCondLst>
                              <p:cond delay="1500"/>
                            </p:stCondLst>
                            <p:childTnLst>
                              <p:par>
                                <p:cTn id="147" dur="indefinite" nodeType="afterEffect" fill="hold" presetClass="entr" presetID="2" presetSubtype="4">
                                  <p:stCondLst>
                                    <p:cond delay="0"/>
                                  </p:stCondLst>
                                  <p:childTnLst>
                                    <p:set>
                                      <p:cBhvr>
                                        <p:cTn id="148" dur="1" fill="hold">
                                          <p:stCondLst>
                                            <p:cond delay="0"/>
                                          </p:stCondLst>
                                        </p:cTn>
                                        <p:tgtEl>
                                          <p:spTgt spid="1522"/>
                                        </p:tgtEl>
                                        <p:attrNameLst>
                                          <p:attrName>style.visibility</p:attrName>
                                        </p:attrNameLst>
                                      </p:cBhvr>
                                      <p:to>
                                        <p:strVal val="visible"/>
                                      </p:to>
                                    </p:set>
                                    <p:anim calcmode="lin" valueType="num">
                                      <p:cBhvr additive="repl">
                                        <p:cTn id="149" dur="500" fill="hold"/>
                                        <p:tgtEl>
                                          <p:spTgt spid="1522"/>
                                        </p:tgtEl>
                                        <p:attrNameLst>
                                          <p:attrName>ppt_x</p:attrName>
                                        </p:attrNameLst>
                                      </p:cBhvr>
                                      <p:tavLst>
                                        <p:tav tm="0">
                                          <p:val>
                                            <p:strVal val="#ppt_x"/>
                                          </p:val>
                                        </p:tav>
                                        <p:tav tm="100000">
                                          <p:val>
                                            <p:strVal val="#ppt_x"/>
                                          </p:val>
                                        </p:tav>
                                      </p:tavLst>
                                    </p:anim>
                                    <p:anim calcmode="lin" valueType="num">
                                      <p:cBhvr additive="repl">
                                        <p:cTn id="150" dur="500" fill="hold"/>
                                        <p:tgtEl>
                                          <p:spTgt spid="1522"/>
                                        </p:tgtEl>
                                        <p:attrNameLst>
                                          <p:attrName>ppt_y</p:attrName>
                                        </p:attrNameLst>
                                      </p:cBhvr>
                                      <p:tavLst>
                                        <p:tav tm="0">
                                          <p:val>
                                            <p:strVal val="1+#ppt_h/2"/>
                                          </p:val>
                                        </p:tav>
                                        <p:tav tm="100000">
                                          <p:val>
                                            <p:strVal val="#ppt_y"/>
                                          </p:val>
                                        </p:tav>
                                      </p:tavLst>
                                    </p:anim>
                                  </p:childTnLst>
                                </p:cTn>
                              </p:par>
                            </p:childTnLst>
                          </p:cTn>
                        </p:par>
                        <p:par>
                          <p:cTn id="151" fill="hold">
                            <p:stCondLst>
                              <p:cond delay="2000"/>
                            </p:stCondLst>
                            <p:childTnLst>
                              <p:par>
                                <p:cTn id="152" dur="indefinite" nodeType="afterEffect" fill="hold" presetClass="entr" presetID="2" presetSubtype="4">
                                  <p:stCondLst>
                                    <p:cond delay="0"/>
                                  </p:stCondLst>
                                  <p:childTnLst>
                                    <p:set>
                                      <p:cBhvr>
                                        <p:cTn id="153" dur="1" fill="hold">
                                          <p:stCondLst>
                                            <p:cond delay="0"/>
                                          </p:stCondLst>
                                        </p:cTn>
                                        <p:tgtEl>
                                          <p:spTgt spid="1525"/>
                                        </p:tgtEl>
                                        <p:attrNameLst>
                                          <p:attrName>style.visibility</p:attrName>
                                        </p:attrNameLst>
                                      </p:cBhvr>
                                      <p:to>
                                        <p:strVal val="visible"/>
                                      </p:to>
                                    </p:set>
                                    <p:anim calcmode="lin" valueType="num">
                                      <p:cBhvr additive="repl">
                                        <p:cTn id="154" dur="500" fill="hold"/>
                                        <p:tgtEl>
                                          <p:spTgt spid="1525"/>
                                        </p:tgtEl>
                                        <p:attrNameLst>
                                          <p:attrName>ppt_x</p:attrName>
                                        </p:attrNameLst>
                                      </p:cBhvr>
                                      <p:tavLst>
                                        <p:tav tm="0">
                                          <p:val>
                                            <p:strVal val="#ppt_x"/>
                                          </p:val>
                                        </p:tav>
                                        <p:tav tm="100000">
                                          <p:val>
                                            <p:strVal val="#ppt_x"/>
                                          </p:val>
                                        </p:tav>
                                      </p:tavLst>
                                    </p:anim>
                                    <p:anim calcmode="lin" valueType="num">
                                      <p:cBhvr additive="repl">
                                        <p:cTn id="155" dur="500" fill="hold"/>
                                        <p:tgtEl>
                                          <p:spTgt spid="15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Title 6"/>
          <p:cNvSpPr/>
          <p:nvPr/>
        </p:nvSpPr>
        <p:spPr>
          <a:xfrm>
            <a:off x="312840" y="1353960"/>
            <a:ext cx="10945800" cy="1071360"/>
          </a:xfrm>
          <a:prstGeom prst="rect">
            <a:avLst/>
          </a:prstGeom>
          <a:noFill/>
          <a:ln w="0">
            <a:noFill/>
          </a:ln>
        </p:spPr>
        <p:style>
          <a:lnRef idx="0"/>
          <a:fillRef idx="0"/>
          <a:effectRef idx="0"/>
          <a:fontRef idx="minor"/>
        </p:style>
        <p:txBody>
          <a:bodyPr lIns="72000" rIns="72000" tIns="36360" bIns="36360" anchor="t">
            <a:spAutoFit/>
          </a:bodyPr>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微软雅黑"/>
                <a:ea typeface="微软雅黑"/>
              </a:rPr>
              <a:t>（一）审计业务约定书的必备条款 </a:t>
            </a:r>
            <a:endParaRPr b="1" lang="en-US" sz="2800" spc="-1" strike="noStrike">
              <a:solidFill>
                <a:srgbClr val="000000"/>
              </a:solidFill>
              <a:latin typeface="Arial"/>
            </a:endParaRPr>
          </a:p>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Black"/>
                <a:ea typeface="黑体"/>
              </a:rPr>
              <a:t>        </a:t>
            </a:r>
            <a:r>
              <a:rPr b="0" lang="zh-CN" sz="2400" spc="-1" strike="noStrike">
                <a:solidFill>
                  <a:srgbClr val="000000"/>
                </a:solidFill>
                <a:latin typeface="Arial Black"/>
                <a:ea typeface="黑体"/>
              </a:rPr>
              <a:t>审计业务约定书的具体内容可能因被审计单位的不同而存在差异，但应当包 括下列主要方面：</a:t>
            </a:r>
            <a:endParaRPr b="1" lang="en-US" sz="2400" spc="-1" strike="noStrike">
              <a:solidFill>
                <a:srgbClr val="000000"/>
              </a:solidFill>
              <a:latin typeface="Arial"/>
            </a:endParaRPr>
          </a:p>
        </p:txBody>
      </p:sp>
      <p:grpSp>
        <p:nvGrpSpPr>
          <p:cNvPr id="1546" name="组合 91"/>
          <p:cNvGrpSpPr/>
          <p:nvPr/>
        </p:nvGrpSpPr>
        <p:grpSpPr>
          <a:xfrm>
            <a:off x="895320" y="404640"/>
            <a:ext cx="10360080" cy="0"/>
            <a:chOff x="895320" y="404640"/>
            <a:chExt cx="10360080" cy="0"/>
          </a:xfrm>
        </p:grpSpPr>
        <p:sp>
          <p:nvSpPr>
            <p:cNvPr id="1547" name="直接连接符 92"/>
            <p:cNvSpPr/>
            <p:nvPr/>
          </p:nvSpPr>
          <p:spPr>
            <a:xfrm>
              <a:off x="895320" y="404640"/>
              <a:ext cx="197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48" name="直接连接符 93"/>
            <p:cNvSpPr/>
            <p:nvPr/>
          </p:nvSpPr>
          <p:spPr>
            <a:xfrm>
              <a:off x="9276120" y="404640"/>
              <a:ext cx="197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1549" name="组合 124"/>
          <p:cNvGrpSpPr/>
          <p:nvPr/>
        </p:nvGrpSpPr>
        <p:grpSpPr>
          <a:xfrm>
            <a:off x="4129200" y="2219400"/>
            <a:ext cx="7027920" cy="828720"/>
            <a:chOff x="4129200" y="2219400"/>
            <a:chExt cx="7027920" cy="828720"/>
          </a:xfrm>
        </p:grpSpPr>
        <p:sp>
          <p:nvSpPr>
            <p:cNvPr id="1550" name="任意多边形 1"/>
            <p:cNvSpPr/>
            <p:nvPr/>
          </p:nvSpPr>
          <p:spPr>
            <a:xfrm>
              <a:off x="4129200" y="2451240"/>
              <a:ext cx="626400" cy="596880"/>
            </a:xfrm>
            <a:prstGeom prst="pie">
              <a:avLst/>
            </a:prstGeom>
            <a:solidFill>
              <a:srgbClr val="9999ff"/>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11</a:t>
              </a:r>
              <a:endParaRPr b="1" lang="en-US" sz="2400" spc="-1" strike="noStrike">
                <a:solidFill>
                  <a:srgbClr val="000000"/>
                </a:solidFill>
                <a:latin typeface="Arial"/>
              </a:endParaRPr>
            </a:p>
          </p:txBody>
        </p:sp>
        <p:sp>
          <p:nvSpPr>
            <p:cNvPr id="1551" name="矩形 2"/>
            <p:cNvSpPr/>
            <p:nvPr/>
          </p:nvSpPr>
          <p:spPr>
            <a:xfrm>
              <a:off x="4971960" y="2219400"/>
              <a:ext cx="6185160" cy="821520"/>
            </a:xfrm>
            <a:prstGeom prst="rect">
              <a:avLst/>
            </a:prstGeom>
            <a:noFill/>
            <a:ln w="0">
              <a:noFill/>
            </a:ln>
          </p:spPr>
          <p:style>
            <a:lnRef idx="0"/>
            <a:fillRef idx="0"/>
            <a:effectRef idx="0"/>
            <a:fontRef idx="minor"/>
          </p:style>
          <p:txBody>
            <a:bodyPr lIns="90000" rIns="90000" tIns="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注册会计师对执业过程中获知的信息保密。</a:t>
              </a:r>
              <a:endParaRPr b="1" lang="en-US" sz="2400" spc="-1" strike="noStrike">
                <a:solidFill>
                  <a:srgbClr val="000000"/>
                </a:solidFill>
                <a:latin typeface="Arial"/>
              </a:endParaRPr>
            </a:p>
          </p:txBody>
        </p:sp>
      </p:grpSp>
      <p:grpSp>
        <p:nvGrpSpPr>
          <p:cNvPr id="1552" name="组合 125"/>
          <p:cNvGrpSpPr/>
          <p:nvPr/>
        </p:nvGrpSpPr>
        <p:grpSpPr>
          <a:xfrm>
            <a:off x="4095720" y="3284640"/>
            <a:ext cx="7813440" cy="877680"/>
            <a:chOff x="4095720" y="3284640"/>
            <a:chExt cx="7813440" cy="877680"/>
          </a:xfrm>
        </p:grpSpPr>
        <p:sp>
          <p:nvSpPr>
            <p:cNvPr id="1553" name="任意多边形 3"/>
            <p:cNvSpPr/>
            <p:nvPr/>
          </p:nvSpPr>
          <p:spPr>
            <a:xfrm>
              <a:off x="4095720" y="3285000"/>
              <a:ext cx="626040" cy="595800"/>
            </a:xfrm>
            <a:prstGeom prst="pie">
              <a:avLst/>
            </a:prstGeom>
            <a:solidFill>
              <a:srgbClr val="00b0f0"/>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12</a:t>
              </a:r>
              <a:endParaRPr b="1" lang="en-US" sz="2400" spc="-1" strike="noStrike">
                <a:solidFill>
                  <a:srgbClr val="000000"/>
                </a:solidFill>
                <a:latin typeface="Arial"/>
              </a:endParaRPr>
            </a:p>
          </p:txBody>
        </p:sp>
        <p:sp>
          <p:nvSpPr>
            <p:cNvPr id="1554" name="矩形 12"/>
            <p:cNvSpPr/>
            <p:nvPr/>
          </p:nvSpPr>
          <p:spPr>
            <a:xfrm>
              <a:off x="5019480" y="3284640"/>
              <a:ext cx="6889680" cy="877680"/>
            </a:xfrm>
            <a:prstGeom prst="rect">
              <a:avLst/>
            </a:prstGeom>
            <a:noFill/>
            <a:ln w="0">
              <a:noFill/>
            </a:ln>
          </p:spPr>
          <p:style>
            <a:lnRef idx="0"/>
            <a:fillRef idx="0"/>
            <a:effectRef idx="0"/>
            <a:fontRef idx="minor"/>
          </p:style>
          <p:txBody>
            <a:bodyPr lIns="90000" rIns="90000" tIns="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审计收费包括收费的计算基础和收费安排。在签订审计业务约定书前，注册会计师应当与委托人商定审计收费。</a:t>
              </a:r>
              <a:endParaRPr b="1" lang="en-US" sz="2400" spc="-1" strike="noStrike">
                <a:solidFill>
                  <a:srgbClr val="000000"/>
                </a:solidFill>
                <a:latin typeface="Arial"/>
              </a:endParaRPr>
            </a:p>
          </p:txBody>
        </p:sp>
      </p:grpSp>
      <p:grpSp>
        <p:nvGrpSpPr>
          <p:cNvPr id="1555" name="组合 14"/>
          <p:cNvGrpSpPr/>
          <p:nvPr/>
        </p:nvGrpSpPr>
        <p:grpSpPr>
          <a:xfrm>
            <a:off x="4129200" y="4162320"/>
            <a:ext cx="7232040" cy="927360"/>
            <a:chOff x="4129200" y="4162320"/>
            <a:chExt cx="7232040" cy="927360"/>
          </a:xfrm>
        </p:grpSpPr>
        <p:sp>
          <p:nvSpPr>
            <p:cNvPr id="1556" name="任意多边形 19"/>
            <p:cNvSpPr/>
            <p:nvPr/>
          </p:nvSpPr>
          <p:spPr>
            <a:xfrm>
              <a:off x="4129200" y="4314600"/>
              <a:ext cx="626040" cy="619560"/>
            </a:xfrm>
            <a:prstGeom prst="pie">
              <a:avLst/>
            </a:prstGeom>
            <a:solidFill>
              <a:srgbClr val="5e5ca2"/>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13</a:t>
              </a:r>
              <a:endParaRPr b="1" lang="en-US" sz="2400" spc="-1" strike="noStrike">
                <a:solidFill>
                  <a:srgbClr val="000000"/>
                </a:solidFill>
                <a:latin typeface="Arial"/>
              </a:endParaRPr>
            </a:p>
          </p:txBody>
        </p:sp>
        <p:sp>
          <p:nvSpPr>
            <p:cNvPr id="1557" name="矩形 20"/>
            <p:cNvSpPr/>
            <p:nvPr/>
          </p:nvSpPr>
          <p:spPr>
            <a:xfrm>
              <a:off x="4971600" y="4162320"/>
              <a:ext cx="6389640" cy="927360"/>
            </a:xfrm>
            <a:prstGeom prst="rect">
              <a:avLst/>
            </a:prstGeom>
            <a:noFill/>
            <a:ln w="0">
              <a:noFill/>
            </a:ln>
          </p:spPr>
          <p:style>
            <a:lnRef idx="0"/>
            <a:fillRef idx="0"/>
            <a:effectRef idx="0"/>
            <a:fontRef idx="minor"/>
          </p:style>
          <p:txBody>
            <a:bodyPr lIns="90000" rIns="90000" tIns="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违约责任。</a:t>
              </a:r>
              <a:endParaRPr b="1" lang="en-US" sz="2400" spc="-1" strike="noStrike">
                <a:solidFill>
                  <a:srgbClr val="000000"/>
                </a:solidFill>
                <a:latin typeface="Arial"/>
              </a:endParaRPr>
            </a:p>
          </p:txBody>
        </p:sp>
      </p:grpSp>
      <p:grpSp>
        <p:nvGrpSpPr>
          <p:cNvPr id="1558" name="组合 127"/>
          <p:cNvGrpSpPr/>
          <p:nvPr/>
        </p:nvGrpSpPr>
        <p:grpSpPr>
          <a:xfrm>
            <a:off x="4095720" y="5000760"/>
            <a:ext cx="7686720" cy="734760"/>
            <a:chOff x="4095720" y="5000760"/>
            <a:chExt cx="7686720" cy="734760"/>
          </a:xfrm>
        </p:grpSpPr>
        <p:sp>
          <p:nvSpPr>
            <p:cNvPr id="1559" name="任意多边形 30"/>
            <p:cNvSpPr/>
            <p:nvPr/>
          </p:nvSpPr>
          <p:spPr>
            <a:xfrm>
              <a:off x="4095720" y="5070960"/>
              <a:ext cx="626040" cy="622800"/>
            </a:xfrm>
            <a:prstGeom prst="pie">
              <a:avLst/>
            </a:prstGeom>
            <a:solidFill>
              <a:srgbClr val="2c85ae"/>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14</a:t>
              </a:r>
              <a:endParaRPr b="1" lang="en-US" sz="2400" spc="-1" strike="noStrike">
                <a:solidFill>
                  <a:srgbClr val="000000"/>
                </a:solidFill>
                <a:latin typeface="Arial"/>
              </a:endParaRPr>
            </a:p>
          </p:txBody>
        </p:sp>
        <p:sp>
          <p:nvSpPr>
            <p:cNvPr id="1560" name="矩形 31"/>
            <p:cNvSpPr/>
            <p:nvPr/>
          </p:nvSpPr>
          <p:spPr>
            <a:xfrm>
              <a:off x="4869720" y="5000760"/>
              <a:ext cx="6912720" cy="734760"/>
            </a:xfrm>
            <a:prstGeom prst="rect">
              <a:avLst/>
            </a:prstGeom>
            <a:noFill/>
            <a:ln w="0">
              <a:noFill/>
            </a:ln>
          </p:spPr>
          <p:style>
            <a:lnRef idx="0"/>
            <a:fillRef idx="0"/>
            <a:effectRef idx="0"/>
            <a:fontRef idx="minor"/>
          </p:style>
          <p:txBody>
            <a:bodyPr lIns="90000" rIns="90000" tIns="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解决争议的办法。</a:t>
              </a:r>
              <a:endParaRPr b="1" lang="en-US" sz="2400" spc="-1" strike="noStrike">
                <a:solidFill>
                  <a:srgbClr val="000000"/>
                </a:solidFill>
                <a:latin typeface="Arial"/>
              </a:endParaRPr>
            </a:p>
          </p:txBody>
        </p:sp>
      </p:grpSp>
      <p:grpSp>
        <p:nvGrpSpPr>
          <p:cNvPr id="1561" name="组合 128"/>
          <p:cNvGrpSpPr/>
          <p:nvPr/>
        </p:nvGrpSpPr>
        <p:grpSpPr>
          <a:xfrm>
            <a:off x="4097160" y="5986440"/>
            <a:ext cx="7407360" cy="741240"/>
            <a:chOff x="4097160" y="5986440"/>
            <a:chExt cx="7407360" cy="741240"/>
          </a:xfrm>
        </p:grpSpPr>
        <p:sp>
          <p:nvSpPr>
            <p:cNvPr id="1562" name="任意多边形 63"/>
            <p:cNvSpPr/>
            <p:nvPr/>
          </p:nvSpPr>
          <p:spPr>
            <a:xfrm>
              <a:off x="4097160" y="5986440"/>
              <a:ext cx="614160" cy="664920"/>
            </a:xfrm>
            <a:prstGeom prst="pie">
              <a:avLst/>
            </a:prstGeom>
            <a:solidFill>
              <a:srgbClr val="00a09d"/>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15</a:t>
              </a:r>
              <a:endParaRPr b="1" lang="en-US" sz="2400" spc="-1" strike="noStrike">
                <a:solidFill>
                  <a:srgbClr val="000000"/>
                </a:solidFill>
                <a:latin typeface="Arial"/>
              </a:endParaRPr>
            </a:p>
          </p:txBody>
        </p:sp>
        <p:sp>
          <p:nvSpPr>
            <p:cNvPr id="1563" name="矩形 35"/>
            <p:cNvSpPr/>
            <p:nvPr/>
          </p:nvSpPr>
          <p:spPr>
            <a:xfrm>
              <a:off x="4876920" y="5986440"/>
              <a:ext cx="6627600" cy="741240"/>
            </a:xfrm>
            <a:prstGeom prst="rect">
              <a:avLst/>
            </a:prstGeom>
            <a:noFill/>
            <a:ln w="0">
              <a:noFill/>
            </a:ln>
          </p:spPr>
          <p:style>
            <a:lnRef idx="0"/>
            <a:fillRef idx="0"/>
            <a:effectRef idx="0"/>
            <a:fontRef idx="minor"/>
          </p:style>
          <p:txBody>
            <a:bodyPr lIns="90000" rIns="90000" tIns="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签约双方法定代表人或其授权代表的签字盖章，以及签约双方加盖的公章。</a:t>
              </a:r>
              <a:endParaRPr b="1" lang="en-US" sz="2400" spc="-1" strike="noStrike">
                <a:solidFill>
                  <a:srgbClr val="000000"/>
                </a:solidFill>
                <a:latin typeface="Arial"/>
              </a:endParaRPr>
            </a:p>
          </p:txBody>
        </p:sp>
      </p:grpSp>
      <p:grpSp>
        <p:nvGrpSpPr>
          <p:cNvPr id="1564" name="组合 273"/>
          <p:cNvGrpSpPr/>
          <p:nvPr/>
        </p:nvGrpSpPr>
        <p:grpSpPr>
          <a:xfrm>
            <a:off x="606600" y="2851200"/>
            <a:ext cx="3044520" cy="3862440"/>
            <a:chOff x="606600" y="2851200"/>
            <a:chExt cx="3044520" cy="3862440"/>
          </a:xfrm>
        </p:grpSpPr>
        <p:sp>
          <p:nvSpPr>
            <p:cNvPr id="1565" name="任意多边形 261"/>
            <p:cNvSpPr/>
            <p:nvPr/>
          </p:nvSpPr>
          <p:spPr>
            <a:xfrm flipH="1">
              <a:off x="2206080" y="4012560"/>
              <a:ext cx="488520" cy="482400"/>
            </a:xfrm>
            <a:custGeom>
              <a:avLst/>
              <a:gdLst/>
              <a:ahLst/>
              <a:rect l="l" t="t" r="r" b="b"/>
              <a:pathLst>
                <a:path w="120000" h="120000">
                  <a:moveTo>
                    <a:pt x="120000" y="60000"/>
                  </a:moveTo>
                  <a:lnTo>
                    <a:pt x="119945" y="63114"/>
                  </a:lnTo>
                  <a:lnTo>
                    <a:pt x="119728" y="66120"/>
                  </a:lnTo>
                  <a:lnTo>
                    <a:pt x="119294" y="69125"/>
                  </a:lnTo>
                  <a:lnTo>
                    <a:pt x="118751" y="72076"/>
                  </a:lnTo>
                  <a:lnTo>
                    <a:pt x="118154" y="74972"/>
                  </a:lnTo>
                  <a:lnTo>
                    <a:pt x="117286" y="77868"/>
                  </a:lnTo>
                  <a:lnTo>
                    <a:pt x="116363" y="80655"/>
                  </a:lnTo>
                  <a:lnTo>
                    <a:pt x="115278" y="83387"/>
                  </a:lnTo>
                  <a:lnTo>
                    <a:pt x="114138" y="86010"/>
                  </a:lnTo>
                  <a:lnTo>
                    <a:pt x="112781" y="88633"/>
                  </a:lnTo>
                  <a:lnTo>
                    <a:pt x="111316" y="91092"/>
                  </a:lnTo>
                  <a:lnTo>
                    <a:pt x="109742" y="93551"/>
                  </a:lnTo>
                  <a:lnTo>
                    <a:pt x="108113" y="95901"/>
                  </a:lnTo>
                  <a:lnTo>
                    <a:pt x="106322" y="98196"/>
                  </a:lnTo>
                  <a:lnTo>
                    <a:pt x="104423" y="100382"/>
                  </a:lnTo>
                  <a:lnTo>
                    <a:pt x="102415" y="102459"/>
                  </a:lnTo>
                  <a:lnTo>
                    <a:pt x="100352" y="104371"/>
                  </a:lnTo>
                  <a:lnTo>
                    <a:pt x="98181" y="106284"/>
                  </a:lnTo>
                  <a:lnTo>
                    <a:pt x="95902" y="108142"/>
                  </a:lnTo>
                  <a:lnTo>
                    <a:pt x="93568" y="109781"/>
                  </a:lnTo>
                  <a:lnTo>
                    <a:pt x="91126" y="111311"/>
                  </a:lnTo>
                  <a:lnTo>
                    <a:pt x="88575" y="112786"/>
                  </a:lnTo>
                  <a:lnTo>
                    <a:pt x="86024" y="114098"/>
                  </a:lnTo>
                  <a:lnTo>
                    <a:pt x="83364" y="115245"/>
                  </a:lnTo>
                  <a:lnTo>
                    <a:pt x="80651" y="116393"/>
                  </a:lnTo>
                  <a:lnTo>
                    <a:pt x="77829" y="117322"/>
                  </a:lnTo>
                  <a:lnTo>
                    <a:pt x="75006" y="118087"/>
                  </a:lnTo>
                  <a:lnTo>
                    <a:pt x="72130" y="118797"/>
                  </a:lnTo>
                  <a:lnTo>
                    <a:pt x="69145" y="119344"/>
                  </a:lnTo>
                  <a:lnTo>
                    <a:pt x="66160" y="119672"/>
                  </a:lnTo>
                  <a:lnTo>
                    <a:pt x="63066" y="119945"/>
                  </a:lnTo>
                  <a:lnTo>
                    <a:pt x="60027" y="120000"/>
                  </a:lnTo>
                  <a:lnTo>
                    <a:pt x="56933" y="119945"/>
                  </a:lnTo>
                  <a:lnTo>
                    <a:pt x="53894" y="119672"/>
                  </a:lnTo>
                  <a:lnTo>
                    <a:pt x="50854" y="119344"/>
                  </a:lnTo>
                  <a:lnTo>
                    <a:pt x="47924" y="118797"/>
                  </a:lnTo>
                  <a:lnTo>
                    <a:pt x="44993" y="118087"/>
                  </a:lnTo>
                  <a:lnTo>
                    <a:pt x="42170" y="117322"/>
                  </a:lnTo>
                  <a:lnTo>
                    <a:pt x="39402" y="116393"/>
                  </a:lnTo>
                  <a:lnTo>
                    <a:pt x="36689" y="115245"/>
                  </a:lnTo>
                  <a:lnTo>
                    <a:pt x="34029" y="114098"/>
                  </a:lnTo>
                  <a:lnTo>
                    <a:pt x="31424" y="112786"/>
                  </a:lnTo>
                  <a:lnTo>
                    <a:pt x="28873" y="111311"/>
                  </a:lnTo>
                  <a:lnTo>
                    <a:pt x="26485" y="109781"/>
                  </a:lnTo>
                  <a:lnTo>
                    <a:pt x="24097" y="108142"/>
                  </a:lnTo>
                  <a:lnTo>
                    <a:pt x="21872" y="106284"/>
                  </a:lnTo>
                  <a:lnTo>
                    <a:pt x="19701" y="104371"/>
                  </a:lnTo>
                  <a:lnTo>
                    <a:pt x="17584" y="102459"/>
                  </a:lnTo>
                  <a:lnTo>
                    <a:pt x="15576" y="100382"/>
                  </a:lnTo>
                  <a:lnTo>
                    <a:pt x="13731" y="98196"/>
                  </a:lnTo>
                  <a:lnTo>
                    <a:pt x="11940" y="95901"/>
                  </a:lnTo>
                  <a:lnTo>
                    <a:pt x="10312" y="93606"/>
                  </a:lnTo>
                  <a:lnTo>
                    <a:pt x="8683" y="91092"/>
                  </a:lnTo>
                  <a:lnTo>
                    <a:pt x="7272" y="88633"/>
                  </a:lnTo>
                  <a:lnTo>
                    <a:pt x="5915" y="86010"/>
                  </a:lnTo>
                  <a:lnTo>
                    <a:pt x="4721" y="83387"/>
                  </a:lnTo>
                  <a:lnTo>
                    <a:pt x="3690" y="80655"/>
                  </a:lnTo>
                  <a:lnTo>
                    <a:pt x="2713" y="77868"/>
                  </a:lnTo>
                  <a:lnTo>
                    <a:pt x="1899" y="74972"/>
                  </a:lnTo>
                  <a:lnTo>
                    <a:pt x="1248" y="72076"/>
                  </a:lnTo>
                  <a:lnTo>
                    <a:pt x="705" y="69125"/>
                  </a:lnTo>
                  <a:lnTo>
                    <a:pt x="325" y="66120"/>
                  </a:lnTo>
                  <a:lnTo>
                    <a:pt x="108" y="63114"/>
                  </a:lnTo>
                  <a:lnTo>
                    <a:pt x="0" y="60054"/>
                  </a:lnTo>
                  <a:lnTo>
                    <a:pt x="108" y="56885"/>
                  </a:lnTo>
                  <a:lnTo>
                    <a:pt x="325" y="53879"/>
                  </a:lnTo>
                  <a:lnTo>
                    <a:pt x="705" y="50874"/>
                  </a:lnTo>
                  <a:lnTo>
                    <a:pt x="1248" y="47923"/>
                  </a:lnTo>
                  <a:lnTo>
                    <a:pt x="1899" y="45027"/>
                  </a:lnTo>
                  <a:lnTo>
                    <a:pt x="2713" y="42131"/>
                  </a:lnTo>
                  <a:lnTo>
                    <a:pt x="3690" y="39344"/>
                  </a:lnTo>
                  <a:lnTo>
                    <a:pt x="4721" y="36666"/>
                  </a:lnTo>
                  <a:lnTo>
                    <a:pt x="5915" y="33989"/>
                  </a:lnTo>
                  <a:lnTo>
                    <a:pt x="7272" y="31366"/>
                  </a:lnTo>
                  <a:lnTo>
                    <a:pt x="8683" y="28907"/>
                  </a:lnTo>
                  <a:lnTo>
                    <a:pt x="10312" y="26502"/>
                  </a:lnTo>
                  <a:lnTo>
                    <a:pt x="11940" y="24098"/>
                  </a:lnTo>
                  <a:lnTo>
                    <a:pt x="13731" y="21857"/>
                  </a:lnTo>
                  <a:lnTo>
                    <a:pt x="15576" y="19672"/>
                  </a:lnTo>
                  <a:lnTo>
                    <a:pt x="17584" y="17595"/>
                  </a:lnTo>
                  <a:lnTo>
                    <a:pt x="19701" y="15628"/>
                  </a:lnTo>
                  <a:lnTo>
                    <a:pt x="21872" y="13715"/>
                  </a:lnTo>
                  <a:lnTo>
                    <a:pt x="24097" y="11967"/>
                  </a:lnTo>
                  <a:lnTo>
                    <a:pt x="26485" y="10218"/>
                  </a:lnTo>
                  <a:lnTo>
                    <a:pt x="28873" y="8688"/>
                  </a:lnTo>
                  <a:lnTo>
                    <a:pt x="31424" y="7267"/>
                  </a:lnTo>
                  <a:lnTo>
                    <a:pt x="34029" y="5956"/>
                  </a:lnTo>
                  <a:lnTo>
                    <a:pt x="36689" y="4754"/>
                  </a:lnTo>
                  <a:lnTo>
                    <a:pt x="39402" y="3661"/>
                  </a:lnTo>
                  <a:lnTo>
                    <a:pt x="42170" y="2732"/>
                  </a:lnTo>
                  <a:lnTo>
                    <a:pt x="44993" y="1912"/>
                  </a:lnTo>
                  <a:lnTo>
                    <a:pt x="47924" y="1256"/>
                  </a:lnTo>
                  <a:lnTo>
                    <a:pt x="50854" y="710"/>
                  </a:lnTo>
                  <a:lnTo>
                    <a:pt x="53894" y="327"/>
                  </a:lnTo>
                  <a:lnTo>
                    <a:pt x="56933" y="109"/>
                  </a:lnTo>
                  <a:lnTo>
                    <a:pt x="60027" y="0"/>
                  </a:lnTo>
                  <a:lnTo>
                    <a:pt x="63066" y="109"/>
                  </a:lnTo>
                  <a:lnTo>
                    <a:pt x="66160" y="327"/>
                  </a:lnTo>
                  <a:lnTo>
                    <a:pt x="69145" y="710"/>
                  </a:lnTo>
                  <a:lnTo>
                    <a:pt x="72130" y="1256"/>
                  </a:lnTo>
                  <a:lnTo>
                    <a:pt x="75006" y="1912"/>
                  </a:lnTo>
                  <a:lnTo>
                    <a:pt x="77829" y="2732"/>
                  </a:lnTo>
                  <a:lnTo>
                    <a:pt x="80651" y="3661"/>
                  </a:lnTo>
                  <a:lnTo>
                    <a:pt x="83364" y="4754"/>
                  </a:lnTo>
                  <a:lnTo>
                    <a:pt x="86024" y="5956"/>
                  </a:lnTo>
                  <a:lnTo>
                    <a:pt x="88575" y="7267"/>
                  </a:lnTo>
                  <a:lnTo>
                    <a:pt x="91126" y="8688"/>
                  </a:lnTo>
                  <a:lnTo>
                    <a:pt x="93568" y="10218"/>
                  </a:lnTo>
                  <a:lnTo>
                    <a:pt x="95902" y="11967"/>
                  </a:lnTo>
                  <a:lnTo>
                    <a:pt x="98181" y="13715"/>
                  </a:lnTo>
                  <a:lnTo>
                    <a:pt x="100352" y="15628"/>
                  </a:lnTo>
                  <a:lnTo>
                    <a:pt x="102415" y="17595"/>
                  </a:lnTo>
                  <a:lnTo>
                    <a:pt x="104423" y="19672"/>
                  </a:lnTo>
                  <a:lnTo>
                    <a:pt x="106322" y="21857"/>
                  </a:lnTo>
                  <a:lnTo>
                    <a:pt x="108113" y="24098"/>
                  </a:lnTo>
                  <a:lnTo>
                    <a:pt x="109742" y="26502"/>
                  </a:lnTo>
                  <a:lnTo>
                    <a:pt x="111316" y="28907"/>
                  </a:lnTo>
                  <a:lnTo>
                    <a:pt x="112781" y="31366"/>
                  </a:lnTo>
                  <a:lnTo>
                    <a:pt x="114138" y="33989"/>
                  </a:lnTo>
                  <a:lnTo>
                    <a:pt x="115278" y="36666"/>
                  </a:lnTo>
                  <a:lnTo>
                    <a:pt x="116363" y="39344"/>
                  </a:lnTo>
                  <a:lnTo>
                    <a:pt x="117286" y="42131"/>
                  </a:lnTo>
                  <a:lnTo>
                    <a:pt x="118154" y="45027"/>
                  </a:lnTo>
                  <a:lnTo>
                    <a:pt x="118751" y="47923"/>
                  </a:lnTo>
                  <a:lnTo>
                    <a:pt x="119294" y="50874"/>
                  </a:lnTo>
                  <a:lnTo>
                    <a:pt x="119728" y="53879"/>
                  </a:lnTo>
                  <a:lnTo>
                    <a:pt x="119945" y="56885"/>
                  </a:lnTo>
                  <a:lnTo>
                    <a:pt x="120000" y="6000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66" name="任意多边形 262"/>
            <p:cNvSpPr/>
            <p:nvPr/>
          </p:nvSpPr>
          <p:spPr>
            <a:xfrm flipH="1">
              <a:off x="1136880" y="4067280"/>
              <a:ext cx="1987200" cy="2584440"/>
            </a:xfrm>
            <a:custGeom>
              <a:avLst/>
              <a:gdLst/>
              <a:ahLst/>
              <a:rect l="l" t="t" r="r" b="b"/>
              <a:pathLst>
                <a:path w="120000" h="120000">
                  <a:moveTo>
                    <a:pt x="30807" y="117092"/>
                  </a:moveTo>
                  <a:lnTo>
                    <a:pt x="30353" y="115898"/>
                  </a:lnTo>
                  <a:lnTo>
                    <a:pt x="29926" y="114714"/>
                  </a:lnTo>
                  <a:lnTo>
                    <a:pt x="29552" y="113571"/>
                  </a:lnTo>
                  <a:lnTo>
                    <a:pt x="29205" y="112419"/>
                  </a:lnTo>
                  <a:lnTo>
                    <a:pt x="28898" y="111306"/>
                  </a:lnTo>
                  <a:lnTo>
                    <a:pt x="28604" y="110204"/>
                  </a:lnTo>
                  <a:lnTo>
                    <a:pt x="28364" y="109113"/>
                  </a:lnTo>
                  <a:lnTo>
                    <a:pt x="28150" y="108041"/>
                  </a:lnTo>
                  <a:lnTo>
                    <a:pt x="27936" y="106980"/>
                  </a:lnTo>
                  <a:lnTo>
                    <a:pt x="27776" y="105939"/>
                  </a:lnTo>
                  <a:lnTo>
                    <a:pt x="27643" y="104909"/>
                  </a:lnTo>
                  <a:lnTo>
                    <a:pt x="27522" y="103889"/>
                  </a:lnTo>
                  <a:lnTo>
                    <a:pt x="27415" y="102868"/>
                  </a:lnTo>
                  <a:lnTo>
                    <a:pt x="27362" y="101879"/>
                  </a:lnTo>
                  <a:lnTo>
                    <a:pt x="27295" y="100889"/>
                  </a:lnTo>
                  <a:lnTo>
                    <a:pt x="27269" y="99909"/>
                  </a:lnTo>
                  <a:lnTo>
                    <a:pt x="27255" y="98930"/>
                  </a:lnTo>
                  <a:lnTo>
                    <a:pt x="27269" y="97971"/>
                  </a:lnTo>
                  <a:lnTo>
                    <a:pt x="27282" y="97012"/>
                  </a:lnTo>
                  <a:lnTo>
                    <a:pt x="27335" y="96063"/>
                  </a:lnTo>
                  <a:lnTo>
                    <a:pt x="27375" y="95124"/>
                  </a:lnTo>
                  <a:lnTo>
                    <a:pt x="27442" y="94185"/>
                  </a:lnTo>
                  <a:lnTo>
                    <a:pt x="27522" y="93247"/>
                  </a:lnTo>
                  <a:lnTo>
                    <a:pt x="27602" y="92318"/>
                  </a:lnTo>
                  <a:lnTo>
                    <a:pt x="27709" y="91390"/>
                  </a:lnTo>
                  <a:lnTo>
                    <a:pt x="27816" y="90451"/>
                  </a:lnTo>
                  <a:lnTo>
                    <a:pt x="27923" y="89522"/>
                  </a:lnTo>
                  <a:lnTo>
                    <a:pt x="28043" y="88604"/>
                  </a:lnTo>
                  <a:lnTo>
                    <a:pt x="28283" y="86747"/>
                  </a:lnTo>
                  <a:lnTo>
                    <a:pt x="28564" y="84880"/>
                  </a:lnTo>
                  <a:lnTo>
                    <a:pt x="28764" y="83401"/>
                  </a:lnTo>
                  <a:lnTo>
                    <a:pt x="28978" y="81901"/>
                  </a:lnTo>
                  <a:lnTo>
                    <a:pt x="29178" y="80391"/>
                  </a:lnTo>
                  <a:lnTo>
                    <a:pt x="29365" y="78870"/>
                  </a:lnTo>
                  <a:lnTo>
                    <a:pt x="29525" y="77340"/>
                  </a:lnTo>
                  <a:lnTo>
                    <a:pt x="29672" y="75769"/>
                  </a:lnTo>
                  <a:lnTo>
                    <a:pt x="29726" y="74993"/>
                  </a:lnTo>
                  <a:lnTo>
                    <a:pt x="29793" y="74197"/>
                  </a:lnTo>
                  <a:lnTo>
                    <a:pt x="29833" y="73391"/>
                  </a:lnTo>
                  <a:lnTo>
                    <a:pt x="29873" y="72585"/>
                  </a:lnTo>
                  <a:lnTo>
                    <a:pt x="29899" y="71779"/>
                  </a:lnTo>
                  <a:lnTo>
                    <a:pt x="29913" y="70953"/>
                  </a:lnTo>
                  <a:lnTo>
                    <a:pt x="29926" y="70126"/>
                  </a:lnTo>
                  <a:lnTo>
                    <a:pt x="29926" y="69290"/>
                  </a:lnTo>
                  <a:lnTo>
                    <a:pt x="29913" y="68453"/>
                  </a:lnTo>
                  <a:lnTo>
                    <a:pt x="29886" y="67586"/>
                  </a:lnTo>
                  <a:lnTo>
                    <a:pt x="29846" y="66729"/>
                  </a:lnTo>
                  <a:lnTo>
                    <a:pt x="29793" y="65861"/>
                  </a:lnTo>
                  <a:lnTo>
                    <a:pt x="29726" y="64974"/>
                  </a:lnTo>
                  <a:lnTo>
                    <a:pt x="29646" y="64086"/>
                  </a:lnTo>
                  <a:lnTo>
                    <a:pt x="29552" y="63178"/>
                  </a:lnTo>
                  <a:lnTo>
                    <a:pt x="29432" y="62260"/>
                  </a:lnTo>
                  <a:lnTo>
                    <a:pt x="29312" y="61351"/>
                  </a:lnTo>
                  <a:lnTo>
                    <a:pt x="29165" y="60413"/>
                  </a:lnTo>
                  <a:lnTo>
                    <a:pt x="29005" y="59464"/>
                  </a:lnTo>
                  <a:lnTo>
                    <a:pt x="28818" y="58505"/>
                  </a:lnTo>
                  <a:lnTo>
                    <a:pt x="28631" y="57597"/>
                  </a:lnTo>
                  <a:lnTo>
                    <a:pt x="28390" y="56689"/>
                  </a:lnTo>
                  <a:lnTo>
                    <a:pt x="28150" y="55801"/>
                  </a:lnTo>
                  <a:lnTo>
                    <a:pt x="27870" y="54903"/>
                  </a:lnTo>
                  <a:lnTo>
                    <a:pt x="27549" y="54026"/>
                  </a:lnTo>
                  <a:lnTo>
                    <a:pt x="27229" y="53138"/>
                  </a:lnTo>
                  <a:lnTo>
                    <a:pt x="26868" y="52260"/>
                  </a:lnTo>
                  <a:lnTo>
                    <a:pt x="26494" y="51383"/>
                  </a:lnTo>
                  <a:lnTo>
                    <a:pt x="26080" y="50516"/>
                  </a:lnTo>
                  <a:lnTo>
                    <a:pt x="25639" y="49648"/>
                  </a:lnTo>
                  <a:lnTo>
                    <a:pt x="25199" y="48781"/>
                  </a:lnTo>
                  <a:lnTo>
                    <a:pt x="24731" y="47914"/>
                  </a:lnTo>
                  <a:lnTo>
                    <a:pt x="24251" y="47067"/>
                  </a:lnTo>
                  <a:lnTo>
                    <a:pt x="23743" y="46200"/>
                  </a:lnTo>
                  <a:lnTo>
                    <a:pt x="23222" y="45353"/>
                  </a:lnTo>
                  <a:lnTo>
                    <a:pt x="22675" y="44506"/>
                  </a:lnTo>
                  <a:lnTo>
                    <a:pt x="22127" y="43659"/>
                  </a:lnTo>
                  <a:lnTo>
                    <a:pt x="21566" y="42822"/>
                  </a:lnTo>
                  <a:lnTo>
                    <a:pt x="20979" y="41976"/>
                  </a:lnTo>
                  <a:lnTo>
                    <a:pt x="20405" y="41139"/>
                  </a:lnTo>
                  <a:lnTo>
                    <a:pt x="19790" y="40312"/>
                  </a:lnTo>
                  <a:lnTo>
                    <a:pt x="19189" y="39476"/>
                  </a:lnTo>
                  <a:lnTo>
                    <a:pt x="18562" y="38649"/>
                  </a:lnTo>
                  <a:lnTo>
                    <a:pt x="17947" y="37823"/>
                  </a:lnTo>
                  <a:lnTo>
                    <a:pt x="16665" y="36180"/>
                  </a:lnTo>
                  <a:lnTo>
                    <a:pt x="15370" y="34548"/>
                  </a:lnTo>
                  <a:lnTo>
                    <a:pt x="14075" y="32915"/>
                  </a:lnTo>
                  <a:lnTo>
                    <a:pt x="12766" y="31293"/>
                  </a:lnTo>
                  <a:lnTo>
                    <a:pt x="11671" y="29926"/>
                  </a:lnTo>
                  <a:lnTo>
                    <a:pt x="10576" y="28568"/>
                  </a:lnTo>
                  <a:lnTo>
                    <a:pt x="9521" y="27222"/>
                  </a:lnTo>
                  <a:lnTo>
                    <a:pt x="8466" y="25875"/>
                  </a:lnTo>
                  <a:lnTo>
                    <a:pt x="7451" y="24559"/>
                  </a:lnTo>
                  <a:lnTo>
                    <a:pt x="6476" y="23232"/>
                  </a:lnTo>
                  <a:lnTo>
                    <a:pt x="6009" y="22579"/>
                  </a:lnTo>
                  <a:lnTo>
                    <a:pt x="5541" y="21926"/>
                  </a:lnTo>
                  <a:lnTo>
                    <a:pt x="5101" y="21283"/>
                  </a:lnTo>
                  <a:lnTo>
                    <a:pt x="4660" y="20641"/>
                  </a:lnTo>
                  <a:lnTo>
                    <a:pt x="4246" y="19998"/>
                  </a:lnTo>
                  <a:lnTo>
                    <a:pt x="3832" y="19355"/>
                  </a:lnTo>
                  <a:lnTo>
                    <a:pt x="3445" y="18722"/>
                  </a:lnTo>
                  <a:lnTo>
                    <a:pt x="3058" y="18080"/>
                  </a:lnTo>
                  <a:lnTo>
                    <a:pt x="2697" y="17447"/>
                  </a:lnTo>
                  <a:lnTo>
                    <a:pt x="2363" y="16825"/>
                  </a:lnTo>
                  <a:lnTo>
                    <a:pt x="2029" y="16202"/>
                  </a:lnTo>
                  <a:lnTo>
                    <a:pt x="1722" y="15580"/>
                  </a:lnTo>
                  <a:lnTo>
                    <a:pt x="1455" y="14968"/>
                  </a:lnTo>
                  <a:lnTo>
                    <a:pt x="1175" y="14355"/>
                  </a:lnTo>
                  <a:lnTo>
                    <a:pt x="948" y="13733"/>
                  </a:lnTo>
                  <a:lnTo>
                    <a:pt x="707" y="13131"/>
                  </a:lnTo>
                  <a:lnTo>
                    <a:pt x="520" y="12519"/>
                  </a:lnTo>
                  <a:lnTo>
                    <a:pt x="333" y="11927"/>
                  </a:lnTo>
                  <a:lnTo>
                    <a:pt x="186" y="11315"/>
                  </a:lnTo>
                  <a:lnTo>
                    <a:pt x="53" y="10723"/>
                  </a:lnTo>
                  <a:lnTo>
                    <a:pt x="13" y="10468"/>
                  </a:lnTo>
                  <a:lnTo>
                    <a:pt x="0" y="10223"/>
                  </a:lnTo>
                  <a:lnTo>
                    <a:pt x="13" y="9988"/>
                  </a:lnTo>
                  <a:lnTo>
                    <a:pt x="40" y="9754"/>
                  </a:lnTo>
                  <a:lnTo>
                    <a:pt x="80" y="9529"/>
                  </a:lnTo>
                  <a:lnTo>
                    <a:pt x="146" y="9315"/>
                  </a:lnTo>
                  <a:lnTo>
                    <a:pt x="213" y="9111"/>
                  </a:lnTo>
                  <a:lnTo>
                    <a:pt x="320" y="8917"/>
                  </a:lnTo>
                  <a:lnTo>
                    <a:pt x="413" y="8713"/>
                  </a:lnTo>
                  <a:lnTo>
                    <a:pt x="520" y="8540"/>
                  </a:lnTo>
                  <a:lnTo>
                    <a:pt x="654" y="8376"/>
                  </a:lnTo>
                  <a:lnTo>
                    <a:pt x="787" y="8213"/>
                  </a:lnTo>
                  <a:lnTo>
                    <a:pt x="908" y="8050"/>
                  </a:lnTo>
                  <a:lnTo>
                    <a:pt x="1041" y="7907"/>
                  </a:lnTo>
                  <a:lnTo>
                    <a:pt x="1188" y="7774"/>
                  </a:lnTo>
                  <a:lnTo>
                    <a:pt x="1322" y="7662"/>
                  </a:lnTo>
                  <a:lnTo>
                    <a:pt x="1575" y="7448"/>
                  </a:lnTo>
                  <a:lnTo>
                    <a:pt x="1842" y="7254"/>
                  </a:lnTo>
                  <a:lnTo>
                    <a:pt x="2136" y="7050"/>
                  </a:lnTo>
                  <a:lnTo>
                    <a:pt x="2443" y="6876"/>
                  </a:lnTo>
                  <a:lnTo>
                    <a:pt x="2737" y="6713"/>
                  </a:lnTo>
                  <a:lnTo>
                    <a:pt x="3084" y="6550"/>
                  </a:lnTo>
                  <a:lnTo>
                    <a:pt x="3418" y="6407"/>
                  </a:lnTo>
                  <a:lnTo>
                    <a:pt x="3752" y="6274"/>
                  </a:lnTo>
                  <a:lnTo>
                    <a:pt x="4113" y="6162"/>
                  </a:lnTo>
                  <a:lnTo>
                    <a:pt x="4460" y="6060"/>
                  </a:lnTo>
                  <a:lnTo>
                    <a:pt x="4820" y="5968"/>
                  </a:lnTo>
                  <a:lnTo>
                    <a:pt x="5194" y="5897"/>
                  </a:lnTo>
                  <a:lnTo>
                    <a:pt x="5568" y="5836"/>
                  </a:lnTo>
                  <a:lnTo>
                    <a:pt x="5929" y="5795"/>
                  </a:lnTo>
                  <a:lnTo>
                    <a:pt x="6303" y="5775"/>
                  </a:lnTo>
                  <a:lnTo>
                    <a:pt x="6663" y="5764"/>
                  </a:lnTo>
                  <a:lnTo>
                    <a:pt x="6850" y="5764"/>
                  </a:lnTo>
                  <a:lnTo>
                    <a:pt x="7064" y="5775"/>
                  </a:lnTo>
                  <a:lnTo>
                    <a:pt x="7264" y="5785"/>
                  </a:lnTo>
                  <a:lnTo>
                    <a:pt x="7478" y="5805"/>
                  </a:lnTo>
                  <a:lnTo>
                    <a:pt x="7678" y="5836"/>
                  </a:lnTo>
                  <a:lnTo>
                    <a:pt x="7905" y="5866"/>
                  </a:lnTo>
                  <a:lnTo>
                    <a:pt x="8132" y="5928"/>
                  </a:lnTo>
                  <a:lnTo>
                    <a:pt x="8359" y="5979"/>
                  </a:lnTo>
                  <a:lnTo>
                    <a:pt x="8573" y="6050"/>
                  </a:lnTo>
                  <a:lnTo>
                    <a:pt x="8787" y="6132"/>
                  </a:lnTo>
                  <a:lnTo>
                    <a:pt x="9000" y="6223"/>
                  </a:lnTo>
                  <a:lnTo>
                    <a:pt x="9214" y="6336"/>
                  </a:lnTo>
                  <a:lnTo>
                    <a:pt x="9414" y="6458"/>
                  </a:lnTo>
                  <a:lnTo>
                    <a:pt x="9614" y="6591"/>
                  </a:lnTo>
                  <a:lnTo>
                    <a:pt x="9801" y="6744"/>
                  </a:lnTo>
                  <a:lnTo>
                    <a:pt x="9975" y="6917"/>
                  </a:lnTo>
                  <a:lnTo>
                    <a:pt x="10576" y="7550"/>
                  </a:lnTo>
                  <a:lnTo>
                    <a:pt x="11204" y="8223"/>
                  </a:lnTo>
                  <a:lnTo>
                    <a:pt x="11858" y="8938"/>
                  </a:lnTo>
                  <a:lnTo>
                    <a:pt x="12512" y="9703"/>
                  </a:lnTo>
                  <a:lnTo>
                    <a:pt x="13193" y="10478"/>
                  </a:lnTo>
                  <a:lnTo>
                    <a:pt x="13888" y="11294"/>
                  </a:lnTo>
                  <a:lnTo>
                    <a:pt x="14596" y="12131"/>
                  </a:lnTo>
                  <a:lnTo>
                    <a:pt x="15330" y="12988"/>
                  </a:lnTo>
                  <a:lnTo>
                    <a:pt x="16652" y="14559"/>
                  </a:lnTo>
                  <a:lnTo>
                    <a:pt x="18028" y="16161"/>
                  </a:lnTo>
                  <a:lnTo>
                    <a:pt x="18722" y="16978"/>
                  </a:lnTo>
                  <a:lnTo>
                    <a:pt x="19443" y="17784"/>
                  </a:lnTo>
                  <a:lnTo>
                    <a:pt x="20151" y="18590"/>
                  </a:lnTo>
                  <a:lnTo>
                    <a:pt x="20885" y="19396"/>
                  </a:lnTo>
                  <a:lnTo>
                    <a:pt x="21606" y="20192"/>
                  </a:lnTo>
                  <a:lnTo>
                    <a:pt x="22341" y="20967"/>
                  </a:lnTo>
                  <a:lnTo>
                    <a:pt x="23089" y="21753"/>
                  </a:lnTo>
                  <a:lnTo>
                    <a:pt x="23837" y="22518"/>
                  </a:lnTo>
                  <a:lnTo>
                    <a:pt x="24611" y="23263"/>
                  </a:lnTo>
                  <a:lnTo>
                    <a:pt x="25372" y="23987"/>
                  </a:lnTo>
                  <a:lnTo>
                    <a:pt x="26133" y="24712"/>
                  </a:lnTo>
                  <a:lnTo>
                    <a:pt x="26921" y="25395"/>
                  </a:lnTo>
                  <a:lnTo>
                    <a:pt x="27709" y="26069"/>
                  </a:lnTo>
                  <a:lnTo>
                    <a:pt x="28497" y="26701"/>
                  </a:lnTo>
                  <a:lnTo>
                    <a:pt x="29272" y="27314"/>
                  </a:lnTo>
                  <a:lnTo>
                    <a:pt x="30073" y="27885"/>
                  </a:lnTo>
                  <a:lnTo>
                    <a:pt x="30874" y="28436"/>
                  </a:lnTo>
                  <a:lnTo>
                    <a:pt x="31675" y="28946"/>
                  </a:lnTo>
                  <a:lnTo>
                    <a:pt x="32477" y="29415"/>
                  </a:lnTo>
                  <a:lnTo>
                    <a:pt x="33291" y="29844"/>
                  </a:lnTo>
                  <a:lnTo>
                    <a:pt x="34106" y="30232"/>
                  </a:lnTo>
                  <a:lnTo>
                    <a:pt x="34920" y="30589"/>
                  </a:lnTo>
                  <a:lnTo>
                    <a:pt x="35735" y="30885"/>
                  </a:lnTo>
                  <a:lnTo>
                    <a:pt x="36550" y="31130"/>
                  </a:lnTo>
                  <a:lnTo>
                    <a:pt x="37378" y="31323"/>
                  </a:lnTo>
                  <a:lnTo>
                    <a:pt x="38192" y="31466"/>
                  </a:lnTo>
                  <a:lnTo>
                    <a:pt x="39020" y="31558"/>
                  </a:lnTo>
                  <a:lnTo>
                    <a:pt x="39821" y="31589"/>
                  </a:lnTo>
                  <a:lnTo>
                    <a:pt x="40222" y="31578"/>
                  </a:lnTo>
                  <a:lnTo>
                    <a:pt x="40609" y="31558"/>
                  </a:lnTo>
                  <a:lnTo>
                    <a:pt x="41010" y="31527"/>
                  </a:lnTo>
                  <a:lnTo>
                    <a:pt x="41384" y="31476"/>
                  </a:lnTo>
                  <a:lnTo>
                    <a:pt x="41571" y="31446"/>
                  </a:lnTo>
                  <a:lnTo>
                    <a:pt x="41771" y="31405"/>
                  </a:lnTo>
                  <a:lnTo>
                    <a:pt x="41958" y="31364"/>
                  </a:lnTo>
                  <a:lnTo>
                    <a:pt x="42172" y="31303"/>
                  </a:lnTo>
                  <a:lnTo>
                    <a:pt x="42586" y="31181"/>
                  </a:lnTo>
                  <a:lnTo>
                    <a:pt x="43013" y="31038"/>
                  </a:lnTo>
                  <a:lnTo>
                    <a:pt x="43427" y="30874"/>
                  </a:lnTo>
                  <a:lnTo>
                    <a:pt x="43868" y="30691"/>
                  </a:lnTo>
                  <a:lnTo>
                    <a:pt x="44295" y="30487"/>
                  </a:lnTo>
                  <a:lnTo>
                    <a:pt x="44722" y="30293"/>
                  </a:lnTo>
                  <a:lnTo>
                    <a:pt x="45136" y="30068"/>
                  </a:lnTo>
                  <a:lnTo>
                    <a:pt x="45550" y="29844"/>
                  </a:lnTo>
                  <a:lnTo>
                    <a:pt x="45951" y="29630"/>
                  </a:lnTo>
                  <a:lnTo>
                    <a:pt x="46338" y="29405"/>
                  </a:lnTo>
                  <a:lnTo>
                    <a:pt x="47033" y="28987"/>
                  </a:lnTo>
                  <a:lnTo>
                    <a:pt x="47660" y="28599"/>
                  </a:lnTo>
                  <a:lnTo>
                    <a:pt x="47727" y="28568"/>
                  </a:lnTo>
                  <a:lnTo>
                    <a:pt x="48275" y="28201"/>
                  </a:lnTo>
                  <a:lnTo>
                    <a:pt x="48809" y="27824"/>
                  </a:lnTo>
                  <a:lnTo>
                    <a:pt x="49356" y="27426"/>
                  </a:lnTo>
                  <a:lnTo>
                    <a:pt x="49917" y="26987"/>
                  </a:lnTo>
                  <a:lnTo>
                    <a:pt x="50465" y="26538"/>
                  </a:lnTo>
                  <a:lnTo>
                    <a:pt x="51026" y="26069"/>
                  </a:lnTo>
                  <a:lnTo>
                    <a:pt x="51600" y="25569"/>
                  </a:lnTo>
                  <a:lnTo>
                    <a:pt x="52161" y="25059"/>
                  </a:lnTo>
                  <a:lnTo>
                    <a:pt x="52735" y="24528"/>
                  </a:lnTo>
                  <a:lnTo>
                    <a:pt x="53296" y="23987"/>
                  </a:lnTo>
                  <a:lnTo>
                    <a:pt x="53870" y="23426"/>
                  </a:lnTo>
                  <a:lnTo>
                    <a:pt x="54444" y="22855"/>
                  </a:lnTo>
                  <a:lnTo>
                    <a:pt x="55018" y="22273"/>
                  </a:lnTo>
                  <a:lnTo>
                    <a:pt x="55593" y="21661"/>
                  </a:lnTo>
                  <a:lnTo>
                    <a:pt x="56167" y="21049"/>
                  </a:lnTo>
                  <a:lnTo>
                    <a:pt x="56741" y="20416"/>
                  </a:lnTo>
                  <a:lnTo>
                    <a:pt x="57890" y="19151"/>
                  </a:lnTo>
                  <a:lnTo>
                    <a:pt x="59051" y="17835"/>
                  </a:lnTo>
                  <a:lnTo>
                    <a:pt x="60200" y="16488"/>
                  </a:lnTo>
                  <a:lnTo>
                    <a:pt x="61335" y="15151"/>
                  </a:lnTo>
                  <a:lnTo>
                    <a:pt x="62470" y="13774"/>
                  </a:lnTo>
                  <a:lnTo>
                    <a:pt x="63592" y="12427"/>
                  </a:lnTo>
                  <a:lnTo>
                    <a:pt x="64687" y="11070"/>
                  </a:lnTo>
                  <a:lnTo>
                    <a:pt x="65782" y="9723"/>
                  </a:lnTo>
                  <a:lnTo>
                    <a:pt x="66276" y="9121"/>
                  </a:lnTo>
                  <a:lnTo>
                    <a:pt x="66757" y="8529"/>
                  </a:lnTo>
                  <a:lnTo>
                    <a:pt x="67237" y="7938"/>
                  </a:lnTo>
                  <a:lnTo>
                    <a:pt x="67718" y="7356"/>
                  </a:lnTo>
                  <a:lnTo>
                    <a:pt x="68172" y="6785"/>
                  </a:lnTo>
                  <a:lnTo>
                    <a:pt x="68640" y="6213"/>
                  </a:lnTo>
                  <a:lnTo>
                    <a:pt x="69107" y="5662"/>
                  </a:lnTo>
                  <a:lnTo>
                    <a:pt x="69574" y="5111"/>
                  </a:lnTo>
                  <a:lnTo>
                    <a:pt x="70028" y="4581"/>
                  </a:lnTo>
                  <a:lnTo>
                    <a:pt x="70456" y="4050"/>
                  </a:lnTo>
                  <a:lnTo>
                    <a:pt x="70896" y="3540"/>
                  </a:lnTo>
                  <a:lnTo>
                    <a:pt x="71337" y="3050"/>
                  </a:lnTo>
                  <a:lnTo>
                    <a:pt x="71751" y="2561"/>
                  </a:lnTo>
                  <a:lnTo>
                    <a:pt x="72165" y="2091"/>
                  </a:lnTo>
                  <a:lnTo>
                    <a:pt x="72566" y="1642"/>
                  </a:lnTo>
                  <a:lnTo>
                    <a:pt x="72980" y="1203"/>
                  </a:lnTo>
                  <a:lnTo>
                    <a:pt x="73100" y="1061"/>
                  </a:lnTo>
                  <a:lnTo>
                    <a:pt x="73260" y="928"/>
                  </a:lnTo>
                  <a:lnTo>
                    <a:pt x="73420" y="806"/>
                  </a:lnTo>
                  <a:lnTo>
                    <a:pt x="73594" y="683"/>
                  </a:lnTo>
                  <a:lnTo>
                    <a:pt x="73794" y="591"/>
                  </a:lnTo>
                  <a:lnTo>
                    <a:pt x="73981" y="489"/>
                  </a:lnTo>
                  <a:lnTo>
                    <a:pt x="74182" y="387"/>
                  </a:lnTo>
                  <a:lnTo>
                    <a:pt x="74395" y="316"/>
                  </a:lnTo>
                  <a:lnTo>
                    <a:pt x="74622" y="244"/>
                  </a:lnTo>
                  <a:lnTo>
                    <a:pt x="74849" y="183"/>
                  </a:lnTo>
                  <a:lnTo>
                    <a:pt x="75090" y="122"/>
                  </a:lnTo>
                  <a:lnTo>
                    <a:pt x="75343" y="81"/>
                  </a:lnTo>
                  <a:lnTo>
                    <a:pt x="75584" y="51"/>
                  </a:lnTo>
                  <a:lnTo>
                    <a:pt x="75851" y="30"/>
                  </a:lnTo>
                  <a:lnTo>
                    <a:pt x="76131" y="0"/>
                  </a:lnTo>
                  <a:lnTo>
                    <a:pt x="76398" y="0"/>
                  </a:lnTo>
                  <a:lnTo>
                    <a:pt x="76786" y="10"/>
                  </a:lnTo>
                  <a:lnTo>
                    <a:pt x="77160" y="40"/>
                  </a:lnTo>
                  <a:lnTo>
                    <a:pt x="77533" y="81"/>
                  </a:lnTo>
                  <a:lnTo>
                    <a:pt x="77921" y="132"/>
                  </a:lnTo>
                  <a:lnTo>
                    <a:pt x="78281" y="214"/>
                  </a:lnTo>
                  <a:lnTo>
                    <a:pt x="78655" y="306"/>
                  </a:lnTo>
                  <a:lnTo>
                    <a:pt x="79016" y="397"/>
                  </a:lnTo>
                  <a:lnTo>
                    <a:pt x="79376" y="510"/>
                  </a:lnTo>
                  <a:lnTo>
                    <a:pt x="79737" y="642"/>
                  </a:lnTo>
                  <a:lnTo>
                    <a:pt x="80071" y="785"/>
                  </a:lnTo>
                  <a:lnTo>
                    <a:pt x="80405" y="938"/>
                  </a:lnTo>
                  <a:lnTo>
                    <a:pt x="80725" y="1101"/>
                  </a:lnTo>
                  <a:lnTo>
                    <a:pt x="81006" y="1295"/>
                  </a:lnTo>
                  <a:lnTo>
                    <a:pt x="81299" y="1479"/>
                  </a:lnTo>
                  <a:lnTo>
                    <a:pt x="81580" y="1683"/>
                  </a:lnTo>
                  <a:lnTo>
                    <a:pt x="81820" y="1887"/>
                  </a:lnTo>
                  <a:lnTo>
                    <a:pt x="81954" y="2010"/>
                  </a:lnTo>
                  <a:lnTo>
                    <a:pt x="82087" y="2142"/>
                  </a:lnTo>
                  <a:lnTo>
                    <a:pt x="82221" y="2275"/>
                  </a:lnTo>
                  <a:lnTo>
                    <a:pt x="82341" y="2428"/>
                  </a:lnTo>
                  <a:lnTo>
                    <a:pt x="82461" y="2581"/>
                  </a:lnTo>
                  <a:lnTo>
                    <a:pt x="82581" y="2734"/>
                  </a:lnTo>
                  <a:lnTo>
                    <a:pt x="82675" y="2918"/>
                  </a:lnTo>
                  <a:lnTo>
                    <a:pt x="82782" y="3091"/>
                  </a:lnTo>
                  <a:lnTo>
                    <a:pt x="82875" y="3295"/>
                  </a:lnTo>
                  <a:lnTo>
                    <a:pt x="82942" y="3479"/>
                  </a:lnTo>
                  <a:lnTo>
                    <a:pt x="82995" y="3683"/>
                  </a:lnTo>
                  <a:lnTo>
                    <a:pt x="83049" y="3897"/>
                  </a:lnTo>
                  <a:lnTo>
                    <a:pt x="83062" y="4122"/>
                  </a:lnTo>
                  <a:lnTo>
                    <a:pt x="83062" y="4346"/>
                  </a:lnTo>
                  <a:lnTo>
                    <a:pt x="83049" y="4591"/>
                  </a:lnTo>
                  <a:lnTo>
                    <a:pt x="83009" y="4836"/>
                  </a:lnTo>
                  <a:lnTo>
                    <a:pt x="82835" y="5611"/>
                  </a:lnTo>
                  <a:lnTo>
                    <a:pt x="82635" y="6377"/>
                  </a:lnTo>
                  <a:lnTo>
                    <a:pt x="82421" y="7142"/>
                  </a:lnTo>
                  <a:lnTo>
                    <a:pt x="82181" y="7897"/>
                  </a:lnTo>
                  <a:lnTo>
                    <a:pt x="81927" y="8662"/>
                  </a:lnTo>
                  <a:lnTo>
                    <a:pt x="81633" y="9407"/>
                  </a:lnTo>
                  <a:lnTo>
                    <a:pt x="81326" y="10152"/>
                  </a:lnTo>
                  <a:lnTo>
                    <a:pt x="81006" y="10897"/>
                  </a:lnTo>
                  <a:lnTo>
                    <a:pt x="80672" y="11631"/>
                  </a:lnTo>
                  <a:lnTo>
                    <a:pt x="80311" y="12366"/>
                  </a:lnTo>
                  <a:lnTo>
                    <a:pt x="79951" y="13090"/>
                  </a:lnTo>
                  <a:lnTo>
                    <a:pt x="79563" y="13815"/>
                  </a:lnTo>
                  <a:lnTo>
                    <a:pt x="79163" y="14529"/>
                  </a:lnTo>
                  <a:lnTo>
                    <a:pt x="78749" y="15233"/>
                  </a:lnTo>
                  <a:lnTo>
                    <a:pt x="78321" y="15947"/>
                  </a:lnTo>
                  <a:lnTo>
                    <a:pt x="77881" y="16651"/>
                  </a:lnTo>
                  <a:lnTo>
                    <a:pt x="77440" y="17345"/>
                  </a:lnTo>
                  <a:lnTo>
                    <a:pt x="76986" y="18039"/>
                  </a:lnTo>
                  <a:lnTo>
                    <a:pt x="76519" y="18733"/>
                  </a:lnTo>
                  <a:lnTo>
                    <a:pt x="76038" y="19406"/>
                  </a:lnTo>
                  <a:lnTo>
                    <a:pt x="75557" y="20090"/>
                  </a:lnTo>
                  <a:lnTo>
                    <a:pt x="75063" y="20763"/>
                  </a:lnTo>
                  <a:lnTo>
                    <a:pt x="74582" y="21426"/>
                  </a:lnTo>
                  <a:lnTo>
                    <a:pt x="74088" y="22079"/>
                  </a:lnTo>
                  <a:lnTo>
                    <a:pt x="73087" y="23395"/>
                  </a:lnTo>
                  <a:lnTo>
                    <a:pt x="72085" y="24691"/>
                  </a:lnTo>
                  <a:lnTo>
                    <a:pt x="71083" y="25956"/>
                  </a:lnTo>
                  <a:lnTo>
                    <a:pt x="70082" y="27201"/>
                  </a:lnTo>
                  <a:lnTo>
                    <a:pt x="68947" y="28640"/>
                  </a:lnTo>
                  <a:lnTo>
                    <a:pt x="67825" y="30048"/>
                  </a:lnTo>
                  <a:lnTo>
                    <a:pt x="67291" y="30742"/>
                  </a:lnTo>
                  <a:lnTo>
                    <a:pt x="66770" y="31425"/>
                  </a:lnTo>
                  <a:lnTo>
                    <a:pt x="66263" y="32109"/>
                  </a:lnTo>
                  <a:lnTo>
                    <a:pt x="65768" y="32782"/>
                  </a:lnTo>
                  <a:lnTo>
                    <a:pt x="65288" y="33456"/>
                  </a:lnTo>
                  <a:lnTo>
                    <a:pt x="64834" y="34119"/>
                  </a:lnTo>
                  <a:lnTo>
                    <a:pt x="64406" y="34772"/>
                  </a:lnTo>
                  <a:lnTo>
                    <a:pt x="63979" y="35415"/>
                  </a:lnTo>
                  <a:lnTo>
                    <a:pt x="63592" y="36058"/>
                  </a:lnTo>
                  <a:lnTo>
                    <a:pt x="63218" y="36690"/>
                  </a:lnTo>
                  <a:lnTo>
                    <a:pt x="62884" y="37313"/>
                  </a:lnTo>
                  <a:lnTo>
                    <a:pt x="62563" y="37935"/>
                  </a:lnTo>
                  <a:lnTo>
                    <a:pt x="62296" y="38537"/>
                  </a:lnTo>
                  <a:lnTo>
                    <a:pt x="62043" y="39149"/>
                  </a:lnTo>
                  <a:lnTo>
                    <a:pt x="61829" y="39741"/>
                  </a:lnTo>
                  <a:lnTo>
                    <a:pt x="61655" y="40323"/>
                  </a:lnTo>
                  <a:lnTo>
                    <a:pt x="61522" y="40914"/>
                  </a:lnTo>
                  <a:lnTo>
                    <a:pt x="61402" y="41486"/>
                  </a:lnTo>
                  <a:lnTo>
                    <a:pt x="61348" y="42047"/>
                  </a:lnTo>
                  <a:lnTo>
                    <a:pt x="61335" y="42598"/>
                  </a:lnTo>
                  <a:lnTo>
                    <a:pt x="61348" y="43149"/>
                  </a:lnTo>
                  <a:lnTo>
                    <a:pt x="61402" y="43690"/>
                  </a:lnTo>
                  <a:lnTo>
                    <a:pt x="61522" y="44220"/>
                  </a:lnTo>
                  <a:lnTo>
                    <a:pt x="61682" y="44741"/>
                  </a:lnTo>
                  <a:lnTo>
                    <a:pt x="61896" y="45251"/>
                  </a:lnTo>
                  <a:lnTo>
                    <a:pt x="62150" y="45761"/>
                  </a:lnTo>
                  <a:lnTo>
                    <a:pt x="62470" y="46261"/>
                  </a:lnTo>
                  <a:lnTo>
                    <a:pt x="62831" y="46740"/>
                  </a:lnTo>
                  <a:lnTo>
                    <a:pt x="63124" y="47077"/>
                  </a:lnTo>
                  <a:lnTo>
                    <a:pt x="63432" y="47393"/>
                  </a:lnTo>
                  <a:lnTo>
                    <a:pt x="63752" y="47689"/>
                  </a:lnTo>
                  <a:lnTo>
                    <a:pt x="64086" y="47995"/>
                  </a:lnTo>
                  <a:lnTo>
                    <a:pt x="64433" y="48281"/>
                  </a:lnTo>
                  <a:lnTo>
                    <a:pt x="64780" y="48557"/>
                  </a:lnTo>
                  <a:lnTo>
                    <a:pt x="65154" y="48822"/>
                  </a:lnTo>
                  <a:lnTo>
                    <a:pt x="65555" y="49057"/>
                  </a:lnTo>
                  <a:lnTo>
                    <a:pt x="65955" y="49301"/>
                  </a:lnTo>
                  <a:lnTo>
                    <a:pt x="66383" y="49536"/>
                  </a:lnTo>
                  <a:lnTo>
                    <a:pt x="66810" y="49771"/>
                  </a:lnTo>
                  <a:lnTo>
                    <a:pt x="67251" y="49975"/>
                  </a:lnTo>
                  <a:lnTo>
                    <a:pt x="67718" y="50179"/>
                  </a:lnTo>
                  <a:lnTo>
                    <a:pt x="68199" y="50363"/>
                  </a:lnTo>
                  <a:lnTo>
                    <a:pt x="68693" y="50536"/>
                  </a:lnTo>
                  <a:lnTo>
                    <a:pt x="69200" y="50720"/>
                  </a:lnTo>
                  <a:lnTo>
                    <a:pt x="69721" y="50873"/>
                  </a:lnTo>
                  <a:lnTo>
                    <a:pt x="70255" y="51016"/>
                  </a:lnTo>
                  <a:lnTo>
                    <a:pt x="70803" y="51158"/>
                  </a:lnTo>
                  <a:lnTo>
                    <a:pt x="71377" y="51281"/>
                  </a:lnTo>
                  <a:lnTo>
                    <a:pt x="71951" y="51403"/>
                  </a:lnTo>
                  <a:lnTo>
                    <a:pt x="72552" y="51505"/>
                  </a:lnTo>
                  <a:lnTo>
                    <a:pt x="73180" y="51607"/>
                  </a:lnTo>
                  <a:lnTo>
                    <a:pt x="73808" y="51689"/>
                  </a:lnTo>
                  <a:lnTo>
                    <a:pt x="74435" y="51760"/>
                  </a:lnTo>
                  <a:lnTo>
                    <a:pt x="75116" y="51832"/>
                  </a:lnTo>
                  <a:lnTo>
                    <a:pt x="75784" y="51883"/>
                  </a:lnTo>
                  <a:lnTo>
                    <a:pt x="76478" y="51924"/>
                  </a:lnTo>
                  <a:lnTo>
                    <a:pt x="77173" y="51975"/>
                  </a:lnTo>
                  <a:lnTo>
                    <a:pt x="77894" y="51995"/>
                  </a:lnTo>
                  <a:lnTo>
                    <a:pt x="78642" y="52005"/>
                  </a:lnTo>
                  <a:lnTo>
                    <a:pt x="79403" y="52015"/>
                  </a:lnTo>
                  <a:lnTo>
                    <a:pt x="80178" y="52005"/>
                  </a:lnTo>
                  <a:lnTo>
                    <a:pt x="80979" y="51995"/>
                  </a:lnTo>
                  <a:lnTo>
                    <a:pt x="81780" y="51964"/>
                  </a:lnTo>
                  <a:lnTo>
                    <a:pt x="82595" y="51924"/>
                  </a:lnTo>
                  <a:lnTo>
                    <a:pt x="83396" y="51883"/>
                  </a:lnTo>
                  <a:lnTo>
                    <a:pt x="84224" y="51832"/>
                  </a:lnTo>
                  <a:lnTo>
                    <a:pt x="85038" y="51771"/>
                  </a:lnTo>
                  <a:lnTo>
                    <a:pt x="85866" y="51699"/>
                  </a:lnTo>
                  <a:lnTo>
                    <a:pt x="86694" y="51618"/>
                  </a:lnTo>
                  <a:lnTo>
                    <a:pt x="87522" y="51546"/>
                  </a:lnTo>
                  <a:lnTo>
                    <a:pt x="88364" y="51444"/>
                  </a:lnTo>
                  <a:lnTo>
                    <a:pt x="89192" y="51342"/>
                  </a:lnTo>
                  <a:lnTo>
                    <a:pt x="90861" y="51138"/>
                  </a:lnTo>
                  <a:lnTo>
                    <a:pt x="92530" y="50903"/>
                  </a:lnTo>
                  <a:lnTo>
                    <a:pt x="94186" y="50648"/>
                  </a:lnTo>
                  <a:lnTo>
                    <a:pt x="95829" y="50383"/>
                  </a:lnTo>
                  <a:lnTo>
                    <a:pt x="97471" y="50107"/>
                  </a:lnTo>
                  <a:lnTo>
                    <a:pt x="99087" y="49822"/>
                  </a:lnTo>
                  <a:lnTo>
                    <a:pt x="100676" y="49536"/>
                  </a:lnTo>
                  <a:lnTo>
                    <a:pt x="102225" y="49250"/>
                  </a:lnTo>
                  <a:lnTo>
                    <a:pt x="103734" y="48955"/>
                  </a:lnTo>
                  <a:lnTo>
                    <a:pt x="105217" y="48679"/>
                  </a:lnTo>
                  <a:lnTo>
                    <a:pt x="106552" y="48424"/>
                  </a:lnTo>
                  <a:lnTo>
                    <a:pt x="107847" y="48169"/>
                  </a:lnTo>
                  <a:lnTo>
                    <a:pt x="109089" y="47934"/>
                  </a:lnTo>
                  <a:lnTo>
                    <a:pt x="110278" y="47730"/>
                  </a:lnTo>
                  <a:lnTo>
                    <a:pt x="111399" y="47526"/>
                  </a:lnTo>
                  <a:lnTo>
                    <a:pt x="112468" y="47353"/>
                  </a:lnTo>
                  <a:lnTo>
                    <a:pt x="113469" y="47200"/>
                  </a:lnTo>
                  <a:lnTo>
                    <a:pt x="114431" y="47067"/>
                  </a:lnTo>
                  <a:lnTo>
                    <a:pt x="114578" y="47057"/>
                  </a:lnTo>
                  <a:lnTo>
                    <a:pt x="114738" y="47047"/>
                  </a:lnTo>
                  <a:lnTo>
                    <a:pt x="114885" y="47036"/>
                  </a:lnTo>
                  <a:lnTo>
                    <a:pt x="115032" y="47036"/>
                  </a:lnTo>
                  <a:lnTo>
                    <a:pt x="115232" y="47036"/>
                  </a:lnTo>
                  <a:lnTo>
                    <a:pt x="115432" y="47057"/>
                  </a:lnTo>
                  <a:lnTo>
                    <a:pt x="115633" y="47077"/>
                  </a:lnTo>
                  <a:lnTo>
                    <a:pt x="115833" y="47098"/>
                  </a:lnTo>
                  <a:lnTo>
                    <a:pt x="116020" y="47138"/>
                  </a:lnTo>
                  <a:lnTo>
                    <a:pt x="116207" y="47189"/>
                  </a:lnTo>
                  <a:lnTo>
                    <a:pt x="116394" y="47240"/>
                  </a:lnTo>
                  <a:lnTo>
                    <a:pt x="116581" y="47291"/>
                  </a:lnTo>
                  <a:lnTo>
                    <a:pt x="116754" y="47363"/>
                  </a:lnTo>
                  <a:lnTo>
                    <a:pt x="116928" y="47444"/>
                  </a:lnTo>
                  <a:lnTo>
                    <a:pt x="117088" y="47516"/>
                  </a:lnTo>
                  <a:lnTo>
                    <a:pt x="117262" y="47608"/>
                  </a:lnTo>
                  <a:lnTo>
                    <a:pt x="117422" y="47689"/>
                  </a:lnTo>
                  <a:lnTo>
                    <a:pt x="117582" y="47791"/>
                  </a:lnTo>
                  <a:lnTo>
                    <a:pt x="117729" y="47893"/>
                  </a:lnTo>
                  <a:lnTo>
                    <a:pt x="117876" y="47995"/>
                  </a:lnTo>
                  <a:lnTo>
                    <a:pt x="118170" y="48220"/>
                  </a:lnTo>
                  <a:lnTo>
                    <a:pt x="118424" y="48465"/>
                  </a:lnTo>
                  <a:lnTo>
                    <a:pt x="118677" y="48720"/>
                  </a:lnTo>
                  <a:lnTo>
                    <a:pt x="118904" y="48985"/>
                  </a:lnTo>
                  <a:lnTo>
                    <a:pt x="119105" y="49261"/>
                  </a:lnTo>
                  <a:lnTo>
                    <a:pt x="119305" y="49536"/>
                  </a:lnTo>
                  <a:lnTo>
                    <a:pt x="119465" y="49822"/>
                  </a:lnTo>
                  <a:lnTo>
                    <a:pt x="119586" y="50107"/>
                  </a:lnTo>
                  <a:lnTo>
                    <a:pt x="119719" y="50403"/>
                  </a:lnTo>
                  <a:lnTo>
                    <a:pt x="119826" y="50720"/>
                  </a:lnTo>
                  <a:lnTo>
                    <a:pt x="119893" y="51036"/>
                  </a:lnTo>
                  <a:lnTo>
                    <a:pt x="119959" y="51352"/>
                  </a:lnTo>
                  <a:lnTo>
                    <a:pt x="119986" y="51689"/>
                  </a:lnTo>
                  <a:lnTo>
                    <a:pt x="120000" y="52015"/>
                  </a:lnTo>
                  <a:lnTo>
                    <a:pt x="119986" y="52179"/>
                  </a:lnTo>
                  <a:lnTo>
                    <a:pt x="119973" y="52352"/>
                  </a:lnTo>
                  <a:lnTo>
                    <a:pt x="119946" y="52515"/>
                  </a:lnTo>
                  <a:lnTo>
                    <a:pt x="119906" y="52679"/>
                  </a:lnTo>
                  <a:lnTo>
                    <a:pt x="119866" y="52842"/>
                  </a:lnTo>
                  <a:lnTo>
                    <a:pt x="119826" y="53005"/>
                  </a:lnTo>
                  <a:lnTo>
                    <a:pt x="119759" y="53179"/>
                  </a:lnTo>
                  <a:lnTo>
                    <a:pt x="119692" y="53332"/>
                  </a:lnTo>
                  <a:lnTo>
                    <a:pt x="119626" y="53495"/>
                  </a:lnTo>
                  <a:lnTo>
                    <a:pt x="119532" y="53648"/>
                  </a:lnTo>
                  <a:lnTo>
                    <a:pt x="119425" y="53801"/>
                  </a:lnTo>
                  <a:lnTo>
                    <a:pt x="119332" y="53954"/>
                  </a:lnTo>
                  <a:lnTo>
                    <a:pt x="119212" y="54097"/>
                  </a:lnTo>
                  <a:lnTo>
                    <a:pt x="119078" y="54240"/>
                  </a:lnTo>
                  <a:lnTo>
                    <a:pt x="118958" y="54393"/>
                  </a:lnTo>
                  <a:lnTo>
                    <a:pt x="118798" y="54536"/>
                  </a:lnTo>
                  <a:lnTo>
                    <a:pt x="118637" y="54668"/>
                  </a:lnTo>
                  <a:lnTo>
                    <a:pt x="118464" y="54791"/>
                  </a:lnTo>
                  <a:lnTo>
                    <a:pt x="118277" y="54913"/>
                  </a:lnTo>
                  <a:lnTo>
                    <a:pt x="118077" y="55036"/>
                  </a:lnTo>
                  <a:lnTo>
                    <a:pt x="117329" y="55464"/>
                  </a:lnTo>
                  <a:lnTo>
                    <a:pt x="116567" y="55862"/>
                  </a:lnTo>
                  <a:lnTo>
                    <a:pt x="115780" y="56240"/>
                  </a:lnTo>
                  <a:lnTo>
                    <a:pt x="115005" y="56607"/>
                  </a:lnTo>
                  <a:lnTo>
                    <a:pt x="114204" y="56944"/>
                  </a:lnTo>
                  <a:lnTo>
                    <a:pt x="113403" y="57280"/>
                  </a:lnTo>
                  <a:lnTo>
                    <a:pt x="112575" y="57586"/>
                  </a:lnTo>
                  <a:lnTo>
                    <a:pt x="111747" y="57872"/>
                  </a:lnTo>
                  <a:lnTo>
                    <a:pt x="110919" y="58148"/>
                  </a:lnTo>
                  <a:lnTo>
                    <a:pt x="110064" y="58403"/>
                  </a:lnTo>
                  <a:lnTo>
                    <a:pt x="109196" y="58658"/>
                  </a:lnTo>
                  <a:lnTo>
                    <a:pt x="108328" y="58872"/>
                  </a:lnTo>
                  <a:lnTo>
                    <a:pt x="107460" y="59097"/>
                  </a:lnTo>
                  <a:lnTo>
                    <a:pt x="106565" y="59311"/>
                  </a:lnTo>
                  <a:lnTo>
                    <a:pt x="105671" y="59494"/>
                  </a:lnTo>
                  <a:lnTo>
                    <a:pt x="104762" y="59678"/>
                  </a:lnTo>
                  <a:lnTo>
                    <a:pt x="103854" y="59852"/>
                  </a:lnTo>
                  <a:lnTo>
                    <a:pt x="102933" y="60015"/>
                  </a:lnTo>
                  <a:lnTo>
                    <a:pt x="102012" y="60158"/>
                  </a:lnTo>
                  <a:lnTo>
                    <a:pt x="101077" y="60300"/>
                  </a:lnTo>
                  <a:lnTo>
                    <a:pt x="100129" y="60443"/>
                  </a:lnTo>
                  <a:lnTo>
                    <a:pt x="99194" y="60566"/>
                  </a:lnTo>
                  <a:lnTo>
                    <a:pt x="98232" y="60688"/>
                  </a:lnTo>
                  <a:lnTo>
                    <a:pt x="97271" y="60811"/>
                  </a:lnTo>
                  <a:lnTo>
                    <a:pt x="95334" y="61015"/>
                  </a:lnTo>
                  <a:lnTo>
                    <a:pt x="93371" y="61229"/>
                  </a:lnTo>
                  <a:lnTo>
                    <a:pt x="91395" y="61413"/>
                  </a:lnTo>
                  <a:lnTo>
                    <a:pt x="89405" y="61596"/>
                  </a:lnTo>
                  <a:lnTo>
                    <a:pt x="86921" y="61841"/>
                  </a:lnTo>
                  <a:lnTo>
                    <a:pt x="84451" y="62086"/>
                  </a:lnTo>
                  <a:lnTo>
                    <a:pt x="83209" y="62219"/>
                  </a:lnTo>
                  <a:lnTo>
                    <a:pt x="81967" y="62351"/>
                  </a:lnTo>
                  <a:lnTo>
                    <a:pt x="80738" y="62504"/>
                  </a:lnTo>
                  <a:lnTo>
                    <a:pt x="79496" y="62657"/>
                  </a:lnTo>
                  <a:lnTo>
                    <a:pt x="78281" y="62821"/>
                  </a:lnTo>
                  <a:lnTo>
                    <a:pt x="77053" y="63015"/>
                  </a:lnTo>
                  <a:lnTo>
                    <a:pt x="75837" y="63208"/>
                  </a:lnTo>
                  <a:lnTo>
                    <a:pt x="74636" y="63423"/>
                  </a:lnTo>
                  <a:lnTo>
                    <a:pt x="73434" y="63637"/>
                  </a:lnTo>
                  <a:lnTo>
                    <a:pt x="72245" y="63892"/>
                  </a:lnTo>
                  <a:lnTo>
                    <a:pt x="71070" y="64157"/>
                  </a:lnTo>
                  <a:lnTo>
                    <a:pt x="69908" y="64443"/>
                  </a:lnTo>
                  <a:lnTo>
                    <a:pt x="68746" y="64759"/>
                  </a:lnTo>
                  <a:lnTo>
                    <a:pt x="67611" y="65086"/>
                  </a:lnTo>
                  <a:lnTo>
                    <a:pt x="66476" y="65453"/>
                  </a:lnTo>
                  <a:lnTo>
                    <a:pt x="65368" y="65841"/>
                  </a:lnTo>
                  <a:lnTo>
                    <a:pt x="64273" y="66249"/>
                  </a:lnTo>
                  <a:lnTo>
                    <a:pt x="63191" y="66688"/>
                  </a:lnTo>
                  <a:lnTo>
                    <a:pt x="62136" y="67157"/>
                  </a:lnTo>
                  <a:lnTo>
                    <a:pt x="61081" y="67667"/>
                  </a:lnTo>
                  <a:lnTo>
                    <a:pt x="60066" y="68208"/>
                  </a:lnTo>
                  <a:lnTo>
                    <a:pt x="59065" y="68779"/>
                  </a:lnTo>
                  <a:lnTo>
                    <a:pt x="58090" y="69392"/>
                  </a:lnTo>
                  <a:lnTo>
                    <a:pt x="57128" y="70034"/>
                  </a:lnTo>
                  <a:lnTo>
                    <a:pt x="56194" y="70728"/>
                  </a:lnTo>
                  <a:lnTo>
                    <a:pt x="55286" y="71463"/>
                  </a:lnTo>
                  <a:lnTo>
                    <a:pt x="54404" y="72218"/>
                  </a:lnTo>
                  <a:lnTo>
                    <a:pt x="53549" y="73034"/>
                  </a:lnTo>
                  <a:lnTo>
                    <a:pt x="52388" y="74401"/>
                  </a:lnTo>
                  <a:lnTo>
                    <a:pt x="51293" y="75809"/>
                  </a:lnTo>
                  <a:lnTo>
                    <a:pt x="50278" y="77248"/>
                  </a:lnTo>
                  <a:lnTo>
                    <a:pt x="49330" y="78717"/>
                  </a:lnTo>
                  <a:lnTo>
                    <a:pt x="48435" y="80217"/>
                  </a:lnTo>
                  <a:lnTo>
                    <a:pt x="47620" y="81737"/>
                  </a:lnTo>
                  <a:lnTo>
                    <a:pt x="46846" y="83268"/>
                  </a:lnTo>
                  <a:lnTo>
                    <a:pt x="46151" y="84829"/>
                  </a:lnTo>
                  <a:lnTo>
                    <a:pt x="45497" y="86380"/>
                  </a:lnTo>
                  <a:lnTo>
                    <a:pt x="44896" y="87951"/>
                  </a:lnTo>
                  <a:lnTo>
                    <a:pt x="44362" y="89522"/>
                  </a:lnTo>
                  <a:lnTo>
                    <a:pt x="43868" y="91094"/>
                  </a:lnTo>
                  <a:lnTo>
                    <a:pt x="43414" y="92645"/>
                  </a:lnTo>
                  <a:lnTo>
                    <a:pt x="43026" y="94196"/>
                  </a:lnTo>
                  <a:lnTo>
                    <a:pt x="42666" y="95726"/>
                  </a:lnTo>
                  <a:lnTo>
                    <a:pt x="42345" y="97236"/>
                  </a:lnTo>
                  <a:lnTo>
                    <a:pt x="42065" y="98736"/>
                  </a:lnTo>
                  <a:lnTo>
                    <a:pt x="41825" y="100195"/>
                  </a:lnTo>
                  <a:lnTo>
                    <a:pt x="41598" y="101624"/>
                  </a:lnTo>
                  <a:lnTo>
                    <a:pt x="41424" y="103011"/>
                  </a:lnTo>
                  <a:lnTo>
                    <a:pt x="41277" y="104368"/>
                  </a:lnTo>
                  <a:lnTo>
                    <a:pt x="41144" y="105684"/>
                  </a:lnTo>
                  <a:lnTo>
                    <a:pt x="41063" y="106939"/>
                  </a:lnTo>
                  <a:lnTo>
                    <a:pt x="40970" y="108154"/>
                  </a:lnTo>
                  <a:lnTo>
                    <a:pt x="40930" y="109296"/>
                  </a:lnTo>
                  <a:lnTo>
                    <a:pt x="40890" y="110398"/>
                  </a:lnTo>
                  <a:lnTo>
                    <a:pt x="40863" y="111419"/>
                  </a:lnTo>
                  <a:lnTo>
                    <a:pt x="40863" y="112367"/>
                  </a:lnTo>
                  <a:lnTo>
                    <a:pt x="40863" y="113245"/>
                  </a:lnTo>
                  <a:lnTo>
                    <a:pt x="40876" y="114051"/>
                  </a:lnTo>
                  <a:lnTo>
                    <a:pt x="40890" y="114786"/>
                  </a:lnTo>
                  <a:lnTo>
                    <a:pt x="40916" y="115408"/>
                  </a:lnTo>
                  <a:lnTo>
                    <a:pt x="40903" y="115755"/>
                  </a:lnTo>
                  <a:lnTo>
                    <a:pt x="40863" y="116092"/>
                  </a:lnTo>
                  <a:lnTo>
                    <a:pt x="40756" y="116439"/>
                  </a:lnTo>
                  <a:lnTo>
                    <a:pt x="40623" y="116765"/>
                  </a:lnTo>
                  <a:lnTo>
                    <a:pt x="40436" y="117102"/>
                  </a:lnTo>
                  <a:lnTo>
                    <a:pt x="40235" y="117408"/>
                  </a:lnTo>
                  <a:lnTo>
                    <a:pt x="39982" y="117714"/>
                  </a:lnTo>
                  <a:lnTo>
                    <a:pt x="39715" y="118010"/>
                  </a:lnTo>
                  <a:lnTo>
                    <a:pt x="39407" y="118285"/>
                  </a:lnTo>
                  <a:lnTo>
                    <a:pt x="39087" y="118551"/>
                  </a:lnTo>
                  <a:lnTo>
                    <a:pt x="38740" y="118806"/>
                  </a:lnTo>
                  <a:lnTo>
                    <a:pt x="38366" y="119040"/>
                  </a:lnTo>
                  <a:lnTo>
                    <a:pt x="37979" y="119244"/>
                  </a:lnTo>
                  <a:lnTo>
                    <a:pt x="37578" y="119438"/>
                  </a:lnTo>
                  <a:lnTo>
                    <a:pt x="37151" y="119602"/>
                  </a:lnTo>
                  <a:lnTo>
                    <a:pt x="36737" y="119734"/>
                  </a:lnTo>
                  <a:lnTo>
                    <a:pt x="36309" y="119846"/>
                  </a:lnTo>
                  <a:lnTo>
                    <a:pt x="35869" y="119938"/>
                  </a:lnTo>
                  <a:lnTo>
                    <a:pt x="35441" y="119979"/>
                  </a:lnTo>
                  <a:lnTo>
                    <a:pt x="35001" y="120000"/>
                  </a:lnTo>
                  <a:lnTo>
                    <a:pt x="34573" y="119989"/>
                  </a:lnTo>
                  <a:lnTo>
                    <a:pt x="34146" y="119938"/>
                  </a:lnTo>
                  <a:lnTo>
                    <a:pt x="33719" y="119846"/>
                  </a:lnTo>
                  <a:lnTo>
                    <a:pt x="33318" y="119724"/>
                  </a:lnTo>
                  <a:lnTo>
                    <a:pt x="32931" y="119551"/>
                  </a:lnTo>
                  <a:lnTo>
                    <a:pt x="32557" y="119336"/>
                  </a:lnTo>
                  <a:lnTo>
                    <a:pt x="32196" y="119081"/>
                  </a:lnTo>
                  <a:lnTo>
                    <a:pt x="31862" y="118785"/>
                  </a:lnTo>
                  <a:lnTo>
                    <a:pt x="31555" y="118438"/>
                  </a:lnTo>
                  <a:lnTo>
                    <a:pt x="31275" y="118040"/>
                  </a:lnTo>
                  <a:lnTo>
                    <a:pt x="31021" y="117581"/>
                  </a:lnTo>
                  <a:lnTo>
                    <a:pt x="30807" y="117092"/>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67" name="任意多边形 263"/>
            <p:cNvSpPr/>
            <p:nvPr/>
          </p:nvSpPr>
          <p:spPr>
            <a:xfrm flipH="1">
              <a:off x="606600" y="4373640"/>
              <a:ext cx="691920" cy="682920"/>
            </a:xfrm>
            <a:custGeom>
              <a:avLst/>
              <a:gdLst/>
              <a:ahLst/>
              <a:rect l="l" t="t" r="r" b="b"/>
              <a:pathLst>
                <a:path w="120000" h="120000">
                  <a:moveTo>
                    <a:pt x="120000" y="60038"/>
                  </a:moveTo>
                  <a:lnTo>
                    <a:pt x="119923" y="63127"/>
                  </a:lnTo>
                  <a:lnTo>
                    <a:pt x="119693" y="66177"/>
                  </a:lnTo>
                  <a:lnTo>
                    <a:pt x="119309" y="69189"/>
                  </a:lnTo>
                  <a:lnTo>
                    <a:pt x="118772" y="72123"/>
                  </a:lnTo>
                  <a:lnTo>
                    <a:pt x="118120" y="75057"/>
                  </a:lnTo>
                  <a:lnTo>
                    <a:pt x="117276" y="77915"/>
                  </a:lnTo>
                  <a:lnTo>
                    <a:pt x="116355" y="80694"/>
                  </a:lnTo>
                  <a:lnTo>
                    <a:pt x="115281" y="83397"/>
                  </a:lnTo>
                  <a:lnTo>
                    <a:pt x="114053" y="86023"/>
                  </a:lnTo>
                  <a:lnTo>
                    <a:pt x="112749" y="88610"/>
                  </a:lnTo>
                  <a:lnTo>
                    <a:pt x="111329" y="91119"/>
                  </a:lnTo>
                  <a:lnTo>
                    <a:pt x="109718" y="93590"/>
                  </a:lnTo>
                  <a:lnTo>
                    <a:pt x="108069" y="95907"/>
                  </a:lnTo>
                  <a:lnTo>
                    <a:pt x="106304" y="98185"/>
                  </a:lnTo>
                  <a:lnTo>
                    <a:pt x="104424" y="100386"/>
                  </a:lnTo>
                  <a:lnTo>
                    <a:pt x="102429" y="102432"/>
                  </a:lnTo>
                  <a:lnTo>
                    <a:pt x="100319" y="104440"/>
                  </a:lnTo>
                  <a:lnTo>
                    <a:pt x="98171" y="106332"/>
                  </a:lnTo>
                  <a:lnTo>
                    <a:pt x="95907" y="108108"/>
                  </a:lnTo>
                  <a:lnTo>
                    <a:pt x="93529" y="109768"/>
                  </a:lnTo>
                  <a:lnTo>
                    <a:pt x="91112" y="111312"/>
                  </a:lnTo>
                  <a:lnTo>
                    <a:pt x="88618" y="112779"/>
                  </a:lnTo>
                  <a:lnTo>
                    <a:pt x="86010" y="114131"/>
                  </a:lnTo>
                  <a:lnTo>
                    <a:pt x="83363" y="115289"/>
                  </a:lnTo>
                  <a:lnTo>
                    <a:pt x="80639" y="116370"/>
                  </a:lnTo>
                  <a:lnTo>
                    <a:pt x="77838" y="117335"/>
                  </a:lnTo>
                  <a:lnTo>
                    <a:pt x="75000" y="118146"/>
                  </a:lnTo>
                  <a:lnTo>
                    <a:pt x="72084" y="118803"/>
                  </a:lnTo>
                  <a:lnTo>
                    <a:pt x="69168" y="119343"/>
                  </a:lnTo>
                  <a:lnTo>
                    <a:pt x="66138" y="119729"/>
                  </a:lnTo>
                  <a:lnTo>
                    <a:pt x="63107" y="119922"/>
                  </a:lnTo>
                  <a:lnTo>
                    <a:pt x="60000" y="119999"/>
                  </a:lnTo>
                  <a:lnTo>
                    <a:pt x="56930" y="119922"/>
                  </a:lnTo>
                  <a:lnTo>
                    <a:pt x="53861" y="119729"/>
                  </a:lnTo>
                  <a:lnTo>
                    <a:pt x="50869" y="119343"/>
                  </a:lnTo>
                  <a:lnTo>
                    <a:pt x="47915" y="118803"/>
                  </a:lnTo>
                  <a:lnTo>
                    <a:pt x="45038" y="118146"/>
                  </a:lnTo>
                  <a:lnTo>
                    <a:pt x="42161" y="117335"/>
                  </a:lnTo>
                  <a:lnTo>
                    <a:pt x="39360" y="116370"/>
                  </a:lnTo>
                  <a:lnTo>
                    <a:pt x="36636" y="115289"/>
                  </a:lnTo>
                  <a:lnTo>
                    <a:pt x="33951" y="114131"/>
                  </a:lnTo>
                  <a:lnTo>
                    <a:pt x="31381" y="112779"/>
                  </a:lnTo>
                  <a:lnTo>
                    <a:pt x="28887" y="111312"/>
                  </a:lnTo>
                  <a:lnTo>
                    <a:pt x="26432" y="109768"/>
                  </a:lnTo>
                  <a:lnTo>
                    <a:pt x="24053" y="108108"/>
                  </a:lnTo>
                  <a:lnTo>
                    <a:pt x="21828" y="106332"/>
                  </a:lnTo>
                  <a:lnTo>
                    <a:pt x="19641" y="104440"/>
                  </a:lnTo>
                  <a:lnTo>
                    <a:pt x="17570" y="102432"/>
                  </a:lnTo>
                  <a:lnTo>
                    <a:pt x="15537" y="100386"/>
                  </a:lnTo>
                  <a:lnTo>
                    <a:pt x="13657" y="98185"/>
                  </a:lnTo>
                  <a:lnTo>
                    <a:pt x="11930" y="95907"/>
                  </a:lnTo>
                  <a:lnTo>
                    <a:pt x="10242" y="93590"/>
                  </a:lnTo>
                  <a:lnTo>
                    <a:pt x="8670" y="91119"/>
                  </a:lnTo>
                  <a:lnTo>
                    <a:pt x="7212" y="88610"/>
                  </a:lnTo>
                  <a:lnTo>
                    <a:pt x="5907" y="86023"/>
                  </a:lnTo>
                  <a:lnTo>
                    <a:pt x="4680" y="83397"/>
                  </a:lnTo>
                  <a:lnTo>
                    <a:pt x="3606" y="80694"/>
                  </a:lnTo>
                  <a:lnTo>
                    <a:pt x="2685" y="77915"/>
                  </a:lnTo>
                  <a:lnTo>
                    <a:pt x="1879" y="75057"/>
                  </a:lnTo>
                  <a:lnTo>
                    <a:pt x="1189" y="72123"/>
                  </a:lnTo>
                  <a:lnTo>
                    <a:pt x="690" y="69189"/>
                  </a:lnTo>
                  <a:lnTo>
                    <a:pt x="268" y="66177"/>
                  </a:lnTo>
                  <a:lnTo>
                    <a:pt x="76" y="63127"/>
                  </a:lnTo>
                  <a:lnTo>
                    <a:pt x="0" y="60038"/>
                  </a:lnTo>
                  <a:lnTo>
                    <a:pt x="76" y="56949"/>
                  </a:lnTo>
                  <a:lnTo>
                    <a:pt x="268" y="53899"/>
                  </a:lnTo>
                  <a:lnTo>
                    <a:pt x="690" y="50888"/>
                  </a:lnTo>
                  <a:lnTo>
                    <a:pt x="1189" y="47953"/>
                  </a:lnTo>
                  <a:lnTo>
                    <a:pt x="1879" y="45057"/>
                  </a:lnTo>
                  <a:lnTo>
                    <a:pt x="2685" y="42200"/>
                  </a:lnTo>
                  <a:lnTo>
                    <a:pt x="3606" y="39420"/>
                  </a:lnTo>
                  <a:lnTo>
                    <a:pt x="4680" y="36718"/>
                  </a:lnTo>
                  <a:lnTo>
                    <a:pt x="5907" y="34015"/>
                  </a:lnTo>
                  <a:lnTo>
                    <a:pt x="7212" y="31428"/>
                  </a:lnTo>
                  <a:lnTo>
                    <a:pt x="8670" y="28957"/>
                  </a:lnTo>
                  <a:lnTo>
                    <a:pt x="10242" y="26486"/>
                  </a:lnTo>
                  <a:lnTo>
                    <a:pt x="11930" y="24131"/>
                  </a:lnTo>
                  <a:lnTo>
                    <a:pt x="13657" y="21891"/>
                  </a:lnTo>
                  <a:lnTo>
                    <a:pt x="15537" y="19729"/>
                  </a:lnTo>
                  <a:lnTo>
                    <a:pt x="17570" y="17644"/>
                  </a:lnTo>
                  <a:lnTo>
                    <a:pt x="19641" y="15637"/>
                  </a:lnTo>
                  <a:lnTo>
                    <a:pt x="21828" y="13745"/>
                  </a:lnTo>
                  <a:lnTo>
                    <a:pt x="24053" y="11969"/>
                  </a:lnTo>
                  <a:lnTo>
                    <a:pt x="26432" y="10270"/>
                  </a:lnTo>
                  <a:lnTo>
                    <a:pt x="28887" y="8725"/>
                  </a:lnTo>
                  <a:lnTo>
                    <a:pt x="31381" y="7297"/>
                  </a:lnTo>
                  <a:lnTo>
                    <a:pt x="33951" y="5945"/>
                  </a:lnTo>
                  <a:lnTo>
                    <a:pt x="36636" y="4749"/>
                  </a:lnTo>
                  <a:lnTo>
                    <a:pt x="39360" y="3706"/>
                  </a:lnTo>
                  <a:lnTo>
                    <a:pt x="42161" y="2741"/>
                  </a:lnTo>
                  <a:lnTo>
                    <a:pt x="45038" y="1930"/>
                  </a:lnTo>
                  <a:lnTo>
                    <a:pt x="47915" y="1274"/>
                  </a:lnTo>
                  <a:lnTo>
                    <a:pt x="50869" y="733"/>
                  </a:lnTo>
                  <a:lnTo>
                    <a:pt x="53861" y="347"/>
                  </a:lnTo>
                  <a:lnTo>
                    <a:pt x="56930" y="115"/>
                  </a:lnTo>
                  <a:lnTo>
                    <a:pt x="60000" y="0"/>
                  </a:lnTo>
                  <a:lnTo>
                    <a:pt x="63107" y="115"/>
                  </a:lnTo>
                  <a:lnTo>
                    <a:pt x="66138" y="347"/>
                  </a:lnTo>
                  <a:lnTo>
                    <a:pt x="69168" y="733"/>
                  </a:lnTo>
                  <a:lnTo>
                    <a:pt x="72084" y="1274"/>
                  </a:lnTo>
                  <a:lnTo>
                    <a:pt x="75000" y="1930"/>
                  </a:lnTo>
                  <a:lnTo>
                    <a:pt x="77838" y="2741"/>
                  </a:lnTo>
                  <a:lnTo>
                    <a:pt x="80639" y="3706"/>
                  </a:lnTo>
                  <a:lnTo>
                    <a:pt x="83363" y="4749"/>
                  </a:lnTo>
                  <a:lnTo>
                    <a:pt x="86010" y="5945"/>
                  </a:lnTo>
                  <a:lnTo>
                    <a:pt x="88618" y="7297"/>
                  </a:lnTo>
                  <a:lnTo>
                    <a:pt x="91112" y="8725"/>
                  </a:lnTo>
                  <a:lnTo>
                    <a:pt x="93529" y="10270"/>
                  </a:lnTo>
                  <a:lnTo>
                    <a:pt x="95907" y="11969"/>
                  </a:lnTo>
                  <a:lnTo>
                    <a:pt x="98171" y="13745"/>
                  </a:lnTo>
                  <a:lnTo>
                    <a:pt x="100319" y="15637"/>
                  </a:lnTo>
                  <a:lnTo>
                    <a:pt x="102429" y="17644"/>
                  </a:lnTo>
                  <a:lnTo>
                    <a:pt x="104424" y="19729"/>
                  </a:lnTo>
                  <a:lnTo>
                    <a:pt x="106304" y="21891"/>
                  </a:lnTo>
                  <a:lnTo>
                    <a:pt x="108069" y="24131"/>
                  </a:lnTo>
                  <a:lnTo>
                    <a:pt x="109718" y="26486"/>
                  </a:lnTo>
                  <a:lnTo>
                    <a:pt x="111329" y="28957"/>
                  </a:lnTo>
                  <a:lnTo>
                    <a:pt x="112749" y="31428"/>
                  </a:lnTo>
                  <a:lnTo>
                    <a:pt x="114053" y="34015"/>
                  </a:lnTo>
                  <a:lnTo>
                    <a:pt x="115281" y="36718"/>
                  </a:lnTo>
                  <a:lnTo>
                    <a:pt x="116355" y="39420"/>
                  </a:lnTo>
                  <a:lnTo>
                    <a:pt x="117276" y="42200"/>
                  </a:lnTo>
                  <a:lnTo>
                    <a:pt x="118120" y="45057"/>
                  </a:lnTo>
                  <a:lnTo>
                    <a:pt x="118772" y="47953"/>
                  </a:lnTo>
                  <a:lnTo>
                    <a:pt x="119309" y="50888"/>
                  </a:lnTo>
                  <a:lnTo>
                    <a:pt x="119693" y="53899"/>
                  </a:lnTo>
                  <a:lnTo>
                    <a:pt x="119923" y="56949"/>
                  </a:lnTo>
                  <a:lnTo>
                    <a:pt x="120000" y="60038"/>
                  </a:lnTo>
                  <a:close/>
                </a:path>
              </a:pathLst>
            </a:custGeom>
            <a:solidFill>
              <a:srgbClr val="5e5ca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68" name="任意多边形 264"/>
            <p:cNvSpPr/>
            <p:nvPr/>
          </p:nvSpPr>
          <p:spPr>
            <a:xfrm flipH="1">
              <a:off x="1146960" y="3924720"/>
              <a:ext cx="488520" cy="482400"/>
            </a:xfrm>
            <a:custGeom>
              <a:avLst/>
              <a:gdLst/>
              <a:ahLst/>
              <a:rect l="l" t="t" r="r" b="b"/>
              <a:pathLst>
                <a:path w="120000" h="120000">
                  <a:moveTo>
                    <a:pt x="120000" y="59972"/>
                  </a:moveTo>
                  <a:lnTo>
                    <a:pt x="119945" y="63088"/>
                  </a:lnTo>
                  <a:lnTo>
                    <a:pt x="119674" y="66095"/>
                  </a:lnTo>
                  <a:lnTo>
                    <a:pt x="119294" y="69157"/>
                  </a:lnTo>
                  <a:lnTo>
                    <a:pt x="118751" y="72109"/>
                  </a:lnTo>
                  <a:lnTo>
                    <a:pt x="118100" y="75006"/>
                  </a:lnTo>
                  <a:lnTo>
                    <a:pt x="117286" y="77904"/>
                  </a:lnTo>
                  <a:lnTo>
                    <a:pt x="116309" y="80637"/>
                  </a:lnTo>
                  <a:lnTo>
                    <a:pt x="115278" y="83371"/>
                  </a:lnTo>
                  <a:lnTo>
                    <a:pt x="114084" y="86050"/>
                  </a:lnTo>
                  <a:lnTo>
                    <a:pt x="112727" y="88619"/>
                  </a:lnTo>
                  <a:lnTo>
                    <a:pt x="111316" y="91134"/>
                  </a:lnTo>
                  <a:lnTo>
                    <a:pt x="109687" y="93594"/>
                  </a:lnTo>
                  <a:lnTo>
                    <a:pt x="108059" y="95890"/>
                  </a:lnTo>
                  <a:lnTo>
                    <a:pt x="106268" y="98186"/>
                  </a:lnTo>
                  <a:lnTo>
                    <a:pt x="104369" y="100373"/>
                  </a:lnTo>
                  <a:lnTo>
                    <a:pt x="102360" y="102451"/>
                  </a:lnTo>
                  <a:lnTo>
                    <a:pt x="100298" y="104419"/>
                  </a:lnTo>
                  <a:lnTo>
                    <a:pt x="98127" y="106332"/>
                  </a:lnTo>
                  <a:lnTo>
                    <a:pt x="95902" y="108082"/>
                  </a:lnTo>
                  <a:lnTo>
                    <a:pt x="93514" y="109776"/>
                  </a:lnTo>
                  <a:lnTo>
                    <a:pt x="91126" y="111307"/>
                  </a:lnTo>
                  <a:lnTo>
                    <a:pt x="88575" y="112783"/>
                  </a:lnTo>
                  <a:lnTo>
                    <a:pt x="85970" y="114095"/>
                  </a:lnTo>
                  <a:lnTo>
                    <a:pt x="83310" y="115298"/>
                  </a:lnTo>
                  <a:lnTo>
                    <a:pt x="80597" y="116337"/>
                  </a:lnTo>
                  <a:lnTo>
                    <a:pt x="77829" y="117321"/>
                  </a:lnTo>
                  <a:lnTo>
                    <a:pt x="74952" y="118141"/>
                  </a:lnTo>
                  <a:lnTo>
                    <a:pt x="72075" y="118797"/>
                  </a:lnTo>
                  <a:lnTo>
                    <a:pt x="69145" y="119289"/>
                  </a:lnTo>
                  <a:lnTo>
                    <a:pt x="66105" y="119726"/>
                  </a:lnTo>
                  <a:lnTo>
                    <a:pt x="63066" y="119945"/>
                  </a:lnTo>
                  <a:lnTo>
                    <a:pt x="59972" y="120000"/>
                  </a:lnTo>
                  <a:lnTo>
                    <a:pt x="56933" y="119945"/>
                  </a:lnTo>
                  <a:lnTo>
                    <a:pt x="53839" y="119726"/>
                  </a:lnTo>
                  <a:lnTo>
                    <a:pt x="50800" y="119289"/>
                  </a:lnTo>
                  <a:lnTo>
                    <a:pt x="47869" y="118797"/>
                  </a:lnTo>
                  <a:lnTo>
                    <a:pt x="44993" y="118141"/>
                  </a:lnTo>
                  <a:lnTo>
                    <a:pt x="42116" y="117321"/>
                  </a:lnTo>
                  <a:lnTo>
                    <a:pt x="39348" y="116337"/>
                  </a:lnTo>
                  <a:lnTo>
                    <a:pt x="36635" y="115298"/>
                  </a:lnTo>
                  <a:lnTo>
                    <a:pt x="33921" y="114095"/>
                  </a:lnTo>
                  <a:lnTo>
                    <a:pt x="31370" y="112783"/>
                  </a:lnTo>
                  <a:lnTo>
                    <a:pt x="28873" y="111307"/>
                  </a:lnTo>
                  <a:lnTo>
                    <a:pt x="26431" y="109776"/>
                  </a:lnTo>
                  <a:lnTo>
                    <a:pt x="24097" y="108082"/>
                  </a:lnTo>
                  <a:lnTo>
                    <a:pt x="21818" y="106332"/>
                  </a:lnTo>
                  <a:lnTo>
                    <a:pt x="19647" y="104419"/>
                  </a:lnTo>
                  <a:lnTo>
                    <a:pt x="17584" y="102451"/>
                  </a:lnTo>
                  <a:lnTo>
                    <a:pt x="15576" y="100373"/>
                  </a:lnTo>
                  <a:lnTo>
                    <a:pt x="13677" y="98186"/>
                  </a:lnTo>
                  <a:lnTo>
                    <a:pt x="11886" y="95890"/>
                  </a:lnTo>
                  <a:lnTo>
                    <a:pt x="10257" y="93594"/>
                  </a:lnTo>
                  <a:lnTo>
                    <a:pt x="8629" y="91134"/>
                  </a:lnTo>
                  <a:lnTo>
                    <a:pt x="7218" y="88619"/>
                  </a:lnTo>
                  <a:lnTo>
                    <a:pt x="5861" y="86050"/>
                  </a:lnTo>
                  <a:lnTo>
                    <a:pt x="4721" y="83371"/>
                  </a:lnTo>
                  <a:lnTo>
                    <a:pt x="3636" y="80637"/>
                  </a:lnTo>
                  <a:lnTo>
                    <a:pt x="2713" y="77904"/>
                  </a:lnTo>
                  <a:lnTo>
                    <a:pt x="1845" y="75006"/>
                  </a:lnTo>
                  <a:lnTo>
                    <a:pt x="1194" y="72109"/>
                  </a:lnTo>
                  <a:lnTo>
                    <a:pt x="705" y="69157"/>
                  </a:lnTo>
                  <a:lnTo>
                    <a:pt x="271" y="66095"/>
                  </a:lnTo>
                  <a:lnTo>
                    <a:pt x="54" y="63088"/>
                  </a:lnTo>
                  <a:lnTo>
                    <a:pt x="0" y="59972"/>
                  </a:lnTo>
                  <a:lnTo>
                    <a:pt x="54" y="56911"/>
                  </a:lnTo>
                  <a:lnTo>
                    <a:pt x="271" y="53904"/>
                  </a:lnTo>
                  <a:lnTo>
                    <a:pt x="705" y="50897"/>
                  </a:lnTo>
                  <a:lnTo>
                    <a:pt x="1194" y="47945"/>
                  </a:lnTo>
                  <a:lnTo>
                    <a:pt x="1845" y="45047"/>
                  </a:lnTo>
                  <a:lnTo>
                    <a:pt x="2713" y="42150"/>
                  </a:lnTo>
                  <a:lnTo>
                    <a:pt x="3636" y="39362"/>
                  </a:lnTo>
                  <a:lnTo>
                    <a:pt x="4721" y="36628"/>
                  </a:lnTo>
                  <a:lnTo>
                    <a:pt x="5861" y="33949"/>
                  </a:lnTo>
                  <a:lnTo>
                    <a:pt x="7218" y="31380"/>
                  </a:lnTo>
                  <a:lnTo>
                    <a:pt x="8629" y="28865"/>
                  </a:lnTo>
                  <a:lnTo>
                    <a:pt x="10257" y="26460"/>
                  </a:lnTo>
                  <a:lnTo>
                    <a:pt x="11886" y="24109"/>
                  </a:lnTo>
                  <a:lnTo>
                    <a:pt x="13677" y="21813"/>
                  </a:lnTo>
                  <a:lnTo>
                    <a:pt x="15576" y="19681"/>
                  </a:lnTo>
                  <a:lnTo>
                    <a:pt x="17584" y="17548"/>
                  </a:lnTo>
                  <a:lnTo>
                    <a:pt x="19647" y="15580"/>
                  </a:lnTo>
                  <a:lnTo>
                    <a:pt x="21818" y="13722"/>
                  </a:lnTo>
                  <a:lnTo>
                    <a:pt x="24097" y="11917"/>
                  </a:lnTo>
                  <a:lnTo>
                    <a:pt x="26431" y="10223"/>
                  </a:lnTo>
                  <a:lnTo>
                    <a:pt x="28873" y="8692"/>
                  </a:lnTo>
                  <a:lnTo>
                    <a:pt x="31370" y="7216"/>
                  </a:lnTo>
                  <a:lnTo>
                    <a:pt x="33921" y="5904"/>
                  </a:lnTo>
                  <a:lnTo>
                    <a:pt x="36635" y="4701"/>
                  </a:lnTo>
                  <a:lnTo>
                    <a:pt x="39348" y="3662"/>
                  </a:lnTo>
                  <a:lnTo>
                    <a:pt x="42116" y="2733"/>
                  </a:lnTo>
                  <a:lnTo>
                    <a:pt x="44993" y="1913"/>
                  </a:lnTo>
                  <a:lnTo>
                    <a:pt x="47869" y="1257"/>
                  </a:lnTo>
                  <a:lnTo>
                    <a:pt x="50800" y="710"/>
                  </a:lnTo>
                  <a:lnTo>
                    <a:pt x="53839" y="273"/>
                  </a:lnTo>
                  <a:lnTo>
                    <a:pt x="56933" y="54"/>
                  </a:lnTo>
                  <a:lnTo>
                    <a:pt x="59972" y="0"/>
                  </a:lnTo>
                  <a:lnTo>
                    <a:pt x="63066" y="54"/>
                  </a:lnTo>
                  <a:lnTo>
                    <a:pt x="66105" y="273"/>
                  </a:lnTo>
                  <a:lnTo>
                    <a:pt x="69145" y="710"/>
                  </a:lnTo>
                  <a:lnTo>
                    <a:pt x="72075" y="1257"/>
                  </a:lnTo>
                  <a:lnTo>
                    <a:pt x="74952" y="1913"/>
                  </a:lnTo>
                  <a:lnTo>
                    <a:pt x="77829" y="2733"/>
                  </a:lnTo>
                  <a:lnTo>
                    <a:pt x="80597" y="3662"/>
                  </a:lnTo>
                  <a:lnTo>
                    <a:pt x="83310" y="4701"/>
                  </a:lnTo>
                  <a:lnTo>
                    <a:pt x="85970" y="5904"/>
                  </a:lnTo>
                  <a:lnTo>
                    <a:pt x="88575" y="7216"/>
                  </a:lnTo>
                  <a:lnTo>
                    <a:pt x="91126" y="8692"/>
                  </a:lnTo>
                  <a:lnTo>
                    <a:pt x="93514" y="10223"/>
                  </a:lnTo>
                  <a:lnTo>
                    <a:pt x="95902" y="11917"/>
                  </a:lnTo>
                  <a:lnTo>
                    <a:pt x="98127" y="13722"/>
                  </a:lnTo>
                  <a:lnTo>
                    <a:pt x="100298" y="15580"/>
                  </a:lnTo>
                  <a:lnTo>
                    <a:pt x="102360" y="17548"/>
                  </a:lnTo>
                  <a:lnTo>
                    <a:pt x="104369" y="19681"/>
                  </a:lnTo>
                  <a:lnTo>
                    <a:pt x="106268" y="21813"/>
                  </a:lnTo>
                  <a:lnTo>
                    <a:pt x="108059" y="24109"/>
                  </a:lnTo>
                  <a:lnTo>
                    <a:pt x="109687" y="26460"/>
                  </a:lnTo>
                  <a:lnTo>
                    <a:pt x="111316" y="28865"/>
                  </a:lnTo>
                  <a:lnTo>
                    <a:pt x="112727" y="31380"/>
                  </a:lnTo>
                  <a:lnTo>
                    <a:pt x="114084" y="33949"/>
                  </a:lnTo>
                  <a:lnTo>
                    <a:pt x="115278" y="36628"/>
                  </a:lnTo>
                  <a:lnTo>
                    <a:pt x="116309" y="39362"/>
                  </a:lnTo>
                  <a:lnTo>
                    <a:pt x="117286" y="42150"/>
                  </a:lnTo>
                  <a:lnTo>
                    <a:pt x="118100" y="45047"/>
                  </a:lnTo>
                  <a:lnTo>
                    <a:pt x="118751" y="47945"/>
                  </a:lnTo>
                  <a:lnTo>
                    <a:pt x="119294" y="50897"/>
                  </a:lnTo>
                  <a:lnTo>
                    <a:pt x="119674" y="53904"/>
                  </a:lnTo>
                  <a:lnTo>
                    <a:pt x="119945" y="56911"/>
                  </a:lnTo>
                  <a:lnTo>
                    <a:pt x="120000" y="59972"/>
                  </a:lnTo>
                  <a:close/>
                </a:path>
              </a:pathLst>
            </a:custGeom>
            <a:solidFill>
              <a:srgbClr val="1891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69" name="任意多边形 265"/>
            <p:cNvSpPr/>
            <p:nvPr/>
          </p:nvSpPr>
          <p:spPr>
            <a:xfrm flipH="1">
              <a:off x="1521360" y="2851200"/>
              <a:ext cx="1012320" cy="999720"/>
            </a:xfrm>
            <a:custGeom>
              <a:avLst/>
              <a:gdLst/>
              <a:ahLst/>
              <a:rect l="l" t="t" r="r" b="b"/>
              <a:pathLst>
                <a:path w="120000" h="120000">
                  <a:moveTo>
                    <a:pt x="120000" y="59973"/>
                  </a:moveTo>
                  <a:lnTo>
                    <a:pt x="119921" y="63059"/>
                  </a:lnTo>
                  <a:lnTo>
                    <a:pt x="119685" y="66118"/>
                  </a:lnTo>
                  <a:lnTo>
                    <a:pt x="119318" y="69098"/>
                  </a:lnTo>
                  <a:lnTo>
                    <a:pt x="118768" y="72079"/>
                  </a:lnTo>
                  <a:lnTo>
                    <a:pt x="118113" y="74980"/>
                  </a:lnTo>
                  <a:lnTo>
                    <a:pt x="117327" y="77828"/>
                  </a:lnTo>
                  <a:lnTo>
                    <a:pt x="116358" y="80624"/>
                  </a:lnTo>
                  <a:lnTo>
                    <a:pt x="115283" y="83340"/>
                  </a:lnTo>
                  <a:lnTo>
                    <a:pt x="114104" y="85978"/>
                  </a:lnTo>
                  <a:lnTo>
                    <a:pt x="112768" y="88562"/>
                  </a:lnTo>
                  <a:lnTo>
                    <a:pt x="111301" y="91094"/>
                  </a:lnTo>
                  <a:lnTo>
                    <a:pt x="109755" y="93547"/>
                  </a:lnTo>
                  <a:lnTo>
                    <a:pt x="108078" y="95868"/>
                  </a:lnTo>
                  <a:lnTo>
                    <a:pt x="106323" y="98162"/>
                  </a:lnTo>
                  <a:lnTo>
                    <a:pt x="104410" y="100325"/>
                  </a:lnTo>
                  <a:lnTo>
                    <a:pt x="102445" y="102408"/>
                  </a:lnTo>
                  <a:lnTo>
                    <a:pt x="100349" y="104386"/>
                  </a:lnTo>
                  <a:lnTo>
                    <a:pt x="98148" y="106285"/>
                  </a:lnTo>
                  <a:lnTo>
                    <a:pt x="95895" y="108079"/>
                  </a:lnTo>
                  <a:lnTo>
                    <a:pt x="93537" y="109740"/>
                  </a:lnTo>
                  <a:lnTo>
                    <a:pt x="91126" y="111296"/>
                  </a:lnTo>
                  <a:lnTo>
                    <a:pt x="88611" y="112747"/>
                  </a:lnTo>
                  <a:lnTo>
                    <a:pt x="86017" y="114065"/>
                  </a:lnTo>
                  <a:lnTo>
                    <a:pt x="83371" y="115252"/>
                  </a:lnTo>
                  <a:lnTo>
                    <a:pt x="80620" y="116334"/>
                  </a:lnTo>
                  <a:lnTo>
                    <a:pt x="77842" y="117283"/>
                  </a:lnTo>
                  <a:lnTo>
                    <a:pt x="75013" y="118074"/>
                  </a:lnTo>
                  <a:lnTo>
                    <a:pt x="72104" y="118760"/>
                  </a:lnTo>
                  <a:lnTo>
                    <a:pt x="69144" y="119287"/>
                  </a:lnTo>
                  <a:lnTo>
                    <a:pt x="66131" y="119683"/>
                  </a:lnTo>
                  <a:lnTo>
                    <a:pt x="63091" y="119894"/>
                  </a:lnTo>
                  <a:lnTo>
                    <a:pt x="60000" y="120000"/>
                  </a:lnTo>
                  <a:lnTo>
                    <a:pt x="56908" y="119894"/>
                  </a:lnTo>
                  <a:lnTo>
                    <a:pt x="53842" y="119683"/>
                  </a:lnTo>
                  <a:lnTo>
                    <a:pt x="50855" y="119287"/>
                  </a:lnTo>
                  <a:lnTo>
                    <a:pt x="47921" y="118760"/>
                  </a:lnTo>
                  <a:lnTo>
                    <a:pt x="45013" y="118074"/>
                  </a:lnTo>
                  <a:lnTo>
                    <a:pt x="42157" y="117283"/>
                  </a:lnTo>
                  <a:lnTo>
                    <a:pt x="39379" y="116334"/>
                  </a:lnTo>
                  <a:lnTo>
                    <a:pt x="36628" y="115252"/>
                  </a:lnTo>
                  <a:lnTo>
                    <a:pt x="33982" y="114065"/>
                  </a:lnTo>
                  <a:lnTo>
                    <a:pt x="31388" y="112747"/>
                  </a:lnTo>
                  <a:lnTo>
                    <a:pt x="28873" y="111296"/>
                  </a:lnTo>
                  <a:lnTo>
                    <a:pt x="26462" y="109740"/>
                  </a:lnTo>
                  <a:lnTo>
                    <a:pt x="24078" y="108079"/>
                  </a:lnTo>
                  <a:lnTo>
                    <a:pt x="21825" y="106285"/>
                  </a:lnTo>
                  <a:lnTo>
                    <a:pt x="19676" y="104386"/>
                  </a:lnTo>
                  <a:lnTo>
                    <a:pt x="17554" y="102408"/>
                  </a:lnTo>
                  <a:lnTo>
                    <a:pt x="15589" y="100325"/>
                  </a:lnTo>
                  <a:lnTo>
                    <a:pt x="13703" y="98162"/>
                  </a:lnTo>
                  <a:lnTo>
                    <a:pt x="11921" y="95868"/>
                  </a:lnTo>
                  <a:lnTo>
                    <a:pt x="10218" y="93547"/>
                  </a:lnTo>
                  <a:lnTo>
                    <a:pt x="8698" y="91094"/>
                  </a:lnTo>
                  <a:lnTo>
                    <a:pt x="7231" y="88562"/>
                  </a:lnTo>
                  <a:lnTo>
                    <a:pt x="5895" y="85978"/>
                  </a:lnTo>
                  <a:lnTo>
                    <a:pt x="4689" y="83340"/>
                  </a:lnTo>
                  <a:lnTo>
                    <a:pt x="3641" y="80624"/>
                  </a:lnTo>
                  <a:lnTo>
                    <a:pt x="2698" y="77828"/>
                  </a:lnTo>
                  <a:lnTo>
                    <a:pt x="1886" y="74980"/>
                  </a:lnTo>
                  <a:lnTo>
                    <a:pt x="1231" y="72079"/>
                  </a:lnTo>
                  <a:lnTo>
                    <a:pt x="681" y="69098"/>
                  </a:lnTo>
                  <a:lnTo>
                    <a:pt x="314" y="66118"/>
                  </a:lnTo>
                  <a:lnTo>
                    <a:pt x="78" y="63059"/>
                  </a:lnTo>
                  <a:lnTo>
                    <a:pt x="0" y="59973"/>
                  </a:lnTo>
                  <a:lnTo>
                    <a:pt x="78" y="56914"/>
                  </a:lnTo>
                  <a:lnTo>
                    <a:pt x="314" y="53854"/>
                  </a:lnTo>
                  <a:lnTo>
                    <a:pt x="681" y="50821"/>
                  </a:lnTo>
                  <a:lnTo>
                    <a:pt x="1231" y="47894"/>
                  </a:lnTo>
                  <a:lnTo>
                    <a:pt x="1886" y="44993"/>
                  </a:lnTo>
                  <a:lnTo>
                    <a:pt x="2698" y="42145"/>
                  </a:lnTo>
                  <a:lnTo>
                    <a:pt x="3641" y="39349"/>
                  </a:lnTo>
                  <a:lnTo>
                    <a:pt x="4689" y="36632"/>
                  </a:lnTo>
                  <a:lnTo>
                    <a:pt x="5895" y="33969"/>
                  </a:lnTo>
                  <a:lnTo>
                    <a:pt x="7231" y="31384"/>
                  </a:lnTo>
                  <a:lnTo>
                    <a:pt x="8698" y="28879"/>
                  </a:lnTo>
                  <a:lnTo>
                    <a:pt x="10218" y="26426"/>
                  </a:lnTo>
                  <a:lnTo>
                    <a:pt x="11921" y="24079"/>
                  </a:lnTo>
                  <a:lnTo>
                    <a:pt x="13703" y="21810"/>
                  </a:lnTo>
                  <a:lnTo>
                    <a:pt x="15589" y="19648"/>
                  </a:lnTo>
                  <a:lnTo>
                    <a:pt x="17554" y="17564"/>
                  </a:lnTo>
                  <a:lnTo>
                    <a:pt x="19650" y="15560"/>
                  </a:lnTo>
                  <a:lnTo>
                    <a:pt x="21825" y="13687"/>
                  </a:lnTo>
                  <a:lnTo>
                    <a:pt x="24078" y="11920"/>
                  </a:lnTo>
                  <a:lnTo>
                    <a:pt x="26462" y="10232"/>
                  </a:lnTo>
                  <a:lnTo>
                    <a:pt x="28873" y="8703"/>
                  </a:lnTo>
                  <a:lnTo>
                    <a:pt x="31388" y="7252"/>
                  </a:lnTo>
                  <a:lnTo>
                    <a:pt x="33982" y="5907"/>
                  </a:lnTo>
                  <a:lnTo>
                    <a:pt x="36628" y="4694"/>
                  </a:lnTo>
                  <a:lnTo>
                    <a:pt x="39379" y="3639"/>
                  </a:lnTo>
                  <a:lnTo>
                    <a:pt x="42157" y="2716"/>
                  </a:lnTo>
                  <a:lnTo>
                    <a:pt x="45013" y="1872"/>
                  </a:lnTo>
                  <a:lnTo>
                    <a:pt x="47921" y="1213"/>
                  </a:lnTo>
                  <a:lnTo>
                    <a:pt x="50855" y="685"/>
                  </a:lnTo>
                  <a:lnTo>
                    <a:pt x="53842" y="316"/>
                  </a:lnTo>
                  <a:lnTo>
                    <a:pt x="56908" y="79"/>
                  </a:lnTo>
                  <a:lnTo>
                    <a:pt x="60000" y="0"/>
                  </a:lnTo>
                  <a:lnTo>
                    <a:pt x="63091" y="79"/>
                  </a:lnTo>
                  <a:lnTo>
                    <a:pt x="66131" y="316"/>
                  </a:lnTo>
                  <a:lnTo>
                    <a:pt x="69144" y="685"/>
                  </a:lnTo>
                  <a:lnTo>
                    <a:pt x="72104" y="1213"/>
                  </a:lnTo>
                  <a:lnTo>
                    <a:pt x="75013" y="1872"/>
                  </a:lnTo>
                  <a:lnTo>
                    <a:pt x="77842" y="2716"/>
                  </a:lnTo>
                  <a:lnTo>
                    <a:pt x="80620" y="3639"/>
                  </a:lnTo>
                  <a:lnTo>
                    <a:pt x="83371" y="4694"/>
                  </a:lnTo>
                  <a:lnTo>
                    <a:pt x="86017" y="5907"/>
                  </a:lnTo>
                  <a:lnTo>
                    <a:pt x="88611" y="7252"/>
                  </a:lnTo>
                  <a:lnTo>
                    <a:pt x="91126" y="8703"/>
                  </a:lnTo>
                  <a:lnTo>
                    <a:pt x="93537" y="10232"/>
                  </a:lnTo>
                  <a:lnTo>
                    <a:pt x="95895" y="11920"/>
                  </a:lnTo>
                  <a:lnTo>
                    <a:pt x="98148" y="13687"/>
                  </a:lnTo>
                  <a:lnTo>
                    <a:pt x="100349" y="15560"/>
                  </a:lnTo>
                  <a:lnTo>
                    <a:pt x="102445" y="17564"/>
                  </a:lnTo>
                  <a:lnTo>
                    <a:pt x="104410" y="19648"/>
                  </a:lnTo>
                  <a:lnTo>
                    <a:pt x="106323" y="21810"/>
                  </a:lnTo>
                  <a:lnTo>
                    <a:pt x="108078" y="24079"/>
                  </a:lnTo>
                  <a:lnTo>
                    <a:pt x="109755" y="26426"/>
                  </a:lnTo>
                  <a:lnTo>
                    <a:pt x="111301" y="28879"/>
                  </a:lnTo>
                  <a:lnTo>
                    <a:pt x="112768" y="31384"/>
                  </a:lnTo>
                  <a:lnTo>
                    <a:pt x="114104" y="33969"/>
                  </a:lnTo>
                  <a:lnTo>
                    <a:pt x="115283" y="36632"/>
                  </a:lnTo>
                  <a:lnTo>
                    <a:pt x="116358" y="39349"/>
                  </a:lnTo>
                  <a:lnTo>
                    <a:pt x="117327" y="42145"/>
                  </a:lnTo>
                  <a:lnTo>
                    <a:pt x="118113" y="44993"/>
                  </a:lnTo>
                  <a:lnTo>
                    <a:pt x="118768" y="47894"/>
                  </a:lnTo>
                  <a:lnTo>
                    <a:pt x="119318" y="50821"/>
                  </a:lnTo>
                  <a:lnTo>
                    <a:pt x="119685" y="53854"/>
                  </a:lnTo>
                  <a:lnTo>
                    <a:pt x="119921" y="56914"/>
                  </a:lnTo>
                  <a:lnTo>
                    <a:pt x="120000" y="59973"/>
                  </a:lnTo>
                  <a:close/>
                </a:path>
              </a:pathLst>
            </a:custGeom>
            <a:solidFill>
              <a:srgbClr val="4276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70" name="任意多边形 266"/>
            <p:cNvSpPr/>
            <p:nvPr/>
          </p:nvSpPr>
          <p:spPr>
            <a:xfrm flipH="1">
              <a:off x="941400" y="3354480"/>
              <a:ext cx="506880" cy="500040"/>
            </a:xfrm>
            <a:custGeom>
              <a:avLst/>
              <a:gdLst/>
              <a:ahLst/>
              <a:rect l="l" t="t" r="r" b="b"/>
              <a:pathLst>
                <a:path w="120000" h="120000">
                  <a:moveTo>
                    <a:pt x="120000" y="60052"/>
                  </a:moveTo>
                  <a:lnTo>
                    <a:pt x="119895" y="63107"/>
                  </a:lnTo>
                  <a:lnTo>
                    <a:pt x="119686" y="66110"/>
                  </a:lnTo>
                  <a:lnTo>
                    <a:pt x="119267" y="69165"/>
                  </a:lnTo>
                  <a:lnTo>
                    <a:pt x="118744" y="72115"/>
                  </a:lnTo>
                  <a:lnTo>
                    <a:pt x="118063" y="75013"/>
                  </a:lnTo>
                  <a:lnTo>
                    <a:pt x="117278" y="77857"/>
                  </a:lnTo>
                  <a:lnTo>
                    <a:pt x="116336" y="80649"/>
                  </a:lnTo>
                  <a:lnTo>
                    <a:pt x="115290" y="83388"/>
                  </a:lnTo>
                  <a:lnTo>
                    <a:pt x="114086" y="86022"/>
                  </a:lnTo>
                  <a:lnTo>
                    <a:pt x="112725" y="88604"/>
                  </a:lnTo>
                  <a:lnTo>
                    <a:pt x="111312" y="91132"/>
                  </a:lnTo>
                  <a:lnTo>
                    <a:pt x="109742" y="93503"/>
                  </a:lnTo>
                  <a:lnTo>
                    <a:pt x="108068" y="95926"/>
                  </a:lnTo>
                  <a:lnTo>
                    <a:pt x="106288" y="98191"/>
                  </a:lnTo>
                  <a:lnTo>
                    <a:pt x="104404" y="100351"/>
                  </a:lnTo>
                  <a:lnTo>
                    <a:pt x="102416" y="102405"/>
                  </a:lnTo>
                  <a:lnTo>
                    <a:pt x="100322" y="104407"/>
                  </a:lnTo>
                  <a:lnTo>
                    <a:pt x="98124" y="106251"/>
                  </a:lnTo>
                  <a:lnTo>
                    <a:pt x="95874" y="108094"/>
                  </a:lnTo>
                  <a:lnTo>
                    <a:pt x="93519" y="109727"/>
                  </a:lnTo>
                  <a:lnTo>
                    <a:pt x="91059" y="111255"/>
                  </a:lnTo>
                  <a:lnTo>
                    <a:pt x="88547" y="112783"/>
                  </a:lnTo>
                  <a:lnTo>
                    <a:pt x="85983" y="114047"/>
                  </a:lnTo>
                  <a:lnTo>
                    <a:pt x="83314" y="115258"/>
                  </a:lnTo>
                  <a:lnTo>
                    <a:pt x="80593" y="116365"/>
                  </a:lnTo>
                  <a:lnTo>
                    <a:pt x="77819" y="117313"/>
                  </a:lnTo>
                  <a:lnTo>
                    <a:pt x="74941" y="118103"/>
                  </a:lnTo>
                  <a:lnTo>
                    <a:pt x="72062" y="118788"/>
                  </a:lnTo>
                  <a:lnTo>
                    <a:pt x="69132" y="119315"/>
                  </a:lnTo>
                  <a:lnTo>
                    <a:pt x="66149" y="119683"/>
                  </a:lnTo>
                  <a:lnTo>
                    <a:pt x="63061" y="119947"/>
                  </a:lnTo>
                  <a:lnTo>
                    <a:pt x="59973" y="120000"/>
                  </a:lnTo>
                  <a:lnTo>
                    <a:pt x="56886" y="119947"/>
                  </a:lnTo>
                  <a:lnTo>
                    <a:pt x="53850" y="119683"/>
                  </a:lnTo>
                  <a:lnTo>
                    <a:pt x="50867" y="119315"/>
                  </a:lnTo>
                  <a:lnTo>
                    <a:pt x="47937" y="118788"/>
                  </a:lnTo>
                  <a:lnTo>
                    <a:pt x="45006" y="118103"/>
                  </a:lnTo>
                  <a:lnTo>
                    <a:pt x="42180" y="117313"/>
                  </a:lnTo>
                  <a:lnTo>
                    <a:pt x="39354" y="116365"/>
                  </a:lnTo>
                  <a:lnTo>
                    <a:pt x="36633" y="115258"/>
                  </a:lnTo>
                  <a:lnTo>
                    <a:pt x="33964" y="114047"/>
                  </a:lnTo>
                  <a:lnTo>
                    <a:pt x="31399" y="112783"/>
                  </a:lnTo>
                  <a:lnTo>
                    <a:pt x="28887" y="111255"/>
                  </a:lnTo>
                  <a:lnTo>
                    <a:pt x="26428" y="109727"/>
                  </a:lnTo>
                  <a:lnTo>
                    <a:pt x="24125" y="108094"/>
                  </a:lnTo>
                  <a:lnTo>
                    <a:pt x="21822" y="106251"/>
                  </a:lnTo>
                  <a:lnTo>
                    <a:pt x="19677" y="104407"/>
                  </a:lnTo>
                  <a:lnTo>
                    <a:pt x="17583" y="102405"/>
                  </a:lnTo>
                  <a:lnTo>
                    <a:pt x="15542" y="100351"/>
                  </a:lnTo>
                  <a:lnTo>
                    <a:pt x="13711" y="98191"/>
                  </a:lnTo>
                  <a:lnTo>
                    <a:pt x="11931" y="95926"/>
                  </a:lnTo>
                  <a:lnTo>
                    <a:pt x="10257" y="93503"/>
                  </a:lnTo>
                  <a:lnTo>
                    <a:pt x="8687" y="91132"/>
                  </a:lnTo>
                  <a:lnTo>
                    <a:pt x="7274" y="88604"/>
                  </a:lnTo>
                  <a:lnTo>
                    <a:pt x="5965" y="86022"/>
                  </a:lnTo>
                  <a:lnTo>
                    <a:pt x="4762" y="83336"/>
                  </a:lnTo>
                  <a:lnTo>
                    <a:pt x="3663" y="80649"/>
                  </a:lnTo>
                  <a:lnTo>
                    <a:pt x="2721" y="77857"/>
                  </a:lnTo>
                  <a:lnTo>
                    <a:pt x="1883" y="75013"/>
                  </a:lnTo>
                  <a:lnTo>
                    <a:pt x="1203" y="72115"/>
                  </a:lnTo>
                  <a:lnTo>
                    <a:pt x="680" y="69165"/>
                  </a:lnTo>
                  <a:lnTo>
                    <a:pt x="366" y="66110"/>
                  </a:lnTo>
                  <a:lnTo>
                    <a:pt x="52" y="63107"/>
                  </a:lnTo>
                  <a:lnTo>
                    <a:pt x="0" y="60052"/>
                  </a:lnTo>
                  <a:lnTo>
                    <a:pt x="52" y="56944"/>
                  </a:lnTo>
                  <a:lnTo>
                    <a:pt x="366" y="53889"/>
                  </a:lnTo>
                  <a:lnTo>
                    <a:pt x="680" y="50886"/>
                  </a:lnTo>
                  <a:lnTo>
                    <a:pt x="1203" y="47884"/>
                  </a:lnTo>
                  <a:lnTo>
                    <a:pt x="1883" y="44986"/>
                  </a:lnTo>
                  <a:lnTo>
                    <a:pt x="2721" y="42142"/>
                  </a:lnTo>
                  <a:lnTo>
                    <a:pt x="3663" y="39402"/>
                  </a:lnTo>
                  <a:lnTo>
                    <a:pt x="4762" y="36663"/>
                  </a:lnTo>
                  <a:lnTo>
                    <a:pt x="5965" y="34029"/>
                  </a:lnTo>
                  <a:lnTo>
                    <a:pt x="7274" y="31448"/>
                  </a:lnTo>
                  <a:lnTo>
                    <a:pt x="8687" y="28867"/>
                  </a:lnTo>
                  <a:lnTo>
                    <a:pt x="10257" y="26496"/>
                  </a:lnTo>
                  <a:lnTo>
                    <a:pt x="11931" y="24126"/>
                  </a:lnTo>
                  <a:lnTo>
                    <a:pt x="13711" y="21861"/>
                  </a:lnTo>
                  <a:lnTo>
                    <a:pt x="15542" y="19648"/>
                  </a:lnTo>
                  <a:lnTo>
                    <a:pt x="17583" y="17594"/>
                  </a:lnTo>
                  <a:lnTo>
                    <a:pt x="19677" y="15592"/>
                  </a:lnTo>
                  <a:lnTo>
                    <a:pt x="21822" y="13748"/>
                  </a:lnTo>
                  <a:lnTo>
                    <a:pt x="24125" y="11957"/>
                  </a:lnTo>
                  <a:lnTo>
                    <a:pt x="26428" y="10272"/>
                  </a:lnTo>
                  <a:lnTo>
                    <a:pt x="28887" y="8744"/>
                  </a:lnTo>
                  <a:lnTo>
                    <a:pt x="31399" y="7269"/>
                  </a:lnTo>
                  <a:lnTo>
                    <a:pt x="33964" y="5952"/>
                  </a:lnTo>
                  <a:lnTo>
                    <a:pt x="36633" y="4741"/>
                  </a:lnTo>
                  <a:lnTo>
                    <a:pt x="39354" y="3634"/>
                  </a:lnTo>
                  <a:lnTo>
                    <a:pt x="42180" y="2739"/>
                  </a:lnTo>
                  <a:lnTo>
                    <a:pt x="45006" y="1896"/>
                  </a:lnTo>
                  <a:lnTo>
                    <a:pt x="47937" y="1264"/>
                  </a:lnTo>
                  <a:lnTo>
                    <a:pt x="50867" y="684"/>
                  </a:lnTo>
                  <a:lnTo>
                    <a:pt x="53850" y="368"/>
                  </a:lnTo>
                  <a:lnTo>
                    <a:pt x="56886" y="105"/>
                  </a:lnTo>
                  <a:lnTo>
                    <a:pt x="59973" y="0"/>
                  </a:lnTo>
                  <a:lnTo>
                    <a:pt x="63061" y="105"/>
                  </a:lnTo>
                  <a:lnTo>
                    <a:pt x="66149" y="368"/>
                  </a:lnTo>
                  <a:lnTo>
                    <a:pt x="69132" y="684"/>
                  </a:lnTo>
                  <a:lnTo>
                    <a:pt x="72062" y="1264"/>
                  </a:lnTo>
                  <a:lnTo>
                    <a:pt x="74941" y="1896"/>
                  </a:lnTo>
                  <a:lnTo>
                    <a:pt x="77819" y="2739"/>
                  </a:lnTo>
                  <a:lnTo>
                    <a:pt x="80593" y="3634"/>
                  </a:lnTo>
                  <a:lnTo>
                    <a:pt x="83314" y="4741"/>
                  </a:lnTo>
                  <a:lnTo>
                    <a:pt x="85983" y="5952"/>
                  </a:lnTo>
                  <a:lnTo>
                    <a:pt x="88547" y="7269"/>
                  </a:lnTo>
                  <a:lnTo>
                    <a:pt x="91059" y="8744"/>
                  </a:lnTo>
                  <a:lnTo>
                    <a:pt x="93519" y="10272"/>
                  </a:lnTo>
                  <a:lnTo>
                    <a:pt x="95874" y="11957"/>
                  </a:lnTo>
                  <a:lnTo>
                    <a:pt x="98124" y="13748"/>
                  </a:lnTo>
                  <a:lnTo>
                    <a:pt x="100322" y="15592"/>
                  </a:lnTo>
                  <a:lnTo>
                    <a:pt x="102416" y="17594"/>
                  </a:lnTo>
                  <a:lnTo>
                    <a:pt x="104404" y="19648"/>
                  </a:lnTo>
                  <a:lnTo>
                    <a:pt x="106288" y="21861"/>
                  </a:lnTo>
                  <a:lnTo>
                    <a:pt x="108068" y="24126"/>
                  </a:lnTo>
                  <a:lnTo>
                    <a:pt x="109742" y="26496"/>
                  </a:lnTo>
                  <a:lnTo>
                    <a:pt x="111312" y="28867"/>
                  </a:lnTo>
                  <a:lnTo>
                    <a:pt x="112725" y="31448"/>
                  </a:lnTo>
                  <a:lnTo>
                    <a:pt x="114086" y="34029"/>
                  </a:lnTo>
                  <a:lnTo>
                    <a:pt x="115290" y="36663"/>
                  </a:lnTo>
                  <a:lnTo>
                    <a:pt x="116336" y="39402"/>
                  </a:lnTo>
                  <a:lnTo>
                    <a:pt x="117278" y="42142"/>
                  </a:lnTo>
                  <a:lnTo>
                    <a:pt x="118063" y="44986"/>
                  </a:lnTo>
                  <a:lnTo>
                    <a:pt x="118744" y="47884"/>
                  </a:lnTo>
                  <a:lnTo>
                    <a:pt x="119267" y="50886"/>
                  </a:lnTo>
                  <a:lnTo>
                    <a:pt x="119686" y="53889"/>
                  </a:lnTo>
                  <a:lnTo>
                    <a:pt x="119895" y="56944"/>
                  </a:lnTo>
                  <a:lnTo>
                    <a:pt x="120000" y="60052"/>
                  </a:lnTo>
                  <a:close/>
                </a:path>
              </a:pathLst>
            </a:custGeom>
            <a:solidFill>
              <a:srgbClr val="00a0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71" name="任意多边形 267"/>
            <p:cNvSpPr/>
            <p:nvPr/>
          </p:nvSpPr>
          <p:spPr>
            <a:xfrm flipH="1">
              <a:off x="2615400" y="2955600"/>
              <a:ext cx="446040" cy="439920"/>
            </a:xfrm>
            <a:custGeom>
              <a:avLst/>
              <a:gdLst/>
              <a:ahLst/>
              <a:rect l="l" t="t" r="r" b="b"/>
              <a:pathLst>
                <a:path w="120000" h="120000">
                  <a:moveTo>
                    <a:pt x="120000" y="60029"/>
                  </a:moveTo>
                  <a:lnTo>
                    <a:pt x="119940" y="63085"/>
                  </a:lnTo>
                  <a:lnTo>
                    <a:pt x="119643" y="66140"/>
                  </a:lnTo>
                  <a:lnTo>
                    <a:pt x="119345" y="69136"/>
                  </a:lnTo>
                  <a:lnTo>
                    <a:pt x="118751" y="72131"/>
                  </a:lnTo>
                  <a:lnTo>
                    <a:pt x="118097" y="75007"/>
                  </a:lnTo>
                  <a:lnTo>
                    <a:pt x="117324" y="77883"/>
                  </a:lnTo>
                  <a:lnTo>
                    <a:pt x="116372" y="80639"/>
                  </a:lnTo>
                  <a:lnTo>
                    <a:pt x="115242" y="83394"/>
                  </a:lnTo>
                  <a:lnTo>
                    <a:pt x="114112" y="86030"/>
                  </a:lnTo>
                  <a:lnTo>
                    <a:pt x="112745" y="88607"/>
                  </a:lnTo>
                  <a:lnTo>
                    <a:pt x="111318" y="91063"/>
                  </a:lnTo>
                  <a:lnTo>
                    <a:pt x="109772" y="93579"/>
                  </a:lnTo>
                  <a:lnTo>
                    <a:pt x="108107" y="95856"/>
                  </a:lnTo>
                  <a:lnTo>
                    <a:pt x="106263" y="98132"/>
                  </a:lnTo>
                  <a:lnTo>
                    <a:pt x="104420" y="100349"/>
                  </a:lnTo>
                  <a:lnTo>
                    <a:pt x="102457" y="102446"/>
                  </a:lnTo>
                  <a:lnTo>
                    <a:pt x="100317" y="104423"/>
                  </a:lnTo>
                  <a:lnTo>
                    <a:pt x="98176" y="106280"/>
                  </a:lnTo>
                  <a:lnTo>
                    <a:pt x="95916" y="108137"/>
                  </a:lnTo>
                  <a:lnTo>
                    <a:pt x="93538" y="109755"/>
                  </a:lnTo>
                  <a:lnTo>
                    <a:pt x="91159" y="111313"/>
                  </a:lnTo>
                  <a:lnTo>
                    <a:pt x="88602" y="112810"/>
                  </a:lnTo>
                  <a:lnTo>
                    <a:pt x="86045" y="114068"/>
                  </a:lnTo>
                  <a:lnTo>
                    <a:pt x="83369" y="115327"/>
                  </a:lnTo>
                  <a:lnTo>
                    <a:pt x="80634" y="116345"/>
                  </a:lnTo>
                  <a:lnTo>
                    <a:pt x="77898" y="117304"/>
                  </a:lnTo>
                  <a:lnTo>
                    <a:pt x="75044" y="118082"/>
                  </a:lnTo>
                  <a:lnTo>
                    <a:pt x="72130" y="118801"/>
                  </a:lnTo>
                  <a:lnTo>
                    <a:pt x="69157" y="119340"/>
                  </a:lnTo>
                  <a:lnTo>
                    <a:pt x="66184" y="119700"/>
                  </a:lnTo>
                  <a:lnTo>
                    <a:pt x="63092" y="119880"/>
                  </a:lnTo>
                  <a:lnTo>
                    <a:pt x="60000" y="120000"/>
                  </a:lnTo>
                  <a:lnTo>
                    <a:pt x="56907" y="119880"/>
                  </a:lnTo>
                  <a:lnTo>
                    <a:pt x="53875" y="119700"/>
                  </a:lnTo>
                  <a:lnTo>
                    <a:pt x="50901" y="119340"/>
                  </a:lnTo>
                  <a:lnTo>
                    <a:pt x="47928" y="118801"/>
                  </a:lnTo>
                  <a:lnTo>
                    <a:pt x="45014" y="118082"/>
                  </a:lnTo>
                  <a:lnTo>
                    <a:pt x="42160" y="117304"/>
                  </a:lnTo>
                  <a:lnTo>
                    <a:pt x="39365" y="116345"/>
                  </a:lnTo>
                  <a:lnTo>
                    <a:pt x="36630" y="115327"/>
                  </a:lnTo>
                  <a:lnTo>
                    <a:pt x="34013" y="114068"/>
                  </a:lnTo>
                  <a:lnTo>
                    <a:pt x="31397" y="112810"/>
                  </a:lnTo>
                  <a:lnTo>
                    <a:pt x="28899" y="111313"/>
                  </a:lnTo>
                  <a:lnTo>
                    <a:pt x="26521" y="109755"/>
                  </a:lnTo>
                  <a:lnTo>
                    <a:pt x="24083" y="108137"/>
                  </a:lnTo>
                  <a:lnTo>
                    <a:pt x="21823" y="106280"/>
                  </a:lnTo>
                  <a:lnTo>
                    <a:pt x="19682" y="104423"/>
                  </a:lnTo>
                  <a:lnTo>
                    <a:pt x="17542" y="102446"/>
                  </a:lnTo>
                  <a:lnTo>
                    <a:pt x="15639" y="100349"/>
                  </a:lnTo>
                  <a:lnTo>
                    <a:pt x="13736" y="98132"/>
                  </a:lnTo>
                  <a:lnTo>
                    <a:pt x="11952" y="95856"/>
                  </a:lnTo>
                  <a:lnTo>
                    <a:pt x="10227" y="93579"/>
                  </a:lnTo>
                  <a:lnTo>
                    <a:pt x="8681" y="91063"/>
                  </a:lnTo>
                  <a:lnTo>
                    <a:pt x="7254" y="88607"/>
                  </a:lnTo>
                  <a:lnTo>
                    <a:pt x="5887" y="86030"/>
                  </a:lnTo>
                  <a:lnTo>
                    <a:pt x="4757" y="83394"/>
                  </a:lnTo>
                  <a:lnTo>
                    <a:pt x="3627" y="80639"/>
                  </a:lnTo>
                  <a:lnTo>
                    <a:pt x="2735" y="77883"/>
                  </a:lnTo>
                  <a:lnTo>
                    <a:pt x="1902" y="75007"/>
                  </a:lnTo>
                  <a:lnTo>
                    <a:pt x="1248" y="72131"/>
                  </a:lnTo>
                  <a:lnTo>
                    <a:pt x="713" y="69136"/>
                  </a:lnTo>
                  <a:lnTo>
                    <a:pt x="356" y="66140"/>
                  </a:lnTo>
                  <a:lnTo>
                    <a:pt x="118" y="63085"/>
                  </a:lnTo>
                  <a:lnTo>
                    <a:pt x="0" y="60029"/>
                  </a:lnTo>
                  <a:lnTo>
                    <a:pt x="118" y="56914"/>
                  </a:lnTo>
                  <a:lnTo>
                    <a:pt x="356" y="53859"/>
                  </a:lnTo>
                  <a:lnTo>
                    <a:pt x="713" y="50863"/>
                  </a:lnTo>
                  <a:lnTo>
                    <a:pt x="1248" y="47868"/>
                  </a:lnTo>
                  <a:lnTo>
                    <a:pt x="1902" y="44992"/>
                  </a:lnTo>
                  <a:lnTo>
                    <a:pt x="2735" y="42116"/>
                  </a:lnTo>
                  <a:lnTo>
                    <a:pt x="3627" y="39360"/>
                  </a:lnTo>
                  <a:lnTo>
                    <a:pt x="4757" y="36605"/>
                  </a:lnTo>
                  <a:lnTo>
                    <a:pt x="5887" y="33969"/>
                  </a:lnTo>
                  <a:lnTo>
                    <a:pt x="7254" y="31392"/>
                  </a:lnTo>
                  <a:lnTo>
                    <a:pt x="8681" y="28876"/>
                  </a:lnTo>
                  <a:lnTo>
                    <a:pt x="10227" y="26420"/>
                  </a:lnTo>
                  <a:lnTo>
                    <a:pt x="11952" y="24083"/>
                  </a:lnTo>
                  <a:lnTo>
                    <a:pt x="13736" y="21807"/>
                  </a:lnTo>
                  <a:lnTo>
                    <a:pt x="15639" y="19590"/>
                  </a:lnTo>
                  <a:lnTo>
                    <a:pt x="17542" y="17493"/>
                  </a:lnTo>
                  <a:lnTo>
                    <a:pt x="19682" y="15576"/>
                  </a:lnTo>
                  <a:lnTo>
                    <a:pt x="21823" y="13659"/>
                  </a:lnTo>
                  <a:lnTo>
                    <a:pt x="24083" y="11862"/>
                  </a:lnTo>
                  <a:lnTo>
                    <a:pt x="26521" y="10184"/>
                  </a:lnTo>
                  <a:lnTo>
                    <a:pt x="28899" y="8627"/>
                  </a:lnTo>
                  <a:lnTo>
                    <a:pt x="31397" y="7249"/>
                  </a:lnTo>
                  <a:lnTo>
                    <a:pt x="34013" y="5871"/>
                  </a:lnTo>
                  <a:lnTo>
                    <a:pt x="36630" y="4613"/>
                  </a:lnTo>
                  <a:lnTo>
                    <a:pt x="39365" y="3594"/>
                  </a:lnTo>
                  <a:lnTo>
                    <a:pt x="42160" y="2636"/>
                  </a:lnTo>
                  <a:lnTo>
                    <a:pt x="45014" y="1857"/>
                  </a:lnTo>
                  <a:lnTo>
                    <a:pt x="47928" y="1198"/>
                  </a:lnTo>
                  <a:lnTo>
                    <a:pt x="50901" y="599"/>
                  </a:lnTo>
                  <a:lnTo>
                    <a:pt x="53875" y="239"/>
                  </a:lnTo>
                  <a:lnTo>
                    <a:pt x="56907" y="59"/>
                  </a:lnTo>
                  <a:lnTo>
                    <a:pt x="60000" y="0"/>
                  </a:lnTo>
                  <a:lnTo>
                    <a:pt x="63092" y="59"/>
                  </a:lnTo>
                  <a:lnTo>
                    <a:pt x="66184" y="239"/>
                  </a:lnTo>
                  <a:lnTo>
                    <a:pt x="69157" y="599"/>
                  </a:lnTo>
                  <a:lnTo>
                    <a:pt x="72130" y="1198"/>
                  </a:lnTo>
                  <a:lnTo>
                    <a:pt x="75044" y="1857"/>
                  </a:lnTo>
                  <a:lnTo>
                    <a:pt x="77898" y="2636"/>
                  </a:lnTo>
                  <a:lnTo>
                    <a:pt x="80634" y="3594"/>
                  </a:lnTo>
                  <a:lnTo>
                    <a:pt x="83369" y="4613"/>
                  </a:lnTo>
                  <a:lnTo>
                    <a:pt x="86045" y="5871"/>
                  </a:lnTo>
                  <a:lnTo>
                    <a:pt x="88602" y="7249"/>
                  </a:lnTo>
                  <a:lnTo>
                    <a:pt x="91159" y="8627"/>
                  </a:lnTo>
                  <a:lnTo>
                    <a:pt x="93538" y="10184"/>
                  </a:lnTo>
                  <a:lnTo>
                    <a:pt x="95916" y="11862"/>
                  </a:lnTo>
                  <a:lnTo>
                    <a:pt x="98176" y="13659"/>
                  </a:lnTo>
                  <a:lnTo>
                    <a:pt x="100317" y="15576"/>
                  </a:lnTo>
                  <a:lnTo>
                    <a:pt x="102457" y="17493"/>
                  </a:lnTo>
                  <a:lnTo>
                    <a:pt x="104420" y="19590"/>
                  </a:lnTo>
                  <a:lnTo>
                    <a:pt x="106263" y="21807"/>
                  </a:lnTo>
                  <a:lnTo>
                    <a:pt x="108107" y="24083"/>
                  </a:lnTo>
                  <a:lnTo>
                    <a:pt x="109772" y="26420"/>
                  </a:lnTo>
                  <a:lnTo>
                    <a:pt x="111318" y="28876"/>
                  </a:lnTo>
                  <a:lnTo>
                    <a:pt x="112745" y="31392"/>
                  </a:lnTo>
                  <a:lnTo>
                    <a:pt x="114112" y="33969"/>
                  </a:lnTo>
                  <a:lnTo>
                    <a:pt x="115242" y="36605"/>
                  </a:lnTo>
                  <a:lnTo>
                    <a:pt x="116372" y="39360"/>
                  </a:lnTo>
                  <a:lnTo>
                    <a:pt x="117324" y="42116"/>
                  </a:lnTo>
                  <a:lnTo>
                    <a:pt x="118097" y="44992"/>
                  </a:lnTo>
                  <a:lnTo>
                    <a:pt x="118751" y="47868"/>
                  </a:lnTo>
                  <a:lnTo>
                    <a:pt x="119345" y="50863"/>
                  </a:lnTo>
                  <a:lnTo>
                    <a:pt x="119643" y="53859"/>
                  </a:lnTo>
                  <a:lnTo>
                    <a:pt x="119940" y="56914"/>
                  </a:lnTo>
                  <a:lnTo>
                    <a:pt x="120000" y="60029"/>
                  </a:lnTo>
                  <a:close/>
                </a:path>
              </a:pathLst>
            </a:custGeom>
            <a:solidFill>
              <a:srgbClr val="1891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72" name="任意多边形 268"/>
            <p:cNvSpPr/>
            <p:nvPr/>
          </p:nvSpPr>
          <p:spPr>
            <a:xfrm flipH="1">
              <a:off x="2850840" y="3377880"/>
              <a:ext cx="764280" cy="754200"/>
            </a:xfrm>
            <a:custGeom>
              <a:avLst/>
              <a:gdLst/>
              <a:ahLst/>
              <a:rect l="l" t="t" r="r" b="b"/>
              <a:pathLst>
                <a:path w="120000" h="120000">
                  <a:moveTo>
                    <a:pt x="120000" y="60017"/>
                  </a:moveTo>
                  <a:lnTo>
                    <a:pt x="119930" y="63128"/>
                  </a:lnTo>
                  <a:lnTo>
                    <a:pt x="119687" y="66169"/>
                  </a:lnTo>
                  <a:lnTo>
                    <a:pt x="119270" y="69175"/>
                  </a:lnTo>
                  <a:lnTo>
                    <a:pt x="118784" y="72111"/>
                  </a:lnTo>
                  <a:lnTo>
                    <a:pt x="118125" y="75013"/>
                  </a:lnTo>
                  <a:lnTo>
                    <a:pt x="117291" y="77844"/>
                  </a:lnTo>
                  <a:lnTo>
                    <a:pt x="116319" y="80640"/>
                  </a:lnTo>
                  <a:lnTo>
                    <a:pt x="115277" y="83367"/>
                  </a:lnTo>
                  <a:lnTo>
                    <a:pt x="114062" y="86058"/>
                  </a:lnTo>
                  <a:lnTo>
                    <a:pt x="112743" y="88610"/>
                  </a:lnTo>
                  <a:lnTo>
                    <a:pt x="111319" y="91162"/>
                  </a:lnTo>
                  <a:lnTo>
                    <a:pt x="109756" y="93574"/>
                  </a:lnTo>
                  <a:lnTo>
                    <a:pt x="108055" y="95916"/>
                  </a:lnTo>
                  <a:lnTo>
                    <a:pt x="106284" y="98188"/>
                  </a:lnTo>
                  <a:lnTo>
                    <a:pt x="104409" y="100355"/>
                  </a:lnTo>
                  <a:lnTo>
                    <a:pt x="102430" y="102452"/>
                  </a:lnTo>
                  <a:lnTo>
                    <a:pt x="100347" y="104410"/>
                  </a:lnTo>
                  <a:lnTo>
                    <a:pt x="98159" y="106297"/>
                  </a:lnTo>
                  <a:lnTo>
                    <a:pt x="95902" y="108115"/>
                  </a:lnTo>
                  <a:lnTo>
                    <a:pt x="93541" y="109793"/>
                  </a:lnTo>
                  <a:lnTo>
                    <a:pt x="91111" y="111331"/>
                  </a:lnTo>
                  <a:lnTo>
                    <a:pt x="88611" y="112764"/>
                  </a:lnTo>
                  <a:lnTo>
                    <a:pt x="86006" y="114092"/>
                  </a:lnTo>
                  <a:lnTo>
                    <a:pt x="83333" y="115281"/>
                  </a:lnTo>
                  <a:lnTo>
                    <a:pt x="80625" y="116399"/>
                  </a:lnTo>
                  <a:lnTo>
                    <a:pt x="77847" y="117343"/>
                  </a:lnTo>
                  <a:lnTo>
                    <a:pt x="75000" y="118112"/>
                  </a:lnTo>
                  <a:lnTo>
                    <a:pt x="72083" y="118811"/>
                  </a:lnTo>
                  <a:lnTo>
                    <a:pt x="69131" y="119335"/>
                  </a:lnTo>
                  <a:lnTo>
                    <a:pt x="66111" y="119720"/>
                  </a:lnTo>
                  <a:lnTo>
                    <a:pt x="63090" y="119930"/>
                  </a:lnTo>
                  <a:lnTo>
                    <a:pt x="60000" y="120000"/>
                  </a:lnTo>
                  <a:lnTo>
                    <a:pt x="56909" y="119930"/>
                  </a:lnTo>
                  <a:lnTo>
                    <a:pt x="53888" y="119720"/>
                  </a:lnTo>
                  <a:lnTo>
                    <a:pt x="50868" y="119335"/>
                  </a:lnTo>
                  <a:lnTo>
                    <a:pt x="47916" y="118811"/>
                  </a:lnTo>
                  <a:lnTo>
                    <a:pt x="45000" y="118112"/>
                  </a:lnTo>
                  <a:lnTo>
                    <a:pt x="42152" y="117343"/>
                  </a:lnTo>
                  <a:lnTo>
                    <a:pt x="39375" y="116399"/>
                  </a:lnTo>
                  <a:lnTo>
                    <a:pt x="36666" y="115281"/>
                  </a:lnTo>
                  <a:lnTo>
                    <a:pt x="33958" y="114092"/>
                  </a:lnTo>
                  <a:lnTo>
                    <a:pt x="31388" y="112764"/>
                  </a:lnTo>
                  <a:lnTo>
                    <a:pt x="28854" y="111331"/>
                  </a:lnTo>
                  <a:lnTo>
                    <a:pt x="26458" y="109793"/>
                  </a:lnTo>
                  <a:lnTo>
                    <a:pt x="24097" y="108115"/>
                  </a:lnTo>
                  <a:lnTo>
                    <a:pt x="21840" y="106297"/>
                  </a:lnTo>
                  <a:lnTo>
                    <a:pt x="19652" y="104410"/>
                  </a:lnTo>
                  <a:lnTo>
                    <a:pt x="17569" y="102452"/>
                  </a:lnTo>
                  <a:lnTo>
                    <a:pt x="15555" y="100355"/>
                  </a:lnTo>
                  <a:lnTo>
                    <a:pt x="13680" y="98188"/>
                  </a:lnTo>
                  <a:lnTo>
                    <a:pt x="11909" y="95916"/>
                  </a:lnTo>
                  <a:lnTo>
                    <a:pt x="10243" y="93574"/>
                  </a:lnTo>
                  <a:lnTo>
                    <a:pt x="8680" y="91162"/>
                  </a:lnTo>
                  <a:lnTo>
                    <a:pt x="7256" y="88610"/>
                  </a:lnTo>
                  <a:lnTo>
                    <a:pt x="5902" y="86058"/>
                  </a:lnTo>
                  <a:lnTo>
                    <a:pt x="4722" y="83367"/>
                  </a:lnTo>
                  <a:lnTo>
                    <a:pt x="3611" y="80640"/>
                  </a:lnTo>
                  <a:lnTo>
                    <a:pt x="2673" y="77844"/>
                  </a:lnTo>
                  <a:lnTo>
                    <a:pt x="1875" y="75013"/>
                  </a:lnTo>
                  <a:lnTo>
                    <a:pt x="1215" y="72111"/>
                  </a:lnTo>
                  <a:lnTo>
                    <a:pt x="694" y="69175"/>
                  </a:lnTo>
                  <a:lnTo>
                    <a:pt x="312" y="66169"/>
                  </a:lnTo>
                  <a:lnTo>
                    <a:pt x="69" y="63128"/>
                  </a:lnTo>
                  <a:lnTo>
                    <a:pt x="0" y="60017"/>
                  </a:lnTo>
                  <a:lnTo>
                    <a:pt x="69" y="56941"/>
                  </a:lnTo>
                  <a:lnTo>
                    <a:pt x="312" y="53900"/>
                  </a:lnTo>
                  <a:lnTo>
                    <a:pt x="694" y="50859"/>
                  </a:lnTo>
                  <a:lnTo>
                    <a:pt x="1215" y="47923"/>
                  </a:lnTo>
                  <a:lnTo>
                    <a:pt x="1875" y="45021"/>
                  </a:lnTo>
                  <a:lnTo>
                    <a:pt x="2673" y="42190"/>
                  </a:lnTo>
                  <a:lnTo>
                    <a:pt x="3611" y="39394"/>
                  </a:lnTo>
                  <a:lnTo>
                    <a:pt x="4722" y="36667"/>
                  </a:lnTo>
                  <a:lnTo>
                    <a:pt x="5902" y="34011"/>
                  </a:lnTo>
                  <a:lnTo>
                    <a:pt x="7256" y="31424"/>
                  </a:lnTo>
                  <a:lnTo>
                    <a:pt x="8680" y="28907"/>
                  </a:lnTo>
                  <a:lnTo>
                    <a:pt x="10243" y="26460"/>
                  </a:lnTo>
                  <a:lnTo>
                    <a:pt x="11909" y="24118"/>
                  </a:lnTo>
                  <a:lnTo>
                    <a:pt x="13680" y="21846"/>
                  </a:lnTo>
                  <a:lnTo>
                    <a:pt x="15555" y="19644"/>
                  </a:lnTo>
                  <a:lnTo>
                    <a:pt x="17569" y="17582"/>
                  </a:lnTo>
                  <a:lnTo>
                    <a:pt x="19652" y="15624"/>
                  </a:lnTo>
                  <a:lnTo>
                    <a:pt x="21840" y="13737"/>
                  </a:lnTo>
                  <a:lnTo>
                    <a:pt x="24097" y="11954"/>
                  </a:lnTo>
                  <a:lnTo>
                    <a:pt x="26458" y="10241"/>
                  </a:lnTo>
                  <a:lnTo>
                    <a:pt x="28854" y="8703"/>
                  </a:lnTo>
                  <a:lnTo>
                    <a:pt x="31388" y="7270"/>
                  </a:lnTo>
                  <a:lnTo>
                    <a:pt x="33958" y="5942"/>
                  </a:lnTo>
                  <a:lnTo>
                    <a:pt x="36666" y="4753"/>
                  </a:lnTo>
                  <a:lnTo>
                    <a:pt x="39375" y="3635"/>
                  </a:lnTo>
                  <a:lnTo>
                    <a:pt x="42152" y="2691"/>
                  </a:lnTo>
                  <a:lnTo>
                    <a:pt x="45000" y="1887"/>
                  </a:lnTo>
                  <a:lnTo>
                    <a:pt x="47916" y="1223"/>
                  </a:lnTo>
                  <a:lnTo>
                    <a:pt x="50868" y="699"/>
                  </a:lnTo>
                  <a:lnTo>
                    <a:pt x="53888" y="314"/>
                  </a:lnTo>
                  <a:lnTo>
                    <a:pt x="56909" y="104"/>
                  </a:lnTo>
                  <a:lnTo>
                    <a:pt x="60000" y="0"/>
                  </a:lnTo>
                  <a:lnTo>
                    <a:pt x="63090" y="104"/>
                  </a:lnTo>
                  <a:lnTo>
                    <a:pt x="66111" y="314"/>
                  </a:lnTo>
                  <a:lnTo>
                    <a:pt x="69131" y="699"/>
                  </a:lnTo>
                  <a:lnTo>
                    <a:pt x="72083" y="1223"/>
                  </a:lnTo>
                  <a:lnTo>
                    <a:pt x="75000" y="1887"/>
                  </a:lnTo>
                  <a:lnTo>
                    <a:pt x="77847" y="2691"/>
                  </a:lnTo>
                  <a:lnTo>
                    <a:pt x="80625" y="3635"/>
                  </a:lnTo>
                  <a:lnTo>
                    <a:pt x="83333" y="4753"/>
                  </a:lnTo>
                  <a:lnTo>
                    <a:pt x="86006" y="5942"/>
                  </a:lnTo>
                  <a:lnTo>
                    <a:pt x="88611" y="7270"/>
                  </a:lnTo>
                  <a:lnTo>
                    <a:pt x="91111" y="8703"/>
                  </a:lnTo>
                  <a:lnTo>
                    <a:pt x="93541" y="10241"/>
                  </a:lnTo>
                  <a:lnTo>
                    <a:pt x="95902" y="11954"/>
                  </a:lnTo>
                  <a:lnTo>
                    <a:pt x="98159" y="13737"/>
                  </a:lnTo>
                  <a:lnTo>
                    <a:pt x="100347" y="15624"/>
                  </a:lnTo>
                  <a:lnTo>
                    <a:pt x="102430" y="17582"/>
                  </a:lnTo>
                  <a:lnTo>
                    <a:pt x="104409" y="19644"/>
                  </a:lnTo>
                  <a:lnTo>
                    <a:pt x="106284" y="21846"/>
                  </a:lnTo>
                  <a:lnTo>
                    <a:pt x="108055" y="24118"/>
                  </a:lnTo>
                  <a:lnTo>
                    <a:pt x="109756" y="26460"/>
                  </a:lnTo>
                  <a:lnTo>
                    <a:pt x="111319" y="28907"/>
                  </a:lnTo>
                  <a:lnTo>
                    <a:pt x="112743" y="31424"/>
                  </a:lnTo>
                  <a:lnTo>
                    <a:pt x="114062" y="34011"/>
                  </a:lnTo>
                  <a:lnTo>
                    <a:pt x="115277" y="36667"/>
                  </a:lnTo>
                  <a:lnTo>
                    <a:pt x="116319" y="39394"/>
                  </a:lnTo>
                  <a:lnTo>
                    <a:pt x="117291" y="42190"/>
                  </a:lnTo>
                  <a:lnTo>
                    <a:pt x="118125" y="45021"/>
                  </a:lnTo>
                  <a:lnTo>
                    <a:pt x="118784" y="47923"/>
                  </a:lnTo>
                  <a:lnTo>
                    <a:pt x="119270" y="50859"/>
                  </a:lnTo>
                  <a:lnTo>
                    <a:pt x="119687" y="53900"/>
                  </a:lnTo>
                  <a:lnTo>
                    <a:pt x="119930" y="56941"/>
                  </a:lnTo>
                  <a:lnTo>
                    <a:pt x="120000" y="60017"/>
                  </a:lnTo>
                  <a:close/>
                </a:path>
              </a:pathLst>
            </a:custGeom>
            <a:solidFill>
              <a:srgbClr val="5268a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73" name="任意多边形 269"/>
            <p:cNvSpPr/>
            <p:nvPr/>
          </p:nvSpPr>
          <p:spPr>
            <a:xfrm flipH="1">
              <a:off x="3265920" y="4232160"/>
              <a:ext cx="385200" cy="379440"/>
            </a:xfrm>
            <a:custGeom>
              <a:avLst/>
              <a:gdLst/>
              <a:ahLst/>
              <a:rect l="l" t="t" r="r" b="b"/>
              <a:pathLst>
                <a:path w="120000" h="120000">
                  <a:moveTo>
                    <a:pt x="120000" y="60000"/>
                  </a:moveTo>
                  <a:lnTo>
                    <a:pt x="119930" y="63125"/>
                  </a:lnTo>
                  <a:lnTo>
                    <a:pt x="119723" y="66111"/>
                  </a:lnTo>
                  <a:lnTo>
                    <a:pt x="119309" y="69166"/>
                  </a:lnTo>
                  <a:lnTo>
                    <a:pt x="118826" y="72152"/>
                  </a:lnTo>
                  <a:lnTo>
                    <a:pt x="118136" y="75069"/>
                  </a:lnTo>
                  <a:lnTo>
                    <a:pt x="117308" y="77847"/>
                  </a:lnTo>
                  <a:lnTo>
                    <a:pt x="116342" y="80694"/>
                  </a:lnTo>
                  <a:lnTo>
                    <a:pt x="115238" y="83402"/>
                  </a:lnTo>
                  <a:lnTo>
                    <a:pt x="114065" y="85972"/>
                  </a:lnTo>
                  <a:lnTo>
                    <a:pt x="112823" y="88611"/>
                  </a:lnTo>
                  <a:lnTo>
                    <a:pt x="111305" y="91111"/>
                  </a:lnTo>
                  <a:lnTo>
                    <a:pt x="109787" y="93611"/>
                  </a:lnTo>
                  <a:lnTo>
                    <a:pt x="108062" y="95902"/>
                  </a:lnTo>
                  <a:lnTo>
                    <a:pt x="106336" y="98194"/>
                  </a:lnTo>
                  <a:lnTo>
                    <a:pt x="104404" y="100347"/>
                  </a:lnTo>
                  <a:lnTo>
                    <a:pt x="102403" y="102430"/>
                  </a:lnTo>
                  <a:lnTo>
                    <a:pt x="100333" y="104375"/>
                  </a:lnTo>
                  <a:lnTo>
                    <a:pt x="98125" y="106319"/>
                  </a:lnTo>
                  <a:lnTo>
                    <a:pt x="95917" y="108055"/>
                  </a:lnTo>
                  <a:lnTo>
                    <a:pt x="93571" y="109791"/>
                  </a:lnTo>
                  <a:lnTo>
                    <a:pt x="91086" y="111319"/>
                  </a:lnTo>
                  <a:lnTo>
                    <a:pt x="88602" y="112777"/>
                  </a:lnTo>
                  <a:lnTo>
                    <a:pt x="85980" y="114097"/>
                  </a:lnTo>
                  <a:lnTo>
                    <a:pt x="83358" y="115277"/>
                  </a:lnTo>
                  <a:lnTo>
                    <a:pt x="80667" y="116388"/>
                  </a:lnTo>
                  <a:lnTo>
                    <a:pt x="77906" y="117291"/>
                  </a:lnTo>
                  <a:lnTo>
                    <a:pt x="75008" y="118125"/>
                  </a:lnTo>
                  <a:lnTo>
                    <a:pt x="72110" y="118819"/>
                  </a:lnTo>
                  <a:lnTo>
                    <a:pt x="69143" y="119305"/>
                  </a:lnTo>
                  <a:lnTo>
                    <a:pt x="66175" y="119722"/>
                  </a:lnTo>
                  <a:lnTo>
                    <a:pt x="63070" y="119930"/>
                  </a:lnTo>
                  <a:lnTo>
                    <a:pt x="60034" y="120000"/>
                  </a:lnTo>
                  <a:lnTo>
                    <a:pt x="56929" y="119930"/>
                  </a:lnTo>
                  <a:lnTo>
                    <a:pt x="53824" y="119722"/>
                  </a:lnTo>
                  <a:lnTo>
                    <a:pt x="50856" y="119305"/>
                  </a:lnTo>
                  <a:lnTo>
                    <a:pt x="47889" y="118819"/>
                  </a:lnTo>
                  <a:lnTo>
                    <a:pt x="44991" y="118125"/>
                  </a:lnTo>
                  <a:lnTo>
                    <a:pt x="42162" y="117291"/>
                  </a:lnTo>
                  <a:lnTo>
                    <a:pt x="39332" y="116388"/>
                  </a:lnTo>
                  <a:lnTo>
                    <a:pt x="36641" y="115277"/>
                  </a:lnTo>
                  <a:lnTo>
                    <a:pt x="33950" y="114097"/>
                  </a:lnTo>
                  <a:lnTo>
                    <a:pt x="31397" y="112777"/>
                  </a:lnTo>
                  <a:lnTo>
                    <a:pt x="28844" y="111319"/>
                  </a:lnTo>
                  <a:lnTo>
                    <a:pt x="26428" y="109791"/>
                  </a:lnTo>
                  <a:lnTo>
                    <a:pt x="24082" y="108055"/>
                  </a:lnTo>
                  <a:lnTo>
                    <a:pt x="21805" y="106319"/>
                  </a:lnTo>
                  <a:lnTo>
                    <a:pt x="19597" y="104375"/>
                  </a:lnTo>
                  <a:lnTo>
                    <a:pt x="17596" y="102430"/>
                  </a:lnTo>
                  <a:lnTo>
                    <a:pt x="15526" y="100347"/>
                  </a:lnTo>
                  <a:lnTo>
                    <a:pt x="13663" y="98194"/>
                  </a:lnTo>
                  <a:lnTo>
                    <a:pt x="11868" y="95902"/>
                  </a:lnTo>
                  <a:lnTo>
                    <a:pt x="10212" y="93611"/>
                  </a:lnTo>
                  <a:lnTo>
                    <a:pt x="8625" y="91111"/>
                  </a:lnTo>
                  <a:lnTo>
                    <a:pt x="7245" y="88611"/>
                  </a:lnTo>
                  <a:lnTo>
                    <a:pt x="5865" y="85972"/>
                  </a:lnTo>
                  <a:lnTo>
                    <a:pt x="4761" y="83402"/>
                  </a:lnTo>
                  <a:lnTo>
                    <a:pt x="3588" y="80694"/>
                  </a:lnTo>
                  <a:lnTo>
                    <a:pt x="2691" y="77847"/>
                  </a:lnTo>
                  <a:lnTo>
                    <a:pt x="1863" y="75069"/>
                  </a:lnTo>
                  <a:lnTo>
                    <a:pt x="1242" y="72152"/>
                  </a:lnTo>
                  <a:lnTo>
                    <a:pt x="690" y="69166"/>
                  </a:lnTo>
                  <a:lnTo>
                    <a:pt x="276" y="66111"/>
                  </a:lnTo>
                  <a:lnTo>
                    <a:pt x="69" y="63125"/>
                  </a:lnTo>
                  <a:lnTo>
                    <a:pt x="0" y="60000"/>
                  </a:lnTo>
                  <a:lnTo>
                    <a:pt x="69" y="56944"/>
                  </a:lnTo>
                  <a:lnTo>
                    <a:pt x="276" y="53888"/>
                  </a:lnTo>
                  <a:lnTo>
                    <a:pt x="690" y="50902"/>
                  </a:lnTo>
                  <a:lnTo>
                    <a:pt x="1242" y="47916"/>
                  </a:lnTo>
                  <a:lnTo>
                    <a:pt x="1863" y="45000"/>
                  </a:lnTo>
                  <a:lnTo>
                    <a:pt x="2691" y="42152"/>
                  </a:lnTo>
                  <a:lnTo>
                    <a:pt x="3588" y="39375"/>
                  </a:lnTo>
                  <a:lnTo>
                    <a:pt x="4761" y="36666"/>
                  </a:lnTo>
                  <a:lnTo>
                    <a:pt x="5865" y="33958"/>
                  </a:lnTo>
                  <a:lnTo>
                    <a:pt x="7245" y="31458"/>
                  </a:lnTo>
                  <a:lnTo>
                    <a:pt x="8625" y="28888"/>
                  </a:lnTo>
                  <a:lnTo>
                    <a:pt x="10212" y="26458"/>
                  </a:lnTo>
                  <a:lnTo>
                    <a:pt x="11868" y="24097"/>
                  </a:lnTo>
                  <a:lnTo>
                    <a:pt x="13663" y="21805"/>
                  </a:lnTo>
                  <a:lnTo>
                    <a:pt x="15526" y="19652"/>
                  </a:lnTo>
                  <a:lnTo>
                    <a:pt x="17596" y="17569"/>
                  </a:lnTo>
                  <a:lnTo>
                    <a:pt x="19597" y="15625"/>
                  </a:lnTo>
                  <a:lnTo>
                    <a:pt x="21805" y="13750"/>
                  </a:lnTo>
                  <a:lnTo>
                    <a:pt x="24082" y="11944"/>
                  </a:lnTo>
                  <a:lnTo>
                    <a:pt x="26428" y="10277"/>
                  </a:lnTo>
                  <a:lnTo>
                    <a:pt x="28844" y="8680"/>
                  </a:lnTo>
                  <a:lnTo>
                    <a:pt x="31397" y="7291"/>
                  </a:lnTo>
                  <a:lnTo>
                    <a:pt x="33950" y="5902"/>
                  </a:lnTo>
                  <a:lnTo>
                    <a:pt x="36641" y="4722"/>
                  </a:lnTo>
                  <a:lnTo>
                    <a:pt x="39332" y="3680"/>
                  </a:lnTo>
                  <a:lnTo>
                    <a:pt x="42162" y="2708"/>
                  </a:lnTo>
                  <a:lnTo>
                    <a:pt x="44991" y="1875"/>
                  </a:lnTo>
                  <a:lnTo>
                    <a:pt x="47889" y="1180"/>
                  </a:lnTo>
                  <a:lnTo>
                    <a:pt x="50856" y="625"/>
                  </a:lnTo>
                  <a:lnTo>
                    <a:pt x="53824" y="277"/>
                  </a:lnTo>
                  <a:lnTo>
                    <a:pt x="56929" y="69"/>
                  </a:lnTo>
                  <a:lnTo>
                    <a:pt x="60034" y="0"/>
                  </a:lnTo>
                  <a:lnTo>
                    <a:pt x="63070" y="69"/>
                  </a:lnTo>
                  <a:lnTo>
                    <a:pt x="66175" y="277"/>
                  </a:lnTo>
                  <a:lnTo>
                    <a:pt x="69143" y="625"/>
                  </a:lnTo>
                  <a:lnTo>
                    <a:pt x="72110" y="1180"/>
                  </a:lnTo>
                  <a:lnTo>
                    <a:pt x="75008" y="1875"/>
                  </a:lnTo>
                  <a:lnTo>
                    <a:pt x="77906" y="2708"/>
                  </a:lnTo>
                  <a:lnTo>
                    <a:pt x="80667" y="3680"/>
                  </a:lnTo>
                  <a:lnTo>
                    <a:pt x="83358" y="4722"/>
                  </a:lnTo>
                  <a:lnTo>
                    <a:pt x="85980" y="5902"/>
                  </a:lnTo>
                  <a:lnTo>
                    <a:pt x="88602" y="7291"/>
                  </a:lnTo>
                  <a:lnTo>
                    <a:pt x="91086" y="8680"/>
                  </a:lnTo>
                  <a:lnTo>
                    <a:pt x="93571" y="10277"/>
                  </a:lnTo>
                  <a:lnTo>
                    <a:pt x="95917" y="11944"/>
                  </a:lnTo>
                  <a:lnTo>
                    <a:pt x="98125" y="13750"/>
                  </a:lnTo>
                  <a:lnTo>
                    <a:pt x="100333" y="15625"/>
                  </a:lnTo>
                  <a:lnTo>
                    <a:pt x="102403" y="17569"/>
                  </a:lnTo>
                  <a:lnTo>
                    <a:pt x="104404" y="19652"/>
                  </a:lnTo>
                  <a:lnTo>
                    <a:pt x="106336" y="21805"/>
                  </a:lnTo>
                  <a:lnTo>
                    <a:pt x="108062" y="24097"/>
                  </a:lnTo>
                  <a:lnTo>
                    <a:pt x="109787" y="26458"/>
                  </a:lnTo>
                  <a:lnTo>
                    <a:pt x="111305" y="28888"/>
                  </a:lnTo>
                  <a:lnTo>
                    <a:pt x="112823" y="31458"/>
                  </a:lnTo>
                  <a:lnTo>
                    <a:pt x="114065" y="33958"/>
                  </a:lnTo>
                  <a:lnTo>
                    <a:pt x="115238" y="36666"/>
                  </a:lnTo>
                  <a:lnTo>
                    <a:pt x="116342" y="39375"/>
                  </a:lnTo>
                  <a:lnTo>
                    <a:pt x="117308" y="42152"/>
                  </a:lnTo>
                  <a:lnTo>
                    <a:pt x="118136" y="45000"/>
                  </a:lnTo>
                  <a:lnTo>
                    <a:pt x="118826" y="47916"/>
                  </a:lnTo>
                  <a:lnTo>
                    <a:pt x="119309" y="50902"/>
                  </a:lnTo>
                  <a:lnTo>
                    <a:pt x="119723" y="53888"/>
                  </a:lnTo>
                  <a:lnTo>
                    <a:pt x="119930" y="56944"/>
                  </a:lnTo>
                  <a:lnTo>
                    <a:pt x="120000" y="60000"/>
                  </a:lnTo>
                  <a:close/>
                </a:path>
              </a:pathLst>
            </a:custGeom>
            <a:solidFill>
              <a:srgbClr val="00a0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74" name="任意多边形 270"/>
            <p:cNvSpPr/>
            <p:nvPr/>
          </p:nvSpPr>
          <p:spPr>
            <a:xfrm>
              <a:off x="3031560" y="3567600"/>
              <a:ext cx="423360" cy="393120"/>
            </a:xfrm>
            <a:custGeom>
              <a:avLst/>
              <a:gdLst/>
              <a:ahLst/>
              <a:rect l="l" t="t" r="r" b="b"/>
              <a:pathLst>
                <a:path w="597921" h="598324">
                  <a:moveTo>
                    <a:pt x="297615" y="96957"/>
                  </a:moveTo>
                  <a:cubicBezTo>
                    <a:pt x="311959" y="96957"/>
                    <a:pt x="323434" y="108416"/>
                    <a:pt x="323434" y="122740"/>
                  </a:cubicBezTo>
                  <a:lnTo>
                    <a:pt x="323434" y="289852"/>
                  </a:lnTo>
                  <a:lnTo>
                    <a:pt x="462572" y="289852"/>
                  </a:lnTo>
                  <a:cubicBezTo>
                    <a:pt x="476438" y="289852"/>
                    <a:pt x="487913" y="301311"/>
                    <a:pt x="487913" y="315157"/>
                  </a:cubicBezTo>
                  <a:cubicBezTo>
                    <a:pt x="487913" y="329004"/>
                    <a:pt x="476438" y="340463"/>
                    <a:pt x="462572" y="340463"/>
                  </a:cubicBezTo>
                  <a:lnTo>
                    <a:pt x="297615" y="340463"/>
                  </a:lnTo>
                  <a:cubicBezTo>
                    <a:pt x="283749" y="340463"/>
                    <a:pt x="272274" y="329004"/>
                    <a:pt x="272274" y="315157"/>
                  </a:cubicBezTo>
                  <a:lnTo>
                    <a:pt x="272274" y="122740"/>
                  </a:lnTo>
                  <a:cubicBezTo>
                    <a:pt x="272274" y="108416"/>
                    <a:pt x="283749" y="96957"/>
                    <a:pt x="297615" y="96957"/>
                  </a:cubicBezTo>
                  <a:close/>
                  <a:moveTo>
                    <a:pt x="298127" y="0"/>
                  </a:moveTo>
                  <a:cubicBezTo>
                    <a:pt x="463564" y="0"/>
                    <a:pt x="597921" y="134181"/>
                    <a:pt x="597921" y="299401"/>
                  </a:cubicBezTo>
                  <a:cubicBezTo>
                    <a:pt x="597921" y="464143"/>
                    <a:pt x="463564" y="598324"/>
                    <a:pt x="298127" y="598324"/>
                  </a:cubicBezTo>
                  <a:cubicBezTo>
                    <a:pt x="188155" y="598324"/>
                    <a:pt x="87268" y="538635"/>
                    <a:pt x="35150" y="442177"/>
                  </a:cubicBezTo>
                  <a:cubicBezTo>
                    <a:pt x="33238" y="438835"/>
                    <a:pt x="32760" y="435492"/>
                    <a:pt x="34194" y="432149"/>
                  </a:cubicBezTo>
                  <a:cubicBezTo>
                    <a:pt x="35150" y="428807"/>
                    <a:pt x="37541" y="425942"/>
                    <a:pt x="40410" y="424509"/>
                  </a:cubicBezTo>
                  <a:lnTo>
                    <a:pt x="74836" y="407796"/>
                  </a:lnTo>
                  <a:cubicBezTo>
                    <a:pt x="81052" y="404931"/>
                    <a:pt x="88702" y="407319"/>
                    <a:pt x="91571" y="413049"/>
                  </a:cubicBezTo>
                  <a:cubicBezTo>
                    <a:pt x="133169" y="488018"/>
                    <a:pt x="212540" y="534815"/>
                    <a:pt x="298127" y="534815"/>
                  </a:cubicBezTo>
                  <a:cubicBezTo>
                    <a:pt x="428181" y="534815"/>
                    <a:pt x="534328" y="429284"/>
                    <a:pt x="534328" y="299401"/>
                  </a:cubicBezTo>
                  <a:cubicBezTo>
                    <a:pt x="534328" y="169517"/>
                    <a:pt x="428181" y="63509"/>
                    <a:pt x="298127" y="63509"/>
                  </a:cubicBezTo>
                  <a:cubicBezTo>
                    <a:pt x="242185" y="63509"/>
                    <a:pt x="187677" y="83565"/>
                    <a:pt x="145123" y="120333"/>
                  </a:cubicBezTo>
                  <a:lnTo>
                    <a:pt x="200587" y="142299"/>
                  </a:lnTo>
                  <a:cubicBezTo>
                    <a:pt x="204890" y="144209"/>
                    <a:pt x="207759" y="148029"/>
                    <a:pt x="208237" y="152327"/>
                  </a:cubicBezTo>
                  <a:cubicBezTo>
                    <a:pt x="208715" y="157102"/>
                    <a:pt x="207281" y="161399"/>
                    <a:pt x="203456" y="164265"/>
                  </a:cubicBezTo>
                  <a:lnTo>
                    <a:pt x="48060" y="285553"/>
                  </a:lnTo>
                  <a:cubicBezTo>
                    <a:pt x="44235" y="288418"/>
                    <a:pt x="39454" y="289373"/>
                    <a:pt x="35150" y="287463"/>
                  </a:cubicBezTo>
                  <a:cubicBezTo>
                    <a:pt x="31325" y="285553"/>
                    <a:pt x="27978" y="281733"/>
                    <a:pt x="27500" y="277435"/>
                  </a:cubicBezTo>
                  <a:lnTo>
                    <a:pt x="246" y="82132"/>
                  </a:lnTo>
                  <a:cubicBezTo>
                    <a:pt x="-710" y="77835"/>
                    <a:pt x="1203" y="73060"/>
                    <a:pt x="4550" y="70194"/>
                  </a:cubicBezTo>
                  <a:cubicBezTo>
                    <a:pt x="8375" y="67807"/>
                    <a:pt x="13156" y="66852"/>
                    <a:pt x="17459" y="68762"/>
                  </a:cubicBezTo>
                  <a:lnTo>
                    <a:pt x="80574" y="94070"/>
                  </a:lnTo>
                  <a:cubicBezTo>
                    <a:pt x="137472" y="33426"/>
                    <a:pt x="214931" y="0"/>
                    <a:pt x="298127"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75" name="任意多边形 271"/>
            <p:cNvSpPr/>
            <p:nvPr/>
          </p:nvSpPr>
          <p:spPr>
            <a:xfrm>
              <a:off x="1717200" y="3050280"/>
              <a:ext cx="617760" cy="574200"/>
            </a:xfrm>
            <a:custGeom>
              <a:avLst/>
              <a:gdLst/>
              <a:ahLst/>
              <a:rect l="l" t="t" r="r" b="b"/>
              <a:pathLst>
                <a:path w="6827" h="5912">
                  <a:moveTo>
                    <a:pt x="3413" y="0"/>
                  </a:moveTo>
                  <a:lnTo>
                    <a:pt x="0" y="5912"/>
                  </a:lnTo>
                  <a:lnTo>
                    <a:pt x="6827" y="5912"/>
                  </a:lnTo>
                  <a:lnTo>
                    <a:pt x="3413" y="0"/>
                  </a:lnTo>
                  <a:close/>
                  <a:moveTo>
                    <a:pt x="3413" y="972"/>
                  </a:moveTo>
                  <a:lnTo>
                    <a:pt x="4489" y="2835"/>
                  </a:lnTo>
                  <a:lnTo>
                    <a:pt x="2338" y="2835"/>
                  </a:lnTo>
                  <a:lnTo>
                    <a:pt x="3413" y="972"/>
                  </a:lnTo>
                  <a:close/>
                  <a:moveTo>
                    <a:pt x="842" y="5426"/>
                  </a:moveTo>
                  <a:lnTo>
                    <a:pt x="1917" y="3564"/>
                  </a:lnTo>
                  <a:lnTo>
                    <a:pt x="2993" y="5426"/>
                  </a:lnTo>
                  <a:lnTo>
                    <a:pt x="842" y="5426"/>
                  </a:lnTo>
                  <a:close/>
                  <a:moveTo>
                    <a:pt x="2338" y="3321"/>
                  </a:moveTo>
                  <a:lnTo>
                    <a:pt x="4489" y="3321"/>
                  </a:lnTo>
                  <a:lnTo>
                    <a:pt x="3413" y="5183"/>
                  </a:lnTo>
                  <a:lnTo>
                    <a:pt x="2338" y="3321"/>
                  </a:lnTo>
                  <a:close/>
                  <a:moveTo>
                    <a:pt x="4910" y="3564"/>
                  </a:moveTo>
                  <a:lnTo>
                    <a:pt x="5985" y="5426"/>
                  </a:lnTo>
                  <a:lnTo>
                    <a:pt x="3834" y="5426"/>
                  </a:lnTo>
                  <a:lnTo>
                    <a:pt x="4910" y="3564"/>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76" name="任意多边形 272"/>
            <p:cNvSpPr/>
            <p:nvPr/>
          </p:nvSpPr>
          <p:spPr>
            <a:xfrm>
              <a:off x="771480" y="4546440"/>
              <a:ext cx="361800" cy="336240"/>
            </a:xfrm>
            <a:custGeom>
              <a:avLst/>
              <a:gdLst/>
              <a:ahLst/>
              <a:rect l="l" t="t" r="r" b="b"/>
              <a:pathLst>
                <a:path w="582235" h="606722">
                  <a:moveTo>
                    <a:pt x="0" y="404481"/>
                  </a:moveTo>
                  <a:lnTo>
                    <a:pt x="101261" y="404481"/>
                  </a:lnTo>
                  <a:lnTo>
                    <a:pt x="101261" y="606722"/>
                  </a:lnTo>
                  <a:lnTo>
                    <a:pt x="0" y="606722"/>
                  </a:lnTo>
                  <a:lnTo>
                    <a:pt x="0" y="404481"/>
                  </a:lnTo>
                  <a:close/>
                  <a:moveTo>
                    <a:pt x="151927" y="328623"/>
                  </a:moveTo>
                  <a:lnTo>
                    <a:pt x="253188" y="328623"/>
                  </a:lnTo>
                  <a:lnTo>
                    <a:pt x="253188" y="606722"/>
                  </a:lnTo>
                  <a:lnTo>
                    <a:pt x="151927" y="606722"/>
                  </a:lnTo>
                  <a:lnTo>
                    <a:pt x="151927" y="328623"/>
                  </a:lnTo>
                  <a:close/>
                  <a:moveTo>
                    <a:pt x="303855" y="252766"/>
                  </a:moveTo>
                  <a:lnTo>
                    <a:pt x="405046" y="252766"/>
                  </a:lnTo>
                  <a:lnTo>
                    <a:pt x="405046" y="606722"/>
                  </a:lnTo>
                  <a:lnTo>
                    <a:pt x="303855" y="606722"/>
                  </a:lnTo>
                  <a:lnTo>
                    <a:pt x="303855" y="252766"/>
                  </a:lnTo>
                  <a:close/>
                  <a:moveTo>
                    <a:pt x="455711" y="202241"/>
                  </a:moveTo>
                  <a:lnTo>
                    <a:pt x="556972" y="202241"/>
                  </a:lnTo>
                  <a:lnTo>
                    <a:pt x="556972" y="606722"/>
                  </a:lnTo>
                  <a:lnTo>
                    <a:pt x="455711" y="606722"/>
                  </a:lnTo>
                  <a:lnTo>
                    <a:pt x="455711" y="202241"/>
                  </a:lnTo>
                  <a:close/>
                  <a:moveTo>
                    <a:pt x="455697" y="0"/>
                  </a:moveTo>
                  <a:lnTo>
                    <a:pt x="556785" y="0"/>
                  </a:lnTo>
                  <a:lnTo>
                    <a:pt x="556874" y="0"/>
                  </a:lnTo>
                  <a:lnTo>
                    <a:pt x="556963" y="0"/>
                  </a:lnTo>
                  <a:cubicBezTo>
                    <a:pt x="557230" y="0"/>
                    <a:pt x="557408" y="0"/>
                    <a:pt x="557675" y="0"/>
                  </a:cubicBezTo>
                  <a:cubicBezTo>
                    <a:pt x="558298" y="89"/>
                    <a:pt x="558832" y="89"/>
                    <a:pt x="559366" y="89"/>
                  </a:cubicBezTo>
                  <a:cubicBezTo>
                    <a:pt x="559811" y="178"/>
                    <a:pt x="560256" y="267"/>
                    <a:pt x="560611" y="267"/>
                  </a:cubicBezTo>
                  <a:cubicBezTo>
                    <a:pt x="561056" y="356"/>
                    <a:pt x="561412" y="444"/>
                    <a:pt x="561857" y="444"/>
                  </a:cubicBezTo>
                  <a:cubicBezTo>
                    <a:pt x="562302" y="533"/>
                    <a:pt x="562747" y="711"/>
                    <a:pt x="563192" y="800"/>
                  </a:cubicBezTo>
                  <a:cubicBezTo>
                    <a:pt x="563548" y="889"/>
                    <a:pt x="563904" y="978"/>
                    <a:pt x="564171" y="1067"/>
                  </a:cubicBezTo>
                  <a:cubicBezTo>
                    <a:pt x="564616" y="1156"/>
                    <a:pt x="565061" y="1333"/>
                    <a:pt x="565506" y="1511"/>
                  </a:cubicBezTo>
                  <a:cubicBezTo>
                    <a:pt x="565862" y="1600"/>
                    <a:pt x="566218" y="1778"/>
                    <a:pt x="566574" y="1867"/>
                  </a:cubicBezTo>
                  <a:cubicBezTo>
                    <a:pt x="566929" y="2044"/>
                    <a:pt x="567285" y="2222"/>
                    <a:pt x="567730" y="2400"/>
                  </a:cubicBezTo>
                  <a:cubicBezTo>
                    <a:pt x="568086" y="2578"/>
                    <a:pt x="568442" y="2755"/>
                    <a:pt x="568798" y="2933"/>
                  </a:cubicBezTo>
                  <a:cubicBezTo>
                    <a:pt x="569154" y="3111"/>
                    <a:pt x="569421" y="3289"/>
                    <a:pt x="569777" y="3467"/>
                  </a:cubicBezTo>
                  <a:cubicBezTo>
                    <a:pt x="570133" y="3733"/>
                    <a:pt x="570578" y="4000"/>
                    <a:pt x="570934" y="4178"/>
                  </a:cubicBezTo>
                  <a:cubicBezTo>
                    <a:pt x="571201" y="4444"/>
                    <a:pt x="571557" y="4622"/>
                    <a:pt x="571824" y="4800"/>
                  </a:cubicBezTo>
                  <a:cubicBezTo>
                    <a:pt x="572180" y="5155"/>
                    <a:pt x="572536" y="5422"/>
                    <a:pt x="572891" y="5689"/>
                  </a:cubicBezTo>
                  <a:cubicBezTo>
                    <a:pt x="573247" y="5955"/>
                    <a:pt x="573514" y="6222"/>
                    <a:pt x="573781" y="6489"/>
                  </a:cubicBezTo>
                  <a:cubicBezTo>
                    <a:pt x="574137" y="6755"/>
                    <a:pt x="574493" y="7022"/>
                    <a:pt x="574760" y="7289"/>
                  </a:cubicBezTo>
                  <a:cubicBezTo>
                    <a:pt x="575205" y="7733"/>
                    <a:pt x="575561" y="8178"/>
                    <a:pt x="575917" y="8533"/>
                  </a:cubicBezTo>
                  <a:cubicBezTo>
                    <a:pt x="576095" y="8711"/>
                    <a:pt x="576273" y="8889"/>
                    <a:pt x="576451" y="9066"/>
                  </a:cubicBezTo>
                  <a:cubicBezTo>
                    <a:pt x="576451" y="9155"/>
                    <a:pt x="576451" y="9155"/>
                    <a:pt x="576451" y="9155"/>
                  </a:cubicBezTo>
                  <a:cubicBezTo>
                    <a:pt x="576985" y="9777"/>
                    <a:pt x="577519" y="10489"/>
                    <a:pt x="577964" y="11200"/>
                  </a:cubicBezTo>
                  <a:cubicBezTo>
                    <a:pt x="577964" y="11200"/>
                    <a:pt x="578053" y="11289"/>
                    <a:pt x="578053" y="11289"/>
                  </a:cubicBezTo>
                  <a:cubicBezTo>
                    <a:pt x="578498" y="12000"/>
                    <a:pt x="578854" y="12622"/>
                    <a:pt x="579209" y="13244"/>
                  </a:cubicBezTo>
                  <a:cubicBezTo>
                    <a:pt x="579387" y="13600"/>
                    <a:pt x="579565" y="13955"/>
                    <a:pt x="579743" y="14222"/>
                  </a:cubicBezTo>
                  <a:cubicBezTo>
                    <a:pt x="579921" y="14666"/>
                    <a:pt x="580099" y="15111"/>
                    <a:pt x="580277" y="15555"/>
                  </a:cubicBezTo>
                  <a:cubicBezTo>
                    <a:pt x="580455" y="15911"/>
                    <a:pt x="580633" y="16266"/>
                    <a:pt x="580722" y="16711"/>
                  </a:cubicBezTo>
                  <a:cubicBezTo>
                    <a:pt x="580900" y="17066"/>
                    <a:pt x="581078" y="17422"/>
                    <a:pt x="581167" y="17866"/>
                  </a:cubicBezTo>
                  <a:cubicBezTo>
                    <a:pt x="581256" y="18311"/>
                    <a:pt x="581434" y="18755"/>
                    <a:pt x="581523" y="19199"/>
                  </a:cubicBezTo>
                  <a:cubicBezTo>
                    <a:pt x="581612" y="19555"/>
                    <a:pt x="581701" y="19910"/>
                    <a:pt x="581790" y="20266"/>
                  </a:cubicBezTo>
                  <a:cubicBezTo>
                    <a:pt x="581879" y="20977"/>
                    <a:pt x="582057" y="21777"/>
                    <a:pt x="582146" y="22488"/>
                  </a:cubicBezTo>
                  <a:cubicBezTo>
                    <a:pt x="582146" y="22577"/>
                    <a:pt x="582146" y="22666"/>
                    <a:pt x="582146" y="22666"/>
                  </a:cubicBezTo>
                  <a:cubicBezTo>
                    <a:pt x="582235" y="23555"/>
                    <a:pt x="582235" y="24355"/>
                    <a:pt x="582235" y="25244"/>
                  </a:cubicBezTo>
                  <a:lnTo>
                    <a:pt x="582235" y="126396"/>
                  </a:lnTo>
                  <a:cubicBezTo>
                    <a:pt x="582235" y="140351"/>
                    <a:pt x="570934" y="151728"/>
                    <a:pt x="556963" y="151728"/>
                  </a:cubicBezTo>
                  <a:cubicBezTo>
                    <a:pt x="542992" y="151728"/>
                    <a:pt x="531691" y="140351"/>
                    <a:pt x="531691" y="126396"/>
                  </a:cubicBezTo>
                  <a:lnTo>
                    <a:pt x="531691" y="79286"/>
                  </a:lnTo>
                  <a:lnTo>
                    <a:pt x="421260" y="171106"/>
                  </a:lnTo>
                  <a:cubicBezTo>
                    <a:pt x="410582" y="180083"/>
                    <a:pt x="394564" y="178572"/>
                    <a:pt x="385666" y="167906"/>
                  </a:cubicBezTo>
                  <a:cubicBezTo>
                    <a:pt x="376678" y="157150"/>
                    <a:pt x="378191" y="141240"/>
                    <a:pt x="388869" y="132262"/>
                  </a:cubicBezTo>
                  <a:lnTo>
                    <a:pt x="487020" y="50576"/>
                  </a:lnTo>
                  <a:lnTo>
                    <a:pt x="455697" y="50576"/>
                  </a:lnTo>
                  <a:cubicBezTo>
                    <a:pt x="441727" y="50576"/>
                    <a:pt x="430425" y="39288"/>
                    <a:pt x="430425" y="25244"/>
                  </a:cubicBezTo>
                  <a:cubicBezTo>
                    <a:pt x="430425" y="11289"/>
                    <a:pt x="441727" y="0"/>
                    <a:pt x="455697"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77" name="任意多边形 277"/>
            <p:cNvSpPr/>
            <p:nvPr/>
          </p:nvSpPr>
          <p:spPr>
            <a:xfrm flipH="1">
              <a:off x="2203560" y="4074480"/>
              <a:ext cx="488520" cy="482400"/>
            </a:xfrm>
            <a:custGeom>
              <a:avLst/>
              <a:gdLst/>
              <a:ahLst/>
              <a:rect l="l" t="t" r="r" b="b"/>
              <a:pathLst>
                <a:path w="120000" h="120000">
                  <a:moveTo>
                    <a:pt x="120000" y="60000"/>
                  </a:moveTo>
                  <a:lnTo>
                    <a:pt x="119945" y="63114"/>
                  </a:lnTo>
                  <a:lnTo>
                    <a:pt x="119728" y="66120"/>
                  </a:lnTo>
                  <a:lnTo>
                    <a:pt x="119294" y="69125"/>
                  </a:lnTo>
                  <a:lnTo>
                    <a:pt x="118751" y="72076"/>
                  </a:lnTo>
                  <a:lnTo>
                    <a:pt x="118154" y="74972"/>
                  </a:lnTo>
                  <a:lnTo>
                    <a:pt x="117286" y="77868"/>
                  </a:lnTo>
                  <a:lnTo>
                    <a:pt x="116363" y="80655"/>
                  </a:lnTo>
                  <a:lnTo>
                    <a:pt x="115278" y="83387"/>
                  </a:lnTo>
                  <a:lnTo>
                    <a:pt x="114138" y="86010"/>
                  </a:lnTo>
                  <a:lnTo>
                    <a:pt x="112781" y="88633"/>
                  </a:lnTo>
                  <a:lnTo>
                    <a:pt x="111316" y="91092"/>
                  </a:lnTo>
                  <a:lnTo>
                    <a:pt x="109742" y="93551"/>
                  </a:lnTo>
                  <a:lnTo>
                    <a:pt x="108113" y="95901"/>
                  </a:lnTo>
                  <a:lnTo>
                    <a:pt x="106322" y="98196"/>
                  </a:lnTo>
                  <a:lnTo>
                    <a:pt x="104423" y="100382"/>
                  </a:lnTo>
                  <a:lnTo>
                    <a:pt x="102415" y="102459"/>
                  </a:lnTo>
                  <a:lnTo>
                    <a:pt x="100352" y="104371"/>
                  </a:lnTo>
                  <a:lnTo>
                    <a:pt x="98181" y="106284"/>
                  </a:lnTo>
                  <a:lnTo>
                    <a:pt x="95902" y="108142"/>
                  </a:lnTo>
                  <a:lnTo>
                    <a:pt x="93568" y="109781"/>
                  </a:lnTo>
                  <a:lnTo>
                    <a:pt x="91126" y="111311"/>
                  </a:lnTo>
                  <a:lnTo>
                    <a:pt x="88575" y="112786"/>
                  </a:lnTo>
                  <a:lnTo>
                    <a:pt x="86024" y="114098"/>
                  </a:lnTo>
                  <a:lnTo>
                    <a:pt x="83364" y="115245"/>
                  </a:lnTo>
                  <a:lnTo>
                    <a:pt x="80651" y="116393"/>
                  </a:lnTo>
                  <a:lnTo>
                    <a:pt x="77829" y="117322"/>
                  </a:lnTo>
                  <a:lnTo>
                    <a:pt x="75006" y="118087"/>
                  </a:lnTo>
                  <a:lnTo>
                    <a:pt x="72130" y="118797"/>
                  </a:lnTo>
                  <a:lnTo>
                    <a:pt x="69145" y="119344"/>
                  </a:lnTo>
                  <a:lnTo>
                    <a:pt x="66160" y="119672"/>
                  </a:lnTo>
                  <a:lnTo>
                    <a:pt x="63066" y="119945"/>
                  </a:lnTo>
                  <a:lnTo>
                    <a:pt x="60027" y="120000"/>
                  </a:lnTo>
                  <a:lnTo>
                    <a:pt x="56933" y="119945"/>
                  </a:lnTo>
                  <a:lnTo>
                    <a:pt x="53894" y="119672"/>
                  </a:lnTo>
                  <a:lnTo>
                    <a:pt x="50854" y="119344"/>
                  </a:lnTo>
                  <a:lnTo>
                    <a:pt x="47924" y="118797"/>
                  </a:lnTo>
                  <a:lnTo>
                    <a:pt x="44993" y="118087"/>
                  </a:lnTo>
                  <a:lnTo>
                    <a:pt x="42170" y="117322"/>
                  </a:lnTo>
                  <a:lnTo>
                    <a:pt x="39402" y="116393"/>
                  </a:lnTo>
                  <a:lnTo>
                    <a:pt x="36689" y="115245"/>
                  </a:lnTo>
                  <a:lnTo>
                    <a:pt x="34029" y="114098"/>
                  </a:lnTo>
                  <a:lnTo>
                    <a:pt x="31424" y="112786"/>
                  </a:lnTo>
                  <a:lnTo>
                    <a:pt x="28873" y="111311"/>
                  </a:lnTo>
                  <a:lnTo>
                    <a:pt x="26485" y="109781"/>
                  </a:lnTo>
                  <a:lnTo>
                    <a:pt x="24097" y="108142"/>
                  </a:lnTo>
                  <a:lnTo>
                    <a:pt x="21872" y="106284"/>
                  </a:lnTo>
                  <a:lnTo>
                    <a:pt x="19701" y="104371"/>
                  </a:lnTo>
                  <a:lnTo>
                    <a:pt x="17584" y="102459"/>
                  </a:lnTo>
                  <a:lnTo>
                    <a:pt x="15576" y="100382"/>
                  </a:lnTo>
                  <a:lnTo>
                    <a:pt x="13731" y="98196"/>
                  </a:lnTo>
                  <a:lnTo>
                    <a:pt x="11940" y="95901"/>
                  </a:lnTo>
                  <a:lnTo>
                    <a:pt x="10312" y="93606"/>
                  </a:lnTo>
                  <a:lnTo>
                    <a:pt x="8683" y="91092"/>
                  </a:lnTo>
                  <a:lnTo>
                    <a:pt x="7272" y="88633"/>
                  </a:lnTo>
                  <a:lnTo>
                    <a:pt x="5915" y="86010"/>
                  </a:lnTo>
                  <a:lnTo>
                    <a:pt x="4721" y="83387"/>
                  </a:lnTo>
                  <a:lnTo>
                    <a:pt x="3690" y="80655"/>
                  </a:lnTo>
                  <a:lnTo>
                    <a:pt x="2713" y="77868"/>
                  </a:lnTo>
                  <a:lnTo>
                    <a:pt x="1899" y="74972"/>
                  </a:lnTo>
                  <a:lnTo>
                    <a:pt x="1248" y="72076"/>
                  </a:lnTo>
                  <a:lnTo>
                    <a:pt x="705" y="69125"/>
                  </a:lnTo>
                  <a:lnTo>
                    <a:pt x="325" y="66120"/>
                  </a:lnTo>
                  <a:lnTo>
                    <a:pt x="108" y="63114"/>
                  </a:lnTo>
                  <a:lnTo>
                    <a:pt x="0" y="60054"/>
                  </a:lnTo>
                  <a:lnTo>
                    <a:pt x="108" y="56885"/>
                  </a:lnTo>
                  <a:lnTo>
                    <a:pt x="325" y="53879"/>
                  </a:lnTo>
                  <a:lnTo>
                    <a:pt x="705" y="50874"/>
                  </a:lnTo>
                  <a:lnTo>
                    <a:pt x="1248" y="47923"/>
                  </a:lnTo>
                  <a:lnTo>
                    <a:pt x="1899" y="45027"/>
                  </a:lnTo>
                  <a:lnTo>
                    <a:pt x="2713" y="42131"/>
                  </a:lnTo>
                  <a:lnTo>
                    <a:pt x="3690" y="39344"/>
                  </a:lnTo>
                  <a:lnTo>
                    <a:pt x="4721" y="36666"/>
                  </a:lnTo>
                  <a:lnTo>
                    <a:pt x="5915" y="33989"/>
                  </a:lnTo>
                  <a:lnTo>
                    <a:pt x="7272" y="31366"/>
                  </a:lnTo>
                  <a:lnTo>
                    <a:pt x="8683" y="28907"/>
                  </a:lnTo>
                  <a:lnTo>
                    <a:pt x="10312" y="26502"/>
                  </a:lnTo>
                  <a:lnTo>
                    <a:pt x="11940" y="24098"/>
                  </a:lnTo>
                  <a:lnTo>
                    <a:pt x="13731" y="21857"/>
                  </a:lnTo>
                  <a:lnTo>
                    <a:pt x="15576" y="19672"/>
                  </a:lnTo>
                  <a:lnTo>
                    <a:pt x="17584" y="17595"/>
                  </a:lnTo>
                  <a:lnTo>
                    <a:pt x="19701" y="15628"/>
                  </a:lnTo>
                  <a:lnTo>
                    <a:pt x="21872" y="13715"/>
                  </a:lnTo>
                  <a:lnTo>
                    <a:pt x="24097" y="11967"/>
                  </a:lnTo>
                  <a:lnTo>
                    <a:pt x="26485" y="10218"/>
                  </a:lnTo>
                  <a:lnTo>
                    <a:pt x="28873" y="8688"/>
                  </a:lnTo>
                  <a:lnTo>
                    <a:pt x="31424" y="7267"/>
                  </a:lnTo>
                  <a:lnTo>
                    <a:pt x="34029" y="5956"/>
                  </a:lnTo>
                  <a:lnTo>
                    <a:pt x="36689" y="4754"/>
                  </a:lnTo>
                  <a:lnTo>
                    <a:pt x="39402" y="3661"/>
                  </a:lnTo>
                  <a:lnTo>
                    <a:pt x="42170" y="2732"/>
                  </a:lnTo>
                  <a:lnTo>
                    <a:pt x="44993" y="1912"/>
                  </a:lnTo>
                  <a:lnTo>
                    <a:pt x="47924" y="1256"/>
                  </a:lnTo>
                  <a:lnTo>
                    <a:pt x="50854" y="710"/>
                  </a:lnTo>
                  <a:lnTo>
                    <a:pt x="53894" y="327"/>
                  </a:lnTo>
                  <a:lnTo>
                    <a:pt x="56933" y="109"/>
                  </a:lnTo>
                  <a:lnTo>
                    <a:pt x="60027" y="0"/>
                  </a:lnTo>
                  <a:lnTo>
                    <a:pt x="63066" y="109"/>
                  </a:lnTo>
                  <a:lnTo>
                    <a:pt x="66160" y="327"/>
                  </a:lnTo>
                  <a:lnTo>
                    <a:pt x="69145" y="710"/>
                  </a:lnTo>
                  <a:lnTo>
                    <a:pt x="72130" y="1256"/>
                  </a:lnTo>
                  <a:lnTo>
                    <a:pt x="75006" y="1912"/>
                  </a:lnTo>
                  <a:lnTo>
                    <a:pt x="77829" y="2732"/>
                  </a:lnTo>
                  <a:lnTo>
                    <a:pt x="80651" y="3661"/>
                  </a:lnTo>
                  <a:lnTo>
                    <a:pt x="83364" y="4754"/>
                  </a:lnTo>
                  <a:lnTo>
                    <a:pt x="86024" y="5956"/>
                  </a:lnTo>
                  <a:lnTo>
                    <a:pt x="88575" y="7267"/>
                  </a:lnTo>
                  <a:lnTo>
                    <a:pt x="91126" y="8688"/>
                  </a:lnTo>
                  <a:lnTo>
                    <a:pt x="93568" y="10218"/>
                  </a:lnTo>
                  <a:lnTo>
                    <a:pt x="95902" y="11967"/>
                  </a:lnTo>
                  <a:lnTo>
                    <a:pt x="98181" y="13715"/>
                  </a:lnTo>
                  <a:lnTo>
                    <a:pt x="100352" y="15628"/>
                  </a:lnTo>
                  <a:lnTo>
                    <a:pt x="102415" y="17595"/>
                  </a:lnTo>
                  <a:lnTo>
                    <a:pt x="104423" y="19672"/>
                  </a:lnTo>
                  <a:lnTo>
                    <a:pt x="106322" y="21857"/>
                  </a:lnTo>
                  <a:lnTo>
                    <a:pt x="108113" y="24098"/>
                  </a:lnTo>
                  <a:lnTo>
                    <a:pt x="109742" y="26502"/>
                  </a:lnTo>
                  <a:lnTo>
                    <a:pt x="111316" y="28907"/>
                  </a:lnTo>
                  <a:lnTo>
                    <a:pt x="112781" y="31366"/>
                  </a:lnTo>
                  <a:lnTo>
                    <a:pt x="114138" y="33989"/>
                  </a:lnTo>
                  <a:lnTo>
                    <a:pt x="115278" y="36666"/>
                  </a:lnTo>
                  <a:lnTo>
                    <a:pt x="116363" y="39344"/>
                  </a:lnTo>
                  <a:lnTo>
                    <a:pt x="117286" y="42131"/>
                  </a:lnTo>
                  <a:lnTo>
                    <a:pt x="118154" y="45027"/>
                  </a:lnTo>
                  <a:lnTo>
                    <a:pt x="118751" y="47923"/>
                  </a:lnTo>
                  <a:lnTo>
                    <a:pt x="119294" y="50874"/>
                  </a:lnTo>
                  <a:lnTo>
                    <a:pt x="119728" y="53879"/>
                  </a:lnTo>
                  <a:lnTo>
                    <a:pt x="119945" y="56885"/>
                  </a:lnTo>
                  <a:lnTo>
                    <a:pt x="120000" y="60000"/>
                  </a:lnTo>
                  <a:close/>
                </a:path>
              </a:pathLst>
            </a:custGeom>
            <a:solidFill>
              <a:srgbClr val="9dc3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78" name="任意多边形 278"/>
            <p:cNvSpPr/>
            <p:nvPr/>
          </p:nvSpPr>
          <p:spPr>
            <a:xfrm flipH="1">
              <a:off x="1134360" y="4129200"/>
              <a:ext cx="1987200" cy="2584440"/>
            </a:xfrm>
            <a:custGeom>
              <a:avLst/>
              <a:gdLst/>
              <a:ahLst/>
              <a:rect l="l" t="t" r="r" b="b"/>
              <a:pathLst>
                <a:path w="120000" h="120000">
                  <a:moveTo>
                    <a:pt x="30807" y="117092"/>
                  </a:moveTo>
                  <a:lnTo>
                    <a:pt x="30353" y="115898"/>
                  </a:lnTo>
                  <a:lnTo>
                    <a:pt x="29926" y="114714"/>
                  </a:lnTo>
                  <a:lnTo>
                    <a:pt x="29552" y="113571"/>
                  </a:lnTo>
                  <a:lnTo>
                    <a:pt x="29205" y="112419"/>
                  </a:lnTo>
                  <a:lnTo>
                    <a:pt x="28898" y="111306"/>
                  </a:lnTo>
                  <a:lnTo>
                    <a:pt x="28604" y="110204"/>
                  </a:lnTo>
                  <a:lnTo>
                    <a:pt x="28364" y="109113"/>
                  </a:lnTo>
                  <a:lnTo>
                    <a:pt x="28150" y="108041"/>
                  </a:lnTo>
                  <a:lnTo>
                    <a:pt x="27936" y="106980"/>
                  </a:lnTo>
                  <a:lnTo>
                    <a:pt x="27776" y="105939"/>
                  </a:lnTo>
                  <a:lnTo>
                    <a:pt x="27643" y="104909"/>
                  </a:lnTo>
                  <a:lnTo>
                    <a:pt x="27522" y="103889"/>
                  </a:lnTo>
                  <a:lnTo>
                    <a:pt x="27415" y="102868"/>
                  </a:lnTo>
                  <a:lnTo>
                    <a:pt x="27362" y="101879"/>
                  </a:lnTo>
                  <a:lnTo>
                    <a:pt x="27295" y="100889"/>
                  </a:lnTo>
                  <a:lnTo>
                    <a:pt x="27269" y="99909"/>
                  </a:lnTo>
                  <a:lnTo>
                    <a:pt x="27255" y="98930"/>
                  </a:lnTo>
                  <a:lnTo>
                    <a:pt x="27269" y="97971"/>
                  </a:lnTo>
                  <a:lnTo>
                    <a:pt x="27282" y="97012"/>
                  </a:lnTo>
                  <a:lnTo>
                    <a:pt x="27335" y="96063"/>
                  </a:lnTo>
                  <a:lnTo>
                    <a:pt x="27375" y="95124"/>
                  </a:lnTo>
                  <a:lnTo>
                    <a:pt x="27442" y="94185"/>
                  </a:lnTo>
                  <a:lnTo>
                    <a:pt x="27522" y="93247"/>
                  </a:lnTo>
                  <a:lnTo>
                    <a:pt x="27602" y="92318"/>
                  </a:lnTo>
                  <a:lnTo>
                    <a:pt x="27709" y="91390"/>
                  </a:lnTo>
                  <a:lnTo>
                    <a:pt x="27816" y="90451"/>
                  </a:lnTo>
                  <a:lnTo>
                    <a:pt x="27923" y="89522"/>
                  </a:lnTo>
                  <a:lnTo>
                    <a:pt x="28043" y="88604"/>
                  </a:lnTo>
                  <a:lnTo>
                    <a:pt x="28283" y="86747"/>
                  </a:lnTo>
                  <a:lnTo>
                    <a:pt x="28564" y="84880"/>
                  </a:lnTo>
                  <a:lnTo>
                    <a:pt x="28764" y="83401"/>
                  </a:lnTo>
                  <a:lnTo>
                    <a:pt x="28978" y="81901"/>
                  </a:lnTo>
                  <a:lnTo>
                    <a:pt x="29178" y="80391"/>
                  </a:lnTo>
                  <a:lnTo>
                    <a:pt x="29365" y="78870"/>
                  </a:lnTo>
                  <a:lnTo>
                    <a:pt x="29525" y="77340"/>
                  </a:lnTo>
                  <a:lnTo>
                    <a:pt x="29672" y="75769"/>
                  </a:lnTo>
                  <a:lnTo>
                    <a:pt x="29726" y="74993"/>
                  </a:lnTo>
                  <a:lnTo>
                    <a:pt x="29793" y="74197"/>
                  </a:lnTo>
                  <a:lnTo>
                    <a:pt x="29833" y="73391"/>
                  </a:lnTo>
                  <a:lnTo>
                    <a:pt x="29873" y="72585"/>
                  </a:lnTo>
                  <a:lnTo>
                    <a:pt x="29899" y="71779"/>
                  </a:lnTo>
                  <a:lnTo>
                    <a:pt x="29913" y="70953"/>
                  </a:lnTo>
                  <a:lnTo>
                    <a:pt x="29926" y="70126"/>
                  </a:lnTo>
                  <a:lnTo>
                    <a:pt x="29926" y="69290"/>
                  </a:lnTo>
                  <a:lnTo>
                    <a:pt x="29913" y="68453"/>
                  </a:lnTo>
                  <a:lnTo>
                    <a:pt x="29886" y="67586"/>
                  </a:lnTo>
                  <a:lnTo>
                    <a:pt x="29846" y="66729"/>
                  </a:lnTo>
                  <a:lnTo>
                    <a:pt x="29793" y="65861"/>
                  </a:lnTo>
                  <a:lnTo>
                    <a:pt x="29726" y="64974"/>
                  </a:lnTo>
                  <a:lnTo>
                    <a:pt x="29646" y="64086"/>
                  </a:lnTo>
                  <a:lnTo>
                    <a:pt x="29552" y="63178"/>
                  </a:lnTo>
                  <a:lnTo>
                    <a:pt x="29432" y="62260"/>
                  </a:lnTo>
                  <a:lnTo>
                    <a:pt x="29312" y="61351"/>
                  </a:lnTo>
                  <a:lnTo>
                    <a:pt x="29165" y="60413"/>
                  </a:lnTo>
                  <a:lnTo>
                    <a:pt x="29005" y="59464"/>
                  </a:lnTo>
                  <a:lnTo>
                    <a:pt x="28818" y="58505"/>
                  </a:lnTo>
                  <a:lnTo>
                    <a:pt x="28631" y="57597"/>
                  </a:lnTo>
                  <a:lnTo>
                    <a:pt x="28390" y="56689"/>
                  </a:lnTo>
                  <a:lnTo>
                    <a:pt x="28150" y="55801"/>
                  </a:lnTo>
                  <a:lnTo>
                    <a:pt x="27870" y="54903"/>
                  </a:lnTo>
                  <a:lnTo>
                    <a:pt x="27549" y="54026"/>
                  </a:lnTo>
                  <a:lnTo>
                    <a:pt x="27229" y="53138"/>
                  </a:lnTo>
                  <a:lnTo>
                    <a:pt x="26868" y="52260"/>
                  </a:lnTo>
                  <a:lnTo>
                    <a:pt x="26494" y="51383"/>
                  </a:lnTo>
                  <a:lnTo>
                    <a:pt x="26080" y="50516"/>
                  </a:lnTo>
                  <a:lnTo>
                    <a:pt x="25639" y="49648"/>
                  </a:lnTo>
                  <a:lnTo>
                    <a:pt x="25199" y="48781"/>
                  </a:lnTo>
                  <a:lnTo>
                    <a:pt x="24731" y="47914"/>
                  </a:lnTo>
                  <a:lnTo>
                    <a:pt x="24251" y="47067"/>
                  </a:lnTo>
                  <a:lnTo>
                    <a:pt x="23743" y="46200"/>
                  </a:lnTo>
                  <a:lnTo>
                    <a:pt x="23222" y="45353"/>
                  </a:lnTo>
                  <a:lnTo>
                    <a:pt x="22675" y="44506"/>
                  </a:lnTo>
                  <a:lnTo>
                    <a:pt x="22127" y="43659"/>
                  </a:lnTo>
                  <a:lnTo>
                    <a:pt x="21566" y="42822"/>
                  </a:lnTo>
                  <a:lnTo>
                    <a:pt x="20979" y="41976"/>
                  </a:lnTo>
                  <a:lnTo>
                    <a:pt x="20405" y="41139"/>
                  </a:lnTo>
                  <a:lnTo>
                    <a:pt x="19790" y="40312"/>
                  </a:lnTo>
                  <a:lnTo>
                    <a:pt x="19189" y="39476"/>
                  </a:lnTo>
                  <a:lnTo>
                    <a:pt x="18562" y="38649"/>
                  </a:lnTo>
                  <a:lnTo>
                    <a:pt x="17947" y="37823"/>
                  </a:lnTo>
                  <a:lnTo>
                    <a:pt x="16665" y="36180"/>
                  </a:lnTo>
                  <a:lnTo>
                    <a:pt x="15370" y="34548"/>
                  </a:lnTo>
                  <a:lnTo>
                    <a:pt x="14075" y="32915"/>
                  </a:lnTo>
                  <a:lnTo>
                    <a:pt x="12766" y="31293"/>
                  </a:lnTo>
                  <a:lnTo>
                    <a:pt x="11671" y="29926"/>
                  </a:lnTo>
                  <a:lnTo>
                    <a:pt x="10576" y="28568"/>
                  </a:lnTo>
                  <a:lnTo>
                    <a:pt x="9521" y="27222"/>
                  </a:lnTo>
                  <a:lnTo>
                    <a:pt x="8466" y="25875"/>
                  </a:lnTo>
                  <a:lnTo>
                    <a:pt x="7451" y="24559"/>
                  </a:lnTo>
                  <a:lnTo>
                    <a:pt x="6476" y="23232"/>
                  </a:lnTo>
                  <a:lnTo>
                    <a:pt x="6009" y="22579"/>
                  </a:lnTo>
                  <a:lnTo>
                    <a:pt x="5541" y="21926"/>
                  </a:lnTo>
                  <a:lnTo>
                    <a:pt x="5101" y="21283"/>
                  </a:lnTo>
                  <a:lnTo>
                    <a:pt x="4660" y="20641"/>
                  </a:lnTo>
                  <a:lnTo>
                    <a:pt x="4246" y="19998"/>
                  </a:lnTo>
                  <a:lnTo>
                    <a:pt x="3832" y="19355"/>
                  </a:lnTo>
                  <a:lnTo>
                    <a:pt x="3445" y="18722"/>
                  </a:lnTo>
                  <a:lnTo>
                    <a:pt x="3058" y="18080"/>
                  </a:lnTo>
                  <a:lnTo>
                    <a:pt x="2697" y="17447"/>
                  </a:lnTo>
                  <a:lnTo>
                    <a:pt x="2363" y="16825"/>
                  </a:lnTo>
                  <a:lnTo>
                    <a:pt x="2029" y="16202"/>
                  </a:lnTo>
                  <a:lnTo>
                    <a:pt x="1722" y="15580"/>
                  </a:lnTo>
                  <a:lnTo>
                    <a:pt x="1455" y="14968"/>
                  </a:lnTo>
                  <a:lnTo>
                    <a:pt x="1175" y="14355"/>
                  </a:lnTo>
                  <a:lnTo>
                    <a:pt x="948" y="13733"/>
                  </a:lnTo>
                  <a:lnTo>
                    <a:pt x="707" y="13131"/>
                  </a:lnTo>
                  <a:lnTo>
                    <a:pt x="520" y="12519"/>
                  </a:lnTo>
                  <a:lnTo>
                    <a:pt x="333" y="11927"/>
                  </a:lnTo>
                  <a:lnTo>
                    <a:pt x="186" y="11315"/>
                  </a:lnTo>
                  <a:lnTo>
                    <a:pt x="53" y="10723"/>
                  </a:lnTo>
                  <a:lnTo>
                    <a:pt x="13" y="10468"/>
                  </a:lnTo>
                  <a:lnTo>
                    <a:pt x="0" y="10223"/>
                  </a:lnTo>
                  <a:lnTo>
                    <a:pt x="13" y="9988"/>
                  </a:lnTo>
                  <a:lnTo>
                    <a:pt x="40" y="9754"/>
                  </a:lnTo>
                  <a:lnTo>
                    <a:pt x="80" y="9529"/>
                  </a:lnTo>
                  <a:lnTo>
                    <a:pt x="146" y="9315"/>
                  </a:lnTo>
                  <a:lnTo>
                    <a:pt x="213" y="9111"/>
                  </a:lnTo>
                  <a:lnTo>
                    <a:pt x="320" y="8917"/>
                  </a:lnTo>
                  <a:lnTo>
                    <a:pt x="413" y="8713"/>
                  </a:lnTo>
                  <a:lnTo>
                    <a:pt x="520" y="8540"/>
                  </a:lnTo>
                  <a:lnTo>
                    <a:pt x="654" y="8376"/>
                  </a:lnTo>
                  <a:lnTo>
                    <a:pt x="787" y="8213"/>
                  </a:lnTo>
                  <a:lnTo>
                    <a:pt x="908" y="8050"/>
                  </a:lnTo>
                  <a:lnTo>
                    <a:pt x="1041" y="7907"/>
                  </a:lnTo>
                  <a:lnTo>
                    <a:pt x="1188" y="7774"/>
                  </a:lnTo>
                  <a:lnTo>
                    <a:pt x="1322" y="7662"/>
                  </a:lnTo>
                  <a:lnTo>
                    <a:pt x="1575" y="7448"/>
                  </a:lnTo>
                  <a:lnTo>
                    <a:pt x="1842" y="7254"/>
                  </a:lnTo>
                  <a:lnTo>
                    <a:pt x="2136" y="7050"/>
                  </a:lnTo>
                  <a:lnTo>
                    <a:pt x="2443" y="6876"/>
                  </a:lnTo>
                  <a:lnTo>
                    <a:pt x="2737" y="6713"/>
                  </a:lnTo>
                  <a:lnTo>
                    <a:pt x="3084" y="6550"/>
                  </a:lnTo>
                  <a:lnTo>
                    <a:pt x="3418" y="6407"/>
                  </a:lnTo>
                  <a:lnTo>
                    <a:pt x="3752" y="6274"/>
                  </a:lnTo>
                  <a:lnTo>
                    <a:pt x="4113" y="6162"/>
                  </a:lnTo>
                  <a:lnTo>
                    <a:pt x="4460" y="6060"/>
                  </a:lnTo>
                  <a:lnTo>
                    <a:pt x="4820" y="5968"/>
                  </a:lnTo>
                  <a:lnTo>
                    <a:pt x="5194" y="5897"/>
                  </a:lnTo>
                  <a:lnTo>
                    <a:pt x="5568" y="5836"/>
                  </a:lnTo>
                  <a:lnTo>
                    <a:pt x="5929" y="5795"/>
                  </a:lnTo>
                  <a:lnTo>
                    <a:pt x="6303" y="5775"/>
                  </a:lnTo>
                  <a:lnTo>
                    <a:pt x="6663" y="5764"/>
                  </a:lnTo>
                  <a:lnTo>
                    <a:pt x="6850" y="5764"/>
                  </a:lnTo>
                  <a:lnTo>
                    <a:pt x="7064" y="5775"/>
                  </a:lnTo>
                  <a:lnTo>
                    <a:pt x="7264" y="5785"/>
                  </a:lnTo>
                  <a:lnTo>
                    <a:pt x="7478" y="5805"/>
                  </a:lnTo>
                  <a:lnTo>
                    <a:pt x="7678" y="5836"/>
                  </a:lnTo>
                  <a:lnTo>
                    <a:pt x="7905" y="5866"/>
                  </a:lnTo>
                  <a:lnTo>
                    <a:pt x="8132" y="5928"/>
                  </a:lnTo>
                  <a:lnTo>
                    <a:pt x="8359" y="5979"/>
                  </a:lnTo>
                  <a:lnTo>
                    <a:pt x="8573" y="6050"/>
                  </a:lnTo>
                  <a:lnTo>
                    <a:pt x="8787" y="6132"/>
                  </a:lnTo>
                  <a:lnTo>
                    <a:pt x="9000" y="6223"/>
                  </a:lnTo>
                  <a:lnTo>
                    <a:pt x="9214" y="6336"/>
                  </a:lnTo>
                  <a:lnTo>
                    <a:pt x="9414" y="6458"/>
                  </a:lnTo>
                  <a:lnTo>
                    <a:pt x="9614" y="6591"/>
                  </a:lnTo>
                  <a:lnTo>
                    <a:pt x="9801" y="6744"/>
                  </a:lnTo>
                  <a:lnTo>
                    <a:pt x="9975" y="6917"/>
                  </a:lnTo>
                  <a:lnTo>
                    <a:pt x="10576" y="7550"/>
                  </a:lnTo>
                  <a:lnTo>
                    <a:pt x="11204" y="8223"/>
                  </a:lnTo>
                  <a:lnTo>
                    <a:pt x="11858" y="8938"/>
                  </a:lnTo>
                  <a:lnTo>
                    <a:pt x="12512" y="9703"/>
                  </a:lnTo>
                  <a:lnTo>
                    <a:pt x="13193" y="10478"/>
                  </a:lnTo>
                  <a:lnTo>
                    <a:pt x="13888" y="11294"/>
                  </a:lnTo>
                  <a:lnTo>
                    <a:pt x="14596" y="12131"/>
                  </a:lnTo>
                  <a:lnTo>
                    <a:pt x="15330" y="12988"/>
                  </a:lnTo>
                  <a:lnTo>
                    <a:pt x="16652" y="14559"/>
                  </a:lnTo>
                  <a:lnTo>
                    <a:pt x="18028" y="16161"/>
                  </a:lnTo>
                  <a:lnTo>
                    <a:pt x="18722" y="16978"/>
                  </a:lnTo>
                  <a:lnTo>
                    <a:pt x="19443" y="17784"/>
                  </a:lnTo>
                  <a:lnTo>
                    <a:pt x="20151" y="18590"/>
                  </a:lnTo>
                  <a:lnTo>
                    <a:pt x="20885" y="19396"/>
                  </a:lnTo>
                  <a:lnTo>
                    <a:pt x="21606" y="20192"/>
                  </a:lnTo>
                  <a:lnTo>
                    <a:pt x="22341" y="20967"/>
                  </a:lnTo>
                  <a:lnTo>
                    <a:pt x="23089" y="21753"/>
                  </a:lnTo>
                  <a:lnTo>
                    <a:pt x="23837" y="22518"/>
                  </a:lnTo>
                  <a:lnTo>
                    <a:pt x="24611" y="23263"/>
                  </a:lnTo>
                  <a:lnTo>
                    <a:pt x="25372" y="23987"/>
                  </a:lnTo>
                  <a:lnTo>
                    <a:pt x="26133" y="24712"/>
                  </a:lnTo>
                  <a:lnTo>
                    <a:pt x="26921" y="25395"/>
                  </a:lnTo>
                  <a:lnTo>
                    <a:pt x="27709" y="26069"/>
                  </a:lnTo>
                  <a:lnTo>
                    <a:pt x="28497" y="26701"/>
                  </a:lnTo>
                  <a:lnTo>
                    <a:pt x="29272" y="27314"/>
                  </a:lnTo>
                  <a:lnTo>
                    <a:pt x="30073" y="27885"/>
                  </a:lnTo>
                  <a:lnTo>
                    <a:pt x="30874" y="28436"/>
                  </a:lnTo>
                  <a:lnTo>
                    <a:pt x="31675" y="28946"/>
                  </a:lnTo>
                  <a:lnTo>
                    <a:pt x="32477" y="29415"/>
                  </a:lnTo>
                  <a:lnTo>
                    <a:pt x="33291" y="29844"/>
                  </a:lnTo>
                  <a:lnTo>
                    <a:pt x="34106" y="30232"/>
                  </a:lnTo>
                  <a:lnTo>
                    <a:pt x="34920" y="30589"/>
                  </a:lnTo>
                  <a:lnTo>
                    <a:pt x="35735" y="30885"/>
                  </a:lnTo>
                  <a:lnTo>
                    <a:pt x="36550" y="31130"/>
                  </a:lnTo>
                  <a:lnTo>
                    <a:pt x="37378" y="31323"/>
                  </a:lnTo>
                  <a:lnTo>
                    <a:pt x="38192" y="31466"/>
                  </a:lnTo>
                  <a:lnTo>
                    <a:pt x="39020" y="31558"/>
                  </a:lnTo>
                  <a:lnTo>
                    <a:pt x="39821" y="31589"/>
                  </a:lnTo>
                  <a:lnTo>
                    <a:pt x="40222" y="31578"/>
                  </a:lnTo>
                  <a:lnTo>
                    <a:pt x="40609" y="31558"/>
                  </a:lnTo>
                  <a:lnTo>
                    <a:pt x="41010" y="31527"/>
                  </a:lnTo>
                  <a:lnTo>
                    <a:pt x="41384" y="31476"/>
                  </a:lnTo>
                  <a:lnTo>
                    <a:pt x="41571" y="31446"/>
                  </a:lnTo>
                  <a:lnTo>
                    <a:pt x="41771" y="31405"/>
                  </a:lnTo>
                  <a:lnTo>
                    <a:pt x="41958" y="31364"/>
                  </a:lnTo>
                  <a:lnTo>
                    <a:pt x="42172" y="31303"/>
                  </a:lnTo>
                  <a:lnTo>
                    <a:pt x="42586" y="31181"/>
                  </a:lnTo>
                  <a:lnTo>
                    <a:pt x="43013" y="31038"/>
                  </a:lnTo>
                  <a:lnTo>
                    <a:pt x="43427" y="30874"/>
                  </a:lnTo>
                  <a:lnTo>
                    <a:pt x="43868" y="30691"/>
                  </a:lnTo>
                  <a:lnTo>
                    <a:pt x="44295" y="30487"/>
                  </a:lnTo>
                  <a:lnTo>
                    <a:pt x="44722" y="30293"/>
                  </a:lnTo>
                  <a:lnTo>
                    <a:pt x="45136" y="30068"/>
                  </a:lnTo>
                  <a:lnTo>
                    <a:pt x="45550" y="29844"/>
                  </a:lnTo>
                  <a:lnTo>
                    <a:pt x="45951" y="29630"/>
                  </a:lnTo>
                  <a:lnTo>
                    <a:pt x="46338" y="29405"/>
                  </a:lnTo>
                  <a:lnTo>
                    <a:pt x="47033" y="28987"/>
                  </a:lnTo>
                  <a:lnTo>
                    <a:pt x="47660" y="28599"/>
                  </a:lnTo>
                  <a:lnTo>
                    <a:pt x="47727" y="28568"/>
                  </a:lnTo>
                  <a:lnTo>
                    <a:pt x="48275" y="28201"/>
                  </a:lnTo>
                  <a:lnTo>
                    <a:pt x="48809" y="27824"/>
                  </a:lnTo>
                  <a:lnTo>
                    <a:pt x="49356" y="27426"/>
                  </a:lnTo>
                  <a:lnTo>
                    <a:pt x="49917" y="26987"/>
                  </a:lnTo>
                  <a:lnTo>
                    <a:pt x="50465" y="26538"/>
                  </a:lnTo>
                  <a:lnTo>
                    <a:pt x="51026" y="26069"/>
                  </a:lnTo>
                  <a:lnTo>
                    <a:pt x="51600" y="25569"/>
                  </a:lnTo>
                  <a:lnTo>
                    <a:pt x="52161" y="25059"/>
                  </a:lnTo>
                  <a:lnTo>
                    <a:pt x="52735" y="24528"/>
                  </a:lnTo>
                  <a:lnTo>
                    <a:pt x="53296" y="23987"/>
                  </a:lnTo>
                  <a:lnTo>
                    <a:pt x="53870" y="23426"/>
                  </a:lnTo>
                  <a:lnTo>
                    <a:pt x="54444" y="22855"/>
                  </a:lnTo>
                  <a:lnTo>
                    <a:pt x="55018" y="22273"/>
                  </a:lnTo>
                  <a:lnTo>
                    <a:pt x="55593" y="21661"/>
                  </a:lnTo>
                  <a:lnTo>
                    <a:pt x="56167" y="21049"/>
                  </a:lnTo>
                  <a:lnTo>
                    <a:pt x="56741" y="20416"/>
                  </a:lnTo>
                  <a:lnTo>
                    <a:pt x="57890" y="19151"/>
                  </a:lnTo>
                  <a:lnTo>
                    <a:pt x="59051" y="17835"/>
                  </a:lnTo>
                  <a:lnTo>
                    <a:pt x="60200" y="16488"/>
                  </a:lnTo>
                  <a:lnTo>
                    <a:pt x="61335" y="15151"/>
                  </a:lnTo>
                  <a:lnTo>
                    <a:pt x="62470" y="13774"/>
                  </a:lnTo>
                  <a:lnTo>
                    <a:pt x="63592" y="12427"/>
                  </a:lnTo>
                  <a:lnTo>
                    <a:pt x="64687" y="11070"/>
                  </a:lnTo>
                  <a:lnTo>
                    <a:pt x="65782" y="9723"/>
                  </a:lnTo>
                  <a:lnTo>
                    <a:pt x="66276" y="9121"/>
                  </a:lnTo>
                  <a:lnTo>
                    <a:pt x="66757" y="8529"/>
                  </a:lnTo>
                  <a:lnTo>
                    <a:pt x="67237" y="7938"/>
                  </a:lnTo>
                  <a:lnTo>
                    <a:pt x="67718" y="7356"/>
                  </a:lnTo>
                  <a:lnTo>
                    <a:pt x="68172" y="6785"/>
                  </a:lnTo>
                  <a:lnTo>
                    <a:pt x="68640" y="6213"/>
                  </a:lnTo>
                  <a:lnTo>
                    <a:pt x="69107" y="5662"/>
                  </a:lnTo>
                  <a:lnTo>
                    <a:pt x="69574" y="5111"/>
                  </a:lnTo>
                  <a:lnTo>
                    <a:pt x="70028" y="4581"/>
                  </a:lnTo>
                  <a:lnTo>
                    <a:pt x="70456" y="4050"/>
                  </a:lnTo>
                  <a:lnTo>
                    <a:pt x="70896" y="3540"/>
                  </a:lnTo>
                  <a:lnTo>
                    <a:pt x="71337" y="3050"/>
                  </a:lnTo>
                  <a:lnTo>
                    <a:pt x="71751" y="2561"/>
                  </a:lnTo>
                  <a:lnTo>
                    <a:pt x="72165" y="2091"/>
                  </a:lnTo>
                  <a:lnTo>
                    <a:pt x="72566" y="1642"/>
                  </a:lnTo>
                  <a:lnTo>
                    <a:pt x="72980" y="1203"/>
                  </a:lnTo>
                  <a:lnTo>
                    <a:pt x="73100" y="1061"/>
                  </a:lnTo>
                  <a:lnTo>
                    <a:pt x="73260" y="928"/>
                  </a:lnTo>
                  <a:lnTo>
                    <a:pt x="73420" y="806"/>
                  </a:lnTo>
                  <a:lnTo>
                    <a:pt x="73594" y="683"/>
                  </a:lnTo>
                  <a:lnTo>
                    <a:pt x="73794" y="591"/>
                  </a:lnTo>
                  <a:lnTo>
                    <a:pt x="73981" y="489"/>
                  </a:lnTo>
                  <a:lnTo>
                    <a:pt x="74182" y="387"/>
                  </a:lnTo>
                  <a:lnTo>
                    <a:pt x="74395" y="316"/>
                  </a:lnTo>
                  <a:lnTo>
                    <a:pt x="74622" y="244"/>
                  </a:lnTo>
                  <a:lnTo>
                    <a:pt x="74849" y="183"/>
                  </a:lnTo>
                  <a:lnTo>
                    <a:pt x="75090" y="122"/>
                  </a:lnTo>
                  <a:lnTo>
                    <a:pt x="75343" y="81"/>
                  </a:lnTo>
                  <a:lnTo>
                    <a:pt x="75584" y="51"/>
                  </a:lnTo>
                  <a:lnTo>
                    <a:pt x="75851" y="30"/>
                  </a:lnTo>
                  <a:lnTo>
                    <a:pt x="76131" y="0"/>
                  </a:lnTo>
                  <a:lnTo>
                    <a:pt x="76398" y="0"/>
                  </a:lnTo>
                  <a:lnTo>
                    <a:pt x="76786" y="10"/>
                  </a:lnTo>
                  <a:lnTo>
                    <a:pt x="77160" y="40"/>
                  </a:lnTo>
                  <a:lnTo>
                    <a:pt x="77533" y="81"/>
                  </a:lnTo>
                  <a:lnTo>
                    <a:pt x="77921" y="132"/>
                  </a:lnTo>
                  <a:lnTo>
                    <a:pt x="78281" y="214"/>
                  </a:lnTo>
                  <a:lnTo>
                    <a:pt x="78655" y="306"/>
                  </a:lnTo>
                  <a:lnTo>
                    <a:pt x="79016" y="397"/>
                  </a:lnTo>
                  <a:lnTo>
                    <a:pt x="79376" y="510"/>
                  </a:lnTo>
                  <a:lnTo>
                    <a:pt x="79737" y="642"/>
                  </a:lnTo>
                  <a:lnTo>
                    <a:pt x="80071" y="785"/>
                  </a:lnTo>
                  <a:lnTo>
                    <a:pt x="80405" y="938"/>
                  </a:lnTo>
                  <a:lnTo>
                    <a:pt x="80725" y="1101"/>
                  </a:lnTo>
                  <a:lnTo>
                    <a:pt x="81006" y="1295"/>
                  </a:lnTo>
                  <a:lnTo>
                    <a:pt x="81299" y="1479"/>
                  </a:lnTo>
                  <a:lnTo>
                    <a:pt x="81580" y="1683"/>
                  </a:lnTo>
                  <a:lnTo>
                    <a:pt x="81820" y="1887"/>
                  </a:lnTo>
                  <a:lnTo>
                    <a:pt x="81954" y="2010"/>
                  </a:lnTo>
                  <a:lnTo>
                    <a:pt x="82087" y="2142"/>
                  </a:lnTo>
                  <a:lnTo>
                    <a:pt x="82221" y="2275"/>
                  </a:lnTo>
                  <a:lnTo>
                    <a:pt x="82341" y="2428"/>
                  </a:lnTo>
                  <a:lnTo>
                    <a:pt x="82461" y="2581"/>
                  </a:lnTo>
                  <a:lnTo>
                    <a:pt x="82581" y="2734"/>
                  </a:lnTo>
                  <a:lnTo>
                    <a:pt x="82675" y="2918"/>
                  </a:lnTo>
                  <a:lnTo>
                    <a:pt x="82782" y="3091"/>
                  </a:lnTo>
                  <a:lnTo>
                    <a:pt x="82875" y="3295"/>
                  </a:lnTo>
                  <a:lnTo>
                    <a:pt x="82942" y="3479"/>
                  </a:lnTo>
                  <a:lnTo>
                    <a:pt x="82995" y="3683"/>
                  </a:lnTo>
                  <a:lnTo>
                    <a:pt x="83049" y="3897"/>
                  </a:lnTo>
                  <a:lnTo>
                    <a:pt x="83062" y="4122"/>
                  </a:lnTo>
                  <a:lnTo>
                    <a:pt x="83062" y="4346"/>
                  </a:lnTo>
                  <a:lnTo>
                    <a:pt x="83049" y="4591"/>
                  </a:lnTo>
                  <a:lnTo>
                    <a:pt x="83009" y="4836"/>
                  </a:lnTo>
                  <a:lnTo>
                    <a:pt x="82835" y="5611"/>
                  </a:lnTo>
                  <a:lnTo>
                    <a:pt x="82635" y="6377"/>
                  </a:lnTo>
                  <a:lnTo>
                    <a:pt x="82421" y="7142"/>
                  </a:lnTo>
                  <a:lnTo>
                    <a:pt x="82181" y="7897"/>
                  </a:lnTo>
                  <a:lnTo>
                    <a:pt x="81927" y="8662"/>
                  </a:lnTo>
                  <a:lnTo>
                    <a:pt x="81633" y="9407"/>
                  </a:lnTo>
                  <a:lnTo>
                    <a:pt x="81326" y="10152"/>
                  </a:lnTo>
                  <a:lnTo>
                    <a:pt x="81006" y="10897"/>
                  </a:lnTo>
                  <a:lnTo>
                    <a:pt x="80672" y="11631"/>
                  </a:lnTo>
                  <a:lnTo>
                    <a:pt x="80311" y="12366"/>
                  </a:lnTo>
                  <a:lnTo>
                    <a:pt x="79951" y="13090"/>
                  </a:lnTo>
                  <a:lnTo>
                    <a:pt x="79563" y="13815"/>
                  </a:lnTo>
                  <a:lnTo>
                    <a:pt x="79163" y="14529"/>
                  </a:lnTo>
                  <a:lnTo>
                    <a:pt x="78749" y="15233"/>
                  </a:lnTo>
                  <a:lnTo>
                    <a:pt x="78321" y="15947"/>
                  </a:lnTo>
                  <a:lnTo>
                    <a:pt x="77881" y="16651"/>
                  </a:lnTo>
                  <a:lnTo>
                    <a:pt x="77440" y="17345"/>
                  </a:lnTo>
                  <a:lnTo>
                    <a:pt x="76986" y="18039"/>
                  </a:lnTo>
                  <a:lnTo>
                    <a:pt x="76519" y="18733"/>
                  </a:lnTo>
                  <a:lnTo>
                    <a:pt x="76038" y="19406"/>
                  </a:lnTo>
                  <a:lnTo>
                    <a:pt x="75557" y="20090"/>
                  </a:lnTo>
                  <a:lnTo>
                    <a:pt x="75063" y="20763"/>
                  </a:lnTo>
                  <a:lnTo>
                    <a:pt x="74582" y="21426"/>
                  </a:lnTo>
                  <a:lnTo>
                    <a:pt x="74088" y="22079"/>
                  </a:lnTo>
                  <a:lnTo>
                    <a:pt x="73087" y="23395"/>
                  </a:lnTo>
                  <a:lnTo>
                    <a:pt x="72085" y="24691"/>
                  </a:lnTo>
                  <a:lnTo>
                    <a:pt x="71083" y="25956"/>
                  </a:lnTo>
                  <a:lnTo>
                    <a:pt x="70082" y="27201"/>
                  </a:lnTo>
                  <a:lnTo>
                    <a:pt x="68947" y="28640"/>
                  </a:lnTo>
                  <a:lnTo>
                    <a:pt x="67825" y="30048"/>
                  </a:lnTo>
                  <a:lnTo>
                    <a:pt x="67291" y="30742"/>
                  </a:lnTo>
                  <a:lnTo>
                    <a:pt x="66770" y="31425"/>
                  </a:lnTo>
                  <a:lnTo>
                    <a:pt x="66263" y="32109"/>
                  </a:lnTo>
                  <a:lnTo>
                    <a:pt x="65768" y="32782"/>
                  </a:lnTo>
                  <a:lnTo>
                    <a:pt x="65288" y="33456"/>
                  </a:lnTo>
                  <a:lnTo>
                    <a:pt x="64834" y="34119"/>
                  </a:lnTo>
                  <a:lnTo>
                    <a:pt x="64406" y="34772"/>
                  </a:lnTo>
                  <a:lnTo>
                    <a:pt x="63979" y="35415"/>
                  </a:lnTo>
                  <a:lnTo>
                    <a:pt x="63592" y="36058"/>
                  </a:lnTo>
                  <a:lnTo>
                    <a:pt x="63218" y="36690"/>
                  </a:lnTo>
                  <a:lnTo>
                    <a:pt x="62884" y="37313"/>
                  </a:lnTo>
                  <a:lnTo>
                    <a:pt x="62563" y="37935"/>
                  </a:lnTo>
                  <a:lnTo>
                    <a:pt x="62296" y="38537"/>
                  </a:lnTo>
                  <a:lnTo>
                    <a:pt x="62043" y="39149"/>
                  </a:lnTo>
                  <a:lnTo>
                    <a:pt x="61829" y="39741"/>
                  </a:lnTo>
                  <a:lnTo>
                    <a:pt x="61655" y="40323"/>
                  </a:lnTo>
                  <a:lnTo>
                    <a:pt x="61522" y="40914"/>
                  </a:lnTo>
                  <a:lnTo>
                    <a:pt x="61402" y="41486"/>
                  </a:lnTo>
                  <a:lnTo>
                    <a:pt x="61348" y="42047"/>
                  </a:lnTo>
                  <a:lnTo>
                    <a:pt x="61335" y="42598"/>
                  </a:lnTo>
                  <a:lnTo>
                    <a:pt x="61348" y="43149"/>
                  </a:lnTo>
                  <a:lnTo>
                    <a:pt x="61402" y="43690"/>
                  </a:lnTo>
                  <a:lnTo>
                    <a:pt x="61522" y="44220"/>
                  </a:lnTo>
                  <a:lnTo>
                    <a:pt x="61682" y="44741"/>
                  </a:lnTo>
                  <a:lnTo>
                    <a:pt x="61896" y="45251"/>
                  </a:lnTo>
                  <a:lnTo>
                    <a:pt x="62150" y="45761"/>
                  </a:lnTo>
                  <a:lnTo>
                    <a:pt x="62470" y="46261"/>
                  </a:lnTo>
                  <a:lnTo>
                    <a:pt x="62831" y="46740"/>
                  </a:lnTo>
                  <a:lnTo>
                    <a:pt x="63124" y="47077"/>
                  </a:lnTo>
                  <a:lnTo>
                    <a:pt x="63432" y="47393"/>
                  </a:lnTo>
                  <a:lnTo>
                    <a:pt x="63752" y="47689"/>
                  </a:lnTo>
                  <a:lnTo>
                    <a:pt x="64086" y="47995"/>
                  </a:lnTo>
                  <a:lnTo>
                    <a:pt x="64433" y="48281"/>
                  </a:lnTo>
                  <a:lnTo>
                    <a:pt x="64780" y="48557"/>
                  </a:lnTo>
                  <a:lnTo>
                    <a:pt x="65154" y="48822"/>
                  </a:lnTo>
                  <a:lnTo>
                    <a:pt x="65555" y="49057"/>
                  </a:lnTo>
                  <a:lnTo>
                    <a:pt x="65955" y="49301"/>
                  </a:lnTo>
                  <a:lnTo>
                    <a:pt x="66383" y="49536"/>
                  </a:lnTo>
                  <a:lnTo>
                    <a:pt x="66810" y="49771"/>
                  </a:lnTo>
                  <a:lnTo>
                    <a:pt x="67251" y="49975"/>
                  </a:lnTo>
                  <a:lnTo>
                    <a:pt x="67718" y="50179"/>
                  </a:lnTo>
                  <a:lnTo>
                    <a:pt x="68199" y="50363"/>
                  </a:lnTo>
                  <a:lnTo>
                    <a:pt x="68693" y="50536"/>
                  </a:lnTo>
                  <a:lnTo>
                    <a:pt x="69200" y="50720"/>
                  </a:lnTo>
                  <a:lnTo>
                    <a:pt x="69721" y="50873"/>
                  </a:lnTo>
                  <a:lnTo>
                    <a:pt x="70255" y="51016"/>
                  </a:lnTo>
                  <a:lnTo>
                    <a:pt x="70803" y="51158"/>
                  </a:lnTo>
                  <a:lnTo>
                    <a:pt x="71377" y="51281"/>
                  </a:lnTo>
                  <a:lnTo>
                    <a:pt x="71951" y="51403"/>
                  </a:lnTo>
                  <a:lnTo>
                    <a:pt x="72552" y="51505"/>
                  </a:lnTo>
                  <a:lnTo>
                    <a:pt x="73180" y="51607"/>
                  </a:lnTo>
                  <a:lnTo>
                    <a:pt x="73808" y="51689"/>
                  </a:lnTo>
                  <a:lnTo>
                    <a:pt x="74435" y="51760"/>
                  </a:lnTo>
                  <a:lnTo>
                    <a:pt x="75116" y="51832"/>
                  </a:lnTo>
                  <a:lnTo>
                    <a:pt x="75784" y="51883"/>
                  </a:lnTo>
                  <a:lnTo>
                    <a:pt x="76478" y="51924"/>
                  </a:lnTo>
                  <a:lnTo>
                    <a:pt x="77173" y="51975"/>
                  </a:lnTo>
                  <a:lnTo>
                    <a:pt x="77894" y="51995"/>
                  </a:lnTo>
                  <a:lnTo>
                    <a:pt x="78642" y="52005"/>
                  </a:lnTo>
                  <a:lnTo>
                    <a:pt x="79403" y="52015"/>
                  </a:lnTo>
                  <a:lnTo>
                    <a:pt x="80178" y="52005"/>
                  </a:lnTo>
                  <a:lnTo>
                    <a:pt x="80979" y="51995"/>
                  </a:lnTo>
                  <a:lnTo>
                    <a:pt x="81780" y="51964"/>
                  </a:lnTo>
                  <a:lnTo>
                    <a:pt x="82595" y="51924"/>
                  </a:lnTo>
                  <a:lnTo>
                    <a:pt x="83396" y="51883"/>
                  </a:lnTo>
                  <a:lnTo>
                    <a:pt x="84224" y="51832"/>
                  </a:lnTo>
                  <a:lnTo>
                    <a:pt x="85038" y="51771"/>
                  </a:lnTo>
                  <a:lnTo>
                    <a:pt x="85866" y="51699"/>
                  </a:lnTo>
                  <a:lnTo>
                    <a:pt x="86694" y="51618"/>
                  </a:lnTo>
                  <a:lnTo>
                    <a:pt x="87522" y="51546"/>
                  </a:lnTo>
                  <a:lnTo>
                    <a:pt x="88364" y="51444"/>
                  </a:lnTo>
                  <a:lnTo>
                    <a:pt x="89192" y="51342"/>
                  </a:lnTo>
                  <a:lnTo>
                    <a:pt x="90861" y="51138"/>
                  </a:lnTo>
                  <a:lnTo>
                    <a:pt x="92530" y="50903"/>
                  </a:lnTo>
                  <a:lnTo>
                    <a:pt x="94186" y="50648"/>
                  </a:lnTo>
                  <a:lnTo>
                    <a:pt x="95829" y="50383"/>
                  </a:lnTo>
                  <a:lnTo>
                    <a:pt x="97471" y="50107"/>
                  </a:lnTo>
                  <a:lnTo>
                    <a:pt x="99087" y="49822"/>
                  </a:lnTo>
                  <a:lnTo>
                    <a:pt x="100676" y="49536"/>
                  </a:lnTo>
                  <a:lnTo>
                    <a:pt x="102225" y="49250"/>
                  </a:lnTo>
                  <a:lnTo>
                    <a:pt x="103734" y="48955"/>
                  </a:lnTo>
                  <a:lnTo>
                    <a:pt x="105217" y="48679"/>
                  </a:lnTo>
                  <a:lnTo>
                    <a:pt x="106552" y="48424"/>
                  </a:lnTo>
                  <a:lnTo>
                    <a:pt x="107847" y="48169"/>
                  </a:lnTo>
                  <a:lnTo>
                    <a:pt x="109089" y="47934"/>
                  </a:lnTo>
                  <a:lnTo>
                    <a:pt x="110278" y="47730"/>
                  </a:lnTo>
                  <a:lnTo>
                    <a:pt x="111399" y="47526"/>
                  </a:lnTo>
                  <a:lnTo>
                    <a:pt x="112468" y="47353"/>
                  </a:lnTo>
                  <a:lnTo>
                    <a:pt x="113469" y="47200"/>
                  </a:lnTo>
                  <a:lnTo>
                    <a:pt x="114431" y="47067"/>
                  </a:lnTo>
                  <a:lnTo>
                    <a:pt x="114578" y="47057"/>
                  </a:lnTo>
                  <a:lnTo>
                    <a:pt x="114738" y="47047"/>
                  </a:lnTo>
                  <a:lnTo>
                    <a:pt x="114885" y="47036"/>
                  </a:lnTo>
                  <a:lnTo>
                    <a:pt x="115032" y="47036"/>
                  </a:lnTo>
                  <a:lnTo>
                    <a:pt x="115232" y="47036"/>
                  </a:lnTo>
                  <a:lnTo>
                    <a:pt x="115432" y="47057"/>
                  </a:lnTo>
                  <a:lnTo>
                    <a:pt x="115633" y="47077"/>
                  </a:lnTo>
                  <a:lnTo>
                    <a:pt x="115833" y="47098"/>
                  </a:lnTo>
                  <a:lnTo>
                    <a:pt x="116020" y="47138"/>
                  </a:lnTo>
                  <a:lnTo>
                    <a:pt x="116207" y="47189"/>
                  </a:lnTo>
                  <a:lnTo>
                    <a:pt x="116394" y="47240"/>
                  </a:lnTo>
                  <a:lnTo>
                    <a:pt x="116581" y="47291"/>
                  </a:lnTo>
                  <a:lnTo>
                    <a:pt x="116754" y="47363"/>
                  </a:lnTo>
                  <a:lnTo>
                    <a:pt x="116928" y="47444"/>
                  </a:lnTo>
                  <a:lnTo>
                    <a:pt x="117088" y="47516"/>
                  </a:lnTo>
                  <a:lnTo>
                    <a:pt x="117262" y="47608"/>
                  </a:lnTo>
                  <a:lnTo>
                    <a:pt x="117422" y="47689"/>
                  </a:lnTo>
                  <a:lnTo>
                    <a:pt x="117582" y="47791"/>
                  </a:lnTo>
                  <a:lnTo>
                    <a:pt x="117729" y="47893"/>
                  </a:lnTo>
                  <a:lnTo>
                    <a:pt x="117876" y="47995"/>
                  </a:lnTo>
                  <a:lnTo>
                    <a:pt x="118170" y="48220"/>
                  </a:lnTo>
                  <a:lnTo>
                    <a:pt x="118424" y="48465"/>
                  </a:lnTo>
                  <a:lnTo>
                    <a:pt x="118677" y="48720"/>
                  </a:lnTo>
                  <a:lnTo>
                    <a:pt x="118904" y="48985"/>
                  </a:lnTo>
                  <a:lnTo>
                    <a:pt x="119105" y="49261"/>
                  </a:lnTo>
                  <a:lnTo>
                    <a:pt x="119305" y="49536"/>
                  </a:lnTo>
                  <a:lnTo>
                    <a:pt x="119465" y="49822"/>
                  </a:lnTo>
                  <a:lnTo>
                    <a:pt x="119586" y="50107"/>
                  </a:lnTo>
                  <a:lnTo>
                    <a:pt x="119719" y="50403"/>
                  </a:lnTo>
                  <a:lnTo>
                    <a:pt x="119826" y="50720"/>
                  </a:lnTo>
                  <a:lnTo>
                    <a:pt x="119893" y="51036"/>
                  </a:lnTo>
                  <a:lnTo>
                    <a:pt x="119959" y="51352"/>
                  </a:lnTo>
                  <a:lnTo>
                    <a:pt x="119986" y="51689"/>
                  </a:lnTo>
                  <a:lnTo>
                    <a:pt x="120000" y="52015"/>
                  </a:lnTo>
                  <a:lnTo>
                    <a:pt x="119986" y="52179"/>
                  </a:lnTo>
                  <a:lnTo>
                    <a:pt x="119973" y="52352"/>
                  </a:lnTo>
                  <a:lnTo>
                    <a:pt x="119946" y="52515"/>
                  </a:lnTo>
                  <a:lnTo>
                    <a:pt x="119906" y="52679"/>
                  </a:lnTo>
                  <a:lnTo>
                    <a:pt x="119866" y="52842"/>
                  </a:lnTo>
                  <a:lnTo>
                    <a:pt x="119826" y="53005"/>
                  </a:lnTo>
                  <a:lnTo>
                    <a:pt x="119759" y="53179"/>
                  </a:lnTo>
                  <a:lnTo>
                    <a:pt x="119692" y="53332"/>
                  </a:lnTo>
                  <a:lnTo>
                    <a:pt x="119626" y="53495"/>
                  </a:lnTo>
                  <a:lnTo>
                    <a:pt x="119532" y="53648"/>
                  </a:lnTo>
                  <a:lnTo>
                    <a:pt x="119425" y="53801"/>
                  </a:lnTo>
                  <a:lnTo>
                    <a:pt x="119332" y="53954"/>
                  </a:lnTo>
                  <a:lnTo>
                    <a:pt x="119212" y="54097"/>
                  </a:lnTo>
                  <a:lnTo>
                    <a:pt x="119078" y="54240"/>
                  </a:lnTo>
                  <a:lnTo>
                    <a:pt x="118958" y="54393"/>
                  </a:lnTo>
                  <a:lnTo>
                    <a:pt x="118798" y="54536"/>
                  </a:lnTo>
                  <a:lnTo>
                    <a:pt x="118637" y="54668"/>
                  </a:lnTo>
                  <a:lnTo>
                    <a:pt x="118464" y="54791"/>
                  </a:lnTo>
                  <a:lnTo>
                    <a:pt x="118277" y="54913"/>
                  </a:lnTo>
                  <a:lnTo>
                    <a:pt x="118077" y="55036"/>
                  </a:lnTo>
                  <a:lnTo>
                    <a:pt x="117329" y="55464"/>
                  </a:lnTo>
                  <a:lnTo>
                    <a:pt x="116567" y="55862"/>
                  </a:lnTo>
                  <a:lnTo>
                    <a:pt x="115780" y="56240"/>
                  </a:lnTo>
                  <a:lnTo>
                    <a:pt x="115005" y="56607"/>
                  </a:lnTo>
                  <a:lnTo>
                    <a:pt x="114204" y="56944"/>
                  </a:lnTo>
                  <a:lnTo>
                    <a:pt x="113403" y="57280"/>
                  </a:lnTo>
                  <a:lnTo>
                    <a:pt x="112575" y="57586"/>
                  </a:lnTo>
                  <a:lnTo>
                    <a:pt x="111747" y="57872"/>
                  </a:lnTo>
                  <a:lnTo>
                    <a:pt x="110919" y="58148"/>
                  </a:lnTo>
                  <a:lnTo>
                    <a:pt x="110064" y="58403"/>
                  </a:lnTo>
                  <a:lnTo>
                    <a:pt x="109196" y="58658"/>
                  </a:lnTo>
                  <a:lnTo>
                    <a:pt x="108328" y="58872"/>
                  </a:lnTo>
                  <a:lnTo>
                    <a:pt x="107460" y="59097"/>
                  </a:lnTo>
                  <a:lnTo>
                    <a:pt x="106565" y="59311"/>
                  </a:lnTo>
                  <a:lnTo>
                    <a:pt x="105671" y="59494"/>
                  </a:lnTo>
                  <a:lnTo>
                    <a:pt x="104762" y="59678"/>
                  </a:lnTo>
                  <a:lnTo>
                    <a:pt x="103854" y="59852"/>
                  </a:lnTo>
                  <a:lnTo>
                    <a:pt x="102933" y="60015"/>
                  </a:lnTo>
                  <a:lnTo>
                    <a:pt x="102012" y="60158"/>
                  </a:lnTo>
                  <a:lnTo>
                    <a:pt x="101077" y="60300"/>
                  </a:lnTo>
                  <a:lnTo>
                    <a:pt x="100129" y="60443"/>
                  </a:lnTo>
                  <a:lnTo>
                    <a:pt x="99194" y="60566"/>
                  </a:lnTo>
                  <a:lnTo>
                    <a:pt x="98232" y="60688"/>
                  </a:lnTo>
                  <a:lnTo>
                    <a:pt x="97271" y="60811"/>
                  </a:lnTo>
                  <a:lnTo>
                    <a:pt x="95334" y="61015"/>
                  </a:lnTo>
                  <a:lnTo>
                    <a:pt x="93371" y="61229"/>
                  </a:lnTo>
                  <a:lnTo>
                    <a:pt x="91395" y="61413"/>
                  </a:lnTo>
                  <a:lnTo>
                    <a:pt x="89405" y="61596"/>
                  </a:lnTo>
                  <a:lnTo>
                    <a:pt x="86921" y="61841"/>
                  </a:lnTo>
                  <a:lnTo>
                    <a:pt x="84451" y="62086"/>
                  </a:lnTo>
                  <a:lnTo>
                    <a:pt x="83209" y="62219"/>
                  </a:lnTo>
                  <a:lnTo>
                    <a:pt x="81967" y="62351"/>
                  </a:lnTo>
                  <a:lnTo>
                    <a:pt x="80738" y="62504"/>
                  </a:lnTo>
                  <a:lnTo>
                    <a:pt x="79496" y="62657"/>
                  </a:lnTo>
                  <a:lnTo>
                    <a:pt x="78281" y="62821"/>
                  </a:lnTo>
                  <a:lnTo>
                    <a:pt x="77053" y="63015"/>
                  </a:lnTo>
                  <a:lnTo>
                    <a:pt x="75837" y="63208"/>
                  </a:lnTo>
                  <a:lnTo>
                    <a:pt x="74636" y="63423"/>
                  </a:lnTo>
                  <a:lnTo>
                    <a:pt x="73434" y="63637"/>
                  </a:lnTo>
                  <a:lnTo>
                    <a:pt x="72245" y="63892"/>
                  </a:lnTo>
                  <a:lnTo>
                    <a:pt x="71070" y="64157"/>
                  </a:lnTo>
                  <a:lnTo>
                    <a:pt x="69908" y="64443"/>
                  </a:lnTo>
                  <a:lnTo>
                    <a:pt x="68746" y="64759"/>
                  </a:lnTo>
                  <a:lnTo>
                    <a:pt x="67611" y="65086"/>
                  </a:lnTo>
                  <a:lnTo>
                    <a:pt x="66476" y="65453"/>
                  </a:lnTo>
                  <a:lnTo>
                    <a:pt x="65368" y="65841"/>
                  </a:lnTo>
                  <a:lnTo>
                    <a:pt x="64273" y="66249"/>
                  </a:lnTo>
                  <a:lnTo>
                    <a:pt x="63191" y="66688"/>
                  </a:lnTo>
                  <a:lnTo>
                    <a:pt x="62136" y="67157"/>
                  </a:lnTo>
                  <a:lnTo>
                    <a:pt x="61081" y="67667"/>
                  </a:lnTo>
                  <a:lnTo>
                    <a:pt x="60066" y="68208"/>
                  </a:lnTo>
                  <a:lnTo>
                    <a:pt x="59065" y="68779"/>
                  </a:lnTo>
                  <a:lnTo>
                    <a:pt x="58090" y="69392"/>
                  </a:lnTo>
                  <a:lnTo>
                    <a:pt x="57128" y="70034"/>
                  </a:lnTo>
                  <a:lnTo>
                    <a:pt x="56194" y="70728"/>
                  </a:lnTo>
                  <a:lnTo>
                    <a:pt x="55286" y="71463"/>
                  </a:lnTo>
                  <a:lnTo>
                    <a:pt x="54404" y="72218"/>
                  </a:lnTo>
                  <a:lnTo>
                    <a:pt x="53549" y="73034"/>
                  </a:lnTo>
                  <a:lnTo>
                    <a:pt x="52388" y="74401"/>
                  </a:lnTo>
                  <a:lnTo>
                    <a:pt x="51293" y="75809"/>
                  </a:lnTo>
                  <a:lnTo>
                    <a:pt x="50278" y="77248"/>
                  </a:lnTo>
                  <a:lnTo>
                    <a:pt x="49330" y="78717"/>
                  </a:lnTo>
                  <a:lnTo>
                    <a:pt x="48435" y="80217"/>
                  </a:lnTo>
                  <a:lnTo>
                    <a:pt x="47620" y="81737"/>
                  </a:lnTo>
                  <a:lnTo>
                    <a:pt x="46846" y="83268"/>
                  </a:lnTo>
                  <a:lnTo>
                    <a:pt x="46151" y="84829"/>
                  </a:lnTo>
                  <a:lnTo>
                    <a:pt x="45497" y="86380"/>
                  </a:lnTo>
                  <a:lnTo>
                    <a:pt x="44896" y="87951"/>
                  </a:lnTo>
                  <a:lnTo>
                    <a:pt x="44362" y="89522"/>
                  </a:lnTo>
                  <a:lnTo>
                    <a:pt x="43868" y="91094"/>
                  </a:lnTo>
                  <a:lnTo>
                    <a:pt x="43414" y="92645"/>
                  </a:lnTo>
                  <a:lnTo>
                    <a:pt x="43026" y="94196"/>
                  </a:lnTo>
                  <a:lnTo>
                    <a:pt x="42666" y="95726"/>
                  </a:lnTo>
                  <a:lnTo>
                    <a:pt x="42345" y="97236"/>
                  </a:lnTo>
                  <a:lnTo>
                    <a:pt x="42065" y="98736"/>
                  </a:lnTo>
                  <a:lnTo>
                    <a:pt x="41825" y="100195"/>
                  </a:lnTo>
                  <a:lnTo>
                    <a:pt x="41598" y="101624"/>
                  </a:lnTo>
                  <a:lnTo>
                    <a:pt x="41424" y="103011"/>
                  </a:lnTo>
                  <a:lnTo>
                    <a:pt x="41277" y="104368"/>
                  </a:lnTo>
                  <a:lnTo>
                    <a:pt x="41144" y="105684"/>
                  </a:lnTo>
                  <a:lnTo>
                    <a:pt x="41063" y="106939"/>
                  </a:lnTo>
                  <a:lnTo>
                    <a:pt x="40970" y="108154"/>
                  </a:lnTo>
                  <a:lnTo>
                    <a:pt x="40930" y="109296"/>
                  </a:lnTo>
                  <a:lnTo>
                    <a:pt x="40890" y="110398"/>
                  </a:lnTo>
                  <a:lnTo>
                    <a:pt x="40863" y="111419"/>
                  </a:lnTo>
                  <a:lnTo>
                    <a:pt x="40863" y="112367"/>
                  </a:lnTo>
                  <a:lnTo>
                    <a:pt x="40863" y="113245"/>
                  </a:lnTo>
                  <a:lnTo>
                    <a:pt x="40876" y="114051"/>
                  </a:lnTo>
                  <a:lnTo>
                    <a:pt x="40890" y="114786"/>
                  </a:lnTo>
                  <a:lnTo>
                    <a:pt x="40916" y="115408"/>
                  </a:lnTo>
                  <a:lnTo>
                    <a:pt x="40903" y="115755"/>
                  </a:lnTo>
                  <a:lnTo>
                    <a:pt x="40863" y="116092"/>
                  </a:lnTo>
                  <a:lnTo>
                    <a:pt x="40756" y="116439"/>
                  </a:lnTo>
                  <a:lnTo>
                    <a:pt x="40623" y="116765"/>
                  </a:lnTo>
                  <a:lnTo>
                    <a:pt x="40436" y="117102"/>
                  </a:lnTo>
                  <a:lnTo>
                    <a:pt x="40235" y="117408"/>
                  </a:lnTo>
                  <a:lnTo>
                    <a:pt x="39982" y="117714"/>
                  </a:lnTo>
                  <a:lnTo>
                    <a:pt x="39715" y="118010"/>
                  </a:lnTo>
                  <a:lnTo>
                    <a:pt x="39407" y="118285"/>
                  </a:lnTo>
                  <a:lnTo>
                    <a:pt x="39087" y="118551"/>
                  </a:lnTo>
                  <a:lnTo>
                    <a:pt x="38740" y="118806"/>
                  </a:lnTo>
                  <a:lnTo>
                    <a:pt x="38366" y="119040"/>
                  </a:lnTo>
                  <a:lnTo>
                    <a:pt x="37979" y="119244"/>
                  </a:lnTo>
                  <a:lnTo>
                    <a:pt x="37578" y="119438"/>
                  </a:lnTo>
                  <a:lnTo>
                    <a:pt x="37151" y="119602"/>
                  </a:lnTo>
                  <a:lnTo>
                    <a:pt x="36737" y="119734"/>
                  </a:lnTo>
                  <a:lnTo>
                    <a:pt x="36309" y="119846"/>
                  </a:lnTo>
                  <a:lnTo>
                    <a:pt x="35869" y="119938"/>
                  </a:lnTo>
                  <a:lnTo>
                    <a:pt x="35441" y="119979"/>
                  </a:lnTo>
                  <a:lnTo>
                    <a:pt x="35001" y="120000"/>
                  </a:lnTo>
                  <a:lnTo>
                    <a:pt x="34573" y="119989"/>
                  </a:lnTo>
                  <a:lnTo>
                    <a:pt x="34146" y="119938"/>
                  </a:lnTo>
                  <a:lnTo>
                    <a:pt x="33719" y="119846"/>
                  </a:lnTo>
                  <a:lnTo>
                    <a:pt x="33318" y="119724"/>
                  </a:lnTo>
                  <a:lnTo>
                    <a:pt x="32931" y="119551"/>
                  </a:lnTo>
                  <a:lnTo>
                    <a:pt x="32557" y="119336"/>
                  </a:lnTo>
                  <a:lnTo>
                    <a:pt x="32196" y="119081"/>
                  </a:lnTo>
                  <a:lnTo>
                    <a:pt x="31862" y="118785"/>
                  </a:lnTo>
                  <a:lnTo>
                    <a:pt x="31555" y="118438"/>
                  </a:lnTo>
                  <a:lnTo>
                    <a:pt x="31275" y="118040"/>
                  </a:lnTo>
                  <a:lnTo>
                    <a:pt x="31021" y="117581"/>
                  </a:lnTo>
                  <a:lnTo>
                    <a:pt x="30807" y="117092"/>
                  </a:lnTo>
                  <a:close/>
                </a:path>
              </a:pathLst>
            </a:custGeom>
            <a:solidFill>
              <a:srgbClr val="9dc3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579" name="矩形 36"/>
          <p:cNvSpPr/>
          <p:nvPr/>
        </p:nvSpPr>
        <p:spPr>
          <a:xfrm>
            <a:off x="2855880" y="90360"/>
            <a:ext cx="6696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e10d4"/>
                </a:solidFill>
                <a:latin typeface="微软雅黑"/>
                <a:ea typeface="微软雅黑"/>
              </a:rPr>
              <a:t>任务二 签订审计业务约定书</a:t>
            </a:r>
            <a:endParaRPr b="1" lang="en-US" sz="4000" spc="-1" strike="noStrike">
              <a:solidFill>
                <a:srgbClr val="000000"/>
              </a:solidFill>
              <a:latin typeface="Arial"/>
            </a:endParaRPr>
          </a:p>
        </p:txBody>
      </p:sp>
      <p:sp>
        <p:nvSpPr>
          <p:cNvPr id="1580" name="矩形 1"/>
          <p:cNvSpPr/>
          <p:nvPr/>
        </p:nvSpPr>
        <p:spPr>
          <a:xfrm>
            <a:off x="3819600" y="809640"/>
            <a:ext cx="519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三、审计业务约定书的内容</a:t>
            </a:r>
            <a:endParaRPr b="1" lang="en-US" sz="3200" spc="-1" strike="noStrike">
              <a:solidFill>
                <a:srgbClr val="000000"/>
              </a:solidFill>
              <a:latin typeface="Arial"/>
            </a:endParaRPr>
          </a:p>
        </p:txBody>
      </p:sp>
    </p:spTree>
  </p:cSld>
  <p:transition>
    <p:fade/>
  </p:transition>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dur="indefinite" nodeType="afterEffect" fill="hold" presetClass="entr" presetID="2" presetSubtype="4">
                                  <p:stCondLst>
                                    <p:cond delay="0"/>
                                  </p:stCondLst>
                                  <p:childTnLst>
                                    <p:set>
                                      <p:cBhvr>
                                        <p:cTn id="161" dur="1" fill="hold">
                                          <p:stCondLst>
                                            <p:cond delay="0"/>
                                          </p:stCondLst>
                                        </p:cTn>
                                        <p:tgtEl>
                                          <p:spTgt spid="1549"/>
                                        </p:tgtEl>
                                        <p:attrNameLst>
                                          <p:attrName>style.visibility</p:attrName>
                                        </p:attrNameLst>
                                      </p:cBhvr>
                                      <p:to>
                                        <p:strVal val="visible"/>
                                      </p:to>
                                    </p:set>
                                    <p:anim calcmode="lin" valueType="num">
                                      <p:cBhvr additive="repl">
                                        <p:cTn id="162" dur="500" fill="hold"/>
                                        <p:tgtEl>
                                          <p:spTgt spid="1549"/>
                                        </p:tgtEl>
                                        <p:attrNameLst>
                                          <p:attrName>ppt_x</p:attrName>
                                        </p:attrNameLst>
                                      </p:cBhvr>
                                      <p:tavLst>
                                        <p:tav tm="0">
                                          <p:val>
                                            <p:strVal val="#ppt_x"/>
                                          </p:val>
                                        </p:tav>
                                        <p:tav tm="100000">
                                          <p:val>
                                            <p:strVal val="#ppt_x"/>
                                          </p:val>
                                        </p:tav>
                                      </p:tavLst>
                                    </p:anim>
                                    <p:anim calcmode="lin" valueType="num">
                                      <p:cBhvr additive="repl">
                                        <p:cTn id="163" dur="500" fill="hold"/>
                                        <p:tgtEl>
                                          <p:spTgt spid="1549"/>
                                        </p:tgtEl>
                                        <p:attrNameLst>
                                          <p:attrName>ppt_y</p:attrName>
                                        </p:attrNameLst>
                                      </p:cBhvr>
                                      <p:tavLst>
                                        <p:tav tm="0">
                                          <p:val>
                                            <p:strVal val="1+#ppt_h/2"/>
                                          </p:val>
                                        </p:tav>
                                        <p:tav tm="100000">
                                          <p:val>
                                            <p:strVal val="#ppt_y"/>
                                          </p:val>
                                        </p:tav>
                                      </p:tavLst>
                                    </p:anim>
                                  </p:childTnLst>
                                </p:cTn>
                              </p:par>
                            </p:childTnLst>
                          </p:cTn>
                        </p:par>
                        <p:par>
                          <p:cTn id="164" fill="hold">
                            <p:stCondLst>
                              <p:cond delay="500"/>
                            </p:stCondLst>
                            <p:childTnLst>
                              <p:par>
                                <p:cTn id="165" dur="indefinite" nodeType="afterEffect" fill="hold" presetClass="entr" presetID="2" presetSubtype="4">
                                  <p:stCondLst>
                                    <p:cond delay="0"/>
                                  </p:stCondLst>
                                  <p:childTnLst>
                                    <p:set>
                                      <p:cBhvr>
                                        <p:cTn id="166" dur="1" fill="hold">
                                          <p:stCondLst>
                                            <p:cond delay="0"/>
                                          </p:stCondLst>
                                        </p:cTn>
                                        <p:tgtEl>
                                          <p:spTgt spid="1552"/>
                                        </p:tgtEl>
                                        <p:attrNameLst>
                                          <p:attrName>style.visibility</p:attrName>
                                        </p:attrNameLst>
                                      </p:cBhvr>
                                      <p:to>
                                        <p:strVal val="visible"/>
                                      </p:to>
                                    </p:set>
                                    <p:anim calcmode="lin" valueType="num">
                                      <p:cBhvr additive="repl">
                                        <p:cTn id="167" dur="500" fill="hold"/>
                                        <p:tgtEl>
                                          <p:spTgt spid="1552"/>
                                        </p:tgtEl>
                                        <p:attrNameLst>
                                          <p:attrName>ppt_x</p:attrName>
                                        </p:attrNameLst>
                                      </p:cBhvr>
                                      <p:tavLst>
                                        <p:tav tm="0">
                                          <p:val>
                                            <p:strVal val="#ppt_x"/>
                                          </p:val>
                                        </p:tav>
                                        <p:tav tm="100000">
                                          <p:val>
                                            <p:strVal val="#ppt_x"/>
                                          </p:val>
                                        </p:tav>
                                      </p:tavLst>
                                    </p:anim>
                                    <p:anim calcmode="lin" valueType="num">
                                      <p:cBhvr additive="repl">
                                        <p:cTn id="168" dur="500" fill="hold"/>
                                        <p:tgtEl>
                                          <p:spTgt spid="1552"/>
                                        </p:tgtEl>
                                        <p:attrNameLst>
                                          <p:attrName>ppt_y</p:attrName>
                                        </p:attrNameLst>
                                      </p:cBhvr>
                                      <p:tavLst>
                                        <p:tav tm="0">
                                          <p:val>
                                            <p:strVal val="1+#ppt_h/2"/>
                                          </p:val>
                                        </p:tav>
                                        <p:tav tm="100000">
                                          <p:val>
                                            <p:strVal val="#ppt_y"/>
                                          </p:val>
                                        </p:tav>
                                      </p:tavLst>
                                    </p:anim>
                                  </p:childTnLst>
                                </p:cTn>
                              </p:par>
                            </p:childTnLst>
                          </p:cTn>
                        </p:par>
                        <p:par>
                          <p:cTn id="169" fill="hold">
                            <p:stCondLst>
                              <p:cond delay="1000"/>
                            </p:stCondLst>
                            <p:childTnLst>
                              <p:par>
                                <p:cTn id="170" dur="indefinite" nodeType="afterEffect" fill="hold" presetClass="entr" presetID="2" presetSubtype="4">
                                  <p:stCondLst>
                                    <p:cond delay="0"/>
                                  </p:stCondLst>
                                  <p:childTnLst>
                                    <p:set>
                                      <p:cBhvr>
                                        <p:cTn id="171" dur="1" fill="hold">
                                          <p:stCondLst>
                                            <p:cond delay="0"/>
                                          </p:stCondLst>
                                        </p:cTn>
                                        <p:tgtEl>
                                          <p:spTgt spid="1555"/>
                                        </p:tgtEl>
                                        <p:attrNameLst>
                                          <p:attrName>style.visibility</p:attrName>
                                        </p:attrNameLst>
                                      </p:cBhvr>
                                      <p:to>
                                        <p:strVal val="visible"/>
                                      </p:to>
                                    </p:set>
                                    <p:anim calcmode="lin" valueType="num">
                                      <p:cBhvr additive="repl">
                                        <p:cTn id="172" dur="500" fill="hold"/>
                                        <p:tgtEl>
                                          <p:spTgt spid="1555"/>
                                        </p:tgtEl>
                                        <p:attrNameLst>
                                          <p:attrName>ppt_x</p:attrName>
                                        </p:attrNameLst>
                                      </p:cBhvr>
                                      <p:tavLst>
                                        <p:tav tm="0">
                                          <p:val>
                                            <p:strVal val="#ppt_x"/>
                                          </p:val>
                                        </p:tav>
                                        <p:tav tm="100000">
                                          <p:val>
                                            <p:strVal val="#ppt_x"/>
                                          </p:val>
                                        </p:tav>
                                      </p:tavLst>
                                    </p:anim>
                                    <p:anim calcmode="lin" valueType="num">
                                      <p:cBhvr additive="repl">
                                        <p:cTn id="173" dur="500" fill="hold"/>
                                        <p:tgtEl>
                                          <p:spTgt spid="1555"/>
                                        </p:tgtEl>
                                        <p:attrNameLst>
                                          <p:attrName>ppt_y</p:attrName>
                                        </p:attrNameLst>
                                      </p:cBhvr>
                                      <p:tavLst>
                                        <p:tav tm="0">
                                          <p:val>
                                            <p:strVal val="1+#ppt_h/2"/>
                                          </p:val>
                                        </p:tav>
                                        <p:tav tm="100000">
                                          <p:val>
                                            <p:strVal val="#ppt_y"/>
                                          </p:val>
                                        </p:tav>
                                      </p:tavLst>
                                    </p:anim>
                                  </p:childTnLst>
                                </p:cTn>
                              </p:par>
                            </p:childTnLst>
                          </p:cTn>
                        </p:par>
                        <p:par>
                          <p:cTn id="174" fill="hold">
                            <p:stCondLst>
                              <p:cond delay="1500"/>
                            </p:stCondLst>
                            <p:childTnLst>
                              <p:par>
                                <p:cTn id="175" dur="indefinite" nodeType="afterEffect" fill="hold" presetClass="entr" presetID="2" presetSubtype="4">
                                  <p:stCondLst>
                                    <p:cond delay="0"/>
                                  </p:stCondLst>
                                  <p:childTnLst>
                                    <p:set>
                                      <p:cBhvr>
                                        <p:cTn id="176" dur="1" fill="hold">
                                          <p:stCondLst>
                                            <p:cond delay="0"/>
                                          </p:stCondLst>
                                        </p:cTn>
                                        <p:tgtEl>
                                          <p:spTgt spid="1558"/>
                                        </p:tgtEl>
                                        <p:attrNameLst>
                                          <p:attrName>style.visibility</p:attrName>
                                        </p:attrNameLst>
                                      </p:cBhvr>
                                      <p:to>
                                        <p:strVal val="visible"/>
                                      </p:to>
                                    </p:set>
                                    <p:anim calcmode="lin" valueType="num">
                                      <p:cBhvr additive="repl">
                                        <p:cTn id="177" dur="500" fill="hold"/>
                                        <p:tgtEl>
                                          <p:spTgt spid="1558"/>
                                        </p:tgtEl>
                                        <p:attrNameLst>
                                          <p:attrName>ppt_x</p:attrName>
                                        </p:attrNameLst>
                                      </p:cBhvr>
                                      <p:tavLst>
                                        <p:tav tm="0">
                                          <p:val>
                                            <p:strVal val="#ppt_x"/>
                                          </p:val>
                                        </p:tav>
                                        <p:tav tm="100000">
                                          <p:val>
                                            <p:strVal val="#ppt_x"/>
                                          </p:val>
                                        </p:tav>
                                      </p:tavLst>
                                    </p:anim>
                                    <p:anim calcmode="lin" valueType="num">
                                      <p:cBhvr additive="repl">
                                        <p:cTn id="178" dur="500" fill="hold"/>
                                        <p:tgtEl>
                                          <p:spTgt spid="1558"/>
                                        </p:tgtEl>
                                        <p:attrNameLst>
                                          <p:attrName>ppt_y</p:attrName>
                                        </p:attrNameLst>
                                      </p:cBhvr>
                                      <p:tavLst>
                                        <p:tav tm="0">
                                          <p:val>
                                            <p:strVal val="1+#ppt_h/2"/>
                                          </p:val>
                                        </p:tav>
                                        <p:tav tm="100000">
                                          <p:val>
                                            <p:strVal val="#ppt_y"/>
                                          </p:val>
                                        </p:tav>
                                      </p:tavLst>
                                    </p:anim>
                                  </p:childTnLst>
                                </p:cTn>
                              </p:par>
                            </p:childTnLst>
                          </p:cTn>
                        </p:par>
                        <p:par>
                          <p:cTn id="179" fill="hold">
                            <p:stCondLst>
                              <p:cond delay="2000"/>
                            </p:stCondLst>
                            <p:childTnLst>
                              <p:par>
                                <p:cTn id="180" dur="indefinite" nodeType="afterEffect" fill="hold" presetClass="entr" presetID="2" presetSubtype="4">
                                  <p:stCondLst>
                                    <p:cond delay="0"/>
                                  </p:stCondLst>
                                  <p:childTnLst>
                                    <p:set>
                                      <p:cBhvr>
                                        <p:cTn id="181" dur="1" fill="hold">
                                          <p:stCondLst>
                                            <p:cond delay="0"/>
                                          </p:stCondLst>
                                        </p:cTn>
                                        <p:tgtEl>
                                          <p:spTgt spid="1561"/>
                                        </p:tgtEl>
                                        <p:attrNameLst>
                                          <p:attrName>style.visibility</p:attrName>
                                        </p:attrNameLst>
                                      </p:cBhvr>
                                      <p:to>
                                        <p:strVal val="visible"/>
                                      </p:to>
                                    </p:set>
                                    <p:anim calcmode="lin" valueType="num">
                                      <p:cBhvr additive="repl">
                                        <p:cTn id="182" dur="500" fill="hold"/>
                                        <p:tgtEl>
                                          <p:spTgt spid="1561"/>
                                        </p:tgtEl>
                                        <p:attrNameLst>
                                          <p:attrName>ppt_x</p:attrName>
                                        </p:attrNameLst>
                                      </p:cBhvr>
                                      <p:tavLst>
                                        <p:tav tm="0">
                                          <p:val>
                                            <p:strVal val="#ppt_x"/>
                                          </p:val>
                                        </p:tav>
                                        <p:tav tm="100000">
                                          <p:val>
                                            <p:strVal val="#ppt_x"/>
                                          </p:val>
                                        </p:tav>
                                      </p:tavLst>
                                    </p:anim>
                                    <p:anim calcmode="lin" valueType="num">
                                      <p:cBhvr additive="repl">
                                        <p:cTn id="183" dur="500" fill="hold"/>
                                        <p:tgtEl>
                                          <p:spTgt spid="15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任意形状 4"/>
          <p:cNvSpPr/>
          <p:nvPr/>
        </p:nvSpPr>
        <p:spPr>
          <a:xfrm flipH="1">
            <a:off x="5365080" y="2797200"/>
            <a:ext cx="711000" cy="819000"/>
          </a:xfrm>
          <a:custGeom>
            <a:avLst/>
            <a:gdLst/>
            <a:ahLst/>
            <a:rect l="l" t="t" r="r" b="b"/>
            <a:pathLst>
              <a:path w="1051560" h="1211580">
                <a:moveTo>
                  <a:pt x="4286" y="1210723"/>
                </a:moveTo>
                <a:lnTo>
                  <a:pt x="1049560" y="607219"/>
                </a:lnTo>
                <a:cubicBezTo>
                  <a:pt x="836390" y="250603"/>
                  <a:pt x="448913" y="10001"/>
                  <a:pt x="4286" y="4286"/>
                </a:cubicBezTo>
                <a:lnTo>
                  <a:pt x="4286" y="1210723"/>
                </a:lnTo>
                <a:close/>
              </a:path>
            </a:pathLst>
          </a:custGeom>
          <a:solidFill>
            <a:srgbClr val="1f74a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82" name="任意形状 5"/>
          <p:cNvSpPr/>
          <p:nvPr/>
        </p:nvSpPr>
        <p:spPr>
          <a:xfrm flipH="1">
            <a:off x="5249880" y="3225960"/>
            <a:ext cx="814320" cy="817560"/>
          </a:xfrm>
          <a:custGeom>
            <a:avLst/>
            <a:gdLst/>
            <a:ahLst/>
            <a:rect l="l" t="t" r="r" b="b"/>
            <a:pathLst>
              <a:path w="1205865" h="1211580">
                <a:moveTo>
                  <a:pt x="4286" y="607790"/>
                </a:moveTo>
                <a:lnTo>
                  <a:pt x="1049560" y="1211294"/>
                </a:lnTo>
                <a:cubicBezTo>
                  <a:pt x="1149572" y="1032986"/>
                  <a:pt x="1206722" y="827246"/>
                  <a:pt x="1206722" y="607790"/>
                </a:cubicBezTo>
                <a:cubicBezTo>
                  <a:pt x="1206722" y="388906"/>
                  <a:pt x="1149572" y="183166"/>
                  <a:pt x="1049560" y="4286"/>
                </a:cubicBezTo>
                <a:lnTo>
                  <a:pt x="4286" y="607790"/>
                </a:lnTo>
                <a:close/>
              </a:path>
            </a:pathLst>
          </a:custGeom>
          <a:solidFill>
            <a:srgbClr val="1aa3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83" name="任意形状 6"/>
          <p:cNvSpPr/>
          <p:nvPr/>
        </p:nvSpPr>
        <p:spPr>
          <a:xfrm flipH="1">
            <a:off x="5365080" y="3652920"/>
            <a:ext cx="711000" cy="817560"/>
          </a:xfrm>
          <a:custGeom>
            <a:avLst/>
            <a:gdLst/>
            <a:ahLst/>
            <a:rect l="l" t="t" r="r" b="b"/>
            <a:pathLst>
              <a:path w="1051560" h="1211580">
                <a:moveTo>
                  <a:pt x="4286" y="4286"/>
                </a:moveTo>
                <a:lnTo>
                  <a:pt x="4286" y="1210723"/>
                </a:lnTo>
                <a:cubicBezTo>
                  <a:pt x="448342" y="1204436"/>
                  <a:pt x="836390" y="964406"/>
                  <a:pt x="1049560" y="607790"/>
                </a:cubicBezTo>
                <a:lnTo>
                  <a:pt x="4286" y="4286"/>
                </a:lnTo>
                <a:close/>
              </a:path>
            </a:pathLst>
          </a:custGeom>
          <a:solidFill>
            <a:srgbClr val="c292c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84" name="任意形状 4"/>
          <p:cNvSpPr/>
          <p:nvPr/>
        </p:nvSpPr>
        <p:spPr>
          <a:xfrm>
            <a:off x="6091200" y="2797200"/>
            <a:ext cx="709560" cy="819000"/>
          </a:xfrm>
          <a:custGeom>
            <a:avLst/>
            <a:gdLst/>
            <a:ahLst/>
            <a:rect l="l" t="t" r="r" b="b"/>
            <a:pathLst>
              <a:path w="1051560" h="1211580">
                <a:moveTo>
                  <a:pt x="4286" y="1210723"/>
                </a:moveTo>
                <a:lnTo>
                  <a:pt x="1049560" y="607219"/>
                </a:lnTo>
                <a:cubicBezTo>
                  <a:pt x="836390" y="250603"/>
                  <a:pt x="448913" y="10001"/>
                  <a:pt x="4286" y="4286"/>
                </a:cubicBezTo>
                <a:lnTo>
                  <a:pt x="4286" y="1210723"/>
                </a:lnTo>
                <a:close/>
              </a:path>
            </a:pathLst>
          </a:custGeom>
          <a:solidFill>
            <a:srgbClr val="3498d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85" name="任意形状 5"/>
          <p:cNvSpPr/>
          <p:nvPr/>
        </p:nvSpPr>
        <p:spPr>
          <a:xfrm>
            <a:off x="6102360" y="3225960"/>
            <a:ext cx="814320" cy="817560"/>
          </a:xfrm>
          <a:custGeom>
            <a:avLst/>
            <a:gdLst/>
            <a:ahLst/>
            <a:rect l="l" t="t" r="r" b="b"/>
            <a:pathLst>
              <a:path w="1205865" h="1211580">
                <a:moveTo>
                  <a:pt x="4286" y="607790"/>
                </a:moveTo>
                <a:lnTo>
                  <a:pt x="1049560" y="1211294"/>
                </a:lnTo>
                <a:cubicBezTo>
                  <a:pt x="1149572" y="1032986"/>
                  <a:pt x="1206722" y="827246"/>
                  <a:pt x="1206722" y="607790"/>
                </a:cubicBezTo>
                <a:cubicBezTo>
                  <a:pt x="1206722" y="388906"/>
                  <a:pt x="1149572" y="183166"/>
                  <a:pt x="1049560" y="4286"/>
                </a:cubicBezTo>
                <a:lnTo>
                  <a:pt x="4286" y="607790"/>
                </a:lnTo>
                <a:close/>
              </a:path>
            </a:pathLst>
          </a:custGeom>
          <a:solidFill>
            <a:srgbClr val="69a35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86" name="任意形状 6"/>
          <p:cNvSpPr/>
          <p:nvPr/>
        </p:nvSpPr>
        <p:spPr>
          <a:xfrm>
            <a:off x="6091200" y="3652920"/>
            <a:ext cx="709560" cy="817560"/>
          </a:xfrm>
          <a:custGeom>
            <a:avLst/>
            <a:gdLst/>
            <a:ahLst/>
            <a:rect l="l" t="t" r="r" b="b"/>
            <a:pathLst>
              <a:path w="1051560" h="1211580">
                <a:moveTo>
                  <a:pt x="4286" y="4286"/>
                </a:moveTo>
                <a:lnTo>
                  <a:pt x="4286" y="1210723"/>
                </a:lnTo>
                <a:cubicBezTo>
                  <a:pt x="448342" y="1204436"/>
                  <a:pt x="836390" y="964406"/>
                  <a:pt x="1049560" y="607790"/>
                </a:cubicBezTo>
                <a:lnTo>
                  <a:pt x="4286" y="4286"/>
                </a:lnTo>
                <a:close/>
              </a:path>
            </a:pathLst>
          </a:custGeom>
          <a:solidFill>
            <a:srgbClr val="ffc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87" name="任意形状 7"/>
          <p:cNvSpPr/>
          <p:nvPr/>
        </p:nvSpPr>
        <p:spPr>
          <a:xfrm>
            <a:off x="5425920" y="2971800"/>
            <a:ext cx="1314720" cy="1325520"/>
          </a:xfrm>
          <a:custGeom>
            <a:avLst/>
            <a:gdLst/>
            <a:ahLst/>
            <a:rect l="l" t="t" r="r" b="b"/>
            <a:pathLst>
              <a:path w="2308860" h="2308860">
                <a:moveTo>
                  <a:pt x="2307431" y="1155859"/>
                </a:moveTo>
                <a:cubicBezTo>
                  <a:pt x="2307431" y="1791855"/>
                  <a:pt x="1791855" y="2307431"/>
                  <a:pt x="1155859" y="2307431"/>
                </a:cubicBezTo>
                <a:cubicBezTo>
                  <a:pt x="519863" y="2307431"/>
                  <a:pt x="4286" y="1791855"/>
                  <a:pt x="4286" y="1155859"/>
                </a:cubicBezTo>
                <a:cubicBezTo>
                  <a:pt x="4286" y="519863"/>
                  <a:pt x="519863" y="4286"/>
                  <a:pt x="1155859" y="4286"/>
                </a:cubicBezTo>
                <a:cubicBezTo>
                  <a:pt x="1791855" y="4286"/>
                  <a:pt x="2307431" y="519863"/>
                  <a:pt x="2307431" y="1155859"/>
                </a:cubicBezTo>
                <a:close/>
              </a:path>
            </a:pathLst>
          </a:custGeom>
          <a:solidFill>
            <a:srgbClr val="ffffff"/>
          </a:solidFill>
          <a:ln w="25560">
            <a:solidFill>
              <a:srgbClr val="d9d9d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88" name="任意形状 8"/>
          <p:cNvSpPr/>
          <p:nvPr/>
        </p:nvSpPr>
        <p:spPr>
          <a:xfrm>
            <a:off x="6616800" y="2719440"/>
            <a:ext cx="1008000" cy="434880"/>
          </a:xfrm>
          <a:custGeom>
            <a:avLst/>
            <a:gdLst/>
            <a:ahLst/>
            <a:rect l="l" t="t" r="r" b="b"/>
            <a:pathLst>
              <a:path w="1377315" h="331470">
                <a:moveTo>
                  <a:pt x="17145" y="315468"/>
                </a:moveTo>
                <a:lnTo>
                  <a:pt x="623507" y="315468"/>
                </a:lnTo>
                <a:lnTo>
                  <a:pt x="921829" y="17145"/>
                </a:lnTo>
                <a:lnTo>
                  <a:pt x="1362456" y="17145"/>
                </a:lnTo>
              </a:path>
            </a:pathLst>
          </a:custGeom>
          <a:noFill/>
          <a:ln w="19080">
            <a:solidFill>
              <a:srgbClr val="3498db"/>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89" name="任意形状 19"/>
          <p:cNvSpPr/>
          <p:nvPr/>
        </p:nvSpPr>
        <p:spPr>
          <a:xfrm>
            <a:off x="7554960" y="2619360"/>
            <a:ext cx="4279680" cy="944640"/>
          </a:xfrm>
          <a:custGeom>
            <a:avLst/>
            <a:gdLst/>
            <a:ahLst/>
            <a:rect l="l" t="t" r="r" b="b"/>
            <a:pathLst>
              <a:path w="7795260" h="868680">
                <a:moveTo>
                  <a:pt x="7361778" y="4286"/>
                </a:moveTo>
                <a:lnTo>
                  <a:pt x="7361778" y="4286"/>
                </a:lnTo>
                <a:lnTo>
                  <a:pt x="435197" y="4286"/>
                </a:lnTo>
                <a:cubicBezTo>
                  <a:pt x="197454" y="4286"/>
                  <a:pt x="4286" y="197453"/>
                  <a:pt x="4286" y="435197"/>
                </a:cubicBezTo>
                <a:cubicBezTo>
                  <a:pt x="4286" y="672941"/>
                  <a:pt x="197454" y="866108"/>
                  <a:pt x="435197" y="866108"/>
                </a:cubicBezTo>
                <a:lnTo>
                  <a:pt x="7361778" y="866108"/>
                </a:lnTo>
                <a:cubicBezTo>
                  <a:pt x="7599521" y="866108"/>
                  <a:pt x="7792689" y="672941"/>
                  <a:pt x="7792689" y="435197"/>
                </a:cubicBezTo>
                <a:cubicBezTo>
                  <a:pt x="7792689" y="197453"/>
                  <a:pt x="7599521" y="4286"/>
                  <a:pt x="7361778" y="4286"/>
                </a:cubicBezTo>
                <a:close/>
              </a:path>
            </a:pathLst>
          </a:custGeom>
          <a:solidFill>
            <a:srgbClr val="3498d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0" name="文本框 37"/>
          <p:cNvSpPr/>
          <p:nvPr/>
        </p:nvSpPr>
        <p:spPr>
          <a:xfrm>
            <a:off x="7696080" y="2818080"/>
            <a:ext cx="3938760" cy="45972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 </a:t>
            </a:r>
            <a:r>
              <a:rPr b="1" lang="zh-CN" sz="2000" spc="-1" strike="noStrike">
                <a:solidFill>
                  <a:srgbClr val="ffffff"/>
                </a:solidFill>
                <a:latin typeface="Arial"/>
                <a:ea typeface="宋体"/>
              </a:rPr>
              <a:t>与被审计单位治理层整体直接沟通。</a:t>
            </a:r>
            <a:endParaRPr b="1" lang="en-US" sz="2000" spc="-1" strike="noStrike">
              <a:solidFill>
                <a:srgbClr val="000000"/>
              </a:solidFill>
              <a:latin typeface="Arial"/>
            </a:endParaRPr>
          </a:p>
        </p:txBody>
      </p:sp>
      <p:sp>
        <p:nvSpPr>
          <p:cNvPr id="1591" name="任意形状 11"/>
          <p:cNvSpPr/>
          <p:nvPr/>
        </p:nvSpPr>
        <p:spPr>
          <a:xfrm>
            <a:off x="6262560" y="4362480"/>
            <a:ext cx="1314720" cy="779400"/>
          </a:xfrm>
          <a:custGeom>
            <a:avLst/>
            <a:gdLst/>
            <a:ahLst/>
            <a:rect l="l" t="t" r="r" b="b"/>
            <a:pathLst>
              <a:path w="1377315" h="331470">
                <a:moveTo>
                  <a:pt x="17145" y="17145"/>
                </a:moveTo>
                <a:lnTo>
                  <a:pt x="623507" y="17145"/>
                </a:lnTo>
                <a:lnTo>
                  <a:pt x="921829" y="315468"/>
                </a:lnTo>
                <a:lnTo>
                  <a:pt x="1362456" y="315468"/>
                </a:lnTo>
              </a:path>
            </a:pathLst>
          </a:custGeom>
          <a:noFill/>
          <a:ln w="19080">
            <a:solidFill>
              <a:srgbClr val="ffc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2" name="任意形状 19"/>
          <p:cNvSpPr/>
          <p:nvPr/>
        </p:nvSpPr>
        <p:spPr>
          <a:xfrm>
            <a:off x="7537320" y="4743360"/>
            <a:ext cx="4361040" cy="924120"/>
          </a:xfrm>
          <a:custGeom>
            <a:avLst/>
            <a:gdLst/>
            <a:ahLst/>
            <a:rect l="l" t="t" r="r" b="b"/>
            <a:pathLst>
              <a:path w="7795260" h="868680">
                <a:moveTo>
                  <a:pt x="7361778" y="4286"/>
                </a:moveTo>
                <a:lnTo>
                  <a:pt x="7361778" y="4286"/>
                </a:lnTo>
                <a:lnTo>
                  <a:pt x="435197" y="4286"/>
                </a:lnTo>
                <a:cubicBezTo>
                  <a:pt x="197454" y="4286"/>
                  <a:pt x="4286" y="197453"/>
                  <a:pt x="4286" y="435197"/>
                </a:cubicBezTo>
                <a:cubicBezTo>
                  <a:pt x="4286" y="672941"/>
                  <a:pt x="197454" y="866108"/>
                  <a:pt x="435197" y="866108"/>
                </a:cubicBezTo>
                <a:lnTo>
                  <a:pt x="7361778" y="866108"/>
                </a:lnTo>
                <a:cubicBezTo>
                  <a:pt x="7599521" y="866108"/>
                  <a:pt x="7792689" y="672941"/>
                  <a:pt x="7792689" y="435197"/>
                </a:cubicBezTo>
                <a:cubicBezTo>
                  <a:pt x="7792689" y="197453"/>
                  <a:pt x="7599521" y="4286"/>
                  <a:pt x="7361778" y="4286"/>
                </a:cubicBezTo>
                <a:close/>
              </a:path>
            </a:pathLst>
          </a:custGeom>
          <a:solidFill>
            <a:srgbClr val="ffc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3" name="文本框 61"/>
          <p:cNvSpPr/>
          <p:nvPr/>
        </p:nvSpPr>
        <p:spPr>
          <a:xfrm>
            <a:off x="7723080" y="4971600"/>
            <a:ext cx="4227480" cy="45972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 </a:t>
            </a:r>
            <a:r>
              <a:rPr b="1" lang="zh-CN" sz="2000" spc="-1" strike="noStrike">
                <a:solidFill>
                  <a:srgbClr val="000000"/>
                </a:solidFill>
                <a:latin typeface="Arial"/>
                <a:ea typeface="宋体"/>
              </a:rPr>
              <a:t>注册会计师与被审计单位之间需要达成进一步协议的事项。</a:t>
            </a:r>
            <a:endParaRPr b="1" lang="en-US" sz="2000" spc="-1" strike="noStrike">
              <a:solidFill>
                <a:srgbClr val="000000"/>
              </a:solidFill>
              <a:latin typeface="Arial"/>
            </a:endParaRPr>
          </a:p>
        </p:txBody>
      </p:sp>
      <p:sp>
        <p:nvSpPr>
          <p:cNvPr id="1594" name="任意形状 19"/>
          <p:cNvSpPr/>
          <p:nvPr/>
        </p:nvSpPr>
        <p:spPr>
          <a:xfrm>
            <a:off x="357120" y="2598840"/>
            <a:ext cx="4375080" cy="928440"/>
          </a:xfrm>
          <a:prstGeom prst="pie">
            <a:avLst/>
          </a:prstGeom>
          <a:solidFill>
            <a:srgbClr val="1f74a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微软雅黑"/>
              </a:rPr>
              <a:t>1</a:t>
            </a:r>
            <a:r>
              <a:rPr b="1" lang="en-US" sz="2000" spc="-1" strike="noStrike">
                <a:solidFill>
                  <a:srgbClr val="ffffff"/>
                </a:solidFill>
                <a:latin typeface="Arial"/>
              </a:rPr>
              <a:t>. </a:t>
            </a:r>
            <a:r>
              <a:rPr b="1" lang="zh-CN" sz="2000" spc="-1" strike="noStrike">
                <a:solidFill>
                  <a:srgbClr val="ffffff"/>
                </a:solidFill>
                <a:latin typeface="Arial"/>
                <a:ea typeface="宋体"/>
              </a:rPr>
              <a:t>在某些方面对利用其他注册会计师和专家工作的安排。</a:t>
            </a:r>
            <a:endParaRPr b="1" lang="en-US" sz="2000" spc="-1" strike="noStrike">
              <a:solidFill>
                <a:srgbClr val="000000"/>
              </a:solidFill>
              <a:latin typeface="Arial"/>
            </a:endParaRPr>
          </a:p>
        </p:txBody>
      </p:sp>
      <p:sp>
        <p:nvSpPr>
          <p:cNvPr id="1595" name="任意形状 8"/>
          <p:cNvSpPr/>
          <p:nvPr/>
        </p:nvSpPr>
        <p:spPr>
          <a:xfrm flipH="1">
            <a:off x="4637160" y="2757600"/>
            <a:ext cx="915840" cy="349200"/>
          </a:xfrm>
          <a:custGeom>
            <a:avLst/>
            <a:gdLst/>
            <a:ahLst/>
            <a:rect l="l" t="t" r="r" b="b"/>
            <a:pathLst>
              <a:path w="1377315" h="331470">
                <a:moveTo>
                  <a:pt x="17145" y="315468"/>
                </a:moveTo>
                <a:lnTo>
                  <a:pt x="623507" y="315468"/>
                </a:lnTo>
                <a:lnTo>
                  <a:pt x="921829" y="17145"/>
                </a:lnTo>
                <a:lnTo>
                  <a:pt x="1362456" y="17145"/>
                </a:lnTo>
              </a:path>
            </a:pathLst>
          </a:custGeom>
          <a:noFill/>
          <a:ln w="19080">
            <a:solidFill>
              <a:srgbClr val="1f74ad"/>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6" name="任意形状 19"/>
          <p:cNvSpPr/>
          <p:nvPr/>
        </p:nvSpPr>
        <p:spPr>
          <a:xfrm>
            <a:off x="244440" y="4780080"/>
            <a:ext cx="4361040" cy="884160"/>
          </a:xfrm>
          <a:custGeom>
            <a:avLst/>
            <a:gdLst/>
            <a:ahLst/>
            <a:rect l="l" t="t" r="r" b="b"/>
            <a:pathLst>
              <a:path w="7795260" h="868680">
                <a:moveTo>
                  <a:pt x="7361778" y="4286"/>
                </a:moveTo>
                <a:lnTo>
                  <a:pt x="7361778" y="4286"/>
                </a:lnTo>
                <a:lnTo>
                  <a:pt x="435197" y="4286"/>
                </a:lnTo>
                <a:cubicBezTo>
                  <a:pt x="197454" y="4286"/>
                  <a:pt x="4286" y="197453"/>
                  <a:pt x="4286" y="435197"/>
                </a:cubicBezTo>
                <a:cubicBezTo>
                  <a:pt x="4286" y="672941"/>
                  <a:pt x="197454" y="866108"/>
                  <a:pt x="435197" y="866108"/>
                </a:cubicBezTo>
                <a:lnTo>
                  <a:pt x="7361778" y="866108"/>
                </a:lnTo>
                <a:cubicBezTo>
                  <a:pt x="7599521" y="866108"/>
                  <a:pt x="7792689" y="672941"/>
                  <a:pt x="7792689" y="435197"/>
                </a:cubicBezTo>
                <a:cubicBezTo>
                  <a:pt x="7792689" y="197453"/>
                  <a:pt x="7599521" y="4286"/>
                  <a:pt x="7361778" y="4286"/>
                </a:cubicBezTo>
                <a:close/>
              </a:path>
            </a:pathLst>
          </a:custGeom>
          <a:solidFill>
            <a:srgbClr val="c292c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7" name="文本框 70"/>
          <p:cNvSpPr/>
          <p:nvPr/>
        </p:nvSpPr>
        <p:spPr>
          <a:xfrm>
            <a:off x="458640" y="4991400"/>
            <a:ext cx="3965760" cy="4597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 </a:t>
            </a:r>
            <a:r>
              <a:rPr b="1" lang="zh-CN" sz="2000" spc="-1" strike="noStrike">
                <a:solidFill>
                  <a:srgbClr val="ffffff"/>
                </a:solidFill>
                <a:latin typeface="Arial"/>
                <a:ea typeface="宋体"/>
              </a:rPr>
              <a:t>预期向被审计单位提交的其他函件或报告。</a:t>
            </a:r>
            <a:endParaRPr b="1" lang="en-US" sz="2000" spc="-1" strike="noStrike">
              <a:solidFill>
                <a:srgbClr val="000000"/>
              </a:solidFill>
              <a:latin typeface="Arial"/>
            </a:endParaRPr>
          </a:p>
        </p:txBody>
      </p:sp>
      <p:sp>
        <p:nvSpPr>
          <p:cNvPr id="1598" name="任意形状 11"/>
          <p:cNvSpPr/>
          <p:nvPr/>
        </p:nvSpPr>
        <p:spPr>
          <a:xfrm flipH="1">
            <a:off x="4441680" y="4346640"/>
            <a:ext cx="1285920" cy="649080"/>
          </a:xfrm>
          <a:custGeom>
            <a:avLst/>
            <a:gdLst/>
            <a:ahLst/>
            <a:rect l="l" t="t" r="r" b="b"/>
            <a:pathLst>
              <a:path w="1377315" h="331470">
                <a:moveTo>
                  <a:pt x="17145" y="17145"/>
                </a:moveTo>
                <a:lnTo>
                  <a:pt x="623507" y="17145"/>
                </a:lnTo>
                <a:lnTo>
                  <a:pt x="921829" y="315468"/>
                </a:lnTo>
                <a:lnTo>
                  <a:pt x="1362456" y="315468"/>
                </a:lnTo>
              </a:path>
            </a:pathLst>
          </a:custGeom>
          <a:noFill/>
          <a:ln w="19080">
            <a:solidFill>
              <a:srgbClr val="914f9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599" name="组合 28"/>
          <p:cNvGrpSpPr/>
          <p:nvPr/>
        </p:nvGrpSpPr>
        <p:grpSpPr>
          <a:xfrm>
            <a:off x="922320" y="439560"/>
            <a:ext cx="10359720" cy="0"/>
            <a:chOff x="922320" y="439560"/>
            <a:chExt cx="10359720" cy="0"/>
          </a:xfrm>
        </p:grpSpPr>
        <p:sp>
          <p:nvSpPr>
            <p:cNvPr id="1600" name="直接连接符 58"/>
            <p:cNvSpPr/>
            <p:nvPr/>
          </p:nvSpPr>
          <p:spPr>
            <a:xfrm>
              <a:off x="922320" y="439560"/>
              <a:ext cx="197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01" name="直接连接符 59"/>
            <p:cNvSpPr/>
            <p:nvPr/>
          </p:nvSpPr>
          <p:spPr>
            <a:xfrm>
              <a:off x="9302400" y="439560"/>
              <a:ext cx="197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1602" name="文本框 7"/>
          <p:cNvSpPr/>
          <p:nvPr/>
        </p:nvSpPr>
        <p:spPr>
          <a:xfrm>
            <a:off x="5617440" y="3197160"/>
            <a:ext cx="912240" cy="825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f75b4"/>
                </a:solidFill>
                <a:latin typeface="微软雅黑"/>
                <a:ea typeface="微软雅黑"/>
              </a:rPr>
              <a:t>审计业务</a:t>
            </a:r>
            <a:endParaRPr b="1"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f75b4"/>
                </a:solidFill>
                <a:latin typeface="微软雅黑"/>
                <a:ea typeface="微软雅黑"/>
              </a:rPr>
              <a:t>  </a:t>
            </a:r>
            <a:r>
              <a:rPr b="1" lang="zh-CN" sz="2400" spc="-1" strike="noStrike">
                <a:solidFill>
                  <a:srgbClr val="2f75b4"/>
                </a:solidFill>
                <a:latin typeface="微软雅黑"/>
                <a:ea typeface="微软雅黑"/>
              </a:rPr>
              <a:t>约定书</a:t>
            </a:r>
            <a:endParaRPr b="1" lang="en-US" sz="2400" spc="-1" strike="noStrike">
              <a:solidFill>
                <a:srgbClr val="000000"/>
              </a:solidFill>
              <a:latin typeface="Arial"/>
            </a:endParaRPr>
          </a:p>
        </p:txBody>
      </p:sp>
      <p:sp>
        <p:nvSpPr>
          <p:cNvPr id="1603" name="矩形 5"/>
          <p:cNvSpPr/>
          <p:nvPr/>
        </p:nvSpPr>
        <p:spPr>
          <a:xfrm>
            <a:off x="426960" y="1403280"/>
            <a:ext cx="690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7d9"/>
                </a:solidFill>
                <a:latin typeface="Arial"/>
                <a:ea typeface="微软雅黑"/>
              </a:rPr>
              <a:t>（二）在情况需要时应当考虑增加的业务约定条款</a:t>
            </a:r>
            <a:endParaRPr b="1" lang="en-US" sz="2400" spc="-1" strike="noStrike">
              <a:solidFill>
                <a:srgbClr val="000000"/>
              </a:solidFill>
              <a:latin typeface="Arial"/>
            </a:endParaRPr>
          </a:p>
        </p:txBody>
      </p:sp>
      <p:sp>
        <p:nvSpPr>
          <p:cNvPr id="1604" name="任意形状 19"/>
          <p:cNvSpPr/>
          <p:nvPr/>
        </p:nvSpPr>
        <p:spPr>
          <a:xfrm>
            <a:off x="277920" y="3678120"/>
            <a:ext cx="4424400" cy="962280"/>
          </a:xfrm>
          <a:prstGeom prst="pie">
            <a:avLst/>
          </a:prstGeom>
          <a:solidFill>
            <a:srgbClr val="00a7d6"/>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a:t>
            </a:r>
            <a:r>
              <a:rPr b="1" lang="zh-CN" sz="2000" spc="-1" strike="noStrike">
                <a:solidFill>
                  <a:srgbClr val="ffffff"/>
                </a:solidFill>
                <a:latin typeface="Arial"/>
                <a:ea typeface="宋体"/>
              </a:rPr>
              <a:t>与审计涉及的内部审计人员和被审计单位其他员工工作的协调。</a:t>
            </a:r>
            <a:endParaRPr b="1" lang="en-US" sz="2000" spc="-1" strike="noStrike">
              <a:solidFill>
                <a:srgbClr val="000000"/>
              </a:solidFill>
              <a:latin typeface="Arial"/>
            </a:endParaRPr>
          </a:p>
        </p:txBody>
      </p:sp>
      <p:sp>
        <p:nvSpPr>
          <p:cNvPr id="1605" name="直接连接符 4"/>
          <p:cNvSpPr/>
          <p:nvPr/>
        </p:nvSpPr>
        <p:spPr>
          <a:xfrm>
            <a:off x="4511520" y="3929040"/>
            <a:ext cx="800280" cy="0"/>
          </a:xfrm>
          <a:prstGeom prst="line">
            <a:avLst/>
          </a:prstGeom>
          <a:ln w="28440">
            <a:solidFill>
              <a:srgbClr val="5b9bd4"/>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06" name="任意形状 19"/>
          <p:cNvSpPr/>
          <p:nvPr/>
        </p:nvSpPr>
        <p:spPr>
          <a:xfrm>
            <a:off x="7599240" y="3662280"/>
            <a:ext cx="4192560" cy="946080"/>
          </a:xfrm>
          <a:prstGeom prst="pie">
            <a:avLst/>
          </a:prstGeom>
          <a:solidFill>
            <a:srgbClr val="92d05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 </a:t>
            </a:r>
            <a:r>
              <a:rPr b="1" lang="zh-CN" sz="2000" spc="-1" strike="noStrike">
                <a:solidFill>
                  <a:srgbClr val="000000"/>
                </a:solidFill>
                <a:latin typeface="Arial"/>
                <a:ea typeface="宋体"/>
              </a:rPr>
              <a:t>在首次接受审计委托时，对与前任注册会计师沟通的安排。</a:t>
            </a:r>
            <a:endParaRPr b="1" lang="en-US" sz="2000" spc="-1" strike="noStrike">
              <a:solidFill>
                <a:srgbClr val="000000"/>
              </a:solidFill>
              <a:latin typeface="Arial"/>
            </a:endParaRPr>
          </a:p>
        </p:txBody>
      </p:sp>
      <p:sp>
        <p:nvSpPr>
          <p:cNvPr id="1607" name="直接连接符 44"/>
          <p:cNvSpPr/>
          <p:nvPr/>
        </p:nvSpPr>
        <p:spPr>
          <a:xfrm>
            <a:off x="6800760" y="3897360"/>
            <a:ext cx="798480" cy="0"/>
          </a:xfrm>
          <a:prstGeom prst="line">
            <a:avLst/>
          </a:prstGeom>
          <a:ln w="28440">
            <a:solidFill>
              <a:srgbClr val="92d05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08" name="矩形 46"/>
          <p:cNvSpPr/>
          <p:nvPr/>
        </p:nvSpPr>
        <p:spPr>
          <a:xfrm>
            <a:off x="2855880" y="90360"/>
            <a:ext cx="662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e10d4"/>
                </a:solidFill>
                <a:latin typeface="微软雅黑"/>
                <a:ea typeface="微软雅黑"/>
              </a:rPr>
              <a:t>任务二 签订审计业务约定书</a:t>
            </a:r>
            <a:endParaRPr b="1" lang="en-US" sz="4000" spc="-1" strike="noStrike">
              <a:solidFill>
                <a:srgbClr val="000000"/>
              </a:solidFill>
              <a:latin typeface="Arial"/>
            </a:endParaRPr>
          </a:p>
        </p:txBody>
      </p:sp>
      <p:sp>
        <p:nvSpPr>
          <p:cNvPr id="1609" name="矩形 47"/>
          <p:cNvSpPr/>
          <p:nvPr/>
        </p:nvSpPr>
        <p:spPr>
          <a:xfrm>
            <a:off x="3849840" y="752400"/>
            <a:ext cx="519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三、审计业务约定书的内容</a:t>
            </a:r>
            <a:endParaRPr b="1" lang="en-US" sz="3200" spc="-1" strike="noStrike">
              <a:solidFill>
                <a:srgbClr val="000000"/>
              </a:solidFill>
              <a:latin typeface="Arial"/>
            </a:endParaRPr>
          </a:p>
        </p:txBody>
      </p:sp>
      <p:sp>
        <p:nvSpPr>
          <p:cNvPr id="1610" name="矩形 18"/>
          <p:cNvSpPr/>
          <p:nvPr/>
        </p:nvSpPr>
        <p:spPr>
          <a:xfrm>
            <a:off x="717480" y="2001960"/>
            <a:ext cx="1090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如果情况需要，注册会计师应当考虑在审计业务约定书中列明下列内容：</a:t>
            </a:r>
            <a:endParaRPr b="1"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Title 6"/>
          <p:cNvSpPr/>
          <p:nvPr/>
        </p:nvSpPr>
        <p:spPr>
          <a:xfrm>
            <a:off x="873000" y="755640"/>
            <a:ext cx="10439640" cy="804240"/>
          </a:xfrm>
          <a:prstGeom prst="rect">
            <a:avLst/>
          </a:prstGeom>
          <a:noFill/>
          <a:ln w="0">
            <a:noFill/>
          </a:ln>
        </p:spPr>
        <p:style>
          <a:lnRef idx="0"/>
          <a:fillRef idx="0"/>
          <a:effectRef idx="0"/>
          <a:fontRef idx="minor"/>
        </p:style>
        <p:txBody>
          <a:bodyPr lIns="72000" rIns="72000" tIns="36360" bIns="36360" anchor="t">
            <a:sp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f75b4"/>
                </a:solidFill>
                <a:latin typeface="微软雅黑"/>
                <a:ea typeface="微软雅黑"/>
              </a:rPr>
              <a:t>工作过程示范</a:t>
            </a:r>
            <a:endParaRPr b="1" lang="en-US" sz="3200" spc="-1" strike="noStrike">
              <a:solidFill>
                <a:srgbClr val="000000"/>
              </a:solidFill>
              <a:latin typeface="Arial"/>
            </a:endParaRPr>
          </a:p>
        </p:txBody>
      </p:sp>
      <p:grpSp>
        <p:nvGrpSpPr>
          <p:cNvPr id="1612" name="组合 28"/>
          <p:cNvGrpSpPr/>
          <p:nvPr/>
        </p:nvGrpSpPr>
        <p:grpSpPr>
          <a:xfrm>
            <a:off x="905040" y="404640"/>
            <a:ext cx="10359720" cy="0"/>
            <a:chOff x="905040" y="404640"/>
            <a:chExt cx="10359720" cy="0"/>
          </a:xfrm>
        </p:grpSpPr>
        <p:sp>
          <p:nvSpPr>
            <p:cNvPr id="1613" name="直接连接符 52"/>
            <p:cNvSpPr/>
            <p:nvPr/>
          </p:nvSpPr>
          <p:spPr>
            <a:xfrm>
              <a:off x="905040" y="404640"/>
              <a:ext cx="197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14" name="直接连接符 64"/>
            <p:cNvSpPr/>
            <p:nvPr/>
          </p:nvSpPr>
          <p:spPr>
            <a:xfrm>
              <a:off x="9285480" y="404640"/>
              <a:ext cx="197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1615" name="组合 1"/>
          <p:cNvGrpSpPr/>
          <p:nvPr/>
        </p:nvGrpSpPr>
        <p:grpSpPr>
          <a:xfrm>
            <a:off x="81000" y="3929040"/>
            <a:ext cx="2892240" cy="2530440"/>
            <a:chOff x="81000" y="3929040"/>
            <a:chExt cx="2892240" cy="2530440"/>
          </a:xfrm>
        </p:grpSpPr>
        <p:sp>
          <p:nvSpPr>
            <p:cNvPr id="1616" name="任意多边形 21"/>
            <p:cNvSpPr/>
            <p:nvPr/>
          </p:nvSpPr>
          <p:spPr>
            <a:xfrm>
              <a:off x="884520" y="4223520"/>
              <a:ext cx="2049480" cy="2235960"/>
            </a:xfrm>
            <a:custGeom>
              <a:avLst/>
              <a:gdLst/>
              <a:ahLst/>
              <a:rect l="l" t="t" r="r" b="b"/>
              <a:pathLst>
                <a:path w="424" h="536">
                  <a:moveTo>
                    <a:pt x="9" y="0"/>
                  </a:moveTo>
                  <a:cubicBezTo>
                    <a:pt x="3" y="6"/>
                    <a:pt x="0" y="15"/>
                    <a:pt x="0" y="25"/>
                  </a:cubicBezTo>
                  <a:cubicBezTo>
                    <a:pt x="0" y="497"/>
                    <a:pt x="0" y="497"/>
                    <a:pt x="0" y="497"/>
                  </a:cubicBezTo>
                  <a:cubicBezTo>
                    <a:pt x="0" y="519"/>
                    <a:pt x="18" y="536"/>
                    <a:pt x="39" y="536"/>
                  </a:cubicBezTo>
                  <a:cubicBezTo>
                    <a:pt x="391" y="536"/>
                    <a:pt x="391" y="536"/>
                    <a:pt x="391" y="536"/>
                  </a:cubicBezTo>
                  <a:cubicBezTo>
                    <a:pt x="405" y="536"/>
                    <a:pt x="416" y="530"/>
                    <a:pt x="424" y="519"/>
                  </a:cubicBezTo>
                  <a:cubicBezTo>
                    <a:pt x="416" y="528"/>
                    <a:pt x="405" y="534"/>
                    <a:pt x="393" y="534"/>
                  </a:cubicBezTo>
                  <a:cubicBezTo>
                    <a:pt x="42" y="534"/>
                    <a:pt x="42" y="534"/>
                    <a:pt x="42" y="534"/>
                  </a:cubicBezTo>
                  <a:cubicBezTo>
                    <a:pt x="20" y="534"/>
                    <a:pt x="2" y="516"/>
                    <a:pt x="2" y="494"/>
                  </a:cubicBezTo>
                  <a:cubicBezTo>
                    <a:pt x="2" y="22"/>
                    <a:pt x="2" y="22"/>
                    <a:pt x="2" y="22"/>
                  </a:cubicBezTo>
                  <a:cubicBezTo>
                    <a:pt x="2" y="14"/>
                    <a:pt x="5" y="6"/>
                    <a:pt x="9" y="0"/>
                  </a:cubicBezTo>
                </a:path>
              </a:pathLst>
            </a:custGeom>
            <a:solidFill>
              <a:srgbClr val="93959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17" name="任意多边形 22"/>
            <p:cNvSpPr/>
            <p:nvPr/>
          </p:nvSpPr>
          <p:spPr>
            <a:xfrm>
              <a:off x="826920" y="3929040"/>
              <a:ext cx="2146320" cy="2522520"/>
            </a:xfrm>
            <a:custGeom>
              <a:avLst/>
              <a:gdLst/>
              <a:ahLst/>
              <a:rect l="l" t="t" r="r" b="b"/>
              <a:pathLst>
                <a:path w="430" h="551">
                  <a:moveTo>
                    <a:pt x="430" y="511"/>
                  </a:moveTo>
                  <a:cubicBezTo>
                    <a:pt x="430" y="533"/>
                    <a:pt x="413" y="551"/>
                    <a:pt x="391" y="551"/>
                  </a:cubicBezTo>
                  <a:cubicBezTo>
                    <a:pt x="40" y="551"/>
                    <a:pt x="40" y="551"/>
                    <a:pt x="40" y="551"/>
                  </a:cubicBezTo>
                  <a:cubicBezTo>
                    <a:pt x="18" y="551"/>
                    <a:pt x="0" y="533"/>
                    <a:pt x="0" y="511"/>
                  </a:cubicBezTo>
                  <a:cubicBezTo>
                    <a:pt x="0" y="39"/>
                    <a:pt x="0" y="39"/>
                    <a:pt x="0" y="39"/>
                  </a:cubicBezTo>
                  <a:cubicBezTo>
                    <a:pt x="0" y="17"/>
                    <a:pt x="18" y="0"/>
                    <a:pt x="40" y="0"/>
                  </a:cubicBezTo>
                  <a:cubicBezTo>
                    <a:pt x="391" y="0"/>
                    <a:pt x="391" y="0"/>
                    <a:pt x="391" y="0"/>
                  </a:cubicBezTo>
                  <a:cubicBezTo>
                    <a:pt x="413" y="0"/>
                    <a:pt x="430" y="17"/>
                    <a:pt x="430" y="39"/>
                  </a:cubicBezTo>
                  <a:cubicBezTo>
                    <a:pt x="430" y="511"/>
                    <a:pt x="430" y="511"/>
                    <a:pt x="430" y="511"/>
                  </a:cubicBezTo>
                </a:path>
              </a:pathLst>
            </a:custGeom>
            <a:solidFill>
              <a:srgbClr val="d9dde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18" name="任意多边形 23"/>
            <p:cNvSpPr/>
            <p:nvPr/>
          </p:nvSpPr>
          <p:spPr>
            <a:xfrm>
              <a:off x="693000" y="4286520"/>
              <a:ext cx="1875240" cy="2064240"/>
            </a:xfrm>
            <a:custGeom>
              <a:avLst/>
              <a:gdLst/>
              <a:ahLst/>
              <a:rect l="l" t="t" r="r" b="b"/>
              <a:pathLst>
                <a:path w="1549" h="1974">
                  <a:moveTo>
                    <a:pt x="1549" y="0"/>
                  </a:moveTo>
                  <a:lnTo>
                    <a:pt x="1541" y="0"/>
                  </a:lnTo>
                  <a:lnTo>
                    <a:pt x="1541" y="1962"/>
                  </a:lnTo>
                  <a:lnTo>
                    <a:pt x="355" y="1962"/>
                  </a:lnTo>
                  <a:lnTo>
                    <a:pt x="0" y="1619"/>
                  </a:lnTo>
                  <a:lnTo>
                    <a:pt x="363" y="1974"/>
                  </a:lnTo>
                  <a:lnTo>
                    <a:pt x="1549" y="1974"/>
                  </a:lnTo>
                  <a:lnTo>
                    <a:pt x="1549" y="0"/>
                  </a:lnTo>
                </a:path>
              </a:pathLst>
            </a:cu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19" name="任意多边形 24"/>
            <p:cNvSpPr/>
            <p:nvPr/>
          </p:nvSpPr>
          <p:spPr>
            <a:xfrm>
              <a:off x="976680" y="4277880"/>
              <a:ext cx="1880280" cy="2060280"/>
            </a:xfrm>
            <a:custGeom>
              <a:avLst/>
              <a:gdLst/>
              <a:ahLst/>
              <a:rect l="l" t="t" r="r" b="b"/>
              <a:pathLst>
                <a:path w="1553" h="1970">
                  <a:moveTo>
                    <a:pt x="367" y="1970"/>
                  </a:moveTo>
                  <a:lnTo>
                    <a:pt x="1553" y="1970"/>
                  </a:lnTo>
                  <a:lnTo>
                    <a:pt x="1553" y="0"/>
                  </a:lnTo>
                  <a:lnTo>
                    <a:pt x="0" y="0"/>
                  </a:lnTo>
                  <a:lnTo>
                    <a:pt x="0" y="1619"/>
                  </a:lnTo>
                  <a:lnTo>
                    <a:pt x="367" y="197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20" name="任意多边形 25"/>
            <p:cNvSpPr/>
            <p:nvPr/>
          </p:nvSpPr>
          <p:spPr>
            <a:xfrm>
              <a:off x="1070640" y="4359240"/>
              <a:ext cx="1880280" cy="2060280"/>
            </a:xfrm>
            <a:custGeom>
              <a:avLst/>
              <a:gdLst/>
              <a:ahLst/>
              <a:rect l="l" t="t" r="r" b="b"/>
              <a:pathLst>
                <a:path w="1553" h="1970">
                  <a:moveTo>
                    <a:pt x="367" y="1970"/>
                  </a:moveTo>
                  <a:lnTo>
                    <a:pt x="1553" y="1970"/>
                  </a:lnTo>
                  <a:lnTo>
                    <a:pt x="1553" y="0"/>
                  </a:lnTo>
                  <a:lnTo>
                    <a:pt x="0" y="0"/>
                  </a:lnTo>
                  <a:lnTo>
                    <a:pt x="0" y="1619"/>
                  </a:lnTo>
                  <a:lnTo>
                    <a:pt x="367" y="1970"/>
                  </a:lnTo>
                </a:path>
              </a:pathLst>
            </a:cu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21" name="矩形 68"/>
            <p:cNvSpPr/>
            <p:nvPr/>
          </p:nvSpPr>
          <p:spPr>
            <a:xfrm>
              <a:off x="1977840" y="6067440"/>
              <a:ext cx="662040" cy="70920"/>
            </a:xfrm>
            <a:prstGeom prst="rect">
              <a:avLst/>
            </a:prstGeom>
            <a:solidFill>
              <a:srgbClr val="8d98ad"/>
            </a:solidFill>
            <a:ln w="0">
              <a:noFill/>
            </a:ln>
          </p:spPr>
          <p:style>
            <a:lnRef idx="0"/>
            <a:fillRef idx="0"/>
            <a:effectRef idx="0"/>
            <a:fontRef idx="minor"/>
          </p:style>
          <p:txBody>
            <a:bodyPr lIns="90000" rIns="90000" tIns="24120" bIns="2412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22" name="矩形 69"/>
            <p:cNvSpPr/>
            <p:nvPr/>
          </p:nvSpPr>
          <p:spPr>
            <a:xfrm>
              <a:off x="1204200" y="4791960"/>
              <a:ext cx="1435680" cy="33120"/>
            </a:xfrm>
            <a:prstGeom prst="rect">
              <a:avLst/>
            </a:prstGeom>
            <a:solidFill>
              <a:srgbClr val="b3bac8"/>
            </a:solidFill>
            <a:ln w="0">
              <a:noFill/>
            </a:ln>
          </p:spPr>
          <p:style>
            <a:lnRef idx="0"/>
            <a:fillRef idx="0"/>
            <a:effectRef idx="0"/>
            <a:fontRef idx="minor"/>
          </p:style>
          <p:txBody>
            <a:bodyPr lIns="90000" rIns="90000" tIns="-13680" bIns="-1368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23" name="矩形 70"/>
            <p:cNvSpPr/>
            <p:nvPr/>
          </p:nvSpPr>
          <p:spPr>
            <a:xfrm>
              <a:off x="1204200" y="4920120"/>
              <a:ext cx="1435680" cy="37440"/>
            </a:xfrm>
            <a:prstGeom prst="rect">
              <a:avLst/>
            </a:prstGeom>
            <a:solidFill>
              <a:srgbClr val="b3bac8"/>
            </a:solidFill>
            <a:ln w="0">
              <a:noFill/>
            </a:ln>
          </p:spPr>
          <p:style>
            <a:lnRef idx="0"/>
            <a:fillRef idx="0"/>
            <a:effectRef idx="0"/>
            <a:fontRef idx="minor"/>
          </p:style>
          <p:txBody>
            <a:bodyPr lIns="90000" rIns="90000" tIns="-9360" bIns="-936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24" name="矩形 71"/>
            <p:cNvSpPr/>
            <p:nvPr/>
          </p:nvSpPr>
          <p:spPr>
            <a:xfrm>
              <a:off x="1204200" y="5054040"/>
              <a:ext cx="1435680" cy="33120"/>
            </a:xfrm>
            <a:prstGeom prst="rect">
              <a:avLst/>
            </a:prstGeom>
            <a:solidFill>
              <a:srgbClr val="b3bac8"/>
            </a:solidFill>
            <a:ln w="0">
              <a:noFill/>
            </a:ln>
          </p:spPr>
          <p:style>
            <a:lnRef idx="0"/>
            <a:fillRef idx="0"/>
            <a:effectRef idx="0"/>
            <a:fontRef idx="minor"/>
          </p:style>
          <p:txBody>
            <a:bodyPr lIns="90000" rIns="90000" tIns="-13680" bIns="-1368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25" name="矩形 72"/>
            <p:cNvSpPr/>
            <p:nvPr/>
          </p:nvSpPr>
          <p:spPr>
            <a:xfrm>
              <a:off x="1204200" y="5183640"/>
              <a:ext cx="1435680" cy="37440"/>
            </a:xfrm>
            <a:prstGeom prst="rect">
              <a:avLst/>
            </a:prstGeom>
            <a:solidFill>
              <a:srgbClr val="b3bac8"/>
            </a:solidFill>
            <a:ln w="0">
              <a:noFill/>
            </a:ln>
          </p:spPr>
          <p:style>
            <a:lnRef idx="0"/>
            <a:fillRef idx="0"/>
            <a:effectRef idx="0"/>
            <a:fontRef idx="minor"/>
          </p:style>
          <p:txBody>
            <a:bodyPr lIns="90000" rIns="90000" tIns="-9360" bIns="-936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26" name="矩形 13"/>
            <p:cNvSpPr/>
            <p:nvPr/>
          </p:nvSpPr>
          <p:spPr>
            <a:xfrm>
              <a:off x="1204200" y="5316480"/>
              <a:ext cx="1435680" cy="37440"/>
            </a:xfrm>
            <a:prstGeom prst="rect">
              <a:avLst/>
            </a:prstGeom>
            <a:solidFill>
              <a:srgbClr val="b3bac8"/>
            </a:solidFill>
            <a:ln w="0">
              <a:noFill/>
            </a:ln>
          </p:spPr>
          <p:style>
            <a:lnRef idx="0"/>
            <a:fillRef idx="0"/>
            <a:effectRef idx="0"/>
            <a:fontRef idx="minor"/>
          </p:style>
          <p:txBody>
            <a:bodyPr lIns="90000" rIns="90000" tIns="-9360" bIns="-936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27" name="矩形 14"/>
            <p:cNvSpPr/>
            <p:nvPr/>
          </p:nvSpPr>
          <p:spPr>
            <a:xfrm>
              <a:off x="1204200" y="5450400"/>
              <a:ext cx="1435680" cy="33120"/>
            </a:xfrm>
            <a:prstGeom prst="rect">
              <a:avLst/>
            </a:prstGeom>
            <a:solidFill>
              <a:srgbClr val="b3bac8"/>
            </a:solidFill>
            <a:ln w="0">
              <a:noFill/>
            </a:ln>
          </p:spPr>
          <p:style>
            <a:lnRef idx="0"/>
            <a:fillRef idx="0"/>
            <a:effectRef idx="0"/>
            <a:fontRef idx="minor"/>
          </p:style>
          <p:txBody>
            <a:bodyPr lIns="90000" rIns="90000" tIns="-13680" bIns="-1368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28" name="矩形 16"/>
            <p:cNvSpPr/>
            <p:nvPr/>
          </p:nvSpPr>
          <p:spPr>
            <a:xfrm>
              <a:off x="1204200" y="5579280"/>
              <a:ext cx="1435680" cy="37800"/>
            </a:xfrm>
            <a:prstGeom prst="rect">
              <a:avLst/>
            </a:prstGeom>
            <a:solidFill>
              <a:srgbClr val="b3bac8"/>
            </a:solidFill>
            <a:ln w="0">
              <a:noFill/>
            </a:ln>
          </p:spPr>
          <p:style>
            <a:lnRef idx="0"/>
            <a:fillRef idx="0"/>
            <a:effectRef idx="0"/>
            <a:fontRef idx="minor"/>
          </p:style>
          <p:txBody>
            <a:bodyPr lIns="90000" rIns="90000" tIns="-9000" bIns="-90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29" name="矩形 19"/>
            <p:cNvSpPr/>
            <p:nvPr/>
          </p:nvSpPr>
          <p:spPr>
            <a:xfrm>
              <a:off x="1204200" y="5713200"/>
              <a:ext cx="1435680" cy="33120"/>
            </a:xfrm>
            <a:prstGeom prst="rect">
              <a:avLst/>
            </a:prstGeom>
            <a:solidFill>
              <a:srgbClr val="b3bac8"/>
            </a:solidFill>
            <a:ln w="0">
              <a:noFill/>
            </a:ln>
          </p:spPr>
          <p:style>
            <a:lnRef idx="0"/>
            <a:fillRef idx="0"/>
            <a:effectRef idx="0"/>
            <a:fontRef idx="minor"/>
          </p:style>
          <p:txBody>
            <a:bodyPr lIns="90000" rIns="90000" tIns="-13680" bIns="-1368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30" name="矩形 20"/>
            <p:cNvSpPr/>
            <p:nvPr/>
          </p:nvSpPr>
          <p:spPr>
            <a:xfrm>
              <a:off x="1204200" y="5846760"/>
              <a:ext cx="1435680" cy="33120"/>
            </a:xfrm>
            <a:prstGeom prst="rect">
              <a:avLst/>
            </a:prstGeom>
            <a:solidFill>
              <a:srgbClr val="b3bac8"/>
            </a:solidFill>
            <a:ln w="0">
              <a:noFill/>
            </a:ln>
          </p:spPr>
          <p:style>
            <a:lnRef idx="0"/>
            <a:fillRef idx="0"/>
            <a:effectRef idx="0"/>
            <a:fontRef idx="minor"/>
          </p:style>
          <p:txBody>
            <a:bodyPr lIns="90000" rIns="90000" tIns="-13680" bIns="-1368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31" name="矩形 22"/>
            <p:cNvSpPr/>
            <p:nvPr/>
          </p:nvSpPr>
          <p:spPr>
            <a:xfrm>
              <a:off x="1430640" y="4516560"/>
              <a:ext cx="1010880" cy="70200"/>
            </a:xfrm>
            <a:prstGeom prst="rect">
              <a:avLst/>
            </a:prstGeom>
            <a:solidFill>
              <a:srgbClr val="b3bac8"/>
            </a:solidFill>
            <a:ln w="0">
              <a:noFill/>
            </a:ln>
          </p:spPr>
          <p:style>
            <a:lnRef idx="0"/>
            <a:fillRef idx="0"/>
            <a:effectRef idx="0"/>
            <a:fontRef idx="minor"/>
          </p:style>
          <p:txBody>
            <a:bodyPr lIns="90000" rIns="90000" tIns="23400" bIns="234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32" name="任意多边形 37"/>
            <p:cNvSpPr/>
            <p:nvPr/>
          </p:nvSpPr>
          <p:spPr>
            <a:xfrm>
              <a:off x="976680" y="5971320"/>
              <a:ext cx="453600" cy="366840"/>
            </a:xfrm>
            <a:custGeom>
              <a:avLst/>
              <a:gdLst/>
              <a:ahLst/>
              <a:rect l="l" t="t" r="r" b="b"/>
              <a:pathLst>
                <a:path w="375" h="351">
                  <a:moveTo>
                    <a:pt x="375" y="0"/>
                  </a:moveTo>
                  <a:lnTo>
                    <a:pt x="0" y="0"/>
                  </a:lnTo>
                  <a:lnTo>
                    <a:pt x="367" y="351"/>
                  </a:lnTo>
                  <a:lnTo>
                    <a:pt x="375" y="0"/>
                  </a:lnTo>
                  <a:close/>
                </a:path>
              </a:pathLst>
            </a:custGeom>
            <a:solidFill>
              <a:srgbClr val="bcbcb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33" name="任意多边形 38"/>
            <p:cNvSpPr/>
            <p:nvPr/>
          </p:nvSpPr>
          <p:spPr>
            <a:xfrm>
              <a:off x="1070640" y="6052320"/>
              <a:ext cx="453600" cy="366840"/>
            </a:xfrm>
            <a:custGeom>
              <a:avLst/>
              <a:gdLst/>
              <a:ahLst/>
              <a:rect l="l" t="t" r="r" b="b"/>
              <a:pathLst>
                <a:path w="375" h="351">
                  <a:moveTo>
                    <a:pt x="375" y="0"/>
                  </a:moveTo>
                  <a:lnTo>
                    <a:pt x="0" y="0"/>
                  </a:lnTo>
                  <a:lnTo>
                    <a:pt x="367" y="351"/>
                  </a:lnTo>
                  <a:lnTo>
                    <a:pt x="375" y="0"/>
                  </a:lnTo>
                </a:path>
              </a:pathLst>
            </a:cu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34" name="任意多边形 39"/>
            <p:cNvSpPr/>
            <p:nvPr/>
          </p:nvSpPr>
          <p:spPr>
            <a:xfrm>
              <a:off x="976680" y="5971320"/>
              <a:ext cx="443880" cy="366840"/>
            </a:xfrm>
            <a:custGeom>
              <a:avLst/>
              <a:gdLst/>
              <a:ahLst/>
              <a:rect l="l" t="t" r="r" b="b"/>
              <a:pathLst>
                <a:path w="367" h="351">
                  <a:moveTo>
                    <a:pt x="351" y="20"/>
                  </a:moveTo>
                  <a:lnTo>
                    <a:pt x="0" y="0"/>
                  </a:lnTo>
                  <a:lnTo>
                    <a:pt x="367" y="351"/>
                  </a:lnTo>
                  <a:lnTo>
                    <a:pt x="351" y="20"/>
                  </a:lnTo>
                  <a:close/>
                </a:path>
              </a:pathLst>
            </a:custGeom>
            <a:solidFill>
              <a:srgbClr val="b3bac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35" name="矩形 26"/>
            <p:cNvSpPr/>
            <p:nvPr/>
          </p:nvSpPr>
          <p:spPr>
            <a:xfrm>
              <a:off x="1561320" y="4094640"/>
              <a:ext cx="720360" cy="191520"/>
            </a:xfrm>
            <a:prstGeom prst="rect">
              <a:avLst/>
            </a:prstGeom>
            <a:solidFill>
              <a:srgbClr val="4d576b"/>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36" name="任意多边形 19"/>
            <p:cNvSpPr/>
            <p:nvPr/>
          </p:nvSpPr>
          <p:spPr>
            <a:xfrm>
              <a:off x="1550160" y="3929040"/>
              <a:ext cx="732600" cy="342360"/>
            </a:xfrm>
            <a:custGeom>
              <a:avLst/>
              <a:gdLst/>
              <a:ahLst/>
              <a:rect l="l" t="t" r="r" b="b"/>
              <a:pathLst>
                <a:path w="167" h="88">
                  <a:moveTo>
                    <a:pt x="115" y="42"/>
                  </a:moveTo>
                  <a:cubicBezTo>
                    <a:pt x="116" y="39"/>
                    <a:pt x="117" y="36"/>
                    <a:pt x="117" y="33"/>
                  </a:cubicBezTo>
                  <a:cubicBezTo>
                    <a:pt x="117" y="15"/>
                    <a:pt x="102" y="0"/>
                    <a:pt x="83" y="0"/>
                  </a:cubicBezTo>
                  <a:cubicBezTo>
                    <a:pt x="65" y="0"/>
                    <a:pt x="50" y="15"/>
                    <a:pt x="50" y="33"/>
                  </a:cubicBezTo>
                  <a:cubicBezTo>
                    <a:pt x="50" y="36"/>
                    <a:pt x="51" y="39"/>
                    <a:pt x="51" y="42"/>
                  </a:cubicBezTo>
                  <a:cubicBezTo>
                    <a:pt x="0" y="42"/>
                    <a:pt x="0" y="42"/>
                    <a:pt x="0" y="42"/>
                  </a:cubicBezTo>
                  <a:cubicBezTo>
                    <a:pt x="0" y="88"/>
                    <a:pt x="0" y="88"/>
                    <a:pt x="0" y="88"/>
                  </a:cubicBezTo>
                  <a:cubicBezTo>
                    <a:pt x="167" y="88"/>
                    <a:pt x="167" y="88"/>
                    <a:pt x="167" y="88"/>
                  </a:cubicBezTo>
                  <a:cubicBezTo>
                    <a:pt x="167" y="42"/>
                    <a:pt x="167" y="42"/>
                    <a:pt x="167" y="42"/>
                  </a:cubicBezTo>
                  <a:lnTo>
                    <a:pt x="115" y="42"/>
                  </a:lnTo>
                  <a:close/>
                </a:path>
              </a:pathLst>
            </a:custGeom>
            <a:solidFill>
              <a:srgbClr val="8d98a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37" name="椭圆 31"/>
            <p:cNvSpPr/>
            <p:nvPr/>
          </p:nvSpPr>
          <p:spPr>
            <a:xfrm>
              <a:off x="1830600" y="3983040"/>
              <a:ext cx="176400" cy="152280"/>
            </a:xfrm>
            <a:prstGeom prst="ellipse">
              <a:avLst/>
            </a:prstGeom>
            <a:solidFill>
              <a:srgbClr val="8d98ad"/>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38" name="任意多边形 13"/>
            <p:cNvSpPr/>
            <p:nvPr/>
          </p:nvSpPr>
          <p:spPr>
            <a:xfrm rot="1080600">
              <a:off x="1485720" y="5087520"/>
              <a:ext cx="420840" cy="223200"/>
            </a:xfrm>
            <a:custGeom>
              <a:avLst/>
              <a:gdLst/>
              <a:ahLst/>
              <a:rect l="l" t="t" r="r" b="b"/>
              <a:pathLst>
                <a:path w="117" h="71">
                  <a:moveTo>
                    <a:pt x="6" y="29"/>
                  </a:moveTo>
                  <a:cubicBezTo>
                    <a:pt x="0" y="58"/>
                    <a:pt x="0" y="58"/>
                    <a:pt x="0" y="58"/>
                  </a:cubicBezTo>
                  <a:cubicBezTo>
                    <a:pt x="63" y="71"/>
                    <a:pt x="63" y="71"/>
                    <a:pt x="63" y="71"/>
                  </a:cubicBezTo>
                  <a:cubicBezTo>
                    <a:pt x="76" y="58"/>
                    <a:pt x="95" y="51"/>
                    <a:pt x="115" y="55"/>
                  </a:cubicBezTo>
                  <a:cubicBezTo>
                    <a:pt x="115" y="55"/>
                    <a:pt x="115" y="55"/>
                    <a:pt x="115" y="55"/>
                  </a:cubicBezTo>
                  <a:cubicBezTo>
                    <a:pt x="115" y="53"/>
                    <a:pt x="115" y="53"/>
                    <a:pt x="115" y="53"/>
                  </a:cubicBezTo>
                  <a:cubicBezTo>
                    <a:pt x="68" y="43"/>
                    <a:pt x="68" y="43"/>
                    <a:pt x="68" y="43"/>
                  </a:cubicBezTo>
                  <a:cubicBezTo>
                    <a:pt x="67" y="45"/>
                    <a:pt x="64" y="47"/>
                    <a:pt x="62" y="46"/>
                  </a:cubicBezTo>
                  <a:cubicBezTo>
                    <a:pt x="59" y="45"/>
                    <a:pt x="57" y="42"/>
                    <a:pt x="57" y="39"/>
                  </a:cubicBezTo>
                  <a:cubicBezTo>
                    <a:pt x="58" y="36"/>
                    <a:pt x="61" y="34"/>
                    <a:pt x="64" y="35"/>
                  </a:cubicBezTo>
                  <a:cubicBezTo>
                    <a:pt x="67" y="36"/>
                    <a:pt x="68" y="38"/>
                    <a:pt x="68" y="40"/>
                  </a:cubicBezTo>
                  <a:cubicBezTo>
                    <a:pt x="116" y="50"/>
                    <a:pt x="116" y="50"/>
                    <a:pt x="116" y="50"/>
                  </a:cubicBezTo>
                  <a:cubicBezTo>
                    <a:pt x="117" y="48"/>
                    <a:pt x="117" y="48"/>
                    <a:pt x="117" y="48"/>
                  </a:cubicBezTo>
                  <a:cubicBezTo>
                    <a:pt x="117" y="48"/>
                    <a:pt x="117" y="48"/>
                    <a:pt x="117" y="48"/>
                  </a:cubicBezTo>
                  <a:cubicBezTo>
                    <a:pt x="97" y="44"/>
                    <a:pt x="82" y="30"/>
                    <a:pt x="75" y="13"/>
                  </a:cubicBezTo>
                  <a:cubicBezTo>
                    <a:pt x="12" y="0"/>
                    <a:pt x="12" y="0"/>
                    <a:pt x="12" y="0"/>
                  </a:cubicBezTo>
                  <a:lnTo>
                    <a:pt x="6" y="29"/>
                  </a:lnTo>
                  <a:close/>
                </a:path>
              </a:pathLst>
            </a:custGeom>
            <a:solidFill>
              <a:srgbClr val="63b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39" name="任意多边形 14"/>
            <p:cNvSpPr/>
            <p:nvPr/>
          </p:nvSpPr>
          <p:spPr>
            <a:xfrm rot="1080600">
              <a:off x="416520" y="4676040"/>
              <a:ext cx="1258920" cy="433440"/>
            </a:xfrm>
            <a:custGeom>
              <a:avLst/>
              <a:gdLst/>
              <a:ahLst/>
              <a:rect l="l" t="t" r="r" b="b"/>
              <a:pathLst>
                <a:path w="2111" h="841">
                  <a:moveTo>
                    <a:pt x="2111" y="420"/>
                  </a:moveTo>
                  <a:lnTo>
                    <a:pt x="2027" y="841"/>
                  </a:lnTo>
                  <a:lnTo>
                    <a:pt x="0" y="426"/>
                  </a:lnTo>
                  <a:lnTo>
                    <a:pt x="84" y="0"/>
                  </a:lnTo>
                  <a:lnTo>
                    <a:pt x="2111" y="420"/>
                  </a:lnTo>
                  <a:close/>
                </a:path>
              </a:pathLst>
            </a:custGeom>
            <a:solidFill>
              <a:srgbClr val="1f74a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40" name="任意多边形 15"/>
            <p:cNvSpPr/>
            <p:nvPr/>
          </p:nvSpPr>
          <p:spPr>
            <a:xfrm rot="1080600">
              <a:off x="370800" y="4653360"/>
              <a:ext cx="1259640" cy="435960"/>
            </a:xfrm>
            <a:custGeom>
              <a:avLst/>
              <a:gdLst/>
              <a:ahLst/>
              <a:rect l="l" t="t" r="r" b="b"/>
              <a:pathLst>
                <a:path w="2112" h="847">
                  <a:moveTo>
                    <a:pt x="2112" y="421"/>
                  </a:moveTo>
                  <a:lnTo>
                    <a:pt x="2027" y="847"/>
                  </a:lnTo>
                  <a:lnTo>
                    <a:pt x="0" y="427"/>
                  </a:lnTo>
                  <a:lnTo>
                    <a:pt x="85" y="0"/>
                  </a:lnTo>
                  <a:lnTo>
                    <a:pt x="2112" y="421"/>
                  </a:lnTo>
                  <a:close/>
                </a:path>
              </a:pathLst>
            </a:custGeom>
            <a:solidFill>
              <a:srgbClr val="cbe5f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41" name="任意多边形 16"/>
            <p:cNvSpPr/>
            <p:nvPr/>
          </p:nvSpPr>
          <p:spPr>
            <a:xfrm rot="1080600">
              <a:off x="119160" y="4353840"/>
              <a:ext cx="201600" cy="279360"/>
            </a:xfrm>
            <a:custGeom>
              <a:avLst/>
              <a:gdLst/>
              <a:ahLst/>
              <a:rect l="l" t="t" r="r" b="b"/>
              <a:pathLst>
                <a:path w="56" h="89">
                  <a:moveTo>
                    <a:pt x="37" y="88"/>
                  </a:moveTo>
                  <a:cubicBezTo>
                    <a:pt x="39" y="89"/>
                    <a:pt x="39" y="89"/>
                    <a:pt x="39" y="89"/>
                  </a:cubicBezTo>
                  <a:cubicBezTo>
                    <a:pt x="56" y="5"/>
                    <a:pt x="56" y="5"/>
                    <a:pt x="56" y="5"/>
                  </a:cubicBezTo>
                  <a:cubicBezTo>
                    <a:pt x="54" y="4"/>
                    <a:pt x="54" y="4"/>
                    <a:pt x="54" y="4"/>
                  </a:cubicBezTo>
                  <a:cubicBezTo>
                    <a:pt x="32" y="0"/>
                    <a:pt x="10" y="15"/>
                    <a:pt x="5" y="38"/>
                  </a:cubicBezTo>
                  <a:cubicBezTo>
                    <a:pt x="0" y="61"/>
                    <a:pt x="15" y="83"/>
                    <a:pt x="37" y="88"/>
                  </a:cubicBezTo>
                  <a:close/>
                </a:path>
              </a:pathLst>
            </a:custGeom>
            <a:solidFill>
              <a:srgbClr val="cbe5f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42" name="任意多边形 17"/>
            <p:cNvSpPr/>
            <p:nvPr/>
          </p:nvSpPr>
          <p:spPr>
            <a:xfrm rot="1080600">
              <a:off x="236520" y="4390920"/>
              <a:ext cx="784440" cy="445680"/>
            </a:xfrm>
            <a:custGeom>
              <a:avLst/>
              <a:gdLst/>
              <a:ahLst/>
              <a:rect l="l" t="t" r="r" b="b"/>
              <a:pathLst>
                <a:path w="218" h="142">
                  <a:moveTo>
                    <a:pt x="17" y="30"/>
                  </a:moveTo>
                  <a:cubicBezTo>
                    <a:pt x="0" y="114"/>
                    <a:pt x="0" y="114"/>
                    <a:pt x="0" y="114"/>
                  </a:cubicBezTo>
                  <a:cubicBezTo>
                    <a:pt x="137" y="142"/>
                    <a:pt x="137" y="142"/>
                    <a:pt x="137" y="142"/>
                  </a:cubicBezTo>
                  <a:cubicBezTo>
                    <a:pt x="140" y="142"/>
                    <a:pt x="144" y="140"/>
                    <a:pt x="145" y="136"/>
                  </a:cubicBezTo>
                  <a:cubicBezTo>
                    <a:pt x="159" y="65"/>
                    <a:pt x="159" y="65"/>
                    <a:pt x="159" y="65"/>
                  </a:cubicBezTo>
                  <a:cubicBezTo>
                    <a:pt x="160" y="62"/>
                    <a:pt x="158" y="58"/>
                    <a:pt x="154" y="58"/>
                  </a:cubicBezTo>
                  <a:cubicBezTo>
                    <a:pt x="31" y="32"/>
                    <a:pt x="31" y="32"/>
                    <a:pt x="31" y="32"/>
                  </a:cubicBezTo>
                  <a:cubicBezTo>
                    <a:pt x="33" y="22"/>
                    <a:pt x="44" y="15"/>
                    <a:pt x="54" y="18"/>
                  </a:cubicBezTo>
                  <a:cubicBezTo>
                    <a:pt x="206" y="49"/>
                    <a:pt x="206" y="49"/>
                    <a:pt x="206" y="49"/>
                  </a:cubicBezTo>
                  <a:cubicBezTo>
                    <a:pt x="206" y="49"/>
                    <a:pt x="206" y="49"/>
                    <a:pt x="206" y="49"/>
                  </a:cubicBezTo>
                  <a:cubicBezTo>
                    <a:pt x="210" y="49"/>
                    <a:pt x="215" y="47"/>
                    <a:pt x="216" y="44"/>
                  </a:cubicBezTo>
                  <a:cubicBezTo>
                    <a:pt x="216" y="44"/>
                    <a:pt x="216" y="44"/>
                    <a:pt x="216" y="44"/>
                  </a:cubicBezTo>
                  <a:cubicBezTo>
                    <a:pt x="218" y="36"/>
                    <a:pt x="218" y="36"/>
                    <a:pt x="218" y="36"/>
                  </a:cubicBezTo>
                  <a:cubicBezTo>
                    <a:pt x="57" y="3"/>
                    <a:pt x="57" y="3"/>
                    <a:pt x="57" y="3"/>
                  </a:cubicBezTo>
                  <a:cubicBezTo>
                    <a:pt x="39" y="0"/>
                    <a:pt x="21" y="11"/>
                    <a:pt x="17" y="30"/>
                  </a:cubicBezTo>
                  <a:close/>
                </a:path>
              </a:pathLst>
            </a:custGeom>
            <a:solidFill>
              <a:srgbClr val="1f74a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43" name="任意多边形 18"/>
            <p:cNvSpPr/>
            <p:nvPr/>
          </p:nvSpPr>
          <p:spPr>
            <a:xfrm rot="1080600">
              <a:off x="294840" y="4416480"/>
              <a:ext cx="128880" cy="275760"/>
            </a:xfrm>
            <a:custGeom>
              <a:avLst/>
              <a:gdLst/>
              <a:ahLst/>
              <a:rect l="l" t="t" r="r" b="b"/>
              <a:pathLst>
                <a:path w="217" h="536">
                  <a:moveTo>
                    <a:pt x="114" y="536"/>
                  </a:moveTo>
                  <a:lnTo>
                    <a:pt x="217" y="24"/>
                  </a:lnTo>
                  <a:lnTo>
                    <a:pt x="102" y="0"/>
                  </a:lnTo>
                  <a:lnTo>
                    <a:pt x="0" y="512"/>
                  </a:lnTo>
                  <a:lnTo>
                    <a:pt x="114" y="536"/>
                  </a:lnTo>
                  <a:close/>
                </a:path>
              </a:pathLst>
            </a:custGeom>
            <a:solidFill>
              <a:srgbClr val="97cae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644" name="文本框 48"/>
          <p:cNvSpPr/>
          <p:nvPr/>
        </p:nvSpPr>
        <p:spPr>
          <a:xfrm>
            <a:off x="4390920" y="4087800"/>
            <a:ext cx="7290000" cy="623880"/>
          </a:xfrm>
          <a:prstGeom prst="rect">
            <a:avLst/>
          </a:prstGeom>
          <a:noFill/>
          <a:ln w="0">
            <a:noFill/>
          </a:ln>
        </p:spPr>
        <p:style>
          <a:lnRef idx="0"/>
          <a:fillRef idx="0"/>
          <a:effectRef idx="0"/>
          <a:fontRef idx="minor"/>
        </p:style>
        <p:txBody>
          <a:bodyPr lIns="90000" rIns="90000" tIns="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表 </a:t>
            </a:r>
            <a:r>
              <a:rPr b="1" lang="en-US" sz="2400" spc="-1" strike="noStrike">
                <a:solidFill>
                  <a:srgbClr val="000000"/>
                </a:solidFill>
                <a:latin typeface="Arial"/>
              </a:rPr>
              <a:t>3-1</a:t>
            </a:r>
            <a:r>
              <a:rPr b="1" lang="zh-CN" sz="2400" spc="-1" strike="noStrike">
                <a:solidFill>
                  <a:srgbClr val="000000"/>
                </a:solidFill>
                <a:latin typeface="Arial"/>
                <a:ea typeface="宋体"/>
              </a:rPr>
              <a:t>　基本情况表  （</a:t>
            </a:r>
            <a:r>
              <a:rPr b="1" lang="en-US" sz="2400" spc="-1" strike="noStrike">
                <a:solidFill>
                  <a:srgbClr val="000000"/>
                </a:solidFill>
                <a:latin typeface="Arial"/>
              </a:rPr>
              <a:t> </a:t>
            </a:r>
            <a:r>
              <a:rPr b="1" lang="en-US" sz="2400" spc="-1" strike="noStrike">
                <a:solidFill>
                  <a:srgbClr val="000000"/>
                </a:solidFill>
                <a:latin typeface="Arial"/>
              </a:rPr>
              <a:t>P66-67 </a:t>
            </a:r>
            <a:r>
              <a:rPr b="1" lang="zh-CN" sz="2400" spc="-1" strike="noStrike">
                <a:solidFill>
                  <a:srgbClr val="000000"/>
                </a:solidFill>
                <a:latin typeface="Arial"/>
                <a:ea typeface="宋体"/>
              </a:rPr>
              <a:t>）</a:t>
            </a:r>
            <a:endParaRPr b="1" lang="en-US" sz="2400" spc="-1" strike="noStrike">
              <a:solidFill>
                <a:srgbClr val="000000"/>
              </a:solidFill>
              <a:latin typeface="Arial"/>
            </a:endParaRPr>
          </a:p>
        </p:txBody>
      </p:sp>
      <p:grpSp>
        <p:nvGrpSpPr>
          <p:cNvPr id="1645" name="组合 53"/>
          <p:cNvGrpSpPr/>
          <p:nvPr/>
        </p:nvGrpSpPr>
        <p:grpSpPr>
          <a:xfrm>
            <a:off x="3584520" y="5005440"/>
            <a:ext cx="595440" cy="539640"/>
            <a:chOff x="3584520" y="5005440"/>
            <a:chExt cx="595440" cy="539640"/>
          </a:xfrm>
        </p:grpSpPr>
        <p:sp>
          <p:nvSpPr>
            <p:cNvPr id="1646" name="椭圆 54"/>
            <p:cNvSpPr/>
            <p:nvPr/>
          </p:nvSpPr>
          <p:spPr>
            <a:xfrm>
              <a:off x="3584520" y="5005440"/>
              <a:ext cx="595440" cy="539640"/>
            </a:xfrm>
            <a:prstGeom prst="ellipse">
              <a:avLst/>
            </a:prstGeom>
            <a:solidFill>
              <a:srgbClr val="1aa3aa"/>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47" name="任意多边形 46"/>
            <p:cNvSpPr/>
            <p:nvPr/>
          </p:nvSpPr>
          <p:spPr>
            <a:xfrm>
              <a:off x="3742560" y="5154480"/>
              <a:ext cx="279000" cy="240480"/>
            </a:xfrm>
            <a:custGeom>
              <a:avLst/>
              <a:gdLst/>
              <a:ahLst/>
              <a:rect l="l" t="t" r="r" b="b"/>
              <a:pathLst>
                <a:path w="461" h="443">
                  <a:moveTo>
                    <a:pt x="363" y="336"/>
                  </a:moveTo>
                  <a:lnTo>
                    <a:pt x="363" y="336"/>
                  </a:lnTo>
                  <a:cubicBezTo>
                    <a:pt x="301" y="310"/>
                    <a:pt x="284" y="292"/>
                    <a:pt x="284" y="248"/>
                  </a:cubicBezTo>
                  <a:cubicBezTo>
                    <a:pt x="284" y="230"/>
                    <a:pt x="301" y="239"/>
                    <a:pt x="310" y="195"/>
                  </a:cubicBezTo>
                  <a:cubicBezTo>
                    <a:pt x="310" y="176"/>
                    <a:pt x="328" y="195"/>
                    <a:pt x="328" y="151"/>
                  </a:cubicBezTo>
                  <a:cubicBezTo>
                    <a:pt x="328" y="132"/>
                    <a:pt x="319" y="132"/>
                    <a:pt x="319" y="132"/>
                  </a:cubicBezTo>
                  <a:cubicBezTo>
                    <a:pt x="319" y="132"/>
                    <a:pt x="328" y="106"/>
                    <a:pt x="328" y="88"/>
                  </a:cubicBezTo>
                  <a:cubicBezTo>
                    <a:pt x="328" y="61"/>
                    <a:pt x="319" y="0"/>
                    <a:pt x="230" y="0"/>
                  </a:cubicBezTo>
                  <a:cubicBezTo>
                    <a:pt x="141" y="0"/>
                    <a:pt x="132" y="61"/>
                    <a:pt x="132" y="88"/>
                  </a:cubicBezTo>
                  <a:cubicBezTo>
                    <a:pt x="132" y="106"/>
                    <a:pt x="141" y="132"/>
                    <a:pt x="141" y="132"/>
                  </a:cubicBezTo>
                  <a:cubicBezTo>
                    <a:pt x="141" y="132"/>
                    <a:pt x="132" y="132"/>
                    <a:pt x="132" y="151"/>
                  </a:cubicBezTo>
                  <a:cubicBezTo>
                    <a:pt x="132" y="195"/>
                    <a:pt x="150" y="176"/>
                    <a:pt x="150" y="195"/>
                  </a:cubicBezTo>
                  <a:cubicBezTo>
                    <a:pt x="159" y="239"/>
                    <a:pt x="177" y="230"/>
                    <a:pt x="177" y="248"/>
                  </a:cubicBezTo>
                  <a:cubicBezTo>
                    <a:pt x="177" y="292"/>
                    <a:pt x="159" y="310"/>
                    <a:pt x="97" y="336"/>
                  </a:cubicBezTo>
                  <a:cubicBezTo>
                    <a:pt x="35" y="354"/>
                    <a:pt x="0" y="380"/>
                    <a:pt x="0" y="398"/>
                  </a:cubicBezTo>
                  <a:cubicBezTo>
                    <a:pt x="0" y="407"/>
                    <a:pt x="0" y="442"/>
                    <a:pt x="0" y="442"/>
                  </a:cubicBezTo>
                  <a:cubicBezTo>
                    <a:pt x="230" y="442"/>
                    <a:pt x="230" y="442"/>
                    <a:pt x="230" y="442"/>
                  </a:cubicBezTo>
                  <a:cubicBezTo>
                    <a:pt x="460" y="442"/>
                    <a:pt x="460" y="442"/>
                    <a:pt x="460" y="442"/>
                  </a:cubicBezTo>
                  <a:cubicBezTo>
                    <a:pt x="460" y="442"/>
                    <a:pt x="460" y="407"/>
                    <a:pt x="460" y="398"/>
                  </a:cubicBezTo>
                  <a:cubicBezTo>
                    <a:pt x="460" y="380"/>
                    <a:pt x="425" y="354"/>
                    <a:pt x="363" y="336"/>
                  </a:cubicBez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648" name="组合 60"/>
          <p:cNvGrpSpPr/>
          <p:nvPr/>
        </p:nvGrpSpPr>
        <p:grpSpPr>
          <a:xfrm>
            <a:off x="3675240" y="4005360"/>
            <a:ext cx="541080" cy="541080"/>
            <a:chOff x="3675240" y="4005360"/>
            <a:chExt cx="541080" cy="541080"/>
          </a:xfrm>
        </p:grpSpPr>
        <p:sp>
          <p:nvSpPr>
            <p:cNvPr id="1649" name="椭圆 61"/>
            <p:cNvSpPr/>
            <p:nvPr/>
          </p:nvSpPr>
          <p:spPr>
            <a:xfrm>
              <a:off x="3675240" y="4005360"/>
              <a:ext cx="541080" cy="541080"/>
            </a:xfrm>
            <a:prstGeom prst="ellipse">
              <a:avLst/>
            </a:prstGeom>
            <a:solidFill>
              <a:srgbClr val="1f74ad"/>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50" name="任意多边形 44"/>
            <p:cNvSpPr/>
            <p:nvPr/>
          </p:nvSpPr>
          <p:spPr>
            <a:xfrm>
              <a:off x="3804120" y="4145760"/>
              <a:ext cx="282240" cy="249840"/>
            </a:xfrm>
            <a:custGeom>
              <a:avLst/>
              <a:gdLst/>
              <a:ahLst/>
              <a:rect l="l" t="t" r="r" b="b"/>
              <a:pathLst>
                <a:path w="497" h="400">
                  <a:moveTo>
                    <a:pt x="169" y="196"/>
                  </a:moveTo>
                  <a:lnTo>
                    <a:pt x="169" y="196"/>
                  </a:lnTo>
                  <a:cubicBezTo>
                    <a:pt x="169" y="240"/>
                    <a:pt x="204" y="275"/>
                    <a:pt x="248" y="275"/>
                  </a:cubicBezTo>
                  <a:cubicBezTo>
                    <a:pt x="292" y="275"/>
                    <a:pt x="328" y="240"/>
                    <a:pt x="328" y="196"/>
                  </a:cubicBezTo>
                  <a:cubicBezTo>
                    <a:pt x="328" y="151"/>
                    <a:pt x="292" y="116"/>
                    <a:pt x="248" y="116"/>
                  </a:cubicBezTo>
                  <a:cubicBezTo>
                    <a:pt x="204" y="116"/>
                    <a:pt x="169" y="151"/>
                    <a:pt x="169" y="196"/>
                  </a:cubicBezTo>
                  <a:close/>
                  <a:moveTo>
                    <a:pt x="116" y="169"/>
                  </a:moveTo>
                  <a:lnTo>
                    <a:pt x="116" y="169"/>
                  </a:lnTo>
                  <a:cubicBezTo>
                    <a:pt x="124" y="107"/>
                    <a:pt x="186" y="63"/>
                    <a:pt x="248" y="63"/>
                  </a:cubicBezTo>
                  <a:cubicBezTo>
                    <a:pt x="284" y="63"/>
                    <a:pt x="319" y="71"/>
                    <a:pt x="345" y="98"/>
                  </a:cubicBezTo>
                  <a:cubicBezTo>
                    <a:pt x="354" y="107"/>
                    <a:pt x="381" y="107"/>
                    <a:pt x="390" y="98"/>
                  </a:cubicBezTo>
                  <a:cubicBezTo>
                    <a:pt x="399" y="89"/>
                    <a:pt x="399" y="71"/>
                    <a:pt x="390" y="54"/>
                  </a:cubicBezTo>
                  <a:cubicBezTo>
                    <a:pt x="354" y="18"/>
                    <a:pt x="301" y="0"/>
                    <a:pt x="248" y="0"/>
                  </a:cubicBezTo>
                  <a:cubicBezTo>
                    <a:pt x="160" y="0"/>
                    <a:pt x="80" y="54"/>
                    <a:pt x="62" y="143"/>
                  </a:cubicBezTo>
                  <a:cubicBezTo>
                    <a:pt x="0" y="143"/>
                    <a:pt x="0" y="143"/>
                    <a:pt x="0" y="143"/>
                  </a:cubicBezTo>
                  <a:cubicBezTo>
                    <a:pt x="0" y="196"/>
                    <a:pt x="0" y="196"/>
                    <a:pt x="0" y="196"/>
                  </a:cubicBezTo>
                  <a:cubicBezTo>
                    <a:pt x="80" y="196"/>
                    <a:pt x="80" y="196"/>
                    <a:pt x="80" y="196"/>
                  </a:cubicBezTo>
                  <a:cubicBezTo>
                    <a:pt x="107" y="196"/>
                    <a:pt x="107" y="178"/>
                    <a:pt x="116" y="169"/>
                  </a:cubicBezTo>
                  <a:close/>
                  <a:moveTo>
                    <a:pt x="416" y="196"/>
                  </a:moveTo>
                  <a:lnTo>
                    <a:pt x="416" y="196"/>
                  </a:lnTo>
                  <a:cubicBezTo>
                    <a:pt x="390" y="196"/>
                    <a:pt x="390" y="222"/>
                    <a:pt x="381" y="231"/>
                  </a:cubicBezTo>
                  <a:cubicBezTo>
                    <a:pt x="372" y="293"/>
                    <a:pt x="319" y="337"/>
                    <a:pt x="248" y="337"/>
                  </a:cubicBezTo>
                  <a:cubicBezTo>
                    <a:pt x="213" y="337"/>
                    <a:pt x="177" y="319"/>
                    <a:pt x="151" y="293"/>
                  </a:cubicBezTo>
                  <a:cubicBezTo>
                    <a:pt x="142" y="284"/>
                    <a:pt x="116" y="284"/>
                    <a:pt x="107" y="293"/>
                  </a:cubicBezTo>
                  <a:cubicBezTo>
                    <a:pt x="97" y="310"/>
                    <a:pt x="97" y="328"/>
                    <a:pt x="107" y="337"/>
                  </a:cubicBezTo>
                  <a:cubicBezTo>
                    <a:pt x="142" y="373"/>
                    <a:pt x="195" y="399"/>
                    <a:pt x="248" y="399"/>
                  </a:cubicBezTo>
                  <a:cubicBezTo>
                    <a:pt x="337" y="399"/>
                    <a:pt x="416" y="337"/>
                    <a:pt x="435" y="257"/>
                  </a:cubicBezTo>
                  <a:cubicBezTo>
                    <a:pt x="496" y="257"/>
                    <a:pt x="496" y="257"/>
                    <a:pt x="496" y="257"/>
                  </a:cubicBezTo>
                  <a:cubicBezTo>
                    <a:pt x="496" y="196"/>
                    <a:pt x="496" y="196"/>
                    <a:pt x="496" y="196"/>
                  </a:cubicBezTo>
                  <a:lnTo>
                    <a:pt x="416" y="196"/>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651" name="矩形 1"/>
          <p:cNvSpPr/>
          <p:nvPr/>
        </p:nvSpPr>
        <p:spPr>
          <a:xfrm>
            <a:off x="255600" y="1547640"/>
            <a:ext cx="11673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62626"/>
                </a:solidFill>
                <a:latin typeface="Arial"/>
                <a:ea typeface="微软雅黑"/>
              </a:rPr>
              <a:t>       </a:t>
            </a:r>
            <a:r>
              <a:rPr b="0" lang="zh-CN" sz="2400" spc="-1" strike="noStrike">
                <a:solidFill>
                  <a:srgbClr val="5b9bd4"/>
                </a:solidFill>
                <a:latin typeface="Arial"/>
                <a:ea typeface="微软雅黑"/>
              </a:rPr>
              <a:t>承接审计业务工作底稿的编制 </a:t>
            </a:r>
            <a:endParaRPr b="1"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Arial"/>
                <a:ea typeface="微软雅黑"/>
              </a:rPr>
              <a:t>【</a:t>
            </a:r>
            <a:r>
              <a:rPr b="0" lang="zh-CN" sz="2000" spc="-1" strike="noStrike">
                <a:solidFill>
                  <a:srgbClr val="262626"/>
                </a:solidFill>
                <a:latin typeface="Arial"/>
                <a:ea typeface="微软雅黑"/>
              </a:rPr>
              <a:t>例 </a:t>
            </a:r>
            <a:r>
              <a:rPr b="0" lang="en-US" sz="2000" spc="-1" strike="noStrike">
                <a:solidFill>
                  <a:srgbClr val="262626"/>
                </a:solidFill>
                <a:latin typeface="Arial"/>
                <a:ea typeface="微软雅黑"/>
              </a:rPr>
              <a:t>3-1</a:t>
            </a:r>
            <a:r>
              <a:rPr b="0" lang="en-US" sz="2000" spc="-1" strike="noStrike">
                <a:solidFill>
                  <a:srgbClr val="262626"/>
                </a:solidFill>
                <a:latin typeface="Arial"/>
                <a:ea typeface="微软雅黑"/>
              </a:rPr>
              <a:t>】</a:t>
            </a:r>
            <a:r>
              <a:rPr b="0" lang="zh-CN" sz="2000" spc="-1" strike="noStrike">
                <a:solidFill>
                  <a:srgbClr val="262626"/>
                </a:solidFill>
                <a:latin typeface="Arial"/>
                <a:ea typeface="微软雅黑"/>
              </a:rPr>
              <a:t>光华机械制造有限责任公司（以下简称“光华 公司”）一直请油城会计师事务所审计其财务报表，</a:t>
            </a:r>
            <a:r>
              <a:rPr b="0" lang="en-US" sz="2000" spc="-1" strike="noStrike">
                <a:solidFill>
                  <a:srgbClr val="262626"/>
                </a:solidFill>
                <a:latin typeface="Arial"/>
                <a:ea typeface="微软雅黑"/>
              </a:rPr>
              <a:t>2020 </a:t>
            </a:r>
            <a:r>
              <a:rPr b="0" lang="zh-CN" sz="2000" spc="-1" strike="noStrike">
                <a:solidFill>
                  <a:srgbClr val="262626"/>
                </a:solidFill>
                <a:latin typeface="Arial"/>
                <a:ea typeface="微软雅黑"/>
              </a:rPr>
              <a:t>年 也欲请油城会计师事务所对其 </a:t>
            </a:r>
            <a:r>
              <a:rPr b="0" lang="en-US" sz="2000" spc="-1" strike="noStrike">
                <a:solidFill>
                  <a:srgbClr val="262626"/>
                </a:solidFill>
                <a:latin typeface="Arial"/>
                <a:ea typeface="微软雅黑"/>
              </a:rPr>
              <a:t>2019 </a:t>
            </a:r>
            <a:r>
              <a:rPr b="0" lang="zh-CN" sz="2000" spc="-1" strike="noStrike">
                <a:solidFill>
                  <a:srgbClr val="262626"/>
                </a:solidFill>
                <a:latin typeface="Arial"/>
                <a:ea typeface="微软雅黑"/>
              </a:rPr>
              <a:t>年财务报表进行审计。 油城会计师事务所通过开展初步业务活动，决定接受光华公 司的委托，并于 </a:t>
            </a:r>
            <a:r>
              <a:rPr b="0" lang="en-US" sz="2000" spc="-1" strike="noStrike">
                <a:solidFill>
                  <a:srgbClr val="262626"/>
                </a:solidFill>
                <a:latin typeface="Arial"/>
                <a:ea typeface="微软雅黑"/>
              </a:rPr>
              <a:t>2020 </a:t>
            </a:r>
            <a:r>
              <a:rPr b="0" lang="zh-CN" sz="2000" spc="-1" strike="noStrike">
                <a:solidFill>
                  <a:srgbClr val="262626"/>
                </a:solidFill>
                <a:latin typeface="Arial"/>
                <a:ea typeface="微软雅黑"/>
              </a:rPr>
              <a:t>年 </a:t>
            </a:r>
            <a:r>
              <a:rPr b="0" lang="en-US" sz="2000" spc="-1" strike="noStrike">
                <a:solidFill>
                  <a:srgbClr val="262626"/>
                </a:solidFill>
                <a:latin typeface="Arial"/>
                <a:ea typeface="微软雅黑"/>
              </a:rPr>
              <a:t>2 </a:t>
            </a:r>
            <a:r>
              <a:rPr b="0" lang="zh-CN" sz="2000" spc="-1" strike="noStrike">
                <a:solidFill>
                  <a:srgbClr val="262626"/>
                </a:solidFill>
                <a:latin typeface="Arial"/>
                <a:ea typeface="微软雅黑"/>
              </a:rPr>
              <a:t>月 </a:t>
            </a:r>
            <a:r>
              <a:rPr b="0" lang="en-US" sz="2000" spc="-1" strike="noStrike">
                <a:solidFill>
                  <a:srgbClr val="262626"/>
                </a:solidFill>
                <a:latin typeface="Arial"/>
                <a:ea typeface="微软雅黑"/>
              </a:rPr>
              <a:t>18 </a:t>
            </a:r>
            <a:r>
              <a:rPr b="0" lang="zh-CN" sz="2000" spc="-1" strike="noStrike">
                <a:solidFill>
                  <a:srgbClr val="262626"/>
                </a:solidFill>
                <a:latin typeface="Arial"/>
                <a:ea typeface="微软雅黑"/>
              </a:rPr>
              <a:t>日签订审计业务约定书，</a:t>
            </a:r>
            <a:r>
              <a:rPr b="0" lang="en-US" sz="2000" spc="-1" strike="noStrike">
                <a:solidFill>
                  <a:srgbClr val="262626"/>
                </a:solidFill>
                <a:latin typeface="Arial"/>
                <a:ea typeface="微软雅黑"/>
              </a:rPr>
              <a:t>3 </a:t>
            </a:r>
            <a:r>
              <a:rPr b="0" lang="zh-CN" sz="2000" spc="-1" strike="noStrike">
                <a:solidFill>
                  <a:srgbClr val="262626"/>
                </a:solidFill>
                <a:latin typeface="Arial"/>
                <a:ea typeface="微软雅黑"/>
              </a:rPr>
              <a:t>月 </a:t>
            </a:r>
            <a:r>
              <a:rPr b="0" lang="en-US" sz="2000" spc="-1" strike="noStrike">
                <a:solidFill>
                  <a:srgbClr val="262626"/>
                </a:solidFill>
                <a:latin typeface="Arial"/>
                <a:ea typeface="微软雅黑"/>
              </a:rPr>
              <a:t>1 </a:t>
            </a:r>
            <a:r>
              <a:rPr b="0" lang="zh-CN" sz="2000" spc="-1" strike="noStrike">
                <a:solidFill>
                  <a:srgbClr val="262626"/>
                </a:solidFill>
                <a:latin typeface="Arial"/>
                <a:ea typeface="微软雅黑"/>
              </a:rPr>
              <a:t>日进驻光华公司开始工作。油城会计师事务所在审计承接阶段编制审计工作 底稿，如表 </a:t>
            </a:r>
            <a:r>
              <a:rPr b="0" lang="en-US" sz="2000" spc="-1" strike="noStrike">
                <a:solidFill>
                  <a:srgbClr val="262626"/>
                </a:solidFill>
                <a:latin typeface="Arial"/>
                <a:ea typeface="微软雅黑"/>
              </a:rPr>
              <a:t>3-1</a:t>
            </a:r>
            <a:r>
              <a:rPr b="0" lang="zh-CN" sz="2000" spc="-1" strike="noStrike">
                <a:solidFill>
                  <a:srgbClr val="262626"/>
                </a:solidFill>
                <a:latin typeface="Arial"/>
                <a:ea typeface="微软雅黑"/>
              </a:rPr>
              <a:t>、表 </a:t>
            </a:r>
            <a:r>
              <a:rPr b="0" lang="en-US" sz="2000" spc="-1" strike="noStrike">
                <a:solidFill>
                  <a:srgbClr val="262626"/>
                </a:solidFill>
                <a:latin typeface="Arial"/>
                <a:ea typeface="微软雅黑"/>
              </a:rPr>
              <a:t>3-2 </a:t>
            </a:r>
            <a:r>
              <a:rPr b="0" lang="zh-CN" sz="2000" spc="-1" strike="noStrike">
                <a:solidFill>
                  <a:srgbClr val="262626"/>
                </a:solidFill>
                <a:latin typeface="Arial"/>
                <a:ea typeface="微软雅黑"/>
              </a:rPr>
              <a:t>所示。</a:t>
            </a:r>
            <a:endParaRPr b="1" lang="en-US" sz="2000" spc="-1" strike="noStrike">
              <a:solidFill>
                <a:srgbClr val="000000"/>
              </a:solidFill>
              <a:latin typeface="Arial"/>
            </a:endParaRPr>
          </a:p>
        </p:txBody>
      </p:sp>
      <p:sp>
        <p:nvSpPr>
          <p:cNvPr id="1652" name="任意多边形 44"/>
          <p:cNvSpPr/>
          <p:nvPr/>
        </p:nvSpPr>
        <p:spPr>
          <a:xfrm flipH="1" flipV="1" rot="13342200">
            <a:off x="3706560" y="5729760"/>
            <a:ext cx="298440" cy="272880"/>
          </a:xfrm>
          <a:custGeom>
            <a:avLst/>
            <a:gdLst/>
            <a:ahLst/>
            <a:rect l="l" t="t" r="r" b="b"/>
            <a:pathLst>
              <a:path w="497" h="400">
                <a:moveTo>
                  <a:pt x="169" y="196"/>
                </a:moveTo>
                <a:lnTo>
                  <a:pt x="169" y="196"/>
                </a:lnTo>
                <a:cubicBezTo>
                  <a:pt x="169" y="240"/>
                  <a:pt x="204" y="275"/>
                  <a:pt x="248" y="275"/>
                </a:cubicBezTo>
                <a:cubicBezTo>
                  <a:pt x="292" y="275"/>
                  <a:pt x="328" y="240"/>
                  <a:pt x="328" y="196"/>
                </a:cubicBezTo>
                <a:cubicBezTo>
                  <a:pt x="328" y="151"/>
                  <a:pt x="292" y="116"/>
                  <a:pt x="248" y="116"/>
                </a:cubicBezTo>
                <a:cubicBezTo>
                  <a:pt x="204" y="116"/>
                  <a:pt x="169" y="151"/>
                  <a:pt x="169" y="196"/>
                </a:cubicBezTo>
                <a:close/>
                <a:moveTo>
                  <a:pt x="116" y="169"/>
                </a:moveTo>
                <a:lnTo>
                  <a:pt x="116" y="169"/>
                </a:lnTo>
                <a:cubicBezTo>
                  <a:pt x="124" y="107"/>
                  <a:pt x="186" y="63"/>
                  <a:pt x="248" y="63"/>
                </a:cubicBezTo>
                <a:cubicBezTo>
                  <a:pt x="284" y="63"/>
                  <a:pt x="319" y="71"/>
                  <a:pt x="345" y="98"/>
                </a:cubicBezTo>
                <a:cubicBezTo>
                  <a:pt x="354" y="107"/>
                  <a:pt x="381" y="107"/>
                  <a:pt x="390" y="98"/>
                </a:cubicBezTo>
                <a:cubicBezTo>
                  <a:pt x="399" y="89"/>
                  <a:pt x="399" y="71"/>
                  <a:pt x="390" y="54"/>
                </a:cubicBezTo>
                <a:cubicBezTo>
                  <a:pt x="354" y="18"/>
                  <a:pt x="301" y="0"/>
                  <a:pt x="248" y="0"/>
                </a:cubicBezTo>
                <a:cubicBezTo>
                  <a:pt x="160" y="0"/>
                  <a:pt x="80" y="54"/>
                  <a:pt x="62" y="143"/>
                </a:cubicBezTo>
                <a:cubicBezTo>
                  <a:pt x="0" y="143"/>
                  <a:pt x="0" y="143"/>
                  <a:pt x="0" y="143"/>
                </a:cubicBezTo>
                <a:cubicBezTo>
                  <a:pt x="0" y="196"/>
                  <a:pt x="0" y="196"/>
                  <a:pt x="0" y="196"/>
                </a:cubicBezTo>
                <a:cubicBezTo>
                  <a:pt x="80" y="196"/>
                  <a:pt x="80" y="196"/>
                  <a:pt x="80" y="196"/>
                </a:cubicBezTo>
                <a:cubicBezTo>
                  <a:pt x="107" y="196"/>
                  <a:pt x="107" y="178"/>
                  <a:pt x="116" y="169"/>
                </a:cubicBezTo>
                <a:close/>
                <a:moveTo>
                  <a:pt x="416" y="196"/>
                </a:moveTo>
                <a:lnTo>
                  <a:pt x="416" y="196"/>
                </a:lnTo>
                <a:cubicBezTo>
                  <a:pt x="390" y="196"/>
                  <a:pt x="390" y="222"/>
                  <a:pt x="381" y="231"/>
                </a:cubicBezTo>
                <a:cubicBezTo>
                  <a:pt x="372" y="293"/>
                  <a:pt x="319" y="337"/>
                  <a:pt x="248" y="337"/>
                </a:cubicBezTo>
                <a:cubicBezTo>
                  <a:pt x="213" y="337"/>
                  <a:pt x="177" y="319"/>
                  <a:pt x="151" y="293"/>
                </a:cubicBezTo>
                <a:cubicBezTo>
                  <a:pt x="142" y="284"/>
                  <a:pt x="116" y="284"/>
                  <a:pt x="107" y="293"/>
                </a:cubicBezTo>
                <a:cubicBezTo>
                  <a:pt x="97" y="310"/>
                  <a:pt x="97" y="328"/>
                  <a:pt x="107" y="337"/>
                </a:cubicBezTo>
                <a:cubicBezTo>
                  <a:pt x="142" y="373"/>
                  <a:pt x="195" y="399"/>
                  <a:pt x="248" y="399"/>
                </a:cubicBezTo>
                <a:cubicBezTo>
                  <a:pt x="337" y="399"/>
                  <a:pt x="416" y="337"/>
                  <a:pt x="435" y="257"/>
                </a:cubicBezTo>
                <a:cubicBezTo>
                  <a:pt x="496" y="257"/>
                  <a:pt x="496" y="257"/>
                  <a:pt x="496" y="257"/>
                </a:cubicBezTo>
                <a:cubicBezTo>
                  <a:pt x="496" y="196"/>
                  <a:pt x="496" y="196"/>
                  <a:pt x="496" y="196"/>
                </a:cubicBezTo>
                <a:lnTo>
                  <a:pt x="416" y="196"/>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53" name="文本框 53"/>
          <p:cNvSpPr/>
          <p:nvPr/>
        </p:nvSpPr>
        <p:spPr>
          <a:xfrm>
            <a:off x="4363920" y="5143680"/>
            <a:ext cx="7485120" cy="1709640"/>
          </a:xfrm>
          <a:prstGeom prst="rect">
            <a:avLst/>
          </a:prstGeom>
          <a:noFill/>
          <a:ln w="0">
            <a:noFill/>
          </a:ln>
        </p:spPr>
        <p:style>
          <a:lnRef idx="0"/>
          <a:fillRef idx="0"/>
          <a:effectRef idx="0"/>
          <a:fontRef idx="minor"/>
        </p:style>
        <p:txBody>
          <a:bodyPr lIns="90000" rIns="90000" tIns="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表 </a:t>
            </a:r>
            <a:r>
              <a:rPr b="1" lang="en-US" sz="2400" spc="-1" strike="noStrike">
                <a:solidFill>
                  <a:srgbClr val="000000"/>
                </a:solidFill>
                <a:latin typeface="Arial"/>
              </a:rPr>
              <a:t>3-2</a:t>
            </a:r>
            <a:r>
              <a:rPr b="1" lang="zh-CN" sz="2400" spc="-1" strike="noStrike">
                <a:solidFill>
                  <a:srgbClr val="000000"/>
                </a:solidFill>
                <a:latin typeface="Arial"/>
                <a:ea typeface="宋体"/>
              </a:rPr>
              <a:t>　承接业务的风险初步评价表（</a:t>
            </a:r>
            <a:r>
              <a:rPr b="1" lang="en-US" sz="2400" spc="-1" strike="noStrike">
                <a:solidFill>
                  <a:srgbClr val="000000"/>
                </a:solidFill>
                <a:latin typeface="Arial"/>
              </a:rPr>
              <a:t> </a:t>
            </a:r>
            <a:r>
              <a:rPr b="1" lang="en-US" sz="2400" spc="-1" strike="noStrike">
                <a:solidFill>
                  <a:srgbClr val="000000"/>
                </a:solidFill>
                <a:latin typeface="Arial"/>
              </a:rPr>
              <a:t>P67-68 </a:t>
            </a:r>
            <a:r>
              <a:rPr b="1" lang="zh-CN" sz="2400" spc="-1" strike="noStrike">
                <a:solidFill>
                  <a:srgbClr val="000000"/>
                </a:solidFill>
                <a:latin typeface="Arial"/>
                <a:ea typeface="宋体"/>
              </a:rPr>
              <a:t>）</a:t>
            </a:r>
            <a:endParaRPr b="1" lang="en-US" sz="2400" spc="-1" strike="noStrike">
              <a:solidFill>
                <a:srgbClr val="000000"/>
              </a:solidFill>
              <a:latin typeface="Arial"/>
            </a:endParaRPr>
          </a:p>
        </p:txBody>
      </p:sp>
      <p:sp>
        <p:nvSpPr>
          <p:cNvPr id="1654" name="矩形 51"/>
          <p:cNvSpPr/>
          <p:nvPr/>
        </p:nvSpPr>
        <p:spPr>
          <a:xfrm>
            <a:off x="2790720" y="81000"/>
            <a:ext cx="64594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e10d4"/>
                </a:solidFill>
                <a:latin typeface="微软雅黑"/>
                <a:ea typeface="微软雅黑"/>
              </a:rPr>
              <a:t>任务二 签订审计业务约定书</a:t>
            </a:r>
            <a:endParaRPr b="1" lang="en-US" sz="4000" spc="-1" strike="noStrike">
              <a:solidFill>
                <a:srgbClr val="000000"/>
              </a:solidFill>
              <a:latin typeface="Arial"/>
            </a:endParaRPr>
          </a:p>
        </p:txBody>
      </p:sp>
    </p:spTree>
  </p:cSld>
  <p:transition>
    <p:fade/>
  </p:transition>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dur="indefinite" nodeType="afterEffect" fill="hold" presetClass="entr" presetID="29">
                                  <p:stCondLst>
                                    <p:cond delay="0"/>
                                  </p:stCondLst>
                                  <p:childTnLst>
                                    <p:set>
                                      <p:cBhvr>
                                        <p:cTn id="189" dur="1" fill="hold">
                                          <p:stCondLst>
                                            <p:cond delay="0"/>
                                          </p:stCondLst>
                                        </p:cTn>
                                        <p:tgtEl>
                                          <p:spTgt spid="1611"/>
                                        </p:tgtEl>
                                        <p:attrNameLst>
                                          <p:attrName>style.visibility</p:attrName>
                                        </p:attrNameLst>
                                      </p:cBhvr>
                                      <p:to>
                                        <p:strVal val="visible"/>
                                      </p:to>
                                    </p:set>
                                    <p:anim calcmode="lin" valueType="num">
                                      <p:cBhvr additive="repl">
                                        <p:cTn id="190" dur="1000" fill="hold"/>
                                        <p:tgtEl>
                                          <p:spTgt spid="1611"/>
                                        </p:tgtEl>
                                        <p:attrNameLst>
                                          <p:attrName>ppt_x</p:attrName>
                                        </p:attrNameLst>
                                      </p:cBhvr>
                                      <p:tavLst>
                                        <p:tav tm="0">
                                          <p:val>
                                            <p:strVal val="#ppt_x-.2"/>
                                          </p:val>
                                        </p:tav>
                                        <p:tav tm="100000">
                                          <p:val>
                                            <p:strVal val="#ppt_x"/>
                                          </p:val>
                                        </p:tav>
                                      </p:tavLst>
                                    </p:anim>
                                    <p:anim calcmode="lin" valueType="num">
                                      <p:cBhvr additive="repl">
                                        <p:cTn id="191" dur="1000" fill="hold"/>
                                        <p:tgtEl>
                                          <p:spTgt spid="1611"/>
                                        </p:tgtEl>
                                        <p:attrNameLst>
                                          <p:attrName>ppt_y</p:attrName>
                                        </p:attrNameLst>
                                      </p:cBhvr>
                                      <p:tavLst>
                                        <p:tav tm="0">
                                          <p:val>
                                            <p:strVal val="#ppt_y"/>
                                          </p:val>
                                        </p:tav>
                                        <p:tav tm="100000">
                                          <p:val>
                                            <p:strVal val="#ppt_y"/>
                                          </p:val>
                                        </p:tav>
                                      </p:tavLst>
                                    </p:anim>
                                    <p:animEffect filter="wipe(right)" transition="in">
                                      <p:cBhvr additive="repl">
                                        <p:cTn id="192" dur="1000"/>
                                        <p:tgtEl>
                                          <p:spTgt spid="1611"/>
                                        </p:tgtEl>
                                      </p:cBhvr>
                                    </p:animEffect>
                                  </p:childTnLst>
                                </p:cTn>
                              </p:par>
                            </p:childTnLst>
                          </p:cTn>
                        </p:par>
                        <p:par>
                          <p:cTn id="193" fill="hold">
                            <p:stCondLst>
                              <p:cond delay="1000"/>
                            </p:stCondLst>
                            <p:childTnLst>
                              <p:par>
                                <p:cTn id="194" dur="indefinite" nodeType="afterEffect" fill="hold" presetClass="entr" presetID="12" presetSubtype="8">
                                  <p:stCondLst>
                                    <p:cond delay="0"/>
                                  </p:stCondLst>
                                  <p:childTnLst>
                                    <p:set>
                                      <p:cBhvr>
                                        <p:cTn id="195" dur="1000" fill="hold">
                                          <p:stCondLst>
                                            <p:cond delay="0"/>
                                          </p:stCondLst>
                                        </p:cTn>
                                        <p:tgtEl>
                                          <p:spTgt spid="1644"/>
                                        </p:tgtEl>
                                        <p:attrNameLst>
                                          <p:attrName>style.visibility</p:attrName>
                                        </p:attrNameLst>
                                      </p:cBhvr>
                                      <p:to>
                                        <p:strVal val="visible"/>
                                      </p:to>
                                    </p:set>
                                    <p:anim calcmode="lin" valueType="num">
                                      <p:cBhvr additive="repl">
                                        <p:cTn id="196" dur="1000"/>
                                        <p:tgtEl>
                                          <p:spTgt spid="1644"/>
                                        </p:tgtEl>
                                        <p:attrNameLst>
                                          <p:attrName>ppt_x</p:attrName>
                                        </p:attrNameLst>
                                      </p:cBhvr>
                                      <p:tavLst>
                                        <p:tav tm="0">
                                          <p:val>
                                            <p:strVal val="#ppt_x-#ppt_w*1.125000"/>
                                          </p:val>
                                        </p:tav>
                                        <p:tav tm="100000">
                                          <p:val>
                                            <p:strVal val="#ppt_x"/>
                                          </p:val>
                                        </p:tav>
                                      </p:tavLst>
                                    </p:anim>
                                    <p:animEffect filter="wipe(right)" transition="in">
                                      <p:cBhvr additive="repl">
                                        <p:cTn id="197" dur="1000"/>
                                        <p:tgtEl>
                                          <p:spTgt spid="1644"/>
                                        </p:tgtEl>
                                      </p:cBhvr>
                                    </p:animEffect>
                                  </p:childTnLst>
                                </p:cTn>
                              </p:par>
                            </p:childTnLst>
                          </p:cTn>
                        </p:par>
                        <p:par>
                          <p:cTn id="198" fill="hold">
                            <p:stCondLst>
                              <p:cond delay="2000"/>
                            </p:stCondLst>
                            <p:childTnLst>
                              <p:par>
                                <p:cTn id="199" dur="indefinite" nodeType="afterEffect" fill="hold" presetClass="entr" presetID="12" presetSubtype="8">
                                  <p:stCondLst>
                                    <p:cond delay="0"/>
                                  </p:stCondLst>
                                  <p:childTnLst>
                                    <p:set>
                                      <p:cBhvr>
                                        <p:cTn id="200" dur="1000" fill="hold">
                                          <p:stCondLst>
                                            <p:cond delay="0"/>
                                          </p:stCondLst>
                                        </p:cTn>
                                        <p:tgtEl>
                                          <p:spTgt spid="1653"/>
                                        </p:tgtEl>
                                        <p:attrNameLst>
                                          <p:attrName>style.visibility</p:attrName>
                                        </p:attrNameLst>
                                      </p:cBhvr>
                                      <p:to>
                                        <p:strVal val="visible"/>
                                      </p:to>
                                    </p:set>
                                    <p:anim calcmode="lin" valueType="num">
                                      <p:cBhvr additive="repl">
                                        <p:cTn id="201" dur="1000"/>
                                        <p:tgtEl>
                                          <p:spTgt spid="1653"/>
                                        </p:tgtEl>
                                        <p:attrNameLst>
                                          <p:attrName>ppt_x</p:attrName>
                                        </p:attrNameLst>
                                      </p:cBhvr>
                                      <p:tavLst>
                                        <p:tav tm="0">
                                          <p:val>
                                            <p:strVal val="#ppt_x-#ppt_w*1.125000"/>
                                          </p:val>
                                        </p:tav>
                                        <p:tav tm="100000">
                                          <p:val>
                                            <p:strVal val="#ppt_x"/>
                                          </p:val>
                                        </p:tav>
                                      </p:tavLst>
                                    </p:anim>
                                    <p:animEffect filter="wipe(right)" transition="in">
                                      <p:cBhvr additive="repl">
                                        <p:cTn id="202" dur="1000"/>
                                        <p:tgtEl>
                                          <p:spTgt spid="16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09" name="组合 78"/>
          <p:cNvGrpSpPr/>
          <p:nvPr/>
        </p:nvGrpSpPr>
        <p:grpSpPr>
          <a:xfrm>
            <a:off x="3575160" y="2081160"/>
            <a:ext cx="8035920" cy="595080"/>
            <a:chOff x="3575160" y="2081160"/>
            <a:chExt cx="8035920" cy="595080"/>
          </a:xfrm>
        </p:grpSpPr>
        <p:sp>
          <p:nvSpPr>
            <p:cNvPr id="1210" name="矩形 51"/>
            <p:cNvSpPr/>
            <p:nvPr/>
          </p:nvSpPr>
          <p:spPr>
            <a:xfrm>
              <a:off x="4352760" y="2094840"/>
              <a:ext cx="3240000" cy="581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微软雅黑"/>
                  <a:ea typeface="微软雅黑"/>
                </a:rPr>
                <a:t>注册会计师执业准则</a:t>
              </a:r>
              <a:endParaRPr b="1" lang="en-US" sz="2400" spc="-1" strike="noStrike">
                <a:solidFill>
                  <a:srgbClr val="000000"/>
                </a:solidFill>
                <a:latin typeface="Arial"/>
              </a:endParaRPr>
            </a:p>
          </p:txBody>
        </p:sp>
        <p:sp>
          <p:nvSpPr>
            <p:cNvPr id="1211" name="圆角矩形 55"/>
            <p:cNvSpPr/>
            <p:nvPr/>
          </p:nvSpPr>
          <p:spPr>
            <a:xfrm>
              <a:off x="3575160" y="2166840"/>
              <a:ext cx="576360" cy="468360"/>
            </a:xfrm>
            <a:prstGeom prst="roundRect">
              <a:avLst>
                <a:gd name="adj" fmla="val 16667"/>
              </a:avLst>
            </a:prstGeom>
            <a:solidFill>
              <a:srgbClr val="5b9bd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2</a:t>
              </a:r>
              <a:endParaRPr b="1" lang="en-US" sz="2400" spc="-1" strike="noStrike">
                <a:solidFill>
                  <a:srgbClr val="000000"/>
                </a:solidFill>
                <a:latin typeface="Arial"/>
              </a:endParaRPr>
            </a:p>
          </p:txBody>
        </p:sp>
        <p:sp>
          <p:nvSpPr>
            <p:cNvPr id="1212" name="矩形 34"/>
            <p:cNvSpPr/>
            <p:nvPr/>
          </p:nvSpPr>
          <p:spPr>
            <a:xfrm>
              <a:off x="8371080" y="2081160"/>
              <a:ext cx="3240000" cy="581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微软雅黑"/>
                  <a:ea typeface="微软雅黑"/>
                </a:rPr>
                <a:t>存货与仓储循环审计</a:t>
              </a:r>
              <a:endParaRPr b="1" lang="en-US" sz="2400" spc="-1" strike="noStrike">
                <a:solidFill>
                  <a:srgbClr val="000000"/>
                </a:solidFill>
                <a:latin typeface="Arial"/>
              </a:endParaRPr>
            </a:p>
          </p:txBody>
        </p:sp>
        <p:sp>
          <p:nvSpPr>
            <p:cNvPr id="1213" name="圆角矩形 35"/>
            <p:cNvSpPr/>
            <p:nvPr/>
          </p:nvSpPr>
          <p:spPr>
            <a:xfrm>
              <a:off x="7593120" y="2151000"/>
              <a:ext cx="576360" cy="468360"/>
            </a:xfrm>
            <a:prstGeom prst="roundRect">
              <a:avLst>
                <a:gd name="adj" fmla="val 16667"/>
              </a:avLst>
            </a:prstGeom>
            <a:solidFill>
              <a:srgbClr val="5b9bd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7</a:t>
              </a:r>
              <a:endParaRPr b="1" lang="en-US" sz="2400" spc="-1" strike="noStrike">
                <a:solidFill>
                  <a:srgbClr val="000000"/>
                </a:solidFill>
                <a:latin typeface="Arial"/>
              </a:endParaRPr>
            </a:p>
          </p:txBody>
        </p:sp>
      </p:grpSp>
      <p:grpSp>
        <p:nvGrpSpPr>
          <p:cNvPr id="1214" name="组合 71"/>
          <p:cNvGrpSpPr/>
          <p:nvPr/>
        </p:nvGrpSpPr>
        <p:grpSpPr>
          <a:xfrm>
            <a:off x="3575160" y="2808360"/>
            <a:ext cx="8080200" cy="594720"/>
            <a:chOff x="3575160" y="2808360"/>
            <a:chExt cx="8080200" cy="594720"/>
          </a:xfrm>
        </p:grpSpPr>
        <p:sp>
          <p:nvSpPr>
            <p:cNvPr id="1215" name="矩形 57"/>
            <p:cNvSpPr/>
            <p:nvPr/>
          </p:nvSpPr>
          <p:spPr>
            <a:xfrm>
              <a:off x="4357800" y="2822040"/>
              <a:ext cx="3257280" cy="5810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10d4"/>
                  </a:solidFill>
                  <a:latin typeface="微软雅黑"/>
                  <a:ea typeface="微软雅黑"/>
                </a:rPr>
                <a:t>审计业务的承接</a:t>
              </a:r>
              <a:endParaRPr b="1" lang="en-US" sz="2400" spc="-1" strike="noStrike">
                <a:solidFill>
                  <a:srgbClr val="000000"/>
                </a:solidFill>
                <a:latin typeface="Arial"/>
              </a:endParaRPr>
            </a:p>
          </p:txBody>
        </p:sp>
        <p:sp>
          <p:nvSpPr>
            <p:cNvPr id="1216" name="圆角矩形 74"/>
            <p:cNvSpPr/>
            <p:nvPr/>
          </p:nvSpPr>
          <p:spPr>
            <a:xfrm>
              <a:off x="3575160" y="2894040"/>
              <a:ext cx="579600" cy="468000"/>
            </a:xfrm>
            <a:prstGeom prst="roundRect">
              <a:avLst>
                <a:gd name="adj" fmla="val 16667"/>
              </a:avLst>
            </a:prstGeom>
            <a:solidFill>
              <a:srgbClr val="8e10d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3</a:t>
              </a:r>
              <a:endParaRPr b="1" lang="en-US" sz="2400" spc="-1" strike="noStrike">
                <a:solidFill>
                  <a:srgbClr val="000000"/>
                </a:solidFill>
                <a:latin typeface="Arial"/>
              </a:endParaRPr>
            </a:p>
          </p:txBody>
        </p:sp>
        <p:sp>
          <p:nvSpPr>
            <p:cNvPr id="1217" name="矩形 37"/>
            <p:cNvSpPr/>
            <p:nvPr/>
          </p:nvSpPr>
          <p:spPr>
            <a:xfrm>
              <a:off x="8398080" y="2808360"/>
              <a:ext cx="3257280" cy="5810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筹资与投资循环审计</a:t>
              </a:r>
              <a:endParaRPr b="1" lang="en-US" sz="2400" spc="-1" strike="noStrike">
                <a:solidFill>
                  <a:srgbClr val="000000"/>
                </a:solidFill>
                <a:latin typeface="Arial"/>
              </a:endParaRPr>
            </a:p>
          </p:txBody>
        </p:sp>
        <p:sp>
          <p:nvSpPr>
            <p:cNvPr id="1218" name="圆角矩形 38"/>
            <p:cNvSpPr/>
            <p:nvPr/>
          </p:nvSpPr>
          <p:spPr>
            <a:xfrm>
              <a:off x="7615440" y="2878200"/>
              <a:ext cx="579600" cy="468000"/>
            </a:xfrm>
            <a:prstGeom prst="roundRect">
              <a:avLst>
                <a:gd name="adj" fmla="val 16667"/>
              </a:avLst>
            </a:prstGeom>
            <a:solidFill>
              <a:srgbClr val="aee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8</a:t>
              </a:r>
              <a:endParaRPr b="1" lang="en-US" sz="2400" spc="-1" strike="noStrike">
                <a:solidFill>
                  <a:srgbClr val="000000"/>
                </a:solidFill>
                <a:latin typeface="Arial"/>
              </a:endParaRPr>
            </a:p>
          </p:txBody>
        </p:sp>
      </p:grpSp>
      <p:grpSp>
        <p:nvGrpSpPr>
          <p:cNvPr id="1219" name="组合 72"/>
          <p:cNvGrpSpPr/>
          <p:nvPr/>
        </p:nvGrpSpPr>
        <p:grpSpPr>
          <a:xfrm>
            <a:off x="3575160" y="3549600"/>
            <a:ext cx="8123040" cy="595080"/>
            <a:chOff x="3575160" y="3549600"/>
            <a:chExt cx="8123040" cy="595080"/>
          </a:xfrm>
        </p:grpSpPr>
        <p:sp>
          <p:nvSpPr>
            <p:cNvPr id="1220" name="矩形 76"/>
            <p:cNvSpPr/>
            <p:nvPr/>
          </p:nvSpPr>
          <p:spPr>
            <a:xfrm>
              <a:off x="4360680" y="3563280"/>
              <a:ext cx="3276720" cy="581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微软雅黑"/>
                  <a:ea typeface="微软雅黑"/>
                </a:rPr>
                <a:t>审计计划工作</a:t>
              </a:r>
              <a:endParaRPr b="1" lang="en-US" sz="2400" spc="-1" strike="noStrike">
                <a:solidFill>
                  <a:srgbClr val="000000"/>
                </a:solidFill>
                <a:latin typeface="Arial"/>
              </a:endParaRPr>
            </a:p>
          </p:txBody>
        </p:sp>
        <p:sp>
          <p:nvSpPr>
            <p:cNvPr id="1221" name="圆角矩形 100"/>
            <p:cNvSpPr/>
            <p:nvPr/>
          </p:nvSpPr>
          <p:spPr>
            <a:xfrm>
              <a:off x="3575160" y="3635280"/>
              <a:ext cx="582480" cy="468360"/>
            </a:xfrm>
            <a:prstGeom prst="roundRect">
              <a:avLst>
                <a:gd name="adj" fmla="val 16667"/>
              </a:avLst>
            </a:prstGeom>
            <a:solidFill>
              <a:srgbClr val="5b9bd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4</a:t>
              </a:r>
              <a:endParaRPr b="1" lang="en-US" sz="2400" spc="-1" strike="noStrike">
                <a:solidFill>
                  <a:srgbClr val="000000"/>
                </a:solidFill>
                <a:latin typeface="Arial"/>
              </a:endParaRPr>
            </a:p>
          </p:txBody>
        </p:sp>
        <p:sp>
          <p:nvSpPr>
            <p:cNvPr id="1222" name="矩形 40"/>
            <p:cNvSpPr/>
            <p:nvPr/>
          </p:nvSpPr>
          <p:spPr>
            <a:xfrm>
              <a:off x="8423640" y="3549600"/>
              <a:ext cx="3274560" cy="581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货币资金审计</a:t>
              </a:r>
              <a:endParaRPr b="1" lang="en-US" sz="2400" spc="-1" strike="noStrike">
                <a:solidFill>
                  <a:srgbClr val="000000"/>
                </a:solidFill>
                <a:latin typeface="Arial"/>
              </a:endParaRPr>
            </a:p>
          </p:txBody>
        </p:sp>
        <p:sp>
          <p:nvSpPr>
            <p:cNvPr id="1223" name="圆角矩形 41"/>
            <p:cNvSpPr/>
            <p:nvPr/>
          </p:nvSpPr>
          <p:spPr>
            <a:xfrm>
              <a:off x="7637400" y="3619440"/>
              <a:ext cx="582480" cy="468360"/>
            </a:xfrm>
            <a:prstGeom prst="roundRect">
              <a:avLst>
                <a:gd name="adj" fmla="val 16667"/>
              </a:avLst>
            </a:prstGeom>
            <a:solidFill>
              <a:srgbClr val="2f75b4"/>
            </a:solidFill>
            <a:ln w="38160">
              <a:solidFill>
                <a:srgbClr val="5b9bd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9</a:t>
              </a:r>
              <a:endParaRPr b="1" lang="en-US" sz="2400" spc="-1" strike="noStrike">
                <a:solidFill>
                  <a:srgbClr val="000000"/>
                </a:solidFill>
                <a:latin typeface="Arial"/>
              </a:endParaRPr>
            </a:p>
          </p:txBody>
        </p:sp>
      </p:grpSp>
      <p:grpSp>
        <p:nvGrpSpPr>
          <p:cNvPr id="1224" name="组合 69"/>
          <p:cNvGrpSpPr/>
          <p:nvPr/>
        </p:nvGrpSpPr>
        <p:grpSpPr>
          <a:xfrm>
            <a:off x="3575160" y="1317600"/>
            <a:ext cx="8035560" cy="595080"/>
            <a:chOff x="3575160" y="1317600"/>
            <a:chExt cx="8035560" cy="595080"/>
          </a:xfrm>
        </p:grpSpPr>
        <p:sp>
          <p:nvSpPr>
            <p:cNvPr id="1225" name="矩形 27"/>
            <p:cNvSpPr/>
            <p:nvPr/>
          </p:nvSpPr>
          <p:spPr>
            <a:xfrm>
              <a:off x="4352760" y="1331280"/>
              <a:ext cx="3240000" cy="581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微软雅黑"/>
                  <a:ea typeface="微软雅黑"/>
                </a:rPr>
                <a:t>审计总论</a:t>
              </a:r>
              <a:endParaRPr b="1" lang="en-US" sz="2400" spc="-1" strike="noStrike">
                <a:solidFill>
                  <a:srgbClr val="000000"/>
                </a:solidFill>
                <a:latin typeface="Arial"/>
              </a:endParaRPr>
            </a:p>
          </p:txBody>
        </p:sp>
        <p:sp>
          <p:nvSpPr>
            <p:cNvPr id="1226" name="圆角矩形 28"/>
            <p:cNvSpPr/>
            <p:nvPr/>
          </p:nvSpPr>
          <p:spPr>
            <a:xfrm>
              <a:off x="3575160" y="1403280"/>
              <a:ext cx="576360" cy="468360"/>
            </a:xfrm>
            <a:prstGeom prst="roundRect">
              <a:avLst>
                <a:gd name="adj" fmla="val 16667"/>
              </a:avLst>
            </a:prstGeom>
            <a:solidFill>
              <a:srgbClr val="bdd7e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5094"/>
                  </a:solidFill>
                  <a:latin typeface="微软雅黑"/>
                  <a:ea typeface="微软雅黑"/>
                </a:rPr>
                <a:t>1</a:t>
              </a:r>
              <a:endParaRPr b="1" lang="en-US" sz="2400" spc="-1" strike="noStrike">
                <a:solidFill>
                  <a:srgbClr val="000000"/>
                </a:solidFill>
                <a:latin typeface="Arial"/>
              </a:endParaRPr>
            </a:p>
          </p:txBody>
        </p:sp>
        <p:sp>
          <p:nvSpPr>
            <p:cNvPr id="1227" name="矩形 43"/>
            <p:cNvSpPr/>
            <p:nvPr/>
          </p:nvSpPr>
          <p:spPr>
            <a:xfrm>
              <a:off x="8370720" y="1317600"/>
              <a:ext cx="3240000" cy="581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微软雅黑"/>
                  <a:ea typeface="微软雅黑"/>
                </a:rPr>
                <a:t>采购与付款循环审计</a:t>
              </a:r>
              <a:endParaRPr b="1" lang="en-US" sz="2400" spc="-1" strike="noStrike">
                <a:solidFill>
                  <a:srgbClr val="000000"/>
                </a:solidFill>
                <a:latin typeface="Arial"/>
              </a:endParaRPr>
            </a:p>
          </p:txBody>
        </p:sp>
        <p:sp>
          <p:nvSpPr>
            <p:cNvPr id="1228" name="圆角矩形 44"/>
            <p:cNvSpPr/>
            <p:nvPr/>
          </p:nvSpPr>
          <p:spPr>
            <a:xfrm>
              <a:off x="7593120" y="1387440"/>
              <a:ext cx="576360" cy="468360"/>
            </a:xfrm>
            <a:prstGeom prst="roundRect">
              <a:avLst>
                <a:gd name="adj" fmla="val 16667"/>
              </a:avLst>
            </a:prstGeom>
            <a:solidFill>
              <a:srgbClr val="bdd7e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5094"/>
                  </a:solidFill>
                  <a:latin typeface="微软雅黑"/>
                  <a:ea typeface="微软雅黑"/>
                </a:rPr>
                <a:t>6</a:t>
              </a:r>
              <a:endParaRPr b="1" lang="en-US" sz="2400" spc="-1" strike="noStrike">
                <a:solidFill>
                  <a:srgbClr val="000000"/>
                </a:solidFill>
                <a:latin typeface="Arial"/>
              </a:endParaRPr>
            </a:p>
          </p:txBody>
        </p:sp>
      </p:grpSp>
      <p:grpSp>
        <p:nvGrpSpPr>
          <p:cNvPr id="1229" name="组合 73"/>
          <p:cNvGrpSpPr/>
          <p:nvPr/>
        </p:nvGrpSpPr>
        <p:grpSpPr>
          <a:xfrm>
            <a:off x="3575160" y="4289400"/>
            <a:ext cx="8123040" cy="595080"/>
            <a:chOff x="3575160" y="4289400"/>
            <a:chExt cx="8123040" cy="595080"/>
          </a:xfrm>
        </p:grpSpPr>
        <p:sp>
          <p:nvSpPr>
            <p:cNvPr id="1230" name="矩形 29"/>
            <p:cNvSpPr/>
            <p:nvPr/>
          </p:nvSpPr>
          <p:spPr>
            <a:xfrm>
              <a:off x="4360680" y="4303080"/>
              <a:ext cx="3276720" cy="581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微软雅黑"/>
                  <a:ea typeface="微软雅黑"/>
                </a:rPr>
                <a:t>销售与收款循环审计</a:t>
              </a:r>
              <a:endParaRPr b="1" lang="en-US" sz="2400" spc="-1" strike="noStrike">
                <a:solidFill>
                  <a:srgbClr val="000000"/>
                </a:solidFill>
                <a:latin typeface="Arial"/>
              </a:endParaRPr>
            </a:p>
          </p:txBody>
        </p:sp>
        <p:sp>
          <p:nvSpPr>
            <p:cNvPr id="1231" name="圆角矩形 30"/>
            <p:cNvSpPr/>
            <p:nvPr/>
          </p:nvSpPr>
          <p:spPr>
            <a:xfrm>
              <a:off x="3575160" y="4375080"/>
              <a:ext cx="582480" cy="468360"/>
            </a:xfrm>
            <a:prstGeom prst="roundRect">
              <a:avLst>
                <a:gd name="adj" fmla="val 16667"/>
              </a:avLst>
            </a:prstGeom>
            <a:solidFill>
              <a:srgbClr val="bdd7e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5094"/>
                  </a:solidFill>
                  <a:latin typeface="微软雅黑"/>
                  <a:ea typeface="微软雅黑"/>
                </a:rPr>
                <a:t>5</a:t>
              </a:r>
              <a:endParaRPr b="1" lang="en-US" sz="2400" spc="-1" strike="noStrike">
                <a:solidFill>
                  <a:srgbClr val="000000"/>
                </a:solidFill>
                <a:latin typeface="Arial"/>
              </a:endParaRPr>
            </a:p>
          </p:txBody>
        </p:sp>
        <p:sp>
          <p:nvSpPr>
            <p:cNvPr id="1232" name="矩形 45"/>
            <p:cNvSpPr/>
            <p:nvPr/>
          </p:nvSpPr>
          <p:spPr>
            <a:xfrm>
              <a:off x="8423640" y="4289400"/>
              <a:ext cx="3274560" cy="581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审计报告的编制</a:t>
              </a:r>
              <a:endParaRPr b="1" lang="en-US" sz="2400" spc="-1" strike="noStrike">
                <a:solidFill>
                  <a:srgbClr val="000000"/>
                </a:solidFill>
                <a:latin typeface="Arial"/>
              </a:endParaRPr>
            </a:p>
          </p:txBody>
        </p:sp>
        <p:sp>
          <p:nvSpPr>
            <p:cNvPr id="1233" name="圆角矩形 46"/>
            <p:cNvSpPr/>
            <p:nvPr/>
          </p:nvSpPr>
          <p:spPr>
            <a:xfrm>
              <a:off x="7637400" y="4359240"/>
              <a:ext cx="690480" cy="468360"/>
            </a:xfrm>
            <a:prstGeom prst="roundRect">
              <a:avLst>
                <a:gd name="adj" fmla="val 16667"/>
              </a:avLst>
            </a:prstGeom>
            <a:solidFill>
              <a:srgbClr val="bdd7e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10</a:t>
              </a:r>
              <a:endParaRPr b="1" lang="en-US" sz="2400" spc="-1" strike="noStrike">
                <a:solidFill>
                  <a:srgbClr val="000000"/>
                </a:solidFill>
                <a:latin typeface="Arial"/>
              </a:endParaRPr>
            </a:p>
          </p:txBody>
        </p:sp>
      </p:grpSp>
      <p:grpSp>
        <p:nvGrpSpPr>
          <p:cNvPr id="1234" name="组合 64"/>
          <p:cNvGrpSpPr/>
          <p:nvPr/>
        </p:nvGrpSpPr>
        <p:grpSpPr>
          <a:xfrm>
            <a:off x="65160" y="2301840"/>
            <a:ext cx="2639880" cy="1785960"/>
            <a:chOff x="65160" y="2301840"/>
            <a:chExt cx="2639880" cy="1785960"/>
          </a:xfrm>
        </p:grpSpPr>
        <p:sp>
          <p:nvSpPr>
            <p:cNvPr id="1235" name="Freeform 6"/>
            <p:cNvSpPr/>
            <p:nvPr/>
          </p:nvSpPr>
          <p:spPr>
            <a:xfrm>
              <a:off x="65160" y="2301840"/>
              <a:ext cx="2639880" cy="1785960"/>
            </a:xfrm>
            <a:prstGeom prst="rect">
              <a:avLst/>
            </a:prstGeom>
            <a:solidFill>
              <a:srgbClr val="eaf1f7"/>
            </a:solidFill>
            <a:ln w="0">
              <a:noFill/>
            </a:ln>
          </p:spPr>
          <p:style>
            <a:lnRef idx="0"/>
            <a:fillRef idx="0"/>
            <a:effectRef idx="0"/>
            <a:fontRef idx="minor"/>
          </p:style>
          <p:txBody>
            <a:bodyPr lIns="122040" rIns="122040" tIns="60840" bIns="60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36" name="文本框 62"/>
            <p:cNvSpPr/>
            <p:nvPr/>
          </p:nvSpPr>
          <p:spPr>
            <a:xfrm>
              <a:off x="258840" y="2625120"/>
              <a:ext cx="2254320" cy="111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175094"/>
                  </a:solidFill>
                  <a:latin typeface="微软雅黑"/>
                  <a:ea typeface="微软雅黑"/>
                </a:rPr>
                <a:t>目录</a:t>
              </a:r>
              <a:endParaRPr b="1" lang="en-US" sz="6000" spc="-1" strike="noStrike">
                <a:solidFill>
                  <a:srgbClr val="000000"/>
                </a:solidFill>
                <a:latin typeface="Arial"/>
              </a:endParaRPr>
            </a:p>
          </p:txBody>
        </p:sp>
        <p:sp>
          <p:nvSpPr>
            <p:cNvPr id="1237" name="Freeform 11"/>
            <p:cNvSpPr/>
            <p:nvPr/>
          </p:nvSpPr>
          <p:spPr>
            <a:xfrm>
              <a:off x="211320" y="2462040"/>
              <a:ext cx="2355480" cy="1484280"/>
            </a:xfrm>
            <a:prstGeom prst="rect">
              <a:avLst/>
            </a:prstGeom>
            <a:noFill/>
            <a:ln w="19080">
              <a:solidFill>
                <a:srgbClr val="7aaedc"/>
              </a:solidFill>
              <a:round/>
            </a:ln>
          </p:spPr>
          <p:style>
            <a:lnRef idx="0"/>
            <a:fillRef idx="0"/>
            <a:effectRef idx="0"/>
            <a:fontRef idx="minor"/>
          </p:style>
          <p:txBody>
            <a:bodyPr lIns="122040" rIns="122040" tIns="60840" bIns="60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transition>
    <p:fade/>
  </p:transition>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dur="indefinite" nodeType="afterEffect" fill="hold" presetClass="entr" presetID="12" presetSubtype="4">
                                  <p:stCondLst>
                                    <p:cond delay="0"/>
                                  </p:stCondLst>
                                  <p:childTnLst>
                                    <p:set>
                                      <p:cBhvr>
                                        <p:cTn id="15" dur="1" fill="hold">
                                          <p:stCondLst>
                                            <p:cond delay="0"/>
                                          </p:stCondLst>
                                        </p:cTn>
                                        <p:tgtEl>
                                          <p:spTgt spid="1224"/>
                                        </p:tgtEl>
                                        <p:attrNameLst>
                                          <p:attrName>style.visibility</p:attrName>
                                        </p:attrNameLst>
                                      </p:cBhvr>
                                      <p:to>
                                        <p:strVal val="visible"/>
                                      </p:to>
                                    </p:set>
                                    <p:anim calcmode="lin" valueType="num">
                                      <p:cBhvr additive="repl">
                                        <p:cTn id="16" dur="500"/>
                                        <p:tgtEl>
                                          <p:spTgt spid="1224"/>
                                        </p:tgtEl>
                                        <p:attrNameLst>
                                          <p:attrName>ppt_y</p:attrName>
                                        </p:attrNameLst>
                                      </p:cBhvr>
                                      <p:tavLst>
                                        <p:tav tm="0">
                                          <p:val>
                                            <p:strVal val="#ppt_y+#ppt_h*1.125000"/>
                                          </p:val>
                                        </p:tav>
                                        <p:tav tm="100000">
                                          <p:val>
                                            <p:strVal val="#ppt_y"/>
                                          </p:val>
                                        </p:tav>
                                      </p:tavLst>
                                    </p:anim>
                                    <p:animEffect filter="wipe(up)" transition="in">
                                      <p:cBhvr additive="repl">
                                        <p:cTn id="17" dur="500"/>
                                        <p:tgtEl>
                                          <p:spTgt spid="1224"/>
                                        </p:tgtEl>
                                      </p:cBhvr>
                                    </p:animEffect>
                                  </p:childTnLst>
                                </p:cTn>
                              </p:par>
                            </p:childTnLst>
                          </p:cTn>
                        </p:par>
                        <p:par>
                          <p:cTn id="18" fill="hold">
                            <p:stCondLst>
                              <p:cond delay="500"/>
                            </p:stCondLst>
                            <p:childTnLst>
                              <p:par>
                                <p:cTn id="19" dur="indefinite" nodeType="afterEffect" fill="hold" presetClass="entr" presetID="12" presetSubtype="4">
                                  <p:stCondLst>
                                    <p:cond delay="0"/>
                                  </p:stCondLst>
                                  <p:childTnLst>
                                    <p:set>
                                      <p:cBhvr>
                                        <p:cTn id="20" dur="1" fill="hold">
                                          <p:stCondLst>
                                            <p:cond delay="0"/>
                                          </p:stCondLst>
                                        </p:cTn>
                                        <p:tgtEl>
                                          <p:spTgt spid="1209"/>
                                        </p:tgtEl>
                                        <p:attrNameLst>
                                          <p:attrName>style.visibility</p:attrName>
                                        </p:attrNameLst>
                                      </p:cBhvr>
                                      <p:to>
                                        <p:strVal val="visible"/>
                                      </p:to>
                                    </p:set>
                                    <p:anim calcmode="lin" valueType="num">
                                      <p:cBhvr additive="repl">
                                        <p:cTn id="21" dur="500"/>
                                        <p:tgtEl>
                                          <p:spTgt spid="1209"/>
                                        </p:tgtEl>
                                        <p:attrNameLst>
                                          <p:attrName>ppt_y</p:attrName>
                                        </p:attrNameLst>
                                      </p:cBhvr>
                                      <p:tavLst>
                                        <p:tav tm="0">
                                          <p:val>
                                            <p:strVal val="#ppt_y+#ppt_h*1.125000"/>
                                          </p:val>
                                        </p:tav>
                                        <p:tav tm="100000">
                                          <p:val>
                                            <p:strVal val="#ppt_y"/>
                                          </p:val>
                                        </p:tav>
                                      </p:tavLst>
                                    </p:anim>
                                    <p:animEffect filter="wipe(up)" transition="in">
                                      <p:cBhvr additive="repl">
                                        <p:cTn id="22" dur="500"/>
                                        <p:tgtEl>
                                          <p:spTgt spid="1209"/>
                                        </p:tgtEl>
                                      </p:cBhvr>
                                    </p:animEffect>
                                  </p:childTnLst>
                                </p:cTn>
                              </p:par>
                            </p:childTnLst>
                          </p:cTn>
                        </p:par>
                        <p:par>
                          <p:cTn id="23" fill="hold">
                            <p:stCondLst>
                              <p:cond delay="1000"/>
                            </p:stCondLst>
                            <p:childTnLst>
                              <p:par>
                                <p:cTn id="24" dur="indefinite" nodeType="afterEffect" fill="hold" presetClass="entr" presetID="12" presetSubtype="4">
                                  <p:stCondLst>
                                    <p:cond delay="0"/>
                                  </p:stCondLst>
                                  <p:childTnLst>
                                    <p:set>
                                      <p:cBhvr>
                                        <p:cTn id="25" dur="1" fill="hold">
                                          <p:stCondLst>
                                            <p:cond delay="0"/>
                                          </p:stCondLst>
                                        </p:cTn>
                                        <p:tgtEl>
                                          <p:spTgt spid="1214"/>
                                        </p:tgtEl>
                                        <p:attrNameLst>
                                          <p:attrName>style.visibility</p:attrName>
                                        </p:attrNameLst>
                                      </p:cBhvr>
                                      <p:to>
                                        <p:strVal val="visible"/>
                                      </p:to>
                                    </p:set>
                                    <p:anim calcmode="lin" valueType="num">
                                      <p:cBhvr additive="repl">
                                        <p:cTn id="26" dur="500"/>
                                        <p:tgtEl>
                                          <p:spTgt spid="1214"/>
                                        </p:tgtEl>
                                        <p:attrNameLst>
                                          <p:attrName>ppt_y</p:attrName>
                                        </p:attrNameLst>
                                      </p:cBhvr>
                                      <p:tavLst>
                                        <p:tav tm="0">
                                          <p:val>
                                            <p:strVal val="#ppt_y+#ppt_h*1.125000"/>
                                          </p:val>
                                        </p:tav>
                                        <p:tav tm="100000">
                                          <p:val>
                                            <p:strVal val="#ppt_y"/>
                                          </p:val>
                                        </p:tav>
                                      </p:tavLst>
                                    </p:anim>
                                    <p:animEffect filter="wipe(up)" transition="in">
                                      <p:cBhvr additive="repl">
                                        <p:cTn id="27" dur="500"/>
                                        <p:tgtEl>
                                          <p:spTgt spid="1214"/>
                                        </p:tgtEl>
                                      </p:cBhvr>
                                    </p:animEffect>
                                  </p:childTnLst>
                                </p:cTn>
                              </p:par>
                            </p:childTnLst>
                          </p:cTn>
                        </p:par>
                        <p:par>
                          <p:cTn id="28" fill="hold">
                            <p:stCondLst>
                              <p:cond delay="1500"/>
                            </p:stCondLst>
                            <p:childTnLst>
                              <p:par>
                                <p:cTn id="29" dur="indefinite" nodeType="afterEffect" fill="hold" presetClass="entr" presetID="12" presetSubtype="4">
                                  <p:stCondLst>
                                    <p:cond delay="0"/>
                                  </p:stCondLst>
                                  <p:childTnLst>
                                    <p:set>
                                      <p:cBhvr>
                                        <p:cTn id="30" dur="1" fill="hold">
                                          <p:stCondLst>
                                            <p:cond delay="0"/>
                                          </p:stCondLst>
                                        </p:cTn>
                                        <p:tgtEl>
                                          <p:spTgt spid="1219"/>
                                        </p:tgtEl>
                                        <p:attrNameLst>
                                          <p:attrName>style.visibility</p:attrName>
                                        </p:attrNameLst>
                                      </p:cBhvr>
                                      <p:to>
                                        <p:strVal val="visible"/>
                                      </p:to>
                                    </p:set>
                                    <p:anim calcmode="lin" valueType="num">
                                      <p:cBhvr additive="repl">
                                        <p:cTn id="31" dur="500"/>
                                        <p:tgtEl>
                                          <p:spTgt spid="1219"/>
                                        </p:tgtEl>
                                        <p:attrNameLst>
                                          <p:attrName>ppt_y</p:attrName>
                                        </p:attrNameLst>
                                      </p:cBhvr>
                                      <p:tavLst>
                                        <p:tav tm="0">
                                          <p:val>
                                            <p:strVal val="#ppt_y+#ppt_h*1.125000"/>
                                          </p:val>
                                        </p:tav>
                                        <p:tav tm="100000">
                                          <p:val>
                                            <p:strVal val="#ppt_y"/>
                                          </p:val>
                                        </p:tav>
                                      </p:tavLst>
                                    </p:anim>
                                    <p:animEffect filter="wipe(up)" transition="in">
                                      <p:cBhvr additive="repl">
                                        <p:cTn id="32" dur="500"/>
                                        <p:tgtEl>
                                          <p:spTgt spid="1219"/>
                                        </p:tgtEl>
                                      </p:cBhvr>
                                    </p:animEffect>
                                  </p:childTnLst>
                                </p:cTn>
                              </p:par>
                            </p:childTnLst>
                          </p:cTn>
                        </p:par>
                        <p:par>
                          <p:cTn id="33" fill="hold">
                            <p:stCondLst>
                              <p:cond delay="2000"/>
                            </p:stCondLst>
                            <p:childTnLst>
                              <p:par>
                                <p:cTn id="34" dur="indefinite" nodeType="afterEffect" fill="hold" presetClass="entr" presetID="12" presetSubtype="4">
                                  <p:stCondLst>
                                    <p:cond delay="0"/>
                                  </p:stCondLst>
                                  <p:childTnLst>
                                    <p:set>
                                      <p:cBhvr>
                                        <p:cTn id="35" dur="1" fill="hold">
                                          <p:stCondLst>
                                            <p:cond delay="0"/>
                                          </p:stCondLst>
                                        </p:cTn>
                                        <p:tgtEl>
                                          <p:spTgt spid="1229"/>
                                        </p:tgtEl>
                                        <p:attrNameLst>
                                          <p:attrName>style.visibility</p:attrName>
                                        </p:attrNameLst>
                                      </p:cBhvr>
                                      <p:to>
                                        <p:strVal val="visible"/>
                                      </p:to>
                                    </p:set>
                                    <p:anim calcmode="lin" valueType="num">
                                      <p:cBhvr additive="repl">
                                        <p:cTn id="36" dur="500"/>
                                        <p:tgtEl>
                                          <p:spTgt spid="1229"/>
                                        </p:tgtEl>
                                        <p:attrNameLst>
                                          <p:attrName>ppt_y</p:attrName>
                                        </p:attrNameLst>
                                      </p:cBhvr>
                                      <p:tavLst>
                                        <p:tav tm="0">
                                          <p:val>
                                            <p:strVal val="#ppt_y+#ppt_h*1.125000"/>
                                          </p:val>
                                        </p:tav>
                                        <p:tav tm="100000">
                                          <p:val>
                                            <p:strVal val="#ppt_y"/>
                                          </p:val>
                                        </p:tav>
                                      </p:tavLst>
                                    </p:anim>
                                    <p:animEffect filter="wipe(up)" transition="in">
                                      <p:cBhvr additive="repl">
                                        <p:cTn id="37" dur="500"/>
                                        <p:tgtEl>
                                          <p:spTgt spid="1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5" name="PlaceHolder 1"/>
          <p:cNvSpPr>
            <a:spLocks noGrp="1"/>
          </p:cNvSpPr>
          <p:nvPr>
            <p:ph type="title"/>
          </p:nvPr>
        </p:nvSpPr>
        <p:spPr>
          <a:xfrm>
            <a:off x="5665320" y="2612520"/>
            <a:ext cx="5978520" cy="154620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800" spc="-1" strike="noStrike">
                <a:solidFill>
                  <a:srgbClr val="5b9bd4"/>
                </a:solidFill>
                <a:latin typeface="Bodoni MT Black"/>
              </a:rPr>
              <a:t>THANKS</a:t>
            </a:r>
            <a:endParaRPr b="1" lang="en-US" sz="8800" spc="-1" strike="noStrike">
              <a:solidFill>
                <a:srgbClr val="262626"/>
              </a:solidFill>
              <a:latin typeface="Arial"/>
            </a:endParaRPr>
          </a:p>
        </p:txBody>
      </p:sp>
    </p:spTree>
  </p:cSld>
  <p:transition>
    <p:fade/>
  </p:transition>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dur="indefinite" nodeType="withEffect" fill="hold" presetClass="entr" presetID="0">
                                  <p:stCondLst>
                                    <p:cond delay="0"/>
                                  </p:stCondLst>
                                  <p:iterate type="lt">
                                    <p:tmAbs val="100"/>
                                  </p:iterate>
                                  <p:childTnLst>
                                    <p:set>
                                      <p:cBhvr>
                                        <p:cTn id="208" dur="1" fill="hold">
                                          <p:stCondLst>
                                            <p:cond delay="0"/>
                                          </p:stCondLst>
                                        </p:cTn>
                                        <p:tgtEl>
                                          <p:spTgt spid="1655"/>
                                        </p:tgtEl>
                                        <p:attrNameLst>
                                          <p:attrName>style.visibility</p:attrName>
                                        </p:attrNameLst>
                                      </p:cBhvr>
                                      <p:to>
                                        <p:strVal val="visible"/>
                                      </p:to>
                                    </p:set>
                                    <p:anim calcmode="lin" valueType="num">
                                      <p:cBhvr additive="repl">
                                        <p:cTn id="209" dur="833" fill="hold">
                                          <p:stCondLst>
                                            <p:cond delay="167"/>
                                          </p:stCondLst>
                                        </p:cTn>
                                        <p:tgtEl>
                                          <p:spTgt spid="1655"/>
                                        </p:tgtEl>
                                        <p:attrNameLst>
                                          <p:attrName>ppt_h</p:attrName>
                                        </p:attrNameLst>
                                      </p:cBhvr>
                                      <p:tavLst>
                                        <p:tav fmla="height*(1+0.4*sin(2.5*pi*$)*(1-$)^3)" tm="0">
                                          <p:val>
                                            <p:fltVal val="0"/>
                                          </p:val>
                                        </p:tav>
                                        <p:tav fmla="height*(1+0.4*sin(2.5*pi*$)*(1-$)^3)" tm="100000">
                                          <p:val>
                                            <p:fltVal val="1"/>
                                          </p:val>
                                        </p:tav>
                                      </p:tavLst>
                                    </p:anim>
                                    <p:anim calcmode="lin" valueType="num">
                                      <p:cBhvr additive="repl">
                                        <p:cTn id="210" dur="1000" fill="hold">
                                          <p:stCondLst>
                                            <p:cond delay="0"/>
                                          </p:stCondLst>
                                        </p:cTn>
                                        <p:tgtEl>
                                          <p:spTgt spid="1655"/>
                                        </p:tgtEl>
                                        <p:attrNameLst>
                                          <p:attrName>ppt_y</p:attrName>
                                        </p:attrNameLst>
                                      </p:cBhvr>
                                      <p:tavLst>
                                        <p:tav fmla="y-0.5*height+0.5*height" tm="0">
                                          <p:val>
                                            <p:fltVal val="0"/>
                                          </p:val>
                                        </p:tav>
                                        <p:tav fmla="y-0.5*height+0.5*height" tm="100000">
                                          <p:val>
                                            <p:fltVal val="1"/>
                                          </p:val>
                                        </p:tav>
                                      </p:tavLst>
                                    </p:anim>
                                    <p:anim calcmode="lin" valueType="num">
                                      <p:cBhvr additive="repl">
                                        <p:cTn id="211" dur="167" fill="hold">
                                          <p:stCondLst>
                                            <p:cond delay="0"/>
                                          </p:stCondLst>
                                        </p:cTn>
                                        <p:tgtEl>
                                          <p:spTgt spid="1655"/>
                                        </p:tgtEl>
                                        <p:attrNameLst>
                                          <p:attrName>ppt_h</p:attrName>
                                        </p:attrNameLst>
                                      </p:cBhvr>
                                      <p:tavLst>
                                        <p:tav fmla="$^2*height" tm="0">
                                          <p:val>
                                            <p:fltVal val="0"/>
                                          </p:val>
                                        </p:tav>
                                        <p:tav fmla="$^2*height"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文本框 2"/>
          <p:cNvSpPr/>
          <p:nvPr/>
        </p:nvSpPr>
        <p:spPr>
          <a:xfrm>
            <a:off x="208080" y="2781360"/>
            <a:ext cx="2211120" cy="1184040"/>
          </a:xfrm>
          <a:prstGeom prst="rect">
            <a:avLst/>
          </a:prstGeom>
          <a:noFill/>
          <a:ln w="0">
            <a:noFill/>
          </a:ln>
        </p:spPr>
        <p:style>
          <a:lnRef idx="0"/>
          <a:fillRef idx="0"/>
          <a:effectRef idx="0"/>
          <a:fontRef idx="minor"/>
        </p:style>
        <p:txBody>
          <a:bodyPr lIns="101520" rIns="6336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e10d4"/>
                </a:solidFill>
                <a:latin typeface="微软雅黑"/>
                <a:ea typeface="微软雅黑"/>
              </a:rPr>
              <a:t>学习目标</a:t>
            </a:r>
            <a:endParaRPr b="1" lang="en-US" sz="3600" spc="-1" strike="noStrike">
              <a:solidFill>
                <a:srgbClr val="000000"/>
              </a:solidFill>
              <a:latin typeface="Arial"/>
            </a:endParaRPr>
          </a:p>
        </p:txBody>
      </p:sp>
      <p:grpSp>
        <p:nvGrpSpPr>
          <p:cNvPr id="1239" name="组合 7"/>
          <p:cNvGrpSpPr/>
          <p:nvPr/>
        </p:nvGrpSpPr>
        <p:grpSpPr>
          <a:xfrm>
            <a:off x="2505240" y="254160"/>
            <a:ext cx="9686880" cy="6480000"/>
            <a:chOff x="2505240" y="254160"/>
            <a:chExt cx="9686880" cy="6480000"/>
          </a:xfrm>
        </p:grpSpPr>
        <p:sp>
          <p:nvSpPr>
            <p:cNvPr id="1240" name="矩形 3"/>
            <p:cNvSpPr/>
            <p:nvPr/>
          </p:nvSpPr>
          <p:spPr>
            <a:xfrm>
              <a:off x="2505240" y="254160"/>
              <a:ext cx="9686880" cy="6480000"/>
            </a:xfrm>
            <a:prstGeom prst="rect">
              <a:avLst/>
            </a:prstGeom>
            <a:blipFill rotWithShape="0">
              <a:blip r:embed="rId1"/>
              <a:srcRect/>
              <a:tile tx="0" ty="0" sx="100000" sy="100000" algn="ctr"/>
            </a:blipFill>
            <a:ln w="12600">
              <a:solidFill>
                <a:srgbClr val="8e10d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41" name="矩形: 剪去对角 4"/>
            <p:cNvSpPr/>
            <p:nvPr/>
          </p:nvSpPr>
          <p:spPr>
            <a:xfrm>
              <a:off x="2782800" y="592200"/>
              <a:ext cx="9073440" cy="5838840"/>
            </a:xfrm>
            <a:custGeom>
              <a:avLst/>
              <a:gdLst/>
              <a:ahLst/>
              <a:rect l="l" t="t" r="r" b="b"/>
              <a:pathLst>
                <a:path w="11301" h="8959">
                  <a:moveTo>
                    <a:pt x="754" y="0"/>
                  </a:moveTo>
                  <a:lnTo>
                    <a:pt x="11301" y="0"/>
                  </a:lnTo>
                  <a:lnTo>
                    <a:pt x="11301" y="0"/>
                  </a:lnTo>
                  <a:lnTo>
                    <a:pt x="11301" y="8204"/>
                  </a:lnTo>
                  <a:lnTo>
                    <a:pt x="10546" y="8959"/>
                  </a:lnTo>
                  <a:lnTo>
                    <a:pt x="0" y="8959"/>
                  </a:lnTo>
                  <a:lnTo>
                    <a:pt x="0" y="8959"/>
                  </a:lnTo>
                  <a:lnTo>
                    <a:pt x="0" y="754"/>
                  </a:lnTo>
                  <a:close/>
                </a:path>
              </a:pathLst>
            </a:custGeom>
            <a:solidFill>
              <a:srgbClr val="ffffff"/>
            </a:solidFill>
            <a:ln w="12600">
              <a:solidFill>
                <a:srgbClr val="8e10d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242" name="图片 8" descr=""/>
          <p:cNvPicPr/>
          <p:nvPr/>
        </p:nvPicPr>
        <p:blipFill>
          <a:blip r:embed="rId2"/>
          <a:stretch/>
        </p:blipFill>
        <p:spPr>
          <a:xfrm rot="6720000">
            <a:off x="3204720" y="900000"/>
            <a:ext cx="838440" cy="682560"/>
          </a:xfrm>
          <a:prstGeom prst="rect">
            <a:avLst/>
          </a:prstGeom>
          <a:ln w="0">
            <a:noFill/>
          </a:ln>
        </p:spPr>
      </p:pic>
      <p:pic>
        <p:nvPicPr>
          <p:cNvPr id="1243" name="图片 9" descr=""/>
          <p:cNvPicPr/>
          <p:nvPr/>
        </p:nvPicPr>
        <p:blipFill>
          <a:blip r:embed="rId3"/>
          <a:stretch/>
        </p:blipFill>
        <p:spPr>
          <a:xfrm>
            <a:off x="10834560" y="5362560"/>
            <a:ext cx="733680" cy="673200"/>
          </a:xfrm>
          <a:prstGeom prst="rect">
            <a:avLst/>
          </a:prstGeom>
          <a:ln w="0">
            <a:noFill/>
          </a:ln>
        </p:spPr>
      </p:pic>
      <p:sp>
        <p:nvSpPr>
          <p:cNvPr id="1244" name="文本框 11"/>
          <p:cNvSpPr/>
          <p:nvPr/>
        </p:nvSpPr>
        <p:spPr>
          <a:xfrm>
            <a:off x="2419200" y="2119320"/>
            <a:ext cx="8458200" cy="2599200"/>
          </a:xfrm>
          <a:prstGeom prst="rect">
            <a:avLst/>
          </a:prstGeom>
          <a:noFill/>
          <a:ln w="0">
            <a:noFill/>
          </a:ln>
        </p:spPr>
        <p:style>
          <a:lnRef idx="0"/>
          <a:fillRef idx="0"/>
          <a:effectRef idx="0"/>
          <a:fontRef idx="minor"/>
        </p:style>
        <p:txBody>
          <a:bodyPr lIns="101520" rIns="82440" tIns="0" bIns="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75094"/>
                </a:solidFill>
                <a:latin typeface="微软雅黑"/>
                <a:ea typeface="微软雅黑"/>
              </a:rPr>
              <a:t>【知识目标】</a:t>
            </a:r>
            <a:endParaRPr b="1" lang="en-US" sz="2800" spc="-1" strike="noStrike">
              <a:solidFill>
                <a:srgbClr val="000000"/>
              </a:solidFill>
              <a:latin typeface="Arial"/>
            </a:endParaRPr>
          </a:p>
          <a:p>
            <a:pPr>
              <a:lnSpc>
                <a:spcPct val="130000"/>
              </a:lnSpc>
              <a:spcBef>
                <a:spcPts val="1001"/>
              </a:spcBef>
              <a:buClr>
                <a:srgbClr val="2f75b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了解审计业务承接的全过程。 </a:t>
            </a:r>
            <a:endParaRPr b="1" lang="en-US" sz="2800" spc="-1" strike="noStrike">
              <a:solidFill>
                <a:srgbClr val="000000"/>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a:t>
            </a:r>
            <a:r>
              <a:rPr b="1" lang="zh-CN" sz="2800" spc="-1" strike="noStrike">
                <a:solidFill>
                  <a:srgbClr val="000000"/>
                </a:solidFill>
                <a:latin typeface="Arial"/>
                <a:ea typeface="宋体"/>
              </a:rPr>
              <a:t>理解初步业务活动的目的。 </a:t>
            </a:r>
            <a:endParaRPr b="1" lang="en-US" sz="2800" spc="-1" strike="noStrike">
              <a:solidFill>
                <a:srgbClr val="000000"/>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a:t>
            </a:r>
            <a:r>
              <a:rPr b="1" lang="zh-CN" sz="2800" spc="-1" strike="noStrike">
                <a:solidFill>
                  <a:srgbClr val="000000"/>
                </a:solidFill>
                <a:latin typeface="Arial"/>
                <a:ea typeface="宋体"/>
              </a:rPr>
              <a:t>掌握初步业务活动和审计约定书的内容。</a:t>
            </a:r>
            <a:endParaRPr b="1" lang="en-US" sz="2800" spc="-1" strike="noStrike">
              <a:solidFill>
                <a:srgbClr val="000000"/>
              </a:solidFill>
              <a:latin typeface="Arial"/>
            </a:endParaRPr>
          </a:p>
        </p:txBody>
      </p:sp>
      <p:pic>
        <p:nvPicPr>
          <p:cNvPr id="1245" name="图片 7" descr="&amp;pky8040249173&amp;"/>
          <p:cNvPicPr/>
          <p:nvPr/>
        </p:nvPicPr>
        <p:blipFill>
          <a:blip r:embed="rId4"/>
          <a:srcRect l="5404" t="13137" r="53113" b="0"/>
          <a:stretch/>
        </p:blipFill>
        <p:spPr>
          <a:xfrm>
            <a:off x="219240" y="3860640"/>
            <a:ext cx="1777680" cy="2462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文本框 2"/>
          <p:cNvSpPr/>
          <p:nvPr/>
        </p:nvSpPr>
        <p:spPr>
          <a:xfrm>
            <a:off x="0" y="2781360"/>
            <a:ext cx="2289240" cy="1184040"/>
          </a:xfrm>
          <a:prstGeom prst="rect">
            <a:avLst/>
          </a:prstGeom>
          <a:noFill/>
          <a:ln w="0">
            <a:noFill/>
          </a:ln>
        </p:spPr>
        <p:style>
          <a:lnRef idx="0"/>
          <a:fillRef idx="0"/>
          <a:effectRef idx="0"/>
          <a:fontRef idx="minor"/>
        </p:style>
        <p:txBody>
          <a:bodyPr lIns="101520" rIns="6336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e10d4"/>
                </a:solidFill>
                <a:latin typeface="微软雅黑"/>
                <a:ea typeface="微软雅黑"/>
              </a:rPr>
              <a:t>学习目标</a:t>
            </a:r>
            <a:endParaRPr b="1" lang="en-US" sz="3600" spc="-1" strike="noStrike">
              <a:solidFill>
                <a:srgbClr val="000000"/>
              </a:solidFill>
              <a:latin typeface="Arial"/>
            </a:endParaRPr>
          </a:p>
        </p:txBody>
      </p:sp>
      <p:grpSp>
        <p:nvGrpSpPr>
          <p:cNvPr id="1247" name="组合 7"/>
          <p:cNvGrpSpPr/>
          <p:nvPr/>
        </p:nvGrpSpPr>
        <p:grpSpPr>
          <a:xfrm>
            <a:off x="2360520" y="254160"/>
            <a:ext cx="9831600" cy="6394320"/>
            <a:chOff x="2360520" y="254160"/>
            <a:chExt cx="9831600" cy="6394320"/>
          </a:xfrm>
        </p:grpSpPr>
        <p:sp>
          <p:nvSpPr>
            <p:cNvPr id="1248" name="矩形 3"/>
            <p:cNvSpPr/>
            <p:nvPr/>
          </p:nvSpPr>
          <p:spPr>
            <a:xfrm>
              <a:off x="2360520" y="254160"/>
              <a:ext cx="9831600" cy="6394320"/>
            </a:xfrm>
            <a:prstGeom prst="rect">
              <a:avLst/>
            </a:prstGeom>
            <a:blipFill rotWithShape="0">
              <a:blip r:embed="rId1"/>
              <a:srcRect/>
              <a:tile tx="0" ty="0" sx="100000" sy="100000" algn="ctr"/>
            </a:blipFill>
            <a:ln w="12600">
              <a:solidFill>
                <a:srgbClr val="8e10d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49" name="矩形: 剪去对角 4"/>
            <p:cNvSpPr/>
            <p:nvPr/>
          </p:nvSpPr>
          <p:spPr>
            <a:xfrm>
              <a:off x="2642400" y="587880"/>
              <a:ext cx="9209160" cy="5761440"/>
            </a:xfrm>
            <a:custGeom>
              <a:avLst/>
              <a:gdLst/>
              <a:ahLst/>
              <a:rect l="l" t="t" r="r" b="b"/>
              <a:pathLst>
                <a:path w="11301" h="8959">
                  <a:moveTo>
                    <a:pt x="754" y="0"/>
                  </a:moveTo>
                  <a:lnTo>
                    <a:pt x="11301" y="0"/>
                  </a:lnTo>
                  <a:lnTo>
                    <a:pt x="11301" y="0"/>
                  </a:lnTo>
                  <a:lnTo>
                    <a:pt x="11301" y="8204"/>
                  </a:lnTo>
                  <a:lnTo>
                    <a:pt x="10546" y="8959"/>
                  </a:lnTo>
                  <a:lnTo>
                    <a:pt x="0" y="8959"/>
                  </a:lnTo>
                  <a:lnTo>
                    <a:pt x="0" y="8959"/>
                  </a:lnTo>
                  <a:lnTo>
                    <a:pt x="0" y="754"/>
                  </a:lnTo>
                  <a:close/>
                </a:path>
              </a:pathLst>
            </a:custGeom>
            <a:solidFill>
              <a:srgbClr val="ffffff"/>
            </a:solidFill>
            <a:ln w="12600">
              <a:solidFill>
                <a:srgbClr val="8e10d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250" name="图片 8" descr=""/>
          <p:cNvPicPr/>
          <p:nvPr/>
        </p:nvPicPr>
        <p:blipFill>
          <a:blip r:embed="rId2"/>
          <a:stretch/>
        </p:blipFill>
        <p:spPr>
          <a:xfrm rot="6720000">
            <a:off x="3204720" y="900000"/>
            <a:ext cx="838440" cy="682560"/>
          </a:xfrm>
          <a:prstGeom prst="rect">
            <a:avLst/>
          </a:prstGeom>
          <a:ln w="0">
            <a:noFill/>
          </a:ln>
        </p:spPr>
      </p:pic>
      <p:pic>
        <p:nvPicPr>
          <p:cNvPr id="1251" name="图片 9" descr=""/>
          <p:cNvPicPr/>
          <p:nvPr/>
        </p:nvPicPr>
        <p:blipFill>
          <a:blip r:embed="rId3"/>
          <a:stretch/>
        </p:blipFill>
        <p:spPr>
          <a:xfrm>
            <a:off x="10834560" y="5362560"/>
            <a:ext cx="733680" cy="673200"/>
          </a:xfrm>
          <a:prstGeom prst="rect">
            <a:avLst/>
          </a:prstGeom>
          <a:ln w="0">
            <a:noFill/>
          </a:ln>
        </p:spPr>
      </p:pic>
      <p:sp>
        <p:nvSpPr>
          <p:cNvPr id="1252" name="文本框 5"/>
          <p:cNvSpPr/>
          <p:nvPr/>
        </p:nvSpPr>
        <p:spPr>
          <a:xfrm>
            <a:off x="2360520" y="2397240"/>
            <a:ext cx="8521920" cy="2599200"/>
          </a:xfrm>
          <a:prstGeom prst="rect">
            <a:avLst/>
          </a:prstGeom>
          <a:noFill/>
          <a:ln w="0">
            <a:noFill/>
          </a:ln>
        </p:spPr>
        <p:style>
          <a:lnRef idx="0"/>
          <a:fillRef idx="0"/>
          <a:effectRef idx="0"/>
          <a:fontRef idx="minor"/>
        </p:style>
        <p:txBody>
          <a:bodyPr lIns="101520" rIns="82440" tIns="0" bIns="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75094"/>
                </a:solidFill>
                <a:latin typeface="微软雅黑"/>
                <a:ea typeface="微软雅黑"/>
              </a:rPr>
              <a:t>【能力目标】</a:t>
            </a:r>
            <a:endParaRPr b="1" lang="en-US" sz="2800" spc="-1" strike="noStrike">
              <a:solidFill>
                <a:srgbClr val="000000"/>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 </a:t>
            </a:r>
            <a:r>
              <a:rPr b="1" lang="zh-CN" sz="2800" spc="-1" strike="noStrike">
                <a:solidFill>
                  <a:srgbClr val="000000"/>
                </a:solidFill>
                <a:latin typeface="Arial"/>
                <a:ea typeface="宋体"/>
              </a:rPr>
              <a:t>能编制企业基本情况工作底稿。</a:t>
            </a:r>
            <a:endParaRPr b="1" lang="en-US" sz="2800" spc="-1" strike="noStrike">
              <a:solidFill>
                <a:srgbClr val="000000"/>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en-US" sz="2800" spc="-1" strike="noStrike">
                <a:solidFill>
                  <a:srgbClr val="000000"/>
                </a:solidFill>
                <a:latin typeface="Arial"/>
              </a:rPr>
              <a:t>2. </a:t>
            </a:r>
            <a:r>
              <a:rPr b="1" lang="zh-CN" sz="2800" spc="-1" strike="noStrike">
                <a:solidFill>
                  <a:srgbClr val="000000"/>
                </a:solidFill>
                <a:latin typeface="Arial"/>
                <a:ea typeface="宋体"/>
              </a:rPr>
              <a:t>能编制承接业务的风险初步评价工作底稿。</a:t>
            </a:r>
            <a:endParaRPr b="1" lang="en-US" sz="2800" spc="-1" strike="noStrike">
              <a:solidFill>
                <a:srgbClr val="000000"/>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en-US" sz="2800" spc="-1" strike="noStrike">
                <a:solidFill>
                  <a:srgbClr val="000000"/>
                </a:solidFill>
                <a:latin typeface="Arial"/>
              </a:rPr>
              <a:t>3. </a:t>
            </a:r>
            <a:r>
              <a:rPr b="1" lang="zh-CN" sz="2800" spc="-1" strike="noStrike">
                <a:solidFill>
                  <a:srgbClr val="000000"/>
                </a:solidFill>
                <a:latin typeface="Arial"/>
                <a:ea typeface="宋体"/>
              </a:rPr>
              <a:t>能制定审计业务约定书。</a:t>
            </a:r>
            <a:endParaRPr b="1" lang="en-US" sz="2800" spc="-1" strike="noStrike">
              <a:solidFill>
                <a:srgbClr val="000000"/>
              </a:solidFill>
              <a:latin typeface="Arial"/>
            </a:endParaRPr>
          </a:p>
        </p:txBody>
      </p:sp>
      <p:pic>
        <p:nvPicPr>
          <p:cNvPr id="1253" name="图片 7" descr="&amp;pky8040249173&amp;"/>
          <p:cNvPicPr/>
          <p:nvPr/>
        </p:nvPicPr>
        <p:blipFill>
          <a:blip r:embed="rId4"/>
          <a:srcRect l="5404" t="13137" r="53113" b="0"/>
          <a:stretch/>
        </p:blipFill>
        <p:spPr>
          <a:xfrm>
            <a:off x="236520" y="3716280"/>
            <a:ext cx="1719360" cy="2462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文本框 2"/>
          <p:cNvSpPr/>
          <p:nvPr/>
        </p:nvSpPr>
        <p:spPr>
          <a:xfrm>
            <a:off x="0" y="2781360"/>
            <a:ext cx="2289240" cy="1184040"/>
          </a:xfrm>
          <a:prstGeom prst="rect">
            <a:avLst/>
          </a:prstGeom>
          <a:noFill/>
          <a:ln w="0">
            <a:noFill/>
          </a:ln>
        </p:spPr>
        <p:style>
          <a:lnRef idx="0"/>
          <a:fillRef idx="0"/>
          <a:effectRef idx="0"/>
          <a:fontRef idx="minor"/>
        </p:style>
        <p:txBody>
          <a:bodyPr lIns="101520" rIns="6336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e10d4"/>
                </a:solidFill>
                <a:latin typeface="微软雅黑"/>
                <a:ea typeface="微软雅黑"/>
              </a:rPr>
              <a:t>学习目标</a:t>
            </a:r>
            <a:endParaRPr b="1" lang="en-US" sz="3600" spc="-1" strike="noStrike">
              <a:solidFill>
                <a:srgbClr val="000000"/>
              </a:solidFill>
              <a:latin typeface="Arial"/>
            </a:endParaRPr>
          </a:p>
        </p:txBody>
      </p:sp>
      <p:grpSp>
        <p:nvGrpSpPr>
          <p:cNvPr id="1255" name="组合 7"/>
          <p:cNvGrpSpPr/>
          <p:nvPr/>
        </p:nvGrpSpPr>
        <p:grpSpPr>
          <a:xfrm>
            <a:off x="2289240" y="339840"/>
            <a:ext cx="10037520" cy="6333840"/>
            <a:chOff x="2289240" y="339840"/>
            <a:chExt cx="10037520" cy="6333840"/>
          </a:xfrm>
        </p:grpSpPr>
        <p:sp>
          <p:nvSpPr>
            <p:cNvPr id="1256" name="矩形 3"/>
            <p:cNvSpPr/>
            <p:nvPr/>
          </p:nvSpPr>
          <p:spPr>
            <a:xfrm>
              <a:off x="2289240" y="339840"/>
              <a:ext cx="10037520" cy="6333840"/>
            </a:xfrm>
            <a:prstGeom prst="rect">
              <a:avLst/>
            </a:prstGeom>
            <a:blipFill rotWithShape="0">
              <a:blip r:embed="rId1"/>
              <a:srcRect/>
              <a:tile tx="0" ty="0" sx="100000" sy="100000" algn="ctr"/>
            </a:blipFill>
            <a:ln w="12600">
              <a:solidFill>
                <a:srgbClr val="8e10d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57" name="矩形: 剪去对角 4"/>
            <p:cNvSpPr/>
            <p:nvPr/>
          </p:nvSpPr>
          <p:spPr>
            <a:xfrm>
              <a:off x="2576880" y="670320"/>
              <a:ext cx="9401760" cy="5707080"/>
            </a:xfrm>
            <a:custGeom>
              <a:avLst/>
              <a:gdLst/>
              <a:ahLst/>
              <a:rect l="l" t="t" r="r" b="b"/>
              <a:pathLst>
                <a:path w="11301" h="8959">
                  <a:moveTo>
                    <a:pt x="754" y="0"/>
                  </a:moveTo>
                  <a:lnTo>
                    <a:pt x="11301" y="0"/>
                  </a:lnTo>
                  <a:lnTo>
                    <a:pt x="11301" y="0"/>
                  </a:lnTo>
                  <a:lnTo>
                    <a:pt x="11301" y="8204"/>
                  </a:lnTo>
                  <a:lnTo>
                    <a:pt x="10546" y="8959"/>
                  </a:lnTo>
                  <a:lnTo>
                    <a:pt x="0" y="8959"/>
                  </a:lnTo>
                  <a:lnTo>
                    <a:pt x="0" y="8959"/>
                  </a:lnTo>
                  <a:lnTo>
                    <a:pt x="0" y="754"/>
                  </a:lnTo>
                  <a:close/>
                </a:path>
              </a:pathLst>
            </a:custGeom>
            <a:solidFill>
              <a:srgbClr val="ffffff"/>
            </a:solidFill>
            <a:ln w="12600">
              <a:solidFill>
                <a:srgbClr val="8e10d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258" name="图片 8" descr=""/>
          <p:cNvPicPr/>
          <p:nvPr/>
        </p:nvPicPr>
        <p:blipFill>
          <a:blip r:embed="rId2"/>
          <a:stretch/>
        </p:blipFill>
        <p:spPr>
          <a:xfrm rot="6720000">
            <a:off x="3204720" y="900000"/>
            <a:ext cx="838440" cy="682560"/>
          </a:xfrm>
          <a:prstGeom prst="rect">
            <a:avLst/>
          </a:prstGeom>
          <a:ln w="0">
            <a:noFill/>
          </a:ln>
        </p:spPr>
      </p:pic>
      <p:pic>
        <p:nvPicPr>
          <p:cNvPr id="1259" name="图片 9" descr=""/>
          <p:cNvPicPr/>
          <p:nvPr/>
        </p:nvPicPr>
        <p:blipFill>
          <a:blip r:embed="rId3"/>
          <a:stretch/>
        </p:blipFill>
        <p:spPr>
          <a:xfrm>
            <a:off x="10834560" y="5362560"/>
            <a:ext cx="733680" cy="673200"/>
          </a:xfrm>
          <a:prstGeom prst="rect">
            <a:avLst/>
          </a:prstGeom>
          <a:ln w="0">
            <a:noFill/>
          </a:ln>
        </p:spPr>
      </p:pic>
      <p:sp>
        <p:nvSpPr>
          <p:cNvPr id="1260" name="文本框 6"/>
          <p:cNvSpPr/>
          <p:nvPr/>
        </p:nvSpPr>
        <p:spPr>
          <a:xfrm>
            <a:off x="2127240" y="1757520"/>
            <a:ext cx="10199520" cy="2599200"/>
          </a:xfrm>
          <a:prstGeom prst="rect">
            <a:avLst/>
          </a:prstGeom>
          <a:noFill/>
          <a:ln w="0">
            <a:noFill/>
          </a:ln>
        </p:spPr>
        <p:style>
          <a:lnRef idx="0"/>
          <a:fillRef idx="0"/>
          <a:effectRef idx="0"/>
          <a:fontRef idx="minor"/>
        </p:style>
        <p:txBody>
          <a:bodyPr lIns="101520" rIns="82440" tIns="0" bIns="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75094"/>
                </a:solidFill>
                <a:latin typeface="微软雅黑"/>
                <a:ea typeface="微软雅黑"/>
              </a:rPr>
              <a:t>  </a:t>
            </a:r>
            <a:r>
              <a:rPr b="1" lang="zh-CN" sz="2800" spc="-1" strike="noStrike">
                <a:solidFill>
                  <a:srgbClr val="175094"/>
                </a:solidFill>
                <a:latin typeface="微软雅黑"/>
                <a:ea typeface="微软雅黑"/>
              </a:rPr>
              <a:t>【素养目标】</a:t>
            </a:r>
            <a:endParaRPr b="1" lang="en-US" sz="2800" spc="-1" strike="noStrike">
              <a:solidFill>
                <a:srgbClr val="000000"/>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 </a:t>
            </a:r>
            <a:r>
              <a:rPr b="1" lang="zh-CN" sz="2800" spc="-1" strike="noStrike">
                <a:solidFill>
                  <a:srgbClr val="000000"/>
                </a:solidFill>
                <a:latin typeface="Arial"/>
                <a:ea typeface="宋体"/>
              </a:rPr>
              <a:t>培养学生树立社会主义核心价值观，敢于做国家资产和人民利益的卫士。   </a:t>
            </a:r>
            <a:endParaRPr b="1" lang="en-US" sz="2800" spc="-1" strike="noStrike">
              <a:solidFill>
                <a:srgbClr val="000000"/>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2. </a:t>
            </a:r>
            <a:r>
              <a:rPr b="1" lang="zh-CN" sz="2800" spc="-1" strike="noStrike">
                <a:solidFill>
                  <a:srgbClr val="000000"/>
                </a:solidFill>
                <a:latin typeface="Arial"/>
                <a:ea typeface="宋体"/>
              </a:rPr>
              <a:t>培养学生具备诚实守信、客观公正的职业道德，公正行使审计职权、 </a:t>
            </a:r>
            <a:endParaRPr b="1" lang="en-US" sz="2800" spc="-1" strike="noStrike">
              <a:solidFill>
                <a:srgbClr val="000000"/>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遵守审计职业道德。</a:t>
            </a:r>
            <a:endParaRPr b="1" lang="en-US" sz="2800" spc="-1" strike="noStrike">
              <a:solidFill>
                <a:srgbClr val="000000"/>
              </a:solidFill>
              <a:latin typeface="Arial"/>
            </a:endParaRPr>
          </a:p>
        </p:txBody>
      </p:sp>
      <p:pic>
        <p:nvPicPr>
          <p:cNvPr id="1261" name="图片 7" descr="&amp;pky8040249173&amp;"/>
          <p:cNvPicPr/>
          <p:nvPr/>
        </p:nvPicPr>
        <p:blipFill>
          <a:blip r:embed="rId4"/>
          <a:srcRect l="5404" t="13137" r="53113" b="0"/>
          <a:stretch/>
        </p:blipFill>
        <p:spPr>
          <a:xfrm>
            <a:off x="212760" y="3757680"/>
            <a:ext cx="1784160" cy="2462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文本框 2"/>
          <p:cNvSpPr/>
          <p:nvPr/>
        </p:nvSpPr>
        <p:spPr>
          <a:xfrm>
            <a:off x="128520" y="2606760"/>
            <a:ext cx="2521080" cy="1384200"/>
          </a:xfrm>
          <a:prstGeom prst="rect">
            <a:avLst/>
          </a:prstGeom>
          <a:noFill/>
          <a:ln w="0">
            <a:noFill/>
          </a:ln>
        </p:spPr>
        <p:style>
          <a:lnRef idx="0"/>
          <a:fillRef idx="0"/>
          <a:effectRef idx="0"/>
          <a:fontRef idx="minor"/>
        </p:style>
        <p:txBody>
          <a:bodyPr lIns="101520" rIns="6336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e10d4"/>
                </a:solidFill>
                <a:latin typeface="微软雅黑"/>
                <a:ea typeface="微软雅黑"/>
              </a:rPr>
              <a:t>项目引例</a:t>
            </a:r>
            <a:endParaRPr b="1" lang="en-US" sz="3600" spc="-1" strike="noStrike">
              <a:solidFill>
                <a:srgbClr val="000000"/>
              </a:solidFill>
              <a:latin typeface="Arial"/>
            </a:endParaRPr>
          </a:p>
        </p:txBody>
      </p:sp>
      <p:grpSp>
        <p:nvGrpSpPr>
          <p:cNvPr id="1263" name="组合 7"/>
          <p:cNvGrpSpPr/>
          <p:nvPr/>
        </p:nvGrpSpPr>
        <p:grpSpPr>
          <a:xfrm>
            <a:off x="2160720" y="326880"/>
            <a:ext cx="9904320" cy="6204240"/>
            <a:chOff x="2160720" y="326880"/>
            <a:chExt cx="9904320" cy="6204240"/>
          </a:xfrm>
        </p:grpSpPr>
        <p:sp>
          <p:nvSpPr>
            <p:cNvPr id="1264" name="矩形 3"/>
            <p:cNvSpPr/>
            <p:nvPr/>
          </p:nvSpPr>
          <p:spPr>
            <a:xfrm>
              <a:off x="2160720" y="326880"/>
              <a:ext cx="9904320" cy="6204240"/>
            </a:xfrm>
            <a:prstGeom prst="rect">
              <a:avLst/>
            </a:prstGeom>
            <a:blipFill rotWithShape="0">
              <a:blip r:embed="rId1"/>
              <a:srcRect/>
              <a:tile tx="0" ty="0" sx="100000" sy="100000" algn="ctr"/>
            </a:blipFill>
            <a:ln w="12600">
              <a:solidFill>
                <a:srgbClr val="8e10d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5" name="矩形: 剪去对角 4"/>
            <p:cNvSpPr/>
            <p:nvPr/>
          </p:nvSpPr>
          <p:spPr>
            <a:xfrm>
              <a:off x="2517840" y="925560"/>
              <a:ext cx="9220320" cy="5091480"/>
            </a:xfrm>
            <a:prstGeom prst="pie">
              <a:avLst/>
            </a:prstGeom>
            <a:solidFill>
              <a:srgbClr val="ffffff"/>
            </a:solidFill>
            <a:ln w="12600">
              <a:solidFill>
                <a:srgbClr val="8e10d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黑体"/>
                </a:rPr>
                <a:t>在某机场审计案例中，审计人员发现该机场建设管理混乱，工程 招投标流于形式，工程造价存在虚高的风险。同时，由于该机场项目属</a:t>
              </a:r>
              <a:endParaRPr b="1" lang="en-US" sz="1600" spc="-1" strike="noStrike">
                <a:solidFill>
                  <a:srgbClr val="000000"/>
                </a:solidFill>
                <a:latin typeface="Arial"/>
              </a:endParaRPr>
            </a:p>
          </p:txBody>
        </p:sp>
      </p:grpSp>
      <p:pic>
        <p:nvPicPr>
          <p:cNvPr id="1266" name="图片 8" descr=""/>
          <p:cNvPicPr/>
          <p:nvPr/>
        </p:nvPicPr>
        <p:blipFill>
          <a:blip r:embed="rId2"/>
          <a:stretch/>
        </p:blipFill>
        <p:spPr>
          <a:xfrm rot="6720000">
            <a:off x="3215880" y="1816200"/>
            <a:ext cx="838080" cy="682560"/>
          </a:xfrm>
          <a:prstGeom prst="rect">
            <a:avLst/>
          </a:prstGeom>
          <a:ln w="0">
            <a:noFill/>
          </a:ln>
        </p:spPr>
      </p:pic>
      <p:pic>
        <p:nvPicPr>
          <p:cNvPr id="1267" name="图片 9" descr=""/>
          <p:cNvPicPr/>
          <p:nvPr/>
        </p:nvPicPr>
        <p:blipFill>
          <a:blip r:embed="rId3"/>
          <a:stretch/>
        </p:blipFill>
        <p:spPr>
          <a:xfrm>
            <a:off x="10769760" y="4371840"/>
            <a:ext cx="733320" cy="673200"/>
          </a:xfrm>
          <a:prstGeom prst="rect">
            <a:avLst/>
          </a:prstGeom>
          <a:ln w="0">
            <a:noFill/>
          </a:ln>
        </p:spPr>
      </p:pic>
      <p:sp>
        <p:nvSpPr>
          <p:cNvPr id="1268" name="文本框 5"/>
          <p:cNvSpPr/>
          <p:nvPr/>
        </p:nvSpPr>
        <p:spPr>
          <a:xfrm>
            <a:off x="2530440" y="236520"/>
            <a:ext cx="9164520" cy="5616720"/>
          </a:xfrm>
          <a:prstGeom prst="rect">
            <a:avLst/>
          </a:prstGeom>
          <a:noFill/>
          <a:ln w="0">
            <a:noFill/>
          </a:ln>
        </p:spPr>
        <p:style>
          <a:lnRef idx="0"/>
          <a:fillRef idx="0"/>
          <a:effectRef idx="0"/>
          <a:fontRef idx="minor"/>
        </p:style>
        <p:txBody>
          <a:bodyPr lIns="101520" rIns="82440" tIns="0" bIns="0" anchor="ctr">
            <a:no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62626"/>
                </a:solidFill>
                <a:latin typeface="Arial"/>
                <a:ea typeface="微软雅黑"/>
              </a:rPr>
              <a:t>        </a:t>
            </a:r>
            <a:r>
              <a:rPr b="0" lang="en-US" sz="2000" spc="-1" strike="noStrike">
                <a:solidFill>
                  <a:srgbClr val="262626"/>
                </a:solidFill>
                <a:latin typeface="Arial"/>
                <a:ea typeface="微软雅黑"/>
              </a:rPr>
              <a:t>2019 </a:t>
            </a:r>
            <a:r>
              <a:rPr b="0" lang="zh-CN" sz="2000" spc="-1" strike="noStrike">
                <a:solidFill>
                  <a:srgbClr val="262626"/>
                </a:solidFill>
                <a:latin typeface="Arial"/>
                <a:ea typeface="微软雅黑"/>
              </a:rPr>
              <a:t>年 </a:t>
            </a:r>
            <a:r>
              <a:rPr b="0" lang="en-US" sz="2000" spc="-1" strike="noStrike">
                <a:solidFill>
                  <a:srgbClr val="262626"/>
                </a:solidFill>
                <a:latin typeface="Arial"/>
                <a:ea typeface="微软雅黑"/>
              </a:rPr>
              <a:t>2 </a:t>
            </a:r>
            <a:r>
              <a:rPr b="0" lang="zh-CN" sz="2000" spc="-1" strike="noStrike">
                <a:solidFill>
                  <a:srgbClr val="262626"/>
                </a:solidFill>
                <a:latin typeface="Arial"/>
                <a:ea typeface="微软雅黑"/>
              </a:rPr>
              <a:t>月 </a:t>
            </a:r>
            <a:r>
              <a:rPr b="0" lang="en-US" sz="2000" spc="-1" strike="noStrike">
                <a:solidFill>
                  <a:srgbClr val="262626"/>
                </a:solidFill>
                <a:latin typeface="Arial"/>
                <a:ea typeface="微软雅黑"/>
              </a:rPr>
              <a:t>10 </a:t>
            </a:r>
            <a:r>
              <a:rPr b="0" lang="zh-CN" sz="2000" spc="-1" strike="noStrike">
                <a:solidFill>
                  <a:srgbClr val="262626"/>
                </a:solidFill>
                <a:latin typeface="Arial"/>
                <a:ea typeface="微软雅黑"/>
              </a:rPr>
              <a:t>日，</a:t>
            </a:r>
            <a:r>
              <a:rPr b="0" lang="en-US" sz="2000" spc="-1" strike="noStrike">
                <a:solidFill>
                  <a:srgbClr val="262626"/>
                </a:solidFill>
                <a:latin typeface="Arial"/>
                <a:ea typeface="微软雅黑"/>
              </a:rPr>
              <a:t>A </a:t>
            </a:r>
            <a:r>
              <a:rPr b="0" lang="zh-CN" sz="2000" spc="-1" strike="noStrike">
                <a:solidFill>
                  <a:srgbClr val="262626"/>
                </a:solidFill>
                <a:latin typeface="Arial"/>
                <a:ea typeface="微软雅黑"/>
              </a:rPr>
              <a:t>会计师事务所的注册会计师张帆接到妻子电话，说她弟弟李杰开办了专门收购和买卖古董字画的 </a:t>
            </a:r>
            <a:r>
              <a:rPr b="0" lang="en-US" sz="2000" spc="-1" strike="noStrike">
                <a:solidFill>
                  <a:srgbClr val="262626"/>
                </a:solidFill>
                <a:latin typeface="Arial"/>
                <a:ea typeface="微软雅黑"/>
              </a:rPr>
              <a:t>B </a:t>
            </a:r>
            <a:r>
              <a:rPr b="0" lang="zh-CN" sz="2000" spc="-1" strike="noStrike">
                <a:solidFill>
                  <a:srgbClr val="262626"/>
                </a:solidFill>
                <a:latin typeface="Arial"/>
                <a:ea typeface="微软雅黑"/>
              </a:rPr>
              <a:t>文化贸易公司，</a:t>
            </a:r>
            <a:r>
              <a:rPr b="0" lang="en-US" sz="2000" spc="-1" strike="noStrike">
                <a:solidFill>
                  <a:srgbClr val="262626"/>
                </a:solidFill>
                <a:latin typeface="Arial"/>
                <a:ea typeface="微软雅黑"/>
              </a:rPr>
              <a:t>2019 </a:t>
            </a:r>
            <a:r>
              <a:rPr b="0" lang="zh-CN" sz="2000" spc="-1" strike="noStrike">
                <a:solidFill>
                  <a:srgbClr val="262626"/>
                </a:solidFill>
                <a:latin typeface="Arial"/>
                <a:ea typeface="微软雅黑"/>
              </a:rPr>
              <a:t>年度的会计报表拟委托 </a:t>
            </a:r>
            <a:r>
              <a:rPr b="0" lang="en-US" sz="2000" spc="-1" strike="noStrike">
                <a:solidFill>
                  <a:srgbClr val="262626"/>
                </a:solidFill>
                <a:latin typeface="Arial"/>
                <a:ea typeface="微软雅黑"/>
              </a:rPr>
              <a:t>A </a:t>
            </a:r>
            <a:r>
              <a:rPr b="0" lang="zh-CN" sz="2000" spc="-1" strike="noStrike">
                <a:solidFill>
                  <a:srgbClr val="262626"/>
                </a:solidFill>
                <a:latin typeface="Arial"/>
                <a:ea typeface="微软雅黑"/>
              </a:rPr>
              <a:t>会计师事务所审计。张帆一方面受妻弟所托，另一方面也认为是开发新客户的机会，于是非常爽快地答应了，并于 </a:t>
            </a:r>
            <a:r>
              <a:rPr b="0" lang="en-US" sz="2000" spc="-1" strike="noStrike">
                <a:solidFill>
                  <a:srgbClr val="262626"/>
                </a:solidFill>
                <a:latin typeface="Arial"/>
                <a:ea typeface="微软雅黑"/>
              </a:rPr>
              <a:t>2019 </a:t>
            </a:r>
            <a:r>
              <a:rPr b="0" lang="zh-CN" sz="2000" spc="-1" strike="noStrike">
                <a:solidFill>
                  <a:srgbClr val="262626"/>
                </a:solidFill>
                <a:latin typeface="Arial"/>
                <a:ea typeface="微软雅黑"/>
              </a:rPr>
              <a:t>年 </a:t>
            </a:r>
            <a:r>
              <a:rPr b="0" lang="en-US" sz="2000" spc="-1" strike="noStrike">
                <a:solidFill>
                  <a:srgbClr val="262626"/>
                </a:solidFill>
                <a:latin typeface="Arial"/>
                <a:ea typeface="微软雅黑"/>
              </a:rPr>
              <a:t>2 </a:t>
            </a:r>
            <a:r>
              <a:rPr b="0" lang="zh-CN" sz="2000" spc="-1" strike="noStrike">
                <a:solidFill>
                  <a:srgbClr val="262626"/>
                </a:solidFill>
                <a:latin typeface="Arial"/>
                <a:ea typeface="微软雅黑"/>
              </a:rPr>
              <a:t>月 </a:t>
            </a:r>
            <a:r>
              <a:rPr b="0" lang="en-US" sz="2000" spc="-1" strike="noStrike">
                <a:solidFill>
                  <a:srgbClr val="262626"/>
                </a:solidFill>
                <a:latin typeface="Arial"/>
                <a:ea typeface="微软雅黑"/>
              </a:rPr>
              <a:t>20 </a:t>
            </a:r>
            <a:r>
              <a:rPr b="0" lang="zh-CN" sz="2000" spc="-1" strike="noStrike">
                <a:solidFill>
                  <a:srgbClr val="262626"/>
                </a:solidFill>
                <a:latin typeface="Arial"/>
                <a:ea typeface="微软雅黑"/>
              </a:rPr>
              <a:t>日亲自带领审计小组到 </a:t>
            </a:r>
            <a:r>
              <a:rPr b="0" lang="en-US" sz="2000" spc="-1" strike="noStrike">
                <a:solidFill>
                  <a:srgbClr val="262626"/>
                </a:solidFill>
                <a:latin typeface="Arial"/>
                <a:ea typeface="微软雅黑"/>
              </a:rPr>
              <a:t>B </a:t>
            </a:r>
            <a:r>
              <a:rPr b="0" lang="zh-CN" sz="2000" spc="-1" strike="noStrike">
                <a:solidFill>
                  <a:srgbClr val="262626"/>
                </a:solidFill>
                <a:latin typeface="Arial"/>
                <a:ea typeface="微软雅黑"/>
              </a:rPr>
              <a:t>文化贸易 公司实施审计。 </a:t>
            </a:r>
            <a:r>
              <a:rPr b="0" lang="en-US" sz="2000" spc="-1" strike="noStrike">
                <a:solidFill>
                  <a:srgbClr val="262626"/>
                </a:solidFill>
                <a:latin typeface="Arial"/>
                <a:ea typeface="微软雅黑"/>
              </a:rPr>
              <a:t>B </a:t>
            </a:r>
            <a:r>
              <a:rPr b="0" lang="zh-CN" sz="2000" spc="-1" strike="noStrike">
                <a:solidFill>
                  <a:srgbClr val="262626"/>
                </a:solidFill>
                <a:latin typeface="Arial"/>
                <a:ea typeface="微软雅黑"/>
              </a:rPr>
              <a:t>文化贸易公司属于私营公司，自开业 </a:t>
            </a:r>
            <a:r>
              <a:rPr b="0" lang="en-US" sz="2000" spc="-1" strike="noStrike">
                <a:solidFill>
                  <a:srgbClr val="262626"/>
                </a:solidFill>
                <a:latin typeface="Arial"/>
                <a:ea typeface="微软雅黑"/>
              </a:rPr>
              <a:t>5 </a:t>
            </a:r>
            <a:r>
              <a:rPr b="0" lang="zh-CN" sz="2000" spc="-1" strike="noStrike">
                <a:solidFill>
                  <a:srgbClr val="262626"/>
                </a:solidFill>
                <a:latin typeface="Arial"/>
                <a:ea typeface="微软雅黑"/>
              </a:rPr>
              <a:t>年来业务发展很好，但 从没有接受过审计。张帆是 </a:t>
            </a:r>
            <a:r>
              <a:rPr b="0" lang="en-US" sz="2000" spc="-1" strike="noStrike">
                <a:solidFill>
                  <a:srgbClr val="262626"/>
                </a:solidFill>
                <a:latin typeface="Arial"/>
                <a:ea typeface="微软雅黑"/>
              </a:rPr>
              <a:t>A </a:t>
            </a:r>
            <a:r>
              <a:rPr b="0" lang="zh-CN" sz="2000" spc="-1" strike="noStrike">
                <a:solidFill>
                  <a:srgbClr val="262626"/>
                </a:solidFill>
                <a:latin typeface="Arial"/>
                <a:ea typeface="微软雅黑"/>
              </a:rPr>
              <a:t>会计师事务所的出资人之一，业务专 长是工业企业会计报表审计，对古董字画是外行。 </a:t>
            </a:r>
            <a:endParaRPr b="1" lang="en-US" sz="2000" spc="-1" strike="noStrike">
              <a:solidFill>
                <a:srgbClr val="000000"/>
              </a:solidFill>
              <a:latin typeface="Arial"/>
            </a:endParaRPr>
          </a:p>
          <a:p>
            <a:pPr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Arial"/>
                <a:ea typeface="微软雅黑"/>
              </a:rPr>
              <a:t>  </a:t>
            </a:r>
            <a:r>
              <a:rPr b="0" lang="zh-CN" sz="2000" spc="-1" strike="noStrike">
                <a:solidFill>
                  <a:srgbClr val="262626"/>
                </a:solidFill>
                <a:latin typeface="Arial"/>
                <a:ea typeface="微软雅黑"/>
              </a:rPr>
              <a:t>要求： </a:t>
            </a:r>
            <a:r>
              <a:rPr b="0" lang="en-US" sz="2000" spc="-1" strike="noStrike">
                <a:solidFill>
                  <a:srgbClr val="262626"/>
                </a:solidFill>
                <a:latin typeface="Arial"/>
                <a:ea typeface="微软雅黑"/>
              </a:rPr>
              <a:t>1. </a:t>
            </a:r>
            <a:r>
              <a:rPr b="0" lang="zh-CN" sz="2000" spc="-1" strike="noStrike">
                <a:solidFill>
                  <a:srgbClr val="262626"/>
                </a:solidFill>
                <a:latin typeface="Arial"/>
                <a:ea typeface="微软雅黑"/>
              </a:rPr>
              <a:t>结合本案例讨论注册会计师承接业务应考虑的因素。 </a:t>
            </a:r>
            <a:r>
              <a:rPr b="0" lang="en-US" sz="2000" spc="-1" strike="noStrike">
                <a:solidFill>
                  <a:srgbClr val="262626"/>
                </a:solidFill>
                <a:latin typeface="Arial"/>
                <a:ea typeface="微软雅黑"/>
              </a:rPr>
              <a:t>2. </a:t>
            </a:r>
            <a:r>
              <a:rPr b="0" lang="zh-CN" sz="2000" spc="-1" strike="noStrike">
                <a:solidFill>
                  <a:srgbClr val="262626"/>
                </a:solidFill>
                <a:latin typeface="Arial"/>
                <a:ea typeface="微软雅黑"/>
              </a:rPr>
              <a:t>指出案例中承接业务存在的不适当地方。 </a:t>
            </a:r>
            <a:r>
              <a:rPr b="0" lang="en-US" sz="2000" spc="-1" strike="noStrike">
                <a:solidFill>
                  <a:srgbClr val="262626"/>
                </a:solidFill>
                <a:latin typeface="Arial"/>
                <a:ea typeface="微软雅黑"/>
              </a:rPr>
              <a:t>3. </a:t>
            </a:r>
            <a:r>
              <a:rPr b="0" lang="zh-CN" sz="2000" spc="-1" strike="noStrike">
                <a:solidFill>
                  <a:srgbClr val="262626"/>
                </a:solidFill>
                <a:latin typeface="Arial"/>
                <a:ea typeface="微软雅黑"/>
              </a:rPr>
              <a:t>如果 </a:t>
            </a:r>
            <a:r>
              <a:rPr b="0" lang="en-US" sz="2000" spc="-1" strike="noStrike">
                <a:solidFill>
                  <a:srgbClr val="262626"/>
                </a:solidFill>
                <a:latin typeface="Arial"/>
                <a:ea typeface="微软雅黑"/>
              </a:rPr>
              <a:t>A </a:t>
            </a:r>
            <a:r>
              <a:rPr b="0" lang="zh-CN" sz="2000" spc="-1" strike="noStrike">
                <a:solidFill>
                  <a:srgbClr val="262626"/>
                </a:solidFill>
                <a:latin typeface="Arial"/>
                <a:ea typeface="微软雅黑"/>
              </a:rPr>
              <a:t>事务所一定要承接业务，请给出承接建议。</a:t>
            </a:r>
            <a:endParaRPr b="1" lang="en-US" sz="2000" spc="-1" strike="noStrike">
              <a:solidFill>
                <a:srgbClr val="000000"/>
              </a:solidFill>
              <a:latin typeface="Arial"/>
            </a:endParaRPr>
          </a:p>
        </p:txBody>
      </p:sp>
      <p:pic>
        <p:nvPicPr>
          <p:cNvPr id="1269" name="图片 7" descr="&amp;pky8040249173&amp;"/>
          <p:cNvPicPr/>
          <p:nvPr/>
        </p:nvPicPr>
        <p:blipFill>
          <a:blip r:embed="rId4"/>
          <a:srcRect l="5404" t="13137" r="53113" b="0"/>
          <a:stretch/>
        </p:blipFill>
        <p:spPr>
          <a:xfrm>
            <a:off x="139680" y="3767040"/>
            <a:ext cx="2141640" cy="2462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70" name="组合 216"/>
          <p:cNvGrpSpPr/>
          <p:nvPr/>
        </p:nvGrpSpPr>
        <p:grpSpPr>
          <a:xfrm>
            <a:off x="2424240" y="476280"/>
            <a:ext cx="8850240" cy="5840280"/>
            <a:chOff x="2424240" y="476280"/>
            <a:chExt cx="8850240" cy="5840280"/>
          </a:xfrm>
        </p:grpSpPr>
        <p:sp>
          <p:nvSpPr>
            <p:cNvPr id="1271" name="矩形 217"/>
            <p:cNvSpPr/>
            <p:nvPr/>
          </p:nvSpPr>
          <p:spPr>
            <a:xfrm>
              <a:off x="2424600" y="476280"/>
              <a:ext cx="8849880" cy="5840280"/>
            </a:xfrm>
            <a:prstGeom prst="rect">
              <a:avLst/>
            </a:prstGeom>
            <a:blipFill rotWithShape="0">
              <a:blip r:embed="rId1"/>
              <a:srcRect/>
              <a:tile tx="0" ty="0" sx="100000" sy="100000" algn="ctr"/>
            </a:blip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72" name="斜纹 218"/>
            <p:cNvSpPr/>
            <p:nvPr/>
          </p:nvSpPr>
          <p:spPr>
            <a:xfrm rot="5400000">
              <a:off x="10690920" y="555480"/>
              <a:ext cx="661680" cy="502920"/>
            </a:xfrm>
            <a:custGeom>
              <a:avLst/>
              <a:gdLst/>
              <a:ahLst/>
              <a:rect l="l" t="t" r="r" b="b"/>
              <a:pathLst>
                <a:path w="894" h="899">
                  <a:moveTo>
                    <a:pt x="0" y="348"/>
                  </a:moveTo>
                  <a:lnTo>
                    <a:pt x="346" y="0"/>
                  </a:lnTo>
                  <a:lnTo>
                    <a:pt x="894" y="0"/>
                  </a:lnTo>
                  <a:lnTo>
                    <a:pt x="0" y="899"/>
                  </a:lnTo>
                  <a:close/>
                </a:path>
              </a:pathLst>
            </a:custGeom>
            <a:solidFill>
              <a:srgbClr val="bdd7e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73" name="斜纹 219"/>
            <p:cNvSpPr/>
            <p:nvPr/>
          </p:nvSpPr>
          <p:spPr>
            <a:xfrm rot="16200000">
              <a:off x="2343240" y="5734800"/>
              <a:ext cx="661680" cy="499680"/>
            </a:xfrm>
            <a:custGeom>
              <a:avLst/>
              <a:gdLst/>
              <a:ahLst/>
              <a:rect l="l" t="t" r="r" b="b"/>
              <a:pathLst>
                <a:path w="894" h="893">
                  <a:moveTo>
                    <a:pt x="0" y="346"/>
                  </a:moveTo>
                  <a:lnTo>
                    <a:pt x="346" y="0"/>
                  </a:lnTo>
                  <a:lnTo>
                    <a:pt x="894" y="0"/>
                  </a:lnTo>
                  <a:lnTo>
                    <a:pt x="0" y="893"/>
                  </a:lnTo>
                  <a:close/>
                </a:path>
              </a:pathLst>
            </a:custGeom>
            <a:solidFill>
              <a:srgbClr val="bdd7e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274" name="文本框 220"/>
          <p:cNvSpPr/>
          <p:nvPr/>
        </p:nvSpPr>
        <p:spPr>
          <a:xfrm>
            <a:off x="2855880" y="2442240"/>
            <a:ext cx="8136000" cy="1224000"/>
          </a:xfrm>
          <a:prstGeom prst="rect">
            <a:avLst/>
          </a:prstGeom>
          <a:noFill/>
          <a:ln w="0">
            <a:noFill/>
          </a:ln>
        </p:spPr>
        <p:style>
          <a:lnRef idx="0"/>
          <a:fillRef idx="0"/>
          <a:effectRef idx="0"/>
          <a:fontRef idx="minor"/>
        </p:style>
        <p:txBody>
          <a:bodyPr lIns="71640" rIns="71640" tIns="36360" bIns="36360" anchor="ctr">
            <a:spAutoFit/>
          </a:bodyPr>
          <a:p>
            <a:pPr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75" name="文本框 17"/>
          <p:cNvSpPr/>
          <p:nvPr/>
        </p:nvSpPr>
        <p:spPr>
          <a:xfrm>
            <a:off x="263520" y="2782800"/>
            <a:ext cx="2014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e10d4"/>
                </a:solidFill>
                <a:latin typeface="微软雅黑"/>
                <a:ea typeface="微软雅黑"/>
              </a:rPr>
              <a:t>引例分析</a:t>
            </a:r>
            <a:endParaRPr b="1" lang="en-US" sz="3600" spc="-1" strike="noStrike">
              <a:solidFill>
                <a:srgbClr val="000000"/>
              </a:solidFill>
              <a:latin typeface="Arial"/>
            </a:endParaRPr>
          </a:p>
        </p:txBody>
      </p:sp>
      <p:sp>
        <p:nvSpPr>
          <p:cNvPr id="1276" name="矩形 1"/>
          <p:cNvSpPr/>
          <p:nvPr/>
        </p:nvSpPr>
        <p:spPr>
          <a:xfrm>
            <a:off x="2428920" y="1139760"/>
            <a:ext cx="8845560" cy="16714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62626"/>
                </a:solidFill>
                <a:latin typeface="Arial"/>
                <a:ea typeface="微软雅黑"/>
              </a:rPr>
              <a:t> </a:t>
            </a:r>
            <a:r>
              <a:rPr b="1" lang="zh-CN" sz="2800" spc="-1" strike="noStrike">
                <a:solidFill>
                  <a:srgbClr val="5b9bd4"/>
                </a:solidFill>
                <a:latin typeface="Arial"/>
                <a:ea typeface="微软雅黑"/>
              </a:rPr>
              <a:t>分析：</a:t>
            </a:r>
            <a:endParaRPr b="1" lang="en-US" sz="2800" spc="-1" strike="noStrike">
              <a:solidFill>
                <a:srgbClr val="000000"/>
              </a:solidFill>
              <a:latin typeface="Arial"/>
            </a:endParaRPr>
          </a:p>
          <a:p>
            <a:pPr algn="just">
              <a:lnSpc>
                <a:spcPct val="140000"/>
              </a:lnSpc>
              <a:spcBef>
                <a:spcPts val="1001"/>
              </a:spcBef>
              <a:buClr>
                <a:srgbClr val="2f75b4"/>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Arial"/>
                <a:ea typeface="微软雅黑"/>
              </a:rPr>
              <a:t>     </a:t>
            </a:r>
            <a:r>
              <a:rPr b="0" lang="zh-CN" sz="2000" spc="-1" strike="noStrike">
                <a:solidFill>
                  <a:srgbClr val="262626"/>
                </a:solidFill>
                <a:latin typeface="Arial"/>
                <a:ea typeface="微软雅黑"/>
              </a:rPr>
              <a:t> </a:t>
            </a:r>
            <a:r>
              <a:rPr b="0" lang="en-US" sz="2000" spc="-1" strike="noStrike">
                <a:solidFill>
                  <a:srgbClr val="262626"/>
                </a:solidFill>
                <a:latin typeface="Arial"/>
                <a:ea typeface="微软雅黑"/>
              </a:rPr>
              <a:t>1. </a:t>
            </a:r>
            <a:r>
              <a:rPr b="0" lang="zh-CN" sz="2000" spc="-1" strike="noStrike">
                <a:solidFill>
                  <a:srgbClr val="262626"/>
                </a:solidFill>
                <a:latin typeface="Arial"/>
                <a:ea typeface="微软雅黑"/>
              </a:rPr>
              <a:t>注册会计师承接业务应考虑的因素主要有两方面：一是，会计师事务所及其注册会计师的独立性及专业胜任能力。由于 </a:t>
            </a:r>
            <a:r>
              <a:rPr b="0" lang="en-US" sz="2000" spc="-1" strike="noStrike">
                <a:solidFill>
                  <a:srgbClr val="262626"/>
                </a:solidFill>
                <a:latin typeface="Arial"/>
                <a:ea typeface="微软雅黑"/>
              </a:rPr>
              <a:t>A </a:t>
            </a:r>
            <a:r>
              <a:rPr b="0" lang="zh-CN" sz="2000" spc="-1" strike="noStrike">
                <a:solidFill>
                  <a:srgbClr val="262626"/>
                </a:solidFill>
                <a:latin typeface="Arial"/>
                <a:ea typeface="微软雅黑"/>
              </a:rPr>
              <a:t>会计师 事务所会计师张帆与 </a:t>
            </a:r>
            <a:r>
              <a:rPr b="0" lang="en-US" sz="2000" spc="-1" strike="noStrike">
                <a:solidFill>
                  <a:srgbClr val="262626"/>
                </a:solidFill>
                <a:latin typeface="Arial"/>
                <a:ea typeface="微软雅黑"/>
              </a:rPr>
              <a:t>B </a:t>
            </a:r>
            <a:r>
              <a:rPr b="0" lang="zh-CN" sz="2000" spc="-1" strike="noStrike">
                <a:solidFill>
                  <a:srgbClr val="262626"/>
                </a:solidFill>
                <a:latin typeface="Arial"/>
                <a:ea typeface="微软雅黑"/>
              </a:rPr>
              <a:t>文化贸易公司管理层存在关联关系，且张帆 的业务专长是对工业企业进行财务报表审计，如果让张帆作为该业务 的项目负责人，其独立性与专业胜任能力存在问题；二是，被审计单 位的诚信、声誉和形象、会计实务、财务状况和盈利情况。</a:t>
            </a:r>
            <a:r>
              <a:rPr b="0" lang="en-US" sz="2000" spc="-1" strike="noStrike">
                <a:solidFill>
                  <a:srgbClr val="262626"/>
                </a:solidFill>
                <a:latin typeface="Arial"/>
                <a:ea typeface="微软雅黑"/>
              </a:rPr>
              <a:t>B </a:t>
            </a:r>
            <a:r>
              <a:rPr b="0" lang="zh-CN" sz="2000" spc="-1" strike="noStrike">
                <a:solidFill>
                  <a:srgbClr val="262626"/>
                </a:solidFill>
                <a:latin typeface="Arial"/>
                <a:ea typeface="微软雅黑"/>
              </a:rPr>
              <a:t>文化贸 易公司属于私营公司，从未接受过审计，且收购和买卖古董字画属于 特殊业务，这些特殊要求应当体现在委派注册会计师以及关注会计实 务特殊风险方面。</a:t>
            </a:r>
            <a:endParaRPr b="1" lang="en-US" sz="2000" spc="-1" strike="noStrike">
              <a:solidFill>
                <a:srgbClr val="000000"/>
              </a:solidFill>
              <a:latin typeface="Arial"/>
            </a:endParaRPr>
          </a:p>
        </p:txBody>
      </p:sp>
      <p:pic>
        <p:nvPicPr>
          <p:cNvPr id="1277" name="图片 7" descr="&amp;pky8040249173&amp;"/>
          <p:cNvPicPr/>
          <p:nvPr/>
        </p:nvPicPr>
        <p:blipFill>
          <a:blip r:embed="rId2"/>
          <a:srcRect l="5404" t="13137" r="53113" b="0"/>
          <a:stretch/>
        </p:blipFill>
        <p:spPr>
          <a:xfrm>
            <a:off x="147600" y="3645000"/>
            <a:ext cx="2141640" cy="2462040"/>
          </a:xfrm>
          <a:prstGeom prst="rect">
            <a:avLst/>
          </a:prstGeom>
          <a:ln w="0">
            <a:noFill/>
          </a:ln>
        </p:spPr>
      </p:pic>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dur="indefinite" nodeType="afterEffect" fill="hold" presetClass="entr" presetID="18" presetSubtype="6">
                                  <p:stCondLst>
                                    <p:cond delay="0"/>
                                  </p:stCondLst>
                                  <p:endCondLst>
                                    <p:cond evt="begin"/>
                                  </p:endCondLst>
                                  <p:childTnLst>
                                    <p:set>
                                      <p:cBhvr>
                                        <p:cTn id="43" dur="2000" fill="hold">
                                          <p:stCondLst>
                                            <p:cond delay="0"/>
                                          </p:stCondLst>
                                        </p:cTn>
                                        <p:tgtEl>
                                          <p:spTgt spid="1274"/>
                                        </p:tgtEl>
                                        <p:attrNameLst>
                                          <p:attrName>style.visibility</p:attrName>
                                        </p:attrNameLst>
                                      </p:cBhvr>
                                      <p:to>
                                        <p:strVal val="visible"/>
                                      </p:to>
                                    </p:set>
                                    <p:animEffect filter="strips(downRight)" transition="in">
                                      <p:cBhvr additive="repl">
                                        <p:cTn id="44" dur="2000"/>
                                        <p:tgtEl>
                                          <p:spTgt spid="1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78" name="组合 216"/>
          <p:cNvGrpSpPr/>
          <p:nvPr/>
        </p:nvGrpSpPr>
        <p:grpSpPr>
          <a:xfrm>
            <a:off x="2424240" y="476280"/>
            <a:ext cx="8850240" cy="5840280"/>
            <a:chOff x="2424240" y="476280"/>
            <a:chExt cx="8850240" cy="5840280"/>
          </a:xfrm>
        </p:grpSpPr>
        <p:sp>
          <p:nvSpPr>
            <p:cNvPr id="1279" name="矩形 217"/>
            <p:cNvSpPr/>
            <p:nvPr/>
          </p:nvSpPr>
          <p:spPr>
            <a:xfrm>
              <a:off x="2424600" y="476280"/>
              <a:ext cx="8849880" cy="5840280"/>
            </a:xfrm>
            <a:prstGeom prst="rect">
              <a:avLst/>
            </a:prstGeom>
            <a:blipFill rotWithShape="0">
              <a:blip r:embed="rId1"/>
              <a:srcRect/>
              <a:tile tx="0" ty="0" sx="100000" sy="100000" algn="ctr"/>
            </a:blip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80" name="斜纹 218"/>
            <p:cNvSpPr/>
            <p:nvPr/>
          </p:nvSpPr>
          <p:spPr>
            <a:xfrm rot="5400000">
              <a:off x="10690920" y="555480"/>
              <a:ext cx="661680" cy="502920"/>
            </a:xfrm>
            <a:custGeom>
              <a:avLst/>
              <a:gdLst/>
              <a:ahLst/>
              <a:rect l="l" t="t" r="r" b="b"/>
              <a:pathLst>
                <a:path w="894" h="899">
                  <a:moveTo>
                    <a:pt x="0" y="348"/>
                  </a:moveTo>
                  <a:lnTo>
                    <a:pt x="346" y="0"/>
                  </a:lnTo>
                  <a:lnTo>
                    <a:pt x="894" y="0"/>
                  </a:lnTo>
                  <a:lnTo>
                    <a:pt x="0" y="899"/>
                  </a:lnTo>
                  <a:close/>
                </a:path>
              </a:pathLst>
            </a:custGeom>
            <a:solidFill>
              <a:srgbClr val="bdd7e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81" name="斜纹 219"/>
            <p:cNvSpPr/>
            <p:nvPr/>
          </p:nvSpPr>
          <p:spPr>
            <a:xfrm rot="16200000">
              <a:off x="2343240" y="5734800"/>
              <a:ext cx="661680" cy="499680"/>
            </a:xfrm>
            <a:custGeom>
              <a:avLst/>
              <a:gdLst/>
              <a:ahLst/>
              <a:rect l="l" t="t" r="r" b="b"/>
              <a:pathLst>
                <a:path w="894" h="893">
                  <a:moveTo>
                    <a:pt x="0" y="346"/>
                  </a:moveTo>
                  <a:lnTo>
                    <a:pt x="346" y="0"/>
                  </a:lnTo>
                  <a:lnTo>
                    <a:pt x="894" y="0"/>
                  </a:lnTo>
                  <a:lnTo>
                    <a:pt x="0" y="893"/>
                  </a:lnTo>
                  <a:close/>
                </a:path>
              </a:pathLst>
            </a:custGeom>
            <a:solidFill>
              <a:srgbClr val="bdd7e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282" name="文本框 220"/>
          <p:cNvSpPr/>
          <p:nvPr/>
        </p:nvSpPr>
        <p:spPr>
          <a:xfrm>
            <a:off x="2855880" y="2442240"/>
            <a:ext cx="8136000" cy="1224000"/>
          </a:xfrm>
          <a:prstGeom prst="rect">
            <a:avLst/>
          </a:prstGeom>
          <a:noFill/>
          <a:ln w="0">
            <a:noFill/>
          </a:ln>
        </p:spPr>
        <p:style>
          <a:lnRef idx="0"/>
          <a:fillRef idx="0"/>
          <a:effectRef idx="0"/>
          <a:fontRef idx="minor"/>
        </p:style>
        <p:txBody>
          <a:bodyPr lIns="71640" rIns="71640" tIns="36360" bIns="36360" anchor="ctr">
            <a:spAutoFit/>
          </a:bodyPr>
          <a:p>
            <a:pPr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83" name="文本框 17"/>
          <p:cNvSpPr/>
          <p:nvPr/>
        </p:nvSpPr>
        <p:spPr>
          <a:xfrm>
            <a:off x="263520" y="2809800"/>
            <a:ext cx="2014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e10d4"/>
                </a:solidFill>
                <a:latin typeface="微软雅黑"/>
                <a:ea typeface="微软雅黑"/>
              </a:rPr>
              <a:t>引例分析</a:t>
            </a:r>
            <a:endParaRPr b="1" lang="en-US" sz="3600" spc="-1" strike="noStrike">
              <a:solidFill>
                <a:srgbClr val="000000"/>
              </a:solidFill>
              <a:latin typeface="Arial"/>
            </a:endParaRPr>
          </a:p>
        </p:txBody>
      </p:sp>
      <p:sp>
        <p:nvSpPr>
          <p:cNvPr id="1284" name="矩形 1"/>
          <p:cNvSpPr/>
          <p:nvPr/>
        </p:nvSpPr>
        <p:spPr>
          <a:xfrm>
            <a:off x="2424240" y="868320"/>
            <a:ext cx="8764560" cy="19274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b9bd4"/>
                </a:solidFill>
                <a:latin typeface="Arial"/>
                <a:ea typeface="微软雅黑"/>
              </a:rPr>
              <a:t>分析：</a:t>
            </a:r>
            <a:r>
              <a:rPr b="0" lang="en-US" sz="2000" spc="-1" strike="noStrike">
                <a:solidFill>
                  <a:srgbClr val="262626"/>
                </a:solidFill>
                <a:latin typeface="Arial"/>
                <a:ea typeface="微软雅黑"/>
              </a:rPr>
              <a:t>2. </a:t>
            </a:r>
            <a:r>
              <a:rPr b="0" lang="zh-CN" sz="2000" spc="-1" strike="noStrike">
                <a:solidFill>
                  <a:srgbClr val="262626"/>
                </a:solidFill>
                <a:latin typeface="Arial"/>
                <a:ea typeface="微软雅黑"/>
              </a:rPr>
              <a:t>案例中委派张帆作为 </a:t>
            </a:r>
            <a:r>
              <a:rPr b="0" lang="en-US" sz="2000" spc="-1" strike="noStrike">
                <a:solidFill>
                  <a:srgbClr val="262626"/>
                </a:solidFill>
                <a:latin typeface="Arial"/>
                <a:ea typeface="微软雅黑"/>
              </a:rPr>
              <a:t>B </a:t>
            </a:r>
            <a:r>
              <a:rPr b="0" lang="zh-CN" sz="2000" spc="-1" strike="noStrike">
                <a:solidFill>
                  <a:srgbClr val="262626"/>
                </a:solidFill>
                <a:latin typeface="Arial"/>
                <a:ea typeface="微软雅黑"/>
              </a:rPr>
              <a:t>文化贸易公司的项目负责人不适当。 原因在于张帆与 </a:t>
            </a:r>
            <a:r>
              <a:rPr b="0" lang="en-US" sz="2000" spc="-1" strike="noStrike">
                <a:solidFill>
                  <a:srgbClr val="262626"/>
                </a:solidFill>
                <a:latin typeface="Arial"/>
                <a:ea typeface="微软雅黑"/>
              </a:rPr>
              <a:t>B </a:t>
            </a:r>
            <a:r>
              <a:rPr b="0" lang="zh-CN" sz="2000" spc="-1" strike="noStrike">
                <a:solidFill>
                  <a:srgbClr val="262626"/>
                </a:solidFill>
                <a:latin typeface="Arial"/>
                <a:ea typeface="微软雅黑"/>
              </a:rPr>
              <a:t>文化贸易公司管理层存在关联关系，且张帆的业 务专长是对工业企业进行财务报表审计，如果让张帆作为该业务的项 目负责人，其独立性与专业胜任能力存在问题。       </a:t>
            </a:r>
            <a:endParaRPr b="1" lang="en-US" sz="2000" spc="-1" strike="noStrike">
              <a:solidFill>
                <a:srgbClr val="000000"/>
              </a:solidFill>
              <a:latin typeface="Arial"/>
            </a:endParaRPr>
          </a:p>
          <a:p>
            <a:pPr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Arial"/>
                <a:ea typeface="微软雅黑"/>
              </a:rPr>
              <a:t>    </a:t>
            </a:r>
            <a:r>
              <a:rPr b="0" lang="en-US" sz="2000" spc="-1" strike="noStrike">
                <a:solidFill>
                  <a:srgbClr val="262626"/>
                </a:solidFill>
                <a:latin typeface="Arial"/>
                <a:ea typeface="微软雅黑"/>
              </a:rPr>
              <a:t>3. </a:t>
            </a:r>
            <a:r>
              <a:rPr b="0" lang="zh-CN" sz="2000" spc="-1" strike="noStrike">
                <a:solidFill>
                  <a:srgbClr val="262626"/>
                </a:solidFill>
                <a:latin typeface="Arial"/>
                <a:ea typeface="微软雅黑"/>
              </a:rPr>
              <a:t>在综合考虑注册会计师专业胜任能力和独立性的基础上，建议张帆应当实施回避，委派具有胜任收购和买卖古董字画特殊业务 的注册会计师承担该项审计业务；了解和评价对于收购和买卖古董字 画的特殊业务的风险，必要时聘请专家一起工作；在签订业务约定书 时，需要与被审计单位沟通，对审计时间、利用其他专家以及被审计 单位提供的相关资料等方面详细约定，以保证审计工作的顺利进行。</a:t>
            </a:r>
            <a:endParaRPr b="1" lang="en-US" sz="2000" spc="-1" strike="noStrike">
              <a:solidFill>
                <a:srgbClr val="000000"/>
              </a:solidFill>
              <a:latin typeface="Arial"/>
            </a:endParaRPr>
          </a:p>
        </p:txBody>
      </p:sp>
      <p:pic>
        <p:nvPicPr>
          <p:cNvPr id="1285" name="图片 7" descr="&amp;pky8040249173&amp;"/>
          <p:cNvPicPr/>
          <p:nvPr/>
        </p:nvPicPr>
        <p:blipFill>
          <a:blip r:embed="rId2"/>
          <a:srcRect l="5404" t="13137" r="53113" b="0"/>
          <a:stretch/>
        </p:blipFill>
        <p:spPr>
          <a:xfrm>
            <a:off x="239760" y="3701880"/>
            <a:ext cx="2141640" cy="2462400"/>
          </a:xfrm>
          <a:prstGeom prst="rect">
            <a:avLst/>
          </a:prstGeom>
          <a:ln w="0">
            <a:noFill/>
          </a:ln>
        </p:spPr>
      </p:pic>
    </p:spTree>
  </p:cSld>
  <p:transition>
    <p:fade/>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dur="indefinite" nodeType="afterEffect" fill="hold" presetClass="entr" presetID="18" presetSubtype="6">
                                  <p:stCondLst>
                                    <p:cond delay="0"/>
                                  </p:stCondLst>
                                  <p:endCondLst>
                                    <p:cond evt="begin"/>
                                  </p:endCondLst>
                                  <p:childTnLst>
                                    <p:set>
                                      <p:cBhvr>
                                        <p:cTn id="50" dur="2000" fill="hold">
                                          <p:stCondLst>
                                            <p:cond delay="0"/>
                                          </p:stCondLst>
                                        </p:cTn>
                                        <p:tgtEl>
                                          <p:spTgt spid="1282"/>
                                        </p:tgtEl>
                                        <p:attrNameLst>
                                          <p:attrName>style.visibility</p:attrName>
                                        </p:attrNameLst>
                                      </p:cBhvr>
                                      <p:to>
                                        <p:strVal val="visible"/>
                                      </p:to>
                                    </p:set>
                                    <p:animEffect filter="strips(downRight)" transition="in">
                                      <p:cBhvr additive="repl">
                                        <p:cTn id="51" dur="2000"/>
                                        <p:tgtEl>
                                          <p:spTgt spid="1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title"/>
          </p:nvPr>
        </p:nvSpPr>
        <p:spPr>
          <a:xfrm>
            <a:off x="1271520" y="2133360"/>
            <a:ext cx="9648720" cy="332244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5400" spc="-1" strike="noStrike">
                <a:solidFill>
                  <a:srgbClr val="8e10d4"/>
                </a:solidFill>
                <a:latin typeface="Arial Black"/>
                <a:ea typeface="汉仪旗黑-85S"/>
              </a:rPr>
              <a:t>任务一 </a:t>
            </a:r>
            <a:br>
              <a:rPr sz="5400"/>
            </a:br>
            <a:r>
              <a:rPr b="1" lang="zh-CN" sz="5400" spc="-1" strike="noStrike">
                <a:solidFill>
                  <a:srgbClr val="8e10d4"/>
                </a:solidFill>
                <a:latin typeface="Arial Black"/>
                <a:ea typeface="汉仪旗黑-85S"/>
              </a:rPr>
              <a:t>初步业务活动 </a:t>
            </a:r>
            <a:br>
              <a:rPr sz="4800"/>
            </a:br>
            <a:br>
              <a:rPr sz="4800"/>
            </a:br>
            <a:endParaRPr b="1" lang="en-US" sz="5400" spc="-1" strike="noStrike">
              <a:solidFill>
                <a:srgbClr val="262626"/>
              </a:solidFill>
              <a:latin typeface="Arial"/>
            </a:endParaRPr>
          </a:p>
        </p:txBody>
      </p:sp>
    </p:spTree>
  </p:cSld>
  <p:transition>
    <p:fade/>
  </p:transition>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dur="indefinite" nodeType="afterEffect" fill="hold" presetClass="entr" presetID="22" presetSubtype="1">
                                  <p:stCondLst>
                                    <p:cond delay="0"/>
                                  </p:stCondLst>
                                  <p:childTnLst>
                                    <p:set>
                                      <p:cBhvr>
                                        <p:cTn id="57" dur="1000" fill="hold">
                                          <p:stCondLst>
                                            <p:cond delay="0"/>
                                          </p:stCondLst>
                                        </p:cTn>
                                        <p:tgtEl>
                                          <p:spTgt spid="1286"/>
                                        </p:tgtEl>
                                        <p:attrNameLst>
                                          <p:attrName>style.visibility</p:attrName>
                                        </p:attrNameLst>
                                      </p:cBhvr>
                                      <p:to>
                                        <p:strVal val="visible"/>
                                      </p:to>
                                    </p:set>
                                    <p:animEffect filter="wipe(up)" transition="in">
                                      <p:cBhvr additive="repl">
                                        <p:cTn id="58" dur="1000"/>
                                        <p:tgtEl>
                                          <p:spTgt spid="1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2T00:16:11Z</dcterms:created>
  <dc:creator>微软用户</dc:creator>
  <dc:description/>
  <dc:language>en-US</dc:language>
  <cp:lastModifiedBy>武静影</cp:lastModifiedBy>
  <dcterms:modified xsi:type="dcterms:W3CDTF">2021-02-19T06:45:20Z</dcterms:modified>
  <cp:revision>370</cp:revision>
  <dc:subject/>
  <dc:title>www.pptbz.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10314</vt:lpwstr>
  </property>
</Properties>
</file>