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  <p:sldId id="277" r:id="rId62"/>
    <p:sldId id="278" r:id="rId6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slide" Target="slides/slide22.xml"/><Relationship Id="rId63" Type="http://schemas.openxmlformats.org/officeDocument/2006/relationships/slide" Target="slides/slide23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029-D779-4804-B0F8-A17BECD7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6F1-A2AA-4F70-ABBC-E3CCA412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6958A-C55A-4D8E-A63B-6FFD6FAC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F8E60-91FB-4E73-BCE7-DC24ED3E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4DF65-5F77-450E-84D2-E3D627A1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3289F-F283-49F5-BDC0-0B85B66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8D940-5804-4C55-B3CA-6320C286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64833-2C4E-4DCA-88BF-721EC90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FF924-A08F-4239-83D7-38D7EA85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25A6E-85A7-449C-AA70-1DAB91CE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EBD5D-0401-4454-A4FB-68F95B2D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D5D9D-0150-4FF6-B09F-44E210F0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6EB-49DD-4FD9-8395-4AED3C7E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0F1C1-4F9A-4A28-A7A0-BEE1C1F3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A849-5241-4643-9D69-E42ACA0B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CBEAE-8D1B-4A5B-A611-EC8AAA7D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4890A-BC6B-48D0-9D1A-6B251D65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F727E-5256-4A71-A140-1D37CD78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0B894-4FA0-4B3E-98DA-36DE4B6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06713-0573-4943-8BF3-8A9A9CA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41BF4-3238-478B-9EE3-6A52614F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9E61F-BE28-4FE9-BAE1-A6270DEB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83506-543A-4684-9543-6F7ED443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571-8FC3-47E2-80FF-2E31B5F3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54C86-084F-4274-9D8D-2AA9A8C9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F944A-5ACF-46BA-B453-B6839CD1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8ACD1-96A5-471F-9E49-F28DA34E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5B54-45E3-4985-A146-FE6724BF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9380B-E6C8-444B-9C2A-E26E0FBF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4C7C-905D-4A44-A01A-3791075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A3E74-B6A7-445C-818B-346494B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E7344-4D68-4077-8FCA-7F50C83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E2DFB-0B50-4D22-A42E-30DFA0CB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39F39-91DB-476C-AB02-84FE4B0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BF6C-4167-46DA-9F32-7B6B6D0D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643AA-765E-4E5A-A431-D5F063B5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FC716-9A27-4DE2-AA36-8F76FAD2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C356A-159F-48E4-A72A-282489DB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377F8-0F08-4D57-B8F5-83A51CE1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80286-6A55-4DFA-BE90-21AF08FE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D4F67-83C0-4FEB-8C01-70D2C3C9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E3257-EA8B-4F39-B754-AA1CCCB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CFF10-F015-4E7F-95B5-EAE4BF37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23333-74CB-45D0-B454-DBA06E39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C6ABC-9A5A-43ED-926E-F8D6D27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FC1-E4AD-47CA-B04F-1782F7D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7FFEB-8215-4C85-BCD1-26DA3B3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9CE62-D757-4521-9572-3937D28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14B18-D174-47A3-9932-770DD81D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FEDA6-F5AA-4C19-AC12-76771F0E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FF5AD-CCDC-4870-8E89-D37897FC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9B7DA-76C5-4DBF-B787-B8075537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EC40B-C698-41D2-A2A3-D498C33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E29DE-EE47-4584-8BA6-52EBDF4E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2A57D-B88A-477D-B8A3-B40D1E04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AD154-7CAD-4A67-9EE0-3C81EC09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D58A-89CD-48D5-93C7-E2FBABFC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CBEBA-0852-4322-9FCF-96BC05F3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54055-6D2E-490C-BDFF-9FD0CF1A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30CA1-19BF-4BFA-9626-D8EB420A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BF76E-225B-4671-96F5-DB9FDD6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BFFB2-AF6C-4FFD-9816-F433218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4BC3F-3F31-469E-B121-5B5F8F33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ED759-FBE5-4B1D-A1DD-6DD6F8BB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B3988-D6AD-40B8-878E-8773FC83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9809F-926E-4E7A-AE89-9731B07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82653-6DF5-4567-8685-D0C2DA0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1B96-5486-40FA-B514-26B5C643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05490-2C0F-4D52-BD8D-6AE82F55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C5588-2FAF-4B36-A04B-CD56DAA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E98C4-ACB3-4B6A-AC64-017381E8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7C7F8-7B86-4AC0-B457-847E970C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AACF6-299E-4EE1-AA4C-92C56375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505DF-89E4-4471-A9F7-F284F169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5528F-F5D5-43EE-A9CF-A637F837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60E6E-FD13-43C1-8B9A-964976E3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8F8BE-4482-4E9D-9409-ECAFBDAA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A411D-51C9-4882-BB12-AA5E3B41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C05E-B0C8-4F89-B415-3B475224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79A7D-7D96-4270-9703-01085586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72B6E-92E7-44B6-AE38-51DEED98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AB6DD-C643-4D46-A5ED-27D0F52A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FE9307-42CE-4158-8B29-CC7653DD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2CDC0-E92E-426C-B69C-BCE29B9D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ADB3F-DB71-42E7-993F-00E4EB0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DE484-4E24-4695-8B23-F054BFB8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9D7C9-8F7E-4DA5-AAFB-DC826D1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3A320-8BE8-40E3-A8B3-271969F8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FE138-768C-4A78-A801-45679AEA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D039-F40A-41C0-989B-FBFA23BE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F7FEB-285F-4149-A3C1-6226B26F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4DCCA-3F38-46CD-9D16-A57D177E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9AEDF-EFF1-44A9-903B-823C7302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D06C0-042C-4523-8F9F-350381FC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061D2-B465-4BD0-91DE-3E0E7AB0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C988A-8A20-4F52-8B0C-B62BE0F1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BBABB-B716-487A-A04A-C7BCDF0C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E3255-1F00-405B-9D27-64EF65EF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67ED0-B76E-48BE-850E-2FC416A2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0B65B-CA92-4FF4-9542-429DC24F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65DA-743C-41D5-ADF2-0157926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DDF39-EAEC-413E-9842-21CE32B4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B74F9-AE5E-4466-98EE-14F41BC0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79ACC-0B61-4DCC-873B-6700EADB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7CBB3-8855-46C8-B5B4-D611E700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82EAF-13D1-4632-86E3-B711584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5DC3B-0243-43DB-8DC6-03C7E5E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2E870-637A-464B-8E60-9FDEF422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82ED9-3633-4699-BDC5-65C6016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C7783-A398-4F9A-93BA-1C2F5D0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7781F-9CFC-4645-99A0-A35D41E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EAD-B352-41A5-811C-783CC506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7788-D2F4-4C49-9317-BB4B388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A7F7B-6E4D-42F2-BEC0-CBA062E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A4D9E-0CB2-4057-8A2C-E5D8C6B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93A9D-AC7C-49BE-9221-20392F53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67BA0-4DB2-4551-83C0-D378FC33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1A3DF-9CD8-41A0-9AB3-6C3FE067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A1F22-FA96-4582-A198-67757902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CF1AC-F5A6-42D2-BEBF-3553986D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19516-43CF-4989-B5DD-652C7CCD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75EA0-059F-4AEF-9C6F-70067733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D8B00-360C-4105-AB56-04065631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2AF6-355B-4F43-B44B-7A541A1D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9476F-67C3-43AF-BB9E-C51A632C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0B3CB-8F4F-4813-AA68-D5A96438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00C4A-1B37-4EDC-85C5-2A1EF23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B9334-5AEA-487E-935C-3883ABA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643B9A-1C5E-4832-B5A6-59043908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F5240-AD20-4BF4-95F6-74437595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A5F83-92D5-4EEA-91BF-2296ECD6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B6365-4D4E-4E97-B952-27AF367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772BB-001F-4079-B517-47CF80A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40835-5C74-4C73-AF05-F71F9B43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31A2-DBE0-46D8-B91C-C67C8A9A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18482-0E12-4EB5-8EAB-1E656C71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7B8DB-4781-4A8E-A596-5EA60752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D2383-F63D-4706-9835-5DF86EC5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556BA-4300-44E6-9C59-392CC8A8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11566-6AD7-4132-B032-1029E97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2D901-56B4-4DFC-969F-688DBC90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595BD-5E5C-4CB5-B61B-6FDEC1BC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B0020-3BF6-4DD4-A448-696ABE4F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A5B91-0ADA-441D-98F8-D3DEB580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B87E0-1C16-4A51-B578-97D344BD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7AF5-1B05-4C6B-A88E-F714389F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23D8B-A9BA-4B91-8065-A5AE8C3B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D362C-883F-4994-8431-BECFEA9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3534C-C4B9-4789-AAB8-B0778BF7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2CA26-C201-4D90-AAB8-0EC4C3D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B9D25-F8FE-40EE-8627-AE6183B5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57A28D-2F42-4591-8533-7B9CBE0B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5EB91-9F44-4A42-AC17-F50E6DD8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11942-85CB-40FD-99D2-10BAB585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9251F-902B-4B31-ABC7-5E547EDD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6A007-2C6A-4444-B1BC-A977122E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5FFE-0AA6-4EE0-A734-7C94E4ED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D0CD88-43DD-461C-960F-5D813832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48334-B3A7-4EC6-8013-9FDD57DD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A80231-62FF-4E49-90C4-A9C34A4E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C088B-9CDF-4951-AB92-F7CCDBD6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704DE-B6AD-4B26-8E59-27213163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18D96D-DC44-4072-9EF4-AD307223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F2718-8723-43CE-9371-7DF2B8FB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09ECC0-9AB7-4252-BE5F-512E6BB9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A03F9-4413-4EA3-B581-45DA380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DC758-EFA2-4AC5-A991-F6138322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172A-73BE-4652-85A7-42BB6D22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C192B-8E1A-428F-BFCC-EE91D7E0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D0810-6149-4226-A490-DD9337CA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7A02D0-8B49-467B-ABBD-4EBCBBDD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74EF67-6633-49D4-B150-B8F3550D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D391EA-7EBB-4F46-B6B4-90B29207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E56E5A-B22B-42F7-A1D3-5A055C53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434327-7597-4D52-9129-8468A20A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CCF67E-BDED-4EA9-A4E4-E106287D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375A1E-BD1E-4956-8AC1-5BB6D62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C7D63-DA84-4D19-996E-5DE8D35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E7D9-DB1D-460E-9691-53E2F12E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3E5E79-D029-445B-A053-E6161F55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B5ED7E-8A28-4213-BBB9-63A66201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CE099-81AD-46CC-809B-33C4FA0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CFC76B-CAF9-4D61-BC8F-50E506F1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3F19AF-AF6B-4146-A66F-5DFA16F4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D34CFB-B03E-400C-8BD1-6EB501FE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B3FEE7-4EDC-49D5-90C2-D8C49FE1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F80825-06EC-41FC-8E6D-282195E7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4723F-22FA-4730-9A22-31B10970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F5AE9-7484-401A-8FDE-67D6DBE0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2FF8-C183-44A4-A212-4BC43B27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7B711-F0D0-4D2D-B3F0-F7B1B00D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23CAFD-6D98-4D4C-9224-2C5B4A19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E5AF8C-C526-42DA-8CFD-D0DF064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63AC38-9E49-4829-A50E-A7B302CE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9D6225-C649-43E8-9FBC-A5EA84E1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04F14A-B69C-4578-8947-BA7A301F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0FFF29-9917-45C6-87C1-870207D6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585A0E-2DAD-4F7F-B450-DB730E20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D7E50E-F492-464E-9593-DEDA5D90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FAD44C-18E8-435B-BC7C-CBD6FC8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34D6-5878-42A3-B13B-D0C4D5A3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CEFCDE-7E2A-4F8B-A49E-4335293B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862C4D-51FC-4AB4-8723-3E72C989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8B9C8F-C591-4017-B7A5-75AC7E78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9BBA1A-DF66-4B9E-8ECB-E55AD20B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302F4C-4BF5-413A-A251-E5A9854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33C2E3-4AD2-4A79-B9E7-5F1B4A2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803E37-AAC5-4839-99BF-12D8DEDC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260701-8A42-4D95-9C1F-2A57CBCB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535A3A-9804-4638-B949-07521F5D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F80628-1DCF-4B5A-BDFA-075D6362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B2B6-6B26-45CB-B39A-DEEC94D9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B06B0A-1924-47B2-A49F-3EB3CD52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757DC8-BB8A-498B-86EC-5AD097CB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3D34DD-BCC5-4EE7-90FC-9A424213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7F31A9-72F1-4594-A711-FCFF166E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F8ED20-8594-4DB3-B4FD-B7615AB3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16A5D8-B66A-480C-BBA0-2235887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22B989-FB28-4A3B-AC10-3F28E70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121C65-9917-4019-A759-27FD106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DC141A-2DB2-457A-8C59-5630B593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31A357-F096-495B-A5D3-3A412C9E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3C7-510C-409D-ABB5-1041191A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2268-72F9-43E1-A727-650E0CB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CE99E7-88A2-4369-BCFC-681EB100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5EF4B7-4A2E-4F42-B8E9-78BC62EC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9D127C-950B-4296-AD82-44D55338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32305-752D-433F-845F-8827F5B4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44374E-3070-44A8-885F-F0B0502F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58BACE-B931-4561-B8A4-3CB83FE3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C416F8-8ADE-4F8D-92DA-C22E7BFE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48F4E5-11E4-402F-9965-1BEBAB8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70AF7F-78B9-4942-8EAF-3C851E60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F5A630-1F4B-42BA-AB9F-4FFC4E07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3B4A-7677-4483-AF38-ADD79D1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4A675C-2966-491E-9A5C-10A696D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7BB4DB-B6FA-4482-B649-ECB83D5D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291ABB-3C7D-4900-943F-8C08130F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FF5B02-A849-438B-A686-E7F2516B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9EBE20-1153-459E-8ED5-01DA105B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6378DA-B057-432A-84ED-E1755CBA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7F4834-AAB9-4B3D-A5F8-9EFBF37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7C64D7-2F46-4C39-A63A-1EAC52EE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267FE7-95BD-4321-A5FF-C22B94A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03B6E6-6829-4DF5-B895-A450E1DB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04A1-CA17-4DB8-A48A-BE1DBF34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F1F96D-C5DC-43A0-9955-D51F593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97BFE7-08DF-4DB7-BA36-19C1DC19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9704E2-172E-46A4-BFBF-F5F5C808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3FFD19-17B2-4738-82B8-BD9B54B5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46A200-FBDC-44D3-811F-E34BE09E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0AE914-BDE4-4EFC-9526-AE1FD545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DD211E-9EF1-4F0B-B136-5BA22B55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983850-42B6-4444-B637-829A8DB6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63A708-D1B7-461A-8435-97A67428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D4CCCE-2E5D-4810-B89E-DCF0FC66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3E62-4F45-4C1A-B18C-FFA17A7C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19A016-F15A-4B75-81D5-17F845FA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89AF23-9186-4745-BBE4-0CB2E78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BA1108-8759-41AE-B86A-D31B05E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A55A38-F759-40E6-8216-52031B0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D99038-4DA5-4D1D-9C93-CB915A8E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B24E30-30E7-46DD-AC03-E34944A1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A05BC3-D186-4FDA-A48F-7D7485DA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BAC5BB-8BAA-4BEA-A980-A5422C1E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713606-B5AC-475C-973A-6476B964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9AF87C-1540-421F-B3D1-84884015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67BA-0244-435B-BC33-6C6174EE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E81BE0-336C-4394-9C0E-4314AE39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ACD0CC-7FC5-4F16-90D1-50A4D4A8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C886B4-3065-49A0-860A-A3EF173B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6A3A37-72C6-4A80-83CD-93FED86C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079739-F212-4DD8-B436-A4EAABB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2A68E5-B321-4C35-BC24-54EC5C3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DB79C1-3961-4FDE-93CA-F53B35E1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86804D-47A8-47D9-8697-C30B574C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5D87A3-83E3-4146-A5CF-1E22932D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445413-46E0-4DC0-96DD-9D578629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7A2B-A366-4FA0-9476-A33766F8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FE83E6-7416-4BB5-97CE-5B1DA57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040D1C-3630-46EB-8B7C-CC4C901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0F02EA-2775-4FC5-BE74-A7ADF00F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3F44D2-B938-4679-B1FB-FEC006FE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51163E-3721-4432-B022-B1C7D6CD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9903CA-E568-405C-8B8D-D4BFE06E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403C25-1C6D-4DF3-964A-2D8C4F3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32731A-F4D9-4167-8896-D6E0B19E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9B6041-45B5-4B09-81A2-EC459374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B1172E-7C53-46D7-A5C2-533D3AC2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A2A2-FCE6-478C-BB8A-F9553FAE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C48792-197B-49A4-9AF8-6278D8E7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B1FBBE-561B-45E0-8180-F8658E7F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8547D1-9CEB-41A5-8035-E1291CDD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3F7B12-F8FD-4D1C-902B-3A9A65FB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8281E3-3F80-4F3C-AB6F-FF2B173E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472089-148E-4296-B15D-43D3AF1B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068C58-025B-4481-AA7B-EDF6F206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7C2AA3-DB5B-4781-B708-4FE4525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B05145-6749-4834-8001-99CF367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144734-182E-4B14-B3D6-09A6BF0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70D3-8F26-49FC-89B9-0DCE89EB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C8F85D-EC47-4A60-94DD-FB50B9D5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EC4AE8-57F0-44D6-A1EF-D39C6821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E5664E-62DB-4C28-853C-9A05A079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1A989B-C1B0-4D93-B078-EF772BDE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CA1DCF-D610-4B8B-8F9C-A890489A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C07AFF-1A7B-4ACE-9E83-EADA2364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53728C-6F46-4143-A790-8441A8B2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CB8568-F5A7-4239-862A-E39F384F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3B98B2-C343-48DB-A30A-2982ABCE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DA8BCA-35C2-4C24-BCC7-5FE45859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16835-281C-4E72-B4A7-904520FB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657CB1-E86C-406D-A2D4-65B103C2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8ACB8C-0AD8-4990-9EEB-DFA5ABAB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4C6C68-58F0-4A74-BD9A-C7BF2EC5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CDE96E-52E5-42BD-8A21-A561A1CA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1CC972-DACB-4673-80F9-E8961879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B26B89-0D22-45CB-8185-325CABBB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7E7C88-EC71-44CB-8F03-A0DCC35C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B9DC7D-BBF7-4F05-8DD1-4199CB8B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EC82F0-B97D-4BF5-80CE-E3BBB11B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B524BD-CC0F-4AE5-9874-C9F3591C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3D7D-C130-40D1-ABC6-043EB38A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DDB6A3-4776-41D0-B437-DEE62BB1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8EDFF0-27A9-4A19-912F-2618F18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A03351-4F31-4038-9AA7-744F761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137909-DE9C-4461-97E7-E9C0D18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3F9855-B3C8-40EC-B014-BA942246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3BBF35-7B92-47C1-8F8C-7F4691B6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E16947-9D90-45EE-8410-D517B52A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AA7B22-DB52-468E-9589-18D598E6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CE7D46-0A49-44CD-A3B6-1ACA3251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AD049D-246A-4BC7-9751-AD16951D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780-44B3-4778-AA05-6909E25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7AE6A-F57D-4876-B650-A2F15EC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C497AB-FCD6-48BF-91E9-9E52C50B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B39435-DD90-4199-8244-C82A8DF6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74324B-1408-4BA5-9DD0-EA9F42D2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E0A075-71DC-4A24-B98A-0F8882B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F1D589-7D58-48F1-9E99-97FF036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BA4505-B6DB-4E40-BDA2-4032AB27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143263-3F78-476B-BADB-EF7DCD06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5DDB19-91BC-486F-99AE-5725E2F7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5A4194-960D-4566-9059-9BECC359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B2632E-BB2C-4251-9774-84FF5A01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023B-8A8A-4363-B3AF-02BA7390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F6029F-ACFA-41AD-93DD-5BC1D72F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D457FD-D106-4DE9-A9CB-479BFB70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904B6D-D755-412B-97A6-FD386EBF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D1E51B-4CEC-44F9-A2DB-28D618E2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A43B8B-65BD-4230-AB94-7376F702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505AE0-987C-47F4-AD7B-468ABC2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F76947-8083-4989-AB79-83ABD92E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CCB2D2-0773-4EF5-AD26-9F8EC0C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623BE3-D9FB-4ADB-A261-9A2DB167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65D66F-6F50-40B2-9886-7B37495F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F858-007C-4CF3-8DB1-F5AF6E76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D3971A-6489-4242-BD8C-079FE549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613866-358D-451B-89A1-93596CC9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DA8B67-CA86-4022-A247-DD2B937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105C67-0586-44BD-9269-C88874D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AD3E86-B96F-4248-8C83-98413FD2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54205C-76EE-4BF0-8677-45EFF0C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79B6DF-5F31-4032-8D88-7C32479D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427DF0-DE60-4201-A98C-D84E289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1289CC-D4E2-45E5-8751-0156131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25857E-10E2-4BEC-843F-348A4BB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A951-76AC-4A3D-BB36-71632A6F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D9F286-DBF2-4F85-8607-8FBA0746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29B4EE-AAFA-4CBD-A421-D6B00747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2336E7-7ECC-4FC8-806A-CEA11C7F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D29D40-AFF1-4729-8703-3C1F2854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2FFEF3-375D-4120-9C65-3F1455AD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2058D4-2C84-4B56-A222-A0AAC108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3F4DB6-CE7B-4337-AFDD-A7BA5702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C45FAB-F142-4188-B920-65674CDA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D2EC2F-6B4B-427E-B63D-056B221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041B36-3F6D-49B1-A7A6-02F6A7BE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A2D4-E324-4855-9BD2-2839DF5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906C9D-735E-4862-BCBD-28C0FB5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EBB759-9EB7-484D-B976-BC58B1F6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4804EC-5352-4094-9E3A-1DE9EF7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BE2A42-D2EE-4B6C-B632-88B4CCEB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E88494-C0DC-4F8B-B973-A71F8CD1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8325BC-AA29-49F2-8AEC-A1D80175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4C108D-0F7B-4992-A466-4275AAA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8B2A40-3EC1-4E3F-B91D-8C246D6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9C8BB8-79F4-49D8-8968-129F25D5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8E4B02-E935-4F65-95EC-0416DE0E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16DD-D6E1-4767-BC7A-A0CA2D6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65A2F8-84EF-4B49-AEA9-A6509802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4147BB-89F2-4105-8AAA-026E1D7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448E10-B1CE-43A7-813A-92E6B9C1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D83AE89-921F-4853-B0E6-EAFB85A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6F16CD-D2E7-4AF5-8B3E-4ABAECFD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6DB595-10C4-4619-A229-D5468395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7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8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BF610E-CA5C-4C33-B40D-32FD73D5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DEE747-C128-49E0-9B80-C400897A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3F6964-B793-4864-942C-EC0150B2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9D266B-99B5-4EA7-9D4F-B6F6B69B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0855-93A2-402D-8C81-694F21E1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9C27A9-E45E-4ADF-879A-511BEFFA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989C4E6-DED6-45CF-B843-0B9693E1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B93962-3ECD-4096-8349-6BA65CE5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04438B-B25E-4850-9B92-DFD7EE7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FD9E93-0BD5-425B-BDC8-54A0B2E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CC9AAB0-477B-4C05-9B38-D50C40A7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10CB25B-C617-4FAB-8569-3E648A0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65C78A-5975-4924-A1D0-1BB9574F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4CCE071-C400-4C68-8A2B-C8FCD117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7DD0-DE02-4DAE-BDDF-F91B9E2B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1C92-7E0B-4731-A531-DC0ABF47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1CB5-F7D0-48AD-82CB-B3D7548E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9ED-A1DF-4FEA-AD59-12DA7047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86988-CFE7-40B7-BC3F-4A8BEC3A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EC5E-CC85-4B03-A784-B541660D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16EDB-3CB5-49AF-8AE6-8EA67ADC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713C-29A7-4AB5-A0F9-FB76549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0016E-2769-4564-9FAA-381549E3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4236A-7C12-4BB1-B98C-2EFF09A3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5F46-F74A-407E-823B-7B711F6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2C197-98AB-44FF-8AEC-BBC58DBE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A7864-AC4B-40AE-8548-B86D4067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E9FB-ABC4-480E-A130-D79107C1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42F-C757-4FE4-BD05-5F5C6267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FB8F-A187-4032-B391-2E87B3AA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E9ED0-9216-4C91-8E2A-EC57025E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6F21-8CD2-4A02-BD56-7D6E4137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3B1D9-3807-4EE4-9A8D-0CEC098D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FACF-A65B-4897-9C57-A4DF4A5D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2CF5-E312-415C-BC89-40830D72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648CA-A564-4996-BD97-83DE3D2F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4257-0709-455B-A138-2926F1F2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73F4-0CF2-420C-8C0A-3CD31629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0EF4-F5E5-4F39-A7BC-0EFDA60D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29D-9572-4A8E-943B-72A5F725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D1344-7E9C-4782-8318-922AC25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2E8BF-03DB-4269-B09F-1F14A655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6CC31-35E0-4FAC-B07D-90FD9D51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257D8-BD38-4B01-A351-32BE2142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AD5CD-D956-483D-AA7E-4E697FAC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D19F-68D5-4E76-B3D4-21EFD33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547DE-1171-42B7-AE73-2D3E352A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F53CD-D172-40C6-87D4-0B9BB8C8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068DC-E1E3-4D73-94BA-890D2DE7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8AACE-5B0F-4349-8A7B-36281394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3A0-D22C-4280-BED0-BF72AD7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C4CD6-A723-4686-9171-DF84D532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A832-6402-4119-AABB-A4C2CB9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5661A-F675-46EF-AA28-4957CFE4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0B1F0-D9DB-4CAA-B576-F5213EDB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8968B-7AEA-4A21-AA47-9E4CFA03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5BBB4-40AA-4EE9-9D0F-6570C8E2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1A160-3CFF-4B51-99F0-5A4ED842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6EBA6-CE4D-41F1-9ED4-E95084FB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E1E4B-5726-45B9-A57B-E80F1E5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A6019-1A26-4C2D-A29B-FF5DD96C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814-B362-41C8-8ABA-07C87582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13790-E827-4BD2-97ED-1DCA3AB9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44848-0E55-408B-AFD2-901DFE02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75EA-1C67-4372-AD48-31FCE5E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8412D-0390-4F9C-B9E8-D01BE92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E56ED-A7BB-464B-AA70-EA28B80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4F773-7B12-4EC2-9B60-8CBF9E45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6758F-5847-43E1-9FE3-14D79A4B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B309D-4162-4488-991E-FC9A1483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73452-5424-467A-B475-0FBFD08F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713D0-4CE1-4406-8BA4-B4B6D1C2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01.xml"/><Relationship Id="rId12" Type="http://schemas.openxmlformats.org/officeDocument/2006/relationships/slideLayout" Target="../slideLayouts/slideLayout302.xml"/><Relationship Id="rId13" Type="http://schemas.openxmlformats.org/officeDocument/2006/relationships/slideLayout" Target="../slideLayouts/slideLayout303.xml"/><Relationship Id="rId14" Type="http://schemas.openxmlformats.org/officeDocument/2006/relationships/slideLayout" Target="../slideLayouts/slideLayout304.xml"/><Relationship Id="rId15" Type="http://schemas.openxmlformats.org/officeDocument/2006/relationships/slideLayout" Target="../slideLayouts/slideLayout305.xml"/><Relationship Id="rId16" Type="http://schemas.openxmlformats.org/officeDocument/2006/relationships/slideLayout" Target="../slideLayouts/slideLayout306.xml"/><Relationship Id="rId17" Type="http://schemas.openxmlformats.org/officeDocument/2006/relationships/slideLayout" Target="../slideLayouts/slideLayout307.xml"/><Relationship Id="rId18" Type="http://schemas.openxmlformats.org/officeDocument/2006/relationships/slideLayout" Target="../slideLayouts/slideLayout308.xml"/><Relationship Id="rId19" Type="http://schemas.openxmlformats.org/officeDocument/2006/relationships/slideLayout" Target="../slideLayouts/slideLayout309.xml"/><Relationship Id="rId20" Type="http://schemas.openxmlformats.org/officeDocument/2006/relationships/slideLayout" Target="../slideLayouts/slideLayout310.xml"/><Relationship Id="rId21" Type="http://schemas.openxmlformats.org/officeDocument/2006/relationships/slideLayout" Target="../slideLayouts/slideLayout311.xml"/><Relationship Id="rId22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25.xml"/><Relationship Id="rId9" Type="http://schemas.openxmlformats.org/officeDocument/2006/relationships/slideLayout" Target="../slideLayouts/slideLayout326.xml"/><Relationship Id="rId10" Type="http://schemas.openxmlformats.org/officeDocument/2006/relationships/slideLayout" Target="../slideLayouts/slideLayout327.xml"/><Relationship Id="rId11" Type="http://schemas.openxmlformats.org/officeDocument/2006/relationships/slideLayout" Target="../slideLayouts/slideLayout328.xml"/><Relationship Id="rId12" Type="http://schemas.openxmlformats.org/officeDocument/2006/relationships/slideLayout" Target="../slideLayouts/slideLayout329.xml"/><Relationship Id="rId13" Type="http://schemas.openxmlformats.org/officeDocument/2006/relationships/slideLayout" Target="../slideLayouts/slideLayout330.xml"/><Relationship Id="rId14" Type="http://schemas.openxmlformats.org/officeDocument/2006/relationships/slideLayout" Target="../slideLayouts/slideLayout331.xml"/><Relationship Id="rId15" Type="http://schemas.openxmlformats.org/officeDocument/2006/relationships/slideLayout" Target="../slideLayouts/slideLayout332.xml"/><Relationship Id="rId16" Type="http://schemas.openxmlformats.org/officeDocument/2006/relationships/slideLayout" Target="../slideLayouts/slideLayout333.xml"/><Relationship Id="rId17" Type="http://schemas.openxmlformats.org/officeDocument/2006/relationships/slideLayout" Target="../slideLayouts/slideLayout334.xml"/><Relationship Id="rId18" Type="http://schemas.openxmlformats.org/officeDocument/2006/relationships/slideLayout" Target="../slideLayouts/slideLayout335.xml"/><Relationship Id="rId19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73.xml"/><Relationship Id="rId8" Type="http://schemas.openxmlformats.org/officeDocument/2006/relationships/slideLayout" Target="../slideLayouts/slideLayout374.xml"/><Relationship Id="rId9" Type="http://schemas.openxmlformats.org/officeDocument/2006/relationships/slideLayout" Target="../slideLayouts/slideLayout375.xml"/><Relationship Id="rId10" Type="http://schemas.openxmlformats.org/officeDocument/2006/relationships/slideLayout" Target="../slideLayouts/slideLayout376.xml"/><Relationship Id="rId11" Type="http://schemas.openxmlformats.org/officeDocument/2006/relationships/slideLayout" Target="../slideLayouts/slideLayout377.xml"/><Relationship Id="rId12" Type="http://schemas.openxmlformats.org/officeDocument/2006/relationships/slideLayout" Target="../slideLayouts/slideLayout378.xml"/><Relationship Id="rId13" Type="http://schemas.openxmlformats.org/officeDocument/2006/relationships/slideLayout" Target="../slideLayouts/slideLayout379.xml"/><Relationship Id="rId14" Type="http://schemas.openxmlformats.org/officeDocument/2006/relationships/slideLayout" Target="../slideLayouts/slideLayout380.xml"/><Relationship Id="rId15" Type="http://schemas.openxmlformats.org/officeDocument/2006/relationships/slideLayout" Target="../slideLayouts/slideLayout381.xml"/><Relationship Id="rId16" Type="http://schemas.openxmlformats.org/officeDocument/2006/relationships/slideLayout" Target="../slideLayouts/slideLayout382.xml"/><Relationship Id="rId17" Type="http://schemas.openxmlformats.org/officeDocument/2006/relationships/slideLayout" Target="../slideLayouts/slideLayout383.xml"/><Relationship Id="rId18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97.xml"/><Relationship Id="rId8" Type="http://schemas.openxmlformats.org/officeDocument/2006/relationships/slideLayout" Target="../slideLayouts/slideLayout398.xml"/><Relationship Id="rId9" Type="http://schemas.openxmlformats.org/officeDocument/2006/relationships/slideLayout" Target="../slideLayouts/slideLayout399.xml"/><Relationship Id="rId10" Type="http://schemas.openxmlformats.org/officeDocument/2006/relationships/slideLayout" Target="../slideLayouts/slideLayout400.xml"/><Relationship Id="rId11" Type="http://schemas.openxmlformats.org/officeDocument/2006/relationships/slideLayout" Target="../slideLayouts/slideLayout401.xml"/><Relationship Id="rId12" Type="http://schemas.openxmlformats.org/officeDocument/2006/relationships/slideLayout" Target="../slideLayouts/slideLayout402.xml"/><Relationship Id="rId13" Type="http://schemas.openxmlformats.org/officeDocument/2006/relationships/slideLayout" Target="../slideLayouts/slideLayout403.xml"/><Relationship Id="rId14" Type="http://schemas.openxmlformats.org/officeDocument/2006/relationships/slideLayout" Target="../slideLayouts/slideLayout404.xml"/><Relationship Id="rId15" Type="http://schemas.openxmlformats.org/officeDocument/2006/relationships/slideLayout" Target="../slideLayouts/slideLayout405.xml"/><Relationship Id="rId16" Type="http://schemas.openxmlformats.org/officeDocument/2006/relationships/slideLayout" Target="../slideLayouts/slideLayout406.xml"/><Relationship Id="rId17" Type="http://schemas.openxmlformats.org/officeDocument/2006/relationships/slideLayout" Target="../slideLayouts/slideLayout407.xml"/><Relationship Id="rId18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09.xml"/><Relationship Id="rId8" Type="http://schemas.openxmlformats.org/officeDocument/2006/relationships/slideLayout" Target="../slideLayouts/slideLayout410.xml"/><Relationship Id="rId9" Type="http://schemas.openxmlformats.org/officeDocument/2006/relationships/slideLayout" Target="../slideLayouts/slideLayout411.xml"/><Relationship Id="rId10" Type="http://schemas.openxmlformats.org/officeDocument/2006/relationships/slideLayout" Target="../slideLayouts/slideLayout412.xml"/><Relationship Id="rId11" Type="http://schemas.openxmlformats.org/officeDocument/2006/relationships/slideLayout" Target="../slideLayouts/slideLayout413.xml"/><Relationship Id="rId12" Type="http://schemas.openxmlformats.org/officeDocument/2006/relationships/slideLayout" Target="../slideLayouts/slideLayout414.xml"/><Relationship Id="rId13" Type="http://schemas.openxmlformats.org/officeDocument/2006/relationships/slideLayout" Target="../slideLayouts/slideLayout415.xml"/><Relationship Id="rId14" Type="http://schemas.openxmlformats.org/officeDocument/2006/relationships/slideLayout" Target="../slideLayouts/slideLayout416.xml"/><Relationship Id="rId15" Type="http://schemas.openxmlformats.org/officeDocument/2006/relationships/slideLayout" Target="../slideLayouts/slideLayout417.xml"/><Relationship Id="rId16" Type="http://schemas.openxmlformats.org/officeDocument/2006/relationships/slideLayout" Target="../slideLayouts/slideLayout418.xml"/><Relationship Id="rId17" Type="http://schemas.openxmlformats.org/officeDocument/2006/relationships/slideLayout" Target="../slideLayouts/slideLayout419.xml"/><Relationship Id="rId18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21.xml"/><Relationship Id="rId8" Type="http://schemas.openxmlformats.org/officeDocument/2006/relationships/slideLayout" Target="../slideLayouts/slideLayout422.xml"/><Relationship Id="rId9" Type="http://schemas.openxmlformats.org/officeDocument/2006/relationships/slideLayout" Target="../slideLayouts/slideLayout423.xml"/><Relationship Id="rId10" Type="http://schemas.openxmlformats.org/officeDocument/2006/relationships/slideLayout" Target="../slideLayouts/slideLayout424.xml"/><Relationship Id="rId11" Type="http://schemas.openxmlformats.org/officeDocument/2006/relationships/slideLayout" Target="../slideLayouts/slideLayout425.xml"/><Relationship Id="rId12" Type="http://schemas.openxmlformats.org/officeDocument/2006/relationships/slideLayout" Target="../slideLayouts/slideLayout426.xml"/><Relationship Id="rId13" Type="http://schemas.openxmlformats.org/officeDocument/2006/relationships/slideLayout" Target="../slideLayouts/slideLayout427.xml"/><Relationship Id="rId14" Type="http://schemas.openxmlformats.org/officeDocument/2006/relationships/slideLayout" Target="../slideLayouts/slideLayout428.xml"/><Relationship Id="rId15" Type="http://schemas.openxmlformats.org/officeDocument/2006/relationships/slideLayout" Target="../slideLayouts/slideLayout429.xml"/><Relationship Id="rId16" Type="http://schemas.openxmlformats.org/officeDocument/2006/relationships/slideLayout" Target="../slideLayouts/slideLayout430.xml"/><Relationship Id="rId17" Type="http://schemas.openxmlformats.org/officeDocument/2006/relationships/slideLayout" Target="../slideLayouts/slideLayout431.xml"/><Relationship Id="rId18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33.xml"/><Relationship Id="rId8" Type="http://schemas.openxmlformats.org/officeDocument/2006/relationships/slideLayout" Target="../slideLayouts/slideLayout434.xml"/><Relationship Id="rId9" Type="http://schemas.openxmlformats.org/officeDocument/2006/relationships/slideLayout" Target="../slideLayouts/slideLayout435.xml"/><Relationship Id="rId10" Type="http://schemas.openxmlformats.org/officeDocument/2006/relationships/slideLayout" Target="../slideLayouts/slideLayout436.xml"/><Relationship Id="rId11" Type="http://schemas.openxmlformats.org/officeDocument/2006/relationships/slideLayout" Target="../slideLayouts/slideLayout437.xml"/><Relationship Id="rId12" Type="http://schemas.openxmlformats.org/officeDocument/2006/relationships/slideLayout" Target="../slideLayouts/slideLayout438.xml"/><Relationship Id="rId13" Type="http://schemas.openxmlformats.org/officeDocument/2006/relationships/slideLayout" Target="../slideLayouts/slideLayout439.xml"/><Relationship Id="rId14" Type="http://schemas.openxmlformats.org/officeDocument/2006/relationships/slideLayout" Target="../slideLayouts/slideLayout440.xml"/><Relationship Id="rId15" Type="http://schemas.openxmlformats.org/officeDocument/2006/relationships/slideLayout" Target="../slideLayouts/slideLayout441.xml"/><Relationship Id="rId16" Type="http://schemas.openxmlformats.org/officeDocument/2006/relationships/slideLayout" Target="../slideLayouts/slideLayout442.xml"/><Relationship Id="rId17" Type="http://schemas.openxmlformats.org/officeDocument/2006/relationships/slideLayout" Target="../slideLayouts/slideLayout443.xml"/><Relationship Id="rId18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445.xml"/><Relationship Id="rId12" Type="http://schemas.openxmlformats.org/officeDocument/2006/relationships/slideLayout" Target="../slideLayouts/slideLayout446.xml"/><Relationship Id="rId13" Type="http://schemas.openxmlformats.org/officeDocument/2006/relationships/slideLayout" Target="../slideLayouts/slideLayout447.xml"/><Relationship Id="rId14" Type="http://schemas.openxmlformats.org/officeDocument/2006/relationships/slideLayout" Target="../slideLayouts/slideLayout448.xml"/><Relationship Id="rId15" Type="http://schemas.openxmlformats.org/officeDocument/2006/relationships/slideLayout" Target="../slideLayouts/slideLayout449.xml"/><Relationship Id="rId16" Type="http://schemas.openxmlformats.org/officeDocument/2006/relationships/slideLayout" Target="../slideLayouts/slideLayout450.xml"/><Relationship Id="rId17" Type="http://schemas.openxmlformats.org/officeDocument/2006/relationships/slideLayout" Target="../slideLayouts/slideLayout451.xml"/><Relationship Id="rId18" Type="http://schemas.openxmlformats.org/officeDocument/2006/relationships/slideLayout" Target="../slideLayouts/slideLayout452.xml"/><Relationship Id="rId19" Type="http://schemas.openxmlformats.org/officeDocument/2006/relationships/slideLayout" Target="../slideLayouts/slideLayout453.xml"/><Relationship Id="rId20" Type="http://schemas.openxmlformats.org/officeDocument/2006/relationships/slideLayout" Target="../slideLayouts/slideLayout454.xml"/><Relationship Id="rId21" Type="http://schemas.openxmlformats.org/officeDocument/2006/relationships/slideLayout" Target="../slideLayouts/slideLayout455.xml"/><Relationship Id="rId22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EDEE-104D-4698-813C-A97C512EB27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B34-DBA7-4C50-B339-548C38753B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5763-23B0-45F9-B16F-0C2DB271E3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B2D-565B-4E86-837A-2273AA5E9E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5041-0937-4022-9520-3D5A505F35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10E8-F4D4-4E85-8AA9-57A951F6ED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28FE-1D14-4890-9F02-19FBDAB392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E68A-DD29-4352-A127-B0A41FC48F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A619-41FB-474F-AADB-543D288930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4183-20FD-4F55-A05F-E2EA7B86F0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片 5" descr=""/>
          <p:cNvPicPr/>
          <p:nvPr/>
        </p:nvPicPr>
        <p:blipFill>
          <a:blip r:embed="rId2"/>
          <a:stretch/>
        </p:blipFill>
        <p:spPr>
          <a:xfrm>
            <a:off x="2868480" y="3490920"/>
            <a:ext cx="2543400" cy="31082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6" descr=""/>
          <p:cNvPicPr/>
          <p:nvPr/>
        </p:nvPicPr>
        <p:blipFill>
          <a:blip r:embed="rId3"/>
          <a:stretch/>
        </p:blipFill>
        <p:spPr>
          <a:xfrm>
            <a:off x="6480" y="1612800"/>
            <a:ext cx="3257280" cy="524376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6" descr=""/>
          <p:cNvPicPr/>
          <p:nvPr/>
        </p:nvPicPr>
        <p:blipFill>
          <a:blip r:embed="rId4"/>
          <a:stretch/>
        </p:blipFill>
        <p:spPr>
          <a:xfrm rot="17330400">
            <a:off x="3570480" y="5589000"/>
            <a:ext cx="568440" cy="5428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" descr=""/>
          <p:cNvPicPr/>
          <p:nvPr/>
        </p:nvPicPr>
        <p:blipFill>
          <a:blip r:embed="rId5"/>
          <a:stretch/>
        </p:blipFill>
        <p:spPr>
          <a:xfrm rot="20422800">
            <a:off x="1217160" y="5847840"/>
            <a:ext cx="563760" cy="53676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9" descr=""/>
          <p:cNvPicPr/>
          <p:nvPr/>
        </p:nvPicPr>
        <p:blipFill>
          <a:blip r:embed="rId6"/>
          <a:stretch/>
        </p:blipFill>
        <p:spPr>
          <a:xfrm>
            <a:off x="4964040" y="4621320"/>
            <a:ext cx="1830600" cy="223668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0" descr=""/>
          <p:cNvPicPr/>
          <p:nvPr/>
        </p:nvPicPr>
        <p:blipFill>
          <a:blip r:embed="rId7"/>
          <a:stretch/>
        </p:blipFill>
        <p:spPr>
          <a:xfrm>
            <a:off x="3616200" y="369720"/>
            <a:ext cx="2659320" cy="311652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" descr=""/>
          <p:cNvPicPr/>
          <p:nvPr/>
        </p:nvPicPr>
        <p:blipFill>
          <a:blip r:embed="rId8"/>
          <a:stretch/>
        </p:blipFill>
        <p:spPr>
          <a:xfrm flipH="1" rot="20731200">
            <a:off x="10271880" y="110808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4" descr=""/>
          <p:cNvPicPr/>
          <p:nvPr/>
        </p:nvPicPr>
        <p:blipFill>
          <a:blip r:embed="rId9"/>
          <a:stretch/>
        </p:blipFill>
        <p:spPr>
          <a:xfrm>
            <a:off x="8472600" y="5543640"/>
            <a:ext cx="558720" cy="53316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3" descr=""/>
          <p:cNvPicPr/>
          <p:nvPr/>
        </p:nvPicPr>
        <p:blipFill>
          <a:blip r:embed="rId10"/>
          <a:stretch/>
        </p:blipFill>
        <p:spPr>
          <a:xfrm>
            <a:off x="2421000" y="1197000"/>
            <a:ext cx="950760" cy="9334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723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1A26-01B4-49E6-B817-D9CF3AC808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806E-9FC7-43F0-A5FF-2181B92D62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89B8-2479-4646-89EB-C5164837CF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2D9C-A292-4582-8A75-3931324AA0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图片 5" descr=""/>
          <p:cNvPicPr/>
          <p:nvPr/>
        </p:nvPicPr>
        <p:blipFill>
          <a:blip r:embed="rId2"/>
          <a:stretch/>
        </p:blipFill>
        <p:spPr>
          <a:xfrm rot="19920000">
            <a:off x="1331640" y="5760720"/>
            <a:ext cx="709560" cy="67608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6" descr=""/>
          <p:cNvPicPr/>
          <p:nvPr/>
        </p:nvPicPr>
        <p:blipFill>
          <a:blip r:embed="rId3"/>
          <a:stretch/>
        </p:blipFill>
        <p:spPr>
          <a:xfrm rot="17330400">
            <a:off x="3751200" y="5588640"/>
            <a:ext cx="568440" cy="54324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4" descr=""/>
          <p:cNvPicPr/>
          <p:nvPr/>
        </p:nvPicPr>
        <p:blipFill>
          <a:blip r:embed="rId4"/>
          <a:stretch/>
        </p:blipFill>
        <p:spPr>
          <a:xfrm>
            <a:off x="609480" y="693720"/>
            <a:ext cx="560520" cy="53496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3" descr=""/>
          <p:cNvPicPr/>
          <p:nvPr/>
        </p:nvPicPr>
        <p:blipFill>
          <a:blip r:embed="rId5"/>
          <a:stretch/>
        </p:blipFill>
        <p:spPr>
          <a:xfrm>
            <a:off x="2606760" y="1195560"/>
            <a:ext cx="950760" cy="933120"/>
          </a:xfrm>
          <a:prstGeom prst="rect">
            <a:avLst/>
          </a:prstGeom>
          <a:ln w="0">
            <a:noFill/>
          </a:ln>
        </p:spPr>
      </p:pic>
      <p:pic>
        <p:nvPicPr>
          <p:cNvPr id="693" name="图片 2" descr=""/>
          <p:cNvPicPr/>
          <p:nvPr/>
        </p:nvPicPr>
        <p:blipFill>
          <a:blip r:embed="rId6"/>
          <a:stretch/>
        </p:blipFill>
        <p:spPr>
          <a:xfrm>
            <a:off x="5986440" y="1724040"/>
            <a:ext cx="5950080" cy="49878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7"/>
          <a:stretch/>
        </p:blipFill>
        <p:spPr>
          <a:xfrm>
            <a:off x="10969560" y="1963800"/>
            <a:ext cx="1013040" cy="10033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99D1-BE61-4A7B-8D0F-130C59A71D3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C41C-22EB-4D8D-BBF7-DECD88EAFB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C22D-CCE7-45A6-AE93-38AA01530A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7AD8-4978-41A8-AD58-02B99B4812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7" descr=""/>
          <p:cNvPicPr/>
          <p:nvPr/>
        </p:nvPicPr>
        <p:blipFill>
          <a:blip r:embed="rId2"/>
          <a:stretch/>
        </p:blipFill>
        <p:spPr>
          <a:xfrm flipH="1" rot="20731200">
            <a:off x="9333720" y="242712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3" descr=""/>
          <p:cNvPicPr/>
          <p:nvPr/>
        </p:nvPicPr>
        <p:blipFill>
          <a:blip r:embed="rId3"/>
          <a:stretch/>
        </p:blipFill>
        <p:spPr>
          <a:xfrm>
            <a:off x="2212920" y="2452680"/>
            <a:ext cx="951120" cy="93348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8" descr=""/>
          <p:cNvPicPr/>
          <p:nvPr/>
        </p:nvPicPr>
        <p:blipFill>
          <a:blip r:embed="rId4"/>
          <a:stretch/>
        </p:blipFill>
        <p:spPr>
          <a:xfrm>
            <a:off x="4859280" y="-30240"/>
            <a:ext cx="1836720" cy="223704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9" descr=""/>
          <p:cNvPicPr/>
          <p:nvPr/>
        </p:nvPicPr>
        <p:blipFill>
          <a:blip r:embed="rId5"/>
          <a:stretch/>
        </p:blipFill>
        <p:spPr>
          <a:xfrm>
            <a:off x="5068800" y="4519440"/>
            <a:ext cx="2060640" cy="232596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2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429D-FE3E-4B0C-9D35-C370E129AB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5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944B-69D5-403D-B082-AF0084D165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262-DC83-4170-8D36-73ADB1064DD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4F8-3920-4F0B-8102-C1688FC8EA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B4BA-5B19-4B1E-8EFD-1F93CD71F3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654-2F1A-4F14-9EE0-E0E48B32E8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图片 9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0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1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3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58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FF3E-5A5E-4C2E-A15F-7D17C55E4EF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59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0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3183-9A10-4E79-AF75-217523F71E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8" descr=""/>
          <p:cNvPicPr/>
          <p:nvPr/>
        </p:nvPicPr>
        <p:blipFill>
          <a:blip r:embed="rId3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9" descr=""/>
          <p:cNvPicPr/>
          <p:nvPr/>
        </p:nvPicPr>
        <p:blipFill>
          <a:blip r:embed="rId4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352B-4760-4F7A-A025-1689048704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58FD-DFB8-413A-AE7D-8DC16D3F64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F443-CA50-4C1F-AD34-0FA62013BB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7100-14C8-4E61-ACDE-49545E732C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018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0122-9E1B-4829-AC31-F2D3568944D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7EE6-75B0-4496-A708-F8C8ABE8288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1D37-254C-4B15-BEE8-2DF6B0DB28A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FD9D-6224-44A5-AD86-69C96D85CC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7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866C-3DA9-4F2A-9E9C-DC7DAFA0FC9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7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7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9C5F-EF7A-49FC-83B6-75BD75BDFA6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图片 5" descr=""/>
          <p:cNvPicPr/>
          <p:nvPr/>
        </p:nvPicPr>
        <p:blipFill>
          <a:blip r:embed="rId2"/>
          <a:stretch/>
        </p:blipFill>
        <p:spPr>
          <a:xfrm>
            <a:off x="2868480" y="3490920"/>
            <a:ext cx="2543400" cy="3108240"/>
          </a:xfrm>
          <a:prstGeom prst="rect">
            <a:avLst/>
          </a:prstGeom>
          <a:ln w="0">
            <a:noFill/>
          </a:ln>
        </p:spPr>
      </p:pic>
      <p:pic>
        <p:nvPicPr>
          <p:cNvPr id="1158" name="图片 6" descr=""/>
          <p:cNvPicPr/>
          <p:nvPr/>
        </p:nvPicPr>
        <p:blipFill>
          <a:blip r:embed="rId3"/>
          <a:stretch/>
        </p:blipFill>
        <p:spPr>
          <a:xfrm>
            <a:off x="6480" y="1612800"/>
            <a:ext cx="3257280" cy="5243760"/>
          </a:xfrm>
          <a:prstGeom prst="rect">
            <a:avLst/>
          </a:prstGeom>
          <a:ln w="0">
            <a:noFill/>
          </a:ln>
        </p:spPr>
      </p:pic>
      <p:pic>
        <p:nvPicPr>
          <p:cNvPr id="1159" name="图片 6" descr=""/>
          <p:cNvPicPr/>
          <p:nvPr/>
        </p:nvPicPr>
        <p:blipFill>
          <a:blip r:embed="rId4"/>
          <a:stretch/>
        </p:blipFill>
        <p:spPr>
          <a:xfrm rot="17330400">
            <a:off x="3570480" y="5589000"/>
            <a:ext cx="568440" cy="542880"/>
          </a:xfrm>
          <a:prstGeom prst="rect">
            <a:avLst/>
          </a:prstGeom>
          <a:ln w="0">
            <a:noFill/>
          </a:ln>
        </p:spPr>
      </p:pic>
      <p:pic>
        <p:nvPicPr>
          <p:cNvPr id="1160" name="图片 5" descr=""/>
          <p:cNvPicPr/>
          <p:nvPr/>
        </p:nvPicPr>
        <p:blipFill>
          <a:blip r:embed="rId5"/>
          <a:stretch/>
        </p:blipFill>
        <p:spPr>
          <a:xfrm rot="20422800">
            <a:off x="1217160" y="5847840"/>
            <a:ext cx="563760" cy="536760"/>
          </a:xfrm>
          <a:prstGeom prst="rect">
            <a:avLst/>
          </a:prstGeom>
          <a:ln w="0">
            <a:noFill/>
          </a:ln>
        </p:spPr>
      </p:pic>
      <p:pic>
        <p:nvPicPr>
          <p:cNvPr id="1161" name="图片 9" descr=""/>
          <p:cNvPicPr/>
          <p:nvPr/>
        </p:nvPicPr>
        <p:blipFill>
          <a:blip r:embed="rId6"/>
          <a:stretch/>
        </p:blipFill>
        <p:spPr>
          <a:xfrm>
            <a:off x="4964040" y="4621320"/>
            <a:ext cx="1830600" cy="2236680"/>
          </a:xfrm>
          <a:prstGeom prst="rect">
            <a:avLst/>
          </a:prstGeom>
          <a:ln w="0">
            <a:noFill/>
          </a:ln>
        </p:spPr>
      </p:pic>
      <p:pic>
        <p:nvPicPr>
          <p:cNvPr id="1162" name="图片 10" descr=""/>
          <p:cNvPicPr/>
          <p:nvPr/>
        </p:nvPicPr>
        <p:blipFill>
          <a:blip r:embed="rId7"/>
          <a:stretch/>
        </p:blipFill>
        <p:spPr>
          <a:xfrm>
            <a:off x="3616200" y="369720"/>
            <a:ext cx="2659320" cy="3116520"/>
          </a:xfrm>
          <a:prstGeom prst="rect">
            <a:avLst/>
          </a:prstGeom>
          <a:ln w="0">
            <a:noFill/>
          </a:ln>
        </p:spPr>
      </p:pic>
      <p:pic>
        <p:nvPicPr>
          <p:cNvPr id="1163" name="图片 3" descr=""/>
          <p:cNvPicPr/>
          <p:nvPr/>
        </p:nvPicPr>
        <p:blipFill>
          <a:blip r:embed="rId8"/>
          <a:stretch/>
        </p:blipFill>
        <p:spPr>
          <a:xfrm flipH="1" rot="20731200">
            <a:off x="10271880" y="110808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1164" name="图片 4" descr=""/>
          <p:cNvPicPr/>
          <p:nvPr/>
        </p:nvPicPr>
        <p:blipFill>
          <a:blip r:embed="rId9"/>
          <a:stretch/>
        </p:blipFill>
        <p:spPr>
          <a:xfrm>
            <a:off x="8472600" y="5543640"/>
            <a:ext cx="558720" cy="533160"/>
          </a:xfrm>
          <a:prstGeom prst="rect">
            <a:avLst/>
          </a:prstGeom>
          <a:ln w="0">
            <a:noFill/>
          </a:ln>
        </p:spPr>
      </p:pic>
      <p:pic>
        <p:nvPicPr>
          <p:cNvPr id="1165" name="图片 3" descr=""/>
          <p:cNvPicPr/>
          <p:nvPr/>
        </p:nvPicPr>
        <p:blipFill>
          <a:blip r:embed="rId10"/>
          <a:stretch/>
        </p:blipFill>
        <p:spPr>
          <a:xfrm>
            <a:off x="2421000" y="1197000"/>
            <a:ext cx="950760" cy="933480"/>
          </a:xfrm>
          <a:prstGeom prst="rect">
            <a:avLst/>
          </a:prstGeom>
          <a:ln w="0">
            <a:noFill/>
          </a:ln>
        </p:spPr>
      </p:pic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6"/>
          </p:nvPr>
        </p:nvSpPr>
        <p:spPr>
          <a:xfrm>
            <a:off x="723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51E6-65E2-49F3-98F9-4BFA5BE622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B93D-D52A-4DFD-BC67-528753AAA4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11"/>
    <p:sldLayoutId id="2147483975" r:id="rId12"/>
    <p:sldLayoutId id="2147483976" r:id="rId13"/>
    <p:sldLayoutId id="2147483977" r:id="rId14"/>
    <p:sldLayoutId id="2147483978" r:id="rId15"/>
    <p:sldLayoutId id="2147483979" r:id="rId16"/>
    <p:sldLayoutId id="2147483980" r:id="rId17"/>
    <p:sldLayoutId id="2147483981" r:id="rId18"/>
    <p:sldLayoutId id="2147483982" r:id="rId19"/>
    <p:sldLayoutId id="2147483983" r:id="rId20"/>
    <p:sldLayoutId id="2147483984" r:id="rId21"/>
    <p:sldLayoutId id="2147483985" r:id="rId22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7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38D-8440-49DE-9317-B164DFEC95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8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8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00F2-93D7-45F6-BB37-D095DEC084D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图片 5" descr=""/>
          <p:cNvPicPr/>
          <p:nvPr/>
        </p:nvPicPr>
        <p:blipFill>
          <a:blip r:embed="rId2"/>
          <a:stretch/>
        </p:blipFill>
        <p:spPr>
          <a:xfrm rot="19920000">
            <a:off x="1331640" y="5760720"/>
            <a:ext cx="709560" cy="676080"/>
          </a:xfrm>
          <a:prstGeom prst="rect">
            <a:avLst/>
          </a:prstGeom>
          <a:ln w="0">
            <a:noFill/>
          </a:ln>
        </p:spPr>
      </p:pic>
      <p:pic>
        <p:nvPicPr>
          <p:cNvPr id="1252" name="图片 6" descr=""/>
          <p:cNvPicPr/>
          <p:nvPr/>
        </p:nvPicPr>
        <p:blipFill>
          <a:blip r:embed="rId3"/>
          <a:stretch/>
        </p:blipFill>
        <p:spPr>
          <a:xfrm rot="17330400">
            <a:off x="3751200" y="5588640"/>
            <a:ext cx="568440" cy="543240"/>
          </a:xfrm>
          <a:prstGeom prst="rect">
            <a:avLst/>
          </a:prstGeom>
          <a:ln w="0">
            <a:noFill/>
          </a:ln>
        </p:spPr>
      </p:pic>
      <p:pic>
        <p:nvPicPr>
          <p:cNvPr id="1253" name="图片 4" descr=""/>
          <p:cNvPicPr/>
          <p:nvPr/>
        </p:nvPicPr>
        <p:blipFill>
          <a:blip r:embed="rId4"/>
          <a:stretch/>
        </p:blipFill>
        <p:spPr>
          <a:xfrm>
            <a:off x="609480" y="693720"/>
            <a:ext cx="560520" cy="534960"/>
          </a:xfrm>
          <a:prstGeom prst="rect">
            <a:avLst/>
          </a:prstGeom>
          <a:ln w="0">
            <a:noFill/>
          </a:ln>
        </p:spPr>
      </p:pic>
      <p:pic>
        <p:nvPicPr>
          <p:cNvPr id="1254" name="图片 3" descr=""/>
          <p:cNvPicPr/>
          <p:nvPr/>
        </p:nvPicPr>
        <p:blipFill>
          <a:blip r:embed="rId5"/>
          <a:stretch/>
        </p:blipFill>
        <p:spPr>
          <a:xfrm>
            <a:off x="2606760" y="1195560"/>
            <a:ext cx="950760" cy="933120"/>
          </a:xfrm>
          <a:prstGeom prst="rect">
            <a:avLst/>
          </a:prstGeom>
          <a:ln w="0">
            <a:noFill/>
          </a:ln>
        </p:spPr>
      </p:pic>
      <p:pic>
        <p:nvPicPr>
          <p:cNvPr id="1255" name="图片 2" descr=""/>
          <p:cNvPicPr/>
          <p:nvPr/>
        </p:nvPicPr>
        <p:blipFill>
          <a:blip r:embed="rId6"/>
          <a:stretch/>
        </p:blipFill>
        <p:spPr>
          <a:xfrm>
            <a:off x="5986440" y="1724040"/>
            <a:ext cx="5950080" cy="4987800"/>
          </a:xfrm>
          <a:prstGeom prst="rect">
            <a:avLst/>
          </a:prstGeom>
          <a:ln w="0">
            <a:noFill/>
          </a:ln>
        </p:spPr>
      </p:pic>
      <p:pic>
        <p:nvPicPr>
          <p:cNvPr id="1256" name="图片 1" descr=""/>
          <p:cNvPicPr/>
          <p:nvPr/>
        </p:nvPicPr>
        <p:blipFill>
          <a:blip r:embed="rId7"/>
          <a:stretch/>
        </p:blipFill>
        <p:spPr>
          <a:xfrm>
            <a:off x="10969560" y="1963800"/>
            <a:ext cx="1013040" cy="1003320"/>
          </a:xfrm>
          <a:prstGeom prst="rect">
            <a:avLst/>
          </a:prstGeom>
          <a:ln w="0">
            <a:noFill/>
          </a:ln>
        </p:spPr>
      </p:pic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82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547-8E3F-4079-B6DA-DA126B8462C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8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8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4C9B-0DA5-4567-8DFB-8F8D502775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8"/>
    <p:sldLayoutId id="2147484001" r:id="rId9"/>
    <p:sldLayoutId id="2147484002" r:id="rId10"/>
    <p:sldLayoutId id="2147484003" r:id="rId11"/>
    <p:sldLayoutId id="2147484004" r:id="rId12"/>
    <p:sldLayoutId id="2147484005" r:id="rId13"/>
    <p:sldLayoutId id="2147484006" r:id="rId14"/>
    <p:sldLayoutId id="2147484007" r:id="rId15"/>
    <p:sldLayoutId id="2147484008" r:id="rId16"/>
    <p:sldLayoutId id="2147484009" r:id="rId17"/>
    <p:sldLayoutId id="2147484010" r:id="rId18"/>
    <p:sldLayoutId id="2147484011" r:id="rId19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300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301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302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303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8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5456-5629-4F3B-A8C9-C40D1CF2628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8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8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C509-9AA1-49F5-A627-35CC0D3A72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CEC1-8D93-47C7-8D55-80EC94034E6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E90C-2339-4A01-BCD7-1D6E89BA78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6" name="图片 7" descr=""/>
          <p:cNvPicPr/>
          <p:nvPr/>
        </p:nvPicPr>
        <p:blipFill>
          <a:blip r:embed="rId2"/>
          <a:stretch/>
        </p:blipFill>
        <p:spPr>
          <a:xfrm flipH="1" rot="20731200">
            <a:off x="9333720" y="242712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3" descr=""/>
          <p:cNvPicPr/>
          <p:nvPr/>
        </p:nvPicPr>
        <p:blipFill>
          <a:blip r:embed="rId3"/>
          <a:stretch/>
        </p:blipFill>
        <p:spPr>
          <a:xfrm>
            <a:off x="2212920" y="2452680"/>
            <a:ext cx="951120" cy="93348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8" descr=""/>
          <p:cNvPicPr/>
          <p:nvPr/>
        </p:nvPicPr>
        <p:blipFill>
          <a:blip r:embed="rId4"/>
          <a:stretch/>
        </p:blipFill>
        <p:spPr>
          <a:xfrm>
            <a:off x="4859280" y="-30240"/>
            <a:ext cx="1836720" cy="223704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9" descr=""/>
          <p:cNvPicPr/>
          <p:nvPr/>
        </p:nvPicPr>
        <p:blipFill>
          <a:blip r:embed="rId5"/>
          <a:stretch/>
        </p:blipFill>
        <p:spPr>
          <a:xfrm>
            <a:off x="5068800" y="4519440"/>
            <a:ext cx="2060640" cy="2325960"/>
          </a:xfrm>
          <a:prstGeom prst="rect">
            <a:avLst/>
          </a:prstGeom>
          <a:ln w="0">
            <a:noFill/>
          </a:ln>
        </p:spPr>
      </p:pic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88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402B-59BF-414E-B2B3-D8AF573956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89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90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2398-AC4A-4E7E-870D-3C12BFCFEA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2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ABFE-7E28-430E-9952-C0D034EFDD8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BF07-5006-4F8E-9BF9-B3C5348CFF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9" name="图片 9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440" name="图片 10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11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442" name="图片 12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13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73AD-6B54-420C-A4B0-26E22FA5AD5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8A45-7840-4330-AB99-9C239A5961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7"/>
    <p:sldLayoutId id="2147484053" r:id="rId8"/>
    <p:sldLayoutId id="2147484054" r:id="rId9"/>
    <p:sldLayoutId id="2147484055" r:id="rId10"/>
    <p:sldLayoutId id="2147484056" r:id="rId11"/>
    <p:sldLayoutId id="2147484057" r:id="rId12"/>
    <p:sldLayoutId id="2147484058" r:id="rId13"/>
    <p:sldLayoutId id="2147484059" r:id="rId14"/>
    <p:sldLayoutId id="2147484060" r:id="rId15"/>
    <p:sldLayoutId id="2147484061" r:id="rId16"/>
    <p:sldLayoutId id="2147484062" r:id="rId17"/>
    <p:sldLayoutId id="2147484063" r:id="rId18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487" name="图片 8" descr=""/>
          <p:cNvPicPr/>
          <p:nvPr/>
        </p:nvPicPr>
        <p:blipFill>
          <a:blip r:embed="rId3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9" descr=""/>
          <p:cNvPicPr/>
          <p:nvPr/>
        </p:nvPicPr>
        <p:blipFill>
          <a:blip r:embed="rId4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 type="dt" idx="9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D49-3E7B-42A3-AF19-AC2C8109E77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 type="ftr" idx="9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 type="sldNum" idx="9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E3D6-B1F3-4885-9FE8-F036C669D3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532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533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534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535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E54C-C07A-4136-A179-8CE40467255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B755-83CC-48B8-AA2F-CFD7EF7CDE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7"/>
    <p:sldLayoutId id="2147484079" r:id="rId8"/>
    <p:sldLayoutId id="2147484080" r:id="rId9"/>
    <p:sldLayoutId id="2147484081" r:id="rId10"/>
    <p:sldLayoutId id="2147484082" r:id="rId11"/>
    <p:sldLayoutId id="2147484083" r:id="rId12"/>
    <p:sldLayoutId id="2147484084" r:id="rId13"/>
    <p:sldLayoutId id="2147484085" r:id="rId14"/>
    <p:sldLayoutId id="2147484086" r:id="rId15"/>
    <p:sldLayoutId id="2147484087" r:id="rId16"/>
    <p:sldLayoutId id="2147484088" r:id="rId17"/>
    <p:sldLayoutId id="2147484089" r:id="rId18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8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582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10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1A3D-303B-4E8B-A8DB-C7D81321E25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10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10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6BD-5F5B-458E-B3AD-3E89D20EEB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7"/>
    <p:sldLayoutId id="2147484092" r:id="rId8"/>
    <p:sldLayoutId id="2147484093" r:id="rId9"/>
    <p:sldLayoutId id="2147484094" r:id="rId10"/>
    <p:sldLayoutId id="2147484095" r:id="rId11"/>
    <p:sldLayoutId id="2147484096" r:id="rId12"/>
    <p:sldLayoutId id="2147484097" r:id="rId13"/>
    <p:sldLayoutId id="2147484098" r:id="rId14"/>
    <p:sldLayoutId id="2147484099" r:id="rId15"/>
    <p:sldLayoutId id="2147484100" r:id="rId16"/>
    <p:sldLayoutId id="2147484101" r:id="rId17"/>
    <p:sldLayoutId id="2147484102" r:id="rId18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626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627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628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629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10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26D1-C1B5-44AF-A6C3-28FC3CECCC2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10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10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39A2-BBB2-4A54-9C1C-D75D4C593B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7"/>
    <p:sldLayoutId id="2147484105" r:id="rId8"/>
    <p:sldLayoutId id="2147484106" r:id="rId9"/>
    <p:sldLayoutId id="2147484107" r:id="rId10"/>
    <p:sldLayoutId id="2147484108" r:id="rId11"/>
    <p:sldLayoutId id="2147484109" r:id="rId12"/>
    <p:sldLayoutId id="2147484110" r:id="rId13"/>
    <p:sldLayoutId id="2147484111" r:id="rId14"/>
    <p:sldLayoutId id="2147484112" r:id="rId15"/>
    <p:sldLayoutId id="2147484113" r:id="rId16"/>
    <p:sldLayoutId id="2147484114" r:id="rId17"/>
    <p:sldLayoutId id="2147484115" r:id="rId18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673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674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675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676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172E-AC08-4DF0-B8A9-8C4A206847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3F68-3D06-4314-AB71-90CB9930C6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7"/>
    <p:sldLayoutId id="2147484118" r:id="rId8"/>
    <p:sldLayoutId id="2147484119" r:id="rId9"/>
    <p:sldLayoutId id="2147484120" r:id="rId10"/>
    <p:sldLayoutId id="2147484121" r:id="rId11"/>
    <p:sldLayoutId id="2147484122" r:id="rId12"/>
    <p:sldLayoutId id="2147484123" r:id="rId13"/>
    <p:sldLayoutId id="2147484124" r:id="rId14"/>
    <p:sldLayoutId id="2147484125" r:id="rId15"/>
    <p:sldLayoutId id="2147484126" r:id="rId16"/>
    <p:sldLayoutId id="2147484127" r:id="rId17"/>
    <p:sldLayoutId id="2147484128" r:id="rId18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9" name="图片 5" descr=""/>
          <p:cNvPicPr/>
          <p:nvPr/>
        </p:nvPicPr>
        <p:blipFill>
          <a:blip r:embed="rId2"/>
          <a:stretch/>
        </p:blipFill>
        <p:spPr>
          <a:xfrm>
            <a:off x="2868480" y="3490920"/>
            <a:ext cx="2543400" cy="3108240"/>
          </a:xfrm>
          <a:prstGeom prst="rect">
            <a:avLst/>
          </a:prstGeom>
          <a:ln w="0">
            <a:noFill/>
          </a:ln>
        </p:spPr>
      </p:pic>
      <p:pic>
        <p:nvPicPr>
          <p:cNvPr id="1720" name="图片 6" descr=""/>
          <p:cNvPicPr/>
          <p:nvPr/>
        </p:nvPicPr>
        <p:blipFill>
          <a:blip r:embed="rId3"/>
          <a:stretch/>
        </p:blipFill>
        <p:spPr>
          <a:xfrm>
            <a:off x="6480" y="1612800"/>
            <a:ext cx="3257280" cy="5243760"/>
          </a:xfrm>
          <a:prstGeom prst="rect">
            <a:avLst/>
          </a:prstGeom>
          <a:ln w="0">
            <a:noFill/>
          </a:ln>
        </p:spPr>
      </p:pic>
      <p:pic>
        <p:nvPicPr>
          <p:cNvPr id="1721" name="图片 6" descr=""/>
          <p:cNvPicPr/>
          <p:nvPr/>
        </p:nvPicPr>
        <p:blipFill>
          <a:blip r:embed="rId4"/>
          <a:stretch/>
        </p:blipFill>
        <p:spPr>
          <a:xfrm rot="17330400">
            <a:off x="3570480" y="5589000"/>
            <a:ext cx="568440" cy="542880"/>
          </a:xfrm>
          <a:prstGeom prst="rect">
            <a:avLst/>
          </a:prstGeom>
          <a:ln w="0">
            <a:noFill/>
          </a:ln>
        </p:spPr>
      </p:pic>
      <p:pic>
        <p:nvPicPr>
          <p:cNvPr id="1722" name="图片 5" descr=""/>
          <p:cNvPicPr/>
          <p:nvPr/>
        </p:nvPicPr>
        <p:blipFill>
          <a:blip r:embed="rId5"/>
          <a:stretch/>
        </p:blipFill>
        <p:spPr>
          <a:xfrm rot="20422800">
            <a:off x="1217160" y="5847840"/>
            <a:ext cx="563760" cy="536760"/>
          </a:xfrm>
          <a:prstGeom prst="rect">
            <a:avLst/>
          </a:prstGeom>
          <a:ln w="0">
            <a:noFill/>
          </a:ln>
        </p:spPr>
      </p:pic>
      <p:pic>
        <p:nvPicPr>
          <p:cNvPr id="1723" name="图片 9" descr=""/>
          <p:cNvPicPr/>
          <p:nvPr/>
        </p:nvPicPr>
        <p:blipFill>
          <a:blip r:embed="rId6"/>
          <a:stretch/>
        </p:blipFill>
        <p:spPr>
          <a:xfrm>
            <a:off x="4964040" y="4621320"/>
            <a:ext cx="1830600" cy="2236680"/>
          </a:xfrm>
          <a:prstGeom prst="rect">
            <a:avLst/>
          </a:prstGeom>
          <a:ln w="0">
            <a:noFill/>
          </a:ln>
        </p:spPr>
      </p:pic>
      <p:pic>
        <p:nvPicPr>
          <p:cNvPr id="1724" name="图片 10" descr=""/>
          <p:cNvPicPr/>
          <p:nvPr/>
        </p:nvPicPr>
        <p:blipFill>
          <a:blip r:embed="rId7"/>
          <a:stretch/>
        </p:blipFill>
        <p:spPr>
          <a:xfrm>
            <a:off x="3616200" y="369720"/>
            <a:ext cx="2659320" cy="3116520"/>
          </a:xfrm>
          <a:prstGeom prst="rect">
            <a:avLst/>
          </a:prstGeom>
          <a:ln w="0">
            <a:noFill/>
          </a:ln>
        </p:spPr>
      </p:pic>
      <p:pic>
        <p:nvPicPr>
          <p:cNvPr id="1725" name="图片 3" descr=""/>
          <p:cNvPicPr/>
          <p:nvPr/>
        </p:nvPicPr>
        <p:blipFill>
          <a:blip r:embed="rId8"/>
          <a:stretch/>
        </p:blipFill>
        <p:spPr>
          <a:xfrm flipH="1" rot="20731200">
            <a:off x="10271880" y="110808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1726" name="图片 4" descr=""/>
          <p:cNvPicPr/>
          <p:nvPr/>
        </p:nvPicPr>
        <p:blipFill>
          <a:blip r:embed="rId9"/>
          <a:stretch/>
        </p:blipFill>
        <p:spPr>
          <a:xfrm>
            <a:off x="8472600" y="5543640"/>
            <a:ext cx="558720" cy="533160"/>
          </a:xfrm>
          <a:prstGeom prst="rect">
            <a:avLst/>
          </a:prstGeom>
          <a:ln w="0">
            <a:noFill/>
          </a:ln>
        </p:spPr>
      </p:pic>
      <p:pic>
        <p:nvPicPr>
          <p:cNvPr id="1727" name="图片 3" descr=""/>
          <p:cNvPicPr/>
          <p:nvPr/>
        </p:nvPicPr>
        <p:blipFill>
          <a:blip r:embed="rId10"/>
          <a:stretch/>
        </p:blipFill>
        <p:spPr>
          <a:xfrm>
            <a:off x="2421000" y="1197000"/>
            <a:ext cx="950760" cy="933480"/>
          </a:xfrm>
          <a:prstGeom prst="rect">
            <a:avLst/>
          </a:prstGeom>
          <a:ln w="0">
            <a:noFill/>
          </a:ln>
        </p:spPr>
      </p:pic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 type="dt" idx="112"/>
          </p:nvPr>
        </p:nvSpPr>
        <p:spPr>
          <a:xfrm>
            <a:off x="723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0D4B-F912-40D8-908C-CDD9CC6EF0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 type="ftr" idx="11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 type="sldNum" idx="11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CE2-6C1F-4455-B284-FDD4DFBA11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11"/>
    <p:sldLayoutId id="2147484131" r:id="rId12"/>
    <p:sldLayoutId id="2147484132" r:id="rId13"/>
    <p:sldLayoutId id="2147484133" r:id="rId14"/>
    <p:sldLayoutId id="2147484134" r:id="rId15"/>
    <p:sldLayoutId id="2147484135" r:id="rId16"/>
    <p:sldLayoutId id="2147484136" r:id="rId17"/>
    <p:sldLayoutId id="2147484137" r:id="rId18"/>
    <p:sldLayoutId id="2147484138" r:id="rId19"/>
    <p:sldLayoutId id="2147484139" r:id="rId20"/>
    <p:sldLayoutId id="2147484140" r:id="rId21"/>
    <p:sldLayoutId id="2147484141" r:id="rId22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11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8D4B-B812-4C9A-87D4-5214B954AA4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11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11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CD07-9C77-443B-B002-765AB68F91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5" descr=""/>
          <p:cNvPicPr/>
          <p:nvPr/>
        </p:nvPicPr>
        <p:blipFill>
          <a:blip r:embed="rId2"/>
          <a:stretch/>
        </p:blipFill>
        <p:spPr>
          <a:xfrm rot="19920000">
            <a:off x="1331640" y="5760720"/>
            <a:ext cx="709560" cy="6760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 rot="17330400">
            <a:off x="3751200" y="5588640"/>
            <a:ext cx="568440" cy="5432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4" descr=""/>
          <p:cNvPicPr/>
          <p:nvPr/>
        </p:nvPicPr>
        <p:blipFill>
          <a:blip r:embed="rId4"/>
          <a:stretch/>
        </p:blipFill>
        <p:spPr>
          <a:xfrm>
            <a:off x="609480" y="693720"/>
            <a:ext cx="56052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" descr=""/>
          <p:cNvPicPr/>
          <p:nvPr/>
        </p:nvPicPr>
        <p:blipFill>
          <a:blip r:embed="rId5"/>
          <a:stretch/>
        </p:blipFill>
        <p:spPr>
          <a:xfrm>
            <a:off x="2606760" y="1195560"/>
            <a:ext cx="950760" cy="9331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6"/>
          <a:stretch/>
        </p:blipFill>
        <p:spPr>
          <a:xfrm>
            <a:off x="5986440" y="1724040"/>
            <a:ext cx="5950080" cy="49878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" descr=""/>
          <p:cNvPicPr/>
          <p:nvPr/>
        </p:nvPicPr>
        <p:blipFill>
          <a:blip r:embed="rId7"/>
          <a:stretch/>
        </p:blipFill>
        <p:spPr>
          <a:xfrm>
            <a:off x="10969560" y="1963800"/>
            <a:ext cx="1013040" cy="1003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7658-FEA5-49F2-95B9-04118E223E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673-1E11-4E92-8DB7-849FD44662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2228-B875-4FB8-A8EB-AD18933EBC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9CFB-937E-4BBB-98C3-17C0872A11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7" descr=""/>
          <p:cNvPicPr/>
          <p:nvPr/>
        </p:nvPicPr>
        <p:blipFill>
          <a:blip r:embed="rId2"/>
          <a:stretch/>
        </p:blipFill>
        <p:spPr>
          <a:xfrm flipH="1" rot="20731200">
            <a:off x="9333720" y="242712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" descr=""/>
          <p:cNvPicPr/>
          <p:nvPr/>
        </p:nvPicPr>
        <p:blipFill>
          <a:blip r:embed="rId3"/>
          <a:stretch/>
        </p:blipFill>
        <p:spPr>
          <a:xfrm>
            <a:off x="2212920" y="2452680"/>
            <a:ext cx="951120" cy="9334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8" descr=""/>
          <p:cNvPicPr/>
          <p:nvPr/>
        </p:nvPicPr>
        <p:blipFill>
          <a:blip r:embed="rId4"/>
          <a:stretch/>
        </p:blipFill>
        <p:spPr>
          <a:xfrm>
            <a:off x="4859280" y="-30240"/>
            <a:ext cx="1836720" cy="2237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9" descr=""/>
          <p:cNvPicPr/>
          <p:nvPr/>
        </p:nvPicPr>
        <p:blipFill>
          <a:blip r:embed="rId5"/>
          <a:stretch/>
        </p:blipFill>
        <p:spPr>
          <a:xfrm>
            <a:off x="5068800" y="4519440"/>
            <a:ext cx="2060640" cy="23259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021B-4952-4F5E-B1F4-4440B4471B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3BA-D2DD-4B61-8960-6326624CAC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2D42-D08A-4A5F-A5ED-CB2E647810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2818-5807-4913-ACFA-2C1E7BA6E2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片 9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0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1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2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3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0B6E-1741-45EA-8A09-3D9D46C83E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A357-98C3-460F-A0E8-33A7D1AB86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8" descr=""/>
          <p:cNvPicPr/>
          <p:nvPr/>
        </p:nvPicPr>
        <p:blipFill>
          <a:blip r:embed="rId3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9" descr=""/>
          <p:cNvPicPr/>
          <p:nvPr/>
        </p:nvPicPr>
        <p:blipFill>
          <a:blip r:embed="rId4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7E72-5891-455D-BD3A-1605686686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E3F-B577-4804-88F5-35FCB15B4E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134800" y="1700280"/>
            <a:ext cx="74898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9bd4"/>
                </a:solidFill>
                <a:latin typeface="Arial"/>
                <a:ea typeface="汉仪旗黑-85S"/>
              </a:rPr>
              <a:t>           </a:t>
            </a:r>
            <a:r>
              <a:rPr b="1" lang="zh-CN" sz="6000" spc="-1" strike="noStrike">
                <a:solidFill>
                  <a:srgbClr val="8e10d4"/>
                </a:solidFill>
                <a:latin typeface="Arial Black"/>
                <a:ea typeface="汉仪旗黑-85S"/>
              </a:rPr>
              <a:t>项目七 </a:t>
            </a:r>
            <a:br>
              <a:rPr sz="6000"/>
            </a:br>
            <a:r>
              <a:rPr b="1" lang="zh-CN" sz="6000" spc="-1" strike="noStrike">
                <a:solidFill>
                  <a:srgbClr val="8e10d4"/>
                </a:solidFill>
                <a:latin typeface="Arial Black"/>
                <a:ea typeface="汉仪旗黑-85S"/>
              </a:rPr>
              <a:t>存货与仓储循环审计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-height*((1.5-1.5*$)^3-(1.5-1.5*$)^2)" tm="0">
                                          <p:val>
                                            <p:fltVal val="0"/>
                                          </p:val>
                                        </p:tav>
                                        <p:tav fmla="x-height*((1.5-1.5*$)^3-(1.5-1.5*$)^2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fmla="#ppt_r+180*((1.5-1.5*$)^3-(1.5-1.5*$)^2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r+180*((1.5-1.5*$)^3-(1.5-1.5*$)^2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271520" y="1484280"/>
            <a:ext cx="964872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5400" spc="-1" strike="noStrike">
                <a:solidFill>
                  <a:srgbClr val="8e10d4"/>
                </a:solidFill>
                <a:latin typeface="Arial Black"/>
                <a:ea typeface="汉仪旗黑-85S"/>
              </a:rPr>
              <a:t>任务一 </a:t>
            </a:r>
            <a:br>
              <a:rPr sz="5400"/>
            </a:br>
            <a:r>
              <a:rPr b="1" lang="zh-CN" sz="5400" spc="-1" strike="noStrike">
                <a:solidFill>
                  <a:srgbClr val="8e10d4"/>
                </a:solidFill>
                <a:latin typeface="Arial Black"/>
                <a:ea typeface="汉仪旗黑-85S"/>
              </a:rPr>
              <a:t>存货与仓储循环控制测试</a:t>
            </a:r>
            <a:br>
              <a:rPr sz="4000"/>
            </a:br>
            <a:br>
              <a:rPr sz="4000"/>
            </a:br>
            <a:endParaRPr b="1" lang="en-US" sz="5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圆角矩形 37"/>
          <p:cNvSpPr/>
          <p:nvPr/>
        </p:nvSpPr>
        <p:spPr>
          <a:xfrm>
            <a:off x="774720" y="2206800"/>
            <a:ext cx="10785600" cy="3522600"/>
          </a:xfrm>
          <a:prstGeom prst="roundRect">
            <a:avLst>
              <a:gd name="adj" fmla="val 0"/>
            </a:avLst>
          </a:prstGeom>
          <a:solidFill>
            <a:srgbClr val="e2f3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itle 6"/>
          <p:cNvSpPr/>
          <p:nvPr/>
        </p:nvSpPr>
        <p:spPr>
          <a:xfrm>
            <a:off x="909720" y="2349360"/>
            <a:ext cx="6049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存货与仓储循环涉及被审计单位供、产、销各个环节，主要内容是存货的管 理及生产成本的计算等。存货与仓储循环审计主要由存货审计、应付职工薪酬审 计、主营业务成本审计和相关账户审计组成。应付职工薪酬审计、主营业务成本审计三项任务 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组合 28"/>
          <p:cNvGrpSpPr/>
          <p:nvPr/>
        </p:nvGrpSpPr>
        <p:grpSpPr>
          <a:xfrm>
            <a:off x="915840" y="549360"/>
            <a:ext cx="10359720" cy="0"/>
            <a:chOff x="915840" y="549360"/>
            <a:chExt cx="10359720" cy="0"/>
          </a:xfrm>
        </p:grpSpPr>
        <p:sp>
          <p:nvSpPr>
            <p:cNvPr id="1900" name="直接连接符 52"/>
            <p:cNvSpPr/>
            <p:nvPr/>
          </p:nvSpPr>
          <p:spPr>
            <a:xfrm>
              <a:off x="91584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直接连接符 64"/>
            <p:cNvSpPr/>
            <p:nvPr/>
          </p:nvSpPr>
          <p:spPr>
            <a:xfrm>
              <a:off x="929592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2" name="图片 1" descr="&amp;pky8424501714&amp;"/>
          <p:cNvPicPr/>
          <p:nvPr/>
        </p:nvPicPr>
        <p:blipFill>
          <a:blip r:embed="rId1"/>
          <a:srcRect l="4047" t="12043" r="5789" b="7699"/>
          <a:stretch/>
        </p:blipFill>
        <p:spPr>
          <a:xfrm>
            <a:off x="7443720" y="2190600"/>
            <a:ext cx="4068720" cy="3522960"/>
          </a:xfrm>
          <a:prstGeom prst="rect">
            <a:avLst/>
          </a:prstGeom>
          <a:ln w="0">
            <a:noFill/>
          </a:ln>
        </p:spPr>
      </p:pic>
      <p:pic>
        <p:nvPicPr>
          <p:cNvPr id="1903" name="文本框 31" descr=""/>
          <p:cNvPicPr/>
          <p:nvPr/>
        </p:nvPicPr>
        <p:blipFill>
          <a:blip r:embed="rId2"/>
          <a:stretch/>
        </p:blipFill>
        <p:spPr>
          <a:xfrm>
            <a:off x="2487600" y="177840"/>
            <a:ext cx="7561440" cy="652320"/>
          </a:xfrm>
          <a:prstGeom prst="rect">
            <a:avLst/>
          </a:prstGeom>
          <a:ln w="0">
            <a:noFill/>
          </a:ln>
        </p:spPr>
      </p:pic>
      <p:sp>
        <p:nvSpPr>
          <p:cNvPr id="1904" name="文本框 10"/>
          <p:cNvSpPr/>
          <p:nvPr/>
        </p:nvSpPr>
        <p:spPr>
          <a:xfrm>
            <a:off x="4583160" y="1181160"/>
            <a:ext cx="29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组合 28"/>
          <p:cNvGrpSpPr/>
          <p:nvPr/>
        </p:nvGrpSpPr>
        <p:grpSpPr>
          <a:xfrm>
            <a:off x="915840" y="549360"/>
            <a:ext cx="10359720" cy="0"/>
            <a:chOff x="915840" y="549360"/>
            <a:chExt cx="10359720" cy="0"/>
          </a:xfrm>
        </p:grpSpPr>
        <p:sp>
          <p:nvSpPr>
            <p:cNvPr id="1906" name="直接连接符 52"/>
            <p:cNvSpPr/>
            <p:nvPr/>
          </p:nvSpPr>
          <p:spPr>
            <a:xfrm>
              <a:off x="91584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直接连接符 64"/>
            <p:cNvSpPr/>
            <p:nvPr/>
          </p:nvSpPr>
          <p:spPr>
            <a:xfrm>
              <a:off x="929592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Title 6"/>
          <p:cNvSpPr/>
          <p:nvPr/>
        </p:nvSpPr>
        <p:spPr>
          <a:xfrm>
            <a:off x="1847880" y="1111320"/>
            <a:ext cx="102236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一、筹资与投资循环涉及的主要业务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菱形 26"/>
          <p:cNvSpPr/>
          <p:nvPr/>
        </p:nvSpPr>
        <p:spPr>
          <a:xfrm>
            <a:off x="7353360" y="3584520"/>
            <a:ext cx="603360" cy="531720"/>
          </a:xfrm>
          <a:prstGeom prst="diamond">
            <a:avLst/>
          </a:pr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矩形 3"/>
          <p:cNvSpPr/>
          <p:nvPr/>
        </p:nvSpPr>
        <p:spPr>
          <a:xfrm>
            <a:off x="1774800" y="247680"/>
            <a:ext cx="77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e10d4"/>
                </a:solidFill>
                <a:latin typeface="微软雅黑"/>
                <a:ea typeface="微软雅黑"/>
              </a:rPr>
              <a:t>任务一 存货与仓储循环控制测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圆角矩形 37"/>
          <p:cNvSpPr/>
          <p:nvPr/>
        </p:nvSpPr>
        <p:spPr>
          <a:xfrm>
            <a:off x="453960" y="2103480"/>
            <a:ext cx="11219040" cy="4145040"/>
          </a:xfrm>
          <a:prstGeom prst="roundRect">
            <a:avLst>
              <a:gd name="adj" fmla="val 0"/>
            </a:avLst>
          </a:prstGeom>
          <a:solidFill>
            <a:srgbClr val="e2f3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矩形 2"/>
          <p:cNvSpPr/>
          <p:nvPr/>
        </p:nvSpPr>
        <p:spPr>
          <a:xfrm>
            <a:off x="453960" y="2774880"/>
            <a:ext cx="63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册会计师为了准确把握审计风险，提高审计效率，就必须先对存货与仓储 循环所涉及的主要业务活动及对应的凭证、记录进行了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3" name="组合 3"/>
          <p:cNvGrpSpPr/>
          <p:nvPr/>
        </p:nvGrpSpPr>
        <p:grpSpPr>
          <a:xfrm>
            <a:off x="7353360" y="2505240"/>
            <a:ext cx="4082400" cy="3419280"/>
            <a:chOff x="7353360" y="2505240"/>
            <a:chExt cx="4082400" cy="3419280"/>
          </a:xfrm>
        </p:grpSpPr>
        <p:pic>
          <p:nvPicPr>
            <p:cNvPr id="1914" name="图片 21" descr=""/>
            <p:cNvPicPr/>
            <p:nvPr/>
          </p:nvPicPr>
          <p:blipFill>
            <a:blip r:embed="rId1"/>
            <a:stretch/>
          </p:blipFill>
          <p:spPr>
            <a:xfrm>
              <a:off x="8232480" y="2584080"/>
              <a:ext cx="2998800" cy="332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5" name="Rectangle 3"/>
            <p:cNvSpPr/>
            <p:nvPr/>
          </p:nvSpPr>
          <p:spPr>
            <a:xfrm rot="18900000">
              <a:off x="10179720" y="3686760"/>
              <a:ext cx="1008000" cy="1119240"/>
            </a:xfrm>
            <a:prstGeom prst="rect">
              <a:avLst/>
            </a:prstGeom>
            <a:solidFill>
              <a:srgbClr val="2196f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Diamond 5"/>
            <p:cNvSpPr/>
            <p:nvPr/>
          </p:nvSpPr>
          <p:spPr>
            <a:xfrm>
              <a:off x="10416960" y="3951360"/>
              <a:ext cx="531720" cy="59040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任意多边形: 形状 33"/>
            <p:cNvSpPr/>
            <p:nvPr/>
          </p:nvSpPr>
          <p:spPr>
            <a:xfrm>
              <a:off x="10576440" y="4128480"/>
              <a:ext cx="212760" cy="236160"/>
            </a:xfrm>
            <a:custGeom>
              <a:avLst/>
              <a:gdLst/>
              <a:ahLst/>
              <a:rect l="l" t="t" r="r" b="b"/>
              <a:pathLst>
                <a:path w="384214" h="384636">
                  <a:moveTo>
                    <a:pt x="54571" y="283927"/>
                  </a:moveTo>
                  <a:lnTo>
                    <a:pt x="66591" y="283927"/>
                  </a:lnTo>
                  <a:lnTo>
                    <a:pt x="66591" y="372616"/>
                  </a:lnTo>
                  <a:lnTo>
                    <a:pt x="325991" y="372616"/>
                  </a:lnTo>
                  <a:lnTo>
                    <a:pt x="325991" y="321574"/>
                  </a:lnTo>
                  <a:lnTo>
                    <a:pt x="338011" y="321574"/>
                  </a:lnTo>
                  <a:lnTo>
                    <a:pt x="338011" y="384636"/>
                  </a:lnTo>
                  <a:lnTo>
                    <a:pt x="54571" y="384636"/>
                  </a:lnTo>
                  <a:lnTo>
                    <a:pt x="54571" y="283927"/>
                  </a:lnTo>
                  <a:close/>
                  <a:moveTo>
                    <a:pt x="206048" y="221148"/>
                  </a:moveTo>
                  <a:cubicBezTo>
                    <a:pt x="209212" y="220144"/>
                    <a:pt x="212590" y="221896"/>
                    <a:pt x="213593" y="225060"/>
                  </a:cubicBezTo>
                  <a:cubicBezTo>
                    <a:pt x="214596" y="228224"/>
                    <a:pt x="212845" y="231602"/>
                    <a:pt x="209681" y="232606"/>
                  </a:cubicBezTo>
                  <a:lnTo>
                    <a:pt x="203107" y="234743"/>
                  </a:lnTo>
                  <a:cubicBezTo>
                    <a:pt x="202680" y="235130"/>
                    <a:pt x="202197" y="235451"/>
                    <a:pt x="201676" y="235696"/>
                  </a:cubicBezTo>
                  <a:lnTo>
                    <a:pt x="186404" y="241956"/>
                  </a:lnTo>
                  <a:cubicBezTo>
                    <a:pt x="185682" y="242253"/>
                    <a:pt x="184907" y="242407"/>
                    <a:pt x="184126" y="242408"/>
                  </a:cubicBezTo>
                  <a:cubicBezTo>
                    <a:pt x="181689" y="242406"/>
                    <a:pt x="179495" y="240933"/>
                    <a:pt x="178570" y="238678"/>
                  </a:cubicBezTo>
                  <a:cubicBezTo>
                    <a:pt x="177309" y="235606"/>
                    <a:pt x="178777" y="232093"/>
                    <a:pt x="181849" y="230833"/>
                  </a:cubicBezTo>
                  <a:lnTo>
                    <a:pt x="197086" y="224588"/>
                  </a:lnTo>
                  <a:cubicBezTo>
                    <a:pt x="197699" y="224042"/>
                    <a:pt x="198418" y="223629"/>
                    <a:pt x="199198" y="223373"/>
                  </a:cubicBezTo>
                  <a:lnTo>
                    <a:pt x="205972" y="221172"/>
                  </a:lnTo>
                  <a:cubicBezTo>
                    <a:pt x="205997" y="221164"/>
                    <a:pt x="206022" y="221156"/>
                    <a:pt x="206048" y="221148"/>
                  </a:cubicBezTo>
                  <a:close/>
                  <a:moveTo>
                    <a:pt x="279082" y="198325"/>
                  </a:moveTo>
                  <a:cubicBezTo>
                    <a:pt x="269129" y="198336"/>
                    <a:pt x="261063" y="206402"/>
                    <a:pt x="261052" y="216355"/>
                  </a:cubicBezTo>
                  <a:cubicBezTo>
                    <a:pt x="261052" y="226312"/>
                    <a:pt x="269124" y="234384"/>
                    <a:pt x="279082" y="234384"/>
                  </a:cubicBezTo>
                  <a:cubicBezTo>
                    <a:pt x="289039" y="234384"/>
                    <a:pt x="297111" y="226312"/>
                    <a:pt x="297111" y="216355"/>
                  </a:cubicBezTo>
                  <a:cubicBezTo>
                    <a:pt x="297111" y="206397"/>
                    <a:pt x="289039" y="198325"/>
                    <a:pt x="279082" y="198325"/>
                  </a:cubicBezTo>
                  <a:close/>
                  <a:moveTo>
                    <a:pt x="279082" y="186305"/>
                  </a:moveTo>
                  <a:cubicBezTo>
                    <a:pt x="295678" y="186305"/>
                    <a:pt x="309131" y="199759"/>
                    <a:pt x="309131" y="216355"/>
                  </a:cubicBezTo>
                  <a:cubicBezTo>
                    <a:pt x="309131" y="232951"/>
                    <a:pt x="295678" y="246404"/>
                    <a:pt x="279082" y="246404"/>
                  </a:cubicBezTo>
                  <a:cubicBezTo>
                    <a:pt x="262494" y="246385"/>
                    <a:pt x="249052" y="232942"/>
                    <a:pt x="249032" y="216355"/>
                  </a:cubicBezTo>
                  <a:cubicBezTo>
                    <a:pt x="249032" y="199759"/>
                    <a:pt x="262486" y="186305"/>
                    <a:pt x="279082" y="186305"/>
                  </a:cubicBezTo>
                  <a:close/>
                  <a:moveTo>
                    <a:pt x="105041" y="165197"/>
                  </a:moveTo>
                  <a:cubicBezTo>
                    <a:pt x="95083" y="165197"/>
                    <a:pt x="87011" y="173269"/>
                    <a:pt x="87011" y="183227"/>
                  </a:cubicBezTo>
                  <a:cubicBezTo>
                    <a:pt x="87011" y="193184"/>
                    <a:pt x="95083" y="201256"/>
                    <a:pt x="105041" y="201256"/>
                  </a:cubicBezTo>
                  <a:cubicBezTo>
                    <a:pt x="114994" y="201245"/>
                    <a:pt x="123059" y="193180"/>
                    <a:pt x="123070" y="183227"/>
                  </a:cubicBezTo>
                  <a:cubicBezTo>
                    <a:pt x="123070" y="173269"/>
                    <a:pt x="114998" y="165197"/>
                    <a:pt x="105041" y="165197"/>
                  </a:cubicBezTo>
                  <a:close/>
                  <a:moveTo>
                    <a:pt x="194726" y="156149"/>
                  </a:moveTo>
                  <a:cubicBezTo>
                    <a:pt x="197545" y="154395"/>
                    <a:pt x="201251" y="155259"/>
                    <a:pt x="203005" y="158077"/>
                  </a:cubicBezTo>
                  <a:cubicBezTo>
                    <a:pt x="204758" y="160895"/>
                    <a:pt x="203895" y="164602"/>
                    <a:pt x="201077" y="166355"/>
                  </a:cubicBezTo>
                  <a:lnTo>
                    <a:pt x="186316" y="175532"/>
                  </a:lnTo>
                  <a:cubicBezTo>
                    <a:pt x="185904" y="175787"/>
                    <a:pt x="185462" y="175992"/>
                    <a:pt x="185001" y="176142"/>
                  </a:cubicBezTo>
                  <a:lnTo>
                    <a:pt x="182859" y="176840"/>
                  </a:lnTo>
                  <a:cubicBezTo>
                    <a:pt x="183070" y="179082"/>
                    <a:pt x="183170" y="181178"/>
                    <a:pt x="183170" y="183238"/>
                  </a:cubicBezTo>
                  <a:cubicBezTo>
                    <a:pt x="183170" y="185271"/>
                    <a:pt x="183070" y="187340"/>
                    <a:pt x="182871" y="189547"/>
                  </a:cubicBezTo>
                  <a:lnTo>
                    <a:pt x="185019" y="190245"/>
                  </a:lnTo>
                  <a:cubicBezTo>
                    <a:pt x="185425" y="190377"/>
                    <a:pt x="185817" y="190551"/>
                    <a:pt x="186187" y="190765"/>
                  </a:cubicBezTo>
                  <a:lnTo>
                    <a:pt x="203172" y="200636"/>
                  </a:lnTo>
                  <a:cubicBezTo>
                    <a:pt x="206042" y="202306"/>
                    <a:pt x="207016" y="205986"/>
                    <a:pt x="205346" y="208856"/>
                  </a:cubicBezTo>
                  <a:cubicBezTo>
                    <a:pt x="203677" y="211726"/>
                    <a:pt x="199997" y="212700"/>
                    <a:pt x="197127" y="211031"/>
                  </a:cubicBezTo>
                  <a:lnTo>
                    <a:pt x="180699" y="201482"/>
                  </a:lnTo>
                  <a:lnTo>
                    <a:pt x="174454" y="199454"/>
                  </a:lnTo>
                  <a:cubicBezTo>
                    <a:pt x="171664" y="198550"/>
                    <a:pt x="169935" y="195764"/>
                    <a:pt x="170363" y="192863"/>
                  </a:cubicBezTo>
                  <a:cubicBezTo>
                    <a:pt x="171416" y="186462"/>
                    <a:pt x="171411" y="179932"/>
                    <a:pt x="170351" y="173533"/>
                  </a:cubicBezTo>
                  <a:cubicBezTo>
                    <a:pt x="169922" y="170634"/>
                    <a:pt x="171649" y="167848"/>
                    <a:pt x="174436" y="166942"/>
                  </a:cubicBezTo>
                  <a:lnTo>
                    <a:pt x="180588" y="164938"/>
                  </a:lnTo>
                  <a:lnTo>
                    <a:pt x="194726" y="156149"/>
                  </a:lnTo>
                  <a:close/>
                  <a:moveTo>
                    <a:pt x="105041" y="153177"/>
                  </a:moveTo>
                  <a:cubicBezTo>
                    <a:pt x="121628" y="153197"/>
                    <a:pt x="135071" y="166639"/>
                    <a:pt x="135090" y="183227"/>
                  </a:cubicBezTo>
                  <a:cubicBezTo>
                    <a:pt x="135090" y="199823"/>
                    <a:pt x="121637" y="213276"/>
                    <a:pt x="105041" y="213276"/>
                  </a:cubicBezTo>
                  <a:cubicBezTo>
                    <a:pt x="88445" y="213276"/>
                    <a:pt x="74991" y="199823"/>
                    <a:pt x="74991" y="183227"/>
                  </a:cubicBezTo>
                  <a:cubicBezTo>
                    <a:pt x="74991" y="166631"/>
                    <a:pt x="88445" y="153177"/>
                    <a:pt x="105041" y="153177"/>
                  </a:cubicBezTo>
                  <a:close/>
                  <a:moveTo>
                    <a:pt x="273125" y="108132"/>
                  </a:moveTo>
                  <a:lnTo>
                    <a:pt x="285145" y="108132"/>
                  </a:lnTo>
                  <a:cubicBezTo>
                    <a:pt x="287903" y="108131"/>
                    <a:pt x="290307" y="110010"/>
                    <a:pt x="290973" y="112686"/>
                  </a:cubicBezTo>
                  <a:lnTo>
                    <a:pt x="296977" y="136717"/>
                  </a:lnTo>
                  <a:cubicBezTo>
                    <a:pt x="297099" y="137193"/>
                    <a:pt x="297160" y="137682"/>
                    <a:pt x="297159" y="138173"/>
                  </a:cubicBezTo>
                  <a:lnTo>
                    <a:pt x="297159" y="140427"/>
                  </a:lnTo>
                  <a:cubicBezTo>
                    <a:pt x="301265" y="141400"/>
                    <a:pt x="305285" y="142706"/>
                    <a:pt x="309179" y="144333"/>
                  </a:cubicBezTo>
                  <a:lnTo>
                    <a:pt x="310505" y="142507"/>
                  </a:lnTo>
                  <a:cubicBezTo>
                    <a:pt x="310793" y="142111"/>
                    <a:pt x="311128" y="141751"/>
                    <a:pt x="311503" y="141436"/>
                  </a:cubicBezTo>
                  <a:lnTo>
                    <a:pt x="330484" y="125525"/>
                  </a:lnTo>
                  <a:cubicBezTo>
                    <a:pt x="332599" y="123756"/>
                    <a:pt x="335645" y="123650"/>
                    <a:pt x="337879" y="125267"/>
                  </a:cubicBezTo>
                  <a:lnTo>
                    <a:pt x="347604" y="132333"/>
                  </a:lnTo>
                  <a:cubicBezTo>
                    <a:pt x="349839" y="133959"/>
                    <a:pt x="350679" y="136899"/>
                    <a:pt x="349640" y="139461"/>
                  </a:cubicBezTo>
                  <a:lnTo>
                    <a:pt x="340314" y="162391"/>
                  </a:lnTo>
                  <a:cubicBezTo>
                    <a:pt x="340130" y="162838"/>
                    <a:pt x="339894" y="163262"/>
                    <a:pt x="339610" y="163653"/>
                  </a:cubicBezTo>
                  <a:lnTo>
                    <a:pt x="338307" y="165455"/>
                  </a:lnTo>
                  <a:cubicBezTo>
                    <a:pt x="341076" y="168676"/>
                    <a:pt x="343576" y="172118"/>
                    <a:pt x="345784" y="175747"/>
                  </a:cubicBezTo>
                  <a:lnTo>
                    <a:pt x="347921" y="175051"/>
                  </a:lnTo>
                  <a:cubicBezTo>
                    <a:pt x="348386" y="174898"/>
                    <a:pt x="348869" y="174805"/>
                    <a:pt x="349358" y="174772"/>
                  </a:cubicBezTo>
                  <a:lnTo>
                    <a:pt x="374073" y="173058"/>
                  </a:lnTo>
                  <a:cubicBezTo>
                    <a:pt x="376822" y="172882"/>
                    <a:pt x="379343" y="174584"/>
                    <a:pt x="380206" y="177199"/>
                  </a:cubicBezTo>
                  <a:lnTo>
                    <a:pt x="383915" y="188632"/>
                  </a:lnTo>
                  <a:cubicBezTo>
                    <a:pt x="384769" y="191260"/>
                    <a:pt x="383720" y="194131"/>
                    <a:pt x="381374" y="195590"/>
                  </a:cubicBezTo>
                  <a:lnTo>
                    <a:pt x="360357" y="208660"/>
                  </a:lnTo>
                  <a:cubicBezTo>
                    <a:pt x="359946" y="208918"/>
                    <a:pt x="359504" y="209124"/>
                    <a:pt x="359042" y="209274"/>
                  </a:cubicBezTo>
                  <a:lnTo>
                    <a:pt x="356900" y="209966"/>
                  </a:lnTo>
                  <a:cubicBezTo>
                    <a:pt x="357111" y="212208"/>
                    <a:pt x="357211" y="214306"/>
                    <a:pt x="357211" y="216363"/>
                  </a:cubicBezTo>
                  <a:cubicBezTo>
                    <a:pt x="357211" y="218397"/>
                    <a:pt x="357111" y="220469"/>
                    <a:pt x="356912" y="222676"/>
                  </a:cubicBezTo>
                  <a:lnTo>
                    <a:pt x="359060" y="223374"/>
                  </a:lnTo>
                  <a:cubicBezTo>
                    <a:pt x="359528" y="223526"/>
                    <a:pt x="359975" y="223735"/>
                    <a:pt x="360392" y="223996"/>
                  </a:cubicBezTo>
                  <a:lnTo>
                    <a:pt x="381392" y="237134"/>
                  </a:lnTo>
                  <a:cubicBezTo>
                    <a:pt x="383729" y="238597"/>
                    <a:pt x="384772" y="241463"/>
                    <a:pt x="383921" y="244086"/>
                  </a:cubicBezTo>
                  <a:lnTo>
                    <a:pt x="380206" y="255519"/>
                  </a:lnTo>
                  <a:cubicBezTo>
                    <a:pt x="379345" y="258144"/>
                    <a:pt x="376811" y="259848"/>
                    <a:pt x="374055" y="259657"/>
                  </a:cubicBezTo>
                  <a:lnTo>
                    <a:pt x="349364" y="257872"/>
                  </a:lnTo>
                  <a:cubicBezTo>
                    <a:pt x="348881" y="257837"/>
                    <a:pt x="348404" y="257743"/>
                    <a:pt x="347944" y="257594"/>
                  </a:cubicBezTo>
                  <a:lnTo>
                    <a:pt x="345825" y="256907"/>
                  </a:lnTo>
                  <a:cubicBezTo>
                    <a:pt x="343619" y="260538"/>
                    <a:pt x="341122" y="263983"/>
                    <a:pt x="338359" y="267210"/>
                  </a:cubicBezTo>
                  <a:lnTo>
                    <a:pt x="339674" y="269021"/>
                  </a:lnTo>
                  <a:cubicBezTo>
                    <a:pt x="339961" y="269419"/>
                    <a:pt x="340199" y="269849"/>
                    <a:pt x="340384" y="270303"/>
                  </a:cubicBezTo>
                  <a:lnTo>
                    <a:pt x="349651" y="293275"/>
                  </a:lnTo>
                  <a:cubicBezTo>
                    <a:pt x="350679" y="295833"/>
                    <a:pt x="349838" y="298762"/>
                    <a:pt x="347609" y="300385"/>
                  </a:cubicBezTo>
                  <a:lnTo>
                    <a:pt x="337885" y="307451"/>
                  </a:lnTo>
                  <a:cubicBezTo>
                    <a:pt x="335647" y="309073"/>
                    <a:pt x="332593" y="308963"/>
                    <a:pt x="330478" y="307184"/>
                  </a:cubicBezTo>
                  <a:lnTo>
                    <a:pt x="311550" y="291229"/>
                  </a:lnTo>
                  <a:cubicBezTo>
                    <a:pt x="311180" y="290917"/>
                    <a:pt x="310849" y="290561"/>
                    <a:pt x="310564" y="290170"/>
                  </a:cubicBezTo>
                  <a:lnTo>
                    <a:pt x="309255" y="288368"/>
                  </a:lnTo>
                  <a:cubicBezTo>
                    <a:pt x="305338" y="290009"/>
                    <a:pt x="301292" y="291325"/>
                    <a:pt x="297159" y="292303"/>
                  </a:cubicBezTo>
                  <a:lnTo>
                    <a:pt x="297159" y="294548"/>
                  </a:lnTo>
                  <a:cubicBezTo>
                    <a:pt x="297160" y="295039"/>
                    <a:pt x="297099" y="295528"/>
                    <a:pt x="296977" y="296004"/>
                  </a:cubicBezTo>
                  <a:lnTo>
                    <a:pt x="290973" y="320035"/>
                  </a:lnTo>
                  <a:cubicBezTo>
                    <a:pt x="290308" y="322711"/>
                    <a:pt x="287904" y="324590"/>
                    <a:pt x="285145" y="324589"/>
                  </a:cubicBezTo>
                  <a:lnTo>
                    <a:pt x="273125" y="324589"/>
                  </a:lnTo>
                  <a:cubicBezTo>
                    <a:pt x="270362" y="324588"/>
                    <a:pt x="267955" y="322703"/>
                    <a:pt x="267292" y="320020"/>
                  </a:cubicBezTo>
                  <a:lnTo>
                    <a:pt x="261358" y="295989"/>
                  </a:lnTo>
                  <a:cubicBezTo>
                    <a:pt x="261241" y="295520"/>
                    <a:pt x="261182" y="295038"/>
                    <a:pt x="261182" y="294554"/>
                  </a:cubicBezTo>
                  <a:lnTo>
                    <a:pt x="261182" y="292338"/>
                  </a:lnTo>
                  <a:cubicBezTo>
                    <a:pt x="257042" y="291368"/>
                    <a:pt x="252988" y="290059"/>
                    <a:pt x="249062" y="288424"/>
                  </a:cubicBezTo>
                  <a:lnTo>
                    <a:pt x="247765" y="290208"/>
                  </a:lnTo>
                  <a:cubicBezTo>
                    <a:pt x="247476" y="290607"/>
                    <a:pt x="247139" y="290970"/>
                    <a:pt x="246762" y="291288"/>
                  </a:cubicBezTo>
                  <a:lnTo>
                    <a:pt x="227769" y="307196"/>
                  </a:lnTo>
                  <a:cubicBezTo>
                    <a:pt x="225656" y="308970"/>
                    <a:pt x="222605" y="309075"/>
                    <a:pt x="220374" y="307451"/>
                  </a:cubicBezTo>
                  <a:lnTo>
                    <a:pt x="210649" y="300385"/>
                  </a:lnTo>
                  <a:cubicBezTo>
                    <a:pt x="208420" y="298762"/>
                    <a:pt x="207579" y="295833"/>
                    <a:pt x="208607" y="293275"/>
                  </a:cubicBezTo>
                  <a:lnTo>
                    <a:pt x="217874" y="270303"/>
                  </a:lnTo>
                  <a:cubicBezTo>
                    <a:pt x="218058" y="269847"/>
                    <a:pt x="218299" y="269415"/>
                    <a:pt x="218590" y="269018"/>
                  </a:cubicBezTo>
                  <a:lnTo>
                    <a:pt x="219864" y="267266"/>
                  </a:lnTo>
                  <a:cubicBezTo>
                    <a:pt x="217102" y="264052"/>
                    <a:pt x="214605" y="260619"/>
                    <a:pt x="212398" y="257001"/>
                  </a:cubicBezTo>
                  <a:lnTo>
                    <a:pt x="210344" y="257670"/>
                  </a:lnTo>
                  <a:cubicBezTo>
                    <a:pt x="209855" y="257828"/>
                    <a:pt x="209348" y="257923"/>
                    <a:pt x="208836" y="257955"/>
                  </a:cubicBezTo>
                  <a:lnTo>
                    <a:pt x="187983" y="259172"/>
                  </a:lnTo>
                  <a:cubicBezTo>
                    <a:pt x="184668" y="259367"/>
                    <a:pt x="181824" y="256838"/>
                    <a:pt x="181630" y="253524"/>
                  </a:cubicBezTo>
                  <a:cubicBezTo>
                    <a:pt x="181435" y="250209"/>
                    <a:pt x="183964" y="247365"/>
                    <a:pt x="187278" y="247170"/>
                  </a:cubicBezTo>
                  <a:lnTo>
                    <a:pt x="207362" y="245999"/>
                  </a:lnTo>
                  <a:lnTo>
                    <a:pt x="213343" y="244051"/>
                  </a:lnTo>
                  <a:cubicBezTo>
                    <a:pt x="216131" y="243142"/>
                    <a:pt x="219167" y="244379"/>
                    <a:pt x="220527" y="246977"/>
                  </a:cubicBezTo>
                  <a:cubicBezTo>
                    <a:pt x="223532" y="252719"/>
                    <a:pt x="227364" y="257989"/>
                    <a:pt x="231901" y="262618"/>
                  </a:cubicBezTo>
                  <a:cubicBezTo>
                    <a:pt x="233955" y="264713"/>
                    <a:pt x="234196" y="267986"/>
                    <a:pt x="232470" y="270359"/>
                  </a:cubicBezTo>
                  <a:lnTo>
                    <a:pt x="228743" y="275485"/>
                  </a:lnTo>
                  <a:lnTo>
                    <a:pt x="221513" y="293418"/>
                  </a:lnTo>
                  <a:lnTo>
                    <a:pt x="223643" y="294968"/>
                  </a:lnTo>
                  <a:lnTo>
                    <a:pt x="238468" y="282552"/>
                  </a:lnTo>
                  <a:lnTo>
                    <a:pt x="242213" y="277390"/>
                  </a:lnTo>
                  <a:cubicBezTo>
                    <a:pt x="243935" y="275011"/>
                    <a:pt x="247125" y="274226"/>
                    <a:pt x="249754" y="275535"/>
                  </a:cubicBezTo>
                  <a:cubicBezTo>
                    <a:pt x="255565" y="278419"/>
                    <a:pt x="261772" y="280426"/>
                    <a:pt x="268171" y="281489"/>
                  </a:cubicBezTo>
                  <a:cubicBezTo>
                    <a:pt x="271069" y="281969"/>
                    <a:pt x="273194" y="284474"/>
                    <a:pt x="273195" y="287411"/>
                  </a:cubicBezTo>
                  <a:lnTo>
                    <a:pt x="273201" y="293814"/>
                  </a:lnTo>
                  <a:lnTo>
                    <a:pt x="277832" y="312569"/>
                  </a:lnTo>
                  <a:lnTo>
                    <a:pt x="280450" y="312569"/>
                  </a:lnTo>
                  <a:lnTo>
                    <a:pt x="285139" y="293809"/>
                  </a:lnTo>
                  <a:lnTo>
                    <a:pt x="285139" y="287391"/>
                  </a:lnTo>
                  <a:cubicBezTo>
                    <a:pt x="285140" y="284457"/>
                    <a:pt x="287258" y="281952"/>
                    <a:pt x="290151" y="281463"/>
                  </a:cubicBezTo>
                  <a:cubicBezTo>
                    <a:pt x="296542" y="280391"/>
                    <a:pt x="302737" y="278375"/>
                    <a:pt x="308533" y="275480"/>
                  </a:cubicBezTo>
                  <a:cubicBezTo>
                    <a:pt x="311160" y="274162"/>
                    <a:pt x="314355" y="274941"/>
                    <a:pt x="316081" y="277319"/>
                  </a:cubicBezTo>
                  <a:lnTo>
                    <a:pt x="319855" y="282508"/>
                  </a:lnTo>
                  <a:lnTo>
                    <a:pt x="334627" y="294959"/>
                  </a:lnTo>
                  <a:lnTo>
                    <a:pt x="336746" y="293418"/>
                  </a:lnTo>
                  <a:lnTo>
                    <a:pt x="329509" y="275485"/>
                  </a:lnTo>
                  <a:lnTo>
                    <a:pt x="325747" y="270303"/>
                  </a:lnTo>
                  <a:cubicBezTo>
                    <a:pt x="324028" y="267931"/>
                    <a:pt x="324268" y="264665"/>
                    <a:pt x="326316" y="262571"/>
                  </a:cubicBezTo>
                  <a:cubicBezTo>
                    <a:pt x="330851" y="257930"/>
                    <a:pt x="334680" y="252648"/>
                    <a:pt x="337679" y="246894"/>
                  </a:cubicBezTo>
                  <a:cubicBezTo>
                    <a:pt x="339038" y="244296"/>
                    <a:pt x="342073" y="243056"/>
                    <a:pt x="344863" y="243960"/>
                  </a:cubicBezTo>
                  <a:lnTo>
                    <a:pt x="350961" y="245934"/>
                  </a:lnTo>
                  <a:lnTo>
                    <a:pt x="370229" y="247328"/>
                  </a:lnTo>
                  <a:lnTo>
                    <a:pt x="371039" y="244834"/>
                  </a:lnTo>
                  <a:lnTo>
                    <a:pt x="354647" y="234578"/>
                  </a:lnTo>
                  <a:lnTo>
                    <a:pt x="348496" y="232580"/>
                  </a:lnTo>
                  <a:cubicBezTo>
                    <a:pt x="345707" y="231674"/>
                    <a:pt x="343979" y="228889"/>
                    <a:pt x="344405" y="225989"/>
                  </a:cubicBezTo>
                  <a:cubicBezTo>
                    <a:pt x="345458" y="219588"/>
                    <a:pt x="345453" y="213058"/>
                    <a:pt x="344393" y="206659"/>
                  </a:cubicBezTo>
                  <a:cubicBezTo>
                    <a:pt x="343964" y="203759"/>
                    <a:pt x="345690" y="200972"/>
                    <a:pt x="348478" y="200065"/>
                  </a:cubicBezTo>
                  <a:lnTo>
                    <a:pt x="354629" y="198067"/>
                  </a:lnTo>
                  <a:lnTo>
                    <a:pt x="371033" y="187866"/>
                  </a:lnTo>
                  <a:lnTo>
                    <a:pt x="370223" y="185375"/>
                  </a:lnTo>
                  <a:lnTo>
                    <a:pt x="350931" y="186713"/>
                  </a:lnTo>
                  <a:lnTo>
                    <a:pt x="344827" y="188694"/>
                  </a:lnTo>
                  <a:cubicBezTo>
                    <a:pt x="342040" y="189601"/>
                    <a:pt x="339006" y="188363"/>
                    <a:pt x="337649" y="185765"/>
                  </a:cubicBezTo>
                  <a:cubicBezTo>
                    <a:pt x="334643" y="180016"/>
                    <a:pt x="330809" y="174740"/>
                    <a:pt x="326269" y="170106"/>
                  </a:cubicBezTo>
                  <a:cubicBezTo>
                    <a:pt x="324216" y="168013"/>
                    <a:pt x="323973" y="164744"/>
                    <a:pt x="325694" y="162371"/>
                  </a:cubicBezTo>
                  <a:lnTo>
                    <a:pt x="329450" y="157188"/>
                  </a:lnTo>
                  <a:lnTo>
                    <a:pt x="336728" y="139291"/>
                  </a:lnTo>
                  <a:lnTo>
                    <a:pt x="334609" y="137750"/>
                  </a:lnTo>
                  <a:lnTo>
                    <a:pt x="319790" y="150172"/>
                  </a:lnTo>
                  <a:lnTo>
                    <a:pt x="316010" y="155372"/>
                  </a:lnTo>
                  <a:cubicBezTo>
                    <a:pt x="314285" y="157743"/>
                    <a:pt x="311101" y="158524"/>
                    <a:pt x="308474" y="157221"/>
                  </a:cubicBezTo>
                  <a:cubicBezTo>
                    <a:pt x="302691" y="154344"/>
                    <a:pt x="296515" y="152336"/>
                    <a:pt x="290145" y="151261"/>
                  </a:cubicBezTo>
                  <a:cubicBezTo>
                    <a:pt x="287255" y="150771"/>
                    <a:pt x="285139" y="148268"/>
                    <a:pt x="285139" y="145336"/>
                  </a:cubicBezTo>
                  <a:lnTo>
                    <a:pt x="285139" y="138912"/>
                  </a:lnTo>
                  <a:lnTo>
                    <a:pt x="280449" y="120152"/>
                  </a:lnTo>
                  <a:lnTo>
                    <a:pt x="277814" y="120152"/>
                  </a:lnTo>
                  <a:lnTo>
                    <a:pt x="273119" y="138912"/>
                  </a:lnTo>
                  <a:lnTo>
                    <a:pt x="273125" y="145318"/>
                  </a:lnTo>
                  <a:cubicBezTo>
                    <a:pt x="273128" y="148257"/>
                    <a:pt x="271005" y="150767"/>
                    <a:pt x="268107" y="151252"/>
                  </a:cubicBezTo>
                  <a:cubicBezTo>
                    <a:pt x="261732" y="152317"/>
                    <a:pt x="255549" y="154318"/>
                    <a:pt x="249760" y="157191"/>
                  </a:cubicBezTo>
                  <a:cubicBezTo>
                    <a:pt x="247131" y="158506"/>
                    <a:pt x="243938" y="157720"/>
                    <a:pt x="242218" y="155337"/>
                  </a:cubicBezTo>
                  <a:lnTo>
                    <a:pt x="238468" y="150169"/>
                  </a:lnTo>
                  <a:lnTo>
                    <a:pt x="223649" y="137750"/>
                  </a:lnTo>
                  <a:lnTo>
                    <a:pt x="221518" y="139300"/>
                  </a:lnTo>
                  <a:lnTo>
                    <a:pt x="228749" y="157238"/>
                  </a:lnTo>
                  <a:lnTo>
                    <a:pt x="232470" y="162365"/>
                  </a:lnTo>
                  <a:cubicBezTo>
                    <a:pt x="234195" y="164738"/>
                    <a:pt x="233955" y="168011"/>
                    <a:pt x="231901" y="170106"/>
                  </a:cubicBezTo>
                  <a:cubicBezTo>
                    <a:pt x="227368" y="174736"/>
                    <a:pt x="223538" y="180005"/>
                    <a:pt x="220532" y="185744"/>
                  </a:cubicBezTo>
                  <a:lnTo>
                    <a:pt x="217304" y="192241"/>
                  </a:lnTo>
                  <a:cubicBezTo>
                    <a:pt x="217298" y="192253"/>
                    <a:pt x="217293" y="192265"/>
                    <a:pt x="217287" y="192277"/>
                  </a:cubicBezTo>
                  <a:cubicBezTo>
                    <a:pt x="215800" y="195244"/>
                    <a:pt x="212190" y="196445"/>
                    <a:pt x="209222" y="194959"/>
                  </a:cubicBezTo>
                  <a:cubicBezTo>
                    <a:pt x="206255" y="193473"/>
                    <a:pt x="205054" y="189862"/>
                    <a:pt x="206540" y="186895"/>
                  </a:cubicBezTo>
                  <a:lnTo>
                    <a:pt x="209827" y="180280"/>
                  </a:lnTo>
                  <a:cubicBezTo>
                    <a:pt x="212599" y="174975"/>
                    <a:pt x="215966" y="170002"/>
                    <a:pt x="219863" y="165458"/>
                  </a:cubicBezTo>
                  <a:lnTo>
                    <a:pt x="218590" y="163706"/>
                  </a:lnTo>
                  <a:cubicBezTo>
                    <a:pt x="218300" y="163308"/>
                    <a:pt x="218059" y="162877"/>
                    <a:pt x="217874" y="162421"/>
                  </a:cubicBezTo>
                  <a:lnTo>
                    <a:pt x="208612" y="139443"/>
                  </a:lnTo>
                  <a:cubicBezTo>
                    <a:pt x="207584" y="136885"/>
                    <a:pt x="208425" y="133955"/>
                    <a:pt x="210655" y="132333"/>
                  </a:cubicBezTo>
                  <a:lnTo>
                    <a:pt x="220380" y="125267"/>
                  </a:lnTo>
                  <a:cubicBezTo>
                    <a:pt x="222611" y="123644"/>
                    <a:pt x="225660" y="123750"/>
                    <a:pt x="227775" y="125522"/>
                  </a:cubicBezTo>
                  <a:lnTo>
                    <a:pt x="246761" y="141433"/>
                  </a:lnTo>
                  <a:cubicBezTo>
                    <a:pt x="247138" y="141751"/>
                    <a:pt x="247475" y="142113"/>
                    <a:pt x="247765" y="142513"/>
                  </a:cubicBezTo>
                  <a:lnTo>
                    <a:pt x="249062" y="144303"/>
                  </a:lnTo>
                  <a:cubicBezTo>
                    <a:pt x="252961" y="142679"/>
                    <a:pt x="256987" y="141377"/>
                    <a:pt x="261099" y="140409"/>
                  </a:cubicBezTo>
                  <a:lnTo>
                    <a:pt x="261099" y="138179"/>
                  </a:lnTo>
                  <a:cubicBezTo>
                    <a:pt x="261098" y="137685"/>
                    <a:pt x="261159" y="137193"/>
                    <a:pt x="261281" y="136714"/>
                  </a:cubicBezTo>
                  <a:lnTo>
                    <a:pt x="267297" y="112683"/>
                  </a:lnTo>
                  <a:cubicBezTo>
                    <a:pt x="267964" y="110008"/>
                    <a:pt x="270368" y="108131"/>
                    <a:pt x="273125" y="108132"/>
                  </a:cubicBezTo>
                  <a:close/>
                  <a:moveTo>
                    <a:pt x="99083" y="75004"/>
                  </a:moveTo>
                  <a:lnTo>
                    <a:pt x="111103" y="75004"/>
                  </a:lnTo>
                  <a:cubicBezTo>
                    <a:pt x="113862" y="75003"/>
                    <a:pt x="116266" y="76881"/>
                    <a:pt x="116931" y="79558"/>
                  </a:cubicBezTo>
                  <a:lnTo>
                    <a:pt x="122935" y="103592"/>
                  </a:lnTo>
                  <a:cubicBezTo>
                    <a:pt x="123057" y="104068"/>
                    <a:pt x="123118" y="104557"/>
                    <a:pt x="123117" y="105048"/>
                  </a:cubicBezTo>
                  <a:lnTo>
                    <a:pt x="123117" y="107301"/>
                  </a:lnTo>
                  <a:cubicBezTo>
                    <a:pt x="127223" y="108274"/>
                    <a:pt x="131243" y="109580"/>
                    <a:pt x="135137" y="111207"/>
                  </a:cubicBezTo>
                  <a:lnTo>
                    <a:pt x="136463" y="109382"/>
                  </a:lnTo>
                  <a:cubicBezTo>
                    <a:pt x="136750" y="108985"/>
                    <a:pt x="137086" y="108625"/>
                    <a:pt x="137461" y="108311"/>
                  </a:cubicBezTo>
                  <a:lnTo>
                    <a:pt x="156441" y="92397"/>
                  </a:lnTo>
                  <a:cubicBezTo>
                    <a:pt x="158558" y="90631"/>
                    <a:pt x="161602" y="90524"/>
                    <a:pt x="163836" y="92138"/>
                  </a:cubicBezTo>
                  <a:lnTo>
                    <a:pt x="173562" y="99205"/>
                  </a:lnTo>
                  <a:cubicBezTo>
                    <a:pt x="175798" y="100831"/>
                    <a:pt x="176638" y="103771"/>
                    <a:pt x="175598" y="106333"/>
                  </a:cubicBezTo>
                  <a:lnTo>
                    <a:pt x="166272" y="129263"/>
                  </a:lnTo>
                  <a:cubicBezTo>
                    <a:pt x="166088" y="129710"/>
                    <a:pt x="165852" y="130134"/>
                    <a:pt x="165568" y="130525"/>
                  </a:cubicBezTo>
                  <a:lnTo>
                    <a:pt x="164265" y="132327"/>
                  </a:lnTo>
                  <a:cubicBezTo>
                    <a:pt x="167034" y="135549"/>
                    <a:pt x="169535" y="138992"/>
                    <a:pt x="171742" y="142621"/>
                  </a:cubicBezTo>
                  <a:lnTo>
                    <a:pt x="173879" y="141926"/>
                  </a:lnTo>
                  <a:cubicBezTo>
                    <a:pt x="174345" y="141776"/>
                    <a:pt x="174828" y="141682"/>
                    <a:pt x="175317" y="141647"/>
                  </a:cubicBezTo>
                  <a:lnTo>
                    <a:pt x="193992" y="140350"/>
                  </a:lnTo>
                  <a:cubicBezTo>
                    <a:pt x="194024" y="140347"/>
                    <a:pt x="194057" y="140345"/>
                    <a:pt x="194089" y="140343"/>
                  </a:cubicBezTo>
                  <a:cubicBezTo>
                    <a:pt x="197402" y="140140"/>
                    <a:pt x="200253" y="142661"/>
                    <a:pt x="200456" y="145974"/>
                  </a:cubicBezTo>
                  <a:cubicBezTo>
                    <a:pt x="200659" y="149287"/>
                    <a:pt x="198138" y="152137"/>
                    <a:pt x="194825" y="152340"/>
                  </a:cubicBezTo>
                  <a:lnTo>
                    <a:pt x="176890" y="153588"/>
                  </a:lnTo>
                  <a:lnTo>
                    <a:pt x="170786" y="155568"/>
                  </a:lnTo>
                  <a:cubicBezTo>
                    <a:pt x="167999" y="156474"/>
                    <a:pt x="164966" y="155236"/>
                    <a:pt x="163608" y="152640"/>
                  </a:cubicBezTo>
                  <a:cubicBezTo>
                    <a:pt x="160601" y="146891"/>
                    <a:pt x="156767" y="141614"/>
                    <a:pt x="152228" y="136978"/>
                  </a:cubicBezTo>
                  <a:cubicBezTo>
                    <a:pt x="150175" y="134885"/>
                    <a:pt x="149932" y="131616"/>
                    <a:pt x="151653" y="129242"/>
                  </a:cubicBezTo>
                  <a:lnTo>
                    <a:pt x="155409" y="124060"/>
                  </a:lnTo>
                  <a:lnTo>
                    <a:pt x="162686" y="106163"/>
                  </a:lnTo>
                  <a:lnTo>
                    <a:pt x="160568" y="104622"/>
                  </a:lnTo>
                  <a:lnTo>
                    <a:pt x="145748" y="117047"/>
                  </a:lnTo>
                  <a:lnTo>
                    <a:pt x="141968" y="122247"/>
                  </a:lnTo>
                  <a:cubicBezTo>
                    <a:pt x="140239" y="124616"/>
                    <a:pt x="137055" y="125396"/>
                    <a:pt x="134427" y="124093"/>
                  </a:cubicBezTo>
                  <a:cubicBezTo>
                    <a:pt x="128646" y="121215"/>
                    <a:pt x="122471" y="119207"/>
                    <a:pt x="116103" y="118135"/>
                  </a:cubicBezTo>
                  <a:cubicBezTo>
                    <a:pt x="113213" y="117646"/>
                    <a:pt x="111098" y="115142"/>
                    <a:pt x="111097" y="112211"/>
                  </a:cubicBezTo>
                  <a:lnTo>
                    <a:pt x="111097" y="105787"/>
                  </a:lnTo>
                  <a:lnTo>
                    <a:pt x="106408" y="87024"/>
                  </a:lnTo>
                  <a:lnTo>
                    <a:pt x="103772" y="87024"/>
                  </a:lnTo>
                  <a:lnTo>
                    <a:pt x="99077" y="105787"/>
                  </a:lnTo>
                  <a:lnTo>
                    <a:pt x="99083" y="112190"/>
                  </a:lnTo>
                  <a:cubicBezTo>
                    <a:pt x="99086" y="115129"/>
                    <a:pt x="96964" y="117639"/>
                    <a:pt x="94065" y="118124"/>
                  </a:cubicBezTo>
                  <a:cubicBezTo>
                    <a:pt x="87688" y="119189"/>
                    <a:pt x="81504" y="121191"/>
                    <a:pt x="75712" y="124066"/>
                  </a:cubicBezTo>
                  <a:cubicBezTo>
                    <a:pt x="73087" y="125372"/>
                    <a:pt x="69902" y="124589"/>
                    <a:pt x="68182" y="122214"/>
                  </a:cubicBezTo>
                  <a:lnTo>
                    <a:pt x="64426" y="117047"/>
                  </a:lnTo>
                  <a:lnTo>
                    <a:pt x="49607" y="104622"/>
                  </a:lnTo>
                  <a:lnTo>
                    <a:pt x="47476" y="106171"/>
                  </a:lnTo>
                  <a:lnTo>
                    <a:pt x="54707" y="124111"/>
                  </a:lnTo>
                  <a:lnTo>
                    <a:pt x="58428" y="129237"/>
                  </a:lnTo>
                  <a:cubicBezTo>
                    <a:pt x="60153" y="131609"/>
                    <a:pt x="59915" y="134879"/>
                    <a:pt x="57865" y="136976"/>
                  </a:cubicBezTo>
                  <a:cubicBezTo>
                    <a:pt x="53330" y="141607"/>
                    <a:pt x="49497" y="146877"/>
                    <a:pt x="46491" y="152620"/>
                  </a:cubicBezTo>
                  <a:cubicBezTo>
                    <a:pt x="45130" y="155213"/>
                    <a:pt x="42098" y="156447"/>
                    <a:pt x="39313" y="155542"/>
                  </a:cubicBezTo>
                  <a:lnTo>
                    <a:pt x="33291" y="153588"/>
                  </a:lnTo>
                  <a:lnTo>
                    <a:pt x="13993" y="152250"/>
                  </a:lnTo>
                  <a:lnTo>
                    <a:pt x="13183" y="154753"/>
                  </a:lnTo>
                  <a:lnTo>
                    <a:pt x="29570" y="165018"/>
                  </a:lnTo>
                  <a:lnTo>
                    <a:pt x="35638" y="166984"/>
                  </a:lnTo>
                  <a:cubicBezTo>
                    <a:pt x="38428" y="167887"/>
                    <a:pt x="40157" y="170672"/>
                    <a:pt x="39729" y="173572"/>
                  </a:cubicBezTo>
                  <a:cubicBezTo>
                    <a:pt x="38673" y="179969"/>
                    <a:pt x="38673" y="186496"/>
                    <a:pt x="39729" y="192893"/>
                  </a:cubicBezTo>
                  <a:cubicBezTo>
                    <a:pt x="40156" y="195793"/>
                    <a:pt x="38427" y="198578"/>
                    <a:pt x="35638" y="199481"/>
                  </a:cubicBezTo>
                  <a:lnTo>
                    <a:pt x="29570" y="201450"/>
                  </a:lnTo>
                  <a:lnTo>
                    <a:pt x="13178" y="211709"/>
                  </a:lnTo>
                  <a:lnTo>
                    <a:pt x="13993" y="214215"/>
                  </a:lnTo>
                  <a:lnTo>
                    <a:pt x="33285" y="212880"/>
                  </a:lnTo>
                  <a:lnTo>
                    <a:pt x="39301" y="210923"/>
                  </a:lnTo>
                  <a:cubicBezTo>
                    <a:pt x="42089" y="210016"/>
                    <a:pt x="45124" y="211252"/>
                    <a:pt x="46485" y="213848"/>
                  </a:cubicBezTo>
                  <a:cubicBezTo>
                    <a:pt x="49489" y="219590"/>
                    <a:pt x="53319" y="224860"/>
                    <a:pt x="57853" y="229489"/>
                  </a:cubicBezTo>
                  <a:cubicBezTo>
                    <a:pt x="59906" y="231584"/>
                    <a:pt x="60149" y="234853"/>
                    <a:pt x="58428" y="237228"/>
                  </a:cubicBezTo>
                  <a:lnTo>
                    <a:pt x="54707" y="242354"/>
                  </a:lnTo>
                  <a:lnTo>
                    <a:pt x="47471" y="260293"/>
                  </a:lnTo>
                  <a:lnTo>
                    <a:pt x="49601" y="261840"/>
                  </a:lnTo>
                  <a:lnTo>
                    <a:pt x="64427" y="249421"/>
                  </a:lnTo>
                  <a:lnTo>
                    <a:pt x="68171" y="244259"/>
                  </a:lnTo>
                  <a:cubicBezTo>
                    <a:pt x="69895" y="241882"/>
                    <a:pt x="73084" y="241099"/>
                    <a:pt x="75712" y="242407"/>
                  </a:cubicBezTo>
                  <a:cubicBezTo>
                    <a:pt x="81522" y="245294"/>
                    <a:pt x="87729" y="247300"/>
                    <a:pt x="94130" y="248361"/>
                  </a:cubicBezTo>
                  <a:cubicBezTo>
                    <a:pt x="97028" y="248843"/>
                    <a:pt x="99154" y="251350"/>
                    <a:pt x="99154" y="254289"/>
                  </a:cubicBezTo>
                  <a:lnTo>
                    <a:pt x="99154" y="260689"/>
                  </a:lnTo>
                  <a:lnTo>
                    <a:pt x="103790" y="279444"/>
                  </a:lnTo>
                  <a:lnTo>
                    <a:pt x="106408" y="279444"/>
                  </a:lnTo>
                  <a:lnTo>
                    <a:pt x="111097" y="260680"/>
                  </a:lnTo>
                  <a:lnTo>
                    <a:pt x="111097" y="254265"/>
                  </a:lnTo>
                  <a:cubicBezTo>
                    <a:pt x="111098" y="251334"/>
                    <a:pt x="113213" y="248830"/>
                    <a:pt x="116103" y="248341"/>
                  </a:cubicBezTo>
                  <a:cubicBezTo>
                    <a:pt x="122495" y="247264"/>
                    <a:pt x="128691" y="245245"/>
                    <a:pt x="134491" y="242351"/>
                  </a:cubicBezTo>
                  <a:cubicBezTo>
                    <a:pt x="137118" y="241034"/>
                    <a:pt x="140313" y="241812"/>
                    <a:pt x="142039" y="244191"/>
                  </a:cubicBezTo>
                  <a:lnTo>
                    <a:pt x="145813" y="249379"/>
                  </a:lnTo>
                  <a:lnTo>
                    <a:pt x="160585" y="261834"/>
                  </a:lnTo>
                  <a:lnTo>
                    <a:pt x="162704" y="260293"/>
                  </a:lnTo>
                  <a:lnTo>
                    <a:pt x="155467" y="242357"/>
                  </a:lnTo>
                  <a:lnTo>
                    <a:pt x="151705" y="237175"/>
                  </a:lnTo>
                  <a:cubicBezTo>
                    <a:pt x="149985" y="234803"/>
                    <a:pt x="150226" y="231537"/>
                    <a:pt x="152274" y="229442"/>
                  </a:cubicBezTo>
                  <a:cubicBezTo>
                    <a:pt x="156808" y="224801"/>
                    <a:pt x="160637" y="219519"/>
                    <a:pt x="163637" y="213766"/>
                  </a:cubicBezTo>
                  <a:cubicBezTo>
                    <a:pt x="165173" y="210823"/>
                    <a:pt x="168805" y="209682"/>
                    <a:pt x="171748" y="211219"/>
                  </a:cubicBezTo>
                  <a:cubicBezTo>
                    <a:pt x="174691" y="212755"/>
                    <a:pt x="175831" y="216387"/>
                    <a:pt x="174295" y="219330"/>
                  </a:cubicBezTo>
                  <a:cubicBezTo>
                    <a:pt x="171538" y="224609"/>
                    <a:pt x="168191" y="229558"/>
                    <a:pt x="164317" y="234082"/>
                  </a:cubicBezTo>
                  <a:lnTo>
                    <a:pt x="165632" y="235892"/>
                  </a:lnTo>
                  <a:cubicBezTo>
                    <a:pt x="165919" y="236290"/>
                    <a:pt x="166157" y="236721"/>
                    <a:pt x="166342" y="237175"/>
                  </a:cubicBezTo>
                  <a:lnTo>
                    <a:pt x="175610" y="260149"/>
                  </a:lnTo>
                  <a:cubicBezTo>
                    <a:pt x="176638" y="262707"/>
                    <a:pt x="175797" y="265637"/>
                    <a:pt x="173567" y="267260"/>
                  </a:cubicBezTo>
                  <a:lnTo>
                    <a:pt x="163842" y="274323"/>
                  </a:lnTo>
                  <a:cubicBezTo>
                    <a:pt x="161605" y="275945"/>
                    <a:pt x="158550" y="275835"/>
                    <a:pt x="156435" y="274056"/>
                  </a:cubicBezTo>
                  <a:lnTo>
                    <a:pt x="137508" y="258101"/>
                  </a:lnTo>
                  <a:cubicBezTo>
                    <a:pt x="137138" y="257788"/>
                    <a:pt x="136807" y="257433"/>
                    <a:pt x="136522" y="257041"/>
                  </a:cubicBezTo>
                  <a:lnTo>
                    <a:pt x="135213" y="255239"/>
                  </a:lnTo>
                  <a:cubicBezTo>
                    <a:pt x="131295" y="256879"/>
                    <a:pt x="127249" y="258195"/>
                    <a:pt x="123117" y="259175"/>
                  </a:cubicBezTo>
                  <a:lnTo>
                    <a:pt x="123117" y="261420"/>
                  </a:lnTo>
                  <a:cubicBezTo>
                    <a:pt x="123118" y="261910"/>
                    <a:pt x="123057" y="262400"/>
                    <a:pt x="122935" y="262875"/>
                  </a:cubicBezTo>
                  <a:lnTo>
                    <a:pt x="116931" y="286909"/>
                  </a:lnTo>
                  <a:cubicBezTo>
                    <a:pt x="116265" y="289586"/>
                    <a:pt x="113861" y="291464"/>
                    <a:pt x="111103" y="291463"/>
                  </a:cubicBezTo>
                  <a:lnTo>
                    <a:pt x="99083" y="291463"/>
                  </a:lnTo>
                  <a:cubicBezTo>
                    <a:pt x="96319" y="291464"/>
                    <a:pt x="93911" y="289578"/>
                    <a:pt x="93249" y="286894"/>
                  </a:cubicBezTo>
                  <a:lnTo>
                    <a:pt x="87310" y="262860"/>
                  </a:lnTo>
                  <a:cubicBezTo>
                    <a:pt x="87192" y="262389"/>
                    <a:pt x="87133" y="261905"/>
                    <a:pt x="87134" y="261420"/>
                  </a:cubicBezTo>
                  <a:lnTo>
                    <a:pt x="87134" y="259213"/>
                  </a:lnTo>
                  <a:cubicBezTo>
                    <a:pt x="82993" y="258242"/>
                    <a:pt x="78940" y="256931"/>
                    <a:pt x="75014" y="255295"/>
                  </a:cubicBezTo>
                  <a:lnTo>
                    <a:pt x="73717" y="257082"/>
                  </a:lnTo>
                  <a:cubicBezTo>
                    <a:pt x="73426" y="257480"/>
                    <a:pt x="73089" y="257841"/>
                    <a:pt x="72713" y="258159"/>
                  </a:cubicBezTo>
                  <a:lnTo>
                    <a:pt x="53727" y="274068"/>
                  </a:lnTo>
                  <a:cubicBezTo>
                    <a:pt x="51612" y="275839"/>
                    <a:pt x="48564" y="275944"/>
                    <a:pt x="46332" y="274323"/>
                  </a:cubicBezTo>
                  <a:lnTo>
                    <a:pt x="36607" y="267260"/>
                  </a:lnTo>
                  <a:cubicBezTo>
                    <a:pt x="34377" y="265637"/>
                    <a:pt x="33536" y="262707"/>
                    <a:pt x="34564" y="260149"/>
                  </a:cubicBezTo>
                  <a:lnTo>
                    <a:pt x="43832" y="237175"/>
                  </a:lnTo>
                  <a:cubicBezTo>
                    <a:pt x="44017" y="236721"/>
                    <a:pt x="44255" y="236290"/>
                    <a:pt x="44542" y="235892"/>
                  </a:cubicBezTo>
                  <a:lnTo>
                    <a:pt x="45815" y="234141"/>
                  </a:lnTo>
                  <a:cubicBezTo>
                    <a:pt x="43053" y="230927"/>
                    <a:pt x="40559" y="227493"/>
                    <a:pt x="38356" y="223873"/>
                  </a:cubicBezTo>
                  <a:lnTo>
                    <a:pt x="36302" y="224542"/>
                  </a:lnTo>
                  <a:cubicBezTo>
                    <a:pt x="35834" y="224692"/>
                    <a:pt x="35349" y="224786"/>
                    <a:pt x="34858" y="224820"/>
                  </a:cubicBezTo>
                  <a:lnTo>
                    <a:pt x="10143" y="226528"/>
                  </a:lnTo>
                  <a:cubicBezTo>
                    <a:pt x="7387" y="226737"/>
                    <a:pt x="4849" y="225024"/>
                    <a:pt x="4010" y="222391"/>
                  </a:cubicBezTo>
                  <a:lnTo>
                    <a:pt x="295" y="210961"/>
                  </a:lnTo>
                  <a:cubicBezTo>
                    <a:pt x="-558" y="208337"/>
                    <a:pt x="485" y="205470"/>
                    <a:pt x="2825" y="204009"/>
                  </a:cubicBezTo>
                  <a:lnTo>
                    <a:pt x="23824" y="190868"/>
                  </a:lnTo>
                  <a:cubicBezTo>
                    <a:pt x="24241" y="190607"/>
                    <a:pt x="24689" y="190398"/>
                    <a:pt x="25157" y="190246"/>
                  </a:cubicBezTo>
                  <a:lnTo>
                    <a:pt x="27222" y="189574"/>
                  </a:lnTo>
                  <a:cubicBezTo>
                    <a:pt x="27017" y="187346"/>
                    <a:pt x="26917" y="185272"/>
                    <a:pt x="26917" y="183238"/>
                  </a:cubicBezTo>
                  <a:cubicBezTo>
                    <a:pt x="26917" y="181202"/>
                    <a:pt x="27017" y="179121"/>
                    <a:pt x="27222" y="176891"/>
                  </a:cubicBezTo>
                  <a:lnTo>
                    <a:pt x="25157" y="176222"/>
                  </a:lnTo>
                  <a:cubicBezTo>
                    <a:pt x="24689" y="176070"/>
                    <a:pt x="24241" y="175861"/>
                    <a:pt x="23824" y="175599"/>
                  </a:cubicBezTo>
                  <a:lnTo>
                    <a:pt x="2831" y="162453"/>
                  </a:lnTo>
                  <a:cubicBezTo>
                    <a:pt x="494" y="160990"/>
                    <a:pt x="-548" y="158126"/>
                    <a:pt x="301" y="155504"/>
                  </a:cubicBezTo>
                  <a:lnTo>
                    <a:pt x="4010" y="144074"/>
                  </a:lnTo>
                  <a:cubicBezTo>
                    <a:pt x="4850" y="141440"/>
                    <a:pt x="7387" y="139727"/>
                    <a:pt x="10143" y="139933"/>
                  </a:cubicBezTo>
                  <a:lnTo>
                    <a:pt x="34858" y="141647"/>
                  </a:lnTo>
                  <a:cubicBezTo>
                    <a:pt x="35347" y="141679"/>
                    <a:pt x="35830" y="141773"/>
                    <a:pt x="36296" y="141926"/>
                  </a:cubicBezTo>
                  <a:lnTo>
                    <a:pt x="38362" y="142595"/>
                  </a:lnTo>
                  <a:cubicBezTo>
                    <a:pt x="40565" y="138976"/>
                    <a:pt x="43060" y="135543"/>
                    <a:pt x="45822" y="132330"/>
                  </a:cubicBezTo>
                  <a:lnTo>
                    <a:pt x="44548" y="130578"/>
                  </a:lnTo>
                  <a:cubicBezTo>
                    <a:pt x="44258" y="130180"/>
                    <a:pt x="44018" y="129749"/>
                    <a:pt x="43832" y="129293"/>
                  </a:cubicBezTo>
                  <a:lnTo>
                    <a:pt x="34571" y="106315"/>
                  </a:lnTo>
                  <a:cubicBezTo>
                    <a:pt x="33542" y="103757"/>
                    <a:pt x="34384" y="100827"/>
                    <a:pt x="36613" y="99205"/>
                  </a:cubicBezTo>
                  <a:lnTo>
                    <a:pt x="46338" y="92138"/>
                  </a:lnTo>
                  <a:cubicBezTo>
                    <a:pt x="48570" y="90518"/>
                    <a:pt x="51619" y="90625"/>
                    <a:pt x="53733" y="92397"/>
                  </a:cubicBezTo>
                  <a:lnTo>
                    <a:pt x="72714" y="108311"/>
                  </a:lnTo>
                  <a:cubicBezTo>
                    <a:pt x="73089" y="108625"/>
                    <a:pt x="73424" y="108985"/>
                    <a:pt x="73711" y="109382"/>
                  </a:cubicBezTo>
                  <a:lnTo>
                    <a:pt x="75020" y="111178"/>
                  </a:lnTo>
                  <a:cubicBezTo>
                    <a:pt x="78919" y="109552"/>
                    <a:pt x="82945" y="108248"/>
                    <a:pt x="87058" y="107281"/>
                  </a:cubicBezTo>
                  <a:lnTo>
                    <a:pt x="87058" y="105053"/>
                  </a:lnTo>
                  <a:cubicBezTo>
                    <a:pt x="87056" y="104560"/>
                    <a:pt x="87117" y="104068"/>
                    <a:pt x="87239" y="103589"/>
                  </a:cubicBezTo>
                  <a:lnTo>
                    <a:pt x="93255" y="79555"/>
                  </a:lnTo>
                  <a:cubicBezTo>
                    <a:pt x="93923" y="76880"/>
                    <a:pt x="96326" y="75003"/>
                    <a:pt x="99083" y="75004"/>
                  </a:cubicBezTo>
                  <a:close/>
                  <a:moveTo>
                    <a:pt x="272678" y="20392"/>
                  </a:moveTo>
                  <a:lnTo>
                    <a:pt x="272678" y="65334"/>
                  </a:lnTo>
                  <a:lnTo>
                    <a:pt x="318174" y="65334"/>
                  </a:lnTo>
                  <a:lnTo>
                    <a:pt x="272678" y="20392"/>
                  </a:lnTo>
                  <a:close/>
                  <a:moveTo>
                    <a:pt x="54572" y="0"/>
                  </a:moveTo>
                  <a:lnTo>
                    <a:pt x="269133" y="0"/>
                  </a:lnTo>
                  <a:lnTo>
                    <a:pt x="270908" y="1753"/>
                  </a:lnTo>
                  <a:lnTo>
                    <a:pt x="270926" y="1771"/>
                  </a:lnTo>
                  <a:lnTo>
                    <a:pt x="338013" y="68035"/>
                  </a:lnTo>
                  <a:lnTo>
                    <a:pt x="338013" y="114122"/>
                  </a:lnTo>
                  <a:lnTo>
                    <a:pt x="325993" y="114122"/>
                  </a:lnTo>
                  <a:lnTo>
                    <a:pt x="325993" y="77355"/>
                  </a:lnTo>
                  <a:lnTo>
                    <a:pt x="266668" y="77355"/>
                  </a:lnTo>
                  <a:cubicBezTo>
                    <a:pt x="266667" y="77355"/>
                    <a:pt x="266666" y="77355"/>
                    <a:pt x="266665" y="77355"/>
                  </a:cubicBezTo>
                  <a:cubicBezTo>
                    <a:pt x="263347" y="77354"/>
                    <a:pt x="260657" y="74664"/>
                    <a:pt x="260658" y="71345"/>
                  </a:cubicBezTo>
                  <a:lnTo>
                    <a:pt x="260658" y="12020"/>
                  </a:lnTo>
                  <a:lnTo>
                    <a:pt x="66592" y="12020"/>
                  </a:lnTo>
                  <a:lnTo>
                    <a:pt x="66592" y="82681"/>
                  </a:lnTo>
                  <a:lnTo>
                    <a:pt x="54572" y="82681"/>
                  </a:lnTo>
                  <a:lnTo>
                    <a:pt x="54572" y="0"/>
                  </a:lnTo>
                  <a:close/>
                </a:path>
              </a:pathLst>
            </a:custGeom>
            <a:solidFill>
              <a:srgbClr val="219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Diamond 2"/>
            <p:cNvSpPr/>
            <p:nvPr/>
          </p:nvSpPr>
          <p:spPr>
            <a:xfrm>
              <a:off x="7432560" y="2774880"/>
              <a:ext cx="1309680" cy="1450800"/>
            </a:xfrm>
            <a:prstGeom prst="diamond">
              <a:avLst/>
            </a:prstGeom>
            <a:noFill/>
            <a:ln w="38160">
              <a:solidFill>
                <a:srgbClr val="219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Diamond 4"/>
            <p:cNvSpPr/>
            <p:nvPr/>
          </p:nvSpPr>
          <p:spPr>
            <a:xfrm>
              <a:off x="8353440" y="2505240"/>
              <a:ext cx="852120" cy="942840"/>
            </a:xfrm>
            <a:prstGeom prst="diamond">
              <a:avLst/>
            </a:prstGeom>
            <a:solidFill>
              <a:srgbClr val="43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Diamond 5"/>
            <p:cNvSpPr/>
            <p:nvPr/>
          </p:nvSpPr>
          <p:spPr>
            <a:xfrm>
              <a:off x="7353360" y="4302360"/>
              <a:ext cx="1463760" cy="1622160"/>
            </a:xfrm>
            <a:prstGeom prst="diamond">
              <a:avLst/>
            </a:prstGeom>
            <a:solidFill>
              <a:srgbClr val="43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Diamond 6"/>
            <p:cNvSpPr/>
            <p:nvPr/>
          </p:nvSpPr>
          <p:spPr>
            <a:xfrm>
              <a:off x="8570880" y="5145120"/>
              <a:ext cx="561600" cy="623880"/>
            </a:xfrm>
            <a:prstGeom prst="diamond">
              <a:avLst/>
            </a:prstGeom>
            <a:noFill/>
            <a:ln w="38160">
              <a:solidFill>
                <a:srgbClr val="219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Title 6"/>
          <p:cNvSpPr/>
          <p:nvPr/>
        </p:nvSpPr>
        <p:spPr>
          <a:xfrm>
            <a:off x="507960" y="1711440"/>
            <a:ext cx="11233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存货与仓储循环的内部控制包括存货的内部控制、成本会计的内部控制和工 薪的内部控制三项内容。其控制测试主要是成本会计制度的控制测试和工薪的控 制测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组合 91"/>
          <p:cNvGrpSpPr/>
          <p:nvPr/>
        </p:nvGrpSpPr>
        <p:grpSpPr>
          <a:xfrm>
            <a:off x="973080" y="549360"/>
            <a:ext cx="10359720" cy="0"/>
            <a:chOff x="973080" y="549360"/>
            <a:chExt cx="10359720" cy="0"/>
          </a:xfrm>
        </p:grpSpPr>
        <p:sp>
          <p:nvSpPr>
            <p:cNvPr id="1924" name="直接连接符 92"/>
            <p:cNvSpPr/>
            <p:nvPr/>
          </p:nvSpPr>
          <p:spPr>
            <a:xfrm>
              <a:off x="97308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直接连接符 93"/>
            <p:cNvSpPr/>
            <p:nvPr/>
          </p:nvSpPr>
          <p:spPr>
            <a:xfrm>
              <a:off x="935316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6" name="组合 5"/>
          <p:cNvGrpSpPr/>
          <p:nvPr/>
        </p:nvGrpSpPr>
        <p:grpSpPr>
          <a:xfrm>
            <a:off x="479520" y="2995560"/>
            <a:ext cx="5256000" cy="2836800"/>
            <a:chOff x="479520" y="2995560"/>
            <a:chExt cx="5256000" cy="2836800"/>
          </a:xfrm>
        </p:grpSpPr>
        <p:sp>
          <p:nvSpPr>
            <p:cNvPr id="1927" name="同侧圆角矩形 4"/>
            <p:cNvSpPr/>
            <p:nvPr/>
          </p:nvSpPr>
          <p:spPr>
            <a:xfrm rot="5400000">
              <a:off x="2670480" y="1726200"/>
              <a:ext cx="776160" cy="3369960"/>
            </a:xfrm>
            <a:custGeom>
              <a:avLst/>
              <a:gdLst/>
              <a:ahLst/>
              <a:rect l="l" t="t" r="r" b="b"/>
              <a:pathLst>
                <a:path w="1169" h="3360">
                  <a:moveTo>
                    <a:pt x="508" y="0"/>
                  </a:moveTo>
                  <a:lnTo>
                    <a:pt x="660" y="0"/>
                  </a:lnTo>
                  <a:cubicBezTo>
                    <a:pt x="941" y="0"/>
                    <a:pt x="1168" y="227"/>
                    <a:pt x="1168" y="508"/>
                  </a:cubicBezTo>
                  <a:lnTo>
                    <a:pt x="1169" y="3360"/>
                  </a:lnTo>
                  <a:lnTo>
                    <a:pt x="1169" y="3360"/>
                  </a:lnTo>
                  <a:lnTo>
                    <a:pt x="0" y="3360"/>
                  </a:lnTo>
                  <a:lnTo>
                    <a:pt x="0" y="3360"/>
                  </a:lnTo>
                  <a:lnTo>
                    <a:pt x="0" y="508"/>
                  </a:lnTo>
                  <a:cubicBezTo>
                    <a:pt x="0" y="227"/>
                    <a:pt x="227" y="0"/>
                    <a:pt x="508" y="0"/>
                  </a:cubicBezTo>
                  <a:close/>
                </a:path>
              </a:pathLst>
            </a:custGeom>
            <a:noFill/>
            <a:ln w="38160">
              <a:solidFill>
                <a:srgbClr val="3ea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椭圆 6"/>
            <p:cNvSpPr/>
            <p:nvPr/>
          </p:nvSpPr>
          <p:spPr>
            <a:xfrm>
              <a:off x="479520" y="2995560"/>
              <a:ext cx="1149480" cy="793440"/>
            </a:xfrm>
            <a:prstGeom prst="ellipse">
              <a:avLst/>
            </a:prstGeom>
            <a:solidFill>
              <a:srgbClr val="5b9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一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矩形 9"/>
            <p:cNvSpPr/>
            <p:nvPr/>
          </p:nvSpPr>
          <p:spPr>
            <a:xfrm>
              <a:off x="2354040" y="3219120"/>
              <a:ext cx="155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文本框 22"/>
            <p:cNvSpPr/>
            <p:nvPr/>
          </p:nvSpPr>
          <p:spPr>
            <a:xfrm flipV="1" rot="10800000">
              <a:off x="1732320" y="3097080"/>
              <a:ext cx="40032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存货的内部控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文本框 24"/>
            <p:cNvSpPr/>
            <p:nvPr/>
          </p:nvSpPr>
          <p:spPr>
            <a:xfrm>
              <a:off x="604800" y="3916440"/>
              <a:ext cx="4774680" cy="19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存货是企业流动资产的重要组成部分，因其种类繁多，会计处理复杂多变， 所以存货内部控制历来是企业内部控制的重点，也是审计的重点</a:t>
              </a:r>
              <a:r>
                <a:rPr b="1" lang="en-US" sz="2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。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2" name="组合 7"/>
          <p:cNvGrpSpPr/>
          <p:nvPr/>
        </p:nvGrpSpPr>
        <p:grpSpPr>
          <a:xfrm>
            <a:off x="5997600" y="3094200"/>
            <a:ext cx="6467400" cy="3348000"/>
            <a:chOff x="5997600" y="3094200"/>
            <a:chExt cx="6467400" cy="3348000"/>
          </a:xfrm>
        </p:grpSpPr>
        <p:sp>
          <p:nvSpPr>
            <p:cNvPr id="1933" name="同侧圆角矩形 10"/>
            <p:cNvSpPr/>
            <p:nvPr/>
          </p:nvSpPr>
          <p:spPr>
            <a:xfrm rot="5400000">
              <a:off x="8646120" y="1599840"/>
              <a:ext cx="728280" cy="3716280"/>
            </a:xfrm>
            <a:custGeom>
              <a:avLst/>
              <a:gdLst/>
              <a:ahLst/>
              <a:rect l="l" t="t" r="r" b="b"/>
              <a:pathLst>
                <a:path w="1020" h="3086">
                  <a:moveTo>
                    <a:pt x="510" y="0"/>
                  </a:moveTo>
                  <a:lnTo>
                    <a:pt x="510" y="0"/>
                  </a:lnTo>
                  <a:cubicBezTo>
                    <a:pt x="792" y="0"/>
                    <a:pt x="1020" y="228"/>
                    <a:pt x="1020" y="510"/>
                  </a:cubicBezTo>
                  <a:lnTo>
                    <a:pt x="1020" y="3086"/>
                  </a:lnTo>
                  <a:lnTo>
                    <a:pt x="1020" y="3086"/>
                  </a:lnTo>
                  <a:lnTo>
                    <a:pt x="0" y="3086"/>
                  </a:lnTo>
                  <a:lnTo>
                    <a:pt x="0" y="3086"/>
                  </a:lnTo>
                  <a:lnTo>
                    <a:pt x="0" y="510"/>
                  </a:lnTo>
                  <a:cubicBezTo>
                    <a:pt x="0" y="228"/>
                    <a:pt x="228" y="0"/>
                    <a:pt x="510" y="0"/>
                  </a:cubicBezTo>
                  <a:close/>
                </a:path>
              </a:pathLst>
            </a:custGeom>
            <a:noFill/>
            <a:ln w="38160">
              <a:solidFill>
                <a:srgbClr val="3ea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椭圆 13"/>
            <p:cNvSpPr/>
            <p:nvPr/>
          </p:nvSpPr>
          <p:spPr>
            <a:xfrm>
              <a:off x="6093720" y="3101760"/>
              <a:ext cx="1112760" cy="842760"/>
            </a:xfrm>
            <a:prstGeom prst="ellipse">
              <a:avLst/>
            </a:prstGeom>
            <a:solidFill>
              <a:srgbClr val="9dc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矩形 15"/>
            <p:cNvSpPr/>
            <p:nvPr/>
          </p:nvSpPr>
          <p:spPr>
            <a:xfrm>
              <a:off x="9052920" y="3308040"/>
              <a:ext cx="2290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文本框 25"/>
            <p:cNvSpPr/>
            <p:nvPr/>
          </p:nvSpPr>
          <p:spPr>
            <a:xfrm>
              <a:off x="7139160" y="3151080"/>
              <a:ext cx="53258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成本会计内部控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文本框 26"/>
            <p:cNvSpPr/>
            <p:nvPr/>
          </p:nvSpPr>
          <p:spPr>
            <a:xfrm>
              <a:off x="5997600" y="3971880"/>
              <a:ext cx="564480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成本会计内部控制是生产控制与成本核算控制的有机结合。完善的成本会计 制度应当能够提供从原材料到在产品再到产成品，以及按成本中心、生产任务通 知单或生产周期所消耗的材料、人工和间接费用的分配和归集的全部详细资料。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矩形 29"/>
          <p:cNvSpPr/>
          <p:nvPr/>
        </p:nvSpPr>
        <p:spPr>
          <a:xfrm>
            <a:off x="5749920" y="3409920"/>
            <a:ext cx="46080" cy="2612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9" name="文本框 31" descr=""/>
          <p:cNvPicPr/>
          <p:nvPr/>
        </p:nvPicPr>
        <p:blipFill>
          <a:blip r:embed="rId1"/>
          <a:stretch/>
        </p:blipFill>
        <p:spPr>
          <a:xfrm>
            <a:off x="2487600" y="177840"/>
            <a:ext cx="7561440" cy="652320"/>
          </a:xfrm>
          <a:prstGeom prst="rect">
            <a:avLst/>
          </a:prstGeom>
          <a:ln w="0">
            <a:noFill/>
          </a:ln>
        </p:spPr>
      </p:pic>
      <p:sp>
        <p:nvSpPr>
          <p:cNvPr id="1940" name="矩形 1"/>
          <p:cNvSpPr/>
          <p:nvPr/>
        </p:nvSpPr>
        <p:spPr>
          <a:xfrm>
            <a:off x="1774800" y="10000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二、存货与仓储循环的内部控制及其控制测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Title 6"/>
          <p:cNvSpPr/>
          <p:nvPr/>
        </p:nvSpPr>
        <p:spPr>
          <a:xfrm>
            <a:off x="490680" y="1573200"/>
            <a:ext cx="11233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存货与仓储循环的内部控制包括存货的内部控制、成本会计的内部控制和工 薪的内部控制三项内容。其控制测试主要是成本会计制度的控制测试和工薪的控 制测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组合 91"/>
          <p:cNvGrpSpPr/>
          <p:nvPr/>
        </p:nvGrpSpPr>
        <p:grpSpPr>
          <a:xfrm>
            <a:off x="973080" y="549360"/>
            <a:ext cx="10359720" cy="0"/>
            <a:chOff x="973080" y="549360"/>
            <a:chExt cx="10359720" cy="0"/>
          </a:xfrm>
        </p:grpSpPr>
        <p:sp>
          <p:nvSpPr>
            <p:cNvPr id="1943" name="直接连接符 92"/>
            <p:cNvSpPr/>
            <p:nvPr/>
          </p:nvSpPr>
          <p:spPr>
            <a:xfrm>
              <a:off x="97308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直接连接符 93"/>
            <p:cNvSpPr/>
            <p:nvPr/>
          </p:nvSpPr>
          <p:spPr>
            <a:xfrm>
              <a:off x="935316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5" name="组合 8"/>
          <p:cNvGrpSpPr/>
          <p:nvPr/>
        </p:nvGrpSpPr>
        <p:grpSpPr>
          <a:xfrm>
            <a:off x="154080" y="2755800"/>
            <a:ext cx="5863680" cy="3274920"/>
            <a:chOff x="154080" y="2755800"/>
            <a:chExt cx="5863680" cy="3274920"/>
          </a:xfrm>
        </p:grpSpPr>
        <p:sp>
          <p:nvSpPr>
            <p:cNvPr id="1946" name="同侧圆角矩形 16"/>
            <p:cNvSpPr/>
            <p:nvPr/>
          </p:nvSpPr>
          <p:spPr>
            <a:xfrm rot="5400000">
              <a:off x="2742840" y="1391040"/>
              <a:ext cx="691920" cy="3484440"/>
            </a:xfrm>
            <a:custGeom>
              <a:avLst/>
              <a:gdLst/>
              <a:ahLst/>
              <a:rect l="l" t="t" r="r" b="b"/>
              <a:pathLst>
                <a:path w="1040" h="2906">
                  <a:moveTo>
                    <a:pt x="520" y="0"/>
                  </a:moveTo>
                  <a:lnTo>
                    <a:pt x="520" y="0"/>
                  </a:lnTo>
                  <a:cubicBezTo>
                    <a:pt x="807" y="0"/>
                    <a:pt x="1040" y="233"/>
                    <a:pt x="1040" y="520"/>
                  </a:cubicBezTo>
                  <a:lnTo>
                    <a:pt x="1040" y="2906"/>
                  </a:lnTo>
                  <a:lnTo>
                    <a:pt x="1040" y="2906"/>
                  </a:lnTo>
                  <a:lnTo>
                    <a:pt x="0" y="2906"/>
                  </a:lnTo>
                  <a:lnTo>
                    <a:pt x="0" y="2906"/>
                  </a:lnTo>
                  <a:lnTo>
                    <a:pt x="0" y="520"/>
                  </a:lnTo>
                  <a:cubicBezTo>
                    <a:pt x="0" y="233"/>
                    <a:pt x="233" y="0"/>
                    <a:pt x="520" y="0"/>
                  </a:cubicBezTo>
                  <a:close/>
                </a:path>
              </a:pathLst>
            </a:custGeom>
            <a:noFill/>
            <a:ln w="38160">
              <a:solidFill>
                <a:srgbClr val="1aa3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椭圆 17"/>
            <p:cNvSpPr/>
            <p:nvPr/>
          </p:nvSpPr>
          <p:spPr>
            <a:xfrm>
              <a:off x="154080" y="2755800"/>
              <a:ext cx="1662840" cy="785520"/>
            </a:xfrm>
            <a:prstGeom prst="ellipse">
              <a:avLst/>
            </a:prstGeom>
            <a:solidFill>
              <a:srgbClr val="1aa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三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矩形 18"/>
            <p:cNvSpPr/>
            <p:nvPr/>
          </p:nvSpPr>
          <p:spPr>
            <a:xfrm>
              <a:off x="3081240" y="2944440"/>
              <a:ext cx="22806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文本框 27"/>
            <p:cNvSpPr/>
            <p:nvPr/>
          </p:nvSpPr>
          <p:spPr>
            <a:xfrm>
              <a:off x="1816920" y="2826720"/>
              <a:ext cx="42008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工薪内部控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文本框 28"/>
            <p:cNvSpPr/>
            <p:nvPr/>
          </p:nvSpPr>
          <p:spPr>
            <a:xfrm>
              <a:off x="551880" y="3597120"/>
              <a:ext cx="4158720" cy="24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工薪业务包括人员的录用、解聘、确定基本工资、记录工时、计算应付职工 薪酬、登记职工薪酬明细账和总账、工资支付等内容。对企业的工薪内部控制制 度也应当进行测试，以判断其有效性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组合 11"/>
          <p:cNvGrpSpPr/>
          <p:nvPr/>
        </p:nvGrpSpPr>
        <p:grpSpPr>
          <a:xfrm>
            <a:off x="5181480" y="2639880"/>
            <a:ext cx="6794640" cy="4124520"/>
            <a:chOff x="5181480" y="2639880"/>
            <a:chExt cx="6794640" cy="4124520"/>
          </a:xfrm>
        </p:grpSpPr>
        <p:sp>
          <p:nvSpPr>
            <p:cNvPr id="1952" name="同侧圆角矩形 33"/>
            <p:cNvSpPr/>
            <p:nvPr/>
          </p:nvSpPr>
          <p:spPr>
            <a:xfrm rot="5400000">
              <a:off x="8667360" y="629280"/>
              <a:ext cx="649440" cy="4861440"/>
            </a:xfrm>
            <a:custGeom>
              <a:avLst/>
              <a:gdLst/>
              <a:ahLst/>
              <a:rect l="l" t="t" r="r" b="b"/>
              <a:pathLst>
                <a:path w="1135" h="3745">
                  <a:moveTo>
                    <a:pt x="567" y="0"/>
                  </a:moveTo>
                  <a:lnTo>
                    <a:pt x="567" y="0"/>
                  </a:lnTo>
                  <a:cubicBezTo>
                    <a:pt x="880" y="0"/>
                    <a:pt x="1134" y="254"/>
                    <a:pt x="1134" y="567"/>
                  </a:cubicBezTo>
                  <a:lnTo>
                    <a:pt x="1135" y="3745"/>
                  </a:lnTo>
                  <a:lnTo>
                    <a:pt x="1135" y="3745"/>
                  </a:lnTo>
                  <a:lnTo>
                    <a:pt x="0" y="3745"/>
                  </a:lnTo>
                  <a:lnTo>
                    <a:pt x="0" y="3745"/>
                  </a:lnTo>
                  <a:lnTo>
                    <a:pt x="0" y="567"/>
                  </a:lnTo>
                  <a:cubicBezTo>
                    <a:pt x="0" y="254"/>
                    <a:pt x="254" y="0"/>
                    <a:pt x="567" y="0"/>
                  </a:cubicBezTo>
                  <a:close/>
                </a:path>
              </a:pathLst>
            </a:custGeom>
            <a:noFill/>
            <a:ln w="38160">
              <a:solidFill>
                <a:srgbClr val="3ea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椭圆 34"/>
            <p:cNvSpPr/>
            <p:nvPr/>
          </p:nvSpPr>
          <p:spPr>
            <a:xfrm>
              <a:off x="5357880" y="2639880"/>
              <a:ext cx="1466640" cy="811080"/>
            </a:xfrm>
            <a:prstGeom prst="ellipse">
              <a:avLst/>
            </a:prstGeom>
            <a:solidFill>
              <a:srgbClr val="9dc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四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矩形 23"/>
            <p:cNvSpPr/>
            <p:nvPr/>
          </p:nvSpPr>
          <p:spPr>
            <a:xfrm>
              <a:off x="7797240" y="2912400"/>
              <a:ext cx="24652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文本框 39"/>
            <p:cNvSpPr/>
            <p:nvPr/>
          </p:nvSpPr>
          <p:spPr>
            <a:xfrm>
              <a:off x="6711840" y="2744280"/>
              <a:ext cx="498096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存货与仓储循环控制测试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文本框 40"/>
            <p:cNvSpPr/>
            <p:nvPr/>
          </p:nvSpPr>
          <p:spPr>
            <a:xfrm>
              <a:off x="5181480" y="3502080"/>
              <a:ext cx="679464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1.</a:t>
              </a: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存货与仓储循环控制测试程序 存货与仓储循环的控制测试要求审计人员可以根据具体情况，专业判断增加 和减少相应程序，并把对常规程序的修改记录在审计程序表中。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2. </a:t>
              </a: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存货与仓储循环控制测试工作底稿的编制 存货与仓储循环控制测试工作底稿包括“存货与仓储循环内部控制调查问 卷”“ 存货与仓储循环控制测试表”等。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7" name="矩形 45"/>
          <p:cNvSpPr/>
          <p:nvPr/>
        </p:nvSpPr>
        <p:spPr>
          <a:xfrm>
            <a:off x="4941720" y="3722760"/>
            <a:ext cx="46080" cy="2838240"/>
          </a:xfrm>
          <a:prstGeom prst="rect">
            <a:avLst/>
          </a:prstGeom>
          <a:solidFill>
            <a:srgbClr val="88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8" name="文本框 31" descr=""/>
          <p:cNvPicPr/>
          <p:nvPr/>
        </p:nvPicPr>
        <p:blipFill>
          <a:blip r:embed="rId1"/>
          <a:stretch/>
        </p:blipFill>
        <p:spPr>
          <a:xfrm>
            <a:off x="2487600" y="177840"/>
            <a:ext cx="7561440" cy="652320"/>
          </a:xfrm>
          <a:prstGeom prst="rect">
            <a:avLst/>
          </a:prstGeom>
          <a:ln w="0">
            <a:noFill/>
          </a:ln>
        </p:spPr>
      </p:pic>
      <p:sp>
        <p:nvSpPr>
          <p:cNvPr id="1959" name="矩形 1"/>
          <p:cNvSpPr/>
          <p:nvPr/>
        </p:nvSpPr>
        <p:spPr>
          <a:xfrm>
            <a:off x="1817640" y="96840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二、存货与仓储循环的内部控制及其控制测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0" name="组合 91"/>
          <p:cNvGrpSpPr/>
          <p:nvPr/>
        </p:nvGrpSpPr>
        <p:grpSpPr>
          <a:xfrm>
            <a:off x="955800" y="476280"/>
            <a:ext cx="10360080" cy="0"/>
            <a:chOff x="955800" y="476280"/>
            <a:chExt cx="10360080" cy="0"/>
          </a:xfrm>
        </p:grpSpPr>
        <p:sp>
          <p:nvSpPr>
            <p:cNvPr id="1961" name="直接连接符 92"/>
            <p:cNvSpPr/>
            <p:nvPr/>
          </p:nvSpPr>
          <p:spPr>
            <a:xfrm>
              <a:off x="955800" y="47628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直接连接符 93"/>
            <p:cNvSpPr/>
            <p:nvPr/>
          </p:nvSpPr>
          <p:spPr>
            <a:xfrm>
              <a:off x="9336600" y="47628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3" name="圆角矩形 4"/>
          <p:cNvSpPr/>
          <p:nvPr/>
        </p:nvSpPr>
        <p:spPr>
          <a:xfrm>
            <a:off x="774720" y="2557440"/>
            <a:ext cx="5378400" cy="1246320"/>
          </a:xfrm>
          <a:prstGeom prst="roundRect">
            <a:avLst>
              <a:gd name="adj" fmla="val 17778"/>
            </a:avLst>
          </a:prstGeom>
          <a:solidFill>
            <a:srgbClr val="00a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 存货与仓储循环所涉及的记录及能够证明的认定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主要业务活动、对应的凭证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圆角矩形 5"/>
          <p:cNvSpPr/>
          <p:nvPr/>
        </p:nvSpPr>
        <p:spPr>
          <a:xfrm>
            <a:off x="695160" y="4130640"/>
            <a:ext cx="5478480" cy="1117800"/>
          </a:xfrm>
          <a:prstGeom prst="roundRect">
            <a:avLst>
              <a:gd name="adj" fmla="val 16667"/>
            </a:avLst>
          </a:prstGeom>
          <a:solidFill>
            <a:srgbClr val="5b9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存货内部控制的关键控制点和常用控制测试程序如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2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所示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2-17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圆角矩形 12"/>
          <p:cNvSpPr/>
          <p:nvPr/>
        </p:nvSpPr>
        <p:spPr>
          <a:xfrm>
            <a:off x="6816600" y="5685120"/>
            <a:ext cx="5105520" cy="1156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 存货与仓储循环控制测试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圆角矩形 11"/>
          <p:cNvSpPr/>
          <p:nvPr/>
        </p:nvSpPr>
        <p:spPr>
          <a:xfrm>
            <a:off x="6794640" y="4495680"/>
            <a:ext cx="5149800" cy="908280"/>
          </a:xfrm>
          <a:prstGeom prst="roundRect">
            <a:avLst>
              <a:gd name="adj" fmla="val 16667"/>
            </a:avLst>
          </a:prstGeom>
          <a:solidFill>
            <a:srgbClr val="00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6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存货与仓储循环内部控制调查问卷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7-17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圆角矩形 6"/>
          <p:cNvSpPr/>
          <p:nvPr/>
        </p:nvSpPr>
        <p:spPr>
          <a:xfrm>
            <a:off x="644400" y="5640480"/>
            <a:ext cx="5478480" cy="992160"/>
          </a:xfrm>
          <a:prstGeom prst="roundRect">
            <a:avLst>
              <a:gd name="adj" fmla="val 16667"/>
            </a:avLst>
          </a:prstGeom>
          <a:solidFill>
            <a:srgbClr val="914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成本会计内部控制的关键控制点和常用控制测试程序如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3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所示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圆角矩形 8"/>
          <p:cNvSpPr/>
          <p:nvPr/>
        </p:nvSpPr>
        <p:spPr>
          <a:xfrm>
            <a:off x="6794640" y="1932120"/>
            <a:ext cx="5170320" cy="941400"/>
          </a:xfrm>
          <a:prstGeom prst="roundRect">
            <a:avLst>
              <a:gd name="adj" fmla="val 21051"/>
            </a:avLst>
          </a:prstGeom>
          <a:solidFill>
            <a:srgbClr val="5b9bd4"/>
          </a:solidFill>
          <a:ln w="12600">
            <a:solidFill>
              <a:srgbClr val="8e1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工薪内部控制的关键控制点和常用控制测试程序如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4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所示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圆角矩形 10"/>
          <p:cNvSpPr/>
          <p:nvPr/>
        </p:nvSpPr>
        <p:spPr>
          <a:xfrm>
            <a:off x="6794640" y="3213000"/>
            <a:ext cx="5170320" cy="908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存货与仓储循环的控制测试程序如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5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所示 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4-17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文本框 31" descr=""/>
          <p:cNvPicPr/>
          <p:nvPr/>
        </p:nvPicPr>
        <p:blipFill>
          <a:blip r:embed="rId1"/>
          <a:stretch/>
        </p:blipFill>
        <p:spPr>
          <a:xfrm>
            <a:off x="2558880" y="66600"/>
            <a:ext cx="7560000" cy="671760"/>
          </a:xfrm>
          <a:prstGeom prst="rect">
            <a:avLst/>
          </a:prstGeom>
          <a:ln w="0">
            <a:noFill/>
          </a:ln>
        </p:spPr>
      </p:pic>
      <p:sp>
        <p:nvSpPr>
          <p:cNvPr id="1971" name="矩形 1"/>
          <p:cNvSpPr/>
          <p:nvPr/>
        </p:nvSpPr>
        <p:spPr>
          <a:xfrm>
            <a:off x="2135160" y="8352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二、存货与仓储循环的内部控制及其控制测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itle 6"/>
          <p:cNvSpPr/>
          <p:nvPr/>
        </p:nvSpPr>
        <p:spPr>
          <a:xfrm>
            <a:off x="479520" y="1351080"/>
            <a:ext cx="108662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Black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以制造业为例，存货与仓储循环所涉及的主要业务活动、对应的凭证与记录 及能够证明的认定如表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黑体"/>
              </a:rPr>
              <a:t>7-1 —7-7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箭头: 下 2"/>
          <p:cNvSpPr/>
          <p:nvPr/>
        </p:nvSpPr>
        <p:spPr>
          <a:xfrm flipH="1">
            <a:off x="3287160" y="3792600"/>
            <a:ext cx="43164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箭头: 下 32"/>
          <p:cNvSpPr/>
          <p:nvPr/>
        </p:nvSpPr>
        <p:spPr>
          <a:xfrm flipH="1">
            <a:off x="9278280" y="4146480"/>
            <a:ext cx="431640" cy="281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箭头: 下 33"/>
          <p:cNvSpPr/>
          <p:nvPr/>
        </p:nvSpPr>
        <p:spPr>
          <a:xfrm flipH="1">
            <a:off x="3287160" y="5278320"/>
            <a:ext cx="431640" cy="33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箭头: 下 34"/>
          <p:cNvSpPr/>
          <p:nvPr/>
        </p:nvSpPr>
        <p:spPr>
          <a:xfrm flipH="1">
            <a:off x="9211680" y="2870280"/>
            <a:ext cx="43164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箭头: 下 36"/>
          <p:cNvSpPr/>
          <p:nvPr/>
        </p:nvSpPr>
        <p:spPr>
          <a:xfrm flipH="1">
            <a:off x="9335520" y="5372280"/>
            <a:ext cx="43164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8" name="组合 28"/>
          <p:cNvGrpSpPr/>
          <p:nvPr/>
        </p:nvGrpSpPr>
        <p:grpSpPr>
          <a:xfrm>
            <a:off x="915840" y="336600"/>
            <a:ext cx="10359720" cy="0"/>
            <a:chOff x="915840" y="336600"/>
            <a:chExt cx="10359720" cy="0"/>
          </a:xfrm>
        </p:grpSpPr>
        <p:sp>
          <p:nvSpPr>
            <p:cNvPr id="1979" name="直接连接符 52"/>
            <p:cNvSpPr/>
            <p:nvPr/>
          </p:nvSpPr>
          <p:spPr>
            <a:xfrm>
              <a:off x="915840" y="336600"/>
              <a:ext cx="270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直接连接符 64"/>
            <p:cNvSpPr/>
            <p:nvPr/>
          </p:nvSpPr>
          <p:spPr>
            <a:xfrm>
              <a:off x="8327520" y="336600"/>
              <a:ext cx="2948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1" name="组合 112"/>
          <p:cNvGrpSpPr/>
          <p:nvPr/>
        </p:nvGrpSpPr>
        <p:grpSpPr>
          <a:xfrm>
            <a:off x="1450800" y="3497400"/>
            <a:ext cx="1800360" cy="828360"/>
            <a:chOff x="1450800" y="3497400"/>
            <a:chExt cx="1800360" cy="828360"/>
          </a:xfrm>
        </p:grpSpPr>
        <p:pic>
          <p:nvPicPr>
            <p:cNvPr id="1982" name="圆角矩形 29" descr=""/>
            <p:cNvPicPr/>
            <p:nvPr/>
          </p:nvPicPr>
          <p:blipFill>
            <a:blip r:embed="rId1"/>
            <a:stretch/>
          </p:blipFill>
          <p:spPr>
            <a:xfrm>
              <a:off x="1584000" y="3601440"/>
              <a:ext cx="1667160" cy="7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3" name="圆角矩形 2"/>
            <p:cNvSpPr/>
            <p:nvPr/>
          </p:nvSpPr>
          <p:spPr>
            <a:xfrm>
              <a:off x="1450800" y="3497400"/>
              <a:ext cx="1638360" cy="69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2700000"/>
            </a:gradFill>
            <a:ln w="12600">
              <a:solidFill>
                <a:srgbClr val="2f75b4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"/>
            <p:cNvSpPr/>
            <p:nvPr/>
          </p:nvSpPr>
          <p:spPr>
            <a:xfrm>
              <a:off x="1578240" y="3615840"/>
              <a:ext cx="518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2e82cb"/>
                  </a:solidFill>
                  <a:latin typeface="Arial"/>
                </a:rPr>
                <a:t>1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KSO_Shape"/>
            <p:cNvSpPr/>
            <p:nvPr/>
          </p:nvSpPr>
          <p:spPr>
            <a:xfrm>
              <a:off x="2387160" y="3635280"/>
              <a:ext cx="488880" cy="419760"/>
            </a:xfrm>
            <a:custGeom>
              <a:avLst/>
              <a:gdLst/>
              <a:ahLst/>
              <a:rect l="l" t="t" r="r" b="b"/>
              <a:pathLst>
                <a:path w="3476" h="3680">
                  <a:moveTo>
                    <a:pt x="1280" y="921"/>
                  </a:moveTo>
                  <a:cubicBezTo>
                    <a:pt x="1329" y="985"/>
                    <a:pt x="1340" y="1066"/>
                    <a:pt x="1318" y="1137"/>
                  </a:cubicBezTo>
                  <a:cubicBezTo>
                    <a:pt x="1477" y="1346"/>
                    <a:pt x="1477" y="1346"/>
                    <a:pt x="1477" y="1346"/>
                  </a:cubicBezTo>
                  <a:cubicBezTo>
                    <a:pt x="2227" y="777"/>
                    <a:pt x="2227" y="777"/>
                    <a:pt x="2227" y="777"/>
                  </a:cubicBezTo>
                  <a:cubicBezTo>
                    <a:pt x="2522" y="1184"/>
                    <a:pt x="2497" y="1730"/>
                    <a:pt x="2195" y="2107"/>
                  </a:cubicBezTo>
                  <a:cubicBezTo>
                    <a:pt x="3077" y="3044"/>
                    <a:pt x="3077" y="3044"/>
                    <a:pt x="3077" y="3044"/>
                  </a:cubicBezTo>
                  <a:cubicBezTo>
                    <a:pt x="3476" y="3044"/>
                    <a:pt x="3476" y="3044"/>
                    <a:pt x="3476" y="3044"/>
                  </a:cubicBezTo>
                  <a:cubicBezTo>
                    <a:pt x="3476" y="3680"/>
                    <a:pt x="3476" y="3680"/>
                    <a:pt x="3476" y="3680"/>
                  </a:cubicBezTo>
                  <a:cubicBezTo>
                    <a:pt x="1431" y="3680"/>
                    <a:pt x="1431" y="3680"/>
                    <a:pt x="1431" y="3680"/>
                  </a:cubicBezTo>
                  <a:cubicBezTo>
                    <a:pt x="1431" y="3044"/>
                    <a:pt x="1431" y="3044"/>
                    <a:pt x="1431" y="3044"/>
                  </a:cubicBezTo>
                  <a:cubicBezTo>
                    <a:pt x="1566" y="3044"/>
                    <a:pt x="1566" y="3044"/>
                    <a:pt x="1566" y="3044"/>
                  </a:cubicBezTo>
                  <a:cubicBezTo>
                    <a:pt x="1566" y="2494"/>
                    <a:pt x="1566" y="2494"/>
                    <a:pt x="1566" y="2494"/>
                  </a:cubicBezTo>
                  <a:cubicBezTo>
                    <a:pt x="1171" y="2577"/>
                    <a:pt x="746" y="2438"/>
                    <a:pt x="480" y="2102"/>
                  </a:cubicBezTo>
                  <a:cubicBezTo>
                    <a:pt x="1251" y="1517"/>
                    <a:pt x="1251" y="1517"/>
                    <a:pt x="1251" y="1517"/>
                  </a:cubicBezTo>
                  <a:cubicBezTo>
                    <a:pt x="1090" y="1304"/>
                    <a:pt x="1090" y="1304"/>
                    <a:pt x="1090" y="1304"/>
                  </a:cubicBezTo>
                  <a:cubicBezTo>
                    <a:pt x="1018" y="1304"/>
                    <a:pt x="947" y="1272"/>
                    <a:pt x="900" y="1210"/>
                  </a:cubicBezTo>
                  <a:cubicBezTo>
                    <a:pt x="820" y="1105"/>
                    <a:pt x="841" y="955"/>
                    <a:pt x="946" y="875"/>
                  </a:cubicBezTo>
                  <a:cubicBezTo>
                    <a:pt x="1051" y="796"/>
                    <a:pt x="1201" y="816"/>
                    <a:pt x="1280" y="921"/>
                  </a:cubicBezTo>
                  <a:close/>
                  <a:moveTo>
                    <a:pt x="0" y="851"/>
                  </a:moveTo>
                  <a:cubicBezTo>
                    <a:pt x="217" y="914"/>
                    <a:pt x="217" y="914"/>
                    <a:pt x="217" y="914"/>
                  </a:cubicBezTo>
                  <a:cubicBezTo>
                    <a:pt x="286" y="678"/>
                    <a:pt x="401" y="506"/>
                    <a:pt x="562" y="394"/>
                  </a:cubicBezTo>
                  <a:cubicBezTo>
                    <a:pt x="726" y="281"/>
                    <a:pt x="940" y="227"/>
                    <a:pt x="1202" y="230"/>
                  </a:cubicBezTo>
                  <a:cubicBezTo>
                    <a:pt x="1204" y="4"/>
                    <a:pt x="1204" y="4"/>
                    <a:pt x="1204" y="4"/>
                  </a:cubicBezTo>
                  <a:cubicBezTo>
                    <a:pt x="894" y="0"/>
                    <a:pt x="636" y="68"/>
                    <a:pt x="434" y="208"/>
                  </a:cubicBezTo>
                  <a:cubicBezTo>
                    <a:pt x="229" y="350"/>
                    <a:pt x="84" y="564"/>
                    <a:pt x="0" y="851"/>
                  </a:cubicBezTo>
                  <a:close/>
                  <a:moveTo>
                    <a:pt x="447" y="899"/>
                  </a:moveTo>
                  <a:cubicBezTo>
                    <a:pt x="665" y="962"/>
                    <a:pt x="665" y="962"/>
                    <a:pt x="665" y="962"/>
                  </a:cubicBezTo>
                  <a:cubicBezTo>
                    <a:pt x="698" y="848"/>
                    <a:pt x="753" y="765"/>
                    <a:pt x="830" y="712"/>
                  </a:cubicBezTo>
                  <a:cubicBezTo>
                    <a:pt x="908" y="657"/>
                    <a:pt x="1013" y="631"/>
                    <a:pt x="1143" y="633"/>
                  </a:cubicBezTo>
                  <a:cubicBezTo>
                    <a:pt x="1145" y="406"/>
                    <a:pt x="1145" y="406"/>
                    <a:pt x="1145" y="406"/>
                  </a:cubicBezTo>
                  <a:cubicBezTo>
                    <a:pt x="967" y="405"/>
                    <a:pt x="819" y="444"/>
                    <a:pt x="701" y="526"/>
                  </a:cubicBezTo>
                  <a:cubicBezTo>
                    <a:pt x="581" y="609"/>
                    <a:pt x="496" y="733"/>
                    <a:pt x="447" y="899"/>
                  </a:cubicBezTo>
                  <a:close/>
                  <a:moveTo>
                    <a:pt x="2527" y="3044"/>
                  </a:moveTo>
                  <a:cubicBezTo>
                    <a:pt x="1970" y="2452"/>
                    <a:pt x="1970" y="2452"/>
                    <a:pt x="1970" y="2452"/>
                  </a:cubicBezTo>
                  <a:cubicBezTo>
                    <a:pt x="1967" y="2453"/>
                    <a:pt x="1967" y="2453"/>
                    <a:pt x="1967" y="2453"/>
                  </a:cubicBezTo>
                  <a:cubicBezTo>
                    <a:pt x="1967" y="3044"/>
                    <a:pt x="1967" y="3044"/>
                    <a:pt x="1967" y="3044"/>
                  </a:cubicBezTo>
                  <a:lnTo>
                    <a:pt x="2527" y="3044"/>
                  </a:lnTo>
                  <a:close/>
                </a:path>
              </a:pathLst>
            </a:custGeom>
            <a:solidFill>
              <a:srgbClr val="2e8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组合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987" name="组合 42"/>
          <p:cNvGrpSpPr/>
          <p:nvPr/>
        </p:nvGrpSpPr>
        <p:grpSpPr>
          <a:xfrm>
            <a:off x="5087880" y="3419640"/>
            <a:ext cx="1731960" cy="914400"/>
            <a:chOff x="5087880" y="3419640"/>
            <a:chExt cx="1731960" cy="914400"/>
          </a:xfrm>
        </p:grpSpPr>
        <p:pic>
          <p:nvPicPr>
            <p:cNvPr id="1988" name="圆角矩形 43" descr=""/>
            <p:cNvPicPr/>
            <p:nvPr/>
          </p:nvPicPr>
          <p:blipFill>
            <a:blip r:embed="rId2"/>
            <a:stretch/>
          </p:blipFill>
          <p:spPr>
            <a:xfrm>
              <a:off x="5235840" y="3538080"/>
              <a:ext cx="1584000" cy="7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9" name="圆角矩形 44"/>
            <p:cNvSpPr/>
            <p:nvPr/>
          </p:nvSpPr>
          <p:spPr>
            <a:xfrm>
              <a:off x="5087880" y="3419640"/>
              <a:ext cx="1555920" cy="76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2700000"/>
            </a:gradFill>
            <a:ln w="12600">
              <a:solidFill>
                <a:srgbClr val="ffc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5"/>
            <p:cNvSpPr/>
            <p:nvPr/>
          </p:nvSpPr>
          <p:spPr>
            <a:xfrm>
              <a:off x="6084720" y="3514680"/>
              <a:ext cx="4910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c000"/>
                  </a:solidFill>
                  <a:latin typeface="Arial"/>
                </a:rPr>
                <a:t>2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组合 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92" name="KSO_Shape"/>
            <p:cNvSpPr/>
            <p:nvPr/>
          </p:nvSpPr>
          <p:spPr>
            <a:xfrm>
              <a:off x="5254560" y="3618000"/>
              <a:ext cx="532080" cy="37044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33" y="125"/>
                  </a:moveTo>
                  <a:cubicBezTo>
                    <a:pt x="55" y="125"/>
                    <a:pt x="55" y="125"/>
                    <a:pt x="55" y="125"/>
                  </a:cubicBezTo>
                  <a:cubicBezTo>
                    <a:pt x="55" y="122"/>
                    <a:pt x="55" y="122"/>
                    <a:pt x="55" y="122"/>
                  </a:cubicBezTo>
                  <a:cubicBezTo>
                    <a:pt x="45" y="122"/>
                    <a:pt x="45" y="122"/>
                    <a:pt x="45" y="122"/>
                  </a:cubicBezTo>
                  <a:cubicBezTo>
                    <a:pt x="41" y="122"/>
                    <a:pt x="37" y="120"/>
                    <a:pt x="34" y="118"/>
                  </a:cubicBezTo>
                  <a:cubicBezTo>
                    <a:pt x="32" y="115"/>
                    <a:pt x="30" y="111"/>
                    <a:pt x="30" y="107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1"/>
                    <a:pt x="32" y="7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7" y="2"/>
                    <a:pt x="41" y="0"/>
                    <a:pt x="45" y="0"/>
                  </a:cubicBezTo>
                  <a:cubicBezTo>
                    <a:pt x="209" y="0"/>
                    <a:pt x="209" y="0"/>
                    <a:pt x="209" y="0"/>
                  </a:cubicBezTo>
                  <a:cubicBezTo>
                    <a:pt x="213" y="0"/>
                    <a:pt x="217" y="2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2" y="7"/>
                    <a:pt x="224" y="11"/>
                    <a:pt x="224" y="15"/>
                  </a:cubicBezTo>
                  <a:cubicBezTo>
                    <a:pt x="224" y="107"/>
                    <a:pt x="224" y="107"/>
                    <a:pt x="224" y="107"/>
                  </a:cubicBezTo>
                  <a:cubicBezTo>
                    <a:pt x="224" y="111"/>
                    <a:pt x="222" y="115"/>
                    <a:pt x="220" y="118"/>
                  </a:cubicBezTo>
                  <a:cubicBezTo>
                    <a:pt x="217" y="120"/>
                    <a:pt x="213" y="122"/>
                    <a:pt x="209" y="122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221" y="125"/>
                    <a:pt x="221" y="125"/>
                    <a:pt x="221" y="125"/>
                  </a:cubicBezTo>
                  <a:cubicBezTo>
                    <a:pt x="257" y="173"/>
                    <a:pt x="257" y="173"/>
                    <a:pt x="257" y="173"/>
                  </a:cubicBezTo>
                  <a:cubicBezTo>
                    <a:pt x="256" y="173"/>
                    <a:pt x="256" y="173"/>
                    <a:pt x="256" y="173"/>
                  </a:cubicBezTo>
                  <a:cubicBezTo>
                    <a:pt x="248" y="191"/>
                    <a:pt x="248" y="191"/>
                    <a:pt x="248" y="191"/>
                  </a:cubicBezTo>
                  <a:cubicBezTo>
                    <a:pt x="9" y="191"/>
                    <a:pt x="9" y="191"/>
                    <a:pt x="9" y="19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33" y="125"/>
                    <a:pt x="33" y="125"/>
                    <a:pt x="33" y="125"/>
                  </a:cubicBezTo>
                  <a:close/>
                  <a:moveTo>
                    <a:pt x="77" y="125"/>
                  </a:moveTo>
                  <a:cubicBezTo>
                    <a:pt x="176" y="125"/>
                    <a:pt x="176" y="125"/>
                    <a:pt x="176" y="125"/>
                  </a:cubicBezTo>
                  <a:cubicBezTo>
                    <a:pt x="176" y="122"/>
                    <a:pt x="176" y="122"/>
                    <a:pt x="176" y="122"/>
                  </a:cubicBezTo>
                  <a:cubicBezTo>
                    <a:pt x="77" y="122"/>
                    <a:pt x="77" y="122"/>
                    <a:pt x="77" y="122"/>
                  </a:cubicBezTo>
                  <a:cubicBezTo>
                    <a:pt x="77" y="125"/>
                    <a:pt x="77" y="125"/>
                    <a:pt x="77" y="125"/>
                  </a:cubicBezTo>
                  <a:close/>
                  <a:moveTo>
                    <a:pt x="209" y="15"/>
                  </a:move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209" y="107"/>
                    <a:pt x="209" y="107"/>
                    <a:pt x="209" y="107"/>
                  </a:cubicBezTo>
                  <a:cubicBezTo>
                    <a:pt x="209" y="107"/>
                    <a:pt x="209" y="107"/>
                    <a:pt x="209" y="107"/>
                  </a:cubicBezTo>
                  <a:cubicBezTo>
                    <a:pt x="209" y="107"/>
                    <a:pt x="210" y="107"/>
                    <a:pt x="210" y="10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10" y="15"/>
                    <a:pt x="210" y="15"/>
                    <a:pt x="209" y="15"/>
                  </a:cubicBezTo>
                  <a:cubicBezTo>
                    <a:pt x="209" y="15"/>
                    <a:pt x="209" y="15"/>
                    <a:pt x="209" y="15"/>
                  </a:cubicBezTo>
                  <a:cubicBezTo>
                    <a:pt x="209" y="15"/>
                    <a:pt x="209" y="15"/>
                    <a:pt x="209" y="15"/>
                  </a:cubicBezTo>
                  <a:close/>
                  <a:moveTo>
                    <a:pt x="39" y="155"/>
                  </a:moveTo>
                  <a:cubicBezTo>
                    <a:pt x="37" y="158"/>
                    <a:pt x="35" y="160"/>
                    <a:pt x="34" y="163"/>
                  </a:cubicBezTo>
                  <a:cubicBezTo>
                    <a:pt x="42" y="163"/>
                    <a:pt x="51" y="163"/>
                    <a:pt x="60" y="163"/>
                  </a:cubicBezTo>
                  <a:cubicBezTo>
                    <a:pt x="61" y="160"/>
                    <a:pt x="62" y="158"/>
                    <a:pt x="63" y="155"/>
                  </a:cubicBezTo>
                  <a:cubicBezTo>
                    <a:pt x="55" y="155"/>
                    <a:pt x="47" y="155"/>
                    <a:pt x="39" y="155"/>
                  </a:cubicBezTo>
                  <a:close/>
                  <a:moveTo>
                    <a:pt x="51" y="135"/>
                  </a:moveTo>
                  <a:cubicBezTo>
                    <a:pt x="50" y="137"/>
                    <a:pt x="49" y="139"/>
                    <a:pt x="48" y="141"/>
                  </a:cubicBezTo>
                  <a:cubicBezTo>
                    <a:pt x="57" y="141"/>
                    <a:pt x="66" y="141"/>
                    <a:pt x="75" y="141"/>
                  </a:cubicBezTo>
                  <a:cubicBezTo>
                    <a:pt x="76" y="139"/>
                    <a:pt x="77" y="137"/>
                    <a:pt x="78" y="135"/>
                  </a:cubicBezTo>
                  <a:cubicBezTo>
                    <a:pt x="69" y="135"/>
                    <a:pt x="60" y="135"/>
                    <a:pt x="51" y="135"/>
                  </a:cubicBezTo>
                  <a:close/>
                  <a:moveTo>
                    <a:pt x="192" y="135"/>
                  </a:moveTo>
                  <a:cubicBezTo>
                    <a:pt x="193" y="137"/>
                    <a:pt x="194" y="139"/>
                    <a:pt x="195" y="141"/>
                  </a:cubicBezTo>
                  <a:cubicBezTo>
                    <a:pt x="201" y="141"/>
                    <a:pt x="207" y="141"/>
                    <a:pt x="213" y="141"/>
                  </a:cubicBezTo>
                  <a:cubicBezTo>
                    <a:pt x="212" y="139"/>
                    <a:pt x="210" y="137"/>
                    <a:pt x="209" y="135"/>
                  </a:cubicBezTo>
                  <a:cubicBezTo>
                    <a:pt x="204" y="135"/>
                    <a:pt x="198" y="135"/>
                    <a:pt x="192" y="135"/>
                  </a:cubicBezTo>
                  <a:close/>
                  <a:moveTo>
                    <a:pt x="171" y="135"/>
                  </a:moveTo>
                  <a:cubicBezTo>
                    <a:pt x="171" y="137"/>
                    <a:pt x="172" y="139"/>
                    <a:pt x="173" y="141"/>
                  </a:cubicBezTo>
                  <a:cubicBezTo>
                    <a:pt x="179" y="141"/>
                    <a:pt x="184" y="141"/>
                    <a:pt x="190" y="141"/>
                  </a:cubicBezTo>
                  <a:cubicBezTo>
                    <a:pt x="189" y="139"/>
                    <a:pt x="188" y="137"/>
                    <a:pt x="187" y="135"/>
                  </a:cubicBezTo>
                  <a:cubicBezTo>
                    <a:pt x="182" y="135"/>
                    <a:pt x="176" y="135"/>
                    <a:pt x="171" y="135"/>
                  </a:cubicBezTo>
                  <a:close/>
                  <a:moveTo>
                    <a:pt x="149" y="135"/>
                  </a:moveTo>
                  <a:cubicBezTo>
                    <a:pt x="149" y="137"/>
                    <a:pt x="149" y="139"/>
                    <a:pt x="150" y="141"/>
                  </a:cubicBezTo>
                  <a:cubicBezTo>
                    <a:pt x="155" y="141"/>
                    <a:pt x="161" y="141"/>
                    <a:pt x="167" y="141"/>
                  </a:cubicBezTo>
                  <a:cubicBezTo>
                    <a:pt x="167" y="139"/>
                    <a:pt x="166" y="137"/>
                    <a:pt x="165" y="135"/>
                  </a:cubicBezTo>
                  <a:cubicBezTo>
                    <a:pt x="160" y="135"/>
                    <a:pt x="154" y="135"/>
                    <a:pt x="149" y="135"/>
                  </a:cubicBezTo>
                  <a:close/>
                  <a:moveTo>
                    <a:pt x="127" y="135"/>
                  </a:moveTo>
                  <a:cubicBezTo>
                    <a:pt x="127" y="137"/>
                    <a:pt x="127" y="139"/>
                    <a:pt x="127" y="141"/>
                  </a:cubicBezTo>
                  <a:cubicBezTo>
                    <a:pt x="133" y="141"/>
                    <a:pt x="139" y="141"/>
                    <a:pt x="144" y="141"/>
                  </a:cubicBezTo>
                  <a:cubicBezTo>
                    <a:pt x="144" y="139"/>
                    <a:pt x="144" y="137"/>
                    <a:pt x="144" y="135"/>
                  </a:cubicBezTo>
                  <a:cubicBezTo>
                    <a:pt x="138" y="135"/>
                    <a:pt x="133" y="135"/>
                    <a:pt x="127" y="135"/>
                  </a:cubicBezTo>
                  <a:close/>
                  <a:moveTo>
                    <a:pt x="105" y="135"/>
                  </a:moveTo>
                  <a:cubicBezTo>
                    <a:pt x="105" y="137"/>
                    <a:pt x="104" y="139"/>
                    <a:pt x="104" y="141"/>
                  </a:cubicBezTo>
                  <a:cubicBezTo>
                    <a:pt x="110" y="141"/>
                    <a:pt x="115" y="141"/>
                    <a:pt x="121" y="141"/>
                  </a:cubicBezTo>
                  <a:cubicBezTo>
                    <a:pt x="121" y="139"/>
                    <a:pt x="122" y="137"/>
                    <a:pt x="122" y="135"/>
                  </a:cubicBezTo>
                  <a:cubicBezTo>
                    <a:pt x="116" y="135"/>
                    <a:pt x="111" y="135"/>
                    <a:pt x="105" y="135"/>
                  </a:cubicBezTo>
                  <a:close/>
                  <a:moveTo>
                    <a:pt x="83" y="135"/>
                  </a:moveTo>
                  <a:cubicBezTo>
                    <a:pt x="83" y="137"/>
                    <a:pt x="82" y="139"/>
                    <a:pt x="81" y="141"/>
                  </a:cubicBezTo>
                  <a:cubicBezTo>
                    <a:pt x="87" y="141"/>
                    <a:pt x="93" y="141"/>
                    <a:pt x="99" y="141"/>
                  </a:cubicBezTo>
                  <a:cubicBezTo>
                    <a:pt x="99" y="139"/>
                    <a:pt x="100" y="137"/>
                    <a:pt x="100" y="135"/>
                  </a:cubicBezTo>
                  <a:cubicBezTo>
                    <a:pt x="94" y="135"/>
                    <a:pt x="89" y="135"/>
                    <a:pt x="83" y="135"/>
                  </a:cubicBezTo>
                  <a:close/>
                  <a:moveTo>
                    <a:pt x="187" y="144"/>
                  </a:moveTo>
                  <a:cubicBezTo>
                    <a:pt x="188" y="146"/>
                    <a:pt x="189" y="149"/>
                    <a:pt x="190" y="151"/>
                  </a:cubicBezTo>
                  <a:cubicBezTo>
                    <a:pt x="200" y="151"/>
                    <a:pt x="209" y="151"/>
                    <a:pt x="219" y="151"/>
                  </a:cubicBezTo>
                  <a:cubicBezTo>
                    <a:pt x="218" y="149"/>
                    <a:pt x="216" y="146"/>
                    <a:pt x="215" y="144"/>
                  </a:cubicBezTo>
                  <a:cubicBezTo>
                    <a:pt x="205" y="144"/>
                    <a:pt x="196" y="144"/>
                    <a:pt x="187" y="144"/>
                  </a:cubicBezTo>
                  <a:close/>
                  <a:moveTo>
                    <a:pt x="163" y="144"/>
                  </a:moveTo>
                  <a:cubicBezTo>
                    <a:pt x="163" y="146"/>
                    <a:pt x="164" y="149"/>
                    <a:pt x="165" y="151"/>
                  </a:cubicBezTo>
                  <a:cubicBezTo>
                    <a:pt x="171" y="151"/>
                    <a:pt x="177" y="151"/>
                    <a:pt x="183" y="151"/>
                  </a:cubicBezTo>
                  <a:cubicBezTo>
                    <a:pt x="183" y="149"/>
                    <a:pt x="182" y="146"/>
                    <a:pt x="181" y="144"/>
                  </a:cubicBezTo>
                  <a:cubicBezTo>
                    <a:pt x="175" y="144"/>
                    <a:pt x="169" y="144"/>
                    <a:pt x="163" y="144"/>
                  </a:cubicBezTo>
                  <a:close/>
                  <a:moveTo>
                    <a:pt x="139" y="144"/>
                  </a:moveTo>
                  <a:cubicBezTo>
                    <a:pt x="140" y="146"/>
                    <a:pt x="140" y="149"/>
                    <a:pt x="140" y="151"/>
                  </a:cubicBezTo>
                  <a:cubicBezTo>
                    <a:pt x="146" y="151"/>
                    <a:pt x="153" y="151"/>
                    <a:pt x="159" y="151"/>
                  </a:cubicBezTo>
                  <a:cubicBezTo>
                    <a:pt x="158" y="149"/>
                    <a:pt x="158" y="146"/>
                    <a:pt x="157" y="144"/>
                  </a:cubicBezTo>
                  <a:cubicBezTo>
                    <a:pt x="151" y="144"/>
                    <a:pt x="145" y="144"/>
                    <a:pt x="139" y="144"/>
                  </a:cubicBezTo>
                  <a:close/>
                  <a:moveTo>
                    <a:pt x="116" y="144"/>
                  </a:moveTo>
                  <a:cubicBezTo>
                    <a:pt x="116" y="146"/>
                    <a:pt x="115" y="149"/>
                    <a:pt x="115" y="151"/>
                  </a:cubicBezTo>
                  <a:cubicBezTo>
                    <a:pt x="121" y="151"/>
                    <a:pt x="128" y="151"/>
                    <a:pt x="134" y="151"/>
                  </a:cubicBezTo>
                  <a:cubicBezTo>
                    <a:pt x="134" y="149"/>
                    <a:pt x="134" y="146"/>
                    <a:pt x="134" y="144"/>
                  </a:cubicBezTo>
                  <a:cubicBezTo>
                    <a:pt x="128" y="144"/>
                    <a:pt x="122" y="144"/>
                    <a:pt x="116" y="144"/>
                  </a:cubicBezTo>
                  <a:close/>
                  <a:moveTo>
                    <a:pt x="92" y="144"/>
                  </a:moveTo>
                  <a:cubicBezTo>
                    <a:pt x="92" y="146"/>
                    <a:pt x="91" y="149"/>
                    <a:pt x="91" y="151"/>
                  </a:cubicBezTo>
                  <a:cubicBezTo>
                    <a:pt x="97" y="151"/>
                    <a:pt x="103" y="151"/>
                    <a:pt x="109" y="151"/>
                  </a:cubicBezTo>
                  <a:cubicBezTo>
                    <a:pt x="110" y="149"/>
                    <a:pt x="110" y="146"/>
                    <a:pt x="110" y="144"/>
                  </a:cubicBezTo>
                  <a:cubicBezTo>
                    <a:pt x="104" y="144"/>
                    <a:pt x="98" y="144"/>
                    <a:pt x="92" y="144"/>
                  </a:cubicBezTo>
                  <a:close/>
                  <a:moveTo>
                    <a:pt x="69" y="144"/>
                  </a:moveTo>
                  <a:cubicBezTo>
                    <a:pt x="68" y="146"/>
                    <a:pt x="67" y="149"/>
                    <a:pt x="66" y="151"/>
                  </a:cubicBezTo>
                  <a:cubicBezTo>
                    <a:pt x="72" y="151"/>
                    <a:pt x="78" y="151"/>
                    <a:pt x="84" y="151"/>
                  </a:cubicBezTo>
                  <a:cubicBezTo>
                    <a:pt x="85" y="149"/>
                    <a:pt x="86" y="146"/>
                    <a:pt x="87" y="144"/>
                  </a:cubicBezTo>
                  <a:cubicBezTo>
                    <a:pt x="81" y="144"/>
                    <a:pt x="75" y="144"/>
                    <a:pt x="69" y="144"/>
                  </a:cubicBezTo>
                  <a:close/>
                  <a:moveTo>
                    <a:pt x="45" y="144"/>
                  </a:moveTo>
                  <a:cubicBezTo>
                    <a:pt x="44" y="146"/>
                    <a:pt x="43" y="149"/>
                    <a:pt x="41" y="151"/>
                  </a:cubicBezTo>
                  <a:cubicBezTo>
                    <a:pt x="47" y="151"/>
                    <a:pt x="54" y="151"/>
                    <a:pt x="60" y="151"/>
                  </a:cubicBezTo>
                  <a:cubicBezTo>
                    <a:pt x="61" y="149"/>
                    <a:pt x="62" y="146"/>
                    <a:pt x="63" y="144"/>
                  </a:cubicBezTo>
                  <a:cubicBezTo>
                    <a:pt x="57" y="144"/>
                    <a:pt x="51" y="144"/>
                    <a:pt x="45" y="144"/>
                  </a:cubicBezTo>
                  <a:close/>
                  <a:moveTo>
                    <a:pt x="197" y="155"/>
                  </a:moveTo>
                  <a:cubicBezTo>
                    <a:pt x="198" y="158"/>
                    <a:pt x="199" y="160"/>
                    <a:pt x="201" y="163"/>
                  </a:cubicBezTo>
                  <a:cubicBezTo>
                    <a:pt x="209" y="163"/>
                    <a:pt x="218" y="163"/>
                    <a:pt x="227" y="163"/>
                  </a:cubicBezTo>
                  <a:cubicBezTo>
                    <a:pt x="225" y="160"/>
                    <a:pt x="223" y="158"/>
                    <a:pt x="222" y="155"/>
                  </a:cubicBezTo>
                  <a:cubicBezTo>
                    <a:pt x="213" y="155"/>
                    <a:pt x="205" y="155"/>
                    <a:pt x="197" y="155"/>
                  </a:cubicBezTo>
                  <a:close/>
                  <a:moveTo>
                    <a:pt x="171" y="155"/>
                  </a:moveTo>
                  <a:cubicBezTo>
                    <a:pt x="172" y="158"/>
                    <a:pt x="173" y="160"/>
                    <a:pt x="174" y="163"/>
                  </a:cubicBezTo>
                  <a:cubicBezTo>
                    <a:pt x="180" y="163"/>
                    <a:pt x="187" y="163"/>
                    <a:pt x="194" y="163"/>
                  </a:cubicBezTo>
                  <a:cubicBezTo>
                    <a:pt x="193" y="160"/>
                    <a:pt x="192" y="158"/>
                    <a:pt x="191" y="155"/>
                  </a:cubicBezTo>
                  <a:cubicBezTo>
                    <a:pt x="184" y="155"/>
                    <a:pt x="178" y="155"/>
                    <a:pt x="171" y="155"/>
                  </a:cubicBezTo>
                  <a:close/>
                  <a:moveTo>
                    <a:pt x="146" y="155"/>
                  </a:moveTo>
                  <a:cubicBezTo>
                    <a:pt x="146" y="158"/>
                    <a:pt x="147" y="160"/>
                    <a:pt x="147" y="163"/>
                  </a:cubicBezTo>
                  <a:cubicBezTo>
                    <a:pt x="154" y="163"/>
                    <a:pt x="161" y="163"/>
                    <a:pt x="168" y="163"/>
                  </a:cubicBezTo>
                  <a:cubicBezTo>
                    <a:pt x="167" y="160"/>
                    <a:pt x="166" y="158"/>
                    <a:pt x="165" y="155"/>
                  </a:cubicBezTo>
                  <a:cubicBezTo>
                    <a:pt x="159" y="155"/>
                    <a:pt x="153" y="155"/>
                    <a:pt x="146" y="155"/>
                  </a:cubicBezTo>
                  <a:close/>
                  <a:moveTo>
                    <a:pt x="121" y="155"/>
                  </a:moveTo>
                  <a:cubicBezTo>
                    <a:pt x="121" y="158"/>
                    <a:pt x="121" y="160"/>
                    <a:pt x="120" y="163"/>
                  </a:cubicBezTo>
                  <a:cubicBezTo>
                    <a:pt x="127" y="163"/>
                    <a:pt x="134" y="163"/>
                    <a:pt x="141" y="163"/>
                  </a:cubicBezTo>
                  <a:cubicBezTo>
                    <a:pt x="141" y="160"/>
                    <a:pt x="141" y="158"/>
                    <a:pt x="140" y="155"/>
                  </a:cubicBezTo>
                  <a:cubicBezTo>
                    <a:pt x="134" y="155"/>
                    <a:pt x="127" y="155"/>
                    <a:pt x="121" y="155"/>
                  </a:cubicBezTo>
                  <a:close/>
                  <a:moveTo>
                    <a:pt x="95" y="155"/>
                  </a:moveTo>
                  <a:cubicBezTo>
                    <a:pt x="95" y="158"/>
                    <a:pt x="94" y="160"/>
                    <a:pt x="93" y="163"/>
                  </a:cubicBezTo>
                  <a:cubicBezTo>
                    <a:pt x="100" y="163"/>
                    <a:pt x="107" y="163"/>
                    <a:pt x="114" y="163"/>
                  </a:cubicBezTo>
                  <a:cubicBezTo>
                    <a:pt x="114" y="160"/>
                    <a:pt x="114" y="158"/>
                    <a:pt x="115" y="155"/>
                  </a:cubicBezTo>
                  <a:cubicBezTo>
                    <a:pt x="108" y="155"/>
                    <a:pt x="102" y="155"/>
                    <a:pt x="95" y="155"/>
                  </a:cubicBezTo>
                  <a:close/>
                  <a:moveTo>
                    <a:pt x="70" y="155"/>
                  </a:moveTo>
                  <a:cubicBezTo>
                    <a:pt x="69" y="158"/>
                    <a:pt x="68" y="160"/>
                    <a:pt x="67" y="163"/>
                  </a:cubicBezTo>
                  <a:cubicBezTo>
                    <a:pt x="74" y="163"/>
                    <a:pt x="81" y="163"/>
                    <a:pt x="87" y="163"/>
                  </a:cubicBezTo>
                  <a:cubicBezTo>
                    <a:pt x="88" y="160"/>
                    <a:pt x="89" y="158"/>
                    <a:pt x="90" y="155"/>
                  </a:cubicBezTo>
                  <a:cubicBezTo>
                    <a:pt x="83" y="155"/>
                    <a:pt x="77" y="155"/>
                    <a:pt x="70" y="15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69560" bIns="33624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3" name="文本框 104"/>
          <p:cNvSpPr/>
          <p:nvPr/>
        </p:nvSpPr>
        <p:spPr>
          <a:xfrm>
            <a:off x="347760" y="1859040"/>
            <a:ext cx="111330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货作为企业生产制造及销售过程中关键的基础物料，在企业的重要地位不言而 喻。不仅占用的资金大，而且品种繁多，与其他类型的资产相比，存货具有下列特点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文本框 106"/>
          <p:cNvSpPr/>
          <p:nvPr/>
        </p:nvSpPr>
        <p:spPr>
          <a:xfrm>
            <a:off x="766800" y="4697280"/>
            <a:ext cx="27734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动性强、周转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1"/>
          <p:cNvSpPr/>
          <p:nvPr/>
        </p:nvSpPr>
        <p:spPr>
          <a:xfrm>
            <a:off x="3621240" y="995400"/>
            <a:ext cx="47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6" name="文本框 31" descr=""/>
          <p:cNvPicPr/>
          <p:nvPr/>
        </p:nvPicPr>
        <p:blipFill>
          <a:blip r:embed="rId3"/>
          <a:stretch/>
        </p:blipFill>
        <p:spPr>
          <a:xfrm>
            <a:off x="3086280" y="103320"/>
            <a:ext cx="58356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97" name="组合 73"/>
          <p:cNvGrpSpPr/>
          <p:nvPr/>
        </p:nvGrpSpPr>
        <p:grpSpPr>
          <a:xfrm>
            <a:off x="8904240" y="3479760"/>
            <a:ext cx="1800360" cy="822240"/>
            <a:chOff x="8904240" y="3479760"/>
            <a:chExt cx="1800360" cy="822240"/>
          </a:xfrm>
        </p:grpSpPr>
        <p:pic>
          <p:nvPicPr>
            <p:cNvPr id="1998" name="圆角矩形 74" descr=""/>
            <p:cNvPicPr/>
            <p:nvPr/>
          </p:nvPicPr>
          <p:blipFill>
            <a:blip r:embed="rId4"/>
            <a:stretch/>
          </p:blipFill>
          <p:spPr>
            <a:xfrm>
              <a:off x="9092160" y="3582360"/>
              <a:ext cx="1612440" cy="7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9" name="圆角矩形 75"/>
            <p:cNvSpPr/>
            <p:nvPr/>
          </p:nvSpPr>
          <p:spPr>
            <a:xfrm>
              <a:off x="8904240" y="3479760"/>
              <a:ext cx="1583280" cy="69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2700000"/>
            </a:gradFill>
            <a:ln w="12600">
              <a:solidFill>
                <a:srgbClr val="c292c5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文本框 68"/>
            <p:cNvSpPr/>
            <p:nvPr/>
          </p:nvSpPr>
          <p:spPr>
            <a:xfrm>
              <a:off x="9969120" y="3565440"/>
              <a:ext cx="50076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914f96"/>
                  </a:solidFill>
                  <a:latin typeface="Arial"/>
                </a:rPr>
                <a:t>3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1" name="组合 6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002" name="KSO_Shape"/>
            <p:cNvSpPr/>
            <p:nvPr/>
          </p:nvSpPr>
          <p:spPr>
            <a:xfrm>
              <a:off x="9127800" y="3651120"/>
              <a:ext cx="519840" cy="346320"/>
            </a:xfrm>
            <a:custGeom>
              <a:avLst/>
              <a:gdLst/>
              <a:ahLst/>
              <a:rect l="l" t="t" r="r" b="b"/>
              <a:pathLst>
                <a:path w="5868" h="4208">
                  <a:moveTo>
                    <a:pt x="49" y="1128"/>
                  </a:moveTo>
                  <a:lnTo>
                    <a:pt x="49" y="1128"/>
                  </a:lnTo>
                  <a:lnTo>
                    <a:pt x="345" y="1748"/>
                  </a:lnTo>
                  <a:lnTo>
                    <a:pt x="354" y="1764"/>
                  </a:lnTo>
                  <a:lnTo>
                    <a:pt x="364" y="1778"/>
                  </a:lnTo>
                  <a:lnTo>
                    <a:pt x="375" y="1790"/>
                  </a:lnTo>
                  <a:lnTo>
                    <a:pt x="387" y="1803"/>
                  </a:lnTo>
                  <a:lnTo>
                    <a:pt x="400" y="1813"/>
                  </a:lnTo>
                  <a:lnTo>
                    <a:pt x="413" y="1821"/>
                  </a:lnTo>
                  <a:lnTo>
                    <a:pt x="428" y="1828"/>
                  </a:lnTo>
                  <a:lnTo>
                    <a:pt x="443" y="1834"/>
                  </a:lnTo>
                  <a:lnTo>
                    <a:pt x="460" y="1838"/>
                  </a:lnTo>
                  <a:lnTo>
                    <a:pt x="477" y="1842"/>
                  </a:lnTo>
                  <a:lnTo>
                    <a:pt x="495" y="1844"/>
                  </a:lnTo>
                  <a:lnTo>
                    <a:pt x="512" y="1845"/>
                  </a:lnTo>
                  <a:lnTo>
                    <a:pt x="531" y="1845"/>
                  </a:lnTo>
                  <a:lnTo>
                    <a:pt x="551" y="1843"/>
                  </a:lnTo>
                  <a:lnTo>
                    <a:pt x="573" y="1841"/>
                  </a:lnTo>
                  <a:lnTo>
                    <a:pt x="594" y="1837"/>
                  </a:lnTo>
                  <a:lnTo>
                    <a:pt x="1457" y="1607"/>
                  </a:lnTo>
                  <a:lnTo>
                    <a:pt x="1479" y="1599"/>
                  </a:lnTo>
                  <a:lnTo>
                    <a:pt x="1500" y="1589"/>
                  </a:lnTo>
                  <a:lnTo>
                    <a:pt x="1519" y="1579"/>
                  </a:lnTo>
                  <a:lnTo>
                    <a:pt x="1537" y="1569"/>
                  </a:lnTo>
                  <a:lnTo>
                    <a:pt x="1552" y="1557"/>
                  </a:lnTo>
                  <a:lnTo>
                    <a:pt x="1567" y="1546"/>
                  </a:lnTo>
                  <a:lnTo>
                    <a:pt x="1580" y="1534"/>
                  </a:lnTo>
                  <a:lnTo>
                    <a:pt x="1591" y="1522"/>
                  </a:lnTo>
                  <a:lnTo>
                    <a:pt x="1601" y="1510"/>
                  </a:lnTo>
                  <a:lnTo>
                    <a:pt x="1610" y="1496"/>
                  </a:lnTo>
                  <a:lnTo>
                    <a:pt x="1617" y="1482"/>
                  </a:lnTo>
                  <a:lnTo>
                    <a:pt x="1624" y="1467"/>
                  </a:lnTo>
                  <a:lnTo>
                    <a:pt x="1628" y="1453"/>
                  </a:lnTo>
                  <a:lnTo>
                    <a:pt x="1632" y="1438"/>
                  </a:lnTo>
                  <a:lnTo>
                    <a:pt x="1633" y="1423"/>
                  </a:lnTo>
                  <a:lnTo>
                    <a:pt x="1634" y="1406"/>
                  </a:lnTo>
                  <a:lnTo>
                    <a:pt x="1627" y="927"/>
                  </a:lnTo>
                  <a:lnTo>
                    <a:pt x="1664" y="910"/>
                  </a:lnTo>
                  <a:lnTo>
                    <a:pt x="1701" y="894"/>
                  </a:lnTo>
                  <a:lnTo>
                    <a:pt x="1775" y="863"/>
                  </a:lnTo>
                  <a:lnTo>
                    <a:pt x="1851" y="834"/>
                  </a:lnTo>
                  <a:lnTo>
                    <a:pt x="1929" y="807"/>
                  </a:lnTo>
                  <a:lnTo>
                    <a:pt x="2008" y="782"/>
                  </a:lnTo>
                  <a:lnTo>
                    <a:pt x="2089" y="759"/>
                  </a:lnTo>
                  <a:lnTo>
                    <a:pt x="2170" y="739"/>
                  </a:lnTo>
                  <a:lnTo>
                    <a:pt x="2252" y="720"/>
                  </a:lnTo>
                  <a:lnTo>
                    <a:pt x="2335" y="705"/>
                  </a:lnTo>
                  <a:lnTo>
                    <a:pt x="2420" y="690"/>
                  </a:lnTo>
                  <a:lnTo>
                    <a:pt x="2504" y="679"/>
                  </a:lnTo>
                  <a:lnTo>
                    <a:pt x="2589" y="669"/>
                  </a:lnTo>
                  <a:lnTo>
                    <a:pt x="2675" y="661"/>
                  </a:lnTo>
                  <a:lnTo>
                    <a:pt x="2761" y="657"/>
                  </a:lnTo>
                  <a:lnTo>
                    <a:pt x="2848" y="654"/>
                  </a:lnTo>
                  <a:lnTo>
                    <a:pt x="2934" y="652"/>
                  </a:lnTo>
                  <a:lnTo>
                    <a:pt x="3021" y="654"/>
                  </a:lnTo>
                  <a:lnTo>
                    <a:pt x="3106" y="657"/>
                  </a:lnTo>
                  <a:lnTo>
                    <a:pt x="3192" y="661"/>
                  </a:lnTo>
                  <a:lnTo>
                    <a:pt x="3278" y="669"/>
                  </a:lnTo>
                  <a:lnTo>
                    <a:pt x="3364" y="679"/>
                  </a:lnTo>
                  <a:lnTo>
                    <a:pt x="3449" y="690"/>
                  </a:lnTo>
                  <a:lnTo>
                    <a:pt x="3532" y="705"/>
                  </a:lnTo>
                  <a:lnTo>
                    <a:pt x="3616" y="720"/>
                  </a:lnTo>
                  <a:lnTo>
                    <a:pt x="3698" y="739"/>
                  </a:lnTo>
                  <a:lnTo>
                    <a:pt x="3780" y="759"/>
                  </a:lnTo>
                  <a:lnTo>
                    <a:pt x="3860" y="782"/>
                  </a:lnTo>
                  <a:lnTo>
                    <a:pt x="3939" y="807"/>
                  </a:lnTo>
                  <a:lnTo>
                    <a:pt x="4017" y="834"/>
                  </a:lnTo>
                  <a:lnTo>
                    <a:pt x="4093" y="863"/>
                  </a:lnTo>
                  <a:lnTo>
                    <a:pt x="4168" y="894"/>
                  </a:lnTo>
                  <a:lnTo>
                    <a:pt x="4204" y="910"/>
                  </a:lnTo>
                  <a:lnTo>
                    <a:pt x="4241" y="927"/>
                  </a:lnTo>
                  <a:lnTo>
                    <a:pt x="4235" y="1406"/>
                  </a:lnTo>
                  <a:lnTo>
                    <a:pt x="4235" y="1423"/>
                  </a:lnTo>
                  <a:lnTo>
                    <a:pt x="4237" y="1438"/>
                  </a:lnTo>
                  <a:lnTo>
                    <a:pt x="4240" y="1453"/>
                  </a:lnTo>
                  <a:lnTo>
                    <a:pt x="4245" y="1467"/>
                  </a:lnTo>
                  <a:lnTo>
                    <a:pt x="4250" y="1482"/>
                  </a:lnTo>
                  <a:lnTo>
                    <a:pt x="4258" y="1496"/>
                  </a:lnTo>
                  <a:lnTo>
                    <a:pt x="4266" y="1510"/>
                  </a:lnTo>
                  <a:lnTo>
                    <a:pt x="4276" y="1522"/>
                  </a:lnTo>
                  <a:lnTo>
                    <a:pt x="4288" y="1534"/>
                  </a:lnTo>
                  <a:lnTo>
                    <a:pt x="4300" y="1546"/>
                  </a:lnTo>
                  <a:lnTo>
                    <a:pt x="4315" y="1557"/>
                  </a:lnTo>
                  <a:lnTo>
                    <a:pt x="4331" y="1569"/>
                  </a:lnTo>
                  <a:lnTo>
                    <a:pt x="4349" y="1579"/>
                  </a:lnTo>
                  <a:lnTo>
                    <a:pt x="4368" y="1589"/>
                  </a:lnTo>
                  <a:lnTo>
                    <a:pt x="4389" y="1599"/>
                  </a:lnTo>
                  <a:lnTo>
                    <a:pt x="4412" y="1607"/>
                  </a:lnTo>
                  <a:lnTo>
                    <a:pt x="5275" y="1837"/>
                  </a:lnTo>
                  <a:lnTo>
                    <a:pt x="5296" y="1841"/>
                  </a:lnTo>
                  <a:lnTo>
                    <a:pt x="5316" y="1843"/>
                  </a:lnTo>
                  <a:lnTo>
                    <a:pt x="5336" y="1845"/>
                  </a:lnTo>
                  <a:lnTo>
                    <a:pt x="5355" y="1845"/>
                  </a:lnTo>
                  <a:lnTo>
                    <a:pt x="5374" y="1844"/>
                  </a:lnTo>
                  <a:lnTo>
                    <a:pt x="5392" y="1842"/>
                  </a:lnTo>
                  <a:lnTo>
                    <a:pt x="5408" y="1838"/>
                  </a:lnTo>
                  <a:lnTo>
                    <a:pt x="5425" y="1834"/>
                  </a:lnTo>
                  <a:lnTo>
                    <a:pt x="5440" y="1828"/>
                  </a:lnTo>
                  <a:lnTo>
                    <a:pt x="5454" y="1821"/>
                  </a:lnTo>
                  <a:lnTo>
                    <a:pt x="5469" y="1813"/>
                  </a:lnTo>
                  <a:lnTo>
                    <a:pt x="5481" y="1803"/>
                  </a:lnTo>
                  <a:lnTo>
                    <a:pt x="5493" y="1790"/>
                  </a:lnTo>
                  <a:lnTo>
                    <a:pt x="5504" y="1778"/>
                  </a:lnTo>
                  <a:lnTo>
                    <a:pt x="5514" y="1764"/>
                  </a:lnTo>
                  <a:lnTo>
                    <a:pt x="5523" y="1748"/>
                  </a:lnTo>
                  <a:lnTo>
                    <a:pt x="5820" y="1128"/>
                  </a:lnTo>
                  <a:lnTo>
                    <a:pt x="5835" y="1095"/>
                  </a:lnTo>
                  <a:lnTo>
                    <a:pt x="5848" y="1065"/>
                  </a:lnTo>
                  <a:lnTo>
                    <a:pt x="5856" y="1037"/>
                  </a:lnTo>
                  <a:lnTo>
                    <a:pt x="5863" y="1011"/>
                  </a:lnTo>
                  <a:lnTo>
                    <a:pt x="5867" y="988"/>
                  </a:lnTo>
                  <a:lnTo>
                    <a:pt x="5868" y="966"/>
                  </a:lnTo>
                  <a:lnTo>
                    <a:pt x="5868" y="956"/>
                  </a:lnTo>
                  <a:lnTo>
                    <a:pt x="5867" y="946"/>
                  </a:lnTo>
                  <a:lnTo>
                    <a:pt x="5864" y="936"/>
                  </a:lnTo>
                  <a:lnTo>
                    <a:pt x="5862" y="927"/>
                  </a:lnTo>
                  <a:lnTo>
                    <a:pt x="5859" y="918"/>
                  </a:lnTo>
                  <a:lnTo>
                    <a:pt x="5854" y="909"/>
                  </a:lnTo>
                  <a:lnTo>
                    <a:pt x="5845" y="892"/>
                  </a:lnTo>
                  <a:lnTo>
                    <a:pt x="5833" y="876"/>
                  </a:lnTo>
                  <a:lnTo>
                    <a:pt x="5820" y="861"/>
                  </a:lnTo>
                  <a:lnTo>
                    <a:pt x="5803" y="846"/>
                  </a:lnTo>
                  <a:lnTo>
                    <a:pt x="5784" y="832"/>
                  </a:lnTo>
                  <a:lnTo>
                    <a:pt x="5763" y="817"/>
                  </a:lnTo>
                  <a:lnTo>
                    <a:pt x="5741" y="803"/>
                  </a:lnTo>
                  <a:lnTo>
                    <a:pt x="5652" y="754"/>
                  </a:lnTo>
                  <a:lnTo>
                    <a:pt x="5564" y="706"/>
                  </a:lnTo>
                  <a:lnTo>
                    <a:pt x="5476" y="660"/>
                  </a:lnTo>
                  <a:lnTo>
                    <a:pt x="5389" y="616"/>
                  </a:lnTo>
                  <a:lnTo>
                    <a:pt x="5301" y="572"/>
                  </a:lnTo>
                  <a:lnTo>
                    <a:pt x="5213" y="531"/>
                  </a:lnTo>
                  <a:lnTo>
                    <a:pt x="5125" y="491"/>
                  </a:lnTo>
                  <a:lnTo>
                    <a:pt x="5037" y="452"/>
                  </a:lnTo>
                  <a:lnTo>
                    <a:pt x="4950" y="415"/>
                  </a:lnTo>
                  <a:lnTo>
                    <a:pt x="4862" y="381"/>
                  </a:lnTo>
                  <a:lnTo>
                    <a:pt x="4774" y="346"/>
                  </a:lnTo>
                  <a:lnTo>
                    <a:pt x="4686" y="315"/>
                  </a:lnTo>
                  <a:lnTo>
                    <a:pt x="4599" y="284"/>
                  </a:lnTo>
                  <a:lnTo>
                    <a:pt x="4511" y="255"/>
                  </a:lnTo>
                  <a:lnTo>
                    <a:pt x="4423" y="228"/>
                  </a:lnTo>
                  <a:lnTo>
                    <a:pt x="4336" y="201"/>
                  </a:lnTo>
                  <a:lnTo>
                    <a:pt x="4248" y="178"/>
                  </a:lnTo>
                  <a:lnTo>
                    <a:pt x="4161" y="154"/>
                  </a:lnTo>
                  <a:lnTo>
                    <a:pt x="4073" y="133"/>
                  </a:lnTo>
                  <a:lnTo>
                    <a:pt x="3985" y="114"/>
                  </a:lnTo>
                  <a:lnTo>
                    <a:pt x="3898" y="95"/>
                  </a:lnTo>
                  <a:lnTo>
                    <a:pt x="3810" y="80"/>
                  </a:lnTo>
                  <a:lnTo>
                    <a:pt x="3722" y="64"/>
                  </a:lnTo>
                  <a:lnTo>
                    <a:pt x="3635" y="51"/>
                  </a:lnTo>
                  <a:lnTo>
                    <a:pt x="3547" y="39"/>
                  </a:lnTo>
                  <a:lnTo>
                    <a:pt x="3460" y="29"/>
                  </a:lnTo>
                  <a:lnTo>
                    <a:pt x="3372" y="21"/>
                  </a:lnTo>
                  <a:lnTo>
                    <a:pt x="3285" y="14"/>
                  </a:lnTo>
                  <a:lnTo>
                    <a:pt x="3197" y="8"/>
                  </a:lnTo>
                  <a:lnTo>
                    <a:pt x="3109" y="4"/>
                  </a:lnTo>
                  <a:lnTo>
                    <a:pt x="3022" y="2"/>
                  </a:lnTo>
                  <a:lnTo>
                    <a:pt x="2934" y="0"/>
                  </a:lnTo>
                  <a:lnTo>
                    <a:pt x="2847" y="2"/>
                  </a:lnTo>
                  <a:lnTo>
                    <a:pt x="2759" y="4"/>
                  </a:lnTo>
                  <a:lnTo>
                    <a:pt x="2672" y="8"/>
                  </a:lnTo>
                  <a:lnTo>
                    <a:pt x="2584" y="14"/>
                  </a:lnTo>
                  <a:lnTo>
                    <a:pt x="2497" y="21"/>
                  </a:lnTo>
                  <a:lnTo>
                    <a:pt x="2409" y="29"/>
                  </a:lnTo>
                  <a:lnTo>
                    <a:pt x="2320" y="39"/>
                  </a:lnTo>
                  <a:lnTo>
                    <a:pt x="2234" y="51"/>
                  </a:lnTo>
                  <a:lnTo>
                    <a:pt x="2145" y="64"/>
                  </a:lnTo>
                  <a:lnTo>
                    <a:pt x="2059" y="80"/>
                  </a:lnTo>
                  <a:lnTo>
                    <a:pt x="1970" y="95"/>
                  </a:lnTo>
                  <a:lnTo>
                    <a:pt x="1882" y="114"/>
                  </a:lnTo>
                  <a:lnTo>
                    <a:pt x="1795" y="133"/>
                  </a:lnTo>
                  <a:lnTo>
                    <a:pt x="1707" y="154"/>
                  </a:lnTo>
                  <a:lnTo>
                    <a:pt x="1620" y="178"/>
                  </a:lnTo>
                  <a:lnTo>
                    <a:pt x="1532" y="201"/>
                  </a:lnTo>
                  <a:lnTo>
                    <a:pt x="1444" y="228"/>
                  </a:lnTo>
                  <a:lnTo>
                    <a:pt x="1357" y="255"/>
                  </a:lnTo>
                  <a:lnTo>
                    <a:pt x="1269" y="284"/>
                  </a:lnTo>
                  <a:lnTo>
                    <a:pt x="1181" y="315"/>
                  </a:lnTo>
                  <a:lnTo>
                    <a:pt x="1094" y="346"/>
                  </a:lnTo>
                  <a:lnTo>
                    <a:pt x="1006" y="381"/>
                  </a:lnTo>
                  <a:lnTo>
                    <a:pt x="918" y="415"/>
                  </a:lnTo>
                  <a:lnTo>
                    <a:pt x="830" y="452"/>
                  </a:lnTo>
                  <a:lnTo>
                    <a:pt x="743" y="491"/>
                  </a:lnTo>
                  <a:lnTo>
                    <a:pt x="655" y="531"/>
                  </a:lnTo>
                  <a:lnTo>
                    <a:pt x="567" y="572"/>
                  </a:lnTo>
                  <a:lnTo>
                    <a:pt x="479" y="616"/>
                  </a:lnTo>
                  <a:lnTo>
                    <a:pt x="391" y="660"/>
                  </a:lnTo>
                  <a:lnTo>
                    <a:pt x="303" y="706"/>
                  </a:lnTo>
                  <a:lnTo>
                    <a:pt x="216" y="754"/>
                  </a:lnTo>
                  <a:lnTo>
                    <a:pt x="128" y="803"/>
                  </a:lnTo>
                  <a:lnTo>
                    <a:pt x="104" y="817"/>
                  </a:lnTo>
                  <a:lnTo>
                    <a:pt x="84" y="832"/>
                  </a:lnTo>
                  <a:lnTo>
                    <a:pt x="65" y="846"/>
                  </a:lnTo>
                  <a:lnTo>
                    <a:pt x="49" y="861"/>
                  </a:lnTo>
                  <a:lnTo>
                    <a:pt x="34" y="876"/>
                  </a:lnTo>
                  <a:lnTo>
                    <a:pt x="23" y="892"/>
                  </a:lnTo>
                  <a:lnTo>
                    <a:pt x="13" y="909"/>
                  </a:lnTo>
                  <a:lnTo>
                    <a:pt x="10" y="918"/>
                  </a:lnTo>
                  <a:lnTo>
                    <a:pt x="6" y="927"/>
                  </a:lnTo>
                  <a:lnTo>
                    <a:pt x="4" y="936"/>
                  </a:lnTo>
                  <a:lnTo>
                    <a:pt x="2" y="946"/>
                  </a:lnTo>
                  <a:lnTo>
                    <a:pt x="1" y="956"/>
                  </a:lnTo>
                  <a:lnTo>
                    <a:pt x="0" y="966"/>
                  </a:lnTo>
                  <a:lnTo>
                    <a:pt x="1" y="988"/>
                  </a:lnTo>
                  <a:lnTo>
                    <a:pt x="4" y="1011"/>
                  </a:lnTo>
                  <a:lnTo>
                    <a:pt x="11" y="1037"/>
                  </a:lnTo>
                  <a:lnTo>
                    <a:pt x="21" y="1065"/>
                  </a:lnTo>
                  <a:lnTo>
                    <a:pt x="33" y="1095"/>
                  </a:lnTo>
                  <a:lnTo>
                    <a:pt x="49" y="1128"/>
                  </a:lnTo>
                  <a:close/>
                  <a:moveTo>
                    <a:pt x="2041" y="1134"/>
                  </a:moveTo>
                  <a:lnTo>
                    <a:pt x="2041" y="1134"/>
                  </a:lnTo>
                  <a:lnTo>
                    <a:pt x="2096" y="1117"/>
                  </a:lnTo>
                  <a:lnTo>
                    <a:pt x="2153" y="1101"/>
                  </a:lnTo>
                  <a:lnTo>
                    <a:pt x="2210" y="1085"/>
                  </a:lnTo>
                  <a:lnTo>
                    <a:pt x="2267" y="1072"/>
                  </a:lnTo>
                  <a:lnTo>
                    <a:pt x="2324" y="1058"/>
                  </a:lnTo>
                  <a:lnTo>
                    <a:pt x="2381" y="1046"/>
                  </a:lnTo>
                  <a:lnTo>
                    <a:pt x="2438" y="1036"/>
                  </a:lnTo>
                  <a:lnTo>
                    <a:pt x="2495" y="1026"/>
                  </a:lnTo>
                  <a:lnTo>
                    <a:pt x="2553" y="1017"/>
                  </a:lnTo>
                  <a:lnTo>
                    <a:pt x="2610" y="1009"/>
                  </a:lnTo>
                  <a:lnTo>
                    <a:pt x="2668" y="1004"/>
                  </a:lnTo>
                  <a:lnTo>
                    <a:pt x="2726" y="998"/>
                  </a:lnTo>
                  <a:lnTo>
                    <a:pt x="2785" y="995"/>
                  </a:lnTo>
                  <a:lnTo>
                    <a:pt x="2843" y="991"/>
                  </a:lnTo>
                  <a:lnTo>
                    <a:pt x="2902" y="989"/>
                  </a:lnTo>
                  <a:lnTo>
                    <a:pt x="2960" y="989"/>
                  </a:lnTo>
                  <a:lnTo>
                    <a:pt x="3019" y="989"/>
                  </a:lnTo>
                  <a:lnTo>
                    <a:pt x="3079" y="991"/>
                  </a:lnTo>
                  <a:lnTo>
                    <a:pt x="3136" y="995"/>
                  </a:lnTo>
                  <a:lnTo>
                    <a:pt x="3194" y="998"/>
                  </a:lnTo>
                  <a:lnTo>
                    <a:pt x="3252" y="1004"/>
                  </a:lnTo>
                  <a:lnTo>
                    <a:pt x="3310" y="1009"/>
                  </a:lnTo>
                  <a:lnTo>
                    <a:pt x="3368" y="1017"/>
                  </a:lnTo>
                  <a:lnTo>
                    <a:pt x="3426" y="1026"/>
                  </a:lnTo>
                  <a:lnTo>
                    <a:pt x="3483" y="1036"/>
                  </a:lnTo>
                  <a:lnTo>
                    <a:pt x="3541" y="1046"/>
                  </a:lnTo>
                  <a:lnTo>
                    <a:pt x="3598" y="1058"/>
                  </a:lnTo>
                  <a:lnTo>
                    <a:pt x="3655" y="1072"/>
                  </a:lnTo>
                  <a:lnTo>
                    <a:pt x="3712" y="1085"/>
                  </a:lnTo>
                  <a:lnTo>
                    <a:pt x="3769" y="1101"/>
                  </a:lnTo>
                  <a:lnTo>
                    <a:pt x="3824" y="1117"/>
                  </a:lnTo>
                  <a:lnTo>
                    <a:pt x="3881" y="1134"/>
                  </a:lnTo>
                  <a:lnTo>
                    <a:pt x="3881" y="1618"/>
                  </a:lnTo>
                  <a:lnTo>
                    <a:pt x="3884" y="1651"/>
                  </a:lnTo>
                  <a:lnTo>
                    <a:pt x="3890" y="1681"/>
                  </a:lnTo>
                  <a:lnTo>
                    <a:pt x="3898" y="1709"/>
                  </a:lnTo>
                  <a:lnTo>
                    <a:pt x="3907" y="1736"/>
                  </a:lnTo>
                  <a:lnTo>
                    <a:pt x="3918" y="1760"/>
                  </a:lnTo>
                  <a:lnTo>
                    <a:pt x="3931" y="1783"/>
                  </a:lnTo>
                  <a:lnTo>
                    <a:pt x="3946" y="1804"/>
                  </a:lnTo>
                  <a:lnTo>
                    <a:pt x="3961" y="1823"/>
                  </a:lnTo>
                  <a:lnTo>
                    <a:pt x="3979" y="1839"/>
                  </a:lnTo>
                  <a:lnTo>
                    <a:pt x="3999" y="1855"/>
                  </a:lnTo>
                  <a:lnTo>
                    <a:pt x="4020" y="1868"/>
                  </a:lnTo>
                  <a:lnTo>
                    <a:pt x="4043" y="1881"/>
                  </a:lnTo>
                  <a:lnTo>
                    <a:pt x="4066" y="1891"/>
                  </a:lnTo>
                  <a:lnTo>
                    <a:pt x="4092" y="1900"/>
                  </a:lnTo>
                  <a:lnTo>
                    <a:pt x="4119" y="1907"/>
                  </a:lnTo>
                  <a:lnTo>
                    <a:pt x="4146" y="1913"/>
                  </a:lnTo>
                  <a:lnTo>
                    <a:pt x="4896" y="2061"/>
                  </a:lnTo>
                  <a:lnTo>
                    <a:pt x="4925" y="2068"/>
                  </a:lnTo>
                  <a:lnTo>
                    <a:pt x="4951" y="2077"/>
                  </a:lnTo>
                  <a:lnTo>
                    <a:pt x="4977" y="2086"/>
                  </a:lnTo>
                  <a:lnTo>
                    <a:pt x="5001" y="2097"/>
                  </a:lnTo>
                  <a:lnTo>
                    <a:pt x="5024" y="2109"/>
                  </a:lnTo>
                  <a:lnTo>
                    <a:pt x="5044" y="2123"/>
                  </a:lnTo>
                  <a:lnTo>
                    <a:pt x="5063" y="2137"/>
                  </a:lnTo>
                  <a:lnTo>
                    <a:pt x="5081" y="2154"/>
                  </a:lnTo>
                  <a:lnTo>
                    <a:pt x="5095" y="2172"/>
                  </a:lnTo>
                  <a:lnTo>
                    <a:pt x="5108" y="2191"/>
                  </a:lnTo>
                  <a:lnTo>
                    <a:pt x="5120" y="2212"/>
                  </a:lnTo>
                  <a:lnTo>
                    <a:pt x="5129" y="2235"/>
                  </a:lnTo>
                  <a:lnTo>
                    <a:pt x="5134" y="2260"/>
                  </a:lnTo>
                  <a:lnTo>
                    <a:pt x="5139" y="2285"/>
                  </a:lnTo>
                  <a:lnTo>
                    <a:pt x="5141" y="2314"/>
                  </a:lnTo>
                  <a:lnTo>
                    <a:pt x="5141" y="2344"/>
                  </a:lnTo>
                  <a:lnTo>
                    <a:pt x="5141" y="3729"/>
                  </a:lnTo>
                  <a:lnTo>
                    <a:pt x="2960" y="3729"/>
                  </a:lnTo>
                  <a:lnTo>
                    <a:pt x="781" y="3729"/>
                  </a:lnTo>
                  <a:lnTo>
                    <a:pt x="781" y="2344"/>
                  </a:lnTo>
                  <a:lnTo>
                    <a:pt x="780" y="2314"/>
                  </a:lnTo>
                  <a:lnTo>
                    <a:pt x="782" y="2285"/>
                  </a:lnTo>
                  <a:lnTo>
                    <a:pt x="787" y="2260"/>
                  </a:lnTo>
                  <a:lnTo>
                    <a:pt x="793" y="2235"/>
                  </a:lnTo>
                  <a:lnTo>
                    <a:pt x="802" y="2212"/>
                  </a:lnTo>
                  <a:lnTo>
                    <a:pt x="813" y="2191"/>
                  </a:lnTo>
                  <a:lnTo>
                    <a:pt x="826" y="2172"/>
                  </a:lnTo>
                  <a:lnTo>
                    <a:pt x="841" y="2154"/>
                  </a:lnTo>
                  <a:lnTo>
                    <a:pt x="858" y="2137"/>
                  </a:lnTo>
                  <a:lnTo>
                    <a:pt x="877" y="2123"/>
                  </a:lnTo>
                  <a:lnTo>
                    <a:pt x="898" y="2109"/>
                  </a:lnTo>
                  <a:lnTo>
                    <a:pt x="920" y="2097"/>
                  </a:lnTo>
                  <a:lnTo>
                    <a:pt x="944" y="2086"/>
                  </a:lnTo>
                  <a:lnTo>
                    <a:pt x="971" y="2077"/>
                  </a:lnTo>
                  <a:lnTo>
                    <a:pt x="997" y="2068"/>
                  </a:lnTo>
                  <a:lnTo>
                    <a:pt x="1026" y="2061"/>
                  </a:lnTo>
                  <a:lnTo>
                    <a:pt x="1775" y="1913"/>
                  </a:lnTo>
                  <a:lnTo>
                    <a:pt x="1803" y="1907"/>
                  </a:lnTo>
                  <a:lnTo>
                    <a:pt x="1830" y="1900"/>
                  </a:lnTo>
                  <a:lnTo>
                    <a:pt x="1855" y="1891"/>
                  </a:lnTo>
                  <a:lnTo>
                    <a:pt x="1879" y="1881"/>
                  </a:lnTo>
                  <a:lnTo>
                    <a:pt x="1901" y="1868"/>
                  </a:lnTo>
                  <a:lnTo>
                    <a:pt x="1923" y="1855"/>
                  </a:lnTo>
                  <a:lnTo>
                    <a:pt x="1941" y="1839"/>
                  </a:lnTo>
                  <a:lnTo>
                    <a:pt x="1959" y="1823"/>
                  </a:lnTo>
                  <a:lnTo>
                    <a:pt x="1976" y="1804"/>
                  </a:lnTo>
                  <a:lnTo>
                    <a:pt x="1991" y="1783"/>
                  </a:lnTo>
                  <a:lnTo>
                    <a:pt x="2003" y="1760"/>
                  </a:lnTo>
                  <a:lnTo>
                    <a:pt x="2014" y="1736"/>
                  </a:lnTo>
                  <a:lnTo>
                    <a:pt x="2024" y="1709"/>
                  </a:lnTo>
                  <a:lnTo>
                    <a:pt x="2031" y="1681"/>
                  </a:lnTo>
                  <a:lnTo>
                    <a:pt x="2037" y="1651"/>
                  </a:lnTo>
                  <a:lnTo>
                    <a:pt x="2041" y="1618"/>
                  </a:lnTo>
                  <a:lnTo>
                    <a:pt x="2041" y="1134"/>
                  </a:lnTo>
                  <a:close/>
                  <a:moveTo>
                    <a:pt x="2971" y="1671"/>
                  </a:moveTo>
                  <a:lnTo>
                    <a:pt x="2971" y="1671"/>
                  </a:lnTo>
                  <a:lnTo>
                    <a:pt x="3017" y="1672"/>
                  </a:lnTo>
                  <a:lnTo>
                    <a:pt x="3063" y="1676"/>
                  </a:lnTo>
                  <a:lnTo>
                    <a:pt x="3107" y="1682"/>
                  </a:lnTo>
                  <a:lnTo>
                    <a:pt x="3151" y="1690"/>
                  </a:lnTo>
                  <a:lnTo>
                    <a:pt x="3194" y="1699"/>
                  </a:lnTo>
                  <a:lnTo>
                    <a:pt x="3237" y="1711"/>
                  </a:lnTo>
                  <a:lnTo>
                    <a:pt x="3278" y="1726"/>
                  </a:lnTo>
                  <a:lnTo>
                    <a:pt x="3318" y="1741"/>
                  </a:lnTo>
                  <a:lnTo>
                    <a:pt x="3358" y="1759"/>
                  </a:lnTo>
                  <a:lnTo>
                    <a:pt x="3396" y="1779"/>
                  </a:lnTo>
                  <a:lnTo>
                    <a:pt x="3434" y="1800"/>
                  </a:lnTo>
                  <a:lnTo>
                    <a:pt x="3470" y="1824"/>
                  </a:lnTo>
                  <a:lnTo>
                    <a:pt x="3505" y="1848"/>
                  </a:lnTo>
                  <a:lnTo>
                    <a:pt x="3539" y="1875"/>
                  </a:lnTo>
                  <a:lnTo>
                    <a:pt x="3571" y="1903"/>
                  </a:lnTo>
                  <a:lnTo>
                    <a:pt x="3602" y="1933"/>
                  </a:lnTo>
                  <a:lnTo>
                    <a:pt x="3631" y="1963"/>
                  </a:lnTo>
                  <a:lnTo>
                    <a:pt x="3659" y="1995"/>
                  </a:lnTo>
                  <a:lnTo>
                    <a:pt x="3686" y="2030"/>
                  </a:lnTo>
                  <a:lnTo>
                    <a:pt x="3711" y="2065"/>
                  </a:lnTo>
                  <a:lnTo>
                    <a:pt x="3734" y="2100"/>
                  </a:lnTo>
                  <a:lnTo>
                    <a:pt x="3755" y="2138"/>
                  </a:lnTo>
                  <a:lnTo>
                    <a:pt x="3775" y="2176"/>
                  </a:lnTo>
                  <a:lnTo>
                    <a:pt x="3793" y="2216"/>
                  </a:lnTo>
                  <a:lnTo>
                    <a:pt x="3809" y="2256"/>
                  </a:lnTo>
                  <a:lnTo>
                    <a:pt x="3823" y="2298"/>
                  </a:lnTo>
                  <a:lnTo>
                    <a:pt x="3835" y="2340"/>
                  </a:lnTo>
                  <a:lnTo>
                    <a:pt x="3845" y="2383"/>
                  </a:lnTo>
                  <a:lnTo>
                    <a:pt x="3853" y="2427"/>
                  </a:lnTo>
                  <a:lnTo>
                    <a:pt x="3859" y="2471"/>
                  </a:lnTo>
                  <a:lnTo>
                    <a:pt x="3862" y="2517"/>
                  </a:lnTo>
                  <a:lnTo>
                    <a:pt x="3863" y="2563"/>
                  </a:lnTo>
                  <a:lnTo>
                    <a:pt x="3863" y="2591"/>
                  </a:lnTo>
                  <a:lnTo>
                    <a:pt x="3861" y="2617"/>
                  </a:lnTo>
                  <a:lnTo>
                    <a:pt x="3860" y="2645"/>
                  </a:lnTo>
                  <a:lnTo>
                    <a:pt x="3857" y="2672"/>
                  </a:lnTo>
                  <a:lnTo>
                    <a:pt x="3853" y="2699"/>
                  </a:lnTo>
                  <a:lnTo>
                    <a:pt x="3849" y="2726"/>
                  </a:lnTo>
                  <a:lnTo>
                    <a:pt x="3843" y="2751"/>
                  </a:lnTo>
                  <a:lnTo>
                    <a:pt x="3838" y="2778"/>
                  </a:lnTo>
                  <a:lnTo>
                    <a:pt x="3831" y="2802"/>
                  </a:lnTo>
                  <a:lnTo>
                    <a:pt x="3823" y="2828"/>
                  </a:lnTo>
                  <a:lnTo>
                    <a:pt x="3814" y="2854"/>
                  </a:lnTo>
                  <a:lnTo>
                    <a:pt x="3805" y="2878"/>
                  </a:lnTo>
                  <a:lnTo>
                    <a:pt x="3796" y="2903"/>
                  </a:lnTo>
                  <a:lnTo>
                    <a:pt x="3786" y="2926"/>
                  </a:lnTo>
                  <a:lnTo>
                    <a:pt x="3775" y="2950"/>
                  </a:lnTo>
                  <a:lnTo>
                    <a:pt x="3763" y="2973"/>
                  </a:lnTo>
                  <a:lnTo>
                    <a:pt x="3410" y="2802"/>
                  </a:lnTo>
                  <a:lnTo>
                    <a:pt x="3423" y="2776"/>
                  </a:lnTo>
                  <a:lnTo>
                    <a:pt x="3435" y="2748"/>
                  </a:lnTo>
                  <a:lnTo>
                    <a:pt x="3446" y="2719"/>
                  </a:lnTo>
                  <a:lnTo>
                    <a:pt x="3455" y="2689"/>
                  </a:lnTo>
                  <a:lnTo>
                    <a:pt x="3462" y="2659"/>
                  </a:lnTo>
                  <a:lnTo>
                    <a:pt x="3466" y="2627"/>
                  </a:lnTo>
                  <a:lnTo>
                    <a:pt x="3470" y="2595"/>
                  </a:lnTo>
                  <a:lnTo>
                    <a:pt x="3471" y="2563"/>
                  </a:lnTo>
                  <a:lnTo>
                    <a:pt x="3470" y="2537"/>
                  </a:lnTo>
                  <a:lnTo>
                    <a:pt x="3469" y="2512"/>
                  </a:lnTo>
                  <a:lnTo>
                    <a:pt x="3465" y="2487"/>
                  </a:lnTo>
                  <a:lnTo>
                    <a:pt x="3461" y="2462"/>
                  </a:lnTo>
                  <a:lnTo>
                    <a:pt x="3455" y="2438"/>
                  </a:lnTo>
                  <a:lnTo>
                    <a:pt x="3449" y="2415"/>
                  </a:lnTo>
                  <a:lnTo>
                    <a:pt x="3441" y="2391"/>
                  </a:lnTo>
                  <a:lnTo>
                    <a:pt x="3432" y="2369"/>
                  </a:lnTo>
                  <a:lnTo>
                    <a:pt x="3422" y="2347"/>
                  </a:lnTo>
                  <a:lnTo>
                    <a:pt x="3411" y="2325"/>
                  </a:lnTo>
                  <a:lnTo>
                    <a:pt x="3398" y="2304"/>
                  </a:lnTo>
                  <a:lnTo>
                    <a:pt x="3386" y="2284"/>
                  </a:lnTo>
                  <a:lnTo>
                    <a:pt x="3372" y="2264"/>
                  </a:lnTo>
                  <a:lnTo>
                    <a:pt x="3357" y="2245"/>
                  </a:lnTo>
                  <a:lnTo>
                    <a:pt x="3342" y="2227"/>
                  </a:lnTo>
                  <a:lnTo>
                    <a:pt x="3325" y="2209"/>
                  </a:lnTo>
                  <a:lnTo>
                    <a:pt x="3307" y="2193"/>
                  </a:lnTo>
                  <a:lnTo>
                    <a:pt x="3289" y="2177"/>
                  </a:lnTo>
                  <a:lnTo>
                    <a:pt x="3270" y="2163"/>
                  </a:lnTo>
                  <a:lnTo>
                    <a:pt x="3251" y="2149"/>
                  </a:lnTo>
                  <a:lnTo>
                    <a:pt x="3230" y="2136"/>
                  </a:lnTo>
                  <a:lnTo>
                    <a:pt x="3210" y="2124"/>
                  </a:lnTo>
                  <a:lnTo>
                    <a:pt x="3188" y="2113"/>
                  </a:lnTo>
                  <a:lnTo>
                    <a:pt x="3165" y="2102"/>
                  </a:lnTo>
                  <a:lnTo>
                    <a:pt x="3143" y="2094"/>
                  </a:lnTo>
                  <a:lnTo>
                    <a:pt x="3120" y="2086"/>
                  </a:lnTo>
                  <a:lnTo>
                    <a:pt x="3096" y="2079"/>
                  </a:lnTo>
                  <a:lnTo>
                    <a:pt x="3072" y="2074"/>
                  </a:lnTo>
                  <a:lnTo>
                    <a:pt x="3047" y="2069"/>
                  </a:lnTo>
                  <a:lnTo>
                    <a:pt x="3023" y="2066"/>
                  </a:lnTo>
                  <a:lnTo>
                    <a:pt x="2997" y="2065"/>
                  </a:lnTo>
                  <a:lnTo>
                    <a:pt x="2971" y="2063"/>
                  </a:lnTo>
                  <a:lnTo>
                    <a:pt x="2946" y="2065"/>
                  </a:lnTo>
                  <a:lnTo>
                    <a:pt x="2920" y="2066"/>
                  </a:lnTo>
                  <a:lnTo>
                    <a:pt x="2896" y="2069"/>
                  </a:lnTo>
                  <a:lnTo>
                    <a:pt x="2871" y="2074"/>
                  </a:lnTo>
                  <a:lnTo>
                    <a:pt x="2847" y="2079"/>
                  </a:lnTo>
                  <a:lnTo>
                    <a:pt x="2823" y="2086"/>
                  </a:lnTo>
                  <a:lnTo>
                    <a:pt x="2800" y="2094"/>
                  </a:lnTo>
                  <a:lnTo>
                    <a:pt x="2778" y="2102"/>
                  </a:lnTo>
                  <a:lnTo>
                    <a:pt x="2755" y="2113"/>
                  </a:lnTo>
                  <a:lnTo>
                    <a:pt x="2734" y="2124"/>
                  </a:lnTo>
                  <a:lnTo>
                    <a:pt x="2713" y="2136"/>
                  </a:lnTo>
                  <a:lnTo>
                    <a:pt x="2693" y="2149"/>
                  </a:lnTo>
                  <a:lnTo>
                    <a:pt x="2673" y="2163"/>
                  </a:lnTo>
                  <a:lnTo>
                    <a:pt x="2654" y="2177"/>
                  </a:lnTo>
                  <a:lnTo>
                    <a:pt x="2636" y="2193"/>
                  </a:lnTo>
                  <a:lnTo>
                    <a:pt x="2619" y="2209"/>
                  </a:lnTo>
                  <a:lnTo>
                    <a:pt x="2603" y="2227"/>
                  </a:lnTo>
                  <a:lnTo>
                    <a:pt x="2587" y="2245"/>
                  </a:lnTo>
                  <a:lnTo>
                    <a:pt x="2571" y="2264"/>
                  </a:lnTo>
                  <a:lnTo>
                    <a:pt x="2558" y="2284"/>
                  </a:lnTo>
                  <a:lnTo>
                    <a:pt x="2545" y="2304"/>
                  </a:lnTo>
                  <a:lnTo>
                    <a:pt x="2532" y="2325"/>
                  </a:lnTo>
                  <a:lnTo>
                    <a:pt x="2521" y="2347"/>
                  </a:lnTo>
                  <a:lnTo>
                    <a:pt x="2512" y="2369"/>
                  </a:lnTo>
                  <a:lnTo>
                    <a:pt x="2502" y="2391"/>
                  </a:lnTo>
                  <a:lnTo>
                    <a:pt x="2494" y="2415"/>
                  </a:lnTo>
                  <a:lnTo>
                    <a:pt x="2488" y="2438"/>
                  </a:lnTo>
                  <a:lnTo>
                    <a:pt x="2482" y="2462"/>
                  </a:lnTo>
                  <a:lnTo>
                    <a:pt x="2478" y="2487"/>
                  </a:lnTo>
                  <a:lnTo>
                    <a:pt x="2475" y="2512"/>
                  </a:lnTo>
                  <a:lnTo>
                    <a:pt x="2473" y="2537"/>
                  </a:lnTo>
                  <a:lnTo>
                    <a:pt x="2472" y="2563"/>
                  </a:lnTo>
                  <a:lnTo>
                    <a:pt x="2473" y="2588"/>
                  </a:lnTo>
                  <a:lnTo>
                    <a:pt x="2475" y="2614"/>
                  </a:lnTo>
                  <a:lnTo>
                    <a:pt x="2478" y="2639"/>
                  </a:lnTo>
                  <a:lnTo>
                    <a:pt x="2482" y="2663"/>
                  </a:lnTo>
                  <a:lnTo>
                    <a:pt x="2488" y="2688"/>
                  </a:lnTo>
                  <a:lnTo>
                    <a:pt x="2494" y="2711"/>
                  </a:lnTo>
                  <a:lnTo>
                    <a:pt x="2502" y="2734"/>
                  </a:lnTo>
                  <a:lnTo>
                    <a:pt x="2512" y="2757"/>
                  </a:lnTo>
                  <a:lnTo>
                    <a:pt x="2521" y="2779"/>
                  </a:lnTo>
                  <a:lnTo>
                    <a:pt x="2532" y="2801"/>
                  </a:lnTo>
                  <a:lnTo>
                    <a:pt x="2545" y="2821"/>
                  </a:lnTo>
                  <a:lnTo>
                    <a:pt x="2558" y="2841"/>
                  </a:lnTo>
                  <a:lnTo>
                    <a:pt x="2571" y="2861"/>
                  </a:lnTo>
                  <a:lnTo>
                    <a:pt x="2587" y="2880"/>
                  </a:lnTo>
                  <a:lnTo>
                    <a:pt x="2603" y="2898"/>
                  </a:lnTo>
                  <a:lnTo>
                    <a:pt x="2619" y="2916"/>
                  </a:lnTo>
                  <a:lnTo>
                    <a:pt x="2636" y="2933"/>
                  </a:lnTo>
                  <a:lnTo>
                    <a:pt x="2654" y="2948"/>
                  </a:lnTo>
                  <a:lnTo>
                    <a:pt x="2673" y="2963"/>
                  </a:lnTo>
                  <a:lnTo>
                    <a:pt x="2693" y="2976"/>
                  </a:lnTo>
                  <a:lnTo>
                    <a:pt x="2713" y="2990"/>
                  </a:lnTo>
                  <a:lnTo>
                    <a:pt x="2734" y="3002"/>
                  </a:lnTo>
                  <a:lnTo>
                    <a:pt x="2755" y="3013"/>
                  </a:lnTo>
                  <a:lnTo>
                    <a:pt x="2778" y="3023"/>
                  </a:lnTo>
                  <a:lnTo>
                    <a:pt x="2800" y="3032"/>
                  </a:lnTo>
                  <a:lnTo>
                    <a:pt x="2823" y="3040"/>
                  </a:lnTo>
                  <a:lnTo>
                    <a:pt x="2847" y="3047"/>
                  </a:lnTo>
                  <a:lnTo>
                    <a:pt x="2871" y="3052"/>
                  </a:lnTo>
                  <a:lnTo>
                    <a:pt x="2896" y="3057"/>
                  </a:lnTo>
                  <a:lnTo>
                    <a:pt x="2920" y="3060"/>
                  </a:lnTo>
                  <a:lnTo>
                    <a:pt x="2946" y="3061"/>
                  </a:lnTo>
                  <a:lnTo>
                    <a:pt x="2971" y="3062"/>
                  </a:lnTo>
                  <a:lnTo>
                    <a:pt x="2994" y="3061"/>
                  </a:lnTo>
                  <a:lnTo>
                    <a:pt x="3015" y="3060"/>
                  </a:lnTo>
                  <a:lnTo>
                    <a:pt x="3037" y="3058"/>
                  </a:lnTo>
                  <a:lnTo>
                    <a:pt x="3058" y="3054"/>
                  </a:lnTo>
                  <a:lnTo>
                    <a:pt x="3079" y="3051"/>
                  </a:lnTo>
                  <a:lnTo>
                    <a:pt x="3100" y="3045"/>
                  </a:lnTo>
                  <a:lnTo>
                    <a:pt x="3120" y="3040"/>
                  </a:lnTo>
                  <a:lnTo>
                    <a:pt x="3140" y="3033"/>
                  </a:lnTo>
                  <a:lnTo>
                    <a:pt x="3159" y="3025"/>
                  </a:lnTo>
                  <a:lnTo>
                    <a:pt x="3178" y="3018"/>
                  </a:lnTo>
                  <a:lnTo>
                    <a:pt x="3197" y="3009"/>
                  </a:lnTo>
                  <a:lnTo>
                    <a:pt x="3215" y="2999"/>
                  </a:lnTo>
                  <a:lnTo>
                    <a:pt x="3232" y="2989"/>
                  </a:lnTo>
                  <a:lnTo>
                    <a:pt x="3250" y="2977"/>
                  </a:lnTo>
                  <a:lnTo>
                    <a:pt x="3267" y="2965"/>
                  </a:lnTo>
                  <a:lnTo>
                    <a:pt x="3283" y="2953"/>
                  </a:lnTo>
                  <a:lnTo>
                    <a:pt x="3563" y="3229"/>
                  </a:lnTo>
                  <a:lnTo>
                    <a:pt x="3533" y="3255"/>
                  </a:lnTo>
                  <a:lnTo>
                    <a:pt x="3502" y="3279"/>
                  </a:lnTo>
                  <a:lnTo>
                    <a:pt x="3470" y="3303"/>
                  </a:lnTo>
                  <a:lnTo>
                    <a:pt x="3436" y="3324"/>
                  </a:lnTo>
                  <a:lnTo>
                    <a:pt x="3402" y="3344"/>
                  </a:lnTo>
                  <a:lnTo>
                    <a:pt x="3366" y="3362"/>
                  </a:lnTo>
                  <a:lnTo>
                    <a:pt x="3330" y="3379"/>
                  </a:lnTo>
                  <a:lnTo>
                    <a:pt x="3294" y="3394"/>
                  </a:lnTo>
                  <a:lnTo>
                    <a:pt x="3256" y="3408"/>
                  </a:lnTo>
                  <a:lnTo>
                    <a:pt x="3217" y="3420"/>
                  </a:lnTo>
                  <a:lnTo>
                    <a:pt x="3178" y="3430"/>
                  </a:lnTo>
                  <a:lnTo>
                    <a:pt x="3138" y="3439"/>
                  </a:lnTo>
                  <a:lnTo>
                    <a:pt x="3097" y="3446"/>
                  </a:lnTo>
                  <a:lnTo>
                    <a:pt x="3056" y="3450"/>
                  </a:lnTo>
                  <a:lnTo>
                    <a:pt x="3014" y="3453"/>
                  </a:lnTo>
                  <a:lnTo>
                    <a:pt x="2971" y="3454"/>
                  </a:lnTo>
                  <a:lnTo>
                    <a:pt x="2926" y="3453"/>
                  </a:lnTo>
                  <a:lnTo>
                    <a:pt x="2880" y="3450"/>
                  </a:lnTo>
                  <a:lnTo>
                    <a:pt x="2835" y="3444"/>
                  </a:lnTo>
                  <a:lnTo>
                    <a:pt x="2792" y="3435"/>
                  </a:lnTo>
                  <a:lnTo>
                    <a:pt x="2749" y="3427"/>
                  </a:lnTo>
                  <a:lnTo>
                    <a:pt x="2706" y="3414"/>
                  </a:lnTo>
                  <a:lnTo>
                    <a:pt x="2665" y="3400"/>
                  </a:lnTo>
                  <a:lnTo>
                    <a:pt x="2625" y="3384"/>
                  </a:lnTo>
                  <a:lnTo>
                    <a:pt x="2585" y="3366"/>
                  </a:lnTo>
                  <a:lnTo>
                    <a:pt x="2547" y="3346"/>
                  </a:lnTo>
                  <a:lnTo>
                    <a:pt x="2510" y="3325"/>
                  </a:lnTo>
                  <a:lnTo>
                    <a:pt x="2473" y="3302"/>
                  </a:lnTo>
                  <a:lnTo>
                    <a:pt x="2439" y="3277"/>
                  </a:lnTo>
                  <a:lnTo>
                    <a:pt x="2405" y="3250"/>
                  </a:lnTo>
                  <a:lnTo>
                    <a:pt x="2373" y="3223"/>
                  </a:lnTo>
                  <a:lnTo>
                    <a:pt x="2342" y="3193"/>
                  </a:lnTo>
                  <a:lnTo>
                    <a:pt x="2312" y="3162"/>
                  </a:lnTo>
                  <a:lnTo>
                    <a:pt x="2284" y="3130"/>
                  </a:lnTo>
                  <a:lnTo>
                    <a:pt x="2257" y="3096"/>
                  </a:lnTo>
                  <a:lnTo>
                    <a:pt x="2232" y="3061"/>
                  </a:lnTo>
                  <a:lnTo>
                    <a:pt x="2209" y="3025"/>
                  </a:lnTo>
                  <a:lnTo>
                    <a:pt x="2188" y="2987"/>
                  </a:lnTo>
                  <a:lnTo>
                    <a:pt x="2168" y="2950"/>
                  </a:lnTo>
                  <a:lnTo>
                    <a:pt x="2150" y="2909"/>
                  </a:lnTo>
                  <a:lnTo>
                    <a:pt x="2134" y="2869"/>
                  </a:lnTo>
                  <a:lnTo>
                    <a:pt x="2120" y="2828"/>
                  </a:lnTo>
                  <a:lnTo>
                    <a:pt x="2109" y="2786"/>
                  </a:lnTo>
                  <a:lnTo>
                    <a:pt x="2099" y="2742"/>
                  </a:lnTo>
                  <a:lnTo>
                    <a:pt x="2091" y="2699"/>
                  </a:lnTo>
                  <a:lnTo>
                    <a:pt x="2085" y="2654"/>
                  </a:lnTo>
                  <a:lnTo>
                    <a:pt x="2081" y="2608"/>
                  </a:lnTo>
                  <a:lnTo>
                    <a:pt x="2080" y="2563"/>
                  </a:lnTo>
                  <a:lnTo>
                    <a:pt x="2081" y="2517"/>
                  </a:lnTo>
                  <a:lnTo>
                    <a:pt x="2085" y="2471"/>
                  </a:lnTo>
                  <a:lnTo>
                    <a:pt x="2091" y="2427"/>
                  </a:lnTo>
                  <a:lnTo>
                    <a:pt x="2099" y="2383"/>
                  </a:lnTo>
                  <a:lnTo>
                    <a:pt x="2109" y="2340"/>
                  </a:lnTo>
                  <a:lnTo>
                    <a:pt x="2120" y="2298"/>
                  </a:lnTo>
                  <a:lnTo>
                    <a:pt x="2134" y="2256"/>
                  </a:lnTo>
                  <a:lnTo>
                    <a:pt x="2150" y="2216"/>
                  </a:lnTo>
                  <a:lnTo>
                    <a:pt x="2168" y="2176"/>
                  </a:lnTo>
                  <a:lnTo>
                    <a:pt x="2188" y="2138"/>
                  </a:lnTo>
                  <a:lnTo>
                    <a:pt x="2209" y="2100"/>
                  </a:lnTo>
                  <a:lnTo>
                    <a:pt x="2232" y="2065"/>
                  </a:lnTo>
                  <a:lnTo>
                    <a:pt x="2257" y="2030"/>
                  </a:lnTo>
                  <a:lnTo>
                    <a:pt x="2284" y="1995"/>
                  </a:lnTo>
                  <a:lnTo>
                    <a:pt x="2312" y="1963"/>
                  </a:lnTo>
                  <a:lnTo>
                    <a:pt x="2342" y="1933"/>
                  </a:lnTo>
                  <a:lnTo>
                    <a:pt x="2373" y="1903"/>
                  </a:lnTo>
                  <a:lnTo>
                    <a:pt x="2405" y="1875"/>
                  </a:lnTo>
                  <a:lnTo>
                    <a:pt x="2439" y="1848"/>
                  </a:lnTo>
                  <a:lnTo>
                    <a:pt x="2473" y="1824"/>
                  </a:lnTo>
                  <a:lnTo>
                    <a:pt x="2510" y="1800"/>
                  </a:lnTo>
                  <a:lnTo>
                    <a:pt x="2547" y="1779"/>
                  </a:lnTo>
                  <a:lnTo>
                    <a:pt x="2585" y="1759"/>
                  </a:lnTo>
                  <a:lnTo>
                    <a:pt x="2625" y="1741"/>
                  </a:lnTo>
                  <a:lnTo>
                    <a:pt x="2665" y="1726"/>
                  </a:lnTo>
                  <a:lnTo>
                    <a:pt x="2706" y="1711"/>
                  </a:lnTo>
                  <a:lnTo>
                    <a:pt x="2749" y="1699"/>
                  </a:lnTo>
                  <a:lnTo>
                    <a:pt x="2792" y="1690"/>
                  </a:lnTo>
                  <a:lnTo>
                    <a:pt x="2835" y="1682"/>
                  </a:lnTo>
                  <a:lnTo>
                    <a:pt x="2880" y="1676"/>
                  </a:lnTo>
                  <a:lnTo>
                    <a:pt x="2926" y="1672"/>
                  </a:lnTo>
                  <a:lnTo>
                    <a:pt x="2971" y="1671"/>
                  </a:lnTo>
                  <a:close/>
                  <a:moveTo>
                    <a:pt x="4858" y="3824"/>
                  </a:moveTo>
                  <a:lnTo>
                    <a:pt x="4858" y="3824"/>
                  </a:lnTo>
                  <a:lnTo>
                    <a:pt x="4328" y="3824"/>
                  </a:lnTo>
                  <a:lnTo>
                    <a:pt x="4328" y="4208"/>
                  </a:lnTo>
                  <a:lnTo>
                    <a:pt x="4702" y="4208"/>
                  </a:lnTo>
                  <a:lnTo>
                    <a:pt x="4858" y="3824"/>
                  </a:lnTo>
                  <a:close/>
                  <a:moveTo>
                    <a:pt x="1064" y="3824"/>
                  </a:moveTo>
                  <a:lnTo>
                    <a:pt x="1064" y="3824"/>
                  </a:lnTo>
                  <a:lnTo>
                    <a:pt x="1594" y="3824"/>
                  </a:lnTo>
                  <a:lnTo>
                    <a:pt x="1594" y="4208"/>
                  </a:lnTo>
                  <a:lnTo>
                    <a:pt x="1219" y="4208"/>
                  </a:lnTo>
                  <a:lnTo>
                    <a:pt x="1064" y="3824"/>
                  </a:lnTo>
                  <a:close/>
                </a:path>
              </a:pathLst>
            </a:custGeom>
            <a:solidFill>
              <a:srgbClr val="8e1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3" name="文本框 101"/>
          <p:cNvSpPr/>
          <p:nvPr/>
        </p:nvSpPr>
        <p:spPr>
          <a:xfrm flipV="1" rot="10800000">
            <a:off x="3863880" y="4549680"/>
            <a:ext cx="42004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在形式经常发生变化，但总会以某种形式存在，人们可 通过盘点和计量确认其数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矩形 1"/>
          <p:cNvSpPr/>
          <p:nvPr/>
        </p:nvSpPr>
        <p:spPr>
          <a:xfrm>
            <a:off x="915840" y="1370160"/>
            <a:ext cx="35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一、存货的审计目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5" name="直接箭头连接符 121"/>
          <p:cNvCxnSpPr/>
          <p:nvPr/>
        </p:nvCxnSpPr>
        <p:spPr>
          <a:xfrm>
            <a:off x="2284200" y="4302000"/>
            <a:ext cx="1080" cy="385200"/>
          </a:xfrm>
          <a:prstGeom prst="straightConnector1">
            <a:avLst/>
          </a:prstGeom>
          <a:ln w="38160">
            <a:solidFill>
              <a:srgbClr val="2f75b4"/>
            </a:solidFill>
            <a:round/>
            <a:tailEnd len="med" type="arrow" w="med"/>
          </a:ln>
        </p:spPr>
      </p:cxnSp>
      <p:cxnSp>
        <p:nvCxnSpPr>
          <p:cNvPr id="2006" name="直接箭头连接符 122"/>
          <p:cNvCxnSpPr/>
          <p:nvPr/>
        </p:nvCxnSpPr>
        <p:spPr>
          <a:xfrm>
            <a:off x="9840600" y="4319280"/>
            <a:ext cx="1080" cy="383400"/>
          </a:xfrm>
          <a:prstGeom prst="straightConnector1">
            <a:avLst/>
          </a:prstGeom>
          <a:ln w="38160">
            <a:solidFill>
              <a:srgbClr val="c292c5"/>
            </a:solidFill>
            <a:round/>
            <a:tailEnd len="med" type="arrow" w="med"/>
          </a:ln>
        </p:spPr>
      </p:cxnSp>
      <p:cxnSp>
        <p:nvCxnSpPr>
          <p:cNvPr id="2007" name="直接箭头连接符 123"/>
          <p:cNvCxnSpPr/>
          <p:nvPr/>
        </p:nvCxnSpPr>
        <p:spPr>
          <a:xfrm>
            <a:off x="5769000" y="4262040"/>
            <a:ext cx="2160" cy="384840"/>
          </a:xfrm>
          <a:prstGeom prst="straightConnector1">
            <a:avLst/>
          </a:prstGeom>
          <a:ln w="38160">
            <a:solidFill>
              <a:srgbClr val="ffc000"/>
            </a:solidFill>
            <a:round/>
            <a:tailEnd len="med" type="arrow" w="med"/>
          </a:ln>
        </p:spPr>
      </p:cxnSp>
      <p:sp>
        <p:nvSpPr>
          <p:cNvPr id="2008" name="文本框 135"/>
          <p:cNvSpPr/>
          <p:nvPr/>
        </p:nvSpPr>
        <p:spPr>
          <a:xfrm flipV="1" rot="10800000">
            <a:off x="8327880" y="4578840"/>
            <a:ext cx="3522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货存在于企业生产经营全过程，某些存货还会随着 工艺过程的深入而发生有规律的变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组合 28"/>
          <p:cNvGrpSpPr/>
          <p:nvPr/>
        </p:nvGrpSpPr>
        <p:grpSpPr>
          <a:xfrm>
            <a:off x="915840" y="476280"/>
            <a:ext cx="10359720" cy="0"/>
            <a:chOff x="915840" y="476280"/>
            <a:chExt cx="10359720" cy="0"/>
          </a:xfrm>
        </p:grpSpPr>
        <p:sp>
          <p:nvSpPr>
            <p:cNvPr id="2010" name="直接连接符 52"/>
            <p:cNvSpPr/>
            <p:nvPr/>
          </p:nvSpPr>
          <p:spPr>
            <a:xfrm>
              <a:off x="915840" y="47628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直接连接符 64"/>
            <p:cNvSpPr/>
            <p:nvPr/>
          </p:nvSpPr>
          <p:spPr>
            <a:xfrm>
              <a:off x="9295920" y="47628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组合 6"/>
          <p:cNvGrpSpPr/>
          <p:nvPr/>
        </p:nvGrpSpPr>
        <p:grpSpPr>
          <a:xfrm>
            <a:off x="4575240" y="3606840"/>
            <a:ext cx="2568600" cy="2440080"/>
            <a:chOff x="4575240" y="3606840"/>
            <a:chExt cx="2568600" cy="2440080"/>
          </a:xfrm>
        </p:grpSpPr>
        <p:sp>
          <p:nvSpPr>
            <p:cNvPr id="2013" name="PA-任意多边形 81"/>
            <p:cNvSpPr/>
            <p:nvPr/>
          </p:nvSpPr>
          <p:spPr>
            <a:xfrm>
              <a:off x="4784040" y="5475600"/>
              <a:ext cx="90360" cy="12276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6" y="4"/>
                  </a:moveTo>
                  <a:cubicBezTo>
                    <a:pt x="6" y="4"/>
                    <a:pt x="6" y="4"/>
                    <a:pt x="6" y="4"/>
                  </a:cubicBezTo>
                  <a:cubicBezTo>
                    <a:pt x="1" y="8"/>
                    <a:pt x="0" y="15"/>
                    <a:pt x="4" y="20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5" y="36"/>
                    <a:pt x="22" y="37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2" y="30"/>
                    <a:pt x="33" y="22"/>
                    <a:pt x="30" y="1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19" y="2"/>
                    <a:pt x="11" y="0"/>
                    <a:pt x="6" y="4"/>
                  </a:cubicBezTo>
                  <a:close/>
                </a:path>
              </a:pathLst>
            </a:custGeom>
            <a:solidFill>
              <a:srgbClr val="f7c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PA-任意多边形 82"/>
            <p:cNvSpPr/>
            <p:nvPr/>
          </p:nvSpPr>
          <p:spPr>
            <a:xfrm>
              <a:off x="4643640" y="5491080"/>
              <a:ext cx="112320" cy="255240"/>
            </a:xfrm>
            <a:custGeom>
              <a:avLst/>
              <a:gdLst/>
              <a:ahLst/>
              <a:rect l="l" t="t" r="r" b="b"/>
              <a:pathLst>
                <a:path w="41" h="76">
                  <a:moveTo>
                    <a:pt x="30" y="76"/>
                  </a:moveTo>
                  <a:cubicBezTo>
                    <a:pt x="30" y="76"/>
                    <a:pt x="30" y="75"/>
                    <a:pt x="30" y="74"/>
                  </a:cubicBezTo>
                  <a:cubicBezTo>
                    <a:pt x="30" y="74"/>
                    <a:pt x="30" y="74"/>
                    <a:pt x="30" y="74"/>
                  </a:cubicBezTo>
                  <a:cubicBezTo>
                    <a:pt x="31" y="69"/>
                    <a:pt x="27" y="65"/>
                    <a:pt x="22" y="63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31" y="64"/>
                    <a:pt x="36" y="60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49"/>
                    <a:pt x="34" y="45"/>
                    <a:pt x="29" y="43"/>
                  </a:cubicBezTo>
                  <a:cubicBezTo>
                    <a:pt x="35" y="43"/>
                    <a:pt x="40" y="39"/>
                    <a:pt x="40" y="34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41" y="28"/>
                    <a:pt x="36" y="23"/>
                    <a:pt x="29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3" y="21"/>
                    <a:pt x="37" y="18"/>
                    <a:pt x="37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7"/>
                    <a:pt x="33" y="2"/>
                    <a:pt x="27" y="1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5" y="0"/>
                    <a:pt x="13" y="1"/>
                    <a:pt x="11" y="2"/>
                  </a:cubicBezTo>
                  <a:cubicBezTo>
                    <a:pt x="7" y="5"/>
                    <a:pt x="4" y="9"/>
                    <a:pt x="4" y="15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7"/>
                    <a:pt x="0" y="57"/>
                    <a:pt x="0" y="58"/>
                  </a:cubicBezTo>
                  <a:cubicBezTo>
                    <a:pt x="1" y="66"/>
                    <a:pt x="9" y="74"/>
                    <a:pt x="19" y="75"/>
                  </a:cubicBezTo>
                  <a:lnTo>
                    <a:pt x="30" y="76"/>
                  </a:ln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PA-任意多边形 86"/>
            <p:cNvSpPr/>
            <p:nvPr/>
          </p:nvSpPr>
          <p:spPr>
            <a:xfrm>
              <a:off x="4588920" y="5672880"/>
              <a:ext cx="128880" cy="7308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1" y="9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22"/>
                    <a:pt x="17" y="19"/>
                    <a:pt x="25" y="20"/>
                  </a:cubicBezTo>
                  <a:cubicBezTo>
                    <a:pt x="35" y="21"/>
                    <a:pt x="46" y="22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10"/>
                    <a:pt x="43" y="5"/>
                    <a:pt x="38" y="4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6" y="0"/>
                    <a:pt x="2" y="4"/>
                    <a:pt x="1" y="9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PA-任意多边形 87"/>
            <p:cNvSpPr/>
            <p:nvPr/>
          </p:nvSpPr>
          <p:spPr>
            <a:xfrm>
              <a:off x="4699440" y="5491080"/>
              <a:ext cx="32400" cy="60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" y="17"/>
                  </a:moveTo>
                  <a:cubicBezTo>
                    <a:pt x="1" y="17"/>
                    <a:pt x="1" y="17"/>
                    <a:pt x="1" y="17"/>
                  </a:cubicBezTo>
                  <a:cubicBezTo>
                    <a:pt x="7" y="18"/>
                    <a:pt x="11" y="15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5"/>
                    <a:pt x="8" y="1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2"/>
                    <a:pt x="1" y="5"/>
                    <a:pt x="0" y="8"/>
                  </a:cubicBezTo>
                  <a:cubicBezTo>
                    <a:pt x="0" y="11"/>
                    <a:pt x="0" y="14"/>
                    <a:pt x="1" y="17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PA-任意多边形 88"/>
            <p:cNvSpPr/>
            <p:nvPr/>
          </p:nvSpPr>
          <p:spPr>
            <a:xfrm>
              <a:off x="4707360" y="5561640"/>
              <a:ext cx="32400" cy="60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" y="18"/>
                  </a:moveTo>
                  <a:cubicBezTo>
                    <a:pt x="1" y="18"/>
                    <a:pt x="1" y="18"/>
                    <a:pt x="1" y="18"/>
                  </a:cubicBezTo>
                  <a:cubicBezTo>
                    <a:pt x="7" y="18"/>
                    <a:pt x="11" y="15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5"/>
                    <a:pt x="8" y="1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3"/>
                    <a:pt x="1" y="5"/>
                    <a:pt x="0" y="8"/>
                  </a:cubicBezTo>
                  <a:cubicBezTo>
                    <a:pt x="0" y="11"/>
                    <a:pt x="0" y="14"/>
                    <a:pt x="1" y="18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PA-任意多边形 89"/>
            <p:cNvSpPr/>
            <p:nvPr/>
          </p:nvSpPr>
          <p:spPr>
            <a:xfrm>
              <a:off x="4699440" y="5629320"/>
              <a:ext cx="32400" cy="5616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" y="16"/>
                  </a:moveTo>
                  <a:cubicBezTo>
                    <a:pt x="1" y="16"/>
                    <a:pt x="1" y="16"/>
                    <a:pt x="1" y="16"/>
                  </a:cubicBezTo>
                  <a:cubicBezTo>
                    <a:pt x="7" y="17"/>
                    <a:pt x="11" y="14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5"/>
                    <a:pt x="8" y="1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3"/>
                    <a:pt x="1" y="5"/>
                    <a:pt x="0" y="7"/>
                  </a:cubicBezTo>
                  <a:cubicBezTo>
                    <a:pt x="0" y="10"/>
                    <a:pt x="0" y="13"/>
                    <a:pt x="1" y="16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PA-任意多边形 90"/>
            <p:cNvSpPr/>
            <p:nvPr/>
          </p:nvSpPr>
          <p:spPr>
            <a:xfrm>
              <a:off x="4681800" y="5692680"/>
              <a:ext cx="41760" cy="49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" y="13"/>
                  </a:moveTo>
                  <a:cubicBezTo>
                    <a:pt x="1" y="13"/>
                    <a:pt x="1" y="13"/>
                    <a:pt x="1" y="13"/>
                  </a:cubicBezTo>
                  <a:cubicBezTo>
                    <a:pt x="14" y="15"/>
                    <a:pt x="15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3"/>
                    <a:pt x="0" y="5"/>
                  </a:cubicBezTo>
                  <a:cubicBezTo>
                    <a:pt x="0" y="8"/>
                    <a:pt x="0" y="11"/>
                    <a:pt x="1" y="13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PA-任意多边形 92"/>
            <p:cNvSpPr/>
            <p:nvPr/>
          </p:nvSpPr>
          <p:spPr>
            <a:xfrm>
              <a:off x="4641120" y="5400720"/>
              <a:ext cx="156600" cy="846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45" y="25"/>
                  </a:moveTo>
                  <a:cubicBezTo>
                    <a:pt x="51" y="25"/>
                    <a:pt x="56" y="24"/>
                    <a:pt x="56" y="18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7" y="12"/>
                    <a:pt x="52" y="6"/>
                    <a:pt x="46" y="5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0" y="0"/>
                    <a:pt x="14" y="25"/>
                    <a:pt x="45" y="25"/>
                  </a:cubicBezTo>
                  <a:close/>
                </a:path>
              </a:pathLst>
            </a:custGeom>
            <a:solidFill>
              <a:srgbClr val="f7c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PA-任意多边形 93"/>
            <p:cNvSpPr/>
            <p:nvPr/>
          </p:nvSpPr>
          <p:spPr>
            <a:xfrm>
              <a:off x="4673880" y="5407560"/>
              <a:ext cx="57960" cy="2664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21" y="2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5" y="0"/>
                    <a:pt x="0" y="2"/>
                    <a:pt x="1" y="5"/>
                  </a:cubicBezTo>
                  <a:cubicBezTo>
                    <a:pt x="9" y="8"/>
                    <a:pt x="20" y="7"/>
                    <a:pt x="21" y="2"/>
                  </a:cubicBezTo>
                  <a:close/>
                </a:path>
              </a:pathLst>
            </a:custGeom>
            <a:solidFill>
              <a:srgbClr val="f7c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2" name="组合 16"/>
            <p:cNvGrpSpPr/>
            <p:nvPr/>
          </p:nvGrpSpPr>
          <p:grpSpPr>
            <a:xfrm>
              <a:off x="4575240" y="3606840"/>
              <a:ext cx="2568600" cy="2440080"/>
              <a:chOff x="4575240" y="3606840"/>
              <a:chExt cx="2568600" cy="2440080"/>
            </a:xfrm>
          </p:grpSpPr>
          <p:sp>
            <p:nvSpPr>
              <p:cNvPr id="2023" name="PA-矩形 120"/>
              <p:cNvSpPr/>
              <p:nvPr/>
            </p:nvSpPr>
            <p:spPr>
              <a:xfrm>
                <a:off x="5337000" y="4189320"/>
                <a:ext cx="1038240" cy="12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PA-任意多边形 56"/>
              <p:cNvSpPr/>
              <p:nvPr/>
            </p:nvSpPr>
            <p:spPr>
              <a:xfrm>
                <a:off x="5846760" y="4875480"/>
                <a:ext cx="546840" cy="1171440"/>
              </a:xfrm>
              <a:custGeom>
                <a:avLst/>
                <a:gdLst/>
                <a:ahLst/>
                <a:rect l="l" t="t" r="r" b="b"/>
                <a:pathLst>
                  <a:path w="199" h="350">
                    <a:moveTo>
                      <a:pt x="149" y="350"/>
                    </a:moveTo>
                    <a:cubicBezTo>
                      <a:pt x="150" y="189"/>
                      <a:pt x="150" y="189"/>
                      <a:pt x="150" y="189"/>
                    </a:cubicBezTo>
                    <a:cubicBezTo>
                      <a:pt x="199" y="56"/>
                      <a:pt x="199" y="56"/>
                      <a:pt x="199" y="56"/>
                    </a:cubicBezTo>
                    <a:cubicBezTo>
                      <a:pt x="179" y="35"/>
                      <a:pt x="146" y="18"/>
                      <a:pt x="9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50"/>
                      <a:pt x="0" y="350"/>
                      <a:pt x="0" y="350"/>
                    </a:cubicBezTo>
                    <a:lnTo>
                      <a:pt x="149" y="350"/>
                    </a:ln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PA-任意多边形 57"/>
              <p:cNvSpPr/>
              <p:nvPr/>
            </p:nvSpPr>
            <p:spPr>
              <a:xfrm>
                <a:off x="6127920" y="5009760"/>
                <a:ext cx="463320" cy="880560"/>
              </a:xfrm>
              <a:custGeom>
                <a:avLst/>
                <a:gdLst/>
                <a:ahLst/>
                <a:rect l="l" t="t" r="r" b="b"/>
                <a:pathLst>
                  <a:path w="169" h="263">
                    <a:moveTo>
                      <a:pt x="4" y="15"/>
                    </a:moveTo>
                    <a:cubicBezTo>
                      <a:pt x="8" y="14"/>
                      <a:pt x="8" y="14"/>
                      <a:pt x="8" y="14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64" y="0"/>
                      <a:pt x="74" y="2"/>
                      <a:pt x="84" y="6"/>
                    </a:cubicBezTo>
                    <a:cubicBezTo>
                      <a:pt x="94" y="11"/>
                      <a:pt x="101" y="17"/>
                      <a:pt x="104" y="27"/>
                    </a:cubicBezTo>
                    <a:cubicBezTo>
                      <a:pt x="120" y="74"/>
                      <a:pt x="120" y="74"/>
                      <a:pt x="120" y="74"/>
                    </a:cubicBezTo>
                    <a:cubicBezTo>
                      <a:pt x="119" y="74"/>
                      <a:pt x="119" y="74"/>
                      <a:pt x="119" y="74"/>
                    </a:cubicBezTo>
                    <a:cubicBezTo>
                      <a:pt x="162" y="204"/>
                      <a:pt x="162" y="204"/>
                      <a:pt x="162" y="204"/>
                    </a:cubicBezTo>
                    <a:cubicBezTo>
                      <a:pt x="169" y="226"/>
                      <a:pt x="155" y="250"/>
                      <a:pt x="129" y="257"/>
                    </a:cubicBezTo>
                    <a:cubicBezTo>
                      <a:pt x="129" y="257"/>
                      <a:pt x="129" y="257"/>
                      <a:pt x="129" y="257"/>
                    </a:cubicBezTo>
                    <a:cubicBezTo>
                      <a:pt x="104" y="263"/>
                      <a:pt x="77" y="250"/>
                      <a:pt x="69" y="22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5"/>
                      <a:pt x="4" y="15"/>
                      <a:pt x="4" y="15"/>
                    </a:cubicBez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PA-任意多边形 58"/>
              <p:cNvSpPr/>
              <p:nvPr/>
            </p:nvSpPr>
            <p:spPr>
              <a:xfrm>
                <a:off x="6297480" y="5488200"/>
                <a:ext cx="579240" cy="392040"/>
              </a:xfrm>
              <a:custGeom>
                <a:avLst/>
                <a:gdLst/>
                <a:ahLst/>
                <a:rect l="l" t="t" r="r" b="b"/>
                <a:pathLst>
                  <a:path w="211" h="117">
                    <a:moveTo>
                      <a:pt x="1" y="31"/>
                    </a:moveTo>
                    <a:cubicBezTo>
                      <a:pt x="1" y="35"/>
                      <a:pt x="1" y="35"/>
                      <a:pt x="1" y="35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8" y="80"/>
                      <a:pt x="8" y="80"/>
                      <a:pt x="8" y="80"/>
                    </a:cubicBezTo>
                    <a:cubicBezTo>
                      <a:pt x="11" y="91"/>
                      <a:pt x="16" y="100"/>
                      <a:pt x="24" y="106"/>
                    </a:cubicBezTo>
                    <a:cubicBezTo>
                      <a:pt x="32" y="114"/>
                      <a:pt x="40" y="117"/>
                      <a:pt x="51" y="116"/>
                    </a:cubicBezTo>
                    <a:cubicBezTo>
                      <a:pt x="100" y="109"/>
                      <a:pt x="100" y="109"/>
                      <a:pt x="100" y="109"/>
                    </a:cubicBezTo>
                    <a:cubicBezTo>
                      <a:pt x="100" y="109"/>
                      <a:pt x="100" y="109"/>
                      <a:pt x="100" y="109"/>
                    </a:cubicBezTo>
                    <a:cubicBezTo>
                      <a:pt x="211" y="94"/>
                      <a:pt x="211" y="94"/>
                      <a:pt x="211" y="94"/>
                    </a:cubicBezTo>
                    <a:cubicBezTo>
                      <a:pt x="194" y="0"/>
                      <a:pt x="194" y="0"/>
                      <a:pt x="194" y="0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" y="31"/>
                      <a:pt x="1" y="31"/>
                      <a:pt x="1" y="31"/>
                    </a:cubicBez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PA-任意多边形 59"/>
              <p:cNvSpPr/>
              <p:nvPr/>
            </p:nvSpPr>
            <p:spPr>
              <a:xfrm>
                <a:off x="5852520" y="3606840"/>
                <a:ext cx="469080" cy="1191240"/>
              </a:xfrm>
              <a:custGeom>
                <a:avLst/>
                <a:gdLst/>
                <a:ahLst/>
                <a:rect l="l" t="t" r="r" b="b"/>
                <a:pathLst>
                  <a:path w="171" h="356">
                    <a:moveTo>
                      <a:pt x="0" y="356"/>
                    </a:moveTo>
                    <a:cubicBezTo>
                      <a:pt x="69" y="348"/>
                      <a:pt x="135" y="294"/>
                      <a:pt x="156" y="203"/>
                    </a:cubicBezTo>
                    <a:cubicBezTo>
                      <a:pt x="169" y="145"/>
                      <a:pt x="171" y="93"/>
                      <a:pt x="150" y="59"/>
                    </a:cubicBezTo>
                    <a:cubicBezTo>
                      <a:pt x="122" y="11"/>
                      <a:pt x="59" y="1"/>
                      <a:pt x="0" y="0"/>
                    </a:cubicBezTo>
                    <a:lnTo>
                      <a:pt x="0" y="356"/>
                    </a:lnTo>
                    <a:close/>
                  </a:path>
                </a:pathLst>
              </a:custGeom>
              <a:solidFill>
                <a:srgbClr val="755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PA-任意多边形 60"/>
              <p:cNvSpPr/>
              <p:nvPr/>
            </p:nvSpPr>
            <p:spPr>
              <a:xfrm>
                <a:off x="5325480" y="4875480"/>
                <a:ext cx="546840" cy="1171440"/>
              </a:xfrm>
              <a:custGeom>
                <a:avLst/>
                <a:gdLst/>
                <a:ahLst/>
                <a:rect l="l" t="t" r="r" b="b"/>
                <a:pathLst>
                  <a:path w="199" h="350">
                    <a:moveTo>
                      <a:pt x="51" y="350"/>
                    </a:moveTo>
                    <a:cubicBezTo>
                      <a:pt x="49" y="189"/>
                      <a:pt x="49" y="189"/>
                      <a:pt x="49" y="18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0" y="35"/>
                      <a:pt x="54" y="18"/>
                      <a:pt x="109" y="0"/>
                    </a:cubicBezTo>
                    <a:cubicBezTo>
                      <a:pt x="170" y="0"/>
                      <a:pt x="170" y="0"/>
                      <a:pt x="170" y="0"/>
                    </a:cubicBezTo>
                    <a:cubicBezTo>
                      <a:pt x="199" y="0"/>
                      <a:pt x="199" y="0"/>
                      <a:pt x="199" y="0"/>
                    </a:cubicBezTo>
                    <a:cubicBezTo>
                      <a:pt x="199" y="350"/>
                      <a:pt x="199" y="350"/>
                      <a:pt x="199" y="350"/>
                    </a:cubicBezTo>
                    <a:lnTo>
                      <a:pt x="51" y="350"/>
                    </a:lnTo>
                    <a:close/>
                  </a:path>
                </a:pathLst>
              </a:custGeom>
              <a:solidFill>
                <a:srgbClr val="48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PA-任意多边形 61"/>
              <p:cNvSpPr/>
              <p:nvPr/>
            </p:nvSpPr>
            <p:spPr>
              <a:xfrm>
                <a:off x="5627160" y="4658040"/>
                <a:ext cx="460800" cy="993600"/>
              </a:xfrm>
              <a:custGeom>
                <a:avLst/>
                <a:gdLst/>
                <a:ahLst/>
                <a:rect l="l" t="t" r="r" b="b"/>
                <a:pathLst>
                  <a:path w="397" h="704">
                    <a:moveTo>
                      <a:pt x="397" y="154"/>
                    </a:moveTo>
                    <a:lnTo>
                      <a:pt x="203" y="704"/>
                    </a:lnTo>
                    <a:lnTo>
                      <a:pt x="0" y="154"/>
                    </a:lnTo>
                    <a:lnTo>
                      <a:pt x="71" y="152"/>
                    </a:lnTo>
                    <a:lnTo>
                      <a:pt x="71" y="0"/>
                    </a:lnTo>
                    <a:lnTo>
                      <a:pt x="331" y="0"/>
                    </a:lnTo>
                    <a:lnTo>
                      <a:pt x="331" y="152"/>
                    </a:lnTo>
                    <a:lnTo>
                      <a:pt x="397" y="1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PA-任意多边形 62"/>
              <p:cNvSpPr/>
              <p:nvPr/>
            </p:nvSpPr>
            <p:spPr>
              <a:xfrm>
                <a:off x="5699160" y="4658040"/>
                <a:ext cx="317880" cy="327240"/>
              </a:xfrm>
              <a:custGeom>
                <a:avLst/>
                <a:gdLst/>
                <a:ahLst/>
                <a:rect l="l" t="t" r="r" b="b"/>
                <a:pathLst>
                  <a:path w="116" h="98">
                    <a:moveTo>
                      <a:pt x="0" y="64"/>
                    </a:moveTo>
                    <a:cubicBezTo>
                      <a:pt x="4" y="64"/>
                      <a:pt x="4" y="64"/>
                      <a:pt x="4" y="6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14" y="0"/>
                      <a:pt x="114" y="0"/>
                      <a:pt x="114" y="0"/>
                    </a:cubicBezTo>
                    <a:cubicBezTo>
                      <a:pt x="114" y="64"/>
                      <a:pt x="114" y="64"/>
                      <a:pt x="114" y="64"/>
                    </a:cubicBezTo>
                    <a:cubicBezTo>
                      <a:pt x="116" y="64"/>
                      <a:pt x="116" y="64"/>
                      <a:pt x="116" y="64"/>
                    </a:cubicBezTo>
                    <a:cubicBezTo>
                      <a:pt x="103" y="81"/>
                      <a:pt x="83" y="98"/>
                      <a:pt x="60" y="98"/>
                    </a:cubicBezTo>
                    <a:cubicBezTo>
                      <a:pt x="36" y="98"/>
                      <a:pt x="14" y="81"/>
                      <a:pt x="0" y="64"/>
                    </a:cubicBezTo>
                    <a:close/>
                  </a:path>
                </a:pathLst>
              </a:custGeom>
              <a:solidFill>
                <a:srgbClr val="e0d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PA-任意多边形 63"/>
              <p:cNvSpPr/>
              <p:nvPr/>
            </p:nvSpPr>
            <p:spPr>
              <a:xfrm>
                <a:off x="5709600" y="4658040"/>
                <a:ext cx="301680" cy="23400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0" y="6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10" y="0"/>
                      <a:pt x="110" y="0"/>
                      <a:pt x="110" y="0"/>
                    </a:cubicBezTo>
                    <a:cubicBezTo>
                      <a:pt x="110" y="62"/>
                      <a:pt x="110" y="62"/>
                      <a:pt x="110" y="62"/>
                    </a:cubicBezTo>
                    <a:cubicBezTo>
                      <a:pt x="93" y="67"/>
                      <a:pt x="74" y="70"/>
                      <a:pt x="55" y="70"/>
                    </a:cubicBezTo>
                    <a:cubicBezTo>
                      <a:pt x="36" y="70"/>
                      <a:pt x="18" y="67"/>
                      <a:pt x="0" y="62"/>
                    </a:cubicBezTo>
                    <a:close/>
                  </a:path>
                </a:pathLst>
              </a:custGeom>
              <a:solidFill>
                <a:srgbClr val="cac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PA-任意多边形 64"/>
              <p:cNvSpPr/>
              <p:nvPr/>
            </p:nvSpPr>
            <p:spPr>
              <a:xfrm>
                <a:off x="5668920" y="4658040"/>
                <a:ext cx="189000" cy="522000"/>
              </a:xfrm>
              <a:custGeom>
                <a:avLst/>
                <a:gdLst/>
                <a:ahLst/>
                <a:rect l="l" t="t" r="r" b="b"/>
                <a:pathLst>
                  <a:path w="163" h="370">
                    <a:moveTo>
                      <a:pt x="163" y="370"/>
                    </a:moveTo>
                    <a:lnTo>
                      <a:pt x="0" y="154"/>
                    </a:lnTo>
                    <a:lnTo>
                      <a:pt x="35" y="152"/>
                    </a:lnTo>
                    <a:lnTo>
                      <a:pt x="35" y="0"/>
                    </a:lnTo>
                    <a:lnTo>
                      <a:pt x="163" y="0"/>
                    </a:lnTo>
                    <a:lnTo>
                      <a:pt x="163" y="37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PA-任意多边形 65"/>
              <p:cNvSpPr/>
              <p:nvPr/>
            </p:nvSpPr>
            <p:spPr>
              <a:xfrm>
                <a:off x="5699160" y="4658040"/>
                <a:ext cx="158760" cy="331560"/>
              </a:xfrm>
              <a:custGeom>
                <a:avLst/>
                <a:gdLst/>
                <a:ahLst/>
                <a:rect l="l" t="t" r="r" b="b"/>
                <a:pathLst>
                  <a:path w="58" h="99">
                    <a:moveTo>
                      <a:pt x="0" y="64"/>
                    </a:moveTo>
                    <a:cubicBezTo>
                      <a:pt x="4" y="64"/>
                      <a:pt x="4" y="64"/>
                      <a:pt x="4" y="6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8" y="98"/>
                      <a:pt x="58" y="98"/>
                      <a:pt x="58" y="98"/>
                    </a:cubicBezTo>
                    <a:cubicBezTo>
                      <a:pt x="58" y="98"/>
                      <a:pt x="58" y="98"/>
                      <a:pt x="58" y="98"/>
                    </a:cubicBezTo>
                    <a:cubicBezTo>
                      <a:pt x="35" y="99"/>
                      <a:pt x="14" y="81"/>
                      <a:pt x="0" y="64"/>
                    </a:cubicBezTo>
                    <a:close/>
                  </a:path>
                </a:pathLst>
              </a:custGeom>
              <a:solidFill>
                <a:srgbClr val="eae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PA-任意多边形 66"/>
              <p:cNvSpPr/>
              <p:nvPr/>
            </p:nvSpPr>
            <p:spPr>
              <a:xfrm>
                <a:off x="5709600" y="4658040"/>
                <a:ext cx="148320" cy="23400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0" y="6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36" y="70"/>
                      <a:pt x="17" y="67"/>
                      <a:pt x="0" y="62"/>
                    </a:cubicBezTo>
                    <a:close/>
                  </a:path>
                </a:pathLst>
              </a:custGeom>
              <a:solidFill>
                <a:srgbClr val="dad6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PA-任意多边形 67"/>
              <p:cNvSpPr/>
              <p:nvPr/>
            </p:nvSpPr>
            <p:spPr>
              <a:xfrm>
                <a:off x="5737680" y="4985640"/>
                <a:ext cx="243720" cy="187560"/>
              </a:xfrm>
              <a:custGeom>
                <a:avLst/>
                <a:gdLst/>
                <a:ahLst/>
                <a:rect l="l" t="t" r="r" b="b"/>
                <a:pathLst>
                  <a:path w="210" h="133">
                    <a:moveTo>
                      <a:pt x="0" y="26"/>
                    </a:moveTo>
                    <a:lnTo>
                      <a:pt x="106" y="133"/>
                    </a:lnTo>
                    <a:lnTo>
                      <a:pt x="210" y="22"/>
                    </a:lnTo>
                    <a:lnTo>
                      <a:pt x="10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PA-任意多边形 68"/>
              <p:cNvSpPr/>
              <p:nvPr/>
            </p:nvSpPr>
            <p:spPr>
              <a:xfrm>
                <a:off x="5802480" y="5053320"/>
                <a:ext cx="112320" cy="632160"/>
              </a:xfrm>
              <a:custGeom>
                <a:avLst/>
                <a:gdLst/>
                <a:ahLst/>
                <a:rect l="l" t="t" r="r" b="b"/>
                <a:pathLst>
                  <a:path w="97" h="448">
                    <a:moveTo>
                      <a:pt x="0" y="273"/>
                    </a:moveTo>
                    <a:lnTo>
                      <a:pt x="50" y="0"/>
                    </a:lnTo>
                    <a:lnTo>
                      <a:pt x="97" y="282"/>
                    </a:lnTo>
                    <a:lnTo>
                      <a:pt x="52" y="448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PA-任意多边形 69"/>
              <p:cNvSpPr/>
              <p:nvPr/>
            </p:nvSpPr>
            <p:spPr>
              <a:xfrm>
                <a:off x="5393880" y="3606840"/>
                <a:ext cx="469080" cy="1191240"/>
              </a:xfrm>
              <a:custGeom>
                <a:avLst/>
                <a:gdLst/>
                <a:ahLst/>
                <a:rect l="l" t="t" r="r" b="b"/>
                <a:pathLst>
                  <a:path w="171" h="356">
                    <a:moveTo>
                      <a:pt x="171" y="356"/>
                    </a:moveTo>
                    <a:cubicBezTo>
                      <a:pt x="102" y="348"/>
                      <a:pt x="37" y="294"/>
                      <a:pt x="16" y="203"/>
                    </a:cubicBezTo>
                    <a:cubicBezTo>
                      <a:pt x="2" y="145"/>
                      <a:pt x="0" y="93"/>
                      <a:pt x="21" y="59"/>
                    </a:cubicBezTo>
                    <a:cubicBezTo>
                      <a:pt x="50" y="11"/>
                      <a:pt x="112" y="1"/>
                      <a:pt x="171" y="0"/>
                    </a:cubicBezTo>
                    <a:lnTo>
                      <a:pt x="171" y="356"/>
                    </a:lnTo>
                    <a:close/>
                  </a:path>
                </a:pathLst>
              </a:custGeom>
              <a:solidFill>
                <a:srgbClr val="755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PA-任意多边形 70"/>
              <p:cNvSpPr/>
              <p:nvPr/>
            </p:nvSpPr>
            <p:spPr>
              <a:xfrm>
                <a:off x="5464800" y="3887640"/>
                <a:ext cx="777960" cy="1131840"/>
              </a:xfrm>
              <a:custGeom>
                <a:avLst/>
                <a:gdLst/>
                <a:ahLst/>
                <a:rect l="l" t="t" r="r" b="b"/>
                <a:pathLst>
                  <a:path w="283" h="338">
                    <a:moveTo>
                      <a:pt x="142" y="0"/>
                    </a:moveTo>
                    <a:cubicBezTo>
                      <a:pt x="145" y="0"/>
                      <a:pt x="148" y="0"/>
                      <a:pt x="151" y="0"/>
                    </a:cubicBezTo>
                    <a:cubicBezTo>
                      <a:pt x="246" y="0"/>
                      <a:pt x="246" y="0"/>
                      <a:pt x="246" y="0"/>
                    </a:cubicBezTo>
                    <a:cubicBezTo>
                      <a:pt x="253" y="33"/>
                      <a:pt x="253" y="33"/>
                      <a:pt x="253" y="33"/>
                    </a:cubicBezTo>
                    <a:cubicBezTo>
                      <a:pt x="282" y="67"/>
                      <a:pt x="282" y="67"/>
                      <a:pt x="282" y="67"/>
                    </a:cubicBezTo>
                    <a:cubicBezTo>
                      <a:pt x="282" y="93"/>
                      <a:pt x="283" y="118"/>
                      <a:pt x="282" y="143"/>
                    </a:cubicBezTo>
                    <a:cubicBezTo>
                      <a:pt x="268" y="338"/>
                      <a:pt x="21" y="336"/>
                      <a:pt x="3" y="141"/>
                    </a:cubicBezTo>
                    <a:cubicBezTo>
                      <a:pt x="0" y="105"/>
                      <a:pt x="4" y="67"/>
                      <a:pt x="4" y="32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33" y="0"/>
                      <a:pt x="133" y="0"/>
                      <a:pt x="133" y="0"/>
                    </a:cubicBezTo>
                    <a:cubicBezTo>
                      <a:pt x="136" y="0"/>
                      <a:pt x="139" y="0"/>
                      <a:pt x="142" y="0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PA-任意多边形 71"/>
              <p:cNvSpPr/>
              <p:nvPr/>
            </p:nvSpPr>
            <p:spPr>
              <a:xfrm>
                <a:off x="5464800" y="3887640"/>
                <a:ext cx="398160" cy="968040"/>
              </a:xfrm>
              <a:custGeom>
                <a:avLst/>
                <a:gdLst/>
                <a:ahLst/>
                <a:rect l="l" t="t" r="r" b="b"/>
                <a:pathLst>
                  <a:path w="145" h="289">
                    <a:moveTo>
                      <a:pt x="142" y="0"/>
                    </a:moveTo>
                    <a:cubicBezTo>
                      <a:pt x="143" y="0"/>
                      <a:pt x="144" y="0"/>
                      <a:pt x="145" y="0"/>
                    </a:cubicBezTo>
                    <a:cubicBezTo>
                      <a:pt x="145" y="288"/>
                      <a:pt x="145" y="288"/>
                      <a:pt x="145" y="288"/>
                    </a:cubicBezTo>
                    <a:cubicBezTo>
                      <a:pt x="79" y="289"/>
                      <a:pt x="12" y="239"/>
                      <a:pt x="3" y="141"/>
                    </a:cubicBezTo>
                    <a:cubicBezTo>
                      <a:pt x="0" y="105"/>
                      <a:pt x="4" y="67"/>
                      <a:pt x="4" y="32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33" y="0"/>
                      <a:pt x="133" y="0"/>
                      <a:pt x="133" y="0"/>
                    </a:cubicBezTo>
                    <a:cubicBezTo>
                      <a:pt x="136" y="0"/>
                      <a:pt x="139" y="0"/>
                      <a:pt x="142" y="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PA-任意多边形 72"/>
              <p:cNvSpPr/>
              <p:nvPr/>
            </p:nvSpPr>
            <p:spPr>
              <a:xfrm>
                <a:off x="5413680" y="3797280"/>
                <a:ext cx="861480" cy="421920"/>
              </a:xfrm>
              <a:custGeom>
                <a:avLst/>
                <a:gdLst/>
                <a:ahLst/>
                <a:rect l="l" t="t" r="r" b="b"/>
                <a:pathLst>
                  <a:path w="314" h="126">
                    <a:moveTo>
                      <a:pt x="314" y="75"/>
                    </a:moveTo>
                    <a:cubicBezTo>
                      <a:pt x="304" y="113"/>
                      <a:pt x="304" y="113"/>
                      <a:pt x="304" y="113"/>
                    </a:cubicBezTo>
                    <a:cubicBezTo>
                      <a:pt x="187" y="126"/>
                      <a:pt x="41" y="0"/>
                      <a:pt x="21" y="119"/>
                    </a:cubicBezTo>
                    <a:cubicBezTo>
                      <a:pt x="20" y="89"/>
                      <a:pt x="0" y="90"/>
                      <a:pt x="14" y="45"/>
                    </a:cubicBezTo>
                    <a:cubicBezTo>
                      <a:pt x="28" y="63"/>
                      <a:pt x="23" y="15"/>
                      <a:pt x="60" y="15"/>
                    </a:cubicBezTo>
                    <a:cubicBezTo>
                      <a:pt x="164" y="16"/>
                      <a:pt x="164" y="16"/>
                      <a:pt x="164" y="16"/>
                    </a:cubicBezTo>
                    <a:cubicBezTo>
                      <a:pt x="166" y="16"/>
                      <a:pt x="166" y="16"/>
                      <a:pt x="166" y="16"/>
                    </a:cubicBezTo>
                    <a:cubicBezTo>
                      <a:pt x="166" y="15"/>
                      <a:pt x="166" y="15"/>
                      <a:pt x="166" y="15"/>
                    </a:cubicBezTo>
                    <a:cubicBezTo>
                      <a:pt x="219" y="15"/>
                      <a:pt x="219" y="15"/>
                      <a:pt x="219" y="15"/>
                    </a:cubicBezTo>
                    <a:cubicBezTo>
                      <a:pt x="219" y="15"/>
                      <a:pt x="219" y="15"/>
                      <a:pt x="219" y="15"/>
                    </a:cubicBezTo>
                    <a:cubicBezTo>
                      <a:pt x="235" y="15"/>
                      <a:pt x="235" y="15"/>
                      <a:pt x="235" y="15"/>
                    </a:cubicBezTo>
                    <a:cubicBezTo>
                      <a:pt x="282" y="15"/>
                      <a:pt x="313" y="41"/>
                      <a:pt x="314" y="73"/>
                    </a:cubicBezTo>
                    <a:cubicBezTo>
                      <a:pt x="314" y="75"/>
                      <a:pt x="314" y="75"/>
                      <a:pt x="314" y="75"/>
                    </a:cubicBezTo>
                    <a:close/>
                  </a:path>
                </a:pathLst>
              </a:custGeom>
              <a:solidFill>
                <a:srgbClr val="755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PA-任意多边形 73"/>
              <p:cNvSpPr/>
              <p:nvPr/>
            </p:nvSpPr>
            <p:spPr>
              <a:xfrm>
                <a:off x="5794560" y="4199400"/>
                <a:ext cx="101880" cy="405000"/>
              </a:xfrm>
              <a:custGeom>
                <a:avLst/>
                <a:gdLst/>
                <a:ahLst/>
                <a:rect l="l" t="t" r="r" b="b"/>
                <a:pathLst>
                  <a:path w="88" h="287">
                    <a:moveTo>
                      <a:pt x="62" y="0"/>
                    </a:moveTo>
                    <a:lnTo>
                      <a:pt x="0" y="287"/>
                    </a:lnTo>
                    <a:lnTo>
                      <a:pt x="88" y="275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PA-任意多边形 74"/>
              <p:cNvSpPr/>
              <p:nvPr/>
            </p:nvSpPr>
            <p:spPr>
              <a:xfrm>
                <a:off x="5132520" y="5009760"/>
                <a:ext cx="464400" cy="880560"/>
              </a:xfrm>
              <a:custGeom>
                <a:avLst/>
                <a:gdLst/>
                <a:ahLst/>
                <a:rect l="l" t="t" r="r" b="b"/>
                <a:pathLst>
                  <a:path w="169" h="263">
                    <a:moveTo>
                      <a:pt x="165" y="15"/>
                    </a:moveTo>
                    <a:cubicBezTo>
                      <a:pt x="161" y="14"/>
                      <a:pt x="161" y="14"/>
                      <a:pt x="161" y="14"/>
                    </a:cubicBezTo>
                    <a:cubicBezTo>
                      <a:pt x="156" y="12"/>
                      <a:pt x="156" y="12"/>
                      <a:pt x="156" y="12"/>
                    </a:cubicBezTo>
                    <a:cubicBezTo>
                      <a:pt x="156" y="12"/>
                      <a:pt x="156" y="12"/>
                      <a:pt x="156" y="12"/>
                    </a:cubicBezTo>
                    <a:cubicBezTo>
                      <a:pt x="116" y="2"/>
                      <a:pt x="116" y="2"/>
                      <a:pt x="116" y="2"/>
                    </a:cubicBezTo>
                    <a:cubicBezTo>
                      <a:pt x="105" y="0"/>
                      <a:pt x="95" y="2"/>
                      <a:pt x="85" y="6"/>
                    </a:cubicBezTo>
                    <a:cubicBezTo>
                      <a:pt x="75" y="11"/>
                      <a:pt x="68" y="17"/>
                      <a:pt x="65" y="27"/>
                    </a:cubicBezTo>
                    <a:cubicBezTo>
                      <a:pt x="49" y="74"/>
                      <a:pt x="49" y="74"/>
                      <a:pt x="49" y="74"/>
                    </a:cubicBezTo>
                    <a:cubicBezTo>
                      <a:pt x="50" y="74"/>
                      <a:pt x="50" y="74"/>
                      <a:pt x="50" y="74"/>
                    </a:cubicBezTo>
                    <a:cubicBezTo>
                      <a:pt x="7" y="204"/>
                      <a:pt x="7" y="204"/>
                      <a:pt x="7" y="204"/>
                    </a:cubicBezTo>
                    <a:cubicBezTo>
                      <a:pt x="0" y="226"/>
                      <a:pt x="15" y="250"/>
                      <a:pt x="40" y="257"/>
                    </a:cubicBezTo>
                    <a:cubicBezTo>
                      <a:pt x="40" y="257"/>
                      <a:pt x="40" y="257"/>
                      <a:pt x="40" y="257"/>
                    </a:cubicBezTo>
                    <a:cubicBezTo>
                      <a:pt x="65" y="263"/>
                      <a:pt x="92" y="250"/>
                      <a:pt x="100" y="227"/>
                    </a:cubicBezTo>
                    <a:cubicBezTo>
                      <a:pt x="169" y="16"/>
                      <a:pt x="169" y="16"/>
                      <a:pt x="169" y="16"/>
                    </a:cubicBezTo>
                    <a:cubicBezTo>
                      <a:pt x="165" y="15"/>
                      <a:pt x="165" y="15"/>
                      <a:pt x="165" y="15"/>
                    </a:cubicBezTo>
                    <a:close/>
                  </a:path>
                </a:pathLst>
              </a:custGeom>
              <a:solidFill>
                <a:srgbClr val="48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PA-任意多边形 75"/>
              <p:cNvSpPr/>
              <p:nvPr/>
            </p:nvSpPr>
            <p:spPr>
              <a:xfrm>
                <a:off x="4842000" y="5488200"/>
                <a:ext cx="587520" cy="392040"/>
              </a:xfrm>
              <a:custGeom>
                <a:avLst/>
                <a:gdLst/>
                <a:ahLst/>
                <a:rect l="l" t="t" r="r" b="b"/>
                <a:pathLst>
                  <a:path w="214" h="117">
                    <a:moveTo>
                      <a:pt x="213" y="31"/>
                    </a:moveTo>
                    <a:cubicBezTo>
                      <a:pt x="212" y="35"/>
                      <a:pt x="212" y="35"/>
                      <a:pt x="212" y="35"/>
                    </a:cubicBezTo>
                    <a:cubicBezTo>
                      <a:pt x="212" y="40"/>
                      <a:pt x="212" y="40"/>
                      <a:pt x="212" y="40"/>
                    </a:cubicBezTo>
                    <a:cubicBezTo>
                      <a:pt x="212" y="40"/>
                      <a:pt x="212" y="40"/>
                      <a:pt x="212" y="40"/>
                    </a:cubicBezTo>
                    <a:cubicBezTo>
                      <a:pt x="206" y="80"/>
                      <a:pt x="206" y="80"/>
                      <a:pt x="206" y="80"/>
                    </a:cubicBezTo>
                    <a:cubicBezTo>
                      <a:pt x="203" y="91"/>
                      <a:pt x="198" y="100"/>
                      <a:pt x="190" y="106"/>
                    </a:cubicBezTo>
                    <a:cubicBezTo>
                      <a:pt x="181" y="114"/>
                      <a:pt x="173" y="117"/>
                      <a:pt x="163" y="116"/>
                    </a:cubicBezTo>
                    <a:cubicBezTo>
                      <a:pt x="114" y="109"/>
                      <a:pt x="114" y="109"/>
                      <a:pt x="114" y="109"/>
                    </a:cubicBezTo>
                    <a:cubicBezTo>
                      <a:pt x="114" y="109"/>
                      <a:pt x="114" y="109"/>
                      <a:pt x="114" y="109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4" y="26"/>
                      <a:pt x="214" y="26"/>
                      <a:pt x="214" y="26"/>
                    </a:cubicBezTo>
                    <a:cubicBezTo>
                      <a:pt x="213" y="31"/>
                      <a:pt x="213" y="31"/>
                      <a:pt x="213" y="31"/>
                    </a:cubicBezTo>
                    <a:close/>
                  </a:path>
                </a:pathLst>
              </a:custGeom>
              <a:solidFill>
                <a:srgbClr val="48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PA-任意多边形 76"/>
              <p:cNvSpPr/>
              <p:nvPr/>
            </p:nvSpPr>
            <p:spPr>
              <a:xfrm>
                <a:off x="5625000" y="4848840"/>
                <a:ext cx="235440" cy="258120"/>
              </a:xfrm>
              <a:custGeom>
                <a:avLst/>
                <a:gdLst/>
                <a:ahLst/>
                <a:rect l="l" t="t" r="r" b="b"/>
                <a:pathLst>
                  <a:path w="203" h="183">
                    <a:moveTo>
                      <a:pt x="71" y="0"/>
                    </a:moveTo>
                    <a:lnTo>
                      <a:pt x="0" y="21"/>
                    </a:lnTo>
                    <a:lnTo>
                      <a:pt x="64" y="183"/>
                    </a:lnTo>
                    <a:lnTo>
                      <a:pt x="203" y="9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PA-任意多边形 77"/>
              <p:cNvSpPr/>
              <p:nvPr/>
            </p:nvSpPr>
            <p:spPr>
              <a:xfrm>
                <a:off x="5860800" y="4855680"/>
                <a:ext cx="233280" cy="244080"/>
              </a:xfrm>
              <a:custGeom>
                <a:avLst/>
                <a:gdLst/>
                <a:ahLst/>
                <a:rect l="l" t="t" r="r" b="b"/>
                <a:pathLst>
                  <a:path w="201" h="173">
                    <a:moveTo>
                      <a:pt x="133" y="0"/>
                    </a:moveTo>
                    <a:lnTo>
                      <a:pt x="201" y="16"/>
                    </a:lnTo>
                    <a:lnTo>
                      <a:pt x="137" y="173"/>
                    </a:lnTo>
                    <a:lnTo>
                      <a:pt x="0" y="9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PA-任意多边形 78"/>
              <p:cNvSpPr/>
              <p:nvPr/>
            </p:nvSpPr>
            <p:spPr>
              <a:xfrm>
                <a:off x="5855040" y="4875480"/>
                <a:ext cx="324000" cy="1098000"/>
              </a:xfrm>
              <a:custGeom>
                <a:avLst/>
                <a:gdLst/>
                <a:ahLst/>
                <a:rect l="l" t="t" r="r" b="b"/>
                <a:pathLst>
                  <a:path w="279" h="778">
                    <a:moveTo>
                      <a:pt x="206" y="0"/>
                    </a:moveTo>
                    <a:lnTo>
                      <a:pt x="279" y="259"/>
                    </a:lnTo>
                    <a:lnTo>
                      <a:pt x="159" y="249"/>
                    </a:lnTo>
                    <a:lnTo>
                      <a:pt x="251" y="399"/>
                    </a:lnTo>
                    <a:lnTo>
                      <a:pt x="3" y="778"/>
                    </a:lnTo>
                    <a:lnTo>
                      <a:pt x="0" y="522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PA-任意多边形 79"/>
              <p:cNvSpPr/>
              <p:nvPr/>
            </p:nvSpPr>
            <p:spPr>
              <a:xfrm>
                <a:off x="5538960" y="4875480"/>
                <a:ext cx="324000" cy="1098000"/>
              </a:xfrm>
              <a:custGeom>
                <a:avLst/>
                <a:gdLst/>
                <a:ahLst/>
                <a:rect l="l" t="t" r="r" b="b"/>
                <a:pathLst>
                  <a:path w="279" h="778">
                    <a:moveTo>
                      <a:pt x="74" y="0"/>
                    </a:moveTo>
                    <a:lnTo>
                      <a:pt x="0" y="259"/>
                    </a:lnTo>
                    <a:lnTo>
                      <a:pt x="121" y="249"/>
                    </a:lnTo>
                    <a:lnTo>
                      <a:pt x="29" y="399"/>
                    </a:lnTo>
                    <a:lnTo>
                      <a:pt x="275" y="778"/>
                    </a:lnTo>
                    <a:lnTo>
                      <a:pt x="279" y="52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PA-任意多边形 80"/>
              <p:cNvSpPr/>
              <p:nvPr/>
            </p:nvSpPr>
            <p:spPr>
              <a:xfrm>
                <a:off x="4627440" y="5451480"/>
                <a:ext cx="253080" cy="324360"/>
              </a:xfrm>
              <a:custGeom>
                <a:avLst/>
                <a:gdLst/>
                <a:ahLst/>
                <a:rect l="l" t="t" r="r" b="b"/>
                <a:pathLst>
                  <a:path w="92" h="97">
                    <a:moveTo>
                      <a:pt x="8" y="25"/>
                    </a:moveTo>
                    <a:cubicBezTo>
                      <a:pt x="1" y="67"/>
                      <a:pt x="1" y="67"/>
                      <a:pt x="1" y="67"/>
                    </a:cubicBezTo>
                    <a:cubicBezTo>
                      <a:pt x="0" y="76"/>
                      <a:pt x="7" y="85"/>
                      <a:pt x="17" y="87"/>
                    </a:cubicBezTo>
                    <a:cubicBezTo>
                      <a:pt x="38" y="90"/>
                      <a:pt x="38" y="90"/>
                      <a:pt x="38" y="90"/>
                    </a:cubicBezTo>
                    <a:cubicBezTo>
                      <a:pt x="52" y="92"/>
                      <a:pt x="81" y="97"/>
                      <a:pt x="85" y="75"/>
                    </a:cubicBezTo>
                    <a:cubicBezTo>
                      <a:pt x="91" y="38"/>
                      <a:pt x="91" y="38"/>
                      <a:pt x="91" y="38"/>
                    </a:cubicBezTo>
                    <a:cubicBezTo>
                      <a:pt x="92" y="28"/>
                      <a:pt x="85" y="19"/>
                      <a:pt x="75" y="17"/>
                    </a:cubicBezTo>
                    <a:cubicBezTo>
                      <a:pt x="59" y="15"/>
                      <a:pt x="12" y="0"/>
                      <a:pt x="8" y="25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PA-任意多边形 83"/>
              <p:cNvSpPr/>
              <p:nvPr/>
            </p:nvSpPr>
            <p:spPr>
              <a:xfrm>
                <a:off x="4597200" y="5471280"/>
                <a:ext cx="140400" cy="8748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15"/>
                      <a:pt x="5" y="21"/>
                      <a:pt x="11" y="21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45" y="26"/>
                      <a:pt x="50" y="22"/>
                      <a:pt x="51" y="16"/>
                    </a:cubicBezTo>
                    <a:cubicBezTo>
                      <a:pt x="51" y="16"/>
                      <a:pt x="51" y="16"/>
                      <a:pt x="51" y="16"/>
                    </a:cubicBezTo>
                    <a:cubicBezTo>
                      <a:pt x="51" y="11"/>
                      <a:pt x="47" y="5"/>
                      <a:pt x="41" y="5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7" y="0"/>
                      <a:pt x="1" y="4"/>
                      <a:pt x="1" y="1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PA-任意多边形 84"/>
              <p:cNvSpPr/>
              <p:nvPr/>
            </p:nvSpPr>
            <p:spPr>
              <a:xfrm>
                <a:off x="4575240" y="5538960"/>
                <a:ext cx="170640" cy="9000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1" y="9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15"/>
                      <a:pt x="5" y="20"/>
                      <a:pt x="12" y="21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6" y="27"/>
                      <a:pt x="61" y="23"/>
                      <a:pt x="62" y="17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2"/>
                      <a:pt x="57" y="6"/>
                      <a:pt x="51" y="5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0"/>
                      <a:pt x="1" y="3"/>
                      <a:pt x="1" y="9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PA-任意多边形 85"/>
              <p:cNvSpPr/>
              <p:nvPr/>
            </p:nvSpPr>
            <p:spPr>
              <a:xfrm>
                <a:off x="4581000" y="5605200"/>
                <a:ext cx="156600" cy="8748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25"/>
                      <a:pt x="28" y="22"/>
                      <a:pt x="38" y="24"/>
                    </a:cubicBezTo>
                    <a:cubicBezTo>
                      <a:pt x="48" y="26"/>
                      <a:pt x="56" y="25"/>
                      <a:pt x="57" y="18"/>
                    </a:cubicBezTo>
                    <a:cubicBezTo>
                      <a:pt x="57" y="18"/>
                      <a:pt x="57" y="18"/>
                      <a:pt x="57" y="18"/>
                    </a:cubicBezTo>
                    <a:cubicBezTo>
                      <a:pt x="57" y="12"/>
                      <a:pt x="52" y="7"/>
                      <a:pt x="46" y="6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7" y="0"/>
                      <a:pt x="2" y="4"/>
                      <a:pt x="1" y="1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PA-任意多边形 91"/>
              <p:cNvSpPr/>
              <p:nvPr/>
            </p:nvSpPr>
            <p:spPr>
              <a:xfrm>
                <a:off x="4731840" y="5414760"/>
                <a:ext cx="112320" cy="133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" y="6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0" y="11"/>
                      <a:pt x="1" y="18"/>
                      <a:pt x="6" y="23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6" y="40"/>
                      <a:pt x="33" y="39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41" y="29"/>
                      <a:pt x="40" y="22"/>
                      <a:pt x="35" y="18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15" y="0"/>
                      <a:pt x="8" y="1"/>
                      <a:pt x="4" y="6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PA-任意多边形 94"/>
              <p:cNvSpPr/>
              <p:nvPr/>
            </p:nvSpPr>
            <p:spPr>
              <a:xfrm>
                <a:off x="6838560" y="5451480"/>
                <a:ext cx="255240" cy="324360"/>
              </a:xfrm>
              <a:custGeom>
                <a:avLst/>
                <a:gdLst/>
                <a:ahLst/>
                <a:rect l="l" t="t" r="r" b="b"/>
                <a:pathLst>
                  <a:path w="93" h="97">
                    <a:moveTo>
                      <a:pt x="85" y="25"/>
                    </a:moveTo>
                    <a:cubicBezTo>
                      <a:pt x="91" y="67"/>
                      <a:pt x="91" y="67"/>
                      <a:pt x="91" y="67"/>
                    </a:cubicBezTo>
                    <a:cubicBezTo>
                      <a:pt x="93" y="76"/>
                      <a:pt x="85" y="85"/>
                      <a:pt x="75" y="87"/>
                    </a:cubicBezTo>
                    <a:cubicBezTo>
                      <a:pt x="55" y="90"/>
                      <a:pt x="55" y="90"/>
                      <a:pt x="55" y="90"/>
                    </a:cubicBezTo>
                    <a:cubicBezTo>
                      <a:pt x="40" y="92"/>
                      <a:pt x="11" y="97"/>
                      <a:pt x="8" y="75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0" y="28"/>
                      <a:pt x="8" y="19"/>
                      <a:pt x="18" y="17"/>
                    </a:cubicBezTo>
                    <a:cubicBezTo>
                      <a:pt x="34" y="15"/>
                      <a:pt x="81" y="0"/>
                      <a:pt x="85" y="25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PA-任意多边形 95"/>
              <p:cNvSpPr/>
              <p:nvPr/>
            </p:nvSpPr>
            <p:spPr>
              <a:xfrm>
                <a:off x="6844320" y="5475600"/>
                <a:ext cx="90360" cy="12276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4"/>
                    </a:moveTo>
                    <a:cubicBezTo>
                      <a:pt x="27" y="4"/>
                      <a:pt x="27" y="4"/>
                      <a:pt x="27" y="4"/>
                    </a:cubicBezTo>
                    <a:cubicBezTo>
                      <a:pt x="32" y="8"/>
                      <a:pt x="33" y="15"/>
                      <a:pt x="30" y="20"/>
                    </a:cubicBezTo>
                    <a:cubicBezTo>
                      <a:pt x="22" y="31"/>
                      <a:pt x="22" y="31"/>
                      <a:pt x="22" y="31"/>
                    </a:cubicBezTo>
                    <a:cubicBezTo>
                      <a:pt x="19" y="36"/>
                      <a:pt x="11" y="37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1" y="30"/>
                      <a:pt x="0" y="22"/>
                      <a:pt x="4" y="1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5" y="2"/>
                      <a:pt x="22" y="0"/>
                      <a:pt x="27" y="4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PA-任意多边形 96"/>
              <p:cNvSpPr/>
              <p:nvPr/>
            </p:nvSpPr>
            <p:spPr>
              <a:xfrm>
                <a:off x="6965280" y="5491080"/>
                <a:ext cx="110160" cy="25524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11" y="76"/>
                    </a:moveTo>
                    <a:cubicBezTo>
                      <a:pt x="10" y="76"/>
                      <a:pt x="10" y="75"/>
                      <a:pt x="10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0" y="69"/>
                      <a:pt x="13" y="65"/>
                      <a:pt x="18" y="63"/>
                    </a:cubicBezTo>
                    <a:cubicBezTo>
                      <a:pt x="16" y="63"/>
                      <a:pt x="16" y="63"/>
                      <a:pt x="16" y="63"/>
                    </a:cubicBezTo>
                    <a:cubicBezTo>
                      <a:pt x="10" y="64"/>
                      <a:pt x="4" y="60"/>
                      <a:pt x="3" y="54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3" y="49"/>
                      <a:pt x="7" y="45"/>
                      <a:pt x="12" y="43"/>
                    </a:cubicBezTo>
                    <a:cubicBezTo>
                      <a:pt x="6" y="43"/>
                      <a:pt x="1" y="39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28"/>
                      <a:pt x="5" y="23"/>
                      <a:pt x="11" y="22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8" y="21"/>
                      <a:pt x="4" y="18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7"/>
                      <a:pt x="7" y="2"/>
                      <a:pt x="14" y="1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5" y="0"/>
                      <a:pt x="27" y="1"/>
                      <a:pt x="29" y="2"/>
                    </a:cubicBezTo>
                    <a:cubicBezTo>
                      <a:pt x="33" y="5"/>
                      <a:pt x="36" y="9"/>
                      <a:pt x="37" y="15"/>
                    </a:cubicBezTo>
                    <a:cubicBezTo>
                      <a:pt x="40" y="56"/>
                      <a:pt x="40" y="56"/>
                      <a:pt x="40" y="56"/>
                    </a:cubicBezTo>
                    <a:cubicBezTo>
                      <a:pt x="40" y="57"/>
                      <a:pt x="40" y="57"/>
                      <a:pt x="40" y="58"/>
                    </a:cubicBezTo>
                    <a:cubicBezTo>
                      <a:pt x="39" y="66"/>
                      <a:pt x="31" y="74"/>
                      <a:pt x="21" y="75"/>
                    </a:cubicBezTo>
                    <a:lnTo>
                      <a:pt x="11" y="76"/>
                    </a:ln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PA-任意多边形 97"/>
              <p:cNvSpPr/>
              <p:nvPr/>
            </p:nvSpPr>
            <p:spPr>
              <a:xfrm>
                <a:off x="6981480" y="5471280"/>
                <a:ext cx="140400" cy="8748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50" y="10"/>
                    </a:moveTo>
                    <a:cubicBezTo>
                      <a:pt x="50" y="10"/>
                      <a:pt x="50" y="10"/>
                      <a:pt x="50" y="10"/>
                    </a:cubicBezTo>
                    <a:cubicBezTo>
                      <a:pt x="51" y="15"/>
                      <a:pt x="47" y="21"/>
                      <a:pt x="41" y="21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6" y="26"/>
                      <a:pt x="1" y="22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1"/>
                      <a:pt x="4" y="5"/>
                      <a:pt x="10" y="5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45" y="0"/>
                      <a:pt x="50" y="4"/>
                      <a:pt x="50" y="1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PA-任意多边形 98"/>
              <p:cNvSpPr/>
              <p:nvPr/>
            </p:nvSpPr>
            <p:spPr>
              <a:xfrm>
                <a:off x="6973200" y="5538960"/>
                <a:ext cx="170640" cy="9000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61" y="9"/>
                    </a:moveTo>
                    <a:cubicBezTo>
                      <a:pt x="61" y="9"/>
                      <a:pt x="61" y="9"/>
                      <a:pt x="61" y="9"/>
                    </a:cubicBezTo>
                    <a:cubicBezTo>
                      <a:pt x="62" y="15"/>
                      <a:pt x="57" y="20"/>
                      <a:pt x="50" y="21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7" y="27"/>
                      <a:pt x="1" y="23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2"/>
                      <a:pt x="5" y="6"/>
                      <a:pt x="12" y="5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55" y="0"/>
                      <a:pt x="61" y="3"/>
                      <a:pt x="61" y="9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PA-任意多边形 99"/>
              <p:cNvSpPr/>
              <p:nvPr/>
            </p:nvSpPr>
            <p:spPr>
              <a:xfrm>
                <a:off x="6981480" y="5605200"/>
                <a:ext cx="158760" cy="8748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56" y="10"/>
                    </a:moveTo>
                    <a:cubicBezTo>
                      <a:pt x="56" y="10"/>
                      <a:pt x="56" y="10"/>
                      <a:pt x="56" y="10"/>
                    </a:cubicBezTo>
                    <a:cubicBezTo>
                      <a:pt x="58" y="25"/>
                      <a:pt x="30" y="22"/>
                      <a:pt x="20" y="24"/>
                    </a:cubicBezTo>
                    <a:cubicBezTo>
                      <a:pt x="10" y="26"/>
                      <a:pt x="1" y="25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2"/>
                      <a:pt x="5" y="7"/>
                      <a:pt x="11" y="6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50" y="0"/>
                      <a:pt x="56" y="4"/>
                      <a:pt x="56" y="1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PA-任意多边形 100"/>
              <p:cNvSpPr/>
              <p:nvPr/>
            </p:nvSpPr>
            <p:spPr>
              <a:xfrm>
                <a:off x="7001280" y="5672880"/>
                <a:ext cx="128880" cy="730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6" y="9"/>
                    </a:moveTo>
                    <a:cubicBezTo>
                      <a:pt x="46" y="9"/>
                      <a:pt x="46" y="9"/>
                      <a:pt x="46" y="9"/>
                    </a:cubicBezTo>
                    <a:cubicBezTo>
                      <a:pt x="47" y="22"/>
                      <a:pt x="31" y="19"/>
                      <a:pt x="22" y="20"/>
                    </a:cubicBezTo>
                    <a:cubicBezTo>
                      <a:pt x="12" y="21"/>
                      <a:pt x="1" y="22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0"/>
                      <a:pt x="4" y="5"/>
                      <a:pt x="10" y="4"/>
                    </a:cubicBezTo>
                    <a:cubicBezTo>
                      <a:pt x="35" y="1"/>
                      <a:pt x="35" y="1"/>
                      <a:pt x="35" y="1"/>
                    </a:cubicBezTo>
                    <a:cubicBezTo>
                      <a:pt x="41" y="0"/>
                      <a:pt x="46" y="4"/>
                      <a:pt x="46" y="9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PA-任意多边形 101"/>
              <p:cNvSpPr/>
              <p:nvPr/>
            </p:nvSpPr>
            <p:spPr>
              <a:xfrm>
                <a:off x="6987240" y="5491080"/>
                <a:ext cx="32400" cy="604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7"/>
                    </a:moveTo>
                    <a:cubicBezTo>
                      <a:pt x="11" y="17"/>
                      <a:pt x="11" y="17"/>
                      <a:pt x="11" y="17"/>
                    </a:cubicBezTo>
                    <a:cubicBezTo>
                      <a:pt x="6" y="18"/>
                      <a:pt x="1" y="15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5"/>
                      <a:pt x="4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2"/>
                      <a:pt x="12" y="5"/>
                      <a:pt x="12" y="8"/>
                    </a:cubicBezTo>
                    <a:cubicBezTo>
                      <a:pt x="12" y="11"/>
                      <a:pt x="12" y="14"/>
                      <a:pt x="11" y="17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PA-任意多边形 102"/>
              <p:cNvSpPr/>
              <p:nvPr/>
            </p:nvSpPr>
            <p:spPr>
              <a:xfrm>
                <a:off x="6978960" y="5561640"/>
                <a:ext cx="32400" cy="604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8"/>
                    </a:moveTo>
                    <a:cubicBezTo>
                      <a:pt x="11" y="18"/>
                      <a:pt x="11" y="18"/>
                      <a:pt x="11" y="18"/>
                    </a:cubicBezTo>
                    <a:cubicBezTo>
                      <a:pt x="6" y="18"/>
                      <a:pt x="1" y="15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5"/>
                      <a:pt x="4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3"/>
                      <a:pt x="12" y="5"/>
                      <a:pt x="12" y="8"/>
                    </a:cubicBezTo>
                    <a:cubicBezTo>
                      <a:pt x="12" y="11"/>
                      <a:pt x="12" y="14"/>
                      <a:pt x="11" y="18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PA-任意多边形 103"/>
              <p:cNvSpPr/>
              <p:nvPr/>
            </p:nvSpPr>
            <p:spPr>
              <a:xfrm>
                <a:off x="6987240" y="5629320"/>
                <a:ext cx="32400" cy="561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16"/>
                    </a:moveTo>
                    <a:cubicBezTo>
                      <a:pt x="11" y="16"/>
                      <a:pt x="11" y="16"/>
                      <a:pt x="11" y="16"/>
                    </a:cubicBezTo>
                    <a:cubicBezTo>
                      <a:pt x="6" y="17"/>
                      <a:pt x="1" y="14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0" y="5"/>
                      <a:pt x="4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3"/>
                      <a:pt x="12" y="5"/>
                      <a:pt x="12" y="7"/>
                    </a:cubicBezTo>
                    <a:cubicBezTo>
                      <a:pt x="12" y="10"/>
                      <a:pt x="12" y="13"/>
                      <a:pt x="11" y="16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PA-任意多边形 104"/>
              <p:cNvSpPr/>
              <p:nvPr/>
            </p:nvSpPr>
            <p:spPr>
              <a:xfrm>
                <a:off x="6995520" y="5692680"/>
                <a:ext cx="43920" cy="493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3"/>
                    </a:moveTo>
                    <a:cubicBezTo>
                      <a:pt x="14" y="13"/>
                      <a:pt x="14" y="13"/>
                      <a:pt x="14" y="13"/>
                    </a:cubicBezTo>
                    <a:cubicBezTo>
                      <a:pt x="1" y="15"/>
                      <a:pt x="0" y="1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5" y="5"/>
                    </a:cubicBezTo>
                    <a:cubicBezTo>
                      <a:pt x="16" y="8"/>
                      <a:pt x="16" y="11"/>
                      <a:pt x="15" y="13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PA-任意多边形 105"/>
              <p:cNvSpPr/>
              <p:nvPr/>
            </p:nvSpPr>
            <p:spPr>
              <a:xfrm>
                <a:off x="6874560" y="5414760"/>
                <a:ext cx="112320" cy="133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38" y="6"/>
                    </a:moveTo>
                    <a:cubicBezTo>
                      <a:pt x="38" y="6"/>
                      <a:pt x="38" y="6"/>
                      <a:pt x="38" y="6"/>
                    </a:cubicBezTo>
                    <a:cubicBezTo>
                      <a:pt x="41" y="11"/>
                      <a:pt x="40" y="18"/>
                      <a:pt x="36" y="23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5" y="40"/>
                      <a:pt x="8" y="39"/>
                      <a:pt x="4" y="34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0" y="29"/>
                      <a:pt x="1" y="22"/>
                      <a:pt x="6" y="18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6" y="0"/>
                      <a:pt x="34" y="1"/>
                      <a:pt x="38" y="6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PA-任意多边形 106"/>
              <p:cNvSpPr/>
              <p:nvPr/>
            </p:nvSpPr>
            <p:spPr>
              <a:xfrm>
                <a:off x="6921000" y="5400720"/>
                <a:ext cx="156600" cy="8460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12" y="25"/>
                    </a:moveTo>
                    <a:cubicBezTo>
                      <a:pt x="6" y="25"/>
                      <a:pt x="2" y="24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2"/>
                      <a:pt x="5" y="6"/>
                      <a:pt x="11" y="5"/>
                    </a:cubicBezTo>
                    <a:cubicBezTo>
                      <a:pt x="34" y="3"/>
                      <a:pt x="34" y="3"/>
                      <a:pt x="34" y="3"/>
                    </a:cubicBezTo>
                    <a:cubicBezTo>
                      <a:pt x="57" y="0"/>
                      <a:pt x="44" y="25"/>
                      <a:pt x="12" y="25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PA-任意多边形 107"/>
              <p:cNvSpPr/>
              <p:nvPr/>
            </p:nvSpPr>
            <p:spPr>
              <a:xfrm>
                <a:off x="6987240" y="5407560"/>
                <a:ext cx="60120" cy="266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2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17" y="0"/>
                      <a:pt x="22" y="2"/>
                      <a:pt x="20" y="5"/>
                    </a:cubicBezTo>
                    <a:cubicBezTo>
                      <a:pt x="12" y="8"/>
                      <a:pt x="1" y="7"/>
                      <a:pt x="0" y="2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PA-任意多边形 108"/>
              <p:cNvSpPr/>
              <p:nvPr/>
            </p:nvSpPr>
            <p:spPr>
              <a:xfrm>
                <a:off x="5880600" y="4051440"/>
                <a:ext cx="360000" cy="138240"/>
              </a:xfrm>
              <a:custGeom>
                <a:avLst/>
                <a:gdLst/>
                <a:ahLst/>
                <a:rect l="l" t="t" r="r" b="b"/>
                <a:pathLst>
                  <a:path w="131" h="41">
                    <a:moveTo>
                      <a:pt x="131" y="38"/>
                    </a:moveTo>
                    <a:cubicBezTo>
                      <a:pt x="125" y="41"/>
                      <a:pt x="120" y="38"/>
                      <a:pt x="114" y="37"/>
                    </a:cubicBezTo>
                    <a:cubicBezTo>
                      <a:pt x="75" y="32"/>
                      <a:pt x="26" y="4"/>
                      <a:pt x="0" y="3"/>
                    </a:cubicBezTo>
                    <a:cubicBezTo>
                      <a:pt x="14" y="0"/>
                      <a:pt x="35" y="5"/>
                      <a:pt x="53" y="11"/>
                    </a:cubicBezTo>
                    <a:cubicBezTo>
                      <a:pt x="79" y="20"/>
                      <a:pt x="101" y="29"/>
                      <a:pt x="131" y="29"/>
                    </a:cubicBezTo>
                    <a:lnTo>
                      <a:pt x="131" y="38"/>
                    </a:lnTo>
                    <a:close/>
                  </a:path>
                </a:pathLst>
              </a:custGeom>
              <a:solidFill>
                <a:srgbClr val="f0e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8" name="组合 83"/>
          <p:cNvGrpSpPr/>
          <p:nvPr/>
        </p:nvGrpSpPr>
        <p:grpSpPr>
          <a:xfrm>
            <a:off x="3811680" y="4386240"/>
            <a:ext cx="3701880" cy="969840"/>
            <a:chOff x="3811680" y="4386240"/>
            <a:chExt cx="3701880" cy="969840"/>
          </a:xfrm>
        </p:grpSpPr>
        <p:grpSp>
          <p:nvGrpSpPr>
            <p:cNvPr id="2069" name="组合 81"/>
            <p:cNvGrpSpPr/>
            <p:nvPr/>
          </p:nvGrpSpPr>
          <p:grpSpPr>
            <a:xfrm>
              <a:off x="3811680" y="4390920"/>
              <a:ext cx="1007280" cy="965160"/>
              <a:chOff x="3811680" y="4390920"/>
              <a:chExt cx="1007280" cy="965160"/>
            </a:xfrm>
          </p:grpSpPr>
          <p:sp>
            <p:nvSpPr>
              <p:cNvPr id="2070" name="PA-椭圆 175"/>
              <p:cNvSpPr/>
              <p:nvPr/>
            </p:nvSpPr>
            <p:spPr>
              <a:xfrm flipH="1">
                <a:off x="3811680" y="4390920"/>
                <a:ext cx="1007280" cy="965160"/>
              </a:xfrm>
              <a:prstGeom prst="ellipse">
                <a:avLst/>
              </a:prstGeom>
              <a:solidFill>
                <a:srgbClr val="43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任意多边形: 形状 76"/>
              <p:cNvSpPr/>
              <p:nvPr/>
            </p:nvSpPr>
            <p:spPr>
              <a:xfrm flipH="1">
                <a:off x="3811680" y="4627440"/>
                <a:ext cx="1007280" cy="728640"/>
              </a:xfrm>
              <a:custGeom>
                <a:avLst/>
                <a:gdLst/>
                <a:ahLst/>
                <a:rect l="l" t="t" r="r" b="b"/>
                <a:pathLst>
                  <a:path w="965950" h="729325">
                    <a:moveTo>
                      <a:pt x="896322" y="0"/>
                    </a:moveTo>
                    <a:lnTo>
                      <a:pt x="69628" y="0"/>
                    </a:lnTo>
                    <a:lnTo>
                      <a:pt x="37955" y="58354"/>
                    </a:lnTo>
                    <a:cubicBezTo>
                      <a:pt x="13515" y="116137"/>
                      <a:pt x="0" y="179665"/>
                      <a:pt x="0" y="246350"/>
                    </a:cubicBezTo>
                    <a:cubicBezTo>
                      <a:pt x="0" y="513090"/>
                      <a:pt x="216235" y="729325"/>
                      <a:pt x="482975" y="729325"/>
                    </a:cubicBezTo>
                    <a:cubicBezTo>
                      <a:pt x="749715" y="729325"/>
                      <a:pt x="965950" y="513090"/>
                      <a:pt x="965950" y="246350"/>
                    </a:cubicBezTo>
                    <a:cubicBezTo>
                      <a:pt x="965950" y="179665"/>
                      <a:pt x="952436" y="116137"/>
                      <a:pt x="927996" y="58354"/>
                    </a:cubicBezTo>
                    <a:close/>
                  </a:path>
                </a:pathLst>
              </a:custGeom>
              <a:solidFill>
                <a:srgbClr val="ce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PA-任意多边形 42"/>
              <p:cNvSpPr/>
              <p:nvPr/>
            </p:nvSpPr>
            <p:spPr>
              <a:xfrm>
                <a:off x="4031640" y="4708080"/>
                <a:ext cx="571680" cy="425160"/>
              </a:xfrm>
              <a:custGeom>
                <a:avLst/>
                <a:gdLst/>
                <a:ahLst/>
                <a:rect l="l" t="t" r="r" b="b"/>
                <a:pathLst>
                  <a:path w="20580" h="20758">
                    <a:moveTo>
                      <a:pt x="11316" y="15681"/>
                    </a:moveTo>
                    <a:cubicBezTo>
                      <a:pt x="10444" y="15681"/>
                      <a:pt x="9737" y="14763"/>
                      <a:pt x="9737" y="13632"/>
                    </a:cubicBezTo>
                    <a:cubicBezTo>
                      <a:pt x="9737" y="12501"/>
                      <a:pt x="10444" y="11585"/>
                      <a:pt x="11316" y="11585"/>
                    </a:cubicBezTo>
                    <a:cubicBezTo>
                      <a:pt x="12189" y="11585"/>
                      <a:pt x="12896" y="12501"/>
                      <a:pt x="12896" y="13632"/>
                    </a:cubicBezTo>
                    <a:cubicBezTo>
                      <a:pt x="12896" y="14763"/>
                      <a:pt x="12189" y="15681"/>
                      <a:pt x="11316" y="15681"/>
                    </a:cubicBezTo>
                    <a:close/>
                    <a:moveTo>
                      <a:pt x="18009" y="2956"/>
                    </a:moveTo>
                    <a:cubicBezTo>
                      <a:pt x="14750" y="138"/>
                      <a:pt x="11090" y="-836"/>
                      <a:pt x="6751" y="781"/>
                    </a:cubicBezTo>
                    <a:cubicBezTo>
                      <a:pt x="3364" y="2045"/>
                      <a:pt x="258" y="7054"/>
                      <a:pt x="18" y="11348"/>
                    </a:cubicBezTo>
                    <a:cubicBezTo>
                      <a:pt x="-265" y="16419"/>
                      <a:pt x="2772" y="20764"/>
                      <a:pt x="8123" y="20757"/>
                    </a:cubicBezTo>
                    <a:cubicBezTo>
                      <a:pt x="13892" y="20749"/>
                      <a:pt x="16051" y="17148"/>
                      <a:pt x="16098" y="16053"/>
                    </a:cubicBezTo>
                    <a:cubicBezTo>
                      <a:pt x="16146" y="14957"/>
                      <a:pt x="13849" y="12933"/>
                      <a:pt x="15327" y="10853"/>
                    </a:cubicBezTo>
                    <a:cubicBezTo>
                      <a:pt x="17179" y="8245"/>
                      <a:pt x="18829" y="10466"/>
                      <a:pt x="19829" y="10154"/>
                    </a:cubicBezTo>
                    <a:cubicBezTo>
                      <a:pt x="20829" y="9841"/>
                      <a:pt x="21335" y="5836"/>
                      <a:pt x="18009" y="29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3" name="组合 82"/>
            <p:cNvGrpSpPr/>
            <p:nvPr/>
          </p:nvGrpSpPr>
          <p:grpSpPr>
            <a:xfrm>
              <a:off x="6506280" y="4386240"/>
              <a:ext cx="1007280" cy="965160"/>
              <a:chOff x="6506280" y="4386240"/>
              <a:chExt cx="1007280" cy="965160"/>
            </a:xfrm>
          </p:grpSpPr>
          <p:sp>
            <p:nvSpPr>
              <p:cNvPr id="2074" name="PA-椭圆 43"/>
              <p:cNvSpPr/>
              <p:nvPr/>
            </p:nvSpPr>
            <p:spPr>
              <a:xfrm flipH="1">
                <a:off x="6506280" y="4386240"/>
                <a:ext cx="1007280" cy="965160"/>
              </a:xfrm>
              <a:prstGeom prst="ellipse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任意多边形: 形状 79"/>
              <p:cNvSpPr/>
              <p:nvPr/>
            </p:nvSpPr>
            <p:spPr>
              <a:xfrm flipH="1">
                <a:off x="6521400" y="4979880"/>
                <a:ext cx="977400" cy="371520"/>
              </a:xfrm>
              <a:custGeom>
                <a:avLst/>
                <a:gdLst/>
                <a:ahLst/>
                <a:rect l="l" t="t" r="r" b="b"/>
                <a:pathLst>
                  <a:path w="937376" h="371224">
                    <a:moveTo>
                      <a:pt x="937376" y="0"/>
                    </a:moveTo>
                    <a:lnTo>
                      <a:pt x="0" y="0"/>
                    </a:lnTo>
                    <a:lnTo>
                      <a:pt x="23668" y="76245"/>
                    </a:lnTo>
                    <a:cubicBezTo>
                      <a:pt x="96987" y="249592"/>
                      <a:pt x="268633" y="371224"/>
                      <a:pt x="468688" y="371224"/>
                    </a:cubicBezTo>
                    <a:cubicBezTo>
                      <a:pt x="668743" y="371224"/>
                      <a:pt x="840389" y="249592"/>
                      <a:pt x="913709" y="76245"/>
                    </a:cubicBez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任意多边形 38"/>
              <p:cNvSpPr/>
              <p:nvPr/>
            </p:nvSpPr>
            <p:spPr>
              <a:xfrm>
                <a:off x="6751080" y="4676760"/>
                <a:ext cx="503280" cy="384120"/>
              </a:xfrm>
              <a:custGeom>
                <a:avLst/>
                <a:gdLst/>
                <a:ahLst/>
                <a:rect l="l" t="t" r="r" b="b"/>
                <a:pathLst>
                  <a:path w="21492" h="21472">
                    <a:moveTo>
                      <a:pt x="21150" y="257"/>
                    </a:moveTo>
                    <a:lnTo>
                      <a:pt x="16075" y="10636"/>
                    </a:lnTo>
                    <a:cubicBezTo>
                      <a:pt x="15886" y="11021"/>
                      <a:pt x="15517" y="11084"/>
                      <a:pt x="15255" y="10776"/>
                    </a:cubicBezTo>
                    <a:lnTo>
                      <a:pt x="12800" y="7890"/>
                    </a:lnTo>
                    <a:cubicBezTo>
                      <a:pt x="12537" y="7582"/>
                      <a:pt x="12160" y="7637"/>
                      <a:pt x="11960" y="8014"/>
                    </a:cubicBezTo>
                    <a:lnTo>
                      <a:pt x="8514" y="14538"/>
                    </a:lnTo>
                    <a:cubicBezTo>
                      <a:pt x="8316" y="14916"/>
                      <a:pt x="7936" y="14974"/>
                      <a:pt x="7669" y="14670"/>
                    </a:cubicBezTo>
                    <a:lnTo>
                      <a:pt x="6063" y="12832"/>
                    </a:lnTo>
                    <a:cubicBezTo>
                      <a:pt x="5798" y="12529"/>
                      <a:pt x="5397" y="12567"/>
                      <a:pt x="5171" y="12920"/>
                    </a:cubicBezTo>
                    <a:lnTo>
                      <a:pt x="116" y="20831"/>
                    </a:lnTo>
                    <a:cubicBezTo>
                      <a:pt x="-108" y="21184"/>
                      <a:pt x="3" y="21472"/>
                      <a:pt x="361" y="21472"/>
                    </a:cubicBezTo>
                    <a:lnTo>
                      <a:pt x="21492" y="21472"/>
                    </a:lnTo>
                    <a:lnTo>
                      <a:pt x="21492" y="379"/>
                    </a:lnTo>
                    <a:cubicBezTo>
                      <a:pt x="21492" y="-73"/>
                      <a:pt x="21338" y="-128"/>
                      <a:pt x="21150" y="2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7" name="PA-文本框 115"/>
          <p:cNvSpPr/>
          <p:nvPr/>
        </p:nvSpPr>
        <p:spPr>
          <a:xfrm>
            <a:off x="7013520" y="1739880"/>
            <a:ext cx="51278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三、存货审计工作底稿的编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存货审计工作底稿主要包括“存货审定表”“存货计价审定表”“存货抽查表” 和“存货盘点情况汇总表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A-文本框 115"/>
          <p:cNvSpPr/>
          <p:nvPr/>
        </p:nvSpPr>
        <p:spPr>
          <a:xfrm>
            <a:off x="249120" y="1884240"/>
            <a:ext cx="49323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二、存货审计的实质性程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根据以上对存货实质性测试的审计目标，审计人员应采取以下的审计程序进 行存货的实质性测试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9" name="文本框 31" descr=""/>
          <p:cNvPicPr/>
          <p:nvPr/>
        </p:nvPicPr>
        <p:blipFill>
          <a:blip r:embed="rId1"/>
          <a:stretch/>
        </p:blipFill>
        <p:spPr>
          <a:xfrm>
            <a:off x="2487600" y="177840"/>
            <a:ext cx="7561440" cy="652320"/>
          </a:xfrm>
          <a:prstGeom prst="rect">
            <a:avLst/>
          </a:prstGeom>
          <a:ln w="0">
            <a:noFill/>
          </a:ln>
        </p:spPr>
      </p:pic>
      <p:sp>
        <p:nvSpPr>
          <p:cNvPr id="2080" name="矩形 1"/>
          <p:cNvSpPr/>
          <p:nvPr/>
        </p:nvSpPr>
        <p:spPr>
          <a:xfrm>
            <a:off x="3706920" y="10414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1" name="组合 91"/>
          <p:cNvGrpSpPr/>
          <p:nvPr/>
        </p:nvGrpSpPr>
        <p:grpSpPr>
          <a:xfrm>
            <a:off x="915840" y="549360"/>
            <a:ext cx="10359720" cy="0"/>
            <a:chOff x="915840" y="549360"/>
            <a:chExt cx="10359720" cy="0"/>
          </a:xfrm>
        </p:grpSpPr>
        <p:sp>
          <p:nvSpPr>
            <p:cNvPr id="2082" name="直接连接符 92"/>
            <p:cNvSpPr/>
            <p:nvPr/>
          </p:nvSpPr>
          <p:spPr>
            <a:xfrm>
              <a:off x="91584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直接连接符 93"/>
            <p:cNvSpPr/>
            <p:nvPr/>
          </p:nvSpPr>
          <p:spPr>
            <a:xfrm>
              <a:off x="929592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组合 115"/>
          <p:cNvGrpSpPr/>
          <p:nvPr/>
        </p:nvGrpSpPr>
        <p:grpSpPr>
          <a:xfrm>
            <a:off x="239760" y="2255760"/>
            <a:ext cx="4518000" cy="1206720"/>
            <a:chOff x="239760" y="2255760"/>
            <a:chExt cx="4518000" cy="1206720"/>
          </a:xfrm>
        </p:grpSpPr>
        <p:sp>
          <p:nvSpPr>
            <p:cNvPr id="2085" name="圆角矩形 4"/>
            <p:cNvSpPr/>
            <p:nvPr/>
          </p:nvSpPr>
          <p:spPr>
            <a:xfrm>
              <a:off x="239760" y="2255760"/>
              <a:ext cx="3834720" cy="1206720"/>
            </a:xfrm>
            <a:prstGeom prst="roundRect">
              <a:avLst>
                <a:gd name="adj" fmla="val 16667"/>
              </a:avLst>
            </a:prstGeom>
            <a:solidFill>
              <a:srgbClr val="00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8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存货的审计目标与财务报表认定的对应关系表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8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右箭头 13"/>
            <p:cNvSpPr/>
            <p:nvPr/>
          </p:nvSpPr>
          <p:spPr>
            <a:xfrm>
              <a:off x="4224240" y="2622600"/>
              <a:ext cx="533520" cy="473040"/>
            </a:xfrm>
            <a:prstGeom prst="rightArrow">
              <a:avLst>
                <a:gd name="adj1" fmla="val 50000"/>
                <a:gd name="adj2" fmla="val 56393"/>
              </a:avLst>
            </a:prstGeom>
            <a:solidFill>
              <a:srgbClr val="00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组合 116"/>
          <p:cNvGrpSpPr/>
          <p:nvPr/>
        </p:nvGrpSpPr>
        <p:grpSpPr>
          <a:xfrm>
            <a:off x="4869000" y="2133720"/>
            <a:ext cx="3552480" cy="1206360"/>
            <a:chOff x="4869000" y="2133720"/>
            <a:chExt cx="3552480" cy="1206360"/>
          </a:xfrm>
        </p:grpSpPr>
        <p:sp>
          <p:nvSpPr>
            <p:cNvPr id="2088" name="圆角矩形 5"/>
            <p:cNvSpPr/>
            <p:nvPr/>
          </p:nvSpPr>
          <p:spPr>
            <a:xfrm>
              <a:off x="4869000" y="2133720"/>
              <a:ext cx="2962440" cy="120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9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存货审计程序表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83-18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右箭头 14"/>
            <p:cNvSpPr/>
            <p:nvPr/>
          </p:nvSpPr>
          <p:spPr>
            <a:xfrm>
              <a:off x="7929720" y="2519280"/>
              <a:ext cx="491760" cy="524880"/>
            </a:xfrm>
            <a:prstGeom prst="rightArrow">
              <a:avLst>
                <a:gd name="adj1" fmla="val 50000"/>
                <a:gd name="adj2" fmla="val 48713"/>
              </a:avLst>
            </a:prstGeom>
            <a:solidFill>
              <a:srgbClr val="2f75b4"/>
            </a:solidFill>
            <a:ln w="12600">
              <a:solidFill>
                <a:srgbClr val="5b9b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组合 128"/>
          <p:cNvGrpSpPr/>
          <p:nvPr/>
        </p:nvGrpSpPr>
        <p:grpSpPr>
          <a:xfrm>
            <a:off x="119160" y="4255920"/>
            <a:ext cx="4476240" cy="1206720"/>
            <a:chOff x="119160" y="4255920"/>
            <a:chExt cx="4476240" cy="1206720"/>
          </a:xfrm>
        </p:grpSpPr>
        <p:sp>
          <p:nvSpPr>
            <p:cNvPr id="2091" name="圆角矩形 11"/>
            <p:cNvSpPr/>
            <p:nvPr/>
          </p:nvSpPr>
          <p:spPr>
            <a:xfrm>
              <a:off x="119160" y="4255920"/>
              <a:ext cx="3864240" cy="1206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6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1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存货盘点情况汇总表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89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右箭头 17"/>
            <p:cNvSpPr/>
            <p:nvPr/>
          </p:nvSpPr>
          <p:spPr>
            <a:xfrm flipH="1">
              <a:off x="4094280" y="4572000"/>
              <a:ext cx="501120" cy="694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2f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3" name="圆角矩形 6"/>
          <p:cNvSpPr/>
          <p:nvPr/>
        </p:nvSpPr>
        <p:spPr>
          <a:xfrm>
            <a:off x="8472600" y="2203560"/>
            <a:ext cx="2611440" cy="1206360"/>
          </a:xfrm>
          <a:prstGeom prst="roundRect">
            <a:avLst>
              <a:gd name="adj" fmla="val 16667"/>
            </a:avLst>
          </a:prstGeom>
          <a:solidFill>
            <a:srgbClr val="914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存货审定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85-18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组合 125" descr=""/>
          <p:cNvPicPr/>
          <p:nvPr/>
        </p:nvPicPr>
        <p:blipFill>
          <a:blip r:embed="rId1"/>
          <a:stretch/>
        </p:blipFill>
        <p:spPr>
          <a:xfrm>
            <a:off x="8280360" y="3068640"/>
            <a:ext cx="3664080" cy="2471760"/>
          </a:xfrm>
          <a:prstGeom prst="rect">
            <a:avLst/>
          </a:prstGeom>
          <a:ln w="0">
            <a:noFill/>
          </a:ln>
        </p:spPr>
      </p:pic>
      <p:sp>
        <p:nvSpPr>
          <p:cNvPr id="2095" name="圆角矩形 10"/>
          <p:cNvSpPr/>
          <p:nvPr/>
        </p:nvSpPr>
        <p:spPr>
          <a:xfrm>
            <a:off x="4700520" y="4432320"/>
            <a:ext cx="2962440" cy="1200240"/>
          </a:xfrm>
          <a:prstGeom prst="roundRect">
            <a:avLst>
              <a:gd name="adj" fmla="val 16667"/>
            </a:avLst>
          </a:prstGeom>
          <a:solidFill>
            <a:srgbClr val="5b9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存货抽查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8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6" name="文本框 31" descr=""/>
          <p:cNvPicPr/>
          <p:nvPr/>
        </p:nvPicPr>
        <p:blipFill>
          <a:blip r:embed="rId2"/>
          <a:stretch/>
        </p:blipFill>
        <p:spPr>
          <a:xfrm>
            <a:off x="3187800" y="177840"/>
            <a:ext cx="5862600" cy="652320"/>
          </a:xfrm>
          <a:prstGeom prst="rect">
            <a:avLst/>
          </a:prstGeom>
          <a:ln w="0">
            <a:noFill/>
          </a:ln>
        </p:spPr>
      </p:pic>
      <p:sp>
        <p:nvSpPr>
          <p:cNvPr id="2097" name="文本框 26"/>
          <p:cNvSpPr/>
          <p:nvPr/>
        </p:nvSpPr>
        <p:spPr>
          <a:xfrm>
            <a:off x="4511520" y="114624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示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右箭头 14"/>
          <p:cNvSpPr/>
          <p:nvPr/>
        </p:nvSpPr>
        <p:spPr>
          <a:xfrm rot="10800000">
            <a:off x="7683120" y="4662000"/>
            <a:ext cx="492120" cy="63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e2"/>
          </a:solidFill>
          <a:ln w="12600">
            <a:solidFill>
              <a:srgbClr val="5b9b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任意多边形 36"/>
          <p:cNvSpPr/>
          <p:nvPr/>
        </p:nvSpPr>
        <p:spPr>
          <a:xfrm>
            <a:off x="4432320" y="3122640"/>
            <a:ext cx="527040" cy="52704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2" y="69"/>
                </a:moveTo>
                <a:cubicBezTo>
                  <a:pt x="144" y="107"/>
                  <a:pt x="114" y="140"/>
                  <a:pt x="76" y="142"/>
                </a:cubicBezTo>
                <a:cubicBezTo>
                  <a:pt x="37" y="144"/>
                  <a:pt x="4" y="114"/>
                  <a:pt x="2" y="76"/>
                </a:cubicBezTo>
                <a:cubicBezTo>
                  <a:pt x="0" y="37"/>
                  <a:pt x="30" y="4"/>
                  <a:pt x="69" y="2"/>
                </a:cubicBezTo>
                <a:cubicBezTo>
                  <a:pt x="107" y="0"/>
                  <a:pt x="140" y="30"/>
                  <a:pt x="142" y="69"/>
                </a:cubicBezTo>
                <a:close/>
              </a:path>
            </a:pathLst>
          </a:custGeom>
          <a:solidFill>
            <a:srgbClr val="a1b9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任意多边形 37"/>
          <p:cNvSpPr/>
          <p:nvPr/>
        </p:nvSpPr>
        <p:spPr>
          <a:xfrm>
            <a:off x="6942240" y="3873600"/>
            <a:ext cx="530280" cy="52704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2" y="69"/>
                </a:moveTo>
                <a:cubicBezTo>
                  <a:pt x="144" y="108"/>
                  <a:pt x="114" y="141"/>
                  <a:pt x="75" y="142"/>
                </a:cubicBezTo>
                <a:cubicBezTo>
                  <a:pt x="36" y="144"/>
                  <a:pt x="3" y="115"/>
                  <a:pt x="1" y="76"/>
                </a:cubicBezTo>
                <a:cubicBezTo>
                  <a:pt x="0" y="37"/>
                  <a:pt x="29" y="4"/>
                  <a:pt x="68" y="2"/>
                </a:cubicBezTo>
                <a:cubicBezTo>
                  <a:pt x="107" y="0"/>
                  <a:pt x="140" y="30"/>
                  <a:pt x="142" y="69"/>
                </a:cubicBezTo>
                <a:close/>
              </a:path>
            </a:pathLst>
          </a:custGeom>
          <a:solidFill>
            <a:srgbClr val="a1b9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任意多边形 38"/>
          <p:cNvSpPr/>
          <p:nvPr/>
        </p:nvSpPr>
        <p:spPr>
          <a:xfrm>
            <a:off x="5694480" y="4176720"/>
            <a:ext cx="531720" cy="53028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3" y="68"/>
                </a:moveTo>
                <a:cubicBezTo>
                  <a:pt x="145" y="107"/>
                  <a:pt x="115" y="140"/>
                  <a:pt x="76" y="142"/>
                </a:cubicBezTo>
                <a:cubicBezTo>
                  <a:pt x="37" y="144"/>
                  <a:pt x="4" y="114"/>
                  <a:pt x="2" y="75"/>
                </a:cubicBezTo>
                <a:cubicBezTo>
                  <a:pt x="0" y="36"/>
                  <a:pt x="30" y="3"/>
                  <a:pt x="69" y="2"/>
                </a:cubicBezTo>
                <a:cubicBezTo>
                  <a:pt x="108" y="0"/>
                  <a:pt x="141" y="29"/>
                  <a:pt x="143" y="68"/>
                </a:cubicBezTo>
                <a:close/>
              </a:path>
            </a:pathLst>
          </a:custGeom>
          <a:solidFill>
            <a:srgbClr val="7396c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任意多边形 39"/>
          <p:cNvSpPr/>
          <p:nvPr/>
        </p:nvSpPr>
        <p:spPr>
          <a:xfrm>
            <a:off x="5672160" y="2701800"/>
            <a:ext cx="528480" cy="52884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3" y="68"/>
                </a:moveTo>
                <a:cubicBezTo>
                  <a:pt x="144" y="107"/>
                  <a:pt x="115" y="140"/>
                  <a:pt x="76" y="142"/>
                </a:cubicBezTo>
                <a:cubicBezTo>
                  <a:pt x="37" y="144"/>
                  <a:pt x="4" y="114"/>
                  <a:pt x="2" y="75"/>
                </a:cubicBezTo>
                <a:cubicBezTo>
                  <a:pt x="0" y="37"/>
                  <a:pt x="30" y="4"/>
                  <a:pt x="69" y="2"/>
                </a:cubicBezTo>
                <a:cubicBezTo>
                  <a:pt x="108" y="0"/>
                  <a:pt x="141" y="30"/>
                  <a:pt x="143" y="68"/>
                </a:cubicBezTo>
                <a:close/>
              </a:path>
            </a:pathLst>
          </a:custGeom>
          <a:solidFill>
            <a:srgbClr val="a1b9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任意多边形 40"/>
          <p:cNvSpPr/>
          <p:nvPr/>
        </p:nvSpPr>
        <p:spPr>
          <a:xfrm>
            <a:off x="6980400" y="2709720"/>
            <a:ext cx="198360" cy="200160"/>
          </a:xfrm>
          <a:custGeom>
            <a:avLst/>
            <a:gdLst/>
            <a:ahLst/>
            <a:rect l="l" t="t" r="r" b="b"/>
            <a:pathLst>
              <a:path w="54" h="54">
                <a:moveTo>
                  <a:pt x="53" y="25"/>
                </a:moveTo>
                <a:cubicBezTo>
                  <a:pt x="54" y="40"/>
                  <a:pt x="43" y="52"/>
                  <a:pt x="28" y="53"/>
                </a:cubicBezTo>
                <a:cubicBezTo>
                  <a:pt x="14" y="54"/>
                  <a:pt x="2" y="42"/>
                  <a:pt x="1" y="28"/>
                </a:cubicBezTo>
                <a:cubicBezTo>
                  <a:pt x="0" y="14"/>
                  <a:pt x="11" y="1"/>
                  <a:pt x="26" y="1"/>
                </a:cubicBezTo>
                <a:cubicBezTo>
                  <a:pt x="40" y="0"/>
                  <a:pt x="52" y="11"/>
                  <a:pt x="53" y="25"/>
                </a:cubicBezTo>
                <a:close/>
              </a:path>
            </a:pathLst>
          </a:custGeom>
          <a:solidFill>
            <a:srgbClr val="d0dc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直接连接符 34"/>
          <p:cNvSpPr/>
          <p:nvPr/>
        </p:nvSpPr>
        <p:spPr>
          <a:xfrm>
            <a:off x="5070600" y="4432320"/>
            <a:ext cx="1125360" cy="407880"/>
          </a:xfrm>
          <a:prstGeom prst="line">
            <a:avLst/>
          </a:prstGeom>
          <a:ln w="57240">
            <a:solidFill>
              <a:srgbClr val="325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直接连接符 35"/>
          <p:cNvSpPr/>
          <p:nvPr/>
        </p:nvSpPr>
        <p:spPr>
          <a:xfrm flipV="1">
            <a:off x="6210360" y="4559400"/>
            <a:ext cx="1004760" cy="272880"/>
          </a:xfrm>
          <a:prstGeom prst="line">
            <a:avLst/>
          </a:prstGeom>
          <a:ln w="57240">
            <a:solidFill>
              <a:srgbClr val="325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任意多边形 31"/>
          <p:cNvSpPr/>
          <p:nvPr/>
        </p:nvSpPr>
        <p:spPr>
          <a:xfrm>
            <a:off x="4492800" y="3278160"/>
            <a:ext cx="936360" cy="93348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2" y="121"/>
                </a:moveTo>
                <a:cubicBezTo>
                  <a:pt x="256" y="190"/>
                  <a:pt x="203" y="248"/>
                  <a:pt x="134" y="252"/>
                </a:cubicBezTo>
                <a:cubicBezTo>
                  <a:pt x="65" y="255"/>
                  <a:pt x="7" y="202"/>
                  <a:pt x="4" y="133"/>
                </a:cubicBezTo>
                <a:cubicBezTo>
                  <a:pt x="0" y="65"/>
                  <a:pt x="53" y="6"/>
                  <a:pt x="122" y="3"/>
                </a:cubicBezTo>
                <a:cubicBezTo>
                  <a:pt x="190" y="0"/>
                  <a:pt x="249" y="52"/>
                  <a:pt x="252" y="121"/>
                </a:cubicBezTo>
                <a:close/>
              </a:path>
            </a:pathLst>
          </a:custGeom>
          <a:solidFill>
            <a:srgbClr val="32579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任意多边形 32"/>
          <p:cNvSpPr/>
          <p:nvPr/>
        </p:nvSpPr>
        <p:spPr>
          <a:xfrm>
            <a:off x="5003640" y="2498760"/>
            <a:ext cx="1152720" cy="1152360"/>
          </a:xfrm>
          <a:custGeom>
            <a:avLst/>
            <a:gdLst/>
            <a:ahLst/>
            <a:rect l="l" t="t" r="r" b="b"/>
            <a:pathLst>
              <a:path w="314" h="314">
                <a:moveTo>
                  <a:pt x="310" y="150"/>
                </a:moveTo>
                <a:cubicBezTo>
                  <a:pt x="314" y="234"/>
                  <a:pt x="249" y="306"/>
                  <a:pt x="164" y="310"/>
                </a:cubicBezTo>
                <a:cubicBezTo>
                  <a:pt x="80" y="314"/>
                  <a:pt x="8" y="249"/>
                  <a:pt x="4" y="165"/>
                </a:cubicBezTo>
                <a:cubicBezTo>
                  <a:pt x="0" y="80"/>
                  <a:pt x="65" y="9"/>
                  <a:pt x="149" y="4"/>
                </a:cubicBezTo>
                <a:cubicBezTo>
                  <a:pt x="234" y="0"/>
                  <a:pt x="305" y="65"/>
                  <a:pt x="310" y="150"/>
                </a:cubicBezTo>
                <a:close/>
              </a:path>
            </a:pathLst>
          </a:custGeom>
          <a:solidFill>
            <a:srgbClr val="d0d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任意多边形 33"/>
          <p:cNvSpPr/>
          <p:nvPr/>
        </p:nvSpPr>
        <p:spPr>
          <a:xfrm>
            <a:off x="6337440" y="3309840"/>
            <a:ext cx="842760" cy="843120"/>
          </a:xfrm>
          <a:custGeom>
            <a:avLst/>
            <a:gdLst/>
            <a:ahLst/>
            <a:rect l="l" t="t" r="r" b="b"/>
            <a:pathLst>
              <a:path w="230" h="230">
                <a:moveTo>
                  <a:pt x="227" y="109"/>
                </a:moveTo>
                <a:cubicBezTo>
                  <a:pt x="230" y="171"/>
                  <a:pt x="182" y="224"/>
                  <a:pt x="121" y="227"/>
                </a:cubicBezTo>
                <a:cubicBezTo>
                  <a:pt x="59" y="230"/>
                  <a:pt x="6" y="182"/>
                  <a:pt x="3" y="120"/>
                </a:cubicBezTo>
                <a:cubicBezTo>
                  <a:pt x="0" y="59"/>
                  <a:pt x="48" y="6"/>
                  <a:pt x="109" y="3"/>
                </a:cubicBezTo>
                <a:cubicBezTo>
                  <a:pt x="171" y="0"/>
                  <a:pt x="224" y="48"/>
                  <a:pt x="227" y="109"/>
                </a:cubicBezTo>
                <a:close/>
              </a:path>
            </a:pathLst>
          </a:custGeom>
          <a:solidFill>
            <a:srgbClr val="d0d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任意多边形 15"/>
          <p:cNvSpPr/>
          <p:nvPr/>
        </p:nvSpPr>
        <p:spPr>
          <a:xfrm flipH="1">
            <a:off x="4967280" y="2430360"/>
            <a:ext cx="2765520" cy="4694400"/>
          </a:xfrm>
          <a:custGeom>
            <a:avLst/>
            <a:gdLst/>
            <a:ahLst/>
            <a:rect l="l" t="t" r="r" b="b"/>
            <a:pathLst>
              <a:path w="689" h="1041">
                <a:moveTo>
                  <a:pt x="534" y="591"/>
                </a:moveTo>
                <a:cubicBezTo>
                  <a:pt x="537" y="590"/>
                  <a:pt x="597" y="559"/>
                  <a:pt x="667" y="589"/>
                </a:cubicBezTo>
                <a:cubicBezTo>
                  <a:pt x="667" y="589"/>
                  <a:pt x="587" y="584"/>
                  <a:pt x="509" y="634"/>
                </a:cubicBezTo>
                <a:cubicBezTo>
                  <a:pt x="493" y="644"/>
                  <a:pt x="477" y="657"/>
                  <a:pt x="462" y="672"/>
                </a:cubicBezTo>
                <a:cubicBezTo>
                  <a:pt x="442" y="692"/>
                  <a:pt x="423" y="718"/>
                  <a:pt x="407" y="750"/>
                </a:cubicBezTo>
                <a:cubicBezTo>
                  <a:pt x="401" y="762"/>
                  <a:pt x="395" y="775"/>
                  <a:pt x="390" y="788"/>
                </a:cubicBezTo>
                <a:cubicBezTo>
                  <a:pt x="390" y="788"/>
                  <a:pt x="374" y="851"/>
                  <a:pt x="381" y="961"/>
                </a:cubicBezTo>
                <a:cubicBezTo>
                  <a:pt x="381" y="961"/>
                  <a:pt x="381" y="970"/>
                  <a:pt x="383" y="983"/>
                </a:cubicBezTo>
                <a:cubicBezTo>
                  <a:pt x="383" y="983"/>
                  <a:pt x="383" y="983"/>
                  <a:pt x="383" y="983"/>
                </a:cubicBezTo>
                <a:cubicBezTo>
                  <a:pt x="387" y="1000"/>
                  <a:pt x="387" y="1026"/>
                  <a:pt x="411" y="1041"/>
                </a:cubicBezTo>
                <a:cubicBezTo>
                  <a:pt x="227" y="1041"/>
                  <a:pt x="227" y="1041"/>
                  <a:pt x="227" y="1041"/>
                </a:cubicBezTo>
                <a:cubicBezTo>
                  <a:pt x="227" y="1041"/>
                  <a:pt x="258" y="1034"/>
                  <a:pt x="266" y="968"/>
                </a:cubicBezTo>
                <a:cubicBezTo>
                  <a:pt x="266" y="968"/>
                  <a:pt x="266" y="968"/>
                  <a:pt x="266" y="968"/>
                </a:cubicBezTo>
                <a:cubicBezTo>
                  <a:pt x="267" y="935"/>
                  <a:pt x="270" y="901"/>
                  <a:pt x="274" y="866"/>
                </a:cubicBezTo>
                <a:cubicBezTo>
                  <a:pt x="289" y="744"/>
                  <a:pt x="247" y="642"/>
                  <a:pt x="196" y="596"/>
                </a:cubicBezTo>
                <a:cubicBezTo>
                  <a:pt x="192" y="592"/>
                  <a:pt x="188" y="589"/>
                  <a:pt x="184" y="586"/>
                </a:cubicBezTo>
                <a:cubicBezTo>
                  <a:pt x="134" y="551"/>
                  <a:pt x="73" y="547"/>
                  <a:pt x="19" y="496"/>
                </a:cubicBezTo>
                <a:cubicBezTo>
                  <a:pt x="13" y="489"/>
                  <a:pt x="6" y="482"/>
                  <a:pt x="0" y="473"/>
                </a:cubicBezTo>
                <a:cubicBezTo>
                  <a:pt x="1" y="474"/>
                  <a:pt x="9" y="482"/>
                  <a:pt x="23" y="490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37" y="499"/>
                  <a:pt x="57" y="509"/>
                  <a:pt x="82" y="516"/>
                </a:cubicBezTo>
                <a:cubicBezTo>
                  <a:pt x="103" y="522"/>
                  <a:pt x="126" y="526"/>
                  <a:pt x="154" y="527"/>
                </a:cubicBezTo>
                <a:cubicBezTo>
                  <a:pt x="154" y="527"/>
                  <a:pt x="137" y="509"/>
                  <a:pt x="120" y="479"/>
                </a:cubicBezTo>
                <a:cubicBezTo>
                  <a:pt x="114" y="470"/>
                  <a:pt x="108" y="459"/>
                  <a:pt x="103" y="447"/>
                </a:cubicBezTo>
                <a:cubicBezTo>
                  <a:pt x="94" y="429"/>
                  <a:pt x="86" y="408"/>
                  <a:pt x="81" y="386"/>
                </a:cubicBezTo>
                <a:cubicBezTo>
                  <a:pt x="77" y="372"/>
                  <a:pt x="74" y="356"/>
                  <a:pt x="73" y="340"/>
                </a:cubicBezTo>
                <a:cubicBezTo>
                  <a:pt x="72" y="332"/>
                  <a:pt x="72" y="323"/>
                  <a:pt x="72" y="314"/>
                </a:cubicBezTo>
                <a:cubicBezTo>
                  <a:pt x="73" y="303"/>
                  <a:pt x="74" y="291"/>
                  <a:pt x="76" y="280"/>
                </a:cubicBezTo>
                <a:cubicBezTo>
                  <a:pt x="76" y="280"/>
                  <a:pt x="76" y="290"/>
                  <a:pt x="79" y="305"/>
                </a:cubicBezTo>
                <a:cubicBezTo>
                  <a:pt x="80" y="311"/>
                  <a:pt x="82" y="316"/>
                  <a:pt x="83" y="323"/>
                </a:cubicBezTo>
                <a:cubicBezTo>
                  <a:pt x="89" y="346"/>
                  <a:pt x="98" y="377"/>
                  <a:pt x="115" y="406"/>
                </a:cubicBezTo>
                <a:cubicBezTo>
                  <a:pt x="120" y="416"/>
                  <a:pt x="126" y="426"/>
                  <a:pt x="133" y="435"/>
                </a:cubicBezTo>
                <a:cubicBezTo>
                  <a:pt x="139" y="442"/>
                  <a:pt x="145" y="450"/>
                  <a:pt x="151" y="458"/>
                </a:cubicBezTo>
                <a:cubicBezTo>
                  <a:pt x="151" y="458"/>
                  <a:pt x="151" y="458"/>
                  <a:pt x="151" y="458"/>
                </a:cubicBezTo>
                <a:cubicBezTo>
                  <a:pt x="153" y="460"/>
                  <a:pt x="155" y="462"/>
                  <a:pt x="157" y="465"/>
                </a:cubicBezTo>
                <a:cubicBezTo>
                  <a:pt x="171" y="482"/>
                  <a:pt x="187" y="500"/>
                  <a:pt x="203" y="518"/>
                </a:cubicBezTo>
                <a:cubicBezTo>
                  <a:pt x="203" y="518"/>
                  <a:pt x="203" y="518"/>
                  <a:pt x="203" y="518"/>
                </a:cubicBezTo>
                <a:cubicBezTo>
                  <a:pt x="216" y="534"/>
                  <a:pt x="230" y="550"/>
                  <a:pt x="243" y="567"/>
                </a:cubicBezTo>
                <a:cubicBezTo>
                  <a:pt x="270" y="601"/>
                  <a:pt x="293" y="637"/>
                  <a:pt x="303" y="671"/>
                </a:cubicBezTo>
                <a:cubicBezTo>
                  <a:pt x="303" y="671"/>
                  <a:pt x="317" y="642"/>
                  <a:pt x="332" y="594"/>
                </a:cubicBezTo>
                <a:cubicBezTo>
                  <a:pt x="333" y="593"/>
                  <a:pt x="333" y="593"/>
                  <a:pt x="333" y="592"/>
                </a:cubicBezTo>
                <a:cubicBezTo>
                  <a:pt x="342" y="565"/>
                  <a:pt x="351" y="532"/>
                  <a:pt x="359" y="494"/>
                </a:cubicBezTo>
                <a:cubicBezTo>
                  <a:pt x="359" y="491"/>
                  <a:pt x="360" y="489"/>
                  <a:pt x="360" y="486"/>
                </a:cubicBezTo>
                <a:cubicBezTo>
                  <a:pt x="361" y="484"/>
                  <a:pt x="361" y="482"/>
                  <a:pt x="361" y="481"/>
                </a:cubicBezTo>
                <a:cubicBezTo>
                  <a:pt x="364" y="468"/>
                  <a:pt x="366" y="454"/>
                  <a:pt x="368" y="440"/>
                </a:cubicBezTo>
                <a:cubicBezTo>
                  <a:pt x="369" y="436"/>
                  <a:pt x="369" y="431"/>
                  <a:pt x="370" y="427"/>
                </a:cubicBezTo>
                <a:cubicBezTo>
                  <a:pt x="373" y="400"/>
                  <a:pt x="375" y="371"/>
                  <a:pt x="376" y="342"/>
                </a:cubicBezTo>
                <a:cubicBezTo>
                  <a:pt x="376" y="337"/>
                  <a:pt x="376" y="332"/>
                  <a:pt x="376" y="327"/>
                </a:cubicBezTo>
                <a:cubicBezTo>
                  <a:pt x="376" y="314"/>
                  <a:pt x="376" y="301"/>
                  <a:pt x="375" y="288"/>
                </a:cubicBezTo>
                <a:cubicBezTo>
                  <a:pt x="375" y="287"/>
                  <a:pt x="375" y="287"/>
                  <a:pt x="375" y="287"/>
                </a:cubicBezTo>
                <a:cubicBezTo>
                  <a:pt x="375" y="281"/>
                  <a:pt x="374" y="276"/>
                  <a:pt x="374" y="270"/>
                </a:cubicBezTo>
                <a:cubicBezTo>
                  <a:pt x="374" y="270"/>
                  <a:pt x="374" y="270"/>
                  <a:pt x="374" y="270"/>
                </a:cubicBezTo>
                <a:cubicBezTo>
                  <a:pt x="374" y="265"/>
                  <a:pt x="373" y="261"/>
                  <a:pt x="373" y="257"/>
                </a:cubicBezTo>
                <a:cubicBezTo>
                  <a:pt x="372" y="243"/>
                  <a:pt x="370" y="229"/>
                  <a:pt x="368" y="215"/>
                </a:cubicBezTo>
                <a:cubicBezTo>
                  <a:pt x="367" y="207"/>
                  <a:pt x="365" y="199"/>
                  <a:pt x="364" y="191"/>
                </a:cubicBezTo>
                <a:cubicBezTo>
                  <a:pt x="363" y="190"/>
                  <a:pt x="363" y="189"/>
                  <a:pt x="363" y="188"/>
                </a:cubicBezTo>
                <a:cubicBezTo>
                  <a:pt x="363" y="188"/>
                  <a:pt x="363" y="188"/>
                  <a:pt x="363" y="188"/>
                </a:cubicBezTo>
                <a:cubicBezTo>
                  <a:pt x="362" y="181"/>
                  <a:pt x="360" y="173"/>
                  <a:pt x="358" y="165"/>
                </a:cubicBezTo>
                <a:cubicBezTo>
                  <a:pt x="352" y="139"/>
                  <a:pt x="344" y="113"/>
                  <a:pt x="334" y="86"/>
                </a:cubicBezTo>
                <a:cubicBezTo>
                  <a:pt x="332" y="80"/>
                  <a:pt x="330" y="74"/>
                  <a:pt x="327" y="67"/>
                </a:cubicBezTo>
                <a:cubicBezTo>
                  <a:pt x="323" y="57"/>
                  <a:pt x="319" y="48"/>
                  <a:pt x="314" y="38"/>
                </a:cubicBezTo>
                <a:cubicBezTo>
                  <a:pt x="308" y="25"/>
                  <a:pt x="302" y="12"/>
                  <a:pt x="295" y="0"/>
                </a:cubicBezTo>
                <a:cubicBezTo>
                  <a:pt x="296" y="1"/>
                  <a:pt x="310" y="14"/>
                  <a:pt x="328" y="39"/>
                </a:cubicBezTo>
                <a:cubicBezTo>
                  <a:pt x="334" y="47"/>
                  <a:pt x="340" y="56"/>
                  <a:pt x="346" y="66"/>
                </a:cubicBezTo>
                <a:cubicBezTo>
                  <a:pt x="346" y="66"/>
                  <a:pt x="346" y="66"/>
                  <a:pt x="346" y="66"/>
                </a:cubicBezTo>
                <a:cubicBezTo>
                  <a:pt x="359" y="87"/>
                  <a:pt x="373" y="114"/>
                  <a:pt x="386" y="146"/>
                </a:cubicBezTo>
                <a:cubicBezTo>
                  <a:pt x="392" y="163"/>
                  <a:pt x="398" y="181"/>
                  <a:pt x="404" y="201"/>
                </a:cubicBezTo>
                <a:cubicBezTo>
                  <a:pt x="406" y="210"/>
                  <a:pt x="408" y="218"/>
                  <a:pt x="410" y="228"/>
                </a:cubicBezTo>
                <a:cubicBezTo>
                  <a:pt x="410" y="228"/>
                  <a:pt x="410" y="228"/>
                  <a:pt x="410" y="228"/>
                </a:cubicBezTo>
                <a:cubicBezTo>
                  <a:pt x="412" y="238"/>
                  <a:pt x="414" y="248"/>
                  <a:pt x="416" y="259"/>
                </a:cubicBezTo>
                <a:cubicBezTo>
                  <a:pt x="420" y="281"/>
                  <a:pt x="423" y="305"/>
                  <a:pt x="424" y="331"/>
                </a:cubicBezTo>
                <a:cubicBezTo>
                  <a:pt x="424" y="340"/>
                  <a:pt x="425" y="350"/>
                  <a:pt x="425" y="361"/>
                </a:cubicBezTo>
                <a:cubicBezTo>
                  <a:pt x="425" y="370"/>
                  <a:pt x="425" y="379"/>
                  <a:pt x="425" y="389"/>
                </a:cubicBezTo>
                <a:cubicBezTo>
                  <a:pt x="425" y="389"/>
                  <a:pt x="429" y="381"/>
                  <a:pt x="437" y="370"/>
                </a:cubicBezTo>
                <a:cubicBezTo>
                  <a:pt x="442" y="362"/>
                  <a:pt x="449" y="353"/>
                  <a:pt x="457" y="344"/>
                </a:cubicBezTo>
                <a:cubicBezTo>
                  <a:pt x="467" y="331"/>
                  <a:pt x="478" y="317"/>
                  <a:pt x="491" y="306"/>
                </a:cubicBezTo>
                <a:cubicBezTo>
                  <a:pt x="495" y="302"/>
                  <a:pt x="501" y="297"/>
                  <a:pt x="506" y="291"/>
                </a:cubicBezTo>
                <a:cubicBezTo>
                  <a:pt x="511" y="286"/>
                  <a:pt x="515" y="281"/>
                  <a:pt x="520" y="275"/>
                </a:cubicBezTo>
                <a:cubicBezTo>
                  <a:pt x="528" y="265"/>
                  <a:pt x="537" y="253"/>
                  <a:pt x="546" y="239"/>
                </a:cubicBezTo>
                <a:cubicBezTo>
                  <a:pt x="546" y="239"/>
                  <a:pt x="546" y="239"/>
                  <a:pt x="546" y="239"/>
                </a:cubicBezTo>
                <a:cubicBezTo>
                  <a:pt x="551" y="231"/>
                  <a:pt x="556" y="222"/>
                  <a:pt x="561" y="213"/>
                </a:cubicBezTo>
                <a:cubicBezTo>
                  <a:pt x="575" y="186"/>
                  <a:pt x="588" y="153"/>
                  <a:pt x="599" y="113"/>
                </a:cubicBezTo>
                <a:cubicBezTo>
                  <a:pt x="602" y="101"/>
                  <a:pt x="605" y="88"/>
                  <a:pt x="608" y="74"/>
                </a:cubicBezTo>
                <a:cubicBezTo>
                  <a:pt x="608" y="74"/>
                  <a:pt x="611" y="91"/>
                  <a:pt x="608" y="120"/>
                </a:cubicBezTo>
                <a:cubicBezTo>
                  <a:pt x="608" y="123"/>
                  <a:pt x="607" y="127"/>
                  <a:pt x="607" y="131"/>
                </a:cubicBezTo>
                <a:cubicBezTo>
                  <a:pt x="607" y="131"/>
                  <a:pt x="607" y="131"/>
                  <a:pt x="607" y="131"/>
                </a:cubicBezTo>
                <a:cubicBezTo>
                  <a:pt x="606" y="137"/>
                  <a:pt x="605" y="143"/>
                  <a:pt x="604" y="150"/>
                </a:cubicBezTo>
                <a:cubicBezTo>
                  <a:pt x="600" y="174"/>
                  <a:pt x="592" y="203"/>
                  <a:pt x="578" y="235"/>
                </a:cubicBezTo>
                <a:cubicBezTo>
                  <a:pt x="574" y="244"/>
                  <a:pt x="570" y="253"/>
                  <a:pt x="566" y="262"/>
                </a:cubicBezTo>
                <a:cubicBezTo>
                  <a:pt x="563" y="268"/>
                  <a:pt x="560" y="274"/>
                  <a:pt x="556" y="280"/>
                </a:cubicBezTo>
                <a:cubicBezTo>
                  <a:pt x="553" y="286"/>
                  <a:pt x="550" y="291"/>
                  <a:pt x="547" y="297"/>
                </a:cubicBezTo>
                <a:cubicBezTo>
                  <a:pt x="544" y="302"/>
                  <a:pt x="541" y="306"/>
                  <a:pt x="538" y="311"/>
                </a:cubicBezTo>
                <a:cubicBezTo>
                  <a:pt x="521" y="337"/>
                  <a:pt x="508" y="359"/>
                  <a:pt x="496" y="376"/>
                </a:cubicBezTo>
                <a:cubicBezTo>
                  <a:pt x="493" y="379"/>
                  <a:pt x="491" y="383"/>
                  <a:pt x="489" y="386"/>
                </a:cubicBezTo>
                <a:cubicBezTo>
                  <a:pt x="448" y="446"/>
                  <a:pt x="439" y="449"/>
                  <a:pt x="427" y="479"/>
                </a:cubicBezTo>
                <a:cubicBezTo>
                  <a:pt x="427" y="479"/>
                  <a:pt x="426" y="483"/>
                  <a:pt x="425" y="489"/>
                </a:cubicBezTo>
                <a:cubicBezTo>
                  <a:pt x="425" y="492"/>
                  <a:pt x="424" y="497"/>
                  <a:pt x="423" y="501"/>
                </a:cubicBezTo>
                <a:cubicBezTo>
                  <a:pt x="419" y="526"/>
                  <a:pt x="411" y="568"/>
                  <a:pt x="406" y="605"/>
                </a:cubicBezTo>
                <a:cubicBezTo>
                  <a:pt x="401" y="635"/>
                  <a:pt x="397" y="663"/>
                  <a:pt x="396" y="677"/>
                </a:cubicBezTo>
                <a:cubicBezTo>
                  <a:pt x="396" y="677"/>
                  <a:pt x="444" y="624"/>
                  <a:pt x="496" y="584"/>
                </a:cubicBezTo>
                <a:cubicBezTo>
                  <a:pt x="502" y="579"/>
                  <a:pt x="509" y="574"/>
                  <a:pt x="515" y="570"/>
                </a:cubicBezTo>
                <a:cubicBezTo>
                  <a:pt x="545" y="548"/>
                  <a:pt x="581" y="519"/>
                  <a:pt x="614" y="485"/>
                </a:cubicBezTo>
                <a:cubicBezTo>
                  <a:pt x="615" y="485"/>
                  <a:pt x="615" y="484"/>
                  <a:pt x="616" y="483"/>
                </a:cubicBezTo>
                <a:cubicBezTo>
                  <a:pt x="644" y="454"/>
                  <a:pt x="669" y="422"/>
                  <a:pt x="685" y="390"/>
                </a:cubicBezTo>
                <a:cubicBezTo>
                  <a:pt x="686" y="387"/>
                  <a:pt x="688" y="385"/>
                  <a:pt x="689" y="383"/>
                </a:cubicBezTo>
                <a:cubicBezTo>
                  <a:pt x="689" y="383"/>
                  <a:pt x="688" y="386"/>
                  <a:pt x="686" y="390"/>
                </a:cubicBezTo>
                <a:cubicBezTo>
                  <a:pt x="681" y="406"/>
                  <a:pt x="665" y="444"/>
                  <a:pt x="632" y="490"/>
                </a:cubicBezTo>
                <a:cubicBezTo>
                  <a:pt x="631" y="490"/>
                  <a:pt x="631" y="491"/>
                  <a:pt x="630" y="492"/>
                </a:cubicBezTo>
                <a:cubicBezTo>
                  <a:pt x="607" y="523"/>
                  <a:pt x="576" y="558"/>
                  <a:pt x="534" y="591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任意多边形 16"/>
          <p:cNvSpPr/>
          <p:nvPr/>
        </p:nvSpPr>
        <p:spPr>
          <a:xfrm>
            <a:off x="4879800" y="3954600"/>
            <a:ext cx="1200240" cy="1203120"/>
          </a:xfrm>
          <a:custGeom>
            <a:avLst/>
            <a:gdLst/>
            <a:ahLst/>
            <a:rect l="l" t="t" r="r" b="b"/>
            <a:pathLst>
              <a:path w="327" h="328">
                <a:moveTo>
                  <a:pt x="323" y="198"/>
                </a:moveTo>
                <a:cubicBezTo>
                  <a:pt x="321" y="209"/>
                  <a:pt x="317" y="219"/>
                  <a:pt x="313" y="229"/>
                </a:cubicBezTo>
                <a:cubicBezTo>
                  <a:pt x="312" y="231"/>
                  <a:pt x="311" y="233"/>
                  <a:pt x="310" y="235"/>
                </a:cubicBezTo>
                <a:cubicBezTo>
                  <a:pt x="295" y="266"/>
                  <a:pt x="270" y="291"/>
                  <a:pt x="240" y="307"/>
                </a:cubicBezTo>
                <a:cubicBezTo>
                  <a:pt x="228" y="313"/>
                  <a:pt x="216" y="318"/>
                  <a:pt x="203" y="321"/>
                </a:cubicBezTo>
                <a:cubicBezTo>
                  <a:pt x="193" y="323"/>
                  <a:pt x="183" y="325"/>
                  <a:pt x="173" y="325"/>
                </a:cubicBezTo>
                <a:cubicBezTo>
                  <a:pt x="121" y="328"/>
                  <a:pt x="74" y="306"/>
                  <a:pt x="42" y="270"/>
                </a:cubicBezTo>
                <a:cubicBezTo>
                  <a:pt x="31" y="257"/>
                  <a:pt x="22" y="243"/>
                  <a:pt x="15" y="227"/>
                </a:cubicBezTo>
                <a:cubicBezTo>
                  <a:pt x="8" y="210"/>
                  <a:pt x="3" y="191"/>
                  <a:pt x="2" y="171"/>
                </a:cubicBezTo>
                <a:cubicBezTo>
                  <a:pt x="0" y="133"/>
                  <a:pt x="12" y="97"/>
                  <a:pt x="32" y="68"/>
                </a:cubicBezTo>
                <a:cubicBezTo>
                  <a:pt x="35" y="65"/>
                  <a:pt x="37" y="62"/>
                  <a:pt x="39" y="59"/>
                </a:cubicBezTo>
                <a:cubicBezTo>
                  <a:pt x="55" y="40"/>
                  <a:pt x="76" y="24"/>
                  <a:pt x="99" y="14"/>
                </a:cubicBezTo>
                <a:cubicBezTo>
                  <a:pt x="109" y="10"/>
                  <a:pt x="120" y="6"/>
                  <a:pt x="132" y="4"/>
                </a:cubicBezTo>
                <a:cubicBezTo>
                  <a:pt x="139" y="2"/>
                  <a:pt x="147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6" y="1"/>
                  <a:pt x="156" y="1"/>
                </a:cubicBezTo>
                <a:cubicBezTo>
                  <a:pt x="165" y="0"/>
                  <a:pt x="173" y="0"/>
                  <a:pt x="182" y="1"/>
                </a:cubicBezTo>
                <a:cubicBezTo>
                  <a:pt x="182" y="1"/>
                  <a:pt x="182" y="1"/>
                  <a:pt x="182" y="1"/>
                </a:cubicBezTo>
                <a:cubicBezTo>
                  <a:pt x="206" y="4"/>
                  <a:pt x="228" y="12"/>
                  <a:pt x="248" y="24"/>
                </a:cubicBezTo>
                <a:cubicBezTo>
                  <a:pt x="253" y="27"/>
                  <a:pt x="259" y="30"/>
                  <a:pt x="264" y="34"/>
                </a:cubicBezTo>
                <a:cubicBezTo>
                  <a:pt x="277" y="45"/>
                  <a:pt x="290" y="58"/>
                  <a:pt x="299" y="72"/>
                </a:cubicBezTo>
                <a:cubicBezTo>
                  <a:pt x="299" y="73"/>
                  <a:pt x="299" y="73"/>
                  <a:pt x="299" y="73"/>
                </a:cubicBezTo>
                <a:cubicBezTo>
                  <a:pt x="302" y="77"/>
                  <a:pt x="305" y="82"/>
                  <a:pt x="308" y="86"/>
                </a:cubicBezTo>
                <a:cubicBezTo>
                  <a:pt x="319" y="107"/>
                  <a:pt x="325" y="130"/>
                  <a:pt x="327" y="155"/>
                </a:cubicBezTo>
                <a:cubicBezTo>
                  <a:pt x="327" y="170"/>
                  <a:pt x="326" y="184"/>
                  <a:pt x="323" y="198"/>
                </a:cubicBezTo>
                <a:close/>
              </a:path>
            </a:pathLst>
          </a:custGeom>
          <a:solidFill>
            <a:srgbClr val="a1b9d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任意多边形 29"/>
          <p:cNvSpPr/>
          <p:nvPr/>
        </p:nvSpPr>
        <p:spPr>
          <a:xfrm>
            <a:off x="5175360" y="3195720"/>
            <a:ext cx="903240" cy="9046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43" y="118"/>
                </a:moveTo>
                <a:cubicBezTo>
                  <a:pt x="246" y="184"/>
                  <a:pt x="195" y="240"/>
                  <a:pt x="129" y="243"/>
                </a:cubicBezTo>
                <a:cubicBezTo>
                  <a:pt x="63" y="247"/>
                  <a:pt x="7" y="196"/>
                  <a:pt x="3" y="130"/>
                </a:cubicBezTo>
                <a:cubicBezTo>
                  <a:pt x="0" y="63"/>
                  <a:pt x="51" y="7"/>
                  <a:pt x="117" y="4"/>
                </a:cubicBezTo>
                <a:cubicBezTo>
                  <a:pt x="183" y="0"/>
                  <a:pt x="240" y="51"/>
                  <a:pt x="243" y="118"/>
                </a:cubicBezTo>
                <a:close/>
              </a:path>
            </a:pathLst>
          </a:custGeom>
          <a:solidFill>
            <a:srgbClr val="3257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任意多边形 30"/>
          <p:cNvSpPr/>
          <p:nvPr/>
        </p:nvSpPr>
        <p:spPr>
          <a:xfrm>
            <a:off x="6143760" y="3745080"/>
            <a:ext cx="758520" cy="755640"/>
          </a:xfrm>
          <a:custGeom>
            <a:avLst/>
            <a:gdLst/>
            <a:ahLst/>
            <a:rect l="l" t="t" r="r" b="b"/>
            <a:pathLst>
              <a:path w="206" h="206">
                <a:moveTo>
                  <a:pt x="204" y="98"/>
                </a:moveTo>
                <a:cubicBezTo>
                  <a:pt x="206" y="153"/>
                  <a:pt x="164" y="200"/>
                  <a:pt x="108" y="203"/>
                </a:cubicBezTo>
                <a:cubicBezTo>
                  <a:pt x="53" y="206"/>
                  <a:pt x="6" y="163"/>
                  <a:pt x="3" y="108"/>
                </a:cubicBezTo>
                <a:cubicBezTo>
                  <a:pt x="0" y="52"/>
                  <a:pt x="43" y="5"/>
                  <a:pt x="98" y="3"/>
                </a:cubicBezTo>
                <a:cubicBezTo>
                  <a:pt x="154" y="0"/>
                  <a:pt x="201" y="42"/>
                  <a:pt x="204" y="98"/>
                </a:cubicBezTo>
                <a:close/>
              </a:path>
            </a:pathLst>
          </a:custGeom>
          <a:solidFill>
            <a:srgbClr val="d0d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任意多边形 19"/>
          <p:cNvSpPr/>
          <p:nvPr/>
        </p:nvSpPr>
        <p:spPr>
          <a:xfrm>
            <a:off x="7178760" y="3044880"/>
            <a:ext cx="253800" cy="255600"/>
          </a:xfrm>
          <a:custGeom>
            <a:avLst/>
            <a:gdLst/>
            <a:ahLst/>
            <a:rect l="l" t="t" r="r" b="b"/>
            <a:pathLst>
              <a:path w="69" h="69">
                <a:moveTo>
                  <a:pt x="68" y="33"/>
                </a:moveTo>
                <a:cubicBezTo>
                  <a:pt x="69" y="52"/>
                  <a:pt x="54" y="67"/>
                  <a:pt x="36" y="68"/>
                </a:cubicBezTo>
                <a:cubicBezTo>
                  <a:pt x="17" y="69"/>
                  <a:pt x="1" y="55"/>
                  <a:pt x="0" y="36"/>
                </a:cubicBezTo>
                <a:cubicBezTo>
                  <a:pt x="0" y="18"/>
                  <a:pt x="14" y="2"/>
                  <a:pt x="32" y="1"/>
                </a:cubicBezTo>
                <a:cubicBezTo>
                  <a:pt x="51" y="0"/>
                  <a:pt x="67" y="14"/>
                  <a:pt x="68" y="33"/>
                </a:cubicBezTo>
                <a:close/>
              </a:path>
            </a:pathLst>
          </a:custGeom>
          <a:solidFill>
            <a:srgbClr val="d0d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任意多边形 20"/>
          <p:cNvSpPr/>
          <p:nvPr/>
        </p:nvSpPr>
        <p:spPr>
          <a:xfrm>
            <a:off x="4565520" y="2778120"/>
            <a:ext cx="233640" cy="233280"/>
          </a:xfrm>
          <a:custGeom>
            <a:avLst/>
            <a:gdLst/>
            <a:ahLst/>
            <a:rect l="l" t="t" r="r" b="b"/>
            <a:pathLst>
              <a:path w="63" h="64">
                <a:moveTo>
                  <a:pt x="62" y="30"/>
                </a:moveTo>
                <a:cubicBezTo>
                  <a:pt x="63" y="47"/>
                  <a:pt x="50" y="62"/>
                  <a:pt x="33" y="63"/>
                </a:cubicBezTo>
                <a:cubicBezTo>
                  <a:pt x="16" y="64"/>
                  <a:pt x="1" y="51"/>
                  <a:pt x="1" y="34"/>
                </a:cubicBezTo>
                <a:cubicBezTo>
                  <a:pt x="0" y="16"/>
                  <a:pt x="13" y="2"/>
                  <a:pt x="30" y="1"/>
                </a:cubicBezTo>
                <a:cubicBezTo>
                  <a:pt x="47" y="0"/>
                  <a:pt x="62" y="13"/>
                  <a:pt x="62" y="30"/>
                </a:cubicBezTo>
                <a:close/>
              </a:path>
            </a:pathLst>
          </a:custGeom>
          <a:solidFill>
            <a:srgbClr val="178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任意多边形 21"/>
          <p:cNvSpPr/>
          <p:nvPr/>
        </p:nvSpPr>
        <p:spPr>
          <a:xfrm>
            <a:off x="6091200" y="2268360"/>
            <a:ext cx="235080" cy="236880"/>
          </a:xfrm>
          <a:custGeom>
            <a:avLst/>
            <a:gdLst/>
            <a:ahLst/>
            <a:rect l="l" t="t" r="r" b="b"/>
            <a:pathLst>
              <a:path w="64" h="64">
                <a:moveTo>
                  <a:pt x="63" y="31"/>
                </a:moveTo>
                <a:cubicBezTo>
                  <a:pt x="64" y="48"/>
                  <a:pt x="50" y="62"/>
                  <a:pt x="33" y="63"/>
                </a:cubicBezTo>
                <a:cubicBezTo>
                  <a:pt x="16" y="64"/>
                  <a:pt x="2" y="51"/>
                  <a:pt x="1" y="34"/>
                </a:cubicBezTo>
                <a:cubicBezTo>
                  <a:pt x="0" y="17"/>
                  <a:pt x="13" y="2"/>
                  <a:pt x="30" y="1"/>
                </a:cubicBezTo>
                <a:cubicBezTo>
                  <a:pt x="47" y="0"/>
                  <a:pt x="62" y="13"/>
                  <a:pt x="63" y="31"/>
                </a:cubicBezTo>
                <a:close/>
              </a:path>
            </a:pathLst>
          </a:custGeom>
          <a:solidFill>
            <a:srgbClr val="a1b9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任意多边形 22"/>
          <p:cNvSpPr/>
          <p:nvPr/>
        </p:nvSpPr>
        <p:spPr>
          <a:xfrm>
            <a:off x="4900680" y="3024360"/>
            <a:ext cx="338040" cy="341280"/>
          </a:xfrm>
          <a:custGeom>
            <a:avLst/>
            <a:gdLst/>
            <a:ahLst/>
            <a:rect l="l" t="t" r="r" b="b"/>
            <a:pathLst>
              <a:path w="92" h="93">
                <a:moveTo>
                  <a:pt x="91" y="44"/>
                </a:moveTo>
                <a:cubicBezTo>
                  <a:pt x="92" y="69"/>
                  <a:pt x="73" y="90"/>
                  <a:pt x="48" y="91"/>
                </a:cubicBezTo>
                <a:cubicBezTo>
                  <a:pt x="23" y="93"/>
                  <a:pt x="2" y="73"/>
                  <a:pt x="1" y="49"/>
                </a:cubicBezTo>
                <a:cubicBezTo>
                  <a:pt x="0" y="24"/>
                  <a:pt x="19" y="3"/>
                  <a:pt x="44" y="1"/>
                </a:cubicBezTo>
                <a:cubicBezTo>
                  <a:pt x="69" y="0"/>
                  <a:pt x="90" y="19"/>
                  <a:pt x="91" y="44"/>
                </a:cubicBezTo>
                <a:close/>
              </a:path>
            </a:pathLst>
          </a:custGeom>
          <a:solidFill>
            <a:srgbClr val="ad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任意多边形 23"/>
          <p:cNvSpPr/>
          <p:nvPr/>
        </p:nvSpPr>
        <p:spPr>
          <a:xfrm>
            <a:off x="6943680" y="3672000"/>
            <a:ext cx="341280" cy="341280"/>
          </a:xfrm>
          <a:custGeom>
            <a:avLst/>
            <a:gdLst/>
            <a:ahLst/>
            <a:rect l="l" t="t" r="r" b="b"/>
            <a:pathLst>
              <a:path w="93" h="93">
                <a:moveTo>
                  <a:pt x="92" y="44"/>
                </a:moveTo>
                <a:cubicBezTo>
                  <a:pt x="93" y="69"/>
                  <a:pt x="74" y="90"/>
                  <a:pt x="49" y="91"/>
                </a:cubicBezTo>
                <a:cubicBezTo>
                  <a:pt x="24" y="93"/>
                  <a:pt x="3" y="74"/>
                  <a:pt x="2" y="49"/>
                </a:cubicBezTo>
                <a:cubicBezTo>
                  <a:pt x="0" y="24"/>
                  <a:pt x="19" y="3"/>
                  <a:pt x="44" y="1"/>
                </a:cubicBezTo>
                <a:cubicBezTo>
                  <a:pt x="69" y="0"/>
                  <a:pt x="90" y="19"/>
                  <a:pt x="92" y="44"/>
                </a:cubicBez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任意多边形 18"/>
          <p:cNvSpPr/>
          <p:nvPr/>
        </p:nvSpPr>
        <p:spPr>
          <a:xfrm>
            <a:off x="6405480" y="2408400"/>
            <a:ext cx="1063800" cy="10569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97" y="95"/>
                </a:moveTo>
                <a:cubicBezTo>
                  <a:pt x="200" y="148"/>
                  <a:pt x="158" y="194"/>
                  <a:pt x="105" y="197"/>
                </a:cubicBezTo>
                <a:cubicBezTo>
                  <a:pt x="51" y="199"/>
                  <a:pt x="6" y="158"/>
                  <a:pt x="3" y="105"/>
                </a:cubicBezTo>
                <a:cubicBezTo>
                  <a:pt x="0" y="51"/>
                  <a:pt x="42" y="5"/>
                  <a:pt x="95" y="3"/>
                </a:cubicBezTo>
                <a:cubicBezTo>
                  <a:pt x="149" y="0"/>
                  <a:pt x="194" y="41"/>
                  <a:pt x="197" y="95"/>
                </a:cubicBezTo>
                <a:close/>
              </a:path>
            </a:pathLst>
          </a:custGeom>
          <a:solidFill>
            <a:srgbClr val="3257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椭圆 26"/>
          <p:cNvSpPr/>
          <p:nvPr/>
        </p:nvSpPr>
        <p:spPr>
          <a:xfrm>
            <a:off x="5089680" y="2219400"/>
            <a:ext cx="963360" cy="963360"/>
          </a:xfrm>
          <a:prstGeom prst="ellipse">
            <a:avLst/>
          </a:prstGeom>
          <a:solidFill>
            <a:srgbClr val="178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任意多边形 27"/>
          <p:cNvSpPr/>
          <p:nvPr/>
        </p:nvSpPr>
        <p:spPr>
          <a:xfrm>
            <a:off x="5649840" y="3125880"/>
            <a:ext cx="1324080" cy="1322280"/>
          </a:xfrm>
          <a:custGeom>
            <a:avLst/>
            <a:gdLst/>
            <a:ahLst/>
            <a:rect l="l" t="t" r="r" b="b"/>
            <a:pathLst>
              <a:path w="328" h="328">
                <a:moveTo>
                  <a:pt x="323" y="156"/>
                </a:moveTo>
                <a:cubicBezTo>
                  <a:pt x="328" y="244"/>
                  <a:pt x="260" y="319"/>
                  <a:pt x="172" y="323"/>
                </a:cubicBezTo>
                <a:cubicBezTo>
                  <a:pt x="84" y="328"/>
                  <a:pt x="9" y="260"/>
                  <a:pt x="4" y="172"/>
                </a:cubicBezTo>
                <a:cubicBezTo>
                  <a:pt x="0" y="84"/>
                  <a:pt x="68" y="9"/>
                  <a:pt x="156" y="4"/>
                </a:cubicBezTo>
                <a:cubicBezTo>
                  <a:pt x="244" y="0"/>
                  <a:pt x="319" y="68"/>
                  <a:pt x="323" y="156"/>
                </a:cubicBez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任意多边形 28"/>
          <p:cNvSpPr/>
          <p:nvPr/>
        </p:nvSpPr>
        <p:spPr>
          <a:xfrm>
            <a:off x="6845400" y="4210200"/>
            <a:ext cx="711000" cy="706320"/>
          </a:xfrm>
          <a:custGeom>
            <a:avLst/>
            <a:gdLst/>
            <a:ahLst/>
            <a:rect l="l" t="t" r="r" b="b"/>
            <a:pathLst>
              <a:path w="194" h="193">
                <a:moveTo>
                  <a:pt x="192" y="93"/>
                </a:moveTo>
                <a:cubicBezTo>
                  <a:pt x="194" y="145"/>
                  <a:pt x="153" y="190"/>
                  <a:pt x="101" y="192"/>
                </a:cubicBezTo>
                <a:cubicBezTo>
                  <a:pt x="84" y="193"/>
                  <a:pt x="69" y="190"/>
                  <a:pt x="55" y="183"/>
                </a:cubicBezTo>
                <a:cubicBezTo>
                  <a:pt x="50" y="181"/>
                  <a:pt x="45" y="178"/>
                  <a:pt x="40" y="174"/>
                </a:cubicBezTo>
                <a:cubicBezTo>
                  <a:pt x="25" y="163"/>
                  <a:pt x="12" y="147"/>
                  <a:pt x="6" y="127"/>
                </a:cubicBezTo>
                <a:cubicBezTo>
                  <a:pt x="4" y="122"/>
                  <a:pt x="2" y="115"/>
                  <a:pt x="1" y="109"/>
                </a:cubicBezTo>
                <a:cubicBezTo>
                  <a:pt x="1" y="106"/>
                  <a:pt x="1" y="104"/>
                  <a:pt x="1" y="101"/>
                </a:cubicBezTo>
                <a:cubicBezTo>
                  <a:pt x="0" y="79"/>
                  <a:pt x="6" y="59"/>
                  <a:pt x="18" y="43"/>
                </a:cubicBezTo>
                <a:cubicBezTo>
                  <a:pt x="26" y="31"/>
                  <a:pt x="36" y="21"/>
                  <a:pt x="48" y="14"/>
                </a:cubicBezTo>
                <a:cubicBezTo>
                  <a:pt x="61" y="6"/>
                  <a:pt x="76" y="2"/>
                  <a:pt x="92" y="1"/>
                </a:cubicBezTo>
                <a:cubicBezTo>
                  <a:pt x="129" y="0"/>
                  <a:pt x="161" y="19"/>
                  <a:pt x="179" y="48"/>
                </a:cubicBezTo>
                <a:cubicBezTo>
                  <a:pt x="179" y="48"/>
                  <a:pt x="179" y="48"/>
                  <a:pt x="179" y="48"/>
                </a:cubicBezTo>
                <a:cubicBezTo>
                  <a:pt x="187" y="61"/>
                  <a:pt x="191" y="76"/>
                  <a:pt x="192" y="93"/>
                </a:cubicBezTo>
                <a:close/>
              </a:path>
            </a:pathLst>
          </a:custGeom>
          <a:solidFill>
            <a:srgbClr val="ad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任意多边形 25"/>
          <p:cNvSpPr/>
          <p:nvPr/>
        </p:nvSpPr>
        <p:spPr>
          <a:xfrm>
            <a:off x="5483160" y="4500720"/>
            <a:ext cx="1228680" cy="1231920"/>
          </a:xfrm>
          <a:custGeom>
            <a:avLst/>
            <a:gdLst/>
            <a:ahLst/>
            <a:rect l="l" t="t" r="r" b="b"/>
            <a:pathLst>
              <a:path w="280" h="281">
                <a:moveTo>
                  <a:pt x="280" y="148"/>
                </a:moveTo>
                <a:cubicBezTo>
                  <a:pt x="280" y="148"/>
                  <a:pt x="280" y="148"/>
                  <a:pt x="280" y="148"/>
                </a:cubicBezTo>
                <a:cubicBezTo>
                  <a:pt x="276" y="216"/>
                  <a:pt x="224" y="272"/>
                  <a:pt x="156" y="279"/>
                </a:cubicBezTo>
                <a:cubicBezTo>
                  <a:pt x="153" y="280"/>
                  <a:pt x="149" y="280"/>
                  <a:pt x="146" y="280"/>
                </a:cubicBezTo>
                <a:cubicBezTo>
                  <a:pt x="124" y="281"/>
                  <a:pt x="102" y="277"/>
                  <a:pt x="83" y="268"/>
                </a:cubicBezTo>
                <a:cubicBezTo>
                  <a:pt x="62" y="259"/>
                  <a:pt x="44" y="245"/>
                  <a:pt x="30" y="227"/>
                </a:cubicBezTo>
                <a:cubicBezTo>
                  <a:pt x="13" y="205"/>
                  <a:pt x="1" y="177"/>
                  <a:pt x="0" y="146"/>
                </a:cubicBezTo>
                <a:cubicBezTo>
                  <a:pt x="0" y="134"/>
                  <a:pt x="1" y="123"/>
                  <a:pt x="3" y="111"/>
                </a:cubicBezTo>
                <a:cubicBezTo>
                  <a:pt x="5" y="104"/>
                  <a:pt x="7" y="98"/>
                  <a:pt x="9" y="91"/>
                </a:cubicBezTo>
                <a:cubicBezTo>
                  <a:pt x="9" y="91"/>
                  <a:pt x="9" y="91"/>
                  <a:pt x="9" y="91"/>
                </a:cubicBezTo>
                <a:cubicBezTo>
                  <a:pt x="16" y="73"/>
                  <a:pt x="26" y="57"/>
                  <a:pt x="39" y="44"/>
                </a:cubicBezTo>
                <a:cubicBezTo>
                  <a:pt x="55" y="27"/>
                  <a:pt x="76" y="14"/>
                  <a:pt x="99" y="7"/>
                </a:cubicBezTo>
                <a:cubicBezTo>
                  <a:pt x="103" y="5"/>
                  <a:pt x="108" y="4"/>
                  <a:pt x="113" y="3"/>
                </a:cubicBezTo>
                <a:cubicBezTo>
                  <a:pt x="117" y="2"/>
                  <a:pt x="122" y="2"/>
                  <a:pt x="127" y="1"/>
                </a:cubicBezTo>
                <a:cubicBezTo>
                  <a:pt x="129" y="1"/>
                  <a:pt x="132" y="1"/>
                  <a:pt x="134" y="1"/>
                </a:cubicBezTo>
                <a:cubicBezTo>
                  <a:pt x="140" y="0"/>
                  <a:pt x="145" y="1"/>
                  <a:pt x="151" y="1"/>
                </a:cubicBezTo>
                <a:cubicBezTo>
                  <a:pt x="159" y="2"/>
                  <a:pt x="167" y="3"/>
                  <a:pt x="175" y="5"/>
                </a:cubicBezTo>
                <a:cubicBezTo>
                  <a:pt x="186" y="8"/>
                  <a:pt x="197" y="12"/>
                  <a:pt x="207" y="18"/>
                </a:cubicBezTo>
                <a:cubicBezTo>
                  <a:pt x="222" y="26"/>
                  <a:pt x="236" y="37"/>
                  <a:pt x="247" y="50"/>
                </a:cubicBezTo>
                <a:cubicBezTo>
                  <a:pt x="249" y="53"/>
                  <a:pt x="252" y="56"/>
                  <a:pt x="254" y="60"/>
                </a:cubicBezTo>
                <a:cubicBezTo>
                  <a:pt x="268" y="79"/>
                  <a:pt x="277" y="103"/>
                  <a:pt x="279" y="128"/>
                </a:cubicBezTo>
                <a:cubicBezTo>
                  <a:pt x="280" y="130"/>
                  <a:pt x="280" y="132"/>
                  <a:pt x="280" y="134"/>
                </a:cubicBezTo>
                <a:cubicBezTo>
                  <a:pt x="280" y="139"/>
                  <a:pt x="280" y="144"/>
                  <a:pt x="280" y="148"/>
                </a:cubicBezTo>
                <a:close/>
              </a:path>
            </a:pathLst>
          </a:custGeom>
          <a:solidFill>
            <a:srgbClr val="3257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任意多边形 24"/>
          <p:cNvSpPr/>
          <p:nvPr/>
        </p:nvSpPr>
        <p:spPr>
          <a:xfrm>
            <a:off x="4662360" y="3610080"/>
            <a:ext cx="857520" cy="85716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232" y="112"/>
                </a:moveTo>
                <a:cubicBezTo>
                  <a:pt x="234" y="175"/>
                  <a:pt x="185" y="229"/>
                  <a:pt x="122" y="232"/>
                </a:cubicBezTo>
                <a:cubicBezTo>
                  <a:pt x="59" y="234"/>
                  <a:pt x="6" y="185"/>
                  <a:pt x="3" y="122"/>
                </a:cubicBezTo>
                <a:cubicBezTo>
                  <a:pt x="0" y="59"/>
                  <a:pt x="49" y="6"/>
                  <a:pt x="112" y="3"/>
                </a:cubicBezTo>
                <a:cubicBezTo>
                  <a:pt x="176" y="0"/>
                  <a:pt x="229" y="49"/>
                  <a:pt x="232" y="112"/>
                </a:cubicBezTo>
                <a:close/>
              </a:path>
            </a:pathLst>
          </a:custGeom>
          <a:solidFill>
            <a:srgbClr val="ad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直接连接符 41"/>
          <p:cNvSpPr/>
          <p:nvPr/>
        </p:nvSpPr>
        <p:spPr>
          <a:xfrm flipV="1">
            <a:off x="4335480" y="2720880"/>
            <a:ext cx="1058760" cy="30240"/>
          </a:xfrm>
          <a:prstGeom prst="line">
            <a:avLst/>
          </a:prstGeom>
          <a:ln w="6480">
            <a:solidFill>
              <a:srgbClr val="178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椭圆 42"/>
          <p:cNvSpPr/>
          <p:nvPr/>
        </p:nvSpPr>
        <p:spPr>
          <a:xfrm flipH="1" rot="16200000">
            <a:off x="4278960" y="2719800"/>
            <a:ext cx="66600" cy="68400"/>
          </a:xfrm>
          <a:prstGeom prst="ellipse">
            <a:avLst/>
          </a:prstGeom>
          <a:solidFill>
            <a:srgbClr val="178aa1"/>
          </a:solidFill>
          <a:ln w="12600">
            <a:solidFill>
              <a:srgbClr val="178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椭圆 45"/>
          <p:cNvSpPr/>
          <p:nvPr/>
        </p:nvSpPr>
        <p:spPr>
          <a:xfrm rot="5400000">
            <a:off x="7771320" y="3439440"/>
            <a:ext cx="66600" cy="68040"/>
          </a:xfrm>
          <a:prstGeom prst="ellipse">
            <a:avLst/>
          </a:prstGeom>
          <a:solidFill>
            <a:srgbClr val="4276aa"/>
          </a:solidFill>
          <a:ln w="12600">
            <a:solidFill>
              <a:srgbClr val="427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文本框 50"/>
          <p:cNvSpPr/>
          <p:nvPr/>
        </p:nvSpPr>
        <p:spPr>
          <a:xfrm>
            <a:off x="299880" y="2103480"/>
            <a:ext cx="424512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一、应付职工薪酬的审计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75b4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职工薪酬是企业支付给员工的劳动报酬，其可能采用现金的形式支付，因而 相对于其他业务更容易发生错误或舞弊行为。同时，职工薪酬一般也是构成企业 成本费用的重要项目，所以审计人员应重视对应付职工薪酬的审计。在开展审计 实质性程序前，应确定合理有效的审计目标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直接连接符 61"/>
          <p:cNvSpPr/>
          <p:nvPr/>
        </p:nvSpPr>
        <p:spPr>
          <a:xfrm flipH="1">
            <a:off x="6786720" y="3473280"/>
            <a:ext cx="1023840" cy="0"/>
          </a:xfrm>
          <a:prstGeom prst="line">
            <a:avLst/>
          </a:prstGeom>
          <a:ln w="6480">
            <a:solidFill>
              <a:srgbClr val="427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文本框 43"/>
          <p:cNvSpPr/>
          <p:nvPr/>
        </p:nvSpPr>
        <p:spPr>
          <a:xfrm>
            <a:off x="7978680" y="2076480"/>
            <a:ext cx="39132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75b4"/>
                </a:solidFill>
                <a:latin typeface="微软雅黑"/>
                <a:ea typeface="微软雅黑"/>
              </a:rPr>
              <a:t>二、应付职工薪酬审计的实质性程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75b4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安排应付职工薪酬审计程序时，审计人员可以根据具体情况增加或减少相应 审计程序，并把对常规审计程序的修改记录在审计程序表中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0" name="组合 28"/>
          <p:cNvGrpSpPr/>
          <p:nvPr/>
        </p:nvGrpSpPr>
        <p:grpSpPr>
          <a:xfrm>
            <a:off x="927000" y="331920"/>
            <a:ext cx="10360080" cy="533160"/>
            <a:chOff x="927000" y="331920"/>
            <a:chExt cx="10360080" cy="533160"/>
          </a:xfrm>
        </p:grpSpPr>
        <p:sp>
          <p:nvSpPr>
            <p:cNvPr id="2131" name="直接连接符 2"/>
            <p:cNvSpPr/>
            <p:nvPr/>
          </p:nvSpPr>
          <p:spPr>
            <a:xfrm>
              <a:off x="927000" y="60300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直接连接符 3"/>
            <p:cNvSpPr/>
            <p:nvPr/>
          </p:nvSpPr>
          <p:spPr>
            <a:xfrm>
              <a:off x="9307800" y="60300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3" name="文本框 31" descr=""/>
            <p:cNvPicPr/>
            <p:nvPr/>
          </p:nvPicPr>
          <p:blipFill>
            <a:blip r:embed="rId1"/>
            <a:stretch/>
          </p:blipFill>
          <p:spPr>
            <a:xfrm>
              <a:off x="3215520" y="331920"/>
              <a:ext cx="608400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4" name="文本框 4"/>
          <p:cNvSpPr/>
          <p:nvPr/>
        </p:nvSpPr>
        <p:spPr>
          <a:xfrm>
            <a:off x="4346640" y="110484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3" name="组合 78"/>
          <p:cNvGrpSpPr/>
          <p:nvPr/>
        </p:nvGrpSpPr>
        <p:grpSpPr>
          <a:xfrm>
            <a:off x="3575160" y="2070000"/>
            <a:ext cx="8035920" cy="595080"/>
            <a:chOff x="3575160" y="2070000"/>
            <a:chExt cx="8035920" cy="595080"/>
          </a:xfrm>
        </p:grpSpPr>
        <p:sp>
          <p:nvSpPr>
            <p:cNvPr id="1814" name="矩形 51"/>
            <p:cNvSpPr/>
            <p:nvPr/>
          </p:nvSpPr>
          <p:spPr>
            <a:xfrm>
              <a:off x="4352760" y="208368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注册会计师执业准则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圆角矩形 55"/>
            <p:cNvSpPr/>
            <p:nvPr/>
          </p:nvSpPr>
          <p:spPr>
            <a:xfrm>
              <a:off x="3575160" y="215568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5b9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矩形 34"/>
            <p:cNvSpPr/>
            <p:nvPr/>
          </p:nvSpPr>
          <p:spPr>
            <a:xfrm>
              <a:off x="8371080" y="207000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e10d4"/>
                  </a:solidFill>
                  <a:latin typeface="微软雅黑"/>
                  <a:ea typeface="微软雅黑"/>
                </a:rPr>
                <a:t>存货与仓储循环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圆角矩形 35"/>
            <p:cNvSpPr/>
            <p:nvPr/>
          </p:nvSpPr>
          <p:spPr>
            <a:xfrm>
              <a:off x="7593120" y="213984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8e1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8" name="组合 71"/>
          <p:cNvGrpSpPr/>
          <p:nvPr/>
        </p:nvGrpSpPr>
        <p:grpSpPr>
          <a:xfrm>
            <a:off x="3664080" y="2857680"/>
            <a:ext cx="8035920" cy="594720"/>
            <a:chOff x="3664080" y="2857680"/>
            <a:chExt cx="8035920" cy="594720"/>
          </a:xfrm>
        </p:grpSpPr>
        <p:sp>
          <p:nvSpPr>
            <p:cNvPr id="1819" name="矩形 57"/>
            <p:cNvSpPr/>
            <p:nvPr/>
          </p:nvSpPr>
          <p:spPr>
            <a:xfrm>
              <a:off x="4441680" y="2871360"/>
              <a:ext cx="32400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审计业务的承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圆角矩形 74"/>
            <p:cNvSpPr/>
            <p:nvPr/>
          </p:nvSpPr>
          <p:spPr>
            <a:xfrm>
              <a:off x="3664080" y="2943360"/>
              <a:ext cx="576360" cy="46800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矩形 37"/>
            <p:cNvSpPr/>
            <p:nvPr/>
          </p:nvSpPr>
          <p:spPr>
            <a:xfrm>
              <a:off x="8460000" y="2857680"/>
              <a:ext cx="32400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筹资与投资循环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圆角矩形 38"/>
            <p:cNvSpPr/>
            <p:nvPr/>
          </p:nvSpPr>
          <p:spPr>
            <a:xfrm>
              <a:off x="7682040" y="2927520"/>
              <a:ext cx="576360" cy="46800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组合 72"/>
          <p:cNvGrpSpPr/>
          <p:nvPr/>
        </p:nvGrpSpPr>
        <p:grpSpPr>
          <a:xfrm>
            <a:off x="3662280" y="3549600"/>
            <a:ext cx="8035920" cy="595080"/>
            <a:chOff x="3662280" y="3549600"/>
            <a:chExt cx="8035920" cy="595080"/>
          </a:xfrm>
        </p:grpSpPr>
        <p:sp>
          <p:nvSpPr>
            <p:cNvPr id="1824" name="矩形 76"/>
            <p:cNvSpPr/>
            <p:nvPr/>
          </p:nvSpPr>
          <p:spPr>
            <a:xfrm>
              <a:off x="4439880" y="356328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审计计划工作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圆角矩形 100"/>
            <p:cNvSpPr/>
            <p:nvPr/>
          </p:nvSpPr>
          <p:spPr>
            <a:xfrm>
              <a:off x="3662280" y="363528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5b9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矩形 40"/>
            <p:cNvSpPr/>
            <p:nvPr/>
          </p:nvSpPr>
          <p:spPr>
            <a:xfrm>
              <a:off x="8458200" y="354960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货币资金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圆角矩形 41"/>
            <p:cNvSpPr/>
            <p:nvPr/>
          </p:nvSpPr>
          <p:spPr>
            <a:xfrm>
              <a:off x="7680240" y="361944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5b9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69"/>
          <p:cNvGrpSpPr/>
          <p:nvPr/>
        </p:nvGrpSpPr>
        <p:grpSpPr>
          <a:xfrm>
            <a:off x="3575160" y="1317600"/>
            <a:ext cx="8035560" cy="595080"/>
            <a:chOff x="3575160" y="1317600"/>
            <a:chExt cx="8035560" cy="595080"/>
          </a:xfrm>
        </p:grpSpPr>
        <p:sp>
          <p:nvSpPr>
            <p:cNvPr id="1829" name="矩形 27"/>
            <p:cNvSpPr/>
            <p:nvPr/>
          </p:nvSpPr>
          <p:spPr>
            <a:xfrm>
              <a:off x="4352760" y="133128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审计总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圆角矩形 28"/>
            <p:cNvSpPr/>
            <p:nvPr/>
          </p:nvSpPr>
          <p:spPr>
            <a:xfrm>
              <a:off x="3575160" y="140328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43"/>
            <p:cNvSpPr/>
            <p:nvPr/>
          </p:nvSpPr>
          <p:spPr>
            <a:xfrm>
              <a:off x="8370720" y="131760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采购与付款循环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圆角矩形 44"/>
            <p:cNvSpPr/>
            <p:nvPr/>
          </p:nvSpPr>
          <p:spPr>
            <a:xfrm>
              <a:off x="7593120" y="138744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组合 73"/>
          <p:cNvGrpSpPr/>
          <p:nvPr/>
        </p:nvGrpSpPr>
        <p:grpSpPr>
          <a:xfrm>
            <a:off x="3662280" y="4200480"/>
            <a:ext cx="8035920" cy="595080"/>
            <a:chOff x="3662280" y="4200480"/>
            <a:chExt cx="8035920" cy="595080"/>
          </a:xfrm>
        </p:grpSpPr>
        <p:sp>
          <p:nvSpPr>
            <p:cNvPr id="1834" name="矩形 29"/>
            <p:cNvSpPr/>
            <p:nvPr/>
          </p:nvSpPr>
          <p:spPr>
            <a:xfrm>
              <a:off x="4439880" y="421416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销售与收款循环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圆角矩形 30"/>
            <p:cNvSpPr/>
            <p:nvPr/>
          </p:nvSpPr>
          <p:spPr>
            <a:xfrm>
              <a:off x="3662280" y="428616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矩形 45"/>
            <p:cNvSpPr/>
            <p:nvPr/>
          </p:nvSpPr>
          <p:spPr>
            <a:xfrm>
              <a:off x="8458200" y="420048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审计报告的编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圆角矩形 46"/>
            <p:cNvSpPr/>
            <p:nvPr/>
          </p:nvSpPr>
          <p:spPr>
            <a:xfrm>
              <a:off x="7680240" y="4270320"/>
              <a:ext cx="690480" cy="468360"/>
            </a:xfrm>
            <a:prstGeom prst="roundRect">
              <a:avLst>
                <a:gd name="adj" fmla="val 16667"/>
              </a:avLst>
            </a:prstGeom>
            <a:solidFill>
              <a:srgbClr val="00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组合 64"/>
          <p:cNvGrpSpPr/>
          <p:nvPr/>
        </p:nvGrpSpPr>
        <p:grpSpPr>
          <a:xfrm>
            <a:off x="65160" y="2301840"/>
            <a:ext cx="2639880" cy="1785960"/>
            <a:chOff x="65160" y="2301840"/>
            <a:chExt cx="2639880" cy="1785960"/>
          </a:xfrm>
        </p:grpSpPr>
        <p:sp>
          <p:nvSpPr>
            <p:cNvPr id="1839" name="Freeform 6"/>
            <p:cNvSpPr/>
            <p:nvPr/>
          </p:nvSpPr>
          <p:spPr>
            <a:xfrm>
              <a:off x="65160" y="2301840"/>
              <a:ext cx="2639880" cy="1785960"/>
            </a:xfrm>
            <a:prstGeom prst="rect">
              <a:avLst/>
            </a:prstGeom>
            <a:solidFill>
              <a:srgbClr val="ea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文本框 62"/>
            <p:cNvSpPr/>
            <p:nvPr/>
          </p:nvSpPr>
          <p:spPr>
            <a:xfrm>
              <a:off x="258840" y="2625120"/>
              <a:ext cx="22543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目录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"/>
            <p:cNvSpPr/>
            <p:nvPr/>
          </p:nvSpPr>
          <p:spPr>
            <a:xfrm>
              <a:off x="211320" y="2462040"/>
              <a:ext cx="2355480" cy="1484280"/>
            </a:xfrm>
            <a:prstGeom prst="rect">
              <a:avLst/>
            </a:prstGeom>
            <a:noFill/>
            <a:ln w="19080">
              <a:solidFill>
                <a:srgbClr val="7aae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5" name="组合 91"/>
          <p:cNvGrpSpPr/>
          <p:nvPr/>
        </p:nvGrpSpPr>
        <p:grpSpPr>
          <a:xfrm>
            <a:off x="955800" y="549360"/>
            <a:ext cx="10360080" cy="0"/>
            <a:chOff x="955800" y="549360"/>
            <a:chExt cx="10360080" cy="0"/>
          </a:xfrm>
        </p:grpSpPr>
        <p:sp>
          <p:nvSpPr>
            <p:cNvPr id="2136" name="直接连接符 92"/>
            <p:cNvSpPr/>
            <p:nvPr/>
          </p:nvSpPr>
          <p:spPr>
            <a:xfrm>
              <a:off x="95580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直接连接符 93"/>
            <p:cNvSpPr/>
            <p:nvPr/>
          </p:nvSpPr>
          <p:spPr>
            <a:xfrm>
              <a:off x="933660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组合 115"/>
          <p:cNvGrpSpPr/>
          <p:nvPr/>
        </p:nvGrpSpPr>
        <p:grpSpPr>
          <a:xfrm>
            <a:off x="119160" y="4062240"/>
            <a:ext cx="4279680" cy="1446480"/>
            <a:chOff x="119160" y="4062240"/>
            <a:chExt cx="4279680" cy="1446480"/>
          </a:xfrm>
        </p:grpSpPr>
        <p:sp>
          <p:nvSpPr>
            <p:cNvPr id="2139" name="圆角矩形 4"/>
            <p:cNvSpPr/>
            <p:nvPr/>
          </p:nvSpPr>
          <p:spPr>
            <a:xfrm>
              <a:off x="119160" y="4062240"/>
              <a:ext cx="3622320" cy="14464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1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 应付职工薪酬审计目标与财务报表认定的对应关系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90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右箭头 13"/>
            <p:cNvSpPr/>
            <p:nvPr/>
          </p:nvSpPr>
          <p:spPr>
            <a:xfrm>
              <a:off x="3812760" y="4449960"/>
              <a:ext cx="586080" cy="591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组合 116"/>
          <p:cNvGrpSpPr/>
          <p:nvPr/>
        </p:nvGrpSpPr>
        <p:grpSpPr>
          <a:xfrm>
            <a:off x="4468680" y="4118040"/>
            <a:ext cx="3859200" cy="1444680"/>
            <a:chOff x="4468680" y="4118040"/>
            <a:chExt cx="3859200" cy="1444680"/>
          </a:xfrm>
        </p:grpSpPr>
        <p:sp>
          <p:nvSpPr>
            <p:cNvPr id="2142" name="圆角矩形 5"/>
            <p:cNvSpPr/>
            <p:nvPr/>
          </p:nvSpPr>
          <p:spPr>
            <a:xfrm>
              <a:off x="4468680" y="4118040"/>
              <a:ext cx="3324240" cy="14446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15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应付职工薪酬审计程序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9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右箭头 14"/>
            <p:cNvSpPr/>
            <p:nvPr/>
          </p:nvSpPr>
          <p:spPr>
            <a:xfrm>
              <a:off x="7780320" y="4449600"/>
              <a:ext cx="547560" cy="708480"/>
            </a:xfrm>
            <a:prstGeom prst="rightArrow">
              <a:avLst>
                <a:gd name="adj1" fmla="val 30157"/>
                <a:gd name="adj2" fmla="val 60139"/>
              </a:avLst>
            </a:prstGeom>
            <a:solidFill>
              <a:srgbClr val="2f75b4"/>
            </a:solidFill>
            <a:ln w="12600">
              <a:solidFill>
                <a:srgbClr val="5b9b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圆角矩形 6"/>
          <p:cNvSpPr/>
          <p:nvPr/>
        </p:nvSpPr>
        <p:spPr>
          <a:xfrm>
            <a:off x="8327880" y="4118040"/>
            <a:ext cx="3745080" cy="1500120"/>
          </a:xfrm>
          <a:prstGeom prst="roundRect">
            <a:avLst>
              <a:gd name="adj" fmla="val 16667"/>
            </a:avLst>
          </a:prstGeom>
          <a:solidFill>
            <a:srgbClr val="914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应付福利费（职工奖励及福利基金）审定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26"/>
          <p:cNvSpPr/>
          <p:nvPr/>
        </p:nvSpPr>
        <p:spPr>
          <a:xfrm>
            <a:off x="3935520" y="985680"/>
            <a:ext cx="38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6" name="文本框 31" descr=""/>
          <p:cNvPicPr/>
          <p:nvPr/>
        </p:nvPicPr>
        <p:blipFill>
          <a:blip r:embed="rId1"/>
          <a:stretch/>
        </p:blipFill>
        <p:spPr>
          <a:xfrm>
            <a:off x="3216240" y="230040"/>
            <a:ext cx="6083280" cy="652680"/>
          </a:xfrm>
          <a:prstGeom prst="rect">
            <a:avLst/>
          </a:prstGeom>
          <a:ln w="0">
            <a:noFill/>
          </a:ln>
        </p:spPr>
      </p:pic>
      <p:sp>
        <p:nvSpPr>
          <p:cNvPr id="2147" name="矩形 1"/>
          <p:cNvSpPr/>
          <p:nvPr/>
        </p:nvSpPr>
        <p:spPr>
          <a:xfrm>
            <a:off x="839880" y="1876320"/>
            <a:ext cx="73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三、应付职工薪酬审计工作底稿的编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矩形 2"/>
          <p:cNvSpPr/>
          <p:nvPr/>
        </p:nvSpPr>
        <p:spPr>
          <a:xfrm>
            <a:off x="955800" y="2600280"/>
            <a:ext cx="106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付职工薪酬审计工作底稿主要是“应付职工薪酬审定表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文本框 24"/>
          <p:cNvSpPr/>
          <p:nvPr/>
        </p:nvSpPr>
        <p:spPr>
          <a:xfrm>
            <a:off x="438120" y="3263760"/>
            <a:ext cx="33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示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圆角矩形 37"/>
          <p:cNvSpPr/>
          <p:nvPr/>
        </p:nvSpPr>
        <p:spPr>
          <a:xfrm>
            <a:off x="334800" y="1941480"/>
            <a:ext cx="11646000" cy="4751280"/>
          </a:xfrm>
          <a:prstGeom prst="roundRect">
            <a:avLst>
              <a:gd name="adj" fmla="val 0"/>
            </a:avLst>
          </a:prstGeom>
          <a:solidFill>
            <a:srgbClr val="e2f3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itle 6"/>
          <p:cNvSpPr/>
          <p:nvPr/>
        </p:nvSpPr>
        <p:spPr>
          <a:xfrm>
            <a:off x="119160" y="2060640"/>
            <a:ext cx="4473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marL="360360" indent="-360360" algn="just">
              <a:lnSpc>
                <a:spcPct val="150000"/>
              </a:lnSpc>
              <a:spcBef>
                <a:spcPts val="1001"/>
              </a:spcBef>
              <a:buClr>
                <a:srgbClr val="1f4e78"/>
              </a:buClr>
              <a:buSzPct val="12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、</a:t>
            </a:r>
            <a:r>
              <a:rPr b="0" lang="zh-CN" sz="2400" spc="-1" strike="noStrike">
                <a:solidFill>
                  <a:srgbClr val="0000e2"/>
                </a:solidFill>
                <a:latin typeface="微软雅黑"/>
                <a:ea typeface="微软雅黑"/>
              </a:rPr>
              <a:t>营业成本的审计目标  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营业成本是指企业从事对外销售商品、提供劳务或让渡资产使用权等日常活动所发生的实际成本。在开展审计实质性程序前，应确定合理有效的审计目标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2" name="组合 28"/>
          <p:cNvGrpSpPr/>
          <p:nvPr/>
        </p:nvGrpSpPr>
        <p:grpSpPr>
          <a:xfrm>
            <a:off x="915840" y="620640"/>
            <a:ext cx="10359720" cy="0"/>
            <a:chOff x="915840" y="620640"/>
            <a:chExt cx="10359720" cy="0"/>
          </a:xfrm>
        </p:grpSpPr>
        <p:sp>
          <p:nvSpPr>
            <p:cNvPr id="2153" name="直接连接符 52"/>
            <p:cNvSpPr/>
            <p:nvPr/>
          </p:nvSpPr>
          <p:spPr>
            <a:xfrm>
              <a:off x="915840" y="62064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直接连接符 64"/>
            <p:cNvSpPr/>
            <p:nvPr/>
          </p:nvSpPr>
          <p:spPr>
            <a:xfrm>
              <a:off x="9295920" y="62064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5" name="图片 1" descr="&amp;pky8424501714&amp;"/>
          <p:cNvPicPr/>
          <p:nvPr/>
        </p:nvPicPr>
        <p:blipFill>
          <a:blip r:embed="rId1"/>
          <a:srcRect l="4047" t="12043" r="5789" b="7699"/>
          <a:stretch/>
        </p:blipFill>
        <p:spPr>
          <a:xfrm>
            <a:off x="4976640" y="1938240"/>
            <a:ext cx="2775240" cy="4632480"/>
          </a:xfrm>
          <a:prstGeom prst="rect">
            <a:avLst/>
          </a:prstGeom>
          <a:ln w="0">
            <a:noFill/>
          </a:ln>
        </p:spPr>
      </p:pic>
      <p:pic>
        <p:nvPicPr>
          <p:cNvPr id="2156" name="文本框 31" descr=""/>
          <p:cNvPicPr/>
          <p:nvPr/>
        </p:nvPicPr>
        <p:blipFill>
          <a:blip r:embed="rId2"/>
          <a:stretch/>
        </p:blipFill>
        <p:spPr>
          <a:xfrm>
            <a:off x="3187800" y="177840"/>
            <a:ext cx="5862600" cy="652320"/>
          </a:xfrm>
          <a:prstGeom prst="rect">
            <a:avLst/>
          </a:prstGeom>
          <a:ln w="0">
            <a:noFill/>
          </a:ln>
        </p:spPr>
      </p:pic>
      <p:sp>
        <p:nvSpPr>
          <p:cNvPr id="2157" name="文本框 10"/>
          <p:cNvSpPr/>
          <p:nvPr/>
        </p:nvSpPr>
        <p:spPr>
          <a:xfrm>
            <a:off x="4800600" y="11048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itle 6"/>
          <p:cNvSpPr/>
          <p:nvPr/>
        </p:nvSpPr>
        <p:spPr>
          <a:xfrm>
            <a:off x="7967520" y="1938240"/>
            <a:ext cx="388944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marL="360360" indent="-360360" algn="just">
              <a:lnSpc>
                <a:spcPct val="150000"/>
              </a:lnSpc>
              <a:spcBef>
                <a:spcPts val="1001"/>
              </a:spcBef>
              <a:buClr>
                <a:srgbClr val="1f4e78"/>
              </a:buClr>
              <a:buSzPct val="12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e2"/>
                </a:solidFill>
                <a:latin typeface="微软雅黑"/>
                <a:ea typeface="微软雅黑"/>
              </a:rPr>
              <a:t>二、营业成本审计的实质性程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安排营业成本审计程序时，审计人员可以根据具体情况增加或减少相应审计 程序，并把对常规审计程序的修改记录在审计程序表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9" name="直接箭头连接符 3"/>
          <p:cNvCxnSpPr/>
          <p:nvPr/>
        </p:nvCxnSpPr>
        <p:spPr>
          <a:xfrm flipV="1">
            <a:off x="6887880" y="3009240"/>
            <a:ext cx="1375560" cy="29160"/>
          </a:xfrm>
          <a:prstGeom prst="straightConnector1">
            <a:avLst/>
          </a:prstGeom>
          <a:ln w="6480">
            <a:solidFill>
              <a:srgbClr val="1f4e78"/>
            </a:solidFill>
            <a:miter/>
            <a:tailEnd len="med" type="triangle" w="med"/>
          </a:ln>
        </p:spPr>
      </p:cxnSp>
      <p:cxnSp>
        <p:nvCxnSpPr>
          <p:cNvPr id="2160" name="直接箭头连接符 19"/>
          <p:cNvCxnSpPr/>
          <p:nvPr/>
        </p:nvCxnSpPr>
        <p:spPr>
          <a:xfrm flipH="1">
            <a:off x="4592160" y="2421000"/>
            <a:ext cx="1504080" cy="16560"/>
          </a:xfrm>
          <a:prstGeom prst="straightConnector1">
            <a:avLst/>
          </a:prstGeom>
          <a:ln w="6480">
            <a:solidFill>
              <a:srgbClr val="00a7d6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1" name="组合 91"/>
          <p:cNvGrpSpPr/>
          <p:nvPr/>
        </p:nvGrpSpPr>
        <p:grpSpPr>
          <a:xfrm>
            <a:off x="955800" y="549360"/>
            <a:ext cx="10360080" cy="0"/>
            <a:chOff x="955800" y="549360"/>
            <a:chExt cx="10360080" cy="0"/>
          </a:xfrm>
        </p:grpSpPr>
        <p:sp>
          <p:nvSpPr>
            <p:cNvPr id="2162" name="直接连接符 92"/>
            <p:cNvSpPr/>
            <p:nvPr/>
          </p:nvSpPr>
          <p:spPr>
            <a:xfrm>
              <a:off x="95580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直接连接符 93"/>
            <p:cNvSpPr/>
            <p:nvPr/>
          </p:nvSpPr>
          <p:spPr>
            <a:xfrm>
              <a:off x="933660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圆角矩形 4"/>
          <p:cNvSpPr/>
          <p:nvPr/>
        </p:nvSpPr>
        <p:spPr>
          <a:xfrm>
            <a:off x="695160" y="3836880"/>
            <a:ext cx="5059440" cy="11638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 营业成本审计目标与财务报表认定的对应关系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圆角矩形 5"/>
          <p:cNvSpPr/>
          <p:nvPr/>
        </p:nvSpPr>
        <p:spPr>
          <a:xfrm>
            <a:off x="6581880" y="4029120"/>
            <a:ext cx="4338360" cy="1098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营业成本审计程序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圆角矩形 6"/>
          <p:cNvSpPr/>
          <p:nvPr/>
        </p:nvSpPr>
        <p:spPr>
          <a:xfrm>
            <a:off x="6581880" y="5497560"/>
            <a:ext cx="4335480" cy="1076400"/>
          </a:xfrm>
          <a:prstGeom prst="roundRect">
            <a:avLst>
              <a:gd name="adj" fmla="val 16667"/>
            </a:avLst>
          </a:prstGeom>
          <a:solidFill>
            <a:srgbClr val="914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营业成本审定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文本框 26"/>
          <p:cNvSpPr/>
          <p:nvPr/>
        </p:nvSpPr>
        <p:spPr>
          <a:xfrm>
            <a:off x="3933720" y="974880"/>
            <a:ext cx="39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矩形 1"/>
          <p:cNvSpPr/>
          <p:nvPr/>
        </p:nvSpPr>
        <p:spPr>
          <a:xfrm>
            <a:off x="550800" y="1638360"/>
            <a:ext cx="76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三、营业成本审计工作底稿的编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矩形 2"/>
          <p:cNvSpPr/>
          <p:nvPr/>
        </p:nvSpPr>
        <p:spPr>
          <a:xfrm>
            <a:off x="608040" y="2224080"/>
            <a:ext cx="112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营业成本审计工作底稿主要包括“营业成本审定表”和“营业收入与营业成 本分析表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0" name="文本框 31" descr=""/>
          <p:cNvPicPr/>
          <p:nvPr/>
        </p:nvPicPr>
        <p:blipFill>
          <a:blip r:embed="rId1"/>
          <a:stretch/>
        </p:blipFill>
        <p:spPr>
          <a:xfrm>
            <a:off x="3187800" y="177840"/>
            <a:ext cx="5862600" cy="652320"/>
          </a:xfrm>
          <a:prstGeom prst="rect">
            <a:avLst/>
          </a:prstGeom>
          <a:ln w="0">
            <a:noFill/>
          </a:ln>
        </p:spPr>
      </p:pic>
      <p:sp>
        <p:nvSpPr>
          <p:cNvPr id="2171" name="文本框 16"/>
          <p:cNvSpPr/>
          <p:nvPr/>
        </p:nvSpPr>
        <p:spPr>
          <a:xfrm>
            <a:off x="209520" y="3133800"/>
            <a:ext cx="37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示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右箭头 14"/>
          <p:cNvSpPr/>
          <p:nvPr/>
        </p:nvSpPr>
        <p:spPr>
          <a:xfrm>
            <a:off x="5818320" y="4346640"/>
            <a:ext cx="682560" cy="409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2600">
            <a:solidFill>
              <a:srgbClr val="5b9b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右箭头 14"/>
          <p:cNvSpPr/>
          <p:nvPr/>
        </p:nvSpPr>
        <p:spPr>
          <a:xfrm rot="10800000">
            <a:off x="5753160" y="5759280"/>
            <a:ext cx="682560" cy="409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914f96"/>
          </a:solidFill>
          <a:ln w="12600">
            <a:solidFill>
              <a:srgbClr val="5b9b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圆角矩形 4"/>
          <p:cNvSpPr/>
          <p:nvPr/>
        </p:nvSpPr>
        <p:spPr>
          <a:xfrm>
            <a:off x="550800" y="5462640"/>
            <a:ext cx="5059440" cy="1195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2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营业收入与营业成本分析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圆角右箭头 19"/>
          <p:cNvSpPr/>
          <p:nvPr/>
        </p:nvSpPr>
        <p:spPr>
          <a:xfrm rot="7329600">
            <a:off x="10733760" y="4831560"/>
            <a:ext cx="1041120" cy="884160"/>
          </a:xfrm>
          <a:custGeom>
            <a:avLst/>
            <a:gdLst/>
            <a:ahLst/>
            <a:rect l="l" t="t" r="r" b="b"/>
            <a:pathLst>
              <a:path w="1041400" h="884237">
                <a:moveTo>
                  <a:pt x="0" y="884237"/>
                </a:moveTo>
                <a:lnTo>
                  <a:pt x="0" y="497383"/>
                </a:lnTo>
                <a:cubicBezTo>
                  <a:pt x="0" y="283730"/>
                  <a:pt x="173200" y="110530"/>
                  <a:pt x="386853" y="110530"/>
                </a:cubicBezTo>
                <a:lnTo>
                  <a:pt x="820340" y="110529"/>
                </a:lnTo>
                <a:lnTo>
                  <a:pt x="820340" y="0"/>
                </a:lnTo>
                <a:lnTo>
                  <a:pt x="1041400" y="221059"/>
                </a:lnTo>
                <a:lnTo>
                  <a:pt x="820340" y="442118"/>
                </a:lnTo>
                <a:lnTo>
                  <a:pt x="820340" y="331589"/>
                </a:lnTo>
                <a:lnTo>
                  <a:pt x="386853" y="331589"/>
                </a:lnTo>
                <a:cubicBezTo>
                  <a:pt x="295288" y="331589"/>
                  <a:pt x="221059" y="405818"/>
                  <a:pt x="221059" y="497383"/>
                </a:cubicBezTo>
                <a:lnTo>
                  <a:pt x="221059" y="884237"/>
                </a:lnTo>
                <a:close/>
              </a:path>
            </a:pathLst>
          </a:custGeom>
          <a:solidFill>
            <a:srgbClr val="555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665320" y="2612520"/>
            <a:ext cx="59785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5b9bd4"/>
                </a:solidFill>
                <a:latin typeface="Bodoni MT Black"/>
              </a:rPr>
              <a:t>THANKS</a:t>
            </a:r>
            <a:endParaRPr b="1" lang="en-US" sz="8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833" fill="hold">
                                          <p:stCondLst>
                                            <p:cond delay="167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(1+0.4*sin(2.5*pi*$)*(1-$)^3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(1+0.4*sin(2.5*pi*$)*(1-$)^3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0.5*height+0.5*height" tm="0">
                                          <p:val>
                                            <p:fltVal val="0"/>
                                          </p:val>
                                        </p:tav>
                                        <p:tav fmla="y-0.5*height+0.5*height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$^2*height" tm="0">
                                          <p:val>
                                            <p:fltVal val="0"/>
                                          </p:val>
                                        </p:tav>
                                        <p:tav fmla="$^2*height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文本框 2"/>
          <p:cNvSpPr/>
          <p:nvPr/>
        </p:nvSpPr>
        <p:spPr>
          <a:xfrm>
            <a:off x="77760" y="2784600"/>
            <a:ext cx="22114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学习目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组合 7"/>
          <p:cNvGrpSpPr/>
          <p:nvPr/>
        </p:nvGrpSpPr>
        <p:grpSpPr>
          <a:xfrm>
            <a:off x="2289240" y="676440"/>
            <a:ext cx="9377280" cy="5636880"/>
            <a:chOff x="2289240" y="676440"/>
            <a:chExt cx="9377280" cy="5636880"/>
          </a:xfrm>
        </p:grpSpPr>
        <p:sp>
          <p:nvSpPr>
            <p:cNvPr id="1844" name="矩形 3"/>
            <p:cNvSpPr/>
            <p:nvPr/>
          </p:nvSpPr>
          <p:spPr>
            <a:xfrm>
              <a:off x="2289240" y="676440"/>
              <a:ext cx="9377280" cy="563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矩形: 剪去对角 4"/>
            <p:cNvSpPr/>
            <p:nvPr/>
          </p:nvSpPr>
          <p:spPr>
            <a:xfrm>
              <a:off x="2558160" y="970560"/>
              <a:ext cx="8782560" cy="5079240"/>
            </a:xfrm>
            <a:custGeom>
              <a:avLst/>
              <a:gdLst/>
              <a:ahLst/>
              <a:rect l="l" t="t" r="r" b="b"/>
              <a:pathLst>
                <a:path w="11300" h="8959">
                  <a:moveTo>
                    <a:pt x="754" y="0"/>
                  </a:moveTo>
                  <a:lnTo>
                    <a:pt x="11300" y="0"/>
                  </a:lnTo>
                  <a:lnTo>
                    <a:pt x="11300" y="0"/>
                  </a:lnTo>
                  <a:lnTo>
                    <a:pt x="11300" y="8204"/>
                  </a:lnTo>
                  <a:lnTo>
                    <a:pt x="10545" y="8959"/>
                  </a:lnTo>
                  <a:lnTo>
                    <a:pt x="0" y="8959"/>
                  </a:lnTo>
                  <a:lnTo>
                    <a:pt x="0" y="8959"/>
                  </a:lnTo>
                  <a:lnTo>
                    <a:pt x="0" y="7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6" name="图片 8" descr=""/>
          <p:cNvPicPr/>
          <p:nvPr/>
        </p:nvPicPr>
        <p:blipFill>
          <a:blip r:embed="rId2"/>
          <a:stretch/>
        </p:blipFill>
        <p:spPr>
          <a:xfrm rot="6720000">
            <a:off x="3204720" y="900000"/>
            <a:ext cx="838440" cy="682560"/>
          </a:xfrm>
          <a:prstGeom prst="rect">
            <a:avLst/>
          </a:prstGeom>
          <a:ln w="0">
            <a:noFill/>
          </a:ln>
        </p:spPr>
      </p:pic>
      <p:pic>
        <p:nvPicPr>
          <p:cNvPr id="1847" name="图片 9" descr=""/>
          <p:cNvPicPr/>
          <p:nvPr/>
        </p:nvPicPr>
        <p:blipFill>
          <a:blip r:embed="rId3"/>
          <a:stretch/>
        </p:blipFill>
        <p:spPr>
          <a:xfrm>
            <a:off x="10834560" y="5362560"/>
            <a:ext cx="733680" cy="673200"/>
          </a:xfrm>
          <a:prstGeom prst="rect">
            <a:avLst/>
          </a:prstGeom>
          <a:ln w="0">
            <a:noFill/>
          </a:ln>
        </p:spPr>
      </p:pic>
      <p:sp>
        <p:nvSpPr>
          <p:cNvPr id="1848" name="文本框 11"/>
          <p:cNvSpPr/>
          <p:nvPr/>
        </p:nvSpPr>
        <p:spPr>
          <a:xfrm>
            <a:off x="2639880" y="1341360"/>
            <a:ext cx="8359920" cy="25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094"/>
                </a:solidFill>
                <a:latin typeface="微软雅黑"/>
                <a:ea typeface="微软雅黑"/>
              </a:rPr>
              <a:t>【知识目标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存货与仓储循环的主要业务活动及其掌握存货的审计目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理解成本会计的内部控制，掌握营业成本的审计目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理解工薪的内部控制，掌握应付职工薪酬的审计目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9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文本框 2"/>
          <p:cNvSpPr/>
          <p:nvPr/>
        </p:nvSpPr>
        <p:spPr>
          <a:xfrm>
            <a:off x="77760" y="2784600"/>
            <a:ext cx="22114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学习目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组合 7"/>
          <p:cNvGrpSpPr/>
          <p:nvPr/>
        </p:nvGrpSpPr>
        <p:grpSpPr>
          <a:xfrm>
            <a:off x="2558880" y="565200"/>
            <a:ext cx="9080640" cy="6176880"/>
            <a:chOff x="2558880" y="565200"/>
            <a:chExt cx="9080640" cy="6176880"/>
          </a:xfrm>
        </p:grpSpPr>
        <p:sp>
          <p:nvSpPr>
            <p:cNvPr id="1852" name="矩形 3"/>
            <p:cNvSpPr/>
            <p:nvPr/>
          </p:nvSpPr>
          <p:spPr>
            <a:xfrm>
              <a:off x="2558880" y="565200"/>
              <a:ext cx="9080640" cy="617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矩形: 剪去对角 4"/>
            <p:cNvSpPr/>
            <p:nvPr/>
          </p:nvSpPr>
          <p:spPr>
            <a:xfrm>
              <a:off x="2819160" y="887400"/>
              <a:ext cx="8504640" cy="5565600"/>
            </a:xfrm>
            <a:custGeom>
              <a:avLst/>
              <a:gdLst/>
              <a:ahLst/>
              <a:rect l="l" t="t" r="r" b="b"/>
              <a:pathLst>
                <a:path w="11300" h="8959">
                  <a:moveTo>
                    <a:pt x="754" y="0"/>
                  </a:moveTo>
                  <a:lnTo>
                    <a:pt x="11300" y="0"/>
                  </a:lnTo>
                  <a:lnTo>
                    <a:pt x="11300" y="0"/>
                  </a:lnTo>
                  <a:lnTo>
                    <a:pt x="11300" y="8204"/>
                  </a:lnTo>
                  <a:lnTo>
                    <a:pt x="10545" y="8959"/>
                  </a:lnTo>
                  <a:lnTo>
                    <a:pt x="0" y="8959"/>
                  </a:lnTo>
                  <a:lnTo>
                    <a:pt x="0" y="8959"/>
                  </a:lnTo>
                  <a:lnTo>
                    <a:pt x="0" y="7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4" name="图片 8" descr=""/>
          <p:cNvPicPr/>
          <p:nvPr/>
        </p:nvPicPr>
        <p:blipFill>
          <a:blip r:embed="rId2"/>
          <a:stretch/>
        </p:blipFill>
        <p:spPr>
          <a:xfrm rot="6720000">
            <a:off x="3204720" y="900000"/>
            <a:ext cx="838440" cy="682560"/>
          </a:xfrm>
          <a:prstGeom prst="rect">
            <a:avLst/>
          </a:prstGeom>
          <a:ln w="0">
            <a:noFill/>
          </a:ln>
        </p:spPr>
      </p:pic>
      <p:pic>
        <p:nvPicPr>
          <p:cNvPr id="1855" name="图片 9" descr=""/>
          <p:cNvPicPr/>
          <p:nvPr/>
        </p:nvPicPr>
        <p:blipFill>
          <a:blip r:embed="rId3"/>
          <a:stretch/>
        </p:blipFill>
        <p:spPr>
          <a:xfrm>
            <a:off x="10834560" y="5362560"/>
            <a:ext cx="733680" cy="673200"/>
          </a:xfrm>
          <a:prstGeom prst="rect">
            <a:avLst/>
          </a:prstGeom>
          <a:ln w="0">
            <a:noFill/>
          </a:ln>
        </p:spPr>
      </p:pic>
      <p:sp>
        <p:nvSpPr>
          <p:cNvPr id="1856" name="文本框 5"/>
          <p:cNvSpPr/>
          <p:nvPr/>
        </p:nvSpPr>
        <p:spPr>
          <a:xfrm>
            <a:off x="2819520" y="1460520"/>
            <a:ext cx="8794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094"/>
                </a:solidFill>
                <a:latin typeface="微软雅黑"/>
                <a:ea typeface="微软雅黑"/>
              </a:rPr>
              <a:t>【能力目标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开展存货与仓储循环的控制测试，能熟练编制存货审计工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会营业成本审计的实质性程序，会收集充分恰当的审计证据，能熟练编制营业成本审计工作底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会应付职工薪酬审计的实质性程序，会收集充分恰当的审计证据，能熟练编制应付职工薪酬审计工作底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7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文本框 2"/>
          <p:cNvSpPr/>
          <p:nvPr/>
        </p:nvSpPr>
        <p:spPr>
          <a:xfrm>
            <a:off x="77760" y="2784600"/>
            <a:ext cx="22114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学习目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9" name="组合 7"/>
          <p:cNvGrpSpPr/>
          <p:nvPr/>
        </p:nvGrpSpPr>
        <p:grpSpPr>
          <a:xfrm>
            <a:off x="2217600" y="625320"/>
            <a:ext cx="9896760" cy="6010560"/>
            <a:chOff x="2217600" y="625320"/>
            <a:chExt cx="9896760" cy="6010560"/>
          </a:xfrm>
        </p:grpSpPr>
        <p:sp>
          <p:nvSpPr>
            <p:cNvPr id="1860" name="矩形 3"/>
            <p:cNvSpPr/>
            <p:nvPr/>
          </p:nvSpPr>
          <p:spPr>
            <a:xfrm>
              <a:off x="2217600" y="625320"/>
              <a:ext cx="9896760" cy="601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矩形: 剪去对角 4"/>
            <p:cNvSpPr/>
            <p:nvPr/>
          </p:nvSpPr>
          <p:spPr>
            <a:xfrm>
              <a:off x="2501280" y="938880"/>
              <a:ext cx="9269280" cy="5415840"/>
            </a:xfrm>
            <a:custGeom>
              <a:avLst/>
              <a:gdLst/>
              <a:ahLst/>
              <a:rect l="l" t="t" r="r" b="b"/>
              <a:pathLst>
                <a:path w="11300" h="8959">
                  <a:moveTo>
                    <a:pt x="754" y="0"/>
                  </a:moveTo>
                  <a:lnTo>
                    <a:pt x="11300" y="0"/>
                  </a:lnTo>
                  <a:lnTo>
                    <a:pt x="11300" y="0"/>
                  </a:lnTo>
                  <a:lnTo>
                    <a:pt x="11300" y="8204"/>
                  </a:lnTo>
                  <a:lnTo>
                    <a:pt x="10545" y="8959"/>
                  </a:lnTo>
                  <a:lnTo>
                    <a:pt x="0" y="8959"/>
                  </a:lnTo>
                  <a:lnTo>
                    <a:pt x="0" y="8959"/>
                  </a:lnTo>
                  <a:lnTo>
                    <a:pt x="0" y="7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2" name="图片 8" descr=""/>
          <p:cNvPicPr/>
          <p:nvPr/>
        </p:nvPicPr>
        <p:blipFill>
          <a:blip r:embed="rId2"/>
          <a:stretch/>
        </p:blipFill>
        <p:spPr>
          <a:xfrm rot="6720000">
            <a:off x="3204720" y="900000"/>
            <a:ext cx="838440" cy="682560"/>
          </a:xfrm>
          <a:prstGeom prst="rect">
            <a:avLst/>
          </a:prstGeom>
          <a:ln w="0">
            <a:noFill/>
          </a:ln>
        </p:spPr>
      </p:pic>
      <p:pic>
        <p:nvPicPr>
          <p:cNvPr id="1863" name="图片 9" descr=""/>
          <p:cNvPicPr/>
          <p:nvPr/>
        </p:nvPicPr>
        <p:blipFill>
          <a:blip r:embed="rId3"/>
          <a:stretch/>
        </p:blipFill>
        <p:spPr>
          <a:xfrm>
            <a:off x="10834560" y="5362560"/>
            <a:ext cx="733680" cy="673200"/>
          </a:xfrm>
          <a:prstGeom prst="rect">
            <a:avLst/>
          </a:prstGeom>
          <a:ln w="0">
            <a:noFill/>
          </a:ln>
        </p:spPr>
      </p:pic>
      <p:sp>
        <p:nvSpPr>
          <p:cNvPr id="1864" name="文本框 6"/>
          <p:cNvSpPr/>
          <p:nvPr/>
        </p:nvSpPr>
        <p:spPr>
          <a:xfrm>
            <a:off x="2257560" y="2282760"/>
            <a:ext cx="9856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5094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175094"/>
                </a:solidFill>
                <a:latin typeface="微软雅黑"/>
                <a:ea typeface="微软雅黑"/>
              </a:rPr>
              <a:t>【素养目标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学生树立廉政精神，防腐防变，争做促进国民经济健康发展的经济卫士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学生自主学习能力，提高审计创新精神，增强审计分析问题、判断问题能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文本框 2"/>
          <p:cNvSpPr/>
          <p:nvPr/>
        </p:nvSpPr>
        <p:spPr>
          <a:xfrm>
            <a:off x="52560" y="2449440"/>
            <a:ext cx="259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项目引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组合 7"/>
          <p:cNvGrpSpPr/>
          <p:nvPr/>
        </p:nvGrpSpPr>
        <p:grpSpPr>
          <a:xfrm>
            <a:off x="2208240" y="115920"/>
            <a:ext cx="9864720" cy="6626160"/>
            <a:chOff x="2208240" y="115920"/>
            <a:chExt cx="9864720" cy="6626160"/>
          </a:xfrm>
        </p:grpSpPr>
        <p:sp>
          <p:nvSpPr>
            <p:cNvPr id="1868" name="矩形 3"/>
            <p:cNvSpPr/>
            <p:nvPr/>
          </p:nvSpPr>
          <p:spPr>
            <a:xfrm>
              <a:off x="2208240" y="115920"/>
              <a:ext cx="9864720" cy="6626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矩形: 剪去对角 4"/>
            <p:cNvSpPr/>
            <p:nvPr/>
          </p:nvSpPr>
          <p:spPr>
            <a:xfrm>
              <a:off x="2564280" y="755280"/>
              <a:ext cx="9183600" cy="5437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在某机场审计案例中，审计人员发现该机场建设管理混乱，工程 招投标流于形式，工程造价存在虚高的风险。同时，由于该机场项目属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0" name="图片 8" descr=""/>
          <p:cNvPicPr/>
          <p:nvPr/>
        </p:nvPicPr>
        <p:blipFill>
          <a:blip r:embed="rId2"/>
          <a:stretch/>
        </p:blipFill>
        <p:spPr>
          <a:xfrm rot="6720000">
            <a:off x="3215880" y="1816200"/>
            <a:ext cx="838080" cy="682560"/>
          </a:xfrm>
          <a:prstGeom prst="rect">
            <a:avLst/>
          </a:prstGeom>
          <a:ln w="0">
            <a:noFill/>
          </a:ln>
        </p:spPr>
      </p:pic>
      <p:pic>
        <p:nvPicPr>
          <p:cNvPr id="1871" name="图片 9" descr=""/>
          <p:cNvPicPr/>
          <p:nvPr/>
        </p:nvPicPr>
        <p:blipFill>
          <a:blip r:embed="rId3"/>
          <a:stretch/>
        </p:blipFill>
        <p:spPr>
          <a:xfrm>
            <a:off x="10769760" y="4371840"/>
            <a:ext cx="733320" cy="67320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5"/>
          <p:cNvSpPr/>
          <p:nvPr/>
        </p:nvSpPr>
        <p:spPr>
          <a:xfrm>
            <a:off x="2563920" y="1046160"/>
            <a:ext cx="91486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ctr">
            <a:no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江南市审计局对三华工厂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的期终会计资料进 行审计时，发现接近结账日所发生的业务事项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      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. 2019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收到价值为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 000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元的货物，收到发票和登 账日期为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4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，发票上注明由供货商负责运送，目的地交货，开 票日期为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6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当实地盘点时，本工厂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包价值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8 000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元的产品已放在装运 处，因包装纸上注明“有待运发”字样而未计入存货内，经调查发现， 顾客的订货单日期为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，顾客于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4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 收到货物才付款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3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文本框 2"/>
          <p:cNvSpPr/>
          <p:nvPr/>
        </p:nvSpPr>
        <p:spPr>
          <a:xfrm>
            <a:off x="0" y="2565360"/>
            <a:ext cx="259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项目引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5" name="组合 7"/>
          <p:cNvGrpSpPr/>
          <p:nvPr/>
        </p:nvGrpSpPr>
        <p:grpSpPr>
          <a:xfrm>
            <a:off x="2274840" y="415800"/>
            <a:ext cx="9709200" cy="6270840"/>
            <a:chOff x="2274840" y="415800"/>
            <a:chExt cx="9709200" cy="6270840"/>
          </a:xfrm>
        </p:grpSpPr>
        <p:sp>
          <p:nvSpPr>
            <p:cNvPr id="1876" name="矩形 3"/>
            <p:cNvSpPr/>
            <p:nvPr/>
          </p:nvSpPr>
          <p:spPr>
            <a:xfrm>
              <a:off x="2274840" y="415800"/>
              <a:ext cx="9709200" cy="6270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矩形: 剪去对角 4"/>
            <p:cNvSpPr/>
            <p:nvPr/>
          </p:nvSpPr>
          <p:spPr>
            <a:xfrm>
              <a:off x="2625120" y="1020960"/>
              <a:ext cx="9038880" cy="51458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在某机场审计案例中，审计人员发现该机场建设管理混乱，工程 招投标流于形式，工程造价存在虚高的风险。同时，由于该机场项目属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8" name="图片 8" descr=""/>
          <p:cNvPicPr/>
          <p:nvPr/>
        </p:nvPicPr>
        <p:blipFill>
          <a:blip r:embed="rId2"/>
          <a:stretch/>
        </p:blipFill>
        <p:spPr>
          <a:xfrm rot="6720000">
            <a:off x="3215880" y="1816200"/>
            <a:ext cx="838080" cy="68256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9" descr=""/>
          <p:cNvPicPr/>
          <p:nvPr/>
        </p:nvPicPr>
        <p:blipFill>
          <a:blip r:embed="rId3"/>
          <a:stretch/>
        </p:blipFill>
        <p:spPr>
          <a:xfrm>
            <a:off x="10769760" y="4371840"/>
            <a:ext cx="733320" cy="673200"/>
          </a:xfrm>
          <a:prstGeom prst="rect">
            <a:avLst/>
          </a:prstGeom>
          <a:ln w="0">
            <a:noFill/>
          </a:ln>
        </p:spPr>
      </p:pic>
      <p:sp>
        <p:nvSpPr>
          <p:cNvPr id="1880" name="文本框 5"/>
          <p:cNvSpPr/>
          <p:nvPr/>
        </p:nvSpPr>
        <p:spPr>
          <a:xfrm>
            <a:off x="2570040" y="1490760"/>
            <a:ext cx="914904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ctr">
            <a:no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. 2019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6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收到价值为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700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元的物品，并于当天登记入 账，该物品于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按供货商离厂交货条件运送，因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尚未收到，故未计入结账日存货。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4.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按顾客特殊订单制作的某产品，于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完工并 送装运部门，顾客已于该日付款。该产品于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5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送出， 但未包括在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的存货内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1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组合 216"/>
          <p:cNvGrpSpPr/>
          <p:nvPr/>
        </p:nvGrpSpPr>
        <p:grpSpPr>
          <a:xfrm>
            <a:off x="2363760" y="830160"/>
            <a:ext cx="9217080" cy="5629320"/>
            <a:chOff x="2363760" y="830160"/>
            <a:chExt cx="9217080" cy="5629320"/>
          </a:xfrm>
        </p:grpSpPr>
        <p:sp>
          <p:nvSpPr>
            <p:cNvPr id="1883" name="矩形 217"/>
            <p:cNvSpPr/>
            <p:nvPr/>
          </p:nvSpPr>
          <p:spPr>
            <a:xfrm>
              <a:off x="2364120" y="830160"/>
              <a:ext cx="9216720" cy="562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e10d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提出提出问题：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工作涉及哪些业务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一定要 认真复核具体数据，需要取证的是否可以忽略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，是否允许注册会计师接触与编制财务报表相关的所有 信息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记录、文件和其他事项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注册会计师在发表审计意见时，是否可以保持独立性而不受到 干扰？ 带着这些问题，让我们进入本项目的学习领域。问题：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工作涉及哪些业务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一定要 认真复核具体数据，需要取证的是否可以忽略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，是否允许注册会计师接触与编制财务报表相关的所有 信息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记录、文件和其他事项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注册会计师在发表审计意见时，是否可以保持独立性而不受到 干扰？ 带着这些问题，让我们进入本项目的学习领域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斜纹 218"/>
            <p:cNvSpPr/>
            <p:nvPr/>
          </p:nvSpPr>
          <p:spPr>
            <a:xfrm rot="5400000">
              <a:off x="10998720" y="887040"/>
              <a:ext cx="637920" cy="523800"/>
            </a:xfrm>
            <a:custGeom>
              <a:avLst/>
              <a:gdLst/>
              <a:ahLst/>
              <a:rect l="l" t="t" r="r" b="b"/>
              <a:pathLst>
                <a:path w="894" h="899">
                  <a:moveTo>
                    <a:pt x="0" y="348"/>
                  </a:moveTo>
                  <a:lnTo>
                    <a:pt x="346" y="0"/>
                  </a:lnTo>
                  <a:lnTo>
                    <a:pt x="894" y="0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斜纹 219"/>
            <p:cNvSpPr/>
            <p:nvPr/>
          </p:nvSpPr>
          <p:spPr>
            <a:xfrm rot="16200000">
              <a:off x="2305800" y="5879880"/>
              <a:ext cx="636480" cy="520560"/>
            </a:xfrm>
            <a:custGeom>
              <a:avLst/>
              <a:gdLst/>
              <a:ahLst/>
              <a:rect l="l" t="t" r="r" b="b"/>
              <a:pathLst>
                <a:path w="892" h="893">
                  <a:moveTo>
                    <a:pt x="0" y="346"/>
                  </a:moveTo>
                  <a:lnTo>
                    <a:pt x="345" y="0"/>
                  </a:lnTo>
                  <a:lnTo>
                    <a:pt x="892" y="0"/>
                  </a:lnTo>
                  <a:lnTo>
                    <a:pt x="0" y="893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6" name="文本框 6"/>
          <p:cNvSpPr/>
          <p:nvPr/>
        </p:nvSpPr>
        <p:spPr>
          <a:xfrm>
            <a:off x="263520" y="2970360"/>
            <a:ext cx="25495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引例分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矩形 1"/>
          <p:cNvSpPr/>
          <p:nvPr/>
        </p:nvSpPr>
        <p:spPr>
          <a:xfrm>
            <a:off x="2495520" y="949320"/>
            <a:ext cx="9010800" cy="32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要求：请分析上述四种情况中的物品，是否应包括在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日的存货内，并说明理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分析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1.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不应包括在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的存货内，因目的地交货，交货期为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，应以收到货物为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应包括在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的存货内，因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4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日收到货物才付款，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既未开票也未发出货物，物权并未转移，销售不能成立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8" name="图片 7" descr="&amp;pky8040249173&amp;"/>
          <p:cNvPicPr/>
          <p:nvPr/>
        </p:nvPicPr>
        <p:blipFill>
          <a:blip r:embed="rId2"/>
          <a:srcRect l="5404" t="13137" r="53113" b="0"/>
          <a:stretch/>
        </p:blipFill>
        <p:spPr>
          <a:xfrm>
            <a:off x="192240" y="3479760"/>
            <a:ext cx="1947600" cy="246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组合 216"/>
          <p:cNvGrpSpPr/>
          <p:nvPr/>
        </p:nvGrpSpPr>
        <p:grpSpPr>
          <a:xfrm>
            <a:off x="2711520" y="700200"/>
            <a:ext cx="8640720" cy="5111280"/>
            <a:chOff x="2711520" y="700200"/>
            <a:chExt cx="8640720" cy="5111280"/>
          </a:xfrm>
        </p:grpSpPr>
        <p:sp>
          <p:nvSpPr>
            <p:cNvPr id="1890" name="矩形 217"/>
            <p:cNvSpPr/>
            <p:nvPr/>
          </p:nvSpPr>
          <p:spPr>
            <a:xfrm>
              <a:off x="2712600" y="700560"/>
              <a:ext cx="8639640" cy="5110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e10d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提出提出问题：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工作涉及哪些业务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一定要 认真复核具体数据，需要取证的是否可以忽略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，是否允许注册会计师接触与编制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财务报表相关的所有 信息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记录、文件和其他事项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注册会计师在发表审计意见时，是否可以保持独立性而不受到 干扰？ 带着这些问题，让我们进入本项目的学习领域。问题：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工作涉及哪些业务？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一定要 认真复核具体数据，需要取证的是否可以忽略？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，是否允许注册会计师接触与编制财务报表相关的所有 信息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记录、文件和其他事项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注册会计师在发表审计意见时，是否可以保持独立性而不受到 干扰？ 带着这些问题，让我们进入本项目的学习领域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斜纹 218"/>
            <p:cNvSpPr/>
            <p:nvPr/>
          </p:nvSpPr>
          <p:spPr>
            <a:xfrm rot="5400000">
              <a:off x="10816200" y="744840"/>
              <a:ext cx="579240" cy="489960"/>
            </a:xfrm>
            <a:custGeom>
              <a:avLst/>
              <a:gdLst/>
              <a:ahLst/>
              <a:rect l="l" t="t" r="r" b="b"/>
              <a:pathLst>
                <a:path w="894" h="897">
                  <a:moveTo>
                    <a:pt x="0" y="347"/>
                  </a:moveTo>
                  <a:lnTo>
                    <a:pt x="346" y="0"/>
                  </a:lnTo>
                  <a:lnTo>
                    <a:pt x="894" y="0"/>
                  </a:lnTo>
                  <a:lnTo>
                    <a:pt x="0" y="897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斜纹 219"/>
            <p:cNvSpPr/>
            <p:nvPr/>
          </p:nvSpPr>
          <p:spPr>
            <a:xfrm rot="16200000">
              <a:off x="2666160" y="5276880"/>
              <a:ext cx="579240" cy="488880"/>
            </a:xfrm>
            <a:custGeom>
              <a:avLst/>
              <a:gdLst/>
              <a:ahLst/>
              <a:rect l="l" t="t" r="r" b="b"/>
              <a:pathLst>
                <a:path w="894" h="895">
                  <a:moveTo>
                    <a:pt x="0" y="347"/>
                  </a:moveTo>
                  <a:lnTo>
                    <a:pt x="346" y="0"/>
                  </a:lnTo>
                  <a:lnTo>
                    <a:pt x="894" y="0"/>
                  </a:lnTo>
                  <a:lnTo>
                    <a:pt x="0" y="895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3" name="文本框 6"/>
          <p:cNvSpPr/>
          <p:nvPr/>
        </p:nvSpPr>
        <p:spPr>
          <a:xfrm>
            <a:off x="263520" y="2970360"/>
            <a:ext cx="25495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引例分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矩形 1"/>
          <p:cNvSpPr/>
          <p:nvPr/>
        </p:nvSpPr>
        <p:spPr>
          <a:xfrm>
            <a:off x="2711520" y="1413000"/>
            <a:ext cx="875808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     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.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如果已付款并已收到发票账单，就应计入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存货内（属 于在途物资），因属离厂交货，交货后就已属本企业存货。但如果未收到发票账单且未付款，就不应计入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的存货内（因为无入账依据）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4.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不应包括在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的存货内，因已收款并将货物送装运部 门，销售已成立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5" name="图片 7" descr="&amp;pky8040249173&amp;"/>
          <p:cNvPicPr/>
          <p:nvPr/>
        </p:nvPicPr>
        <p:blipFill>
          <a:blip r:embed="rId2"/>
          <a:srcRect l="5404" t="13137" r="53113" b="0"/>
          <a:stretch/>
        </p:blipFill>
        <p:spPr>
          <a:xfrm>
            <a:off x="119160" y="3429000"/>
            <a:ext cx="2232000" cy="246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0:16:11Z</dcterms:created>
  <dc:creator>微软用户</dc:creator>
  <dc:description/>
  <dc:language>en-US</dc:language>
  <cp:lastModifiedBy>武静影</cp:lastModifiedBy>
  <dcterms:modified xsi:type="dcterms:W3CDTF">2021-02-20T01:36:39Z</dcterms:modified>
  <cp:revision>29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</Properties>
</file>