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5.png" ContentType="image/png"/>
  <Override PartName="/ppt/media/image14.png" ContentType="image/png"/>
  <Override PartName="/ppt/media/image5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5.wmf" ContentType="image/x-wmf"/>
  <Override PartName="/ppt/media/image36.wmf" ContentType="image/x-wmf"/>
  <Override PartName="/ppt/media/image9.png" ContentType="image/png"/>
  <Override PartName="/ppt/media/image37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30.wmf" ContentType="image/x-wmf"/>
  <Override PartName="/ppt/media/image28.wmf" ContentType="image/x-wmf"/>
  <Override PartName="/ppt/media/image43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40.wmf" ContentType="image/x-wmf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8EE-7CD1-4B8B-A0B3-EA70CC8B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26D-CC73-4515-8300-3842362B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817EF-247B-4F04-B1F8-0E442B37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C657A-8113-4426-AB99-72F202E8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CD9C6-BF54-43B0-B8EC-F87F0CE1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EA62E-49EC-4523-940F-1B5D003C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9A76F-2240-4F0D-99F2-5D30B74A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BDA0B-DA9D-45FB-83E3-B70E31F9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3996D-C7EC-4F27-97B5-F3F9DAC9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8C25A-CCA5-47BD-A8C9-8B20199B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9E95A-A4AC-47F8-8142-F052CC2F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716E7-3E63-4211-AFF0-E8B2B3D4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89F-6F35-43EB-87C1-DC9C521E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F83F9-F017-47EA-95AF-DE75A1A8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55AE0-E9EB-48F3-994B-340F5CFD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A3FBB-8201-418A-B518-9F89D973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12758-E1AD-4769-A56D-9DE42D04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5A6D2-425D-4495-A244-DCB9DCDF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00D5A-E85A-409C-B806-1C9D08CA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638AB-EF9C-4163-A04D-120030CA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06FD1-DC44-4B5E-B10F-37C22050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C5CA5-DF68-48E5-81DA-00431DE2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C42C3-E6C7-4D0B-A758-BE865ADA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772-321A-4CE0-82A7-67ECD4C4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48116-8261-4726-BF20-5E4C5000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1808B-8D31-451B-AA07-A3BC0BF7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06483-1C0F-4E8C-B4B2-E8B00E86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A8C87-B84F-41AA-A6EF-87B0DDCF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9DCA3-36FA-469D-8B0A-D703460E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25DB6-78F2-4D79-A431-1336AFDF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147C3-938D-4BCF-B551-B157680E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B947A-E6F2-4731-AC72-86E64FE6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6EB8E-7846-477F-80A0-BE212481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00EB6-AEF9-440A-A4DB-0C0A1A84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1F28-23BB-4889-8D57-D7B99E00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3E5D4-3CCE-444B-AB08-DF6FE747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C5812-F042-496A-BC07-B79458B8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C6512-F451-48BC-AA2F-669053D8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EA0D2-D491-4995-9E1B-69C0D5F7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7F79B-73C8-45ED-BB82-6F5108DE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6207E-69F3-4883-879E-F7A4D452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275F4-0D6F-4543-ABE9-A94E28FB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73985-09F4-4473-B6E6-95D98EEA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7FE36-2320-4179-B31A-AA96E511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47485-5630-4F3F-A459-5D1E50F3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AB00-ECB6-4878-A0AB-947CF937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CCA4D-F079-469B-9443-012E9446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206BA-7D23-4236-A47F-01297A56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07278-E765-498B-8912-A18EA54F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F7116-A807-4265-BBEC-0B032BEE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9309C-CBDF-4660-9A23-09018A1A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68575-E908-40DD-AC89-04DA0D74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950AB-06CB-414E-A5D9-F62C48BD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5BEC4-8115-4EEE-85D2-4C99540D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9A36C-63F5-4C4A-A72F-72D288A2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AE965-D449-495C-8320-801FE076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7BEE-1315-4094-BBA6-F25BC87F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DE56A-D2E5-4AF4-9295-0DC934C3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CFDE6-A0DC-43FB-A2DB-1CADCA67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6C7F8-CF78-43F1-9580-8DF664D6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8E163-3272-47C4-A2B0-5E9B463B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70E50-1678-45FF-904D-63D2C2E9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D982A-9A35-452A-862B-BE7C41E3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74E74-DBA4-4663-AE21-EE489AB2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5E1D-48D2-44A4-9C3C-F94D13FB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E63A-D654-4C5C-83E8-DB907322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4011-C920-4158-8455-9FC5EA19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DD12-15CE-40FA-8FCE-E2F5A445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135-7022-44E9-8A1E-F868D598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AEBA-A649-4103-8023-6FB4E808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9FBF-F759-4D34-9FE0-FD89E7E9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7883-03DD-424B-9557-D743D7AF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7AF4-8C25-41E2-95E7-61B4671B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6C37-5B0B-4099-A016-09579936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70236-34F1-4C02-AB82-EC7C1088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5E7A-5E38-411F-9ED0-908CABEE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F30C3-98D5-439F-B4CE-69C56E96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253AE-F330-4FDA-8570-DC18C6F5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0BEBD-0EDB-46BA-B6F2-E8E2900B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B10-E4FC-4AE5-A358-17356B7C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BD75B-22AE-4702-9840-457214C6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F0997-53E8-4534-9178-B4F95057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6CD12-4678-46AA-B633-9213B372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68375-A667-4BC8-88CD-D75368C9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4960-C5E8-4C5A-9CC5-15652127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7E90C-F288-411C-B62F-80F91EC3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F3DD2-FB0D-41F2-AA53-1F5ED1F3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82137-A339-499D-9B7E-86271A05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C989B-8D03-43AE-A752-0E8A7F72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BDA4-E766-4E51-B129-DDC77C5E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FF6-71A0-4DBD-84C4-BB038DB7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B0414-4A08-4C07-AF02-BA364F73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00030-7FA8-4B3E-9F82-056D2E35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A62F5-F6E0-490A-B8B4-80CD77DB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84B69-44C1-46A9-8D3F-6C4AC640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2DB2C-307A-4DC0-9D29-A2619EAE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F2F8A-4A18-44BB-8875-F524D107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BDC61-D040-4171-8547-4A10124D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BB30-CDA7-4D7D-928C-F6FB0812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62208-AD60-43B7-83CE-8CCE2E22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1E24D-26D5-4E94-95CF-A11EAC30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235-EDE6-4DEF-B476-8D31E4C3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B59F8-0BA7-47B8-8A2A-16FA91A5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648ED-DA44-4DD3-B3E3-99B892BF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955F1-284E-4665-B9D4-6429D329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912E6-59DA-4663-B070-373F972D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B1B3E-6546-4F18-91E1-FAD0821F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B17FF-6404-470D-96B9-E2AD6D32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8A363-E696-42E2-B0AD-1FA33A3F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F3319-BEE7-4C99-8F9A-A520FD9B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A2BD2-0A9C-41F3-AA67-05BE2E4E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826F1-6316-40B7-B088-C4C10313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E2C-4D62-41C4-A826-40E94943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1F037-4285-4774-AA9F-62D517F8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D7A84-0D1B-4E36-8CA1-111D97E7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7DF7E-68C5-4288-8725-7D8CF185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093DC-7AE9-46CD-B951-B809F7AF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83D21-3F39-48BA-A392-AE65C9AD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7144E-3B13-4F1D-8593-77CAC648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7D64A-2D5A-4F33-B9DE-08074E5D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61E8F-FD7D-4423-BB8C-FE0FEDF2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70EC9-40A2-4D60-AEA5-A40C02ED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D7E90-BBA3-4272-AC4A-D2D03978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85A-959D-4ECB-BD7F-3FED7CD6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B6E2E-4798-41CC-882E-A530A21F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2FFF7-0DDA-49CC-802C-7D980CEF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C6352-3DA3-46E9-91B2-AD7FC4BE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767B8-9F6F-4E90-A0AD-F845DC2C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EBABF-58CA-45DD-AEDC-BC9C8F94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980CB-C4EE-4A14-BBDB-F64C262A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ECF19-B06D-42E6-999D-626F839B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A7111-714A-45FE-BE18-9B5A435B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55E38-23DD-436C-B904-1E2F024F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EADC1-0720-49B0-8856-8A5242AD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2BA-F5C8-40E0-9630-5E9F27C9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423A1-70E5-4A3E-BD7C-B149141A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AF152-F2B5-4D60-82C4-0D072A8B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51F91-D87F-4CFB-8EC5-C64FF5D5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77630-4C53-44AC-A0F3-C163DCBC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1744C-FD3A-4F0D-B590-A92B6017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A068B-B300-4C0C-BABC-D23CCC90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D06D6-A728-4521-BF7C-E2A9AE29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3D9C9-FDE6-4925-93C3-DE03A8C6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043DD-1A13-494E-A909-71E80DED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7E5C0-9CB1-4F6A-B310-B09DF116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DFB-129E-4C11-9B68-D8591DF6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69735-B223-47B5-AE77-4B4EB4C9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7E415-1954-4CCC-BC3D-05DCE81B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4AB8A-57C9-4E96-A34E-B519266C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2F8D7-0D6C-44F1-A8E0-FC2A3B98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8560" y="307512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120FA-8EAB-4AB6-A7AB-9B836A98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856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0280" y="307512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9A454-09D9-4CA0-AC90-74141D53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2856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9544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62320" y="307512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1BC39-EC28-41CC-AAE4-9EFB9F3B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D521F-2833-4C02-A66B-55787F2A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A7ADF-DA4D-40E3-8E9C-F2527553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E8BCE-08F2-4383-8A47-5B6754BE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2F56E-8B6E-445F-81DA-B0CB7CF7DCF2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43204-018D-4C06-8376-5920BD9182FC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51451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09E58-2442-4103-8850-3BBA12F683A2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95121-F76E-4411-9C49-F8100E5D14D6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01" name="矩形 7"/>
          <p:cNvSpPr/>
          <p:nvPr/>
        </p:nvSpPr>
        <p:spPr>
          <a:xfrm>
            <a:off x="0" y="0"/>
            <a:ext cx="9144000" cy="5145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1"/>
          <p:cNvSpPr/>
          <p:nvPr/>
        </p:nvSpPr>
        <p:spPr>
          <a:xfrm>
            <a:off x="4100040" y="368280"/>
            <a:ext cx="823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微软雅黑"/>
              </a:rPr>
              <a:t>点击添加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"/>
          <p:cNvSpPr/>
          <p:nvPr/>
        </p:nvSpPr>
        <p:spPr>
          <a:xfrm>
            <a:off x="3274920" y="711360"/>
            <a:ext cx="256248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Arial"/>
                <a:ea typeface="微软雅黑"/>
              </a:rPr>
              <a:t>您的内容打在这里，或通过复制文本后在此选择粘贴，并选择只保留文字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A60FF-06BE-46B6-B927-23FD40F8B9B0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892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892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20DD5-3186-46A0-9B10-B21874CFC1C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66C11-5244-40ED-A140-79B01511CF9D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6"/>
          <p:cNvSpPr/>
          <p:nvPr/>
        </p:nvSpPr>
        <p:spPr>
          <a:xfrm>
            <a:off x="0" y="160200"/>
            <a:ext cx="466560" cy="324000"/>
          </a:xfrm>
          <a:prstGeom prst="rect">
            <a:avLst/>
          </a:prstGeom>
          <a:solidFill>
            <a:srgbClr val="f0b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50918-42D3-4F2E-80E4-E49645CCBE68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6"/>
          <p:cNvSpPr/>
          <p:nvPr/>
        </p:nvSpPr>
        <p:spPr>
          <a:xfrm>
            <a:off x="0" y="160200"/>
            <a:ext cx="466560" cy="324000"/>
          </a:xfrm>
          <a:prstGeom prst="rect">
            <a:avLst/>
          </a:prstGeom>
          <a:solidFill>
            <a:srgbClr val="f0b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37"/>
          <p:cNvSpPr/>
          <p:nvPr/>
        </p:nvSpPr>
        <p:spPr>
          <a:xfrm>
            <a:off x="977040" y="196920"/>
            <a:ext cx="1432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任务二 债券投资决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42573-F1AC-48CD-A8A0-383689DE6378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6"/>
          <p:cNvSpPr/>
          <p:nvPr/>
        </p:nvSpPr>
        <p:spPr>
          <a:xfrm>
            <a:off x="0" y="160200"/>
            <a:ext cx="466560" cy="324000"/>
          </a:xfrm>
          <a:prstGeom prst="rect">
            <a:avLst/>
          </a:prstGeom>
          <a:solidFill>
            <a:srgbClr val="f0b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7"/>
          <p:cNvSpPr/>
          <p:nvPr/>
        </p:nvSpPr>
        <p:spPr>
          <a:xfrm>
            <a:off x="924840" y="196920"/>
            <a:ext cx="12888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f0bd65"/>
                </a:solidFill>
                <a:latin typeface="微软雅黑"/>
                <a:ea typeface="微软雅黑"/>
              </a:rPr>
              <a:t>任务三 股票投资决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65281-670F-4BDA-B2C6-261F5C68E14E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6"/>
          <p:cNvSpPr/>
          <p:nvPr/>
        </p:nvSpPr>
        <p:spPr>
          <a:xfrm>
            <a:off x="0" y="160200"/>
            <a:ext cx="466560" cy="324000"/>
          </a:xfrm>
          <a:prstGeom prst="rect">
            <a:avLst/>
          </a:prstGeom>
          <a:solidFill>
            <a:srgbClr val="f0b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37"/>
          <p:cNvSpPr/>
          <p:nvPr/>
        </p:nvSpPr>
        <p:spPr>
          <a:xfrm>
            <a:off x="795240" y="196920"/>
            <a:ext cx="869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f0bd65"/>
                </a:solidFill>
                <a:latin typeface="微软雅黑"/>
                <a:ea typeface="微软雅黑"/>
              </a:rPr>
              <a:t>明年工作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B727E-D1AB-405B-A0C0-E73D705583AD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9DFBB-74D6-4E6B-8DCA-11C20901A5F8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62820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029040" y="4768920"/>
            <a:ext cx="308592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8920"/>
            <a:ext cx="2057400" cy="2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96F24-9313-4A0A-84B0-80DDDE9EF07C}" type="slidenum">
              <a:rPr b="0" lang="zh-CN" sz="9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8.png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ADACFBCF.mp3" descr=""/>
          <p:cNvPicPr/>
          <p:nvPr/>
        </p:nvPicPr>
        <p:blipFill>
          <a:blip r:embed="rId1"/>
          <a:stretch/>
        </p:blipFill>
        <p:spPr>
          <a:xfrm>
            <a:off x="-1155600" y="1676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46" name="文本框 6"/>
          <p:cNvSpPr/>
          <p:nvPr/>
        </p:nvSpPr>
        <p:spPr>
          <a:xfrm>
            <a:off x="3095640" y="1698480"/>
            <a:ext cx="604836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等线"/>
              </a:rPr>
              <a:t>项目六 证券投资决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图片 12" descr=""/>
          <p:cNvPicPr/>
          <p:nvPr/>
        </p:nvPicPr>
        <p:blipFill>
          <a:blip r:embed="rId2"/>
          <a:srcRect l="8155" t="22313" r="41991" b="0"/>
          <a:stretch/>
        </p:blipFill>
        <p:spPr>
          <a:xfrm>
            <a:off x="449280" y="736560"/>
            <a:ext cx="3193920" cy="39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9"/>
          <p:cNvSpPr/>
          <p:nvPr/>
        </p:nvSpPr>
        <p:spPr>
          <a:xfrm>
            <a:off x="2954160" y="3008160"/>
            <a:ext cx="4197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任务一 债券投资决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任意多边形 16"/>
          <p:cNvSpPr/>
          <p:nvPr/>
        </p:nvSpPr>
        <p:spPr>
          <a:xfrm>
            <a:off x="-1162080" y="1650960"/>
            <a:ext cx="10763280" cy="1060560"/>
          </a:xfrm>
          <a:custGeom>
            <a:avLst/>
            <a:gdLst/>
            <a:ahLst/>
            <a:rect l="l" t="t" r="r" b="b"/>
            <a:pathLst>
              <a:path w="12235184" h="786138">
                <a:moveTo>
                  <a:pt x="0" y="125142"/>
                </a:moveTo>
                <a:cubicBezTo>
                  <a:pt x="81192" y="333332"/>
                  <a:pt x="489223" y="754660"/>
                  <a:pt x="1159442" y="733805"/>
                </a:cubicBezTo>
                <a:cubicBezTo>
                  <a:pt x="1829661" y="712950"/>
                  <a:pt x="3273400" y="3780"/>
                  <a:pt x="4021312" y="15"/>
                </a:cubicBezTo>
                <a:cubicBezTo>
                  <a:pt x="4769224" y="-3750"/>
                  <a:pt x="4949823" y="714037"/>
                  <a:pt x="5646912" y="711215"/>
                </a:cubicBezTo>
                <a:cubicBezTo>
                  <a:pt x="6344001" y="708393"/>
                  <a:pt x="6723099" y="34193"/>
                  <a:pt x="7289445" y="33881"/>
                </a:cubicBezTo>
                <a:cubicBezTo>
                  <a:pt x="7855791" y="33569"/>
                  <a:pt x="8350279" y="729713"/>
                  <a:pt x="9044991" y="709340"/>
                </a:cubicBezTo>
                <a:cubicBezTo>
                  <a:pt x="9739703" y="688967"/>
                  <a:pt x="10366129" y="11678"/>
                  <a:pt x="10897828" y="24478"/>
                </a:cubicBezTo>
                <a:cubicBezTo>
                  <a:pt x="11429527" y="37278"/>
                  <a:pt x="11943548" y="441353"/>
                  <a:pt x="12235184" y="786138"/>
                </a:cubicBezTo>
              </a:path>
            </a:pathLst>
          </a:cu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组合 17" descr=""/>
          <p:cNvPicPr/>
          <p:nvPr/>
        </p:nvPicPr>
        <p:blipFill>
          <a:blip r:embed="rId1"/>
          <a:stretch/>
        </p:blipFill>
        <p:spPr>
          <a:xfrm>
            <a:off x="3656160" y="1247760"/>
            <a:ext cx="1901520" cy="1901880"/>
          </a:xfrm>
          <a:prstGeom prst="rect">
            <a:avLst/>
          </a:prstGeom>
          <a:ln w="0">
            <a:noFill/>
          </a:ln>
        </p:spPr>
      </p:pic>
      <p:sp>
        <p:nvSpPr>
          <p:cNvPr id="600" name="TextBox 6"/>
          <p:cNvSpPr/>
          <p:nvPr/>
        </p:nvSpPr>
        <p:spPr>
          <a:xfrm>
            <a:off x="254160" y="208080"/>
            <a:ext cx="1296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图片 2" descr="T}FP25WX`R%BBWU3F[1Y`PV"/>
          <p:cNvPicPr/>
          <p:nvPr/>
        </p:nvPicPr>
        <p:blipFill>
          <a:blip r:embed="rId1"/>
          <a:stretch/>
        </p:blipFill>
        <p:spPr>
          <a:xfrm>
            <a:off x="154080" y="763560"/>
            <a:ext cx="8837640" cy="42876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1" descr="1C(E~HB8G$Z(8LZ@XOYK%4E"/>
          <p:cNvPicPr/>
          <p:nvPr/>
        </p:nvPicPr>
        <p:blipFill>
          <a:blip r:embed="rId2"/>
          <a:stretch/>
        </p:blipFill>
        <p:spPr>
          <a:xfrm>
            <a:off x="219240" y="31680"/>
            <a:ext cx="4035240" cy="55584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2" descr="IX_Q`DGYW~CJYQ}K`B%}8Q0"/>
          <p:cNvPicPr/>
          <p:nvPr/>
        </p:nvPicPr>
        <p:blipFill>
          <a:blip r:embed="rId3"/>
          <a:stretch/>
        </p:blipFill>
        <p:spPr>
          <a:xfrm>
            <a:off x="546120" y="1276200"/>
            <a:ext cx="8294760" cy="20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3"/>
          <p:cNvSpPr/>
          <p:nvPr/>
        </p:nvSpPr>
        <p:spPr>
          <a:xfrm>
            <a:off x="465120" y="981000"/>
            <a:ext cx="2689200" cy="4111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债券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9"/>
          <p:cNvSpPr/>
          <p:nvPr/>
        </p:nvSpPr>
        <p:spPr>
          <a:xfrm>
            <a:off x="339840" y="539640"/>
            <a:ext cx="338760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一、认知债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5713560" y="809640"/>
            <a:ext cx="3271680" cy="47628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债券的基本要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254160" y="1419120"/>
            <a:ext cx="5811840" cy="304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是某一社会经济主体为筹措资金而向债券投资者出具的、承诺按一定利率定期支付利息，并到期偿还本金的债权债务凭证。债券的发行人是债务人，投资于债券的人是债权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公司债券是由企业或公司发行的有价证券，是企业或公司为筹措资金而公开负担的一种债务契约，表明公司借款后，有义务偿还其所借金额的一种期票。发行债券是现代企业主要筹资方式之一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6321600" y="1525680"/>
            <a:ext cx="2385720" cy="246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1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的面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2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的期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3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的票面利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4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的价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3"/>
          <p:cNvSpPr/>
          <p:nvPr/>
        </p:nvSpPr>
        <p:spPr>
          <a:xfrm>
            <a:off x="465120" y="981000"/>
            <a:ext cx="2689200" cy="4111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债券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9"/>
          <p:cNvSpPr/>
          <p:nvPr/>
        </p:nvSpPr>
        <p:spPr>
          <a:xfrm>
            <a:off x="339840" y="539640"/>
            <a:ext cx="338760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一、认知债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5713560" y="809640"/>
            <a:ext cx="3271680" cy="47628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债券的基本要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254160" y="1419120"/>
            <a:ext cx="5811840" cy="3049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是某一社会经济主体为筹措资金而向债券投资者出具的、承诺按一定利率定期支付利息，并到期偿还本金的债权债务凭证。债券的发行人是债务人，投资于债券的人是债权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公司债券是由企业或公司发行的有价证券，是企业或公司为筹措资金而公开负担的一种债务契约，表明公司借款后，有义务偿还其所借金额的一种期票。发行债券是现代企业主要筹资方式之一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6321600" y="1525680"/>
            <a:ext cx="2385720" cy="246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1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的面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2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的期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3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的票面利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4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的价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3"/>
          <p:cNvSpPr/>
          <p:nvPr/>
        </p:nvSpPr>
        <p:spPr>
          <a:xfrm>
            <a:off x="465120" y="981000"/>
            <a:ext cx="6676920" cy="4381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正确认识债券投资的特点，明确投资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9"/>
          <p:cNvSpPr/>
          <p:nvPr/>
        </p:nvSpPr>
        <p:spPr>
          <a:xfrm>
            <a:off x="311040" y="498600"/>
            <a:ext cx="299880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二、债券投资的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735120" y="1413000"/>
            <a:ext cx="3149640" cy="15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投资优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       ①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本金安全性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②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投资收益稳定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③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市场流动性较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4346640" y="1539720"/>
            <a:ext cx="3149640" cy="124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债券投资缺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       ①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购买力风险较大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        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②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无经营管理权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465120" y="3270240"/>
            <a:ext cx="5979960" cy="43812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合理测算决策的评价指标并进行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465120" y="3708360"/>
            <a:ext cx="8048520" cy="77940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科学调查与评价发行单位的信用情况，计算并充分考虑各种风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24" name="TextBox 15"/>
          <p:cNvSpPr/>
          <p:nvPr/>
        </p:nvSpPr>
        <p:spPr>
          <a:xfrm>
            <a:off x="339840" y="539640"/>
            <a:ext cx="388764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二、债券决策的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16"/>
          <p:cNvSpPr/>
          <p:nvPr/>
        </p:nvSpPr>
        <p:spPr>
          <a:xfrm>
            <a:off x="422280" y="1182600"/>
            <a:ext cx="795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债券的价值又称债券的内在价值，是发行人按照合同规定从现在至债券到期日所获得的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现金流入量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的现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17"/>
          <p:cNvSpPr/>
          <p:nvPr/>
        </p:nvSpPr>
        <p:spPr>
          <a:xfrm>
            <a:off x="4413240" y="477720"/>
            <a:ext cx="44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债券的估价（债券价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8"/>
          <p:cNvSpPr/>
          <p:nvPr/>
        </p:nvSpPr>
        <p:spPr>
          <a:xfrm>
            <a:off x="2335680" y="202896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9b680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9b680f"/>
                </a:solidFill>
                <a:latin typeface="Arial"/>
                <a:ea typeface="宋体"/>
              </a:rPr>
              <a:t>债券估价的基本模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6"/>
          <p:cNvSpPr/>
          <p:nvPr/>
        </p:nvSpPr>
        <p:spPr>
          <a:xfrm>
            <a:off x="5380200" y="2566800"/>
            <a:ext cx="3430440" cy="21049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M-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债券面值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i-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债券票面利率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K-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市场利率或投资者要求的必要收益率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N-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债券期限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V-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Times New Roman"/>
              </a:rPr>
              <a:t>债券价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Object 14" descr=""/>
          <p:cNvPicPr/>
          <p:nvPr/>
        </p:nvPicPr>
        <p:blipFill>
          <a:blip r:embed="rId2"/>
          <a:stretch/>
        </p:blipFill>
        <p:spPr>
          <a:xfrm>
            <a:off x="268200" y="2706840"/>
            <a:ext cx="4992840" cy="17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31" name="TextBox 15"/>
          <p:cNvSpPr/>
          <p:nvPr/>
        </p:nvSpPr>
        <p:spPr>
          <a:xfrm>
            <a:off x="339840" y="539640"/>
            <a:ext cx="388764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三、债券决策的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5"/>
          <p:cNvSpPr/>
          <p:nvPr/>
        </p:nvSpPr>
        <p:spPr>
          <a:xfrm>
            <a:off x="339840" y="539640"/>
            <a:ext cx="364968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三、债券决策的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7"/>
          <p:cNvSpPr/>
          <p:nvPr/>
        </p:nvSpPr>
        <p:spPr>
          <a:xfrm>
            <a:off x="4302000" y="54144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债券收益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5"/>
          <p:cNvSpPr/>
          <p:nvPr/>
        </p:nvSpPr>
        <p:spPr>
          <a:xfrm>
            <a:off x="880920" y="1301760"/>
            <a:ext cx="1565280" cy="429120"/>
          </a:xfrm>
          <a:prstGeom prst="rect">
            <a:avLst/>
          </a:prstGeom>
          <a:solidFill>
            <a:srgbClr val="f9e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债券收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474840" y="2269080"/>
            <a:ext cx="834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  <a:ea typeface="宋体"/>
              </a:rPr>
              <a:t>债券的收益率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是指以特定的价格购买债券并持有至到期日所能获得收益率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0"/>
          <p:cNvSpPr/>
          <p:nvPr/>
        </p:nvSpPr>
        <p:spPr>
          <a:xfrm>
            <a:off x="2725560" y="291312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票面收益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本期收益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13"/>
          <p:cNvSpPr/>
          <p:nvPr/>
        </p:nvSpPr>
        <p:spPr>
          <a:xfrm>
            <a:off x="3066480" y="368604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持有期间收益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5"/>
          <p:cNvSpPr/>
          <p:nvPr/>
        </p:nvSpPr>
        <p:spPr>
          <a:xfrm>
            <a:off x="2517840" y="1131840"/>
            <a:ext cx="320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一是债券的利息收入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二是资本利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640" name="文本框 99"/>
          <p:cNvSpPr/>
          <p:nvPr/>
        </p:nvSpPr>
        <p:spPr>
          <a:xfrm>
            <a:off x="247680" y="777960"/>
            <a:ext cx="86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公司欲购入每张面值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0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，票面利率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，每年付息一次，到期一次还本的甲公司发行的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5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年期债券，债券购入时市场利率为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2%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， 债券市场价格每张为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9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。确定是否可以进行此项投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1"/>
          <p:cNvSpPr/>
          <p:nvPr/>
        </p:nvSpPr>
        <p:spPr>
          <a:xfrm>
            <a:off x="530280" y="2344680"/>
            <a:ext cx="8085240" cy="1557000"/>
          </a:xfrm>
          <a:prstGeom prst="rect">
            <a:avLst/>
          </a:prstGeom>
          <a:noFill/>
          <a:ln w="28440">
            <a:solidFill>
              <a:srgbClr val="b08a4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V=100×10%×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P/A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2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＋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00×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P/F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2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=10×3.605+100×0.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=92.75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2"/>
          <p:cNvSpPr/>
          <p:nvPr/>
        </p:nvSpPr>
        <p:spPr>
          <a:xfrm>
            <a:off x="677880" y="392112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通过上述计算，表明其价值大于价格，可以投资购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99"/>
          <p:cNvSpPr/>
          <p:nvPr/>
        </p:nvSpPr>
        <p:spPr>
          <a:xfrm>
            <a:off x="774720" y="317520"/>
            <a:ext cx="45435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债券价值的计算（债券估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99"/>
          <p:cNvSpPr/>
          <p:nvPr/>
        </p:nvSpPr>
        <p:spPr>
          <a:xfrm>
            <a:off x="203040" y="892080"/>
            <a:ext cx="864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公司拟购买乙公司发行的利随本清的企业债券，该债券每张面值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0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，期限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5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年，票面利率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，单利计息，假设当前市场利率为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8%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。计算乙公司债券的发行价格为多少时才适宜购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2"/>
          <p:cNvSpPr/>
          <p:nvPr/>
        </p:nvSpPr>
        <p:spPr>
          <a:xfrm>
            <a:off x="677880" y="360216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通过上述计算，表明只有债券的价格不高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2.09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元时，才适宜购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对象 24" descr=""/>
          <p:cNvPicPr/>
          <p:nvPr/>
        </p:nvPicPr>
        <p:blipFill>
          <a:blip r:embed="rId2"/>
          <a:stretch/>
        </p:blipFill>
        <p:spPr>
          <a:xfrm>
            <a:off x="2070000" y="2322360"/>
            <a:ext cx="4327560" cy="1189080"/>
          </a:xfrm>
          <a:prstGeom prst="rect">
            <a:avLst/>
          </a:prstGeom>
          <a:ln w="0">
            <a:noFill/>
          </a:ln>
        </p:spPr>
      </p:pic>
      <p:sp>
        <p:nvSpPr>
          <p:cNvPr id="648" name="文本框 99"/>
          <p:cNvSpPr/>
          <p:nvPr/>
        </p:nvSpPr>
        <p:spPr>
          <a:xfrm>
            <a:off x="774720" y="317520"/>
            <a:ext cx="45435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债券价值的计算（债券估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99"/>
          <p:cNvSpPr/>
          <p:nvPr/>
        </p:nvSpPr>
        <p:spPr>
          <a:xfrm>
            <a:off x="247680" y="868320"/>
            <a:ext cx="864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HF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公司欲购买某公司发行的债券，每张面值为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 00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， 期限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5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年， 以折现方式发行， 期内不计利息， 到期按面值偿还。假设市场利率为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6%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。计算其价格为多少时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WT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公司才可以购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2"/>
          <p:cNvSpPr/>
          <p:nvPr/>
        </p:nvSpPr>
        <p:spPr>
          <a:xfrm>
            <a:off x="677880" y="360216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通过上述计算，表明只有当该债券的价格低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47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元时，公司才可以购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2"/>
          <p:cNvSpPr/>
          <p:nvPr/>
        </p:nvSpPr>
        <p:spPr>
          <a:xfrm>
            <a:off x="1380960" y="2638440"/>
            <a:ext cx="43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=1 000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F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1 000×0.747=747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99"/>
          <p:cNvSpPr/>
          <p:nvPr/>
        </p:nvSpPr>
        <p:spPr>
          <a:xfrm>
            <a:off x="774720" y="317520"/>
            <a:ext cx="45435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债券价值的计算（债券估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1" descr="6[JRC]NNJUOHUUG$VFQ5~RE"/>
          <p:cNvPicPr/>
          <p:nvPr/>
        </p:nvPicPr>
        <p:blipFill>
          <a:blip r:embed="rId1"/>
          <a:stretch/>
        </p:blipFill>
        <p:spPr>
          <a:xfrm>
            <a:off x="-11160" y="3240"/>
            <a:ext cx="1028880" cy="86976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2"/>
          <p:cNvSpPr/>
          <p:nvPr/>
        </p:nvSpPr>
        <p:spPr>
          <a:xfrm>
            <a:off x="1017720" y="98280"/>
            <a:ext cx="25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【学习情境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99"/>
          <p:cNvSpPr/>
          <p:nvPr/>
        </p:nvSpPr>
        <p:spPr>
          <a:xfrm>
            <a:off x="306360" y="87300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早在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15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年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WT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现代装备制造股份有限公司（以下简称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WT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公司）即成立了证券投资部门，隶属于财务部，负责公司的证券投资业务。一方面是为了在短期内提高资金的使用效率，另一方面，从长远来看，公司希望从证券市场上获得更多的投资机会，为未来企业扩大规模和扩大产业范围做出长期准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由于公司现有业务高速增长，积累了一定的资金，公司提出了多元化投资的目标。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年初，证券投资部门拟定了有价证券投资计划，公司设定的基准收益率为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0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当前市场利率为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8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655" name="文本框 99"/>
          <p:cNvSpPr/>
          <p:nvPr/>
        </p:nvSpPr>
        <p:spPr>
          <a:xfrm>
            <a:off x="203040" y="846000"/>
            <a:ext cx="864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公司于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202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年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月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日以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96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的价格购买面值为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 00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的债券，年票面利率为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，每半年计算并付息一次，期限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5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年，当年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月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日收到半年利息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5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，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9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月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3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日以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99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的价格卖出。计算该债券持有期间的收益率和持有期间年均收益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2"/>
          <p:cNvSpPr/>
          <p:nvPr/>
        </p:nvSpPr>
        <p:spPr>
          <a:xfrm>
            <a:off x="546120" y="2670120"/>
            <a:ext cx="7115040" cy="398880"/>
          </a:xfrm>
          <a:prstGeom prst="rect">
            <a:avLst/>
          </a:prstGeom>
          <a:gradFill rotWithShape="0">
            <a:gsLst>
              <a:gs pos="0">
                <a:srgbClr val="fecf40"/>
              </a:gs>
              <a:gs pos="100000">
                <a:srgbClr val="846c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本例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持有时间不超过一年的，直接按债券持有期间的收益除以买入价计算持有期间的收益率，不考虑复利计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99"/>
          <p:cNvSpPr/>
          <p:nvPr/>
        </p:nvSpPr>
        <p:spPr>
          <a:xfrm>
            <a:off x="774720" y="317520"/>
            <a:ext cx="319392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计算债券收益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对象 29" descr=""/>
          <p:cNvPicPr/>
          <p:nvPr/>
        </p:nvPicPr>
        <p:blipFill>
          <a:blip r:embed="rId2"/>
          <a:stretch/>
        </p:blipFill>
        <p:spPr>
          <a:xfrm>
            <a:off x="774720" y="3444840"/>
            <a:ext cx="7134120" cy="689040"/>
          </a:xfrm>
          <a:prstGeom prst="rect">
            <a:avLst/>
          </a:prstGeom>
          <a:ln w="0">
            <a:noFill/>
          </a:ln>
        </p:spPr>
      </p:pic>
      <p:pic>
        <p:nvPicPr>
          <p:cNvPr id="659" name="对象 30" descr=""/>
          <p:cNvPicPr/>
          <p:nvPr/>
        </p:nvPicPr>
        <p:blipFill>
          <a:blip r:embed="rId3"/>
          <a:stretch/>
        </p:blipFill>
        <p:spPr>
          <a:xfrm>
            <a:off x="774720" y="4133880"/>
            <a:ext cx="506412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661" name="文本框 99"/>
          <p:cNvSpPr/>
          <p:nvPr/>
        </p:nvSpPr>
        <p:spPr>
          <a:xfrm>
            <a:off x="203040" y="846000"/>
            <a:ext cx="864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公司于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2020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年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7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月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日以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924.28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购买一张面值为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 00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元的债券，票面利率为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8%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，每年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4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月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日支付一次利息，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2025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年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6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月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30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日到期。计算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公司购买的债券投资收益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2"/>
          <p:cNvSpPr/>
          <p:nvPr/>
        </p:nvSpPr>
        <p:spPr>
          <a:xfrm>
            <a:off x="871560" y="2576520"/>
            <a:ext cx="7731000" cy="398880"/>
          </a:xfrm>
          <a:prstGeom prst="rect">
            <a:avLst/>
          </a:prstGeom>
          <a:gradFill rotWithShape="0">
            <a:gsLst>
              <a:gs pos="0">
                <a:srgbClr val="fecf40"/>
              </a:gs>
              <a:gs pos="100000">
                <a:srgbClr val="846c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对于持有时间超过一年以上的，在投资决策中应按复利计算收益率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具体计算方法与债券还本付息方式有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99"/>
          <p:cNvSpPr/>
          <p:nvPr/>
        </p:nvSpPr>
        <p:spPr>
          <a:xfrm>
            <a:off x="774720" y="317520"/>
            <a:ext cx="319392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计算债券收益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2"/>
          <p:cNvSpPr/>
          <p:nvPr/>
        </p:nvSpPr>
        <p:spPr>
          <a:xfrm>
            <a:off x="946080" y="3422520"/>
            <a:ext cx="7656480" cy="398880"/>
          </a:xfrm>
          <a:prstGeom prst="rect">
            <a:avLst/>
          </a:prstGeom>
          <a:gradFill rotWithShape="0">
            <a:gsLst>
              <a:gs pos="0">
                <a:srgbClr val="fecf40"/>
              </a:gs>
              <a:gs pos="100000">
                <a:srgbClr val="846c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持有期间超过一年的，每年付息一次，到期一次还本的债券收益率的计算公式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2"/>
          <p:cNvSpPr/>
          <p:nvPr/>
        </p:nvSpPr>
        <p:spPr>
          <a:xfrm>
            <a:off x="1508040" y="4336920"/>
            <a:ext cx="5840640" cy="459720"/>
          </a:xfrm>
          <a:prstGeom prst="rect">
            <a:avLst/>
          </a:prstGeom>
          <a:gradFill rotWithShape="0">
            <a:gsLst>
              <a:gs pos="0">
                <a:srgbClr val="fecf40"/>
              </a:gs>
              <a:gs pos="100000">
                <a:srgbClr val="846c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=I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＋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F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667" name="文本框 99"/>
          <p:cNvSpPr/>
          <p:nvPr/>
        </p:nvSpPr>
        <p:spPr>
          <a:xfrm>
            <a:off x="203040" y="777960"/>
            <a:ext cx="51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的计算过程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99"/>
          <p:cNvSpPr/>
          <p:nvPr/>
        </p:nvSpPr>
        <p:spPr>
          <a:xfrm>
            <a:off x="774720" y="317520"/>
            <a:ext cx="319392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计算债券收益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1"/>
          <p:cNvSpPr/>
          <p:nvPr/>
        </p:nvSpPr>
        <p:spPr>
          <a:xfrm>
            <a:off x="358920" y="1238400"/>
            <a:ext cx="8339040" cy="825480"/>
          </a:xfrm>
          <a:prstGeom prst="rect">
            <a:avLst/>
          </a:prstGeom>
          <a:noFill/>
          <a:ln w="28440">
            <a:solidFill>
              <a:srgbClr val="b08a4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24.28=1 000×8%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+1 000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2"/>
          <p:cNvSpPr/>
          <p:nvPr/>
        </p:nvSpPr>
        <p:spPr>
          <a:xfrm>
            <a:off x="203040" y="1698480"/>
            <a:ext cx="55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采用逐步测试法求得。先按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%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折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3"/>
          <p:cNvSpPr/>
          <p:nvPr/>
        </p:nvSpPr>
        <p:spPr>
          <a:xfrm>
            <a:off x="379440" y="2158920"/>
            <a:ext cx="8099280" cy="825480"/>
          </a:xfrm>
          <a:prstGeom prst="rect">
            <a:avLst/>
          </a:prstGeom>
          <a:noFill/>
          <a:ln w="28440">
            <a:solidFill>
              <a:srgbClr val="b08a4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 000×8%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)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＋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 000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F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 80×3.890 + 1 000×0.650= 961.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7"/>
          <p:cNvSpPr/>
          <p:nvPr/>
        </p:nvSpPr>
        <p:spPr>
          <a:xfrm>
            <a:off x="358920" y="3060720"/>
            <a:ext cx="78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61.2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大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24.28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将收益率提高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%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折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8"/>
          <p:cNvSpPr/>
          <p:nvPr/>
        </p:nvSpPr>
        <p:spPr>
          <a:xfrm>
            <a:off x="522360" y="3521160"/>
            <a:ext cx="8099280" cy="1191240"/>
          </a:xfrm>
          <a:prstGeom prst="rect">
            <a:avLst/>
          </a:prstGeom>
          <a:noFill/>
          <a:ln w="28440">
            <a:solidFill>
              <a:srgbClr val="b08a4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 000×8%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+1 000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/F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 80×3.791+1 000×0.621= 924.28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2"/>
          <p:cNvSpPr/>
          <p:nvPr/>
        </p:nvSpPr>
        <p:spPr>
          <a:xfrm>
            <a:off x="479520" y="4349880"/>
            <a:ext cx="83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由于计算出的数值正好等于购买价格，因此公司债券的收益率为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图片 1" descr=""/>
          <p:cNvPicPr/>
          <p:nvPr/>
        </p:nvPicPr>
        <p:blipFill>
          <a:blip r:embed="rId1"/>
          <a:stretch/>
        </p:blipFill>
        <p:spPr>
          <a:xfrm>
            <a:off x="246240" y="73080"/>
            <a:ext cx="3257280" cy="519120"/>
          </a:xfrm>
          <a:prstGeom prst="rect">
            <a:avLst/>
          </a:prstGeom>
          <a:ln w="0">
            <a:noFill/>
          </a:ln>
        </p:spPr>
      </p:pic>
      <p:sp>
        <p:nvSpPr>
          <p:cNvPr id="676" name="文本框 99"/>
          <p:cNvSpPr/>
          <p:nvPr/>
        </p:nvSpPr>
        <p:spPr>
          <a:xfrm>
            <a:off x="246240" y="1060560"/>
            <a:ext cx="8656560" cy="14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根据学习情境资料在老师指导下，完成下列任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.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计算投资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G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石化债券的价值和收益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.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评价该债券投资的可行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矩形 9"/>
          <p:cNvSpPr/>
          <p:nvPr/>
        </p:nvSpPr>
        <p:spPr>
          <a:xfrm>
            <a:off x="2965320" y="3008160"/>
            <a:ext cx="3822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任务二 股票投资决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任意多边形 16"/>
          <p:cNvSpPr/>
          <p:nvPr/>
        </p:nvSpPr>
        <p:spPr>
          <a:xfrm>
            <a:off x="-1162080" y="1650960"/>
            <a:ext cx="10763280" cy="1060560"/>
          </a:xfrm>
          <a:custGeom>
            <a:avLst/>
            <a:gdLst/>
            <a:ahLst/>
            <a:rect l="l" t="t" r="r" b="b"/>
            <a:pathLst>
              <a:path w="12235184" h="786138">
                <a:moveTo>
                  <a:pt x="0" y="125142"/>
                </a:moveTo>
                <a:cubicBezTo>
                  <a:pt x="81192" y="333332"/>
                  <a:pt x="489223" y="754660"/>
                  <a:pt x="1159442" y="733805"/>
                </a:cubicBezTo>
                <a:cubicBezTo>
                  <a:pt x="1829661" y="712950"/>
                  <a:pt x="3273400" y="3780"/>
                  <a:pt x="4021312" y="15"/>
                </a:cubicBezTo>
                <a:cubicBezTo>
                  <a:pt x="4769224" y="-3750"/>
                  <a:pt x="4949823" y="714037"/>
                  <a:pt x="5646912" y="711215"/>
                </a:cubicBezTo>
                <a:cubicBezTo>
                  <a:pt x="6344001" y="708393"/>
                  <a:pt x="6723099" y="34193"/>
                  <a:pt x="7289445" y="33881"/>
                </a:cubicBezTo>
                <a:cubicBezTo>
                  <a:pt x="7855791" y="33569"/>
                  <a:pt x="8350279" y="729713"/>
                  <a:pt x="9044991" y="709340"/>
                </a:cubicBezTo>
                <a:cubicBezTo>
                  <a:pt x="9739703" y="688967"/>
                  <a:pt x="10366129" y="11678"/>
                  <a:pt x="10897828" y="24478"/>
                </a:cubicBezTo>
                <a:cubicBezTo>
                  <a:pt x="11429527" y="37278"/>
                  <a:pt x="11943548" y="441353"/>
                  <a:pt x="12235184" y="786138"/>
                </a:cubicBezTo>
              </a:path>
            </a:pathLst>
          </a:cu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组合 17" descr=""/>
          <p:cNvPicPr/>
          <p:nvPr/>
        </p:nvPicPr>
        <p:blipFill>
          <a:blip r:embed="rId1"/>
          <a:stretch/>
        </p:blipFill>
        <p:spPr>
          <a:xfrm>
            <a:off x="3656160" y="1247760"/>
            <a:ext cx="1901520" cy="1901880"/>
          </a:xfrm>
          <a:prstGeom prst="rect">
            <a:avLst/>
          </a:prstGeom>
          <a:ln w="0">
            <a:noFill/>
          </a:ln>
        </p:spPr>
      </p:pic>
      <p:sp>
        <p:nvSpPr>
          <p:cNvPr id="680" name="TextBox 14"/>
          <p:cNvSpPr/>
          <p:nvPr/>
        </p:nvSpPr>
        <p:spPr>
          <a:xfrm>
            <a:off x="277920" y="21276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图片 2" descr="T}FP25WX`R%BBWU3F[1Y`PV"/>
          <p:cNvPicPr/>
          <p:nvPr/>
        </p:nvPicPr>
        <p:blipFill>
          <a:blip r:embed="rId1"/>
          <a:stretch/>
        </p:blipFill>
        <p:spPr>
          <a:xfrm>
            <a:off x="154080" y="763560"/>
            <a:ext cx="8837640" cy="428760"/>
          </a:xfrm>
          <a:prstGeom prst="rect">
            <a:avLst/>
          </a:prstGeom>
          <a:ln w="0">
            <a:noFill/>
          </a:ln>
        </p:spPr>
      </p:pic>
      <p:pic>
        <p:nvPicPr>
          <p:cNvPr id="682" name="图片 1" descr="RHS](_)15BYSX2C0ZAT]NOC"/>
          <p:cNvPicPr/>
          <p:nvPr/>
        </p:nvPicPr>
        <p:blipFill>
          <a:blip r:embed="rId2"/>
          <a:stretch/>
        </p:blipFill>
        <p:spPr>
          <a:xfrm>
            <a:off x="154080" y="165240"/>
            <a:ext cx="3552840" cy="495000"/>
          </a:xfrm>
          <a:prstGeom prst="rect">
            <a:avLst/>
          </a:prstGeom>
          <a:ln w="0">
            <a:noFill/>
          </a:ln>
        </p:spPr>
      </p:pic>
      <p:pic>
        <p:nvPicPr>
          <p:cNvPr id="683" name="图片 2" descr="BL1EBA`H6AG{40H0@W[03DQ"/>
          <p:cNvPicPr/>
          <p:nvPr/>
        </p:nvPicPr>
        <p:blipFill>
          <a:blip r:embed="rId3"/>
          <a:stretch/>
        </p:blipFill>
        <p:spPr>
          <a:xfrm>
            <a:off x="730080" y="1309680"/>
            <a:ext cx="8194680" cy="18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85" name="Content Placeholder 2"/>
          <p:cNvSpPr/>
          <p:nvPr/>
        </p:nvSpPr>
        <p:spPr>
          <a:xfrm>
            <a:off x="341280" y="2075040"/>
            <a:ext cx="225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股票价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2"/>
          <p:cNvSpPr/>
          <p:nvPr/>
        </p:nvSpPr>
        <p:spPr>
          <a:xfrm>
            <a:off x="351000" y="403200"/>
            <a:ext cx="222696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一、认知股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3"/>
          <p:cNvSpPr/>
          <p:nvPr/>
        </p:nvSpPr>
        <p:spPr>
          <a:xfrm>
            <a:off x="352440" y="814320"/>
            <a:ext cx="82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股票是股份公司为筹集主权资金而依法发行的有价证券，是用以证明投资者的股东身份、股东权益及其义务，并据以获得股利的一种可以转让的凭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5"/>
          <p:cNvSpPr/>
          <p:nvPr/>
        </p:nvSpPr>
        <p:spPr>
          <a:xfrm>
            <a:off x="2951280" y="2075040"/>
            <a:ext cx="1539720" cy="459720"/>
          </a:xfrm>
          <a:prstGeom prst="rect">
            <a:avLst/>
          </a:prstGeom>
          <a:solidFill>
            <a:srgbClr val="fcf2e0"/>
          </a:solidFill>
          <a:ln w="12600">
            <a:solidFill>
              <a:srgbClr val="f0bd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等线"/>
              </a:rPr>
              <a:t>发行价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6"/>
          <p:cNvSpPr/>
          <p:nvPr/>
        </p:nvSpPr>
        <p:spPr>
          <a:xfrm>
            <a:off x="4687920" y="2062080"/>
            <a:ext cx="1538280" cy="459720"/>
          </a:xfrm>
          <a:prstGeom prst="rect">
            <a:avLst/>
          </a:prstGeom>
          <a:solidFill>
            <a:srgbClr val="fcf2e0"/>
          </a:solidFill>
          <a:ln w="12600">
            <a:solidFill>
              <a:srgbClr val="f0bd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  <a:ea typeface="等线"/>
              </a:rPr>
              <a:t>交易价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Content Placeholder 2"/>
          <p:cNvSpPr/>
          <p:nvPr/>
        </p:nvSpPr>
        <p:spPr>
          <a:xfrm>
            <a:off x="341280" y="2606760"/>
            <a:ext cx="166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股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Content Placeholder 2"/>
          <p:cNvSpPr/>
          <p:nvPr/>
        </p:nvSpPr>
        <p:spPr>
          <a:xfrm>
            <a:off x="387360" y="3127320"/>
            <a:ext cx="257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股票的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Content Placeholder 2"/>
          <p:cNvSpPr/>
          <p:nvPr/>
        </p:nvSpPr>
        <p:spPr>
          <a:xfrm>
            <a:off x="673200" y="3692520"/>
            <a:ext cx="800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投资于股票预期获得未来现金流量的现值，即为股票的价值或内在价值、理论价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694" name="Content Placeholder 2"/>
          <p:cNvSpPr/>
          <p:nvPr/>
        </p:nvSpPr>
        <p:spPr>
          <a:xfrm>
            <a:off x="773280" y="1001880"/>
            <a:ext cx="282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股票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2"/>
          <p:cNvSpPr/>
          <p:nvPr/>
        </p:nvSpPr>
        <p:spPr>
          <a:xfrm>
            <a:off x="339840" y="539640"/>
            <a:ext cx="369252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二、股票决策的评价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Content Placeholder 2"/>
          <p:cNvSpPr/>
          <p:nvPr/>
        </p:nvSpPr>
        <p:spPr>
          <a:xfrm>
            <a:off x="773280" y="2075040"/>
            <a:ext cx="348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股票投资收益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Content Placeholder 2"/>
          <p:cNvSpPr/>
          <p:nvPr/>
        </p:nvSpPr>
        <p:spPr>
          <a:xfrm>
            <a:off x="773280" y="3465360"/>
            <a:ext cx="222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市盈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对象 31" descr=""/>
          <p:cNvPicPr/>
          <p:nvPr/>
        </p:nvPicPr>
        <p:blipFill>
          <a:blip r:embed="rId2"/>
          <a:stretch/>
        </p:blipFill>
        <p:spPr>
          <a:xfrm>
            <a:off x="1647720" y="1371600"/>
            <a:ext cx="6802560" cy="704880"/>
          </a:xfrm>
          <a:prstGeom prst="rect">
            <a:avLst/>
          </a:prstGeom>
          <a:ln w="0">
            <a:noFill/>
          </a:ln>
        </p:spPr>
      </p:pic>
      <p:sp>
        <p:nvSpPr>
          <p:cNvPr id="699" name="Content Placeholder 2"/>
          <p:cNvSpPr/>
          <p:nvPr/>
        </p:nvSpPr>
        <p:spPr>
          <a:xfrm>
            <a:off x="1647720" y="2562120"/>
            <a:ext cx="6802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股票投资未来现金流入量总现值等于目前购买价格时的贴现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对象 32" descr=""/>
          <p:cNvPicPr/>
          <p:nvPr/>
        </p:nvPicPr>
        <p:blipFill>
          <a:blip r:embed="rId3"/>
          <a:stretch/>
        </p:blipFill>
        <p:spPr>
          <a:xfrm>
            <a:off x="2876400" y="3835440"/>
            <a:ext cx="3316320" cy="8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图片 1" descr="$N7}J63}4VN324OU(IBY92J"/>
          <p:cNvPicPr/>
          <p:nvPr/>
        </p:nvPicPr>
        <p:blipFill>
          <a:blip r:embed="rId1"/>
          <a:stretch/>
        </p:blipFill>
        <p:spPr>
          <a:xfrm>
            <a:off x="0" y="20520"/>
            <a:ext cx="9144000" cy="478080"/>
          </a:xfrm>
          <a:prstGeom prst="rect">
            <a:avLst/>
          </a:prstGeom>
          <a:ln w="0">
            <a:noFill/>
          </a:ln>
        </p:spPr>
      </p:pic>
      <p:sp>
        <p:nvSpPr>
          <p:cNvPr id="702" name="TextBox 15"/>
          <p:cNvSpPr/>
          <p:nvPr/>
        </p:nvSpPr>
        <p:spPr>
          <a:xfrm>
            <a:off x="339840" y="539640"/>
            <a:ext cx="3003480" cy="45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三、股票投资的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6"/>
          <p:cNvSpPr/>
          <p:nvPr/>
        </p:nvSpPr>
        <p:spPr>
          <a:xfrm>
            <a:off x="353880" y="1076400"/>
            <a:ext cx="51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正确认识股票投资优缺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16"/>
          <p:cNvSpPr/>
          <p:nvPr/>
        </p:nvSpPr>
        <p:spPr>
          <a:xfrm>
            <a:off x="4529160" y="1542960"/>
            <a:ext cx="38862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Calibri"/>
                <a:ea typeface="等线"/>
              </a:rPr>
              <a:t>股票投资的缺点</a:t>
            </a:r>
            <a:r>
              <a:rPr b="0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1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求偿权居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2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价格不稳定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3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收入不稳定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16"/>
          <p:cNvSpPr/>
          <p:nvPr/>
        </p:nvSpPr>
        <p:spPr>
          <a:xfrm>
            <a:off x="423720" y="3227400"/>
            <a:ext cx="64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合理测算好决策的评价指标并进行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16"/>
          <p:cNvSpPr/>
          <p:nvPr/>
        </p:nvSpPr>
        <p:spPr>
          <a:xfrm>
            <a:off x="393840" y="1582560"/>
            <a:ext cx="388620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Calibri"/>
                <a:ea typeface="等线"/>
              </a:rPr>
              <a:t>相对于债券，股票投资的优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1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投资收益较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2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购买力风险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  <a:ea typeface="等线"/>
              </a:rPr>
              <a:t>3.</a:t>
            </a:r>
            <a:r>
              <a:rPr b="1" lang="zh-CN" sz="2200" spc="-1" strike="noStrike">
                <a:solidFill>
                  <a:srgbClr val="002060"/>
                </a:solidFill>
                <a:latin typeface="Calibri"/>
                <a:ea typeface="等线"/>
              </a:rPr>
              <a:t>拥有经营控制权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16"/>
          <p:cNvSpPr/>
          <p:nvPr/>
        </p:nvSpPr>
        <p:spPr>
          <a:xfrm>
            <a:off x="436680" y="3825720"/>
            <a:ext cx="781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一般来说，在市场收益和风险较为均衡的情况下，价值或收益率越高，越具有投资价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图片 1" descr="$_9EVAHOA96]R]H74Y5P%[E"/>
          <p:cNvPicPr/>
          <p:nvPr/>
        </p:nvPicPr>
        <p:blipFill>
          <a:blip r:embed="rId1"/>
          <a:stretch/>
        </p:blipFill>
        <p:spPr>
          <a:xfrm>
            <a:off x="15840" y="23760"/>
            <a:ext cx="8847000" cy="376200"/>
          </a:xfrm>
          <a:prstGeom prst="rect">
            <a:avLst/>
          </a:prstGeom>
          <a:ln w="0">
            <a:noFill/>
          </a:ln>
        </p:spPr>
      </p:pic>
      <p:sp>
        <p:nvSpPr>
          <p:cNvPr id="709" name="文本框 99"/>
          <p:cNvSpPr/>
          <p:nvPr/>
        </p:nvSpPr>
        <p:spPr>
          <a:xfrm>
            <a:off x="774720" y="317520"/>
            <a:ext cx="282888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价值评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1"/>
          <p:cNvSpPr/>
          <p:nvPr/>
        </p:nvSpPr>
        <p:spPr>
          <a:xfrm>
            <a:off x="3421080" y="317520"/>
            <a:ext cx="1508040" cy="45972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主要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4"/>
          <p:cNvSpPr/>
          <p:nvPr/>
        </p:nvSpPr>
        <p:spPr>
          <a:xfrm>
            <a:off x="457200" y="1301760"/>
            <a:ext cx="601200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等线"/>
              </a:rPr>
              <a:t>股利零增长、长期持有的股票价值计算模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7"/>
          <p:cNvSpPr/>
          <p:nvPr/>
        </p:nvSpPr>
        <p:spPr>
          <a:xfrm>
            <a:off x="457200" y="1930320"/>
            <a:ext cx="620064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等线"/>
              </a:rPr>
              <a:t>股利固定增长、长期持有的股票价值计算模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Object 3" descr=""/>
          <p:cNvPicPr/>
          <p:nvPr/>
        </p:nvPicPr>
        <p:blipFill>
          <a:blip r:embed="rId2"/>
          <a:stretch/>
        </p:blipFill>
        <p:spPr>
          <a:xfrm>
            <a:off x="6826320" y="1096920"/>
            <a:ext cx="1165320" cy="1057320"/>
          </a:xfrm>
          <a:prstGeom prst="rect">
            <a:avLst/>
          </a:prstGeom>
          <a:ln w="0">
            <a:noFill/>
          </a:ln>
        </p:spPr>
      </p:pic>
      <p:pic>
        <p:nvPicPr>
          <p:cNvPr id="714" name="Object 5" descr=""/>
          <p:cNvPicPr/>
          <p:nvPr/>
        </p:nvPicPr>
        <p:blipFill>
          <a:blip r:embed="rId3"/>
          <a:stretch/>
        </p:blipFill>
        <p:spPr>
          <a:xfrm>
            <a:off x="457200" y="2455920"/>
            <a:ext cx="2181240" cy="869760"/>
          </a:xfrm>
          <a:prstGeom prst="rect">
            <a:avLst/>
          </a:prstGeom>
          <a:ln w="0">
            <a:noFill/>
          </a:ln>
        </p:spPr>
      </p:pic>
      <p:sp>
        <p:nvSpPr>
          <p:cNvPr id="715" name="TextBox 12"/>
          <p:cNvSpPr/>
          <p:nvPr/>
        </p:nvSpPr>
        <p:spPr>
          <a:xfrm>
            <a:off x="2755800" y="2610000"/>
            <a:ext cx="547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当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g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为常数时，并且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k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＞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g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时，上式可简化为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Object 7" descr=""/>
          <p:cNvPicPr/>
          <p:nvPr/>
        </p:nvPicPr>
        <p:blipFill>
          <a:blip r:embed="rId4"/>
          <a:stretch/>
        </p:blipFill>
        <p:spPr>
          <a:xfrm>
            <a:off x="3086280" y="3040200"/>
            <a:ext cx="3273120" cy="982440"/>
          </a:xfrm>
          <a:prstGeom prst="rect">
            <a:avLst/>
          </a:prstGeom>
          <a:ln w="0">
            <a:noFill/>
          </a:ln>
        </p:spPr>
      </p:pic>
      <p:sp>
        <p:nvSpPr>
          <p:cNvPr id="717" name="TextBox 3"/>
          <p:cNvSpPr/>
          <p:nvPr/>
        </p:nvSpPr>
        <p:spPr>
          <a:xfrm>
            <a:off x="560520" y="4203720"/>
            <a:ext cx="504036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等线"/>
              </a:rPr>
              <a:t>股利非固定增长股票的价值计算模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4"/>
          <p:cNvSpPr/>
          <p:nvPr/>
        </p:nvSpPr>
        <p:spPr>
          <a:xfrm>
            <a:off x="457200" y="803160"/>
            <a:ext cx="180648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等线"/>
              </a:rPr>
              <a:t>基本模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图片 1" descr="6[JRC]NNJUOHUUG$VFQ5~RE"/>
          <p:cNvPicPr/>
          <p:nvPr/>
        </p:nvPicPr>
        <p:blipFill>
          <a:blip r:embed="rId1"/>
          <a:stretch/>
        </p:blipFill>
        <p:spPr>
          <a:xfrm>
            <a:off x="-11160" y="3240"/>
            <a:ext cx="1028880" cy="869760"/>
          </a:xfrm>
          <a:prstGeom prst="rect">
            <a:avLst/>
          </a:prstGeom>
          <a:ln w="0">
            <a:noFill/>
          </a:ln>
        </p:spPr>
      </p:pic>
      <p:sp>
        <p:nvSpPr>
          <p:cNvPr id="552" name="文本框 2"/>
          <p:cNvSpPr/>
          <p:nvPr/>
        </p:nvSpPr>
        <p:spPr>
          <a:xfrm>
            <a:off x="1017720" y="98280"/>
            <a:ext cx="25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【学习情境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99"/>
          <p:cNvSpPr/>
          <p:nvPr/>
        </p:nvSpPr>
        <p:spPr>
          <a:xfrm>
            <a:off x="306360" y="614520"/>
            <a:ext cx="853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.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计划用部分资金购买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G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石化于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020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7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日发行的五年期债券，债券面值为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00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元，票面利率为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0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每年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30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日付息一次，到期一次还本，债券发行价格为每份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05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.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公司希望在证券市场上通过持有相关公司股份进入新能源市场，以提高公司的市场竞争力。通过市场分析，认为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Q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能源公司的发展前景良好，准备购入该公司股票进行长期投资。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Q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能源股票目前的市场价格为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2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元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股，今年已经支付的股利为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0.5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元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股，预测未来股利稳定增长，年增长率在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2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G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能源所在新能源行业目前的平均市盈率为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30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证券投资的目的主要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如何进行证券的投资决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20" name="文本框 99"/>
          <p:cNvSpPr/>
          <p:nvPr/>
        </p:nvSpPr>
        <p:spPr>
          <a:xfrm>
            <a:off x="330120" y="777960"/>
            <a:ext cx="83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打算购入某种股票，准备持有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预期的必要收益率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三年后股票市价预计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6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股，预计该股票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分得的股利分别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.5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和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。对该股票进行估价，并根据股票的现实价格做出投资决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1"/>
          <p:cNvSpPr/>
          <p:nvPr/>
        </p:nvSpPr>
        <p:spPr>
          <a:xfrm>
            <a:off x="1130400" y="2346480"/>
            <a:ext cx="751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V=4×(P/F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2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)+4.5×(P/F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2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)+5×(P/F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2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3)+36×(P/F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2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=4×0.892 9+4.5×0.797 2+5×0.711 8+36×0.71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≈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36.34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2"/>
          <p:cNvSpPr/>
          <p:nvPr/>
        </p:nvSpPr>
        <p:spPr>
          <a:xfrm>
            <a:off x="728640" y="380376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根据上述计算，当股票的市价等于或低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6.34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元时，其收益率等于或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%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可以投资；当高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6.34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元时，不适宜购买该只股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99"/>
          <p:cNvSpPr/>
          <p:nvPr/>
        </p:nvSpPr>
        <p:spPr>
          <a:xfrm>
            <a:off x="774720" y="317520"/>
            <a:ext cx="282888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价值评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"/>
          <p:cNvSpPr/>
          <p:nvPr/>
        </p:nvSpPr>
        <p:spPr>
          <a:xfrm>
            <a:off x="3421080" y="317520"/>
            <a:ext cx="1508040" cy="45972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基本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26" name="文本框 99"/>
          <p:cNvSpPr/>
          <p:nvPr/>
        </p:nvSpPr>
        <p:spPr>
          <a:xfrm>
            <a:off x="374760" y="853920"/>
            <a:ext cx="839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投资某公司股票的必要收益率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现拟购买某公司发行的股利固定增长股票，预计股利年增长率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8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今年已经发放的股利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／股。计算该股票价格为多少元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W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才可以投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99"/>
          <p:cNvSpPr/>
          <p:nvPr/>
        </p:nvSpPr>
        <p:spPr>
          <a:xfrm>
            <a:off x="203040" y="393840"/>
            <a:ext cx="282924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价值评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对象 35" descr=""/>
          <p:cNvPicPr/>
          <p:nvPr/>
        </p:nvPicPr>
        <p:blipFill>
          <a:blip r:embed="rId2"/>
          <a:stretch/>
        </p:blipFill>
        <p:spPr>
          <a:xfrm>
            <a:off x="2030400" y="2422440"/>
            <a:ext cx="3735360" cy="879480"/>
          </a:xfrm>
          <a:prstGeom prst="rect">
            <a:avLst/>
          </a:prstGeom>
          <a:ln w="0">
            <a:noFill/>
          </a:ln>
        </p:spPr>
      </p:pic>
      <p:sp>
        <p:nvSpPr>
          <p:cNvPr id="729" name="文本框 2"/>
          <p:cNvSpPr/>
          <p:nvPr/>
        </p:nvSpPr>
        <p:spPr>
          <a:xfrm>
            <a:off x="739800" y="318780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当股票价格等于或低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8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元时，公司才可以购买此股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4"/>
          <p:cNvSpPr/>
          <p:nvPr/>
        </p:nvSpPr>
        <p:spPr>
          <a:xfrm>
            <a:off x="2701800" y="317520"/>
            <a:ext cx="5700960" cy="45972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股利固定增长、长期持有的股票价值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图片 5" descr="MN{$RK}PC0_4RH`H%)3D{QF"/>
          <p:cNvPicPr/>
          <p:nvPr/>
        </p:nvPicPr>
        <p:blipFill>
          <a:blip r:embed="rId3"/>
          <a:stretch/>
        </p:blipFill>
        <p:spPr>
          <a:xfrm>
            <a:off x="601560" y="4017960"/>
            <a:ext cx="765360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33" name="文本框 99"/>
          <p:cNvSpPr/>
          <p:nvPr/>
        </p:nvSpPr>
        <p:spPr>
          <a:xfrm>
            <a:off x="374760" y="853920"/>
            <a:ext cx="839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准备购买东南电子的股票，要求达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0%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收益率，该公司今年的股利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0.8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股，预计东南电子股利未来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以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速度高速增长，而后以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8%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速度转入固定增长。计算该股票价格为多少元时公司才可以投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99"/>
          <p:cNvSpPr/>
          <p:nvPr/>
        </p:nvSpPr>
        <p:spPr>
          <a:xfrm>
            <a:off x="203040" y="393840"/>
            <a:ext cx="282924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价值评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2"/>
          <p:cNvSpPr/>
          <p:nvPr/>
        </p:nvSpPr>
        <p:spPr>
          <a:xfrm>
            <a:off x="1189080" y="4192560"/>
            <a:ext cx="31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本例计算过程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文本框 5"/>
          <p:cNvSpPr/>
          <p:nvPr/>
        </p:nvSpPr>
        <p:spPr>
          <a:xfrm>
            <a:off x="2701800" y="317520"/>
            <a:ext cx="4721400" cy="45972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股利非固定增长的股票价值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6"/>
          <p:cNvSpPr/>
          <p:nvPr/>
        </p:nvSpPr>
        <p:spPr>
          <a:xfrm>
            <a:off x="1189080" y="2986200"/>
            <a:ext cx="6478560" cy="4597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V=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高速增长阶段现值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+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固定增长阶段现值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+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固定不变阶段现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39" name="文本框 99"/>
          <p:cNvSpPr/>
          <p:nvPr/>
        </p:nvSpPr>
        <p:spPr>
          <a:xfrm>
            <a:off x="203040" y="393840"/>
            <a:ext cx="282924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价值评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2"/>
          <p:cNvSpPr/>
          <p:nvPr/>
        </p:nvSpPr>
        <p:spPr>
          <a:xfrm>
            <a:off x="739800" y="4363920"/>
            <a:ext cx="66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V=49.361 4×0.751 3+2.318 1 ≈ 39.40(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元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文本框 5"/>
          <p:cNvSpPr/>
          <p:nvPr/>
        </p:nvSpPr>
        <p:spPr>
          <a:xfrm>
            <a:off x="2701800" y="317520"/>
            <a:ext cx="4721400" cy="45972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股利非固定增长的股票价值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文本框 6"/>
          <p:cNvSpPr/>
          <p:nvPr/>
        </p:nvSpPr>
        <p:spPr>
          <a:xfrm>
            <a:off x="363600" y="853920"/>
            <a:ext cx="6478560" cy="4597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第一步：计算高速增长阶段现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7" descr=""/>
          <p:cNvPicPr/>
          <p:nvPr/>
        </p:nvPicPr>
        <p:blipFill>
          <a:blip r:embed="rId2"/>
          <a:stretch/>
        </p:blipFill>
        <p:spPr>
          <a:xfrm>
            <a:off x="465120" y="1314360"/>
            <a:ext cx="8002440" cy="1446480"/>
          </a:xfrm>
          <a:prstGeom prst="rect">
            <a:avLst/>
          </a:prstGeom>
          <a:ln w="0">
            <a:noFill/>
          </a:ln>
        </p:spPr>
      </p:pic>
      <p:sp>
        <p:nvSpPr>
          <p:cNvPr id="744" name="文本框 8"/>
          <p:cNvSpPr/>
          <p:nvPr/>
        </p:nvSpPr>
        <p:spPr>
          <a:xfrm>
            <a:off x="465120" y="2760840"/>
            <a:ext cx="7701120" cy="4597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第二步：计算固定增长阶段现值（至第三年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对象 36" descr=""/>
          <p:cNvPicPr/>
          <p:nvPr/>
        </p:nvPicPr>
        <p:blipFill>
          <a:blip r:embed="rId3"/>
          <a:stretch/>
        </p:blipFill>
        <p:spPr>
          <a:xfrm>
            <a:off x="1730520" y="3220920"/>
            <a:ext cx="3595680" cy="608040"/>
          </a:xfrm>
          <a:prstGeom prst="rect">
            <a:avLst/>
          </a:prstGeom>
          <a:ln w="0">
            <a:noFill/>
          </a:ln>
        </p:spPr>
      </p:pic>
      <p:sp>
        <p:nvSpPr>
          <p:cNvPr id="746" name="文本框 15"/>
          <p:cNvSpPr/>
          <p:nvPr/>
        </p:nvSpPr>
        <p:spPr>
          <a:xfrm>
            <a:off x="465120" y="3828960"/>
            <a:ext cx="4467240" cy="4597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第三步：计算内在价值合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48" name="文本框 99"/>
          <p:cNvSpPr/>
          <p:nvPr/>
        </p:nvSpPr>
        <p:spPr>
          <a:xfrm>
            <a:off x="203040" y="393840"/>
            <a:ext cx="33879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收益率的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4"/>
          <p:cNvSpPr/>
          <p:nvPr/>
        </p:nvSpPr>
        <p:spPr>
          <a:xfrm>
            <a:off x="561960" y="1128600"/>
            <a:ext cx="318780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等线"/>
              </a:rPr>
              <a:t>短期股票投资收益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7"/>
          <p:cNvSpPr/>
          <p:nvPr/>
        </p:nvSpPr>
        <p:spPr>
          <a:xfrm>
            <a:off x="550800" y="1871640"/>
            <a:ext cx="510876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等线"/>
              </a:rPr>
              <a:t>股利零增长、长期持有的股票收益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Object 3" descr=""/>
          <p:cNvPicPr/>
          <p:nvPr/>
        </p:nvPicPr>
        <p:blipFill>
          <a:blip r:embed="rId2"/>
          <a:stretch/>
        </p:blipFill>
        <p:spPr>
          <a:xfrm>
            <a:off x="4132440" y="938160"/>
            <a:ext cx="2560320" cy="692280"/>
          </a:xfrm>
          <a:prstGeom prst="rect">
            <a:avLst/>
          </a:prstGeom>
          <a:ln w="0">
            <a:noFill/>
          </a:ln>
        </p:spPr>
      </p:pic>
      <p:pic>
        <p:nvPicPr>
          <p:cNvPr id="752" name="Object 7" descr=""/>
          <p:cNvPicPr/>
          <p:nvPr/>
        </p:nvPicPr>
        <p:blipFill>
          <a:blip r:embed="rId3"/>
          <a:stretch/>
        </p:blipFill>
        <p:spPr>
          <a:xfrm>
            <a:off x="6014880" y="1635120"/>
            <a:ext cx="1101960" cy="919080"/>
          </a:xfrm>
          <a:prstGeom prst="rect">
            <a:avLst/>
          </a:prstGeom>
          <a:ln w="0">
            <a:noFill/>
          </a:ln>
        </p:spPr>
      </p:pic>
      <p:sp>
        <p:nvSpPr>
          <p:cNvPr id="753" name="TextBox 15"/>
          <p:cNvSpPr/>
          <p:nvPr/>
        </p:nvSpPr>
        <p:spPr>
          <a:xfrm>
            <a:off x="614520" y="2500200"/>
            <a:ext cx="522900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等线"/>
              </a:rPr>
              <a:t>股利固定增长、长期持有的股票收益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Object 11" descr=""/>
          <p:cNvPicPr/>
          <p:nvPr/>
        </p:nvPicPr>
        <p:blipFill>
          <a:blip r:embed="rId4"/>
          <a:stretch/>
        </p:blipFill>
        <p:spPr>
          <a:xfrm>
            <a:off x="6272280" y="2611440"/>
            <a:ext cx="1407960" cy="770040"/>
          </a:xfrm>
          <a:prstGeom prst="rect">
            <a:avLst/>
          </a:prstGeom>
          <a:ln w="0">
            <a:noFill/>
          </a:ln>
        </p:spPr>
      </p:pic>
      <p:sp>
        <p:nvSpPr>
          <p:cNvPr id="755" name="TextBox 22"/>
          <p:cNvSpPr/>
          <p:nvPr/>
        </p:nvSpPr>
        <p:spPr>
          <a:xfrm>
            <a:off x="706320" y="3406680"/>
            <a:ext cx="5510160" cy="42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等线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等线"/>
              </a:rPr>
              <a:t>一般情况下长期持有的股票投资收益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Object 13" descr=""/>
          <p:cNvPicPr/>
          <p:nvPr/>
        </p:nvPicPr>
        <p:blipFill>
          <a:blip r:embed="rId5"/>
          <a:stretch/>
        </p:blipFill>
        <p:spPr>
          <a:xfrm>
            <a:off x="919080" y="4032360"/>
            <a:ext cx="6591240" cy="6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Box 2"/>
          <p:cNvSpPr/>
          <p:nvPr/>
        </p:nvSpPr>
        <p:spPr>
          <a:xfrm>
            <a:off x="254160" y="208080"/>
            <a:ext cx="1296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文本框 99"/>
          <p:cNvSpPr/>
          <p:nvPr/>
        </p:nvSpPr>
        <p:spPr>
          <a:xfrm>
            <a:off x="254160" y="853920"/>
            <a:ext cx="839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于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投资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10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元，购买某种股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00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股。根据被投资公司的股利政策，预计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02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02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和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02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的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0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的每股现金股利分别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0.6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和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0.8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计划于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02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5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将股票全部出售，预测此时股价为以每股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，公司此时要求的必要报酬率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6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计算该项投资的收益率并判断该投资是否可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60" name="文本框 99"/>
          <p:cNvSpPr/>
          <p:nvPr/>
        </p:nvSpPr>
        <p:spPr>
          <a:xfrm>
            <a:off x="203040" y="393840"/>
            <a:ext cx="33879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收益率的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1"/>
          <p:cNvSpPr/>
          <p:nvPr/>
        </p:nvSpPr>
        <p:spPr>
          <a:xfrm>
            <a:off x="254160" y="3530520"/>
            <a:ext cx="71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设该项投资的收益率为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，根据题意，列如下等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2"/>
          <p:cNvSpPr/>
          <p:nvPr/>
        </p:nvSpPr>
        <p:spPr>
          <a:xfrm>
            <a:off x="361800" y="3990960"/>
            <a:ext cx="8132760" cy="82548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510=100×0.5×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P/F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k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+100×0.6×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P/F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k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+100×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6+0.8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×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P/F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k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2"/>
          <p:cNvSpPr/>
          <p:nvPr/>
        </p:nvSpPr>
        <p:spPr>
          <a:xfrm>
            <a:off x="254160" y="208080"/>
            <a:ext cx="1296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65" name="文本框 99"/>
          <p:cNvSpPr/>
          <p:nvPr/>
        </p:nvSpPr>
        <p:spPr>
          <a:xfrm>
            <a:off x="203040" y="393840"/>
            <a:ext cx="33879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收益率的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1"/>
          <p:cNvSpPr/>
          <p:nvPr/>
        </p:nvSpPr>
        <p:spPr>
          <a:xfrm>
            <a:off x="3232080" y="3999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采用逐步测试法和内插法进行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2"/>
          <p:cNvSpPr/>
          <p:nvPr/>
        </p:nvSpPr>
        <p:spPr>
          <a:xfrm>
            <a:off x="361800" y="4059360"/>
            <a:ext cx="8132760" cy="4597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由于该股票投资收益率大于公司要求的必要报酬率，所以该股票可以购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图片 3" descr="SNGXY_0B$`TFWWRD60RPNZC"/>
          <p:cNvPicPr/>
          <p:nvPr/>
        </p:nvPicPr>
        <p:blipFill>
          <a:blip r:embed="rId2"/>
          <a:stretch/>
        </p:blipFill>
        <p:spPr>
          <a:xfrm>
            <a:off x="647640" y="860400"/>
            <a:ext cx="7128000" cy="2354400"/>
          </a:xfrm>
          <a:prstGeom prst="rect">
            <a:avLst/>
          </a:prstGeom>
          <a:ln w="0">
            <a:noFill/>
          </a:ln>
        </p:spPr>
      </p:pic>
      <p:pic>
        <p:nvPicPr>
          <p:cNvPr id="769" name="对象 37" descr=""/>
          <p:cNvPicPr/>
          <p:nvPr/>
        </p:nvPicPr>
        <p:blipFill>
          <a:blip r:embed="rId3"/>
          <a:stretch/>
        </p:blipFill>
        <p:spPr>
          <a:xfrm>
            <a:off x="1550880" y="3284640"/>
            <a:ext cx="5246640" cy="633240"/>
          </a:xfrm>
          <a:prstGeom prst="rect">
            <a:avLst/>
          </a:prstGeom>
          <a:ln w="0">
            <a:noFill/>
          </a:ln>
        </p:spPr>
      </p:pic>
      <p:pic>
        <p:nvPicPr>
          <p:cNvPr id="770" name="对象 37" descr=""/>
          <p:cNvPicPr/>
          <p:nvPr/>
        </p:nvPicPr>
        <p:blipFill>
          <a:blip r:embed="rId4"/>
          <a:stretch/>
        </p:blipFill>
        <p:spPr>
          <a:xfrm>
            <a:off x="3490920" y="2554200"/>
            <a:ext cx="2416320" cy="292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2"/>
          <p:cNvSpPr/>
          <p:nvPr/>
        </p:nvSpPr>
        <p:spPr>
          <a:xfrm>
            <a:off x="254160" y="208080"/>
            <a:ext cx="1296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99"/>
          <p:cNvSpPr/>
          <p:nvPr/>
        </p:nvSpPr>
        <p:spPr>
          <a:xfrm>
            <a:off x="254160" y="853920"/>
            <a:ext cx="83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投资某公司股票的必要收益率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现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0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股的价格购买某公司发行的股利固定增长股票，预计股利年增长率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8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今年已经发放的股利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／股。计算该项投资的收益率并判断该投资是否可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74" name="文本框 99"/>
          <p:cNvSpPr/>
          <p:nvPr/>
        </p:nvSpPr>
        <p:spPr>
          <a:xfrm>
            <a:off x="203040" y="393840"/>
            <a:ext cx="33879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股票收益率的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1"/>
          <p:cNvSpPr/>
          <p:nvPr/>
        </p:nvSpPr>
        <p:spPr>
          <a:xfrm>
            <a:off x="254160" y="2343240"/>
            <a:ext cx="65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根据固定股利增长股票价值模型公式，可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得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2"/>
          <p:cNvSpPr/>
          <p:nvPr/>
        </p:nvSpPr>
        <p:spPr>
          <a:xfrm>
            <a:off x="361800" y="3683160"/>
            <a:ext cx="8132760" cy="4597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经测算，该股票的预期收益率高于公司要求的报酬率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0%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，可以购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对象 40" descr=""/>
          <p:cNvPicPr/>
          <p:nvPr/>
        </p:nvPicPr>
        <p:blipFill>
          <a:blip r:embed="rId2"/>
          <a:stretch/>
        </p:blipFill>
        <p:spPr>
          <a:xfrm>
            <a:off x="1285920" y="2803680"/>
            <a:ext cx="3532320" cy="699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图片 1" descr="[5[}4VGIJ}XITR]HPZJ395F"/>
          <p:cNvPicPr/>
          <p:nvPr/>
        </p:nvPicPr>
        <p:blipFill>
          <a:blip r:embed="rId1"/>
          <a:stretch/>
        </p:blipFill>
        <p:spPr>
          <a:xfrm>
            <a:off x="466560" y="243000"/>
            <a:ext cx="2865600" cy="430200"/>
          </a:xfrm>
          <a:prstGeom prst="rect">
            <a:avLst/>
          </a:prstGeom>
          <a:ln w="0">
            <a:noFill/>
          </a:ln>
        </p:spPr>
      </p:pic>
      <p:sp>
        <p:nvSpPr>
          <p:cNvPr id="779" name="文本框 99"/>
          <p:cNvSpPr/>
          <p:nvPr/>
        </p:nvSpPr>
        <p:spPr>
          <a:xfrm>
            <a:off x="1249200" y="1165320"/>
            <a:ext cx="66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如果短期投资股票，投资期在一年以内，如何计算股票的收益率？如果长期持有固定收益的股票，收益率又如何计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Box 2"/>
          <p:cNvSpPr/>
          <p:nvPr/>
        </p:nvSpPr>
        <p:spPr>
          <a:xfrm>
            <a:off x="254160" y="208080"/>
            <a:ext cx="1296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99"/>
          <p:cNvSpPr/>
          <p:nvPr/>
        </p:nvSpPr>
        <p:spPr>
          <a:xfrm>
            <a:off x="254160" y="853920"/>
            <a:ext cx="83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【工作实例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-</a:t>
            </a:r>
            <a:r>
              <a:rPr b="1" lang="en-US" sz="2400" spc="-1" strike="noStrike">
                <a:solidFill>
                  <a:srgbClr val="00a1e9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00a1e9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拟购买的某公司股票每股盈利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，市场价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，市场上该行业平均市盈率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9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分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W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购买该股票的价格是否合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83" name="文本框 99"/>
          <p:cNvSpPr/>
          <p:nvPr/>
        </p:nvSpPr>
        <p:spPr>
          <a:xfrm>
            <a:off x="203040" y="393840"/>
            <a:ext cx="33879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市盈率的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1"/>
          <p:cNvSpPr/>
          <p:nvPr/>
        </p:nvSpPr>
        <p:spPr>
          <a:xfrm>
            <a:off x="254160" y="2147760"/>
            <a:ext cx="65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股票目前市盈率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=24÷3=8(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倍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2"/>
          <p:cNvSpPr/>
          <p:nvPr/>
        </p:nvSpPr>
        <p:spPr>
          <a:xfrm>
            <a:off x="361800" y="3408480"/>
            <a:ext cx="8132760" cy="45972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结论：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所投资股票目前的市盈率低于行业平均市盈率，股价基本属于正常，有一定的吸引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5"/>
          <p:cNvSpPr/>
          <p:nvPr/>
        </p:nvSpPr>
        <p:spPr>
          <a:xfrm>
            <a:off x="254160" y="2637000"/>
            <a:ext cx="65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该股票价值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=3×9=27(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元 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图片 2" descr="FA}XE4O8P9)N1I5X4[SSN7P"/>
          <p:cNvPicPr/>
          <p:nvPr/>
        </p:nvPicPr>
        <p:blipFill>
          <a:blip r:embed="rId1"/>
          <a:stretch/>
        </p:blipFill>
        <p:spPr>
          <a:xfrm>
            <a:off x="63360" y="60480"/>
            <a:ext cx="2457720" cy="590400"/>
          </a:xfrm>
          <a:prstGeom prst="rect">
            <a:avLst/>
          </a:prstGeom>
          <a:ln w="0">
            <a:noFill/>
          </a:ln>
        </p:spPr>
      </p:pic>
      <p:sp>
        <p:nvSpPr>
          <p:cNvPr id="555" name="文本框 3"/>
          <p:cNvSpPr/>
          <p:nvPr/>
        </p:nvSpPr>
        <p:spPr>
          <a:xfrm>
            <a:off x="719280" y="9795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本项目学习，要完成如下工作任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债券投资的决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股票投资的决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Box 2"/>
          <p:cNvSpPr/>
          <p:nvPr/>
        </p:nvSpPr>
        <p:spPr>
          <a:xfrm>
            <a:off x="254160" y="208080"/>
            <a:ext cx="1296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1" descr="$_9EVAHOA96]R]H74Y5P%[E"/>
          <p:cNvPicPr/>
          <p:nvPr/>
        </p:nvPicPr>
        <p:blipFill>
          <a:blip r:embed="rId1"/>
          <a:stretch/>
        </p:blipFill>
        <p:spPr>
          <a:xfrm>
            <a:off x="4680" y="23760"/>
            <a:ext cx="8847360" cy="376200"/>
          </a:xfrm>
          <a:prstGeom prst="rect">
            <a:avLst/>
          </a:prstGeom>
          <a:ln w="0">
            <a:noFill/>
          </a:ln>
        </p:spPr>
      </p:pic>
      <p:sp>
        <p:nvSpPr>
          <p:cNvPr id="789" name="文本框 99"/>
          <p:cNvSpPr/>
          <p:nvPr/>
        </p:nvSpPr>
        <p:spPr>
          <a:xfrm>
            <a:off x="203040" y="393840"/>
            <a:ext cx="3387960" cy="45972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市盈率的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4"/>
          <p:cNvSpPr/>
          <p:nvPr/>
        </p:nvSpPr>
        <p:spPr>
          <a:xfrm>
            <a:off x="422280" y="853920"/>
            <a:ext cx="801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  <a:ea typeface="宋体"/>
              </a:rPr>
              <a:t>市盈率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就是股票市价和每股盈利的比率，即表示投资人愿意用盈利的多少倍来购买这种股票，是市场对该股票的评价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9"/>
          <p:cNvSpPr/>
          <p:nvPr/>
        </p:nvSpPr>
        <p:spPr>
          <a:xfrm>
            <a:off x="743040" y="2325600"/>
            <a:ext cx="659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股票价格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该股票市盈率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×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该股票每股盈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股票价值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行业平均市盈率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×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该股票每股盈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Object 8" descr=""/>
          <p:cNvPicPr/>
          <p:nvPr/>
        </p:nvPicPr>
        <p:blipFill>
          <a:blip r:embed="rId2"/>
          <a:stretch/>
        </p:blipFill>
        <p:spPr>
          <a:xfrm>
            <a:off x="2171880" y="1639800"/>
            <a:ext cx="2844720" cy="725400"/>
          </a:xfrm>
          <a:prstGeom prst="rect">
            <a:avLst/>
          </a:prstGeom>
          <a:ln w="0">
            <a:noFill/>
          </a:ln>
        </p:spPr>
      </p:pic>
      <p:sp>
        <p:nvSpPr>
          <p:cNvPr id="793" name="TextBox 22"/>
          <p:cNvSpPr/>
          <p:nvPr/>
        </p:nvSpPr>
        <p:spPr>
          <a:xfrm>
            <a:off x="336600" y="3178080"/>
            <a:ext cx="818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  <a:ea typeface="宋体"/>
              </a:rPr>
              <a:t>评价：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1.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市盈率高低可能代表了投资者对等公司的信心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市盈率高低会受到市场其它非正常因素的影响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通常认为，市盈率在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倍～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20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之间比较正常，但并不绝对，各行业的正常值有区别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图片 1" descr=""/>
          <p:cNvPicPr/>
          <p:nvPr/>
        </p:nvPicPr>
        <p:blipFill>
          <a:blip r:embed="rId1"/>
          <a:stretch/>
        </p:blipFill>
        <p:spPr>
          <a:xfrm>
            <a:off x="246240" y="73080"/>
            <a:ext cx="3257280" cy="519120"/>
          </a:xfrm>
          <a:prstGeom prst="rect">
            <a:avLst/>
          </a:prstGeom>
          <a:ln w="0">
            <a:noFill/>
          </a:ln>
        </p:spPr>
      </p:pic>
      <p:sp>
        <p:nvSpPr>
          <p:cNvPr id="795" name="文本框 99"/>
          <p:cNvSpPr/>
          <p:nvPr/>
        </p:nvSpPr>
        <p:spPr>
          <a:xfrm>
            <a:off x="246240" y="1050840"/>
            <a:ext cx="8656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根据学习情境资料，在老师指导下，完成下列任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评估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Q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能源公司股票的内在价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预测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Q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能源公司股票的投资收益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计算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Q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能源公司股票目前的市盈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）评价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WT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</a:rPr>
              <a:t>公司股票投资项目的可行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图片 1" descr="]HILGH)Z1$5V$DEN`6WJ_R2"/>
          <p:cNvPicPr/>
          <p:nvPr/>
        </p:nvPicPr>
        <p:blipFill>
          <a:blip r:embed="rId1"/>
          <a:stretch/>
        </p:blipFill>
        <p:spPr>
          <a:xfrm>
            <a:off x="27000" y="79200"/>
            <a:ext cx="2106720" cy="41292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1" descr="5@TCXR~VM_~W757_X8V7)BN"/>
          <p:cNvPicPr/>
          <p:nvPr/>
        </p:nvPicPr>
        <p:blipFill>
          <a:blip r:embed="rId2"/>
          <a:stretch/>
        </p:blipFill>
        <p:spPr>
          <a:xfrm>
            <a:off x="619200" y="569880"/>
            <a:ext cx="7657920" cy="38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文本框 6"/>
          <p:cNvSpPr/>
          <p:nvPr/>
        </p:nvSpPr>
        <p:spPr>
          <a:xfrm>
            <a:off x="3370320" y="1987560"/>
            <a:ext cx="527220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演讲完毕 谢谢观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图片 12" descr=""/>
          <p:cNvPicPr/>
          <p:nvPr/>
        </p:nvPicPr>
        <p:blipFill>
          <a:blip r:embed="rId1"/>
          <a:srcRect l="8155" t="22313" r="41991" b="0"/>
          <a:stretch/>
        </p:blipFill>
        <p:spPr>
          <a:xfrm>
            <a:off x="449280" y="736560"/>
            <a:ext cx="3193920" cy="39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1" descr="JYD9_VJ0$P1LJ[2(4CW`%UY"/>
          <p:cNvPicPr/>
          <p:nvPr/>
        </p:nvPicPr>
        <p:blipFill>
          <a:blip r:embed="rId1"/>
          <a:stretch/>
        </p:blipFill>
        <p:spPr>
          <a:xfrm>
            <a:off x="39600" y="98280"/>
            <a:ext cx="2457360" cy="62892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1" descr="HG_AMF~SQNK}8]B0ZB(X0CW"/>
          <p:cNvPicPr/>
          <p:nvPr/>
        </p:nvPicPr>
        <p:blipFill>
          <a:blip r:embed="rId2"/>
          <a:stretch/>
        </p:blipFill>
        <p:spPr>
          <a:xfrm>
            <a:off x="420840" y="795240"/>
            <a:ext cx="8496000" cy="31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MH_Other_1"/>
          <p:cNvSpPr/>
          <p:nvPr/>
        </p:nvSpPr>
        <p:spPr>
          <a:xfrm>
            <a:off x="2184480" y="1411200"/>
            <a:ext cx="571320" cy="5716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0bd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0bd65"/>
                </a:solidFill>
                <a:latin typeface="Arial"/>
                <a:ea typeface="微软雅黑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MH_Other_2"/>
          <p:cNvSpPr/>
          <p:nvPr/>
        </p:nvSpPr>
        <p:spPr>
          <a:xfrm>
            <a:off x="2184480" y="2122560"/>
            <a:ext cx="571320" cy="5731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cac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cacaca"/>
                </a:solidFill>
                <a:latin typeface="Arial"/>
                <a:ea typeface="微软雅黑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MH_Text_1"/>
          <p:cNvSpPr/>
          <p:nvPr/>
        </p:nvSpPr>
        <p:spPr>
          <a:xfrm>
            <a:off x="2960640" y="1488600"/>
            <a:ext cx="370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Arial"/>
                <a:ea typeface="微软雅黑"/>
              </a:rPr>
              <a:t>任务一 债券投资决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MH_Text_2"/>
          <p:cNvSpPr/>
          <p:nvPr/>
        </p:nvSpPr>
        <p:spPr>
          <a:xfrm>
            <a:off x="2960640" y="2208600"/>
            <a:ext cx="291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Arial"/>
                <a:ea typeface="微软雅黑"/>
              </a:rPr>
              <a:t>任务二 股票投资决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1" descr="A7UQS4L2TGNY4TSW8B%DU8V"/>
          <p:cNvPicPr/>
          <p:nvPr/>
        </p:nvPicPr>
        <p:blipFill>
          <a:blip r:embed="rId1"/>
          <a:stretch/>
        </p:blipFill>
        <p:spPr>
          <a:xfrm>
            <a:off x="422280" y="152280"/>
            <a:ext cx="2333520" cy="657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图片 1" descr="Q0NA151~0C8XXWX[YFYSTCH"/>
          <p:cNvPicPr/>
          <p:nvPr/>
        </p:nvPicPr>
        <p:blipFill>
          <a:blip r:embed="rId1"/>
          <a:stretch/>
        </p:blipFill>
        <p:spPr>
          <a:xfrm>
            <a:off x="88920" y="-3240"/>
            <a:ext cx="2709720" cy="546120"/>
          </a:xfrm>
          <a:prstGeom prst="rect">
            <a:avLst/>
          </a:prstGeom>
          <a:ln w="0">
            <a:noFill/>
          </a:ln>
        </p:spPr>
      </p:pic>
      <p:sp>
        <p:nvSpPr>
          <p:cNvPr id="564" name="文本框 100"/>
          <p:cNvSpPr/>
          <p:nvPr/>
        </p:nvSpPr>
        <p:spPr>
          <a:xfrm>
            <a:off x="3335400" y="82440"/>
            <a:ext cx="2827440" cy="45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证券投资基本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2"/>
          <p:cNvSpPr/>
          <p:nvPr/>
        </p:nvSpPr>
        <p:spPr>
          <a:xfrm>
            <a:off x="573120" y="42228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证券的概念和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262080" y="1189080"/>
            <a:ext cx="820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    </a:t>
            </a:r>
            <a:r>
              <a:rPr b="1" lang="zh-CN" sz="2200" spc="-1" strike="noStrike">
                <a:solidFill>
                  <a:srgbClr val="002060"/>
                </a:solidFill>
                <a:latin typeface="Arial"/>
                <a:ea typeface="宋体"/>
              </a:rPr>
              <a:t>证券是指具有一定票面金额，用以证明或设定权利所做成的书面信用凭证，它表明证券持有人或第三者有权取得该证券所拥有的特定权益，如财产所有权或债权。包括股票、债券、基金及其衍生工具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573120" y="790560"/>
            <a:ext cx="2135160" cy="398880"/>
          </a:xfrm>
          <a:prstGeom prst="rect">
            <a:avLst/>
          </a:prstGeom>
          <a:solidFill>
            <a:srgbClr val="fcf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证券的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476280" y="2496960"/>
            <a:ext cx="24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证券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4"/>
          <p:cNvSpPr/>
          <p:nvPr/>
        </p:nvSpPr>
        <p:spPr>
          <a:xfrm>
            <a:off x="717480" y="2814480"/>
            <a:ext cx="40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9b680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9b680f"/>
                </a:solidFill>
                <a:latin typeface="宋体"/>
                <a:ea typeface="宋体"/>
              </a:rPr>
              <a:t>）按证券体现的权益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6"/>
          <p:cNvSpPr/>
          <p:nvPr/>
        </p:nvSpPr>
        <p:spPr>
          <a:xfrm>
            <a:off x="4924440" y="2297160"/>
            <a:ext cx="22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所有权证券依托投资证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债权证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左大括号 9"/>
          <p:cNvSpPr/>
          <p:nvPr/>
        </p:nvSpPr>
        <p:spPr>
          <a:xfrm>
            <a:off x="4768920" y="2496960"/>
            <a:ext cx="155520" cy="79884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798840"/>
              <a:gd name="textAreaBottom" fmla="*/ 794880 h 79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5"/>
                  <a:pt x="10800" y="350"/>
                </a:cubicBezTo>
                <a:lnTo>
                  <a:pt x="10800" y="10450"/>
                </a:lnTo>
                <a:cubicBezTo>
                  <a:pt x="10800" y="10625"/>
                  <a:pt x="5400" y="10800"/>
                  <a:pt x="0" y="10800"/>
                </a:cubicBezTo>
                <a:cubicBezTo>
                  <a:pt x="5400" y="10800"/>
                  <a:pt x="10800" y="10975"/>
                  <a:pt x="10800" y="11150"/>
                </a:cubicBezTo>
                <a:lnTo>
                  <a:pt x="10800" y="21250"/>
                </a:lnTo>
                <a:cubicBezTo>
                  <a:pt x="10800" y="2142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10"/>
          <p:cNvSpPr/>
          <p:nvPr/>
        </p:nvSpPr>
        <p:spPr>
          <a:xfrm>
            <a:off x="717480" y="3568680"/>
            <a:ext cx="37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）按</a:t>
            </a:r>
            <a:r>
              <a:rPr b="1" lang="zh-CN" sz="2400" spc="-1" strike="noStrike">
                <a:solidFill>
                  <a:srgbClr val="9b680f"/>
                </a:solidFill>
                <a:latin typeface="宋体"/>
                <a:ea typeface="宋体"/>
              </a:rPr>
              <a:t>收益状况是否稳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15"/>
          <p:cNvSpPr/>
          <p:nvPr/>
        </p:nvSpPr>
        <p:spPr>
          <a:xfrm>
            <a:off x="4559400" y="3405240"/>
            <a:ext cx="25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固定收益证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变动收益证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左大括号 13"/>
          <p:cNvSpPr/>
          <p:nvPr/>
        </p:nvSpPr>
        <p:spPr>
          <a:xfrm>
            <a:off x="4483080" y="3568680"/>
            <a:ext cx="76320" cy="503280"/>
          </a:xfrm>
          <a:custGeom>
            <a:avLst/>
            <a:gdLst>
              <a:gd name="textAreaLeft" fmla="*/ 48960 w 76320"/>
              <a:gd name="textAreaRight" fmla="*/ 76320 w 76320"/>
              <a:gd name="textAreaTop" fmla="*/ 1800 h 503280"/>
              <a:gd name="textAreaBottom" fmla="*/ 501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"/>
                  <a:pt x="10800" y="272"/>
                </a:cubicBezTo>
                <a:lnTo>
                  <a:pt x="10800" y="10528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6"/>
                  <a:pt x="10800" y="11072"/>
                </a:cubicBezTo>
                <a:lnTo>
                  <a:pt x="10800" y="21328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15"/>
          <p:cNvSpPr/>
          <p:nvPr/>
        </p:nvSpPr>
        <p:spPr>
          <a:xfrm>
            <a:off x="831960" y="4189320"/>
            <a:ext cx="27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）按</a:t>
            </a:r>
            <a:r>
              <a:rPr b="1" lang="zh-CN" sz="2400" spc="-1" strike="noStrike">
                <a:solidFill>
                  <a:srgbClr val="9b680f"/>
                </a:solidFill>
                <a:latin typeface="宋体"/>
                <a:ea typeface="宋体"/>
              </a:rPr>
              <a:t>发行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左大括号 18"/>
          <p:cNvSpPr/>
          <p:nvPr/>
        </p:nvSpPr>
        <p:spPr>
          <a:xfrm>
            <a:off x="3335400" y="4189320"/>
            <a:ext cx="75960" cy="503280"/>
          </a:xfrm>
          <a:custGeom>
            <a:avLst/>
            <a:gdLst>
              <a:gd name="textAreaLeft" fmla="*/ 48600 w 75960"/>
              <a:gd name="textAreaRight" fmla="*/ 76320 w 75960"/>
              <a:gd name="textAreaTop" fmla="*/ 1800 h 503280"/>
              <a:gd name="textAreaBottom" fmla="*/ 501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"/>
                  <a:pt x="10800" y="272"/>
                </a:cubicBezTo>
                <a:lnTo>
                  <a:pt x="10800" y="10528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6"/>
                  <a:pt x="10800" y="11072"/>
                </a:cubicBezTo>
                <a:lnTo>
                  <a:pt x="10800" y="21328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5"/>
          <p:cNvSpPr/>
          <p:nvPr/>
        </p:nvSpPr>
        <p:spPr>
          <a:xfrm>
            <a:off x="3583080" y="4029120"/>
            <a:ext cx="25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政府证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金融证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公司证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图片 1" descr="Q0NA151~0C8XXWX[YFYSTCH"/>
          <p:cNvPicPr/>
          <p:nvPr/>
        </p:nvPicPr>
        <p:blipFill>
          <a:blip r:embed="rId1"/>
          <a:stretch/>
        </p:blipFill>
        <p:spPr>
          <a:xfrm>
            <a:off x="88920" y="-3240"/>
            <a:ext cx="2709720" cy="546120"/>
          </a:xfrm>
          <a:prstGeom prst="rect">
            <a:avLst/>
          </a:prstGeom>
          <a:ln w="0">
            <a:noFill/>
          </a:ln>
        </p:spPr>
      </p:pic>
      <p:sp>
        <p:nvSpPr>
          <p:cNvPr id="579" name="文本框 100"/>
          <p:cNvSpPr/>
          <p:nvPr/>
        </p:nvSpPr>
        <p:spPr>
          <a:xfrm>
            <a:off x="3335400" y="82440"/>
            <a:ext cx="2827440" cy="45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证券投资基本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2"/>
          <p:cNvSpPr/>
          <p:nvPr/>
        </p:nvSpPr>
        <p:spPr>
          <a:xfrm>
            <a:off x="573120" y="42228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证券投资的概念及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99"/>
          <p:cNvSpPr/>
          <p:nvPr/>
        </p:nvSpPr>
        <p:spPr>
          <a:xfrm>
            <a:off x="682560" y="774720"/>
            <a:ext cx="350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（</a:t>
            </a:r>
            <a:r>
              <a:rPr b="1" lang="en-US" sz="2200" spc="-1" strike="noStrike">
                <a:solidFill>
                  <a:srgbClr val="c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）证券投资的概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11"/>
          <p:cNvSpPr/>
          <p:nvPr/>
        </p:nvSpPr>
        <p:spPr>
          <a:xfrm>
            <a:off x="820800" y="1135080"/>
            <a:ext cx="80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宋体"/>
              </a:rPr>
              <a:t>证券投资是企业投资的重要组成部分，它是指投资者将资金投资于股票、债券、基金及衍生证券等资产，从而获取收益的一种投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476280" y="2297160"/>
            <a:ext cx="310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（</a:t>
            </a: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2</a:t>
            </a: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）证券投资的种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16"/>
          <p:cNvSpPr/>
          <p:nvPr/>
        </p:nvSpPr>
        <p:spPr>
          <a:xfrm>
            <a:off x="717480" y="2665440"/>
            <a:ext cx="40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9b680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9b680f"/>
                </a:solidFill>
                <a:latin typeface="宋体"/>
                <a:ea typeface="宋体"/>
              </a:rPr>
              <a:t>）按证券投资风险的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17"/>
          <p:cNvSpPr/>
          <p:nvPr/>
        </p:nvSpPr>
        <p:spPr>
          <a:xfrm>
            <a:off x="4924440" y="2136600"/>
            <a:ext cx="289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无风险证券投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低风险证券投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高风险证券投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左大括号 19"/>
          <p:cNvSpPr/>
          <p:nvPr/>
        </p:nvSpPr>
        <p:spPr>
          <a:xfrm>
            <a:off x="4768920" y="2416320"/>
            <a:ext cx="155520" cy="79848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798480"/>
              <a:gd name="textAreaBottom" fmla="*/ 794520 h 79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5"/>
                  <a:pt x="10800" y="350"/>
                </a:cubicBezTo>
                <a:lnTo>
                  <a:pt x="10800" y="10450"/>
                </a:lnTo>
                <a:cubicBezTo>
                  <a:pt x="10800" y="10625"/>
                  <a:pt x="5400" y="10800"/>
                  <a:pt x="0" y="10800"/>
                </a:cubicBezTo>
                <a:cubicBezTo>
                  <a:pt x="5400" y="10800"/>
                  <a:pt x="10800" y="10975"/>
                  <a:pt x="10800" y="11150"/>
                </a:cubicBezTo>
                <a:lnTo>
                  <a:pt x="10800" y="21250"/>
                </a:lnTo>
                <a:cubicBezTo>
                  <a:pt x="10800" y="2142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20"/>
          <p:cNvSpPr/>
          <p:nvPr/>
        </p:nvSpPr>
        <p:spPr>
          <a:xfrm>
            <a:off x="717480" y="3405240"/>
            <a:ext cx="37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）按证券持有期限长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15"/>
          <p:cNvSpPr/>
          <p:nvPr/>
        </p:nvSpPr>
        <p:spPr>
          <a:xfrm>
            <a:off x="4559400" y="3198960"/>
            <a:ext cx="25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长期证券投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宋体"/>
                <a:ea typeface="宋体"/>
              </a:rPr>
              <a:t>短期证券投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左大括号 23"/>
          <p:cNvSpPr/>
          <p:nvPr/>
        </p:nvSpPr>
        <p:spPr>
          <a:xfrm>
            <a:off x="4483080" y="3362400"/>
            <a:ext cx="76320" cy="503280"/>
          </a:xfrm>
          <a:custGeom>
            <a:avLst/>
            <a:gdLst>
              <a:gd name="textAreaLeft" fmla="*/ 48960 w 76320"/>
              <a:gd name="textAreaRight" fmla="*/ 76320 w 76320"/>
              <a:gd name="textAreaTop" fmla="*/ 1800 h 503280"/>
              <a:gd name="textAreaBottom" fmla="*/ 501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"/>
                  <a:pt x="10800" y="272"/>
                </a:cubicBezTo>
                <a:lnTo>
                  <a:pt x="10800" y="10528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6"/>
                  <a:pt x="10800" y="11072"/>
                </a:cubicBezTo>
                <a:lnTo>
                  <a:pt x="10800" y="21328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24"/>
          <p:cNvSpPr/>
          <p:nvPr/>
        </p:nvSpPr>
        <p:spPr>
          <a:xfrm>
            <a:off x="831960" y="4189320"/>
            <a:ext cx="27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9b680f"/>
                </a:solidFill>
                <a:latin typeface="宋体"/>
              </a:rPr>
              <a:t>）投资的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左大括号 25"/>
          <p:cNvSpPr/>
          <p:nvPr/>
        </p:nvSpPr>
        <p:spPr>
          <a:xfrm>
            <a:off x="3335400" y="4189320"/>
            <a:ext cx="75960" cy="503280"/>
          </a:xfrm>
          <a:custGeom>
            <a:avLst/>
            <a:gdLst>
              <a:gd name="textAreaLeft" fmla="*/ 48600 w 75960"/>
              <a:gd name="textAreaRight" fmla="*/ 76320 w 75960"/>
              <a:gd name="textAreaTop" fmla="*/ 1800 h 503280"/>
              <a:gd name="textAreaBottom" fmla="*/ 501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"/>
                  <a:pt x="10800" y="272"/>
                </a:cubicBezTo>
                <a:lnTo>
                  <a:pt x="10800" y="10528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6"/>
                  <a:pt x="10800" y="11072"/>
                </a:cubicBezTo>
                <a:lnTo>
                  <a:pt x="10800" y="21328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15"/>
          <p:cNvSpPr/>
          <p:nvPr/>
        </p:nvSpPr>
        <p:spPr>
          <a:xfrm>
            <a:off x="3583080" y="3867120"/>
            <a:ext cx="409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  <a:ea typeface="宋体"/>
              </a:rPr>
              <a:t>股票投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  <a:ea typeface="宋体"/>
              </a:rPr>
              <a:t>债券投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Arial"/>
                <a:ea typeface="宋体"/>
              </a:rPr>
              <a:t>基金投资和证券组合投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1" descr="Q0NA151~0C8XXWX[YFYSTCH"/>
          <p:cNvPicPr/>
          <p:nvPr/>
        </p:nvPicPr>
        <p:blipFill>
          <a:blip r:embed="rId1"/>
          <a:stretch/>
        </p:blipFill>
        <p:spPr>
          <a:xfrm>
            <a:off x="88920" y="-3240"/>
            <a:ext cx="2709720" cy="546120"/>
          </a:xfrm>
          <a:prstGeom prst="rect">
            <a:avLst/>
          </a:prstGeom>
          <a:ln w="0">
            <a:noFill/>
          </a:ln>
        </p:spPr>
      </p:pic>
      <p:sp>
        <p:nvSpPr>
          <p:cNvPr id="594" name="文本框 100"/>
          <p:cNvSpPr/>
          <p:nvPr/>
        </p:nvSpPr>
        <p:spPr>
          <a:xfrm>
            <a:off x="3335400" y="82440"/>
            <a:ext cx="2827440" cy="45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证券投资基本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2"/>
          <p:cNvSpPr/>
          <p:nvPr/>
        </p:nvSpPr>
        <p:spPr>
          <a:xfrm>
            <a:off x="573120" y="422280"/>
            <a:ext cx="48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影响证券投资决策的主要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24"/>
          <p:cNvSpPr/>
          <p:nvPr/>
        </p:nvSpPr>
        <p:spPr>
          <a:xfrm>
            <a:off x="671400" y="1012680"/>
            <a:ext cx="7510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国民经济形势。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国民经济形式即证券投资的宏观经济，从宏观角度考察一些经济因素对证券投资的影响。主要包括以下几个方面的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①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国民生产总值发展状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②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通货膨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③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利率政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行业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①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行业的市场类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②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行业所处的生命周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企业的财务状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5T02:10:00Z</dcterms:created>
  <dc:creator>Administrator</dc:creator>
  <dc:description/>
  <dc:language>en-US</dc:language>
  <cp:lastModifiedBy>Administrator</cp:lastModifiedBy>
  <dcterms:modified xsi:type="dcterms:W3CDTF">2022-02-04T10:38:41Z</dcterms:modified>
  <cp:revision>1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206</vt:lpwstr>
  </property>
</Properties>
</file>