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F0E2-3002-4FA7-AFB7-AC13F23B7BAC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944F-BB01-4262-9FB8-E227F6B14FB7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4AEF-F6FA-453B-BB39-24F6C569565F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714D-8274-4C8A-A5FD-4A879510DDB3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E31C-A7D5-4319-A4A4-D9C14BC81551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527C-A059-47D5-B997-A11AC2257832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685A-6C80-4B5D-BD7F-01079B522677}" type="slidenum">
              <a:rPr b="1" lang="zh-CN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AB69-D294-4FDD-A5E4-1A8EADF8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1805-19E8-4AE5-BE71-31415409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625A-41D3-462F-A9E8-2FFBEAB6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14EE-75DA-4E2B-94A9-034E55C6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3DC-FF7C-4452-B0BA-FB064C25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CBF5-1865-43EF-B8D0-B9A4FD93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3EE-AC52-422A-BE28-0C3FD766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4ACA-AC22-412F-854F-8C45FE96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393B-A0D1-4C3A-8D7E-8F4AD913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8D95-A6B9-42F7-AC51-210B5AAC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D66-9817-4674-A627-1F5167B1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185-4FCE-40BF-9A83-E609CC47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FC7E-B9DE-4CFE-9CBD-7B6D26ED6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" name="Picture 7" descr="A6"/>
          <p:cNvPicPr/>
          <p:nvPr/>
        </p:nvPicPr>
        <p:blipFill>
          <a:blip r:embed="rId2"/>
          <a:stretch/>
        </p:blipFill>
        <p:spPr>
          <a:xfrm>
            <a:off x="0" y="0"/>
            <a:ext cx="9201240" cy="689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8f8f8"/>
                </a:solidFill>
                <a:latin typeface="黑体"/>
                <a:ea typeface="黑体"/>
              </a:rPr>
              <a:t>上半年</a:t>
            </a:r>
            <a:r>
              <a:rPr b="1" lang="en-US" sz="4400" spc="-1" strike="noStrike">
                <a:solidFill>
                  <a:srgbClr val="f8f8f8"/>
                </a:solidFill>
                <a:latin typeface="黑体"/>
                <a:ea typeface="黑体"/>
              </a:rPr>
              <a:t>CET</a:t>
            </a:r>
            <a:r>
              <a:rPr b="1" lang="zh-CN" sz="4400" spc="-1" strike="noStrike">
                <a:solidFill>
                  <a:srgbClr val="f8f8f8"/>
                </a:solidFill>
                <a:latin typeface="黑体"/>
                <a:ea typeface="黑体"/>
              </a:rPr>
              <a:t>考务工作</a:t>
            </a:r>
            <a:br>
              <a:rPr sz="4400"/>
            </a:br>
            <a:r>
              <a:rPr b="1" lang="zh-CN" sz="4400" spc="-1" strike="noStrike">
                <a:solidFill>
                  <a:srgbClr val="f8f8f8"/>
                </a:solidFill>
                <a:latin typeface="黑体"/>
                <a:ea typeface="黑体"/>
              </a:rPr>
              <a:t>调整方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f8f8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教育部考试中心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8f8f8"/>
                </a:solidFill>
                <a:latin typeface="黑体"/>
                <a:ea typeface="黑体"/>
              </a:rPr>
              <a:t>2013</a:t>
            </a:r>
            <a:r>
              <a:rPr b="1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f8f8f8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86920" y="3141360"/>
            <a:ext cx="7129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f8f8"/>
                </a:solidFill>
                <a:latin typeface="华文中宋"/>
                <a:ea typeface="华文中宋"/>
              </a:rPr>
              <a:t>第一部分  考试材料变更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f8f8"/>
                </a:solidFill>
                <a:latin typeface="华文中宋"/>
                <a:ea typeface="华文中宋"/>
              </a:rPr>
              <a:t>第二部分  考场操作规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f8f8"/>
                </a:solidFill>
                <a:latin typeface="华文中宋"/>
                <a:ea typeface="华文中宋"/>
              </a:rPr>
              <a:t>第三部分  条形码异常情况处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547640" y="141300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8f8f8"/>
                </a:solidFill>
                <a:latin typeface="黑体"/>
                <a:ea typeface="黑体"/>
              </a:rPr>
              <a:t>内  容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Arial"/>
              </a:rPr>
              <a:t>第一部分 考试材料变更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 </a:t>
            </a:r>
            <a:r>
              <a:rPr b="1" lang="zh-CN" sz="22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试题册背面内容有作文题目、准考证号填写栏、姓名填写栏以及条形码粘贴条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C:\Users\Administrator\AppData\Roaming\Tencent\Users\58445695\QQ\WinTemp\RichOle\EHVQM{7_D%T7E$`)8S[%0PM.jpg"/>
          <p:cNvPicPr/>
          <p:nvPr/>
        </p:nvPicPr>
        <p:blipFill>
          <a:blip r:embed="rId1"/>
          <a:stretch/>
        </p:blipFill>
        <p:spPr>
          <a:xfrm>
            <a:off x="1835280" y="1989000"/>
            <a:ext cx="3876480" cy="4705560"/>
          </a:xfrm>
          <a:prstGeom prst="rect">
            <a:avLst/>
          </a:prstGeom>
          <a:ln w="0">
            <a:noFill/>
          </a:ln>
        </p:spPr>
      </p:pic>
      <p:sp>
        <p:nvSpPr>
          <p:cNvPr id="56" name="线形标注 1 13"/>
          <p:cNvSpPr/>
          <p:nvPr/>
        </p:nvSpPr>
        <p:spPr>
          <a:xfrm>
            <a:off x="3780000" y="2060640"/>
            <a:ext cx="4537080" cy="237636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线形标注 2 14"/>
          <p:cNvSpPr/>
          <p:nvPr/>
        </p:nvSpPr>
        <p:spPr>
          <a:xfrm>
            <a:off x="1763640" y="2349360"/>
            <a:ext cx="4103640" cy="2232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4898"/>
              <a:gd name="adj6" fmla="val -3159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88920" y="321300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Arial"/>
              </a:rPr>
              <a:t>作文题目区域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线形标注 2 16"/>
          <p:cNvSpPr/>
          <p:nvPr/>
        </p:nvSpPr>
        <p:spPr>
          <a:xfrm>
            <a:off x="1763640" y="4869000"/>
            <a:ext cx="2737080" cy="158436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4898"/>
              <a:gd name="adj6" fmla="val -3159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88920" y="5445000"/>
            <a:ext cx="1692360" cy="33732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cc"/>
                </a:solidFill>
                <a:latin typeface="Arial"/>
              </a:rPr>
              <a:t>个人信息填涂区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线形标注 2 18"/>
          <p:cNvSpPr/>
          <p:nvPr/>
        </p:nvSpPr>
        <p:spPr>
          <a:xfrm>
            <a:off x="4643280" y="4869000"/>
            <a:ext cx="865440" cy="1584360"/>
          </a:xfrm>
          <a:prstGeom prst="borderCallout2">
            <a:avLst>
              <a:gd name="adj1" fmla="val 18750"/>
              <a:gd name="adj2" fmla="val -8333"/>
              <a:gd name="adj3" fmla="val 23560"/>
              <a:gd name="adj4" fmla="val 108907"/>
              <a:gd name="adj5" fmla="val 29125"/>
              <a:gd name="adj6" fmla="val 9821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6084720" y="5950080"/>
            <a:ext cx="187200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Arial"/>
              </a:rPr>
              <a:t>条形码粘贴条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3" name="Picture 12" descr="C:\Users\Administrator\AppData\Roaming\Tencent\Users\58445695\QQ\WinTemp\RichOle\}VEQPR1E8W6996{3O4U3V{X.jpg"/>
          <p:cNvPicPr/>
          <p:nvPr/>
        </p:nvPicPr>
        <p:blipFill>
          <a:blip r:embed="rId2"/>
          <a:stretch/>
        </p:blipFill>
        <p:spPr>
          <a:xfrm>
            <a:off x="6033960" y="2060640"/>
            <a:ext cx="2968920" cy="1512720"/>
          </a:xfrm>
          <a:prstGeom prst="rect">
            <a:avLst/>
          </a:prstGeom>
          <a:ln w="0">
            <a:noFill/>
          </a:ln>
        </p:spPr>
      </p:pic>
      <p:sp>
        <p:nvSpPr>
          <p:cNvPr id="64" name="TextBox 21"/>
          <p:cNvSpPr/>
          <p:nvPr/>
        </p:nvSpPr>
        <p:spPr>
          <a:xfrm>
            <a:off x="6372360" y="357336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Arial"/>
              </a:rPr>
              <a:t>条形码粘贴条增加提示语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4"/>
          <p:cNvSpPr/>
          <p:nvPr/>
        </p:nvSpPr>
        <p:spPr>
          <a:xfrm>
            <a:off x="684360" y="981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8f8f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Arial"/>
              </a:rPr>
              <a:t>第二部分考务操作规程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900000" y="1557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4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9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时，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6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 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5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时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7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1116000" y="3284640"/>
            <a:ext cx="1314360" cy="1585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7"/>
          <p:cNvSpPr/>
          <p:nvPr/>
        </p:nvSpPr>
        <p:spPr>
          <a:xfrm>
            <a:off x="1042920" y="5084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员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矩形 8"/>
          <p:cNvSpPr/>
          <p:nvPr/>
        </p:nvSpPr>
        <p:spPr>
          <a:xfrm>
            <a:off x="2916360" y="3068640"/>
            <a:ext cx="925560" cy="64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试题册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2916360" y="4149720"/>
            <a:ext cx="925560" cy="647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题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矩形 10"/>
          <p:cNvSpPr/>
          <p:nvPr/>
        </p:nvSpPr>
        <p:spPr>
          <a:xfrm>
            <a:off x="2916360" y="5300640"/>
            <a:ext cx="925560" cy="649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题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" name="Picture 3" descr="C:\Users\Administrator\AppData\Roaming\Tencent\Users\2411221069\QQ\WinTemp\RichOle\1I3E@SYCU3(B~66%1$YMZKV.jpg"/>
          <p:cNvPicPr/>
          <p:nvPr/>
        </p:nvPicPr>
        <p:blipFill>
          <a:blip r:embed="rId2"/>
          <a:stretch/>
        </p:blipFill>
        <p:spPr>
          <a:xfrm>
            <a:off x="6659640" y="3573360"/>
            <a:ext cx="1315800" cy="12956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2"/>
          <p:cNvSpPr/>
          <p:nvPr/>
        </p:nvSpPr>
        <p:spPr>
          <a:xfrm>
            <a:off x="6659640" y="5084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琥珀"/>
                <a:ea typeface="华文琥珀"/>
              </a:rPr>
              <a:t>考生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74" name="直接箭头连接符 14"/>
          <p:cNvCxnSpPr>
            <a:stCxn id="69" idx="3"/>
          </p:cNvCxnSpPr>
          <p:nvPr/>
        </p:nvCxnSpPr>
        <p:spPr>
          <a:xfrm>
            <a:off x="3841920" y="3392280"/>
            <a:ext cx="2304000" cy="6260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5" name="直接箭头连接符 16"/>
          <p:cNvCxnSpPr>
            <a:stCxn id="70" idx="3"/>
          </p:cNvCxnSpPr>
          <p:nvPr/>
        </p:nvCxnSpPr>
        <p:spPr>
          <a:xfrm flipV="1">
            <a:off x="3841920" y="4149360"/>
            <a:ext cx="2232720" cy="3247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6" name="直接箭头连接符 19"/>
          <p:cNvCxnSpPr/>
          <p:nvPr/>
        </p:nvCxnSpPr>
        <p:spPr>
          <a:xfrm flipV="1">
            <a:off x="3637080" y="4220640"/>
            <a:ext cx="2961360" cy="13327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77" name="TextBox 22"/>
          <p:cNvSpPr/>
          <p:nvPr/>
        </p:nvSpPr>
        <p:spPr>
          <a:xfrm>
            <a:off x="3995640" y="3068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左上角，背面向上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5"/>
          <p:cNvSpPr/>
          <p:nvPr/>
        </p:nvSpPr>
        <p:spPr>
          <a:xfrm>
            <a:off x="755640" y="1052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4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9:1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，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CET6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 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5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：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，考试开始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612720" y="4221000"/>
            <a:ext cx="1139760" cy="936720"/>
          </a:xfrm>
          <a:prstGeom prst="rect">
            <a:avLst/>
          </a:prstGeom>
          <a:ln w="0">
            <a:noFill/>
          </a:ln>
        </p:spPr>
      </p:pic>
      <p:sp>
        <p:nvSpPr>
          <p:cNvPr id="80" name="TextBox 7"/>
          <p:cNvSpPr/>
          <p:nvPr/>
        </p:nvSpPr>
        <p:spPr>
          <a:xfrm>
            <a:off x="684360" y="530208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员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124000" y="3933720"/>
            <a:ext cx="68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cc"/>
                </a:solidFill>
                <a:latin typeface="黑体"/>
                <a:ea typeface="黑体"/>
              </a:rPr>
              <a:t>提示考生作文题目在试题册背面，作文题目仍作答在答题卡</a:t>
            </a:r>
            <a:r>
              <a:rPr b="1" lang="en-US" sz="3200" spc="-1" strike="noStrike">
                <a:solidFill>
                  <a:srgbClr val="ff99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99cc"/>
                </a:solidFill>
                <a:latin typeface="黑体"/>
                <a:ea typeface="黑体"/>
              </a:rPr>
              <a:t>相应位置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cc"/>
                </a:solidFill>
                <a:latin typeface="黑体"/>
                <a:ea typeface="黑体"/>
              </a:rPr>
              <a:t>第一次检查考生条形码粘贴情况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2" name="Picture 3" descr="C:\Users\Administrator\AppData\Roaming\Tencent\Users\2411221069\QQ\WinTemp\RichOle\1I3E@SYCU3(B~66%1$YMZKV.jpg"/>
          <p:cNvPicPr/>
          <p:nvPr/>
        </p:nvPicPr>
        <p:blipFill>
          <a:blip r:embed="rId2"/>
          <a:stretch/>
        </p:blipFill>
        <p:spPr>
          <a:xfrm>
            <a:off x="611280" y="1917720"/>
            <a:ext cx="1141200" cy="8888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611280" y="299736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琥珀"/>
                <a:ea typeface="华文琥珀"/>
              </a:rPr>
              <a:t>学生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2124000" y="206064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cc"/>
                </a:solidFill>
                <a:latin typeface="黑体"/>
                <a:ea typeface="黑体"/>
              </a:rPr>
              <a:t>开始作答作文题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云形 16"/>
          <p:cNvSpPr/>
          <p:nvPr/>
        </p:nvSpPr>
        <p:spPr>
          <a:xfrm>
            <a:off x="324000" y="1268280"/>
            <a:ext cx="3887640" cy="2737080"/>
          </a:xfrm>
          <a:prstGeom prst="pie">
            <a:avLst/>
          </a:prstGeom>
          <a:solidFill>
            <a:srgbClr val="ffcb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</a:rPr>
              <a:t>异常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</a:rPr>
              <a:t>考生已在答题卡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</a:rPr>
              <a:t>或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</a:rPr>
              <a:t>上作答时，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</a:rPr>
              <a:t>发现试题册有印刷错误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6" name="图示 17" descr=""/>
          <p:cNvPicPr/>
          <p:nvPr/>
        </p:nvPicPr>
        <p:blipFill>
          <a:blip r:embed="rId1"/>
          <a:stretch/>
        </p:blipFill>
        <p:spPr>
          <a:xfrm>
            <a:off x="3833640" y="682560"/>
            <a:ext cx="5054760" cy="5621400"/>
          </a:xfrm>
          <a:prstGeom prst="rect">
            <a:avLst/>
          </a:prstGeom>
          <a:ln w="0">
            <a:noFill/>
          </a:ln>
        </p:spPr>
      </p:pic>
      <p:sp>
        <p:nvSpPr>
          <p:cNvPr id="87" name="矩形 18"/>
          <p:cNvSpPr/>
          <p:nvPr/>
        </p:nvSpPr>
        <p:spPr>
          <a:xfrm>
            <a:off x="6113520" y="5173560"/>
            <a:ext cx="504720" cy="505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原有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右箭头 20"/>
          <p:cNvSpPr/>
          <p:nvPr/>
        </p:nvSpPr>
        <p:spPr>
          <a:xfrm>
            <a:off x="7410600" y="5318280"/>
            <a:ext cx="287280" cy="2156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矩形 22"/>
          <p:cNvSpPr/>
          <p:nvPr/>
        </p:nvSpPr>
        <p:spPr>
          <a:xfrm>
            <a:off x="6905520" y="5173560"/>
            <a:ext cx="505080" cy="505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备用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加号 11"/>
          <p:cNvSpPr/>
          <p:nvPr/>
        </p:nvSpPr>
        <p:spPr>
          <a:xfrm>
            <a:off x="6618240" y="5245200"/>
            <a:ext cx="287280" cy="288720"/>
          </a:xfrm>
          <a:custGeom>
            <a:avLst/>
            <a:gdLst/>
            <a:ahLst/>
            <a:rect l="l" t="t" r="r" b="b"/>
            <a:pathLst>
              <a:path w="287337" h="288925">
                <a:moveTo>
                  <a:pt x="38087" y="110672"/>
                </a:moveTo>
                <a:lnTo>
                  <a:pt x="109878" y="110672"/>
                </a:lnTo>
                <a:lnTo>
                  <a:pt x="109878" y="38297"/>
                </a:lnTo>
                <a:lnTo>
                  <a:pt x="177459" y="38297"/>
                </a:lnTo>
                <a:lnTo>
                  <a:pt x="177459" y="110672"/>
                </a:lnTo>
                <a:lnTo>
                  <a:pt x="249250" y="110672"/>
                </a:lnTo>
                <a:lnTo>
                  <a:pt x="249250" y="178253"/>
                </a:lnTo>
                <a:lnTo>
                  <a:pt x="177459" y="178253"/>
                </a:lnTo>
                <a:lnTo>
                  <a:pt x="177459" y="250628"/>
                </a:lnTo>
                <a:lnTo>
                  <a:pt x="109878" y="250628"/>
                </a:lnTo>
                <a:lnTo>
                  <a:pt x="109878" y="178253"/>
                </a:lnTo>
                <a:lnTo>
                  <a:pt x="38087" y="178253"/>
                </a:lnTo>
                <a:lnTo>
                  <a:pt x="38087" y="11067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7697880" y="5173560"/>
            <a:ext cx="504720" cy="505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专用袋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6113520" y="5749920"/>
            <a:ext cx="504720" cy="503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原有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右箭头 19"/>
          <p:cNvSpPr/>
          <p:nvPr/>
        </p:nvSpPr>
        <p:spPr>
          <a:xfrm>
            <a:off x="7410600" y="5894280"/>
            <a:ext cx="287280" cy="21600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矩形 25"/>
          <p:cNvSpPr/>
          <p:nvPr/>
        </p:nvSpPr>
        <p:spPr>
          <a:xfrm>
            <a:off x="6905520" y="5749920"/>
            <a:ext cx="505080" cy="503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备用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加号 26"/>
          <p:cNvSpPr/>
          <p:nvPr/>
        </p:nvSpPr>
        <p:spPr>
          <a:xfrm>
            <a:off x="6618240" y="5821200"/>
            <a:ext cx="287280" cy="289080"/>
          </a:xfrm>
          <a:custGeom>
            <a:avLst/>
            <a:gdLst/>
            <a:ahLst/>
            <a:rect l="l" t="t" r="r" b="b"/>
            <a:pathLst>
              <a:path w="287337" h="288925">
                <a:moveTo>
                  <a:pt x="38087" y="110672"/>
                </a:moveTo>
                <a:lnTo>
                  <a:pt x="109878" y="110672"/>
                </a:lnTo>
                <a:lnTo>
                  <a:pt x="109878" y="38297"/>
                </a:lnTo>
                <a:lnTo>
                  <a:pt x="177459" y="38297"/>
                </a:lnTo>
                <a:lnTo>
                  <a:pt x="177459" y="110672"/>
                </a:lnTo>
                <a:lnTo>
                  <a:pt x="249250" y="110672"/>
                </a:lnTo>
                <a:lnTo>
                  <a:pt x="249250" y="178253"/>
                </a:lnTo>
                <a:lnTo>
                  <a:pt x="177459" y="178253"/>
                </a:lnTo>
                <a:lnTo>
                  <a:pt x="177459" y="250628"/>
                </a:lnTo>
                <a:lnTo>
                  <a:pt x="109878" y="250628"/>
                </a:lnTo>
                <a:lnTo>
                  <a:pt x="109878" y="178253"/>
                </a:lnTo>
                <a:lnTo>
                  <a:pt x="38087" y="178253"/>
                </a:lnTo>
                <a:lnTo>
                  <a:pt x="38087" y="11067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矩形 27"/>
          <p:cNvSpPr/>
          <p:nvPr/>
        </p:nvSpPr>
        <p:spPr>
          <a:xfrm>
            <a:off x="7697880" y="5749920"/>
            <a:ext cx="504720" cy="503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答题卡</a:t>
            </a:r>
            <a:r>
              <a:rPr b="1" lang="en-US" sz="1000" spc="-1" strike="noStrike">
                <a:solidFill>
                  <a:srgbClr val="262626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Arial"/>
              </a:rPr>
              <a:t>专用袋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椭圆形标注 28"/>
          <p:cNvSpPr/>
          <p:nvPr/>
        </p:nvSpPr>
        <p:spPr>
          <a:xfrm>
            <a:off x="1476360" y="4365720"/>
            <a:ext cx="2590920" cy="1871640"/>
          </a:xfrm>
          <a:prstGeom prst="wedgeEllipseCallout">
            <a:avLst>
              <a:gd name="adj1" fmla="val 66726"/>
              <a:gd name="adj2" fmla="val 28625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彩云"/>
                <a:ea typeface="华文彩云"/>
              </a:rPr>
              <a:t>经省同意，所误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彩云"/>
                <a:ea typeface="华文彩云"/>
              </a:rPr>
              <a:t>时间予以延长</a:t>
            </a:r>
            <a:r>
              <a:rPr b="1" lang="en-US" sz="2800" spc="-1" strike="noStrike">
                <a:solidFill>
                  <a:srgbClr val="ffff00"/>
                </a:solidFill>
                <a:latin typeface="华文彩云"/>
                <a:ea typeface="华文彩云"/>
              </a:rPr>
              <a:t>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01:25:36Z</dcterms:created>
  <dc:creator>王伟</dc:creator>
  <dc:description/>
  <dc:language>en-US</dc:language>
  <cp:lastModifiedBy>dap</cp:lastModifiedBy>
  <dcterms:modified xsi:type="dcterms:W3CDTF">2014-06-14T13:25:23Z</dcterms:modified>
  <cp:revision>955</cp:revision>
  <dc:subject/>
  <dc:title>大学英语四六级考试考务会</dc:title>
</cp:coreProperties>
</file>