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9C8-84D4-4950-8B53-40E3789C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C00-8622-44D1-8292-209633E4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599-D931-4BB5-A523-DED346CD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F38-6B5E-4655-9D80-03422FC6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361-21E2-4965-A70E-890798B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8D8-BAB7-4C45-ADE5-FA113BD2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AB4-D291-4F31-B3BE-0001FCA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DC9-D5D4-4FF0-B83A-F9FD9209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0BB-75B0-45BA-A133-BD2E40D0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B26-E917-438A-A365-C512BD26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774-1E85-49C9-9D2B-B602FE6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678-5B94-490E-B03B-4F856599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8647-1ED7-43B0-A35E-9C5D201DC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巨无霸水电工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三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峡航拍，大坝主体明显分为约三个坝段，两边就是左右岸厂房，可以看到粗大的引水钢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744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伊泰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847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泰普水电站，位于巴拉那河流经巴西与巴拉圭两国边境的河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伊泰普水电站一开始装设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机组，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频率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Hz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机组为巴西所有，另外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Hz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机组为巴拉圭所有，巴拉圭多余电量经直流换流站和线路输送至巴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又扩建预留机坑的两座机组，目前共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发电机组，是当今世界装机容量第二大，发电量最大的水电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伊泰普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古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古里水电站，委内瑞拉东南部奥里诺科河支流卡罗尼河梯级开发的第一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坝址年径流量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536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立方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水电站装机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03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万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kW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，拥有惊人的水库库容，总库容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1350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立方米，调节库容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854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亿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立方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古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02:14:24Z</dcterms:created>
  <dc:creator>dingaiping</dc:creator>
  <dc:description/>
  <dc:language>en-US</dc:language>
  <cp:lastModifiedBy>dingaiping</cp:lastModifiedBy>
  <dcterms:modified xsi:type="dcterms:W3CDTF">2013-06-22T02:23:08Z</dcterms:modified>
  <cp:revision>3</cp:revision>
  <dc:subject/>
  <dc:title>巨无霸水电工程 </dc:title>
</cp:coreProperties>
</file>